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4E27-74EF-4D81-A4D4-B23FBE026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FC27-8383-44D7-85D1-0C8277EA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2310-9897-4CB3-93E6-0D7A26AD4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400D-C1B0-4962-9EEB-D4BB967ED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B81F-8CB8-434F-8557-D90A2736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31D0-95DC-49A2-85BB-F3D66305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401A-0528-4272-9265-5BFCB63D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EDA9-E908-4DC3-9AD0-BE8DC6ED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D6FC-C40C-4CF8-956F-A70B67FA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416B-9436-43DD-A5E3-B8EC31A0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576F-8260-4F4D-B574-3E7A411B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093F-19F1-436A-8C7F-7648988A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77D1-8FA5-401C-BB1F-C7BE99D3C73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se há algum conforto em Cristo, se alguma consolação de amor, se alguma comunhão no Espírito, se alguns entranháveis afetos e compaixõ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ao nome de Jesus se dobre todo o joelho dos que estão nos céus, e na terra, e debaixo da ter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a a língua confesse que Jesus Cristo é o SENHOR, para glória de Deus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sorte que, meus amados, assim como sempre obedecestes, não só na minha presença, mas muito mais agora na minha ausência, assim também operai a vossa salvação com temor e tremo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eus é o que opera em vós tanto o querer como o efetuar, segundo a sua boa vont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ei todas as coisas sem murmurações nem contend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sejais irrepreensíveis e sinceros, filhos de Deus inculpáveis, no meio de uma geração corrompida e perversa, entre a qual resplandeceis como astros no mun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tendo a palavra da vida, para que no dia de Cristo possa gloriar-me de não ter corrido nem trabalhado em v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inda que seja oferecido por libação sobre o sacrifício e serviço da vossa fé, folgo e me regozijo com todos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ós também regozijai-vos e alegrai-vos comigo por isto mes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pero no Senhor Jesus que em breve vos mandarei Timóteo, para que também eu esteja de bom ânimo, sabendo dos vossos negóc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pletai o meu gozo, para que sintais o mesmo, tendo o mesmo amor, o mesmo ânimo, sentindo uma mesma coi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ninguém tenho de igual sentimento, que sinceramente cuide do vosso esta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odos buscam o que é seu, e não o que é de Cristo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bem sabeis qual a sua experiência, e que serviu comigo no evangelho, como filho ao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sorte que espero vo-lo enviar logo que tenha provido a meus negóc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confio no Senhor, que também eu mesmo em breve irei ter convos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ulguei, contudo, necessário mandar-vos Epafrodito, meu irmão e cooperador, e companheiro nos combates, e vosso enviado para prover às minhas necess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tinha muitas saudades de vós todos, e estava muito angustiado de que tivésseis ouvido que ele estivera do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fato esteve doente, e quase à morte; mas Deus se apiedou dele, e não somente dele, mas também de mim, para que eu não tivesse tristeza sobre triste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vo-lo enviei mais depressa, para que, vendo-o outra vez, vos regozijeis, e eu tenha menos triste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2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cebei-o, pois, no SENHOR com todo o gozo, e tende-o em hon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da façais por contenda ou por vanglória, mas por humildade; cada um considere os outros superiores a si mes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2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pela obra de Cristo chegou até bem próximo da morte, não fazendo caso da vida para suprir para comigo a falta do vosso serviç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atente cada um para o que é propriamente seu, mas cada qual também para o que é dos out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sorte que haja em vós o mesmo sentimento que houve também em Cristo Jes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, sendo em forma de Deus, não teve por usurpação ser igual a De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svaziou-se a si mesmo, tomando a forma de servo, fazendo-se semelhante aos homen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chado na forma de homem, humilhou-se a si mesmo, sendo obediente até à morte, e morte de cru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ipenses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, também Deus o exaltou soberanamente, e lhe deu um nome que é sobre todo o nom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6:41Z</dcterms:created>
  <dc:creator>Admin</dc:creator>
  <dc:description/>
  <dc:language>en-US</dc:language>
  <cp:lastModifiedBy>Admin</cp:lastModifiedBy>
  <dcterms:modified xsi:type="dcterms:W3CDTF">2008-07-30T23:36:41Z</dcterms:modified>
  <cp:revision>1</cp:revision>
  <dc:subject/>
  <dc:title>Slide 1</dc:title>
</cp:coreProperties>
</file>