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FB5-1F7E-45BA-B56E-6A34F331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A4D-2CBB-4822-8639-B3BBE84C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A3A-A9FA-49D1-941A-E4DDFB4A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D28-E70B-4CFE-BF0B-360F8402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F87-B5FD-4E31-A226-4F73B6A3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419-3A46-419A-B79A-3D049A51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432-D8AA-4F04-8739-3BC60082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A85-54BD-477B-9950-D4921FA0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D27-C202-4E62-BEC3-9DB1B498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F39-4E00-4DB8-85DC-321CE4C4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0B2-177A-4788-A4FF-B7E165E6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FFC-719D-4AC1-94EC-5CA81E4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6173-1F91-4A2C-86BC-3056646EAC2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os filhos de Davi, que lhe nasceram em Hebrom: o primogênito, Amnom, de Ainoã, a jizreelita; o segundo Daniel, de Abigail, a carmel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de Salomão foi Roboão; de quem foi filho Abias; de quem foi filho Asa; de quem foi filho Jeosaf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m foi filho Jorão; de quem foi filho Acazias; de quem foi filho Joá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m foi filho Amazias; de quem foi filho Jot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m foi filho Acaz; de quem foi filho Ezequias; de quem foi filho Manassé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m foi filho Amom; de quem foi filho Jos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osias foram: o primogênito, Joanã: o segundo, Jeoiaquim; o terceiro, Zedequias; o quarto, Sal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eoiaquim: Jeconias, seu filho, e Zedequias,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econias: Assir, e seu filho Sealt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ste foram: Malquirão, Pedaías, Senazar, Jecamias, Hosama, e Nedab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Pedaías: Zorobabel e Simei; e os filhos de Zorobabel: Mesulão, Hananias, e Selomite, sua irm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rceiro, Absalão, filho de Maaca, filha de Talmai, rei de Gesur; o quarto, Adonias, filho de Hagi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subá, Oel, Berequias, Hasadias, Jusabe-Hesede,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Hananias: Pelatias e Jesaías; os filhos de Refaías, os filhos de Arnã, os filhos de Obadias, e os filhos de Secan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de Secanias foi Semaías; e os filhos de Semaías: Hatus, e Igeal, e Bariá, e Nearias, e Safate, s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Nearias: Elioenai, e Ezequias, e Azricão,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Elioenai; Hodavias, Eliasibe, Pelaías, Acube, Joanã, Delaías, e Anani,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into, Sefatias, de Abital; o sexto, Itreão, de Eglá,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filhos lhe nasceram em Hebrom, porque ali reinou sete anos e seis meses; e trinta e três anos reinou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lhe nasceram em Jerusalém: Siméia, e Sobabe, e Natã, e Salomão; estes quatro lhe nasceram de Bate-Sua, filha de Am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ceram-lhe mais Ibar, Elisama, Elifele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gá, Nefegue, Jaf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isama, Eliada, e Elifelete, no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foram filhos de Davi, afora os filhos das concubinas e Tamar, irmã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18Z</dcterms:created>
  <dc:creator>Admin</dc:creator>
  <dc:description/>
  <dc:language>en-US</dc:language>
  <cp:lastModifiedBy>Admin</cp:lastModifiedBy>
  <dcterms:modified xsi:type="dcterms:W3CDTF">2008-07-30T23:42:18Z</dcterms:modified>
  <cp:revision>1</cp:revision>
  <dc:subject/>
  <dc:title>Slide 1</dc:title>
</cp:coreProperties>
</file>