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D25-C8D2-4EC8-A162-6EC37A34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C3A-7BC3-45B2-8C16-3614E7C2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D26-A483-45D8-B07A-542986DE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982-D084-4E9A-996D-2996E8A1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EA0-3898-441A-AE94-7853D6A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D39-24A3-4EEF-A6F1-C1010952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885-FB85-4239-9668-5CF04829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265-612D-4618-AC9C-88786E72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7D4-011A-4B4A-8E98-2518760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E58-0D54-4CE1-9A54-6D0CCC1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297-0BEF-49C4-8E62-6E1FE5FB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725-03DE-460F-BA83-A04A1D3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9D9-3EEF-4189-8DC6-5D33F6586E0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a videira verdadeira, e meu Pai é o lavr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guardardes os meus mandamentos, permanecereis no meu amor; do mesmo modo que eu tenho guardado os mandamentos de meu Pai, e permaneço no seu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vos dito isto, para que o meu gozo permaneça em vós, e o vosso gozo seja compl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mandamento é este: Que vos ameis uns aos outros, assim como eu vos a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tem maior amor do que este, de dar alguém a sua vida pelos seus a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sereis meus amigos, se fizerdes o que eu vos m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vos não chamarei servos, porque o servo não sabe o que faz o seu senhor; mas tenho-vos chamado amigos, porque tudo quanto ouvi de meu Pai vos tenho feito conh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escolhestes vós a mim, mas eu vos escolhi a vós, e vos nomeei, para que vades e deis fruto, e o vosso fruto permaneça; a fim de que tudo quanto em meu nome pedirdes ao Pai ele vo-lo conc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vos mando: Que vos amei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mundo vos odeia, sabei que, primeiro do que a vós, me odiou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ós fôsseis do mundo, o mundo amaria o que era seu, mas porque não sois do mundo, antes eu vos escolhi do mundo, por isso é que o mundo vos od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vara em mim, que não dá fruto, a tira; e limpa toda aquela que dá fruto, para que dê mais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a palavra que vos disse: Não é o servo maior do que o seu SENHOR. Se a mim me perseguiram, também vos perseguirão a vós; se guardaram a minha palavra, também guardarão a v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do isto vos farão por causa do meu nome, porque não conhecem 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não viera, nem lhes houvera falado, não teriam pecado, mas agora não têm desculpa d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me odeia, odeia também a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entre eles não fizesse tais obras, quais nenhum outro tem feito, não teriam pecado; mas agora, viram-nas e me odiaram a mim e a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é para que se cumpra a palavra que está escrita na sua lei: Odiaram-me sem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er o Consolador, que eu da parte do Pai vos hei de enviar, aquele Espírito de verdade, que procede do Pai, ele testificará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também testificareis, pois estivestes comigo desde o princí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já estais limpos, pela palavra que vos tenho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i em mim, e eu em vós; como a vara de si mesma não pode dar fruto, se não estiver na videira, assim também vós, se não estiverdes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a videira, vós as varas; quem está em mim, e eu nele, esse dá muito fruto; porque sem mim nada podeis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não estiver em mim, será lançado fora, como a vara, e secará; e os colhem e lançam no fogo, e ar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ós estiverdes em mim, e as minhas palavras estiverem em vós, pedireis tudo o que quiserdes, e vos será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é glorificado meu Pai, que deis muito fruto; e assim sereis m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Pai me amou, também eu vos amei a vós; permanecei no meu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04Z</dcterms:created>
  <dc:creator>Admin</dc:creator>
  <dc:description/>
  <dc:language>en-US</dc:language>
  <cp:lastModifiedBy>Admin</cp:lastModifiedBy>
  <dcterms:modified xsi:type="dcterms:W3CDTF">2008-07-31T00:04:04Z</dcterms:modified>
  <cp:revision>1</cp:revision>
  <dc:subject/>
  <dc:title>Slide 1</dc:title>
</cp:coreProperties>
</file>