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A38-67D1-4293-B922-1F35DC66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627-28C0-4D22-A747-228393CD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496-5A4E-4956-A5A3-6333D264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98F-4717-4D44-B025-0FD6A487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DD6-6DB7-49BD-953B-811E1BBE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5E6-F410-4123-8944-FEF7C3DE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FBD-C8CA-44CB-ADA1-135F09F4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0F1-1266-4058-86BA-2DD19D45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822-0832-4BFF-B343-A7F948F2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624-6FD7-4C86-A072-6334817E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13B-3755-488B-A2F2-8F533614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292-8575-446E-8E38-A331E25C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5B9C-178E-425F-B8BE-BB8C1BC5488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palavras que Moisés falou a todo o Israel além do Jordão, no deserto, na planície defronte do Mar Vermelho, entre Parã e Tôfel, e Labã, e Hazerote, e Di-Za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vosso Deus já vos tem multiplicado; e eis que em multidão sois hoje como as estrelas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us de vossos pais vos aumente, ainda mil vezes mais do que sois; e vos abençoe, como vos tem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suportaria eu sozinho os vossos fardos, e as vossas cargas, e as vossas contend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-vos homens sábios e entendidos, experimentados entre as vossas tribos, para que os ponha por chefes sob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ós me respondestes, e dissestes: Bom é fazer o que tens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ei, pois, os chefes de vossas tribos, homens sábios e experimentados, e os tenho posto por cabeças sobre vós, por capitães de milhares, e por capitães de cem, e por capitães de cinqüenta, e por capitães de dez, e por governadores das vossas tri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mesmo tempo mandei a vossos juízes, dizendo: Ouvi a causa entre vossos irmãos, e julgai justamente entre o homem e seu irmão, e entre o estrangeiro que está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iscriminareis as pessoas em juízo; ouvireis assim o pequeno como o grande; não temereis a face de ninguém, porque o juízo é de Deus; porém a causa que vos for difícil fareis vir a mim, e eu a ouv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naquele tempo vos ordenei todas as coisas que havíeis de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rtimos de Horebe, e caminhamos por todo aquele grande e tremendo deserto que vistes, pelo caminho das montanhas dos amorreus, como o SENHOR nosso Deus nos ordenara; e chegamos a Cades-Barn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ze jornadas há desde Horebe, caminho do monte Seir, até Cades-Barn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vos disse: Chegados sois às montanhas dos amorreus, que o SENHOR nosso Deus nos 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qui o SENHOR teu Deus tem posto esta terra diante de ti; sobe, toma posse dela, como te falou o SENHOR Deus de teus pais; não temas, e não te assu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vós chegastes a mim, e dissestes: Mandemos homens adiante de nós, para que nos espiem a terra e, de volta, nos ensinem o caminho pelo qual devemos subir, e as cidades a que devemos 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me pareceu bem; de modo que de vós tomei doze homens, de cada tribo um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-se, e subiram à montanha, e chegaram até ao vale de Escol, e o espi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am do fruto da terra nas suas mãos, e no-lo trouxeram e nos informaram, dizendo: Boa é a terra que nos dá o SENHOR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vós não quisestes subir; mas fostes rebeldes ao mandado do SENHOR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rmurastes nas vossas tendas, e dissestes: Porquanto o SENHOR nos odeia, nos tirou da terra do Egito para nos entregar nas mãos dos amorreus, para destruir-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nde subiremos? Nossos irmãos fizeram com que se derretesse o nosso coração, dizendo: Maior e mais alto é este povo do que nós, as cidades são grandes e fortificadas até aos céus; e também vimos ali filhos dos gig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vos disse: Não vos espanteis, nem os te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no ano quadragésimo, no mês undécimo, no primeiro dia do mês, Moisés falou aos filhos de Israel, conforme a tudo o que o SENHOR lhe mandara acerca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vosso Deus que vai adiante de vós, ele pelejará por vós, conforme a tudo o que fez convosco, diante de vossos olhos, no Eg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no deserto, onde vistes que o SENHOR vosso Deus nele vos levou, como um homem leva seu filho, por todo o caminho que andastes, até chegardes a est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em por isso crestes no SENHOR vosso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foi adiante de vós por todo o caminho, para vos achar o lugar onde vós deveríeis acampar; de noite no fogo, para vos mostrar o caminho por onde havíeis de andar, e de dia na nu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o SENHOR a voz das vossas palavras, indignou-se, e juro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 dos homens desta maligna geração verá esta boa terra que jurei dar a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vo Calebe, filho de Jefoné; ele a verá, e a terra que pisou darei a ele e a seus filhos; porquanto perseverou em seguir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ENHOR se indignou contra mim por causa de vós, dizendo: Também tu lá não entr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sué, filho de Num, que está diante de ti, ele ali entrará; fortalece-o, porque ele a fará herdar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sos meninos, de quem dissestes: Por presa serão; e vossos filhos, que hoje não conhecem nem o bem nem o mal, eles ali entrarão, e a eles a darei, e eles a possu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que feriu a Siom, rei dos amorreus, que habitava em Hesbom, e a Ogue, rei de Basã, que habitava em Astarote, em Ed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vós virai-vos, e parti para o deserto, pelo caminho do Mar Verm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stes, e me dissestes: Pecamos contra o SENHOR; nós subiremos e pelejaremos, conforme a tudo o que nos ordenou o SENHOR nosso Deus. E armastes-vos, cada um de vós, dos seus instrumentos de guerra, e estivestes prestes para subir à monta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 o SENHOR: Dize-lhes: Não subais nem pelejeis, pois não estou no meio de vós; para que não sejais feridos diante de vosso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falando-vos eu, não ouvistes; antes fostes rebeldes ao mandado do SENHOR, e vos ensoberbecestes, e subistes à monta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amorreus, que habitavam naquela montanha, vos saíram ao encontro; e perseguiram-vos como fazem as abelhas e vos derrotaram desde Seir até Hor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ndo, pois, vós, e chorando perante o SENHOR, o SENHOR não ouviu a vossa voz, nem vos escu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ermanecestes muitos dias em Cades, pois ali vos demorastes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o Jordão, na terra de Moabe, começou Moisés a declarar esta lei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nosso Deus nos falou em Horebe, dizendo: Assaz vos haveis demorado neste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i-vos, e parti, e ide à montanha dos amorreus, e a todos os seus vizinhos, à planície, e à montanha, e ao vale, e ao sul, e à margem do mar; à terra dos cananeus, e ao Líbano, até ao grande rio, o rio Eufra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enho posto esta terra diante de vós; entrai e possuí a terra que o SENHOR jurou a vossos pais, Abraão, Isaque e Jacó, que a daria a eles e à sua descendência depoi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euteronômio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mesmo tempo eu vos falei, dizendo: Eu sozinho não poderei levar-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7:05Z</dcterms:created>
  <dc:creator>Admin</dc:creator>
  <dc:description/>
  <dc:language>en-US</dc:language>
  <cp:lastModifiedBy>Admin</cp:lastModifiedBy>
  <dcterms:modified xsi:type="dcterms:W3CDTF">2008-07-30T23:27:05Z</dcterms:modified>
  <cp:revision>1</cp:revision>
  <dc:subject/>
  <dc:title>Slide 1</dc:title>
</cp:coreProperties>
</file>