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563-508B-4607-9082-7C3730C5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5C4-D072-461D-B552-08D7E27C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83A-7FB9-4C2D-AA01-5C590F27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5A2-406E-4634-8DFC-FE2AFAB4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82D-7895-4188-8F7F-B783122D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46E-AFD3-4F39-BE1B-8A7AD917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65A-1A74-42E7-A745-8A09D6B9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4BC-CC43-47F7-9A03-2092FB5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1C0-094B-431D-9415-93ACB1A8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AAC-530D-4124-90F8-FD10D725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862-7619-4E52-BC26-062173C5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ECA-2480-4726-B55C-9CB2DE1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5C5D-E16A-4495-9DA6-5031DA68A2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um dos sete anjos que tinham as sete taças, e falou comigo, dizendo-me: Vem, mostrar-te-ei a condenação da grande prostituta que está assentada sobre muitas águ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ão também sete reis; cinco já caíram, e um existe; outro ainda não é vindo; e, quando vier, convém que dure um pouco de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besta que era e já não é, é ela também o oitavo, e é dos sete, e vai à per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ez chifres que viste são dez reis, que ainda não receberam o reino, mas receberão poder como reis por uma hora, juntamente com a b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têm um mesmo intento, e entregarão o seu poder e autoridade à b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combaterão contra o Cordeiro, e o Cordeiro os vencerá, porque é o Senhor dos senhores e o Rei dos reis; vencerão os que estão com ele, chamados, e eleitos, e fi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As águas que viste, onde se assenta a prostituta, são povos, e multidões, e nações, e lín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ez chifres que viste na besta são os que odiarão a prostituta, e a colocarão desolada e nua, e comerão a sua carne, e a queimarão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tem posto em seus corações, que cumpram o seu intento, e tenham uma mesma idéia, e que dêem à besta o seu reino, até que se cumpram as palavr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que viste é a grande cidade que reina sobre os rei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qual se prostituíram os reis da terra; e os que habitam na terra se embebedaram com o vinho da sua prostit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-me em espírito a um deserto, e vi uma mulher assentada sobre uma besta de cor de escarlata, que estava cheia de nomes de blasfêmia, e tinha sete cabeças e dez chif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estava vestida de púrpura e de escarlata, e adornada com ouro, e pedras preciosas e pérolas; e tinha na sua mão um cálice de ouro cheio das abominações e da imundícia da sua prostitu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sua testa estava escrito o nome: Mistério, a grande Babilônia, a mãe das prostituições e abominaçõ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que a mulher estava embriagada do sangue dos santos, e do sangue das testemunhas de Jesus. E, vendo-a eu, maravilhei-me com grande admi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me disse: Por que te admiras? Eu te direi o mistério da mulher, e da besta que a traz, a qual tem sete cabeças e dez chif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esta que viste foi e já não é, e há de subir do abismo, e irá à perdição; e os que habitam na terra (cujos nomes não estão escritos no livro da vida, desde a fundação do mundo) se admirarão, vendo a besta que era e já não é, mas que 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 o sentido, que tem sabedoria. As sete cabeças são sete montes, sobre os quais a mulher está assen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45Z</dcterms:created>
  <dc:creator>Admin</dc:creator>
  <dc:description/>
  <dc:language>en-US</dc:language>
  <cp:lastModifiedBy>Admin</cp:lastModifiedBy>
  <dcterms:modified xsi:type="dcterms:W3CDTF">2008-07-30T23:22:45Z</dcterms:modified>
  <cp:revision>1</cp:revision>
  <dc:subject/>
  <dc:title>Slide 1</dc:title>
</cp:coreProperties>
</file>