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1CD0-D53B-46B9-9331-DC032BAA1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B8CF-2683-4A2D-AF84-39F512EB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3687-B360-4858-BD34-3E6C5B75A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F5AC-4EC9-4C5A-B359-501AD229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92B9-F26A-40BE-8470-9D5DE1ED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58D7-81F6-497B-9174-17D3C0BD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47F5-4C88-4372-8F7A-4E095971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BDFE-3525-4672-9E1D-F26171F5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F233-4668-478F-8E3F-0C0CE2D8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40C7-373D-466C-9C06-1290CD30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C36D-27B1-44AE-8851-1AEB376E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04AA-F29C-442D-9CE1-44F8EC93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D576-B310-4559-83D0-FCEF68E7596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-ME, vós os que seguis a justiça, os que buscais ao SENHOR. Olhai para a rocha de onde fostes cortados, e para a caverna do poço de onde fostes cav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és tu aquele que secou o mar, as águas do grande abismo? O que fez o caminho no fundo do mar, para que passassem os remid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voltarão os resgatados do SENHOR, e virão a Sião com júbilo, e perpétua alegria haverá sobre as suas cabeças; gozo e alegria alcançarão, a tristeza e o gemido fugi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, eu sou aquele que vos consola; quem, pois, és tu para que temas o homem que é mortal, ou o filho do homem, que se tornará em erv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 esqueces do SENHOR que te criou, que estendeu os céus, e fundou a terra, e temes continuamente todo o dia o furor do angustiador, quando se prepara para destruir; pois onde está o furor do que te atribulav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exilado cativo depressa será solto, e não morrerá na caverna, e o seu pão não lhe falt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 sou o SENHOR teu Deus, que agito o mar, de modo que bramem as suas ondas. O SENHOR dos Exércitos é o s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nho as minhas palavras na tua boca, e te cubro com a sombra da minha mão; para plantar os céus, e para fundar a terra, e para dizer a Sião: Tu és o m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perta, desperta, levanta-te, ó Jerusalém, que bebeste da mão do SENHOR o cálice do seu furor; bebeste e sorveste os sedimentos do cálice do atordoa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todos os filhos que ela teve, nenhum há que a guie mansamente; e de todos os filhos que criou, nenhum há que a tome pel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duas coisas te aconteceram; quem terá compaixão de ti? A assolação, e o quebrantamento, e a fome, e a espada! Por quem te consolare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lhai para Abraão, vosso pai, e para Sara, que vos deu à luz; porque, sendo ele só, o chamei, e o abençoei e o multipliqu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teus filhos já desmaiaram, jazem nas entradas de todos os caminhos, como o antílope na rede; cheios estão do furor do SENHOR e da repreensão do t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agora ouve isto, ó aflita, e embriagada, mas não de v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teu Senhor o SENHOR, e o teu Deus, que pleiteará a causa do seu povo: Eis que eu tomo da tua mão o cálice do atordoamento, os sedimentos do cálice do meu furor, nunca mais dele bebe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pô-lo-ei nas mãos dos que te entristeceram, que disseram à tua alma: Abaixa-te, e passaremos sobre ti; e tu puseste as tuas costas como chão, e como caminho, aos vianda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consolará a Sião; consolará a todos os seus lugares assolados, e fará o seu deserto como o Éden, e a sua solidão como o jardim do SENHOR; gozo e alegria se achará nela, ação de graças, e voz de melo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endei-me, povo meu, e nação minha, inclinai os ouvidos para mim; porque de mim sairá a lei, e o meu juízo farei repousar para a luz dos po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rto está a minha justiça, vem saindo a minha salvação, e os meus braços julgarão os povos; as ilhas me aguardarão, e no meu braço esper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i os vossos olhos para os céus, e olhai para a terra em baixo, porque os céus desaparecerão como a fumaça, e a terra se envelhecerá como roupa, e os seus moradores morrerão semelhantemente; porém a minha salvação durará para sempre, e a minha ju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-me, vós que conheceis a justiça, povo em cujo coração está a minha lei; não temais o opróbrio dos homens, nem vos turbeis pelas suas injúr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traça os roerá como a roupa, e o bicho os comerá como a lã; mas a minha justiça durará para sempre, e a minha salvação de geração em ge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perta, desperta, veste-te de força, ó braço do SENHOR; desperta como nos dias passados, como nas gerações antigas. Não és tu aquele que cortou em pedaços a Raabe, o que feriu ao chaca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6:40Z</dcterms:created>
  <dc:creator>Admin</dc:creator>
  <dc:description/>
  <dc:language>en-US</dc:language>
  <cp:lastModifiedBy>Admin</cp:lastModifiedBy>
  <dcterms:modified xsi:type="dcterms:W3CDTF">2008-07-30T23:56:40Z</dcterms:modified>
  <cp:revision>1</cp:revision>
  <dc:subject/>
  <dc:title>Slide 1</dc:title>
</cp:coreProperties>
</file>