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03E-1D9A-4B7A-8E79-93A3D3EF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822-F058-48AF-BA8F-8DB87C3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23F-2644-4670-B58C-FB0B42D9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F9C-D12C-4A0B-ABF2-301755F8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CA5-2C05-4640-B13B-0EEAF1D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114-CAE0-499F-B1F4-8904ADB1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A55-E040-4B8C-9528-E737483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413-0201-40F8-9D76-8F249C1B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036-1C70-4548-B60A-747E4D3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2B1-2398-46A3-9F9D-4FA2EB6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058-83CD-4D5D-A831-2E56C45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FA1-B7DA-46A1-9A68-CDCF077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95AE-CF19-47D0-A294-9A38CE8D81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porém, é a bênção com que Moisés, homem de Deus, abençoou os filhos de Israel antes d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ram os teus juízos a Jacó, e a tua lei a Israel; puseram incenso no teu nariz, e o holocausto sobre o teu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ençoa o seu poder, ó SENHOR, e aceita a obra das suas mãos; fere os lombos dos que se levantam contra ele e o odeiam, para que nunca mais se levan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Benjamim disse: O amado do SENHOR habitará seguro com ele; todo o dia o cobrirá, e morará entre os seu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José disse: Bendita do SENHOR seja a sua terra, com o mais excelente dos céus, com o orvalho e com o abismo que jaz a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s mais excelentes frutos do sol, e com as mais excelentes produções das lu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 mais excelente dos montes antigos, e com o mais excelente dos outeiros ete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 mais excelente da terra, e da sua plenitude, e com a benevolência daquele que habitava na sarça, venha sobre a cabeça de José, e sobre o alto da cabeça daquele que foi separado d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m a glória do primogênito do seu touro, e os seus chifres são chifres de boi selvagem; com eles rechaçará todos os povos até às extremidades da terra; estes pois são os dez milhares de Efraim, e estes são os milhares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Zebulom disse: Zebulom, alegra-te nas tuas saídas; e tu, Issacar, nas t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chamarão os povos ao monte; ali apresentarão ofertas de justiça, porque chuparão a abundância dos mares e os tesouros escondidos da ar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pois: O SENHOR veio de Sinai, e lhes subiu de Seir; resplandeceu desde o monte Parã, e veio com dez milhares de santos; à sua direita havia para eles o fogo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Gade disse: Bendito aquele que faz dilatar a Gade; habita como a leoa, e despedaça o braço e o alto d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proveu da melhor parte, porquanto ali estava escondida a porção do legislador; por isso veio com os chefes do povo, executou a justiça do SENHOR e os seus juízos para co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Dã disse: Dã é cria de leão; que salta de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aftali disse: Farta-te, ó Naftali, da benevolência, e enche-te da bênção do SENHOR; possui o ocidente e 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Aser disse: Bendito seja Aser com seus filhos; agrade a seus irmãos, e banhe em azeite o seu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de ferro e de metal o teu calçado; e a tua força seja como os t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outro, ó Jesurum, semelhante a Deus, que cavalga sobre os céus para a tua ajuda, e com a sua majestade sobre as mais alt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eterno é a tua habitação, e por baixo estão os braços eternos; e ele lançará o inimigo de diante de ti, e dirá: Destró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, pois, habitará só, seguro, na terra da fonte de Jacó, na terra de grão e de mosto; e os seus céus gotejarão orv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tu, ó Israel! Quem é como tu? Um povo salvo pelo SENHOR, o escudo do teu socorro, e a espada da tua majestade; por isso os teus inimigos te serão sujeitos, e tu pisarás sobre as su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ama os povos; todos os seus santos estão na sua mão; postos serão no meio, entre os teus pés, e cada um receberá d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 nos deu a lei, como herança da congregação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rei em Jesurum, quando se congregaram os cabeças do povo com 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va Rúben, e não morra, e que os seus homens não sejam pou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é o que disse de Judá: Ouve, ó SENHOR, a voz de Judá, e introduze-o no seu povo; as suas mãos lhe bastem, e tu lhe sejas em ajuda contra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Levi disse: Teu Tumim e teu Urim são para o teu amado, que tu provaste em Massá, com quem contendeste junto às águas de Meri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isse a seu pai, e à sua mãe: Nunca os vi; e não conheceu a seus irmãos, e não estimou a seus filhos; pois guardaram a tua palavra e observaram a t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12Z</dcterms:created>
  <dc:creator>Admin</dc:creator>
  <dc:description/>
  <dc:language>en-US</dc:language>
  <cp:lastModifiedBy>Admin</cp:lastModifiedBy>
  <dcterms:modified xsi:type="dcterms:W3CDTF">2008-07-30T23:29:12Z</dcterms:modified>
  <cp:revision>1</cp:revision>
  <dc:subject/>
  <dc:title>Slide 1</dc:title>
</cp:coreProperties>
</file>