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51C-81F3-4F53-8473-C66B3777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F5C-66D5-4406-885E-3BFEFAD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57D-045B-41E9-9EBB-B1389DF1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1B7-734C-4540-8D48-9233B6AC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960-5B37-437D-B618-61796470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ECC-07CA-48FD-A583-5FF16DBA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0B4-E48C-43B3-BFE7-9420DFFD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D84-B9FD-449A-8E50-E8676AAE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40E-877E-4768-B4F6-8FA2B02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42D-073C-4834-86E7-5308C1B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B3C-FFFA-4AD9-B1D4-27011B37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97F-1788-49C2-B8C1-D560ED05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0E52-D627-49BE-BAC5-772D9B1B029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, tomando a palavra, tornou a falar-lhes em parábol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, saindo pelos caminhos, ajuntaram todos quantos encontraram, tanto maus como bons; e a festa nupcial foi cheia de convid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, entrando para ver os convidados, viu ali um homem que não estava trajado com veste de núp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Amigo, como entraste aqui, não tendo veste nupcial? E ele emud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então, o rei aos servos: Amarrai-o de pés e mãos, levai-o, e lançai-o nas trevas exteriores; ali haverá pranto e ranger de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muitos são chamados, mas pouco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retirando-se os fariseus, consultaram entre si como o surpreenderiam nalguma palav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-lhe os seus discípulos, com os herodianos, dizendo: Mestre, bem sabemos que és verdadeiro, e ensinas o caminho de Deus segundo a verdade, e de ninguém se te dá, porque não olhas a aparência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-nos, pois, que te parece? É lícito pagar o tributo a César, ou n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conhecendo a sua malícia, disse: Por que me experimentais, hipócrit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ai-me a moeda do tributo. E eles lhe apresentaram um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ino dos céus é semelhante a um certo rei que celebrou as bodas de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z-lhes: De quem é esta efígie e esta inscri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m-lhe eles: De César. Então ele lhes disse: Dai pois a César o que é de César, e a Deus o que é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, ouvindo isto, maravilharam-se, e, deixando-o, se reti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mesmo dia chegaram junto dele os saduceus, que dizem não haver ressurreição, e o interroga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Mestre, Moisés disse: Se morrer alguém, não tendo filhos, casará o seu irmão com a mulher dele, e suscitará descendência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houve entre nós sete irmãos; e o primeiro, tendo casado, morreu e, não tendo descendência, deixou sua mulher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esma sorte o segundo, e o terceiro, até ao sét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fim, depois de todos, morreu também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a ressurreição, de qual dos sete será a mulher, visto que todos a possuí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respondendo, disse-lhes: Errais, não conhecendo as Escrituras, nem o poder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os seus servos a chamar os convidados para as bodas, e estes não quiseram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 ressurreição nem casam nem são dados em casamento; mas serão como os anjos de Deus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erca da ressurreição dos mortos, não tendes lido o que Deus vos declaro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Deus de Abraão, o Deus de Isaque, e o Deus de Jacó? Ora, Deus não é Deus dos mortos, mas dos vi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s turbas, ouvindo isto, ficaram maravilhadas da sua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ariseus, ouvindo que ele fizera emudecer os saduceus, reuniram-se no mesmo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deles, doutor da lei, interrogou-o para o experimenta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stre, qual é o grande mandamento na 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: Amarás o Senhor teu Deus de todo o teu coração, e de toda a tua alma, e de todo o teu pens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primeiro e grande mand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gundo, semelhante a este, é: Amarás o teu próximo como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enviou outros servos, dizendo: Dizei aos convidados: Eis que tenho o meu jantar preparado, os meus bois e cevados já mortos, e tudo já pronto; vinde às bo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es dois mandamentos dependem toda a lei e 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reunidos os fariseus, interrogou-os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Que pensais vós do Cristo? De quem é filho? Eles disseram-lhe: De Da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ele: Como é então que Davi, em espírito, lhe chama Senhor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o Senhor ao meu Senhor: Assenta-te à minha direita, Até que eu ponha os teus inimigos por escabelo de teus pé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avi, pois, lhe chama Senhor, como é seu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podia responder-lhe uma palavra; nem desde aquele dia ousou mais alguém interrog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não fazendo caso, foram, um para o seu campo, outro para o seu tráfi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utros, apoderando-se dos servos, os ultrajaram e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, tendo notícia disto, encolerizou-se e, enviando os seus exércitos, destruiu aqueles homicidas, e incendiou a su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z aos servos: As bodas, na verdade, estão preparadas, mas os convidados não eram dig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, pois, às saídas dos caminhos, e convidai para as bodas a todos os que encontra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41Z</dcterms:created>
  <dc:creator>Admin</dc:creator>
  <dc:description/>
  <dc:language>en-US</dc:language>
  <cp:lastModifiedBy>Admin</cp:lastModifiedBy>
  <dcterms:modified xsi:type="dcterms:W3CDTF">2008-07-31T00:15:41Z</dcterms:modified>
  <cp:revision>1</cp:revision>
  <dc:subject/>
  <dc:title>Slide 1</dc:title>
</cp:coreProperties>
</file>