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D00-AAA1-4FE1-B935-683B29DB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08A-A98C-4528-A639-61D79EF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3BA-153C-46C3-9BEF-1D872BCE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EB7-4316-423D-9CFF-1D40DBC8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27A-A948-4E62-B7CB-ADF91E2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E40-7442-4C0E-8D1A-15CF96B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58B-27B2-4442-826A-B89A89B9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934-F0C1-4AAF-A722-9D122FF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C67-8BF6-4648-8509-C7BAD54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4CB-B010-40EA-9A9C-5C0556C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C52-0E5F-43E4-B18B-940AD970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5C7-2852-4564-95E6-D5B2447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000F-A421-4B0E-95D7-EE8452B2BD2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QUE chamou a Jacó, e abençoou-o, e ordenou-lhe, e disse-lhe: Não tomes mulher de entre as filhas de Cana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iu, pois, Jacó de Berseba, e foi a Har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 a um lugar onde passou a noite, porque já o sol era posto; e tomou uma das pedras daquele lugar, e a pôs por seu travesseiro, e deitou-se naquele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nhou: e eis uma escada posta na terra, cujo topo tocava nos céus; e eis que os anjos de Deus subiam e desciam por el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o SENHOR estava em cima dela, e disse: Eu sou o SENHOR Deus de Abraão teu pai, e o Deus de Isaque; esta terra, em que estás deitado, darei a ti e à tua descend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ua descendência será como o pó da terra, e estender-se-á ao ocidente, e ao oriente, e ao norte, e ao sul, e em ti e na tua descendência serão benditas todas as famílias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estou contigo, e te guardarei por onde quer que fores, e te farei tornar a esta terra; porque não te deixarei, até que haja cumprido o que te tenho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rdando, pois, Jacó do seu sono, disse: Na verdade o SENHOR está neste lugar; e eu não o sab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meu, e disse: Quão terrível é este lugar! Este não é outro lugar senão a casa de Deus; e esta é a porta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evantou-se Jacó pela manhã de madrugada, e tomou a pedra que tinha posto por seu travesseiro, e a pôs por coluna, e derramou azeite em cima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o nome daquele lugar Betel; o nome porém daquela cidade antes era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vai a Padã-Arã, à casa de Betuel, pai de tua mãe, e toma de lá uma mulher das filhas de Labão, irmão de tua mã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fez um voto, dizendo: Se Deus for comigo, e me guardar nesta viagem que faço, e me der pão para comer, e vestes para vesti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em paz tornar à casa de meu pai, o SENHOR me será por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pedra que tenho posto por coluna será casa de Deus; e de tudo quanto me deres, certamente te darei o díz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Todo-Poderoso te abençoe, e te faça frutificar, e te multiplique, para que sejas uma multidão de pov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ê a bênção de Abraão, a ti e à tua descendência contigo, para que em herança possuas a terra de tuas peregrinações, que Deus deu a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espediu Isaque a Jacó, o qual se foi a Padã-Arã, a Labão, filho de Betuel, arameu, irmão de Rebeca, mãe de Jacó e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, pois, Esaú que Isaque abençoara a Jacó, e o enviara a Padã-Arã, para tomar mulher dali para si, e que, abençoando-o, lhe ordenara, dizendo: Não tomes mulher das filhas de Cana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Jacó obedecera a seu pai e a sua mãe, e se fora a Padã-Ar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ndo também Esaú que as filhas de Canaã eram más aos olhos de Isaque seu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 Esaú a Ismael, e tomou para si por mulher, além das suas mulheres, a Maalate filha de Ismael, filho de Abraão, irmã de Nebai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49Z</dcterms:created>
  <dc:creator>Admin</dc:creator>
  <dc:description/>
  <dc:language>en-US</dc:language>
  <cp:lastModifiedBy>Admin</cp:lastModifiedBy>
  <dcterms:modified xsi:type="dcterms:W3CDTF">2008-07-30T23:38:49Z</dcterms:modified>
  <cp:revision>1</cp:revision>
  <dc:subject/>
  <dc:title>Slide 1</dc:title>
</cp:coreProperties>
</file>