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5806-746A-4278-B513-1CF0545E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3F44-DE3F-4A37-8627-B9EDA2C4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45DC-F9E8-42A9-A439-E48983C6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B49D-FA16-42D7-8408-A072E65F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3821-9ABF-4A75-ACA0-CA98BD1A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01FF-BD0F-4545-92F9-86213D7A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1523-9D93-4F92-83E6-0A7540E0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3252-E219-4352-AC54-D133A143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E62D-A4A6-421A-ABA0-29D9F36F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CA2A-6913-48F8-84A9-9E845CBA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2DC4-F359-416D-A551-D7C19C88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F603-B1B4-40C9-B17F-719C4F44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EEB9-095F-4CDA-8AF9-D70E62FE65D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é o meu pastor, nada me falt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itar-me faz em verdes pastos, guia-me mansamente a águas tranqüi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frigera a minha alma; guia-me pelas veredas da justiça, por amor d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eu andasse pelo vale da sombra da morte, não temeria mal algum, porque tu estás comigo; a tua vara e o teu cajado me consol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eparas uma mesa perante mim na presença dos meus inimigos, unges a minha cabeça com óleo, o meu cálice transbo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rtamente que a bondade e a misericórdia me seguirão todos os dias da minha vida; e habitarei na casa do SENHOR por longo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40Z</dcterms:created>
  <dc:creator>Admin</dc:creator>
  <dc:description/>
  <dc:language>en-US</dc:language>
  <cp:lastModifiedBy>Admin</cp:lastModifiedBy>
  <dcterms:modified xsi:type="dcterms:W3CDTF">2008-07-31T00:24:40Z</dcterms:modified>
  <cp:revision>1</cp:revision>
  <dc:subject/>
  <dc:title>Slide 1</dc:title>
</cp:coreProperties>
</file>