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83D-0E8F-4188-81A7-80F22FA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629-DDC4-45CC-BACB-A245338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BD2-B5DB-4F56-A636-0AA77230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825-5D06-45C3-BF2B-807AF090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4B4-92AE-49E8-B8DD-D4C1CFA8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9BD-0687-4450-880C-FB708EF1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796-236A-45F0-97FA-45A6EEDF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7E3-3779-4DF1-930A-F22D467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4C3-40FF-47E2-8146-067CD85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58C-CAF4-4EA6-93BC-D568B9C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83E-6090-42AB-879B-AB051846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F16-3A11-4B12-BBB2-6B4E8F8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A4E-F6EE-4343-8F8C-16D6D1ABC6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 mesmo tempo, estavam presentes ali alguns que lhe falavam dos galileus, cujo sangue Pilatos misturara com os seus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sinava no sábado, numa das sinago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stava ali uma mulher que tinha um espírito de enfermidade, havia já dezoito anos; e andava curvada, e não podia de modo algum endireit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-a Jesus, chamou-a a si, e disse-lhe: Mulher, estás livre da tua enferm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as mãos sobre ela, e logo se endireitou, e glorificava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a palavra o príncipe da sinagoga, indignado porque Jesus curava no sábado, disse à multidão: Seis dias há em que é mister trabalhar; nestes, pois, vinde para serdes curados, e não no dia de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, porém, o Senhor, e disse: Hipócrita, no sábado não desprende da manjedoura cada um de vós o seu boi, ou jumento, e não o leva a be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onvinha soltar desta prisão, no dia de sábado, esta filha de Abraão, a qual há dezoito anos Satanás tinha pre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ele isto, todos os seus adversários ficaram envergonhados, e todo o povo se alegrava por todas as coisas gloriosas que eram feitas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A que é semelhante o reino de Deus, e a que o compara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emelhante ao grão de mostarda que um homem, tomando-o, lançou na sua horta; e cresceu, e fez-se grande árvore, e em seus ramos se aninharam as ave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-lhes: Cuidais vós que esses galileus foram mais pecadores do que todos os galileus, por terem padecido tai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utra vez: A que compararei o rein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emelhante ao fermento que uma mulher, tomando-o, escondeu em três medidas de farinha, até que tudo leve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corria as cidades e as aldeias, ensinando, e caminhando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um: Senhor, são poucos os que se salvam? E ele lhe respond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fiai por entrar pela porta estreita; porque eu vos digo que muitos procurarão entrar, e não pod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pai de família se levantar e cerrar a porta, e começardes, de fora, a bater à porta, dizendo: Senhor, SENHOR, abre-nos; e, respondendo ele, vos disser: Não sei de onde vós so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çareis a dizer: Temos comido e bebido na tua presença, e tu tens ensinado nas noss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vos responderá: Digo-vos que não sei de onde vós sois; apartai-vos de mim, vós todos os que praticais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haverá choro e ranger de dentes, quando virdes Abraão, e Isaque, e Jacó, e todos os profetas no reino de Deus, e vós lançados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ão do oriente, e do ocidente, e do norte, e do sul, e assentar-se-ão à mesa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, vos digo; antes, se não vos arrependerdes, todos de igual modo per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derradeiros há que serão os primeiros; e primeiros há que serão os derra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chegaram uns fariseus, dizendo-lhe: Sai, e retira-te daqui, porque Herodes quer mat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-lhes: Ide, e dizei àquela raposa: Eis que eu expulso demônios, e efetuo curas, hoje e amanhã, e no terceiro dia sou consu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mporta, porém, caminhar hoje, amanhã, e no dia seguinte, para que não suceda que morra um profeta for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rusalém, Jerusalém, que matas os profetas, e apedrejas os que te são enviados! Quantas vezes quis eu ajuntar os teus filhos, como a galinha os seus pintos debaixo das asas, e não quise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vossa casa se vos deixará deserta. E em verdade vos digo que não me vereis até que venha o tempo em que digais: Bendito aquele que vem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dezoito, sobre os quais caiu a torre de Siloé e os matou, cuidais que foram mais culpados do que todos quantos homens habitam em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, vos digo; antes, se não vos arrependerdes, todos de igual modo per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esta parábola: Um certo homem tinha uma figueira plantada na sua vinha, e foi procurar nela fruto, não o acha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vinhateiro: Eis que há três anos venho procurar fruto nesta figueira, e não o acho. Corta-a; por que ocupa ainda a terra inutil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-lhe: Senhor, deixa-a este ano, até que eu a escave e a ester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er fruto, ficará e, se não, depois a mandarás c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25Z</dcterms:created>
  <dc:creator>Admin</dc:creator>
  <dc:description/>
  <dc:language>en-US</dc:language>
  <cp:lastModifiedBy>Admin</cp:lastModifiedBy>
  <dcterms:modified xsi:type="dcterms:W3CDTF">2008-07-31T00:11:25Z</dcterms:modified>
  <cp:revision>1</cp:revision>
  <dc:subject/>
  <dc:title>Slide 1</dc:title>
</cp:coreProperties>
</file>