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280-7705-4D17-84FE-DC08ED44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2EB-2F79-4C82-9583-5CBEBCD5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EE9-4A8F-495E-8386-69569D73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50A-14F2-416A-B6FB-C0DA33FC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933-6E5A-448F-B307-C9D46114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C8C-A639-452B-ABB5-41680A5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D51-0A55-4346-ABBE-60DA92B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FE2-0C1B-4888-834C-86B4D202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B70-1DFB-4EA8-9743-3600003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7D6-AF23-4E81-A41C-B378FD1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6A0-74F0-4383-AFA7-24139DCF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EF1-9B83-4945-A2F0-7F65CC9B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B9F6-73F1-4BF8-BBD0-524E74688F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Moisés a todo o Israel, e disse-lhes: Ouve, ó Israel, os estatutos e juízos que hoje vos falo aos ouvidos; e aprendê-los-eis, e guardá-los-eis, para os cump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ço misericórdia a milhares dos que me amam e guardam os m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marás o nome do SENHOR teu Deus em vão; porque o SENHOR não terá por inocente ao que tomar o seu nome em 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o dia de sábado, para o santificar, como te ordenou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trabalharás, e farás todo o teu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étimo dia é o sábado do SENHOR teu Deus; não farás nenhum trabalho nele, nem tu, nem teu filho, nem tua filha, nem o teu servo, nem a tua serva, nem o teu boi, nem o teu jumento, nem animal algum teu, nem o estrangeiro que está dentro de tuas 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 lembrarás que foste servo na terra do Egito, e que o SENHOR teu Deus te tirou dali com mão forte e braço estendido; por isso o SENHOR teu Deus te ordenou que guardasses o dia de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nra a teu pai e a tua mãe, como o SENHOR teu Deus te ordenou, para que se prolonguem os teus dias, e para que te vá bem na terra que te dá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a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dulte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ur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nosso Deus fez conosco aliança em Hore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rás falso testemunho contra o t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biçarás a mulher do teu próximo; e não desejarás a casa do teu próximo, nem o seu campo, nem o seu servo, nem a sua serva, nem o seu boi, nem o seu jumento, nem coisa alguma do t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palavras falou o SENHOR a toda a vossa congregação no monte, do meio do fogo, da nuvem e da escuridão, com grande voz, e nada acrescentou; e as escreveu em duas tábuas de pedra, e a mim mas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a voz do meio das trevas, e vendo o monte ardendo em fogo, vos achegastes a mim, todos os cabeças das vossas tribos, e vossos anci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stes: Eis aqui o SENHOR nosso Deus nos fez ver a sua glória e a sua grandeza, e ouvimos a sua voz do meio do fogo; hoje vimos que Deus fala com o homem, e que este permanece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or que morreríamos? Pois este grande fogo nos consumiria; se ainda mais ouvíssemos a voz do SENHOR nosso Deus morrerí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m há de toda a carne, que ouviu a voz do Deus vivente falando do meio do fogo, como nós, e ficou vi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-te tu, e ouve tudo o que disser o SENHOR nosso Deus; e tu nos dirás tudo o que te disser o SENHOR nosso Deus, e o ouviremos, e o cumpri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o SENHOR as vossas palavras, quando me faláveis, o SENHOR me disse: Eu ouvi as palavras deste povo, que eles te disseram; em tudo falaram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ra que eles tivessem tal coração que me temessem, e guardassem todos os meus mandamentos todos os dias, para que bem lhes fosse a eles e a seus filho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 nossos pais fez o SENHOR esta aliança, mas conosco, todos os que hoje aqui estamos v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dize-lhes: Tornai-vos às voss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rém, fica-te aqui comigo, para que eu a ti te diga todos os mandamentos, e estatutos, e juízos, que tu lhes hás de ensinar, para que cumpram na terra que eu lhes darei para possuí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, pois, que façais como vos mandou o SENHOR vosso Deus; não vos desviareis, nem para a direita nem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reis em todo o caminho que vos manda o SENHOR vosso Deus, para que vivais e bem vos suceda, e prolongueis os dias na terra que haveis de poss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ce a face o SENHOR falou conosco no monte, do meio do fog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Naquele tempo eu estava em pé entre o SENHOR e vós, para vos notificar a palavra do SENHOR; porque temestes o fogo e não subistes ao monte)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 teu Deus, que te tirei da terra do Egito, da casa da servi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rás outros deuses diante de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rás para ti imagem de escultura, nem semelhança alguma do que há em cima no céu, nem em baixo na terra, nem nas águas debaixo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encurvarás a elas, nem as servirás; porque eu, o SENHOR teu Deus, sou Deus zeloso, que visito a iniqüidade dos pais nos filhos, até à terceira e quarta geração daqueles que me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26Z</dcterms:created>
  <dc:creator>Admin</dc:creator>
  <dc:description/>
  <dc:language>en-US</dc:language>
  <cp:lastModifiedBy>Admin</cp:lastModifiedBy>
  <dcterms:modified xsi:type="dcterms:W3CDTF">2008-07-30T23:27:26Z</dcterms:modified>
  <cp:revision>1</cp:revision>
  <dc:subject/>
  <dc:title>Slide 1</dc:title>
</cp:coreProperties>
</file>