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E136-883E-4F01-8275-96D382E79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D8BD-58A7-4EB6-AC42-2E7F7A3EF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8AC4-C6D4-4C93-BCBC-BE7EE8D40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7B25-BE97-48CA-8489-5D6A6E2C5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F725-8938-4158-BE9A-12E3A00E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733D-641E-4A71-B864-777ADA2E8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3D21-D108-4033-B55C-86EDCA418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B05A-C11F-4E3C-83AF-DEBA90E8E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B692-B1B5-4BE8-A0FB-9726B3D43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0862-A550-4E89-948C-BC469778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7681-03D1-4D34-AD37-DA2A6953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CB64-7806-49D1-AE5A-B34ED6F7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4F88-2F52-4576-984B-5BBE5F17DB7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TENDO nascido Jesus em Belém de Judéia, no tempo do rei Herodes, eis que uns magos vieram do oriente a Jerusalém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vendo eles a estrela, regozijaram-se muito com grande aleg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entrando na casa, acharam o menino com Maria sua mãe e, prostrando-se, o adoraram; e abrindo os seus tesouros, ofertaram-lhe dádivas: ouro, incenso e mi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ndo por divina revelação avisados em sonhos para que não voltassem para junto de Herodes, partiram para a sua terra por outro cami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tendo eles se retirado, eis que o anjo do Senhor apareceu a José em sonhos, dizendo: Levanta-te, e toma o menino e sua mãe, e foge para o Egito, e demora-te lá até que eu te diga; porque Herodes há de procurar o menino para o mat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levantando-se ele, tomou o menino e sua mãe, de noite, e foi para 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eve lá, até à morte de Herodes, para que se cumprisse o que foi dito da parte do Senhor pelo profeta, que diz: Do Egito chamei o meu Fi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Herodes, vendo que tinha sido iludido pelos magos, irritou-se muito, e mandou matar todos os meninos que havia em Belém, e em todos os seus contornos, de dois anos para baixo, segundo o tempo que diligentemente inquirira dos mag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e cumpriu o que foi dito pelo profeta Jeremias, que diz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 Ramá se ouviu uma voz, Lamentação, choro e grande pranto: Raquel chorando os seus filhos, E não querendo ser consolada, porque já não exist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orto, porém, Herodes, eis que o anjo do Senhor apareceu num sonho a José no Egit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endo: Onde está aquele que é nascido rei dos judeus? porque vimos a sua estrela no oriente, e viemos a adorá-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endo: Levanta-te, e toma o menino e sua mãe, e vai para a terra de Israel; porque já estão mortos os que procuravam a morte do meni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le se levantou, e tomou o menino e sua mãe, e foi para a terra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ouvindo que Arquelau reinava na Judéia em lugar de Herodes, seu pai, receou ir para lá; mas avisado em sonhos, por divina revelação, foi para as partes da Galilé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hegou, e habitou numa cidade chamada Nazaré, para que se cumprisse o que fora dito pelos profetas: Ele será chamado Nazare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rei Herodes, ouvindo isto, perturbou-se, e toda Jerusalém com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ongregados todos os príncipes dos sacerdotes, e os escribas do povo, perguntou-lhes onde havia de nascer o Cr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s lhe disseram: Em Belém de Judéia; porque assim está escrito pelo profeta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u, Belém, terra de Judá, De modo nenhum és a menor entre as capitais de Judá; Porque de ti sairá o Guia Que há de apascentar o meu povo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Herodes, chamando secretamente os magos, inquiriu exatamente deles acerca do tempo em que a estrela lhes aparece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enviando-os a Belém, disse: Ide, e perguntai diligentemente pelo menino e, quando o achardes, participai-mo, para que também eu vá e o ado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tendo eles ouvido o rei, partiram; e eis que a estrela, que tinham visto no oriente, ia adiante deles, até que, chegando, se deteve sobre o lugar onde estava o meni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4:08Z</dcterms:created>
  <dc:creator>Admin</dc:creator>
  <dc:description/>
  <dc:language>en-US</dc:language>
  <cp:lastModifiedBy>Admin</cp:lastModifiedBy>
  <dcterms:modified xsi:type="dcterms:W3CDTF">2008-07-31T00:14:08Z</dcterms:modified>
  <cp:revision>1</cp:revision>
  <dc:subject/>
  <dc:title>Slide 1</dc:title>
</cp:coreProperties>
</file>