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667B-98CA-4D54-9CED-CCC5ECEF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02E3-7BAD-4BA6-88D6-7D3A109F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0156-9DD5-4FE5-8E10-FB90A6D5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210A-564E-4BC0-B78E-7EC83923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CF6C-D5C5-48E9-A6E8-C5D02ECA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166E-E1AF-43AF-B93C-BA4F987B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537B-2DEC-470F-AD3A-19D23164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F201-FE57-4DB4-9EB8-9117B976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10AA-34EA-4500-B7FA-11D37900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5DF6-408C-44C0-A29C-14CCDC60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3EAA-E3F8-40E5-8E76-7C2C709A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7EBE-742B-4CB7-B25E-E9C16194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0352-E2B1-4464-9B7C-B08D65D71DE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QUANTO Esdras orava, e fazia confissão, chorando e prostrando-se diante da casa de Deus, ajuntou-se a ele, de Israel, uma grande congregação, de homens, mulheres e crianças; pois o povo chorava com grande cho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levantou Esdras, o sacerdote, e disse-lhes: Vós tendes transgredido, e casastes com mulheres estrangeiras, aumentando a culpa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fazei confissão ao SENHOR Deus de vossos pais, e fazei a sua vontade; e apartai-vos dos povos das terras, e das mulheres estrangei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spondeu toda a congregação, e disse em altas vozes: Assim seja, conforme às tuas palavras nos convém f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povo é muito, e também é tempo de grandes chuvas, e não se pode estar aqui fora; nem é obra de um dia nem de dois, porque somos muitos os que transgredimos neste negóc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ponham-se os nossos líderes, por toda a congregação sobre este negócio; e todos os que em nossas cidades casaram com mulheres estrangeiras venham em tempos apontados, e com eles os anciãos de cada cidade, e os seus juízes, até que desviemos de nós 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somente Jônatas, filho de Asael, e Jaseías, filho de Ticva, se opuseram a isto; e Mesulão, e Sabetai, levita, os ajud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sim o fizeram os que voltaram do cativeiro; e o sacerdote Esdras e os homens, chefes dos pais, segundo a casa de seus pais, e todos pelos seus nomes, foram apontados; e assentaram-se no primeiro dia do décimo mês, para inquirirem neste negóc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primeiro dia do primeiro mês acabaram de tratar com todos os homens que casaram com mulheres estrangei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haram-se dos filhos dos sacerdotes que casaram com mulheres estrangeiras: Dos filhos de Jesuá, filho de Jozadaque, e seus irmãos, Maaséias, e Eliezer, e Jaribe, e Gedal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ram as suas mãos prometendo que despediriam suas mulheres; e, achando-se culpados, ofereceram um carneiro do rebanho pelo seu del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canias, filho de Jeiel, um dos filhos de Elão, tomou a palavra e disse a Esdras: Nós temos transgredido contra o nosso Deus, e casamos com mulheres estrangeiras dentre os povos da terra, mas, no tocante a isto, ainda há esperança para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s filhos de Imer: Hanani e Zeba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s filhos de Harim: Maaséias, Elias, Semaías, Jeiel e Uz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s filhos de Pasur: Elioenai, Maaséias, Ismael, Netanel, Jozabade e Ele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s levitas: Jozabade, Simei, Quelaías (este é Quelita), Petaías, Judá e Elie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s cantores: Eliasibe; e dos porteiros: Salum, Telém e Ur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Israel, dos filhos de Parós: Ramias, Jezias, Malquias, Miamim, Eleazar, Malquias e Bena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s filhos de Elão: Matanias, Zacarias, Jeiel, Abdi, Jeremote e El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s filhos de Zatu: Elioenai, Eliasibe, Matanias, Jeremote, Zabade e Azi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s filhos de Bebai: Joanã, Hananias, Zabai e Atl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s filhos de Bani: Mesulão, Maluque, Adaías, Jasube, Seal, Jerem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façamos aliança com o nosso Deus de que despediremos todas as mulheres, e os que delas são nascidos, conforme ao conselho do meu senhor, e dos que tremem ao mandado do nosso Deus; e faça-se conforme a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s filhos de Paate-Moabe: Adna, Quelal, Benaia, Maséias, Matanias, Bezalel, Binui e Manas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s filhos de Harim: Eliezer, Josias, Malquias, Semaías, Sime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jamim, Maluque, Semar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filhos de Hasum: Matenai, Matatá, Zabade, Elifelete, Jeremai, Manassés e Sim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filhos de Bani: Maadai, Anrão, Ue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aia, Bedias, Queluí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anias, Meremote, Eliasib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tanias, Matnai e Jaasa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ani, Binui, Sime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lemias, Natã e Adaí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-te, pois, porque te pertence este negócio, e nós seremos contigo; esforça-te, e ag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cnadbai, Sasai, Sara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zareel, Selemias, Semari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lum, Amarias e Jos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filhos de Nebo: Jeiel, Matitias, Zabade, Zebina, Jadai, Joel e Bena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estes tomaram mulheres estrangeiras; e alguns deles tinham mulheres de quem tiveram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sdras se levantou, e ajuramentou os chefes dos sacerdotes e dos levitas, e a todo o Israel, de que fariam conforme a esta palavra; e eles jur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dras se levantou de diante da casa de Deus, e entrou na câmara de Joanã, filho de Eliasibe; e, chegando lá, não comeu pão, e nem bebeu água; porque lamentava pela transgressão dos do cativ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izeram passar pregão por Judá e Jerusalém, a todos os que vieram do cativeiro, para que se ajuntassem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 todo aquele que em três dias não viesse, segundo o conselho dos príncipes e dos anciãos, toda a sua fazenda se poria em interdito, e ele seria separado da congregação dos do cativ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dos os homens de Judá e Benjamim em três dias se ajuntaram em Jerusalém; era o nono mês, aos vinte dias do mês; e todo o povo se assentou na praça da casa de Deus, tremendo por este negócio e por causa das grandes chu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0:41Z</dcterms:created>
  <dc:creator>Admin</dc:creator>
  <dc:description/>
  <dc:language>en-US</dc:language>
  <cp:lastModifiedBy>Admin</cp:lastModifiedBy>
  <dcterms:modified xsi:type="dcterms:W3CDTF">2008-07-30T23:30:41Z</dcterms:modified>
  <cp:revision>1</cp:revision>
  <dc:subject/>
  <dc:title>Slide 1</dc:title>
</cp:coreProperties>
</file>