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2D3-D963-4F69-8190-613E9E8A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3EC2-D6C8-492C-A6DA-42C8CD7A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4940-FB9B-48FD-8FFB-04B3EFD7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CB1-7594-4339-807B-B6D355BB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629-144E-4C69-BFF0-37181B09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D22B-B572-4A28-B409-70B0F82C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1936-2B82-43DD-A95D-015F576C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DFB-F921-4452-BB20-83994FF2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C9E-E68B-4EFA-9694-B9CA5EEE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4E5-5ADC-424E-A46C-50649DB5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192-C099-43CF-8B13-C75FCD90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3C6-A137-4B3B-9E7F-E6C55BD1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71A0-A5B6-4363-971C-636A38EE0E2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, depois de alguns dias, que, na sega do trigo, Sansão visitou a sua mulher, com um cabrito, e disse: Entrarei na câmara de minha mulher. Porém o pai dela não o deixou ent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guntaram-lhes os homens de Judá: Por que subistes contra nós? E eles responderam: Subimos para amarrar a Sansão, para lhe fazer a ele como ele nos fez a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rês mil homens de Judá desceram até a fenda da rocha de Etã, e disseram a Sansão: Não sabias tu que os filisteus dominam sobre nós? Por que, pois, nos fizeste isto? E ele lhes disse: Assim como eles me fizeram a mim, eu lhes fiz 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-lhe: Descemos para te amarrar e te entregar nas mãos dos filisteus. Então Sansão lhes disse: Jurai-me que vós mesmos não me acomet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lhe falaram, dizendo: Não, mas fortemente te amarraremos, e te entregaremos nas mãos deles; porém de maneira nenhuma te mataremos. E amarraram-no com duas cordas novas e fizeram-no subir da roc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indo ele a Leí, os filisteus lhe saíram ao encontro, jubilando; porém o Espírito do SENHOR poderosamente se apossou dele, e as cordas que ele tinha nos braços se tornaram como fios de linho que se queimaram no fogo, e as suas amarraduras se desfiz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hou uma queixada fresca de um jumento, e estendeu a sua mão, e tomou-a, e feriu com ela mil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nsão: Com uma queixada de jumento, montões sobre montões; com uma queixada de jumento feri a mil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acabando ele de falar, lançou a queixada da sua mão; e chamou aquele lugar Ramate-Leí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o tivesse grande sede, clamou ao SENHOR, e disse: Pela mão do teu servo tu deste esta grande salvação; morrerei eu pois agora de sede, e cairei na mão destes incircuncis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eus fendeu uma cavidade que estava na queixada; e saiu dela água, e bebeu; e recobrou o seu espírito e reanimou-se; por isso chamou aquele lugar: A fonte do que clama, que está em Leí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seu pai: Por certo pensava eu que de todo a desprezavas; de sorte que a dei ao teu companheiro; porém não é sua irmã mais nova, mais formosa do que ela? Toma-a, pois,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lgou a Israel, nos dias dos filisteus, vinte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nsão disse acerca deles: Inocente sou esta vez para com os filisteus, quando lhes fizer algum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Sansão, e pegou trezentas raposas; e, tomando tochas, as virou cauda a cauda, e lhes pôs uma tocha no meio de cada duas cau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ou fogo às tochas, e largou-as na seara dos filisteus; e assim abrasou os molhos com a sega do trigo, e as vinhas e os oliv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erguntaram os filisteus: Quem fez isto? E responderam: Sansão, o genro do timnita, porque lhe tomou a sua mulher, e a deu a seu companheiro. Então subiram os filisteus, e queimaram a fogo a ela e a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s disse Sansão: É assim que fazeis? Pois, havendo-me vingado eu de vós, então cess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riu-os com grande ferimento, pernas juntamente com coxa; e desceu, e habitou na fenda da rocha de Et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filisteus subiram, e acamparam-se contra Judá, e estenderam-se por Leí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7:16Z</dcterms:created>
  <dc:creator>Admin</dc:creator>
  <dc:description/>
  <dc:language>en-US</dc:language>
  <cp:lastModifiedBy>Admin</cp:lastModifiedBy>
  <dcterms:modified xsi:type="dcterms:W3CDTF">2008-07-31T00:07:16Z</dcterms:modified>
  <cp:revision>1</cp:revision>
  <dc:subject/>
  <dc:title>Slide 1</dc:title>
</cp:coreProperties>
</file>