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5F7-3519-42CD-8826-5C6B0E39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A66-D5EF-4857-95A6-4B71FDBF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D5F-32DC-46BE-B1DC-EC91F8FC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C8B-F4D1-4E06-9679-9B6D4C90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B28-592D-4F02-948F-76F66804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753-300A-4218-901B-147D88E7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E70-6F18-4BA8-9526-E0476993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CE6-47AC-4048-A4DD-13028E42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CEE-F8F5-4329-8ACA-72377C7C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6B5-E672-4CEE-B4D6-4ED26E99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616-EF94-4DED-8913-C18A8F87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995-5E22-45BA-89E6-2B64DD29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9F48-F9F4-40D7-8354-3F85CFAA68C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uvia as palavras dos filhos de Labão, que diziam: Jacó tem tomado tudo o que era de nosso pai, e do que era de nosso pai fez ele toda est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o tempo em que o rebanho concebia, eu levantei os meus olhos e vi em sonhos, e eis que os bodes, que cobriam as ovelhas, eram listrados, salpicados e mal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anjo de Deus em sonhos: Jacó! E eu disse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Levanta agora os teus olhos e vê todos os bodes que cobrem o rebanho, que são listrados, salpicados e malhados; porque tenho visto tudo o que Labão te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Deus de Betel, onde tens ungido uma coluna, onde me fizeste um voto; levanta-te agora, sai-te desta terra e torna-te à terra da tua parent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Raquel e Lia e disseram-lhe: Há ainda para nós parte ou herança na casa de nosso pa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nos considera ele como estranhas? Pois vendeu-nos, e comeu de todo o nosso din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 a riqueza, que Deus tirou de nosso pai, é nossa e de nossos filhos; agora, pois, faze tudo o que Deus te mand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Jacó, pondo os seus filhos e as suas mulheres sobre os came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ou todo o seu gado, e todos os seus bens, que havia adquirido, o gado que possuía, que alcançara em Padã-Arã, para ir a Isaque, seu pai, à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ndo Labão ido a tosquiar as suas ovelhas, furtou Raquel os ídolos que seu pai t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u também Jacó o rosto de Labão, e eis que não era para com ele como anterior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logrou a Labão, o arameu, porque não lhe fez saber que fug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giu ele com tudo o que tinha, e levantou-se e passou o rio; e se dirigiu para a montanh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terceiro dia foi anunciado a Labão que Jacó tinha fu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consigo os seus irmãos, e atrás dele seguiu o seu caminho por sete dias; e alcançou-o na montanh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rém, Deus a Labão, o arameu, em sonhos, de noite, e disse-lhe: Guarda-te, que não fales com Jacó nem bem ne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cançou, pois, Labão a Jacó, e armara Jacó a sua tenda naquela montanha; armou também Labão com os seus irmãos a sua, na montanha de Gile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Labão a Jacó: Que fizeste, que me lograste e levaste as minhas filhas como cativas pela espa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fugiste ocultamente, e lograste-me, e não me fizeste saber, para que eu te enviasse com alegria, e com cânticos, e com tamboril e com harp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não me permitiste beijar os meus filhos e as minhas filhas. Loucamente agiste, agora, fazendo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der havia em minha mão para vos fazer mal, mas o Deus de vosso pai me falou ontem à noite, dizendo: Guarda-te, que não fales com Jacó nem bem nem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Jacó: Torna-te à terra dos teus pais, e à tua parentela, e eu serei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se querias ir embora, porquanto tinhas saudades de voltar à casa de teu pai, por que furtaste os meus deus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Jacó, e disse a Labão: Porque temia; pois que dizia comigo, se porventura não me arrebatarias as tu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quem achares os teus deuses, esse não viva; reconhece diante de nossos irmãos o que é teu do que está comigo, e toma-o para ti. Pois Jacó não sabia que Raquel os tinha fur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trou Labão na tenda de Jacó, e na tenda de Lia, e na tenda de ambas as servas, e não os achou; e saindo da tenda de Lia, entrou na tenda de Raq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inha tomado Raquel os ídolos e os tinha posto na albarda de um camelo, e assentara-se sobre eles; e apalpou Labão toda a tenda, e não os ach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disse a seu pai: Não se acenda a ira aos olhos de meu senhor, que não posso levantar-me diante da tua face; porquanto tenho o costume das mulheres. E ele procurou, mas não achou os íd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rou-se Jacó e contendeu com Labão; e respondeu Jacó, e disse a Labão: Qual é a minha transgressão? Qual é o meu pecado, que tão furiosamente me tens persegui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 apalpado todos os meus móveis, que achaste de todos os móveis de tua casa? Põe-no aqui diante dos meus irmãos e de teus irmãos; e que julguem entre nós amb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vinte anos eu estive contigo; as tuas ovelhas e as tuas cabras nunca abortaram, e não comi os carneiros do teu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te trouxe eu o despedaçado; eu o pagava; o furtado de dia e o furtado de noite da minha mão o requer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andou Jacó chamar a Raquel e a Lia ao campo, para junto do seu reban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va eu assim: De dia me consumia o calor, e de noite a geada; e o meu sono fugiu dos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 estado agora vinte anos na tua casa; catorze anos te servi por tuas duas filhas, e seis anos por teu rebanho; mas o meu salário tens mudado dez vez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o Deus de meu pai, o Deus de Abraão e o temor de Isaque não fora comigo, por certo me despedirias agora vazio. Deus atendeu à minha aflição, e ao trabalho das minhas mãos, e repreendeu-te ontem à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Labão, e disse a Jacó: Estas filhas são minhas filhas, e estes filhos são meus filhos, e este rebanho é o meu rebanho, e tudo o que vês, é meu; e que farei hoje a estas minhas filhas, ou a seus filhos, que deram à luz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 pois vem, e façamos aliança eu e tu, que seja por testemunho entre mim 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Jacó uma pedra, e erigiu-a por colu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acó a seus irmãos: Ajuntai pedras. E tomaram pedras, e fizeram um montão, e comeram ali sobre aquele mont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-o Labão Jegar-Saaduta; porém Jacó chamou-o Gale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Labão: Este montão seja hoje por testemunha entre mim e ti. Por isso se lhe chamou Galee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spá, porquanto disse: Atente o SENHOR entre mim e ti, quando nós estivermos apartados um d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: Vejo que o rosto de vosso pai não é para comigo como anteriormente; porém o Deus de meu pai tem estado comi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fligires as minhas filhas, e se tomares mulheres além das minhas filhas, ninguém está conosco; atenta que Deus é testemunha entre mim 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Labão a Jacó: Eis aqui este mesmo montão, e eis aqui essa coluna que levantei entre mim 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montão seja testemunha, e esta coluna seja testemunha, que eu não passarei este montão a ti, e que tu não passarás este montão e esta coluna a mim, para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Deus de Abraão e o Deus de Naor, o Deus de seu pai, julgue entre nós. E jurou Jacó pelo temor de seu pai 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fereceu Jacó um sacrifício na montanha, e convidou seus irmãos, para comer pão; e comeram pão e passaram a noite na monta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Labão pela manhã de madrugada, e beijou seus filhos e suas filhas e abençoou-os e partiu; e voltou Labão a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mesmas sabeis que com todo o meu esforço tenho servido a vosso p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osso pai me enganou e mudou o salário dez vezes; porém Deus não lhe permitiu que me fizesse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ele dizia assim: Os salpicados serão o teu salário; então todos os rebanhos davam salpicados. E quando ele dizia assim: Os listrados serão o teu salário, então todos os rebanhos davam list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us tirou o gado de vosso pai, e deu-o a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9:05Z</dcterms:created>
  <dc:creator>Admin</dc:creator>
  <dc:description/>
  <dc:language>en-US</dc:language>
  <cp:lastModifiedBy>Admin</cp:lastModifiedBy>
  <dcterms:modified xsi:type="dcterms:W3CDTF">2008-07-30T23:39:05Z</dcterms:modified>
  <cp:revision>1</cp:revision>
  <dc:subject/>
  <dc:title>Slide 1</dc:title>
</cp:coreProperties>
</file>