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723-FDFE-473F-8792-0FA71AEC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4DB-A9CD-449B-B0E5-CA5B14B8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8DC-4BEC-4FB9-97B1-6F5BCF39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889-96F3-438D-A189-A5A0C224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85F-4DDA-43DD-A396-04C8F00C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2E2-3800-4886-A9EA-16918E7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725-63BA-4F80-A0BB-4C390E79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081-914A-455C-86B2-47904BC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C0F-D3D4-4076-94AB-371746AF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ED5-71CE-4756-904C-4721C34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848-55E9-435D-B818-B89D343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195-DE52-4AF2-B271-DCA1603D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6879-DD47-4F61-9685-CDDF8C1CA5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tas coisas o rei Assuero engrandeceu a Hamã, filho de Hamedata, agagita, e o exaltou, e pôs o seu assento acima de todos os príncipes que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rou o rei o anel da sua mão, e o deu a Hamã, filho de Hamedata, agagita, adversário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a Hamã: Essa prata te é dada como também esse povo, para fazeres dele o que bem parecer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aram os escrivães do rei no primeiro mês, no dia treze do mesmo e, conforme a tudo quanto Hamã mandou, se escreveu aos príncipes do rei, e aos governadores que havia sobre cada província, e aos líderes, de cada povo; a cada província segundo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-se as cartas por intermédio dos correios a todas as províncias do rei, para que destruíssem, matassem, e fizessem perecer a todos os judeus, desde o jovem até ao velho, crianças e mulheres, em um mesmo dia, a treze do duodécimo mês (que é o m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ópia do despacho que determinou a divulgação da lei em cada província, foi enviada a todos os povos, para que estivessem preparados para 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orreios, pois, impelidos pela palavra do rei, saíram, e a lei se proclamou na fortaleza de Susã. E o rei e Hamã se assentaram a beber, porém a cidade de Susã estava conf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servos do rei, que estavam à porta do rei, se inclinavam e se prostravam perante Hamã; porque assim tinha ordenado o rei acerca dele; porém Mardoqueu não se inclinava nem se prost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servos do rei, que estavam à porta do rei, disseram a Mardoqueu: Por que transgride o mandado d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dizendo-lhe eles isto, dia após dia, e não lhes dando ele ouvidos, o fizeram saber a Hamã, para verem se as palavras de Mardoqueu se sustentariam, porque ele lhes tinha declarado que era ju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Hamã que Mardoqueu não se inclinava nem se prostrava diante dele, Hamã se encheu de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eve como pouco, nos seus propósitos, o pôr as mãos só em Mardoqueu (porque lhe haviam declarado de que povo era Mardoqueu); Hamã, pois, procurou destruir a todos os judeus, o povo de Mardoqueu, que havia em todo o reino de Assu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mês (que é o mês de Nisã), no ano duodécimo do rei Assuero, se lançou Pur, isto é, a sorte, perante Hamã, para cada dia, e para cada mês, até ao duodécimo mês, que é o mês de A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mã disse ao rei Assuero: Existe espalhado e dividido entre os povos em todas as províncias do teu reino um povo, cujas leis são diferentes das leis de todos os povos, e que não cumpre as leis do rei; por isso não convém ao rei deixá-lo 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bem parecer ao rei, decrete-se que os matem; e eu porei nas mãos dos que fizerem a obra dez mil talentos de prata, para que entrem nos tesour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49Z</dcterms:created>
  <dc:creator>Admin</dc:creator>
  <dc:description/>
  <dc:language>en-US</dc:language>
  <cp:lastModifiedBy>Admin</cp:lastModifiedBy>
  <dcterms:modified xsi:type="dcterms:W3CDTF">2008-07-30T23:30:49Z</dcterms:modified>
  <cp:revision>1</cp:revision>
  <dc:subject/>
  <dc:title>Slide 1</dc:title>
</cp:coreProperties>
</file>