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0A5F-9236-49DA-B8C0-6FB1C18F0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198B-09A3-4391-827F-D711BBF4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919D-2C4F-4F98-8AE9-2E42A22B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B1B2-539B-4969-BCDA-D201C8E8D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0F4B-DE88-4CA7-8004-A5082519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3166-C321-4ECF-810D-39A1D600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1016-E30E-4540-8623-A948D6E3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C3FC-1913-4912-821C-A1FB1708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83BA-BD3D-4344-9E4E-6499C709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D2C6-CF85-48BE-B3A2-A945C633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81CA-4CF6-419F-84FF-558E360F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C8D2-6730-4DAA-8BA1-71B5D9CF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AF94-CC74-4B91-95C6-2E2CF95F37C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me disse o SENHOR: Vai, e compra um cinto de linho e põe-no sobre os teus lombos, mas não o coloques na ág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povo maligno, que recusa ouvir as minhas palavras, que caminha segundo a dureza do seu coração, e anda após deuses alheios, para servi-los, e inclinar-se diante deles, será tal como este cinto, que para nada pres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como o cinto está pegado aos lombos do homem, assim eu liguei a mim toda a casa de Israel, e toda a casa de Judá, diz o SENHOR, para me serem por povo, e por nome, e por louvor, e por glória; mas não deram ouv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dize-lhes esta palavra: Assim diz o SENHOR Deus de Israel: Todo o odre se encherá de vinho; e dir-te-ão: Porventura não sabemos nós muito bem que todo o odre se encherá de vinh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u dize-lhes: Assim diz o SENHOR: Eis que eu encherei de embriaguez a todos os habitantes desta terra, e aos reis da estirpe de Davi, que estão assentados sobre o seu trono, e aos sacerdotes, e aos profetas, e a todos os habitantes de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á-los-ei em pedaços atirando uns contra os outros, e juntamente os pais com os filhos, diz o SENHOR; não perdoarei, nem pouparei, nem terei deles compaixão, para que não os destr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cutai, e inclinai os ouvidos; não vos ensoberbeçais; porque o SENHOR falou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i glória ao SENHOR vosso Deus, antes que venha a escuridão e antes que tropecem vossos pés nos montes tenebrosos; antes que, esperando vós luz, ele a mude em sombra de morte, e a reduza à escuri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isto não ouvirdes, a minha alma chorará em lugares ocultos, por causa da vossa soberba; e amargamente chorarão os meus olhos, e se desfarão em lágrimas, porquanto o rebanho do SENHOR foi levado cati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 ao rei e à rainha: Humilhai-vos, e assentai-vos no chão; porque já caiu todo o ornato de vossas cabeças, a coroa da vossa gló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cidades do sul estão fechadas, e ninguém há que as abra; todo o Judá foi levado cativo, sim, inteiramente cati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prei o cinto, conforme a palavra do SENHOR, e o pus sobre os meus lomb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i os vossos olhos, e vede os que vêm do norte; onde está o rebanho que se te deu, o rebanho da tua glóri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dirás, quando ele te castigar porque os ensinaste a serem capitães, e chefe sobre ti? Porventura não te tomarão as dores, como à mulher que está de par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, pois, disseres no teu coração: Por que me sobrevieram estas coisas? Pela multidão das tuas maldades se descobriram as tuas fraldas, e os teus calcanhares sofrem viol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pode o etíope mudar a sua pele, ou o leopardo as suas manchas? Então podereis vós fazer o bem, sendo ensinados a fazer o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os espalharei como o restolho, que passa com o vento do des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será a tua sorte, a porção que te será medida por mim, diz o SENHOR; pois te esqueceste de mim, e confiaste em menti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também eu levantarei as tuas fraldas sobre o teu rosto; e aparecerá a tua ignomín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3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á vi as tuas abominações, e os teus adultérios, e os teus rinchos, e a enormidade da tua prostituição sobre os outeiros no campo; ai de ti, Jerusalém! Até quando ainda não te purificará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e veio a palavra do SENHOR pela segunda vez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 o cinto que compraste, e que trazes sobre os teus lombos, e levanta-te; vai ao Eufrates, e esconde-o ali na fenda de uma roc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ui, e escondi-o junto ao Eufrates, como o SENHOR me havia orden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, ao final de muitos dias, que me disse o SENHOR: Levanta-te, vai ao Eufrates, e toma dali o cinto que te ordenei que o escondesses 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ui ao Eufrates, e cavei, e tomei o cinto do lugar onde o havia escondido; e eis que o cinto tinha apodrecido, e para nada prest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eio a mim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: Do mesmo modo farei apodrecer a soberba de Judá, e a muita soberba de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7:59Z</dcterms:created>
  <dc:creator>Admin</dc:creator>
  <dc:description/>
  <dc:language>en-US</dc:language>
  <cp:lastModifiedBy>Admin</cp:lastModifiedBy>
  <dcterms:modified xsi:type="dcterms:W3CDTF">2008-07-30T23:57:59Z</dcterms:modified>
  <cp:revision>1</cp:revision>
  <dc:subject/>
  <dc:title>Slide 1</dc:title>
</cp:coreProperties>
</file>