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0ADA-F5E1-4D30-9FAC-21B1FB52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E83-C09E-4878-A361-E20D967B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7DD3-4A8E-4C88-B328-DE43F5E3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FB0-8DE0-4D12-BE87-FC3A083A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AE5-AEDF-4EAD-A31A-22BB7CEC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A40-F98A-4905-99AB-EEE9C3E6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F4AF-FA6C-4D80-92AE-C5B86A99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650-5FC8-4247-A219-F400D439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035-216F-4824-9E25-D622349D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5C2-2872-404A-A6EB-16DDCEAD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42A-87E7-4B6B-8E2D-8A729EBC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ECE-0B7B-42C6-8872-31D65172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24BF-C53E-4910-87A8-87FE42DFC5C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Eu, pois, farei cessar a multidão do Egito, por mão de Nabucodonosor, rei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e o seu povo com ele, os mais terríveis das nações, serão levados para destruírem a terra; e desembainharão as suas espadas contra o Egito, e encherão a terra de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carei os rios, e venderei a terra entregando-a na mão dos maus, e assolarei a terra e a sua plenitude pela mão dos estrangeiros; eu, o SENHOR, o d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Também destruirei os ídolos, e farei cessar as imagens de Nofe; e não haverá mais um príncipe da terra do Egito; e porei o temor n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olarei a Patros, e porei fogo a Zoã, e executarei juízos em Nô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ramarei o meu furor sobre Sim, a fortaleza do Egito, e exterminarei a multidão de Nô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ei fogo no Egito; Sim terá grande dor, e Nô será fendida, e Nofe terá angústias cotidia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jovens de Áven e Pi-Besete cairão à espada, e as cidades irão em cativ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Tafnes se escurecerá o dia, quando eu quebrar ali os jugos do Egito, e nela cessar a soberba do seu poder; uma nuvem a cobrirá, e suas filhas irão em cativ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xecutarei juízos no Egito, e saberão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profetiza, e dize: Assim diz o Senhor DEUS: Gemei: Ah! Aquele di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no ano undécimo, no primeiro mês, aos sete do mês,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eu quebrei o braço de Faraó, rei do Egito, e eis que não foi atado para se lhe aplicar remédios, nem lhe colocarão ligaduras para o atar, a fim de torná-lo forte, para pegar na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EUS: Eis que eu estou contra Faraó, rei do Egito, e quebrarei os seus braços, assim o forte como o que está quebrado, e farei cair da sua mão a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palharei os egípcios entre as nações, e os dispersarei pelas ter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talecerei os braços do rei de Babilônia, e porei a minha espada na sua mão; mas quebrarei os braços de Faraó, e diante dele gemerá como geme o traspass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fortalecerei os braços do rei de Babilônia, mas os braços de Faraó cairão; e saberão que eu sou o SENHOR, quando eu puser a minha espada na mão do rei de Babilônia, e ele a estender sobre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palharei os egípcios entre as nações, e os dispersarei entre as terras; assim saberão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á perto o dia, sim, está perto o dia do SENHOR; dia nublado; será o tempo d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pada virá ao Egito, e haverá grande dor na Etiópia, quando caírem os traspassados no Egito; e tomarão a sua multidão, e serão destruídos os seus fu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tiópia, Pute e Lude, e toda a mistura de gente, e Cube, e os homens da terra da liga, juntamente com eles cairão à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Também cairão os que sustém o Egito, e descerá a soberba de seu poder; desde a torre de Syene ali cairão à espada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ão desolados no meio das terras assoladas; e as suas cidades estarão no meio das cidades dese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berão que eu sou o SENHOR, quando eu puser fogo no Egito, e forem destruídos todos os que lhe davam auxíl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sairão mensageiros de diante de mim em navios, para espantarem a Etiópia descuidada; e haverá neles grandes dores, como no dia do Egito; pois, eis que já 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5:22Z</dcterms:created>
  <dc:creator>Admin</dc:creator>
  <dc:description/>
  <dc:language>en-US</dc:language>
  <cp:lastModifiedBy>Admin</cp:lastModifiedBy>
  <dcterms:modified xsi:type="dcterms:W3CDTF">2008-07-30T23:35:22Z</dcterms:modified>
  <cp:revision>1</cp:revision>
  <dc:subject/>
  <dc:title>Slide 1</dc:title>
</cp:coreProperties>
</file>