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F91-A414-4B13-B9E8-0B762EEE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F90-44EA-43C6-96CF-ADFE29B3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137-5A89-4304-B9CD-0871F9FF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3BA-6C19-465B-B14A-3E2D0F70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896C-DE7E-4540-AAF0-4CA9081A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395-7F39-4077-89A2-8A30D621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343-2DAD-43DA-8205-99D70229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246-7A6D-46FC-BF51-0B5DE7C9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187-101C-4B7A-B13A-BF3E408F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DE2-C67B-4541-9929-B84E121A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0C4-0DB8-479B-85AF-B10AF1CE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428-5A63-486A-97DF-92739B1C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5517-EF72-44CC-B909-84DB86C1737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décimo oitavo do rei Jeroboão, Abias começou a reinar sobr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quanto a nós, o SENHOR é nosso Deus, e nunca o deixamos; e os sacerdotes que ministram ao SENHOR são filhos de Arão, e os levitas se ocupam na su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imam ao SENHOR cada manhã e cada tarde holocaustos, incenso aromático, com os pães da proposição sobre a mesa pura, e o candelabro de ouro, e as suas lâmpadas para se acenderem cada tarde, porque nós temos cuidado do serviço do SENHOR nosso Deus; 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Deus está conosco, à nossa frente, como também os seus sacerdotes, tocando com as trombetas, para dar alarme contra vós. Ó filhos de Israel, não pelejeis contra o SENHOR Deus de vossos pais; porque não prosper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eroboão armou uma emboscada, para dar sobre eles pela retaguarda; de maneira que estavam em frente de Judá e a emboscada por detrá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udá olhou, e eis que tinham que pelejar por diante e por detrás; então clamaram ao SENHOR; e os sacerdotes tocaram as tromb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de Judá gritaram; e sucedeu que, gritando os homens de Judá, Deus feriu a Jeroboão e a todo o Israel diante de Abias e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fugiram de diante de Judá; e Deus os entregou n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Abias e o seu povo fizeram grande matança entre eles; porque caíram feridos de Israel quinhentos mil homens escolh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humilhados os filhos de Israel naquele tempo; e os filhos de Judá prevaleceram, porque confiaram no SENHOR Deus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ias perseguiu Jeroboão; e tomou-lhe a Betel com os lugares da sua jurisdição, e a Jesana com os lugares da sua jurisdição, e a Efrom com os lugares da sua jurisd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ês anos reinou em Jerusalém; e era o nome de sua mãe Micaía, filha de Uriel de Gibeá; e houve guerra entre Abias e Jerob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roboão não recobrou mais o seu poder nos dias de Abias; porém o SENHOR o feriu, 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ias, porém, se fortificou, e tomou para si catorze mulheres, e gerou vinte e dois filhos e dezesseis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demais atos de Abias, tanto os seus caminhos como as suas palavras, estão escritos na história do profeta 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ias ordenou a peleja com um exército de valentes guerreiros, quatrocentos mil homens escolhidos; e Jeroboão dispôs contra ele a batalha com oitocentos mil homens escolhidos, todos homens coraj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-se Abias em pé em cima do monte de Zemaraim, que está na montanha de Efraim, e disse: Ouvi-me, Jeroboão e todo o Israel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vos convém saber que o SENHOR Deus de Israel deu para sempre a Davi a soberania sobre Israel, a ele e a seus filhos, por uma aliança de sa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levantou-se Jeroboão, filho de Nebate, servo de Salomão, filho de Davi, e se rebelou contra s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aram-se a ele homens vadios, filhos de Belial; e fortificaram-se contra Roboão, filho de Salomão, sendo Roboão ainda jovem, e terno de coração, e não lhes podia resist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julgais que podeis resistir ao reino do SENHOR, que está na mão dos filhos de Davi, visto que sois uma grande multidão, e tendes convosco os bezerros de ouro que Jeroboão vos fez para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lançastes vós fora os sacerdotes do SENHOR, os filhos de Arão, e os levitas, e não fizestes para vós sacerdotes, como os povos das outras terras? Qualquer que vem a consagrar-se com um novilho e sete carneiros logo se faz sacerdote daqueles que não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37Z</dcterms:created>
  <dc:creator>Admin</dc:creator>
  <dc:description/>
  <dc:language>en-US</dc:language>
  <cp:lastModifiedBy>Admin</cp:lastModifiedBy>
  <dcterms:modified xsi:type="dcterms:W3CDTF">2008-07-30T23:49:37Z</dcterms:modified>
  <cp:revision>1</cp:revision>
  <dc:subject/>
  <dc:title>Slide 1</dc:title>
</cp:coreProperties>
</file>