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5D8-EBFC-4993-8561-A4B22B6F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3D8-65F7-47CE-9C29-076F0B8B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807-C336-4DBF-B300-2440AAEC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AB6-58D9-4496-BEBE-F33D5611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B63-19F0-4DCE-B32A-43060F0B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801-E86B-42A0-A7E5-F0ECB0AB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04E-A751-4ADD-8B8E-F97EFC61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23A-C64C-4046-A7FC-B742668B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B91-301E-496B-BC1E-2A7179C7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464-4E3E-455D-B008-32601479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081-6411-4624-BE28-1CFF3AFA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3B0-2F34-4035-9C9F-86D58AC8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F5C5-46A0-4944-B5BE-1B9D4EB45AE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noite, em minha cama, busquei aquele a quem ama a minha alma; busquei-o, e não o ach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-lhe as colunas de prata, o estrado de ouro, o assento de púrpura, o interior revestido com amor, pelas filhas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í, ó filhas de Sião, e contemplai ao rei Salomão com a coroa com que o coroou sua mãe no dia do seu desposório e no dia do júbilo d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r-me-ei, pois, e rodearei a cidade; pelas ruas e pelas praças buscarei aquele a quem ama a minha alma; busquei-o, e não o ach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haram-me os guardas, que rondavam pela cidade; eu lhes perguntei: Vistes aquele a quem ama a minha alm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rtando-me eu um pouco deles, logo achei aquele a quem ama a minha alma; agarrei-me a ele, e não o larguei, até que o introduzi em casa de minha mãe, na câmara daquela que me ge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juro-vos, ó filhas de Jerusalém, pelas gazelas e cervas do campo, que não acordeis, nem desperteis o meu amor, até que qu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esta que sobe do deserto, como colunas de fumaça, perfumada de mirra, de incenso, e de todos os pós dos mercado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é a liteira de Salomão; sessenta valentes estão ao redor dela, dos valentes de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armados de espadas, destros na guerra; cada um com a sua espada à cinta por causa dos temores notur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Salomão fez para si uma carruagem de madeira do Líb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44Z</dcterms:created>
  <dc:creator>Admin</dc:creator>
  <dc:description/>
  <dc:language>en-US</dc:language>
  <cp:lastModifiedBy>Admin</cp:lastModifiedBy>
  <dcterms:modified xsi:type="dcterms:W3CDTF">2008-07-30T23:25:44Z</dcterms:modified>
  <cp:revision>1</cp:revision>
  <dc:subject/>
  <dc:title>Slide 1</dc:title>
</cp:coreProperties>
</file>