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1B4-84F5-4CC3-B0C3-4E3BDAC8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C12-3A89-4393-9E6F-7B520F4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B1F-6DBD-4415-94E2-27DF17AF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500-F2E8-45B8-AC6F-C2DDB42E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477-731F-47A9-A71D-B26AA4F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569-0E57-487F-88C7-43E57AC6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035-993E-46D1-B7DF-B0A1EE95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CED-4519-4AF2-8E15-CE45EF33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BD6-4E34-4839-9BD6-D06D1A8A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DED-977D-437B-A35E-62A057C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3E8-4757-48A5-9FA3-937ADE8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FAD-1FE5-4190-AB8E-66F91E5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DAA-8D2A-4DC3-8E5D-B4A10343E5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gora nenhuma condenação há para os que estão em Cristo Jesus, que não andam segundo a carne, mas segundo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Cristo está em vós, o corpo, na verdade, está morto por causa do pecado, mas o espírito vive por causa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Espírito daquele que dentre os mortos ressuscitou a Jesus habita em vós, aquele que dentre os mortos ressuscitou a Cristo também vivificará os vossos corpos mortais, pelo seu Espírito que em vós hab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, irmãos, somos devedores, não à carne para viver segundo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viverdes segundo a carne, morrereis; mas, se pelo Espírito mortificardes as obras do corpo, viv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que são guiados pelo Espírito de Deus, esses são filh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recebestes o espírito de escravidão, para outra vez estardes em temor, mas recebestes o Espírito de adoção de filhos, pelo qual clamamos: Aba,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smo Espírito testifica com o nosso espírito que somos filh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ós somos filhos, somos logo herdeiros também, herdeiros de Deus, e co-herdeiros de Cristo: se é certo que com ele padecemos, para que também com ele sejamos glor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mim tenho por certo que as aflições deste tempo presente não são para comparar com a glória que em nós há de ser reve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ardente expectação da criatura espera a manifestação dos filh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lei do Espírito de vida, em Cristo Jesus, me livrou da lei do pecado e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riação ficou sujeita à vaidade, não por sua vontade, mas por causa do que a sujeit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esperança de que também a mesma criatura será libertada da servidão da corrupção, para a liberdade da glória dos filh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bemos que toda a criação geme e está juntamente com dores de parto até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ó ela, mas nós mesmos, que temos as primícias do Espírito, também gememos em nós mesmos, esperando a adoção, a saber, a redenção do noss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esperança fomos salvos. Ora a esperança que se vê não é esperança; porque o que alguém vê como o esper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speramos o que não vemos, com paciência o espe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sma maneira também o Espírito ajuda as nossas fraquezas; porque não sabemos o que havemos de pedir como convém, mas o mesmo Espírito intercede por nós com gemidos inexprim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examina os corações sabe qual é a intenção do Espírito; e é ele que segundo Deus intercede pel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mos que todas as coisas contribuem juntamente para o bem daqueles que amam a Deus, daqueles que são chamados segundo o seu propós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 dantes conheceu também os predestinou para serem conformes à imagem de seu Filho, a fim de que ele seja o primogênito entre muit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que era impossível à lei, visto como estava enferma pela carne, Deus, enviando o seu Filho em semelhança da carne do pecado, pelo pecado condenou o pecado na car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que predestinou a estes também chamou; e aos que chamou a estes também justificou; e aos que justificou a estes também glor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mos, pois, a estas coisas? Se Deus é por nós, quem será contra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nem mesmo a seu próprio Filho poupou, antes o entregou por todos nós, como nos não dará também com ele todas 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intentará acusação contra os escolhidos de Deus? É Deus quem os justi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que condena? Pois é Cristo quem morreu, ou antes quem ressuscitou dentre os mortos, o qual está à direita de Deus, e também intercede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os separará do amor de Cristo? A tribulação, ou a angústia, ou a perseguição, ou a fome, ou a nudez, ou o perigo, ou a esp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: Por amor de ti somos entregues à morte todo o dia; Somos reputados como ovelhas para o matad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m todas estas coisas somos mais do que vencedores, por aquele que nos 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ou certo de que, nem a morte, nem a vida, nem os anjos, nem os principados, nem as potestades, nem o presente, nem o porv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 altura, nem a profundidade, nem alguma outra criatura nos poderá separar do amor de Deus, que está em Cristo Jesus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justiça da lei se cumprisse em nós, que não andamos segundo a carne, mas segundo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 são segundo a carne inclinam-se para as coisas da carne; mas os que são segundo o Espírito para as coisas d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inclinação da carne é morte; mas a inclinação do Espírito é vida 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 inclinação da carne é inimizade contra Deus, pois não é sujeita à lei de Deus, nem, em verdade, o pode 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s que estão na carne não podem agradar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rém, não estais na carne, mas no Espírito, se é que o Espírito de Deus habita em vós. Mas, se alguém não tem o Espírito de Cristo, esse tal não é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28Z</dcterms:created>
  <dc:creator>Admin</dc:creator>
  <dc:description/>
  <dc:language>en-US</dc:language>
  <cp:lastModifiedBy>Admin</cp:lastModifiedBy>
  <dcterms:modified xsi:type="dcterms:W3CDTF">2008-07-31T00:23:28Z</dcterms:modified>
  <cp:revision>1</cp:revision>
  <dc:subject/>
  <dc:title>Slide 1</dc:title>
</cp:coreProperties>
</file>