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91D6-A1B6-4F71-9853-E8A1DDA9D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1F36-4029-4D92-8CC2-ED99F1D6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060E-E1E2-4665-9385-9BB157936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CCAF-9FE4-456E-9081-EAF7C7D4C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3F31-4874-47CF-9F4C-8E0980DE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758D-A10B-4974-A3A9-51BF6FA1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9F18-B3B2-4862-A02E-58FEC127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F04C-2926-49B4-9AA8-591087E1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DEA2-3AA2-4C91-9E0F-8378F854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FEAD-072B-4D89-98BC-6C81B0C5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AA93-A1DF-4DA1-9A9E-ECF2474B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C23C-AE86-4F70-9172-3F6556A1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6DB6-8547-4CF7-8AB2-644D28773A4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MADOS, escrevo-vos agora esta segunda carta, em ambas as quais desperto com exortação o vosso ânimo sincer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dia do Senhor virá como o ladrão de noite; no qual os céus passarão com grande estrondo, e os elementos, ardendo, se desfarão, e a terra, e as obras que nela há, se queim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avendo, pois, de perecer todas estas coisas, que pessoas vos convém ser em santo trato, e piedad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uardando, e apressando-vos para a vinda do dia de Deus, em que os céus, em fogo se desfarão, e os elementos, ardendo, se fundir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nós, segundo a sua promessa, aguardamos novos céus e nova terra, em que habita a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, amados, aguardando estas coisas, procurai que dele sejais achados imaculados e irrepreensíveis em p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nde por salvação a longanimidade de nosso Senhor; como também o nosso amado irmão Paulo vos escreveu, segundo a sabedoria que lhe foi dad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ando disto, como em todas as suas epístolas, entre as quais há pontos difíceis de entender, que os indoutos e inconstantes torcem, e igualmente as outras Escrituras, para sua própria perd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, portanto, amados, sabendo isto de antemão, guardai-vos de que, pelo engano dos homens abomináveis, sejais juntamente arrebatados, e descaiais da vossa firmez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s crescei na graça e conhecimento de nosso Senhor e Salvador, Jesus Cristo. A ele seja dada a glória, assim agora, como no dia da eternidade.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vos lembreis das palavras que primeiramente foram ditas pelos santos profetas, e do nosso mandamento, como apóstolos do Senhor e Salva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bendo primeiro isto, que nos últimos dias virão escarnecedores, andando segundo as suas próprias concupiscênci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endo: Onde está a promessa da sua vinda? porque desde que os pais dormiram, todas as coisas permanecem como desde o princípio da cri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s voluntariamente ignoram isto, que pela palavra de Deus já desde a antiguidade existiram os céus, e a terra, que foi tirada da água e no meio da água subsi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as quais coisas pereceu o mundo de então, coberto com as águas do dilúvi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s céus e a terra que agora existem pela mesma palavra se reservam como tesouro, e se guardam para o fogo, até o dia do juízo, e da perdição dos homens ímp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amados, não ignoreis uma coisa, que um dia para o Senhor é como mil anos, e mil anos como um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não retarda a sua promessa, ainda que alguns a têm por tardia; mas é longânimo para conosco, não querendo que alguns se percam, senão que todos venham a arrepender-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0:58Z</dcterms:created>
  <dc:creator>Admin</dc:creator>
  <dc:description/>
  <dc:language>en-US</dc:language>
  <cp:lastModifiedBy>Admin</cp:lastModifiedBy>
  <dcterms:modified xsi:type="dcterms:W3CDTF">2008-07-30T23:50:58Z</dcterms:modified>
  <cp:revision>1</cp:revision>
  <dc:subject/>
  <dc:title>Slide 1</dc:title>
</cp:coreProperties>
</file>