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731F-84AB-412F-9FA3-BE1709F14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A9B9-C39F-406E-A92B-EF5059A7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3165-70D5-4063-9C5C-7780F8F01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9025-D06F-4999-A85D-DA0012DA2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CE91-07EF-4F9C-8CA0-82B16F57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0912-D77E-4659-975C-18985C5A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955E-5FC5-484C-9930-A6B6BA58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4CB8-973A-46FA-B6BB-F9223B6B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EDA0-5BC1-4AE4-A621-9EF307A4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DBBC-4ECC-497B-B8B8-0EE922FE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C992-CA9F-42D3-AC09-8E250069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999D-1CD5-4979-8C8B-9C3A2F50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8CBA-4F44-45A5-8505-834A8C2024B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são as jornadas dos filhos de Israel, que saíram da terra do Egito, segundo os seus exércitos, sob a direção de Moisés e 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ram de Elim, e acamparam-se junto ao Mar Verme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ram do Mar Vermelho, e acamparam-se no deserto de S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ram do deserto de Sim, e acamparam-se em Dof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ram de Dofca, e acamparam-se em Al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ram de Alus, e acamparam-se em Refidim; porém não havia ali água, para que o povo bebe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tiram, pois, de Refidim, e acamparam-se no deserto de Sin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ram do deserto de Sinai, e acamparam-se em Quibrote-Taav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ram de Quibrote-Taavá, e acamparam-se em Hazer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ram de Hazerote, e acamparam-se em Ritm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ram de Ritmá, e acamparam-se em Rimom-Pere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creveu Moisés as suas saídas, segundo as suas jornadas, conforme ao mandado do SENHOR; e estas são as suas jornadas, segundo as suas saí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ram de Rimom-Perez, e acamparam-se em Lib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ram de Libna, e acamparam-se em Ris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ram de Rissa, e acamparam-se em Queela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ram de Queelata, e acamparam-se no monte de Séf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ram do monte de Séfer, e acamparam-se em Har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ram de Harada, e acamparam-se em Maquel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ram de Maquelote, e acamparam-se em Taa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ram de Taate, e acamparam-se em Ta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ram de Tara, e acamparam-se em Mit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ram de Mitca, e acamparam-se em Hasmo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tiram, pois, de Ramessés no primeiro mês, no dia quinze do primeiro mês; no dia seguinte da páscoa saíram os filhos de Israel por alta mão, aos olhos de todos os egípci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ram de Hasmona, e acamparam-se em Moser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ram de Moserote, e acamparam-se em Bene-Jaac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ram de Bene-Jaacã, e acamparam-se em Hor-Hagidg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ram de Hor-Hagidgade, e acamparam-se em Jotbat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ram de Jotbatá, e acamparam-se em Abro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ram de Abrona, e acamparam-se em Ezion-Geb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ram de Ezion-Geber, e acamparam-se no deserto de Zim, que é C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ram de Cades, e acamparam-se no monte Hor, no fim da terra de Ed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rão, o sacerdote, subiu ao monte Hor, conforme ao mandado do SENHOR; e morreu ali no quinto mês do ano quadragésimo da saída dos filhos de Israel da terra do Egito, no primeiro dia do mê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ra Arão da idade de cento e vinte e três anos, quando morreu no monte 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quanto os egípcios enterravam os que o SENHOR tinha ferido entre eles, a todo o primogênito, e havendo o SENHOR executado juízos também contra os seus deus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viu o cananeu, rei de Harade, que habitava o sul na terra de Canaã, que chegavam 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ram do monte Hor, e acamparam-se em Zalmo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ram de Zalmona, e acamparam-se em Pun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ram de Punom, e acamparam-se em Ob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ram de Obote, e acamparam-se em Ije-Abarim, no termo de Moa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ram de Ije-Abarim, e acamparam-se em Dibom-G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ram de Dibom-Gade, e acamparam-se em Almom-Diblata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ram de Almom-Diblataim, e acamparam-se nos montes de Abarim, defronte de Neb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ram dos montes de Abarim, e acamparam-se nas campinas de Moabe, junto ao Jordão, na direção de Jeri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amparam-se junto ao Jordão, desde Bete-Jesimote até Abel-Sitim, nas campinas de Moa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tiram, pois, os filhos de Israel de Ramessés, e acamparam-se em Suc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o SENHOR a Moisés, nas campinas de Moabe junto ao Jordão na direção de Jericó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 aos filhos de Israel, e dize-lhes: Quando houverdes passado o Jordão para a terra de Canaã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ançareis fora todos os moradores da terra de diante de vós, e destruireis todas as suas pinturas; também destruireis todas as suas imagens de fundição, e desfareis todos os seus alt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areis a terra em possessão, e nela habitareis; porquanto vos tenho dado esta terra, para possuí-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5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sortes herdareis a terra, segundo as vossas famílias; aos muitos multiplicareis a herança, e aos poucos diminuireis a herança; conforme a sorte sair a alguém, ali a possuirá; segundo as tribos de vossos pais recebereis as heranç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5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se não lançardes fora os moradores da terra de diante de vós, então os que deixardes ficar vos serão por espinhos nos vossos olhos, e por aguilhões nas vossas virilhas, e apertar-vos-ão na terra em que habitard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5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que farei a vós como pensei fazer-lhes a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ram de Sucote, e acamparam-se em Etã, que está no fim do des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ram de Etã, e voltaram a Pi-Hairote, que está defronte de Baal-Zefom, e acamparam-se diante de Migdo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ram de Pi-Hairote, e passaram pelo meio do mar ao deserto, e andaram caminho de três dias no deserto de Etã, e acamparam-se em Ma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ram de Mara, e vieram a Elim, e em Elim havia doze fontes de águas e setenta palmeiras, e acamparam-se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0:16Z</dcterms:created>
  <dc:creator>Admin</dc:creator>
  <dc:description/>
  <dc:language>en-US</dc:language>
  <cp:lastModifiedBy>Admin</cp:lastModifiedBy>
  <dcterms:modified xsi:type="dcterms:W3CDTF">2008-07-31T00:20:16Z</dcterms:modified>
  <cp:revision>1</cp:revision>
  <dc:subject/>
  <dc:title>Slide 1</dc:title>
</cp:coreProperties>
</file>