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980-9AD1-40A0-839E-9E670239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9A0-0E10-4329-865E-078FB57C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F73-CCA7-4309-830F-FFF42FC5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541-4E3D-4F69-91A2-FEE2B6CD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4D5-9562-4F50-AE9A-776649D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86C-69F1-4A73-8BA6-610A3213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8E3-CA4F-447B-8681-1CC6EE6D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963-F5AA-4C01-9E14-78D8E87A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519-8DC9-4A5D-8C5C-7265DDDC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CE1-F18F-4E77-B240-FAF4C3B7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09A-1E08-455E-BE4C-59E49975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C60-A4F3-4733-A342-1EC7B56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5EB8-B0C7-4D22-8075-3F38D271F1B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ó responde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ainda seria a minha consolação, e me refrigeraria no meu tormento, não me poupando ele; porque não ocultei as palavras d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é a minha força, para que eu espere? Ou qual é o meu fim, para que tenha ainda paciênc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porventura a minha força a força da pedra? Ou é de cobre a minha car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em mim a minha ajuda? Ou desamparou-me a verdadeira sabedo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e está aflito devia o amigo mostrar compaixão, ainda ao que deixasse o temor do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irmãos aleivosamente me trataram, como um ribeiro, como a torrente dos ribeiros que pass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stão encobertos com a geada, e neles se esconde a nev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empo em que se derretem com o calor, se desfazem, e em se aquentando, desaparecem d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m-se as veredas dos seus caminhos; sobem ao vácuo, e pere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aminhantes de Tema os vêem; os passageiros de Sabá esperam por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se a minha mágoa retamente se pesasse, e a minha miséria juntamente se pusesse numa balanç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cam envergonhados, por terem confiado e, chegando ali, se confun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sois semelhantes a eles; vistes o terror, e tem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so disse eu: Dai-me ou oferecei-me presentes de vossos b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livrai-me das mãos do opressor? Ou redimi-me das mãos dos tiran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i-me, e eu me calarei; e fazei-me entender em que er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quão fortes são as palavras da boa razão! Mas que é o que censura a vossa argüi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buscareis palavras para me repreenderdes, visto que as razões do desesperado são como ve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ntes lançais sortes sobre o órfão; e cavais uma cova para o a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 sois servidos, olhai para mim; e vede se minto em voss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i, pois, não haja iniqüidade; tornai-vos, digo, que ainda a minha justiça aparecerá n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na verdade, mais pesada seria, do que a areia dos mares; por isso é que as minhas palavras têm sido engol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porventura iniqüidade na minha língua? Ou não poderia o meu paladar distinguir coisas iníqu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flechas do Todo-Poderoso estão em mim, cujo ardente veneno suga o meu espírito; os terrores de Deus se arm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zurrará o jumento montês junto à relva? Ou mugirá o boi junto ao seu pa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omer-se-á sem sal o que é insípido? Ou haverá gosto na clara do 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recusa tocá-las, pois são para mim como comida repugn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ra que se cumprisse o meu desejo, e que Deus me desse o que esper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Deus quisesse quebrantar-me, e soltasse a sua mão, e me acabass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37Z</dcterms:created>
  <dc:creator>Admin</dc:creator>
  <dc:description/>
  <dc:language>en-US</dc:language>
  <cp:lastModifiedBy>Admin</cp:lastModifiedBy>
  <dcterms:modified xsi:type="dcterms:W3CDTF">2008-07-31T00:00:37Z</dcterms:modified>
  <cp:revision>1</cp:revision>
  <dc:subject/>
  <dc:title>Slide 1</dc:title>
</cp:coreProperties>
</file>