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072-CB71-4D2A-83DD-B0437DF2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99A-F17D-4B5C-AD3B-2100B758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78A-8D4E-41F9-81F2-142E4D2C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614-5777-49D5-97F7-AAC435E5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538-6FC6-4699-8003-B7F8802A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3CD-E6FC-49E5-8B82-AD0CA3E7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95F-D1D9-4456-9E96-25DDC76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542-E448-4E3F-8FA8-119445B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E5F-1FD9-4258-AC09-0F19935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CD9-B5A1-4862-B5CE-DDB6B14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A6F-45E1-4B43-A10B-4FCB558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13A-738A-4179-89F2-8E000AD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FE6-657C-48DE-80FF-C033411DB4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mostrou-me o sumo sacerdote Josué, o qual estava diante do anjo do SENHOR, e Satanás estava à sua mão direita, para se lhe op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diz o SENHOR dos Exércitos, cada um de vós convidará o seu próximo para debaixo da videira e para debaixo da figuei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disse a Satanás: O SENHOR te repreenda, ó Satanás, sim, o SENHOR, que escolheu Jerusalém, te repreenda; não é este um tição tirado do f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sué, vestido de vestes sujas, estava diante do anj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, aos que estavam diante dele, dizendo: Tirai-lhe estas vestes sujas. E a Josué disse: Eis que tenho feito com que passe de ti a tua iniqüidade, e te vestirei de vestes fin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eu: Ponham-lhe uma mitra limpa sobre a sua cabeça. E puseram uma mitra limpa sobre a sua cabeça, e vestiram-no das roupas; e o anjo do SENHOR estava em p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do SENHOR protestou a Josué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Se andares nos meus caminhos, e se observares a minha ordenança, também tu julgarás a minha casa, e também guardarás os meus átrios, e te darei livre acesso entre os que estão aqu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e, pois, Josué, sumo sacerdote, tu e os teus companheiros que se assentam diante de ti, porque são homens portentosos; eis que eu farei vir o meu servo, o REN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aqui a pedra que pus diante de Josué; sobre esta pedra única estão sete olhos; eis que eu esculpirei a sua escultura, diz o SENHOR dos Exércitos, e tirarei a iniqüidade desta terra num só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3Z</dcterms:created>
  <dc:creator>Admin</dc:creator>
  <dc:description/>
  <dc:language>en-US</dc:language>
  <cp:lastModifiedBy>Admin</cp:lastModifiedBy>
  <dcterms:modified xsi:type="dcterms:W3CDTF">2008-07-31T00:29:23Z</dcterms:modified>
  <cp:revision>1</cp:revision>
  <dc:subject/>
  <dc:title>Slide 1</dc:title>
</cp:coreProperties>
</file>