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FF8-D2BD-4EB1-A66B-A326E8CB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9EC-3FB1-4455-B129-7E7D9CE1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DD5-6399-46CD-9942-327D47E5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B33-B3CD-4FBB-BDDB-9243283A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8CE-C379-482B-8DB3-FD6510A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691-29DF-4493-B8C1-4F4543A5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A23-A6E5-4F88-8BB4-09847E71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D3D-6D23-424E-9539-5EF471F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E5F-C6A4-4067-89AA-1B9120C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478-77B0-4C58-845D-1BA4CD5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F10-0C06-418B-AC68-0685BA0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C51-4789-4049-957D-C89EEE9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695-1CF2-4CCA-9F74-E14C0AFFEB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, porém, o SENHOR: Ainda que Moisés e Samuel se pusessem diante de mim, não estaria a minha alma com este povo; lança-os de diante da minha face, e sa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mim, minha mãe, por que me deste à luz homem de rixa e homem de contendas para toda a terra? Nunca lhes emprestei com usura, nem eles me emprestaram com usura, todavia cada um deles me amaldiç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SENHOR: De certo que o teu remanescente será para o bem; de certo, no tempo da calamidade, e no tempo da angústia, farei que o inimigo te dirija súpl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 alguém quebrar o ferro, o ferro do norte, ou o aç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riquezas e os teus tesouros entregarei sem preço ao saque; e isso por todos os teus pecados, mesmo em todos os teus lim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farei passar aos teus inimigos numa terra que não conheces; porque o fogo se acendeu em minha ira, e sobre vós arde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SENHOR, o sabes; lembra-te de mim, e visita-me, e vinga-me dos meus perseguidores; não me arrebates por tua longanimidade; sabe que por amor de ti tenho sofrido afro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ando-se as tuas palavras, logo as comi, e a tua palavra foi para mim o gozo e alegria do meu coração; porque pelo teu nome sou chamado, ó SENHOR Deus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e assentei na assembléia dos zombadores, nem me regozijei; por causa da tua mão me assentei solitário; pois me encheste de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dura a minha dor continuamente, e a minha ferida me dói, e já não admite cura? Serias tu para mim como coisa mentirosa e como águas inconsta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Se tu voltares, então te trarei, e estarás diante de mim; e se apartares o precioso do vil, serás como a minha boca; tornem-se eles para ti, mas não voltes tu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te disserem: Para onde iremos? Dir-lhes-ás: Assim diz o SENHOR: Os que para a morte, para a morte, e os que para a espada, para a espada; e os que para a fome, para a fome; e os que para o cativeiro, para 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te porei contra este povo como forte muro de bronze; e pelejarão contra ti, mas não prevalecerão contra ti; porque eu sou contigo para te guardar, para te livrar del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ebatar-te-ei da mão dos malignos, e livrar-te-ei da mão dos f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sitá-los-ei com quatro gêneros de males, diz o SENHOR: com espada para matar, e com cães, para os arrastarem, e com aves dos céus, e com animais da terra, para os devorarem e destruí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gá-los-ei ao desterro em todos os reinos da terra; por causa de Manassés, filho de Ezequias, rei de Judá, e por tudo quanto fez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se compadeceria de ti, ó Jerusalém? Ou quem se entristeceria por ti? Ou quem se desviaria a perguntar pela tua pa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me deixaste, diz o SENHOR, e tornaste-te para trás; por isso estenderei a minha mão contra ti, e te destruirei; já estou cansado de me arrepe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dejá-los-ei com a pá nas portas da terra; já desfilhei, e destruí o meu povo; não voltaram d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viúvas mais se multiplicaram do que a areia dos mares; trouxe ao meio dia um destruidor sobre a mãe dos jovens; fiz que caísse de repente sobre ela, e enchesse a cidade de terr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 dava à luz sete se enfraqueceu; expirou a sua alma; pôs-se-lhe o sol sendo ainda de dia, confundiu-se, e envergonhou-se; e os que ficarem dela entregarei à espada, diante dos seus inimig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05Z</dcterms:created>
  <dc:creator>Admin</dc:creator>
  <dc:description/>
  <dc:language>en-US</dc:language>
  <cp:lastModifiedBy>Admin</cp:lastModifiedBy>
  <dcterms:modified xsi:type="dcterms:W3CDTF">2008-07-30T23:58:05Z</dcterms:modified>
  <cp:revision>1</cp:revision>
  <dc:subject/>
  <dc:title>Slide 1</dc:title>
</cp:coreProperties>
</file>