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CFE-4C34-44E7-A048-E5495293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BDC-0BED-4645-B73A-EA051EC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CC7-3910-4FE9-97FD-CA5C5281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4CF-E454-4E49-B048-C51D0C02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4A9-B806-4219-A0B3-751EEF7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6F2-7162-4EA8-AEB5-3EA86C06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A1A-D23E-40DA-9A60-B0FFEC06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39B-EC5B-4546-918B-66AD928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4C6-DD69-4CBD-B3A8-FECDC1F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311-2B0F-4091-8ABF-4D08359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904-E160-4523-94B9-CE04A0F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AE4-F446-4243-B8BA-B9F2F29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9AB-C165-48B3-980E-F11F637C13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já que Cristo padeceu por nós na carne, armai-vos também vós com este pensamento, que aquele que padeceu na carne já cessou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administre aos outros o dom como o recebeu, como bons despenseiros da multiforme gra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falar, fale segundo as palavras de Deus; se alguém administrar, administre segundo o poder que Deus dá; para que em tudo Deus seja glorificado por Jesus Cristo, a quem pertence a glória e poder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não estranheis a ardente prova que vem sobre vós para vos tentar, como se coisa estranha vos aconteces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egrai-vos no fato de serdes participantes das aflições de Cristo, para que também na revelação da sua glória vos regozijeis e aleg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elo nome de Cristo sois vituperados, bem-aventurados sois, porque sobre vós repousa o Espírito da glória e de Deus; quanto a eles, é ele, sim, blasfemado, mas quanto a vós, é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enhum de vós padeça como homicida, ou ladrão, ou malfeitor, ou como o que se entremete em negócios alhe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padece como cristão, não se envergonhe, antes glorifique a Deus nest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é tempo que comece o julgamento pela casa de Deus; e, se primeiro começa por nós, qual será o fim daqueles que são desobedientes ao evangelh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justo apenas se salva, onde aparecerá o ímpio e o peca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também os que padecem segundo a vontade de Deus encomendem-lhe as suas almas, como ao fiel Criador, fazendo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no tempo que vos resta na carne, não vivais mais segundo as concupiscências dos homens, mas segundo a vonta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bastante que no tempo passado da vida fizéssemos a vontade dos gentios, andando em dissoluções, concupiscências, borrachices, glutonarias, bebedices e abomináveis idolatr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m estranho não correrdes com eles no mesmo desenfreamento de dissolução, blasfemand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hão de dar conta ao que está preparado para julgar os vivos 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isto foi pregado o evangelho também aos mortos, para que, na verdade, fossem julgados segundo os homens na carne, mas vivessem segundo Deus em espír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está próximo o fim de todas as coisas; portanto sede sóbrios e vigiai em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obretudo, tende ardente amor uns para com os outros; porque o amor cobrirá a multidão de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hospitaleiros uns para com os outros, sem murmur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26Z</dcterms:created>
  <dc:creator>Admin</dc:creator>
  <dc:description/>
  <dc:language>en-US</dc:language>
  <cp:lastModifiedBy>Admin</cp:lastModifiedBy>
  <dcterms:modified xsi:type="dcterms:W3CDTF">2008-07-30T23:44:26Z</dcterms:modified>
  <cp:revision>1</cp:revision>
  <dc:subject/>
  <dc:title>Slide 1</dc:title>
</cp:coreProperties>
</file>