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C7B-D449-48F0-A471-4E56F84A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965-0B04-417A-8006-8C7C0BD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210-E174-45E5-9CED-2FC09E84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1C8-91B9-42D3-8B93-31F49FDE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3CB-4E3F-4FDE-9EBD-AB20E7E7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807-0CD7-4425-9355-BFA85BC5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B10-7066-4A83-8E4D-144B5C2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1CF-4F9E-44A5-B1CA-E567100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0B5-BC98-47CC-A20F-F2C3BC7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EC2-943D-4B55-8090-35C1C1D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6A3-57E9-4074-BA5D-817F2B4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724-010A-47BB-92C9-1B415A0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226-230C-4686-9E99-0C6DE0CEFD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palavras da carta que Jeremias, o profeta, enviou de Jerusalém, aos que restaram dos anciãos do cativeiro, como também aos sacerdotes, e aos profetas, e a todo o povo que Nabucodonosor havia deportado de Jerusalém para Babilôn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Certamente que passados setenta anos em Babilônia, vos visitarei, e cumprirei sobre vós a minha boa palavra, tornando a trazer-vos a 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bem sei os pensamentos que tenho a vosso respeito, diz o SENHOR; pensamentos de paz, e não de mal, para vos dar o fim que espe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invocareis, e ireis, e orareis a mim, e eu vos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car-me-eis, e me achareis, quando me buscardes com todo o vos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ei achado de vós, diz o SENHOR, e farei voltar os vossos cativos e congregar-vos-ei de todas as nações, e de todos os lugares para onde vos lancei, diz o SENHOR, e tornarei a trazer-vos ao lugar de onde vos transport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eis: O SENHOR nos levantou profetas em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acerca do rei que se assenta no trono de Davi, e de todo o povo que habita nesta cidade, vossos irmãos, que não saíram conosco para 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Eis que enviarei entre eles a espada, a fome e a peste, e fá-los-ei como a figos podres que não se podem comer, de ruins que 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segui-los-ei com a espada, com a fome, e com a peste; e dá-los-ei para deslocarem-se por todos os reinos da terra, para serem uma maldição, e um espanto, e um assobio, e um opróbrio entre todas as nações para onde os tiver lanç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deram ouvidos às minhas palavras, diz o SENHOR, mandando-lhes eu os meus servos, os profetas, madrugando e enviando; mas vós não escutast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Depois que saíram de Jerusalém o rei Jeconias, e a rainha, e os eunucos, e os príncipes de Judá e Jerusalém, e os carpinteiros e ferreir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is, ouvi a palavra do SENHOR, todos os do cativeiro que enviei de Jerusalém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, acerca de Acabe, filho de Colaías, e de Zedequias, filho de Maaséias, que vos profetizam falsamente em meu nome: Eis que os entregarei na mão de Nabucodonosor, rei de Babilônia, e ele os ferirá diante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transportados de Judá, que estão em Babilônia, tomarão deles uma maldição, dizendo: O SENHOR te faça como Zedequias, e como Acabe, os quais o rei de Babilônia assou no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fizeram loucura em Israel, e cometeram adultério com as mulheres dos seus vizinhos, e anunciaram falsamente, em meu nome uma palavra, que não lhes mandei, e eu o sei e sou testemunha diss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maías, o neelamita, falará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 o SENHOR dos Exércitos, o Deus de Israel, dizendo: Porquanto tu enviaste no teu nome cartas a todo o povo que está em Jerusalém, como também a Sofonias, filho de Maaséias, o sacerdote, e a todos os sacerdote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pôs por sacerdote em lugar de Joiada, o sacerdote, para que sejas encarregado da casa do SENHOR sobre todo o homem fanático, e que profetiza, para o lançares na prisão e no tro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r que não repreendeste a Jeremias, o anatotita, que vos profetiz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nos mandou dizer em Babilônia: Ainda o cativeiro muito há de durar; edificai casas, e habitai nelas; e plantai pomares, e comei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u Sofonias, o sacerdote, esta carta aos ouvidos de Jeremias, 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ão de Elasa, filho de Safã, e de Gemarias, filho de Hilquias (os quais Zedequias, rei de Judá, tinha enviado a Babilônia, a Nabucodonosor, rei de Babilônia)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 a todos os do cativeiro, dizendo: Assim diz o SENHOR acerca de Semaías, o neelamita: Porquanto Semaías vos profetizou, e eu não o enviei, e vos fez confiar em menti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Eis que castigarei a Semaías, o neelamita, e a sua descendência; ele não terá ninguém que habite entre este povo, e não verá o bem que hei de fazer ao meu povo, diz o SENHOR, porque falou em rebeldia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, a todos os do cativeiro, os quais fiz transportar de Jerusalém para Babilôni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ai casas e habitai-as; e plantai jardins, e comei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mulheres e gerai filhos e filhas, e tomai mulheres para vossos filhos, e dai vossas filhas a maridos, para que tenham filhos e filhas; e multiplicai-vos ali, e não vos diminu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curai a paz da cidade, para onde vos fiz transportar em cativeiro, e orai por ela ao SENHOR; porque na sua paz vós tereis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o Deus de Israel: Não vos enganem os vossos profetas que estão no meio de vós, nem os vossos adivinhos, nem deis ouvidos aos vossos sonhos, que sonh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s vos profetizam falsamente em meu nome; não os envi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50Z</dcterms:created>
  <dc:creator>Admin</dc:creator>
  <dc:description/>
  <dc:language>en-US</dc:language>
  <cp:lastModifiedBy>Admin</cp:lastModifiedBy>
  <dcterms:modified xsi:type="dcterms:W3CDTF">2008-07-30T23:58:50Z</dcterms:modified>
  <cp:revision>1</cp:revision>
  <dc:subject/>
  <dc:title>Slide 1</dc:title>
</cp:coreProperties>
</file>