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55C-DE1C-4538-9514-F288CD3B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AF1-68EE-4530-B9F6-2C3347EC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A57-3EB1-4511-967D-27DA0679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5AC-663A-4458-A6E8-7D447DB4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469-60B3-4D1E-863F-4DB234E9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5E8-2297-42C0-9DA8-28CF114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B26-4ACF-4C55-8465-8BE09DF9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5D4-C523-47FD-8247-70D30CA4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2C9-F5B4-4C87-B936-0A72CE6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DF8-71F1-48CD-AD9F-13290417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D68-3452-4A0B-A146-F796D20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FCB-ADCC-4B89-8047-8F5451B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0DCC-F557-4581-836A-11C0D3AEED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tendo Ezequias ouvido isto, rasgou as suas vestes, e se cobriu de saco, e entrou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areis a Ezequias, rei de Judá: Não te engane o teu Deus, em quem confias, dizendo: Jerusalém não será entregue na mão d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já tens ouvido o que fizeram os reis da Assíria a todas as terras, destruindo-as totalmente; e tu, te livra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s livraram os deuses das nações, a quem meus pais destruíram, como a Gozã, a Harã, a Resefe, e aos filhos de Éden, que estavam em Telass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feito do rei de Hamate, do rei de Arpade, e do rei da cidade de Sefarvaim, Hena e I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ebendo, pois, Ezequias as cartas das mãos dos mensageiros e lendo-as, subiu à casa do SENHOR; e Ezequias as estendeu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ou Ezequias perante o SENHOR e disse: Ó SENHOR Deus de Israel, que habitas entre os querubins, tu mesmo, só tu és Deus de todos os reinos da terra; tu fizeste os céus 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, SENHOR, o teu ouvido, e ouve; abre, SENHOR, os teus olhos, e olha; e ouve as palavras de Senaqueribe, que enviou a este, para afrontar 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rdade é, ó SENHOR, que os reis da Assíria assolaram as nações e as su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os seus deuses no fogo; porquanto não eram deuses, mas obra de mãos de homens, madeira e pedra; por isso os destruí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SENHOR nosso Deus, te suplico, livra-nos da sua mão; e assim saberão todos os reinos da terra que só tu és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a Eliaquim, o mordomo, e a Sebna, o escrivão, e os anciãos dos sacerdotes, cobertos de sacos, ao profeta Isaías, filho de Am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aías, filho de Amós, mandou dizer a Ezequias: Assim diz o SENHOR Deus de Israel: O que me pediste acerca de Senaqueribe, rei da Assíria, ou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palavra que o SENHOR falou dele: A virgem, a filha de Sião, te despreza, de ti zomba; a filha de Jerusalém meneia a cabeça por detrás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afrontaste e blasfemaste? E contra quem alçaste a voz e ergueste os teus olhos ao alto? Contra o Santo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eio de teus mensageiros afrontaste o Senhor, e disseste: Com a multidão de meus carros subi ao alto dos montes, aos lados do Líbano, e cortarei os seus altos cedros e as suas mais formosas faias, e entrarei nas suas pousadas extremas, até no bos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cavei, e bebi águas estranhas; e com as plantas de meus pés sequei todos os rios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ouviste que já dantes fiz isto, e já desde os dias antigos o planejei? Agora, porém, o fiz vir, para que fosses tu que reduzisses as cidades fortificadas a montões des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moradores delas, com pouca força, ficaram pasmados e confundidos; eram como a erva do campo, e a hortaliça verde, e o feno dos telhados, e o trigo queimado, antes de amadu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teu assentar, e o teu sair e o teu entrar, e o teu furor contra mim, eu o s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 teu furor contra mim, e porque a tua revolta subiu aos meus ouvidos, portanto porei o meu anzol no teu nariz e o meu freio nos teus lábios, e te farei voltar pelo caminho por onde vi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te será por sinal; este ano se comerá o que nascer por si mesmo, e no ano seguinte o que daí proceder; porém, no terceiro ano semeai e segai, plantai vinhas, e comei os seus fr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Assim diz Ezequias: Este dia é dia de angústia, de vituperação e de blasfêmia; porque os filhos chegaram ao parto, e não há força para dá-los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escapou da casa de Judá, e restou, tornará a lançar raízes para baixo, e dará fruto para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 Jerusalém sairá o restante, e do monte Sião o que escapou; o zelo do SENHOR dos Exércitos fará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 acerca do rei da Assíria: Não entrará nesta cidade, nem lançará nela flecha alguma; tampouco virá perante ela com escudo, nem levantará contra ela trincheir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caminho por onde vier, por ele voltará; porém nesta cidade não entrará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ampararei a esta cidade, para a livrar, por amor de mim e por amor do meu servo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 naquela mesma noite saiu o anjo do SENHOR, e feriu no arraial dos assírios a cento e oitenta e cinco mil deles; e, levantando-se pela manhã cedo, eis que todos eram cadáv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naqueribe, rei da Assíria, partiu, e se foi, e voltou e ficou em Nín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stando ele prostrado na casa de Nisroque, seu deus, Adrameleque e Sarezer, seus filhos, o feriram à espada; porém eles escaparam para a terra de Ararate; e Esar-Hadom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pode ser que o SENHOR teu Deus ouça todas as palavras de Rabsaqué, a quem enviou o seu SENHOR, o rei da Assíria, para afrontar o Deus vivo, e para vituperá-lo com as palavras que o SENHOR teu Deus tem ouvido; faze, pois, oração pelo restante que s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o rei Ezequias foram a Is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ías lhes disse: Assim direis a vosso senhor: Assim diz o SENHOR: Não temas as palavras que ouviste, com as quais os servos do rei da Assíria me blasfe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porei nele um espírito, e ele ouvirá um rumor, e voltará para a sua terra; à espada o farei cair n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ou, pois, Rabsaqué, e achou o rei da Assíria pelejando contra Libna, porque tinha ouvido que o rei havia partido de Laqu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e dizer de Tiraca, rei da Etiópia: Eis que saiu para te fazer guerra; tornou a enviar mensageiros a Ezequ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13Z</dcterms:created>
  <dc:creator>Admin</dc:creator>
  <dc:description/>
  <dc:language>en-US</dc:language>
  <cp:lastModifiedBy>Admin</cp:lastModifiedBy>
  <dcterms:modified xsi:type="dcterms:W3CDTF">2008-07-30T23:52:13Z</dcterms:modified>
  <cp:revision>1</cp:revision>
  <dc:subject/>
  <dc:title>Slide 1</dc:title>
</cp:coreProperties>
</file>