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F3C-EF7F-45F8-BFDB-6B62B8B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0BE-0B60-49BD-92EA-A675575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ACF-B66F-480B-8A92-D693FB50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145-B86B-4D50-AB27-1FF6A089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B64-947D-4F54-88C2-10F3B6E9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FA7-F935-40DA-8C00-289626EC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23A-1D6F-4930-96F7-9834298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C2A-067B-4CA9-B1B5-67176365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CFA-EBF0-43D2-98BD-E912F56A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488-A26D-463B-AECC-FDEA57A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2F1-0379-4E06-A602-341065B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D71-0E7A-4B19-B926-A7A4B12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D468-3435-4609-84A1-9415F1007BE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irmãos, não vos pude falar como a espirituais, mas como a carnais, como a meninos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a graça de Deus que me foi dada, pus eu, como sábio arquiteto, o fundamento, e outro edifica sobre ele; mas veja cada um como edific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inguém pode pôr outro fundamento além do que já está posto, o qual é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sobre este fundamento formar um edifício de ouro, prata, pedras preciosas, madeira, feno, pal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bra de cada um se manifestará; na verdade o dia a declarará, porque pelo fogo será descoberta; e o fogo provará qual seja a obra de cad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obra que alguém edificou nessa parte permanecer, esse receberá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obra de alguém se queimar, sofrerá detrimento; mas o tal será salvo, todavia como pel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 que sois o templo de Deus e que o Espírito de Deus habita em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destruir o templo de Deus, Deus o destruirá; porque o templo de Deus, que sois vós, é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se engane a si mesmo. Se alguém dentre vós se tem por sábio neste mundo, faça-se louco para ser sá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abedoria deste mundo é loucura diante de Deus; pois está escrito: Ele apanha os sábios na sua própria astú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leite vos criei, e não com carne, porque ainda não podíeis, nem tampouco ainda agora pode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: O Senhor conhece os pensamentos dos sábios, que são v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inguém se glorie nos homens; porque tudo é vos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Paulo, seja Apolo, seja Cefas, seja o mundo, seja a vida, seja a morte, seja o presente, seja o futuro; tudo é vos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de Cristo, e Cris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sois carnais; pois, havendo entre vós inveja, contendas e dissensões, não sois porventura carnais, e não andais segundo os hom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dizendo um: Eu sou de Paulo; e outro: Eu de Apolo; porventura não sois carn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em é Paulo, e quem é Apolo, senão ministros pelos quais crestes, e conforme o que o SENHOR deu a cada u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plantei, Apolo regou; mas Deus deu o cres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nem o que planta é alguma coisa, nem o que rega, mas Deus, que dá o cres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que planta e o que rega são um; mas cada um receberá o seu galardão segundo o s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 somos cooperadores de Deus; vós sois lavoura de Deus e edifíci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17Z</dcterms:created>
  <dc:creator>Admin</dc:creator>
  <dc:description/>
  <dc:language>en-US</dc:language>
  <cp:lastModifiedBy>Admin</cp:lastModifiedBy>
  <dcterms:modified xsi:type="dcterms:W3CDTF">2008-07-30T23:41:17Z</dcterms:modified>
  <cp:revision>1</cp:revision>
  <dc:subject/>
  <dc:title>Slide 1</dc:title>
</cp:coreProperties>
</file>