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65F-6691-4DAC-8D6E-808BE60B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B00-6D26-4AED-8493-31961B16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0BC-D8D8-4952-9BD4-F594F792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B30-B6A9-4EDA-AF1E-1F5D3065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9C9-C2F5-46E2-A317-BC13B814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D41-237B-4703-BECB-5A42C982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07E-F5AE-4A2A-8B78-5A691875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891-8FEA-4F3D-927E-7C61E7FC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D67-4812-43C4-9AB1-5BA48EB8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04F-CC18-4365-9721-FA98EC0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BF5-6F69-4D6F-BBEC-BDCCB90E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792-3B1D-4E30-A5DD-966FC21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358-9CA4-44E5-B0B0-B65209D8633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filhos rebeldes, diz o SENHOR, que tomam conselho, mas não de mim; e que se cobrem, com uma cobertura, mas não do meu espírito, para acrescentarem pecado sobre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zem aos videntes: Não vejais; e aos profetas: Não profetizeis para nós o que é reto; dizei-nos coisas aprazíveis, e vede para nós eng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i-vos do caminho, apartai-vos da vereda; fazei que o Santo de Israel cesse de estar perant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assim diz o Santo de Israel: porquanto rejeitais esta palavra, e confiais na opressão e perversidade, e sobre isso vos estriba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sta maldade vos será como a brecha de um alto muro que, formando uma barriga, está prestes a cair e cuja quebra virá subi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o quebrará como se quebra o vaso do oleiro e, quebrando-o, não se compadecerá; de modo que não se achará entre os seus pedaços um caco para tomar fogo do lar, ou tirar água da po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, o Santo de Israel: Voltando e descansando sereis salvos; no sossego e na confiança estaria a vossa força, mas não quis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zeis: Não; antes sobre cavalos fugiremos; portanto fugireis; e, sobre cavalos ligeiros cavalgaremos; por isso os vossos perseguidores também serão lig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l homens fugirão ao grito de um, e ao grito de cinco todos vós fugireis, até que sejais deixados como o mastro no cume do monte, e como a bandeira no out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o SENHOR esperará, para ter misericórdia de vós; e por isso se levantará, para se compadecer de vós, porque o SENHOR é um Deus de eqüidade; bem-aventurados todos os que nele esp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ovo habitará em Sião, em Jerusalém; não chorarás mais; certamente se compadecerá de ti, à voz do teu clamor e, ouvindo-a, te respon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escem ao Egito, sem pedirem o meu conselho; para se fortificarem com a força de Faraó, e para confiarem na somb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vos dará o Senhor pão de angústia e água de aperto, mas os teus mestres nunca mais fugirão de ti, como voando com asas; antes os teus olhos verão a todos os teus mest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teus ouvidos ouvirão a palavra do que está por detrás de ti, dizendo: Este é o caminho, andai nele, sem vos desviardes nem para a direita nem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rás por contaminadas as coberturas de tuas esculturas de prata, e o revestimento das tuas esculturas fundidas de ouro; e as lançarás fora como um pano imundo, e dirás a cada uma delas: Fora d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 dará chuva sobre a tua semente, com que semeares a terra, como também pão da novidade da terra; e esta será fértil e cheia; naquele dia o teu gado pastará em largos pa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bois e os jumentinhos, que lavram a terra, comerão grão puro, que for padejado com a pá, e cirandado com a cira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o o monte alto, e em todo o outeiro levantado, haverá ribeiros e correntes de águas, no dia da grande matança, quando caírem as tor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luz da lua será como a luz do sol, e a luz do sol sete vezes maior, como a luz de sete dias, no dia em que o SENHOR ligar a quebradura do seu povo, e curar a chaga da sua fer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nome do SENHOR vem de longe, ardendo a sua ira, sendo pesada a sua carga; os seus lábios estão cheios de indignação, e a sua língua é como um fogo consum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respiração como o ribeiro transbordante, que chega até ao pescoço, para peneirar as nações com peneira de destruição, e um freio de fazer errar nas queixadas d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ântico haverá entre vós, como na noite em que se celebra uma festa santa; e alegria de coração, como a daquele que vai com flauta, para entrar no monte do SENHOR, à Roch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força de Faraó se vos tornará em vergonha, e a confiança na sombra do Egito em confu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ará ouvir a sua voz majestosa e fará ver o abaixamento do seu braço, com indignação de ira, e labareda de fogo consumidor, raios e dilúvio e pedras de sara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 a voz do SENHOR será desfeita em pedaços a Assíria, que feriu com a v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da pancada do bordão do juízo que o SENHOR lhe der, haverá tamboris e harpas; e com combates de agitação combaterá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fete já há muito está preparada; sim, está preparada para o rei; ele a fez profunda e larga; a sua pira é de fogo, e tem muita lenha; o assopro do SENHOR como torrente de enxofre a acen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seus príncipes já estão em Zoã, e os seus embaixadores já chegaram a Han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se envergonharão de um povo que de nada lhes servirá nem de ajuda, nem de proveito, porém de vergonha, e de oprób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os animais do sul. Para a terra de aflição e de angústia (de onde vêm a leoa e o leão, a víbora, e a serpente ardente, voadora) levarão às costas de jumentinhos as suas riquezas, e sobre as corcovas de camelos os seus tesouros, a um povo que de n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Egito os ajudará em vão, e para nenhum fim; por isso clamei acerca disto: No estarem quietos será 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pois, agora, escreve isto numa tábua perante eles e registra-o num livro; para que fique até ao último dia, para sempre e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 é um povo rebelde, filhos mentirosos, filhos que não querem ouvir a lei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40Z</dcterms:created>
  <dc:creator>Admin</dc:creator>
  <dc:description/>
  <dc:language>en-US</dc:language>
  <cp:lastModifiedBy>Admin</cp:lastModifiedBy>
  <dcterms:modified xsi:type="dcterms:W3CDTF">2008-07-30T23:55:40Z</dcterms:modified>
  <cp:revision>1</cp:revision>
  <dc:subject/>
  <dc:title>Slide 1</dc:title>
</cp:coreProperties>
</file>