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E37-FFEA-40BE-A015-DA138AB9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037-CD42-4930-BF84-656F2AF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2A6-B6BD-42B8-8C6D-2CBBE2D1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0D6-77DA-4C91-ABA0-049F7C4C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8A8-D6D5-4C47-AD86-0D57E0DD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E31-FCE4-465B-987B-07A16CC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15F-7CEB-4F2C-8B63-FCC0AD7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1CF-7661-41E9-B3D3-A0FC87B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77F-04E4-49C9-A844-64CE7C83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3A8-C726-4044-8B45-B7C3608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2CB-096B-4AED-B03C-DEEE420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CDA-6114-4722-80C3-1F58F7A4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3E0-1567-4316-B143-1D02DF09CB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gerações de Esaú (que é Edom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nomes dos filhos de Esaú: Elifaz, filho de Ada, mulher de Esaú; Reuel, filho de Basemate, mulher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Elifaz foram: Temã, Omar, Zefô, Gaetã e Quen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mna era concubina de Elifaz, filho de Esaú, e teve de Elifaz a Amaleque. Estes são os filhos de Ada, mulher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e Reuel: Naate, Zerá, Samá e Mizá; estes foram os filhos de Basemate, mulher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foram os filhos de Aolibama, mulher de Esaú, filha de Aná, filho de Zibeão; ela teve de Esaú: Jeús, Jalão e Cor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príncipes dos filhos de Esaú: os filhos de Elifaz, o primogênito de Esaú, o príncipe Temã, o príncipe Omar, o príncipe Zefô, o príncipe Quen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Coré, o príncipe Gaetã, o príncipe Amaleque; estes são os príncipes de Elifaz na terra de Edom; estes são os filhos de 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Reuel, filhos de Esaú: o príncipe Naate, o príncipe Zerá, o príncipe Samá, o príncipe Mizá; estes são os príncipes de Reuel, na terra de Edom; estes são os filhos de Basemate, mulher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Aolibama, mulher de Esaú: o príncipe Jeús, o príncipe Jalão, o príncipe Coré; estes são os príncipes de Aolibama, filha de Aná, mulher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Esaú, e estes são seus príncipes: Ele é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aú tomou suas mulheres das filhas de Canaã; a Ada, filha de Elom, heteu, e a Aolibama, filha de Aná, filho de Zibeão, hev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Seir, horeu, moradores daquela terra: Lotã, Sobal, Zibeão e An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om, Eser e Disã; estes são os príncipes dos horeus, filhos de Seir, na terra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Lotã foram Hori e Homã; e a irmã de Lotã era Tim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Sobal: Alvã, Manaate, Ebal, Sefô e O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Zibeão: Aiá e Aná; este é o Aná que achou as fontes termais no deserto, quando apascentava os jumentos de Zibeão,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Aná: Disom e Aolibama, a filha de A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filhos de Disã: Hendã, Esbã, Itrã e Que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Eser: Bilã, Zaavã e Ac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Disã: Uz e 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príncipes dos horeus: o príncipe Lotã, o príncipe Sobal, o príncipe Zibeão, o príncipe A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Basemate, filha de Ismael, irmã de Nebai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Disom, o príncipe Eser, o príncipe Disã: estes são os príncipes dos horeus segundo os seus principados na terra de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reis que reinaram na terra de Edom, antes que reinasse rei algum sobre os filho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inou, pois, em Edom Bela, filho de Beor, e o nome da sua cidade foi Dinab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Bela; e Jobabe, filho de Zerá, de Bozra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Jobabe; e Husão, da terra dos temanitas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usão, e em seu lugar reinou Hadade, filho de Bedade, o que feriu a Midiã, no campo de Moabe; e o nome da sua cidade foi Av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adade; e Samlá de Masreca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Samlá; e Saul de Reobote, junto ao rio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Saul; e Baal-Hanã, filho de Acbor, reinou em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Baal-Hanã, filho de Acbor; e Hadar reinou em seu lugar, e o nome de sua cidade foi Pau; e o nome de sua mulher foi Meetabel, filha de Matrede, filha de Me-Zaa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a teve de Esaú a Elifaz; e Basemate teve a Reu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príncipes de Esaú, segundo as suas gerações, segundo os seus lugares, com os seus nomes: o príncipe Timna, o príncipe Alva, o príncipe Jet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Aolibama, o príncipe Ela, o príncipe Pin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Quenaz, o príncipe Temã, o príncipe Mibz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ríncipe Magdiel, o príncipe Irã: estes são os príncipes de Edom, segundo as suas habitações, na terra da sua possessão. Este é Esaú, pai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libama deu à luz a Jeús, Jalão e Coré; estes são os filhos de Esaú, que lhe nasceram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aú tomou suas mulheres, e seus filhos, e suas filhas, e todas as almas de sua casa, e seu gado, e todos os seus animais, e todos os seus bens, que havia adquirido na terra de Canaã; e foi para outra terra apartando-se de Jacó, s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bens deles eram muitos para habitarem juntos; e a terra de suas peregrinações não os podia sustentar por causa do seu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saú habitou na montanha de Seir; Esaú é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is, são as gerações de Esaú, pai dos edomeus, na montanha de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25Z</dcterms:created>
  <dc:creator>Admin</dc:creator>
  <dc:description/>
  <dc:language>en-US</dc:language>
  <cp:lastModifiedBy>Admin</cp:lastModifiedBy>
  <dcterms:modified xsi:type="dcterms:W3CDTF">2008-07-30T23:39:25Z</dcterms:modified>
  <cp:revision>1</cp:revision>
  <dc:subject/>
  <dc:title>Slide 1</dc:title>
</cp:coreProperties>
</file>