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C7-DC5B-43FD-97B8-81359855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527-6A6E-4A83-8899-63D7C51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41E-35C4-450B-A3AB-288B0726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476-B434-4E29-975B-360A135B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604-3F99-45BD-86E9-45ED64F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00C-1124-4CDA-83D0-4CF7F58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D23-DA3F-4481-A836-3AA32538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456-4365-4335-A8CB-3EDAFDE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697-1CE3-4E2E-88D0-974F85C1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5F6-4EF8-4AF1-8870-7DC638E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2B0-0158-4872-9ACE-968DB72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660-0E7B-4BE4-807A-944780F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3F78-CEE2-4412-B180-C1742E25B5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SENHOR, levanto a minh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veredas do SENHOR são misericórdia e verdade para aqueles que guardam a sua aliança e os seus testemu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amor do teu nome, SENHOR, perdoa a minha iniqüidade, pois é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 o homem que teme ao SENHOR? Ele o ensinará no caminho que deve esco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alma pousará no bem, e a sua semente herdará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gredo do SENHOR é com aqueles que o temem; e ele lhes mostrará a su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eus olhos estão continuamente no SENHOR, pois ele tirará os meus pés d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mim, e tem piedade de mim, porque estou solitário e afl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ânsias do meu coração se têm multiplicado; tira-me dos meus ap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a minha aflição e para a minha dor, e perdoa todos os m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 para os meus inimigos, pois se vão multiplicando e me odeiam com ódio cr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meu, em ti confio, não me deixes confundido, nem que os meus inimigos triunfem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a minha alma, e livra-me; não me deixes confundido, porquanto confio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em-me a sinceridade e a retidão, porquanto espero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dime, ó Deus, a Israel de todas as suas angúst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, não serão confundidos os que esperam em ti; confundidos serão os que transgridem sem cau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me saber os teus caminhos, SENHOR; ensina-me as tuas vere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ia-me na tua verdade, e ensina-me, pois tu és o Deus da minha salvação; por ti estou esperando todo 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SENHOR, das tuas misericórdias e das tuas benignidades, porque são desde a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lembres dos pecados da minha mocidade, nem das minhas transgressões; mas segundo a tua misericórdia, lembra-te de mim, por tua bondade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m e reto é o SENHOR; por isso ensinará o caminho aos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iará os mansos em justiça e aos mansos ensinará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4Z</dcterms:created>
  <dc:creator>Admin</dc:creator>
  <dc:description/>
  <dc:language>en-US</dc:language>
  <cp:lastModifiedBy>Admin</cp:lastModifiedBy>
  <dcterms:modified xsi:type="dcterms:W3CDTF">2008-07-31T00:24:44Z</dcterms:modified>
  <cp:revision>1</cp:revision>
  <dc:subject/>
  <dc:title>Slide 1</dc:title>
</cp:coreProperties>
</file>