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DDA-4E05-4C54-B8EA-3BC1CE65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BCA-E547-4206-8730-DB15558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995-FC76-444F-BAE1-77A6E0C3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41D-88A2-47D4-9F16-BA6B1117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4F3-B702-40EB-B6FD-A182893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10E-9BD6-4D9D-9494-959093B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385-FEBB-4A57-9CEA-A9DD4FB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DB3-0836-483B-B0D9-E938912E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9E6-CF0C-41AA-9176-373818AD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CC7-B5FC-484C-9CBE-791375E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E75-5130-45CF-A7FD-7E3DBE5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6F1-E752-4EAA-B32F-214E8F9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769-5EC0-4E3E-AD3F-F831516127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-SE, pois, Josué de madrugada, e partiram de Sitim, ele e todos os filhos de Israel; e vieram até ao Jordão, e pousaram ali, antes que passa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osué: Nisto conhecereis que o Deus vivo está no meio de vós; e que certamente lançará de diante de vós aos cananeus, e aos heteus, e aos heveus, e aos perizeus, e aos girgaseus, e aos amorreus, e aos jebus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arca da aliança do Senhor de toda a terra passa o Jordão 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, pois, agora doze homens das tribos de Israel, de cada tribo um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de acontecer que, assim que as plantas dos pés dos sacerdotes, que levam a arca do SENHOR, o Senhor de toda a terra, repousem nas águas do Jordão, se separarão as águas do Jordão, e as águas, que vêm de cima, pararão amonto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rtindo o povo das suas tendas, para passar o Jordão, levavam os sacerdotes a arca da aliança adiante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s que levavam a arca, chegaram ao Jordão, e os seus pés se molharam na beira das águas (porque o Jordão transbordava sobre todas as suas ribanceiras, todos os dias da ceifa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ram-se as águas, que vinham de cima; levantaram-se num montão, mui longe da cidade de Adão, que está ao lado de Zaretã; e as que desciam ao mar das campinas, que é o Mar Salgado, foram de todo separadas; então passou o povo em frente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s sacerdotes, que levavam a arca da aliança do SENHOR, pararam firmes, em seco, no meio do Jordão, e todo o Israel passou a seco, até que todo o povo acabou de passar 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ao fim de três dias, que os oficiais passaram pelo meio do arrai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aram ao povo, dizendo: Quando virdes a arca da aliança do SENHOR vosso Deus, e que os sacerdotes levitas a levam, partireis vós também do vosso lugar, e segui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ja contudo, entre vós e ela, uma distância de dois mil côvados; e não vos chegueis a ela, para que saibais o caminho pelo qual haveis de ir; porquanto por este caminho nunca passastes a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Josué também ao povo: Santificai-vos, porque amanhã fará o SENHOR maravilhas no mei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Josué aos sacerdotes, dizendo: Levantai a arca da aliança, e passai adiante deste povo. Levantaram, pois, a arca da aliança, e foram andando adiante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 a Josué: Hoje começarei a engrandecer-te perante os olhos de todo o Israel, para que saibam que, assim como fui com Moisés, assim se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ordenarás aos sacerdotes que levam a arca da aliança, dizendo: Quando chegardes à beira das águas do Jordão, parareis a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sué aos filhos de Israel: Chegai-vos para cá, e ouvi as palavras d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53Z</dcterms:created>
  <dc:creator>Admin</dc:creator>
  <dc:description/>
  <dc:language>en-US</dc:language>
  <cp:lastModifiedBy>Admin</cp:lastModifiedBy>
  <dcterms:modified xsi:type="dcterms:W3CDTF">2008-07-31T00:04:53Z</dcterms:modified>
  <cp:revision>1</cp:revision>
  <dc:subject/>
  <dc:title>Slide 1</dc:title>
</cp:coreProperties>
</file>