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190-A090-4B92-9073-CC7C3C30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D2B-7A52-4E19-B3A2-77220881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5BA-4C5E-43F2-9589-11831726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D0A-83DC-400F-9763-E25E2923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90A-619F-4832-A92A-B03794AC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C39-9B6E-4503-AA75-DD3A8D85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655-59E2-4436-B726-0ADDBA73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636-DC51-4640-BD94-CAFBCB07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0A9-313A-40C2-B76F-21B6045D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3F7-1122-47F8-9F41-5B8D7515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DB7-8776-45DA-B1D3-5DC56216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9CB-69C1-4D10-BA7C-19E572B1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D3FF-6AC3-4C17-9A60-7C6B97E70E1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oltares, ó Israel, diz o SENHOR, volta para mim; e se tirares as tuas abominações de diante de mim, não andarás mais vaguean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u: Ah, Senhor DEUS! Verdadeiramente enganaste grandemente a este povo e a Jerusalém, dizendo: Tereis paz; pois a espada penetra-lhe até à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se dirá a este povo e a Jerusalém: Um vento seco das alturas do deserto veio ao caminho da filha do meu povo; não para padejar, nem para limp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um vento mais veemente virá da minha parte; agora também eu pronunciarei juízos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irá subindo como nuvens e os seus carros como a tormenta; os seus cavalos serão mais ligeiros do que as águias; ai de nós, que somos assolad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va o teu coração da malícia, ó Jerusalém, para que sejas salva; até quando permanecerão no meio de ti os pensamentos da tua iniqüi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uma voz anuncia desde Dã, e faz ouvir a calamidade desde o monte de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i isto às nações; fazei ouvir contra Jerusalém, que vigias vêm de uma terra remota, e levantarão a sua voz contra as cidade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s guardas de um campo, estão contra ela ao redor; porquanto ela se rebelou contra mim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caminho e as tuas obras te fizeram estas coisas; esta é a tua maldade, e amargosa é, que te chega até a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, entranhas minhas, entranhas minhas! Estou com dores no meu coração! O meu coração se agita em mim. Não posso me calar; porque tu, ó minha alma, ouviste o som da trombeta e o alarido d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rarás: Vive o SENHOR na verdade, no juízo e na justiça; e nele se bendirão as nações, e nele se glori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ruição sobre destruição se apregoa; porque já toda a terra está destruída; de repente foram destruídas as minhas tendas, e as minhas cortinas num mo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verei a bandeira, e ouvirei a voz da trombe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veras o meu povo está louco, já não me conhece; são filhos néscios, e não entendidos; são sábios para fazer mal, mas não sabem fazer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bservei a terra, e eis que era sem forma e vazia; também os céus, e não tinham a su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bservei os montes, e eis que estavam tremendo; e todos os outeiros estremec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bservei, e eis que não havia homem algum; e todas as aves do céu tinham fu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 também que a terra fértil era um deserto; e todas as suas cidades estavam derrubadas diante do SENHOR, diante do furor da s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Toda esta terra será assolada; de todo, porém, não a consum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to lamentará a terra, e os céus em cima se enegrecerão; porquanto assim o disse, assim o propus, e não me arrependi nem me desviarei d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clamor dos cavaleiros e dos flecheiros fugiram todas as cidades; entraram pelas matas e treparam pelos penhascos; todas as cidades ficaram abandonadas, e já ninguém habita n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aos homens de Judá e a Jerusalém: Preparai para vós o campo de lavoura, e não semeeis entre esp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que farás, ó assolada? Ainda que te vistas de carmesim, ainda que te adornes com enfeites de ouro, ainda que te pintes em volta dos teus olhos, debalde te farias bela; os amantes te desprezam, e procuram tirar-te 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uço uma voz, como a de uma mulher que está de parto, uma angústia como a de que está com dores de parto do primeiro filho; a voz da filha de Sião, ofegante, que estende as suas mãos, dizendo: Oh! ai de mim agora, porque já a minha alma desma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rcuncidai-vos ao SENHOR, e tirai os prepúcios do vosso coração, ó homens de Judá e habitantes de Jerusalém, para que o meu furor não venha a sair como fogo, e arda de modo que não haja quem o apague, por causa da malícia das voss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unciai em Judá, e fazei ouvir em Jerusalém, e dizei: Tocai a trombeta na terra, gritai em alta voz, dizendo: Ajuntai-vos, e entremos nas cidades fortific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vorai a bandeira rumo a Sião, fugi, não vos detenhais; porque eu trago do norte um mal, e uma grande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um leão subiu da sua ramada, e um destruidor dos gentios; ele já partiu, e saiu do seu lugar para fazer da tua terra uma desolação, a fim de que as tuas cidades sejam destruídas, e ninguém habite n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to cingi-vos de sacos, lamentai, e uivai, porque o ardor da ira do SENHOR não se desviou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rá naquele tempo, diz o SENHOR, que se desfará o coração do rei e o coração dos príncipes; e os sacerdotes pasmarão, e os profetas se maravilh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28Z</dcterms:created>
  <dc:creator>Admin</dc:creator>
  <dc:description/>
  <dc:language>en-US</dc:language>
  <cp:lastModifiedBy>Admin</cp:lastModifiedBy>
  <dcterms:modified xsi:type="dcterms:W3CDTF">2008-07-30T23:57:28Z</dcterms:modified>
  <cp:revision>1</cp:revision>
  <dc:subject/>
  <dc:title>Slide 1</dc:title>
</cp:coreProperties>
</file>