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C2D-C8D5-471D-BCC8-4646A3E0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D330-7C0E-4360-804A-79DE6F50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04B-1EFE-4C0A-AECE-C1AE5BB0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865-6B55-44EF-AE6A-F33361AA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00D-D040-4489-AA09-1B9E6E97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80C-1FAD-4B3F-8969-6D5E6474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AAA-812E-4445-A3FF-31B2E81D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D8AE-89FD-4E9F-A869-8C03CB3E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1FB-5EF4-4DD6-9299-0710CF9E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6E2-CE64-4FF6-A0C9-98D786A3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19F-27A0-4986-9747-112629E7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418-602F-4DDE-BB92-1961D76D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FDC8-6389-4D94-BC4D-5E3928F84F4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 neve no verão, e como a chuva na sega, assim não fica bem para o tolo a hon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oderoso, que formou todas as coisas, paga ao tolo, e recompensa ao transgress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cão torna ao seu vômito, assim o tolo repete a sua estult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s visto o homem que é sábio a seus próprios olhos? Pode-se esperar mais do tolo do qu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 o preguiçoso: Um leão está no caminho; um leão está nas r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 porta gira nos seus gonzos, assim o preguiçoso na sua c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eguiçoso esconde a sua mão ao seio; e cansa-se até de torná-la à s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is sábio é o preguiçoso a seus próprios olhos do que sete homens que respondem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, passando, se põe em questão alheia, é como aquele que pega um cão pelas or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louco que solta faíscas, flechas, e mortanda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é o homem que engana o seu próximo, e diz: Fiz isso por brincad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o pássaro o vaguear, como à andorinha o voar, assim a maldição sem causa não v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 lenha, o fogo se apagará; e não havendo intrigante, cessará a con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carvão para as brasas, e a lenha para o fogo, assim é o homem contencioso para acender rix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palavras do intrigante são como doces bocados; elas descem ao mais íntimo do ven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caco de vaso coberto de escórias de prata, assim são os lábios ardentes com o coração malig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odeia dissimula com seus lábios, mas no seu íntimo encobre o engan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e suplicar com voz suave não te fies nele, porque abriga sete abominações no seu cor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ujo ódio se encobre com engano, a sua maldade será exposta perante 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cava uma cova cairá nela; e o que revolve a pedra, esta voltará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língua falsa odeia aos que ela fere, e a boca lisonjeira provoca a ruí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açoite é para o cavalo, o freio é para o jumento, e a vara é para as costas dos t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respondas ao tolo segundo a sua estultícia; para que também não te faças semelhante 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 ao tolo segundo a sua estultícia, para que não seja sábio aos seus próprio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és corta, e o dano sorve, aquele que manda mensagem pela mão dum to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s pernas do coxo, que pendem flácidas, assim é o provérbio na boca dos t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que arma a funda com pedra preciosa, assim é aquele que concede honra ao to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espinho que entra na mão do bêbado, assim é o provérbio na boca dos t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2:42Z</dcterms:created>
  <dc:creator>Admin</dc:creator>
  <dc:description/>
  <dc:language>en-US</dc:language>
  <cp:lastModifiedBy>Admin</cp:lastModifiedBy>
  <dcterms:modified xsi:type="dcterms:W3CDTF">2008-07-31T00:22:42Z</dcterms:modified>
  <cp:revision>1</cp:revision>
  <dc:subject/>
  <dc:title>Slide 1</dc:title>
</cp:coreProperties>
</file>