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C07-1BBC-4034-BB4D-C268AED4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BCC-C440-4E01-AFCC-6413E6D9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E33-9F1D-4F65-810F-E603B4F8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653-B2D0-48BC-9AA7-E35F5357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2C4-7C5A-4ECA-8340-0C848B68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7D8-9887-4743-B21C-C29BFA3D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446-D96F-44F2-9632-4CD2390E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22D-5DA7-45EF-A1AD-800DDDEF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0FB-E80B-4AE6-8749-31A6B85C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D49-4A61-4B6A-BBA1-782CC910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8D3-1280-4FDE-8187-F5EFADC7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853-F09B-4AB3-A4DB-EC505C5C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EDC5-CF4F-40A0-8107-E0B4062B6E7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SSEGUIU ainda Eliú, e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e-lhes também os seus ouvidos, para sua disciplina, e ordena-lhes que se convertam da ma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ouvirem, e o servirem, acabarão seus dias em bem, e os seus anos em delí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não o ouvirem, à espada serão passados, e expirarão sem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ipócritas de coração amontoam para si a ira; e amarrando-os ele, não clamam por soco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alma morre na mocidade, e a sua vida perece entre os imp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aflito livra da sua aflição, e na opressão se revela aos seu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te desviará da boca da angústia para um lugar espaçoso, em que não há aperto, e as iguarias da tua mesa serão cheias de gord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 estás cheio do juízo do ímpio; o juízo e a justiça te susten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há furor, guarda-te de que não sejas atingido pelo castigo violento, pois nem com resgate algum te livraria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imaria ele tanto tuas riquezas? Não, nem ouro, nem todas as forças do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era-me um pouco, e mostrar-te-ei que ainda há razões a favor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uspires pela noite, em que os povos sejam tomados d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te, e não declines para a iniqüidade; porquanto isso escolheste antes que a afl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Deus é excelso em seu poder; quem ensina como 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lhe prescreveu o seu caminho? Ou, quem lhe dirá: Tu cometeste mal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e engrandecer a sua obra, que os homens contempl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homens a vêem, e o homem a enxerga de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Deus é grande, e nós não o compreendemos, e o número dos seus anos não se pode esquadrinh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az miúdas as gotas das águas que, do seu vapor, derramam a chuv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l as nuvens destilam e gotejam sobre o homem abundant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pode alguém entender as extensões das nuvens, e os estalos da sua ten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longe trarei o meu conhecimento; e ao meu Criador atribuirei 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ende sobre elas a sua luz, e encobre as profundezas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or estas coisas julga os povos e lhes dá mantimento em abund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s nuvens encobre a luz, e ordena não brilhar, interpondo a nu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nos dá a entender o seu pensamento, como também ao gado, acerca do temporal que so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 verdade, as minhas palavras não serão falsas; contigo está um que tem perfeito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Deus é mui grande, contudo a ninguém despreza; grande é em força e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não preserva a vida do ímpio, e faz justiça aos afl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justo não tira os seus olhos; antes estão com os reis no trono; ali os assenta para sempre, e assim são exal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estão presos em grilhões, amarrados com cordas de afli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faz saber a obra deles, e as suas transgressões, porquanto prevaleceram n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13Z</dcterms:created>
  <dc:creator>Admin</dc:creator>
  <dc:description/>
  <dc:language>en-US</dc:language>
  <cp:lastModifiedBy>Admin</cp:lastModifiedBy>
  <dcterms:modified xsi:type="dcterms:W3CDTF">2008-07-31T00:02:13Z</dcterms:modified>
  <cp:revision>1</cp:revision>
  <dc:subject/>
  <dc:title>Slide 1</dc:title>
</cp:coreProperties>
</file>