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6B2-487D-4504-8E0D-C9F7F754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2E4D-39EC-4B8E-9ED1-59C1ADBD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DBD-3E09-4CB6-9DCE-5DEB9FA5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C8F4-1762-4731-80FD-C1CDABB7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0C7B-A76F-443D-AB21-426B0DAE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72FE-D117-4500-A1F2-BB3BF48D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D36-23C4-4F8A-8667-932BE0BB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16B-F8CD-4CAE-B374-4832FE61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103D-554D-4341-814E-0D887E3B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985-FE36-49A4-8090-36CEC9C0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0E50-2590-464A-ACCC-1C90F2D0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677-4BB0-4292-8255-E34DAF18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DCB0-DA47-4BDB-94CB-72B651E745A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N-HADADE, rei da Síria, ajuntou todo o seu exército; e havia com ele trinta e dois reis, e cavalos e carros; e subiu, e cercou a Samaria, e pelejou contra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n-Hadade enviou a ele mensageiros dizendo: Assim me façam os deuses, e outro tanto, que o pó de Samaria não bastará para encher as mãos de todo o povo que me se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rei de Israel respondeu: Dizei-lhe: Não se gabe quem se cinge das armas, como aquele que as desci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ouvindo ele esta palavra, estando a beber com os reis nas tendas, disse aos seus servos: Ponde-vos em ordem contra 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um profeta se chegou a Acabe rei de Israel, e lhe disse: Assim diz o SENHOR: Viste toda esta grande multidão? Eis que hoje ta entregarei nas tuas mãos, para que saibas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cabe: Por quem? E ele disse: Assim diz o SENHOR: Pelos moços dos príncipes das províncias. E disse: Quem começará a peleja? E disse: T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ntou os moços dos príncipes das províncias, e foram duzentos e trinta e dois; e depois deles contou a todo o povo, todos os filhos de Israel, sete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íram ao meio dia; e Ben-Hadade estava bebendo e embriagando-se nas tendas, ele e os reis, os trinta e dois reis, que o ajud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moços dos príncipes das províncias saíram primeiro; e Ben-Hadade enviou espias, que lhe deram avisos, dizendo: Saíram de Samaria un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Ainda que para paz saíssem, tomai-os vivos; e ainda que à peleja saíssem, tomai-os vi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íram, pois, da cidade os moços dos príncipes das províncias, e o exército que os segu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ou à cidade mensageiros, a Acabe, rei de Isra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feriram cada um o seu adversário, e os sírios fugiram, e Israel os perseguiu; porém Ben-Hadade, rei da Síria, escapou a cavalo, com alguns caval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o rei de Israel, e feriu os cavalos e os carros; e feriu os sírios com grande estra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profeta chegou-se ao rei de Israel e lhe disse: Vai, esforça-te, e atenta, e olha o que hás de fazer; porque no decurso de um ano o rei da Síria subirá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servos do rei da Síria lhe disseram: Seus deuses são deuses dos montes, por isso foram mais fortes do que nós; mas pelejemos com eles em campo raso, e por certo veremos, se não somos mais fortes do que ele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, pois, isto: tira os reis, cada um do seu lugar, e substitui-os por capitã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ma outro exército, igual ao exército que perdeste, cavalo por cavalo, e carro por carro, e pelejemos com eles em campo raso, e veremos se não somos mais fortes do que eles! E deu ouvidos à sua voz, e assim f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passado um ano, Ben-Hadade passou revista aos sírios, e subiu a Afeque, para pelejar contr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os filhos de Israel se passou revista, e providos de víveres marcharam contra eles; e os filhos de Israel acamparam-se defronte deles, como dois pequenos rebanhos de cabras; mas os sírios enchiam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ou o homem de Deus, e falou ao rei de Israel, e disse: Assim diz o SENHOR: Porquanto os sírios disseram: O SENHOR é Deus dos montes, e não Deus dos vales; toda esta grande multidão entregarei nas tuas mãos; para que saibas que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te dias estiveram acampados uns defronte dos outros; e sucedeu ao sétimo dia que a peleja começou, e os filhos de Israel feriram dos sírios cem mil homens de pé, num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lhe disseram: Assim diz Ben-Hadade: A tua prata e o teu ouro são meus; e tuas mulheres e os melhores de teus filhos são m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restantes fugiram a Afeque, à cidade; e caiu o muro sobre vinte e sete mil homens, que restaram; Ben-Hadade, porém, fugiu, e veio à cidade, escondendo-se de câmara em câm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disseram os seus servos: Eis que já temos ouvido que os reis da casa de Israel são reis clementes; ponhamos, pois, sacos aos lombos, e cordas às cabeças, e saiamos ao rei de Israel; pode ser que ele te poupe 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ingiram sacos aos lombos e cordas às cabeças, e foram ao rei de Israel, e disseram: Diz o teu servo Ben-Hadade: Deixa-me viver. E disse Acabe: Pois ainda vive? É m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s homens tomaram isto por bom presságio, e apressaram-se em apanhar a sua palavra, e disseram: Teu irmão Ben-Hadade vive. E ele disse: Vinde, trazei-mo. Então Ben-Hadade foi a ele, e ele o fez subir ao ca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e: As cidades que meu pai tomou de teu pai tas restituirei, e faze para ti ruas em Damasco, como meu pai as fez em Samaria. E eu, respondeu Acabe, te deixarei ir com esta aliança. E fez com ele aliança e o deixou 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um dos homens dos filhos dos profetas disse ao seu companheiro, pela palavra do SENHOR: Ora fere-me. E o homem recusou feri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 disse: Porque não obedeceste à voz do SENHOR, eis que, em te apartando de mim, um leão te ferirá. E como dele se apartou, um leão o encontrou e o fer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encontrou outro homem, e disse-lhe: Ora fere-me. E aquele homem deu-lhe um golpe, ferindo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i o profeta, e pôs-se perante o rei no caminho; e disfarçou-se com cinza sobre 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passando o rei, clamou ele ao rei, dizendo: Teu servo estava no meio da peleja, e eis que, desviando-se um homem, trouxe-me outro homem, e disse: Guarda-me este homem; se vier a faltar, será a tua vida em lugar da vida dele, ou pagarás u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 o rei de Israel, e disse: Conforme a tua palavra, ó rei meu senhor, eu sou teu, e tudo quanto te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, estando o teu servo ocupado de uma e de outra parte, eis que o homem desapareceu. Então o rei de Israel lhe disse: Esta é a tua sentença; tu mesmo a pronunci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 se apressou, e tirou a cinza de sobre os seus olhos; e o rei de Israel o reconheceu, que era um dos prof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: Assim diz o SENHOR: Porquanto soltaste da mão o homem que eu havia posto para destruição, a tua vida será em lugar da sua vida, e o teu povo em lugar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o rei de Israel para a sua casa, desgostoso e indignado; e chegou a Sa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aram a vir os mensageiros, e disseram: Assim diz Ben-Hadade: Enviei-te, na verdade, mensageiros que dissessem: Tu me hás de dar a tua prata, e o teu ouro, e as tuas mulheres e os teus fil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amanhã a estas horas enviarei os meus servos a ti, e esquadrinharão a tua casa, e as casas dos teus servos; e há de ser que tudo o que de precioso tiveres, eles tomarão consigo, e o lev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de Israel chamou a todos os anciãos da terra, e disse: Notai agora, e vede como este homem procura o mal; pois mandou pedir-me as mulheres, os meus filhos, a minha prata e o meu ouro, e não lhos negu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anciãos e todo o povo lhe disseram: Não lhe dês ouvidos, nem consin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isse aos mensageiros de Ben-Hadade: Dizei ao rei, meu senhor: Tudo o que primeiro mandaste pedir a teu servo, farei, porém isto não posso fazer. E voltaram os mensageiros, e lhe levaram a respo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6:05Z</dcterms:created>
  <dc:creator>Admin</dc:creator>
  <dc:description/>
  <dc:language>en-US</dc:language>
  <cp:lastModifiedBy>Admin</cp:lastModifiedBy>
  <dcterms:modified xsi:type="dcterms:W3CDTF">2008-07-30T23:46:05Z</dcterms:modified>
  <cp:revision>1</cp:revision>
  <dc:subject/>
  <dc:title>Slide 1</dc:title>
</cp:coreProperties>
</file>