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227-149E-4B4F-B8E4-97ACBDA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1BC-A6C6-49EB-B378-CEAE3454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2C7-345A-4800-AECD-EAB49D57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5BE-1F1B-429F-BC4E-E8740DD1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CCA-C9EF-404F-9480-C926625B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752-5C64-4377-AB51-F61CE685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9EA-7DC1-4150-B2B1-0402950D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0E4-B462-4BB0-993A-33B723C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A71-0BE8-4C00-8D43-87698A3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D47-6C83-44BD-A3DF-8FE2CB0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8F5-06CE-4770-92C9-703C52E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F0E-11C4-4618-875B-73F0F36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617-474A-4851-B49C-775D713D11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: Esta será a casa do SENHOR Deus, e este será o altar do holocausto pa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dificará uma casa ao meu nome, e me será por filho, e eu lhe serei por pai, e confirmarei o trono de seu reino sobre Israel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u filho, o SENHOR seja contigo; e prospera, e edifica a casa do SENHOR teu Deus, como ele diss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dê tão-somente prudência e entendimento, e te instrua acerca de Israel; e isso para guardar a lei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sperarás, se tiveres cuidado de cumprir os estatutos e os juízos, que o SENHOR mandou a Moisés acerca de Israel; esforça-te, e tem bom ânimo; não temas, nem tenhas p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a minha aflição preparei para a casa do SENHOR cem mil talentos de ouro, e um milhão de talentos de prata, e de cobre e de ferro que não se pesou, porque era em abundância; também madeira e pedras preparei, e tu suprirás o que f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ns contigo obreiros em grande número, cortadores e artífices em obra de pedra e madeira; e toda a sorte de peritos em toda a espécie de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ouro, da prata, e do cobre, e do ferro não há conta. Levanta-te, pois, e faze a obra, e o SENHOR sej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eu ordem a todos os príncipes de Israel que ajudassem a Salomão, seu filh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está convosco o SENHOR vosso Deus, e não vos deu repouso ao redor? Porque entregou na minha mão os moradores da terra; e a terra foi sujeita perante o SENHOR e perante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ponde, pois, agora o vosso coração e a vossa alma para buscardes ao SENHOR vosso Deus; e levantai-vos, e edificai o santuário do SENHOR Deus, para que a arca da aliança do SENHOR, e os vasos sagrados de Deus se tragam a esta casa, que se há de edi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rdem Davi que se ajuntassem os estrangeiros que estavam na terra de Israel; e ordenou cortadores de pedras, para que lavrassem pedras de cantaria, para edificar 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lhou Davi ferro em abundância, para os pregos das portas das entradas, e para as junturas; como também cobre em abundância, que não foi pes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deira de cedro sem conta; porque os sidônios e tírios traziam a Davi madeira de cedro e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 Davi: Salomão, meu filho, ainda é moço e tenro, e a casa que se há de edificar para o SENHOR deve ser magnífica em excelência, para nome e glória em todas as terras; eu, pois, agora lhe prepararei materiais. Assim preparou Davi materiais 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 Salomão seu filho, e lhe ordenou que edificasse uma casa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Salomão: Filho meu, quanto a mim, tive em meu coração o propósito de edificar uma casa ao nome do SENHOR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veio a mim a palavra do SENHOR, dizendo: Tu derramaste sangue em abundância, e fizeste grandes guerras; não edificarás casa ao meu nome; porquanto muito sangue tens derramado na terra, perant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filho que te nascer será homem de repouso; porque repouso lhe hei de dar de todos os seus inimigos ao redor; portanto, Salomão será o seu nome, e paz e descanso darei a Israel n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34Z</dcterms:created>
  <dc:creator>Admin</dc:creator>
  <dc:description/>
  <dc:language>en-US</dc:language>
  <cp:lastModifiedBy>Admin</cp:lastModifiedBy>
  <dcterms:modified xsi:type="dcterms:W3CDTF">2008-07-30T23:43:34Z</dcterms:modified>
  <cp:revision>1</cp:revision>
  <dc:subject/>
  <dc:title>Slide 1</dc:title>
</cp:coreProperties>
</file>