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841-CB57-43EB-BF58-10F9286D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D44-B11A-4192-AFC3-683CF5CD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489-5901-42B2-B8DC-86BCE8B6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1570-376F-4145-9833-6D5DF04F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494-31E8-44AA-A034-35D24B2E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216-E108-4B74-BD65-F616654F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4642-A031-4524-9C2F-31AD2EF6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96EF-784B-4F98-BC72-F204B820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FCB9-538F-4D37-B4F0-A567215F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750E-BAA8-42E2-832F-1EBBBA54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88AD-7E8B-4650-84D8-82AC5AFD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AA4-FA70-4F22-BF3F-3F113AB8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C59E-548F-4FB1-B633-86EB262AA9F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amor de Sião não me calarei, e por amor de Jerusalém não me aquietarei, até que saia a sua justiça como um resplendor, e a sua salvação como uma tocha ace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ai, passai pelas portas; preparai o caminho ao povo; aplainai, aplainai a estrada, limpai-a das pedras; arvorai a bandeira a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 SENHOR fez ouvir até às extremidades da terra: Dizei à filha de Sião: Eis que vem a tua salvação; eis que com ele vem o seu galardão, e a sua obra 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ar-lhes-ão: Povo santo, remidos do SENHOR; e tu serás chamada: Procurada, a cidade não desampa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gentios verão a tua justiça, e todos os reis a tua glória; e chamar-te-ão por um nome novo, que a boca do SENHOR design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s uma coroa de glória na mão do SENHOR, e um diadema real na mão do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nca mais te chamarão: Desamparada, nem a tua terra se denominará jamais: Assolada; mas chamar-te-ão: O meu prazer está nela, e à tua terra: A casada; porque o SENHOR se agrada de ti, e a tua terra se cas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como o jovem se casa com a virgem, assim teus filhos se casarão contigo; e como o noivo se alegra da noiva, assim se alegrará de ti o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Jerusalém, sobre os teus muros pus guardas, que todo o dia e toda a noite jamais se calarão; ó vós, os que fazeis lembrar ao SENHOR, não haja descanso em vó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deis a ele descanso, até que confirme, e até que ponha a Jerusalém por louvor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rou o SENHOR pela sua mão direita, e pelo braço da sua força: Nunca mais darei o teu trigo por comida aos teus inimigos, nem os estrangeiros beberão o teu mosto, em que trabalh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que o ajuntarem o comerão, e louvarão ao SENHOR; e os que o colherem beberão nos átrios do meu santu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7:02Z</dcterms:created>
  <dc:creator>Admin</dc:creator>
  <dc:description/>
  <dc:language>en-US</dc:language>
  <cp:lastModifiedBy>Admin</cp:lastModifiedBy>
  <dcterms:modified xsi:type="dcterms:W3CDTF">2008-07-30T23:57:02Z</dcterms:modified>
  <cp:revision>1</cp:revision>
  <dc:subject/>
  <dc:title>Slide 1</dc:title>
</cp:coreProperties>
</file>