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510E-4A15-4739-9C96-9DDA01B0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F111-C91D-4811-9486-92266FAA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F712-3D48-4BD4-8D56-DDBED2FA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E28-620C-4227-896C-B6AF79BA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E1D8-B998-499D-A5EA-3A8797FA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51B8-EBB4-4E6E-88C5-D0CB67BB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3348-C0DA-4B87-89D7-49D42EC2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6449-05A3-4287-ABA7-1FDAE366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072F-E208-4832-8597-FC5AA469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49D8-2D8F-40B2-99B6-4EFCD839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8CD3-C2B3-45B7-9BE2-377F6BF2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6AA8-84DD-417D-A92C-C41801D6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8260-52B2-445E-94CE-08A3A6EBE3D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ó respondeu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faz coisas grandes e inescrutáveis; e maravilhas sem núme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le passa por diante de mim, e não o vejo; e torna a passar perante mim, e não o si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arrebata a presa; quem lha fará restituir? Quem lhe dirá: Que é o que faz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não revogará a sua ira; debaixo dele se encurvam os auxiliadores soberb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menos lhe responderia eu, ou escolheria diante dele as minhas palavra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ainda que eu fosse justo, não lhe responderia; antes ao meu Juiz pediria misericór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chamasse, e ele me respondesse, nem por isso creria que desse ouvidos à minha vo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e quebranta com uma tempestade, e multiplica as minhas chagas sem cau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me permite respirar, antes me farta de amargu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às forças, eis que ele é o forte; e, quanto ao juízo, quem me citará com e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 sei que assim é; porque, como se justificaria o homem para com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u me justificar, a minha boca me condenará; se for perfeito, então ela me declarará perver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for perfeito, não estimo a minha alma; desprezo a minh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coisa é esta; por isso eu digo que ele consome ao perfeito e ao ímp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 açoite mata de repente, então ele zomba da prova dos inoc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erra é entregue nas mãos do ímpio; ele cobre o rosto dos juízes; se não é ele, quem é, log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meus dias são mais velozes do que um correio; fugiram, e não viram o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ssam como navios veleiros; como águia que se lança à com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u disser: Eu me esquecerei da minha queixa, e mudarei o meu aspecto e tomarei alen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ceio todas as minhas dores, porque bem sei que não me terás por inoc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ndo eu ímpio, por que trabalharei em v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quiser contender com ele, nem a uma de mil coisas lhe poderá respon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me lave com água de neve, e purifique as minhas mãos com sab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me submergirás no fosso, e as minhas próprias vestes me abomin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le não é homem, como eu, a quem eu responda, vindo juntamente a juí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há entre nós árbitro que ponha a mão sobre nós amb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re ele a sua vara de cima de mim, e não me amedronte o seu terr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larei, e não o temerei; porque não sou assim em mim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é sábio de coração, e forte em poder; quem se endureceu contra ele, e teve paz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é o que remove os montes, sem que o saibam, e o que os transtorna no seu fur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sacode a terra do seu lugar, e as suas colunas estremec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fala ao sol, e ele não nasce, e sela as estr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sozinho estende os céus, e anda sobre os altos d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fez a Ursa, o Órion, e o Sete-estrelo, e as recâmaras do s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0:47Z</dcterms:created>
  <dc:creator>Admin</dc:creator>
  <dc:description/>
  <dc:language>en-US</dc:language>
  <cp:lastModifiedBy>Admin</cp:lastModifiedBy>
  <dcterms:modified xsi:type="dcterms:W3CDTF">2008-07-31T00:00:47Z</dcterms:modified>
  <cp:revision>1</cp:revision>
  <dc:subject/>
  <dc:title>Slide 1</dc:title>
</cp:coreProperties>
</file>