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95B8-69B9-4E54-88D8-BCA577DF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666F-35AC-45A9-903F-940A60B9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1FE-0362-4E52-B58D-32850B68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8BAF-CAF4-4B99-B59D-0B6AC026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E16-8E5B-4EE8-AE66-351E6DA2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211-5F83-44A3-889C-611AFAFB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6EC-E30C-4647-84F3-818E86F3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41B1-CA1B-4CC6-87C9-3B7873A1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238-0091-46A2-8E25-DA6009F2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7EB-4274-42D4-AC90-F82266D4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633-EE94-41ED-9744-7323915B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268F-6FDC-4DEC-B84E-1CC6C2DF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FD55-F67D-4274-ABBD-67344DEB9E4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. Cantai ao SENHOR um cântico novo, e o seu louvor na congregação dos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egre-se Israel naquele que o fez, regozijem-se os filhos de Sião no seu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em o seu nome com danças; cantem-lhe o seu louvor com tamborim e harp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se agrada do seu povo; ornará os mansos com 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ultem os santos na glória; alegrem-se nas suas ca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jam na sua garganta os altos louvores de Deus, e espada de dois fios nas suas mã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tomarem vingança dos gentios, e darem repreensões aos pov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prenderem os seus reis com cadeias, e os seus nobres com grilhões de fer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fazerem neles o juízo escrito; esta será a glória de todos os santos. Louva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52Z</dcterms:created>
  <dc:creator>Admin</dc:creator>
  <dc:description/>
  <dc:language>en-US</dc:language>
  <cp:lastModifiedBy>Admin</cp:lastModifiedBy>
  <dcterms:modified xsi:type="dcterms:W3CDTF">2008-07-31T00:28:52Z</dcterms:modified>
  <cp:revision>1</cp:revision>
  <dc:subject/>
  <dc:title>Slide 1</dc:title>
</cp:coreProperties>
</file>