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F40-D88A-478E-9960-348AC990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F27-FD5D-417D-BDF4-D34CA1EC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19B0-8B64-49D4-89C3-C4BF044C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068E-1B7B-484F-8A6B-EE231AFB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9B67-BAF4-4052-8EB5-A995B2A4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3AE-EF72-46B8-A58E-B85E57EF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DCA0-937B-4309-8896-3310242C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4470-08C9-4301-86EF-0C5DF4B2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3F8-412F-4284-ADDA-B51F88CD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63C-9DA8-4BFF-829D-003D4548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BFD7-C1F0-44A0-B66E-37356440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ED3-4AA5-4AD3-B20D-65E21A0C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2402-423C-43DF-9620-2193BCF5796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é aquele que atende ao pobre; o SENHOR o livrará no dia d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tu, SENHOR, tem piedade de mim, e levanta-me, para que eu lhes dê o pa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to conheço eu que tu me favoreces: que o meu inimigo não triunfa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mim, tu me sustentas na minha sinceridade, e me puseste diante da tua fac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seja o SENHOR Deus de Israel de século em século. Amém e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o livrará, e o conservará em vida; será abençoado na terra, e tu não o entregarás à vontade de s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o sustentará no leito da enfermidade; tu o restaurarás da sua cama de doe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ia eu: SENHOR, tem piedade de mim; sara a minha alma, porque pequei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inimigos falam mal de mim, dizendo: Quando morrerá ele, e perecerá o seu nom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lgum deles vem ver-me, fala coisas vãs; no seu coração amontoa a maldade; saindo para fora, é disso que fa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que me odeiam murmuram à uma contra mim; contra mim imaginam o mal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doença má se lhe tem apegado; e agora que está deitado, não se levantará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o meu próprio amigo íntimo, em quem eu tanto confiava, que comia do meu pão, levantou contra mim o seu calcanh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17Z</dcterms:created>
  <dc:creator>Admin</dc:creator>
  <dc:description/>
  <dc:language>en-US</dc:language>
  <cp:lastModifiedBy>Admin</cp:lastModifiedBy>
  <dcterms:modified xsi:type="dcterms:W3CDTF">2008-07-31T00:25:17Z</dcterms:modified>
  <cp:revision>1</cp:revision>
  <dc:subject/>
  <dc:title>Slide 1</dc:title>
</cp:coreProperties>
</file>