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4D2-BA5A-4F77-9B19-30495BD7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0A8-C89B-4D16-8AE3-9361840C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03C-28CB-4618-B747-04F81797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F33-FA66-49FE-828E-391C197C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EAE-8B47-416B-8CB5-C547A50B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7EF-28E8-4263-90F7-72BEC448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871-F97C-4F87-8E83-5EECE6F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31B-7752-45B2-8AF8-089AC627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484-59F7-4857-A77C-D9A630B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216-1C6E-47CF-B6A2-309F70F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6C0-7D8F-42E0-ADFD-FE42AEA9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1A9-DA6D-4322-86C2-D8DCF8B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9324-6623-46F9-AF9C-A39EC9FDDD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primeiro dia da semana, muito de madrugada, foram elas ao sepulcro, levando as especiarias que tinham preparado, e algumas outras com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m Maria Madalena, e Joana, e Maria, mãe de Tiago, e as outras que com elas estavam, as que diziam estas coisas aos após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palavras lhes pareciam como desvario, e não as c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ro, porém, levantando-se, correu ao sepulcro e, abaixando-se, viu só os lençóis ali postos; e retirou-se, admirando consigo aquele ca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no mesmo dia iam dois deles para uma aldeia, que distava de Jerusalém sessenta estádios, cujo nome era Emaú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am falando entre si de tudo aquilo que havia suc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indo eles falando entre si, e fazendo perguntas um ao outro, o mesmo Jesus se aproximou, e ia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olhos deles estavam como que fechados, para que o não conhece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Que palavras são essas que, caminhando, trocais entre vós, e por que estais tri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um, cujo nome era Cléopas, disse-lhe: És tu só peregrino em Jerusalém, e não sabes as coisas que nela têm sucedido nestes di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perguntou: Quais? E eles lhe disseram: As que dizem respeito a Jesus Nazareno, que foi homem profeta, poderoso em obras e palavras diante de Deus e de todo o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am a pedra revolvida d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os principais dos sacerdotes e os nossos príncipes o entregaram à condenação de morte, e o crucific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esperávamos que fosse ele o que remisse Israel; mas agora, sobre tudo isso, é já hoje o terceiro dia desde que essas coisas acont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verdade que também algumas mulheres dentre nós nos maravilharam, as quais de madrugada foram ao sepulc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ão achando o seu corpo, voltaram, dizendo que também tinham visto uma visão de anjos, que dizem que ele v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que estavam conosco foram ao sepulcro, e acharam ser assim como as mulheres haviam dito; porém, a ele não o 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Ó néscios, e tardos de coração para crer tudo o que os profetas dissera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convinha que o Cristo padecesse estas coisas e entrasse na sua gló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eçando por Moisés, e por todos os profetas, explicava-lhes o que dele se achava em todas as Escri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ram à aldeia para onde iam, e ele fez como quem ia para mais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o constrangeram, dizendo: Fica conosco, porque já é tarde, e já declinou o dia. E entrou para ficar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, não acharam o corpo do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stando com eles à mesa, tomando o pão, o abençoou e partiu-o, e lho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ram-se-lhes então os olhos, e o conheceram, e ele desapareceu-lh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um para o outro: Porventura não ardia em nós o nosso coração quando, pelo caminho, nos falava, e quando nos abria as Escritu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mesma hora, levantando-se, tornaram para Jerusalém, e acharam congregados os onze, e os que estavam com 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diziam: Ressuscitou verdadeiramente o Senhor, e já apareceu a Si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s contaram o que lhes acontecera no caminho, e como deles fora conhecido no partir do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ndo eles destas coisas, o mesmo Jesus se apresentou no meio deles, e disse-lhes: Paz sej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espantados e atemorizados, pensavam que viam algum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Por que estais perturbados, e por que sobem tais pensamentos aos vossos coraç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as minhas mãos e os meus pés, que sou eu mesmo; apalpai-me e vede, pois um espírito não tem carne nem ossos, como vedes que eu te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stando elas muito perplexas a esse respeito, eis que pararam junto delas dois homens, com vestes resplandec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isto, mostrou-lhes as mãos e 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ão o crendo eles ainda por causa da alegria, e estando maravilhados, disse-lhes: Tendes aqui alguma coisa que co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s apresentaram-lhe parte de um peixe assado, e um favo de m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le tomou, e comeu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São estas as palavras que vos disse estando ainda convosco: Que convinha que se cumprisse tudo o que de mim estava escrito na lei de Moisés, e nos profetas e nos Sal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riu-lhes o entendimento para compreenderem as Escri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Assim está escrito, e assim convinha que o Cristo padecesse, e ao terceiro dia ressuscitasse dentre os mor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seu nome se pregasse o arrependimento e a remissão dos pecados, em todas as nações, começando por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as coisas sois vós testem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obre vós envio a promessa de meu Pai; ficai, porém, na cidade de Jerusalém, até que do alto sejais revestidos de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as muito atemorizadas, e abaixando o rosto para o chão, eles lhes disseram: Por que buscais o vivente entre os mor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-os fora, até Betânia; e, levantando as suas mãos, os abenço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bençoando-os ele, se apartou deles e foi elevado a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dorando-o eles, tornaram com grande júbilo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sempre no templo, louvando e bendizendo a Deu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tá aqui, mas ressuscitou. Lembrai-vos como vos falou, estando ainda na Galilé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Convém que o Filho do homem seja entregue nas mãos de homens pecadores, e seja crucificado, e ao terceiro dia ressusc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mbraram-se das s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 do sepulcro, anunciaram todas estas coisas aos onze e a todos os de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28Z</dcterms:created>
  <dc:creator>Admin</dc:creator>
  <dc:description/>
  <dc:language>en-US</dc:language>
  <cp:lastModifiedBy>Admin</cp:lastModifiedBy>
  <dcterms:modified xsi:type="dcterms:W3CDTF">2008-07-31T00:12:28Z</dcterms:modified>
  <cp:revision>1</cp:revision>
  <dc:subject/>
  <dc:title>Slide 1</dc:title>
</cp:coreProperties>
</file>