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DA6-2173-49FD-98E3-34497BAE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7F8-5545-484C-A9A7-581B46C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E39-77E9-404E-B704-FEC3EF0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A4A-78AA-4A4F-B479-C626EBF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81A-5D8E-435E-BF0F-3958742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F77-4E51-4B6E-B96A-4E20F4E4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02E-BD59-436A-8B7F-2B93D071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D2C-63D4-4252-8926-53D4D3C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DB0-D401-4449-8EAC-8D56793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802-760D-42FD-89D6-D617711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C45-14A3-4C07-BE23-5D8E4AA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069-107E-4318-B821-9342C27D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A2AD-FF19-43A6-A43A-26BE8F85AA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formosos são os teus pés nos sapatos, ó filha do príncipe! Os contornos de tuas coxas são como jóias, trabalhadas por mãos de ar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do meu amado, e ele me tem af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ó amado meu, saiamos ao campo, passemos as noites n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emo-nos de manhã para ir às vinhas, vejamos se florescem as vides, se já aparecem as tenras uvas, se já brotam as romãzeiras; ali te darei os meus am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andrágoras exalam o seu perfume, e às nossas portas há todo o gênero de excelentes frutos, novos e velhos; ó amado meu, eu os guardei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umbigo como uma taça redonda, a que não falta bebida; o teu ventre como montão de trigo, cercado de l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dois seios como dois filhos gêmeos de gaz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pescoço como a torre de marfim; os teus olhos como as piscinas de Hesbom, junto à porta de Bate-Rabim; o teu nariz como torre do Líbano, que olha para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cabeça sobre ti é como o monte Carmelo, e os cabelos da tua cabeça como a púrpura; o rei está preso nas gale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formosa, e quão aprazível és, ó amor em delíci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estatura é semelhante à palmeira; e os teus seios são semelhantes aos cachos de u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eu: Subirei à palmeira, pegarei em seus ramos; e então os teus seios serão como os cachos na vide, e o cheiro da tua respiração como o das maç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ua boca como o bom vinho para o meu amado, que se bebe suavemente, e faz com que falem os lábios dos que dor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51Z</dcterms:created>
  <dc:creator>Admin</dc:creator>
  <dc:description/>
  <dc:language>en-US</dc:language>
  <cp:lastModifiedBy>Admin</cp:lastModifiedBy>
  <dcterms:modified xsi:type="dcterms:W3CDTF">2008-07-30T23:25:51Z</dcterms:modified>
  <cp:revision>1</cp:revision>
  <dc:subject/>
  <dc:title>Slide 1</dc:title>
</cp:coreProperties>
</file>