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6F5C-EE90-4694-B346-222297F46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1F88-90FE-4DD1-9910-FA19AB7B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30C5-0D89-45DE-AE08-D8063C85F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43CB-8FFC-426C-A0F2-58BD2F660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D9D4-0C07-4218-93CD-F3D5C5AF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7A54-AD1B-417B-AE11-E66C5BDC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DEAE-487C-49F1-A4D9-BB0AC8D5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5CED-4F63-45A0-B092-0C775076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CE73-E529-4012-A3A7-6D8F9DAA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FBFD-A1A4-4404-8B32-264EA06B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6E24-BB69-4C4B-A4BF-4981A8D5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3179-F53E-4548-A512-F380F50F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4B6D-A771-4D1C-8C2B-CAECA19CDDE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Cristo digo a verdade, não minto (dando-me testemunho a minha consciência no Espírito Santo)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somente esta, mas também Rebeca, quando concebeu de um, de Isaque, nosso pa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não tendo eles ainda nascido, nem tendo feito bem ou mal (para que o propósito de Deus, segundo a eleição, ficasse firme, não por causa das obras, mas por aquele que chama)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i-lhe dito a ela: O maior servirá o men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está escrito: Amei a Jacó, e odiei a Esaú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diremos pois? que há injustiça da parte de Deus? De maneira nenhu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diz a Moisés: Compadecer-me-ei de quem me compadecer, e terei misericórdia de quem eu tiver misericór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, pois, isto não depende do que quer, nem do que corre, mas de Deus, que se compade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iz a Escritura a Faraó: Para isto mesmo te levantei; para em ti mostrar o meu poder, e para que o meu nome seja anunciado em toda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go, pois, compadece-se de quem quer, e endurece a quem qu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r-me-ás então: Por que se queixa ele ainda? Porquanto, quem tem resistido à sua vontad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tenho grande tristeza e contínua dor no meu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ó homem, quem és tu, que a Deus replicas? Porventura a coisa formada dirá ao que a formou: Por que me fizeste assi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não tem o oleiro poder sobre o barro, para da mesma massa fazer um vaso para honra e outro para deson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 direis se Deus, querendo mostrar a sua ira, e dar a conhecer o seu poder, suportou com muita paciência os vasos da ira, preparados para a perdiç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também desse a conhecer as riquezas da sua glória nos vasos de misericórdia, que para glória já dantes preparou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ais somos nós, a quem também chamou, não só dentre os judeus, mas também dentre os genti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também diz em Oséias: Chamarei meu povo ao que não era meu povo; E amada à que não era am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9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rá que no lugar em que lhes foi dito: Vós não sois meu povo; Aí serão chamados filhos do Deus vi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9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Isaías clama acerca de Israel: Ainda que o número dos filhos de Israel seja como a areia do mar, o remanescente é que será sal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9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le completará a obra e abreviá-la-á em justiça; porque o Senhor fará breve a obra sobre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9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o antes disse Isaías: Se o Senhor dos Exércitos nos não deixara descendência, Teríamos nos tornado como Sodoma, e teríamos sido feitos como Gomo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u mesmo poderia desejar ser anátema de Cristo, por amor de meus irmãos, que são meus parentes segundo a carn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9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diremos pois? Que os gentios, que não buscavam a justiça, alcançaram a justiça? Sim, mas a justiça que é pela f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9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Israel, que buscava a lei da justiça, não chegou à lei da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9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ê? Porque não foi pela fé, mas como que pelas obras da lei; tropeçaram na pedra de tropeç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9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está escrito: Eis que eu ponho em Sião uma pedra de tropeço, e uma rocha de escândalo; E todo aquele que crer nela não será confund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são israelitas, dos quais é a adoção de filhos, e a glória, e as alianças, e a lei, e o culto, e as promess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quais são os pais, e dos quais é Cristo segundo a carne, o qual é sobre todos, Deus bendito eternamente.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que a palavra de Deus haja faltado, porque nem todos os que são de Israel são israelit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por serem descendência de Abraão são todos filhos; mas: Em Isaque será chamada a tua descendê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sto é, não são os filhos da carne que são filhos de Deus, mas os filhos da promessa são contados como descendê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palavra da promessa é esta: Por este tempo virei, e Sara terá um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3:32Z</dcterms:created>
  <dc:creator>Admin</dc:creator>
  <dc:description/>
  <dc:language>en-US</dc:language>
  <cp:lastModifiedBy>Admin</cp:lastModifiedBy>
  <dcterms:modified xsi:type="dcterms:W3CDTF">2008-07-31T00:23:32Z</dcterms:modified>
  <cp:revision>1</cp:revision>
  <dc:subject/>
  <dc:title>Slide 1</dc:title>
</cp:coreProperties>
</file>