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F38-7813-4D16-A3A1-552D2D61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2A0-1A47-4DEA-9C49-EEC2CD58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97C5-BC35-484A-82E5-E2D42E23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A24C-75DD-403F-83AC-3B26A56E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85C4-243A-4479-91F5-66682C94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4DD-57CE-4B66-9041-D8819A04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AEE-5224-4526-99BA-AE0B67AD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FBD-6108-4A60-83CC-82103B9A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7C1-75ED-4491-BFC4-D4E65FE6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AC4E-1D95-4123-9FA7-8CE0C6F8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7D8F-357C-4F67-9D8C-4C324F57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147-7133-4749-8ED0-3B2F2FD1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2FF7-466B-47F0-B80B-3660A22FC11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grande matança está afiada, para reluzir está polida. Alegrar-nos-emos pois? A vara de meu filho é que despreza todo o ma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dada a polir, para ser manejada; esta espada está afiada, e está polida, para ser posta na mão do mat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ita e geme, ó filho do homem, porque ela será contra o meu povo, contra todos os príncipes de Israel. Estes, juntamente com o meu povo, estão espantados com a espada; bate, pois, na tua cox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se faz uma prova; e que seria se a espada desprezasse mesmo a vara? Ela não seria mais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is, ó filho do homem, profetiza e bate com as mãos uma na outra; e dobre-se a espada até a terceira vez, a espada dos mortos; ela é a espada para a grande matança, que os traspassará até o seu interi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desmaie o coração, e se multipliquem as destruições, contra todas as suas portas, pus a ponta da espada, a que foi feita para reluzir, e está preparada para a matanç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espada, une-te, vira-te para a direita; prepara-te, vira-te para a esquerda, para onde quer que o teu rosto se dirig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eu baterei com as minhas mãos uma na outra, e farei descansar a minha indignação; eu, o SENHOR, o di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is, ó filho do homem, propõe dois caminhos, por onde venha a espada do rei de Babilônia. Ambos procederão de uma mesma terra, e escolhe um lugar; escolhe-o no cimo do caminho d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dirige o teu rosto contra Jerusalém, e derrama as tuas palavras sobre os santuários, e profetiza sobre a terr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caminho proporás, por onde virá a espada contra Rabá dos filhos de Amom, e contra Judá, em Jerusalém, a fortific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rei de Babilônia parará na encruzilhada, no cimo dos dois caminhos, para fazer adivinhações; aguçará as suas flechas, consultará as imagens, atentará para o fíg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À sua direita estará a adivinhação sobre Jerusalém, para ordenar aos capitães, para abrirem a boca, ordenando a matança, para levantarem a voz com júbilo, para porem os aríetes contra as portas, para levantarem trincheiras, para edificarem baluar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 será como adivinhação vã, aos olhos daqueles que lhes fizeram juramentos; mas ele se lembrará da iniqüidade, para que sejam apanh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DEUS: Visto que me fazeis lembrar da vossa iniqüidade, descobrindo-se as vossas transgressões, aparecendo os vossos pecados em todos os vossos atos; visto que viestes em memória, sereis apanhados com 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, ó profano e ímpio príncipe de Israel, cujo dia virá no tempo da extrema iniqüid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Tira o diadema, e remove a coroa; esta não será a mesma; exalta ao humilde, e humilha ao soberb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revés, ao revés, ao revés porei aquela coroa, e ela não mais será, até que venha aquele a quem pertence de direito; a ele a d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, ó filho do homem, profetiza, e dize: Assim diz o Senhor DEUS acerca dos filhos de Amom, e acerca do seu opróbrio; dize pois: A espada, a espada está desembainhada, polida para a matança, para consumir, por estar reluze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etanto te profetizam vaidade, te adivinham mentira, para te porem no pescoço dos ímpios, daqueles que estão mortos, cujo dia veio no tempo da iniqüidade fin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 à terra de Israel: Assim diz o SENHOR: Eis que sou contra ti, e tirarei a minha espada da bainha, e exterminarei do meio de ti o justo e o ímp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e a tua espada à sua bainha. No lugar em que foste criado, na terra do teu nascimento, eu te julg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rramarei sobre ti a minha indignação, assoprarei contra ti o fogo do meu furor, entregar-te-ei nas mãos dos homens brutais, inventores de destru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fogo servirás para ser consumido; o teu sangue estará no meio da terra; já não serás mais lembrado, porque eu, o SENHOR, o di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or isso que hei de exterminar do meio de ti o justo e o ímpio, a minha espada sairá da sua bainha contra toda a carne, desde o sul até o n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berá toda a carne que eu, o SENHOR, tirei a minha espada da bainha; nunca mais voltará a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rém, ó filho do homem, suspira; suspira aos olhos deles, com quebrantamento dos teus lombos e com amarg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quando eles te disserem: Por que suspiras tu? Dirás: Por causa das novas, porque vêm; e todo o coração desmaiará, e todas as mãos se enfraquecerão, e todo o espírito se angustiará, e todos os joelhos se desfarão em águas; eis que vêm, e se c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profetiza, e dize: Assim diz o SENHOR: dize: A espada, a espada está afiada e pol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4:49Z</dcterms:created>
  <dc:creator>Admin</dc:creator>
  <dc:description/>
  <dc:language>en-US</dc:language>
  <cp:lastModifiedBy>Admin</cp:lastModifiedBy>
  <dcterms:modified xsi:type="dcterms:W3CDTF">2008-07-30T23:34:49Z</dcterms:modified>
  <cp:revision>1</cp:revision>
  <dc:subject/>
  <dc:title>Slide 1</dc:title>
</cp:coreProperties>
</file>