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6BA-5872-4358-AC52-C5FA5FB1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D0C-0A4F-4BF1-9A6D-A6B9C86E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760-11B7-490B-BD94-5FFA7388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590-60D1-42C5-8FD3-6C8E28A8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3A0-9663-4BA3-B2CE-8D8E842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355-251A-4492-8D94-B7BEF33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C58-4C6F-493B-B8FC-07235953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E32-263A-4FA4-A8F3-E93C228E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684-0F79-464D-87A1-5E0E1392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59F-5661-49BF-8986-3B7A7B0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A4E-4771-45CD-A3FC-9B4AC2B4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2C0-6AB3-46BD-B88A-313B5C69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1346-CF19-4893-8779-FE5E9ED8D6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SENHOR disse a Abrão: Sai-te da tua terra, da tua parentela e da casa de teu pai, para a terra que eu te mostr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fome naquela terra; e desceu Abrão ao Egito, para peregrinar ali, porquanto a fome era grande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hegando ele para entrar no Egito, disse a Sarai, sua mulher: Ora, bem sei que és mulher formosa à vist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que, quando os egípcios te virem, dirão: Esta é sua mulher. E matar-me-ão a mim, e a ti te guardarão e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, peço-te, que és minha irmã, para que me vá bem por tua causa, e que viva a minha alma por amor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entrando Abrão no Egito, viram os egípcios a mulher, que era mui formo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am-na os príncipes de Faraó, e gabaram-na diante de Faraó; e foi a mulher tomada para a casa de Fara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bem a Abrão por amor dela; e ele teve ovelhas, vacas, jumentos, servos e servas, jumentas e cam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u, porém, o SENHOR a Faraó e a sua casa, com grandes pragas, por causa de Sarai, mulher de Ab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chamou Faraó a Abrão, e disse: Que é isto que me fizeste? Por que não me disseste que ela era tua mulh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que disseste: É minha irmã? Por isso a tomei por minha mulher; agora, pois, eis aqui tua mulher; toma-a e vai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-te-ei uma grande nação, e abençoar-te-ei e engrandecerei o teu nome; e tu serás uma bên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aó deu ordens aos seus homens a respeito dele; e acompanharam-no, a ele, e a sua mulher, e a tudo o que t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ençoarei os que te abençoarem, e amaldiçoarei os que te amaldiçoarem; e em ti serão benditas todas as famíli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artiu Abrão como o SENHOR lhe tinha dito, e foi Ló com ele; e era Abrão da idade de setenta e cinco anos quando saiu de H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Abrão a Sarai, sua mulher, e a Ló, filho de seu irmão, e todos os bens que haviam adquirido, e as almas que lhe acresceram em Harã; e saíram para irem à terra de Canaã; e chegaram à terra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ou Abrão por aquela terra até ao lugar de Siquém, até ao carvalho de Moré; e estavam então os cananeus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pareceu o SENHOR a Abrão, e disse: À tua descendência darei esta terra. E edificou ali um altar ao SENHOR, que lhe aparec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veu-se dali para a montanha do lado oriental de Betel, e armou a sua tenda, tendo Betel ao ocidente, e Ai ao oriente; e edificou ali um altar ao SENHOR, e invocou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caminhou Abrão dali, seguindo ainda para o lado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48Z</dcterms:created>
  <dc:creator>Admin</dc:creator>
  <dc:description/>
  <dc:language>en-US</dc:language>
  <cp:lastModifiedBy>Admin</cp:lastModifiedBy>
  <dcterms:modified xsi:type="dcterms:W3CDTF">2008-07-30T23:37:48Z</dcterms:modified>
  <cp:revision>1</cp:revision>
  <dc:subject/>
  <dc:title>Slide 1</dc:title>
</cp:coreProperties>
</file>