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80C7-406D-4293-89AB-C21DA5A21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CD05-5783-4BE3-AA04-51C5E1F2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F97F-A060-4F19-AE76-4FEE78D46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8FED-7CBA-4A2F-AD29-D2A7BE1A4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9384-E52E-48D8-9DD3-26A6E58B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67B0-3E84-4DB8-9ECE-F6D1211F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128F-C2FD-44CA-8188-0C93A5DE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10FB-6B56-4DF2-AD1E-C3AFF73C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D748-81CC-4E15-96C9-53638437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3814-D92A-4139-991B-45C2E348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97C0-4C0F-403F-B077-A63A7E52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0CF8-0D0F-4321-BA86-E813C16D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C3A4-0A0C-4FBE-87FA-403E33FAB18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HEGAI-VOS, nações, para ouvir, e vós povos, escutai; ouça a terra, e a sua plenitude, o mundo, e tudo quanto produ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m de noite nem de dia se apagará; para sempre a sua fumaça subirá; de geração em geração será assolada; pelos séculos dos séculos ninguém passará por 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pelicano e a coruja a possuirão, e o bufo e o corvo habitarão nela; e ele estenderá sobre ela o cordel de confusão e nível de va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s chamarão ao reino os seus nobres, mas nenhum haverá; e todos os seus príncipes não serão coisa algu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s seus palácios crescerão espinhos, urtigas e cardos nas suas fortalezas; e será uma habitação de chacais, e sítio para avestruz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feras do deserto se encontrarão com as feras da ilha, e o sátiro clamará ao seu companheiro; e os animais noturnos ali pousarão, e acharão lugar de repouso para s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li se aninhará a coruja e porá os seus ovos, e tirará os seus filhotes, e os recolherá debaixo da sua sombra; também ali os abutres se ajuntarão uns com os out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uscai no livro do SENHOR, e lede; nenhuma destas coisas faltará, ninguém faltará com a sua companheira; porque a minha boca tem ordenado, e o seu espírito mesmo as tem ajunt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le mesmo lançou as sortes por elas, e sua mão lhas tens repartido com o cordel; para sempre a possuirão, de geração em geração habitarão n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indignação do SENHOR está sobre todas as nações, e o seu furor sobre todo o exército delas; ele as destruiu totalmente, entregou-as à mat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seus mortos serão arremessados e dos seus cadáveres subirá o seu mau cheiro; e os montes se derreterão com o seu sang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 o exército dos céus se dissolverá, e os céus se enrolarão como um livro; e todo o seu exército cairá, como cai a folha da vide e como cai o figo da figue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minha espada se embriagou nos céus; eis que sobre Edom descerá, e sobre o povo do meu anátema para exercer juíz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espada do SENHOR está cheia de sangue, está engordurada da gordura do sangue de cordeiros e de bodes, da gordura dos rins de carneiros; porque o SENHOR tem sacrifício em Bozra, e grande matança na terra de Ed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bois selvagens cairão com eles, e os bezerros com os touros; e a sua terra embriagar-se-á de sangue até se fartar, e o seu pó se engrossará com a gord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será o dia da vingança do SENHOR, ano de retribuições pela contenda de Si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seus ribeiros se tornarão em pez, e o seu pó em enxofre, e a sua terra em pez ard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5:49Z</dcterms:created>
  <dc:creator>Admin</dc:creator>
  <dc:description/>
  <dc:language>en-US</dc:language>
  <cp:lastModifiedBy>Admin</cp:lastModifiedBy>
  <dcterms:modified xsi:type="dcterms:W3CDTF">2008-07-30T23:55:49Z</dcterms:modified>
  <cp:revision>1</cp:revision>
  <dc:subject/>
  <dc:title>Slide 1</dc:title>
</cp:coreProperties>
</file>