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9B5-4C3D-41F9-AEF3-92896533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C2B-FC4B-4D67-9BAC-A3FB5AC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8E6-7A8C-4E69-8460-99D37480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ECC-80EB-4E96-86D6-4EBA72FE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4C5-307C-4670-8CAE-DB8E150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5A6-08AA-40B1-88C8-835202D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35C-2140-4372-ADFD-2758812A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FB4-68CE-4CBA-9294-B3A9EF7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8A2-DCE2-4736-9E05-CBD61544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9B0-C341-4175-B98F-3F3DEA6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23B-F465-4232-A8D1-C845B15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0E3-035D-48C3-BB67-68D4F11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FAB-C361-4E83-BAAD-833840348E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-SE os fariseus e os saduceus, para o tentarem, pediram-lhe que lhes mostrasse algum sinal d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os sete pães para quatro mil, e de quantos cestos levanta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não compreendestes que não vos falei a respeito do pão, mas que vos guardásseis do fermento dos fariseus e saduc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preenderam que não dissera que se guardassem do fermento do pão, mas da doutrina dos faris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Jesus às partes de Cesaréia de Filipe, interrogou os seus discípulos, dizendo: Quem dizem os homens ser o Filho do hom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Uns, João o Batista; outros, Elias; e outros, Jeremias, ou um d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ele: E vós, quem dizeis que eu s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mão Pedro, respondendo, disse: Tu és o Cristo, o Filho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respondendo, disse-lhe: Bem-aventurado és tu, Simão Barjonas, porque to não revelou a carne e o sangue, mas meu Pai, que está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também eu te digo que tu és Pedro, e sobre esta pedra edificarei a minha igreja, e as portas do inferno não prevalecerão contra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te darei as chaves do reino dos céus; e tudo o que ligares na terra será ligado nos céus, e tudo o que desligares na terra será desligado n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, respondendo, disse-lhes: Quando é chegada a tarde, dizeis: Haverá bom tempo, porque o céu está ru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aos seus discípulos que a ninguém dissessem que ele era Jesus o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então começou Jesus a mostrar aos seus discípulos que convinha ir a Jerusalém, e padecer muitas coisas dos anciãos, e dos principais dos sacerdotes, e dos escribas, e ser morto, e ressuscitar ao tercei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tomando-o de parte, começou a repreendê-lo, dizendo: Senhor, tem compaixão de ti; de modo nenhum te acontecerá 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voltando-se, disse a Pedro: Para trás de mim, Satanás, que me serves de escândalo; porque não compreendes as coisas que são de Deus, mas só as que são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esus aos seus discípulos: Se alguém quiser vir após mim, renuncie-se a si mesmo, tome sobre si a sua cruz, e siga-m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que quiser salvar a sua vida, perdê-la-á, e quem perder a sua vida por amor de mim, achá-la-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 aproveita ao homem ganhar o mundo inteiro, se perder a sua alma? Ou que dará o homem em recompensa da sua alm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Filho do homem virá na glória de seu Pai, com os seus anjos; e então dará a cada um segundo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verdade vos digo que alguns há, dos que aqui estão, que não provarão a morte até que vejam vir o Filho do homem no s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ela manhã: Hoje haverá tempestade, porque o céu está de um vermelho sombrio. Hipócritas, sabeis discernir a face do céu, e não conheceis os sinais dos temp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a geração má e adúltera pede um sinal, e nenhum sinal lhe será dado, senão o sinal do profeta Jonas. E, deixando-os, reti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ssando seus discípulos para o outro lado, tinham-se esquecido de traze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s: Adverti, e acautelai-vos do fermento dos fariseus e saduc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arrazoavam entre si, dizendo: É porque não trouxemos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percebendo isso, disse: Por que arrazoais entre vós, homens de pouca fé, sobre o não terdes trazido p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mpreendeis ainda, nem vos lembrais dos cinco pães para cinco mil homens, e de quantas alcofas levanta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13Z</dcterms:created>
  <dc:creator>Admin</dc:creator>
  <dc:description/>
  <dc:language>en-US</dc:language>
  <cp:lastModifiedBy>Admin</cp:lastModifiedBy>
  <dcterms:modified xsi:type="dcterms:W3CDTF">2008-07-31T00:15:13Z</dcterms:modified>
  <cp:revision>1</cp:revision>
  <dc:subject/>
  <dc:title>Slide 1</dc:title>
</cp:coreProperties>
</file>