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90B-8ECA-4B11-A580-D0FE0881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F76-5E88-4948-B020-F81DB10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4D6-0322-4950-82F2-E685DD16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523-56D1-44E9-9A0C-BE3279E7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75F-0F2B-4C1C-8F86-697FD9D9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605-56AD-4048-B9FD-B4DA848A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F6C-D4AA-411D-A8E6-CDDE563F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AB2-EDC3-4B95-860F-C775F2B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5A7-0FBB-4908-A9C4-58E9372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9C1-0D31-4BC9-9DEF-53EEF82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74C-18DA-4C94-A268-2217C4B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8F1-E32A-414D-B664-DDB0385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365-BC0F-4DC8-AEFC-EEF0495FF8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STRUIDOR subiu contra ti. Guarda tu a fortaleza, vigia o caminho, fortalece os lombos, reforça muito o seu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zia, esgotada e devastada está; derrete-se o seu coração, e tremem os joelhos, e em todos os lombos há dor, e os rostos de todos eles enegr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está agora o covil dos leões, e as pastagens dos leõezinhos, onde passeava o leão velho, e o filhote do leão, sem haver ninguém que os espantas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eão arrebatava o que bastava para os seus filhotes, e estrangulava a presa para as suas leoas, e enchia de presas as suas cavernas, e os seus covis de rap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stou contra ti, diz o SENHOR dos Exércitos, e queimarei na fumaça os teus carros, e a espada devorará os teus leõezinhos, e arrancarei da terra a tua presa, e não se ouvirá mais a voz dos teus mensag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restaurará a excelência de Jacó como a excelência de Israel; porque os saqueadores os despojaram, e destruíram os seus sar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escudos dos seus fortes serão vermelhos, os homens valorosos estarão vestidos de escarlate, os carros como tochas flamejantes no dia da sua preparação, e os ciprestes serão terrivelmente abal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carros correrão furiosamente nas ruas, colidirão um contra o outro nos largos caminhos; o seu aspecto será como o de tochas, correrão como relâmpa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se lembrará dos seus valentes; eles, porém, tropeçarão na sua marcha; apressar-se-ão para chegar ao seu muro, quando o amparo for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ortas dos rios se abrirão, e o palácio será dissolv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decretado: ela será levada cativa, conduzida para cima; e as suas servas a acompanharão, gemendo como pombas, batendo em seus p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ínive desde que existiu tem sido como um tanque de águas, porém elas agora vazam. Parai, parai, clamar-se-á; mas ninguém olhará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queai a prata, saqueai o ouro, porque não têm fim as provisões, riquezas há de todo o gênero de bens desejá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37Z</dcterms:created>
  <dc:creator>Admin</dc:creator>
  <dc:description/>
  <dc:language>en-US</dc:language>
  <cp:lastModifiedBy>Admin</cp:lastModifiedBy>
  <dcterms:modified xsi:type="dcterms:W3CDTF">2008-07-31T00:16:37Z</dcterms:modified>
  <cp:revision>1</cp:revision>
  <dc:subject/>
  <dc:title>Slide 1</dc:title>
</cp:coreProperties>
</file>