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79A-273E-466A-AC9B-C23EE9CD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70D-DF50-4CB4-B66E-8FDC85A1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A15-0BD4-4D9C-8A53-D69CF481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586-1620-4E3C-B8A7-BCD4B355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A6D-3DA7-4BB5-A039-29FB2B9D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F65-2BC0-43D3-848D-6A6D51F8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921-4607-4B62-8450-0DD56DD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6EF-B88B-43B1-BE43-1B38FCC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D42-483F-4DD7-AADE-A667ACA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712-AC7B-42F8-90A8-E7B5CC23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B5B-F2E5-4789-8D6E-79C307C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443-442F-4130-B29D-219C560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1222-32A0-4A29-9A24-5AD41E1C7D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habita no esconderijo do Altíssimo, à sombra do Onipotente descan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mal te sucederá, nem praga alguma chegará à t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os seus anjos dará ordem a teu respeito, para te guardarem em todos os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te sustentarão nas suas mãos, para que não tropeces com o teu pé em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sarás o leão e a cobra; calcarás aos pés o filho do leão e a serp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ão encarecidamente me amou, também eu o livrarei; pô-lo-ei em retiro alto, porque conheceu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 invocará, e eu lhe responderei; estarei com ele na angústia; dela o retirarei, e o glorif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tá-lo-ei com longura de dias, e lhe mostrarei 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ei do SENHOR: Ele é o meu Deus, o meu refúgio, a minha fortaleza, e nele conf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te livrará do laço do passarinheiro, e da peste pernici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 cobrirá com as suas penas, e debaixo das suas asas te confiarás; a sua verdade será o teu escudo e broq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ás medo do terror de noite nem da seta que voa de d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a peste que anda na escuridão, nem da mortandade que assola ao meio-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l cairão ao teu lado, e dez mil à tua direita, mas não chegará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com os teus olhos contemplarás, e verás a recompensa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, ó SENHOR, és o meu refúgio. No Altíssimo fizeste a tu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58Z</dcterms:created>
  <dc:creator>Admin</dc:creator>
  <dc:description/>
  <dc:language>en-US</dc:language>
  <cp:lastModifiedBy>Admin</cp:lastModifiedBy>
  <dcterms:modified xsi:type="dcterms:W3CDTF">2008-07-31T00:26:58Z</dcterms:modified>
  <cp:revision>1</cp:revision>
  <dc:subject/>
  <dc:title>Slide 1</dc:title>
</cp:coreProperties>
</file>