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53C-1708-4A8E-8CFA-07088942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FF1-0549-4996-8ADA-6B3326E3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275-3CA0-43BD-864E-C817AEAD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225-90BE-4345-910F-576A4317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20A-81A6-499D-AE8C-1E4996C8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916-2AC5-4096-BF64-53FFD327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C48-2E1D-496F-98FF-85039AA2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901-8BA6-4B1C-9267-990FA041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410-AE53-4E72-9CCB-E73CBB8D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334-4CAD-4B9B-B3E4-DFF1DFCC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BA5-903C-4FD2-8717-091D5A24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64C-32AB-4645-A6DE-DEF2FF00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8156-B868-4DAF-811A-3A50CE18E2F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OM é louvar ao SENHOR, e cantar louvores ao teu nome, ó Altíssi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u exaltarás o meu poder, como o do boi selvagem. Serei ungido com óleo fre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olhos verão o meu desejo sobre os meus inimigos, e os meus ouvidos ouvirão o meu desejo acerca dos malfeitores que se levant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sto florescerá como a palmeira; crescerá como o cedro no Líb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estão plantados na casa do SENHOR florescerão nos átrios do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lhice ainda darão frutos; serão viçosos e vigoros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anunciar que o SENHOR é reto. Ele é a minha rocha e nele não há in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de manhã anunciar a tua benignidade, e todas as noites a tua fidel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um instrumento de dez cordas, e sobre o saltério; sobre a harpa com som sole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, SENHOR, me alegraste pelos teus feitos; exultarei nas obras das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ão grandes são, SENHOR, as tuas obras! Mui profundos são os teus pens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brutal não conhece, nem o louco entende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ímpio crescer como a erva, e quando florescerem todos os que praticam a iniqüidade, é que serão destruídos perpet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SENHOR, és o Altíssim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is que os teus inimigos, SENHOR, eis que os teus inimigos perecerão; serão dispersos todos os que praticam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7:00Z</dcterms:created>
  <dc:creator>Admin</dc:creator>
  <dc:description/>
  <dc:language>en-US</dc:language>
  <cp:lastModifiedBy>Admin</cp:lastModifiedBy>
  <dcterms:modified xsi:type="dcterms:W3CDTF">2008-07-31T00:27:00Z</dcterms:modified>
  <cp:revision>1</cp:revision>
  <dc:subject/>
  <dc:title>Slide 1</dc:title>
</cp:coreProperties>
</file>