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C9D-5800-4179-8E4B-7F9E1CEA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7C6-0546-45AE-8822-85CA206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C71-E92F-458F-8886-15FF5D15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295-74E4-4B23-8322-ECA9AD7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1A0-4582-4F79-AA5F-CD9F1B4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A21-70A7-435B-850B-4F1E223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787-9557-41EB-9987-5753EB1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210-4D0A-4625-BE99-BDCCB8E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AC3-2187-4769-B55A-0E67029C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BD4-536B-4114-93BE-CA15444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F1C-E8C3-4F74-8720-540040D9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366-EE27-4469-B919-730EF93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C318-FE87-4786-AB54-8E07689F4E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sábio atende à instrução do pai; mas o escarnecedor não ouve a repreen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soberba só provém a contenda, mas com os que se aconselham se acha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iqueza de procedência vã diminuirá, mas quem a ajunta com o próprio trabalho a aumen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erança adiada desfalece o coração, mas o desejo atendido é árvore de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espreza a palavra perecerá, mas o que teme o mandamento será galard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outrina do sábio é uma fonte de vida para se desviar dos laço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om entendimento favorece, mas o caminho dos prevaricadores é ásp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prudente procede com conhecimento, mas o insensato espraia a sua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rega a maldade cai no mal, mas o embaixador fiel é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breza e afronta virão ao que rejeita a instrução, mas o que guarda a repreensão será hon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sejo que se alcança deleita a alma, mas apartar-se do mal é abominável para os insens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fruto da boca cada um comerá o bem, mas a alma dos prevaricadores comerá a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nda com os sábios ficará sábio, mas o companheiro dos tolos será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l perseguirá os pecadores, mas os justos serão galardoados com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de bem deixa uma herança aos filhos de seus filhos, mas a riqueza do pecador é depositada para 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bre, do sulco da terra, tira mantimento em abundância; mas há os que se consomem por falta de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não faz uso da vara odeia seu filho, mas o que o ama, desde cedo o casti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come até ficar satisfeito, mas o ventre dos ímpios passará neces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guarda a sua boca conserva a sua alma, mas o que abre muito os seus lábios se destró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ma do preguiçoso deseja, e coisa nenhuma alcança, mas a alma dos diligentes se f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odeia a palavra de mentira, mas o ímpio faz vergonha e se confu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guarda ao que é de caminho certo, mas a impiedade transtornará o pec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alguns que se fazem de ricos, e não têm coisa nenhuma, e outros que se fazem de pobres e têm muit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sgate da vida de cada um são as suas riquezas, mas o pobre não ouve ame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z dos justos alegra, mas a candeia dos ímpios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43Z</dcterms:created>
  <dc:creator>Admin</dc:creator>
  <dc:description/>
  <dc:language>en-US</dc:language>
  <cp:lastModifiedBy>Admin</cp:lastModifiedBy>
  <dcterms:modified xsi:type="dcterms:W3CDTF">2008-07-31T00:21:43Z</dcterms:modified>
  <cp:revision>1</cp:revision>
  <dc:subject/>
  <dc:title>Slide 1</dc:title>
</cp:coreProperties>
</file>