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DE2-F28D-4B0E-BF77-35E07185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120-26F3-4256-AD19-F805D429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E54-39BF-4E13-8023-7BA17BF9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95C-3ED3-4283-A153-89FFC9EC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DDB-B10A-4FB1-B6A2-75B62FC0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C11-2BFE-47CA-BD13-14D037E8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ACC-213B-4DB1-B47A-8A83FF7F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401-2646-4078-83FD-1037B365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AA6-F232-4035-8F46-2556425B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0D8-27CC-4D3D-825A-2533221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F65-E3B6-492B-910E-D3D083B5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AB0-3313-45FB-8A38-57CA126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2EF1-40AE-4DBC-9492-5305D0B53A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ncípio do reinado de Jeoiaquim, filho de Josias, rei de Judá, veio est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os príncipes de Judá estas palavras, subiram da casa do rei à casa do SENHOR, e se assentaram à entrada da porta nov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aram os sacerdotes e os profetas aos príncipes e a todo o povo, dizendo: Este homem é réu de morte, porque profetizou contra esta cidade, como ouvistes com os voss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Jeremias a todos os príncipes e a todo o povo, dizendo: O SENHOR me enviou a profetizar contra esta casa, e contra esta cidade, todas as palavras que ouvi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elhorai os vossos caminhos e as vossas ações, e ouvi a voz do SENHOR vosso Deus, e arrepender-se-á o SENHOR do mal que falou cont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eis que estou nas vossas mãos; fazei de mim conforme o que for bom e reto aos v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, porém, com certeza que, se me matardes, trareis sangue inocente sobre vós, e sobre esta cidade, e sobre os seus habitantes; porque, na verdade, o SENHOR me enviou a vós, para dizer aos vossos ouvidos todas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os príncipes, e todo o povo aos sacerdotes e aos profetas: Este homem não é réu de morte, porque em nome do SENHOR, nosso Deus, nos fa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e levantaram alguns homens dentre os anciãos da terra, e falaram a toda a congregação do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quéias, o morastita, profetizou nos dias de Ezequias, rei de Judá, e falou a todo o povo de Judá, dizendo: Assim disse o SENHOR dos Exércitos: Sião será lavrada como um campo, e Jerusalém se tornará em montões de pedras, e o monte desta casa como os 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aram-no, porventura, Ezequias, rei de Judá, e todo o Judá? Antes não temeu ao SENHOR, e não implorou o favor do SENHOR? E o SENHOR não se arrependeu do mal que falara contra eles? Nós, fazemos um grande mal contra as noss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õe-te no átrio da casa do SENHOR e dize a todas as cidades de Judá, que vêm adorar na casa do SENHOR, todas as palavras que te mandei que lhes dissesses; não omitas nenhum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ouve outro homem que profetizava em nome do SENHOR, a saber: Urias, filho de Semaías de Quiriate-Jearim, o qual profetizou contra esta cidade, e contra esta terra, conforme todas as palavras de Jerem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o rei Jeoiaquim, e todos os seus poderosos e todos os príncipes, as suas palavras, procurou o rei matá-lo; mas ouvindo isto, Urias temeu e fugiu, e foi para 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rei Jeoiaquim enviou alguns homens ao Egito, a saber: Elnatã, filho de Acbor, e outros homens com ele,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tiraram a Urias do Egito, e o trouxeram ao rei Jeoiaquim, que o feriu à espada, e lançou o seu cadáver nas sepulturas dos filho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mão de Aicão, filho de Safã, foi com Jeremias, para que o não entregassem na mão do povo, para ser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pode ser que ouçam, e se convertam cada um do seu mau caminho, e eu me arrependa do mal que intento fazer-lhes por causa da maldade das suas 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 pois: Assim diz o SENHOR: Se não me derdes ouvidos para andardes na minha lei, que pus diante de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uvísseis as palavras dos meus servos, os profetas, que eu vos envio, madrugando e enviando, mas não ouvi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ei que esta casa seja como Siló, e farei desta cidade uma maldição para todas as naçõ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acerdotes, e os profetas, e todo o povo, ouviram a Jeremias, falando estas palavras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Jeremias de dizer tudo quanto o SENHOR lhe havia ordenado que dissesse a todo o povo, pegaram nele os sacerdotes, e os profetas, e todo o povo, dizendo: Certamente morrerá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profetizaste no nome do SENHOR, dizendo: Como Siló será esta casa, e esta cidade será assolada, de sorte que não fique nenhum morador nela? E ajuntou-se todo o povo contra Jeremias,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40Z</dcterms:created>
  <dc:creator>Admin</dc:creator>
  <dc:description/>
  <dc:language>en-US</dc:language>
  <cp:lastModifiedBy>Admin</cp:lastModifiedBy>
  <dcterms:modified xsi:type="dcterms:W3CDTF">2008-07-30T23:58:40Z</dcterms:modified>
  <cp:revision>1</cp:revision>
  <dc:subject/>
  <dc:title>Slide 1</dc:title>
</cp:coreProperties>
</file>