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64C-143B-4D68-BF0A-D5437E5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4AB-AD6E-41A9-8A8A-E95DF23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586-26EF-4618-B7CD-D8046735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F65-BB2A-401D-AEEA-70032D6B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5A2-F2A6-4CC0-9A64-DAEFEB5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2BC-9A8B-43B0-8461-BEAD3F1E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403-77AC-4B40-8714-985D9F0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EFA-E932-4B8B-A289-C209000C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89E-633D-4FC7-8400-631FF36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762-9CEA-4126-AC45-CD15556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061-7629-4ED8-94FE-17D8D8D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B37-B2E1-4CB0-9A66-5F2853B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1B2-C9B2-4B4D-A037-36F452418C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DAS estas coisas, e apaziguado já o furor do rei Assuero, lembrou-se de Vasti, e do que fizera, e do que se tinha decretado a seu resp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r, porém, não declarou o seu povo e a sua parentela, porque Mardoqueu lhe tinha ordenado que o não decla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eava Mardoqueu cada dia diante do pátio da casa das mulheres, para se informar de como Ester passava, e do que lhe suced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vez de cada moça, para vir ao rei Assuero, depois que fora feito a ela segundo a lei das mulheres, por doze meses (porque assim se cumpriam os dias das suas purificações, seis meses com óleo de mirra, e seis meses com especiarias, e com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a maneira, pois, vinha a moça ao rei; dava-se-lhe tudo quanto ela desejava, para levar consigo da casa das mulheres à casa do 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tarde entrava, e pela manhã tornava à segunda casa das mulheres, sob os cuidados de Saasgaz, camareiro do rei, guarda das concubinas; não tornava mais ao rei, salvo se o rei a desejasse, e fosse chamada pel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a vez de Ester, filha de Abiail, tio de Mardoqueu (que a tomara por sua filha), para ir ao rei, coisa nenhuma pediu, senão o que disse Hegai, camareiro do rei, guarda das mulheres; e alcançava Ester graça aos olhos de todos quantos a vi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levada Ester ao rei Assuero, à sua casa real, no décimo mês, que é o mês de tebete, no sétimo ano do seu re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amou a Ester mais do que a todas as mulheres, e alcançou perante ele graça e benevolência mais do que todas as virgens; e pôs a coroa real na sua cabeça, e a fez rainha em lugar de Vas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u um grande banquete a todos os seus príncipes e aos seus servos; era o banquete de Ester; e deu alívio às províncias, e fez presentes segundo a generosidad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ndo-se segunda vez as virgens, Mardoqueu estava assentado à port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servos do rei, que lhe serviam: Busquem-se para o rei moças virgens e form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r, porém, não declarava a sua parentela e o seu povo, como Mardoqueu lhe ordenara; porque Ester cumpria o mandado de Mardoqueu, como quando a cri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, assentando-se Mardoqueu à porta do rei, dois camareiros do rei, dos guardas da porta, Bigtã e Teres, grandemente se indignaram, e procuraram atentar contra o rei Ass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isto ao conhecimento de Mardoqueu, e ele fez saber à rainha Ester; e Ester o disse ao rei, em nome de Mardoqu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quiriu-se o negócio, e se descobriu, e ambos foram pendurados numa forca; e foi escrito nas crônicas perant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nha o rei oficiais em todas as províncias do seu reino, que ajuntem a todas as moças virgens e formosas, na fortaleza de Susã, na casa das mulheres, aos cuidados de Hegai, camareiro do rei, guarda das mulheres, e dêem-se-lhes os seus enfe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oça que parecer bem aos olhos do rei, reine em lugar de Vasti. E isto pareceu bem aos olhos do rei, e ele assim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então um homem judeu na fortaleza de Susã, cujo nome era Mardoqueu, filho de Jair, filho de Simei, filho de Quis, homem benjam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ora transportado de Jerusalém, com os cativos que foram levados com Jeconias, rei de Judá, o qual transportara Nabucodonosor,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criara a Hadassa (que é Ester, filha de seu tio), porque não tinha pai nem mãe; e era jovem bela de presença e formosa; e, morrendo seu pai e sua mãe, Mardoqueu a tomara por su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divulgando-se o mandado do rei e a sua lei, e ajuntando-se muitas moças na fortaleza de Susã, aos cuidados de Hegai, também levaram Ester à casa do rei, sob a custódia de Hegai, guarda d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oça pareceu formosa aos seus olhos, e alcançou graça perante ele; por isso se apressou a dar-lhe os seus enfeites, e os seus quinhões, como também em lhe dar sete moças de respeito da casa do rei; e a fez passar com as suas moças ao melhor lugar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47Z</dcterms:created>
  <dc:creator>Admin</dc:creator>
  <dc:description/>
  <dc:language>en-US</dc:language>
  <cp:lastModifiedBy>Admin</cp:lastModifiedBy>
  <dcterms:modified xsi:type="dcterms:W3CDTF">2008-07-30T23:30:47Z</dcterms:modified>
  <cp:revision>1</cp:revision>
  <dc:subject/>
  <dc:title>Slide 1</dc:title>
</cp:coreProperties>
</file>