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644-62DD-4A9B-B355-4DEE08A2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E28-8863-412D-AA1F-B3A21C84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EEA-F102-4446-B626-5B82EBAD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9E2-0AEF-484C-899D-2E43C36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172-0733-46CD-B79C-0D3198A8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540-042A-44E1-B7DC-22BCA7E7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C4B-6F66-4463-9C5F-2A381168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41-238D-4CBD-B0B4-67811E50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C3A-D346-4E67-8928-67120EA8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AA4-5BA6-41D0-ADC8-5B35067B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858-D461-470C-BBA2-26EC03E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116-FF35-4C6E-92D2-9C9AF89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526-B040-4EE3-9BCF-AAEDE7E4462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depois disto, que andava de cidade em cidade, e de aldeia em aldeia, pregando e anunciando o evangelho do reino de Deus; e os doze iam com 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A vós vos é dado conhecer os mistérios do reino de Deus, mas aos outros por parábolas, para que vendo, não vejam, e ouvindo, não enten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, pois, a parábola: A semente é a palavra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stão junto do caminho, estes são os que ouvem; depois vem o diabo, e tira-lhes do coração a palavra, para que não se salvem, cre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stão sobre pedra, estes são os que, ouvindo a palavra, a recebem com alegria, mas, como não têm raiz, apenas crêem por algum tempo, e no tempo da tentação se desvi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e caiu entre espinhos, esses são os que ouviram e, indo por diante, são sufocados com os cuidados e riquezas e deleites da vida, e não dão fruto com perfe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e caiu em boa terra, esses são os que, ouvindo a palavra, a conservam num coração honesto e bom, e dão fruto com persev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, acendendo uma candeia, a cobre com algum vaso, ou a põe debaixo da cama; mas põe-na no velador, para que os que entram vejam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á coisa oculta que não haja de manifestar-se, nem escondida que não haja de saber-se e vir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pois, como ouvis; porque a qualquer que tiver lhe será dado, e a qualquer que não tiver até o que parece ter lhe será t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er com ele sua mãe e seus irmãos, e não podiam aproximar-se dele, por causa d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mas mulheres que haviam sido curadas de espíritos malignos e de enfermidades: Maria, chamada Madalena, da qual saíram sete demôn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dito: Estão lá fora tua mãe e teus irmãos, que querem ve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respondendo ele, disse-lhes: Minha mãe e meus irmãos são aqueles que ouvem a palavra de Deus e a execu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num daqueles dias, entrou num barco com seus discípulos, e disse-lhes: Passemos para o outro lado do lago. E part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vegando eles, adormeceu; e sobreveio uma tempestade de vento no lago, e enchiam-se de água, estando em per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 a ele, o despertaram, dizendo: Mestre, Mestre, perecemos. E ele, levantando-se, repreendeu o vento e a fúria da água; e cessaram, e fez-se bon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Onde está a vossa fé? E eles, temendo, maravilharam-se, dizendo uns aos outros: Quem é este, que até aos ventos e à água manda, e lhe obedec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vegaram para a terra dos gadarenos, que está defronte d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desceu para terra, saiu-lhe ao encontro, vindo da cidade, um homem que desde muito tempo estava possesso de demônios, e não andava vestido, nem habitava em qualquer casa, mas nos sepulc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iu a Jesus, prostrou-se diante dele, exclamando, e dizendo com grande voz: Que tenho eu contigo, Jesus, Filho do Deus Altíssimo? Peço-te que não me atorm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nha ordenado ao espírito imundo que saísse daquele homem; pois já havia muito tempo que o arrebatava. E guardavam-no preso, com grilhões e cadeias; mas, quebrando as prisões, era impelido pelo demônio para os des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na, mulher de Cuza, procurador de Herodes, e Suzana, e muitas outras que o serviam com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-lhe Jesus, dizendo: Qual é o teu nome? E ele disse: Legião; porque tinham entrado nele muitos demôn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avam-lhe que os não mandasse para o abi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va ali pastando no monte uma vara de muitos porcos; e rogaram-lhe que lhes concedesse entrar neles; e concedeu-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saído os demônios do homem, entraram nos porcos, e a manada precipitou-se de um despenhadeiro no lago, e afog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que os guardavam, vendo o que acontecera, fugiram, e foram anunciá-lo na cidade e no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ram a ver o que tinha acontecido, e vieram ter com Jesus. Acharam então o homem, de quem haviam saído os demônios, vestido, e em seu juízo, assentado aos pés de Jesus; e te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tinham visto contaram-lhes também como fora salvo aquele endemoni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multidão da terra dos gadarenos ao redor lhe rogou que se retirasse deles; porque estavam possuídos de grande temor. E entrando ele no barco, vol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homem, de quem haviam saído os demônios, rogou-lhe que o deixasse estar com ele; mas Jesus o despedi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 para tua casa, e conta quão grandes coisas te fez Deus. E ele foi apregoando por toda a cidade quão grandes coisas Jesus lhe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juntando-se uma grande multidão, e vindo de todas as cidades ter com ele, disse por parábol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voltou Jesus, a multidão o recebeu, porque todos o estavam esper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chegou um homem de nome Jairo, que era príncipe da sinagoga; e, prostrando-se aos pés de Jesus, rogava-lhe que entrasse em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nha uma filha única, quase de doze anos, que estava à morte. E indo ele, apertava-o 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mulher, que tinha um fluxo de sangue, havia doze anos, e gastara com os médicos todos os seus haveres, e por nenhum pudera ser cur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 por detrás dele, tocou na orla do seu vestido, e logo estancou o fluxo do seu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sus: Quem é que me tocou? E, negando todos, disse Pedro e os que estavam com ele: Mestre, a multidão te aperta e te oprime, e dizes: Quem é que me toc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esus: Alguém me tocou, porque bem conheci que de mim saiu virt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vendo a mulher que não podia ocultar-se, aproximou-se tremendo e, prostrando-se ante ele, declarou-lhe diante de todo o povo a causa por que lhe havia tocado, e como logo sar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Tem bom ânimo, filha, a tua fé te salvou; vai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le ainda falando, chegou um dos do príncipe da sinagoga, dizendo: A tua filha já está morta, não incomodes o Me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semeador saiu a semear a sua semente e, quando semeava, caiu alguma junto do caminho, e foi pisada, e as aves do céu a com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ouvindo-o, respondeu-lhe, dizendo: Não temas; crê somente, e será s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m casa, a ninguém deixou entrar, senão a Pedro, e a Tiago, e a João, e ao pai e a mãe da men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choravam, e a pranteavam; e ele disse: Não choreis; não está morta, mas dor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iam-se dele, sabendo que estava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pondo-os todos fora, e pegando-lhe na mão, clamou, dizendo: Levanta-te, men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spírito voltou, e ela logo se levantou; e Jesus mandou que lhe dessem de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pais ficaram maravilhados; e ele lhes mandou que a ninguém dissessem o que havia su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sobre pedra e, nascida, secou-se, pois que não tinha um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entre espinhos e crescendo com ela os espinhos, a sufoca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em boa terra, e, nascida, produziu fruto, a cento por um. Dizendo ele estas coisas, clamava: Que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 o interrogaram, dizendo: Que parábola é 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51Z</dcterms:created>
  <dc:creator>Admin</dc:creator>
  <dc:description/>
  <dc:language>en-US</dc:language>
  <cp:lastModifiedBy>Admin</cp:lastModifiedBy>
  <dcterms:modified xsi:type="dcterms:W3CDTF">2008-07-31T00:10:51Z</dcterms:modified>
  <cp:revision>1</cp:revision>
  <dc:subject/>
  <dc:title>Slide 1</dc:title>
</cp:coreProperties>
</file>