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9E1-3D7F-4E59-A1E5-7D8DBF75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299-DB4C-4FC6-A4D1-C1EC0185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953-19AA-488B-8D06-310D648E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F2C-5103-414B-8CA6-68C27116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E05-FF9B-41B3-952D-8522F27A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EEC-9021-45B4-B47F-74583683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DBD-53B5-422E-868C-FD0201D6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3EA-CF50-4851-BD7A-056E7439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972-CB67-48BE-8F4C-16B1927E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5AE-1EFA-45D9-9974-5DD53E84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7DC-8F18-4CB2-B96A-01AA196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59B-4EAE-4A2B-B3B0-395D693A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D742-3690-4FA3-A879-C0C8D1EAB64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RANDO eu a Israel, se descobriu a iniqüidade de Efraim, como também as maldades de Samaria, porque praticaram a falsidade; e o ladrão entra, e a horda dos salteadores despoja por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oberba de Israel testificará diante dele; todavia não voltarão para o SENHOR seu Deus, nem o buscarão em tudo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fraim é como uma pomba ingênua, sem entendimento; invocam o Egito, vão para a As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forem, sobre eles estenderei a minha rede, e como aves do céu os farei descer; castigá-los-ei, conforme o que eles têm ouvido na su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les, porque fugiram de mim; destruição sobre eles, porque se rebelaram contra mim; eu os remi, mas disseram mentiras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clamaram a mim com seu coração, mas davam uivos nas suas camas; para o trigo e para o vinho se ajuntam, mas contra mim se rebel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os corrigi, e lhes esforcei os braços, mas pensam mal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voltaram, mas não para o Altíssimo. Fizeram-se como um arco enganador; caem à espada os seus príncipes, por causa do furor da sua língua; este será o seu escárnio n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dizem no seu coração que eu me lembro de toda a sua maldade; agora, pois, os cercam as suas obras; diante da minha face est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 sua malícia alegram ao rei, e com as suas mentiras aos príncip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les são adúlteros; são semelhantes ao forno aceso pelo padeiro, que cessa de mexer nas brasas, depois que amassou a massa, até que seja leved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do nosso rei os príncipes se tornaram doentes com frascos de vinho; ele estendeu a sua mão com os escarnece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prepararam o coração como um forno, na sua emboscada; toda a noite dorme o seu padeiro, pela manhã arde como fogo de ch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les estão quentes como um forno, e consomem os seus juízes; todos os seus reis caem, ninguém entre eles há que me invo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fraim se mistura com os povos; Efraim é um bolo que não foi vi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rangeiros lhe comeram a força, e ele não o sabe; também as cãs se espalharam sobre ele, e não o s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43Z</dcterms:created>
  <dc:creator>Admin</dc:creator>
  <dc:description/>
  <dc:language>en-US</dc:language>
  <cp:lastModifiedBy>Admin</cp:lastModifiedBy>
  <dcterms:modified xsi:type="dcterms:W3CDTF">2008-07-31T00:20:43Z</dcterms:modified>
  <cp:revision>1</cp:revision>
  <dc:subject/>
  <dc:title>Slide 1</dc:title>
</cp:coreProperties>
</file>