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805-3BFF-4CB3-9AE6-F32901FB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E65E-C9AB-49FC-A97B-F47527B8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0E3-EF06-4779-BA23-A47CCA73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11C-BEE6-4A5C-80E5-E27EFE2F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D03-184C-43B8-BD32-ABF20D99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ABD-AF0A-4BEE-8845-DD31F4BA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948-8A2A-4C56-AFD4-6DFBCCD7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5167-A39F-4856-81D6-924B69CF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996-2FF3-4218-98BE-5A98F3C1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131-71F9-43C1-9EB8-C0AE22C5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5674-52BD-4745-97AC-050EA3D5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0D57-9BE6-440C-8A58-62D30E52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264D-BAEC-4A6E-A7C1-E903B61631E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RNEI a levantar os meus olhos, e vi, e eis um homem que tinha na mão um cordel de med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ulta, e alegra-te ó filha de Sião, porque eis que venho, e habitarei no meio de ti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aquele dia muitas nações se ajuntarão ao SENHOR, e serão o meu povo, e habitarei no meio de ti e saberás que o SENHOR dos Exércitos me enviou a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herdará a Judá como sua porção na terra santa, e ainda escolherá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la-te, toda a carne, diante do SENHOR, porque ele se levantou da sua santa mor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disse: Para onde vais tu? E ele me disse: Vou medir Jerusalém, para ver qual é a sua largura e qual o seu compri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is que saiu o anjo que falava comigo, e outro anjo lhe saiu ao encon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lhe: Corre, fala a este jovem, dizendo: Jerusalém será habitada como as aldeias sem muros, por causa da multidão dos homens e dos animais que haverá n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eu, diz o SENHOR, serei para ela um muro de fogo em redor, e para glória estarei no meio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, ah! Fugi agora da terra do norte, diz o SENHOR, porque vos espalhei pelos quatro ventos do céu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h! Sião! Escapa, tu, que habitas com a filha de Babilôn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os Exércitos: Depois da glória ele me enviou às nações que vos despojaram; porque aquele que tocar em vós toca na menina do seu ol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aí levantarei a minha mão sobre eles, e eles virão a ser a presa daqueles que os serviram; assim sabereis vós que o SENHOR dos Exércitos me envi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22Z</dcterms:created>
  <dc:creator>Admin</dc:creator>
  <dc:description/>
  <dc:language>en-US</dc:language>
  <cp:lastModifiedBy>Admin</cp:lastModifiedBy>
  <dcterms:modified xsi:type="dcterms:W3CDTF">2008-07-31T00:29:22Z</dcterms:modified>
  <cp:revision>1</cp:revision>
  <dc:subject/>
  <dc:title>Slide 1</dc:title>
</cp:coreProperties>
</file>