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E5E-1CA6-451C-87E8-25E4E2BA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D43-AAB4-4351-B9A6-920ABD2A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EB6-5CB9-4C0E-AB0C-95DA3128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213-435F-4884-8FD1-F41DD1E0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347-D646-458F-A850-692C52E7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5DA-E920-4C11-A1AB-3A26BD0B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44D-57F4-45BC-92E9-130879B0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225-1B84-4A14-A549-0714BF3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C86-AFDA-45CA-92EB-A3222E5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F46-9C46-4678-A747-69664DA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338-A9C2-42FD-8E32-1AE76C0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14C-B617-47C3-A002-5FB0BFF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F0E9-1609-4FA2-A1E0-DB744A8FFC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Sansão a Gaza, e viu ali uma mulher prostituta, e entrou 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lila a Sansão: Eis que zombaste de mim, e me disseste mentiras; ora declara-me agora com que poderias ser amar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Se me amarrassem fortemente com cordas novas, que ainda não houvessem sido usadas, então me enfraqueceria, e seria como qualquer outr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lila tomou cordas novas, e o amarrou com elas, e disse-lhe: Os filisteus vêm sobre ti, Sansão. E o espia estava na recâmara interior. Então as quebrou de seus braços como a um f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alila a Sansão: Até agora zombaste de mim, e me disseste mentiras; declara-me pois, agora, com que poderias ser amarrado? E ele lhe disse: Se teceres sete tranças dos cabelos da minha cabeça com o liço da t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as fixou com uma estaca, e disse-lhe: Os filisteus vêm sobre ti, Sansão: Então ele despertou do seu sono, e arrancou a estaca das tranças tecidas, juntamente com o liço da t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 lhe disse: Como dirás: Tenho-te amor, não estando comigo o teu coração? Já três vezes zombaste de mim, e ainda não me declaraste em que consiste a t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importunando-o ela todos os dias com as suas palavras, e molestando-o, a sua alma se angustiou até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obriu-lhe todo o seu coração, e disse-lhe: Nunca passou navalha pela minha cabeça, porque sou nazireu de Deus desde o ventre de minha mãe; se viesse a ser rapado, ir-se-ia de mim a minha força, e me enfraqueceria, e seria como qualquer outro hom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Dalila que já lhe descobrira todo o seu coração, mandou chamar os príncipes dos filisteus, dizendo: Subi esta vez, porque agora me descobriu ele todo o seu coração. E os príncipes dos filisteus subiram a ter com ela, trazendo com eles o di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 o fez dormir sobre os seus joelhos, e chamou a um homem, e rapou-lhe as sete tranças do cabelo de sua cabeça; e começou a afligi-lo, e retirou-se dele 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dito aos gazitas: Sansão entrou aqui. Cercaram-no, e toda a noite lhe puseram espias à porta da cidade; porém toda a noite estiveram quietos, dizendo: Até à luz da manhã esperaremos; então o mat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a: Os filisteus vêm sobre ti, Sansão. E despertou ele do seu sono, e disse: Sairei ainda esta vez como dantes, e me sacudirei. Porque ele não sabia que já o SENHOR se tinha retirad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isteus pegaram nele, e arrancaram-lhe os olhos, e fizeram-no descer a Gaza, e amarraram-no com duas cadeias de bronze, e girava ele um moinho no cárc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belo da sua cabeça começou a crescer, como quando foi rap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príncipes dos filisteus se ajuntaram para oferecer um grande sacrifício ao seu deus Dagom, e para se alegrarem, e diziam: Nosso deus nos entregou nas mãos a Sansão, noss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vendo-o o povo, louvava ao seu deus; porque dizia: Nosso deus nos entregou nas mãos o nosso inimigo, e ao que destruía a nossa terra, e ao que multiplicava os noss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legrando-se-lhes o coração, disseram: Chamai a Sansão, para que brinque diante de nós. E chamaram a Sansão do cárcere, que brincava diante deles, e fizeram-no estar em pé entre as colu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nsão ao moço que o tinha pela mão: Guia-me para que apalpe as colunas em que se sustém a casa, para que me encoste a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estava a casa cheia de homens e mulheres; e também ali estavam todos os príncipes dos filisteus; e sobre o telhado havia uns três mil homens e mulheres, que estavam vendo Sansão brin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nsão clamou ao SENHOR, e disse: Senhor DEUS, peço-te que te lembres de mim, e fortalece-me agora só esta vez, ó Deus, para que de uma vez me vingue dos filisteus, pelos meus doi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açou-se, pois, Sansão com as duas colunas do meio, em que se sustinha a casa, e arrimou-se sobre elas, com a sua mão direita numa, e com a sua esquerda n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ansão deitou-se até à meia noite, e à meia noite se levantou, e arrancou as portas da entrada da cidade com ambas as umbreiras, e juntamente com a tranca as tomou, pondo-as sobre os ombros; e levou-as para cima até ao cume do monte que está def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nsão: Morra eu com os filisteus. E inclinou-se com força, e a casa caiu sobre os príncipes e sobre todo o povo que nela havia; e foram mais os mortos que matou na sua morte do que os que matara em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us irmãos desceram, e toda a casa de seu pai, e tomaram-no, e subiram com ele, e sepultaram-no entre Zorá e Estaol, no sepulcro de Manoá, seu pai. Ele julgou a Israel vin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aconteceu que se afeiçoou a uma mulher do vale de Soreque, cujo nome era Dali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príncipes dos filisteus subiram a ela, e lhe disseram: Persuade-o, e vê em que consiste a sua grande força, e como poderíamos assenhorear-nos dele e amarrá-lo, para assim o afligirmos; e te daremos, cada um de nós, mil e cem moed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Dalila a Sansão: Declara-me, peço-te, em que consiste a tua grande força, e com que poderias ser amarrado para te poderem aflig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Sansão: Se me amarrassem com sete vergas de vimes frescos, que ainda não estivessem secos, então me enfraqueceria, e seria como qualquer outr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príncipes dos filisteus lhe trouxeram sete vergas de vimes frescos, que ainda não estavam secos; e amarraram-no com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ia estava com ela na câmara interior. Então ela lhe disse: Os filisteus vêm sobre ti, Sansão. Então quebrou as vergas de vimes, como se quebra o fio da estopa ao cheiro do fogo; assim não se soube em que consistia 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20Z</dcterms:created>
  <dc:creator>Admin</dc:creator>
  <dc:description/>
  <dc:language>en-US</dc:language>
  <cp:lastModifiedBy>Admin</cp:lastModifiedBy>
  <dcterms:modified xsi:type="dcterms:W3CDTF">2008-07-31T00:07:20Z</dcterms:modified>
  <cp:revision>1</cp:revision>
  <dc:subject/>
  <dc:title>Slide 1</dc:title>
</cp:coreProperties>
</file>