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439-1DA4-4100-B322-B935318E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731-B6C4-406E-BA71-1C190DF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C8A-A972-4B5F-8992-A0D7552A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26B-572D-43BF-9025-F79C88EF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3D5-3818-4A22-A512-E4190E9D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734-10D1-4841-8446-92C9B2E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75A-EAC7-4C35-8EA7-B451CA06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B59-C893-4FCD-8062-7002D2E8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F19-8B20-4F2C-A86F-9456437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1BD-81B9-4D5B-BB4A-A07141B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B8F-106D-4B84-A464-D49DE4C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69F-A28A-433E-A8D0-7FFE9B9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5999-0E37-42C9-BA7F-64D7ECB07D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ao outro lado do mar, à província dos gadare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ava-lhe muito que os não enviasse para fora daquela proví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va ali pastando no monte uma grande manada de po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aqueles demônios lhe rogaram, dizendo: Manda-nos para aqueles porcos, para que entremos n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ogo lho permitiu. E, saindo aqueles espíritos imundos, entraram nos porcos; e a manada se precipitou por um despenhadeiro no mar (eram quase dois mil), e afogaram-se n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apascentavam os porcos fugiram, e o anunciaram na cidade e nos campos; e saíram muitos a ver o que era aquilo que tinha acont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er com Jesus, e viram o endemoninhado, o que tivera a legião, assentado, vestido e em perfeito juízo, e te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aquilo tinham visto contaram-lhes o que acontecera ao endemoninhado, e acerca dos po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aram a rogar-lhe que saísse d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le no barco, rogava-lhe o que fora endemoninhado que o deixasse esta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não lho permitiu, mas disse-lhe: Vai para tua casa, para os teus, e anuncia-lhes quão grandes coisas o SENHOR te fez, e como teve misericórdia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 do barco, lhe saiu logo ao seu encontro, dos sepulcros, um homem com espírito i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foi, e começou a anunciar em Decápolis quão grandes coisas Jesus lhe fizera; e todos se maravil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Jesus outra vez num barco para o outro lado, ajuntou-se a ele uma grande multidão; e ele estava junto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chegou um dos principais da sinagoga, por nome Jairo, e, vendo-o, prostrou-se aos seus p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ava-lhe muito, dizendo: Minha filha está moribunda; rogo-te que venhas e lhe imponhas as mãos, para que sare, e v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com ele, e seguia-o uma grande multidão, que o aper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rta mulher que, havia doze anos, tinha um fluxo de sang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havia padecido muito com muitos médicos, e despendido tudo quanto tinha, nada lhe aproveitando isso, antes indo a pi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falar de Jesus, veio por detrás, entre a multidão, e tocou na sua v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ia: Se tão-somente tocar nas suas vestes, s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se lhe secou a fonte do seu sangue; e sentiu no seu corpo estar já curada daquel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tinha a sua morada nos sepulcros, e nem ainda com cadeias o podia alguém prend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Jesus, conhecendo que a virtude de si mesmo saíra, voltou-se para a multidão, e disse: Quem tocou nas minhas v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 os seus discípulos: Vês que a multidão te aperta, e dizes: Quem me toc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olhava em redor, para ver a que isto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mulher, que sabia o que lhe tinha acontecido, temendo e tremendo, aproximou-se, e prostrou-se diante dele, e disse-lhe toda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Filha, a tua fé te salvou; vai em paz, e sê curada deste t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le ainda falando, chegaram alguns do principal da sinagoga, a quem disseram: A tua filha está morta; para que enfadas mais o Mest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tendo ouvido estas palavras, disse ao principal da sinagoga: Não temas, crê so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ermitiu que alguém o seguisse, a não ser Pedro, Tiago, e João, irmão de Tia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chegado à casa do principal da sinagoga, viu o alvoroço, e os que choravam muito e prante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, disse-lhes: Por que vos alvoroçais e chorais? A menina não está morta, mas dor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tendo sido muitas vezes preso com grilhões e cadeias, as cadeias foram por ele feitas em pedaços, e os grilhões em migalhas, e ninguém o podia aman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iam-se dele; porém ele, tendo-os feito sair, tomou consigo o pai e a mãe da menina, e os que com ele estavam, e entrou onde a menina estava dei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a mão da menina, disse-lhe: Talita cumi; que, traduzido, é: Menina, a ti te digo, levanta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a menina se levantou, e andava, pois já tinha doze anos; e assombraram-se com grande esp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-lhes expressamente que ninguém o soubesse; e disse que lhe dessem de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va sempre, de dia e de noite, clamando pelos montes, e pelos sepulcros, e ferindo-se com ped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iu Jesus ao longe, correu e ador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lamando com grande voz, disse: Que tenho eu contigo, Jesus, Filho do Deus Altíssimo? conjuro-te por Deus que não me atorm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lhe dizia: Sai deste homem, espírito imundo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-lhe: Qual é o teu nome? E lhe respondeu, dizendo: Legião é o meu nome, porque somos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3:00Z</dcterms:created>
  <dc:creator>Admin</dc:creator>
  <dc:description/>
  <dc:language>en-US</dc:language>
  <cp:lastModifiedBy>Admin</cp:lastModifiedBy>
  <dcterms:modified xsi:type="dcterms:W3CDTF">2008-07-31T00:13:00Z</dcterms:modified>
  <cp:revision>1</cp:revision>
  <dc:subject/>
  <dc:title>Slide 1</dc:title>
</cp:coreProperties>
</file>