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EF9-F68B-4EF3-9035-8DC9CB5F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389-16FF-47AA-9145-1950A01B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C26-0C0A-481A-863C-B436A00B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DEB-1146-4D12-8D01-90E0AD38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227-7A48-4283-9832-191246DA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04E-2500-4B0F-A436-4C5449FE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BDF-7E44-4D05-82CC-D8A1BEB1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D10-E38A-455D-AF8A-2AF19D7B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A31-2C79-436A-B762-50B06A4F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A14-4506-48F0-A884-5360B69B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C9C-7B48-4126-934A-2F2248F9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1E4-361A-498D-ADC1-0CC9D34A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4621-B566-4865-9A3C-D046C1EA663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U Israel com tudo quanto tinha, e veio a Berseba, e ofereceu sacrifícios ao Deus de seu pai I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Simeão: Jemuel, Jamim, Oade, Jaquim, Zoar e Saul, filho de uma mulher canan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Levi: Gérson, Coate e Merar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udá: Er, Onã, Selá, Perez e Zerá; Er e Onã, porém, morreram na terra de Canaã; e os filhos de Perez foram Hezrom e Ham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sacar: Tola, Puva, Jó e Sinr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Zebulom: Serede, Elom e Jal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Lia, que ela deu a Jacó em Padã-Arã, além de Diná, sua filha; todas as almas de seus filhos e de suas filhas foram trinta e trê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Gade: Zifiom, Hagi, Suni, Esbom, Eri, Arodi e Are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Aser: Imna, Isvá, Isvi, Berias e Sera, a irmã deles; e os filhos de Berias: Héber e Malqu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Zilpa, a qual Labão deu à sua filha Lia; e deu a Jacó estas dezesseis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Raquel, mulher de Jacó: José e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Deus a Israel em visões de noite, e disse: Jacó, Jacó! E ele disse: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sceram a José na terra do Egito, Manassés e Efraim, que lhe deu Azenate, filha de Potífera, sacerdote de 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Benjamim: Belá, Bequer, Asbel, Gera, Naamã, Eí, Rôs, Mupim, Hupim e A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Raquel, que nasceram a Jacó, ao todo catorze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ilho de Dã: Hu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Naftali: Jazeel, Guni, Jezer e Si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Bila, a qual Labão deu à sua filha Raquel; e deu estes a Jacó; todas as almas foram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almas que vieram com Jacó ao Egito, que saíram dos seus lombos, fora as mulheres dos filhos de Jacó, todas foram sessenta e seis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osé, que lhe nasceram no Egito, eram duas almas. Todas as almas da casa de Jacó, que vieram ao Egito, eram set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enviou Judá adiante de si a José, para o encaminhar a Gósen; e chegaram à terra de Gós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é aprontou o seu carro, e subiu ao encontro de Israel, seu pai, a Gósen. E, apresentando-se-lhe, lançou-se ao seu pescoço, e chorou sobre o seu pescoço longo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u sou Deus, o Deus de teu pai; não temas descer ao Egito, porque eu te farei ali uma grande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rael disse a José: Morra eu agora, pois já tenho visto o teu rosto, que ainda viv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José a seus irmãos, e à casa de seu pai: Eu subirei e anunciarei a Faraó, e lhe direi: Meus irmãos e a casa de meu pai, que estavam na terra de Canaã, vieram a mim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são pastores de ovelhas, porque são homens de gado, e trouxeram consigo as suas ovelhas, e as suas vacas, e tudo o que tê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, pois, acontecer que Faraó vos chamar, e disser: Qual é o vosso negóc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reis: Teus servos foram homens de gado desde a nossa mocidade até agora, tanto nós como os nossos pais; para que habiteis na terra de Gósen, porque todo o pastor de ovelhas é abominação a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cerei contigo ao Egito, e certamente te farei tornar a subir, e José porá a sua mão sobre 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evantou-se Jacó de Berseba; e os filhos de Israel levaram a seu pai Jacó, e seus meninos, e as suas mulheres, nos carros que Faraó enviara para o lev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 o seu gado e os seus bens que tinham adquirido na terra de Canaã, e vieram ao Egito, Jacó e toda a sua descendência com el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filhos e os filhos de seus filhos com ele, as filhas, e as filhas de seus filhos, e toda a sua descendência levou consigo a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nomes dos filhos de Israel, que vieram ao Egito, Jacó e seus filhos: Rúben, o primogênito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Rúben: Enoque, Palu, Hezrom e Carm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08Z</dcterms:created>
  <dc:creator>Admin</dc:creator>
  <dc:description/>
  <dc:language>en-US</dc:language>
  <cp:lastModifiedBy>Admin</cp:lastModifiedBy>
  <dcterms:modified xsi:type="dcterms:W3CDTF">2008-07-30T23:40:08Z</dcterms:modified>
  <cp:revision>1</cp:revision>
  <dc:subject/>
  <dc:title>Slide 1</dc:title>
</cp:coreProperties>
</file>