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ADA-01AC-4FA2-820B-B18AA446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ED8-3C73-4DCD-A187-2D574996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388-B6E7-49A2-BEE1-299BAA1E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3C1-933A-4B6F-802B-626CACE2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983-2AE1-4D35-9CD2-24404EF0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01F-2B40-4CA7-BBC0-45A1B936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164-7A7A-47A5-8E7C-D6AD28A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DC5-EA1F-44EA-B484-BD709AA2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F70-A38E-4422-84C8-19F8965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837-958D-4C8A-9585-293F257F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030-C289-4D84-806B-7BB12D0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B05-5B7E-45A6-89B2-98DF76D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4F7-D4D6-4BA5-8539-B45ACD3284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duodécimo mês, que é o mês de Adar, no dia treze do mesmo mês em que chegou a palavra do rei e a sua ordem para se executar, no dia em que os inimigos dos judeus esperavam assenhorear-se deles, sucedeu o contrário, porque os judeus foram os que 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dez filhos de Hamã, filho de Hamedata, o inimigo dos judeus, mataram, porém ao despojo não estenderam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dia foi comunicado ao rei o número dos mortos na fortaleza de Su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à rainha Ester: Na fortaleza de Susã os judeus mataram e destruíram quinhentos homens, e os dez filhos de Hamã; nas mais províncias do rei que teriam feito? Qual é, pois, a tua petição? E dar-se-te-á. Ou qual é ainda o teu requerimento? E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ster: Se bem parecer ao rei, conceda-se aos judeus que se acham em Susã que também façam amanhã conforme ao mandado de hoje; e pendurem numa forca os dez filhos de Ha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que assim se fizesse; e publicou-se um edito em Susã, e enforcaram os dez filhos de Ha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ram-se os judeus que se achavam em Susã também no dia catorze do mês de Adar, e mataram em Susã trezentos homens; porém ao despojo não estenderam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demais judeus que se achavam nas províncias do rei se reuniram e se dispuseram em defesa das suas vidas, e tiveram descanso dos seus inimigos; e mataram dos seus inimigos setenta e cinco mil; porém ao despojo não estenderam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isto no dia treze do mês de Adar; e descansaram no dia catorze, e fizeram, daquele dia, dia de banquetes e 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judeus, que se achavam em Susã se ajuntaram nos dias treze e catorze do mesmo; e descansaram no dia quinze, e fizeram, daquele dia, dia de banquetes e 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deus, porém, das aldeias, que habitavam nas vilas, fizeram do dia catorze do mês de Adar dia de alegria e de banquetes, e dia de folguedo, e de mandarem presente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judeus nas suas cidades, em todas as províncias do rei Assuero, se ajuntaram para pôr as mãos naqueles que procuravam o seu mal; e ninguém podia resistir-lhes, porque o medo deles caíra sobre todos aquele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doqueu escreveu estas coisas, e enviou cartas a todos os judeus que se achavam em todas as províncias do rei Assuero, aos de perto, e aos de long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ando-lhes que guardassem o dia catorze do mês de Adar, e o dia quinze do mesmo, todos os a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s dias em que os judeus tiveram repouso dos seus inimigos, e o mês que se lhes mudou de tristeza em alegria, e de luto em dia de festa, para que os fizessem dias de banquetes e de alegria, e de mandarem presentes uns aos outros, e dádivas aos po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udeus encarregaram-se de fazer o que já tinham começado, como também o que Mardoqueu lhes tinha esc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mã, filho de Hamedata, o agagita, inimigo de todos os judeus, tinha intentado destruir os judeus, e tinha lançado Pur, isto é, a sorte, para os assolar e destr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indo isto perante o rei, mandou ele por cartas que o mau intento que Hamã formara contra os judeus, se tornasse sobre a sua cabeça; pelo que penduraram a ele e a seus filhos numa fo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queles dias chamam Purim, do nome Pur; assim também por causa de todas as palavras daquela carta, e do que viram sobre isso, e do que lhes tinha suced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rmaram os judeus, e tomaram sobre si, e sobre a sua descendência, e sobre todos os que se achegassem a eles, que não se deixaria de guardar estes dois dias conforme ao que se escrevera deles, e segundo o seu tempo determinado, todos o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estes dias seriam lembrados e guardados em cada geração, família, província e cidade, e que esses dias de Purim não fossem revogados entre os judeus, e que a memória deles nunca teria fim entre os de s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rainha Ester, filha de Abiail, e Mardoqueu, o judeu, escreveram com toda autoridade uma segunda vez, para confirmar a carta a respeito de Pur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líderes das províncias, e os sátrapas, e os governadores, e os que faziam a obra do rei, auxiliavam os judeus porque tinha caído sobre eles o temor de Mardoqu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aram cartas a todos os judeus, às cento e vinte e sete províncias do reino de Assuero, com palavras de paz e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confirmarem estes dias de Purim nos seus tempos determinados, como Mardoqueu, o judeu, e a rainha Ester lhes tinham estabelecido, e como eles mesmos já o tinham estabelecido sobre si e sobre a sua descendência, acerca do jejum e do s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ndado de Ester estabeleceu os sucessos daquele Purim; e escreveu-se no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ardoqueu era grande na casa do rei, e a sua fama crescia por todas as províncias, porque o homem Mardoqueu ia sendo engrand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ram, pois, os judeus a todos os seus inimigos, a golpes de espada, com matança e com destruição; e fizeram dos seus inimigos o que qui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fortaleza de Susã os judeus mataram e destruíram quinhent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 Parsandata, e a Dalfom e a Aspa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rata, e a Adalia, e a Arida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armasta, e a Arisai, e a Aridai, e a Vaisa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1:02Z</dcterms:created>
  <dc:creator>Admin</dc:creator>
  <dc:description/>
  <dc:language>en-US</dc:language>
  <cp:lastModifiedBy>Admin</cp:lastModifiedBy>
  <dcterms:modified xsi:type="dcterms:W3CDTF">2008-07-30T23:31:02Z</dcterms:modified>
  <cp:revision>1</cp:revision>
  <dc:subject/>
  <dc:title>Slide 1</dc:title>
</cp:coreProperties>
</file>