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6A5-29A4-40A3-92DE-62A9F42B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D98-EAB4-4C93-AAC7-45162896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955-CC4E-4C13-9183-4A1F91DE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588-447E-40D4-AB6E-DD7EF018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612-6637-4B4D-8BBF-373B9EA6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5DD-26A6-4E10-9B0C-10815B16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541-CBD3-40FF-85EE-94B63460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EC5-F542-4145-AA9D-DEDAEA41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A62-571C-4544-AD89-5DBFC462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0F9-872D-4770-B3CC-CF76F07C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254-9525-4C6F-B4AE-6C67868D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CC4-A2BE-4E47-A941-F2583BD2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0E6D-F1D0-48CF-A3BE-397B95578A4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ó filho do homem, toma uma faca afiada, como navalha de barbeiro, e a farás passar pela tua cabeça e pela tua barba; então tomarás uma balança de peso, e repartirás os cabe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s pais comerão a seus filhos no meio de ti, e os filhos comerão a seus pais; e executarei em ti juízos, e tudo o que restar de ti, espalharei a todos os v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como eu vivo, diz o Senhor DEUS, certamente, porquanto profanaste o meu santuário com todas as tuas coisas detestáveis, e com todas as tuas abominações, também eu te diminuirei, e o meu olho não te perdoará, nem também terei pie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terça parte de ti morrerá de peste, e se consumirá de fome no meio de ti; e outra terça parte cairá à espada em redor de ti; e a outra terça parte espalharei a todos os ventos, e desembainharei a espada atrá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cumprirá a minha ira, e satisfarei neles o meu furor, e me consolarei; e saberão que eu, o SENHOR, tenho falado no meu zelo, quando eu cumprir neles o meu fu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r-te-ei em desolação, e por objeto de opróbrio entre as nações que estão em redor de ti, aos olhos de todos os que pass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objeto de opróbrio e blasfêmia, instrução e espanto às nações que estão em redor de ti, quando eu executar em ti juízos com ira, e com furor, e com terríveis castigos. Eu, o SENHOR, fa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enviar as malignas flechas da fome contra eles, que servirão para destruição, as quais eu mandarei para vos destruir, então aumentarei a fome sobre vós, e vos quebrarei o sustento do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rei sobre vós a fome, e as feras que te desfilharão; e a peste e o sangue passarão por ti; e trarei a espada sobre ti. Eu, o SENHOR, fa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terça parte queimarás no fogo, no meio da cidade, quando se cumprirem os dias do cerco; então tomarás outra terça parte, e feri-la-ás com uma faca ao redor dela; e a outra terça parte espalharás ao vento; porque desembainharei a espada atrá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marás dali um pequeno número, e atá-los-ás nas bordas do teu m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destes tomarás alguns, e os lançarás no meio do fogo e os queimarás a fogo; e dali sairá um fogo contra toda a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EUS: Esta é Jerusalém; coloquei-a no meio das nações e das terras que estão ao redor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, porém, mudou em impiedade os meus juízos, mais do que as nações, e os meus estatutos mais do que as terras que estão ao redor dela; porque rejeitaram os meus juízos e os meus estatutos, e não andaram n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 DEUS: Porque multiplicastes mais do que as nações, que estão ao redor de vós, e não andastes nos meus estatutos, nem guardastes os meus juízos, nem ainda procedestes segundo os juízos das nações que estão ao redor de v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ssim diz o Senhor DEUS: Eis que eu, sim eu, estou contra ti; e executarei juízos no meio de ti aos olhos d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em ti o que nunca fiz, e o que jamais farei, por causa de todas as tuas abomi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54Z</dcterms:created>
  <dc:creator>Admin</dc:creator>
  <dc:description/>
  <dc:language>en-US</dc:language>
  <cp:lastModifiedBy>Admin</cp:lastModifiedBy>
  <dcterms:modified xsi:type="dcterms:W3CDTF">2008-07-30T23:33:54Z</dcterms:modified>
  <cp:revision>1</cp:revision>
  <dc:subject/>
  <dc:title>Slide 1</dc:title>
</cp:coreProperties>
</file>