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3E7-B068-474F-8F19-DB1E3990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EA2-EAA8-446F-8009-74EC8636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30D-99E9-4432-9227-DB8C569E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FE6-F4F1-4241-AB39-C46B7593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2D6-BD55-4C48-93B7-5A0985B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417-B131-4208-B816-E9C37300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798-EB7F-4669-8236-D7D1833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D54-6772-4028-886C-20B30C24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600-B76D-416A-8D62-DA133C0A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60C-E256-4D5F-9D1E-484C840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8DE-6889-4E2F-AC9F-3BD1169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609-678D-406D-AE55-F0DBB235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E0EE-B56D-4203-AB25-DE7F702ECF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mpios fogem sem que haja ninguém a persegui-los; mas os justos são ousados como um l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az com que os retos errem por mau caminho, ele mesmo cairá na sua cova; mas os bons herdarão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rico é sábio aos seus próprios olhos, mas o pobre que é entendido, o exam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justos exultam, grande é a glória; mas quando os ímpios sobem, os homens se escon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ncobre as suas transgressões nunca prosperará, mas o que as confessa e deixa, alcançará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que continuamente teme; mas o que endurece o seu coração cairá n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leão rugidor, e urso faminto, assim é o ímpio que domina sobre um povo p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falto de entendimento é também um grande opressor, mas o que odeia a avareza prolongará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carregado do sangue de qualquer pessoa fugirá até à cova; ninguém o det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nda sinceramente salvar-se-á, mas o perverso em seus caminhos cairá l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lavrar a sua terra virá a fartar-se de pão, mas o que segue a ociosos se fartará de pob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transgressão da terra muitos são os seus príncipes, mas por homem prudente e entendido a sua continuidade será prolong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fiel será coberto de bênçãos, mas o que se apressa a enriquecer não ficará impu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 importância à aparência das pessoas não é bom, porque até por um bocado de pão um homem prevar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quer enriquecer depressa é homem de olho maligno, porém não sabe que a pobreza há de vir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repreende o homem gozará depois mais amizade do que aquele que lisonjeia com a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rouba a seu próprio pai, ou a sua mãe, e diz: Não é transgressão, companheiro é do homem destru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orgulhoso de coração levanta contendas, mas o que confia no SENHOR prospe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confia no seu próprio coração é insensato, mas o que anda em sabedoria, será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á ao pobre não terá necessidade, mas o que esconde os seus olhos terá muitas mald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ímpios se elevam, os homens andam se escondendo, mas quando perecem, os justos se multipli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pobre que oprime os pobres é como a chuva impetuosa, que causa a falta de al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eixam a lei louvam o ímpio; porém os que guardam a lei contendem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maus não entendem o juízo, mas os que buscam ao SENHOR entendem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 pobre que anda na sua integridade do que o de caminhos perversos ainda que seja r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guarda a lei é filho sábio, mas o companheiro dos desregrados envergonha 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umenta os seus bens com usura e ganância ajunta-os para o que se compadece do p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esvia os seus ouvidos de ouvir a lei, até a sua oração será abomin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48Z</dcterms:created>
  <dc:creator>Admin</dc:creator>
  <dc:description/>
  <dc:language>en-US</dc:language>
  <cp:lastModifiedBy>Admin</cp:lastModifiedBy>
  <dcterms:modified xsi:type="dcterms:W3CDTF">2008-07-31T00:22:48Z</dcterms:modified>
  <cp:revision>1</cp:revision>
  <dc:subject/>
  <dc:title>Slide 1</dc:title>
</cp:coreProperties>
</file>