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EED7-5068-4159-BE91-91797E4C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4D9B-39F0-4824-9511-0DC29DB8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FF09-D439-4929-BAAE-3FBA94D0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CAAD-BF02-4BBB-A84C-664FD089D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89C0-0755-4E2F-8B1B-5C6A1670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4B3F-099C-423C-A32D-673FB31A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BCF2-7EB7-480C-B286-9397E5A0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DDD2-6FF8-487C-8417-715748A1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7371-CF93-4CCA-91A4-218D27AB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2668-2417-4877-83E9-866084D6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C6E8-64DB-4609-A91E-68C42319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09CA-81D9-4E88-8F70-664BC4DA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E304-E666-4296-8188-2DEE4F5A81B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a fé é o firme fundamento das coisas que se esperam, e a prova das coisas que se não vê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sperava a cidade que tem fundamentos, da qual o artífice e construtor é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a fé também a mesma Sara recebeu a virtude de conceber, e deu à luz já fora da idade; porquanto teve por fiel aquele que lho tinha promet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também de um, e esse já amortecido, descenderam tantos, em multidão, como as estrelas do céu, e como a areia inumerável que está na praia do 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estes morreram na fé, sem terem recebido as promessas; mas vendo-as de longe, e crendo-as e abraçando-as, confessaram que eram estrangeiros e peregrinos n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os que isto dizem, claramente mostram que buscam uma pát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, na verdade, se lembrassem daquela de onde haviam saído, teriam oportunidade de torn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gora desejam uma melhor, isto é, a celestial. Por isso também Deus não se envergonha deles, de se chamar seu Deus, porque já lhes preparou um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a fé ofereceu Abraão a Isaque, quando foi provado; sim, aquele que recebera as promessas ofereceu o seu unigên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do-lhe dito: Em Isaque será chamada a tua descendência, considerou que Deus era poderoso para até dentre os mortos o ressuscita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í também em figura ele o recob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por ela os antigos alcançaram testemu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a fé Isaque abençoou Jacó e Esaú, no tocante às coisas futu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a fé Jacó, próximo da morte, abençoou cada um dos filhos de José, e adorou encostado à ponta do seu bor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a fé José, próximo da morte, fez menção da saída dos filhos de Israel, e deu ordem acerca de seus os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a fé Moisés, já nascido, foi escondido três meses por seus pais, porque viram que era um menino formoso; e não temeram o mandamento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a fé Moisés, sendo já grande, recusou ser chamado filho da filha de Faraó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colhendo antes ser maltratado com o povo de Deus, do que por um pouco de tempo ter o gozo do peca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do por maiores riquezas o vitupério de Cristo do que os tesouros do Egito; porque tinha em vista a recompen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a fé deixou o Egito, não temendo a ira do rei; porque ficou firme, como vendo o invisív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a fé celebrou a páscoa e a aspersão do sangue, para que o destruidor dos primogênitos lhes não toca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a fé passaram o Mar Vermelho, como por terra seca; o que intentando os egípcios, se afog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a fé entendemos que os mundos pela palavra de Deus foram criados; de maneira que aquilo que se vê não foi feito do que é apar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a fé caíram os muros de Jericó, sendo rodeados durante sete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1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a fé Raabe, a meretriz, não pereceu com os incrédulos, acolhendo em paz os esp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1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 mais direi? Faltar-me-ia o tempo contando de Gideão, e de Baraque, e de Sansão, e de Jefté, e de Davi, e de Samuel e dos profet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1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ais pela fé venceram reinos, praticaram a justiça, alcançaram promessas, fecharam as bocas dos leõ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1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agaram a força do fogo, escaparam do fio da espada, da fraqueza tiraram forças, na batalha se esforçaram, puseram em fuga os exércitos dos estra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1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mulheres receberam pela ressurreição os seus mortos; uns foram torturados, não aceitando o seu livramento, para alcançarem uma melhor ressurreiç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1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tros experimentaram escárnios e açoites, e até cadeias e pris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1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ram apedrejados, serrados, tentados, mortos ao fio da espada; andaram vestidos de peles de ovelhas e de cabras, desamparados, aflitos e maltratad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1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Dos quais o mundo não era digno), errantes pelos desertos, e montes, e pelas covas e caverna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1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estes, tendo tido testemunho pela fé, não alcançaram a promess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a fé Abel ofereceu a Deus maior sacrifício do que Caim, pelo qual alcançou testemunho de que era justo, dando Deus testemunho dos seus dons, e por ela, depois de morto, ainda fa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1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vendo Deus alguma coisa melhor a nosso respeito, para que eles sem nós não fossem aperfeiço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a fé Enoque foi trasladado para não ver a morte, e não foi achado, porque Deus o trasladara; visto como antes da sua trasladação alcançou testemunho de que agradara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sem fé é impossível agradar-lhe; porque é necessário que aquele que se aproxima de Deus creia que ele existe, e que é galardoador dos que o busc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a fé Noé, divinamente avisado das coisas que ainda não se viam, temeu e, para salvação da sua família, preparou a arca, pela qual condenou o mundo, e foi feito herdeiro da justiça que é segundo a f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a fé Abraão, sendo chamado, obedeceu, indo para um lugar que havia de receber por herança; e saiu, sem saber para onde 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a fé habitou na terra da promessa, como em terra alheia, morando em cabanas com Isaque e Jacó, herdeiros com ele da mesma promes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1:01Z</dcterms:created>
  <dc:creator>Admin</dc:creator>
  <dc:description/>
  <dc:language>en-US</dc:language>
  <cp:lastModifiedBy>Admin</cp:lastModifiedBy>
  <dcterms:modified xsi:type="dcterms:W3CDTF">2008-07-30T23:41:01Z</dcterms:modified>
  <cp:revision>1</cp:revision>
  <dc:subject/>
  <dc:title>Slide 1</dc:title>
</cp:coreProperties>
</file>