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EDD-6208-472E-8EDA-9E3C148E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E8C6-F49F-4893-8F01-7679BAF6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2961-5914-4238-808F-B905C229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26C9-0688-4639-A7E5-99CE3C7C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6C0-D8CC-4E32-A4E5-8B499283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F44-4230-4C86-955C-0C36E771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DCC-19C5-4BB4-80D6-E6F45B07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97E3-4E34-4864-8333-BC6A65F7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0043-61C1-42E0-BA45-6ADD2DC5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228-E55D-48E4-8339-425D45F6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C11-683B-4977-80A6-0BA9BD30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6C0F-0F49-4196-B7DE-A4C1ED35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C73B-E95F-4100-876F-90C815556CD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5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SENHOR. Louvai a Deus no seu santuário; louvai-o no firmamento do seu po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5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-o pelos seus atos poderosos; louvai-o conforme a excelência da sua grand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5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-o com o som de trombeta; louvai-o com o saltério e a harp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5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-o com o tamborim e a dança, louvai-o com instrumentos de cordas e com órg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5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-o com os címbalos sonoros; louvai-o com címbalos altissona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5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quanto tem fôlego louve ao SENHOR. Louva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53Z</dcterms:created>
  <dc:creator>Admin</dc:creator>
  <dc:description/>
  <dc:language>en-US</dc:language>
  <cp:lastModifiedBy>Admin</cp:lastModifiedBy>
  <dcterms:modified xsi:type="dcterms:W3CDTF">2008-07-31T00:28:53Z</dcterms:modified>
  <cp:revision>1</cp:revision>
  <dc:subject/>
  <dc:title>Slide 1</dc:title>
</cp:coreProperties>
</file>