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A5E-3BF0-4141-8DB4-A3EBA1EE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84C-99DA-4700-A3DD-30196E95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369-5FFE-43F4-A409-5E4A4F67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B94-2A25-4A72-BDF0-D39BF3B5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53D-1006-4A26-930A-E5FB4C5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7B4-F7CF-414E-B98C-C72E94B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398-6058-44EA-954B-08AA58B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9D7-BD67-4098-B6D3-32BBE7CB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6D2-142F-4B17-8D8A-175C1A58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CF9-B8E6-4F00-89DA-D9BEC04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F52-51E9-4D98-B092-D279C4F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2DC-1CA2-4B76-8576-EA90D4A5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F49-1752-42B7-8013-373A4C6882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isse a Moisés: Torna a pôr a vara de Arão perante o testemunho, para que se guarde por sinal para os filhos rebeldes; assim farás acabar as suas murmurações contra mim, e não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fez assim; como lhe ordenara o SENHOR, assim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aram os filhos de Israel a Moisés, dizendo: Eis aqui, nós expiramos, perecemos, nós todos perec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aquele que se aproximar do tabernáculo do SENHOR, morrerá; seremos pois todos consumi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toma deles uma vara para cada casa paterna de todos os seus príncipes, segundo as casas de seus pais, doze varas; e escreverás o nome de cada um sobre a sua v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nome de Arão escreverás sobre a vara de Levi; porque cada cabeça da casa de seus pais terá uma v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porás na tenda da congregação, perante o testemunho, onde eu virei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 a vara do homem que eu tiver escolhido florescerá; assim farei cessar as murmurações dos filhos de Israel contra mim, com que murmuram cont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, pois, Moisés aos filhos de Israel; e todos os seus príncipes deram-lhe cada um uma vara, para cada príncipe uma vara, segundo as casas de seus pais, doze varas; e a vara de Arão estava entre a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pôs estas varas perante o SENHOR na tenda do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 no dia seguinte Moisés entrou na tenda do testemunho, e eis que a vara de Arão, pela casa de Levi, florescia; porque produzira flores e brotara renovos e dera amênd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tirou todas as varas de diante do SENHOR a todos os filhos de Israel; e eles o viram, e tomaram cada um a sua v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9:00Z</dcterms:created>
  <dc:creator>Admin</dc:creator>
  <dc:description/>
  <dc:language>en-US</dc:language>
  <cp:lastModifiedBy>Admin</cp:lastModifiedBy>
  <dcterms:modified xsi:type="dcterms:W3CDTF">2008-07-31T00:19:00Z</dcterms:modified>
  <cp:revision>1</cp:revision>
  <dc:subject/>
  <dc:title>Slide 1</dc:title>
</cp:coreProperties>
</file>