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EE5-2F67-460D-A7D8-4848D58B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320-92E0-424B-BFA3-4BE369C3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BE8-D1C7-4DE4-A779-B704346F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E49-5A48-4859-AB9C-00583817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39F-6018-4805-9B51-63AFAF72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36B-F905-473C-837F-A4D0D75C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D8C-0708-4FE5-AFE2-9FEAB070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F22-4231-4A35-A48D-E5127665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46E-35EA-4526-A277-BD9E4F28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C49-9E9A-4FBF-9DBF-F323F27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1F1-5BA0-406C-A18E-92F8EEDA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D3A-0A70-4D39-BAA0-84672076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2668-8696-400C-B669-5B8A9E24AC7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Raquel que não dava filhos a Jacó, teve inveja de sua irmã, e disse a Jacó: Dá-me filhos, se não mo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Zilpa, serva de Lia, um filho a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Lia: Afortunada! e chamou-lhe G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u Zilpa, serva de Lia, um segundo filho a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Lia: Para minha ventura; porque as filhas me terão por bem-aventurada; e chamou-lhe As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Rúben nos dias da ceifa do trigo, e achou mandrágoras no campo. E trouxe-as a Lia sua mãe. Então disse Raquel a Lia: Ora dá-me das mandrágoras de t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lhe disse: É já pouco que hajas tomado o meu marido, tomarás também as mandrágoras do meu filho? Então disse Raquel: Por isso ele se deitará contigo esta noite pelas mandrágoras de t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is, Jacó à tarde do campo, saiu-lhe Lia ao encontro, e disse: A mim possuirás, esta noite, porque certamente te aluguei com as mandrágoras do meu filho. E deitou-se com ela aquel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u Deus a Lia, e concebeu, e deu à luz um quinto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Lia: Deus me tem dado o meu galardão, pois tenho dado minha serva ao meu marido. E chamou-lhe Issac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ia concebeu outra vez, e deu a Jacó um sexto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acendeu a ira de Jacó contra Raquel, e disse: Estou eu no lugar de Deus, que te impediu o fruto de teu vent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Lia: Deus me deu uma boa dádiva; desta vez morará o meu marido comigo, porque lhe tenho dado seis filhos. E chamou-lhe Zebul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teve uma filha, e chamou-lhe Din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mbrou-se Deus de Raquel; e Deus a ouviu, e abriu a sua mad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concebeu, e deu à luz um filho, e disse: Tirou-me Deus a minha vergo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-lhe José, dizendo: O SENHOR me acrescente outro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mo Raquel deu à luz a José, disse Jacó a Labão: Deixa-me ir, que me vá ao meu lugar, e à minh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á-me as minhas mulheres, e os meus filhos, pelas quais te tenho servido, e ir-me-ei; pois tu sabes o serviço que te tenho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 Labão: Se agora tenho achado graça em teus olhos, fica comigo. Tenho experimentado que o SENHOR me abençoou por amor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mais: Determina-me o teu salário, que to d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: Tu sabes como te tenho servido, e como passou o teu gado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disse: Eis aqui minha serva Bila; coabita com ela, para que dê à luz sobre meus joelhos, e eu assim receba filhos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pouco que tinhas antes de mim tem aumentado em grande número; e o SENHOR te tem abençoado por meu trabalho. Agora, pois, quando hei de trabalhar também por minha ca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Que te darei? Então disse Jacó: Nada me darás. Se me fizeres isto, tornarei a apascentar e a guardar o teu reban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rei hoje por todo o teu rebanho, separando dele todos os salpicados e malhados, e todos os morenos entre os cordeiros, e os malhados e salpicados entre as cabras; e isto será o meu sal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estificará por mim a minha justiça no dia de amanhã, quando vieres e o meu salário estiver diante de tua face; tudo o que não for salpicado e malhado entre as cabras e moreno entre os cordeiros, ser-me-á por fu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Labão: Quem dera seja conforme a tua palav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parou naquele mesmo dia os bodes listrados e malhados e todas as cabras salpicadas e malhadas, todos em que havia brancura, e todos os morenos entre os cordeiros; e deu-os nas mãos dos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três dias de caminho entre si e Jacó; e Jacó apascentava o restante dos rebanhos de Lab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Jacó varas verdes de álamo e de aveleira e de castanheiro, e descascou nelas riscas brancas, descobrindo a brancura que nas varas hav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ôs estas varas, que tinha descascado, em frente aos rebanhos, nos canos e nos bebedouros de água, aonde os rebanhos vinham beber, para que concebessem quando vinham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cebiam os rebanhos diante das varas, e as ovelhas davam crias listradas, salpicadas e malh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lhe deu a Bila, sua serva, por mulher; e Jacó a possu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parou Jacó os cordeiros, e pôs as faces do rebanho para os listrados, e todo o moreno entre o rebanho de Labão; e pôs o seu rebanho à parte, e não o pôs com o rebanho de Lab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ia que cada vez que concebiam as ovelhas fortes, punha Jacó as varas nos canos, diante dos olhos do rebanho, para que concebessem diante das va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era fraco o rebanho, não as punha. Assim as fracas eram de Labão, e as fortes de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resceu o homem em grande maneira, e teve muitos rebanhos, e servas, e servos, e camelos e ju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cebeu Bila, e deu a Jacó um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Raquel: Julgou-me Deus, e também ouviu a minha voz, e me deu um filho; por isso chamou-lhe 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ila, serva de Raquel, concebeu outra vez, e deu a Jacó o segundo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Raquel: Com grandes lutas tenho lutado com minha irmã; também venci; e chamou-lhe Naft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Lia que cessava de ter filhos, tomou também a Zilpa, sua serva, e deu-a a Jacó por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59Z</dcterms:created>
  <dc:creator>Admin</dc:creator>
  <dc:description/>
  <dc:language>en-US</dc:language>
  <cp:lastModifiedBy>Admin</cp:lastModifiedBy>
  <dcterms:modified xsi:type="dcterms:W3CDTF">2008-07-30T23:38:59Z</dcterms:modified>
  <cp:revision>1</cp:revision>
  <dc:subject/>
  <dc:title>Slide 1</dc:title>
</cp:coreProperties>
</file>