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9F7-E453-4E0F-8C52-634A7756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79D-31E1-4E13-8936-B3FA1062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EFC-4D49-450F-B6FE-450DCFE6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51E-9DA8-4132-9C5A-684D4ABF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CEF-29FB-49FD-A917-F9950A27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FB5-E944-49B4-837E-BB0737A7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1F6-3BF9-4391-A539-75880AA9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D8E-1C22-4CAD-A31D-EFA7801A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B23-8B39-40BE-8D1E-86C18B3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9C9-0F04-4F80-B322-3A5A69C7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89B-DF5C-475B-A9DD-49FC29C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ACD-9462-40D2-944D-84610EF2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CA59-F023-4BD3-8F8E-421E5294B22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como o sábio? E quem sabe a interpretação das coisas? A sabedoria do homem faz brilhar o seu rosto, e a dureza do seu rosto se mu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i os ímpios, quando os sepultavam; e eles entravam, e saíam do lugar santo; e foram esquecidos na cidade, em que assim fizeram; também isso é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se executa logo o juízo sobre a má obra, por isso o coração dos filhos dos homens está inteiramente disposto para fazer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o pecador faça o mal cem vezes, e os dias se lhe prolonguem, contudo eu sei com certeza, que bem sucede aos que temem a Deus, aos que temem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ímpio não irá bem, e ele não prolongará os seus dias, que são como a sombra; porque ele não teme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há outra vaidade que se faz sobre a terra: que há justos a quem sucede segundo as obras dos ímpios, e há ímpios a quem sucede segundo as obras dos justos. Digo que também isto é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ouvei eu a alegria, porquanto para o homem nada há melhor debaixo do sol do que comer, beber e alegrar-se; porque isso o acompanhará no seu trabalho nos dias da sua vida que Deus lhe dá debaixo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licando eu o meu coração a conhecer a sabedoria, e a ver o trabalho que há sobre a terra (que nem de dia nem de noite vê o homem sono nos seus olhos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 toda a obra de Deus, que o homem não pode perceber, a obra que se faz debaixo do sol, por mais que trabalhe o homem para a descobrir, não a achará; e, ainda que diga o sábio que a conhece, nem por isso a poderá compreen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go: Observa o mandamento do rei, e isso em consideração ao juramento que fizest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apresses a sair da presença dele, nem persistas em alguma coisa má, porque ele faz tudo o que qu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alavra do rei tem poder; e quem lhe dirá: Que faz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guardar o mandamento não experimentará nenhum mal; e o coração do sábio discernirá o tempo e 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a todo o propósito há seu tempo e juízo; porquanto a miséria do homem pesa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sabe o que há de suceder, e quando há de ser, quem lho dará a enten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homem há que tenha domínio sobre o espírito, para o reter; nem tampouco tem ele poder sobre o dia da morte; como também não há licença nesta peleja; nem tampouco a impiedade livrará a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isto vi quando apliquei o meu coração a toda a obra que se faz debaixo do sol; tempo há em que um homem tem domínio sobre outro homem, para desgraça s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36Z</dcterms:created>
  <dc:creator>Admin</dc:creator>
  <dc:description/>
  <dc:language>en-US</dc:language>
  <cp:lastModifiedBy>Admin</cp:lastModifiedBy>
  <dcterms:modified xsi:type="dcterms:W3CDTF">2008-07-30T23:29:36Z</dcterms:modified>
  <cp:revision>1</cp:revision>
  <dc:subject/>
  <dc:title>Slide 1</dc:title>
</cp:coreProperties>
</file>