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D86-A951-44F1-A8FF-7876739E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43A-16D1-4264-9CE1-02F6C888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1D6-A7CE-4A67-84BF-4AD604FB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A42-4BCB-4C6E-B401-A2D3FB31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658-9585-47C8-9AED-37AE34D8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0DE-E092-4F05-9044-4A927E73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12A-1AF3-4AA3-BBA5-A1086855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15E-46A2-49CF-A3AE-1AAE6787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F28-B1B4-4DFB-9E4C-2611C58E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60E-1301-470E-9BA0-32E8913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4EC-FE95-448E-9DCF-BCA60C5C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F5D-C0F4-40FD-9DB4-82E9DF66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3EE6-3C52-4447-B14B-B7EC93E219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ario deu ordem, e buscaram nos arquivos, onde se guardavam os tesouros em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fereçam sacrifícios de cheiro suave ao Deus dos céus, e orem pela vida do rei e de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or mim se decreta que todo o homem que mudar este decreto, se arrancará um madeiro da sua casa, e, levantado, o pendurarão nele, e da sua casa se fará por isso um mont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, pois, que fez habitar ali o seu nome derrube a todos os reis e povos que estenderem a sua mão para mudar o decreto e para destruir esta casa de Deus, que está em Jerusalém. Eu, Dario, baixei o decreto; com diligência se f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atenai, o governador dalém do rio, Setar-Bozenai e os seus companheiros, assim fizeram diligentemente, conforme ao que decretara o rei Da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nciãos dos judeus iam edificando e prosperando pela profecia do profeta Ageu, e de Zacarias, filho de Ido. E edificaram e terminaram a obra conforme ao mandado do Deus de Israel, e conforme ao decreto de Ciro e Dario, e de Artaxerxes, rei da Pér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ou-se esta casa no terceiro dia do mês de Adar, no sexto ano do reinado do rei Da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, os sacerdotes, os levitas, e o restante dos filhos do cativeiro, fizeram a dedicação desta casa de Deus co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fereceram para a dedicação desta casa de Deus cem novilhos, duzentos carneiros, quatrocentos cordeiros, e doze cabritos por expiação do pecado de todo o Israel; segundo o número d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os sacerdotes nas suas turmas e os levitas nas suas divisões, para o ministério de Deus, em Jerusalém, conforme ao que está escrito no livr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o cativeiro celebraram a páscoa no dia catorze do primeiro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Acmeta, no palácio, que está na província de Média, se achou um rolo, e nele estava escrito um memorial que dizia assi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sacerdotes e levitas se purificaram como se fossem um só homem, todos estavam limpos; e mataram o cordeiro da páscoa para todos os filhos do cativeiro, e para seus irmãos, os sacerdotes, e para si mes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eram a páscoa os filhos de Israel que tinham voltado do cativeiro, com todos os que com eles se apartaram da imundícia dos gentios da terra, para buscarem o SENHOR Deus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elebraram a festa dos pães ázimos por sete dias com alegria; porque o SENHOR os tinha alegrado, e tinha mudado o coração do rei da Assíria a favor deles, para lhes fortalecer as mãos na obra da casa de Deus, o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ano do rei Ciro, este baixou o seguinte decreto: A casa de Deus, em Jerusalém, se reedificará para lugar em que se ofereçam sacrifícios, e seus fundamentos serão firmes; a sua altura de sessenta côvados, e a sua largura de sessenta côv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três carreiras de grandes pedras, e uma carreira de madeira nova; e a despesa se fará da cas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so, os utensílios de ouro e de prata da casa de Deus, que Nabucodonosor transportou do templo que estava em Jerusalém, e levou para Babilônia, serão restituídos, para que voltem ao seu lugar, ao templo que está em Jerusalém, e serão postos na 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Tatenai, governador dalém do rio, Setar-Bozenai, e os seus companheiros, os afarsaquitas, que habitais dalém do rio, apartai-vos d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i que se faça a obra desta casa de Deus; que o governador dos judeus e os seus anciãos reedifiquem esta casa de Deus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or mim se decreta o que haveis de fazer com os anciãos dos judeus, para a reedificação desta casa de Deus, a saber: que da fazenda do rei, dos tributos dalém do rio se pague prontamente a despesa a estes homens, para que não interrompam 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for necessário, como bezerros, carneiros, e cordeiros, para holocaustos ao Deus dos céus, trigo, sal, vinho e azeite, segundo o rito dos sacerdotes que estão em Jerusalém, dê-se-lhes, de dia em dia, para que não haja f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25Z</dcterms:created>
  <dc:creator>Admin</dc:creator>
  <dc:description/>
  <dc:language>en-US</dc:language>
  <cp:lastModifiedBy>Admin</cp:lastModifiedBy>
  <dcterms:modified xsi:type="dcterms:W3CDTF">2008-07-30T23:30:25Z</dcterms:modified>
  <cp:revision>1</cp:revision>
  <dc:subject/>
  <dc:title>Slide 1</dc:title>
</cp:coreProperties>
</file>