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E08-60B5-4E1E-B93D-F7E26CDB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45A-AA49-42BA-892C-E55BA63D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6DF-DCA3-4380-B51D-CE355371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849-99C8-4997-A6F3-D87ADC05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C8B-9E05-41AD-8B6E-FA809858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794-0834-4B38-A2F6-659CF39E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33E-127F-4DD1-8313-F043F942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072-2C37-4113-AE7C-92B32352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E76-6A38-4B9A-A6E9-327B3975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AD3-8B75-43A2-813D-0FB4D44E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67B-690C-4647-BD5E-3A16BFC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79F-0350-4EF6-B26B-310ABC35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1469-DDD5-47BD-AC5D-7C864A9896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me fez voltar à porta da casa, e eis que saíam águas por debaixo do umbral da casa para o oriente; porque a face da casa dava para o oriente, e as águas desciam de debaixo, desde o lado direito da casa, ao sul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também que os pescadores estarão em pé junto dele; desde En-Gedi até En-Eglaim haverá lugar para estender as redes; o seu peixe, segundo a sua espécie, será como o peixe do mar grande, em multidão excess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seus charcos e os seus pântanos não tornar-se-ão saudáveis; serão deixados para s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o rio, à sua margem, de um e de outro lado, nascerá toda a sorte de árvore que dá fruto para se comer; não cairá a sua folha, nem acabará o seu fruto; nos seus meses produzirá novos frutos, porque as suas águas saem do santuário; e o seu fruto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Este será o termo conforme o qual repartireis a terra em herança, segundo as doze tribos de Israel; José terá duas pa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a herdareis, tanto um como o outro; terra sobre a qual levantei a minha mão, para dá-la a vossos pais; assim esta mesma terra vos cairá a vós em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será o termo da terra; do lado do norte, desde o mar grande, caminho de Hetlom, até à entrada de Ze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mate, Berota, Sibraim, que estão entre o termo de Damasco e o termo de Hamate; Hazer-Haticom, que está junto ao termo de Hau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rmo será desde o mar até Hazar-Enom, o termo de Damasco, e na direção do norte, para o norte, está o termo de Hamate. Este será o lado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lado do oriente, entre Haurã, e Damasco, e Gileade, e a terra de Israel será o Jordão; desde o termo do norte até ao mar do oriente medireis. Este será o lado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lado do sul, para o sul, será desde Tamar até às águas da contenda de Cades, junto ao ribeiro, até ao mar grande. Este será o lado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fez sair pelo caminho da porta do norte, e me fez dar uma volta pelo caminho de fora, até à porta exterior, pelo caminho que dá para o oriente e eis que corriam as águas do lado dir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lado do ocidente será o mar grande, desde o termo do sul até a entrada de Hamate. Este será o lado do oc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partireis, pois, esta terra entre vós, segundo 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rém, que a sorteareis para vossa herança, e para a dos estrangeiros que habitam no meio de vós, que gerarão filhos no meio de vós; e vos serão como naturais entre os filhos de Israel; convosco entrarão em herança, no meio d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na tribo em que habitar o estrangeiro, ali lhe dareis a sua herança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aquele homem para o oriente, tendo na mão um cordel de medir; e mediu mil côvados, e me fez passar pelas águas, águas que me davam pelos arte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diu mais mil côvados, e me fez passar pelas águas, águas que me davam pelos joelhos; e outra vez mediu mil, e me fez passar pelas águas que me davam pelos lo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diu mais mil, e era um rio, que eu não podia atravessar, porque as águas eram profundas, águas que se deviam passar a nado, rio pelo qual não se podia pas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Viste isto, filho do homem? Então levou-me, e me fez voltar para a margem d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eu voltado, eis que à margem do rio havia uma grande abundância de árvores, de um e de outro 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-me: Estas águas saem para a região oriental, e descem ao deserto, e entram no mar; e, sendo levadas ao mar, as águas tornar-se-ão saud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toda a criatura vivente que passar por onde quer que entrarem estes rios viverá; e haverá muitíssimo peixe, porque lá chegarão estas águas, e serão saudáveis, e viverá tudo por onde quer que entrar este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26Z</dcterms:created>
  <dc:creator>Admin</dc:creator>
  <dc:description/>
  <dc:language>en-US</dc:language>
  <cp:lastModifiedBy>Admin</cp:lastModifiedBy>
  <dcterms:modified xsi:type="dcterms:W3CDTF">2008-07-30T23:36:26Z</dcterms:modified>
  <cp:revision>1</cp:revision>
  <dc:subject/>
  <dc:title>Slide 1</dc:title>
</cp:coreProperties>
</file>