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D75-B194-4490-B49A-336BBE11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B2A-72C5-4D48-A558-B941A29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F0E-B88C-437E-A077-AFD7B58D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5B9-C58E-429A-9360-14911545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677-D1F5-497D-A6DA-FCBCDDD5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DA6-4FA2-4C1C-9787-BAED2CA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09F-1CFE-4A6E-A20B-76F3005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EFD-2D65-4037-9E88-EFA6D40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BB0-BE5B-4022-A93F-FCF2C700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15A-CF64-421D-8E96-E9FDDF1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2B5-FB85-4AE9-B92C-B641F9D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F75-E049-4A93-BA61-1E04DA0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3DB1-C7DE-42D9-80ED-C36F7A2D7A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o dia em que Moisés acabou de levantar o tabernáculo, e o ungiu, e o santificou, e todos os seus utensílios; também o altar, e todos os seus pertences, e os ungiu, e os santific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eram os príncipes para a consagração do altar, no dia em que foi ungido; apresentaram, pois, os príncipes a sua oferta perant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Cada príncipe oferecerá a sua oferta, cada qual no seu dia, para a consagração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, pois, no primeiro dia apresentou a sua oferta foi Naassom, filho de Aminadabe, pela tribo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Naassom, filho de Aminad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gundo dia fez a sua oferta Natanael, filho de Zuar, príncipe de Issa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sua oferta ofereceu um prato de prata, do peso de cento e trinta siclos, uma bacia de prata de setenta siclos, segundo o siclo do santuário; ambos cheios de flor de farinha amassada com azeite, para 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os príncipes de Israel, os cabeças da casa de seus pais, os que foram príncipes das tribos, que estavam sobre os que foram contados, oferece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Natanael, filho de Zu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terceiro dia ofereceu o príncipe dos filhos de Zebulom, Eliabe, filho de He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Eliabe, filho de He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ram a sua oferta perante o SENHOR, seis carros cobertos, e doze bois; por dois príncipes um carro, e cada um deles um boi; e os apresentaram diante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arto dia ofereceu o príncipe dos filhos de Rúben, Elizur, filho de Sede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Elizur, filho de Sede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quinto dia ofereceu o príncipe dos filhos de Simeão, Selumiel, filho de Zurisa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Selumiel, filho de Zurisa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xto dia ofereceu o príncipe dos filhos de Gade; Eliasafe, filho de De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Eliasafe, filho de De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étimo dia ofereceu o príncipe dos filhos de Efraim, Elisama, filho de Ami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be-os deles, e serão para servir no ministério da tenda da congregação; e os darás aos levitas, a cada qual segundo o seu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Elisama, filho de Ami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oitavo dia ofereceu o príncipe dos filhos de Manassés, Gamaliel, filho de Pedaz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Gamaliel, filho de Pedaz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isés recebeu os carros e os bois, e os deu a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nono ofereceu o príncipe dos filhos de Benjamim, Abidã, filho de Gideon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Abidã filho de Gideon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écimo dia ofereceu o príncipe dos filhos de Dã, Aieser, filho de Amisa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is carros e quatro bois deu aos filhos de Gérson, segundo o seu ministé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Aieser, filho de Amisad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undécimo ofereceu o príncipe dos filhos de Aser, Pagiel, filho de Ocr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Pagiel, filho de Oc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uodécimo dia ofereceu o príncipe dos filhos de Naftali, Aira, filho de E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7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ua oferta foi um prato de prata, do peso de cento e trinta siclos, uma bacia de prata de setenta siclos, segundo o siclo do santuário; ambos cheios de flor de farinha, amassada com azeite, para oferta de ali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tro carros e oito bois deu aos filhos de Merari, segundo o seu ministério, debaixo da mão de Itamar, filho de Arão,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colher de dez siclos de ouro, cheia de incen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novilho, um carneiro, um cordeiro de um ano, para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bode para expiaçã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sacrifício pacífico dois bois, cinco carneiros, cinco bodes, cinco cordeiros de um ano; esta foi a oferta de Aira, filho de E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foi a consagração do altar, feita pelos príncipes de Israel, no dia em que foi ungido, doze pratos de prata, doze bacias de prata, doze colhere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da prato de prata de cento e trinta siclos, e cada bacia de setenta; toda a prata dos vasos foi dois mil e quatrocentos siclos, segundo o siclo do santuá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ze colheres de ouro cheias de incenso, cada colher de dez siclos, segundo o siclo do santuário; todo o ouro das colheres foi de cento e vinte sic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animais para holocausto foram doze novilhos, doze carneiros, doze cordeiros de um ano, com a sua oferta de alimentos e doze bodes para expiação d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animais para sacrifício pacífico foram vinte e quatro novilhos, os carneiros sessenta, os bodes sessenta, os cordeiros de um ano sessenta; esta foi a consagração do altar, depois que foi un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8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Moisés entrava na tenda da congregação para falar com ele, então ouvia a voz que lhe falava de cima do propiciatório, que estava sobre a arca do testemunho entre os dois querubins; assim com ele fal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s filhos de Coate nada deu, porquanto a seu cargo estava o santuário e o levavam aos omb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19Z</dcterms:created>
  <dc:creator>Admin</dc:creator>
  <dc:description/>
  <dc:language>en-US</dc:language>
  <cp:lastModifiedBy>Admin</cp:lastModifiedBy>
  <dcterms:modified xsi:type="dcterms:W3CDTF">2008-07-31T00:18:19Z</dcterms:modified>
  <cp:revision>1</cp:revision>
  <dc:subject/>
  <dc:title>Slide 1</dc:title>
</cp:coreProperties>
</file>