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115-8E53-4796-8531-077D4199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317-1AFF-44D6-AE74-02C19F1C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C47-60BE-4B8C-8A03-F6DB8D9E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C65-0387-4162-8339-3F7D8AA1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95B-3152-4CC6-9190-B155B9CB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A42-1FCB-45A3-9341-88B2441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57F-E562-4D74-B316-26C7DCA7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698-29A0-474A-9D5A-534B3C10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1C2-86CF-40AF-99DB-7A929B2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943-1CDC-47A9-965F-276C8B68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9B7-B769-484A-A828-FF79378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395-003B-48B4-A264-5D135AE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E7D4-0976-48E7-8705-AD1432070CD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isse o SENHOR a Noé: Entra tu e toda a tua casa na arca, porque tenho visto que és justo diante de mim nesta g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 passados sete dias, vieram sobre a terra as águas do dilú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ano seiscentos da vida de Noé, no mês segundo, aos dezessete dias do mês, naquele mesmo dia se romperam todas as fontes do grande abismo, e as janelas dos céus se abrir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ouve chuva sobre a terra quarenta dias e quarenta no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smo dia entraram na arca Noé, seus filhos Sem, Cão e Jafé, sua mulher e as mulheres de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e todo o animal conforme a sua espécie, e todo o gado conforme a sua espécie, e todo o réptil que se arrasta sobre a terra conforme a sua espécie, e toda a ave conforme a sua espécie, pássaros de toda qua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oda a carne, em que havia espírito de vida, entraram de dois em dois para junto de Noé n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entraram eram macho e fêmea de toda a carne, como Deus lhe tinha ordenado; e o SENHOR o fechou de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urou o dilúvio quarenta dias sobre a terra, e cresceram as águas e levantaram a arca, e ela se elevou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valeceram as águas e cresceram grandemente sobre a terra; e a arca andava sobre 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águas prevaleceram excessivamente sobre a terra; e todos os altos montes que havia debaixo de todo o céu, foram cob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os os animais limpos tomarás para ti sete e sete, o macho e sua fêmea; mas dos animais que não são limpos, dois, o macho e sua fêm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inze côvados acima prevaleceram as águas; e os montes foram cober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pirou toda a carne que se movia sobre a terra, tanto de ave como de gado e de feras, e de todo o réptil que se arrasta sobre a terra, e todo 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o que tinha fôlego de espírito de vida em suas narinas, tudo o que havia em terra seca,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oi destruído todo o ser vivente que havia sobre a face da terra, desde o homem até ao animal, até ao réptil, e até à ave dos céus; e foram extintos da terra; e ficou somente Noé, e os que com ele estavam na ar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evaleceram as águas sobre a terra cento e cinqüenta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das aves dos céus sete e sete, macho e fêmea, para conservar em vida sua espécie sobre a face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passados ainda sete dias, farei chover sobre a terra quarenta dias e quarenta noites; e desfarei de sobre a face da terra toda a substância que f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Noé conforme a tudo o que o SENHOR lhe orden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Noé da idade de seiscentos anos, quando o dilúvio das águas vei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é entrou na arca, e com ele seus filhos, sua mulher e as mulheres de seus filhos, por causa das águas do dilúv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s animais limpos e dos animais que não são limpos, e das aves, e de todo o réptil sobre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raram de dois em dois para junto de Noé na arca, macho e fêmea, como Deus ordenara a No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32Z</dcterms:created>
  <dc:creator>Admin</dc:creator>
  <dc:description/>
  <dc:language>en-US</dc:language>
  <cp:lastModifiedBy>Admin</cp:lastModifiedBy>
  <dcterms:modified xsi:type="dcterms:W3CDTF">2008-07-30T23:37:32Z</dcterms:modified>
  <cp:revision>1</cp:revision>
  <dc:subject/>
  <dc:title>Slide 1</dc:title>
</cp:coreProperties>
</file>