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3ED-8193-4642-9741-4814AA62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BE5-1F4F-4B88-B9A0-67876569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BD8-E54A-4B08-9CBB-1D98114C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FAB-4AA2-47F3-8BC6-3445D4E3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D99-D7BC-482D-828C-A575FFEB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773-B4D4-4AAD-AF50-F45EF3B8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B80-56A8-4746-9969-42A29382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65D-6F76-4B8C-8D06-3F8B97C7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EDF-377F-40E5-A940-77E4A6E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FA6-E543-495A-9CD0-1E70D89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313-9386-4BBC-A914-57B8EB5F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B63-80D2-43B3-B54D-FE16FC2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CD54-972D-48EC-8198-4A32836DA61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 rebelde e contaminada, da cidade opressor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lém dos rios da Etiópia, meus zelosos adoradores, que constituem a filha dos meus dispersos, me trarão sacrifí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não te envergonharás de nenhuma das tuas obras, com as quais te rebelaste contra mim; porque então tirarei do meio de ti os que exultam na tua soberba, e tu nunca mais te ensoberbecerás no meu monte san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deixarei no meio de ti um povo humilde e pobre; e eles confiarão no nom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remanescente de Israel não cometerá iniqüidade, nem proferirá mentira, e na sua boca não se achará língua enganosa; mas serão apascentados, e deitar-se-ão, e não haverá quem os esp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nta alegremente, ó filha de Sião; rejubila, ó Israel; regozija-te, e exulta de todo o coração, ó filha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afastou os teus juízos, exterminou o teu inimigo; o SENHOR, o rei de Israel, está no meio de ti; tu não verás mais mal algu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se dirá a Jerusalém: Não temas, ó Sião, não se enfraqueçam as tu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teu Deus, o poderoso, está no meio de ti, ele salvará; ele se deleitará em ti com alegria; calar-se-á por seu amor, regozijar-se-á em ti com júbi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entristecidos por causa da reunião solene, congregarei; esses que são de ti e para os quais o opróbrio dela era um pe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naquele tempo procederei contra todos os que te afligem, e salvarei a que coxeia, e recolherei a que foi expulsa; e deles farei um louvor e um nome em toda a terra em que foram envergonh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obedeceu à sua voz, não aceitou o castigo; não confiou no SENHOR; nem se aproximou do s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tempo vos farei voltar, naquele tempo vos recolherei; certamente farei de vós um nome e um louvor entre todos os povos da terra, quando fizer voltar os vossos cativos diante dos vossos olhos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príncipes são leões rugidores no meio dela; os seus juízes são lobos da tarde, que não deixam os ossos para 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seus profetas são levianos, homens aleivosos; os seus sacerdotes profanaram o santuário, e fizeram violência à l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é justo no meio dela; ele não comete iniqüidade; cada manhã traz o seu juízo à luz; nunca falta; mas o perverso não conhece a vergo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terminei as nações, as suas torres estão assoladas; fiz desertas as suas praças, a ponto de não ficar quem passe por elas; as suas cidades foram destruídas, até não ficar ninguém, até não haver quem as habi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dizia: Certamente me temerás, e aceitarás a correção, e assim a sua morada não seria destruída, conforme tudo aquilo porque a castiguei; mas eles se levantaram de madrugada, corromperam todas 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esperai-me, diz o SENHOR, no dia em que eu me levantar para o despojo; porque o meu decreto é ajuntar as nações e congregar os reinos, para sobre eles derramar a minha indignação, e todo o ardor da minha ira; porque toda esta terra será consum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ntão darei uma linguagem pura aos povos, para que todos invoquem o nome do SENHOR, para que o sirvam com um mesmo consen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9:00Z</dcterms:created>
  <dc:creator>Admin</dc:creator>
  <dc:description/>
  <dc:language>en-US</dc:language>
  <cp:lastModifiedBy>Admin</cp:lastModifiedBy>
  <dcterms:modified xsi:type="dcterms:W3CDTF">2008-07-31T00:29:00Z</dcterms:modified>
  <cp:revision>1</cp:revision>
  <dc:subject/>
  <dc:title>Slide 1</dc:title>
</cp:coreProperties>
</file>