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65C-AED9-47A7-B531-87F5BE4D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591-1DDE-477A-970A-2030D006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B0C-B64F-42DD-981C-574EE89B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CAE-EEE4-4A54-AABD-6C9281D6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7F3-DC40-43FA-B672-8791C34A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516-C7DF-4554-AA76-A70E8CF7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C96-83AB-4321-9F67-B81E3554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DBA-051D-4990-A611-C0E4007E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4F7-7575-4020-AF62-A830562D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D01-EA2A-4178-9F2C-8A49915D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99A-1224-4306-B59F-2893C230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2DE-5791-42CA-9A2A-619F4ACB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5172-BA7B-41F4-B0ED-C3268973F8B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abriu Jó a sua boca, e amaldiçoou o seu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fechou as portas do ventre; nem escondeu dos meus olhos a cans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não morri eu desde a madre? E em saindo do ventre, não expir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me receberam os joelhos? E por que os peitos, para que mamas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á agora jazeria e repousaria; dormiria, e então haveria repouso pa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s reis e conselheiros da terra, que para si edificam casas nos lugares assola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com os príncipes que possuem ouro, que enchem as suas casas de pra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como aborto oculto, não existiria; como as crianças que não viram 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os maus cessam de perturbar; e ali repousam os cans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os presos juntamente repousam, e não ouvem a voz do exat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está o pequeno e o grande, e o servo livre de s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ó, falando,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se dá luz ao miserável, e vida aos amargurados de ânim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esperam a morte, e ela não vem; e cavam em procura dela mais do que de tesouros ocul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e alegria saltam, e exultam, achando a sepultu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se dá luz ao homem, cujo caminho é oculto, e a quem Deus o encobri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ntes do meu pão vem o meu suspiro; e os meus gemidos se derramam como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quilo que temia me sobreveio; e o que receava me acont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estive tranqüilo, nem sosseguei, nem repousei, mas veio sobre mim a perturb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eça o dia em que nasci, e a noite em que se disse: Foi concebido um homem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erta-se aquele dia em trevas; e Deus, lá de cima, não tenha cuidado dele, nem resplandeça sobre ele 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aminem-no as trevas e a sombra da morte; habitem sobre ele nuvens; a escuridão do dia o espant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àquela noite, dela se apodere a escuridão; e não se regozije ela entre os dias do ano; e não entre no número dos mese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! que solitária seja aquela noite, e nela não entre voz de júbil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ldiçoem-na aqueles que amaldiçoam o dia, que estão prontos para suscitar o seu pr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ureçam-se as estrelas do seu crepúsculo; que espere a luz, e não venha; e não veja as pálpebras da alv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0:26Z</dcterms:created>
  <dc:creator>Admin</dc:creator>
  <dc:description/>
  <dc:language>en-US</dc:language>
  <cp:lastModifiedBy>Admin</cp:lastModifiedBy>
  <dcterms:modified xsi:type="dcterms:W3CDTF">2008-07-31T00:00:26Z</dcterms:modified>
  <cp:revision>1</cp:revision>
  <dc:subject/>
  <dc:title>Slide 1</dc:title>
</cp:coreProperties>
</file>