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49A-40DE-4611-B2E5-93321346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73E-818C-48EB-AFCB-E41F5A9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569-97F2-44DE-804E-23AF7A8F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3D3-D5D2-463F-9009-957B7E52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22E-8269-405A-A00B-5EEEBCA0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E7D-45DD-41ED-847D-7AA8882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777-3588-4B40-8D81-756B12E8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7DE-5568-4258-B960-387EAA3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466-AD63-410F-893E-369844A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5F9-C7D0-43EB-B611-43ABD96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5BD-B7A9-44B9-85F6-1CBD074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3D4-96B5-48B3-9143-9E3F92F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D65-8A9B-4045-814B-BD57C21851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partiu Paulo de Atenas, e chegou a Cor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ou contigo, e ninguém lançará mão de ti para te fazer mal, pois tenho muito povo nest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ou ali um ano e seis meses, ensinando entre eles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ndo Gálio procônsul da Acaia, levantaram-se os judeus concordemente contra Paulo, e o levaram ao tribun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Este persuade os homens a servir a Deus contra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erendo Paulo abrir a boca, disse Gálio aos judeus: Se houvesse, ó judeus, algum agravo ou crime enorme, com razão vos sofre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 questão é de palavras, e de nomes, e da lei que entre vós há, vede-o vós mesmos; porque eu não quero ser juiz dess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pulsou-os do tribu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gregos agarraram Sóstenes, principal da sinagoga, e o feriram diante do tribunal; e a Gálio nada destas coisas o incomod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, ficando ainda ali muitos dias, despediu-se dos irmãos, e dali navegou para a Síria, e com ele Priscila e Áqüila, tendo rapado a cabeça em Cencréia, porque tinha v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Éfeso, e deixou-os ali; mas ele, entrando na sinagoga, disputava com 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ndo um certo judeu por nome Áqüila, natural do Ponto, que havia pouco tinha vindo da Itália, e Priscila, sua mulher (pois Cláudio tinha mandado que todos os judeus saíssem de Roma), ajuntou-se com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ogando-lhe eles que ficasse por mais algum tempo, não conveio n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se despediu deles, dizendo: É-me de todo preciso celebrar a solenidade que vem em Jerusalém; mas querendo Deus, outra vez voltarei a vós. E partiu de Éf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Cesaréia, subiu a Jerusalém e, saudando a igreja, desceu a Antioq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ali algum tempo, partiu, passando sucessivamente pela província da Galácia e da Frígia, confirmando a todos o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Éfeso um certo judeu chamado Apolo, natural de Alexandria, homem eloqüente e poderoso nas Escri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ra instruído no caminho do Senhor e, fervoroso de espírito, falava e ensinava diligentemente as coisas do SENHOR, conhecendo somente o batismo d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omeçou a falar ousadamente na sinagoga; e, quando o ouviram Priscila e Áqüila, o levaram consigo e lhe declararam mais precisamente o camin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endo ele passar à Acaia, o animaram os irmãos, e escreveram aos discípulos que o recebessem; o qual, tendo chegado, aproveitou muito aos que pela graça cr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 grande veemência, convencia publicamente os judeus, mostrando pelas Escrituras que Jesus era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era do mesmo ofício, ficou com eles, e trabalhava; pois tinham por ofício fazer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sábados disputava na sinagoga, e convencia a judeus e gre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ilas e Timóteo desceram da Macedônia, foi Paulo impulsionado no espírito, testificando aos judeus que Jesus era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resistindo e blasfemando eles, sacudiu as vestes, e disse-lhes: O vosso sangue seja sobre a vossa cabeça; eu estou limpo, e desde agora parto para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dali, entrou em casa de um homem chamado Tício Justo, que servia a Deus, e cuja casa estava junto da sinago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ispo, principal da sinagoga, creu no Senhor com toda a sua casa; e muitos dos coríntios, ouvindo-o, creram e foram batiz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em visão a Paulo: Não temas, mas fala, e não te ca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48Z</dcterms:created>
  <dc:creator>Admin</dc:creator>
  <dc:description/>
  <dc:language>en-US</dc:language>
  <cp:lastModifiedBy>Admin</cp:lastModifiedBy>
  <dcterms:modified xsi:type="dcterms:W3CDTF">2008-07-30T23:24:48Z</dcterms:modified>
  <cp:revision>1</cp:revision>
  <dc:subject/>
  <dc:title>Slide 1</dc:title>
</cp:coreProperties>
</file>