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894-E310-4C9D-9A82-B078846F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47A-6A0D-4E05-BCBC-9C71EC31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482-5341-4E05-A0ED-17E493F3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B86-9103-4C43-8935-16F4DDD2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006-D3A6-4BDE-A00B-69EB30FF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AFF-6F9A-4487-BC98-1D5166F8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435-B99F-45C3-A69A-6D9034DD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AEE-E40B-4AFF-8434-946C88CD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720-A612-491E-8FF2-BB0A575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391-DA08-4A61-952C-B29E4F13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EE2-A974-47EC-A3CE-0A586F80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4E1-A0FA-4252-B877-C81E842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9CDF-1E49-434F-B910-579927F0C73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Balaão que bem parecia aos olhos do SENHOR que abençoasse a Israel, não se foi esta vez como antes ao encontro dos encantamentos; mas voltou o seu rosto para 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ira de Balaque se acendeu contra Balaão, e bateu ele as suas palmas; e Balaque disse a Balaão: Para amaldiçoar os meus inimigos te tenho chamado; porém agora já três vezes os abençoaste inteir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foge para o teu lugar; eu tinha dito que te honraria grandemente; mas eis que o SENHOR te privou desta h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ão disse a Balaque: Não falei eu também aos teus mensageiros, que me enviast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Balaque me desse a sua casa cheia de prata e ouro, não poderia ir além da ordem do SENHOR, fazendo bem ou mal de meu próprio coração; o que o SENHOR falar, isso falarei 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is que me vou ao meu povo; vem, avisar-te-ei do que este povo fará ao teu povo nos últim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roferiu a sua parábola, e disse: Fala Balaão, filho de Beor, e fala o homem de olhos aber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quele que ouviu as palavras de Deus, e o que sabe a ciência do Altíssimo; o que viu a visão do Todo-Poderoso, que cai, e se lhe abrem 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ê-lo-ei, mas não agora, contemplá-lo-ei, mas não de perto; uma estrela procederá de Jacó e um cetro subirá de Israel, que ferirá os termos dos moabitas, e destruirá todos os filhos de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om será uma possessão, e Seir, seus inimigos, também será uma possessão; pois Israel fará pro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minará um de Jacó, e matará os que restam d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 Balaão os seus olhos, e vendo a Israel, que estava acampado segundo as suas tribos, veio sobre ele o Espíri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os amalequitas, proferiu a sua parábola, e disse: Amaleque é a primeira das nações; porém o seu fim será a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os quenitas, proferiu a sua parábola, e disse: Firme está a tua habitação, e puseste o teu ninho na p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 quenita será consumido, até que Assur te leve por prision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roferindo ainda a sua parábola, disse: Ai, quem viverá, quando Deus fizer 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naus virão das costas de Quitim e afligirão a Assur; também afligirão a Éber; que também será para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ão levantou-se, e se foi, e voltou ao seu lugar, e também Balaque se foi pelo seu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feriu a sua parábola, e disse: Fala, Balaão, filho de Beor, e fala o homem de olhos aber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quele que ouviu as palavras de Deus, o que vê a visão do Todo-Poderoso; que cai, e se lhe abrem os olh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ão formosas são as tuas tendas, ó Jacó, as tuas moradas, ó Israel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ribeiros se estendem, como jardins à beira dos rios; como árvores de sândalo o SENHOR os plantou, como cedros junto às águ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eus baldes manarão águas, e a sua semente estará em muitas águas; e o seu rei se erguerá mais do que Agague, e o seu reino será exal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o tirou do Egito; as suas forças são como as do boi selvagem; consumirá as nações, seus inimigos, e quebrará seus ossos, e com as suas setas os atravess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urvou-se, deitou-se como leão, e como leoa; quem o despertará? benditos os que te abençoarem, e malditos os que te amaldiço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29Z</dcterms:created>
  <dc:creator>Admin</dc:creator>
  <dc:description/>
  <dc:language>en-US</dc:language>
  <cp:lastModifiedBy>Admin</cp:lastModifiedBy>
  <dcterms:modified xsi:type="dcterms:W3CDTF">2008-07-31T00:19:29Z</dcterms:modified>
  <cp:revision>1</cp:revision>
  <dc:subject/>
  <dc:title>Slide 1</dc:title>
</cp:coreProperties>
</file>