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2B3-76BC-4DF3-8E60-18068D3D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894-3EF6-49C7-A2A6-6CC1021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FA6-6299-4D31-88C6-11C1F7E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EE8-025A-497D-8CC2-03838BEB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90D-3AB9-4F86-9008-F71D6F2C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493-400B-4663-839D-23C1246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D90-4B29-4D67-A276-97A83E12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7C2-89D0-47A7-B40B-484DB833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156-489D-454D-BDE7-21BA859A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88D-61B1-44F9-BF7B-EDAA58F2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E23-A04D-4E01-B5B6-2701897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964-E3AA-479D-93D2-87C0DBB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C22-8864-4D57-A0F9-420B6C0215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reino dos céus é semelhante a um homem, pai de família, que saiu de madrugada a assalariar trabalhadores para a su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rém, os primeiros, cuidaram que haviam de receber mais; mas do mesmo modo receberam um dinheiro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cebendo-o, murmuravam contra o pai de famíl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stes derradeiros trabalharam só uma hora, e tu os igualaste conosco, que suportamos a fadiga e a calma d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respondendo, disse a um deles: Amigo, não te faço agravo; não ajustaste tu comigo um dinh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o que é teu, e retira-te; eu quero dar a este derradeiro tanto como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não me é lícito fazer o que quiser do que é meu? Ou é mau o teu olho porque eu sou b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derradeiros serão primeiros, e os primeiros derradeiros; porque muitos são chamados, mas poucos escolh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ubindo Jesus a Jerusalém, chamou de parte os seus doze discípulos, e no caminho disse-lh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amos para Jerusalém, e o Filho do homem será entregue aos príncipes dos sacerdotes, e aos escribas, e condená-lo-ão à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entregarão aos gentios para que dele escarneçam, e o açoitem e crucifiquem, e ao terceiro dia ressusci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justando com os trabalhadores a um dinheiro por dia, mandou-os para a su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proximou dele a mãe dos filhos de Zebedeu, com seus filhos, adorando-o, e fazendo-lhe um p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z-lhe: Que queres? Ela respondeu: Dize que estes meus dois filhos se assentem, um à tua direita e outro à tua esquerda, no t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respondendo, disse: Não sabeis o que pedis. Podeis vós beber o cálice que eu hei de beber, e ser batizados com o batismo com que eu sou batizado? Dizem-lhe eles: Pod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-lhes ele: Na verdade bebereis o meu cálice e sereis batizados com o batismo com que eu sou batizado, mas o assentar-se à minha direita ou à minha esquerda não me pertence dá-lo, mas é para aqueles para quem meu Pai o tem prep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dez ouviram isto, indignaram-se contra os doi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chamando-os para junto de si, disse: Bem sabeis que pelos príncipes dos gentios são estes dominados, e que os grandes exercem autoridade sob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á assim entre vós; mas todo aquele que quiser entre vós fazer-se grande seja vosso serviç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lquer que entre vós quiser ser o primeiro, seja vosso ser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como o Filho do homem não veio para ser servido, mas para servir, e para dar a sua vida em resgate de mu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eles de Jericó, seguiu-o grande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perto da hora terceira, viu outros que estavam ociosos na pra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dois cegos, assentados junto do caminho, ouvindo que Jesus passava, clamaram, dizendo: Senhor, Filho de Davi, tem misericórdia de nó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tidão os repreendia, para que se calassem; eles, porém, cada vez clamavam mais, dizendo: Senhor, Filho de Davi, tem misericórdia de nó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parando, chamou-os, e disse: Que quereis que vos fa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eles: Senhor, que os nossos olhos sejam ab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esus, movido de íntima compaixão, tocou-lhes nos olhos, e logo viram; e eles o segu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Ide vós também para a vinha, e dar-vos-ei o que for justo. E eles f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ndo outra vez, perto da hora sexta e nona, fez 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aindo perto da hora undécima, encontrou outros que estavam ociosos, e perguntou-lhes: Por que estais ociosos todo o d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eles: Porque ninguém nos assalariou. Diz-lhes ele: Ide vós também para a vinha, e recebereis o que for ju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oximando-se a noite, diz o senhor da vinha ao seu mordomo: Chama os trabalhadores, e paga-lhes o jornal, começando pelos derradeiros, até aos prim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os que tinham ido perto da hora undécima, receberam um dinheiro cada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29Z</dcterms:created>
  <dc:creator>Admin</dc:creator>
  <dc:description/>
  <dc:language>en-US</dc:language>
  <cp:lastModifiedBy>Admin</cp:lastModifiedBy>
  <dcterms:modified xsi:type="dcterms:W3CDTF">2008-07-31T00:15:29Z</dcterms:modified>
  <cp:revision>1</cp:revision>
  <dc:subject/>
  <dc:title>Slide 1</dc:title>
</cp:coreProperties>
</file>