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236-95AA-4FBF-85C6-03D74EF7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974-8987-4448-B83D-C027BAA5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735-DEDC-4E4E-A89B-153C2443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9C7-123D-4B65-8FF4-9DA40DEB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5C4-DB1A-4D71-AD1F-5B5BE834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07B-4BFC-430C-9568-EF18823F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DBE-EA6E-460D-8DDD-11FAC9B7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999-3E59-49B8-AAAB-BEEC044E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F5C-5EB4-4F25-B673-CAB40ECE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9A7-F12F-45BA-8E9D-FB47C34C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D07-A2A1-402C-BB47-1C98FAB8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B9A-A3C2-442A-B6C6-B979A651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7484-081B-4249-988A-A5B1DB088F4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coração ferve com palavras boas, falo do que tenho feito no tocante ao Rei. A minha língua é a pena de um destro escrit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filha, e olha, e inclina os teus ouvidos; esquece-te do teu povo e da casa do t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se afeiçoará da tua formosura, pois ele é teu Senhor; adora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filha de Tiro estará ali com presentes; os ricos do povo suplicarão o teu fa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ilha do rei é toda ilustre lá dentro; o seu vestido é entretecido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á-la-ão ao rei com vestidos bordados; as virgens que a acompanham a trarão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alegria e regozijo as trarão; elas entrarão no paláci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lugar de teus pais estarão teus filhos; deles farás príncipes sobr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ei lembrado o teu nome de geração em geração; por isso os povos te louvarão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és mais formoso do que os filhos dos homens; a graça se derramou em teus lábios; por isso Deus te abençoou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inge a tua espada à coxa, ó valente, com a tua glória e a tua majes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ste teu esplendor cavalga prosperamente, por causa da verdade, da mansidão e da justiça; e a tua destra te ensinará coisas terrí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tuas flechas são agudas no coração dos inimigos do rei, e por elas os povos caíram debaix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u trono, ó Deus, é eterno e perpétuo; o cetro do teu reino é um cetro de e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amas a justiça e odeias a impiedade; por isso Deus, o teu Deus, te ungiu com óleo de alegria mais do que a teus companh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tuas vestes cheiram a mirra e aloés e cássia, desde os palácios de marfim de onde te aleg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filhas dos reis estavam entre as tuas ilustres mulheres; à tua direita estava a rainha ornada de finíssimo ouro de Of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24Z</dcterms:created>
  <dc:creator>Admin</dc:creator>
  <dc:description/>
  <dc:language>en-US</dc:language>
  <cp:lastModifiedBy>Admin</cp:lastModifiedBy>
  <dcterms:modified xsi:type="dcterms:W3CDTF">2008-07-31T00:25:24Z</dcterms:modified>
  <cp:revision>1</cp:revision>
  <dc:subject/>
  <dc:title>Slide 1</dc:title>
</cp:coreProperties>
</file>