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9EF-6BBE-440E-88C2-701BD3BA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F1B-636E-4060-8D37-3342A422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6F3-6A8D-4ED3-A77F-289A82D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E38-D102-4787-8F64-37F42535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BDE-1514-4F76-8F4F-704545A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074-4684-4838-8319-BB5BA27D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BCF-135D-4043-8B30-6B984267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5CC-F11A-4818-B452-F17B0C0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D29-E4A0-4952-AC33-6FE9529C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9A7-AC97-404E-A6FB-72BB9917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1B4-558B-4D79-AA4C-5AAB292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264-AD26-4F01-A663-6F1FB22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80CA-D190-412A-B0AE-2AE1E2FAC7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rou Ana, e disse: O meu coração exulta ao SENHOR, o meu poder está exaltado no SENHOR; a minha boca se dilatou sobre os meus inimigos, porquanto me alegro n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contendem com o SENHOR serão quebrantados, desde os céus trovejará sobre eles; o SENHOR julgará as extremidades da terra; e dará força ao seu rei, e exaltará o poder do s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cana foi a Ramá, à sua casa; porém o menino ficou servindo ao SENHOR, perante o sacerdote 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m, porém, os filhos de Eli filhos de Belial; não conheci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costume daqueles sacerdotes com o povo era que, oferecendo alguém algum sacrifício, estando-se cozendo a carne, vinha o moço do sacerdote, com um garfo de três dentes em s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fiava-o na caldeira, ou na panela, ou no caldeirão, ou na marmita; e tudo quanto o garfo tirava, o sacerdote tomava para si; assim faziam a todo o Israel que ia ali a Si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ntes de queimarem a gordura vinha o moço do sacerdote, e dizia ao homem que sacrificava: Dá essa carne para assar ao sacerdote; porque não receberá de ti carne cozida, mas cr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-lhe o homem: Queime-se primeiro a gordura de hoje, e depois toma para ti quanto desejar a tua alma, então ele lhe dizia: Não, agora a hás de dar, e, se não, por força a tom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, pois, muito grande o pecado destes moços perante o SENHOR, porquanto os homens desprezavam a ofert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muel ministrava perante o SENHOR, sendo ainda jovem, vestido com um éfode de l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 mãe lhe fazia uma túnica pequena, e de ano em ano lha trazia, quando com seu marido subia para oferecer o sacrifício anu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santo como o SENHOR; porque não há outro fora de ti; e rocha nenhuma há como 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 abençoava a Elcana e a sua mulher, e dizia: O SENHOR te dê descendência desta mulher, pela petição que fez ao SENHOR. E voltavam para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itou, pois, o SENHOR a Ana, que concebeu, e deu à luz três filhos e duas filhas; e o jovem Samuel crescia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, porém, Eli já muito velho, e ouvia tudo quanto seus filhos faziam a todo o Israel, e de como se deitavam com as mulheres que em bandos se ajuntavam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Por que fazeis tais coisas? Pois ouço de todo este povo os vossos male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, filhos meus, porque não é boa esta fama que ouço; fazeis transgredir o pov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cando homem contra homem, os juízes o julgarão; pecando, porém, o homem contra o SENHOR, quem rogará por ele? Mas não ouviram a voz de seu pai, porque o SENHOR os queria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jovem Samuel ia crescendo, e fazia-se agradável, assim para com o SENHOR, como também para com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um homem de Deus a Eli, e disse-lhe: Assim diz o SENHOR: Não me manifestei, na verdade, à casa de teu pai, estando eles ainda no Egito, na casa de Faraó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o escolhi dentre todas as tribos de Israel por sacerdote, para oferecer sobre o meu altar, para acender o incenso, e para trazer o éfode perante mim; e dei à casa de teu pai todas as ofertas queimada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pisastes o meu sacrifício e a minha oferta de alimentos, que ordenei na minha morada, e honras a teus filhos mais do que a mim, para vos engordardes do principal de todas as ofertas do meu povo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ultipliqueis palavras de altivez, nem saiam coisas arrogantes da vossa boca; porque o SENHOR é o Deus de conhecimento, e por ele são as obras pesadas na bal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diz o SENHOR Deus de Israel: Na verdade tinha falado eu que a tua casa e a casa de teu pai andariam diante de mim perpetuamente; porém agora diz o SENHOR: Longe de mim tal coisa, porque aos que me honram honrarei, porém os que me desprezam ser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 em que cortarei o teu braço e o braço da casa de teu pai, para que não haja mais ancião algum em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rás o aperto da morada de Deus, em lugar de todo o bem que houvera de fazer a Israel; nem haverá por todos os dias ancião algum em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, porém, a quem eu não desarraigar do meu altar será para te consumir os olhos e para te entristecer a alma; e toda a multidão da tua casa morrerá quando chegar à idade varon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te será por sinal, a saber: o que acontecerá a teus dois filhos, a Hofni e a Finéias; ambos morrerão no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suscitarei para mim um sacerdote fiel, que procederá segundo o meu coração e a minha alma, e eu lhe edificarei uma casa firme, e andará sempre diante do m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todo aquele que restar da tua casa virá a inclinar-se diante dele por uma moeda de prata e por um bocado de pão, e dirá: Rogo-te que me admitas a algum ministério sacerdotal, para que possa comer um pedaço 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rco dos fortes foi quebrado, e os que tropeçavam foram cingidos de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artos se alugaram por pão, e cessaram os famintos; até a estéril deu à luz sete filhos, e a que tinha muitos filhos enfraqu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o que tira a vida e a dá; faz descer à sepultura e faz tornar a subir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mpobrece e enriquece; abaixa e também ex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o pobre do pó, e desde o monturo exalta o necessitado, para o fazer assentar entre os príncipes, para o fazer herdar o trono de glória; porque do SENHOR são os alicerces da terra, e assentou sobre eles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és dos seus santos guardará, porém os ímpios ficarão mudos nas trevas; porque o homem não prevalecerá pel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24Z</dcterms:created>
  <dc:creator>Admin</dc:creator>
  <dc:description/>
  <dc:language>en-US</dc:language>
  <cp:lastModifiedBy>Admin</cp:lastModifiedBy>
  <dcterms:modified xsi:type="dcterms:W3CDTF">2008-07-30T23:46:24Z</dcterms:modified>
  <cp:revision>1</cp:revision>
  <dc:subject/>
  <dc:title>Slide 1</dc:title>
</cp:coreProperties>
</file>