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701-527F-4642-A14C-D438C7E2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3F5-9170-48CA-802C-866A6C5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F03-4F57-4D25-94AF-DF4DF050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01E-80FF-4442-A3E7-3DFA0D1D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5A2-7760-4E04-9266-7E8656D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147-0A4A-4665-8297-3A12B40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961-1DB8-45C0-AD3D-E4055DC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200-E371-4997-96F1-170E165F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05D-ADCC-4AAC-A0F2-2B264B6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3CE-000E-4A77-86BA-80BA19D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87A-1C75-4700-9BA9-3222E22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E73-3309-4960-AE8E-D915644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0C85-C757-4E87-88FA-5A7E34FE565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rotará um rebento do tronco de Jessé, e das suas raízes um renovo fruti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 que a raiz de Jessé, a qual estará posta por estandarte dos povos, será buscada pelos gentios; e o lugar do seu repouso será glor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 naquele dia o Senhor tornará a pôr a sua mão para adquirir outra vez o remanescente do seu povo, que for deixado, da Assíria, e do Egito, e de Patros, e da Etiópia, e de Elã, e de Sinar, e de Hamate, e das ilha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á um estandarte entre as nações, e ajuntará os desterrados de Israel, e os dispersos de Judá congregará desde os quatro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fastar-se-á a inveja de Efraim, e os adversários de Judá serão desarraigados; Efraim não invejará a Judá, e Judá não oprimirá a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voarão sobre os ombros dos filisteus ao ocidente; juntos despojarão aos do oriente; em Edom e Moabe porão as suas mãos, e os filhos de Amom lhes obed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struirá totalmente a língua do mar do Egito, e moverá a sua mão contra o rio com a força do seu vento e, ferindo-o, dividi-lo-á em sete correntes e fará que por ele passem com sapatos se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caminho plano para o remanescente do seu povo, que for deixado da Assíria, como sucedeu a Israel no dia em que subi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ousará sobre ele o Espírito do SENHOR, o espírito de sabedoria e de entendimento, o espírito de conselho e de fortaleza, o espírito de conhecimento e de temo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eitar-se-á no temor do SENHOR; e não julgará segundo a vista dos seus olhos, nem repreenderá segundo o ouvir dos s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ulgará com justiça aos pobres, e repreenderá com eqüidade aos mansos da terra; e ferirá a terra com a vara de sua boca, e com o sopro dos seus lábios matará ao ímp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justiça será o cinto dos seus lombos, e a fidelidade o cinto dos seus r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ará o lobo com o cordeiro, e o leopardo com o cabrito se deitará, e o bezerro, e o filho de leão e o animal cevado andarão juntos, e um menino pequeno os gui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aca e a ursa pastarão juntas, seus filhos se deitarão juntos, e o leão comerá palha como o b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rincará a criança de peito sobre a toca da áspide, e a desmamada colocará a sua mão na cova do basili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fará mal nem dano algum em todo o meu santo monte, porque a terra se encherá do conhecimento do SENHOR, como as águas cobrem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54Z</dcterms:created>
  <dc:creator>Admin</dc:creator>
  <dc:description/>
  <dc:language>en-US</dc:language>
  <cp:lastModifiedBy>Admin</cp:lastModifiedBy>
  <dcterms:modified xsi:type="dcterms:W3CDTF">2008-07-30T23:54:54Z</dcterms:modified>
  <cp:revision>1</cp:revision>
  <dc:subject/>
  <dc:title>Slide 1</dc:title>
</cp:coreProperties>
</file>