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D64-7A37-4EE2-B840-AEA3A0E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AEB-98C0-4F97-913E-691E4E3E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1C4-1A76-4B52-A75D-AEC7D884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F06-61EF-4598-ACC6-CDA653E8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F55-A787-4BD8-9685-522E870F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FF1-E230-4949-8888-CE51520D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D1D-C45C-4BC1-8EE5-4F52234D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C0C-5893-4814-9E64-43BD4A67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B9B-FE97-44D9-9715-BF836F0A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775-B4F2-4413-8AB5-183235BD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372-4AC4-495A-85CB-EF7E077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E23-7ACD-4BF2-9D42-B6AC5EC9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7CC-994A-4D55-9050-6533741C4A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rofeta ou sonhador de sonhos se levantar no meio de ti, e te der um sinal ou prodíg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pedrejarás, até que morra, pois te procurou apartar do SENHOR teu Deus, que te tirou da terra do Egito, da casa da servi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 o Israel o ouça e o tema, e não torne a fazer semelhante maldade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uvires dizer, de alguma das tuas cidades que o SENHOR teu Deus te dá para ali habita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ns homens, filhos de Belial, que saíram do meio de ti, incitaram os moradores da sua cidade, dizendo: Vamos, e sirvamos a outros deuses que não conhece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nquirirás e investigarás, e com diligência perguntarás; e eis que, sendo verdade, e certo que se fez tal abominação no meio de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ferirás, ao fio da espada, os moradores daquela cidade, destruindo a ela e a tudo o que nela houver, até o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ás todo o seu despojo no meio da sua praça; e a cidade e todo o seu despojo queimarás totalmente para o SENHOR teu Deus, e será montão perpétuo, nunca mais se edif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ão se pegará à tua mão nada do anátema, para que o SENHOR se aparte do ardor da sua ira, e te faça misericórdia, e tenha piedade de ti, e te multiplique, como jurou a t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uvires a voz do SENHOR teu Deus, para guardares todos os seus mandamentos que hoje te ordeno; para fazeres o que for reto aos olhos d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 o tal sinal ou prodígio, de que te houver falado, dizendo: Vamos após outros deuses, que não conheceste, e sirvamo-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uvirás as palavras daquele profeta ou sonhador de sonhos; porquanto o SENHOR vosso Deus vos prova, para saber se amais o SENHOR vosso Deus com todo o vosso coração, e com toda a voss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ós o SENHOR vosso Deus andareis, e a ele temereis, e os seus mandamentos guardareis, e a sua voz ouvireis, e a ele servireis, e a ele vos acheg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profeta ou sonhador de sonhos morrerá, pois falou rebeldia contra o SENHOR vosso Deus, que vos tirou da terra do Egito, e vos resgatou da casa da servidão, para te apartar do caminho que te ordenou o SENHOR teu Deus, para andares nele: assim 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 incitar teu irmão, filho da tua mãe, ou teu filho, ou tua filha, ou a mulher do teu seio, ou teu amigo, que te é como a tua alma, dizendo-te em segredo: Vamos, e sirvamos a outros deuses que não conheceste, nem tu nem t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tre os deuses dos povos que estão em redor de vós, perto ou longe de ti, desde uma extremidade da terra até à outra extrem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sentirás com ele, nem o ouvirás; nem o teu olho o poupará, nem terás piedade dele, nem o esconderá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ertamente o matarás; a tua mão será a primeira contra ele, para o matar; e depois a mão de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55Z</dcterms:created>
  <dc:creator>Admin</dc:creator>
  <dc:description/>
  <dc:language>en-US</dc:language>
  <cp:lastModifiedBy>Admin</cp:lastModifiedBy>
  <dcterms:modified xsi:type="dcterms:W3CDTF">2008-07-30T23:27:55Z</dcterms:modified>
  <cp:revision>1</cp:revision>
  <dc:subject/>
  <dc:title>Slide 1</dc:title>
</cp:coreProperties>
</file>