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88B-F33E-4B35-BEA1-D066CA34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661-E2C8-4F9F-851F-3917BA9B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104-D298-4493-8339-76667BFD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6DF-7617-49DB-9D01-8C471FE3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E7F-7884-4777-B362-195FCA0D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F5F-7894-4C53-8CB0-D7699A05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B6A-0768-4EDB-B539-9085884E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D22-8DC9-4E0B-98D1-FBB808FD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5CC-0A11-436B-83AB-894211F4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BE0-12A7-4880-BD10-31922944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C69-6FEF-42F3-B20B-4EF5D249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C60-3627-45BA-A393-74B3F1A3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48E9-AAD4-47E1-8B37-B527F7C6875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Roboão a Siquém, porque todo o Israel se reunira ali, para fazê-l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jovens, que com ele haviam crescido, lhe falaram, dizendo: Assim dirás a este povo, que te falou: Teu pai agravou o nosso jugo, tu porém alivia-nos; assim, pois, lhe falarás: O meu dedo mínimo é mais grosso do que os lombos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, se meu pai vos carregou de um jugo pesado, eu ainda aumentarei o vosso jugo; meu pai vos castigou com açoites, porém eu vos castigarei com escorpi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Jeroboão, e todo o povo, ao terceiro dia, a Roboão, como o rei havia ordenado, dizendo: Voltai a mim ao terceir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lhes respondeu asperamente; porque o rei Roboão deixara o conselho dos anci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-lhes conforme o conselho dos jovens, dizendo: Meu pai agravou o vosso jugo, porém eu o aumentarei mais; meu pai vos castigou com açoites, porém eu vos castigarei com escorpi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rei não deu ouvidos ao povo, porque esta mudança vinha de Deus, para que o SENHOR confirmasse a sua palavra, a qual falara pelo ministério de Aías, o silonita, a Jeroboão, filho de Neb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todo o Israel, que o rei não lhe dava ouvidos, tornou-lhe o povo a responder, dizendo: Que parte temos nós com Davi? Já não temos herança no filho de Jessé. Cada um à sua tenda, ó Israel! Olha agora pela tua casa, ó Davi. Assim todo o Isra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quanto aos filhos de Israel, que habitavam nas cidades de Judá, sobre eles reinou Rob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Roboão enviou a Hadorão, que tinha cargo dos tributos; porém os filhos de Israel o apedrejaram, e ele morreu. Então o rei Roboão se esforçou para subir ao seu carro, e fugiu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rebelaram os israelitas contra a casa de Davi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ouvindo-o Jeroboão, filho de Nebate (o qual estava então no Egito para onde fugira da presença do rei Salomão), voltou do Eg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nviaram a ele, e o chamaram; e vieram, Jeroboão e todo o Israel, e falaram a Roboão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u pai fez duro o nosso jugo; agora, pois, alivia tu a dura servidão de teu pai, e o pesado jugo que nos impôs, e nós te servi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Daqui a três dias voltai a mim. Então o povo se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Roboão conselho com os anciãos, que estiveram perante Salomão seu pai, enquanto viveu, dizendo: Como aconselhais vós que se responda a este p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falaram, dizendo: Se te fizeres benigno e afável para com este povo, e lhes falares boas palavras, todos os dias serão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deixou o conselho que os anciãos lhe deram; e tomou conselho com os jovens, que haviam crescido com ele, e estavam perant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Que aconselhais vós, que respondamos a este povo, que me falou, dizendo: Alivia o jugo que teu pai nos impô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29Z</dcterms:created>
  <dc:creator>Admin</dc:creator>
  <dc:description/>
  <dc:language>en-US</dc:language>
  <cp:lastModifiedBy>Admin</cp:lastModifiedBy>
  <dcterms:modified xsi:type="dcterms:W3CDTF">2008-07-30T23:49:29Z</dcterms:modified>
  <cp:revision>1</cp:revision>
  <dc:subject/>
  <dc:title>Slide 1</dc:title>
</cp:coreProperties>
</file>