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8627-4FBC-4450-8DCB-B38D3AAF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5D08-05B4-48D3-AF6D-0385FF4D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EE0F-B4DF-47C5-A26C-E0064E20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8837-ACDA-418B-9EBC-5FD75503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062E-5472-4EB5-9DF0-9A8E3DAA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8970-58FF-44E2-92CD-F2BC94E4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83A0-A680-4C70-9D49-A6DCF6E6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CC2D-FA1E-4F68-8FCD-5DCDFDEF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19D1-DBAD-48F1-9393-5D3F6B24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973B-4681-43EE-B6D4-017C9DD5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A97A-CADD-4342-AE59-76FC8124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2900-4C81-4152-A191-19CF37A9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D95C-0EF5-4EC7-BC7A-0DD81336012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PASCENTAVA Moisés o rebanho de Jetro, seu sogro, sacerdote em Midiã; e levou o rebanho atrás do deserto, e chegou ao monte de Deus, a Hore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m agora, pois, e eu te enviarei a Faraó para que tires o meu povo (os filhos de Israel)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oisés disse a Deus: Quem sou eu, que vá a Faraó e tire do Egito os filhos de Isra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Certamente eu serei contigo; e isto te será por sinal de que eu te enviei: Quando houveres tirado este povo do Egito, servireis a Deus neste mo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Moisés a Deus: Eis que quando eu for aos filhos de Israel, e lhes disser: O Deus de vossos pais me enviou a vós; e eles me disserem: Qual é o seu nome? Que lhes dire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eus a Moisés: EU SOU O QUE SOU. Disse mais: Assim dirás aos filhos de Israel: EU SOU me enviou a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s disse mais a Moisés: Assim dirás aos filhos de Israel: O SENHOR Deus de vossos pais, o Deus de Abraão, o Deus de Isaque, e o Deus de Jacó, me enviou a vós; este é meu nome eternamente, e este é meu memorial de geração em ge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i, e ajunta os anciãos de Israel e dize-lhes: O SENHOR Deus de vossos pais, o Deus de Abraão, de Isaque e de Jacó, me apareceu, dizendo: Certamente vos tenho visitado e visto o que vos é feito n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eu disse: Far-vos-ei subir da aflição do Egito à terra do cananeu, do heteu, do amorreu, do perizeu, do heveu e do jebuseu, a uma terra que mana leite e m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rão a tua voz; e irás, tu com os anciãos de Israel, ao rei do Egito, e dir-lhe-eis: O SENHOR Deus dos hebreus nos encontrou. Agora, pois, deixa-nos ir caminho de três dias para o deserto, para que sacrifiquemos ao SENHOR n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ei, porém, que o rei do Egito não vos deixará ir, nem ainda por uma mão f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pareceu-lhe o anjo do SENHOR em uma chama de fogo do meio duma sarça; e olhou, e eis que a sarça ardia no fogo, e a sarça não se consum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estenderei a minha mão, e ferirei ao Egito com todas as minhas maravilhas que farei no meio dele; depois vos deixará 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darei graça a este povo aos olhos dos egípcios; e acontecerá que, quando sairdes, não saireis vazi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ada mulher pedirá à sua vizinha e à sua hóspeda jóias de prata, e jóias de ouro, e vestes, as quais poreis sobre vossos filhos e sobre vossas filhas; e despojareis os egípc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disse: Agora me virarei para lá, e verei esta grande visão, porque a sarça não se quei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ndo o SENHOR que se virava para ver, bradou Deus a ele do meio da sarça, e disse: Moisés, Moisés. Respondeu ele: Eis-me 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Não te chegues para cá; tira os sapatos de teus pés; porque o lugar em que tu estás é terra sa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: Eu sou o Deus de teu pai, o Deus de Abraão, o Deus de Isaque, e o Deus de Jacó. E Moisés encobriu o seu rosto, porque temeu olhar par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: Tenho visto atentamente a aflição do meu povo, que está no Egito, e tenho ouvido o seu clamor por causa dos seus exatores, porque conheci as suas 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desci para livrá-lo da mão dos egípcios, e para fazê-lo subir daquela terra, a uma terra boa e larga, a uma terra que mana leite e mel; ao lugar do cananeu, e do heteu, e do amorreu, e do perizeu, e do heveu, e do jebus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, eis que o clamor dos filhos de Israel é vindo a mim, e também tenho visto a opressão com que os egípcios os opri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1:11Z</dcterms:created>
  <dc:creator>Admin</dc:creator>
  <dc:description/>
  <dc:language>en-US</dc:language>
  <cp:lastModifiedBy>Admin</cp:lastModifiedBy>
  <dcterms:modified xsi:type="dcterms:W3CDTF">2008-07-30T23:31:11Z</dcterms:modified>
  <cp:revision>1</cp:revision>
  <dc:subject/>
  <dc:title>Slide 1</dc:title>
</cp:coreProperties>
</file>