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080-0984-4761-8FE3-E0DA03B1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7F1-2123-46C5-A956-F1519BE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20-5AFC-425B-8128-26F0CBBB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611-3218-4DD2-84AB-C62602B8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003-5EBB-4FA0-ACE9-F3F0EF5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0CC-6B7F-4A7D-B202-3BD4BB16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9F3-9F27-4751-A673-0162167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744-784D-45D2-B2CE-7719CB67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B71-EA6A-48C6-8AD7-77B6141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2DD-54AB-4632-AE10-357BEB6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6F3-6DED-4DBE-8773-CE8A7EB1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853-872B-4B73-9E87-4A95C1B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96A-9457-4EC1-91E8-8F3978EA17B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ULO, e Silvano, e Timóteo, à igreja dos tessalonicenses em Deus, o Pai, e no Senhor Jesus Cristo: Graça e paz tenhais de Deus nosso Pai e do Senhor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sperar dos céus a seu Filho, a quem ressuscitou dentre os mortos, a saber, Jesus, que nos livra da ira futu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pre damos graças a Deus por vós todos, fazendo menção de vós em nossas or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ndo-nos sem cessar da obra da vossa fé, do trabalho do amor, e da paciência da esperança em nosso Senhor Jesus Cristo, diante de nosso Deus e Pai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abendo, amados irmãos, que a vossa eleição é de Deu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nosso evangelho não foi a vós somente em palavras, mas também em poder, e no Espírito Santo, e em muita certeza, como bem sabeis quais fomos entre vós, por amor de vó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ós fostes feitos nossos imitadores, e do Senhor, recebendo a palavra em muita tribulação, com gozo do Espírito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maneira que fostes exemplo para todos os fiéis na Macedônia e Aca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por vós soou a palavra do Senhor, não somente na Macedônia e Acaia, mas também em todos os lugares a vossa fé para com Deus se espalhou, de tal maneira que já dela não temos necessidade de falar coisa algum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 Tessalonicense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les mesmos anunciam de nós qual a entrada que tivemos para convosco, e como dos ídolos vos convertestes a Deus, para servir o Deus vivo e verdadeir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48:03Z</dcterms:created>
  <dc:creator>Admin</dc:creator>
  <dc:description/>
  <dc:language>en-US</dc:language>
  <cp:lastModifiedBy>Admin</cp:lastModifiedBy>
  <dcterms:modified xsi:type="dcterms:W3CDTF">2008-07-30T23:48:03Z</dcterms:modified>
  <cp:revision>1</cp:revision>
  <dc:subject/>
  <dc:title>Slide 1</dc:title>
</cp:coreProperties>
</file>