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FDCB-9E96-4AE0-9FD6-DE6606D8A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BF35-A3F4-4056-A213-7EEDC29C1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1EC4-0C09-4FE5-9FFB-5B404D59B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BD92-566F-4F55-B0C3-E32897D0B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46B4-CE7B-491B-82A9-3F7F50B12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816F-9D68-4401-80ED-D2BB21447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37FC-9329-422E-9008-88516CBF2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9773-8A08-4F6C-95D2-F6964A230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CA84-3516-441B-9A22-3052ED8CF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6D6D-8E49-4CED-8788-E0C60E4D1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205E-39FB-4F3A-A1DC-8846310AA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886F-9E1F-45C1-8F2C-E50DBAAEA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39E65-6CBB-4A16-B33F-EEF47119E460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66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o SENHOR: O céu é o meu trono, e a terra o escabelo dos meus pés; que casa me edificaríeis vós? E qual seria o lugar do meu descans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66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egozijai-vos com Jerusalém, e alegrai-vos por ela, vós todos os que a amais; enchei-vos por ela de alegria, todos os que por ela pranteaste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66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mameis, e vos farteis dos peitos das suas consolações; para que sugueis, e vos deleiteis com a abundância da sua gló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66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ssim diz o SENHOR: Eis que estenderei sobre ela a paz como um rio, e a glória dos gentios como um ribeiro que transborda; então mamareis, ao colo vos trarão, e sobre os joelhos vos afaga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66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alguém a quem consola sua mãe, assim eu vos consolarei; e em Jerusalém vós sereis consol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66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ós vereis e alegrar-se-á o vosso coração, e os vossos ossos reverdecerão como a erva tenra; então a mão do SENHOR será notória aos seus servos, e ele se indignará contra os seus inimig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66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eis que o SENHOR virá com fogo; e os seus carros como um torvelinho; para tornar a sua ira em furor, e a sua repreensão em chamas de fo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66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com fogo e com a sua espada entrará o SENHOR em juízo com toda a carne; e os mortos do SENHOR serão multiplic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66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que se santificam, e se purificam, nos jardins uns após outros; os que comem carne de porco, e a abominação, e o rato, juntamente serão consumidos, diz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66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conheço as suas obras e os seus pensamentos; vem o dia em que ajuntarei todas as nações e línguas; e virão e verão a minha gló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66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orei entre eles um sinal, e os que deles escaparem enviarei às nações, a Társis, Pul, e Lude, flecheiros, a Tubal e Javã, até às ilhas de mais longe, que não ouviram a minha fama, nem viram a minha glória; e anunciarão a minha glória entre os gentio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66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 minha mão fez todas estas coisas, e assim todas elas foram feitas, diz o SENHOR; mas para esse olharei, para o pobre e abatido de espírito, e que treme da minha palav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66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rarão a todos os vossos irmãos, dentre todas as nações, por oferta ao SENHOR, sobre cavalos, e em carros, e em liteiras, e sobre mulas, e sobre dromedários, trarão ao meu santo monte, a Jerusalém, diz o SENHOR; como quando os filhos de Israel trazem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66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ambém deles tomarei a alguns para sacerdotes e para levitas, diz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66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como os novos céus, e a nova terra, que hei de fazer, estarão diante da minha face, diz o SENHOR, assim também há de estar a vossa posteridade e o vosso no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66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rá que desde uma lua nova até à outra, e desde um sábado até ao outro, virá toda a carne a adorar perante mim, diz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66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airão, e verão os cadáveres dos homens que prevaricaram contra mim; porque o seu verme nunca morrerá, nem o seu fogo se apagará; e serão um horror a toda a carn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66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m mata um boi é como o que tira a vida a um homem; quem sacrifica um cordeiro é como o que degola um cão; quem oferece uma oblação é como o que oferece sangue de porco; quem queima incenso em memorial é como o que bendiz a um ídolo; também estes esc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66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eu escolherei as suas calamidades, farei vir sobre eles os seus temores; porquanto clamei e ninguém respondeu, falei e não escutaram; mas fizeram o que era mau aos meus olhos, e escolheram aquilo em que eu não tinha praz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66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vi a palavra do SENHOR, os que tremeis da sua palavra. Vossos irmãos, que vos odeiam e que para longe vos lançam por amor do meu nome, dizem: Seja glorificado o SENHOR, para que vejamos a vossa alegria; mas eles serão confundi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66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Uma voz de grande rumor virá da cidade, uma voz do templo, a voz do SENHOR, que dá o pago aos seus inimig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66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ntes que estivesse de parto, deu à luz; antes que lhe viessem as dores, deu à luz um meni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66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m jamais ouviu tal coisa? Quem viu coisas semelhantes? Poder-se-ia fazer nascer uma terra num só dia? Nasceria uma nação de uma só vez? Mas Sião esteve de parto e já deu à luz seus fi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66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briria eu a madre, e não geraria? diz o SENHOR; geraria eu, e fecharia a madre? diz o teu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7:13Z</dcterms:created>
  <dc:creator>Admin</dc:creator>
  <dc:description/>
  <dc:language>en-US</dc:language>
  <cp:lastModifiedBy>Admin</cp:lastModifiedBy>
  <dcterms:modified xsi:type="dcterms:W3CDTF">2008-07-30T23:57:13Z</dcterms:modified>
  <cp:revision>1</cp:revision>
  <dc:subject/>
  <dc:title>Slide 1</dc:title>
</cp:coreProperties>
</file>