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636-9972-4ACA-B8A4-7E4D7E0D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3C5-FFB9-42E9-98A4-944D1AC8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0CC-3F4C-41AA-A18F-5D58F087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729-1404-461C-9D7A-9A7FA80A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691-0E23-46CB-815E-DDE6BDE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596-5FA0-434E-89E0-2D492F0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EB9-3123-4875-8707-85F9BACE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7B4-9FE3-4415-96C6-22E01350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12B-3272-469F-B33D-B7D923CB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E70-BC5D-4F40-AE42-C928928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A80-A3E3-442D-A524-0D29213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8F6-B06D-4941-98B4-FC1788E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5FE5-7838-4643-A24A-14D91CA2854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 foi contado por genealogias, que estão escritas no livro dos reis de Israel; e os de Judá foram transportados a Babilônia, por causa da sua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sacerdotes: Jedaías, e Jeoiaribe, e Jaqu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arias, filho de Hilquias, filho de Mesulão, filho de Zadoque, filho de Meraiote, filho de Aitube, maioral da cas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aías, filho de Jeroão, filho de Pasur, filho de Malquias, e Masai, filho de Adiel, filho de Jazera, filho de Mesulão, filho de Mesilemite, filho de Im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seus irmãos, cabeças nas casas de seus pais, mil, setecentos e sessenta, homens valentes para a obra do ministério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levitas: Semaías, filho de Hassube, filho de Azricão, filho de Hasabias, dos filhos de Merar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quebacar, Heres e Galal; e Matanias, filho de Mica, filho de Zicri, filho de Asaf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badias, filho de Semaías, filho de Galal, filho de Jedutum; e Berequias, filho de Asa, filho de Elcana, morador das aldeias dos netofat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porteiros: Salum, Acube, Talmom, Aimã, e seus irmãos, cujo chefe era Sal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aquele tempo estavam de guarda à porta do rei, do lado do oriente; estes foram os porteiros dos arraiais dos filhos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um, filho de Coré, filho de Ebiasafe, filho de Corá, e seus irmãos da casa de seu pai, os coraítas, tinham cargo da obra do ministério, e eram guardas das portas do tabernáculo, como seus pais foram responsáveis pelo arraial do SENHOR, e guardas 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meiros habitantes, que moravam na sua possessão e nas suas cidades, foram os israelitas, os sacerdotes, os levitas, e os netin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néias, filho de Eleazar, antes era líder entre eles; e o SENHOR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carias, filho de Meselemias, porteiro da entrad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, escolhidos para serem guardas das portas, foram duzentos e doze; e foram estes, segundo as suas aldeias, postos em suas genealogias; e Davi e Samuel, o vidente, os constituíram nos seus respectivos car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, pois, eles, e seus filhos, às portas da casa do SENHOR, na casa da tenda, junto aos guar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orteiros estavam aos quatro lados; ao oriente, ao ocidente, ao norte, e a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que estavam nas suas aldeias, deviam, de tempo em tempo, vir por sete dias para servirem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ia naquele ofício quatro porteiros principais que eram levitas, e tinham o encargo das câmaras e dos tesouros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oite ficavam em redor da casa de Deus, cuja guarda lhes tinha sido confiada, e tinham o encargo de abri-la ca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eles estavam encarregados dos utensílios do ministério, porque por conta os traziam e por conta os ti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les havia alguns que tinham o encargo dos objetos e de todos os utensílios do santuário; como também da flor de farinha, do vinho, do azeite, do incenso, e das especi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lguns dos filhos de Judá, e dos filhos de Benjamim, e dos filhos de Efraim e Manassés, habitaram em Jerusalé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filhos dos sacerdotes eram os obreiros da confecção das especi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itias, dentre os levitas, o primogênito de Salum, o coraíta, tinha o encargo da obra que se fazia em sert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seus irmãos, dos filhos dos coatitas, tinham o encargo de preparar os pães da proposição para todos o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s foram também os cantores, chefes dos pais entre os levitas, habitando nas câmaras, isentos de serviços; porque de dia e de noite estava a seu cargo ocuparem-se naquel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cabeças dos pais entre os levitas, chefes em suas gerações; estes habitaram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m Gibeão habitaram Jeiel, pai de Gibeão (e era o nome de sua mulher Maac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filho primogênito Abdom; depois Zur, Quis, Baal, Ner e Nada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dor, Aiô, Zacarias e Micl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clote gerou a Simeão; e também estes habitaram em Jerusalém, defronte de seus irmãos,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r gerou a Quis; e Quis gerou a Saul, Saul gerou a Jônatas, a Malquisua, a Abinadabe e a Es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tai, filho de Amiúde, filho de Onri, filho de Inri, filho de Bani, dos filhos de Perez, filho de Jud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Jônatas foi Meribe-Baal, e Meribe-Baal gerou a M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ica foram: Pitom, Meleque e Tar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z gerou a Jaerá, e Jaerá gerou a Alemete, a Azmavete e a Zinri; e Zinri gerou a Mo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za gerou a Bineá, cujo filho foi Refaías, de quem foi filho Eleasá, cujo filho foi Az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Azel seis filhos, e estes foram os seus nomes: Azricão, Bocru, Ismael, Seraías, Obadias e Hanã; estes foram os filhos de Az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silonitas: Asaías o primogênito, e s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Zerá: Jeuel, e seus irmãos, seiscentos e noven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filhos de Benjamim: Salu, filho de Mesulão, filho de Hodavias, filho de Hassenu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bnéias, filho de Jeroão, e Elá, filho de Uzi, filho de Micri, e Mesulão, filho de Sefatias, filho de Reuel, filho de Ibnij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segundo as suas gerações, novecentos e cinqüenta e seis; todos estes homens foram chefes dos pais nas casa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54Z</dcterms:created>
  <dc:creator>Admin</dc:creator>
  <dc:description/>
  <dc:language>en-US</dc:language>
  <cp:lastModifiedBy>Admin</cp:lastModifiedBy>
  <dcterms:modified xsi:type="dcterms:W3CDTF">2008-07-30T23:42:54Z</dcterms:modified>
  <cp:revision>1</cp:revision>
  <dc:subject/>
  <dc:title>Slide 1</dc:title>
</cp:coreProperties>
</file>