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372-6424-4F72-AFBC-89C092C8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118-DE63-434F-8307-32C9A9EC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2AE-E8BB-4972-862C-37080ED7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1F9-66CF-4809-80DE-4DBF6A3B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EA1-3717-4A07-B098-2BC8BA35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477-6B68-41E7-95F1-E83A38DF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0C0-BD49-49A9-9509-B37A80C8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409-58F4-46E3-ADC8-3C57ECB5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376-3EBB-432C-B26F-5D847B20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413-41D5-4E75-8863-2E1D3F85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FB3-1CA2-4412-9AF0-954069DA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5DE-B194-4B78-834F-245BC85A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5E1A-4AED-4540-9B26-0897A42327E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OGO-VOS, pois, eu, o preso do Senhor, que andeis como é digno da vocação com que fostes chama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desceu é também o mesmo que subiu acima de todos os céus, para cumprir todas 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esmo deu uns para apóstolos, e outros para profetas, e outros para evangelistas, e outros para pastores e doutor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rendo o aperfeiçoamento dos santos, para a obra do ministério, para edificação do corpo de Cr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todos cheguemos à unidade da fé, e ao conhecimento do Filho de Deus, a homem perfeito, à medida da estatura completa de Cr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ão sejamos mais meninos inconstantes, levados em roda por todo o vento de doutrina, pelo engano dos homens que com astúcia enganam fraudulos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, seguindo a verdade em amor, cresçamos em tudo naquele que é a cabeça, Cr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qual todo o corpo, bem ajustado, e ligado pelo auxílio de todas as juntas, segundo a justa operação de cada parte, faz o aumento do corpo, para sua edificação em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go isto, e testifico no Senhor, para que não andeis mais como andam também os outros gentios, na vaidade da sua 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enebrecidos no entendimento, separados da vida de Deus pela ignorância que há neles, pela dureza do seu cor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, havendo perdido todo o sentimento, se entregaram à dissolução, para com avidez cometerem toda a impu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toda a humildade e mansidão, com longanimidade, suportando-vos uns aos outros em am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 não aprendestes assim a Cr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é que o tendes ouvido, e nele fostes ensinados, como está a verdade em Jes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, quanto ao trato passado, vos despojeis do velho homem, que se corrompe pelas concupiscências do engan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s renoveis no espírito da vossa me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s revistais do novo homem, que segundo Deus é criado em verdadeira justiça e sant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eixai a mentira, e falai a verdade cada um com o seu próximo; porque somos membros uns d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ai-vos, e não pequeis; não se ponha o sol sobre a voss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is lugar ao diab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furtava, não furte mais; antes trabalhe, fazendo com as mãos o que é bom, para que tenha o que repartir com o que tiver necess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aia da vossa boca nenhuma palavra torpe, mas só a que for boa para promover a edificação, para que dê graça aos que a ou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curando guardar a unidade do Espírito pelo vínculo da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entristeçais o Espírito Santo de Deus, no qual estais selados para o dia da reden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amargura, e ira, e cólera, e gritaria, e blasfêmia e toda a malícia sejam tiradas dentre vó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sede uns para com os outros benignos, misericordiosos, perdoando-vos uns aos outros, como também Deus vos perdoou em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um só corpo e um só Espírito, como também fostes chamados em uma só esperança da vossa voc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só SENHOR, uma só fé, um só batism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só Deus e Pai de todos, o qual é sobre todos, e por todos e em todos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graça foi dada a cada um de nós segundo a medida do dom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iz: Subindo ao alto, levou cativo o cativeiro, E deu dons a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isto  ele subiu  que é, senão que também antes tinha descido às partes mais baixas d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57Z</dcterms:created>
  <dc:creator>Admin</dc:creator>
  <dc:description/>
  <dc:language>en-US</dc:language>
  <cp:lastModifiedBy>Admin</cp:lastModifiedBy>
  <dcterms:modified xsi:type="dcterms:W3CDTF">2008-07-30T23:29:57Z</dcterms:modified>
  <cp:revision>1</cp:revision>
  <dc:subject/>
  <dc:title>Slide 1</dc:title>
</cp:coreProperties>
</file>