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694C-BA06-49C8-9EC0-925851BB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D96-0444-432B-8A29-A6E81C9A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9BB0-38AB-4834-8393-480FFD3D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6A54-BA66-4181-B8D7-871A5B30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FF6-C77C-40F3-9294-532ACF85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1BF2-18A3-42AC-802F-3497413D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E556-784F-469E-BB00-A466DBDB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8DD6-68C4-45E1-AF16-36F534EF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E2AF-98DA-4468-9D3E-03282607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A8C7-B14B-4979-AF15-730490F8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86F2-61AA-4FEA-841D-D4DB0DBD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4D0A-C9F6-4946-A56E-4094B205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5F5F-FBBD-4BD2-9021-DCD063C0FAC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ou Jesus à multidão, e aos seus discípul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vos chameis mestres, porque um só é o vosso Mestre, que é o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aior dentre vós será vosso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a si mesmo se exaltar será humilhado; e o que a si mesmo se humilhar será exal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i de vós, escribas e fariseus, hipócritas! pois que fechais aos homens o reino dos céus; e nem vós entrais nem deixais entrar aos que estão entr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e vós, escribas e fariseus, hipócritas! pois que devorais as casas das viúvas, sob pretexto de prolongadas orações; por isso sofrereis mais rigoroso juí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e vós, escribas e fariseus, hipócritas! pois que percorreis o mar e a terra para fazer um prosélito; e, depois de o terdes feito, o fazeis filho do inferno duas vezes mais do qu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e vós, condutores cegos! pois que dizeis: Qualquer que jurar pelo templo, isso nada é; mas o que jurar pelo ouro do templo, esse é dev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sensatos e cegos! Pois qual é maior: o ouro, ou o templo, que santifica o our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 que jurar pelo altar isso nada é; mas aquele que jurar pela oferta que está sobre o altar, esse é deve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sensatos e cegos! Pois qual é maior: a oferta, ou o altar, que santifica a ofert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Na cadeira de Moisés estão assentados os escribas e faris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o que jurar pelo altar, jura por ele e por tudo o que sobre ele est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 que jurar pelo templo, jura por ele e por aquele que nele habi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 que jurar pelo céu, jura pelo trono de Deus e por aquele que está assentado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e vós, escribas e fariseus, hipócritas! pois que dizimais a hortelã, o endro e o cominho, e desprezais o mais importante da lei, o juízo, a misericórdia e a fé; deveis, porém, fazer estas coisas, e não omitir aqu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dutores cegos! que coais um mosquito e engolis um came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e vós, escribas e fariseus, hipócritas! pois que limpais o exterior do copo e do prato, mas o interior está cheio de rapina e de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iseu cego! limpa primeiro o interior do copo e do prato, para que também o exterior fique li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e vós, escribas e fariseus, hipócritas! pois que sois semelhantes aos sepulcros caiados, que por fora realmente parecem formosos, mas interiormente estão cheios de ossos de mortos e de toda a imundí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ambém vós exteriormente pareceis justos aos homens, mas interiormente estais cheios de hipocrisia e de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e vós, escribas e fariseus, hipócritas! pois que edificais os sepulcros dos profetas e adornais os monumentos dos just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coisas, pois, que vos disserem que observeis, observai-as e fazei-as; mas não procedais em conformidade com as suas obras, porque dizem e não faz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eis: Se existíssemos no tempo de nossos pais, nunca nos associaríamos com eles para derramar o sangue dos prof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vós mesmos testificais que sois filhos dos que mataram os prof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chei vós, pois, a medida de vosso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pentes, raça de víboras! como escapareis da condenação do infern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eis que eu vos envio profetas, sábios e escribas; a uns deles matareis e crucificareis; e a outros deles açoitareis nas vossas sinagogas e os perseguireis de cidade em cid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sobre vós caia todo o sangue justo, que foi derramado sobre a terra, desde o sangue de Abel, o justo, até ao sangue de Zacarias, filho de Baraquias, que matastes entre o santuário e 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verdade vos digo que todas estas coisas hão de vir sobre esta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rusalém, Jerusalém, que matas os profetas, e apedrejas os que te são enviados! quantas vezes quis eu ajuntar os teus filhos, como a galinha ajunta os seus pintos debaixo das asas, e tu não quisest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a vossa casa vai ficar-vos deser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vos digo que desde agora me não vereis mais, até que digais: Bendito o que vem em nom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atam fardos pesados e difíceis de suportar, e os põem aos ombros dos homens; eles, porém, nem com o dedo querem movê-l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zem todas as obras a fim de serem vistos pelos homens; pois trazem largos filactérios, e alargam as franjas das suas vest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mam os primeiros lugares nas ceias e as primeiras cadeiras nas sinagog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saudações nas praças, e o serem chamados pelos homens; Rabi, Rab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, porém, não queirais ser chamados Rabi, porque um só é o vosso Mestre, a saber, o Cristo, e todos vós soi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ninguém na terra chameis vosso pai, porque um só é o vosso Pai, o qual está n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5:48Z</dcterms:created>
  <dc:creator>Admin</dc:creator>
  <dc:description/>
  <dc:language>en-US</dc:language>
  <cp:lastModifiedBy>Admin</cp:lastModifiedBy>
  <dcterms:modified xsi:type="dcterms:W3CDTF">2008-07-31T00:15:48Z</dcterms:modified>
  <cp:revision>1</cp:revision>
  <dc:subject/>
  <dc:title>Slide 1</dc:title>
</cp:coreProperties>
</file>