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7CA4-98B1-492C-8D1D-1CD11476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FBC6-B2FA-412D-A0C8-E7CBB1AF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275C-309D-441C-A63B-F8584DE6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1FB0-8587-4CE8-98F2-733117B3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C3EC-0A64-4963-B3BD-04E585D5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637E-C09D-48E6-87CA-A1C0C9BE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C1A2-1625-49EF-9E00-6ACABF39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12A1-AE37-40AE-BD17-44E20BFA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0855-07B6-434C-93C1-2D04FC63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BA3F-270D-476C-A43E-AF979927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56D0-5A06-4E45-874E-4242A44B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213E-83C7-4798-A3FA-5BA6E244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421E-AD1F-4C48-884E-EB37D623392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ROXIMARAM-SE os dias da morte de Davi; e deu ele ordem a Salomão, seu filh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dormiu com seus pais, e foi sepultado na cidade de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os dias que Davi reinou sobre Israel quarenta anos: sete anos reinou em Hebrom, e em Jerusalém reinou trinta e três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lomão se assentou no trono de Davi, seu pai, e o seu reino se fortificou sobreman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Adonias, filho de Hagite, a Bate-Seba, mãe de Salomão; e disse ela: De paz é a tua vinda? E ele disse: É de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le: Uma palavra tenho que dizer-te. E ela disse: Fa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, pois, ele: Bem sabes que o reino era meu, e todo o Israel tinha posto a vista em mim para que eu viesse a reinar, contudo o reino foi transferido e veio a ser de meu irmão, porque foi feito seu pel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que agora uma só petição te faço; não ma rejeites. E ela lhe disse: Fa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Peço-te que fales ao rei Salomão (porque ele não te rejeitará) que me dê por mulher a Abisague, a sunam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Bate-Seba: Bem, eu falarei por ti a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oi Bate-Seba ao rei Salomão, a falar-lhe por Adonias; e o rei se levantou a encontrar-se com ela, e se inclinou diante dela; então se assentou no seu trono, e fez pôr uma cadeira para a sua mãe, e ela se assentou à sua dire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vou pelo caminho de toda a terra; esforça-te, pois, e sê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la: Só uma pequena petição te faço; não ma rejeites. E o rei lhe disse: Pede, minha mãe, porque não ta neg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a disse: Dê-se Abisague, a sunamita, a Adonias, teu irmão, por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o rei Salomão, e disse a sua mãe: E por que pedes a Abisague, a sunamita, para Adonias? Pede também para ele o reino (porque é meu irmão maior), para ele, digo, e também para Abiatar, sacerdote, e para Joabe, filho de Zeru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rou o rei Salomão pelo SENHOR, dizendo: Assim Deus me faça, e outro tanto, se não falou Adonias esta palavra contra a su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vive o SENHOR, que me confirmou, e me fez assentar no trono de Davi, meu pai, e que me tem feito casa, como tinha falado, que hoje morrerá Adon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ou o rei Salomão pela mão de Benaia, filho de Joiada, o qual arremeteu contra ele de modo que morr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Abiatar, o sacerdote, disse o rei: Vai para Anatote, para os teus campos, porque és homem digno de morte; porém hoje não te matarei, porquanto levaste a arca do Senhor DEUS diante de Davi, meu pai, e porquanto foste aflito em tudo quanto meu pai fo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ançou, pois, Salomão fora a Abiatar, para que não fosse sacerdote do SENHOR, para cumprir a palavra do SENHOR, que tinha falado sobre a casa de Eli em Sil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ou a notícia até Joabe (porque Joabe tinha se desviado seguindo a Adonias, ainda que não tinha se desviado seguindo a Absalão), e Joabe fugiu para o tabernáculo do SENHOR, e apegou-se às pontas do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 ao rei Salomão que Joabe tinha fugido para o tabernáculo do SENHOR; e eis que está junto ao altar; então Salomão enviou Benaia, filho de Joiada, dizendo: Vai, arremete sobr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guarda a ordenança do SENHOR teu Deus, para andares nos seus caminhos, e para guardares os seus estatutos, e os seus mandamentos, e os seus juízos, e os seus testemunhos, como está escrito na lei de Moisés; para que prosperes em tudo quanto fizeres, 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Benaia ao tabernáculo do SENHOR, e lhe disse: Assim diz o rei: Sai daí. E disse ele: Não, porém aqui morrerei. E Benaia tornou com a resposta ao rei, dizendo: Assim falou Joabe, e assim me respond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o rei: Faze como ele disse, e arremete contra ele, e sepulta-o, para que tires de mim e da casa de meu pai o sangue que Joabe sem causa derram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 SENHOR fará recair o sangue dele sobre a sua cabeça, porque deu sobre dois homens mais justos e melhores do que ele, e os matou à espada, sem que meu pai Davi o soubesse, a saber: a Abner, filho de Ner, capitão do exército de Israel, e a Amasa,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recairá o sangue destes sobre a cabeça de Joabe e sobre a cabeça da sua descendência para sempre; mas a Davi, e à sua descendência, e à sua casa, e ao seu trono, dará o SENHOR paz para todo o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biu Benaia, filho de Joiada, e arremeteu contra ele, e o matou; e foi sepultado em sua casa, n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pôs a Benaia, filho de Joiada, em seu lugar sobre o exército, e a Zadoque, o sacerdote, pôs o rei em lugar de Abia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mandou o rei, e chamou a Simei, e disse-lhe: Edifica-te uma casa em Jerusalém, e habita aí, e daí não saias, nem para uma nem para outra pa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há de ser que no dia em que saíres e passares o ribeiro de Cedrom, de certo que sem dúvida morrerás; o teu sangue será sobre a tu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imei disse ao rei: Boa é essa palavra; como tem falado o rei meu SENHOR, assim fará o teu servo. E Simei habitou em Jerusalém muito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rém, que, ao cabo de três anos, dois servos de Simei fugiram para Aquis, filho de Maaca, rei de Gate; e deram parte a Simei, dizendo: Eis que teus servos estão em G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o SENHOR confirme a palavra, que falou de mim, dizendo: Se teus filhos guardarem o seu caminho, para andarem perante a minha face fielmente, com todo o seu coração e com toda a sua alma, nunca, disse, te faltará sucessor ao trono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imei se levantou, e albardou o seu jumento, e foi a Gate, ter com Aquis, em busca de seus servos; assim foi Simei, e trouxe os seus servos de G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 a Salomão como Simei fora de Jerusalém a Gate, e já tinha vol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mandou chamar a Simei, e disse-lhe: Não te conjurei eu pelo SENHOR, e protestei contra ti, dizendo: No dia em que saíres para uma ou outra parte, sabe de certo que, sem dúvida, morrerás? E tu me disseste: Boa é essa palavra que ou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, pois, não guardaste o juramento do SENHOR, nem a ordem que te de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o rei a Simei: Bem sabes tu toda a maldade que o teu coração reconhece, que fizeste a Davi, meu pai; pelo que o SENHOR fez recair a tua maldade sobre a tu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rei Salomão será abençoado, e o trono de Davi será confirmado perante o SENHOR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mandou a Benaia, filho de Joiada, o qual saiu, e arremeteu contra ele, de modo que morreu; assim foi confirmado o reino na mão de Salo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tu sabes o que me fez Joabe, filho de Zeruia, e o que fez aos dois capitães do exército de Israel, a Abner filho de Ner, e a Amasa, filho de Jeter, os quais matou, e em paz derramou o sangue de guerra, e pôs o sangue de guerra no cinto que tin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, pois, segundo a tua sabedoria, e não permitas que suas cãs desçam à sepultura em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com os filhos de Barzilai, o gileadita, usarás de beneficência, e estarão entre os que comem à tua mesa, porque assim se chegaram eles a mim, quando eu fugia por causa de teu irmão Absal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também contigo está Simei, filho de Gera, filho de Benjamim, de Baurim, que me maldisse com maldição atroz, no dia em que ia a Maanaim; porém ele saiu a encontrar-se comigo junto ao Jordão, e eu pelo SENHOR lhe jurei, dizendo que o não matari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gora não o tenhas por inculpável, pois és homem sábio, e bem saberás o que lhe hás de fazer para que faças com que as suas cãs desçam à sepultura com san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4:41Z</dcterms:created>
  <dc:creator>Admin</dc:creator>
  <dc:description/>
  <dc:language>en-US</dc:language>
  <cp:lastModifiedBy>Admin</cp:lastModifiedBy>
  <dcterms:modified xsi:type="dcterms:W3CDTF">2008-07-30T23:44:41Z</dcterms:modified>
  <cp:revision>1</cp:revision>
  <dc:subject/>
  <dc:title>Slide 1</dc:title>
</cp:coreProperties>
</file>