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33D-8720-4ECF-B7C0-15E2749A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028-2266-425A-A83A-5AAA6D42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751-3579-430C-AE7E-FA3BC06B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5C1-8B13-4EA7-8AD1-9E050A93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F79-6543-4BE6-BA3B-0A7574E9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BDDF-06A9-4572-A86A-B6ED46E9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E2D-6290-4385-8BF6-C3A35C7E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3BC0-4FC4-45AC-B36B-C64C3DD1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F0CF-8FDE-4D60-8914-1C609C67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11F-5532-4C3C-99D8-55C08C3C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B12-BBFE-48FD-BF13-85E55AA6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ACD0-1C8C-43DA-9E6C-2AD26BD0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75F7-B2DF-4E72-97CA-691588BBB0C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EDEQUIAS, filho de Josias, a quem Nabucodonosor, rei de Babilônia, constituiu rei na terra de Judá, reinou em lugar de Conias, filho de Jeoiaqu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inda que ferísseis a todo o exército dos caldeus, que peleja contra vós, e só ficassem deles homens feridos, cada um levantar-se-ia na sua tenda, e queimaria a fogo est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subindo de Jerusalém o exército dos caldeus, por causa do exército de Faraó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u Jeremias de Jerusalém, a fim de ir à terra de Benjamim, para dali se separar no meio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estando ele à porta de Benjamim, achava-se ali um capitão da guarda, cujo nome era Jerias, filho de Selemias, filho de Hananias, o qual prendeu a Jeremias, o profeta, dizendo: Tu foges para os cal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remias disse: Isso é falso, não fujo para os caldeus. Mas ele não lhe deu ouvidos; e assim Jerias prendeu a Jeremias, e o levou aos príncip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ríncipes se iraram muito contra Jeremias, e o feriram; e puseram-no na prisão, na casa de Jônatas, o escrivão; porque a tinham transformado em cárce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ando, pois, Jeremias nas celas do calabouço, ali ficou muit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ou o rei Zedequias soltá-lo; e o rei lhe perguntou em sua casa, em segredo: Há porventura alguma palavra do SENHOR? E disse Jeremias: Há. E disse ainda: Na mão do rei de Babilônia serás entre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Jeremias ao rei Zedequias: Em que tenho pecado contra ti, e contra os teus servos, e contra este povo, para que me pusésseis na pris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estão agora os vossos profetas, que vos profetizavam, dizendo: O rei de Babilônia não virá contra vós nem contra est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em ele, nem os seus servos, nem o povo da terra deram ouvidos às palavras do SENHOR que falou pelo ministério de Jeremias, o prof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pois, ouve agora, ó rei meu senhor: Seja aceita agora a minha súplica diante de ti, e não me deixes tornar à casa de Jônatas, o escriba, para que eu não venha a morrer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rdenou o rei Zedequias que pusessem a Jeremias no átrio da guarda; e deram-lhe um pão cada dia, da rua dos padeiros, até que se acabou todo o pão da cidade; assim ficou Jeremias no átrio da gua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mandou o rei Zedequias a Jucal, filho de Selemias, e a Sofonias, filho de Maaséias, o sacerdote, ao profeta Jeremias, para lhe dizer: Roga agora por nós ao SENHOR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ava e saía Jeremias entre o povo, porque não o tinham posto na pr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exército de Faraó saíra do Egito; e quando os caldeus, que tinham sitiado Jerusalém, ouviram esta notícia, retiraram-se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Jeremias, o profeta,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, Deus de Israel: Assim direis ao rei de Judá, que vos enviou a mim para me consultar: Eis que o exército de Faraó, que saiu em vosso socorro, voltará para a sua terra n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ltarão os caldeus, e pelejarão contra esta cidade, e a tomarão, e a queimarão a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Não enganeis as vossas almas, dizendo: Sem dúvida se retirarão os caldeus de nós, pois não se retir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9:21Z</dcterms:created>
  <dc:creator>Admin</dc:creator>
  <dc:description/>
  <dc:language>en-US</dc:language>
  <cp:lastModifiedBy>Admin</cp:lastModifiedBy>
  <dcterms:modified xsi:type="dcterms:W3CDTF">2008-07-30T23:59:21Z</dcterms:modified>
  <cp:revision>1</cp:revision>
  <dc:subject/>
  <dc:title>Slide 1</dc:title>
</cp:coreProperties>
</file>