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E47-EE33-4BFB-A7C5-B0C08A7E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318-8BEF-477F-86DE-6027F12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5B5-1D94-447B-BF5A-ABCB7878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EEA-682C-41BE-80FD-5689B6EA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66B-4CFE-4DDE-98CF-ED2C448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465-2E91-4AF6-A789-76C13E2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84A-E617-4BFB-9ACA-5F8A1F0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4A5-6DF8-4FF3-BD5B-16D3F9BE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BF3-E3AB-432B-8B32-F19ABA5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B19-D410-4E87-9E8D-97812B64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80E-8880-4EB6-948F-31D17C7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390-CCC6-41CF-86B9-6978B09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89A-F7B6-46C1-877E-AF4A592047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sse o SENHOR: Vai, e compra uma botija de oleiro, e leva contigo alguns dos anciãos do povo e alguns dos anciãos dos sacerdo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quebrarás a botija à vista dos homens que fore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-lhes-ás: Assim diz o SENHOR dos Exércitos: Deste modo quebrarei eu a este povo, e a esta cidade, como se quebra o vaso do oleiro, que não pode mais refazer-se, e os enterrarão em Tofete, porque não haverá mais lugar para os enter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ei a este lugar, diz o SENHOR, e aos seus moradores; sim, para pôr a esta cidade como a Tof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asas de Jerusalém, e as casas dos reis de Judá, serão imundas como o lugar de Tofete, como também todas as casas, sobre cujos terraços queimaram incenso a todo o exército dos céus, e ofereceram libações a deuses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Jeremias de Tofete onde o tinha enviado o SENHOR a profetizar, se pôs em pé no átrio da casa do SENHOR, e disse a todo o pov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Eis que trarei sobre esta cidade, e sobre todas as suas vilas, todo o mal que pronunciei contra ela, porquanto endureceram a sua cerviz, para não ouvirem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 ao Vale do Filho de Hinom, que está à entrada da porta do sol, e apregoa ali as palavras que eu te diss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: Ouvi a palavra do SENHOR, ó reis de Judá, e moradores de Jerusalém. Assim diz o SENHOR dos Exércitos, o Deus de Israel: Eis que trarei um mal sobre este lugar, e quem quer que dele ouvir retinir-lhe-ão 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me deixaram e alienaram este lugar, e nele queimaram incenso a outros deuses, que nunca conheceram, nem eles nem seus pais, nem os reis de Judá; e encheram este lugar de sangue de inoc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dificaram os altos de Baal, para queimarem seus filhos no fogo em holocaustos a Baal; o que nunca lhes ordenei, nem falei, nem me veio ao pens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is que dias vêm, diz o SENHOR, em que este lugar não se chamará mais Tofete, nem o Vale do Filho de Hinom, mas o Vale da Mat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ssiparei o conselho de Judá e de Jerusalém neste lugar, e os farei cair à espada diante de seus inimigos, e pela mão dos que buscam a vida deles; e darei os seus cadáveres para pasto às aves dos céus e aos anima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esta cidade objeto de espanto e de assobio; todo aquele que passar por ela se espantará, e assobiará por causa de todas as suas pra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farei comer a carne de seus filhos e a carne de suas filhas, e comerá cada um a carne do seu amigo, no cerco e no aperto em que os apertarão os seus inimigos, e os que buscam a vid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17Z</dcterms:created>
  <dc:creator>Admin</dc:creator>
  <dc:description/>
  <dc:language>en-US</dc:language>
  <cp:lastModifiedBy>Admin</cp:lastModifiedBy>
  <dcterms:modified xsi:type="dcterms:W3CDTF">2008-07-30T23:58:17Z</dcterms:modified>
  <cp:revision>1</cp:revision>
  <dc:subject/>
  <dc:title>Slide 1</dc:title>
</cp:coreProperties>
</file>