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E01-F2E0-4B3B-865D-8540483D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208-FBCD-4B2E-A4B9-D820E14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058-F9AA-4734-B746-D46D92F7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457-50B3-437E-9833-C6EF291A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5FA-816F-4434-A1EA-FD4B29F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D17-DB69-40F3-BD7A-EA3E026B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624-CD16-4E60-802F-75ADD2A1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EDB-1E34-4CFA-AEBC-0A39B44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E09-6739-473A-9C50-68669D7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CAF-7158-4754-88A2-5E01E2F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F86-F85A-419D-99D4-6E941B9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8C4-5EEC-4B01-B004-58DC6A78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228B-DE33-48F4-8F9D-49A4C983E2A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R-TE-EI, ó SENHOR, porque tu me exaltaste; e não fizeste com que meus inimigos se alegrassem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SENHOR, e tem piedade de mim, SENHOR; sê o meu auxíl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ste o meu pranto em folguedo; desataste o meu pano de saco, e me cingiste de alegr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minha glória a ti cante louvores, e não se cale. SENHOR, meu Deus, eu te louvarei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meu Deus, clamei a ti, e tu me sar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fizeste subir a minha alma da sepultura; conservaste-me a vida para que não descesse ao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ao SENHOR, vós que sois seus santos, e celebrai a memória da s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ira dura só um momento; no seu favor está a vida. O choro pode durar uma noite, mas a alegria vem pel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zia na minha prosperidade: Não vacilarei ja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SENHOR, pelo teu favor fizeste forte a minha montanha; tu encobriste o teu rosto, e fiquei pertur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SENHOR, clamei, e ao SENHOR supliqu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roveito há no meu sangue, quando desço à cova? Porventura te louvará o pó? Anunciará ele a tua v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50Z</dcterms:created>
  <dc:creator>Admin</dc:creator>
  <dc:description/>
  <dc:language>en-US</dc:language>
  <cp:lastModifiedBy>Admin</cp:lastModifiedBy>
  <dcterms:modified xsi:type="dcterms:W3CDTF">2008-07-31T00:24:50Z</dcterms:modified>
  <cp:revision>1</cp:revision>
  <dc:subject/>
  <dc:title>Slide 1</dc:title>
</cp:coreProperties>
</file>