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47E5-7202-4B53-90B6-E23606F72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0378-9A72-425F-9F3B-1D5A65AB9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E194-06EF-478C-9CFD-17018BD0F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6C60-A8F0-4102-A1C1-1FABC6DDA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B8DF-D51C-4C5D-8CEF-91F6057A4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8ABB-1D15-47B5-AE84-24576A864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C7AD-E05E-41C6-A82F-53E0AA22C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BAD5-A683-4479-9E7E-344ECCCB3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D4D1-F6FD-4801-96AA-10AC92807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AE68-7D4D-49D5-976D-822CED75F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0FDC-CC19-4F2E-BE2E-ABA2E3CE1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5523-53D6-4FA0-A52F-4D3FAC94C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EC2EA-0B29-473E-A9BD-BE8B915ED6D2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9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me gritou aos ouvidos com grande voz, dizendo: Fazei chegar os intendentes da cidade, cada um com as suas armas destruidoras na m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9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, também, quanto a mim, não poupará o meu olho, nem me compadecerei; sobre a cabeça deles farei recair o seu camin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9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o homem que estava vestido de linho, a cuja cintura estava o tinteiro, tornou com a resposta, dizendo: Fiz como me mandas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9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is que vinham seis homens a caminho da porta superior, que olha para o norte, e cada um com a sua arma destruidora na mão, e entre eles um homem vestido de linho, com um tinteiro de escrivão à sua cintura; e entraram, e se puseram junto ao altar de b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9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glória do Deus de Israel se levantou de sobre o querubim, sobre o qual estava, indo até a entrada da casa; e clamou ao homem vestido de linho, que tinha o tinteiro de escrivão à sua cintu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9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lhe o SENHOR: Passa pelo meio da cidade, pelo meio de Jerusalém, e marca com um sinal as testas dos homens que suspiram e que gemem por causa de todas as abominações que se cometem no meio de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9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os outros disse ele, ouvindo eu: Passai pela cidade após ele, e feri; não poupe o vosso olho, nem vos compadeç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9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tai velhos, jovens, virgens, meninos e mulheres, até exterminá-los; mas a todo o homem que tiver o sinal não vos chegueis; e começai pelo meu santuário. E começaram pelos homens mais velhos que estavam diante da ca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9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lhes: Contaminai a casa e enchei os átrios de mortos; saí. E saíram, e feriram na c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9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ucedeu, pois, que, havendo-os ferido, e ficando eu sozinho, caí sobre a minha face, e clamei, e disse: Ah! Senhor DEUS! dar-se-á caso que destruas todo o restante de Israel, derramando a tua indignação sobre Jerusalém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9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me disse: A maldade da casa de Israel e de Judá é grandíssima, e a terra se encheu de sangue e a cidade se encheu de perversidade; porque dizem: O SENHOR abandonou a terra, e o SENHOR não vê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4:03Z</dcterms:created>
  <dc:creator>Admin</dc:creator>
  <dc:description/>
  <dc:language>en-US</dc:language>
  <cp:lastModifiedBy>Admin</cp:lastModifiedBy>
  <dcterms:modified xsi:type="dcterms:W3CDTF">2008-07-30T23:34:03Z</dcterms:modified>
  <cp:revision>1</cp:revision>
  <dc:subject/>
  <dc:title>Slide 1</dc:title>
</cp:coreProperties>
</file>