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863E-1D53-43AC-AF41-739946DFA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E8B6-3234-4F36-8678-E56D767B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E7D7-8C13-4B85-BA17-9EB29DCE2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51FF-1D2A-4D10-9AB4-C8DCB1111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28C3-3D45-4840-A3F2-915F2081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821A-1AAD-4430-BE1D-711679E4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0BEF-22A9-422A-8EBD-5AA65D84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2558-9C39-4463-A7D5-54B8E687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24F3-49D9-44F7-8344-A85911E0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AF8F-F5D1-4F97-A24C-6C693312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6669-A199-4417-838F-028B7F55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F852-EB27-4CF5-93AE-CE254A4A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2F41-CF38-47ED-90CD-A50F8193B02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os filhos de Israel segundo o seu número, os chefes dos pais, e os capitães dos milhares e das centenas, com os seus oficiais, que serviam ao rei em todos os negócios das turmas que entravam e saíam de mês em mês, em todos os meses do ano; c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étimo, do sétimo mês, Helez, o pelonita, dos filhos de Efraim; também em sua turma havia vinte e quatro mi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oitavo, do oitavo mês, Sibecai, o husatita, dos zeraítas; também em sua turma havia vinte e quatro mi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nono, do nono mês, Abiezer, o anatotita, dos benjamitas; também em sua turma havia vinte e quatro mi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décimo, do décimo mês, Maarai, o netofatita, dos zeraítas; também em sua turma havia vinte e quatro mi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undécimo, do undécimo mês, Benaia, o piratonita, dos filhos de Efraim; também em sua turma havia vinte e quatro mi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duodécimo, do duodécimo mês, Heldai, o netofatita, de Otniel; também em sua turma havia vinte e quatro mi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bre as tribos de Israel estavam: sobre os rubenitas era líder Eliezer, filho de Zicri; sobre os simeonitas, Sefatias, filho de Maa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bre os levitas, Hasabias, filho de Quemuel; sobre os aronitas, Zadoqu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bre Judá, Eliú, dos irmãos de Davi; sobre Issacar, Onri, filho de Micae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bre Zebulom, Ismaías, filho de Obadias; sobre Naftali, Jerimote, filho de Azrie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bre a primeira turma do primeiro mês estava Jasobeão, filho de Zabdiel; e em sua turma havia vinte e quatro mi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bre os filhos de Efraim, Oséias, filho de Azazias; sobre a meia tribo de Manassés, Joel, filho de Pedaí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bre a outra meia tribo de Manassés em Gileade, Ido, filho de Zacarias; sobre Benjamim, Jaasiel, filho de Abne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bre Dã, Azarel, filho de Jeroão. Estes eram os príncipes das trib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omou, porém, Davi o número dos de vinte anos para baixo, porquanto o SENHOR tinha falado que havia de multiplicar a Israel como as estrelas do c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oabe, filho de Zeruia, tinha começado a numerá-los, porém não acabou; porquanto viera por isso grande ira sobre Israel; assim o número não se pôs no registro das crônicas do rei Da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obre os tesouros do rei estava Azmavete, filho de Adiel; e sobre os tesouros dos campos, das cidades, e das aldeias, e das torres, Jônatas, filho de Uz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7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obre os que faziam a obra do campo, na lavoura da terra, Ezri, filho de Quelub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7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obre as vinhas, Simei, o ramatita; porém sobre o que das vides entrava nas adegas do vinho, Zabdi, o sifmi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7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obre os olivais e sicômoros que havia nas campinas, Baal-Hanã, o gederita; porém Joás sobre os armazéns do aze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7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obre os gados que pastavam em Sarom, Sitrai, o saronita; porém, sobre os gados dos vales, Safate, filho de Adl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ra este dos filhos de Perez, chefe de todos os capitães dos exércitos, para o primeiro mê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7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obre os camelos, Obil, o ismaelita; e sobre as jumentas, Jedias, o meronoti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7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obre o gado miúdo, Jaziz, o hagrita; todos esses eram administradores da fazenda que tinha o rei Da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7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ônatas, tio de Davi, era do conselho, homem entendido, e também escriba; e Jeiel, filho de Hacmoni, estava com os filhos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7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itofel era do conselho do rei; e Husai, o arquita, amigo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7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de Aitofel, Joiada, filho de Benaia, e Abiatar; porém Joabe era o general do exército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obre a turma do segundo mês estava Dodai, o aoíta, com a sua turma, cujo líder era Miclote; também em sua turma havia vinte e quatro mi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terceiro capitão do exército, para o terceiro mês, era Benaia, filho de Joiada, chefe dos sacerdotes; também em sua turma havia vinte e quatro mi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ra este Benaia valente entre os trinta, e sobre os trinta; e na sua turma estava Amizabade, seu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rto, do quarto mês, era Asael, irmão de Joabe, e depois dele Zebadias, seu filho; também em sua turma havia vinte e quatro mi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into, do quinto mês, Samute, o israíta; também em sua turma havia vinte e quatro mi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xto, do sexto mês, Ira, filho de Iques, o tecoíta; também em sua turma havia vinte e quatro mi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3:54Z</dcterms:created>
  <dc:creator>Admin</dc:creator>
  <dc:description/>
  <dc:language>en-US</dc:language>
  <cp:lastModifiedBy>Admin</cp:lastModifiedBy>
  <dcterms:modified xsi:type="dcterms:W3CDTF">2008-07-30T23:43:54Z</dcterms:modified>
  <cp:revision>1</cp:revision>
  <dc:subject/>
  <dc:title>Slide 1</dc:title>
</cp:coreProperties>
</file>