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EDB8-E656-443D-97E2-267FAB8CD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C7DE-4267-4660-B196-A59C8B228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6204-9CC9-47DA-A5F2-2BFB46968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5D6A-1460-4189-AE95-418831575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569E-CC33-4C3F-9152-779E7CBB8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EFFA-D9AE-4A5B-BC2B-660F7FE14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6B64-0B47-4BCB-BE23-4628FEE56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7332-7CA2-48C3-A751-3B1D1A1C5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D30E-4E83-4C00-9F1F-9F9D7FF81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BEEC-558B-4C26-95A8-F4301683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E585-329C-48E5-9E40-55863455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4335-50A0-43A5-A934-FFBC08F4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B9477-ECD5-4AAF-8E01-5C483D6EDBBF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EUS filhinhos, estas coisas vos escrevo, para que não pequeis; e, se alguém pecar, temos um Advogado para com o Pai, Jesus Cristo, o ju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quele que ama a seu irmão está na luz, e nele não há escânda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quele que odeia a seu irmão está em trevas, e anda em trevas, e não sabe para onde deva ir; porque as trevas lhe cegaram os o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lhinhos, escrevo-vos, porque pelo seu nome vos são perdoados os pec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is, escrevo-vos, porque conhecestes aquele que é desde o princípio. Jovens, escrevo-vos, porque vencestes o maligno. Eu vos escrevi, filhos, porque conhecestes o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vos escrevi, pais, porque já conhecestes aquele que é desde o princípio. Eu vos escrevi, jovens, porque sois fortes, e a palavra de Deus está em vós, e já vencestes o malig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ameis o mundo, nem o que no mundo há. Se alguém ama o mundo, o amor do Pai não está n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udo o que há no mundo, a concupiscência da carne, a concupiscência dos olhos e a soberba da vida, não é do Pai, mas do mu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mundo passa, e a sua concupiscência; mas aquele que faz a vontade de Deus permanece para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lhinhos, é já a última hora; e, como ouvistes que vem o anticristo, também agora muitos se têm feito anticristos, por onde conhecemos que é já a última ho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2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íram de nós, mas não eram de nós; porque, se fossem de nós, ficariam conosco; mas isto é para que se manifestasse que não são todos de n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é a propiciação pelos nossos pecados, e não somente pelos nossos, mas também pelos de todo o mu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2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ós tendes a unção do Santo, e sabeis tu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2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vos escrevi porque não soubésseis a verdade, mas porque a sabeis, e porque nenhuma mentira vem da ver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2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é o mentiroso, senão aquele que nega que Jesus é o Cristo? É o anticristo esse mesmo que nega o Pai e o Fi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2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lquer que nega o Filho, também não tem o Pai; mas aquele que confessa o Filho, tem também o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2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o que desde o princípio ouvistes permaneça em vós. Se em vós permanecer o que desde o princípio ouvistes, também permanecereis no Filho e no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2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a é a promessa que ele nos fez: a vida eter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2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s coisas vos escrevi acerca dos que vos engan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2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unção que vós recebestes dele, fica em vós, e não tendes necessidade de que alguém vos ensine; mas, como a sua unção vos ensina todas as coisas, e é verdadeira, e não é mentira, como ela vos ensinou, assim nele permanecer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2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gora, filhinhos, permanecei nele; para que, quando ele se manifestar, tenhamos confiança, e não sejamos confundidos por ele na sua vin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2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sabeis que ele é justo, sabeis que todo aquele que pratica a justiça é nascido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isto sabemos que o conhecemos: se guardarmos os seus mandam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quele que diz: Eu conheço-o, e não guarda os seus mandamentos, é mentiroso, e nele não está a ver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qualquer que guarda a sua palavra, o amor de Deus está nele verdadeiramente aperfeiçoado; nisto conhecemos que estamos ne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quele que diz que está nele, também deve andar como ele and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rmãos, não vos escrevo mandamento novo, mas o mandamento antigo, que desde o princípio tivestes. Este mandamento antigo é a palavra que desde o princípio ouvis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tra vez vos escrevo um mandamento novo, que é verdadeiro nele e em vós; porque vão passando as trevas, e já a verdadeira luz ilumi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quele que diz que está na luz, e odeia a seu irmão, até agora está em trev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4:06Z</dcterms:created>
  <dc:creator>Admin</dc:creator>
  <dc:description/>
  <dc:language>en-US</dc:language>
  <cp:lastModifiedBy>Admin</cp:lastModifiedBy>
  <dcterms:modified xsi:type="dcterms:W3CDTF">2008-07-30T23:44:06Z</dcterms:modified>
  <cp:revision>1</cp:revision>
  <dc:subject/>
  <dc:title>Slide 1</dc:title>
</cp:coreProperties>
</file>