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0AB-D58B-4786-B1BB-517C0BA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012-7BD6-4BDA-8840-E705C43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BEA-026C-4F9F-BBBA-50EA4A72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4CA-3940-440F-A73D-30014214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4A4-DF37-4597-BD67-FAC239B8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983-170F-4196-92AB-C1E1A32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067-512A-4482-A842-4F20728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C86-08E1-4F0F-A2AC-6EC074C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F05-7F8F-404B-BC04-4E1E3D57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4BC-53A3-4B06-A331-4E1F004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55F-93A0-4B0D-BDA2-EDA830C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9EB-63BB-435D-A6E4-96111136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C425-98E8-4BB8-967C-8DAF5D0B81F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Lavra duas tábuas de pedra, como as primeiras; e eu escreverei nas tábuas as mesmas palavras que estavam nas primeiras tábuas, que tu quebr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Eis que eu faço uma aliança; farei diante de todo o teu povo maravilhas que nunca foram feitas em toda a terra, nem em nação alguma; de maneira que todo este povo, em cujo meio tu estás, veja a obra do SENHOR; porque coisa terrível é o que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o que eu te ordeno hoje; eis que eu lançarei fora diante de ti os amorreus, e os cananeus, e os heteus, e os perizeus, e os heveus e os jebus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 de fazeres aliança com os moradores da terra aonde hás de entrar; para que não seja por laço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seus altares derrubareis, e as suas estátuas quebrareis, e os seus bosques cort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te inclinarás diante de outro deus; pois o nome do SENHOR é Zeloso; é um Deus zel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faças aliança com os moradores da terra, e quando eles se prostituirem após os seus deuses, ou sacrificarem aos seus deuses, tu, como convidado deles, comas também dos seus sacrifíc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es mulheres das suas filhas para os teus filhos, e suas filhas, prostituindo-se com os seus deuses, façam que também teus filhos se prostituam com os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farás deuses de fun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esta dos pães ázimos guardarás; sete dias comerás pães ázimos, como te tenho ordenado, ao tempo apontado do mês de Abibe; porque no mês de Abibe saíste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o que abre a madre meu é, até todo o teu gado, que seja macho, e que abre a madre de vacas e de ovel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para-te para amanhã, para que subas pela manhã ao monte Sinai, e ali põe-te diante de mim no cume d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burro, porém, que abrir a madre, resgatarás com um cordeiro; mas, se o não resgatares, cortar-lhe-ás a cabeça; todo o primogênito de teus filhos resgatarás. E ninguém aparecerá vazio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trabalharás, mas ao sétimo dia descansarás: na aradura e na sega descans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guardarás a festa das semanas, que é a festa das primícias da sega do trigo, e a festa da colheita no fim do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ês vezes ao ano todos os homens aparecerão perante o Senhor DEUS, o Deu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lançarei fora as nações de diante de ti, e alargarei o teu território; ninguém cobiçará a tua terra, quando subires para aparecer três vezes no ano diante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crificarás o sangue do meu sacrifício com pão levedado, nem o sacrifício da festa da páscoa ficará da noite para 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rimícias dos primeiros frutos da tua terra trarás à casa do SENHOR teu Deus; não cozerás o cabrito no leite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Escreve estas palavras; porque conforme ao teor destas palavras tenho feito aliança contigo e co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ve ali com o SENHOR quarenta dias e quarenta noites; não comeu pão, nem bebeu água, e escreveu nas tábuas as palavras da aliança, os dez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descendo Moisés do monte Sinai trazia as duas tábuas do testemunho em suas mãos, sim, quando desceu do monte, Moisés não sabia que a pele do seu rosto resplandecia, depois que fala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suba contigo, e também ninguém apareça em todo o monte; nem ovelhas nem bois se apascentem defronte d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ndo, pois, Arão e todos os filhos de Israel para Moisés, eis que a pele do seu rosto resplandecia; por isso temeram chegar-se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os chamou, e Arão e todos os príncipes da congregação tornaram-se a ele; e Moisés lhes fa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chegaram também todos os filhos de Israel; e ele lhes ordenou tudo o que o SENHOR falara com ele no mont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Moisés acabou de falar com eles, pôs um véu sobre o s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entrando Moisés perante o SENHOR, para falar com ele, tirava o véu até sair; e, saindo, falava com os filhos de Israel o que lhe er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viam os filhos de Israel o rosto de Moisés, e que resplandecia a pele do seu rosto; e tornava Moisés a pôr o véu sobre o seu rosto, até entrar para fala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lavrou duas tábuas de pedra, como as primeiras; e levantando-se pela manhã de madrugada, subiu ao monte Sinai, como o SENHOR lhe tinha ordenado; e levou as duas tábuas de pedra n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sceu numa nuvem e se pôs ali junto a ele; e ele proclamou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ndo, pois, o SENHOR perante ele, clamou: O SENHOR, o SENHOR Deus, misericordioso e piedoso, tardio em irar-se e grande em beneficência e ver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guarda a beneficência em milhares; que perdoa a iniqüidade, e a transgressão e o pecado; que ao culpado não tem por inocente; que visita a iniqüidade dos pais sobre os filhos e sobre os filhos dos filhos até à terceira e quar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apressou-se, e inclinou a cabeça à terra, ador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Senhor, se agora tenho achado graça aos teus olhos, vá agora o Senhor no meio de nós; porque este é povo de dura cerviz; porém perdoa a nossa iniqüidade e o nosso pecado, e toma-nos por t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13Z</dcterms:created>
  <dc:creator>Admin</dc:creator>
  <dc:description/>
  <dc:language>en-US</dc:language>
  <cp:lastModifiedBy>Admin</cp:lastModifiedBy>
  <dcterms:modified xsi:type="dcterms:W3CDTF">2008-07-30T23:33:13Z</dcterms:modified>
  <cp:revision>1</cp:revision>
  <dc:subject/>
  <dc:title>Slide 1</dc:title>
</cp:coreProperties>
</file>