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CB-CC96-4D67-B0B4-FEDD387D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DC2-38CD-47BA-8570-B11B27E3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04F-BEA2-4057-9F0B-15B3195C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DEA-C817-4F05-95DD-A93CEAD0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496-5592-412F-A41D-97BC97A8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BCD-0A6D-46A6-A617-93FACB2C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114-1343-48FB-8CB7-823DE380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DAA-8CE8-419F-90C7-A4CB6A1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251-6168-4AEF-B7A8-77C2444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DAB-2335-4297-929F-EE340E6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380-0FC1-4827-A0D4-331666E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A69-9B29-403D-AD67-A6F7409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9709-C087-4BD5-B0BE-D8C7C87999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nos dias de Assuero, o Assuero que reinou desde a Índia até Etiópia, sobre cento e vinte e sete provínc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étimo dia, estando já o coração do rei alegre do vinho, mandou a Meumã, Bizta, Harbona, Bigtá, Abagta, Zetar e Carcas, os sete camareiros que serviam na presença do rei Assue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introduzissem na presença do rei a rainha Vasti, com a coroa real, para mostrar aos povos e aos príncipes a sua beleza, porque era formosa à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rainha Vasti recusou vir conforme a palavra do rei, por meio dos camareiros; assim o rei muito se enfureceu, e acendeu nele 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rguntou o rei aos sábios que entendiam dos tempos (porque assim se tratavam os negócios do rei na presença de todos os que sabiam a lei e o dir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ais chegados a ele eram: Carsena, Setar, Admata, Társis, Meres, Marsena, e Memucã, os sete príncipes dos persas e dos medos, que viam a face do rei, e se assentavam como principais no reino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, segundo a lei, se devia fazer à rainha Vasti, por não ter obedecido ao mandado do rei Assuero, por meio dos camar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emucã na presença do rei e dos príncipes: Não somente contra o rei pecou a rainha Vasti, porém também contra todos os príncipes, e contra todos os povos que há em todas as províncias do rei Ass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otícia do que fez a rainha chegará a todas as mulheres, de modo que aos seus olhos desprezarão a seus maridos quando ouvirem dizer: Mandou o rei Assuero que introduzissem à sua presença a rainha Vasti, porém ela não v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ste mesmo dia as senhoras da Pérsia e da Média ouvindo o que fez a rainha, dirão o mesmo a todos os príncipes do rei; e assim haverá muito desprezo e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bem parecer ao rei, saia da sua parte um edito real, e escreva-se nas leis dos persas e dos medos, e não se revogue, a saber: que Vasti não entre mais na presença do rei Assuero, e o rei dê o reino dela a outra que seja melhor do qu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assentando-se o rei Assuero no trono do seu reino, que estava na fortaleza de Sus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-se o mandado, que o rei decretara em todo o seu reino (porque é grande), todas as mulheres darão honra a seus maridos, desde a maior até à men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eceram bem estas palavras aos olhos do rei e dos príncipes; e fez o rei conforme a palavra de Memuc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cartas a todas as províncias do rei, a cada província segundo a sua escrita, e a cada povo segundo a sua língua; que cada homem fosse senhor em sua casa, e que se falasse conforme a língu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rceiro ano do seu reinado, fez um banquete a todos os seus príncipes e seus servos, estando assim perante ele o poder da Pérsia e Média e os nobres e príncipes das provínc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mostrar as riquezas da glória do seu reino, e o esplendor da sua excelente grandeza, por muitos dias, a saber: cento e oit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dos aqueles dias, fez o rei um banquete a todo o povo que se achava na fortaleza de Susã, desde o maior até ao menor, por sete dias, no pátio do jardim do palácio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apeçarias eram de pano branco, verde, e azul celeste, pendentes de cordões de linho fino e púrpura, e argolas de prata, e colunas de mármore; os leitos de ouro e de prata, sobre um pavimento de mármore vermelho, e azul, e branco e pr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a-se de beber em copos de ouro, e os copos eram diferentes uns dos outros; e havia muito vinho real, segundo a generosidad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beber era por lei, sem constrangimento; porque assim tinha ordenado o rei expressamente a todos os oficiais da sua casa, que fizessem conforme a vontade de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ter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rainha Vasti deu um banquete às mulheres, na casa real, do rei Ass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44Z</dcterms:created>
  <dc:creator>Admin</dc:creator>
  <dc:description/>
  <dc:language>en-US</dc:language>
  <cp:lastModifiedBy>Admin</cp:lastModifiedBy>
  <dcterms:modified xsi:type="dcterms:W3CDTF">2008-07-30T23:30:44Z</dcterms:modified>
  <cp:revision>1</cp:revision>
  <dc:subject/>
  <dc:title>Slide 1</dc:title>
</cp:coreProperties>
</file>