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386-C76C-4232-A96A-42D29BC9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8FC-48C5-43E8-8212-D241C9D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E66-0665-4C39-8780-A6DAC59E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C99-F37D-415B-A763-7186B871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EC9-BDC0-4FBA-BDD0-210DF543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464-4174-4D61-8EE6-7218EAA6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3D3-F54B-4E50-A846-BE87DB8E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663-1A65-403B-A72F-7DB45DC7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B40-0CDC-4A37-A0C2-405A542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15D-C7FD-432E-BF11-8B859F9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E43-068C-457F-9BC5-7C85EB20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98F-9A34-4330-A2C6-C6329D5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01D6-CD79-4507-B602-F341F2C22CE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palavra do SENHOR a Jonas, filho de Amita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es homens se encheram de grande temor, e disseram-lhe: Por que fizeste tu isto? Pois sabiam os homens que fugia da presença do SENHOR, porque ele lho tinha decl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Que te faremos nós, para que o mar se nos acalme? Porque o mar ia se tornando cada vez mais tempestu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Levantai-me, e lançai-me ao mar, e o mar se vos aquietará; porque eu sei que por minha causa vos sobreveio esta grande temp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tanto, os homens remavam, para fazer voltar o navio à terra, mas não podiam, porquanto o mar se ia embravecendo cada vez mais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ram ao SENHOR, e disseram: Ah, SENHOR! Nós te rogamos, que não pereçamos por causa da alma deste homem, e que não ponhas sobre nós o sangue inocente; porque tu, SENHOR, fizeste como te apr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 a Jonas, e o lançaram ao mar, e cessou o mar da sua fú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eram, pois, estes homens ao SENHOR com grande temor; e ofereceram sacrifício ao SENHOR, e fizeram v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ou, pois, o SENHOR um grande peixe, para que tragasse a Jonas; e esteve Jonas três dias e três noites nas entranhas do pei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vai à grande cidade de Nínive, e clama contra ela, porque a sua malícia subiu até à minh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Jonas se levantou para fugir da presença do SENHOR para Társis. E descendo a Jope, achou um navio que ia para Társis; pagou, pois, a sua passagem, e desceu para dentro dele, para ir com eles para Társis, para longe da presenç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mandou ao mar um grande vento, e fez-se no mar uma forte tempestade, e o navio estava a ponto de quebr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meram os marinheiros, e clamavam cada um ao seu deus, e lançaram ao mar as cargas, que estavam no navio, para o aliviarem do seu peso; Jonas, porém, desceu ao porão do navio, e, tendo-se deitado, dormia um profundo s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stre do navio chegou-se a ele, e disse-lhe: Que tens, dorminhoco? Levanta-te, clama ao teu Deus; talvez assim ele se lembre de nós para que não pereç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 cada um ao seu companheiro: Vinde, e lancemos sortes, para que saibamos por que causa nos sobreveio este mal. E lançaram sortes, e a sorte caiu sobre Jo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ram: Declara-nos tu agora, por causa de quem nos sobreveio este mal. Que ocupação é a tua? Donde vens? Qual é a tua terra? E de que povo és t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n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Eu sou hebreu, e temo ao SENHOR, o Deus do céu, que fez o mar e a terra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41Z</dcterms:created>
  <dc:creator>Admin</dc:creator>
  <dc:description/>
  <dc:language>en-US</dc:language>
  <cp:lastModifiedBy>Admin</cp:lastModifiedBy>
  <dcterms:modified xsi:type="dcterms:W3CDTF">2008-07-31T00:04:41Z</dcterms:modified>
  <cp:revision>1</cp:revision>
  <dc:subject/>
  <dc:title>Slide 1</dc:title>
</cp:coreProperties>
</file>