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101-BAAD-46F2-9485-A9728B54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F8C-7050-418E-981E-ED4BFCD3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6C8-34A2-417D-B3D0-046EB4DC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361-1174-41BD-BE7E-9D18C254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A04-C2A2-4746-BA90-07F3457F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2A8-22E1-4B68-BDCA-015461A7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AC2-D353-42AE-9B0E-F47CB15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881-19FB-492D-BE9E-9663A73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AA7-115C-41F0-857E-D0035862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A98-F717-4DF8-95C8-4E42723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2C2-BAE4-42A5-B858-645EAD7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1EA-2CD7-4610-9F5D-E13060B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903-82A7-4BEF-A914-3344286921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crificarás ao SENHOR teu Deus, boi ou gado miúdo em que haja defeito ou alguma coisa má; pois abominação é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conforme ao mandado da palavra que te anunciarem no lugar que escolher o SENHOR; e terás cuidado de fazer conforme a tudo o que te ensin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o mandado da lei que te ensinarem, e conforme ao juízo que te disserem, farás; da palavra que te anunciarem te não desviarás,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, pois, que se houver soberbamente, não dando ouvidos ao sacerdote, que está ali para servir ao SENHOR teu Deus, nem ao juiz, esse homem morrerá; e tirarás o mal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 o povo o ouça, e tema, e nunca mais se ensober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ares na terra que te dá o SENHOR teu Deus, e a possuíres, e nela habitares, e disseres: Porei sobre mim um rei, assim como têm todas as nações que estão em redor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ás certamente sobre ti como rei aquele que escolher o SENHOR teu Deus; dentre teus irmãos porás rei sobre ti; não poderás pôr homem estranho sobre ti, que não seja de t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não multiplicará para si cavalos, nem fará voltar o povo ao Egito para multiplicar cavalos; pois o SENHOR vos tem dito: Nunca mais voltareis por este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pouco para si multiplicará mulheres, para que o seu coração não se desvie; nem prata nem ouro multiplicará muito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também que, quando se assentar sobre o trono do seu reino, então escreverá para si num livro, um traslado desta lei, do original que está diante dos sacerdote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á consigo, e nele lerá todos os dias da sua vida, para que aprenda a temer ao SENHOR seu Deus, para guardar todas as palavras desta lei, e estes estatutos, para cumpri-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no meio de ti, em alguma das tuas portas que te dá o SENHOR teu Deus, se achar algum homem ou mulher que fizer mal aos olhos do SENHOR teu Deus, transgredindo a su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seu coração não se levante sobre os seus irmãos, e não se aparte do mandamento, nem para a direita nem para a esquerda; para que prolongue os seus dias no seu reino, ele e seus filhos no mei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 for, e servir a outros deuses, e se encurvar a eles ou ao sol, ou à lua, ou a todo o exército do céu, o que eu não orden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or denunciado, e o ouvires; então bem o inquirirás; e eis que, sendo verdade, e certo que se fez tal abominação em Isra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rarás o homem ou a mulher que fez este malefício, às tuas portas, e apedrejarás o tal homem ou mulher, até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boca de duas testemunhas, ou três testemunhas, será morto o que houver de morrer; por boca de uma só testemunha nã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ãos das testemunhas serão primeiro contra ele, para matá-lo; e depois as mãos de todo o povo; assim tirarás o mal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lguma coisa te for difícil demais em juízo, entre sangue e sangue, entre demanda e demanda, entre ferida e ferida, em questões de litígios nas tuas portas, então te levantarás, e subirás ao lugar que escolher o SENHOR t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ás aos sacerdotes levitas, e ao juiz que houver naqueles dias, e inquirirás, e te anunciarão a sentença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08Z</dcterms:created>
  <dc:creator>Admin</dc:creator>
  <dc:description/>
  <dc:language>en-US</dc:language>
  <cp:lastModifiedBy>Admin</cp:lastModifiedBy>
  <dcterms:modified xsi:type="dcterms:W3CDTF">2008-07-30T23:28:08Z</dcterms:modified>
  <cp:revision>1</cp:revision>
  <dc:subject/>
  <dc:title>Slide 1</dc:title>
</cp:coreProperties>
</file>