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0875-B1C4-4F1E-B817-100C71A0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4AEC-9596-427F-BB07-D5CBF261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7D32-06B8-43FE-9FC3-3FEDAE08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1028-649C-4D79-9801-8DEAA229C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A24C-2FCC-4443-B005-9D518C75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A02-0D6A-4390-917B-6DC69A72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BC4C-C14E-49A3-8C85-D934DFB8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EFCE-BA6E-4D31-BB9F-25C72566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9ECA-DB7C-43C0-90FE-0837B105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3234-C453-4A7E-BA32-ADBA03B3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7040-2B17-45C5-9734-25042EC7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B456-7810-4EAC-9BDD-D29DD0E3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E84E-659E-4B1C-A7D7-93C4112CFB7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to o SENHOR respondeu a Jó de um redemoinh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u lhe tracei limites, e lhe pus portas e ferrolh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Até aqui virás, e não mais adiante, e aqui se parará o orgulho das tuas ond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desde os teus dias deste ordem à madrugada, ou mostraste à alva o seu lug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pegasse nas extremidades da terra, e os ímpios fossem sacudidos del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transformasse como o barro sob o selo, e se pusessem como vestid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ímpios se desvie a sua luz, e o braço altivo se quebran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entraste tu até às origens do mar, ou passeaste no mais profundo do abism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descobriram-se-te as portas da morte, ou viste as portas da sombra da mor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com o teu entendimento chegaste às larguras da terra? Faze-mo saber, se sabes tudo 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nde está o caminho onde mora a luz? E, quanto às trevas, onde está o seu lug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é este que escurece o conselho com palavras sem conhecimen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as tragas aos seus limites, e para que saibas as veredas da sua cas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certo tu o sabes, porque já então eras nascido, e por ser grande o número dos teus dia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entraste tu até aos tesouros da neve, e viste os tesouros da saraiv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eu retenho até ao tempo da angústia, até ao dia da peleja e da guer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nde está o caminho em que se reparte a luz, e se espalha o vento oriental sobre a ter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abriu para a inundação um leito, e um caminho para os relâmpagos dos trovõ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chover sobre a terra, onde não há ninguém, e no deserto, em que não há hom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fartar a terra deserta e assolada, e para fazer crescer os renovos da erv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chuva porventura tem pai? Ou quem gerou as gotas do orval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que ventre procedeu o gelo? E quem gerou a geada do cé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 cinge os teus lombos, como homem; e perguntar-te-ei, e tu me ensin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debaixo de pedra as águas se endurecem, e a superfície do abismo se cong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poderás tu ajuntar as delícias do Sete-estrelo ou soltar os cordéis do Ór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produzir as constelações a seu tempo, e guiar a Ursa com seus filh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s tu as ordenanças dos céus, ou podes estabelecer o domínio deles sobre a ter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podes levantar a tua voz até às nuvens, para que a abundância das águas te cub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mandarás aos raios para que saiam, e te digam: Eis-nos aqu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pôs a sabedoria no íntimo, ou quem deu à mente o entendimen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numerará as nuvens com sabedoria? Ou os odres dos céus, quem os esvaziará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se funde o pó numa massa, e se apegam os torrões uns aos outr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caçarás tu presa para a leoa, ou saciarás a fome dos filhos dos leõ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nde estavas tu, quando eu fundava a terra? Faze-mo saber, se tens intelig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se agacham nos covis, e estão à espreita nas cov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prepara aos corvos o seu alimento, quando os seus filhotes gritam a Deus e andam vagueando, por não terem o que com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lhe pôs as medidas, se é que o sabes? Ou quem estendeu sobre ela o cord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 que estão fundadas as suas bases, ou quem assentou a sua pedra de esquin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as estrelas da alva juntas alegremente cantavam, e todos os filhos de Deus jubilava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quem encerrou o mar com portas, quando este rompeu e saiu da madr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u pus as nuvens por sua vestidura, e a escuridão por faix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2:21Z</dcterms:created>
  <dc:creator>Admin</dc:creator>
  <dc:description/>
  <dc:language>en-US</dc:language>
  <cp:lastModifiedBy>Admin</cp:lastModifiedBy>
  <dcterms:modified xsi:type="dcterms:W3CDTF">2008-07-31T00:02:21Z</dcterms:modified>
  <cp:revision>1</cp:revision>
  <dc:subject/>
  <dc:title>Slide 1</dc:title>
</cp:coreProperties>
</file>