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D990-8132-4879-BB93-59BCC0A11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7149-A106-428B-8A04-D6B7D274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F2EE-7AD9-461C-A4E2-C363C8DDB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9CF8-BA71-45F1-976B-744316BF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7752-FA52-4A34-A83E-C258523B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15DB-9E1F-42D2-82EF-68639E28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2E30-C0DE-4193-93E8-284C85AF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3751-D21D-4407-A44A-7000D006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56B1-8C4A-4912-8605-E4E8366C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2C9B-5190-4C89-A009-4C809E13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6084-D311-49B9-AB24-45DC59DA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89CB-8F6E-431D-996C-4E33208B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8588-EEF7-4515-B91E-670E13CCACA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, pois, que um dia disse Jônatas, filho de Saul, ao moço que lhe levava as armas: Vem, passemos à guarnição dos filisteus, que está lá daquele lado. Porém não o fez saber a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se disserem: Subi a nós; então subiremos, pois o SENHOR os tem entregado nas nossas mãos, e isto nos será por sin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velando-se eles à guarnição dos filisteus, disseram os filisteus: Eis que já os hebreus saíram das cavernas em que se tinham escond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homens da guarnição responderam a Jônatas e ao seu pajem de armas, e disseram: Subi a nós, e nós vos ensinaremos uma lição. E disse Jônatas ao seu pajem de armas: Sobe atrás de mim, porque o SENHOR os tem entregado na mão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ubiu Jônatas com os pés e com as mãos, e o seu pajem de armas atrás dele; e os filisteus caíam diante de Jônatas, e o seu pajem de armas os matava atrás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esta primeira derrota, em que Jônatas e o seu pajem de armas feriram uns vinte homens, em cerca de meia jeira de terra que uma junta de bois podia lavr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ouve tremor no arraial, no campo e em todo o povo; também a mesma guarnição e os saqueadores tremeram, até a terra se estremeceu porquanto era tremor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lharam, pois, as sentinelas de Saul em Gibeá de Benjamim, e eis que a multidão se dissolvia, e fugia para cá e para l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então Saul ao povo que estava com ele: Ora contai, e vede quem é que saiu dentre nós. E contaram, e eis que nem Jônatas nem o seu pajem de armas estavam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ul disse a Aías: Traze aqui a arca de Deus (porque naquele dia estava a arca de Deus com os filhos de Israel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estando Saul ainda falando com o sacerdote, o alvoroço que havia no arraial dos filisteus ia crescendo muito, e se multiplicava, pelo que disse Saul ao sacerdote: Retira a t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va Saul à extremidade de Gibeá, debaixo da romeira que havia em Migrom; e o povo que estava com ele era uns seiscent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ul e todo o povo que havia com ele se reuniram, e foram à peleja; e eis que a espada de um era contra o outro, e houve mui grande tumul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com os filisteus havia hebreus, como dantes, que subiram com eles ao arraial em redor; e também estes se ajuntaram com os israelitas que estavam com Saul e Jôna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ndo, pois, todos os homens de Israel que se esconderam pela montanha de Efraim que os filisteus fugiam, eles também os perseguiram de perto na pelej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livrou o SENHOR a Israel naquele dia; e o arraial passou a Bete-Áve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vam os homens de Israel já exaustos naquele dia, porquanto Saul conjurou o povo, dizendo: Maldito o homem que comer pão até à tarde, antes que me vingue de meus inimigos. Por isso todo o povo se absteve de provar p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o povo chegou a um bosque; e havia mel na superfície do ca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 o povo ao bosque, eis que havia um manancial de mel; porém ninguém chegou a mão à boca, porque o povo temia a conju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Jônatas não tinha ouvido quando seu pai conjurara o povo, e estendeu a ponta da vara que tinha na mão, e a molhou no favo de mel; e, tornando a mão à boca, aclararam-se os s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u um do povo, e disse: Solenemente conjurou teu pai o povo, dizendo: Maldito o homem que comer hoje pão. Por isso o povo desfale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Jônatas: Meu pai tem turbado a terra; ora vede como se me aclararam os olhos por ter provado um pouco deste me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ías, filho de Aitube, irmão de Icabode, o filho de Finéias, filho de Eli, sacerdote do SENHOR em Siló, trazia o éfode; porém o povo não sabia que Jônatas tinha 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mais se o povo hoje livremente tivesse comido do despojo que achou de seus inimigos. Porém agora não foi tão grande o estrago dos filist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riram, porém, aquele dia aos filisteus, desde Micmás até Aijalom, e o povo desfaleceu em extre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povo se lançou ao despojo, e tomaram ovelhas, e vacas, e bezerros, e os degolaram no chão; e o povo os comeu com sang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anunciaram a Saul, dizendo: Eis que o povo peca contra o SENHOR, comendo com sangue. E disse: Aleivosamente procedestes; trazei-me aqui já uma grande ped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Saul: Dispersai-vos entre o povo, e dizei-lhes: Trazei-me cada um o seu boi, e cada um a sua ovelha, e degolai-os aqui, e comei, e não pequeis contra o SENHOR, comendo com sangue. Então todo o povo trouxe de noite, cada um pela sua mão, o se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dificou Saul um altar ao SENHOR; este foi o primeiro altar que edificou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isse Saul: Desçamos de noite atrás dos filisteus, e despojemo-los, até que amanheça o dia, e não deixemos deles um só homem. E disseram: Tudo o que parecer bem aos teus olhos faze. Disse, porém, o sacerdote: Cheguemo-nos aqui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onsultou Saul a Deus, dizendo: Descerei atrás dos filisteus? Entregá-los-ás na mão de Israel? Porém aquele dia não lhe respond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Saul: Chegai-vos para cá, todos os chefes do povo, e informai-vos, e vede em que se cometeu hoje este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vive o SENHOR que salva a Israel, que, ainda que seja em meu filho Jônatas, certamente morrerá. E nenhum de todo o povo lhe respond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re os desfiladeiros pelos quais Jônatas procurava passar à guarnição dos filisteus, deste lado havia uma penha aguda, e do outro lado uma penha aguda; e era o nome de uma Bozez, e o nome da outra Sen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a todo o Israel: Vós estareis de um lado, e eu e meu filho Jônatas estaremos do outro lado. Então disse o povo a Saul: Faze o que parecer bem aos t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, pois, Saul ao SENHOR Deus de Israel: Mostra o inocente. Então Jônatas e Saul foram tomados por sorte, e o povo saiu liv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Saul: Lançai a sorte entre mim e Jônatas, meu filho. E foi tomado Jôna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então Saul a Jônatas: Declara-me o que tens feito. E Jônatas lho declarou, e disse: Tão-somente provei um pouco de mel com a ponta da vara que tinha na mão; eis que devo morr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Saul: Assim me faça Deus, e outro tanto, que com certeza morrerás, Jôna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povo disse a Saul: Morrerá Jônatas, que efetuou tão grande salvação em Israel? Nunca tal suceda; vive o SENHOR, que não lhe há de cair no chão um só cabelo da sua cabeça! pois com Deus fez isso hoje. Assim o povo livrou a Jônatas, para que não 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ul deixou de seguir os filisteus; e os filisteus se foram ao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mou Saul o reino sobre Israel; e pelejou contra todos os seus inimigos em redor; contra Moabe, e contra os filhos de Amom, e contra Edom, e contra os reis de Zobá, e contra os filisteus, e para onde quer que se tornava executava cas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ouve-se valorosamente, e feriu aos amalequitas, e liberou a Israel da mão dos que o saque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Saul eram Jônatas, e Isvi, e Malquisua; e os nomes de suas duas filhas eram estes: o da mais velha Merabe, e o da mais nova, Mic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a penha para o norte estava defronte de Micmás, e a outra para o sul, defronte de Gibe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nome da mulher de Saul, Ainoã, filha de Aimaás; e o nome do capitão do exército, Abner, filho de Ner, tio de Sau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is, pai de Saul, e Ner, pai de Abner, eram filhos de Abi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ouve uma forte guerra contra os filisteus, todos os dias de Saul; por isso Saul a todos os homens valentes e valorosos que via, os agregava a s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, pois, Jônatas ao moço que lhe levava as armas: Vem, passemos à guarnição destes incircuncisos; porventura operará o SENHOR por nós, porque para com o SENHOR nenhum impedimento há de livrar com muitos ou com pouc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eu pajem de armas lhe disse: Faze tudo o que tens no coração; segue, eis-me aqui contigo, conforme o que quise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, pois, Jônatas: Eis que passaremos àqueles homens, e nos revelaremos a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nos disserem assim: Parai até que cheguemos a vós; então ficaremos no nosso lugar, e não subiremos a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7:01Z</dcterms:created>
  <dc:creator>Admin</dc:creator>
  <dc:description/>
  <dc:language>en-US</dc:language>
  <cp:lastModifiedBy>Admin</cp:lastModifiedBy>
  <dcterms:modified xsi:type="dcterms:W3CDTF">2008-07-30T23:47:01Z</dcterms:modified>
  <cp:revision>1</cp:revision>
  <dc:subject/>
  <dc:title>Slide 1</dc:title>
</cp:coreProperties>
</file>