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DED-624C-4BBA-86AF-0643F72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ADB-372B-4F92-953B-A0A4BFA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9C8-44D5-48EE-B7ED-47A68BC2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9F6-1761-4927-9B48-BF38DA5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E5A-9DEA-4516-8959-EFFDC55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B23-E76C-464C-8943-B584612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D43-14FF-4D5A-89F4-E4B78DF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525-E17C-495C-B9E4-2D95A74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9B1-A6C0-4C5A-AC62-C3AAC49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7CE-1379-4F0C-BDCC-4CABD35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6A4-AAC7-4AC3-928A-8A7F98D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F6E-1BD4-4621-BB7B-3687BC0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113B-F0BC-42E3-97E4-C9A9059BEA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Israel se ajuntou a Davi em Hebrom, dizendo: Eis que somos teus ossos e tu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chefes dos poderosos que Davi tinha, e que o apoiaram fortemente no seu reino, com todo o Israel, para o fazerem rei, conforme a palavra do SENHOR, no tocante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é o número dos poderosos que Davi tinha: Jasobeão, hacmonita, chefe dos capitães, o qual, brandindo a sua lança contra trezentos, de uma vez os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le Eleazar, filho de Dodó, o aoíta; ele estava entre os trê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steve com Davi em Pas-Damim, quando os filisteus ali se ajuntaram à peleja, onde havia um pedaço de campo cheio de cevada; e o povo fugiu de diante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-se no meio daquele campo, e o defenderam, e feriram os filisteus; e o SENHOR efetuou um grande liv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ês dos trinta capitães desceram à penha, a ter com Davi, na caverna de Adulão; e o exército dos filisteus estava acampado no vale de Ref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estava então no lugar forte; e o alojamento dos filisteus estava então em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ejou Davi, e disse: Quem me dera beber da água do poço de Belém, que está junto à por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três romperam pelo acampamento dos filisteus, e tiraram água do poço de Belém, que estava junto à porta, e tomaram dela e a trouxeram a Davi; porém Davi não a quis beber, mas a derramou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unca meu Deus permita que faça tal! Beberia eu o sangue destes homens com as suas vidas? Pois com perigo das suas vidas a trouxeram. E ele não a quis beber. Isto fizeram aqueles trê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utrora, sendo Saul ainda rei, eras tu o que fazias sair e entrar a Israel; também o SENHOR teu Deus te disse: Tu apascentarás o meu povo Israel, e tu serás chefe sobre 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bisai, irmão de Joabe, era chefe de três, o qual, brandindo a sua lança contra trezentos, os feriu; e teve nome entre o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oi o mais ilustre dos três, pelo que foi capitão deles; porém não igualou aos primeiro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enaia, filho de Joiada, filho de um homem poderoso de Cabzeel, grande em obras; ele feriu a dois heróis de Moabe; e também desceu, e feriu um leão dentro de uma cova, no tempo da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riu ele a um homem egípcio, homem de grande altura, de cinco côvados; e trazia o egípcio uma lança na mão, como o órgão do tecelão; mas Benaia desceu contra ele com uma vara, e arrancou a lança da mão do egípcio, e com ela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fez Benaia, filho de Joiada; pelo que teve nome entre aqueles trê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os trinta foi ele o mais ilustre; contudo não chegou aos primeiros três; e Davi o pôs sobre os da su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poderosos dos exércitos: Asael, irmão de Joabe, El-Hanã, filho de Dodó, de Be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ote, o harorita; Helez, o pelon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a, filho de Iques, o tecoíta; Abiezer, o anato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becai, o husatita; Ilai, o aoí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ieram todos os anciãos de Israel ao rei, a Hebrom, e Davi fez com eles aliança em Hebrom, perante o SENHOR; e ungiram a Davi rei sobre Israel, conforme a palavra do SENHOR pelo ministério de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arai, o netofatita; Helede, filho de Baaná, o netofa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tai, filho de Ribai, de Gileade, dos filhos de Benjamim; Benaia, o piraton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urai, do ribeiro de Gaás; Abiel, o arba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zmavete, o baarumita; Eliabe, o saalbon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Hasem, o gizonita: Jônatas, filho de Sage, o harar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ão, filho de Sacar, o hararita; Elifal, filho de 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fer, o mequeratita; Aías, o pelon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zro, o carmelita; Naarai, filho de Ezb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el, irmão de Natã; Mibar, filho de Hagr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leque, o amonita; Naarai, o beerotita, escudeiro de Joabe, filho de Zeru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Davi e todo o Israel para Jerusalém, que é Jebus; porque ali estavam os jebuseus, habitant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a, o itrita; Garebe, o itr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rias, o heteu; Zabade, filho de Al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ina, filho de Siza, o rubenita, capitão dos rubenitas, e com ele trin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nã, filho de Maaca; e Josafá, o mitat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zias, o asteratita; Sama e Jeiel, filhos de Hotão, o aroer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diael, filho de Sinri; e Joa, seu irmão, o tiz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el, o maavita; e Jeribai e Josavias, filhos de Elnaão; e Itma, o moab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el, Obede, e Jaasiel, o mesobaí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habitantes de Jebus a Davi: Tu não entrarás aqui. Porém Davi ganhou a fortaleza de Sião, que é a cidade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sse Davi: Qualquer que primeiro ferir os jebuseus será chefe e capitão. Então Joabe, filho de Zeruia, subiu primeiro a ela; pelo que foi feito che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habitou na fortaleza; por isso foi chamada a cidade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a cidade ao redor, desde Milo até ao circuito; e Joabe renovou o restante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tornava-se cada vez mais forte; porque o SENHOR dos Exércitos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3:02Z</dcterms:created>
  <dc:creator>Admin</dc:creator>
  <dc:description/>
  <dc:language>en-US</dc:language>
  <cp:lastModifiedBy>Admin</cp:lastModifiedBy>
  <dcterms:modified xsi:type="dcterms:W3CDTF">2008-07-30T23:43:02Z</dcterms:modified>
  <cp:revision>1</cp:revision>
  <dc:subject/>
  <dc:title>Slide 1</dc:title>
</cp:coreProperties>
</file>