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6D63-3478-4D7A-9E91-CE6BF74F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0FDA-54B0-4697-9C3B-3F5A3D0A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99A8-A26B-4DA8-8F28-69047AB9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CAFD-58C7-4577-832C-ADA3F855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ADF0-80F4-44AC-A903-5FC63C58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42B6-A52D-4CD6-B60B-F7BA1D89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E08D-9E06-4BEF-881A-D6150AC6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D633-689F-406F-B51A-00DB9950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C7A8-B035-441B-A148-3EBD1150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048A-6FA2-42BB-976F-A0291B22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0214-0606-469D-B3C0-FB35E2D8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66B4-3DEF-47C9-BFD6-FC4392FA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84EF-9DC4-472F-BF5E-595190DB470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se já ressuscitastes com Cristo, buscai as coisas que são de cima, onde Cristo está assentado à destr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s vestistes do novo, que se renova para o conhecimento, segundo a imagem daquele que o criou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nde não há grego, nem judeu, circuncisão, nem incircuncisão, bárbaro, cita, servo ou livre; mas Cristo é tudo em to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vesti-vos, pois, como eleitos de Deus, santos e amados, de entranhas de misericórdia, de benignidade, humildade, mansidão, longanimida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portando-vos uns aos outros, e perdoando-vos uns aos outros, se alguém tiver queixa contra outro; assim como Cristo vos perdoou, assim fazei vós tamb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obre tudo isto, revesti-vos de amor, que é o vínculo da perfe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paz de Deus, para a qual também fostes chamados em um corpo, domine em vossos corações; e sede agradec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palavra de Cristo habite em vós abundantemente, em toda a sabedoria, ensinando-vos e admoestando-vos uns aos outros, com salmos, hinos e cânticos espirituais, cantando ao SENHOR com graça em vosso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to fizerdes por palavras ou por obras, fazei tudo em nome do Senhor Jesus, dando por ele graças a Deus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, mulheres, estai sujeitas a vossos próprios maridos, como convém n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, maridos, amai a vossas mulheres, e não vos irriteis contra 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nsai nas coisas que são de cima, e não nas que são da ter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, filhos, obedecei em tudo a vossos pais, porque isto é agradável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, pais, não irriteis a vossos filhos, para que não percam o ân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, servos, obedecei em tudo a vossos senhores segundo a carne, não servindo só na aparência, como para agradar aos homens, mas em simplicidade de coração, temendo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do quanto fizerdes, fazei-o de todo o coração, como ao Senhor, e não aos homen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ndo que recebereis do Senhor o galardão da herança, porque a Cristo, o Senhor, serv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quem fizer agravo receberá o agravo que fizer; pois não há acepção de pesso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já estais mortos, e a vossa vida está escondida com Cristo em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Cristo, que é a nossa vida, se manifestar, então também vós vos manifestareis com ele em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rtificai, pois, os vossos membros, que estão sobre a terra: a prostituição, a impureza, a afeição desordenada, a vil concupiscência, e a avareza, que é idolatr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s quais coisas vem a ira de Deus sobre os filhos da desobediênc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s quais, também, em outro tempo andastes, quando vivíeis n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gora, despojai-vos também de tudo: da ira, da cólera, da malícia, da maledicência, das palavras torpes da voss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mintais uns aos outros, pois que já vos despistes do velho homem com os seus feit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6:04Z</dcterms:created>
  <dc:creator>Admin</dc:creator>
  <dc:description/>
  <dc:language>en-US</dc:language>
  <cp:lastModifiedBy>Admin</cp:lastModifiedBy>
  <dcterms:modified xsi:type="dcterms:W3CDTF">2008-07-30T23:26:04Z</dcterms:modified>
  <cp:revision>1</cp:revision>
  <dc:subject/>
  <dc:title>Slide 1</dc:title>
</cp:coreProperties>
</file>