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AD4-58D8-4130-ACE2-819A321E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CD6-6395-4BFA-BAC1-4EC3AB5B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1E0-FB26-4760-A0BA-C1C4DDB4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E84-3A6B-4208-90B1-4323335D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79B-EC71-4DA0-9E39-D2FD4926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FE6-DD92-4F3D-B113-321C1EB4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B37-95FE-4348-AE5D-0F2BA8AC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006-8C5B-4719-80A6-3A1FD6D4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28E-E007-439A-8824-79A21948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1A4-13DD-4461-8E72-B4646636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2B9-9071-4011-8968-83A22C8C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639-8220-4362-8800-8A8860F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5100-1B53-4A48-ADB2-56C188E7900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INTO anjo tocou a sua trombeta, e vi uma estrela que do céu caiu na terra; e foi-lhe dada a chave do poço do abi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m caudas semelhantes às dos escorpiões, e aguilhões nas suas caudas; e o seu poder era para danificar os homens por cinco me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m sobre si rei, o anjo do abismo; em hebreu era o seu nome Abadom, e em grego Apoli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do é já um ai; eis que depois disso vêm ainda dois 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cou o sexto anjo a sua trombeta, e ouvi uma voz que vinha das quatro pontas do altar de ouro, que estava diante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dizia ao sexto anjo, que tinha a trombeta: Solta os quatro anjos, que estão presos junto ao grande rio Eufr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soltos os quatro anjos, que estavam preparados para a hora, e dia, e mês, e ano, a fim de matarem a terça parte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úmero dos exércitos dos cavaleiros era de duzentos milhões; e ouvi o númer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vi os cavalos nesta visão; e os que sobre eles cavalgavam tinham couraças de fogo, e de jacinto, e de enxofre; e as cabeças dos cavalos eram como cabeças de leões; e de suas bocas saía fogo e fumaça e enxof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es três foi morta a terça parte dos homens, isto é pelo fogo, pela fumaça, e pelo enxofre, que saíam das suas bo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oder dos cavalos está na sua boca e nas suas caudas. Porquanto as suas caudas são semelhantes a serpentes, e têm cabeças, e com elas danifi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iu o poço do abismo, e subiu fumaça do poço, como a fumaça de uma grande fornalha, e com a fumaça do poço escureceu-se o sol e o 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outros homens, que não foram mortos por estas pragas, não se arrependeram das obras de suas mãos, para não adorarem os demônios, e os ídolos de ouro, e de prata, e de bronze, e de pedra, e de madeira, que nem podem ver, nem ouvir, nem an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 arrependeram dos seus homicídios, nem das suas feitiçarias, nem da sua prostituição, nem dos seus fu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fumaça vieram gafanhotos sobre a terra; e foi-lhes dado poder, como o poder que têm os escorpiõ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s dito que não fizessem dano à erva da terra, nem a verdura alguma, nem a árvore alguma, mas somente aos homens que não têm nas suas testas o sinal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s permitido, não que os matassem, mas que por cinco meses os atormentassem; e o seu tormento era semelhante ao tormento do escorpião, quando fere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s dias os homens buscarão a morte, e não a acharão; e desejarão morrer, e a morte fugirá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arecer dos gafanhotos era semelhante ao de cavalos aparelhados para a guerra; e sobre as suas cabeças havia umas como coroas semelhantes ao ouro; e os seus rostos eram como rostos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m cabelos como cabelos de mulheres, e os seus dentes eram como de le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m couraças como couraças de ferro; e o ruído das suas asas era como o ruído de carros, quando muitos cavalos correm ao comb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26Z</dcterms:created>
  <dc:creator>Admin</dc:creator>
  <dc:description/>
  <dc:language>en-US</dc:language>
  <cp:lastModifiedBy>Admin</cp:lastModifiedBy>
  <dcterms:modified xsi:type="dcterms:W3CDTF">2008-07-30T23:22:26Z</dcterms:modified>
  <cp:revision>1</cp:revision>
  <dc:subject/>
  <dc:title>Slide 1</dc:title>
</cp:coreProperties>
</file>