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E5F-14D3-4825-BAC5-157BB272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118-53CB-4959-A047-1D16B6CA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430-23AF-4332-B738-8C8370EA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252-9152-4D48-BEC3-99B96907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EB0-4963-4B1B-9423-478C43E9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1AC-65D6-4966-8413-5CB23B4C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775-7AEA-4B5E-B0F1-5B9B063C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596-E7AC-4280-8F20-59D990DA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88E-5C9B-4F69-AAA9-D231D3D3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0C7-377E-489A-A40E-46603113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D5A-2D8E-4565-936A-AE121BD4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F42-DE58-4FA3-8D03-4DA688B9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8982-7977-445E-8E22-1D25CB704E9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Senhor nosso, quão admirável é o teu nome em toda a terra, pois puseste a tua glória sobre os céu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ordenaste força da boca das crianças e dos que mamam, por causa dos teus inimigos, para fazer calar ao inimigo e ao ving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vejo os teus céus, obra dos teus dedos, a lua e as estrelas que preparas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o homem mortal para que te lembres dele? e o filho do homem, para que o visi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pouco menor o fizeste do que os anjos, e de glória e de honra o coro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s com que ele tenha domínio sobre as obras das tuas mãos; tudo puseste debaixo de seus pé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ovelhas e bois, assim como os animais do camp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aves dos céus, e os peixes do mar, e tudo o que passa pelas veredas dos m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SENHOR, Senhor nosso, quão admirável é o teu nome sobre toda a ter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14Z</dcterms:created>
  <dc:creator>Admin</dc:creator>
  <dc:description/>
  <dc:language>en-US</dc:language>
  <cp:lastModifiedBy>Admin</cp:lastModifiedBy>
  <dcterms:modified xsi:type="dcterms:W3CDTF">2008-07-31T00:24:14Z</dcterms:modified>
  <cp:revision>1</cp:revision>
  <dc:subject/>
  <dc:title>Slide 1</dc:title>
</cp:coreProperties>
</file>