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FFF-21E3-4478-824B-3067A777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A59-99A4-4EE4-A925-D842B2C9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E48-7D58-430D-B06C-F0390633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053-0C09-43CE-9CD2-C53AD728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FCB-BF04-43B8-8E3B-DB89DB16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199-091A-4D89-8B01-6BE3A240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CF0-857D-4DD7-AC99-878C5B44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3A1-9F79-44C0-AC9A-2781BFE5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EFA-93CE-4292-8559-4864A8F7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5AB-63DE-4EF5-8402-5D8EB447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CB2-B847-4BC2-B77B-BD6AB57C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19D-5139-4210-AE23-088CC093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D973-48A9-4CFE-A8AA-56C6C756C09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a Moisés: Sobe ao SENHOR, tu e Arão, Nadabe e Abiú, e setenta dos anciãos de Israel; e adorai de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am o Deus de Israel, e debaixo de seus pés havia como que uma pavimentação de pedra de safira, que se parecia com o céu na sua clar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estendeu a sua mão sobre os escolhidos dos filhos de Israel, mas viram a Deus, e comeram e beb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Sobe a mim ao monte, e fica lá; e dar-te-ei as tábuas de pedra e a lei, e os mandamentos que tenho escrito, para os ensin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Moisés com Josué seu servidor; e subiu Moisés ao mo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anciãos: Esperai-nos aqui, até que tornemos a vós; e eis que Arão e Hur ficam convosco; quem tiver algum negócio, se chegará 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ubindo Moisés ao monte, a nuvem cobriu 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lória do SENHOR repousou sobre o monte Sinai, e a nuvem o cobriu por seis dias; e ao sétimo dia chamou a Moisés do meio da nu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arecer da glória do SENHOR era como um fogo consumidor no cume do monte, aos olho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entrou no meio da nuvem, depois que subiu ao monte; e Moisés esteve no monte quarenta dias e quarenta no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ó Moisés se chegará ao SENHOR; mas eles não se cheguem, nem o povo sub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Moisés, e contou ao povo todas as palavras do SENHOR, e todos os estatutos; então o povo respondeu a uma voz, e disse: Todas as palavras, que o SENHOR tem falado, fa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 escreveu todas as palavras do SENHOR, e levantou-se pela manhã de madrugada, e edificou um altar ao pé do monte, e doze monumentos, segundo as doze tribos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alguns jovens dos filhos de Israel, os quais ofereceram holocaustos e sacrificaram ao SENHOR sacrifícios pacíficos de beze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tomou a metade do sangue, e a pôs em bacias; e a outra metade do sangue espargiu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o livro da aliança e o leu aos ouvidos do povo, e eles disseram: Tudo o que o SENHOR tem falado faremos, e obedece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Moisés aquele sangue, e espargiu-o sobre o povo, e disse: Eis aqui o sangue da aliança que o SENHOR tem feito convosco sobre todas 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am Moisés e Arão, Nadabe e Abiú, e setenta dos anciã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28Z</dcterms:created>
  <dc:creator>Admin</dc:creator>
  <dc:description/>
  <dc:language>en-US</dc:language>
  <cp:lastModifiedBy>Admin</cp:lastModifiedBy>
  <dcterms:modified xsi:type="dcterms:W3CDTF">2008-07-30T23:32:28Z</dcterms:modified>
  <cp:revision>1</cp:revision>
  <dc:subject/>
  <dc:title>Slide 1</dc:title>
</cp:coreProperties>
</file>