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762-81E5-49E8-BD50-DA91B09E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930-1BAA-4C43-82E2-50568AAB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515-B10C-4480-97A1-DCFA050B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66D-954E-4094-83CE-E717736B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629-C467-4487-9AF3-FACB4627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4FC-9640-416D-9E1F-DFF3181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8CE-715B-4254-9B51-386CB5B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AC2-A347-4E30-8520-B2971EE4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8AF-448C-486C-80CA-5F03283F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A1D-9055-4423-97AF-9E3B053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346-BDFA-43CE-9D58-6E48D6E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541-E19A-4704-8BF4-C5C455E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DE8-1586-428F-83E7-26EDC2DAB3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segunda sorte a Simeão, para a tribo dos filhos de Simeão, segundo as suas famílias; e foi a sua herança no meio da herança dos filho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terceira sorte pelos filhos de Zebulom, segundo as suas famílias; e foi o termo da sua herança até Sar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e o seu termo pelo ocidente a Maralá, e vai até Dabesete, e chega também até ao ribeiro que está defronte de Jocn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Saride volta para o oriente, para o nascente do sol, até ao termo de Quislote-Tabor, sai a Daberate, e vai subindo a Jaf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ssa pelo oriente, para o nascente, a Gate-Hefer, em Ete-Cazim, chegando a Rimom-Metoar, que vai até Ne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deando-a, passa o termo para o norte a Hanatom, chegando ao vale de Iftá-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tate, Naalal, e Sinrom, e Idala, e Belém; doz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os filhos de Zebulom, segundo as suas famílias; est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rta sorte saiu para Issacar; aos filhos de Issacar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seu termo Jizreel, e Quesulote e Sun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faraim, e Siom, e Anaara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veram na sua herança: Berseba, e Seba e Mola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bite e Quisiom, e Eb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mete, e En-Ganim, e En-Hadá, e Bete-Paz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 este termo até Tabor, e Saazima, e Bete-Semes; e vai terminar no Jordão; dezessei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a tribo dos filhos de Issacar, segundo as suas famílias; est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quinta sorte para a tribo dos filhos de Aser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seu termo Helcate, e Hali, e Béten, e Acsaf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ameleque, e Amade, e Misal; e chega ao Carmelo para o ocidente, e a Sior-Libn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 para o nascente do sol a Bete-Dagom, e chega a Zebulom e ao vale de Iftá-El, ao norte de Bete-Emeque e de Neiel, e vem sair a Cabul, pela esquer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ebrom, e Reobe, e Hamom, e Caná, até à grande Si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 este termo a Ramá, e até à forte cidade de Tiro; então torna este termo a Hosa, para terminar no mar, na região de Aczi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zar-Sual, e Balá, e Az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á, e Afeque, e Reobe; vinte e du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a tribo dos filhos de Aser, segundo as suas famílias; est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a sexta sorte para os filhos de Naftali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seu termo desde Helefe e desde Alom em Zaanamim, e Adami-Neguebe, e Jabneel, até Lacum, terminando n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 este termo pelo ocidente a Aznote-Tabor, e dali passa a Hucoque; e chega a Zebulom ao sul, e chega a Aser ao ocidente, e a Judá pelo Jordão, ao nascente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ão as cidades fortificadas: Zidim, Zer, e Hamate, Racate e Quiner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ama, e Ramá, e Haz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des, e Edrei, e En-Haz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om, e Migdal-El, Horém e Bete-Anate, e Bete-Semes; dezenov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a tribo dos filhos de Naftali, segundo as suas famílias; est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tolade, e Betul, e Hormá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étima sorte saiu para a tribo dos filhos de Dã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termo da sua herança, Sora, e Estaol, e Ir-Sem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alabim, e Aijalom, e It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om, e Timna, e Ecr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teque, e Gibetom, e Baala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úde, e Bene-Beraque, e Gate-Rim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-Jarcom, e Racom, com o termo defronte de Jaf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, porém, pequeno termo aos filhos de Dã, pelo que subiram os filhos de Dã, e pelejaram contra Lesém, e a tomaram, e a feriram ao fio da espada, e a possuíram e habitaram nela; e a Lesém chamaram Dã, conforme ao nome de Dã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a tribo dos filhos de Dã, segundo as suas famílias; est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bando, pois, de repartir a terra em herança segundo os seus termos, deram os filhos de Israel a Josué, filho de Num, herança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iclague, e Bete-Marcabote, e Hazar-Su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mandado do SENHOR lhe deram a cidade que pediu, a Timnate-Sera, na montanha de Efraim; e reedificou aquela cidade, e habitou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heranças que Eleazar, o sacerdote, e Josué, filho de Num, e os cabeças dos pais das famílias repartiram às tribos dos filhos de Israel, em herança, por sorte, em Siló, perante o SENHOR, à porta da tenda da congregação. E assim acabaram de 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te-Lebaote, e Saruém; trez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m, e Rimom, e Eter, e Asã; quatro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aldeias que havia em redor destas cidades, até Baalate-Ber (que é Ramá), do sul; esta é a herança da tribo dos filhos de Simeão, segundo as suas famíl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herança dos filhos de Simeão foi tirada do quinhão dos de Judá, porquanto a herança dos filhos de Judá era demasiadamente grande para eles; pelo que os filhos de Simeão tiveram a sua herança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54Z</dcterms:created>
  <dc:creator>Admin</dc:creator>
  <dc:description/>
  <dc:language>en-US</dc:language>
  <cp:lastModifiedBy>Admin</cp:lastModifiedBy>
  <dcterms:modified xsi:type="dcterms:W3CDTF">2008-07-31T00:05:54Z</dcterms:modified>
  <cp:revision>1</cp:revision>
  <dc:subject/>
  <dc:title>Slide 1</dc:title>
</cp:coreProperties>
</file>