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F31-C4EA-40F8-9FA0-5DB033C0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E3F-C43E-40ED-B536-429D1F5B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392-3A0A-495B-B664-3CCA6633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987-DE12-45DB-B2C9-976C9969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B2D-EEAA-4D7C-93F9-88D87A47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8FE-3386-40A6-9A7E-F3BF397B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C1A-DE1F-4746-9DEB-11FB07C7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DD0-1E3F-4A49-BA2A-19B3C1F7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C53-4144-4CB2-866E-10012CDB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C83-71B8-4034-B876-71EE6D2C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D70-3E2B-4128-86F2-D490718D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60C-85DC-4922-A5D8-B52DC6B0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4503-0636-4FB5-801B-CFE7154A8E3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I João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esbítero ao amado Gaio, a quem em verdade eu a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I João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se eu for, trarei à memória as obras que ele faz, proferindo contra nós palavras maliciosas; e, não contente com isto, não recebe os irmãos, e impede os que querem recebê-los, e os lança fora da igr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I João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do, não sigas o mal, mas o bem. Quem faz o bem é de Deus; mas quem faz o mal não tem visto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I João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dão testemunho de Demétrio, até a mesma verdade; e também nós testemunhamos; e vós bem sabeis que o nosso testemunho é verda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I João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nha muito que escrever, mas não quero escrever-te com tinta e pe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I João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ero, porém, ver-te brevemente, e falaremos face 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I João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z seja contigo. Os amigos te saúdam. Saúda os amigos pel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I João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do, desejo que te vá bem em todas as coisas, e que tenhas saúde, assim como bem vai a t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I João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uito me alegrei quando os irmãos vieram, e testificaram da tua verdade, como tu andas n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I João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nho maior gozo do que este, o de ouvir que os meus filhos andam n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I João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do, procedes fielmente em tudo o que fazes para com os irmãos, e para com os estranh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I João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em presença da igreja testificaram do teu amor; aos quais, se conduzires como é digno para com Deus, bem fará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I João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elo seu Nome saíram, nada tomando d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I João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os tais devemos receber, para que sejamos cooperadores d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I João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 escrito à igreja; mas Diótrefes, que procura ter entre eles o primado, não nos rece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22Z</dcterms:created>
  <dc:creator>Admin</dc:creator>
  <dc:description/>
  <dc:language>en-US</dc:language>
  <cp:lastModifiedBy>Admin</cp:lastModifiedBy>
  <dcterms:modified xsi:type="dcterms:W3CDTF">2008-07-30T23:54:22Z</dcterms:modified>
  <cp:revision>1</cp:revision>
  <dc:subject/>
  <dc:title>Slide 1</dc:title>
</cp:coreProperties>
</file>