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550-51AF-4343-9B19-06032EA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0F7-1453-4174-9B29-64F13AB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7E1-DA90-450E-AA55-DB22DA3D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6A7-8BC2-4A64-B18B-72BA1501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4F1-E7EF-45E5-91AC-2EFFBCEF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BEE-28FB-4DAF-9570-A3174E3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E28-5DE6-418B-AD7F-C84EC57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484-8F92-4CAA-B136-E46FCBB5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D4E-A1EC-4293-87A1-84E6367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9D6-3163-4DE5-8A33-71FD1E8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9B8-CAF6-4BFD-9E0C-A29B754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041-7782-4419-BAA4-FE15552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EB3-2DB7-4E77-98DD-58942014F6B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aquele dia vem ardendo como fornalha; todos os soberbos, e todos os que cometem impiedade, serão como a palha; e o dia que está para vir os abrasará, diz o SENHOR dos Exércitos, de sorte que lhes não deixará nem raiz nem r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vós, os que temeis o meu nome, nascerá o sol da justiça, e cura trará nas suas asas; e saireis e saltareis como bezerros da estreb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sareis os ímpios, porque se farão cinza debaixo das plantas de vossos pés, naquele dia que estou preparando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 lei de Moisés, meu servo, que lhe mandei em Horebe para todo o Israel, a saber, estatutos e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vos enviarei o profeta Elias, antes que venha o grande e terrível dia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nverterá o coração dos pais aos filhos, e o coração dos filhos a seus pais; para que eu não venha, e fira a terra com mal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35Z</dcterms:created>
  <dc:creator>Admin</dc:creator>
  <dc:description/>
  <dc:language>en-US</dc:language>
  <cp:lastModifiedBy>Admin</cp:lastModifiedBy>
  <dcterms:modified xsi:type="dcterms:W3CDTF">2008-07-31T00:12:35Z</dcterms:modified>
  <cp:revision>1</cp:revision>
  <dc:subject/>
  <dc:title>Slide 1</dc:title>
</cp:coreProperties>
</file>