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332-BE3E-48DF-BDD4-AC8ED80A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16E-BBB2-43F7-9D2C-4F2CA0B1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E16-57A0-4581-9D2E-95667778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27C-13E0-479F-8140-278AA5DB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872-2686-494B-A185-27B15853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016-E0C2-465B-8D57-E1458C89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6941-0499-45FE-85FE-111B94FF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387A-9BAE-47F1-83C1-54431158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41DF-DDA8-456E-AE31-DA96BC57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E85-B96D-48A4-88AE-AFEB5ECC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77C-1D06-417A-853E-51CBD70D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BDE-2614-408C-AE1E-CF40CAFA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EE96-525C-4315-82AB-BF62D578A16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 fez-me sair para fora, ao átrio exterior, para o lado do caminho do norte; e me levou às câmaras que estavam defronte do lugar separado, e que estavam defronte do edifício, do lado n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largura do muro do átrio para o lado do oriente, diante do lugar separado, e diante do edifício, havia também câma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aminho que havia diante delas era da aparência das câmaras, que davam para o norte; conforme o seu comprimento, assim era a sua largura; e todas as suas saídas eram também conforme os seus padrões, e conforme as suas entr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forme as portas das câmaras, que olhavam para o caminho do sul, havia também uma entrada no topo do caminho, isto é, do caminho em frente do muro direito, para o caminho do oriente, quando se entra por 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 disse: As câmaras do norte, e as câmaras do sul, que estão diante do lugar separado, elas são câmaras santas, em que os sacerdotes, que se chegam ao SENHOR, comerão as coisas mais santas; ali porão as coisas mais santas, e a oferta de manjar,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s sacerdotes entrarem, não sairão do santuário para o átrio exterior, mas porão ali as suas vestiduras com que ministraram, porque elas são santas; e vestir-se-ão de outras vestiduras, e assim se aproximarão do lugar pertencente a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abando ele de medir a casa interior, ele me fez sair pelo caminho da porta, cuja face olha para o caminho do oriente; e a mediu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diu o lado oriental com a cana de medir, quinhentas canas, com a cana de medir, ao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diu o lado do norte, com a cana de medir, quinhentas canas ao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diu também o lado do sul, com a cana de medir, quinhentas ca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 uma volta para o lado do ocidente, e mediu, com a cana de medir, quinhentas ca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comprimento de cem côvados, era a entrada do norte; e a largura era de cinqüenta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diu pelos quatro lados; e havia um muro em redor, de quinhentas canas de comprimento, e quinhentas de largura, para fazer separação entre o santo e o prof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frente dos vinte côvados, que tinha o átrio interior, e em frente do pavimento que tinha o átrio exterior, havia galeria contra galeria em três and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ante das câmaras havia um passeio de dez côvados de largo, do lado de dentro, e um caminho de um côvado, e as suas entradas eram para o lado do n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câmaras superiores eram mais estreitas; porque as galerias tomavam aqui mais espaço do que as de baixo e as do meio do edifí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as eram de três andares, e não tinham colunas como as colunas dos átrios; por isso desde o chão se iam estreitando, mais do que as de baixo e as do m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uro que estava de fora, defronte das câmaras, no caminho do átrio exterior, diante das câmaras, tinha cinqüenta côvados de compr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o comprimento das câmaras, que estavam no átrio exterior, era de cinqüenta côvados; e eis que defronte do templo havia cem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baixo destas câmaras estava a entrada do lado do oriente, quando se entra nelas pelo átrio exteri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6:08Z</dcterms:created>
  <dc:creator>Admin</dc:creator>
  <dc:description/>
  <dc:language>en-US</dc:language>
  <cp:lastModifiedBy>Admin</cp:lastModifiedBy>
  <dcterms:modified xsi:type="dcterms:W3CDTF">2008-07-30T23:36:08Z</dcterms:modified>
  <cp:revision>1</cp:revision>
  <dc:subject/>
  <dc:title>Slide 1</dc:title>
</cp:coreProperties>
</file>