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0F08-CDC8-4D0C-B3DD-4A592D736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D39C-8F71-41E0-8D4A-3F334AAF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7670-1F7A-499C-80A6-1FF75172E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0E97-DF36-410E-A517-2D85527D0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AAAC-6983-4846-A823-9A2C06CF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230C-D163-4FD8-9BB0-648D41FD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A2E9-F3E3-44A4-A74D-12DC507A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D600-F722-4F98-B877-DF0521BA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7008-67E9-45C4-9D4B-3F76B4A6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B663-1C3C-43A6-BCD4-0960A002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BCD9-17F1-4507-81CA-4059BA2C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C9D9-3A0A-4841-979F-5EE3BD91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123E-73EF-4155-BCCA-A2A1286AACC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IMÃO Pedro, servo e apóstolo de Jesus Cristo, aos que conosco alcançaram fé igualmente preciosa pela justiça do nosso Deus e Salvador Jesus Crist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irmãos, procurai fazer cada vez mais firme a vossa vocação e eleição; porque, fazendo isto, nunca jamais tropeça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vos será amplamente concedida a entrada no reino eterno de nosso Senhor e Salvador Jesus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não deixarei de exortar-vos sempre acerca destas coisas, ainda que bem as saibais, e estejais confirmados na presente ver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nho por justo, enquanto estiver neste tabernáculo, despertar-vos com admoestaçõ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bendo que brevemente hei de deixar este meu tabernáculo, como também nosso Senhor Jesus Cristo já mo tem revel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também eu procurarei em toda a ocasião que depois da minha morte tenhais lembrança destas coi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ão vos fizemos saber a virtude e a vinda de nosso Senhor Jesus Cristo, seguindo fábulas artificialmente compostas; mas nós mesmos vimos a sua majest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ele recebeu de Deus Pai honra e glória, quando da magnífica glória lhe foi dirigida a seguinte voz: Este é o meu Filho amado, em quem me tenho compraz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vimos esta voz dirigida do céu, estando nós com ele no monte san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mos, mui firme, a palavra dos profetas, à qual bem fazeis em estar atentos, como a uma luz que alumia em lugar escuro, até que o dia amanheça, e a estrela da alva apareça em vossos cor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raça e paz vos sejam multiplicadas, pelo conhecimento de Deus, e de Jesus nosso Senho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bendo primeiramente isto: que nenhuma profecia da Escritura é de particular interpret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profecia nunca foi produzida por vontade de homem algum, mas os homens santos de Deus falaram inspirados pelo Espírito S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sto como o seu divino poder nos deu tudo o que diz respeito à vida e piedade, pelo conhecimento daquele que nos chamou pela sua glória e virtud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as quais ele nos tem dado grandíssimas e preciosas promessas, para que por elas fiqueis participantes da natureza divina, havendo escapado da corrupção, que pela concupiscência há no 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ós também, pondo nisto mesmo toda a diligência, acrescentai à vossa fé a virtude, e à virtude a ciênci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à ciência a temperança, e à temperança a paciência, e à paciência a piedad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à piedade o amor fraternal, e ao amor fraternal a car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se em vós houver e abundarem estas coisas, não vos deixarão ociosos nem estéreis no conhecimento de nosso Senhor Jesus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Pedro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aquele em quem não há estas coisas é cego, nada vendo ao longe, havendo-se esquecido da purificação dos seus antigos pec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0:53Z</dcterms:created>
  <dc:creator>Admin</dc:creator>
  <dc:description/>
  <dc:language>en-US</dc:language>
  <cp:lastModifiedBy>Admin</cp:lastModifiedBy>
  <dcterms:modified xsi:type="dcterms:W3CDTF">2008-07-30T23:50:53Z</dcterms:modified>
  <cp:revision>1</cp:revision>
  <dc:subject/>
  <dc:title>Slide 1</dc:title>
</cp:coreProperties>
</file>