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A6D-AFC3-40F8-A5A1-9C5A151B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627-03B8-4655-AD81-D47EECFC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835-DEE6-4FC6-BBAD-BF6A60B9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189-9091-42E9-AE99-CB2B6D9C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3E9-8BE0-4A0A-9355-4168D2A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123-4991-44BB-A317-51A69E9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507-7851-4B7B-BD43-653080CD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C7D-C65D-4598-BCD8-1494786B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F53-96B5-4F13-B9AF-B311142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213-D385-4F96-9E9B-B25ECA4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743-35A9-4ACA-95BD-EDBC8F98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372-4FEE-4A60-932D-3784F65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AF36-148B-4811-9F5C-7CAC3E2128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u tens sido o nosso refúgio,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dias da nossa vida chegam a setenta anos, e se alguns, pela sua robustez, chegam a oitenta anos, o orgulho deles é canseira e enfado, pois cedo se corta e vamos vo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onhece o poder da tua ira? Segundo és tremendo, assim é o t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nos a contar os nossos dias, de tal maneira que alcancemos corações s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-te para nós, SENHOR; até quando? Aplaca-te para com os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ta-nos de madrugada com a tua benignidade, para que nos regozijemos, e nos alegremos todos os noss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-nos pelos dias em que nos afligiste, e pelos anos em que vimos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eça a tua obra aos teus servos, e a tua glória sobr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ja sobre nós a formosura do SENHOR nosso Deus, e confirma sobre nós a obra das nossas mãos; sim, confirma a obra das n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os montes nascessem, ou que tu formasses a terra e o mundo, mesmo de eternidade a eternidade, tu és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reduzes o homem à destruição; e dizes: Tornai-vos,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il anos são aos teus olhos como o dia de ontem que passou, e como a vigília d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levas como uma corrente de água; são como um sono; de manhã são como a erva que cres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drugada floresce e cresce; à tarde corta-se e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omos consumidos pela tua ira, e pelo teu furor somos angusti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nte de ti puseste as nossas iniqüidades, os nossos pecados ocultos, à luz do t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odos os nossos dias vão passando na tua indignação; passamos os nossos anos como um conto que se co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56Z</dcterms:created>
  <dc:creator>Admin</dc:creator>
  <dc:description/>
  <dc:language>en-US</dc:language>
  <cp:lastModifiedBy>Admin</cp:lastModifiedBy>
  <dcterms:modified xsi:type="dcterms:W3CDTF">2008-07-31T00:26:56Z</dcterms:modified>
  <cp:revision>1</cp:revision>
  <dc:subject/>
  <dc:title>Slide 1</dc:title>
</cp:coreProperties>
</file>