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E1A-9F66-4839-83AE-62BC8DED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EF6-661D-41D1-84F8-0E9F5545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B86-3167-46CB-A936-2D60C9ED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454-B63E-4847-A396-95530549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212-CDC5-46B3-9373-C0DBEC19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A81-0BF6-4B81-AA21-3E5C5B69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EFA-AA92-4120-8414-5242BB71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05F-DABB-4628-BE49-F995818B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A22-F78A-40C0-AF42-A0874344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FD9-6C67-42D1-B744-646304AB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5D6-C6FE-4BE3-A1B8-1AE017A9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4E5-B462-4A08-9CD0-CC899B21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D2E0-2522-490D-AFCC-DEC8DBB843D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Diná, filha de Lia, que esta dera a Jacó, para ver as filha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eis conosco; e a terra estará diante de vós; habitai e negociai nela, e tomai possessão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Siquém ao pai dela, e aos irmãos dela: Ache eu graça em vossos olhos, e darei o que me disserd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umentai muito sobre mim o dote e a dádiva e darei o que me disserdes; dai-me somente a moça por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ram os filhos de Jacó a Siquém e a Hamor, seu pai, enganosamente, e falaram, porquanto havia violado a Diná, sua irm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Não podemos fazer isso, dar a nossa irmã a um homem não circuncidado; porque isso seria uma vergonha para n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so, porém, consentiremos a vós: se fordes como nós; que se circuncide todo o homem entre v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ar-vos-emos as nossas filhas, e tomaremos nós as vossas filhas, e habitaremos convosco, e seremos um po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 não nos ouvirdes, e não vos circuncidardes, tomaremos a nossa filha e ir-nos-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as palavras foram boas aos olhos de Hamor, e aos olhos de Siquém, filho de H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ardou o jovem em fazer isto; porque a filha de Jacó lhe contentava; e ele era o mais honrado de toda a casa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iquém, filho de Hamor, heveu, príncipe daquela terra, viu-a, e tomou-a, e deitou-se com ela, e humilhou-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is, Hamor e Siquém, seu filho, à porta da sua cidade, e falaram aos homens da sua cidad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homens são pacíficos conosco; portanto habitarão nesta terra, e negociarão nela; eis que a terra é larga de espaço para eles; tomaremos nós as suas filhas por mulheres, e lhes daremos as nossa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, porém, consentirão aqueles homens, em habitar conosco, para que sejamos um povo, se todo o homem entre nós se circuncidar, como eles são circuncid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u gado, as suas possessões, e todos os seus animais não serão nossos? Consintamos somente com eles e habitarão con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 ouvidos a Hamor e a Siquém, seu filho, todos os que saíam da porta da cidade; e foi circuncidado todo o homem, de todos os que saíam pela porta da su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o terceiro dia, quando estavam com a mais violenta dor, os dois filhos de Jacó, Simeão e Levi, irmãos de Diná, tomaram cada um a sua espada, e entraram afoitamente na cidade, e mataram todos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taram também ao fio da espada a Hamor, e a seu filho Siquém; e tomaram a Diná da casa de Siquém, e saí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eram os filhos de Jacó aos mortos e saquearam a cidade; porquanto violaram a sua irm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suas ovelhas, e as suas vacas, e os seus jumentos, e o que havia na cidade e no campo, tom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seus bens, e todos os seus meninos, e as suas mulheres, levaram presos, e saquearam tudo o que havia em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egou-se a sua alma com Diná, filha de Jacó, e amou a moça e falou afetuosamente à mo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acó a Simeão e a Levi: Tendes-me turbado, fazendo-me cheirar mal entre os moradores desta terra, entre os cananeus e perizeus; tendo eu pouco povo em número, eles ajuntar-se-ão, e serei destruído, eu e minha c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sseram: Devia ele tratar a nossa irmã como a uma prostitu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ou também Siquém a Hamor, seu pai, dizendo: Toma-me esta moça por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Jacó ouviu que Diná, sua filha, fora violada, estavam os seus filhos no campo com o gado; e calou-se Jacó até que vie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Hamor, pai de Siquém, a Jacó, para fala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os filhos de Jacó do campo, ouvindo isso, e entristeceram-se os homens, e iraram-se muito, porquanto Siquém cometera uma insensatez em Israel, deitando-se com a filha de Jacó; o que não se devia fazer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Hamor com eles, dizendo: A alma de Siquém, meu filho, está enamorada da vossa filha; dai-lha, peço-vos, por mulh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entai-vos conosco, dai-nos as vossas filhas, e tomai as nossas filhas para v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9:16Z</dcterms:created>
  <dc:creator>Admin</dc:creator>
  <dc:description/>
  <dc:language>en-US</dc:language>
  <cp:lastModifiedBy>Admin</cp:lastModifiedBy>
  <dcterms:modified xsi:type="dcterms:W3CDTF">2008-07-30T23:39:16Z</dcterms:modified>
  <cp:revision>1</cp:revision>
  <dc:subject/>
  <dc:title>Slide 1</dc:title>
</cp:coreProperties>
</file>