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809-C7D6-4F47-8E36-A7349B8C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AC4-BB02-4536-8282-B201B9F2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133-51A4-4246-AB9E-BF5052D7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F6C-0595-4B3A-BDF0-BEC8952A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D72-7380-41F5-AFFB-D83DD6E9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01D-87D0-486F-9C95-72BE3BA9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DF6-3ACD-4E76-8CBA-2DFB6129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86C-3DBD-4CCB-B745-13114049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6AC-7D60-430B-98FF-976DA7B3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C41-6E44-415D-86E7-52AC48C5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FFD-3F1B-41B5-9E10-A2A1D77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25D-C857-4E09-A241-9CA045F0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CD44-81DA-4743-9546-7F2012536EC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, diz o SENHOR, tirarão para fora das suas sepulturas os ossos dos reis de Judá, e os ossos dos seus príncipes, e os ossos dos sacerdotes, e os ossos dos profetas, e os ossos dos habitantes de Jerusalé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arei suas mulheres a outros, e os seus campos a novos possuidores; porque desde o menor até ao maior, cada um deles se dá à avareza; desde o profeta até ao sacerdote, cada um deles usa de fal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ram a ferida da filha de meu povo levianamente, dizendo: Paz, paz; quando não há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envergonham-se de cometerem abominação? Não; de maneira nenhuma se envergonham, nem sabem que coisa é envergonhar-se; portanto cairão entre os que caem e tropeçarão no tempo em que eu os visitar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os apanharei, diz o SENHOR; já não há uvas na vide, nem figos na figueira, e até a folha caiu; e o que lhes dei passará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nos assentamos ainda? Juntai-vos e entremos nas cidades fortificadas, e ali pereçamos; pois já o SENHOR nosso Deus nos destinou a perecer e nos deu a beber água de fel; porquanto pecamos cont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a-se a paz, mas não há bem; o tempo da cura, e eis o ter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desde Dã se ouve o resfolegar dos seus cavalos, toda a terra treme ao som dos rinchos dos seus fortes; e vêm, e devoram a terra, e sua abundância, a cidade e os que habitam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envio entre vós serpentes e basiliscos, contra os quais não há encantamento, e vos morderã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se eu pudesse consolar-me na minha tristeza! O meu coração desfalece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 voz do clamor da filha do meu povo de terra mui remota; não está o SENHOR em Sião? Não está nela o seu rei? Por que me provocaram à ira com as suas imagens de escultura, com vaidades estranh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pô-los-ão ao sol, e à lua, e a todo o exército do céu, a quem tinham amado, e a quem tinham servido, e após quem tinham ido, e a quem tinham buscado e diante de quem se tinham prostrado; não serão recolhidos nem sepultados; serão como esterco sobr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ou a sega, findou o verão, e nós não estamos sal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ou quebrantado pela ferida da filha do meu povo; ando de luto; o espanto se apoderou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há bálsamo em Gileade? Ou não há lá médico? Por que, pois, não se realizou a cura da filha do meu po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escolhida antes a morte do que a vida por todos os que restarem desta raça maligna, que ficarem em todos os lugares onde os lancei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lhes mais: Assim diz o SENHOR: Porventura cairão e não se tornarão a levantar? Desviar-se-ão, e não voltar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, pois, se desvia este povo de Jerusalém com uma apostasia tão contínua? Persiste no engano, não quer vo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escutei e ouvi; não falam o que é reto, ninguém há que se arrependa da sua maldade, dizendo: Que fiz eu? Cada um se desvia na sua carreira, como um cavalo que arremete com ímpeto na bat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 cegonha no céu conhece os seus tempos determinados; e a rola, e o grou e a andorinha observam o tempo da sua arribação; mas o meu povo não conhece o juíz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dizeis: Nós somos sábios, e a lei do SENHOR está conosco? Eis que em vão tem trabalhado a falsa pena dos escrib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ábios são envergonhados, espantados e presos; eis que rejeitaram a palavra do SENHOR; que sabedoria, pois, têm e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44Z</dcterms:created>
  <dc:creator>Admin</dc:creator>
  <dc:description/>
  <dc:language>en-US</dc:language>
  <cp:lastModifiedBy>Admin</cp:lastModifiedBy>
  <dcterms:modified xsi:type="dcterms:W3CDTF">2008-07-30T23:57:44Z</dcterms:modified>
  <cp:revision>1</cp:revision>
  <dc:subject/>
  <dc:title>Slide 1</dc:title>
</cp:coreProperties>
</file>