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946-798C-423A-963B-A5E6394A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810-4712-40F6-8496-93BD6F79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8F3-6C42-4D02-8FB2-CF342665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EB8-E910-4DE0-9DCC-24E37A5B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334-0D6E-49D2-9B90-317657C3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34E-2934-4AD5-BB2E-2091983F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59E0-CD53-4265-A530-5B1F5DB8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ED9-4309-460C-A276-1785011E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2F6-C890-40DC-8A40-862BADB6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EDC-18C1-46B3-A493-F9516B66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E31-CAAE-40DF-8297-288CBAFA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42F-EC5E-418D-BB7F-57ADB6EB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B48A-4466-42D0-9DE2-9A2C9D8F6AC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ÁS naquele dia: Graças te dou, ó SENHOR, porque, ainda que te iraste contra mim, a tua ira se retirou, e tu me conso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Deus é a minha salvação; nele confiarei, e não temerei, porque o SENHOR DEUS é a minha força e o meu cântico, e se tornou a minh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com alegria tirareis águas das fontes d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eis naquele dia: Dai graças ao SENHOR, invocai o seu nome, fazei notório os seus feitos entre os povos, contai quão excelso é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 ao SENHOR, porque fez coisas grandiosas; saiba-se isto em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ulta e jubila, ó habitante de Sião, porque grande é o Santo de Israel n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55Z</dcterms:created>
  <dc:creator>Admin</dc:creator>
  <dc:description/>
  <dc:language>en-US</dc:language>
  <cp:lastModifiedBy>Admin</cp:lastModifiedBy>
  <dcterms:modified xsi:type="dcterms:W3CDTF">2008-07-30T23:54:55Z</dcterms:modified>
  <cp:revision>1</cp:revision>
  <dc:subject/>
  <dc:title>Slide 1</dc:title>
</cp:coreProperties>
</file>