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179-FD6A-44C2-A2B2-9AD8FE3F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179-AF26-44D1-A073-EF5341D1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3E0-BBB9-48F5-A926-A89599DB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C29-D928-444C-9163-E08C1934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C71-4F6D-4B55-97AC-83A9C1CC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772-6890-4B37-9E67-02FAB1C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491-AD87-42E9-BBFE-92E087CB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392-3DC9-4722-B127-52E15799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FCD-BED6-4C8F-8E8C-6E4FDB22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1A3-1154-45DA-AFEE-0CBC941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AE6-35ED-47B3-A1F0-9795FF0C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3B6-0F04-4017-8829-B4BAA49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E25B-6E23-4206-84DF-B7A244FEF83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MELEQUE, filho de Jerubaal, foi a Siquém, aos irmãos de sua mãe, e falou-lhes e a toda a geração da casa do pai de sua mã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as árvores à figueira: Vem tu, e reina sobr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figueira lhes disse: Deixaria eu a minha doçura, o meu bom fruto, e iria pairar sobre as árv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as árvores à videira: Vem tu, e reina sobr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videira lhes disse: Deixaria eu o meu mosto, que alegra a Deus e aos homens, e iria pairar sobre as árv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as as árvores disseram ao espinheiro: Vem tu, e reina sobr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espinheiro às árvores: Se, na verdade, me ungis por rei sobre vós, vinde, e confiai-vos debaixo da minha sombra; mas, se não, saia fogo do espinheiro que consuma os cedros d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 é que em verdade e sinceridade agistes, fazendo rei a Abimeleque, e se bem fizestes para com Jerubaal e para com a sua casa, e se com ele usastes conforme ao merecimento das suas mã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meu pai pelejou por vós, e desprezou a sua vida, e vos livrou da mão dos midian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vós hoje vos levantastes contra a casa de meu pai, e matastes a seus filhos, setenta homens, sobre uma pedra; e a Abimeleque, filho da sua serva, fizestes reinar sobre os cidadãos de Siquém, porque é vosso irmão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se em verdade e sinceridade usastes com Jerubaal e com a sua casa hoje, alegrai-vos com Abimeleque, e também ele se alegre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i, peço-vos, aos ouvidos de todos os cidadãos de Siquém: Qual é melhor para vós, que setenta homens, todos os filhos de Jerubaal, dominem sobre vós, ou que um homem sobre vós domine? Lembrai-vos também de que sou osso vosso e carne vo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não, saia fogo de Abimeleque, e consuma aos cidadãos de Siquém, e a casa de Milo; e saia fogo dos cidadãos de Siquém, e da casa de Milo, que consuma a Abimel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u Jotão, e fugiu e foi para Beer; e ali habitou por medo de Abimeleque,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, pois, Abimeleque dominado três anos sobre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ou Deus um mau espírito entre Abimeleque e os cidadãos de Siquém; e estes se houveram aleivosamente contra Abimeleq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violência feita aos setenta filhos de Jerubaal viesse, e o seu sangue caísse sobre Abimeleque, seu irmão, que os matara, e sobre os cidadãos de Siquém, que fortaleceram as mãos dele para matar a seus irmã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idadãos de Siquém puseram contra ele quem lhe armasse emboscadas sobre os cumes dos montes; e a todo aquele que passava pelo caminho junto a eles o assaltavam; e contou-se isso a Abimel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 também Gaal, filho de Ebede, com seus irmãos, e passaram a Siquém; e os cidadãos de Siquém confiar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íram ao campo, e vindimaram as suas vinhas, e pisaram as uvas, e fizeram festas; e foram à casa de seu deus, e comeram, e beberam, e amaldiçoaram a Abimel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Gaal, filho de Ebede: Quem é Abimeleque, e quem é Siquém, para que o sirvamos? Não é porventura filho de Jerubaal? E não é Zebul o seu mordomo? Servi antes aos homens de Hamor, pai de Siquém; pois, por que razão serviríamos nós a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se este povo estivera na minha mão, eu expulsaria a Abimeleque. E diria a Abimeleque: Multiplica o teu exército, e s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irmãos de sua mãe falaram acerca dele perante os ouvidos de todos os cidadãos de Siquém todas aquelas palavras; e o coração deles se inclinou a seguir Abimeleque, porque disseram: É nosso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vindo Zebul, o maioral da cidade, as palavras de Gaal, filho de Ebede, se acendeu a sua i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astutamente mensageiros a Abimeleque, dizendo: Eis que Gaal, filho de Ebede, e seus irmãos vieram a Siquém, e eis que eles estão sublevando esta cidade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pois, de noite, tu e o povo que tiveres contigo, e põe emboscadas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-te pela manhã ao sair o sol, e dá de golpe sobre a cidade; e eis que, saindo contra ti, ele e o povo que tiver com ele, faze-lhe como pud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ou-se, pois, Abimeleque, e todo o povo que com ele havia, de noite, e puseram emboscadas a Siquém, com quatro tro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aal, filho de Ebede, saiu, e pôs-se à entrada da porta da cidade; e Abimeleque, e todo o povo que com ele havia, se levantou das embosc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Gaal aquele povo, disse a Zebul: Eis que desce gente dos cumes dos montes. Zebul, ao contrário, lhe disse: As sombras dos montes vês como se fossem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Gaal ainda tornou a falar, e disse: Eis ali desce gente do meio da terra, e uma tropa vem do caminho do carvalho de Meonen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Zebul: Onde está agora a tua boca, com a qual dizias: Quem é Abimeleque, para que o sirvamos? Não é este porventura o povo que desprezaste? Sai pois, peço-te, e peleja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Gaal à vista dos cidadãos de Siquém, e pelejou contra Abimel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-lhe setenta peças de prata, da casa de Baal-Berite; e com elas alugou Abimeleque uns homens ociosos e levianos, que o segu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meleque o perseguiu porquanto fugiu de diante dele; e muitos feridos caíram até à entrada da porta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meleque ficou em Aruma. E Zebul expulsou a Gaal e a seus irmãos, para que não pudessem habitar em Siq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no dia seguinte que o povo saiu ao campo; disto foi avisado Abimel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o povo, e o repartiu em três tropas, e pôs emboscadas no campo; e olhou, e eis que o povo saía da cidade, e levantou-se contra ele, e o fer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bimeleque, e as tropas que com ele havia, romperam de improviso, e pararam à entrada da porta da cidade; e as outras duas tropas deram de improviso sobre todos quantos estavam no campo, e os fer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meleque pelejou contra a cidade todo aquele dia, e tomou a cidade, e matou o povo que nela havia; e assolou a cidade, e a semeou de s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ouvindo todos os cidadãos da torre de Siquém, entraram na fortaleza, na casa do deus Ber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ou-se a Abimeleque que todos os cidadãos da torre de Siquém se haviam congre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u, pois, Abimeleque ao monte Salmom, ele e todo o povo que com ele havia; e Abimeleque tomou na sua mão um machado, e cortou um ramo de árvore, e o levantou, e pô-lo ao seu ombro, e disse ao povo, que com ele havia: O que me vistes fazer apressai-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cada um de todo o povo, também cortou o seu ramo e seguiu a Abimeleque; e pondo os ramos junto da fortaleza, queimaram-na a fogo com os que nela estavam, de modo que todos os da torre de Siquém morreram, uns mil homens e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à casa de seu pai, a Ofra e matou a seus irmãos, os filhos de Jerubaal, setenta homens, sobre uma pedra. Porém Jotão, filho menor de Jerubaal, ficou, porque se tinha esco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bimeleque foi a Tebes e a sitiou, e a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, porém, no meio da cidade uma torre forte; e todos os homens e mulheres, e todos os cidadãos da cidade se refugiaram nela, e fecharam após si as portas, e subiram ao eirado da tor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meleque veio até à torre, e a combateu; e chegou-se até à porta da torre, para a incendi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uma mulher lançou um pedaço de uma mó sobre a cabeça de Abimeleque; e quebrou-lhe o crâ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logo ao moço, que levava as suas armas, e disse-lhe: Desembainha a tua espada, e mata-me; para que não se diga de mim: Uma mulher o matou. E o moço o atravessou e el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s homens de Israel que Abimeleque já era morto, foram-se cada um para 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us fez tornar sobre Abimeleque o mal que tinha feito a seu pai, matando a seus setenta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todo o mal dos homens de Siquém fez tornar sobre a cabeça deles; e a maldição de Jotão, filho de Jerubaal, veio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juntaram todos os cidadãos de Siquém, e toda a casa de Milo; e foram, e constituíram a Abimeleque rei, junto ao carvalho alto que está perto de Siq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-o a Jotão, foi e pôs-se no cume do monte de Gerizim, e levantou a sua voz, e clamou e disse-lhes: Ouvi-me, cidadãos de Siquém, e Deus vos ouvirá a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uma vez as árvores a ungir para si um rei, e disseram à oliveira: Reina tu sobr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oliveira lhes disse: Deixaria eu a minha gordura, que Deus e os homens em mim prezam, e iria pairar sobre as árv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57Z</dcterms:created>
  <dc:creator>Admin</dc:creator>
  <dc:description/>
  <dc:language>en-US</dc:language>
  <cp:lastModifiedBy>Admin</cp:lastModifiedBy>
  <dcterms:modified xsi:type="dcterms:W3CDTF">2008-07-31T00:06:57Z</dcterms:modified>
  <cp:revision>1</cp:revision>
  <dc:subject/>
  <dc:title>Slide 1</dc:title>
</cp:coreProperties>
</file>