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DBC-43D4-4DD7-BCD2-86E5EE47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D25-7BA5-4441-8189-82D5045A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F42-E9D4-4324-A9C1-2F227A42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314-AFE9-40DF-BB57-93C46A4F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A0E-E365-426B-8B9A-9805615F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455-88DE-423E-AB8D-EDC277D7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058-E773-46AA-99E6-5B0D4758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AB8-99AB-4D97-9DA8-CFFE02E7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56A-FD3D-440B-967E-C3C300C7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9B5-5D0B-4672-AFE3-657F6383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2F7-3EA5-4FB7-971E-77D98DD8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4F4-F805-4892-A220-867470D3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DAE2-1D14-438D-B335-23306489398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que do Todo-Poderoso não se encobriram os tempos, por que, os que o conhecem, não vêem os seus di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m com que os nus vão sem roupa e aos famintos tiram as espi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ntro das suas paredes espremem o azeite; pisam os lagares, e ainda têm s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as cidades gemem os homens, e a alma dos feridos exclama, e contudo Deus lho não imputa como louc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estão entre os que se opõem à luz; não conhecem os seus caminhos, e não permanecem nas suas vere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drugada se levanta o homicida, mata o pobre e necessitado, e de noite é como o lad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o olho do adúltero aguarda o crepúsculo, dizendo: Não me verá olho nenhum; e oculta o ro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 trevas minam as casas, que de dia se marcaram; não conhecem 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manhã para todos eles é como sombra de morte; pois, sendo conhecidos, sentem os pavores da sombra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ligeiro sobre a superfície das águas; maldita é a sua parte sobre a terra; não volta pelo caminho das vi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ecura e o calor desfazem as águas da neve; assim desfará a sepultura aos que pec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os limites removem; roubam os rebanhos, e os apascen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adre se esquecerá dele, os vermes o comerão gostosamente; nunca mais haverá lembrança dele; e a iniqüidade se quebrará como uma árvo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flige à estéril que não dá à luz, e à viúva não faz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aos poderosos arrasta com a sua força; se ele se levanta, não há vida seg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eus lhes dá descanso, estribam-se nisso; seus olhos porém estão nos caminho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um pouco se exaltam, e logo desaparecem; são abatidos, encerrados como todos os demais; e cortados como as cabeças das espi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gora não é assim, quem me desmentirá e desfará as minhas razõ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órfão levam o jumento; tomam em penhor o boi da viú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m do caminho os necessitados; e os pobres da terra juntos se escon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, como jumentos monteses no deserto, saem à sua obra, madrugando para a presa; a campina dá mantimento a eles e aos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campo segam o seu pasto, e vindimam a vinha do ímp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nu fazem passar a noite sem roupa, não tendo ele coberta contra o f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s chuvas das montanhas são molhados e, não tendo refúgio, abraçam-se com as roc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orfãozinho arrancam dos peitos, e tomam o penhor do p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34Z</dcterms:created>
  <dc:creator>Admin</dc:creator>
  <dc:description/>
  <dc:language>en-US</dc:language>
  <cp:lastModifiedBy>Admin</cp:lastModifiedBy>
  <dcterms:modified xsi:type="dcterms:W3CDTF">2008-07-31T00:01:34Z</dcterms:modified>
  <cp:revision>1</cp:revision>
  <dc:subject/>
  <dc:title>Slide 1</dc:title>
</cp:coreProperties>
</file>