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14F-2127-4F05-936A-79DDB8BA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24F-8F97-4AB6-A11D-D83F471E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F37-B0F7-4C5C-9C50-6D4517A9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351-C4E6-4017-9B49-F696B746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0A0-AC02-42CE-B0FD-F18390B2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2BE-9239-4CE1-B4C4-1D6585CD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F6F-60A8-4667-8D11-F25A342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F51-23E2-42F3-8723-C154952D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074-6ACB-42A3-BFE4-513CAFD5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7E5-ECFC-4FEB-B82D-1FE8197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7DE-38A6-411D-A78E-B5F119F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AD4-199A-4162-9FDF-BCD0596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CF4C-911E-4DC2-A8B2-A68033D8AB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FOME era gravíssima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não nos tivéssemos detido, certamente já estaríamos segunda vez de vo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lhes Israel, seu pai: Pois que assim é, fazei isso; tomai do mais precioso desta terra em vossos vasos, e levai ao homem um presente: um pouco do bálsamo e um pouco de mel, especiarias e mirra, terebinto e amêndo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i em vossas mãos dinheiro em dobro, e o dinheiro que voltou na boca dos vossos sacos tornai a levar em vossas mãos; bem pode ser que fosse 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i também a vosso irmão, e levantai-vos e voltai àquele hom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Todo-Poderoso vos dê misericórdia diante do homem, para que deixe vir convosco vosso outro irmão, e Benjamim; e eu, se for desfilhado, desfilhado fic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omens tomaram aquele presente, e dinheiro em dobro em suas mãos, e a Benjamim; e levantaram-se, e desceram ao Egito, e apresentaram-se diante d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José a Benjamim com eles, disse ao que estava sobre a sua casa: Leva estes homens à casa, e mata reses, e prepara tudo; porque estes homens comerão comigo ao meio-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omem fez como José dissera, e levou-os à casa d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emeram aqueles homens, porquanto foram levados à casa de José, e diziam: Por causa do dinheiro que dantes voltou nos nossos sacos, fomos trazidos aqui, para nos incriminar e cair sobre nós, para que nos tome por servos, e a nossos j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chegaram-se ao homem que estava sobre a casa de José, e falaram com ele à porta d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acabaram de comer o mantimento que trouxeram do Egito, disse-lhes seu pai: Voltai, comprai-nos um pouco de al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Ai! senhor meu, certamente descemos dantes a comprar manti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hegando à estalagem, e abrindo os nossos sacos, eis que o dinheiro de cada um estava na boca do seu saco, nosso dinheiro por seu peso; e tornamos a trazê-lo em nossas 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rouxemos outro dinheiro em nossas mãos, para comprar mantimento; não sabemos quem tenha posto o nosso dinheiro nos nossos sa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Paz seja convosco, não temais; o vosso Deus, e o Deus de vosso pai, vos tem dado um tesouro nos vossos sacos; o vosso dinheiro me chegou a mim. E trouxe-lhes fora a Sim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levou os homens à casa de José, e deu-lhes água, e lavaram os seus pés; também deu pasto aos seus j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pararam o presente, para quando José viesse ao meio dia; porque tinham ouvido que ali haviam de comer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José à casa, trouxeram-lhe ali o presente que tinham em suas mãos; e inclinaram-se a ele até à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perguntou como estavam, e disse: Vosso pai, o ancião de quem falastes, está bem? Ainda v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Bem está o teu servo, nosso pai vive ainda. E abaixaram a cabeça, e inclina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evantou os seus olhos, e viu a Benjamim, seu irmão, filho de sua mãe, e disse: Este é vosso irmão mais novo de quem falastes? Depois ele disse: Deus te dê a sua graça,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Judá respondeu-lhe, dizendo: Fortemente nos protestou aquele homem, dizendo: Não vereis a minha face, se o vosso irmão não vier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apressou-se, porque as suas entranhas comoveram-se por causa do seu irmão, e procurou onde chorar; e entrou na câmara, e chorou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lavou o seu rosto, e saiu; e conteve-se, e disse: Ponde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viram-lhe à parte, e a eles também à parte, e aos egípcios, que comiam com ele, à parte; porque os egípcios não podem comer pão com os hebreus, porquanto é abominação para os egíp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sentaram-se diante dele, o primogênito segundo a sua primogenitura, e o menor segundo a sua menoridade; do que os homens se maravilhavam entre s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esentou-lhes as porções que estavam diante dele; porém a porção de Benjamim era cinco vezes maior do que as porções deles todos. E eles beberam, e se regalar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enviares conosco o nosso irmão, desceremos e te compraremos alim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não o enviares, não desceremos; porquanto aquele homem nos disse: Não vereis a minha face, se o vosso irmão não vier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Israel: Por que me fizeste tal mal, fazendo saber àquele homem que tínheis ainda outro ir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Aquele homem particularmente nos perguntou por nós, e pela nossa parentela, dizendo: Vive ainda vosso pai? Tendes mais um irmão? E respondemos-lhe conforme as mesmas palavras. Podíamos nós saber que diria: Trazei vosso ir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udá a Israel, seu pai: Envia o jovem comigo, e levantar-nos-emos, e iremos, para que vivamos e não morramos, nem nós, nem tu, nem os noss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erei fiador por ele, da minha mão o requererás; se eu não o trouxer, e não o puser perante a tua face, serei réu de crime para contig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56Z</dcterms:created>
  <dc:creator>Admin</dc:creator>
  <dc:description/>
  <dc:language>en-US</dc:language>
  <cp:lastModifiedBy>Admin</cp:lastModifiedBy>
  <dcterms:modified xsi:type="dcterms:W3CDTF">2008-07-30T23:39:56Z</dcterms:modified>
  <cp:revision>1</cp:revision>
  <dc:subject/>
  <dc:title>Slide 1</dc:title>
</cp:coreProperties>
</file>