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0FA-82AE-4C5A-AF80-427D1846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0B3-E11B-436A-B10B-6E7D018E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FE7-2F9E-4B8D-8D49-5CB162BC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13C-311A-4E91-BEE9-8DBECC72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C96-2BCF-4DFE-8366-61FD654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809-B5B1-4D34-AB99-C7DF708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9AD-22BC-4678-849D-AAD9BF4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8C5-EA6F-48D8-8CFC-860E3AF0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39B-1C2F-4480-9B7C-516C1A6D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3CA-226C-469E-8007-6354CB6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3FD-6A66-4D40-9E91-62B28F5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A54-F964-43A6-83BE-DB626D4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B7A7-867F-4E4A-81E4-65219D0B2B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vivificou, estando vós mortos em ofensas e pec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omos feitura sua, criados em Cristo Jesus para as boas obras, as quais Deus preparou para que andássemos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lembrai-vos de que vós noutro tempo éreis gentios na carne, e chamados incircuncisão pelos que na carne se chamam circuncisão feita pela mão d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aquele tempo estáveis sem Cristo, separados da comunidade de Israel, e estranhos às alianças da promessa, não tendo esperança, e sem Deus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em Cristo Jesus, vós, que antes estáveis longe, já pelo sangue de Cristo chegastes 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é a nossa paz, o qual de ambos os povos fez um; e, derrubando a parede de separação que estava no me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sua carne desfez a inimizade, isto é, a lei dos mandamentos, que consistia em ordenanças, para criar em si mesmo dos dois um novo homem, fazendo a pa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cruz reconciliar ambos com Deus em um corpo, matando com ela as inimiz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, ele evangelizou a paz, a vós que estáveis longe, e aos que estavam p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ele ambos temos acesso ao Pai em um mesm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já não sois estrangeiros, nem forasteiros, mas concidadãos dos santos, e da famíli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e noutro tempo andastes segundo o curso deste mundo, segundo o príncipe das potestades do ar, do espírito que agora opera nos filhos da desobed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ados sobre o fundamento dos apóstolos e dos profetas, de que Jesus Cristo é a principal pedra da esqui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todo o edifício, bem ajustado, cresce para templo sant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também vós juntamente sois edificados para morada de Deus em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os quais todos nós também antes andávamos nos desejos da nossa carne, fazendo a vontade da carne e dos pensamentos; e éramos por natureza filhos da ira, como os outro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, que é riquíssimo em misericórdia, pelo seu muito amor com que nos am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nós ainda mortos em nossas ofensas, nos vivificou juntamente com Cristo (pela graça sois salv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ressuscitou juntamente com ele e nos fez assentar nos lugares celestiais, em Cristo Jes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mostrar nos séculos vindouros as abundantes riquezas da sua graça pela sua benignidade para conosco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a graça sois salvos, por meio da fé; e isto não vem de vós, é do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m das obras, para que ninguém se glori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50Z</dcterms:created>
  <dc:creator>Admin</dc:creator>
  <dc:description/>
  <dc:language>en-US</dc:language>
  <cp:lastModifiedBy>Admin</cp:lastModifiedBy>
  <dcterms:modified xsi:type="dcterms:W3CDTF">2008-07-30T23:29:50Z</dcterms:modified>
  <cp:revision>1</cp:revision>
  <dc:subject/>
  <dc:title>Slide 1</dc:title>
</cp:coreProperties>
</file>