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240-30EC-48B9-B821-2B5DF3C1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9D8-CB39-48F9-BD38-FB9B04B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001-83A7-4B18-891E-BDCFF634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781-DCF8-4DC0-AB45-01181079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C58-55C1-4B22-89DA-014308A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BDE-597B-4A8C-9FE8-D752DEE9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2BA-2C53-4306-BFB3-FE5749E5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148-FEF7-459F-94F4-81713CAB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1AA-DC92-4CFE-90D4-C773FB2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A34-9BED-4D65-8C9C-DF804FE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2D9-3D15-4746-95EC-E442CFC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2A1-3C56-4E31-A232-930B857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AC5B-F589-41E3-B004-AA4901013F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Jeremias, o profeta, falou a Baruque, filho de Nerias, quando este escrevia, num livro, estas palavras, da boca de Jeremias, no ano quarto de Jeoiaquim, filho de Josias, rei de Judá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Deus de Israel, acerca de ti, ó Baruqu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ste: Ai de mim agora, porque me acrescentou o SENHOR tristeza sobre minha dor! Estou cansado do meu gemido, e não acho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he dirás: Isto diz o SENHOR: Eis que o que edifiquei eu derrubo, e o que plantei eu arranco, e isso em toda 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curas tu grandezas para ti mesmo? Não as procures; porque eis que trarei mal sobre toda a carne, diz o SENHOR; porém te darei a tua alma por despojo, em todos os lugares para onde f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41Z</dcterms:created>
  <dc:creator>Admin</dc:creator>
  <dc:description/>
  <dc:language>en-US</dc:language>
  <cp:lastModifiedBy>Admin</cp:lastModifiedBy>
  <dcterms:modified xsi:type="dcterms:W3CDTF">2008-07-30T23:59:41Z</dcterms:modified>
  <cp:revision>1</cp:revision>
  <dc:subject/>
  <dc:title>Slide 1</dc:title>
</cp:coreProperties>
</file>