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6EA-5F5C-4670-BCD5-8194F50B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7B7-32AE-4D4C-BA30-CD44AB9C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5D9-BAA4-4FF5-9748-32ACC534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E05-D11B-4E7A-88DF-4D3D1FE6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8F2-EECA-4E92-B3F9-DBB9121C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8D8-C149-4D3E-9771-BFEC7707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BDA-6F45-4960-A4C2-7ED03C22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8F3-9873-4073-AEDF-F9735C0F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5D1-368D-4B9E-9ED9-F487725F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5FD-5591-4603-BB26-BA65703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666-6EB5-4BF8-9BE6-B662387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CD8-60FC-41B7-B60E-6B49A95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B0BC-F82A-4214-91BF-A2AFBEC6A9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sido, pois, justificados pela fé, temos paz com Deus, por nosso Senhor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nós, sendo inimigos, fomos reconciliados com Deus pela morte de seu Filho, muito mais, tendo sido já reconciliados, seremos salvos pel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isto, mas também nos gloriamos em Deus por nosso Senhor Jesus Cristo, pelo qual agora alcançamos a reconcil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como por um homem entrou o pecado no mundo, e pelo pecado a morte, assim também a morte passou a todos os homens por isso que todos pe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é à lei estava o pecado no mundo, mas o pecado não é imputado, não havendo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entanto, a morte reinou desde Adão até Moisés, até sobre aqueles que não tinham pecado à semelhança da transgressão de Adão, o qual é a figura daquele que havia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é assim o dom gratuito como a ofensa. Porque, se pela ofensa de um morreram muitos, muito mais a graça de Deus, e o dom pela graça, que é de um só homem, Jesus Cristo, abundou sobre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oi assim o dom como a ofensa, por um só que pecou. Porque o juízo veio de uma só ofensa, na verdade, para condenação, mas o dom gratuito veio de muitas ofensas para just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pela ofensa de um só, a morte reinou por esse, muito mais os que recebem a abundância da graça, e do dom da justiça, reinarão em vida por um só,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ssim como por uma só ofensa veio o juízo sobre todos os homens para condenação, assim também por um só ato de justiça veio a graça sobre todos os homens para justificação de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pela desobediência de um só homem, muitos foram feitos pecadores, assim pela obediência de um muitos serão feit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al também temos entrada pela fé a esta graça, na qual estamos firmes, e nos gloriamos na esperança da glóri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rém, a lei para que a ofensa abundasse; mas, onde o pecado abundou, superabundou a gra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assim como o pecado reinou na morte, também a graça reinasse pela justiça para a vida eterna, por Jesus Cristo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isto, mas também nos gloriamos nas tribulações; sabendo que a tribulação produz a paci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ciência a experiência, e a experiência a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sperança não traz confusão, porquanto o amor de Deus está derramado em nossos corações pelo Espírito Santo que nos foi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risto, estando nós ainda fracos, morreu a seu tempo pel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penas alguém morrerá por um justo; pois poderá ser que pelo bom alguém ouse mor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prova o seu amor para conosco, em que Cristo morreu por nós, sendo nós ainda pe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 muito mais agora, tendo sido justificados pelo seu sangue, seremos por ele salvos d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17Z</dcterms:created>
  <dc:creator>Admin</dc:creator>
  <dc:description/>
  <dc:language>en-US</dc:language>
  <cp:lastModifiedBy>Admin</cp:lastModifiedBy>
  <dcterms:modified xsi:type="dcterms:W3CDTF">2008-07-31T00:23:17Z</dcterms:modified>
  <cp:revision>1</cp:revision>
  <dc:subject/>
  <dc:title>Slide 1</dc:title>
</cp:coreProperties>
</file>