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1F5-CE6B-4ED9-B680-52BC59B9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F66-E0BF-4B32-8E12-C891C38D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118-10AF-4F7D-BAFF-F9E32AE3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71B-B536-409D-A4E2-FDE2F239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067-591A-4319-B2D5-AFD6B519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ED9-FA32-41C5-9E2D-8C9F7686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A5E-005A-44FF-8C61-5D3106C0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301-9512-4A88-9AB7-175AFCF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B07-041C-4A62-83DE-E12670A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71A-50DD-4457-A199-19D5178B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35B-9F99-4566-84A7-18FFC39A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ADA-B57E-484B-9C08-FA8DBB73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F01-638B-483C-B9EF-1D108E3FCB8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oitavo dia tomará dois cordeiros sem defeito, e uma cordeira sem defeito, de um ano, e três dízimas de flor de farinha para oferta de alimentos, amassada com azeite, e um logue de azei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que faz a purificação apresentará o homem que houver de purificar-se, com aquelas coisas, perante o SENHOR,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um dos cordeiros, e o oferecerá por expiação da culpa, e o logue de azeite; e os oferecerá por oferta movida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golará o cordeiro no lugar em que se degola a oferta da expiação do pecado e o holocausto, no lugar santo; porque quer a oferta da expiação da culpa como a da expiação do pecado é para o sacerdote; coisa santíssim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do sangue da expiação da culpa, e o porá sobre a ponta da orelha direita daquele que tem de purificar-se e sobre o dedo polegar da sua mão direita, e no dedo polegar do seu pé di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acerdote tomará do logue de azeite, e o derramará na palma da sua própria mão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molhará o seu dedo direito no azeite que está na sua mão esquerda, e daquele azeite com o seu dedo espargirá sete vezes perante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o azeite, que está na sua mão, o sacerdote porá sobre a ponta da orelha direita daquele que tem de purificar-se, e sobre o dedo polegar da sua mão direita, e sobre o dedo polegar do seu pé direito, em cima do sangue da expiação da culp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o azeite que está na mão do sacerdote, o porá sobre a cabeça daquele que tem de purificar-se; assim o sacerdote fará expiação por ele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acerdote fará a expiação do pecado, e fará expiação por aquele que tem de purificar-se da sua imundícia; e depois degolará o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será a lei do leproso no dia da sua purificação: será levado ao sacerd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ferecerá o holocausto e a oferta de alimentos sobre o altar; assim o sacerdote fará expiação por ele, e será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for pobre, e em sua mão não houver recursos para tanto, tomará um cordeiro para expiação da culpa em oferta de movimento, para fazer expiação por ele, e a dízima de flor de farinha, amassada com azeite, para oferta de alimentos, e um logue de 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uas rolas, ou dois pombinhos, conforme as suas posses, dos quais um será para expiação do pecado, e o outro para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oitavo dia da sua purificação os trará ao sacerdote, à porta da tenda da congregação,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o cordeiro da expiação da culpa, e o logue de azeite, e os oferecerá por oferta movida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golará o cordeiro da expiação da culpa, e o sacerdote tomará do sangue da expiação da culpa, e o porá sobre a ponta da orelha direita daquele que tem de purificar-se, e sobre o dedo polegar da sua mão direita, e sobre o dedo polegar do seu pé d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acerdote derramará do azeite na palma da sua própria mão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sacerdote com o seu dedo direito espargirá do azeite que está na sua mão esquerda, sete veze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porá do azeite que está na sua mão na ponta da orelha direita daquele que tem de purificar-se, e no dedo polegar da sua mão direita, e no dedo polegar do seu pé direito; no lugar do sangue da expiação da cul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sobejar do azeite que está na mão do sacerdote porá sobre a cabeça daquele que tem de purificar-se, para fazer expiação por ele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sairá fora do arraial, e o examinará, e eis que, se a praga da lepra do leproso for sar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ferecerá uma das rolas ou um dos pombinhos, conforme suas poss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conforme as suas posses, será um para expiação do pecado e o outro para holocausto com a oferta de alimentos; e assim o sacerdote fará expiação por aquele que tem de purificar-se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 daquele em quem estiver a praga da lepra, cujas posses não lhe permitirem o devido para pur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 e a Ar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iverdes entrado na terra de Canaã que vos hei de dar por possessão, e eu enviar a praga da lepra em alguma casa da terra da vossa posses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, de quem for a casa, virá e informará ao sacerdote, dizendo: Parece-me que há como que praga em minh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rdenará que desocupem a casa, antes que entre para examinar a praga, para que tudo o que está na casa não seja contaminado; e depois entrará o sacerdote, para examinar 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a praga, e eis que se ela estiver nas paredes da casa em covinhas verdes ou vermelhas, e parecerem mais fundas do que a pare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sairá da casa para fora da porta, e fechá-la-á por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ao sétimo dia o sacerdote voltará, e examinará; e se vir que a praga nas paredes da casa se tem estend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ordenará que por aquele que se houver de purificar se tomem duas aves vivas e limpas, e pau de cedro, e carmesim, e hisso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ordenará que arranquem as pedras, em que estiver a praga, e que as lancem fora da cidade, num lugar i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 raspar a casa por dentro ao redor, e o pó que houverem raspado lançarão fora da cidade, num lugar i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arão outras pedras, e as porão no lugar das primeiras pedras; e outro barro se tomará, e a casa se rebo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a praga tornar a brotar na casa, depois de arrancadas as pedras e raspada a casa, e de novo reboc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entrará e examinará, se a praga na casa se tem estendido, lepra roedora há na casa; imunda est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se derribará a casa, as suas pedras, e a sua madeira, como também todo o barro da casa; e se levará para fora da cidade a um lugar i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entrar naquela casa, em qualquer dia em que estiver fechada,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que se deitar a dormir em tal casa, lavará as suas roupas; e o que comer em tal casa lavará as suas rou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tornando o sacerdote a entrar na casa e examinando-a, se a praga não se tem estendido, depois que a casa foi rebocada, o sacerdote a declarará por limpa, porque a praga está cu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ará, para expiar a casa, duas aves, e pau de cedro, e carmesim e hissop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rá também o sacerdote que se degole uma ave num vaso de barro sobre águas viv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golará uma ave num vaso de barro sobre águas corren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á pau de cedro, e o hissopo, e o carmesim, e a ave viva, e os molhará no sangue da ave degolada e nas águas correntes, e espargirá a casa sete vez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xpiará aquela casa com o sangue da ave, e com as águas correntes, e com a ave viva, e com o pau de cedro, e com o hissopo, e com o carme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oltará a ave viva para fora da cidade, sobre a face do campo; assim fará expiação pela casa, e será lim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 de toda a praga da lepra, e da tinh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lepra das roupas, e das ca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inchação, e das pústulas, e das manchas lustro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ensinar quando alguma coisa será imunda, e quando será limpa. Esta é a lei da lep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á a ave viva, e o pau de cedro, e o carmesim, e o hissopo, e os molhará, com a ave viva, no sangue da ave que foi degolada sobre as águas corr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aquele que há de purificar-se da lepra espargirá sete vezes; então o declarará por limpo, e soltará a ave viva sobre a face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tem de purificar-se lavará as suas vestes, e rapará todo o seu pêlo, e se lavará com água; assim será limpo; e depois entrará no arraial, porém, ficará fora da sua tenda por sete d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ao sétimo dia rapará todo o seu pêlo, a sua cabeça, e a sua barba, e as sobrancelhas; sim, rapará todo o pêlo, e lavará as suas vestes, e lavará a sua carne com água, e será limp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58Z</dcterms:created>
  <dc:creator>Admin</dc:creator>
  <dc:description/>
  <dc:language>en-US</dc:language>
  <cp:lastModifiedBy>Admin</cp:lastModifiedBy>
  <dcterms:modified xsi:type="dcterms:W3CDTF">2008-07-31T00:08:58Z</dcterms:modified>
  <cp:revision>1</cp:revision>
  <dc:subject/>
  <dc:title>Slide 1</dc:title>
</cp:coreProperties>
</file>