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A87-FE2B-4FDF-B790-0D9D1BF3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6F6-085D-475E-9E4B-D0254D44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347-94F7-4F13-AC89-1115A949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CBA2-3AB9-4469-8302-57451E75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6BC-4C91-4568-B526-B4E70BA7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726-BAF6-4363-956F-8C8D22CA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E61-424A-46A0-B674-DB526A6F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E0F-EEB3-49EF-8D43-03F971BE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934-A972-4C5F-8C0C-8AF4886A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CD5-9DC5-460C-8423-715BBA5E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C57-727E-4345-9A55-F0ABB929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356-1924-4261-A67D-7DAAF971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7C66-03D6-4647-9FAF-3168DBEC4FD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écimo ano, no décimo mês, no dia doze do mês,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is que eu estou contra ti, e contra os teus rios; e tornarei a terra do Egito deserta, em completa desolação, desde a torre de Syene até aos confins da Etióp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assará por ela pé de homem, nem pé de animal passará por ela, nem será habitada quarenta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rnarei a terra do Egito em desolação no meio das terras desoladas; e as suas cidades entre as cidades desertas se tornarão em desolação por quarenta anos; e espalharei os egípcios entre as nações, e os dispersarei pelas te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assim diz o Senhor DEUS: Ao fim de quarenta anos ajuntarei os egípcios dentre os povos entre os quais foram espalh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moverei o cativeiro dos egípcios, e os farei voltar à terra de Patros, à terra de sua origem; e serão ali um reino humil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is humilde se fará do que os outros reinos, e nunca mais se exalçará sobre as nações; porque os diminuirei, para que não dominem sobre 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erá mais a confiança da casa de Israel, para lhes trazer à lembrança a sua iniqüidade, quando olharem para trás deles; antes saberão que eu sou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no ano vinte e sete, no primeiro mês, no primeiro dia do mês,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Nabucodonosor, rei de Babilônia, fez com que o seu exército prestasse um grande serviço contra Tiro; toda a cabeça se tornou calva, e todo o ombro se pelou; e não houve paga de Tiro para ele, nem para o seu exército, pelo serviço que p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 DEUS: Eis que eu darei a Nabucodonosor, rei de Babilônia, a terra do Egito; e levará a sua multidão, e tomará o seu despojo, e roubará a sua presa, e isto será a recompensa para o seu exérc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dirige o teu rosto contra Faraó, rei do Egito, e profetiza contra ele e contra todo 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recompensa do seu trabalho, com que serviu contra ela, lhe dei a terra do Egito; porquanto trabalharam por mim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farei brotar o poder na casa de Israel, e abrirei a tua boca no meio deles; e saberão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, e dize: Assim diz o Senhor DEUS: Eis-me contra ti, ó Faraó, rei do Egito, grande dragão, que pousas no meio dos teus rios, e que dizes: O meu rio é meu, e eu o fiz pa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porei anzóis em teus queixos, e farei que os peixes dos teus rios se apeguem às tuas escamas; e tirar-te-ei do meio dos teus rios, e todos os peixes dos teus rios se apegarem às tuas esca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deixarei no deserto, a ti e a todo o peixe dos teus rios; sobre a face do campo cairás; não serás recolhido nem ajuntado; aos animais da terra e às aves do céu te dei por mant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berão todos os moradores do Egito que eu sou o SENHOR, porquanto se tornaram um bordão de cana para a cas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ndo-te eles pela mão, te quebraste, e lhes rasgaste todo o ombro; e quando se apoiaram em ti, te quebraste, e lhes fazias tremer todos os seus lom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 DEUS: Eis que eu trarei sobre ti a espada, e de ti destruirei homem e anima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erra do Egito se tornará em desolação e deserto; e saberão que eu sou o SENHOR, porquanto disse: O rio é meu, e eu o fi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5:19Z</dcterms:created>
  <dc:creator>Admin</dc:creator>
  <dc:description/>
  <dc:language>en-US</dc:language>
  <cp:lastModifiedBy>Admin</cp:lastModifiedBy>
  <dcterms:modified xsi:type="dcterms:W3CDTF">2008-07-30T23:35:19Z</dcterms:modified>
  <cp:revision>1</cp:revision>
  <dc:subject/>
  <dc:title>Slide 1</dc:title>
</cp:coreProperties>
</file>