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3EA-9C89-4235-89F8-A4E9BF78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1E3-FA70-481A-AB1A-FECD3E9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107-CB85-407A-973D-6253D446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CEA-5882-4123-98E6-12D53EC6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262-D323-407B-A7FC-190E85C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711-E58B-4B64-AC72-46226B04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DD9-725A-4859-A7A8-E05BFC6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FB7-C83C-49E8-9E71-E0486E48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4AF-66EF-499B-AE24-CA8EE3A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F91-96B7-40D8-9EFD-640396B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EA6-3E55-4F6A-ADAE-8DCE686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B89-51BB-47AC-A157-CCC37FC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E78-2098-4302-8325-6769BBFD772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estando plantada, prosperará? Porventura, tocando-lhe vento oriental, de todo não se secará? Nas covas do seu plantio se se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gora à casa rebelde: Não sabeis o que significam estas coisas? Dize: Eis que veio o rei de Babilônia a Jerusalém, e tomou o seu rei e os seus príncipes, e os levou consigo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um da descendência real, e fez aliança com ele, e o fez prestar juramento; e tomou consigo os poderosos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reino ficasse humilhado, e não se levantasse, embora, guardando a sua aliança, pudesse sub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belou-se contra ele, enviando os seus mensageiros ao Egito, para que se lhe mandassem cavalos e muita gente. Porventura prosperará ou escapará aquele que faz tais coisas, ou quebrará a aliança, e ainda escap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 DEUS, que no lugar em que habita o rei que o fez reinar, cujo juramento desprezou, e cuja aliança quebrou, sim, com ele no meio de Babilônia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, nem com grande exército, nem com uma companhia numerosa, fará coisa alguma com ele em guerra, levantando trincheiras e edificando baluartes, para destruir muitas 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prezou o juramento, quebrando a aliança; eis que ele tinha dado a sua mão; contudo fez todas estas coisas; não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Vivo eu, que o meu juramento, que desprezou, e a minha aliança, que quebrou, isto farei recair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opõe um enigma, e profere uma parábola para com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ei sobre ele a minha rede, e ficará preso no meu laço; e o levarei a Babilônia, e ali entrarei em juízo com ele por causa da rebeldia que praticou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eus fugitivos, com todas as suas tropas, cairão à espada, e os que restarem serão espalhados a todo o vento; e sabereis que eu, o SENHOR,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Também eu tomarei um broto do topo do cedro, e o plantarei; do principal dos seus renovos cortarei o mais tenro, e o plantarei sobre um monte alto e subli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onte alto de Israel o plantarei, e produzirá ramos, e dará fruto, e se fará um cedro excelente; e habitarão debaixo dele aves de toda plumagem, à sombra dos seus ramos habi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berão todas as árvores do campo que eu, o SENHOR, abati a árvore alta, elevei a árvore baixa, sequei a árvore verde, e fiz reverdecer a árvore seca; eu, o SENHOR, o disse, e o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ssim diz o Senhor DEUS: Uma grande águia, de grandes asas, de plumagem comprida, e cheia de penas de várias cores, veio ao Líbano e levou o mais alto ramo de um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ancou a ponta mais alta dos seus renovos, e a levou a uma terra de mercância; numa cidade de mercadores a pô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da semente da terra, e a lançou num solo frutífero; tomando-a, colocou-a junto às muitas águas, plantando-a como salgu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rotou, e tornou-se numa videira muito larga, de pouca altura, virando-se para ela os seus ramos, porque as suas raízes estavam debaixo dela; e tornou-se numa videira, e produzia sarmentos, e brotava ren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mais uma grande águia, de grandes asas, e cheia de penas; e eis que esta videira lançou para ela as suas raízes, e estendeu para ela os seus ramos, desde as covas do seu plantio, para que a reg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 bom campo, junto a muitas águas, estava ela plantada, para produzir ramos, e para dar fruto, a fim de que fosse videira excel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: Assim diz o Senhor DEUS: Porventura há de prosperar? Não lhe arrancará as suas raízes, e não cortará o seu fruto, para que se seque? Para que sequem todas as folhas de seus renovos, e isto não com grande força, nem muita gente, para arrancá-la p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32Z</dcterms:created>
  <dc:creator>Admin</dc:creator>
  <dc:description/>
  <dc:language>en-US</dc:language>
  <cp:lastModifiedBy>Admin</cp:lastModifiedBy>
  <dcterms:modified xsi:type="dcterms:W3CDTF">2008-07-30T23:34:32Z</dcterms:modified>
  <cp:revision>1</cp:revision>
  <dc:subject/>
  <dc:title>Slide 1</dc:title>
</cp:coreProperties>
</file>