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331-F0C7-4D9D-AF72-067F9324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9F9-1373-43B2-9F3F-F5B5358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6A2-841B-4C02-B494-B21A8538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952-BC40-48A6-A685-7C9EAF45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50A-8F41-4944-B0F2-99C6452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60E-F5F9-450A-A484-B3E63CF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DA-9CC8-41D8-B5F0-2709E935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F9D-3391-46DA-AFA2-27C2E7C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823-802D-483D-9327-E86CD17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5BD-EFD1-4D45-AF86-CD4572A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A93-1009-48C9-B274-29C69890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74F-C276-4E67-88E4-1C91899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AA3C-837D-4D98-839A-8933ADC38E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isto que Absalão fez aparelhar carros e cavalos, e cinqüenta homens que corressem a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Absalão espias por todas as tribos de Israel, dizendo: Quando ouvirdes o som das trombetas, direis: Absalão reina em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Jerusalém foram com Absalão duzentos homens convidados, porém iam na sua simplicidade, porque nada sabiam daquel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bsalão mandou vir Aitofel, o gilonita, do conselho de Davi, à sua cidade de Giló, estando ele oferecendo os seus sacrifícios; e a conjuração se fortificava, e vinha o povo, e ia crescendo com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um mensageiro a Davi, dizendo: O coração de cada um em Israel segue a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Davi a todos os seus servos que estavam com ele em Jerusalém: Levantai-vos, e fujamos, porque não poderíamos escapar diante de Absalão. Dai-vos pressa a caminhar, para que porventura não se apresse ele, e nos alcance, e lance sobre nós alg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ervos do rei disseram ao rei: Eis aqui os teus servos, para tudo quanto determinar o rei,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 rei, com toda a sua casa, a pé; deixou, porém, o rei dez mulheres concubinas, para guardarem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saído o rei com todo o povo a pé, pararam num lugar dis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eus servos iam a seu lado, como também todos os quereteus e todos os peleteus; e todos os giteus, seiscentos homens que vieram de Gate a pé, caminhavam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rei a Itai, o giteu: Por que irias tu também conosco? Volta-te, e fica-te com o rei, porque és estrangeiro, e também desterrado de t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bsalão se levantou pela manhã, e parava a um lado do caminho da porta. E sucedia que a todo o homem que tinha alguma demanda para vir ao rei a juízo, o chamava Absalão a si, e lhe dizia: De que cidade és tu? E, dizendo ele: De uma das tribos d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tem vieste, e te levaria eu hoje conosco a caminhar? Pois eu vou para onde puder ir; volta, pois, e torna a levar teus irmãos contigo, com beneficência e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rém, Itai ao rei, e disse: Vive o SENHOR, e vive o rei meu senhor, que no lugar em que estiver o rei meu senhor, seja para morte seja para vida, aí certamente estará também o teu serv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isse a Itai: Vem, pois, e passa adiante. Assim passou Itai, o giteu, e todos os seus homens, e todas as crianças que havi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terra chorava a grandes vozes, passando todo o povo; também o rei passou o ribeiro de Cedrom, e passou todo o povo na direção do caminh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ambém Zadoque ali estava, e com ele todos os levitas que levavam a arca da aliança de Deus; e puseram ali a arca de Deus, e subiu Abiatar, até que todo o povo acabou de passar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 Zadoque: Torna a levar a arca de Deus à cidade; que, se achar graça nos olhos do SENHOR, ele me tornará a trazer para lá e me deixará ver a ela e a su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disser assim: Não tenho prazer em ti; eis-me aqui, faça de mim como parecer bem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rei a Zadoque, o sacerdote: Não és tu porventura vidente? Torna, pois, em paz para a cidade, e convosco também vossos dois filhos, Aimás, teu filho, e Jônatas, filho de Abi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que me demorarei nas campinas do deserto até que tenha notícias vos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adoque, pois, e Abiatar, tornaram a levar para Jerusalém a arca de Deus; e fic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salão lhe dizia: Olha, os teus negócios são bons e retos, porém não tens quem te ouça da par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u Davi pela encosta do monte das Oliveiras, subindo e chorando, e com a cabeça coberta; e caminhava com os pés descalços; e todo o povo que ia com ele cobria cada um a sua cabeça, e subiam chorando sem ce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izeram saber a Davi, dizendo: Também Aitofel está entre os que se conjuraram com Absalão. Pelo que disse Davi: Ó SENHOR, peço-te que torne em loucura o conselho de Aito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Davi ao cume, para adorar ali a Deus, eis que Husai, o arquita, veio encontrar-se com ele com a roupa rasgada e terra sobre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avi: Se passares comigo, ser-me-ás pes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voltares para a cidade, e disseres a Absalão: Eu serei, ó rei, teu servo; bem fui antes servo de teu pai, mas agora serei teu servo; dissipar-me-ás então o conselho de Aito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stão ali contigo Zadoque e Abiatar, sacerdotes? E será que todas as coisas que ouvires da casa do rei, farás saber a Zadoque, e a Abiatar,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ão também ali com eles seus dois filhos, Aimaás filho de Zadoque, e Jônatas filho de Abiatar; pela mão deles aviso me mandareis, de todas as coisas que ouvi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usai, pois, amigo de Davi, veio para a cidade; e Absalão entr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mais Absalão: Ah, quem me dera ser juiz na terra, para que viesse a mim todo o homem que tivesse demanda ou questão, para que lhe fizesse justi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ia também que, quando alguém se chegava a ele para se inclinar diante dele, ele estendia a sua mão, e pegava dele, e o beij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maneira fazia Absalão a todo o Israel que vinha ao rei para juízo; assim furtava Absalão o coração dos homen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u, pois, ao cabo de quarenta anos, que Absalão disse ao rei: Deixa-me ir pagar em Hebrom o meu voto que fiz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morando eu em Gesur, na Síria, fez o teu servo um voto, dizendo: Se o SENHOR outra vez me fizer tornar a Jerusalém, servir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o rei: Vai em paz. Levantou-se, pois, e foi para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26Z</dcterms:created>
  <dc:creator>Admin</dc:creator>
  <dc:description/>
  <dc:language>en-US</dc:language>
  <cp:lastModifiedBy>Admin</cp:lastModifiedBy>
  <dcterms:modified xsi:type="dcterms:W3CDTF">2008-07-30T23:53:26Z</dcterms:modified>
  <cp:revision>1</cp:revision>
  <dc:subject/>
  <dc:title>Slide 1</dc:title>
</cp:coreProperties>
</file>