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BFF-3E69-405F-8C89-97607A67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39F-BAEB-4058-8DD2-8A59BE8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516-BDE3-4685-B9DE-7AC1A51E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BCA-A7B5-4A25-877B-D572626D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B14-74F3-434E-BF4B-510F6B0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301-3B77-4B41-A5C5-58F98590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755-E536-41DE-A2F2-CDA4B978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A99-6658-4B48-A196-04C8B91D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731-3959-4782-8F67-131B958A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2C8-0735-4055-93A4-78C1F9E0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1E2-F714-4545-80FA-9614826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ACD-07BE-492C-BD24-49EE9EAF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3598-4AA5-49C2-8C4C-C4C4AD9244C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, pois, perto a festa dos ázimos, chamada a pás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Eis que, quando entrardes na cidade, encontrareis um homem, levando um cântaro de água; segui-o até à casa em que ele en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eis ao pai de família da casa: O Mestre te diz: Onde está o aposento em que hei de comer a páscoa com os meus discípul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vos mostrará um grande cenáculo mobilado; aí fazei preparat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eles, acharam como lhes havia sido dito; e prepararam a pás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da a hora, pôs-se à mesa, e com ele os doze apóst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Desejei muito comer convosco esta páscoa, antes que pade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os digo que não a comerei mais até que ela se cumpra n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o cálice, e havendo dado graças, disse: Tomai-o, e reparti-o entre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os digo que já não beberei do fruto da vide, até que venha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o pão, e havendo dado graças, partiu-o, e deu-lho, dizendo: Isto é o meu corpo, que por vós é dado; fazei isto em memóri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incipais dos sacerdotes, e os escribas, andavam procurando como o matariam; porque temiam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, tomou o cálice, depois da ceia, dizendo: Este cálice é o novo testamento no meu sangue, que é derramado por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is que a mão do que me trai está comigo à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 verdade, o Filho do homem vai segundo o que está determinado; mas ai daquele homem por quem é traíd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aram a perguntar entre si qual deles seria o que havia de fazer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também entre eles contenda, sobre qual deles parecia ser o ma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Os reis dos gentios dominam sobre eles, e os que têm autoridade sobre eles são chamados benfeit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sereis vós assim; antes o maior entre vós seja como o menor; e quem governa como quem ser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al é maior: quem está à mesa, ou quem serve? Porventura não é quem está à mesa? Eu, porém, entre vós sou como aquele que ser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sois os que tendes permanecido comigo nas minhas tent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vos destino o reino, como meu Pai mo destin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ou, porém, Satanás em Judas, que tinha por sobrenome Iscariotes, o qual era do número dos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comais e bebais à minha mesa no meu reino, e vos assenteis sobre tronos, julgando as doze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também o Senhor: Simão, Simão, eis que Satanás vos pediu para vos cirandar como tri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roguei por ti, para que a tua fé não desfaleça; e tu, quando te converteres, confirma t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Senhor, estou pronto a ir contigo até à prisão e à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disse: Digo-te, Pedro, que não cantará hoje o galo antes que três vezes negues que me conhec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Quando vos mandei sem bolsa, alforje, ou alparcas, faltou-vos porventura alguma coisa? Eles responderam: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pois: Mas agora, aquele que tiver bolsa, tome-a, como também o alforje; e, o que não tem espada, venda a sua capa e compre-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vos digo que importa que em mim se cumpra aquilo que está escrito: E com os malfeitores foi contado. Porque o que está escrito de mim terá cumpr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Senhor, eis aqui duas espadas. E ele lhes disse: Ba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, foi, como costumava, para o Monte das Oliveiras; e também os seus discípulos o segu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, e falou com os principais dos sacerdotes, e com os capitães, de como lho entrega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chegou àquele lugar, disse-lhes: Orai, para que não entreis em ten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tou-se deles cerca de um tiro de pedra; e, pondo-se de joelhos, orav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Pai, se queres, passa de mim este cálice; todavia não se faça a minha vontade, mas a t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ceu-lhe um anjo do céu, que o fortale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sto em agonia, orava mais intensamente. E o seu suor tornou-se em grandes gotas de sangue, que corriam até ao ch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da oração, veio para os seus discípulos, e achou-os dormindo de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Por que estais dormindo? Levantai-vos, e orai, para que não entreis em ten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ainda a falar, surgiu uma multidão; e um dos doze, que se chamava Judas, ia adiante dela, e chegou-se a Jesus para o beij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 disse: Judas, com um beijo trais o Filho do hom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os que estavam com ele o que ia suceder, disseram-lhe: SENHOR, feriremos à espa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se alegraram, e convieram em lhe dar di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eles feriu o servo do sumo sacerdote, e cortou-lhe a orelha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Jesus, disse: Deixai-os; basta. E, tocando-lhe a orelha, o cu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sus aos principais dos sacerdotes, e capitães do templo, e anciãos, que tinham ido contra ele: Saístes, como a um salteador, com espadas e varapa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estado todos os dias convosco no templo, e não estendestes as mãos contra mim, mas esta é a vossa hora e o poder d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prendendo-o, o levaram, e o puseram em casa do sumo sacerdote. E Pedro seguia-o de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se acendido fogo no meio do pátio, estando todos sentados, assentou-se Pedro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certa criada, vendo-o estar assentado ao fogo, pusesse os olhos nele, disse: Este também estav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ele negou-o, dizendo: Mulher, não o conhe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um pouco depois, vendo-o outro, disse: Tu és também deles. Mas Pedro disse: Homem, não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da quase uma hora, um outro afirmava, dizendo: Também este verdadeiramente estava com ele, pois também é galil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concordou; e buscava oportunidade para lho entregar sem alvor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 disse: Homem, não sei o que dizes. E logo, estando ele ainda a falar, cantou o ga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rando-se o Senhor, olhou para Pedro, e Pedro lembrou-se da palavra do Senhor, como lhe havia dito: Antes que o galo cante hoje, me negarás três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Pedro para fora, chorou amarg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que detinham Jesus zombavam dele, ferindo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ando-lhe os olhos, feriam-no no rosto, e perguntavam-lhe, dizendo: Profetiza, quem é que te feri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s muitas coisas diziam contra ele, blasfem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que foi dia ajuntaram-se os anciãos do povo, e os principais dos sacerdotes e os escribas, e o conduziram ao seu concílio, e lhe perguntara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s tu o Cristo? Dize-no-lo. Ele replicou: Se vo-lo disser, não o crer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, se vos perguntar, não me respondereis, nem me solt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gora o Filho do homem se assentará à direita do poder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ou, porém, o dia dos ázimos, em que importava sacrificar a pás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todos: Logo, és tu o Filho de Deus? E ele lhes disse: Vós dizeis que eu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: De que mais testemunho necessitamos? pois nós mesmos o ouvimos d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a Pedro e a João, dizendo: Ide, preparai-nos a páscoa, para que a com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perguntaram: Onde queres que a prepare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15Z</dcterms:created>
  <dc:creator>Admin</dc:creator>
  <dc:description/>
  <dc:language>en-US</dc:language>
  <cp:lastModifiedBy>Admin</cp:lastModifiedBy>
  <dcterms:modified xsi:type="dcterms:W3CDTF">2008-07-31T00:12:15Z</dcterms:modified>
  <cp:revision>1</cp:revision>
  <dc:subject/>
  <dc:title>Slide 1</dc:title>
</cp:coreProperties>
</file>