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653-CD92-4F93-9AF8-CD705F97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61B-1B94-4D88-AFAC-50828FA9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C3B-E575-4D95-ABB4-064A9CCA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4F5-FAC1-47ED-BA64-627B04F8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BA4-42F0-45D4-B714-D730C3A6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D37-C456-4B88-807B-1C969900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CA9-43A2-4D50-84A9-4944BEDA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3A9-44E2-4162-A70B-11F75461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D62-84CB-46EA-9988-478BEABC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F7A-792A-4D1F-A4FD-BE146ECF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4C7-68BD-4107-B75C-421BC6CC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306-42E1-4CCA-ABA0-CE35A59D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67D9-7F9F-48BD-9FA8-981F0C27BDB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OU Jonas ao SENHOR, seu Deus, das entranhas do peix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, pois, o SENHOR ao peixe, e este vomitou a Jonas na terra se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Na minha angústia clamei ao SENHOR, e ele me respondeu; do ventre do inferno gritei, e tu ouviste a minh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u me lançaste no profundo, no coração dos mares, e a corrente das águas me cercou; todas as tuas ondas e as tuas vagas têm passado por cima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disse: Lançado estou de diante dos teus olhos; todavia tornarei a ver o teu santo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águas me cercaram até à alma, o abismo me rodeou, e as algas se enrolaram na minh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desci até aos fundamentos dos montes; a terra me encerrou para sempre com os seus ferrolhos; mas tu fizeste subir a minha vida da perdição, ó SENHOR m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desfalecia em mim a minha alma, lembrei-me do SENHOR; e entrou a ti a minha oração, no teu santo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observam as falsas vaidades deixam a sua misericór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te oferecerei sacrifício com a voz do agradecimento; o que votei pagarei. Do SENHOR vem 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42Z</dcterms:created>
  <dc:creator>Admin</dc:creator>
  <dc:description/>
  <dc:language>en-US</dc:language>
  <cp:lastModifiedBy>Admin</cp:lastModifiedBy>
  <dcterms:modified xsi:type="dcterms:W3CDTF">2008-07-31T00:04:42Z</dcterms:modified>
  <cp:revision>1</cp:revision>
  <dc:subject/>
  <dc:title>Slide 1</dc:title>
</cp:coreProperties>
</file>