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1CE-4864-43E6-ABB6-355FB06D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CE5-1FC7-428B-9A74-3AA457CF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EAC-5FC2-4B72-A5A3-56AA3BD9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563-39DA-464B-93AD-DAFDCF1D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52A-1B8C-4BC3-A64B-6EFF20B3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7BB-A67F-4661-B89B-6840AAC9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AAA-EE4F-43FA-8FD3-19F22741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0D8-DD17-4C27-B968-0E39AAB7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8399-CF49-494B-8DE9-406EC946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B41-4211-476C-BE23-62F52271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F3F-8228-4392-A529-AC4FB9ED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B940-08AF-484D-A3BB-88153516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16D5-6230-4973-AD22-26A1106AD71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BRE a minha guarda estarei, e sobre a fortaleza me apresentarei e vigiarei, para ver o que falará a mim, e o que eu responderei quando eu for argü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rgonha maquinaste para a tua casa; destruindo tu a muitos povos, pecaste contra a t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pedra clamará da parede, e a trave lhe responderá do madeir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aquele que edifica a cidade com sangue, e que funda a cidade com iniqüidad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vem do SENHOR dos Exércitos que os povos trabalhem pelo fogo e os homens se cansem em v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terra se encherá do conhecimento da glória do SENHOR, como as águas cobrem o 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aquele que dá de beber ao seu companheiro! Ai de ti, que adiciona à bebida o teu furor, e o embebedas para ver a sua nudez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s farto de ignomínia em lugar de honra; bebe tu também, e sê como um incircunciso; o cálice da mão direita do SENHOR voltará a ti, e ignomínia cairá sobre a tu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violência cometida contra o Líbano te cobrirá, e a destruição das feras te amedrontará, por causa do sangue dos homens, e da violência feita à terra, à cidade, e a todos os que nela habi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aproveita a imagem de escultura, depois que a esculpiu o seu artífice? Ela é máscara e ensina mentira, para que quem a formou confie na sua obra, fazendo ídolos mu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aquele que diz ao pau: Acorda! e à pedra muda: Desperta! Pode isso ensinar? Eis que está coberta de ouro e de prata, mas dentro dela não há espírito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me respondeu, e disse: Escreve a visão e torna bem legível sobre tábuas, para que a possa ler quem passa corre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ENHOR está no seu santo templo; cale-se diante del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visão é ainda para o tempo determinado, mas se apressa para o fim, e não enganará; se tardar, espera-o, porque certamente virá, não tard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 sua alma está orgulhosa, não é reta nele; mas o justo pela sua fé vi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nto mais que, por ser dado ao vinho é desleal; homem soberbo que não permanecerá; que alarga como o inferno a sua alma; e é como a morte que não se farta, e ajunta a si todas as nações, e congrega a si todos 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levantarão, pois, todos estes contra ele uma parábola e um provérbio sarcástico contra ele? E se dirá: Ai daquele que multiplica o que não é seu! (até quando?) e daquele que carrega sobre si dívida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se levantarão de repente os teus extorquiadores, e não despertarão os que te farão tremer, e não lhes servirás tu de despoj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despojaste a muitas nações, todos os demais povos te despojarão a ti, por causa do sangue dos homens, e da violência feita à terra, à cidade, e a todos os que nela habi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aquele que, para a sua casa, ajunta cobiçosamente bens mal adquiridos, para pôr o seu ninho no alto, a fim de se livrar do poder do mal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27Z</dcterms:created>
  <dc:creator>Admin</dc:creator>
  <dc:description/>
  <dc:language>en-US</dc:language>
  <cp:lastModifiedBy>Admin</cp:lastModifiedBy>
  <dcterms:modified xsi:type="dcterms:W3CDTF">2008-07-30T23:40:27Z</dcterms:modified>
  <cp:revision>1</cp:revision>
  <dc:subject/>
  <dc:title>Slide 1</dc:title>
</cp:coreProperties>
</file>