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AAB-7C33-443D-9DD7-EF6C7734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CBF-F3E0-4E79-A2C7-A35DBEB7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223-4B76-45FD-8116-82A83791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4EA-5C0D-4356-9965-E1B6910C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B9C-9B49-4701-8590-5BB71669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366-F43B-4D15-9423-CF56F457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2BF-9A49-49CF-B30C-BAABECC2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5A5-7B6C-4AA3-AAD2-33BB6D3C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8CD-B630-4182-B378-696ED2A0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C72-8896-4A90-9687-EC2E0014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AF8-C7C7-4CE6-BE40-5881B528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9CA-DBC2-49C2-AF7C-26DC8B6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1A7F-9ED3-458E-A365-63D87B900C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LEBRAI com júbilo a Deus, todas 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, ó Deus, nos provaste; tu nos afinaste como se afina a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nos puseste na rede; afligiste os nossos lomb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ste com que os homens cavalgassem sobre as nossas cabeças; passamos pelo fogo e pela água; mas nos trouxeste a um lugar espaç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rei em tua casa com holocaustos; pagar-te-ei os meus vo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pronunciaram os meus lábios, e falou a minha boca, quando estava n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ferecer-te-ei holocaustos gordurosos com incenso de carneiros; oferecerei novilhos com cabrito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, e ouvi, todos os que temeis a Deus, e eu contarei o que ele tem feito à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le clamei com a minha boca, e ele foi exaltado pela minha lín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atender à iniqüidade no meu coração, o Senhor não me ouvi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a verdade, Deus me ouviu; atendeu à voz da minha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 glória do seu nome; dai glória ao seu lou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Deus, que não rejeitou a minha oração, nem desviou de mim a sua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i a Deus: Quão tremendo és tu nas tuas obras! Pela grandeza do teu poder se submeterão a ti os t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moradores da terra te adorarão e te cantarão; cantarão o teu nome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, e vede as obras de Deus: é tremendo nos seus feitos para com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erteu o mar em terra seca; passaram o rio a pé; ali nos alegramos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domina eternamente pelo seu poder; os seus olhos estão sobre as nações; não se exaltem os rebelde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zei, povos, ao nosso Deus, e fazei ouvir a voz do seu louv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e sustenta com vida a nossa alma, e não consente que sejam abalados os noss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56Z</dcterms:created>
  <dc:creator>Admin</dc:creator>
  <dc:description/>
  <dc:language>en-US</dc:language>
  <cp:lastModifiedBy>Admin</cp:lastModifiedBy>
  <dcterms:modified xsi:type="dcterms:W3CDTF">2008-07-31T00:25:56Z</dcterms:modified>
  <cp:revision>1</cp:revision>
  <dc:subject/>
  <dc:title>Slide 1</dc:title>
</cp:coreProperties>
</file>