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E8EA-2493-4970-A106-6A0F57D8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6EE6-7910-4E18-9F07-0702B295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D5D3-C14C-466B-866F-F9BB1694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E54A-1AD7-4725-BDBC-5D7279F6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5FBB-FDC2-471C-BE2E-2EE4C266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AC38-6F2A-409C-B24B-71FD212D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FFB4-8587-4CC0-883D-F8DADCA7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1C5E-22AA-412D-AE58-54151A65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9795-21CC-4DA1-B313-F5A786AD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21A-5E94-4D15-9A74-E1D488A4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4F01-09BF-4010-B6A4-47D6C4A5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E9A6-FF7E-4F85-BE62-F7D22D99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8343-E1E1-487A-8268-64559FEC75F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a palavra do SENHOR a Jeú, filho de Hanani, contra Baasa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ou, pois, Zinri, e o feriu, e o matou, no ano vigésimo sétimo de Asa, rei de Judá; e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reinando ele, e estando assentado no seu trono, feriu a toda a casa de Baasa; não lhe deixou homem algum, nem a seus parentes, nem a seus a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estruiu Zinri toda a casa de Baasa, conforme à palavra do SENHOR que, contra Baasa, ele falara pelo ministério do profeta Jeú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todos os pecados de Baasa, e os pecados de Elá, seu filho, que cometeram, e com que fizeram pecar a Israel, irritando ao SENHOR Deus de Israel com as suas va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 mais dos atos de Elá, e a tudo quanto fez, não está escrito no livro das crônicas dos reis de Isra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ano vigésimo sétimo de Asa, rei de Judá, reinou Zinri sete dias em Tirza; e o povo estava acampado contra Gibetom, que era dos filist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ovo que estava acampado ouviu dizer: Zinri tem conspirado, e até matou o rei. Todo o Israel pois, no mesmo dia, no arraial, constituiu rei sobre Israel a Onri, capitão do exérc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biu Onri, e todo o Israel com ele, de Gibetom, e cercaram a Tir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 Zinri, vendo que a cidade era tomada, foi ao paço da casa do rei e queimou-a sobre si; e morre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causa dos pecados que cometera, fazendo o que era mau aos olhos do SENHOR, andando no caminho de Jeroboão, e no pecado que ele cometera, fazendo Israel pec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te levantei do pó, e te pus por príncipe sobre o meu povo Israel, e tu tens andado no caminho de Jeroboão, e tens feito pecar a meu povo Israel, irritando-me com os seus pecad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 mais dos atos de Zinri, e à conspiração que fez, porventura não está escrito no livro das crônicas dos reis de Isra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povo de Israel se dividiu em dois partidos: metade do povo seguia a Tibni, filho de Ginate, para o fazer rei, e a outra metade seguia a Onr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povo que seguia a Onri foi mais forte do que o povo que seguia a Tibni, filho de Ginate; e Tibni morreu, e Onri rein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ano trinta e um de Asa, rei de Judá, Onri começou a reinar sobre Israel, e reinou doze anos; e em Tirza reinou seis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Semer comprou o monte de Samaria por dois talentos de prata, e edificou nele; e chamou a cidade que edificou Samaria, do nome de Semer, dono do mo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nri o que era mau aos olhos do SENHOR; e fez pior do que todos quantos foram antes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ndou em todos os caminhos de Jeroboão, filho de Nebate, como também nos pecados com que ele tinha feito pecar a Israel, irritando ao SENHOR Deus de Israel com as suas va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 mais dos atos de Onri, ao que fez, e ao poder que manifestou, porventura não está escrito no livro das crônicas dos reis de Isra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nri dormiu com seus pais, e foi sepultado em Samaria; e Acabe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abe, filho de Onri, começou a reinar sobre Israel no ano trigésimo oitavo de Asa, rei de Judá; e reinou Acabe, filho de Onri, sobre Israel, em Samaria, vinte e dois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tirarei os descendentes de Baasa, e os descendentes da sua casa, e farei a tua casa como a casa de Jeroboão, filho de Neb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Acabe, filho de Onri, o que era mau aos olhos do SENHOR, mais do que todos os que foram antes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 (como se fora pouco andar nos pecados de Jeroboão, filho de Nebate) ainda tomou por mulher a Jezabel, filha de Etbaal, rei dos sidônios; e foi e serviu a Baal, e o ado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ou um altar a Baal, na casa de Baal que edificara em Sam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cabe fez um ídolo; de modo que Acabe fez muito mais para irritar ao SENHOR Deus de Israel, do que todos os reis de Israel que foram antes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seus dias Hiel, o betelita, edificou a Jericó; em Abirão, seu primogênito, a fundou, e em Segube, seu filho menor, pôs as suas portas; conforme a palavra do SENHOR, que falara pelo ministério de Josué, filho de N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morrer dos de Baasa, na cidade, os cães o comerão; e o que dele morrer no campo, as aves do céu o com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 mais dos atos de Baasa, e ao que fez, e ao seu poder, porventura não está escrito no livro das crônicas dos reis de Isra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aasa dormiu com seus pais, e foi sepultado em Tirza; e Elá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veio também a palavra do SENHOR, pelo ministério do profeta Jeú, filho de Hanani, contra Baasa e contra a sua casa; e isso por todo o mal que fizera aos olhos do SENHOR, irritando-o com a obra de suas mãos, para ser como a casa de Jeroboão; e porq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ano vinte e seis de Asa, rei de Judá, Elá, filho de Baasa, começou a reinar em Tirza sobre Israel; e reinou dois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Zinri, seu servo, capitão de metade dos carros, conspirou contra ele, estando ele em Tirza, bebendo e embriagando-se em casa de Arsa, mordomo em Tir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5:47Z</dcterms:created>
  <dc:creator>Admin</dc:creator>
  <dc:description/>
  <dc:language>en-US</dc:language>
  <cp:lastModifiedBy>Admin</cp:lastModifiedBy>
  <dcterms:modified xsi:type="dcterms:W3CDTF">2008-07-30T23:45:47Z</dcterms:modified>
  <cp:revision>1</cp:revision>
  <dc:subject/>
  <dc:title>Slide 1</dc:title>
</cp:coreProperties>
</file>