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CBF0-3CC7-41B1-9D16-BA5879DD7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8B14-46CA-4678-82E1-C91711CAD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F137-C92A-4FD3-B331-2C42A7B07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5DD2-9606-4223-80B2-7EB95F0FC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DFE4-D3D6-4702-B6EB-52DBE7212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1B68-24DF-46D6-ADF0-53740DFD0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4DB7-E0F3-4340-BF5B-1B24C9FEF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009D-8ABD-4253-BC61-542DC70C8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7592-215F-40E4-9A13-939E74E1A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A49D-0E87-41BD-9F4F-75324DA7F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CEA4-CDE0-4E62-8171-40847CA7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1421-7EF5-4172-B449-CA4BD4A22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0A2CA-E493-4B75-9260-3B2D4703EEFB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5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ILHO meu, atende à minha sabedoria; à minha inteligência inclina o teu ouvid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5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 não farte a estranhos o teu esforço, e todo o fruto do teu trabalho vá parar em casa alhei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5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o fim venhas a gemer, no consumir-se da tua carne e do teu corp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5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ntão digas: Como odiei a correção! e o meu coração desprezou a repreensão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5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ão escutei a voz dos que me ensinavam, nem aos meus mestres inclinei o meu ouvido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5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meio da congregação e da assembléia foi que eu me achei em quase todo o m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5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ebe água da tua fonte, e das correntes do teu poç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5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rramar-se-iam as tuas fontes por fora, e pelas ruas os ribeiros de água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5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jam para ti só, e não para os estranhos conti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5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ja bendito o teu manancial, e alegra-te com a mulher da tua moc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5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cerva amorosa, e gazela graciosa, os seus seios te saciem todo o tempo; e pelo seu amor sejas atraído perpetuam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5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 guardes os meus conselhos e os teus lábios observem o conhecime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5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orque, filho meu, te deixarias atrair por outra mulher, e te abraçarias ao peito de uma estranh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5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os caminhos do homem estão perante os olhos do SENHOR, e ele pesa todas as suas vered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5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to ao ímpio, as suas iniqüidades o prenderão, e com as cordas do seu pecado será det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5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 morrerá, porque desavisadamente andou, e pelo excesso da sua loucura se perde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5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s lábios da mulher estranha destilam favos de mel, e o seu paladar é mais suave do que o azei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5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o seu fim é amargoso como o absinto, agudo como a espada de dois gum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5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seus pés descem para a morte; os seus passos estão impregnados do infer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5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 não ponderes os caminhos da vida, as suas andanças são errantes: jamais os conhecerá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5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, pois, filhos, dai-me ouvidos, e não vos desvieis das palavras da minha boc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5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onge dela seja o teu caminho, e não te chegues à porta da sua cas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5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 não dês a outrem a tua honra, e não entregues a cruéis os teus anos de vid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1:12Z</dcterms:created>
  <dc:creator>Admin</dc:creator>
  <dc:description/>
  <dc:language>en-US</dc:language>
  <cp:lastModifiedBy>Admin</cp:lastModifiedBy>
  <dcterms:modified xsi:type="dcterms:W3CDTF">2008-07-31T00:21:12Z</dcterms:modified>
  <cp:revision>1</cp:revision>
  <dc:subject/>
  <dc:title>Slide 1</dc:title>
</cp:coreProperties>
</file>