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621-3D92-4AA1-8309-B118D62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E23-AFCC-431D-9763-F0B71B3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078-CE1E-4B69-BAEB-0CC2C235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6DF-DEBB-4462-9B41-B5330806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8D4-98C4-49B0-B15C-F9F1B38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82E-CDE9-48C8-8A6F-F5CD1842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24A-DD30-4D5B-AD17-F97820D4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A3E-E1EB-4C9F-B530-B726EDA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56B-9D8B-445D-966B-F854E9B8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F34-A9C5-40C9-888A-D096CEC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3BB-FBE6-4F64-BA27-7D80430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13A-3F00-4366-8BB0-0E06B6C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0F9-BFC1-4F08-A98F-2F132C2D37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to às coisas que me escrevestes, bom seria que o homem não tocasse em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aos casados mando, não eu mas o Senhor, que a mulher não se aparte d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se apartar, que fique sem casar, ou que se reconcilie com o marido; e que o marido não deixe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outros digo eu, não o Senhor: Se algum irmão tem mulher descrente, e ela consente em habitar com ele, não a d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ma mulher tem marido descrente, e ele consente em habitar com ela, não o d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arido descrente é santificado pela mulher; e a mulher descrente é santificada pelo marido; de outra sorte os vossos filhos seriam imundos; mas agora são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o descrente se apartar, aparte-se; porque neste caso o irmão, ou irmã, não esta sujeito à servidão; mas Deus chamou-nos para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e onde sabes, ó mulher, se salvarás teu marido? ou, de onde sabes, ó marido, se salvarás tua mulh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cada um ande como Deus lhe repartiu, cada um como o Senhor o chamou. É o que ordeno em todas a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alguém chamado, estando circuncidado? fique circuncidado. É alguém chamado estando incircuncidado? não se circunc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ircuncisão é nada e a incircuncisão nada é, mas, sim, a observância dos mandament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or causa da prostituição, cada um tenha a sua própria mulher, e cada uma tenha o seu própri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fique na vocação em que foi ch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ste chamado sendo servo? não te dê cuidado; e, se ainda podes ser livre, aproveita a oca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é chamado pelo Senhor, sendo servo, é liberto do Senhor; e da mesma maneira também o que é chamado sendo livre, servo é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stes comprados por bom preço; não vos façais serv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cada um fique diante de Deus no estado em que foi ch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to às virgens, não tenho mandamento do Senhor; dou, porém, o meu parecer, como quem tem alcançado misericórdia do Senhor para ser 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, pois, por bom, por causa da instante necessidade, que é bom para o homem o estar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s ligado à mulher? não busques separar-te. Estás livre de mulher? não busques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e casares, não pecas; e, se a virgem se casar, não peca. Todavia os tais terão tribulações na carne, e eu quereria poupar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, porém, vos digo, irmãos, que o tempo se abrevia; o que resta é que também os que têm mulheres sejam como se não as tivess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rido pague à mulher a devida benevolência, e da mesma sorte a mulher a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horam, como se não chorassem; e os que folgam, como se não folgassem; e os que compram, como se não possuíss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usam deste mundo, como se dele não abusassem, porque a aparência deste mundo p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quisera eu que estivésseis sem cuidado. O solteiro cuida das coisas do SENHOR, em como há de agradar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é casado cuida das coisas do mundo, em como há de agradar à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diferença entre a mulher casada e a virgem. A solteira cuida das coisas do Senhor para ser santa, tanto no corpo como no espírito; porém, a casada cuida das coisas do mundo, em como há de agradar ao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 isto para proveito vosso; não para vos enlaçar, mas para o que é decente e conveniente, para vos unirdes ao Senhor sem distração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julga que trata indignamente a sua virgem, se tiver passado a flor da idade, e se for necessário, que faça o tal o que quiser; não peca; case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que está firme em seu coração, não tendo necessidade, mas com poder sobre a sua própria vontade, se resolveu no seu coração guardar a sua virgem, faz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o que a dá em casamento faz bem; mas o que não a dá em casamento faz mel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casada está ligada pela lei todo o tempo que o seu marido vive; mas, se falecer o seu marido fica livre para casar com quem quiser, contanto que seja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não tem poder sobre o seu próprio corpo, mas tem-no o marido; e também da mesma maneira o marido não tem poder sobre o seu próprio corpo, mas tem-no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rém, mais bem-aventurada se ficar assim, segundo o meu parecer, e também eu cuido que tenho o Espíri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priveis um ao outro, senão por consentimento mútuo por algum tempo, para vos aplicardes ao jejum e à oração; e depois ajuntai-vos outra vez, para que Satanás não vos tente pela vossa incontin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rém, isto como que por permissão e não por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reria que todos os homens fossem como eu mesmo; mas cada um tem de Deus o seu próprio dom, um de uma maneira e outro de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rém, aos solteiros e às viúvas, que lhes é bom se ficarem como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podem conter-se, casem-se. Porque é melhor casar do que abras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29Z</dcterms:created>
  <dc:creator>Admin</dc:creator>
  <dc:description/>
  <dc:language>en-US</dc:language>
  <cp:lastModifiedBy>Admin</cp:lastModifiedBy>
  <dcterms:modified xsi:type="dcterms:W3CDTF">2008-07-30T23:41:29Z</dcterms:modified>
  <cp:revision>1</cp:revision>
  <dc:subject/>
  <dc:title>Slide 1</dc:title>
</cp:coreProperties>
</file>