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C14D-541D-4C67-B11B-0B42DA75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3768-D119-417A-A6DB-E118B786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5B8-5145-4CE0-9F7C-B80FCF2B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578F-A9EC-43ED-9D05-2BC66EA4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3B7-9BA9-423E-9641-76F33F09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40D-80D2-4D49-9ABE-1C6C4BB1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769B-BC0C-48D8-A845-C020F52C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1B6F-0AD7-4B48-8EED-B9EACDFD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79A-41C5-455D-B80D-2588CD6A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84D-D9DF-4E2E-8F98-7B97E158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6DA-1CFC-4D17-AE00-77C2985B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ADC-D3BE-4B39-A164-1656519F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2D38-BC25-419C-BE8D-8E23BD22989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isso desagradou extremamente a Jonas, e ele ficou i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: Tiveste tu compaixão da aboboreira, na qual não trabalhaste, nem a fizeste crescer, que numa noite nasceu, e numa noite perece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hei de eu ter compaixão da grande cidade de Nínive em que estão mais de cento e vinte mil homens que não sabem discernir entre a sua mão direita e a sua mão esquerda, e também muitos anim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ou ao SENHOR, e disse: Ah! SENHOR! Não foi esta minha palavra, estando ainda na minha terra? Por isso é que me preveni, fugindo para Társis, pois sabia que és Deus compassivo e misericordioso, longânimo e grande em benignidade, e que te arrependes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ço-te, pois, ó SENHOR, tira-me a vida, porque melhor me é morrer do que viv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: Fazes bem que assim te i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nas saiu da cidade, e sentou-se ao oriente dela; e ali fez uma cabana, e sentou-se debaixo dela, à sombra, até ver o que aconteceria à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SENHOR Deus nascer uma aboboreira, e ela subiu por cima de Jonas, para que fizesse sombra sobre a sua cabeça, a fim de o livrar do seu enfado; e Jonas se alegrou em extremo por causa da abobor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us enviou um verme, no dia seguinte ao subir da alva, o qual feriu a aboboreira, e esta se se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aparecendo o sol, Deus mandou um vento calmoso oriental, e o sol feriu a cabeça de Jonas; e ele desmaiou, e desejou com toda a sua alma morrer, dizendo: Melhor me é morrer do que viv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Deus a Jonas: Fazes bem que assim te ires por causa da aboboreira? E ele disse: Faço bem que me revolte até à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4:45Z</dcterms:created>
  <dc:creator>Admin</dc:creator>
  <dc:description/>
  <dc:language>en-US</dc:language>
  <cp:lastModifiedBy>Admin</cp:lastModifiedBy>
  <dcterms:modified xsi:type="dcterms:W3CDTF">2008-07-31T00:04:45Z</dcterms:modified>
  <cp:revision>1</cp:revision>
  <dc:subject/>
  <dc:title>Slide 1</dc:title>
</cp:coreProperties>
</file>