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899-01B8-4702-95D2-EA907A56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9EE-B8BD-4D0C-B8E9-63F0C34C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C77-9439-41E2-8801-1C5BD9DC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C17-F0F4-492B-9B6E-ADE0FA2E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772-CEA5-44BA-B77E-DE39CD20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5C5-5794-4F2F-A1B1-EC907D7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CB5-2321-4488-9471-A3DBECC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774-9CBB-415D-B1AB-C24D4460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958-A0A2-4B58-ADBA-33DFCE7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A7C-5608-45FD-8A83-67C4C40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85E-579C-4C71-94AF-474A99C5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8A6-9BD5-4875-B72B-01B1E51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703-98CC-4F90-AF33-108678DEA1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. Louvai ao SENHOR, porque ele é bom, porque a sua misericórdia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ivrou da mão daquele que os odiava, e os remiu da mão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águas cobriram os seus adversários; nem um só deles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reram nas suas palavras, e cantaram os seus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cedo se esqueceram das suas obras; não esperaram o seu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ixaram-se levar à cobiça no deserto, e tentaram a Deus na sol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cumpriu o seu desejo, mas enviou magreza às su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vejaram a Moisés no campo, e a Arão, o sant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u-se a terra, e engoliu a Datã, e cobriu o grupo de Ab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fogo se acendeu no seu grupo; a chama abrasou 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 um bezerro em Horebe e adoraram a imagem fun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ode contar as obras poderosas do SENHOR? Quem anunciará os seus louv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verteram a sua glória na figura de um boi que come 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queceram-se de Deus, seu Salvador, que fizera grandezas n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avilhas na terra de Cão, coisas tremendas n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 que os destruiria, não houvesse Moisés, seu escolhido, ficado perante ele na brecha, para desviar a sua indignação, a fim de não os destr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sprezaram a terra aprazível; não creram n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murmuraram nas suas tendas, e não deram ouvidos à voz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levantou a sua mão contra eles, para os derrubar no des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errubar também a sua semente entre as nações, e espalhá-los p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e juntaram com Baal-Peor, e comeram os sacrifícios d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provocaram à ira com as suas invenções; e a peste rebentou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que guardam o juízo, o que pratica justiça em todos os te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Finéias, e fez juízo, e cessou aquela p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lhe foi contado como justiça, de geração em geração,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dignaram-no também junto às águas da contenda, de sorte que sucedeu mal a Moisés, por causa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rritaram o seu espírito, de modo que falou imprudentemente com s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truíram os povos, como o SENHOR lhes dis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se misturaram com os gentios, e aprenderam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ram aos seus ídolos, que vieram a ser-lhes um l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mais disto, sacrificaram seus filhos e suas filhas aos demôn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amaram sangue inocente, o sangue de seus filhos e de suas filhas que sacrificaram aos ídolos de Canaã; e a terra foi manchada com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contaminaram com as suas obras, e se corromperam com os seus f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mim, SENHOR, segundo a tua boa vontade para com o teu povo; visita-me com 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endeu a ira do SENHOR contra o seu povo, de modo que abominou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ntregou nas mãos dos gentios; e aqueles que os odiavam se asSENHOReara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inimigos os oprimiram, e foram humilhados debaixo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vezes os livrou, mas o provocaram com o seu conselho, e foram abatidos pel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atendeu à sua aflição, ouvindo o s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lembrou da sua aliança, e se arrependeu segundo a multidão das suas misericór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também fez com que deles tivessem misericórdia os que os levaram ca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nos, SENHOR nosso Deus, e congrega-nos dentre os gentios, para que louvemos o teu nome santo, e nos gloriemos no teu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Deus de Israel, de eternidade em eternidade, e todo o povo diga: Amém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u veja os bens de teus escolhidos, para que eu me alegre com a alegria da tua nação, para que me glorie com a t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pecamos como os nossos pais, cometemos a iniqüidade, andamos perver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sos pais não entenderam as tuas maravilhas no Egito; não se lembraram da multidão das tuas misericórdias; antes o provocaram no mar, sim n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bstante, ele os salvou por amor do seu nome, para fazer conhecido 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reendeu, também, o Mar Vermelho, e este se secou, e os fez caminhar pelos abismos como pel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32Z</dcterms:created>
  <dc:creator>Admin</dc:creator>
  <dc:description/>
  <dc:language>en-US</dc:language>
  <cp:lastModifiedBy>Admin</cp:lastModifiedBy>
  <dcterms:modified xsi:type="dcterms:W3CDTF">2008-07-31T00:27:32Z</dcterms:modified>
  <cp:revision>1</cp:revision>
  <dc:subject/>
  <dc:title>Slide 1</dc:title>
</cp:coreProperties>
</file>