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E88-0B62-4704-AFCF-30DCA6F3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66D-6AFC-476B-950E-736B96E4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FC9-EEEC-483C-AE60-3301AD1B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F61-DC21-4D67-A6FF-7D345B01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034-E94B-4A91-B333-76656321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7BD-AFFC-445B-8297-AC8B8FC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571-C5E6-46E7-BCA8-23B5AEE5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E95-6940-432D-B676-D4115303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863-3D1C-4823-8C24-22941338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11C-C5FE-4B75-A0A4-5DEA4895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BD3-7322-4131-9572-4ABDFC1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364-6F6B-46A3-972C-5B1411D3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AE3-6EF8-4A78-AA2F-45504A6C660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o rei Davi em sua casa, e tendo o SENHOR lhe dado descanso de todos os seus inimigos em re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arei lugar para o meu povo, para Israel, e o plantarei, para que habite no seu lugar, e não mais seja removido, e nunca mais os filhos da perversidade o aflijam, como dan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o dia em que mandei que houvesse juízes sobre o meu povo Israel; a ti, porém, te dei descanso de todos os teus inimigos; também o SENHOR te faz saber que te fará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us dias forem completos, e vieres a dormir com teus pais, então farei levantar depois de ti um dentre a tua descendência, o qual sairá das tuas entranhas, e estabelecerei 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dificará uma casa ao meu nome, e confirmarei o trono do seu rein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lhe serei por pai, e ele me será por filho; e, se vier a transgredir, castigá-lo-ei com vara de homens, e com açoites de filho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minha benignidade não se apartará dele; como a tirei de Saul, a quem tirei de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tua casa e o teu reino serão firmados para sempre diante de ti; teu trono será firm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todas estas palavras, e conforme a toda esta visão, assim falou Natã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o rei Davi, e ficou perante o SENHOR, e disse: Quem sou eu, Senhor DEUS, e qual é a minha casa, para que me tenhas trazido até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foi isto pouco aos teus olhos, Senhor DEUS, senão que também falaste da casa de teu servo para tempos distantes; é este o procedimento dos homens, ó Senhor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rei ao profeta Natã: Eis que eu moro em casa de cedro, e a arca de Deus mora dentro de cort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mais te pode dizer ainda Davi? Pois tu conheces bem a teu servo, ó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tua palavra, e segundo o teu coração, fizeste toda esta grandeza; fazendo-a saber a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grandioso és, ó SENHOR Deus, porque não há semelhante a ti, e não há outro Deus senão tu só, segundo tudo o que temos ouvido com os noss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há como o teu povo, como Israel, gente única na terra, a quem Deus foi resgatar para seu povo, para fazer-te nome, e para fazer-vos estas grandes e terríveis coisas à tua terra, diante do teu povo, que tu resgataste do Egito, desterrando as n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irmaste a teu povo Israel por teu povo para sempre, e tu, SENHOR, te fizeste 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 Deus, esta palavra que falaste acerca de teu servo e acerca da sua casa, confirma-a para sempre, e faze como tens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grandeça-se o teu nome para sempre, para que se diga: O SENHOR dos Exércitos é Deus sobre Israel; e a casa de teu servo será confirmada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SENHOR dos Exércitos, Deus de Israel, revelaste aos ouvidos de teu servo, dizendo: Edificar-te-ei uma casa. Portanto o teu servo se animou para fazer-te est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nhor DEUS, tu és o mesmo Deus, e as tuas palavras são verdade, e tens falado a teu servo este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, pois, agora servido de abençoar a casa de teu servo, para permanecer para sempre diante de ti, pois tu, ó Senhor DEUS, o disseste; e com a tua bênção será para sempre bendita a casa de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Natã ao rei: Vai, e faze tudo quanto está no teu coração; porque o SENHOR é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ucedeu naquela mesma noite, que a palavra do SENHOR veio a Natã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dize a meu servo Davi: Assim diz o SENHOR: Edificar-me-ás tu uma casa para minha habit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casa nenhuma habitei desde o dia em que fiz subir os filhos de Israel do Egito até ao dia de hoje; mas andei em tenda e em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o o lugar em que andei com todos os filhos de Israel, falei porventura alguma palavra a alguma das tribos de Israel, a quem mandei apascentar o meu povo de Israel, dizendo: Por que não me edificais uma casa de ced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assim dirás ao meu servo Davi: Assim diz o SENHOR dos Exércitos: Eu te tomei da malhada, de detrás das ovelhas, para que fosses o soberano sobre o meu povo,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 contigo, por onde quer que foste, e destruí a teus inimigos diante de ti; e fiz grande o teu nome, como o nome dos grandes que há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58Z</dcterms:created>
  <dc:creator>Admin</dc:creator>
  <dc:description/>
  <dc:language>en-US</dc:language>
  <cp:lastModifiedBy>Admin</cp:lastModifiedBy>
  <dcterms:modified xsi:type="dcterms:W3CDTF">2008-07-30T23:52:58Z</dcterms:modified>
  <cp:revision>1</cp:revision>
  <dc:subject/>
  <dc:title>Slide 1</dc:title>
</cp:coreProperties>
</file>