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DF1-2AB2-4D3D-9CB6-8DA8245E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4E5-FA13-4C8A-8BCB-4C23B03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2DD-44C8-437D-926E-FB9B8208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DF2-30ED-4699-901D-3B8DA1A3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76F-0ADA-4398-9FA3-FFB154E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5B2-605A-47B6-B437-58A3532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959-D375-4057-862C-4343248B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76A-8178-4AEF-A751-B970EF9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441-C6A8-4786-8E95-0C6B61A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FF9-71D6-4FB4-BDE2-78212BAC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C85-2BA8-4D3E-87E0-A437777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6E0-CF73-43E1-AE4D-E99AC89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EF0-7922-4D69-A498-CE177438D9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mão do SENHOR não está encolhida, para que não possa salvar; nem agravado o seu ouvido, para não poder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lpamos as paredes como cegos, e como os que não têm olhos andamos apalpando; tropeçamos ao meio-dia como nas trevas, e nos lugares escuros como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nós bramamos como ursos, e continuamente gememos como pombas; esperamos pelo juízo, e não o há; pela salvação, e está longe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nossas transgressões se multiplicaram perante ti, e os nossos pecados testificam contra nós; porque as nossas transgressões estão conosco, e conhecemos as nossas iniqü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prevaricar, e mentir contra o SENHOR, e o desviarmo-nos do nosso Deus, o falar de opressão e rebelião, o conceber e proferir do coração palavras de fal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direito se tornou atrás, e a justiça se pôs de longe; porque a verdade anda tropeçando pelas ruas, e a eqüidade não pode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a verdade desfalece, e quem se desvia do mal arrisca-se a ser despojado; e o SENHOR viu, e pareceu mal aos seus olhos que não houvess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que ninguém havia, maravilhou-se de que não houvesse um intercessor; por isso o seu próprio braço lhe trouxe a salvação, e a sua própria justiça o sust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vestiu-se de justiça, como de uma couraça, e pôs o capacete da salvação na sua cabeça, e por vestidura pôs sobre si vestes de vingança, e cobriu-se de zelo, como de um m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forem as obras deles, assim será a sua retribuição, furor aos seus adversários, e recompensa aos seus inimigos; às ilhas dará ele a su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merão o nome do SENHOR desde o poente, e a sua glória desde o nascente do sol; vindo o inimigo como uma corrente de águas, o Espírito do SENHOR arvorará contra ele a sua ban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vossas iniqüidades fazem separação entre vós e o vosso Deus; e os vossos pecados encobrem o seu rosto de vós, para que não vos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á um Redentor a Sião e aos que em Jacó se converterem da transgress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esta é a minha aliança com eles, diz o SENHOR: o meu espírito, que está sobre ti, e as minhas palavras, que pus na tua boca, não se desviarão da tua boca nem da boca da tua descendência, nem da boca da descendência da tua descendência, di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vossas mãos estão contaminadas de sangue, e os vossos dedos de iniqüidade; os vossos lábios falam falsidade, a vossa língua pronuncia perver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há que clame pela justiça, nem ninguém que compareça em juízo pela verdade; confiam na vaidade, e falam mentiras; concebem o mal, e dão à luz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ocam ovos de basilisco, e tecem teias de aranha; o que comer dos ovos deles, morrerá; e, quebrando-os, sairá uma víb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teias não prestam para vestes nem se poderão cobrir com as suas obras; as suas obras são obras de iniqüidade, e obra de violência há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és correm para o mal, e se apressam para derramarem o sangue inocente; os seus pensamentos são pensamentos de iniqüidade; destruição e quebrantamento há nas suas est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hecem o caminho da paz, nem há justiça nos seus passos; fizeram para si veredas tortuosas; todo aquele que anda por elas não tem conhecimento d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juízo está longe de nós, e a justiça não nos alcança; esperamos pela luz, e eis que só há trevas; pelo resplendor, mas andamos em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56Z</dcterms:created>
  <dc:creator>Admin</dc:creator>
  <dc:description/>
  <dc:language>en-US</dc:language>
  <cp:lastModifiedBy>Admin</cp:lastModifiedBy>
  <dcterms:modified xsi:type="dcterms:W3CDTF">2008-07-30T23:56:56Z</dcterms:modified>
  <cp:revision>1</cp:revision>
  <dc:subject/>
  <dc:title>Slide 1</dc:title>
</cp:coreProperties>
</file>