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E97E-10B2-47C9-97B1-92A69EB7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CE68-3C44-4BEF-BFAD-F7088D5E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AB8-F8E2-4E58-B2C4-94132925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D53E-F4D2-4E90-9791-E1ABF0E0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DEA6-9EE8-4AD4-92E9-E03F95A2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6B88-52BA-4EEE-B1DC-03308633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B923-07D5-41FD-92EA-0BFBDBF2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4D33-76AD-4C8C-AC2C-F00258B9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74A8-F722-4951-878B-205A6166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9C23-82A8-4736-BB74-233D8CBA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23EB-BDF0-4BA4-90F0-6E83D11E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47DC-CD4A-4A3C-8184-C22ADE0B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A7EE-BD58-42C5-B192-81A69DBE8FD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eis que o Senhor, o SENHOR dos Exércitos, tirará de Jerusalém e de Judá o sustento e o apoio; a todo o sustento de pão e a todo o sustento de águ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i ao justo que bem lhe irá; porque comerão do fruto das suas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o ímpio! Mal lhe irá; porque se lhe fará o que as suas mãos fiz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opressores do meu povo são crianças, e mulheres dominam sobre ele; ah, povo meu! Os que te guiam te enganam, e destroem o caminho das tuas vere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se levanta para pleitear, e põe-se de pé para julgar os po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entrará em juízo contra os anciãos do seu povo, e contra os seus príncipes; é que fostes vós que consumistes esta vinha; o espólio do pobre está em vossas ca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tendes vós, que esmagais o meu povo e moeis as faces dos pobres? Diz o Senhor DEUS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 ainda mais o SENHOR: Porquanto as filhas de Sião se exaltam, e andam com o pescoço erguido, lançando olhares impudentes; e quando andam, caminham afetadamente, fazendo um tilintar com os seus pé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o Senhor fará tinhoso o alto da cabeça das filhas de Sião, e o SENHOR porá a descoberto a sua nudez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tirará o Senhor os ornamentos dos pés, e as toucas, e adornos em forma de lu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pendentes, e os braceletes, as estol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oderoso, e o homem de guerra, o juiz, e o profeta, e o adivinho, e o anci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gorros, e os ornamentos das pernas, e os cintos e as caixinhas de perfumes, e os brinc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anéis, e as jóias do nariz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vestidos de festa, e os mantos, e os xales, e as bol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espelhos, e o linho finíssimo, e os turbantes, e os v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 em lugar de perfume haverá mau cheiro; e por cinto uma corda; e em lugar de encrespadura de cabelos, calvície; e em lugar de veste luxuosa, pano de saco; e queimadura em lugar de formos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us homens cairão à espada e teus poderosos na pele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suas portas gemerão e prantearão; e ela, desolada, se assentará no ch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apitão de cinqüenta, e o homem respeitável, e o conselheiro, e o sábio entre os artífices, e o eloqüente or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r-lhes-ei meninos por príncipes, e crianças governarão sob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ovo será oprimido; um será contra o outro, e cada um contra o seu próximo; o menino se atreverá contra o ancião, e o vil contra o no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alguém pegar de seu irmão na casa de seu pai, dizendo: Tu tens roupa, sê nosso governador, e toma sob a tua mão esta ruín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levantará este a sua voz, dizendo: Não posso ser médico, nem tampouco há em minha casa pão, ou roupa alguma; não me haveis de constituir governador sobre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Jerusalém está arruinada, e Judá caída; porque a sua língua e as suas obras são contra o SENHOR, para provocarem os olhos da sua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aspecto do seu rosto testifica contra eles; e publicam os seus pecados, como Sodoma; não os dissimulam. Ai da sua alma! Porque fazem mal a si mes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4:32Z</dcterms:created>
  <dc:creator>Admin</dc:creator>
  <dc:description/>
  <dc:language>en-US</dc:language>
  <cp:lastModifiedBy>Admin</cp:lastModifiedBy>
  <dcterms:modified xsi:type="dcterms:W3CDTF">2008-07-30T23:54:32Z</dcterms:modified>
  <cp:revision>1</cp:revision>
  <dc:subject/>
  <dc:title>Slide 1</dc:title>
</cp:coreProperties>
</file>