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4C2-CF1B-4387-8D60-1293A110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10F-7D60-4A26-8947-F4523E3C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5E2-F187-4608-8F41-CEDB9361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251-D9AE-49FF-A754-677C47E0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061-91F2-48DD-B99E-CC8EEE7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188-2F4D-4659-B26A-CFE70CA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B6A-9390-4EEB-BA34-C6D1EF2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BA-1943-4191-896F-A803CD1D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CDD-98E3-4E11-BCFB-3FCE231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5CF-6EEB-4774-92D7-7BAD49D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AA5-253A-4D16-B6BD-970AB45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3F7-3ED3-4072-B799-841E43D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6C3A-05D2-4496-8C94-B71C9B8EB2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a vossos irmãos: Ami; e a vossas irmãs: Ru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escobrirei a sua vileza diante dos olhos dos seus amantes, e ninguém a livrará d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cessar todo o seu gozo, as suas festas, as suas luas novas, e os seus sábados, e todas as suas festiv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vastarei a sua vide e a sua figueira, de que ela diz: É esta a minha paga que me deram os meus amantes; eu, pois, farei delas um bosque, e as feras do campo as devo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tigá-la-ei pelos dias dos Baalins, nos quais lhes queimou incenso, e se adornou dos seus pendentes e das suas jóias, e andou atrás de seus amantes, mas de mim se esqueceu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a atrairei, e a levarei para o deserto, e lhe falarei a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darei as suas vinhas dali, e o vale de Acor, por porta de esperança; e ali cantará, como nos dias de sua mocidade, e como no dia em que subiu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, diz o SENHOR, tu me chamarás: Meu marido; e não mais me chamarás: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sua boca tirarei os nomes dos Baalins, e não mais se lembrará desse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farei por eles aliança com as feras do campo, e com as aves do céu, e com os répteis da terra; e da terra quebrarei o arco, e a espada, e a guerra, e os farei deitar em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osar-te-ei comigo para sempre; desposar-te-ei comigo em justiça, e em juízo, e em benignidade, e em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endei com vossa mãe, contendei, porque ela não é minha mulher, e eu não sou seu marido; e desvie ela as suas prostituições da sua vista e os seus adultérios de entre os seus se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osar-te-ei comigo em fidelidade, e conhecerá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 que eu atenderei, diz o SENHOR; eu atenderei aos céus, e estes atenderão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atenderá ao trigo, e ao mosto, e ao azeite, e estes atenderão a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eá-la-ei para mim na terra, e compadecer-me-ei dela que não obteve misericórdia; e eu direi àquele que não era meu povo: Tu és meu povo; e ele dirá: Tu és meu 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u não a despoje, ficando ela nua, e a ponha como no dia em que nasceu, e a faça como um deserto, e a torne como uma terra seca, e a mate à se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me compadeça de seus filhos, porque são filhos de prostitu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a mãe se prostituiu; aquela que os concebeu houve-se torpemente, porque diz: Irei atrás de meus amantes, que me dão o meu pão e a minha água, a minha lã e o meu linho, o meu óleo e as minhas beb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cercarei o teu caminho com espinhos; e levantarei um muro de sebe, para que ela não ache 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irá atrás de seus amantes, mas não os alcançará; e buscá-los-á, mas não os achará; então dirá: Ir-me-ei, e tornar-me-ei a meu primeiro marido, porque melhor me ia então do que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, pois, não reconhece que eu lhe dei o grão, e o mosto, e o azeite, e que lhe multipliquei a prata e o ouro, que eles usaram para 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tornarei a tirar o meu grão a seu tempo e o meu mosto no seu tempo determinado; e arrebatarei a minha lã e o meu linho, com que cobriam a sua nu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35Z</dcterms:created>
  <dc:creator>Admin</dc:creator>
  <dc:description/>
  <dc:language>en-US</dc:language>
  <cp:lastModifiedBy>Admin</cp:lastModifiedBy>
  <dcterms:modified xsi:type="dcterms:W3CDTF">2008-07-31T00:20:35Z</dcterms:modified>
  <cp:revision>1</cp:revision>
  <dc:subject/>
  <dc:title>Slide 1</dc:title>
</cp:coreProperties>
</file>