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0EA-40CD-4426-84A1-6963086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B87-658E-4049-A521-285486F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6F8-8642-4295-9AC0-9A2C08B3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DF2-7DE8-4BA6-93B5-6CED8E88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4CF-9D15-4861-96BC-C05E3222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261-5137-4C8D-B9CE-8054D1A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71C-7068-478D-AEF2-34D0188E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250-9F15-4C61-8F1F-F0911C1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669-B1AD-43DB-B898-8AB25BC3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1E3-D874-4EE6-8847-AB1C3A4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DFA-FEDE-4917-B51B-B9E2470B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0D0-0A6F-48D5-8187-A117052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B2B8-A0EC-4F7F-84DB-2A7CA7387B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OS sois do SENHOR vosso Deus; não vos dareis golpes, nem fareis calva entre vossos olhos por causa de algum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do o que não tiver barbatanas nem escamas não o comereis; imundo vos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ave limpa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as são as que não comereis: a águia, e o quebrantosso, e o xofran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butre, e o falcão, e o milhafre, segundo a sua espé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corvo, segundo a sua espé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vestruz, e o mocho, e a gaivota, e o gavião, segundo a sua espéci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bufo, e a coruja, e a gral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isne, e o pelicano, e o corvo mari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egonha, e a garça, segundo a sua espécie, e a poupa, e o morc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 o inseto que voa, vos será imundo; não se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s povo santo ao SENHOR teu Deus; e o SENHOR te escolheu, de todos os povos que há sobre a face da terra, para lhe seres o seu própri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ave limpa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reis nenhum animal morto; ao estrangeiro, que está dentro das tuas portas, o darás a comer, ou o venderás ao estranho, porquanto és povo santo ao SENHOR teu Deus. Não cozerás o cabrito com leite d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darás os dízimos de todo o fruto da tua semente, que cada ano se recolher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rante o SENHOR teu Deus, no lugar que escolher para ali fazer habitar o seu nome, comerás os dízimos do teu grão, do teu mosto e do teu azeite, e os primogênitos das tuas vacas e das tuas ovelhas; para que aprendas a temer ao SENHOR teu Deus todos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caminho te for tão comprido que os não possas levar, por estar longe de ti o lugar que escolher o SENHOR teu Deus para ali pôr o seu nome, quando o SENHOR teu Deus te tiver abenço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nde-os, e ata o dinheiro na tua mão, e vai ao lugar que escolher o SENHOR teu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dinheiro darás por tudo o que deseja a tua alma, por vacas, e por ovelhas, e por vinho, e por bebida forte, e por tudo o que te pedir a tua alma; come-o ali perante o SENHOR teu Deus, e alegra-te, tu e a t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desampararás o levita que está dentro das tuas portas; pois não tem parte nem heranç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fim de três anos tirarás todos os dízimos da tua colheita no mesmo ano, e os recolherás dentro das tuas por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á o levita (pois nem parte nem herança tem contigo), e o estrangeiro, e o órfão, e a viúva, que estão dentro das tuas portas, e comerão, e fartar-se-ão; para que o SENHOR teu Deus te abençoe em toda a obra que as tuas mãos fiz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a coisa abominável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animais que comereis: o boi, a ovelha, e a ca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eado e a corça, e o búfalo, e a cabra montês, e o texugo, e a camurça, e o ga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animal que tem unhas fendidas, divididas em duas, que rumina, entre os animais, aquilo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es não comereis, dos que somente ruminam, ou que têm a unha fendida: o camelo, e a lebre, e o coelho, porque ruminam mas não têm a unha fendida; imundos vos s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o porco, porque tem unha fendida, mas não rumina; imundo vos será; não comereis da carne destes, e não tocareis nos seus cadáv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comereis de tudo o que há nas águas; tudo o que tem barbatanas e escamas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59Z</dcterms:created>
  <dc:creator>Admin</dc:creator>
  <dc:description/>
  <dc:language>en-US</dc:language>
  <cp:lastModifiedBy>Admin</cp:lastModifiedBy>
  <dcterms:modified xsi:type="dcterms:W3CDTF">2008-07-30T23:27:59Z</dcterms:modified>
  <cp:revision>1</cp:revision>
  <dc:subject/>
  <dc:title>Slide 1</dc:title>
</cp:coreProperties>
</file>