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15C9-66A0-4D36-9E4D-A400E0C11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985B-DD9F-4B1F-B71F-075D4D18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7A22-26AA-4307-80E4-412A70567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75DE-1BCB-4CAD-8D51-E1B7ADEDF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61E5-4C91-4B19-B641-96AE2BC8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DCDB-37FA-434D-A883-A5B37835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FAAF-3572-4172-9FCE-EFE0A949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ED05-A89B-403F-B0EF-B8396400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5208-54BE-4894-88AF-28D5D6E4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0075-4636-4914-8E81-57E83DBF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0710-BAF9-488D-A7D2-C3B2ECA3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E524-24B1-4C01-BBE3-7482F233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EC48-0CA0-4C0C-9C81-22BE43ED635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chamou Jacó a seus filhos, e disse: Ajuntai-vos, e anunciar-vos-ei o que vos há de acontecer nos dias vindour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cetro não se arredará de Judá, nem o legislador dentre seus pés, até que venha Siló; e a ele se congregarão os po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amarrará o seu jumentinho à vide, e o filho da sua jumenta à cepa mais excelente; ele lavará a sua roupa no vinho, e a sua capa em sangue de uv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olhos serão vermelhos de vinho, e os dentes brancos de le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Zebulom habitará no porto dos mares, e será como porto dos navios, e o seu termo será para Sid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ssacar é jumento de fortes ossos, deitado entre dois far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u ele que o descanso era bom, e que a terra era deliciosa e abaixou seu ombro para acarretar, e serviu debaixo de tribu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ã julgará o seu povo, como uma das trib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ã será serpente junto ao caminho, uma víbora junto à vereda, que morde os calcanhares do cavalo, e faz cair o seu cavaleiro por det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ua salvação espero, ó SENHOR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 Gade, uma tropa o acometerá; mas ele a acometerá por f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juntai-vos, e ouvi, filhos de Jacó; e ouvi a Israel vosso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Aser, o seu pão será gordo, e ele dará delícias re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ftali é uma gazela solta; ele dá palavras formo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osé é um ramo frutífero, ramo frutífero junto à fonte; seus ramos correm sobre o m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lecheiros lhe deram amargura, e o flecharam e odi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u arco, porém, susteve-se no forte, e os braços de suas mãos foram fortalecidos pelas mãos do Valente de Jacó (de onde é o pastor e a pedra de Israel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9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o Deus de teu pai, o qual te ajudará, e pelo Todo-Poderoso, o qual te abençoará com bênçãos dos altos céus, com bênçãos do abismo que está embaixo, com bênçãos dos seios e da mad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9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bênçãos de teu pai excederão as bênçãos de meus pais, até à extremidade dos outeiros eternos; elas estarão sobre a cabeça de José, e sobre o alto da cabeça do que foi separado de seus ir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9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njamim é lobo que despedaça; pela manhã comerá a presa, e à tarde repartirá o despoj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9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s estas são as doze tribos de Israel; e isto é o que lhes falou seu pai quando os abençoou; a cada um deles abençoou segundo a sua bên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9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ordenou-lhes, e disse-lhes: Eu me congrego ao meu povo; sepultai-me com meus pais, na cova que está no campo de Efrom, o heteu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úben, tu és meu primogênito, minha força e o princípio de meu vigor, o mais excelente em alteza e o mais excelente em pod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9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cova que está no campo de Macpela, que está em frente de Manre, na terra de Canaã, a qual Abraão comprou com aquele campo de Efrom, o heteu, por herança de sepult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9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i sepultaram a Abraão e a Sara sua mulher; ali sepultaram a Isaque e a Rebeca sua mulher; e ali eu sepultei a L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9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campo e a cova que está nele, foram comprados aos filhos de He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9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cabando, pois, Jacó de dar instruções a seus filhos, encolheu os pés na cama, e expirou, e foi congregado ao s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mpetuoso como a água, não serás o mais excelente, porquanto subiste ao leito de teu pai. Então o contaminaste; subiu à minha ca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imeão e Levi são irmãos; as suas espadas são instrumentos de violê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seu secreto conselho não entre minha alma, com a sua congregação minha glória não se ajunte; porque no seu furor mataram homens, e na sua teima arrebataram bo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ldito seja o seu furor, pois era forte, e a sua ira, pois era dura; eu os dividirei em Jacó, e os espalharei em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udá, a ti te louvarão os teus irmãos; a tua mão será sobre o pescoço de teus inimigos; os filhos de teu pai a ti se inclin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udá é um leãozinho, da presa subiste, filho meu; encurva-se, e deita-se como um leão, e como um leão velho; quem o despertará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0:19Z</dcterms:created>
  <dc:creator>Admin</dc:creator>
  <dc:description/>
  <dc:language>en-US</dc:language>
  <cp:lastModifiedBy>Admin</cp:lastModifiedBy>
  <dcterms:modified xsi:type="dcterms:W3CDTF">2008-07-30T23:40:19Z</dcterms:modified>
  <cp:revision>1</cp:revision>
  <dc:subject/>
  <dc:title>Slide 1</dc:title>
</cp:coreProperties>
</file>