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7B7-05DA-470B-B9BD-B9183E84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2863-AAA3-4CF0-8D69-AF711587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B425-CCD3-499C-A2A1-9DF8FCEE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299-0245-46C4-9458-410CB474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3BA3-3118-4E74-8183-C35B2253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8E8-C4EF-411E-B227-0C0C6602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F78-2418-486A-B348-2AB3FDC0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07D-67D2-461E-8037-1DCCEC1B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0CDC-E881-4E44-B508-A4D9A0DF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5EDB-63AA-4846-9B90-FB475DC4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BD0C-DFAD-40DF-88CE-A8B14820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016-6268-4FFA-871B-5B84BA4A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959E-808C-434D-B039-7361532E5F5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I ao SENHOR, ó filhos dos poderosos, dai ao SENHOR glória e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se assentou sobre o dilúvio; o SENHOR se assenta como Rei, perpetu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dará força ao seu povo; o SENHOR abençoará o seu povo com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i ao SENHOR a glória devida ao seu nome, adorai o SENHOR na beleza da sant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oz do SENHOR ouve-se sobre as suas águas; o Deus da glória troveja; o SENHOR está sobre as muita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oz do SENHOR é poderosa; a voz do SENHOR é cheia de majest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oz do SENHOR quebra os cedros; sim, o SENHOR quebra os cedros do Líb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os faz saltar como um bezerro; ao Líbano e Siriom, como filhotes de bois selvag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oz do SENHOR separa as labaredas do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oz do SENHOR faz tremer o deserto; o SENHOR faz tremer o deserto de C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oz do SENHOR faz parir as cervas, e descobre as brenhas; e no seu templo cada um fala da su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49Z</dcterms:created>
  <dc:creator>Admin</dc:creator>
  <dc:description/>
  <dc:language>en-US</dc:language>
  <cp:lastModifiedBy>Admin</cp:lastModifiedBy>
  <dcterms:modified xsi:type="dcterms:W3CDTF">2008-07-31T00:24:49Z</dcterms:modified>
  <cp:revision>1</cp:revision>
  <dc:subject/>
  <dc:title>Slide 1</dc:title>
</cp:coreProperties>
</file>