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3CF-1E9A-4984-8B67-84F6E371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299-8290-4DDA-A761-4336B5D3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535-AC4B-4813-A6C7-D10C4B0F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83F-7471-4E85-8664-3ABE2C1A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C16-9746-4D16-893F-8EB33D2D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380-CBAD-4843-8C20-FD6783B8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244-B0AE-4581-AD52-8B31D4BD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6F8-41F8-4F6F-92F1-5C8C6CB8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982-0933-461F-B63E-DA4D258D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357-295B-457E-A00D-1C8A177B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1B6-8C6C-4FDB-9901-84803855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818-6BC0-4FD1-9491-1025EF8B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31FD-CA19-4F7C-92CD-2F4110CC9F3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-VOS dito estas coisas para que vos não escandaliz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justiça, porque vou para meu Pai, e não me vereis m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juízo, porque já o príncipe deste mundo está jul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tenho muito que vos dizer, mas vós não o podeis suportar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vier aquele, o Espírito de verdade, ele vos guiará em toda a verdade; porque não falará de si mesmo, mas dirá tudo o que tiver ouvido, e vos anunciará o que há de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me glorificará, porque há de receber do que é meu, e vo-lo há de anunci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quanto o Pai tem é meu; por isso vos disse que há de receber do que é meu e vo-lo há de anunci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pouco, e não me vereis; e outra vez um pouco, e ver-me-eis; porquanto vou para 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lguns dos seus discípulos disseram uns aos outros: Que é isto que nos diz? Um pouco, e não me vereis; e outra vez um pouco, e ver-me-eis; e: Porquanto vou para o Pa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m, pois: Que quer dizer isto: Um pouco? Não sabemos o que d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ceu, pois, Jesus que o queriam interrogar, e disse-lhes: Indagais entre vós acerca disto que disse: Um pouco, e não me vereis, e outra vez um pouco, e ver-me-e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pulsar-vos-ão das sinagogas; vem mesmo a hora em que qualquer que vos matar cuidará fazer um serviç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vos digo que vós chorareis e vos lamentareis, e o mundo se alegrará, e vós estareis tristes, mas a vossa tristeza se converterá em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, quando está para dar à luz, sente tristeza, porque é chegada a sua hora; mas, depois de ter dado à luz a criança, já não se lembra da aflição, pelo prazer de haver nascido um homem n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ós agora, na verdade, tendes tristeza; mas outra vez vos verei, e o vosso coração se alegrará, e a vossa alegria ninguém vo-la ti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 nada me perguntareis. Na verdade, na verdade vos digo que tudo quanto pedirdes a meu Pai, em meu nome, ele vo-lo há de 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gora nada pedistes em meu nome; pedi, e recebereis, para que o vosso gozo se cump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vos isto por parábolas; chega, porém, a hora em que não vos falarei mais por parábolas, mas abertamente vos falarei acerca d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pedireis em meu nome, e não vos digo que eu rogarei por vós ao P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mesmo Pai vos ama, visto como vós me amastes, e crestes que saí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í do Pai, e vim ao mundo; outra vez deixo o mundo, e vou para 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 os seus discípulos: Eis que agora falas abertamente, e não dizes parábol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vos farão, porque não conheceram ao Pai nem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conhecemos que sabes tudo, e não precisas de que alguém te interrogue. Por isso cremos que saís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s Jesus: Credes ago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chega a hora, e já se aproxima, em que vós sereis dispersos cada um para sua parte, e me deixareis só; mas não estou só, porque o Pai está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-vos dito isto, para que em mim tenhais paz; no mundo tereis aflições, mas tende bom ânimo, eu venci 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enho-vos dito isto, a fim de que, quando chegar aquela hora, vos lembreis de que já vo-lo tinha dito. E eu não vos disse isto desde o princípio, porque estav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vou para aquele que me enviou; e nenhum de vós me pergunta: Para onde v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porque isto vos tenho dito, o vosso coração se encheu de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digo-vos a verdade, que vos convém que eu vá; porque, se eu não for, o Consolador não virá a vós; mas, quando eu for, vo-lo envi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ele vier, convencerá o mundo do pecado, e da justiça e d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pecado, porque não crêem em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09Z</dcterms:created>
  <dc:creator>Admin</dc:creator>
  <dc:description/>
  <dc:language>en-US</dc:language>
  <cp:lastModifiedBy>Admin</cp:lastModifiedBy>
  <dcterms:modified xsi:type="dcterms:W3CDTF">2008-07-31T00:04:09Z</dcterms:modified>
  <cp:revision>1</cp:revision>
  <dc:subject/>
  <dc:title>Slide 1</dc:title>
</cp:coreProperties>
</file>