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E48-7E93-4105-BA33-C5019665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F9A-D409-407C-B8D4-0E8D0F72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3D7-EF65-420A-8E84-646F6D41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1C6-7B15-41AC-BE0A-9E3E93FB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34C-91CC-48B4-9F4A-1DD9E1C7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2D0-B1E6-4610-A436-4BFA9A1A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D0B-14CC-4E72-9C3A-BCE7E37A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F94-DCDB-4EB9-A823-DDA86054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5DB-D231-42AE-BB4D-C00002B0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BE4-809E-4ED9-9891-1F4F036A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4AF-517A-48A7-AE9E-85854BCB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5D3-0D68-4C00-AB58-F162FCF2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A6B3-CF30-4BEB-A611-15426B3589A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apareceu-lhe o SENHOR nos carvalhais de Manre, estando ele assentado à porta da tenda, no calor do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Certamente tornarei a ti por este tempo da vida; e eis que Sara tua mulher terá um filho. E Sara escutava à porta da tenda, que estava atrá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m Abraão e Sara já velhos, e adiantados em idade; já a Sara havia cessado o costume das mulh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is, riu-se Sara consigo, dizendo: Terei ainda deleite depois de haver envelhecido, sendo também o meu senhor já vel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Abraão: Por que se riu Sara, dizendo: Na verdade darei eu à luz ainda, havendo já envelheci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ria coisa alguma difícil ao SENHOR? Ao tempo determinado tornarei a ti por este tempo da vida, e Sara terá um fi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ra negou, dizendo: Não me ri; porquanto temeu. E ele disse: Não digas isso, porque te ri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aram-se aqueles homens dali, e olharam para o lado de Sodoma; e Abraão ia com eles, acompanhando-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: Ocultarei eu a Abraão o que faç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sto que Abraão certamente virá a ser uma grande e poderosa nação, e nele serão benditas todas as nações d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o tenho conhecido, e sei que ele há de ordenar a seus filhos e à sua casa depois dele, para que guardem o caminho do SENHOR, para agir com justiça e juízo; para que o SENHOR faça vir sobre Abraão o que acerca dele tem fa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 os seus olhos, e olhou, e eis três homens em pé junto a ele. E vendo-os, correu da porta da tenda ao seu encontro e inclinou-se à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o SENHOR: Porquanto o clamor de Sodoma e Gomorra se tem multiplicado, e porquanto o seu pecado se tem agravado mui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cerei agora, e verei se com efeito têm praticado segundo o seu clamor, que é vindo até mim; e se não, sabê-lo-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iraram aqueles homens os rostos dali, e foram-se para Sodoma; mas Abraão ficou ainda em pé diante da fac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egou-se Abraão, dizendo: Destruirás também o justo com o ímpi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porventura houver cinqüenta justos na cidade, destruirás também, e não pouparás o lugar por causa dos cinqüenta justos que estão dentro del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nge de ti que faças tal coisa, que mates o justo com o ímpio; que o justo seja como o ímpio, longe de ti. Não faria justiça o Juiz de toda 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: Se eu em Sodoma achar cinqüenta justos dentro da cidade, pouparei a todo o lugar por amor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Abraão dizendo: Eis que agora me atrevi a falar ao Senhor, ainda que sou pó e cin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porventura de cinqüenta justos faltarem cinco, destruirás por aqueles cinco toda a cidade? E disse: Não a destruirei, se eu achar ali quarenta e ci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tinuou ainda a falar-lhe, e disse: Se porventura se acharem ali quarenta? E disse: Não o farei por amor dos quar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Meu Senhor, se agora tenho achado graça aos teus olhos, rogo-te que não passes de teu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: Ora, não se ire o Senhor, se eu ainda falar: Se porventura se acharem ali trinta? E disse: Não o farei se achar ali tri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Eis que agora me atrevi a falar ao Senhor: Se porventura se acharem ali vinte? E disse: Não a destruirei por amor dos vi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: Ora, não se ire o Senhor, que ainda só mais esta vez falo: Se porventura se acharem ali dez? E disse: Não a destruirei por amor dos d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3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tirou-se o SENHOR, quando acabou de falar a Abraão; e Abraão tornou-se ao seu lu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se traga já um pouco de água, e lavai os vossos pés, e recostai-vos debaixo desta árvor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rei um bocado de pão, para que esforceis o vosso coração; depois passareis adiante, porquanto por isso chegastes até vosso servo. E disseram: Assim faze como disse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raão apressou-se em ir ter com Sara à tenda, e disse-lhe: Amassa depressa três medidas de flor de farinha, e faze bo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rreu Abraão às vacas, e tomou uma vitela tenra e boa, e deu-a ao moço, que se apressou em prepará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manteiga e leite, e a vitela que tinha preparado, e pôs tudo diante deles, e ele estava em pé junto a eles debaixo da árvore; e com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-lhe: Onde está Sara, tua mulher? E ele disse: Ei-la aí n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8:05Z</dcterms:created>
  <dc:creator>Admin</dc:creator>
  <dc:description/>
  <dc:language>en-US</dc:language>
  <cp:lastModifiedBy>Admin</cp:lastModifiedBy>
  <dcterms:modified xsi:type="dcterms:W3CDTF">2008-07-30T23:38:05Z</dcterms:modified>
  <cp:revision>1</cp:revision>
  <dc:subject/>
  <dc:title>Slide 1</dc:title>
</cp:coreProperties>
</file>