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B68-8E97-4739-9634-536237C1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73C-8715-4B29-B6AB-030720D6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BC3-9B56-42D2-81F8-389BD95F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A6C-04E2-4859-AA40-2C015055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3CF-1E87-456D-8EB3-807FB06C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505-5991-4555-BDDB-F515C25E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2E4-965E-4F9A-97F2-F11809D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BBC-46A3-4877-924B-E53B2F9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C0C-3B20-47EF-81F7-AC5F549C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1D9-7E3A-4373-8041-6C1828F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6A5-2BC5-447B-91F7-746CA49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622-8862-4914-A874-8F66335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D4D2-3A9B-4EB7-9D2C-63C61944B1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heio do Espírito Santo, voltou do Jordão e foi levado pelo Espírito a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escrito: Mandará aos seus anjos, acerca de ti, que te guard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te sustenham nas mãos, Para que nunca tropeces com o teu pé em alguma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: Dito está: Não tentarás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o diabo toda a tentação, ausentou-se dele por algum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pela virtude do Espírito, voltou Jesus para a Galiléia, e a sua fama correu por todas as terras em der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sinava nas suas sinagogas, e por todos era louv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Nazaré, onde fora criado, entrou num dia de sábado, segundo o seu costume, na sinagoga, e levantou-se para l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ado o livro do profeta Isaías; e, quando abriu o livro, achou o lugar em que estava escri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o Senhor é sobre mim, Pois que me ungiu para evangelizar os pobres. Enviou-me a curar os quebrantados do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regar liberdade aos cativos, E restauração da vista aos cegos, A pôr em liberdade os oprimidos, A anunciar o ano aceitável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renta dias foi tentado pelo diabo, e naqueles dias não comeu coisa alguma; e, terminados eles, teve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errando o livro, e tornando-o a dar ao ministro, assentou-se; e os olhos de todos na sinagoga estavam fito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çou a dizer-lhes: Hoje se cumpriu esta Escritura em vosso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lhe davam testemunho, e se maravilhavam das palavras de graça que saíam da sua boca; e diziam: Não é este o filho de Jos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Sem dúvida me direis este provérbio: Médico, cura-te a ti mesmo; faze também aqui na tua pátria tudo que ouvimos ter sido feito em Cafarna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m verdade vos digo que nenhum profeta é bem recebido na sua pá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muitas viúvas existiam em Israel nos dias de Elias, quando o céu se cerrou por três anos e seis meses, de sorte que em toda a terra houve grande f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nenhuma delas foi enviado Elias, senão a Sarepta de Sidom, a uma mulher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leprosos havia em Israel no tempo do profeta Eliseu, e nenhum deles foi purificado, senão Naamã, o sí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, na sinagoga, ouvindo estas coisas, se encheram de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, o expulsaram da cidade, e o levaram até ao cume do monte em que a cidade deles estava edificada, para dali o precipi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diabo: Se tu és o Filho de Deus, dize a esta pedra que se transforme em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passando pelo meio deles, reti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a Cafarnaum, cidade da Galiléia, e os ensinava no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miravam a sua doutrina porque a sua palavra era com autor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na sinagoga um homem que tinha o espírito de um demônio imundo, e exclamou em alt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Ah! que temos nós contigo, Jesus Nazareno? Vieste a destruir-nos? Bem sei quem és: O Sa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o repreendeu, dizendo: Cala-te, e sai dele. E o demônio, lançando-o por terra no meio do povo, saiu dele sem lhe fazer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espanto sobre todos, e falavam uns com os outros, dizendo: Que palavra é esta, que até aos espíritos imundos manda com autoridade e poder, e eles sa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fama divulgava-se por todos os lugares, em redor daquela com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levantando-se Jesus da sinagoga, entrou em casa de Simão; e a sogra de Simão estava enferma com muita febre, e rogaram-lhe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clinando-se para ela, repreendeu a febre, e esta a deixou. E ela, levantando-se logo, servia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 respondeu, dizendo: Está escrito que nem só de pão viverá o homem, mas de toda a palavr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pôr do sol, todos os que tinham enfermos de várias doenças lhos traziam; e, pondo as mãos sobre cada um deles, os cu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de muitos saíam demônios, clamando e dizendo: Tu és o Cristo, o Filho de Deus. E ele, repreendendo-os, não os deixava falar, pois sabiam que ele era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dia, saiu, e foi para um lugar deserto; e a multidão o procurava, e chegou junto dele; e o detinham, para que não se ausentass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Também é necessário que eu anuncie a outras cidades o evangelho do reino de Deus; porque para isso fui env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gava nas sinagogas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iabo, levando-o a um alto monte, mostrou-lhe num momento de tempo todos os reino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diabo: Dar-te-ei a ti todo este poder e a sua glória; porque a mim me foi entregue, e dou-o a quem qu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tu me adorares, tudo será 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: Vai-te para trás de mim, Satanás; porque está escrito: Adorarás o Senhor teu Deus, e só a ele serv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ou-o também a Jerusalém, e pô-lo sobre o pináculo do templo, e disse-lhe: Se tu és o Filho de Deus, lança-te daqui abaix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27Z</dcterms:created>
  <dc:creator>Admin</dc:creator>
  <dc:description/>
  <dc:language>en-US</dc:language>
  <cp:lastModifiedBy>Admin</cp:lastModifiedBy>
  <dcterms:modified xsi:type="dcterms:W3CDTF">2008-07-31T00:10:27Z</dcterms:modified>
  <cp:revision>1</cp:revision>
  <dc:subject/>
  <dc:title>Slide 1</dc:title>
</cp:coreProperties>
</file>