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EF8-842B-4613-8955-83DA6EA9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4D15-39BF-4B53-A855-6B9B3F51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40C-ECC4-4A6D-B566-5F88EB34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6039-F7AB-4566-8A83-63EEE826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744-B7FA-48E3-A47A-017DF572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B85-4F61-40C9-8BD9-EC65E592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C0A-ED4A-4BF2-9833-2846C136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269E-47EF-499A-A807-80EF4F97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3E6-46AD-4708-AEF1-D3B23E7D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79B-B2D8-4090-9464-21D76374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11E-5447-43FF-9741-BAC0A695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F66-BB04-40B1-92A6-EB47BCF0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2119-A688-48E2-9C2B-F3169439B09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INSENSATOS gálatas! quem vos fascinou para não obedecerdes à verdade, a vós, perante os olhos de quem Jesus Cristo foi evidenciado, crucificado, entre vó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aqueles, pois, que são das obras da lei estão debaixo da maldição; porque está escrito: Maldito todo aquele que não permanecer em todas as coisas que estão escritas no livro da lei, para fazê-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é evidente que pela lei ninguém será justificado diante de Deus, porque o justo viverá da 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a lei não é da fé; mas o homem, que fizer estas coisas, por elas viv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risto nos resgatou da maldição da lei, fazendo-se maldição por nós; porque está escrito: Maldito todo aquele que for pendurado no madei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a bênção de Abraão chegasse aos gentios por Jesus Cristo, e para que pela fé nós recebamos a promessa do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mãos, como homem falo; se a aliança de um homem for confirmada, ninguém a anula nem a acresc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as promessas foram feitas a Abraão e à sua descendência. Não diz: E às descendências, como falando de muitas, mas como de uma só: E à tua descendência, que é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igo isto: Que tendo sido a aliança anteriormente confirmada por Deus em Cristo, a lei, que veio quatrocentos e trinta anos depois, não a invalida, de forma a abolir a prome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a herança provém da lei, já não provém da promessa; mas Deus pela promessa a deu gratuitamente a Abra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go, para que é a lei? Foi ordenada por causa das transgressões, até que viesse a posteridade a quem a promessa tinha sido feita; e foi posta pelos anjos na mão de um median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ó quisera saber isto de vós: recebestes o Espírito pelas obras da lei ou pela pregação da fé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medianeiro não o é de um só, mas Deus é 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ogo, a lei é contra as promessas de Deus? De nenhuma sorte; porque, se fosse dada uma lei que pudesse vivificar, a justiça, na verdade, teria sido pel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Escritura encerrou tudo debaixo do pecado, para que a promessa pela fé em Jesus Cristo fosse dada aos cr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antes que a fé viesse, estávamos guardados debaixo da lei, e encerrados para aquela fé que se havia de manifes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 a lei nos serviu de aio, para nos conduzir a Cristo, para que pela fé fôssemos justifi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depois que veio a fé, já não estamos debaixo de a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sois filhos de Deus pela fé em Cristo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quantos fostes batizados em Cristo já vos revestistes de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sto não há judeu nem grego; não há servo nem livre; não há macho nem fêmea; porque todos vós sois um em Cristo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sois de Cristo, então sois descendência de Abraão, e herdeiros conforme a prome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is vós tão insensatos que, tendo começado pelo Espírito, acabeis agora pela carn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rá em vão que tenhais padecido tanto? Se é que isso também foi em v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, pois, que vos dá o Espírito, e que opera maravilhas entre vós, fá-lo pelas obras da lei, ou pela pregação da fé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mo Abraão creu em Deus, e isso lhe foi imputado como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i, pois, que os que são da fé são filhos de Abra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tendo a Escritura previsto que Deus havia de justificar pela fé os gentios, anunciou primeiro o evangelho a Abraão, dizendo: Todas as nações serão benditas em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 os que são da fé são benditos com o crente Abra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6:56Z</dcterms:created>
  <dc:creator>Admin</dc:creator>
  <dc:description/>
  <dc:language>en-US</dc:language>
  <cp:lastModifiedBy>Admin</cp:lastModifiedBy>
  <dcterms:modified xsi:type="dcterms:W3CDTF">2008-07-30T23:36:56Z</dcterms:modified>
  <cp:revision>1</cp:revision>
  <dc:subject/>
  <dc:title>Slide 1</dc:title>
</cp:coreProperties>
</file>