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DFD-4B70-4D08-AD97-4A75C2CC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7D2-D639-4582-987C-C9B8406E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7B2-0ECC-474C-8142-4BECCD63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465-110C-4DDD-B5FD-701997B8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F4A-E2C3-4652-9E5E-93A5B317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8B1-F8D0-4F60-A9F8-22E9C0A6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168-F0E5-404E-BA3B-56FDC208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616-3EBE-4CBC-AE52-527C8B33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30F-1220-4C16-B97D-68C0604A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4D9-DEA7-4493-837E-8D5889DD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B07-1C73-4A66-A1AC-137A3E7D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C9D-0280-4C5E-A47A-5535AD82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D5E4-6D32-4A9A-98AA-60900022AFF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descer do céu um anjo, que tinha a chave do abismo, e uma grande cadeia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diabo, que os enganava, foi lançado no lago de fogo e enxofre, onde está a besta e o falso profeta; e de dia e de noite serão atormentados para todo o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um grande trono branco, e o que estava assentado sobre ele, de cuja presença fugiu a terra e o céu; e não se achou lugar pa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os mortos, grandes e pequenos, que estavam diante de Deus, e abriram-se os livros; e abriu-se outro livro, que é o da vida. E os mortos foram julgados pelas coisas que estavam escritas nos livros, segundo 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o mar os mortos que nele havia; e a morte e o inferno deram os mortos que neles havia; e foram julgados cada um segundo 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orte e o inferno foram lançados no lago de fogo. Esta é a segun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não foi achado escrito no livro da vida foi lançado no lago de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prendeu o dragão, a antiga serpente, que é o Diabo e Satanás, e amarrou-o por mil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ou-o no abismo, e ali o encerrou, e pôs selo sobre ele, para que não mais engane as nações, até que os mil anos se acabem. E depois importa que seja solto por um pouco de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tronos; e assentaram-se sobre eles, e foi-lhes dado o poder de julgar; e vi as almas daqueles que foram degolados pelo testemunho de Jesus, e pela palavra de Deus, e que não adoraram a besta, nem a sua imagem, e não receberam o sinal em suas test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outros mortos não reviveram, até que os mil anos se acabaram. Esta é a primeira ressurre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e santo aquele que tem parte na primeira ressurreição; sobre estes não tem poder a segunda morte; mas serão sacerdotes de Deus e de Cristo, e reinarão com ele mil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abando-se os mil anos, Satanás será solto da sua pris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rá a enganar as nações que estão sobre os quatro cantos da terra, Gogue e Magogue, cujo número é como a areia do mar, para as ajuntar em bat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ram sobre a largura da terra, e cercaram o arraial dos santos e a cidade amada; e de Deus desceu fogo, do céu, e os dev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54Z</dcterms:created>
  <dc:creator>Admin</dc:creator>
  <dc:description/>
  <dc:language>en-US</dc:language>
  <cp:lastModifiedBy>Admin</cp:lastModifiedBy>
  <dcterms:modified xsi:type="dcterms:W3CDTF">2008-07-30T23:22:54Z</dcterms:modified>
  <cp:revision>1</cp:revision>
  <dc:subject/>
  <dc:title>Slide 1</dc:title>
</cp:coreProperties>
</file>