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9DE-8B2E-43EF-AF00-B0BB7947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5E65-C54F-4A10-8651-7602F90B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9C4-2980-4E6E-9D4A-58B34D03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D9D-D15B-4188-9E8B-87C37CB1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15A-7FAC-4462-90AB-C50E9471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B3E-22DF-443C-86E4-B8AD9AC3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2E9-066A-404B-8674-2FA59872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F0B-9A27-4D5F-B4F8-3B81213A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424-63C3-45C1-84A2-ECF2B513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12C-234C-4928-BB0F-598EAD14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F7B-AF5E-4159-A4FB-71BDEB0F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1FB-5F3B-43C2-96CB-B033D670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20EC-3DB3-420D-96D6-74EB450E232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o Senhor entendeu que os fariseus tinham ouvido que Jesus fazia e batizava mais discípulos do que Jo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respondeu, e disse-lhe: Se tu conheceras o dom de Deus, e quem é o que te diz: Dá-me de beber, tu lhe pedirias, e ele te daria água vi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a mulher: Senhor, tu não tens com que a tirar, e o poço é fundo; onde, pois, tens a água viv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s tu maior do que o nosso pai Jacó, que nos deu o poço, bebendo ele próprio dele, e os seus filhos, e o seu g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respondeu, e disse-lhe: Qualquer que beber desta água tornará a ter se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quele que beber da água que eu lhe der nunca terá sede, porque a água que eu lhe der se fará nele uma fonte de água que salte para a vid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a mulher: SENHOR, dá-me dessa água, para que não mais tenha sede, e não venha aqui tirá-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Jesus: Vai, chama o teu marido, e vem c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ulher respondeu, e disse: Não tenho marido. Disse-lhe Jesus: Disseste bem: Não tenho mari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iveste cinco maridos, e o que agora tens não é teu marido; isto disseste com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a mulher: Senhor, vejo que és prof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Ainda que Jesus mesmo não batizava, mas os seus discípulos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sos pais adoraram neste monte, e vós dizeis que é em Jerusalém o lugar onde se deve ado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Jesus: Mulher, crê-me que a hora vem, em que nem neste monte nem em Jerusalém adorareis o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adorais o que não sabeis; nós adoramos o que sabemos porque a salvação vem dos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hora vem, e agora é, em que os verdadeiros adoradores adorarão o Pai em espírito e em verdade; porque o Pai procura a tais que assim o ado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é Espírito, e importa que os que o adoram o adorem em espírito e em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ulher disse-lhe: Eu sei que o Messias (que se chama o Cristo) vem; quando ele vier, nos anunciará t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disse-lhe: Eu o sou, eu que falo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isto vieram os seus discípulos, e maravilharam-se de que estivesse falando com uma mulher; todavia nenhum lhe disse: Que perguntas? ou: Por que falas com el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ou, pois, a mulher o seu cântaro, e foi à cidade, e disse àqueles homen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e, vede um homem que me disse tudo quanto tenho feito. Porventura não é este o Cri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ou a Judéia, e foi outra vez para a Galil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íram, pois, da cidade, e foram ter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etanto os seus discípulos lhe rogaram, dizendo: Rabi, c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lhes disse: Uma comida tenho para comer, que vós não conhec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discípulos diziam uns aos outros: Trouxe-lhe, porventura, alguém algo de com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disse-lhes: A minha comida é fazer a vontade daquele que me enviou, e realizar a su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izeis vós que ainda há quatro meses até que venha a ceifa? Eis que eu vos digo: Levantai os vossos olhos, e vede as terras, que já estão brancas para a ceif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ceifa recebe galardão, e ajunta fruto para a vida eterna; para que, assim o que semeia como o que ceifa, ambos se regozij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isto é verdadeiro o ditado, que um é o que semeia, e outro o que ceif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vos enviei a ceifar onde vós não trabalhastes; outros trabalharam, e vós entrastes no seu traba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os dos samaritanos daquela cidade creram nele, pela palavra da mulher, que testificou: Disse-me tudo quanto tenho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-lhe necessário passar por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do, pois, ter com ele os samaritanos, rogaram-lhe que ficasse com eles; e ficou ali doi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os mais creram nele, por causa da s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m à mulher: Já não é pelo teu dito que nós cremos; porque nós mesmos o temos ouvido, e sabemos que este é verdadeiramente o Cristo, o Salvador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is dias depois partiu dali, e foi para a Galil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esus mesmo testificou que um profeta não tem honra na sua própria pát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ndo, pois, à Galiléia, os galileus o receberam, vistas todas as coisas que fizera em Jerusalém, no dia da festa; porque também eles tinham ido à fe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nda vez foi Jesus a Caná da Galiléia, onde da água fizera vinho. E havia ali um nobre, cujo filho estava enfermo em Cafarna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 este que Jesus vinha da Judéia para a Galiléia, foi ter com ele, e rogou-lhe que descesse, e curasse o seu filho, porque já estava à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sus lhe disse: Se não virdes sinais e milagres, não cr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o nobre: Senhor, desce, antes que meu filho m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, pois, a uma cidade de Samaria, chamada Sicar, junto da herdade que Jacó tinha dado a seu filho Jos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Jesus: Vai, o teu filho vive. E o homem creu na palavra que Jesus lhe disse, e part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cendo ele logo, saíram-lhe ao encontro os seus servos, e lhe anunciaram, dizendo: O teu filho vi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guntou-lhes, pois, a que hora se achara melhor. E disseram-lhe: Ontem às sete horas a febre o deix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endeu, pois, o pai que era aquela hora a mesma em que Jesus lhe disse: O teu filho vive; e creu ele, e toda 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fez este segundo milagre, quando ia da Judéia para a Galil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 ali a fonte de Jacó. Jesus, pois, cansado do caminho, assentou-se assim junto da fonte. Era isto quase à hora sex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 uma mulher de Samaria tirar água. Disse-lhe Jesus: Dá-me de be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seus discípulos tinham ido à cidade comprar com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, pois, a mulher samaritana: Como, sendo tu judeu, me pedes de beber a mim, que sou mulher samaritana? (porque os judeus não se comunicam com os samaritanos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2:55Z</dcterms:created>
  <dc:creator>Admin</dc:creator>
  <dc:description/>
  <dc:language>en-US</dc:language>
  <cp:lastModifiedBy>Admin</cp:lastModifiedBy>
  <dcterms:modified xsi:type="dcterms:W3CDTF">2008-07-31T00:02:55Z</dcterms:modified>
  <cp:revision>1</cp:revision>
  <dc:subject/>
  <dc:title>Slide 1</dc:title>
</cp:coreProperties>
</file>