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BC06-37F8-4E46-B1D5-9BDE5274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41A5-4D02-4CE4-9CBA-C23503C6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C88C-F0DC-4D00-89BA-5116B6F4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5510-EC88-4A7B-9DCF-531177BAC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04BD-EFAE-48A8-AC91-5C3686DD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0C52-2422-47A4-85E5-60844CFF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2283-ABA1-474B-8B77-CC2FDE5E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1B3E-6399-4D90-8533-2E15E7DF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3459-E01B-407E-9A44-D65DC8BB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7004-7AAA-469C-BAF1-9BF0F8ED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0C60-E1B3-46F6-B7A2-BCEBEB5B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151D-387B-4824-A17C-1F70E9DE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F6E4-2A6F-40FB-A1E8-A179BB0E40F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TO é o que lhes hás de fazer, para os santificar, para que me administrem o sacerdócio: Toma um novilho e dois carneiros sem mácul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ás chegar o novilho diante da tenda da congregação, e Arão e seus filhos porão as suas mãos sobre a cabeça do novilh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molarás o novilho perante o SENHOR, à porta da tenda d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tomarás do sangue do novilho, e o porás com o teu dedo sobre as pontas do altar, e todo o sangue restante derramarás à base do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omarás toda a gordura que cobre as entranhas, e o redenho de sobre o fígado, e ambos os rins, e a gordura que houver neles, e queimá-los-ás sobre o alt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carne do novilho, e a sua pele, e o seu esterco queimarás com fogo fora do arraial; é sacrifício pelo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tomarás um carneiro, e Arão e seus filhos porão as suas mãos sobre a cabeça do carneir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molarás o carneiro, e tomarás o seu sangue, e o espalharás sobre o altar ao red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ás o carneiro por suas partes, e lavarás as suas entranhas e as suas pernas, e as porás sobre as suas partes e sobre a su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queimarás todo o carneiro sobre o altar; é um holocausto para o SENHOR, cheiro suave; uma oferta queimada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tomarás o outro carneiro, e Arão e seus filhos porão as suas mãos sobre a sua cabeç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ão ázimo, e bolos ázimos, amassados com azeite, e coscorões ázimos, untados com azeite; com flor de farinha de trigo os fará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molarás o carneiro e tomarás do seu sangue, e o porás sobre a ponta da orelha direita de Arão, e sobre as pontas das orelhas direitas de seus filhos, como também sobre os dedos polegares das suas mãos direitas, e sobre os dedos polegares dos seus pé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marás do sangue, que estará sobre o altar, e do azeite da unção, e o espargirás sobre Arão e sobre as suas vestes, e sobre seus filhos, e sobre as vestes de seus filhos com ele; para que ele seja santificado, e as suas vestes, também seus filho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tomarás do carneiro a gordura, e a cauda, e a gordura que cobre as entranhas, e o redenho do fígado, e ambos os rins com a gordura que houver neles, e o ombro direito, porque é carneiro das consagraçõ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pão, e um bolo de pão azeitado, e um coscorão do cesto dos pães ázimos que estão diant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do porás nas mãos de Arão, e nas mãos de seus filhos; e com movimento oferecerás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o tomarás das suas mãos e o queimarás no altar sobre o holocausto por cheiro suave perante o SENHOR; é oferta queimada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rás o peito do carneiro das consagrações, que é de Arão, e com movimento oferecerás perante o SENHOR; e isto será a tua por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ntificarás o peito da oferta de movimento e o ombro da oferta alçada, que foi movido e alçado do carneiro das consagrações, que for de Arão e de seus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para Arão e para seus filhos por estatuto perpétuo dos filhos de Israel, porque é oferta alçada; e a oferta alçada será dos filhos de Israel, dos seus sacrifícios pacíficos; a sua oferta alçada será para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vestes sagradas, que são de Arão, serão de seus filhos depois dele, para serem ungidos com elas para serem consagrados com 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porás num cesto, e os trarás no cesto, com o novilho e os dois carn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te dias as vestirá aquele que de seus filhos for sacerdote em seu lugar, quando entrar na tenda da congregação para ministrar no santuá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rás o carneiro das consagrações e cozerás a sua carne no lugar san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rão e seus filhos comerão a carne deste carneiro, e o pão que está no cesto, à porta da tenda d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erão as coisas com que for feita expiação, para consagrá-los, e para santificá-los; mas o estranho delas não comerá, porque são san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sobejar alguma coisa da carne das consagrações ou do pão até pela manhã, o que sobejar queimarás com fogo; não se comerá, porque é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pois, farás a Arão e a seus filhos conforme a tudo o que eu te tenho ordenado; por sete dias os consagr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cada dia prepararás um novilho por sacrifício pelo pecado para as expiações, e purificarás o altar, fazendo expiação sobre ele; e o ungirás para santificá-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te dias farás expiação pelo altar, e o santificarás; e o altar será santíssimo; tudo o que tocar o altar será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to, pois, é o que oferecereis sobre o altar: dois cordeiros de um ano, cada dia, continu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cordeiro oferecerás pela manhã, e o outro cordeiro oferecerás à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rás chegar a Arão e a seus filhos à porta da tenda da congregação, e os lavarás com águ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um cordeiro a décima parte de flor de farinha, misturada com a quarta parte de um him de azeite batido, e para libação a quarta parte de um him de vinh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outro cordeiro oferecerás à tarde, e com ele farás como com a oferta da manhã, e conforme à sua libação, por cheiro suave; oferta queimada é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será o holocausto contínuo por vossas gerações, à porta da tenda da congregação, perante o SENHOR, onde vos encontrarei, para falar contigo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i virei aos filhos de Israel, para que por minha glória sejam santifi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ntificarei a tenda da congregação e o altar; também santificarei a Arão e seus filhos, para que me administrem o sacerdó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bitarei no meio dos filhos de Israel, e lhes serei o seu D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berão que eu sou o SENHOR seu Deus, que os tenho tirado da terra do Egito, para habitar no meio deles. Eu sou o SENHOR s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tomarás as vestes, e vestirás a Arão da túnica e do manto do éfode, e do éfode, e do peitoral; e o cingirás com o cinto de obra de artífice do éfo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itra porás sobre a sua cabeça; a coroa da santidade porás sobre a mit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rás o azeite da unção, e o derramarás sobre a sua cabeça; assim o ungi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farás chegar seus filhos, e lhes farás vestir túnic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cingirás com o cinto, a Arão e a seus filhos, e lhes atarás as tiaras, para que tenham o sacerdócio por estatuto perpétuo, e consagrarás a Arão e a seus filh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2:53Z</dcterms:created>
  <dc:creator>Admin</dc:creator>
  <dc:description/>
  <dc:language>en-US</dc:language>
  <cp:lastModifiedBy>Admin</cp:lastModifiedBy>
  <dcterms:modified xsi:type="dcterms:W3CDTF">2008-07-30T23:32:53Z</dcterms:modified>
  <cp:revision>1</cp:revision>
  <dc:subject/>
  <dc:title>Slide 1</dc:title>
</cp:coreProperties>
</file>