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179-45F6-42F1-8BEA-5F021EC0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7B8-F766-4274-8076-297F3127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495-EBC2-4B2D-9624-600AAF5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54C-1B18-48A9-BB90-0C7C0DBF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C7A-1E46-460B-9143-28B3DD49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40A-ADFF-4865-974D-610BE9D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FB1-8E3E-46D9-92A2-5B9509D1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930-6516-4E9E-BFDE-B9ECC6F4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5CD-B4B1-4984-A155-326AD3F9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F38-A65E-4B93-AF5E-DCDE4B3C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E4C-0303-41B5-965A-1AE7BBE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FDF-692D-4220-B97A-E1AC0E8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3546-1049-497C-8397-F41B1BC669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reino dos céus será semelhante a dez virgens que, tomando as suas lâmpadas, saíram ao encontro do esp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las ido comprá-lo, chegou o esposo, e as que estavam preparadas entraram com ele para as bodas, e fechou-se 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chegaram também as outras virgens, dizendo: SENHOR, Senhor, abre-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respondendo, disse: Em verdade vos digo que vos não conhe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, pois, porque não sabeis o dia nem a hora em que o Filho do homem há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to é também como um homem que, partindo para fora da terra, chamou os seus servos, e entregou-lhes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um deu cinco talentos, e a outro dois, e a outro um, a cada um segundo a sua capacidade, e ausentou-se logo para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ele partido, o que recebera cinco talentos negociou com eles, e granjeou outros cinco tal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esma sorte, o que recebera dois, granjeou também outros d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recebera um, foi e cavou na terra e escondeu o dinheiro do s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 tempo depois veio o senhor daqueles servos, e fez contas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inco delas eram prudentes, e cinco lou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proximou-se o que recebera cinco talentos, e trouxe-lhe outros cinco talentos, dizendo: Senhor, entregaste-me cinco talentos; eis aqui outros cinco talentos que granjeei com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senhor lhe disse: Bem está, servo bom e fiel. Sobre o pouco foste fiel, sobre muito te colocarei; entra no gozo do t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também o que tinha recebido dois talentos, disse: Senhor, entregaste-me dois talentos; eis que com eles granjeei outros dois tal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o seu SENHOR: Bem está, bom e fiel servo. Sobre o pouco foste fiel, sobre muito te colocarei; entra no gozo do t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hegando também o que recebera um talento, disse: Senhor, eu conhecia-te, que és um homem duro, que ceifas onde não semeaste e ajuntas onde não espalhas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temorizado, escondi na terra o teu talento; aqui tens o que é 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endo, porém, o seu senhor, disse-lhe: Mau e negligente servo; sabias que ceifo onde não semeei e ajunto onde não espalh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vias então ter dado o meu dinheiro aos banqueiros e, quando eu viesse, receberia o meu com os ju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rai-lhe pois o talento, e dai-o ao que tem os dez tal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qualquer que tiver será dado, e terá em abundância; mas ao que não tiver até o que tem ser-lhe-á t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loucas, tomando as suas lâmpadas, não levaram azeite cons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nçai, pois, o servo inútil nas trevas exteriores; ali haverá pranto e ranger de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o Filho do homem vier em sua glória, e todos os santos anjos com ele, então se assentará no trono da sua gló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nações serão reunidas diante dele, e apartará uns dos outros, como o pastor aparta dos bodes as ovel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á as ovelhas à sua direita, mas os bodes à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 o Rei aos que estiverem à sua direita: Vinde, benditos de meu Pai, possuí por herança o reino que vos está preparado desde a fundação do mun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ve fome, e destes-me de comer; tive sede, e destes-me de beber; era estrangeiro, e hospedastes-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nu, e vestistes-me; adoeci, e visitastes-me; estive na prisão, e fostes ver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justos lhe responderão, dizendo: Senhor, quando te vimos com fome, e te demos de comer? ou com sede, e te demos de beb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te vimos estrangeiro, e te hospedamos? ou nu, e te vesti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do te vimos enfermo, ou na prisão, e fomos ver-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prudentes levaram azeite em suas vasilhas, com as suas lâmp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o Rei, lhes dirá: Em verdade vos digo que quando o fizestes a um destes meus pequeninos irmãos, a mim o fiz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 também aos que estiverem à sua esquerda: Apartai-vos de mim, malditos, para o fogo eterno, preparado para o diabo e seus anj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ive fome, e não me destes de comer; tive sede, e não me destes de beb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estrangeiro, não me recolhestes; estando nu, não me vestistes; e enfermo, e na prisão, não me visita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 também lhe responderão, dizendo: Senhor, quando te vimos com fome, ou com sede, ou estrangeiro, ou nu, ou enfermo, ou na prisão, e não te servi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responderá, dizendo: Em verdade vos digo que, quando a um destes pequeninos o não fizestes, não o fizestes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ão estes para o tormento eterno, mas os justos pa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ardando o esposo, tosquenejaram todas, e adorm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à meia-noite ouviu-se um clamor: Aí vem o esposo, saí-lhe ao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das aquelas virgens se levantaram, e prepararam as suas lâmp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loucas disseram às prudentes: Dai-nos do vosso azeite, porque as nossas lâmpadas se apag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s prudentes responderam, dizendo: Não seja caso que nos falte a nós e a vós, ide antes aos que o vendem, e comprai-o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6:00Z</dcterms:created>
  <dc:creator>Admin</dc:creator>
  <dc:description/>
  <dc:language>en-US</dc:language>
  <cp:lastModifiedBy>Admin</cp:lastModifiedBy>
  <dcterms:modified xsi:type="dcterms:W3CDTF">2008-07-31T00:16:00Z</dcterms:modified>
  <cp:revision>1</cp:revision>
  <dc:subject/>
  <dc:title>Slide 1</dc:title>
</cp:coreProperties>
</file>