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12E-B204-44B3-AF60-4BD3D5CF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D539-CE55-4A65-8AD2-873E781C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BFF7-824B-4204-B3FF-66FBE55B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F09-B076-4866-BE17-6AD8A35C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D229-9458-48E6-AD60-A342D3F8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C91C-871D-47F6-8F77-3C59B402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D3B8-7C16-44B8-9CB9-9F9D3862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CF6D-2FA9-45FE-9550-B6D9E7CF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2848-AE73-46E7-A6A4-219E9EEE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70E7-44BA-42A3-87D8-8E314C57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6B8-C566-4815-8D02-DCFF1283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F1E-F9B6-4679-A038-EDEAC1F5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008F-656B-4F6F-86A1-E6814CA4D5B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antes da festa da páscoa, sabendo Jesus que já era chegada a sua hora de passar deste mundo para o Pai, como havia amado os seus, que estavam no mundo, amou-os até o f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Jesus: Aquele que está lavado não necessita de lavar senão os pés, pois no mais todo está limpo. Ora vós estais limpos, mas não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bem sabia ele quem o havia de trair; por isso disse: Nem todos estais limp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que lhes lavou os pés, e tomou as suas vestes, e se assentou outra vez à mesa, disse-lhes: Entendeis o que vos tenho fei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me chamais Mestre e Senhor, e dizeis bem, porque eu o s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se eu, Senhor e Mestre, vos lavei os pés, vós deveis também lavar os pés uns aos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vos dei o exemplo, para que, como eu vos fiz, façais vós tamb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, na verdade vos digo que não é o servo maior do que o seu senhor, nem o enviado maior do que aquele que o env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sabeis estas coisas, bem-aventurados sois se as fizer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falo de todos vós; eu bem sei os que tenho escolhido; mas para que se cumpra a Escritura: O que come o pão comigo, levantou contra mim o seu calcanh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agora vo-lo digo, antes que aconteça, para que, quando acontecer, acrediteis que eu s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cabada a ceia, tendo o diabo posto no coração de Judas Iscariotes, filho de Simão, que o traíss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, na verdade vos digo: Se alguém receber o que eu enviar, me recebe a mim, e quem me recebe a mim, recebe aquele que me env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 Jesus dito isto, turbou-se em espírito, e afirmou, dizendo: Na verdade, na verdade vos digo que um de vós me há de tra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discípulos olhavam uns para os outros, duvidando de quem ele fal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um de seus discípulos, aquele a quem Jesus amava, estava reclinado no seio de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imão Pedro fez sinal a este, para que perguntasse quem era aquele de quem ele fal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inclinando-se ele sobre o peito de Jesus, disse-lhe: Senhor, quem é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respondeu: É aquele a quem eu der o bocado molhado. E, molhando o bocado, o deu a Judas Iscariotes, filho de Si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pós o bocado, entrou nele Satanás. Disse, pois, Jesus: O que fazes, faze-o depre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enhum dos que estavam assentados à mesa compreendeu a que propósito lhe dissera 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como Judas tinha a bolsa, pensavam alguns que Jesus lhe tinha dito: Compra o que nos é necessário para a festa; ou que desse alguma coisa aos pob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sabendo que o Pai tinha depositado nas suas mãos todas as coisas, e que havia saído de Deus e ia para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Judas tomado o bocado, saiu logo. E era já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 ele, pois, saído, disse Jesus: Agora é glorificado o Filho do homem, e Deus é glorificado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Deus é glorificado nele, também Deus o glorificará em si mesmo, e logo o há de glorific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hinhos, ainda por um pouco estou convosco. Vós me buscareis, mas, como tenho dito aos judeus: Para onde eu vou não podeis vós ir; eu vo-lo digo também ag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novo mandamento vos dou: Que vos ameis uns aos outros; como eu vos amei a vós, que também vós uns aos outros vos am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sto todos conhecerão que sois meus discípulos, se vos amardes uns aos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Simão Pedro: Senhor, para onde vais? Jesus lhe respondeu: Para onde eu vou não podes agora seguir-me, mas depois me segui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Pedro: Por que não posso seguir-te agora? Por ti darei a minh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-lhe Jesus: Tu darás a tua vida por mim? Na verdade, na verdade te digo que não cantará o galo enquanto não me tiveres negado três ve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ou-se da ceia, tirou as vestes, e, tomando uma toalha, cingiu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itou água numa bacia, e começou a lavar os pés aos discípulos, e a enxugar-lhos com a toalha com que estava cing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roximou-se, pois, de Simão Pedro, que lhe disse: Senhor, tu lavas-me os pés a mi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 Jesus, e disse-lhe: O que eu faço não o sabes tu agora, mas tu o saberás dep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Pedro: Nunca me lavarás os pés. Respondeu-lhe Jesus: Se eu te não lavar, não tens parte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Simão Pedro: Senhor, não só os meus pés, mas também as mãos e 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3:57Z</dcterms:created>
  <dc:creator>Admin</dc:creator>
  <dc:description/>
  <dc:language>en-US</dc:language>
  <cp:lastModifiedBy>Admin</cp:lastModifiedBy>
  <dcterms:modified xsi:type="dcterms:W3CDTF">2008-07-31T00:03:57Z</dcterms:modified>
  <cp:revision>1</cp:revision>
  <dc:subject/>
  <dc:title>Slide 1</dc:title>
</cp:coreProperties>
</file>