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81F-17AD-4E22-9C69-EC8E2E36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AB2-FD4B-42EB-84BF-5FBB5877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68A-465E-4282-9522-31841AAA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16F-D3F3-4206-B8FF-4CB9DFBD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FF6-2F9C-4A3A-812C-176CA421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B37-3826-4B70-A2E7-559FC1C7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9E3-3A1A-4905-B840-3EC79F33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0C5-AF94-4A94-90D9-5B69BEBB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580-D62D-43E1-BEF4-D4D79516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B47-479D-4BB7-B63C-2BCF03A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887-16E7-4D85-B2CD-0E1B3C7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C93-4BC7-4BE5-9D2E-37F67F4E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8F95-CA81-4F12-AD27-4D17FAC0CDF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ordenou, e todos os anciãos de Judá e de Jerusalém se reuniram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rofanou a Tofete, que está no vale dos filhos de Hinom, para que ninguém fizesse passar a seu filho, ou sua filha, pelo fogo a Molo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irou os cavalos que os reis de Judá tinham dedicado ao sol, à entrada da casa do SENHOR, perto da câmara de Natã-Meleque, o camareiro, que estava no recinto; e os carros do sol queimou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rei derrubou os altares que estavam sobre o terraço do cenáculo de Acaz, os quais os reis de Judá tinham feito, como também o rei derrubou os altares que fizera Manassés nos dois átrios da casa do SENHOR; e esmiuçados os tirou dali e lançou o p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profanou também os altos que estavam defronte de Jerusalém, à mão direita do monte de Masite, os quais edificara Salomão, rei de Israel, a Astarote, a abominação dos sidônios, e a Quemós, a abominação dos moabitas, e a Milcom, a abominação dos fil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 quebrou as estátuas, cortou os bosques e encheu o seu lugar com ossos d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 altar que estava em Betel, e o alto que fez Jeroboão, filho de Nebate, com que tinha feito Israel pecar, esse altar derrubou juntamente com o alto; queimando o alto, em pó o esmiuçou, e queimou o ídolo do bos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rando-se Josias, viu as sepulturas que estavam ali no monte; e mandou tirar os ossos das sepulturas, e os queimou sobre aquele altar, e assim o profanou, conforme a palavra do SENHOR, que profetizara o homem de Deus, quando anunciou es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: Que é este monumento que vejo? E os homens da cidade lhe disseram: É a sepultura do homem de Deus que veio de Judá, e anunciou estas coisas que fizeste contra este altar de Bet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Deixai-o estar; ninguém mexa nos seus ossos. Assim deixaram estar os seus ossos com os ossos do profeta que viera de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mais disto também Josias tirou todas as casas dos altos que havia nas cidades de Samaria, e que os reis de Israel tinham feito para provocarem à ira o SENHOR; e lhes fez conforme todos os atos que tinha feito em Bet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subiu à casa do SENHOR, e com ele todos os homens de Judá, e todos os moradores de Jerusalém, os sacerdotes, os profetas e todo o povo, desde o menor até ao maior; e leu aos ouvidos deles todas as palavras do livro da aliança, que se achou na ca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crificou todos os sacerdotes dos altos, que havia ali, sobre os altares, e queimou ossos humanos sobre eles; depois voltou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u ordem a todo o povo, dizendo: Celebrai a páscoa ao SENHOR vosso Deus, como está escrito no livro d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unca se celebrou tal páscoa como esta desde os dias dos juízes que julgaram a Israel, nem em todos os dias dos reis de Israel, nem tampouco dos rei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o ano décimo oitavo do rei Josias esta páscoa se celebrou ao SENHOR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s adivinhos, os feiticeiros, os terafins, os ídolos, e todas as abominações que se viam na terra de Judá e em Jerusalém, os extirpou Josias, para confirmar as palavras da lei, que estavam escritas no livro que o sacerdote Hilquias achara na 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tes dele não houve rei semelhante, que se convertesse ao SENHOR com todo o seu coração, com toda a sua alma e com todas as suas forças, conforme toda a lei de Moisés; e depois dele nunca se levantou outro 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 SENHOR não se demoveu do ardor da sua grande ira, com que ardia contra Judá, por todas as provocações com que Manassés o tinha provo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Também a Judá hei de tirar de diante da minha face, como tirei a Israel, e rejeitarei esta cidade de Jerusalém que escolhi, como também a casa de que disse: Estará ali 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Josias e tudo quanto fez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seus dias subiu Faraó Neco, rei do Egito, contra o rei da Assíria, ao rio Eufrates; e o rei Josias lhe foi ao encontro; e, vendo-o ele, o matou em Me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se pôs em pé junto à coluna, e fez a aliança perante o SENHOR, para seguirem o SENHOR, e guardarem os seus mandamentos, os seus testemunhos e os seus estatutos, com todo o coração e com toda a alma, confirmando as palavras desta aliança, que e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servos, num carro, o levaram morto, de Megido, e o trouxeram a Jerusalém, e o sepultaram na sua sepultura; e o povo da terra tomou a Joacaz, filho de Josias, e ungiram-no, e fizeram-no rei em lugar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Joacaz vinte e três anos de idade quando começou a reinar, e três meses reinou em Jerusalém; e era o nome de sua mãe Hamutal, filha de Jeremias, de Lib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nforme tudo o que fizeram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Faraó Neco o mandou prender em Ribla, em terra de Hamate, para que não reinasse em Jerusalém; e à terra impôs pena de cem talentos de prata e um talento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raó Neco constituiu rei a Eliaquim, filho de Josias, em lugar de seu pai Josias, e lhe mudou o nome para Jeoiaquim; porém a Joacaz tomou consigo, e foi ao Egito, e morreu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iaquim deu aquela prata e aquele ouro a Faraó; porém tributou a terra, para dar esse dinheiro conforme o mandado de Faraó; a cada um segundo a sua avaliação exigiu a prata e o ouro do povo da terra, para o dar a Faraó Ne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Jeoiaquim vinte e cinco anos de idade quando começou a reinar, e reinou onze anos em Jerusalém; e era o nome de sua mãe Zebida, filha de Pedaías, de R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nforme tudo quanto fizeram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mandou ao sumo sacerdote Hilquias, aos sacerdotes da segunda ordem, e aos guardas do umbral da porta, que tirassem do templo do SENHOR todos os vasos que se tinham feito para Baal, para o bosque e para todo o exército dos céus e os queimou fora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stituiu os sacerdotes que os reis de Judá estabeleceram para incensarem sobre os altos nas cidades de Judá e ao redor de Jerusalém, como também os que queimavam incenso a Baal, ao sol, à lua, e aos planetas, e a todo o exércit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irou da casa do SENHOR o ídolo do bosque levando-o para fora de Jerusalém até ao ribeiro de Cedrom, e o queimou junto ao ribeiro de Cedrom, e o desfez em pó, e lançou o seu pó sobre as sepulturas dos filhos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rrubou as casas dos sodomitas que estavam na casa do SENHOR, em que as mulheres teciam casinhas para o ídolo do bos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os os sacerdotes trouxe das cidades de Judá, e profanou os altos em que os sacerdotes queimavam incenso, desde Geba até Berseba; e derrubou os altos que estavam às portas, junto à entrada da porta de Josué, o governador da cidade, que estava à es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sacerdotes dos altos não sacrificavam sobre o altar do SENHOR em Jerusalém; porém comiam pães ázimos no meio de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27Z</dcterms:created>
  <dc:creator>Admin</dc:creator>
  <dc:description/>
  <dc:language>en-US</dc:language>
  <cp:lastModifiedBy>Admin</cp:lastModifiedBy>
  <dcterms:modified xsi:type="dcterms:W3CDTF">2008-07-30T23:52:27Z</dcterms:modified>
  <cp:revision>1</cp:revision>
  <dc:subject/>
  <dc:title>Slide 1</dc:title>
</cp:coreProperties>
</file>