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4EB-F97F-4550-9E22-7CD5997B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379-7DBF-4F5F-B0C7-C74A04A6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315-BA2B-4242-9CB5-C96ED24A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05E-4B32-4B8D-94CA-2DE16126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83D-0A41-46D6-AD8F-D3689FC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900-37F3-4525-8BB2-6242DE7B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D68-EB3D-4CAD-A962-9564391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33D-1104-41B1-AA31-F732C36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911-3999-42BF-8797-A36052D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1A5-5FEF-438C-898B-FE968B3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ECA-FBEF-4720-9AAC-D974FFA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2C3-0A07-473C-A7B9-8265378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778-CE97-4AEC-910A-10A1E1D9B2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designou o Senhor ainda outros setenta, e mandou-os adiante da sua face, de dois em dois, a todas as cidades e lugares aonde ele havia de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m qualquer cidade, em que entrardes e vos não receberem, saindo por suas ruas, dize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 pó, que da vossa cidade se nos pegou, sacudimos sobre vós. Sabei, contudo, isto, que já o reino de Deus é chegado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-vos que mais tolerância haverá naquele dia para Sodoma do que para aquel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ti, Corazim, ai de ti, Betsaida! Porque, se em Tiro e em Sidom se fizessem as maravilhas que em vós foram feitas, já há muito, assentadas em saco e cinza, se teriam arrepe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ara Tiro e Sidom haverá menos rigor, no juízo, do que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Cafarnaum, que te levantaste até ao céu, até ao inferno serás abat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vos ouve a vós, a mim me ouve; e quem vos rejeita a vós, a mim me rejeita; e quem a mim me rejeita, rejeita 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ram os setenta com alegria, dizendo: Senhor, pelo teu nome, até os demônios se nos suje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Eu via Satanás, como raio, cair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os dou poder para pisar serpentes e escorpiões, e toda a força do inimigo, e nada vos fará dan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-lhes: Grande é, em verdade, a seara, mas os obreiros são poucos; rogai, pois, ao Senhor da seara que envie obreiros para a sua se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ão vos alegreis porque se vos sujeitem os espíritos; alegrai-vos antes por estarem os vossos nomes escritos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a mesma hora se alegrou Jesus no Espírito Santo, e disse: Graças te dou, ó Pai, Senhor do céu e da terra, que escondeste estas coisas aos sábios e inteligentes, e as revelaste às criancinhas; assim é, ó Pai, porque assim te apr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por meu Pai me foi entregue; e ninguém conhece quem é o Filho senão o Pai, nem quem é o Pai senão o Filho, e aquele a quem o Filho o quiser reve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-se para os discípulos, disse-lhes em particular: Bem-aventurados os olhos que vêem o que vós v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vos digo que muitos profetas e reis desejaram ver o que vós vedes, e não o viram; e ouvir o que ouvis, e não o ou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e levantou um certo doutor da lei, tentando-o, e dizendo: Mestre, que farei para herdar a vida eter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Que está escrito na lei? Como lê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, disse: Amarás ao Senhor teu Deus de todo o teu coração, e de toda a tua alma, e de todas as tuas forças, e de todo o teu entendimento, e ao teu próximo como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Respondeste bem; faze isso, e viv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querendo justificar-se a si mesmo, disse a Jesus: E quem é o meu próxi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; eis que vos mando como cordeiros ao meio de lo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esus, disse: Descia um homem de Jerusalém para Jericó, e caiu nas mãos dos salteadores, os quais o despojaram, e espancando-o, se retiraram, deixando-o meio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casionalmente descia pelo mesmo caminho certo sacerdote; e, vendo-o, passou de l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igual modo também um levita, chegando àquele lugar, e, vendo-o, passou de l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 samaritano, que ia de viagem, chegou ao pé dele e, vendo-o, moveu-se de íntima compaix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oximando-se, atou-lhe as feridas, deitando-lhes azeite e vinho; e, pondo-o sobre a sua cavalgadura, levou-o para uma estalagem, e cuidou d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no outro dia, tirou dois dinheiros, e deu-os ao hospedeiro, e disse-lhe: Cuida dele; e tudo o que de mais gastares eu to pagarei quando vo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, pois, destes três te parece que foi o próximo daquele que caiu nas mãos dos salte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O que usou de misericórdia para com ele. Disse, pois, Jesus: Vai, e faze da mesma ma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indo eles de caminho, entrou Jesus numa aldeia; e certa mulher, por nome Marta, o recebeu em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esta uma irmã chamada Maria, a qual, assentando-se também aos pés de Jesus, ouvia 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eveis bolsa, nem alforje, nem alparcas; e a ninguém saudeis pel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ta, porém, andava distraída em muitos serviços; e, aproximando-se, disse: Senhor, não se te dá de que minha irmã me deixe servir só? Dize-lhe que me aj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ndo Jesus, disse-lhe: Marta, Marta, estás ansiosa e afadigada com muitas coisas, mas uma só é necessá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ia escolheu a boa parte, a qual não lhe será ti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m qualquer casa onde entrardes, dizei primeiro: Paz seja nest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i houver algum filho de paz, repousará sobre ele a vossa paz; e, se não, voltará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ai na mesma casa, comendo e bebendo do que eles tiverem, pois digno é o obreiro de seu salário. Não andeis de casa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m qualquer cidade em que entrardes, e vos receberem, comei do que vos for ofer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rai os enfermos que nela houver, e dizei-lhes: É chegado a vós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05Z</dcterms:created>
  <dc:creator>Admin</dc:creator>
  <dc:description/>
  <dc:language>en-US</dc:language>
  <cp:lastModifiedBy>Admin</cp:lastModifiedBy>
  <dcterms:modified xsi:type="dcterms:W3CDTF">2008-07-31T00:11:05Z</dcterms:modified>
  <cp:revision>1</cp:revision>
  <dc:subject/>
  <dc:title>Slide 1</dc:title>
</cp:coreProperties>
</file>