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32B-9FB2-45C0-9E7F-32C58DEC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03C-C259-4AEE-B731-2AB22015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6DC-8A97-4695-8129-FB84BA09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A1B-7384-411B-942E-DEEA2461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3A7-74AB-4EA4-9244-F8618B4F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9EA-2872-4018-8597-B668B3ED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182-E6D0-4C9F-92D9-E58AEAE9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596-B477-482C-852D-5B859A16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FC2C-E897-4E00-9322-6B9D4270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E2C-9B57-4391-A902-7FB0D913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3D1-0045-4D33-A642-99340836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3F4-EB03-419B-A7CC-8082DE7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AC05-3C6D-492D-8757-CCC31B91CFC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ofetas Ageu e Zacarias, filho de Ido, profetizaram aos judeus que estavam em Judá, e em Jerusalém; em nome do Deus de Israel lhes profetiz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isso, lhes perguntamos também pelos seus nomes, para tos declararmos; para que te pudéssemos escrever os nomes dos homens que entre eles são os chef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foi a resposta que nos deram: Nós somos servos do Deus dos céus e da terra, e reedificamos a casa que há muitos anos foi edificada; porque um grande rei de Israel a edificou e a termi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pois que nossos pais provocaram à ira o Deus dos céus, ele os entregou nas mãos de Nabucodonosor, rei de Babilônia, o caldeu, o qual destruiu esta casa, e transportou o povo par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no primeiro ano de Ciro, rei de Babilônia, o rei Ciro deu ordem para que esta casa de Deus se reedific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os utensílios de ouro e prata, da casa de Deus, que Nabucodonosor tomou do templo que estava em Jerusalém e os levou para o templo de Babilônia, o rei Ciro os tirou do templo de Babilônia, e foram dados a um homem cujo nome era Sesbazar, a quem n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Toma estes utensílios, vai e leva-os ao templo que está em Jerusalém, e faze reedificar a casa de Deus, n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este Sesbazar, e pôs os fundamentos da casa de Deus, que está em Jerusalém e desde então para cá se está reedificando, e ainda não está acab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 parece bem ao rei, busque-se na casa dos tesouros do rei, que está em Babilônia, se é verdade que se deu uma ordem pelo rei Ciro para reedificar esta casa de Deus em Jerusalém; e sobre isto nos faça saber a vontad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aram Zorobabel, filho de Sealtiel, e Jesuá, filho de Jozadaque, e começaram a edificar a casa de Deus, que está em Jerusalém; e com eles os profetas de Deus, que os ajud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vieram a eles Tatenai, governador dalém do rio, e Setar-Bozenai, e os seus companheiros, e disseram-lhes assim: Quem vos deu ordem para reedificardes esta casa, e restaurardes este mu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s, mais: E quais são os nomes dos homens que construíram este edifíc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olhos de Deus estavam sobre os anciãos dos judeus, e não os impediram, até que o negócio chegasse a Dario, e viesse resposta por carta sobre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ópia da carta que Tatenai, o governador dalém do rio, com Setar-Bozenai e os seus companheiros, os afarsaquitas, que estavam dalém do rio, enviaram ao rei Da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aram-lhe uma carta, na qual estava escrito: Toda a paz ao rei Da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notório ao rei, que nós fomos à província de Judá, à casa do grande Deus, a qual se edifica com grandes pedras, e a madeira já está sendo posta nas paredes; e esta obra vai sendo feita com diligência, e se adianta em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rguntamos aos anciãos, e assim lhes dissemos: Quem vos deu ordem para reedificardes esta casa, e restaurardes este mu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22Z</dcterms:created>
  <dc:creator>Admin</dc:creator>
  <dc:description/>
  <dc:language>en-US</dc:language>
  <cp:lastModifiedBy>Admin</cp:lastModifiedBy>
  <dcterms:modified xsi:type="dcterms:W3CDTF">2008-07-30T23:30:22Z</dcterms:modified>
  <cp:revision>1</cp:revision>
  <dc:subject/>
  <dc:title>Slide 1</dc:title>
</cp:coreProperties>
</file>