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069-D6BC-42B6-A287-68E9A901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059-72FA-4461-81B1-B0C76E39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8350-CF08-449C-BCEE-99A9A41E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AAA-5856-4C58-A6E2-AE121794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1B49-5EA1-4B14-8D6A-F5897BB6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431-D097-4875-A1F0-7F4D26FB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7F7E-4F8F-4AF2-A47F-ABA0ED2F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B57C-A20F-4872-8771-687D6883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C4EC-35CA-4895-8124-31D15AF0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BA9-58D1-4D80-AB92-142B9C9A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D407-CC2E-4072-9CA5-B1CD1DC6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A0C7-7B24-4482-BF28-B5AEAA7A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2409-5E1F-4BC5-9160-1376F0960A6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agora o que diz o SENHOR: Levanta-te, contende com os montes, e ouçam os outeiros a tua vo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há na casa do ímpio tesouros da impiedade, e medida escassa, que é detestáv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ia eu limpo com balanças falsas, e com uma bolsa de pesos enganos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seus ricos estão cheios de violência, e os seus habitantes falam mentiras e a sua língua é enganosa na su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eu também te enfraquecerei, ferindo-te e assolando-te por causa dos teu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comerás, mas não te fartarás e a tua humilhação estará no meio de ti; removerás os teus bens mas não livrarás; e aquilo que livrares, eu o entregarei à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semearás, mas não segarás; pisarás a azeitona, mas não te ungirás com azeite; e pisarás o mosto, mas não beberás v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 observam os estatutos de Onri, e toda a obra da casa de Acabe, e andais nos conselhos deles; para que eu te faça uma desolação, e dos seus habitantes um assobio; assim trareis sobre vós o opróbrio do m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, montes, a demanda do SENHOR, e vós, fortes fundamentos da terra; porque o SENHOR tem uma demanda com o seu povo, e com Israel entrará em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povo meu; que te tenho feito? E com que te enfadei? Testifica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e fiz subir da terra do Egito, e da casa da servidão te remi; e enviei adiante de ti a Moisés, Arão e Miri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vo meu, lembra-te agora do que consultou Balaque, rei de Moabe, e o que lhe respondeu Balaão, filho de Beor, e do que aconteceu desde Sitim até Gilgal, para que conheças as justiça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que me apresentarei ao SENHOR, e me inclinarei diante do Deus altíssimo? Apresentar-me-ei diante dele com holocaustos, com bezerros de um an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radar-se-á o SENHOR de milhares de carneiros, ou de dez mil ribeiros de azeite? Darei o meu primogênito pela minha transgressão, o fruto do meu ventre pelo pecado da minha alm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te declarou, ó homem, o que é bom; e que é o que o SENHOR pede de ti, senão que pratiques a justiça, e ames a benignidade, e andes humildemente com o teu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oz do SENHOR clama à cidade e o que é sábio verá o teu nome. Ouvi a vara, e quem a orden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6:31Z</dcterms:created>
  <dc:creator>Admin</dc:creator>
  <dc:description/>
  <dc:language>en-US</dc:language>
  <cp:lastModifiedBy>Admin</cp:lastModifiedBy>
  <dcterms:modified xsi:type="dcterms:W3CDTF">2008-07-31T00:16:31Z</dcterms:modified>
  <cp:revision>1</cp:revision>
  <dc:subject/>
  <dc:title>Slide 1</dc:title>
</cp:coreProperties>
</file>