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D22-49D6-4BB6-9CD2-D08DDEE3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176-2C4D-413E-9B09-7B5B83A9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AA6-1E94-474F-98A1-2DCECAF8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A8F-65B5-4175-B984-7F9E0692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D95-99CB-4B58-8C7D-F46AA796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9C8-1343-4FC2-8809-B80BC5B7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BBD-760E-4E5A-8C51-DCCF1CD5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CCC-0262-4E29-90D0-3864610D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F0D-D74B-4531-8065-EFB0D2CB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5DE-D56F-4DE2-935D-6CBABC97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FE1-6F13-4875-ADAC-3E4BEC47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06D-BE06-4322-9DCF-7ED67DB1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F7A2-356F-442F-BDB2-E4364005680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eram os homens de Quiriate-Jearim, e levaram a arca do SENHOR, e a trouxeram à casa de Abinadabe, no outeiro; e consagraram a Eleazar, seu filho, para que guardasse a arc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stando Samuel sacrificando o holocausto, os filisteus chegaram à peleja contra Israel; e trovejou o SENHOR aquele dia com grande estrondo sobre os filisteus, e os confundiu de tal modo que foram derrotados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e Israel saíram de Mizpá; e perseguiram os filisteus, e os feriram até abaixo de Bete-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Samuel uma pedra, e a pôs entre Mizpá e Sem, e chamou-lhe Ebenézer; e disse: Até aqui nos ajud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filisteus foram abatidos, e nunca mais vieram aos termos de Israel, porquanto foi a mão do SENHOR contra os filisteus todos os dias de Sam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cidades que os filisteus tinham tomado a Israel foram-lhe restituídas, desde Ecrom até Gate, e até os seus termos Israel arrebatou da mão dos filisteus; e houve paz entre Israel e entre os amorr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muel julgou a Israel todos os dias d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a de ano em ano, e rodeava a Betel, e a Gilgal, e a Mizpá, e julgava a Israel em todos aqueles lug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voltava a Ramá, porque estava ali a sua casa, e ali julgava a Israel; e edificou ali um alta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esde aquele dia, a arca ficou em Quiriate-Jearim, e tantos dias se passaram que até chegaram vinte anos, e lamentava toda a casa de Israel pel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Samuel a toda a casa de Israel, dizendo: Se com todo o vosso coração vos converterdes ao SENHOR, tirai dentre vós os deuses estranhos e os astarotes, e preparai o vosso coração ao SENHOR, e servi a ele só, e vos livrará da mão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Israel tiraram dentre si aos baalins e aos astarotes, e serviram só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Samuel: Congregai a todo o Israel em Mizpá; e orarei por vó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gregaram-se em Mizpá, e tiraram água, e a derramaram perante o SENHOR, e jejuaram aquele dia, e disseram ali: Pecamos contra o SENHOR. E julgava Samuel os filhos de Israel em Mizp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os filisteus que os filhos de Israel estavam congregados em Mizpá, subiram os maiorais dos filisteus contra Israel; o que ouvindo os filhos de Israel, temeram por causa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sseram os filhos de Israel a Samuel: Não cesses de clamar ao SENHOR nosso Deus por nós, para que nos livre da mão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Samuel um cordeiro de mama, e sacrificou-o inteiro em holocausto ao SENHOR; e clamou Samuel ao SENHOR por Israel, e o SENHOR lhe deu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36Z</dcterms:created>
  <dc:creator>Admin</dc:creator>
  <dc:description/>
  <dc:language>en-US</dc:language>
  <cp:lastModifiedBy>Admin</cp:lastModifiedBy>
  <dcterms:modified xsi:type="dcterms:W3CDTF">2008-07-30T23:46:36Z</dcterms:modified>
  <cp:revision>1</cp:revision>
  <dc:subject/>
  <dc:title>Slide 1</dc:title>
</cp:coreProperties>
</file>