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BA9-6565-4E82-B161-421EAA01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EFB-65FA-4218-8440-F91F6E1C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7846-1894-491C-8558-736A6B55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A9D-5A20-468E-AB1E-8CE65933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B7FF-C964-4940-824F-37A6820C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29A-CB28-40A0-BCB4-B4782CD5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84B-F901-4F3B-98D2-952DA497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3AD-2608-4FD5-9B45-759BC0BB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696-15F5-4D7A-9287-A19081C8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63D-E3CE-4363-BDC4-0E43FED4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68F-F0E5-439A-9E80-369E6598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F81-23CF-4BD9-ACCB-156FD7F8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7A4B-41AA-4AAF-B212-30BFBFDDE0E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s pastores que destroem e dispersam as ovelhas do meu past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terra está cheia de adúlteros, e a terra chora por causa da maldição; os pastos do deserto se secam; porque a sua carreira é má, e a sua força não é r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anto o profeta, como o sacerdote, estão contaminados; até na minha casa achei a sua maldade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 seu caminho lhes será como lugares escorregadios na escuridão; serão empurrados, e cairão nele; porque trarei sobre eles mal, no ano da sua visitaçã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profetas de Samaria bem vi loucura; profetizavam da parte de Baal, e faziam errar o meu pov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os profetas de Jerusalém vejo uma coisa horrenda: cometem adultérios, e andam com falsidade, e fortalecem as mãos dos malfeitores, para que não se convertam da sua maldade; eles têm-se tornado para mim como Sodoma, e os seus moradores como Go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os Exércitos acerca dos profetas: Eis que lhes darei a comer losna, e lhes farei beber águas de fel; porque dos profetas de Jerusalém saiu a contaminação sobr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Não deis ouvidos às palavras dos profetas, que entre vós profetizam; fazem-vos desvanecer; falam da visão do seu coração, não da boc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m continuamente aos que me desprezam: O SENHOR disse: Paz tereis; e a qualquer que anda segundo a dureza do seu coração, dizem: Não virá mal sob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em esteve no conselho do SENHOR, e viu, e ouviu a sua palavra? Quem esteve atento à sua palavra, e ouvi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saiu com indignação a tempestade do SENHOR; e uma tempestade penosa cairá cruelmente sobre a cabeça do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 de Israel, contra os pastores que apascentam o meu povo: Vós dispersastes as minhas ovelhas, e as afugentastes, e não as visitastes; eis que visitarei sobre vós a maldade das vossas açõe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desviará a ira do SENHOR, até que execute e cumpra os desígnios do seu coração; nos últimos dias entendereis isso clar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andei esses profetas, contudo eles foram correndo; não lhes falei, contudo eles profetiz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estivessem estado no meu conselho, então teriam feito o meu povo ouvir as minhas palavras, e o teriam feito voltar do seu mau caminho, e da maldade das suas 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sou eu Deus de perto, diz o SENHOR, e não também Deus de lon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onder-se-ia alguém em esconderijos, de modo que eu não o veja? diz o SENHOR. Porventura não encho eu os céus e a terra?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 ouvido o que dizem aqueles profetas, profetizando mentiras em meu nome, dizendo: Sonhei, sonh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 sucederá isso no coração dos profetas que profetizam mentiras, e que só profetizam do engano do seu cora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cuidam fazer com que o meu povo se esqueça do meu nome pelos seus sonhos que cada um conta ao seu próximo, assim como seus pais se esqueceram do meu nome por causa de Ba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ofeta que tem um sonho conte o sonho; e aquele que tem a minha palavra, fale a minha palavra com verdade. Que tem a palha com o trigo?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a minha palavra não é como o fogo, diz o SENHOR, e como um martelo que esmiúça a ped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mesmo recolherei o restante das minhas ovelhas, de todas as terras para onde as tiver afugentado, e as farei voltar aos seus apriscos; e frutificarão, e se multiplic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eu sou contra os profetas, diz o SENHOR, que furtam as minhas palavras, cada um ao seu próx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sou contra os profetas, diz o SENHOR, que usam de sua própria linguagem, e dizem: Ele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sou contra os que profetizam sonhos mentirosos, diz o SENHOR, e os contam, e fazem errar o meu povo com as suas mentiras e com as suas leviandades; pois eu não os enviei, nem lhes dei ordem; e não trouxeram proveito algum a este povo, diz o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te perguntar este povo, ou qualquer profeta, ou sacerdote, dizendo: Qual é o peso do SENHOR? Então lhe dirás: Este é o peso: Que vos deixarei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o profeta, e ao sacerdote, e ao povo, que disser: Peso do SENHOR, eu castigarei o tal homem e 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reis, cada um ao seu próximo, e cada um ao seu irmão: Que respondeu o SENHOR? e que falou 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unca mais vos lembrareis do peso do SENHOR; porque a cada um lhe servirá de peso a sua própria palavra; pois torceis as palavras do Deus vivo, do SENHOR dos Exércitos, o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rás ao profeta: Que te respondeu o SENHOR, e que falou 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porque dizeis: Peso do SENHOR; assim o diz o SENHOR: Porque dizeis esta palavra: Peso do SENHOR, havendo-vos ordenado, dizendo: Não direis: Peso d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eis que também eu me esquecerei totalmente de vós, e tirarei da minha presença, a vós e a cidade que vos dei a vós e a vossos p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ei sobre elas pastores que as apascentem, e nunca mais temerão, nem se assombrarão, e nem uma delas faltará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sobre vós perpétuo opróbrio, e eterna vergonha, que não será esquec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êm dias, diz o SENHOR, em que levantarei a Davi um Renovo justo; e, sendo rei, reinará e agirá sabiamente, e praticará o juízo e a justiça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seus dias Judá será salvo, e Israel habitará seguro; e este será o seu nome, com o qual Deus o chamará: O SENHOR JUSTIÇA NO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vêm dias, diz o SENHOR, em que nunca mais dirão: Vive o SENHOR, que fez subir os filhos de Israel da terra do Eg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: Vive o SENHOR, que fez subir, e que trouxe a geração da casa de Israel da terra do norte, e de todas as terras para onde os tinha arrojado; e habitarão n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s profetas, já o meu coração está quebrantado dentro de mim; todos os meus ossos estremecem; sou como um homem embriagado, e como um homem vencido de vinho, por causa do SENHOR, e por causa das suas sant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30Z</dcterms:created>
  <dc:creator>Admin</dc:creator>
  <dc:description/>
  <dc:language>en-US</dc:language>
  <cp:lastModifiedBy>Admin</cp:lastModifiedBy>
  <dcterms:modified xsi:type="dcterms:W3CDTF">2008-07-30T23:58:30Z</dcterms:modified>
  <cp:revision>1</cp:revision>
  <dc:subject/>
  <dc:title>Slide 1</dc:title>
</cp:coreProperties>
</file>