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43D-8003-4FBC-91B6-4790CD23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FC9-E12B-49AA-8427-F9B202F2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0DF-90C0-4301-80F6-3AEF3809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01F-CE44-4FCE-8326-4636D0EE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439-9B3D-4A47-A58D-C73E881A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616-550F-4BF5-8D09-3CF56762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E88-A1A4-41D6-93BC-A06FB2CB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3CE-03F5-451D-9B3A-E361848B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B3C-1204-46EC-909A-1E7C00CC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7B4-0C69-474B-B53B-6FAF82FB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C1F-5239-41E4-9BBA-51CAC20B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53C-E753-49E9-97F7-FCBC6B2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639-3724-4B52-B63A-13B567FA003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no undécimo ano, ao primeiro do mês, qu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multidão de seus cavalos te cobrirá o seu pó; os teus muros tremerão com o estrondo dos cavaleiros, e das rodas, e dos carros, quando ele entrar pelas tuas portas, como os homens entram numa cidade em que se fez bre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s cascos dos seus cavalos pisará todas as tuas ruas; ao teu povo matará à espada, e as tuas fortes colunas cairão por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ubarão as tuas riquezas, e saquearão as tuas mercadorias, e derrubarão os teus muros, e arrasarão as tuas casas agradáveis; e lançarão no meio das águas as tuas pedras, e as tuas madeiras, e o teu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cessar o ruído das tuas cantigas, e o som das tuas harpas não se ouvirá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de ti uma penha descalvada; virás a ser um enxugadouro das redes, nunca mais serás edificada; porque eu o SENHOR o falei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 a Tiro: Porventura não tremerão as ilhas com o estrondo da tua queda, quando gemerem os feridos, quando se fizer uma espantosa matança no meio de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príncipes do mar descerão dos seus tronos, e tirarão de si os seus mantos, e despirão as suas vestes bordadas; se vestirão de tremores, sobre a terra se assentarão, e estremecerão a cada momento; e por tua causa pasm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ão uma lamentação sobre ti, e te dirão: Como pereceste, ó bem povoada e afamada cidade, que foste forte no mar; ela e os seus moradores, que atemorizaram a todos os seus habitant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estremecerão as ilhas no dia da tua queda; sim, as ilhas, que estão no mar, turbar-se-ão com tua saí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Quando eu te fizer uma cidade assolada, como as cidades que não se habitam, quando eu fizer subir sobre ti o abismo, e as muitas águas te cobrir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visto que Tiro disse contra Jerusalém: Ah! está quebrada a porta dos povos; virou-se para mim; eu me encherei, agora que ela está assol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 farei descer com os que descem à cova, ao povo antigo, e te farei habitar nas mais baixas partes da terra, em lugares desertos antigos, com os que descem à cova, para que não sejas habitada; e estabelecerei a glória na terra d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 de ti um grande espanto, e não mais existirás; e quando te buscarem então nunca mais serás achada para sempre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Eis que eu estou contra ti, ó Tiro, e farei subir contra ti muitas nações, como o mar faz subir as suas ond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s destruirão os muros de Tiro, e derrubarão as suas torres; e eu lhe varrerei o seu pó, e dela farei uma penha descalv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io do mar virá a ser um enxugadouro das redes; porque eu o falei, diz o Senhor DEUS; e servirá de despojo para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as filhas, que estão no campo, serão mortas à espada;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Eis que eu, desde o norte, trarei contra Tiro a Nabucodonosor, rei de Babilônia, o rei dos reis, com cavalos, e com carros, e com cavaleiros, e companhias, e muit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filhas que estão no campo, ele as matará à espada, e levantará um baluarte contra ti, e fundará uma trincheira contra ti, e levantará paveses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porá os seus aríetes contra os teus muros, e derrubará as tuas torres com os seus mac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08Z</dcterms:created>
  <dc:creator>Admin</dc:creator>
  <dc:description/>
  <dc:language>en-US</dc:language>
  <cp:lastModifiedBy>Admin</cp:lastModifiedBy>
  <dcterms:modified xsi:type="dcterms:W3CDTF">2008-07-30T23:35:08Z</dcterms:modified>
  <cp:revision>1</cp:revision>
  <dc:subject/>
  <dc:title>Slide 1</dc:title>
</cp:coreProperties>
</file>