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044-CB8E-4E7F-8B3F-3302FF0D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C30-910F-4DD9-B104-76B8833F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462-474F-45A2-AE1F-988689C1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EF1-E4DF-40A9-9E92-BD7EDFE5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E90-7687-4B6A-A6FA-1A12385E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4D9-6097-4BEE-B4D9-CC2A217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DA3-D2A8-4F74-AC91-6CC0A03A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300-DEC0-404F-A183-933A0CD6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208-97E7-4888-AAD1-BA0853FD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909-5D5C-49A9-AD62-A8E62B6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C12-9776-4723-8F89-7067069C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859-81DF-4E65-9F5A-CBE9D3E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5F91-7E61-4F82-BF79-D171AD59B13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nono ano do seu reinado, no mês décimo, aos dez do mês, Nabucodonosor, rei de Babilônia, veio contra Jerusalém, ele e todo o seu exército, e se acampou contra ela, e levantaram contra ela trincheira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exército dos caldeus, que estava com o capitão da guarda, derrubou os muros em redor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is do povo que deixaram ficar na cidade, os rebeldes que se renderam ao rei de Babilônia e o mais da multidão, Nebuzaradã, o capitão da guarda, levou pre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os mais pobres da terra deixou o capitão da guarda ficar alguns para vinheiros e para lav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aram mais, os caldeus, as colunas de cobre que estavam na casa do SENHOR, como também as bases e o mar de cobre que estavam na casa do SENHOR; e levaram o seu bronze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am as caldeiras, as pás, os apagadores, as colheres e todos os vasos de cobre, com que se minist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capitão-da-guarda tomou os braseiros, e as bacias, o que era de ouro puro, em ouro e o que era de prata, em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duas colunas, um mar, e as bases, que Salomão fizera para a casa do SENHOR; o cobre de todos estes vasos não tinha p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ltura de uma coluna era de dezoito côvados, e sobre ela havia um capitel de cobre, e de altura tinha o capitel três côvados; e a rede e as romãs em redor do capitel, tudo era de cobre; e semelhante a esta era a outra coluna com a 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capitão-da-guarda tomou a Seraías, primeiro sacerdote, e a Sofonias, segundo sacerdote, e aos três guardas do umbral d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cidade tomou a um oficial, que tinha cargo dos homens de guerra, e a cinco homens dos que estavam na presença do rei, e se achavam na cidade, como também ao escrivão-mor do exército, que registrava o povo da terra para a guerra, e a sessenta home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idade foi sitiada até ao undécimo ano do rei Zedeq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ndo-os Nebuzaradã, o capitão da guarda, os levou ao rei de Babilônia, a Rib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Babilônia os feriu e os matou em Ribla, na terra de Hamate; e Judá foi levado preso para fora d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quanto ao povo que ficara na terra de Judá, que Nabucodonosor, rei de Babilônia, deixou ficar, pôs sobre ele, por governador a Gedalias, filho de Aicão, filho de Saf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s capitães dos exércitos, eles e os seus homens, que o rei de Babilônia pusera a Gedalias por governador, vieram a Gedalias, a Mizpá, a saber: Ismael, filho de Netanias, e Joanã, filho de Careá, e Seraías, filho de Tanumete, o netofatit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edalias jurou a eles e aos seus homens, e lhes disse: Não temais ser servos dos caldeus; ficai na terra, servi ao rei de Babilônia, e bem vos 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no sétimo mês, veio Ismael, filho de Netanias, o filho de Elisama, da descendência real, e dez homens com ele, e feriram a Gedalias, e ele morreu, como também aos judeus, e aos caldeus que estavam com ele em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se levantou, desde o menor até ao maior, como também os capitães dos exércitos, e foram ao Egito, porque temiam 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sucedeu que, no ano trinta e sete do cativeiro de Joaquim, rei de Judá, no mês duodécimo, aos vinte e sete do mês, Evil-Merodaque, rei de Babilônia, no ano em que reinou, levantou a cabeça de Joaquim, rei de Judá, tirando-o da casa da pri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falou benignamente; e pôs o seu trono acima do trono dos reis que estavam com ele em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mudou as roupas de prisão, e de contínuo comeu pão na sua presença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nove do mês quarto, quando a cidade se via apertada pela fome, nem havia pão para o povo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à sua subsistência, pelo rei lhe foi dada subsistência contínua, a porção de cada dia no seu dia,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cidade foi invadida, e todos os homens de guerra fugiram de noite pelo caminho da porta, entre os dois muros que estavam junto ao jardim do rei (porque os caldeus estavam contra a cidade em redor), e o rei se foi pelo caminho da camp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exército dos caldeus perseguiu o rei, e o alcançou nas campinas de Jericó; e todo o seu exército se disper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o rei, e o fizeram subir ao rei de Babilônia, a Ribla; e foi-lhe pronunciada a sent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filhos de Zedequias mataram diante dos seus olhos; e vazaram os olhos de Zedequias, e o ataram com duas cadeias de bronze, e o levaram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quinto mês, no sétimo dia do mês (este era o ano décimo nono de Nabucodonosor, rei de Babilônia), veio Nebuzaradã, capitão da guarda, servo do rei de Babilônia,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ou a casa do SENHOR e a casa do rei, como também todas as casas de Jerusalém, e todas as casas dos grandes quei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34Z</dcterms:created>
  <dc:creator>Admin</dc:creator>
  <dc:description/>
  <dc:language>en-US</dc:language>
  <cp:lastModifiedBy>Admin</cp:lastModifiedBy>
  <dcterms:modified xsi:type="dcterms:W3CDTF">2008-07-30T23:52:34Z</dcterms:modified>
  <cp:revision>1</cp:revision>
  <dc:subject/>
  <dc:title>Slide 1</dc:title>
</cp:coreProperties>
</file>