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743-4447-49EF-8680-0FC35E53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EBF-5706-404D-8760-B17D67B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82D-23A8-415B-8FD9-8F8C9D18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6FA-F189-4B35-9992-4E387299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46B-C7A4-4062-8C8E-763AEB2D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B22-43EC-4BB3-9682-1D30D3B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225-DE4C-4EBA-A79E-42005F1A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2CC-5A18-4731-A681-0B173C74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AD3-1F59-4469-9152-BC21F47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D28-7ABC-44A6-B382-254BDAA9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ACC-5A97-439C-B6C3-10619BF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7DC-F613-4327-9F4C-F79EDDFA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1E4B-E89D-4D1B-A74F-4AC386C0C7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cantarei ao meu amado o cântico do meu querido a respeito da sua vinha. O meu amado tem uma vinha num outeiro fért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z jeiras de vinha não darão mais do que um bato; e um ômer de semente não dará mais do que um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se levantam pela manhã, e seguem a bebedice; e continuam até à noite, até que o vinho os esquen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rpas e alaúdes, tamboris e gaitas, e vinho há nos seus banquetes; e não olham para a obra do SENHOR, nem consideram as obras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meu povo será levado cativo, por falta de entendimento; e os seus nobres terão fome, e a sua multidão se secará de s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inferno grandemente se alargou, e se abriu a sua boca desmesuradamente; e para lá descerão o seu esplendor, e a sua multidão, e a sua pompa, e os que entre eles se aleg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lebeu se abaterá, e o nobre se humilhará; e os olhos dos altivos se humil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dos Exércitos será exaltado em juízo; e Deus, o Santo, será santificado e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cordeiros pastarão como de costume, e os estranhos comerão dos lugares devastados pelos gor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puxam a iniqüidade com cordas de vaidade, e o pecado com tirantes de carr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m: Avie-se, e acabe a sua obra, para que a vejamos; e aproxime-se e venha o conselho do Santo de Israel, para que o conheç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rcou-a, e limpando-a das pedras, plantou-a de excelentes vides; e edificou no meio dela uma torre, e também construiu nela um lagar; e esperava que desse uvas boas, porém deu uvas bra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ao mal chamam bem, e ao bem mal; que fazem das trevas luz, e da luz trevas; e fazem do amargo doce, e do doce amarg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são sábios a seus próprios olhos, e prudentes diante de si mesm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são poderosos para beber vinho, e homens de poder para misturar bebida f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que justificam ao ímpio por suborno, e aos justos negam a justiç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como a língua de fogo consome a palha, e o restolho se desfaz pela chama, assim será a sua raiz como podridão, e a sua flor se esvaecerá como pó; porquanto rejeitaram a lei do SENHOR dos Exércitos, e desprezaram a palavra d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acendeu a ira do SENHOR contra o seu povo, e estendeu a sua mão contra ele, e o feriu, de modo que as montanhas tremeram, e os seus cadáveres se fizeram como lixo no meio das ruas; com tudo isto não tornou atrás a sua ira, mas a sua mão ai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arvorará o estandarte para as nações de longe, e lhes assobiará para que venham desde a extremidade da terra; e eis que virão apressurada e ligeir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rá entre eles cansado, nem quem tropece; ninguém tosquenejará nem dormirá; não se lhe desatará o cinto dos seus lombos, nem se lhe quebrará a correia dos seus sap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flechas serão agudas, e todos os seus arcos retesados; os cascos dos seus cavalos são reputados como pederneiras, e as rodas dos seus carros como redemo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rugido será como o do leão; rugirão como filhos de leão; sim, rugirão e arrebatarão a presa, e a levarão, e não haverá quem a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moradores de Jerusalém, e homens de Judá, julgai, vos peço, entre mim e a minh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ramarão contra eles naquele dia, como o bramido do mar; então olharão para a terra, e eis que só verão trevas e ânsia, e a luz se escurecer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mais se podia fazer à minha vinha, que eu lhe não tenha feito? Por que, esperando eu que desse uvas boas, veio a dar uvas brav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vos farei saber o que eu hei de fazer à minha vinha: tirarei a sua sebe, para que sirva de pasto; derrubarei a sua parede, para que seja pis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rnarei em deserto; não será podada nem cavada; porém crescerão nela sarças e espinheiros; e às nuvens darei ordem que não derramem chuva sobre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vinha do SENHOR dos Exércitos é a casa de Israel, e os homens de Judá são a planta das suas delícias; e esperou que exercesse juízo, e eis aqui opressão; justiça, e eis aqui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ajuntam casa a casa, reúnem campo a campo, até que não haja mais lugar, e fiquem como únicos moradores no meio da ter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eus ouvidos disse o SENHOR dos Exércitos: Em verdade que muitas casas ficarão desertas, e até as grandes e excelentes sem mo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37Z</dcterms:created>
  <dc:creator>Admin</dc:creator>
  <dc:description/>
  <dc:language>en-US</dc:language>
  <cp:lastModifiedBy>Admin</cp:lastModifiedBy>
  <dcterms:modified xsi:type="dcterms:W3CDTF">2008-07-30T23:54:37Z</dcterms:modified>
  <cp:revision>1</cp:revision>
  <dc:subject/>
  <dc:title>Slide 1</dc:title>
</cp:coreProperties>
</file>