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F9D-5F41-4011-89FE-BE521191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D04-2BA2-4590-9D59-D6F5062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613-D454-473A-A12F-ECCE7268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099-F139-4DD5-996A-B8B6AB3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5F7-DAAE-467D-A0E2-F911A14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075-4A0F-4157-8B03-F86FAECB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5FF-D07C-45E9-8732-FB7D786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159-3958-45D7-8F52-A72275E1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9A4-F063-432B-BE44-65BB6E63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C76-E069-4B70-9C6E-AF3642D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EA1-BC24-4F78-BB8D-1230459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02F-B8C9-4BA6-A947-8EAC233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4318-8F68-4917-9D70-3C7ECC92982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Jesus entrado em Jericó, ia pass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o homem veio buscar e salvar o que se havia per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eles estas coisas, ele prosseguiu, e contou uma parábola; porquanto estava perto de Jerusalém, e cuidavam que logo se havia de manifestar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pois: Certo homem nobre partiu para uma terra remota, a fim de tomar para si um reino e voltar dep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dez servos seus, deu-lhes dez minas, e disse-lhes: Negociai até que eu v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seus concidadãos odiavam-no, e mandaram após ele embaixadores, dizendo: Não queremos que este reine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voltando ele, depois de ter tomado o reino, disse que lhe chamassem aqueles servos, a quem tinha dado o dinheiro, para saber o que cada um tinha ganhado, negoci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o primeiro, dizendo: Senhor, a tua mina rendeu dez m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Bem está, servo bom, porque no mínimo foste fiel, sobre dez cidades terás autor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o segundo, dizendo: Senhor, a tua mina rendeu cinco m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ste disse também: Sê tu também sobre cinc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havia ali um homem chamado Zaqueu; e era este um chefe dos publicanos, e era r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outro, dizendo: Senhor, aqui está a tua mina, que guardei num lenç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ve medo de ti, que és homem rigoroso, que tomas o que não puseste, e segas o que não seme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ele lhe disse: Mau servo, pela tua boca te julgarei. Sabias que eu sou homem rigoroso, que tomo o que não pus, e sego o que não seme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ão puseste, pois, o meu dinheiro no banco, para que eu, vindo, o exigisse com os ju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que estavam com ele: Tirai-lhe a mina, e dai-a ao que tem dez m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E disseram-lhe eles: Senhor, ele tem dez minas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 vos digo que a qualquer que tiver ser-lhe-á dado, mas ao que não tiver, até o que tem lhe será t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queles meus inimigos que não quiseram que eu reinasse sobre eles, trazei-os aqui, e matai-os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to isto, ia caminhando adiante, subindo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hegando perto de Betfagé, e de Betânia, ao monte chamado das Oliveiras, mandou dois dos seus discípu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curava ver quem era Jesus, e não podia, por causa da multidão, pois era de pequena esta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Ide à aldeia que está defronte, e aí, ao entrar, achareis preso um jumentinho em que nenhum homem ainda montou; soltai-o e trazei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vos perguntar: Por que o soltais? assim lhe direis: Porque o Senhor o há de mis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os que haviam sido mandados, acharam como lhes dis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oltaram o jumentinho, seus donos lhes disseram: Por que soltais o jument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responderam: O Senhor o há de mis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-no a Jesus; e, lançando sobre o jumentinho as suas vestes, puseram Jesus em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e, estendiam no caminho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á chegava perto da descida do Monte das Oliveiras, toda a multidão dos discípulos, regozijando-se, começou a dar louvores a Deus em alta voz, por todas as maravilhas que tinham v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Bendito o Rei que vem em nome do Senhor; paz no céu, e glória n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 de entre a multidão alguns dos fariseus: Mestre, repreende os t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rrendo adiante, subiu a um sicômoro para o ver; porque havia de passar po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, disse-lhes: Digo-vos que, se estes se calarem, as próprias pedras clam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ia chegando, vendo a cidade, chorou sobre 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h! se tu conhecesses também, ao menos neste teu dia, o que à tua paz pertence! Mas agora isto está encoberto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as virão sobre ti, em que os teus inimigos te cercarão de trincheiras, e te sitiarão, e te estreitarão de todos os l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errubarão, a ti e aos teus filhos que dentro de ti estiverem, e não deixarão em ti pedra sobre pedra, pois que não conheceste o tempo da tua vis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o templo, começou a expulsar todos os que nele vendiam e comprav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-lhes: Está escrito: A minha casa é casa de oração; mas vós fizestes dela covil de salte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dias ensinava no templo; mas os principais dos sacerdotes, e os escribas, e os principais do povo procuravam mat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achavam meio de o fazer, porque todo o povo pendia para ele, escutando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Jesus chegou àquele lugar, olhando para cima, viu-o e disse-lhe: Zaqueu, desce depressa, porque hoje me convém pousar em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essando-se, desceu, e recebeu-o alegr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todos isto, murmuravam, dizendo que entrara para ser hóspede de um homem pec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Zaqueu, disse ao Senhor: Senhor, eis que eu dou aos pobres metade dos meus bens; e, se nalguma coisa tenho defraudado alguém, o restituo quadrupl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Jesus: Hoje veio a salvação a esta casa, pois também este é filho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55Z</dcterms:created>
  <dc:creator>Admin</dc:creator>
  <dc:description/>
  <dc:language>en-US</dc:language>
  <cp:lastModifiedBy>Admin</cp:lastModifiedBy>
  <dcterms:modified xsi:type="dcterms:W3CDTF">2008-07-31T00:11:55Z</dcterms:modified>
  <cp:revision>1</cp:revision>
  <dc:subject/>
  <dc:title>Slide 1</dc:title>
</cp:coreProperties>
</file>