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C65F-4521-4304-83C3-8F5C7CEC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ECE-F533-4A80-9462-23ED91AF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65F4-357A-4C06-BCAC-B2070D3E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11E5-26FD-49D5-B200-B5914E90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5968-6364-4BF7-9553-50280D3F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92F2-7BE4-4789-99EF-9DB648BC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0E53-423C-445A-BEAE-1ED6EC92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6066-B60D-44A9-9913-167D8B61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E822-6F7E-407E-8585-C16956E2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55A-3524-497B-BB0A-7DC30A50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D798-E373-4E93-8CB2-05239EA0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BEA8-E3AC-438D-A9FB-97EBE53E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0DDB-6E30-4C90-A20B-A4C235358A8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, nascido da mulher, é de poucos dias e farto de inquie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morto o homem, é consumido; sim, rendendo o homem o espírito, então onde está e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s águas se retiram do mar, e o rio se esgota, e fica sec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 homem se deita, e não se levanta; até que não haja mais céus, não acordará nem despertará de seu so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dera que me escondesses na sepultura, e me ocultasses até que a tua ira se fosse; e me pusesses um limite, e te lembrasses de mim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rrendo o homem, porventura tornará a viver? Todos os dias de meu combate esperaria, até que viesse a minha mud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amar-me-ias, e eu te responderia, e terias afeto à obra de t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 contas os meus passos; porventura não vigias sobre o meu peca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transgressão está selada num saco, e amontoas as minhas iniqü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a verdade, caindo a montanha, desfaz-se; e a rocha se remove d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águas gastam as pedras, as cheias afogam o pó da terra; e tu fazes perecer a esperança do hom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i como a flor, e murcha; foge também como a sombra, e não permane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para sempre prevaleces contra ele, e ele passa; mudas o seu rosto, e o despe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filhos recebem honra, sem que ele o saiba; são humilhados; sem que ele o perceb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sua carne nele tem dores; e a sua alma nele lam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este tal abres os teus olhos, e a mim me fazes entrar no juízo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do imundo tirará o puro? Ningu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o que os seus dias estão determinados, contigo está o número dos seus meses; e tu lhe puseste limites, e não passará além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via-te dele, para que tenha repouso, até que, como o jornaleiro, tenha contentamento no seu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há esperança para a árvore que, se for cortada, ainda se renovará, e não cessarão os seus ren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nvelhecer na terra a sua raiz, e o seu tronco morrer no pó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cheiro das águas brotará, e dará ramos como uma pla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1:02Z</dcterms:created>
  <dc:creator>Admin</dc:creator>
  <dc:description/>
  <dc:language>en-US</dc:language>
  <cp:lastModifiedBy>Admin</cp:lastModifiedBy>
  <dcterms:modified xsi:type="dcterms:W3CDTF">2008-07-31T00:01:02Z</dcterms:modified>
  <cp:revision>1</cp:revision>
  <dc:subject/>
  <dc:title>Slide 1</dc:title>
</cp:coreProperties>
</file>