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349-989D-4CC4-8BC1-96632890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CAE-CE86-40E0-BFC6-8F645B5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313-7355-43B5-9675-DF34E8C6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C14-5FDC-42D1-864A-1895742A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F7C-047F-47A9-9C6A-4597E87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C79-23D8-4C7E-9394-359CD6BA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5E5-BBA9-4E73-B51D-54A7EF0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BA2-1863-4F30-8977-92A59483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11E-5828-4B1B-96A7-2073E441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70A-179A-424F-8191-829D001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7B0-92E5-4E6C-8E37-AEF2197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6F0-7618-44D9-888A-D46355D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789-284B-4FDA-A732-4F22B32174D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acabando todo o povo de passar o Jordão, falou o SENHOR a Josué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ram, pois, os sacerdotes, que levavam a arca, no meio do Jordão, em pé, até que se cumpriu tudo quanto o SENHOR mandara Josué dizer ao povo, conforme a tudo quanto Moisés tinha ordenado a Josué; e apressou-se o povo, e pas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ssim que todo o povo acabou de passar, então passou a arca do SENHOR, e os sacerdotes, à vista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ram os filhos de Rúben, e os filhos de Gade, e a meia tribo de Manassés, armados na frente dos filhos de Israel, como Moisés lhes tinha fal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 quarenta mil homens de guerra, armados, passaram diante do SENHOR para batalha, às campinas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SENHOR engrandeceu a Josué diante dos olhos de todo o Israel; e temeram-no, como haviam temido a Moisés, todos os dias d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o SENHOR a Josué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 aos sacerdotes, que levam a arca do testemunho, que suba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Josué ordem aos sacerdotes, dizendo: Subi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os sacerdotes, que levavam a arca da aliança do SENHOR, subiram do meio do Jordão, e as plantas dos pés dos sacerdotes se puseram em seco, as águas do Jordão se tornaram ao seu lugar, e corriam, como antes, sobre todas as suas ri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o povo, do Jordão no dia dez do mês primeiro; e alojaram-se em Gilgal, do lado oriental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do povo doze homens, de cada tribo um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doze pedras, que tinham tomado do Jordão, levantou-as Josué em Gilg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aos filhos de Israel, dizendo: Quando no futuro vossos filhos perguntarem a seus pais, dizendo: Que significam estas ped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s saber a vossos filhos, dizendo: Israel passou em seco este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vosso Deus fez secar as águas do Jordão diante de vós, até que passásseis, como o SENHOR vosso Deus fez ao Mar Vermelho que fez secar perante nós, até que passáss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os povos da terra conheçam a mão do SENHOR, que é forte, para que temais ao SENHOR vosso Deus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ai-lhes, dizendo: Tirai daqui, do meio do Jordão, do lugar onde estavam firmes os pés dos sacerdotes, doze pedras; e levai-as convosco à outra margem e depositai-as no alojamento em que haveis de passar est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, pois, Josué os doze homens, que escolhera dos filhos de Israel; de cada tribo um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osué: Passai adiante da arca do SENHOR vosso Deus, ao meio do Jordão; e cada um levante uma pedra sobre o ombro, segundo o número das tribos dos filho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isto seja por sinal entre vós; e quando vossos filhos no futuro perguntarem, dizendo: Que significam estas ped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reis que as águas do Jordão se separaram diante da arca da aliança do SENHOR; passando ela pelo Jordão, separaram-se as águas do Jordão; assim estas pedras serão para sempre por memorial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, pois, os filhos de Israel assim como Josué tinha ordenado, e levantaram doze pedras do meio do Jordão como o SENHOR dissera a Josué, segundo o número das tribos dos filhos de Israel; e levaram-nas consigo ao alojamento, e as deposit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 Josué também doze pedras no meio do Jordão, no lugar onde estiveram parados os pés dos sacerdotes, que levavam a arca da aliança; e ali estão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56Z</dcterms:created>
  <dc:creator>Admin</dc:creator>
  <dc:description/>
  <dc:language>en-US</dc:language>
  <cp:lastModifiedBy>Admin</cp:lastModifiedBy>
  <dcterms:modified xsi:type="dcterms:W3CDTF">2008-07-31T00:04:56Z</dcterms:modified>
  <cp:revision>1</cp:revision>
  <dc:subject/>
  <dc:title>Slide 1</dc:title>
</cp:coreProperties>
</file>