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044-4673-4A6E-9AB2-B3A506F9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440-93CF-4091-8316-9DB12F4A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AB4-F999-43BC-91C8-7821A914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43E-62A3-451F-B5ED-854C3B4C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51B-8E0B-4640-8A4A-DBB83E1A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07C-64E1-46CE-A1E5-26F009ED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DE1-6DAC-4365-B3EB-0FC181B4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3B7-69CF-446B-A834-CD0DAB17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2E2-F01D-4D26-AA2F-3BE84D51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4B2-CBB4-400D-B3A6-87692FB1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1F4F-E598-42AA-9820-A0041248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32B-1423-4645-941C-0E393D41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151E-7915-485D-9D91-769ED0230EA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ERCA dos dons espirituais, não quero, irmãos, que sejais ignor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outro a operação de maravilhas; e a outro a profecia; e a outro o dom de discernir os espíritos; e a outro a variedade de línguas; e a outro a interpretação das lín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um só e o mesmo Espírito opera todas estas coisas, repartindo particularmente a cada um como qu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assim como o corpo é um, e tem muitos membros, e todos os membros, sendo muitos, são um só corpo, assim é Cristo tamb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odos nós fomos batizados em um Espírito, formando um corpo, quer judeus, quer gregos, quer servos, quer livres, e todos temos bebido de um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ambém o corpo não é um só membro, mas m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pé disser: Porque não sou mão, não sou do corpo; não será por isso do corp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 orelha disser: Porque não sou olho não sou do corpo; não será por isso do corp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odo o corpo fosse olho, onde estaria o ouvido? Se todo fosse ouvido, onde estaria o olfa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Deus colocou os membros no corpo, cada um deles como qu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todos fossem um só membro, onde estaria o corp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bem sabeis que éreis gentios, levados aos ídolos mudos, conforme éreis gui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há muitos membros, mas um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olho não pode dizer à mão: Não tenho necessidade de ti; nem ainda a cabeça aos pés: Não tenho necessidade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, os membros do corpo que parecem ser os mais fracos são necessári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reputamos serem menos honrosos no corpo, a esses honramos muito mais; e aos que em nós são menos decorosos damos muito mais hon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que em nós são mais nobres não têm necessidade disso, mas Deus assim formou o corpo, dando muito mais honra ao que tinha falta del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ão haja divisão no corpo, mas antes tenham os membros igual cuidado uns d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, se um membro padece, todos os membros padecem com ele; e, se um membro é honrado, todos os membros se regozijam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vós sois o corpo de Cristo, e seus membros em particu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uns pôs Deus na igreja, primeiramente apóstolos, em segundo lugar profetas, em terceiro doutores, depois milagres, depois dons de curar, socorros, governos, variedades de lín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são todos apóstolos? são todos profetas? são todos doutores? são todos operadores de milag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vos quero fazer compreender que ninguém que fala pelo Espírito de Deus diz: Jesus é anátema, e ninguém pode dizer que Jesus é o SENHOR, senão pel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êm todos o dom de curar? falam todos diversas línguas? interpretam to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procurai com zelo os melhores dons; e eu vos mostrarei um caminho mais excel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há diversidade de dons, mas o Espírito é o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iversidade de ministérios, mas o Senhor é o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iversidade de operações, mas é o mesmo Deus que opera tudo em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manifestação do Espírito é dada a cada um, para o que for út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um pelo Espírito é dada a palavra da sabedoria; e a outro, pelo mesmo Espírito, a palavra da ciênc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outro, pelo mesmo Espírito, a fé; e a outro, pelo mesmo Espírito, os dons de cur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1:46Z</dcterms:created>
  <dc:creator>Admin</dc:creator>
  <dc:description/>
  <dc:language>en-US</dc:language>
  <cp:lastModifiedBy>Admin</cp:lastModifiedBy>
  <dcterms:modified xsi:type="dcterms:W3CDTF">2008-07-30T23:41:46Z</dcterms:modified>
  <cp:revision>1</cp:revision>
  <dc:subject/>
  <dc:title>Slide 1</dc:title>
</cp:coreProperties>
</file>