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5E6E9-A4B5-4D97-8961-9273CB8A5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3BDBB-25E7-4DEC-A88B-90EBCA351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14DCF-163B-4E0A-B275-3CF662EE2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D9FA5-79CD-4A8E-8A82-2D0EA2735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63E0F-9660-451E-A0BB-8DE9F7BC9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C1247-2694-4026-BDBF-308956C02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AFBAD-C0C4-41D0-AF02-AAEEBBB8C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DF7C9-6787-483A-8BA0-3EE16ABE6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E3A78-ADE5-4419-B165-92261D13F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0E17C-9F4E-4D34-89F4-B2E9B7186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1E731-3252-41B0-A02D-913BE2EE3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3AF92-82D8-49AB-944B-36E0DBACD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EDC0F-D100-4B28-B746-C5DAFC3B9192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39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U disse: Guardarei os meus caminhos para não pecar com a minha língua; guardarei a boca com um freio, enquanto o ímpio estiver diante de mi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39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ira de sobre mim a tua praga; estou desfalecido pelo golpe da tua m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39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ando castigas o homem, com repreensões por causa da iniqüidade, fazes com que a sua beleza se consuma como a traça; assim todo homem é vaidade. (Selá.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39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uve, SENHOR, a minha oração, e inclina os teus ouvidos ao meu clamor; não te cales perante as minhas lágrimas, porque sou um estrangeiro contigo e peregrino, como todos os meus pai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39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upa-me, até que tome alento, antes que me vá, e não seja mai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39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om o silêncio fiquei mudo; calava-me mesmo acerca do bem, e a minha dor se agravo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39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squentou-se-me o coração dentro de mim; enquanto eu meditava se acendeu um fogo; então falei com a minha língua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39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Faze-me conhecer, SENHOR, o meu fim, e a medida dos meus dias qual é, para que eu sinta quanto sou frági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39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is que fizeste os meus dias como a palmos; o tempo da minha vida é como nada diante de ti; na verdade, todo homem, por mais firme que esteja, é totalmente vaidade. (Selá.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39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a verdade, todo homem anda numa vã aparência; na verdade, em vão se inquietam; amontoam riquezas, e não sabem quem as levará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39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gora, pois, Senhor, que espero eu? A minha esperança está em t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39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Livra-me de todas as minhas transgressões; não me faças o opróbrio dos louc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39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mudeci; não abro a minha boca, porquanto tu o fizes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1T00:25:13Z</dcterms:created>
  <dc:creator>Admin</dc:creator>
  <dc:description/>
  <dc:language>en-US</dc:language>
  <cp:lastModifiedBy>Admin</cp:lastModifiedBy>
  <dcterms:modified xsi:type="dcterms:W3CDTF">2008-07-31T00:25:13Z</dcterms:modified>
  <cp:revision>1</cp:revision>
  <dc:subject/>
  <dc:title>Slide 1</dc:title>
</cp:coreProperties>
</file>