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14F-93CF-4C04-9B0A-318EF47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566-B09A-47DD-8A93-8ED976DB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9B6-7A22-4117-8CF5-11A298DE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9D6-5D24-4BF2-BBE6-821E8C8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BB9-3557-45AC-A5C6-2E9CFD78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245-77D7-4514-BB44-C719BEF8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5B5-BF70-423E-BDD3-721D5D20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537-D64F-4A7A-92A5-27EB500B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EB0-A654-4E81-A816-97995C37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5D6-A03E-4AA4-903C-0AA0741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3B0-39C1-49B6-8041-2FC544E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085-AA51-4100-A1B5-0FE3907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1235-A955-46AA-90FA-F8FCCB9D85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s divisões dos porteiros: dos coraítas: Meselemias, filho de Coré, dos filhos de Asa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Hosa, dentre os filhos de Merari, foram filhos: Sinri o chefe (ainda que não era o primogênito, contudo seu pai o constituiu chefe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ilquias o segundo, Tebalias o terceiro, Zacarias o quarto; todos os filhos e irmãos de Hosa foram tre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 se fizeram as turmas dos porteiros, alternando os principais dos homens da guarda, juntamente com os seus irmãos, para ministrarem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sortes, assim os pequenos como os grandes, segundo as casas de seus pais, para ca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u a sorte do oriente a Selemias; e lançou-se a sorte por seu filho Zacarias, conselheiro entendido, e saiu-lhe a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Obede-Edom a do sul; e para seus filhos a casa dos depós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upim e Hosa a do ocidente, junto a porta Salequete, perto do caminho da subida; uma guarda defronte de outr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oriente seis levitas; ao norte quatro por dia, ao sul quatro por dia, porém para as casas dos depósitos de dois em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Parbar, ao ocidente, quatro junto ao caminho, e dois junto a Par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turmas dos porteiros dentre os filhos dos coraítas, e dentre os filhos d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Meselemias: Zacarias o primogênito, Jediael o segundo, Zebadias o terceiro, Jatniel o quar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levitas: Aías tinha cargo dos tesouros da casa de Deus e dos tesouros das coisas sag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Ladã, os filhos dos gersonitas que pertencem a Ladã, chefes das casas paternas de Ladã: Jei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eieli: Zetã e Joel, seu irmão; estes tinham cargo dos tesouros da casa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anramitas, dos izaritas, dos hebronitas, dos uzie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buel, filho de Gérson, o filho de Moisés, era o chefe dos tes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 foram, do lado de Eliézer, Reabias seu filho, e Jesaías seu filho, e Jorão seu filho, e Zicri seu filho, e Selomite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lomite e seus irmãos tinham a seu cargo todos os tesouros das coisas dedicadas que o rei Davi e os chefes das casas paternas, capitães de milhares, e de centenas, e capitães do exército tinham consag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despojos das guerras dedicaram ofertas para repararem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tudo quanto tinha consagrado Samuel, o vidente, e Saul filho de Quis, e Abner filho de Ner, e Joabe filho de Zeruia; tudo que qualquer havia dedicado estava debaixo da mão de Selomite 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izaritas, Quenanias e seus filhos foram postos sobre Israel como oficiais e como juízes, dos negócios exte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ão o quinto, Joanã o sexto, Elioenai o sét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hebronitas foram Hasabias e seus irmãos, homens valentes, mil e setecentos, que tinham a superintendência sobre Israel, além do Jordão para o ocidente, em toda a obra do SENHOR, e para o serviç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hebronitas Jerias era o chefe, segundo as suas gerações conforme as suas famílias. No ano quarenta do reino de Davi se buscaram e acharam entre eles homens valentes em Jazer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homens valentes, dois mil e setecentos, chefes dos pais; e o rei Davi os constituiu sobre os rubenitas e os gaditas, e a meia tribo dos manassitas, para todos os negócios de Deus, e para todos os negócio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Obede-Edom foram: Semaías o primogênito, Jozabade o segundo, Joá o terceiro, e Sacar o quarto, e Natanael o qui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iel o sexto, Issacar o sétimo, Peuletai o oitavo; porque Deus o tinha abenç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seu filho Semaías nasceram filhos, que dominaram sobre a casa de seu pai; porque foram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maías: Otni, Rafael, Obede, e Elzabade, com seus irmãos, homens valentes, Eliú e Sema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oram dos filhos de Obede-Edom; eles e seus filhos, e seus irmãos, homens valentes e de força para o ministério; ao todo sessenta e dois, de Obede-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e os irmãos de Meselemias, homens valentes, foram dez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50Z</dcterms:created>
  <dc:creator>Admin</dc:creator>
  <dc:description/>
  <dc:language>en-US</dc:language>
  <cp:lastModifiedBy>Admin</cp:lastModifiedBy>
  <dcterms:modified xsi:type="dcterms:W3CDTF">2008-07-30T23:43:50Z</dcterms:modified>
  <cp:revision>1</cp:revision>
  <dc:subject/>
  <dc:title>Slide 1</dc:title>
</cp:coreProperties>
</file>