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7E5-F540-4C0A-AC7E-E2A115DA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A45-562E-4DBB-9AE5-702D374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408-6918-4965-9630-8E8B59E5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FB6-C784-42C5-8FC4-55205161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B04-33D2-463D-8175-29631BC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BD3-F44D-4944-9785-06387C3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DB0-14B3-4A35-A87C-57A85FB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080-19F1-42B7-8B3D-0EBDA26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A4B-8B1A-473E-AD22-0CE46209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093-D468-4073-BB9D-F0D32D6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908-CB8C-4BC2-AAB5-0B6379F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621-3082-42C3-B388-7A61744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F2AF-D3CB-404D-9067-9A64C1AB20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meus imitadores, como também eu sou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 mulher deve ter sobre a cabeça sinal de poderio, por causa dos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nem o homem é sem a mulher, nem a mulher sem o homem,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a mulher provém do homem, assim também o homem provém da mulher, mas tudo ve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ai entre vós mesmos: é decente que a mulher ore a Deus descober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vos ensina a mesma natureza que é desonra para o homem ter cabelo cresc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er a mulher cabelo crescido lhe é honroso, porque o cabelo lhe foi dado em lugar de v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quiser ser contencioso, nós não temos tal costume, nem as igrej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, porém, que vou dizer-vos não vos louvo; porquanto vos ajuntais, não para melhor, senão para p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tes de tudo ouço que, quando vos ajuntais na igreja, há entre vós dissensões; e em parte o cr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importa que haja entre vós heresias, para que os que são sinceros se manifestem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uvo-vos, irmãos, porque em tudo vos lembrais de mim, e retendes os preceitos como vo-los entreg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quando vos ajuntais num lugar, não é para comer a cei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endo, cada um toma antecipadamente a sua própria ceia; e assim um tem fome e outro embriaga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ndes porventura casas para comer e para beber? Ou desprezais a igreja de Deus, e envergonhais os que nada têm? Que vos direi? Louvar-vos-ei? Nisto não vos lou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recebi do SENHOR o que também vos ensinei: que o Senhor Jesus, na noite em que foi traído, tomou o p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ado graças, o partiu e disse: Tomai, comei; isto é o meu corpo que é partido por vós; fazei isto em memóri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também, depois de cear, tomou o cálice, dizendo: Este cálice é o novo testamento no meu sangue; fazei isto, todas as vezes que beberdes, em memóri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s as vezes que comerdes este pão e beberdes este cálice anunciais a morte do Senhor, até que v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qualquer que comer este pão, ou beber o cálice do Senhor indignamente, será culpado do corpo e do sangu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mine-se, pois, o homem a si mesmo, e assim coma deste pão e beba deste cáli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come e bebe indignamente, come e bebe para sua própria condenação, não discernindo o corp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ro que saibais que Cristo é a cabeça de todo o homem, e o homem a cabeça da mulher; e Deus a cabeça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isto há entre vós muitos fracos e doentes, e muitos que dor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nós nos julgássemos a nós mesmos, não seríamos jul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somos julgados, somos repreendidos pelo Senhor, para não sermos condenados com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meus irmãos, quando vos ajuntais para comer, esperai uns pel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m tiver fome, coma em casa, para que não vos ajunteis para condenação. Quanto às demais coisas, ordená-las-ei quando f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homem que ora ou profetiza, tendo a cabeça coberta, desonra a sua própri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a a mulher que ora ou profetiza com a cabeça descoberta, desonra a sua própria cabeça, porque é como se estivesse ra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a mulher não se cobre com véu, tosquie-se também. Mas, se para a mulher é coisa indecente tosquiar-se ou rapar-se, que ponha o v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, pois, não deve cobrir a cabeça, porque é a imagem e glória de Deus, mas a mulher é a glória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homem não provém da mulher, mas a mulher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o homem não foi criado por causa da mulher, mas a mulher por causa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41Z</dcterms:created>
  <dc:creator>Admin</dc:creator>
  <dc:description/>
  <dc:language>en-US</dc:language>
  <cp:lastModifiedBy>Admin</cp:lastModifiedBy>
  <dcterms:modified xsi:type="dcterms:W3CDTF">2008-07-30T23:41:41Z</dcterms:modified>
  <cp:revision>1</cp:revision>
  <dc:subject/>
  <dc:title>Slide 1</dc:title>
</cp:coreProperties>
</file>