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67B-0139-4CF0-A9AB-15DE48C8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A31-8D18-495B-BBDC-19B8498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5C1-DBB1-4F36-96CF-C267BD27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309-C88E-4D55-8CFE-446E6FD7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278-2899-4F68-A4FD-9694BDC5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065-2DB2-40E3-8D7A-5642A9CA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C2C-C109-4313-9826-89BE312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3D4-E081-40CD-86C1-014732AB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CF8-4E21-44F8-BBDA-A7CD7AF6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A7D-2DF3-4D1A-922D-B74BF8A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C51-C00F-47FF-84F1-6DB8195D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B83-4E9D-48E6-B446-ED25B12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5078-ADE5-4497-9027-214ACA58660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O terceiro dia, fizeram-se umas bodas em Caná da Galiléia; e estava ali a mãe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Todo o homem põe primeiro o vinho bom e, quando já têm bebido bem, então o inferior; mas tu guardaste até agora o bom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principiou assim os seus sinais em Caná da Galiléia, e manifestou a sua glória; e os seus discípulos cre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desceu a Cafarnaum, ele, e sua mãe, e seus irmãos, e seus discípulos; e ficaram ali não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próxima a páscoa dos judeus, e Jesus subiu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 no templo os que vendiam bois, e ovelhas, e pombos, e os cambiadores assen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do feito um azorrague de cordéis, lançou todos fora do templo, também os bois e ovelhas; e espalhou o dinheiro dos cambiadores, e derribou as me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que vendiam pombos: Tirai daqui estes, e não façais da casa de meu Pai casa de v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 lembraram-se do que está escrito: O zelo da tua casa me devo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, pois, os judeus, e disseram-lhe: Que sinal nos mostras para fazeres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s: Derribai este templo, e em três dias o levan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ambém convidado Jesus e os seus discípulos para as b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is, os judeus: Em quarenta e seis anos foi edificado este templo, e tu o levantarás em três d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falava do templo do s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ressuscitou dentre os mortos, os seus discípulos lembraram-se de que lhes dissera isto; e creram na Escritura, e na palavra que Jesus tinha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em Jerusalém pela páscoa, durante a festa, muitos, vendo os sinais que fazia, creram n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mesmo Jesus não confiava neles, porque a todos conhe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necessitava de que alguém testificasse do homem, porque ele bem sabia o que havia n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ltando vinho, a mãe de Jesus lhe disse: Não têm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Mulher, que tenho eu contigo? Ainda não é chegada a minha 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a mãe disse aos serventes: Fazei tudo quanto ele vos dis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ali postas seis talhas de pedra, para as purificações dos judeus, e em cada uma cabiam dois ou três almu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Jesus: Enchei de água essas talhas. E encheram-nas até em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Tirai agora, e levai ao mestre-sala. E lev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o mestre-sala provou a água feita vinho (não sabendo de onde viera, se bem que o sabiam os serventes que tinham tirado a água), chamou o mestre-sala ao espo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44Z</dcterms:created>
  <dc:creator>Admin</dc:creator>
  <dc:description/>
  <dc:language>en-US</dc:language>
  <cp:lastModifiedBy>Admin</cp:lastModifiedBy>
  <dcterms:modified xsi:type="dcterms:W3CDTF">2008-07-31T00:02:44Z</dcterms:modified>
  <cp:revision>1</cp:revision>
  <dc:subject/>
  <dc:title>Slide 1</dc:title>
</cp:coreProperties>
</file>