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9C3-C5E5-49F7-8530-D8AB2A22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D0D-4CE8-4703-9E5F-4D63BD5C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35F-F17A-4696-8DD4-A0FD24C0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730-8273-4824-8C45-7A743E45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BDC-C933-449F-BD11-6347CC5B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7D4-BE16-4E42-AFC9-580F4747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8F1-609E-49C1-B1D1-0583E5A5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E78-591B-409A-9253-80F8D1A8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2FD-5306-4E54-9CBD-25F41488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669-276A-418C-9110-D26DE92F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D34-1328-43E8-909B-91873ACB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FD4-7ACA-443B-BDED-94BA0477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69F8-9842-4A92-8C41-A3AF030D316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irmãos, não quero que ignoreis que nossos pais estiveram todos debaixo da nuvem, e todos passaram pel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murmureis, como também alguns deles murmuraram, e pereceram pelo destrui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tudo isto lhes sobreveio como figuras, e estão escritas para aviso nosso, para quem já são chegados os fins dos séc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, pois, que cuida estar em pé, olhe não ca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eio sobre vós tentação, senão humana; mas fiel é Deus, que não vos deixará tentar acima do que podeis, antes com a tentação dará também o escape, para que a possais supor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meus amados, fugi da idolat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 como a entendidos; julgai vós mesmos o que d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o cálice de bênção, que abençoamos, não é a comunhão do sangue de Cristo? O pão que partimos não é porventura a comunhão do corpo de Cri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ós, sendo muitos, somos um só pão e um só corpo, porque todos participamos do mesmo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 a Israel segundo a carne; os que comem os sacrifícios não são porventura participantes do alt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 digo? Que o ídolo é alguma coisa? Ou que o sacrificado ao ídolo é alguma coi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foram batizados em Moisés, na nuvem e no m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digo que as coisas que os gentios sacrificam, as sacrificam aos demônios, e não a Deus. E não quero que sejais participantes com os demôn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odeis beber o cálice do Senhor e o cálice dos demônios; não podeis ser participantes da mesa do Senhor e da mesa dos demôn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irritaremos o Senhor? Somos nós mais fortes do que 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coisas me são lícitas, mas nem todas as coisas convêm; todas as coisas me são lícitas, mas nem todas as coisas edific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busque o proveito próprio; antes cada um o que é de out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ei de tudo quanto se vende no açougue, sem perguntar nada, por causa da consci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terra é do Senhor e toda a sua plenitu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m dos infiéis vos convidar, e quiserdes ir, comei de tudo o que se puser diante de vós, sem nada perguntar, por causa da consci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lguém vos disser: Isto foi sacrificado aos ídolos, não comais, por causa daquele que vos advertiu e por causa da consciência; porque a terra é do Senhor, e toda a sua plenitu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, porém, a consciência, não a tua, mas a do outro. Pois por que há de a minha liberdade ser julgada pela consciência de outr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comeram de uma mesma comida espiritua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eu com graça participo, por que sou blasfemado naquilo por que dou graç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quer comais quer bebais, ou façais outra qualquer coisa, fazei tudo para glóri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i-vos de modo que não deis escândalo nem aos judeus, nem aos gregos, nem à igrej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eu em tudo agrado a todos, não buscando o meu próprio proveito, mas o de muitos, para que assim se possam salv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beram todos de uma mesma bebida espiritual, porque bebiam da pedra espiritual que os seguia; e a pedra era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não se agradou da maior parte deles, por isso foram prostrados n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coisas foram-nos feitas em figura, para que não cobicemos as coisas más, como eles cobiç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façais, pois, idólatras, como alguns deles, conforme está escrito: O povo assentou-se a comer e a beber, e levantou-se para fol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nos prostituamos, como alguns deles fizeram; e caíram num dia vinte e três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entemos a Cristo, como alguns deles também tentaram, e pereceram pelas serp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37Z</dcterms:created>
  <dc:creator>Admin</dc:creator>
  <dc:description/>
  <dc:language>en-US</dc:language>
  <cp:lastModifiedBy>Admin</cp:lastModifiedBy>
  <dcterms:modified xsi:type="dcterms:W3CDTF">2008-07-30T23:41:37Z</dcterms:modified>
  <cp:revision>1</cp:revision>
  <dc:subject/>
  <dc:title>Slide 1</dc:title>
</cp:coreProperties>
</file>