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C3E-F496-452F-9935-E05DBE63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110-60B7-47C7-8015-2D44F392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D5D-9911-4EC5-A5A8-C8B973A1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439-0DF2-4ACD-A008-14D0F80A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BE7-D42D-4960-A64E-465D38F8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185-8EB1-4149-A32E-674A833C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0A5-5ECB-498B-9F4A-1D7C372E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953-F604-4B84-9BAD-E60AB702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69D-DEE8-4A88-89A5-574926C0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03F-39C2-4510-932B-5185569D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39A-A0B2-4895-9B2E-CFA485DE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3B3-D960-4E4C-9A1E-55B1574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9298-7C51-486C-994C-3FFF733E5F4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a quem forem trilhados os testículos, ou cortado o membro viril, não entrará na congregaçã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ntre ti houver alguém que, por algum acidente noturno, não estiver limpo, sairá fora do arraial; não entrará no mei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rá que, declinando a tarde, se lavará em água; e, em se pondo o sol, entrará no meio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erás um lugar fora do arraial, para onde sa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 as tuas armas terás uma pá; e será que, quando estiveres assentado, fora, então com ela cavarás e, virando-te, cobrirás o que defec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SENHOR teu Deus anda no meio de teu arraial, para te livrar, e entregar a ti os teus inimigos; pelo que o teu arraial será santo, para que ele não veja coisa feia em ti, e se apar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ntregarás a seu SENHOR o servo que, tendo fugido dele, se acolher a t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igo ficará, no meio de ti, no lugar que escolher em alguma das tuas portas, onde lhe agradar; não o oprim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erá prostituta dentre as filhas de Israel; nem haverá sodomita dentre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rarás o salário da prostituta nem preço de um sodomita à casa do SENHOR teu Deus por qualquer voto; porque ambos são igualmente abominação a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u irmão não emprestarás com juros, nem dinheiro, nem comida, nem qualquer coisa que se empreste com j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bastardo entrará na congregação do SENHOR; nem ainda a sua décima geração entrará na congregaçã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estranho emprestarás com juros, porém a teu irmão não emprestarás com juros; para que o SENHOR teu Deus te abençoe em tudo que puseres a tua mão, na terra a qual vais a poss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fizeres algum voto ao SENHOR teu Deus, não tardarás em cumpri-lo; porque o SENHOR teu Deus certamente o requererá de ti, e em ti haverá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abstendo-te de votar, não haverá pecado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saiu dos teus lábios guardarás, e cumprirás, tal como voluntariamente votaste ao SENHOR teu Deus, declarando-o pela t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ntrares na vinha do teu próximo, comerás uvas conforme ao teu desejo até te fartares, porém não as porás no teu ce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ntrares na seara do teu próximo, com a tua mão arrancarás as espigas; porém não porás a foice na seara do t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amonita nem moabita entrará na congregação do SENHOR; nem ainda a sua décima geração entrará na congregação do SENHOR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saíram com pão e água, a receber-vos no caminho, quando saíeis do Egito; e porquanto alugaram contra ti a Balaão, filho de Beor, de Petor, de Mesopotâmia, para te amaldiço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teu Deus não quis ouvir Balaão; antes o SENHOR teu Deus trocou em bênção a maldição; porquanto o SENHOR teu Deus te am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lhes procurarás nem paz nem bem em todos os teus dias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bominarás o edomeu, pois é teu irmão; nem abominarás o egípcio, pois estrangeiro foste n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que lhes nascerem na terceira geração, cada um deles entrará na congregaçã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exército sair contra os teus inimigos, então te guardarás de toda a coisa m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28Z</dcterms:created>
  <dc:creator>Admin</dc:creator>
  <dc:description/>
  <dc:language>en-US</dc:language>
  <cp:lastModifiedBy>Admin</cp:lastModifiedBy>
  <dcterms:modified xsi:type="dcterms:W3CDTF">2008-07-30T23:28:28Z</dcterms:modified>
  <cp:revision>1</cp:revision>
  <dc:subject/>
  <dc:title>Slide 1</dc:title>
</cp:coreProperties>
</file>