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F4C-93F9-4BFD-8679-5E6289D0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562-42D0-45B3-A763-2692E1FE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7AC-F88F-4D93-B5EB-6FA9EE0F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EE3C-B8B7-41C5-B74D-60223E71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AD83-0A79-428C-9D4C-D890B1A0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B2B-76C8-4B06-95BB-D71AB784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EAE-460F-4A67-99AC-25174426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FFF6-EA03-4E90-847C-96E21A04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B19-1983-48F0-83E7-4E257E7A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D86-8E1B-4883-994C-93E8615E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A406-B5D4-4477-A9A3-B110F99F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193-432F-41FC-B4B0-56BF56BC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3171-76FD-4725-BE65-9429C5D4A18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povo da terra tomou a Jeoacaz, filho de Josias, e o fez rei em lugar de seu pai,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ecurso de um ano enviou o rei Nabucodonosor, e mandou trazê-lo a Babilônia, com os mais preciosos vasos da casa do SENHOR; e pôs a Zedequias, seu irmão, rei sobre Judá 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Zedequias a idade de vinte e cinco anos, quando começou a reinar; e onze anos reinou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 seu Deus; nem se humilhou perante o profeta Jeremias, que falava da part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ém disto, também se rebelou contra o rei Nabucodonosor, que o tinha ajuramentado por Deus. Mas endureceu a sua cerviz, e tanto se obstinou no seu coração, que não se converteu ao SENHOR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dos os chefes dos sacerdotes e o povo aumentavam de mais em mais as transgressões, segundo todas as abominações dos gentios; e contaminaram a casa do SENHOR, que ele tinha santificado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eus de seus pais, falou-lhes constantemente por intermédio dos mensageiros, porque se compadeceu do seu povo e da sua habi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, porém, zombaram dos mensageiros de Deus, e desprezaram as suas palavras, e mofaram dos seus profetas; até que o furor do SENHOR tanto subiu contra o seu povo, que mais nenhum remédio hou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fez subir contra eles o rei dos caldeus, o qual matou os seus jovens à espada, na casa do seu santuário, e não teve piedade nem dos jovens, nem das donzelas, nem dos velhos, nem dos decrépitos; a todos entregou n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vasos da casa de Deus, grandes e pequenos, os tesouros da casa do SENHOR, e os tesouros do rei e dos seus príncipes, tudo levou par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imaram a casa de Deus, e derrubaram os muros de Jerusalém, e todos os seus palácios queimaram a fogo, destruindo também todos os seus preciosos va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Jeoacaz a idade de vinte e três anos, quando começou a reinar; e três meses reinou em Jerusalé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escaparam da espada levou para Babilônia; e fizeram-se servos dele e de seus filhos, até ao tempo do reino da Pérs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se cumprisse a palavra do SENHOR, pela boca de Jeremias, até que a terra se agradasse dos seus sábados; todos os dias da assolação repousou, até que os setenta anos se cumpr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no primeiro ano de Ciro, rei da Pérsia (para que se cumprisse a palavra do SENHOR pela boca de Jeremias), despertou o SENHOR o espírito de Ciro, rei da Pérsia, o qual fez passar pregão por todo o seu reino, como também por escrit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Ciro, rei da Pérsia: O SENHOR Deus dos céus me deu todos os reinos da terra, e me encarregou de lhe edificar uma casa em Jerusalém, que está em Judá. Quem há entre vós, de todo o seu povo, o SENHOR seu Deus seja com ele, e su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rei do Egito o depôs em Jerusalém, e condenou a terra à contribuição de cem talentos de prata e um talento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o Egito pôs a Eliaquim, irmão de Jeoacaz, rei sobre Judá e Jerusalém, e mudou-lhe o nome em Jeoiaquim; mas a seu irmão Jeoacaz tomou Neco, e levou-o para 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Jeoiaquim vinte e cinco anos de idade, quando começou a reinar, e reinou onze anos em Jerusalém; e fez o que era mau aos olhos do SENHOR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u, pois, contra ele Nabucodonosor, rei de Babilônia, e o amarrou com cadeias, para o levar 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lguns dos vasos da casa do SENHOR levou Nabucodonosor a Babilônia, e pô-los no seu templo em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 dos atos de Jeoiaquim, e as abominações que fez, e o mais que se achou nele, eis que estão escritos no livro dos reis de Israel e de Judá; e Joaquim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Joaquim a idade de oito anos, quando começou a reinar; e reinou três meses e dez dias em Jerusalém; e fez o que era mau aos olho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0:49Z</dcterms:created>
  <dc:creator>Admin</dc:creator>
  <dc:description/>
  <dc:language>en-US</dc:language>
  <cp:lastModifiedBy>Admin</cp:lastModifiedBy>
  <dcterms:modified xsi:type="dcterms:W3CDTF">2008-07-30T23:50:49Z</dcterms:modified>
  <cp:revision>1</cp:revision>
  <dc:subject/>
  <dc:title>Slide 1</dc:title>
</cp:coreProperties>
</file>