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8A0-678F-40E1-97B9-9CEA39D4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962-B093-4AE3-9D3D-DED66318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90E-1555-4F30-B83C-ABCD449E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D39-67A4-4F1C-B63D-F3430D95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C9B-9C04-4BD2-95C4-8DF5201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690-6737-4A11-88CE-A1144B65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61B-6A20-4B34-B61E-235AC8F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389-7C89-40FE-9BEE-A80F6F3E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CF9-8EB6-4808-9AEB-36BC37EB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080-3C85-4FA1-8974-1A15EB2A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3F9-398D-4ABA-B027-D0E53EEC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A4C-7D93-428E-9369-77F924D0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D749-16A2-4A89-9182-DAE8D2F721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Se uma mulher conceber e der à luz um menino, será imunda sete dias, assim como nos dias da separação da sua enfermidade, será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oitavo se circuncidará ao menino a carne do seu prepú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icará ela trinta e três dias no sangue da sua purificação; nenhuma coisa santa tocará e não entrará no santuário até que se cumpram os dias da sua pur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der à luz uma menina será imunda duas semanas, como na sua separação; depois ficará sessenta e seis dias no sangue da sua pur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forem cumpridos os dias da sua purificação por filho ou por filha, trará um cordeiro de um ano por holocausto, e um pombinho ou uma rola para expiação do pecado, diante da porta da tenda da congregação, a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o oferecerá perante o SENHOR, e por ela fará propiciação; e será limpa do fluxo do seu sangue; esta é a lei da que der à luz menino ou men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em sua mão não houver recursos para um cordeiro, então tomará duas rolas, ou dois pombinhos, um para o holocausto e outro para a propiciação do pecado; assim o sacerdote por ela fará expiação, e será lim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42Z</dcterms:created>
  <dc:creator>Admin</dc:creator>
  <dc:description/>
  <dc:language>en-US</dc:language>
  <cp:lastModifiedBy>Admin</cp:lastModifiedBy>
  <dcterms:modified xsi:type="dcterms:W3CDTF">2008-07-31T00:08:42Z</dcterms:modified>
  <cp:revision>1</cp:revision>
  <dc:subject/>
  <dc:title>Slide 1</dc:title>
</cp:coreProperties>
</file>