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367-49A2-4E3B-8B38-F1C79EBF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FB4-5FCF-48A4-A972-8FD64123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66D-1B92-4FF4-9FAD-1853E581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0D4-72D9-41CF-AFC9-B8BA585F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6DF-36EF-417D-BC00-133D624A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F23-A3C6-40FB-A363-DFDB5AD6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66F-CF3E-470D-A493-AC1C2084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A68-EFDB-4463-A14D-43263219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302-B37B-483C-A47E-D561F8C0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FC9-557D-47B5-890A-DC9DBC0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6A0-2748-4686-9133-AB484548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D01-4A74-44BD-B4C7-AB9AA15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88AD-F9A5-4C7F-BE5B-3764ACE48D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leu-se no livro de Moisés, aos ouvidos do povo; e achou-se escrito nele que os amonitas e os moabitas não entrassem jamais na congregação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ntendi que os quinhões dos levitas não se lhes davam, de maneira que os levitas e os cantores, que faziam a obra, tinham fugido cada um para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tendi com os magistrados, e disse: Por que se desamparou a casa de Deus? Porém eu os ajuntei, e os restaurei no seu p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Judá trouxe os dízimos do grão, do mosto e do azeite aos ce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tesoureiros pus sobre os celeiros a Selemias, o sacerdote, e a Zadoque, o escrivão e a Pedaías, dentre os levitas; e com eles Hanã, filho de Zacur, o filho de Matanias; porque foram achados fiéis; e se lhes encarregou a eles a distribuição para s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to, Deus meu, lembra-te de mim e não risques as beneficências que eu fiz à casa de meu Deus e às suas observân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s dias vi em Judá os que pisavam lagares ao sábado e traziam feixes que carregavam sobre os jumentos; como também vinho, uvas e figos, e toda a espécie de cargas, que traziam a Jerusalém no dia de sábado; e protestei contra eles no dia em que v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abitavam em Jerusalém tírios que traziam peixe e toda a mercadoria, que vendiam no sábado aos filhos de Judá, e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endi com os nobres de Judá, e lhes disse: Que mal é este que fazeis, profanando o dia de sáb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fizeram vossos pais assim, e não trouxe o nosso Deus todo este mal sobre nós e sobre esta cidade? E vós ainda mais acrescentais o ardor de sua ira sobre Israel, profanando o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dando já sombra nas portas de Jerusalém antes do sábado, ordenei que as portas fossem fechadas; e mandei que não as abrissem até passado o sábado; e pus às portas alguns de meus servos, para que nenhuma carga entrasse no dia de sáb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não tinham saído ao encontro dos filhos de Israel com pão e água; antes contra eles assalariaram a Balaão para os amaldiçoar; porém o nosso Deus converteu a maldição em bê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negociantes e os vendedores de toda a mercadoria passaram a noite fora de Jerusalém, uma ou duas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testei, pois, contra eles, e lhes disse: Por que passais a noite defronte do muro? Se outra vez o fizerdes, hei de lançar mão de vós. Daquele tempo em diante não vieram no sá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isse aos levitas que se purificassem, e viessem guardar as portas, para santificar o sábado. Nisto também, Deus meu, lembra-te de mim e perdoa-me segundo a abundância da tua benig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também naqueles dias judeus que tinham casado com mulheres asdoditas, amonitas e moab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filhos falavam meio asdodita, e não podiam falar judaico, senão segundo a língua de cada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endi com eles, e os amaldiçoei e espanquei alguns deles, e lhes arranquei os cabelos, e os fiz jurar por Deus, dizendo: Não dareis mais vossas filhas a seus filhos, e não tomareis mais suas filhas, nem para vossos filhos nem para vós mes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pecou nisto Salomão, rei de Israel, não havendo entre muitas nações rei semelhante a ele, e sendo ele amado de seu Deus, e pondo-o Deus rei sobre todo o Israel? E contudo as mulheres estrangeiras o fizeram pe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-vos-íamos nós ouvidos, para fazermos todo este grande mal, prevaricando contra o nosso Deus, casando com mulheres estrangei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um dos filhos de Joiada, filho de Eliasibe, o sumo sacerdote, era genro de Sambalate, o horonita, por isso o afugentei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eles, Deus meu, pois contaminaram o sacerdócio, como também a aliança do sacerdócio e d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que, ouvindo eles esta lei, apartaram de Israel todo o elemento m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limpei de todo o estrangeiro, e designei os cargos dos sacerdotes e dos levitas, cada um na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para com as ofertas de lenha em tempos determinados, e para com as primícias; lembra-te de mim, Deus meu, para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ntes disto, Eliasibe, sacerdote, que presidia sobre a câmara da casa do nosso Deus, se tinha aparentado com Tob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-lhe uma câmara grande, onde dantes se depositavam as ofertas de alimentos, o incenso, os utensílios, os dízimos do grão, do mosto e do azeite, que se ordenaram para os levitas, cantores e porteiros, como também a oferta alçada para os sacerd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urante tudo isto não estava eu em Jerusalém, porque no ano trinta e dois de Artaxerxes, rei de Babilônia, fui ter com o rei; mas após alguns dias tornei a alcançar licença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ndo a Jerusalém, compreendi o mal que Eliasibe fizera para Tobias, fazendo-lhe uma câmara nos pátios d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muito me desagradou; de sorte que lancei todos os móveis da casa de Tobias fora da câm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rdenando-o eu, purificaram as câmaras; e tornei a trazer para ali os utensílios da casa de Deus, com as ofertas de alimentos e o inc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33Z</dcterms:created>
  <dc:creator>Admin</dc:creator>
  <dc:description/>
  <dc:language>en-US</dc:language>
  <cp:lastModifiedBy>Admin</cp:lastModifiedBy>
  <dcterms:modified xsi:type="dcterms:W3CDTF">2008-07-31T00:17:33Z</dcterms:modified>
  <cp:revision>1</cp:revision>
  <dc:subject/>
  <dc:title>Slide 1</dc:title>
</cp:coreProperties>
</file>