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2A9-CA6C-41BD-88F0-057D1C09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ED5-76BE-467C-AB64-B3AF6B84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1B1-598E-47C8-9359-70006927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953-3841-4B83-BCA6-EF579778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397-128C-433B-B99F-29969B19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48D-9F85-451B-B520-7B66060B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26B-63A4-4D09-8212-76976161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891-E8B7-461F-95FD-E3A67B4E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256-5BD0-43CA-9267-D8D83A67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39E-1CCB-42B9-A063-CD0AF6A0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C64-79B6-4F8A-ABCB-158E0FA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D96-4910-4E48-96B7-0D5402F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9FEC-A407-4806-840A-F6F7C8D7E90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tu me sondaste, e me conhec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li a tua mão me guiará e a tua destra me sust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: Decerto que as trevas me encobrirão; então a noite será luz à rod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ainda as trevas me encobrem de ti; mas a noite resplandece como o dia; as trevas e a luz são para ti a mesma coi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possuíste os meus rins; cobriste-me no ventre de minh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louvarei, porque de um modo assombroso, e tão maravilhoso fui feito; maravilhosas são as tuas obras, e a minha alma o sabe muit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ssos não te foram encobertos, quando no oculto fui feito, e entretecido nas profundez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olhos viram o meu corpo ainda informe; e no teu livro todas estas coisas foram escritas; as quais em continuação foram formadas, quando nem ainda uma delas ha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ão preciosos me são, ó Deus, os teus pensamentos! Quão grandes são as somas del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s contasse, seriam em maior número do que a areia; quando acordo ainda estou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tu matarás decerto o ímpio; apartai-vos portanto de mim, homens de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sabes o meu assentar e o meu levantar; de longe entendes o meu pens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falam malvadamente contra ti; e os teus inimigos tomam o teu nome em 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deio eu, ó SENHOR, aqueles que te odeiam, e não me aflijo por causa dos que se levantam contr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deio-os com ódio perfeito; tenho-os por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nda-me, ó Deus, e conhece o meu coração; prova-me, e conhece os meus pens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ê se há em mim algum caminho mau, e guia-me pelo caminho et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cas o meu andar, e o meu deitar; e conheces todos os m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ndo ainda palavra alguma na minha língua, eis que logo, ó SENHOR, tudo conhec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me cercaste por detrás e por diante, e puseste sobre mim 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l ciência é para mim maravilhosíssima; tão alta que não a posso ating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nde me irei do teu espírito, ou para onde fugirei da tua fa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ubir ao céu, lá tu estás; se fizer no inferno a minha cama, eis que tu ali estás també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omar as asas da alva, se habitar nas extremidades do m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37Z</dcterms:created>
  <dc:creator>Admin</dc:creator>
  <dc:description/>
  <dc:language>en-US</dc:language>
  <cp:lastModifiedBy>Admin</cp:lastModifiedBy>
  <dcterms:modified xsi:type="dcterms:W3CDTF">2008-07-31T00:28:37Z</dcterms:modified>
  <cp:revision>1</cp:revision>
  <dc:subject/>
  <dc:title>Slide 1</dc:title>
</cp:coreProperties>
</file>