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11C-8A6A-4242-98B3-5B5F53E8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7B7-7529-4249-A897-68A867BA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F07-AD14-4413-B232-B62624C5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2D8-F1A1-41AE-9261-098DA55E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845-0C14-4FEE-911F-17EEE61A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873-07FE-4F04-B8B6-3C1F6EAC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223-A18C-499D-8135-F2F09583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79A-C9D0-4EF9-BB6F-27EE84C8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349-8BBA-4A18-A6A8-161E0FD2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2FF-AACB-4815-A07F-D88F776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CFC-46AD-458E-85FA-94156155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BEA-D465-436B-AC1E-062647D5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187-7086-4019-ACAD-7E5722B82A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remos, pois, ter alcançado Abraão, nosso pai segundo a car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lhe foi, pois, imputada? Estando na circuncisão ou na incircuncisão? Não na circuncisão, mas na incircunc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cebeu o sinal da circuncisão, selo da justiça da fé, quando estava na incircuncisão, para que fosse pai de todos os que crêem, estando eles também na incircuncisão; a fim de que também a justiça lhes seja imput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sse pai da circuncisão, daqueles que não somente são da circuncisão, mas que também andam nas pisadas daquela fé que teve nosso pai Abraão, que tivera na incircunc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promessa de que havia de ser herdeiro do mundo não foi feita pela lei a Abraão, ou à sua posteridade, mas pela justiça d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os que são da lei são herdeiros, logo a fé é vã e a promessa é aniquil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lei opera a ira. Porque onde não há lei também não há transg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é pela fé, para que seja segundo a graça, a fim de que a promessa seja firme a toda a posteridade, não somente à que é da lei, mas também à que é da fé que teve Abraão, o qual é pai de todos n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Como está escrito: Por pai de muitas nações te constituí) perante aquele no qual creu, a saber, Deus, o qual vivifica os mortos, e chama as coisas que não são como se já fo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, em esperança, creu contra a esperança, tanto que ele tornou-se pai de muitas nações, conforme o que lhe fora dito: Assim será a tua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nfraquecendo na fé, não atentou para o seu próprio corpo já amortecido, pois era já de quase cem anos, nem tampouco para o amortecimento do ventre de S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Abraão foi justificado pelas obras, tem de que se gloriar, mas não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duvidou da promessa de Deus por incredulidade, mas foi fortificado na fé, dando glória a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ndo certíssimo de que o que ele tinha prometido também era poderoso para o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isso lhe foi também imputado como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ão só por causa dele está escrito, que lhe fosse tomado em con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ambém por nós, a quem será tomado em conta, os que cremos naquele que dentre os mortos ressuscitou a Jesus noss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por nossos pecados foi entregue, e ressuscitou para nossa just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que diz a Escritura? Creu Abraão em Deus, e isso lhe foi imputado como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àquele que faz qualquer obra não lhe é imputado o galardão segundo a graça, mas segundo a dí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àquele que não pratica, mas crê naquele que justifica o ímpio, a sua fé lhe é imputada como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Davi declara bem-aventurado o homem a quem Deus imputa a justiça sem as obr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aqueles cujas maldades são perdoad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jos pecados são cober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a quem o Senhor não imputa 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, pois, esta bem-aventurança sobre a circuncisão somente, ou também sobre a incircuncisão? Porque dizemos que a fé foi imputada como justiça a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14Z</dcterms:created>
  <dc:creator>Admin</dc:creator>
  <dc:description/>
  <dc:language>en-US</dc:language>
  <cp:lastModifiedBy>Admin</cp:lastModifiedBy>
  <dcterms:modified xsi:type="dcterms:W3CDTF">2008-07-31T00:23:14Z</dcterms:modified>
  <cp:revision>1</cp:revision>
  <dc:subject/>
  <dc:title>Slide 1</dc:title>
</cp:coreProperties>
</file>