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98B0-F7A8-45EC-B8B3-45F1B2C2A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77CC-A304-4C99-8C16-4C8100380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2DDF-B8A0-4BF6-BE30-16D437A23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41F6-FF82-481C-AE98-F9C3DB0A8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A691-4F86-423A-8FDA-6061A7F5F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2422-35D7-4A4C-B30F-E636003EE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82CA-3F79-4827-8797-556C80503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C3C1-F787-4160-BFB9-F4593B623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78E0-4F2C-4227-A2BC-E73CD3675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BFD9-D0C0-47A2-BDB0-C09C6623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E0FB-99CA-4256-B04C-F8523780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5FE0-4B9C-40EA-B616-490C3E3E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7C6E8-9009-4B8C-AF13-5F2245E4195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Á um mal que tenho visto debaixo do sol, e é mui freqüente entre os homen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ja qualquer o que for, já o seu nome foi nomeado, e sabe-se que é homem, e que não pode contender com o que é mais forte do que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 verdade que há muitas coisas que multiplicam a vaidade; que mais tem o homem de melho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, quem sabe o que é bom nesta vida para o homem, por todos os dias da sua vida de vaidade, os quais gasta como sombra? Quem declarará ao homem o que será depois dele debaixo do sol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m homem a quem Deus deu riquezas, bens e honra, e nada lhe falta de tudo quanto a sua alma deseja, e Deus não lhe dá poder para daí comer, antes o estranho lho come; também isto é vaidade e má enferm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o homem gerar cem filhos, e viver muitos anos, e os dias dos seus anos forem muitos, e se a sua alma não se fartar do bem, e além disso não tiver sepultura, digo que um aborto é melhor do que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anto debalde veio, e em trevas se vai, e de trevas se cobre o seu n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inda que nunca viu o sol, nem conheceu nada, mais descanso tem este do que aqu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ainda que vivesse duas vezes mil anos e não gozasse o bem, não vão todos para um mesmo luga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 o trabalho do homem é para a sua boca, e contudo nunca se satisfaz o seu espír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que mais tem o sábio do que o tolo? E que mais tem o pobre que sabe andar perante os viv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elhor é a vista dos olhos do que o vaguear da cobiça; também isto é vaidade e aflição de espír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9:29Z</dcterms:created>
  <dc:creator>Admin</dc:creator>
  <dc:description/>
  <dc:language>en-US</dc:language>
  <cp:lastModifiedBy>Admin</cp:lastModifiedBy>
  <dcterms:modified xsi:type="dcterms:W3CDTF">2008-07-30T23:29:29Z</dcterms:modified>
  <cp:revision>1</cp:revision>
  <dc:subject/>
  <dc:title>Slide 1</dc:title>
</cp:coreProperties>
</file>