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FB1-92B7-4CF0-97E3-0C03B0F5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322-FF6E-4D55-B293-BB4895BA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4FF-E6E5-4E64-812B-CF623BD2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CF7-A9DB-4786-ACDF-50ECB9CF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14D-0564-4E96-8A5E-B0E3362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35C-5620-4A92-AE5C-16B1C779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8A4-DB9E-4335-BB8D-18DCD7E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CC9-9482-4C37-8CCD-01F73893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5B2-3766-4CC8-83BA-7A82D3DA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FEA-F09C-4456-ACCB-57AE1634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81F-E025-424B-8197-D44450D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348-196F-41F2-A117-872C6D94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E02A-274C-45A7-A85E-4AD15DFF08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palavras da aliança que o SENHOR ordenou a Moisés que fizesse com os filhos de Israel, na terra de Moabe, além da aliança que fizera com eles em Hore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todos estais hoje perante o SENHOR vosso Deus; os capitães de vossas tribos, vossos anciãos, e os vossos oficiais, todos os homen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vossos meninos, as vossas mulheres, e o estrangeiro que está no meio do vosso arraial; desde o rachador da vossa lenha até ao tirador da vossa águ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entrardes na aliança do SENHOR teu Deus, e no seu juramento que o SENHOR teu Deus hoje faz convosc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hoje te confirme por seu povo, e ele te seja por Deus, como te tem dito, e como jurou a teus pais, Abraão, Isaque 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omente convosco faço esta aliança e este jura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m aquele que hoje está aqui em pé conosco perante o SENHOR nosso Deus, e com aquele que hoje não está aqui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ós sabeis como habitamos na terra do Egito, e como passamos pelo meio das nações pelas quais passa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stes as suas abominações, e os seus ídolos, o pau e a pedra, a prata e o ouro que havia entre 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ntre vós não haja homem, nem mulher, nem família, nem tribo, cujo coração hoje se desvie do SENHOR nosso Deus, para que vá servir aos deuses destas nações; para que entre vós não haja raiz que dê veneno e f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ça que, alguém ouvindo as palavras desta maldição, se abençoe no seu coração, dizendo: Terei paz, ainda que ande conforme o parecer do meu coração; para acrescentar à sede a bebe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Moisés a todo o Israel, e disse-lhes: Tendes visto tudo quanto o SENHOR fez perante vossos olhos, na terra do Egito, a Faraó, e a todos os seus servos, e a toda a su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não lhe quererá perdoar; mas fumegará a ira do SENHOR e o seu zelo contra esse homem, e toda a maldição escrita neste livro pousará sobre ele; e o SENHOR apagará o seu nome de debaixo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o separará para mal, de todas as tribos de Israel, conforme a todas as maldições da aliança escrita no livro dest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á à geração vindoura, os vossos filhos, que se levantarem depois de vós, e o estrangeiro que virá de terras remotas, vendo as pragas desta terra, e as suas doenças, com que o SENHOR a terá aflig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sua terra abrasada com enxofre, e sal, de sorte que não será semeada, e nada produzirá, nem nela crescerá erva alguma; assim como foi a destruição de Sodoma e de Gomorra, de Admá e de Zeboim, que o SENHOR destruiu na sua ira e no s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nações dirão: Por que fez o SENHOR assim com esta terra? Qual foi a causa do furor desta tão grande i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dirá: Porquanto deixaram a aliança do SENHOR Deus de seus pais, que com eles tinha feito, quando os tirou d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, e serviram a outros deuses, e se inclinaram diante deles; deuses que eles não conheceram, e nenhum dos quais lhes tinha sido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ira do SENHOR se acendeu contra esta terra, para trazer sobre ela toda a maldição que está escrita neste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os arrancou da sua terra com ira, e com indignação, e com grande furor, e os lançou em outra terra como neste dia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oisas encobertas pertencem ao SENHOR nosso Deus, porém as reveladas nos pertencem a nós e a nossos filhos para sempre, para que cumpramos todas as palavras dest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grandes provas que os teus olhos têm visto, aqueles sinais e grandes maravil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vos tem dado o SENHOR um coração para entender, nem olhos para ver, nem ouvidos para ouvir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renta anos vos fiz andar pelo deserto; não se envelheceram sobre vós as vossas vestes, e nem se envelheceu o vosso sapato no vosso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ão não comestes, e vinho e bebida forte não bebestes; para que soubésseis que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 vós, pois, a este lugar, Siom, rei de Hesbom, e Ogue, rei de Basã, nos saíram ao encontro, à peleja, e nós os feri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mos a sua terra e a demos por herança aos rubenitas, e aos gaditas, e à meia tribo dos manass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, pois, as palavras desta aliança, e cumpri-as, para que prospereis em tudo quanto fize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54Z</dcterms:created>
  <dc:creator>Admin</dc:creator>
  <dc:description/>
  <dc:language>en-US</dc:language>
  <cp:lastModifiedBy>Admin</cp:lastModifiedBy>
  <dcterms:modified xsi:type="dcterms:W3CDTF">2008-07-30T23:28:54Z</dcterms:modified>
  <cp:revision>1</cp:revision>
  <dc:subject/>
  <dc:title>Slide 1</dc:title>
</cp:coreProperties>
</file>