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BA9-91F4-480F-8D4F-C10296F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109-C09A-4B96-A152-1D32149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B16-19DD-4CAC-8121-42303DBF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693-941E-41A0-BDE8-7DFE850E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4E5-BCAF-48AC-9B2D-5E22DCC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0FA-B86E-4728-86CC-5A05806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71D-8F04-431A-8469-7B01CC96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F3B-280C-4835-92E5-62A96C49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13D-CF02-45E7-9E07-A4C2EB25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847-F961-46D2-97CD-1DEE365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915-D7DC-41B7-BA9C-3F58E7F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E8A-14E3-41C3-A61E-039EFED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845F-EE0A-4396-A8AB-0EF849AACA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I a minha lei, povo meu; inclinai os vossos ouvidos à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guardaram a aliança de Deus, e recusaram andar na sua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queceram-se das suas obras e das maravilhas que lhes fizera 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avilhas que ele fez à vista de seus pais na terra do Egito, no campo de Zo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vidiu o mar, e os fez passar por ele; fez com que as águas parassem como num mon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dia os guiou por uma nuvem, e toda a noite por uma luz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ndeu as penhas no deserto; e deu-lhes de beber como de grandes abi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sair fontes da rocha, e fez correr as águas como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prosseguiram em pecar contra ele, provocando ao Altíssimo na sol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taram a Deus nos seus corações, pedindo carne para o seu apet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 contra Deus, e disseram: Acaso pode Deus preparar-nos uma mesa no dese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rei a minha boca numa parábola; falarei enigmas da antigu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eriu a penha, e águas correram dela: rebentaram ribeiros em abundância. Poderá também dar-nos pão, ou preparar carne para o seu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ENHOR os ouviu, e se indignou; e acendeu um fogo contra Jacó, e furor também subiu contra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creram em Deus, nem confiaram na sua salv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mandara às altas nuvens, e abriu as portas d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overa sobre eles o maná para comerem, e lhes dera do trig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comeu o pão dos anjos; ele lhes mandou comida a fa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soprar o vento do oriente nos céus, e o trouxe do sul com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oveu sobre eles carne como pó, e aves de asas como a are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ez cair no meio do seu arraial, ao redor de su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ram e se fartaram bem; pois lhes cumpriu o seu dese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temos ouvido e sabido, e nossos pais no-los têm c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frearam o seu apetite. Ainda lhes estava a comida na bo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 ira de Deus desceu sobre eles, e matou os mais robustos deles, e feriu os escolhid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tudo isto ainda pecaram, e não deram crédito às s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consumiu os seus dias na vaidade e os seus anos n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matava, então o procuravam; e voltavam, e de madrugada buscava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lembravam de que Deus era a sua rocha, e o Deus Altíssimo o seu Reden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lisonjeavam-no com a boca, e com a língua lhe men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u coração não era reto para com ele, nem foram fiéis na s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que é misericordioso, perdoou a sua iniqüidade; e não os destruiu, antes muitas vezes desviou deles o seu furor, e não despertou toda 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lembrou de que eram de carne, vento que passa e não vo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s encobriremos aos seus filhos, mostrando à geração futura os louvores do SENHOR, assim como a sua força e as maravilhas que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as vezes o provocaram no deserto, e o entristeceram na solid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ram atrás, e tentaram a Deus, e limitaram o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lembraram da sua mão, nem do dia em que os livrou do adversá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perou os seus sinais no Egito, e as suas maravilhas no campo de Zo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verteu os seus rios em sangue, e as suas correntes, para que não pudessem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entre eles enxames de moscas que os consumiram, e rãs que os destru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também ao pulgão a sua novidade, e o seu trabalho aos gafanh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ruiu as suas vinhas com saraiva, e os seus sicômoros com pedri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tregou o seu gado à saraiva, e os seus rebanhos aos coris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ou sobre eles o ardor da sua ira, furor, indignação, e angústia, mandando maus anjos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estabeleceu um testemunho em Jacó, e pôs uma lei em Israel, a qual deu aos nossos pais para que a fizessem conhecer a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ou caminho à sua ira; não poupou as suas almas da morte, mas entregou à pestilência as suas 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u a todo primogênito no Egito, primícias da sua força nas tendas de C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ez com que o seu povo saísse como ovelhas, e os guiou pelo deserto como um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uiou com segurança, que não temeram; mas o mar cobriu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rouxe até ao termo do seu santuário, até este monte que a sua destra adqui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pulsou os gentios de diante deles, e lhes dividiu uma herança por linha, e fez habitar em suas tendas 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tentaram e provocaram o Deus Altíssimo, e não guardaram os s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tiraram-se para trás, e portaram-se infielmente como seus pais; viraram-se como um arco engan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provocaram à ira com os seus altos, e moveram o seu zelo com as suas imagens de esc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ouviu isto e se indignou; e aborreceu a Israel sobrem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geração vindoura a soubesse, os filhos que nascessem, os quais se levantassem e a contassem a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samparou o tabernáculo em Siló, a tenda que estabeleceu 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 sua força ao cativeiro, e a sua glória à mão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ou o seu povo à espada, e se enfureceu contra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ogo consumiu os seus jovens, e as suas moças não foram dadas em cas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sacerdotes caíram à espada, e as suas viúvas não fizeram lamen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espertou, como quem acaba de dormir, como um valente que se alegra com o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u os seus adversários por detrás, e pô-los em perpétuo despre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to, recusou o tabernáculo de José, e não elegeu a tribo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elegeu a tribo de Judá; o monte Sião, que ele am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o seu santuário como altos palácios, como a terra, que fundou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usessem em Deus a sua esperança, e se não esquecessem das obras de Deus, mas guardassem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legeu a Davi seu servo, e o tirou dos apriscos das ove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irou do cuidado das que se acharam prenhes; para apascentar a Jacó, seu povo, e a Israel,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apascentou, segundo a integridade do seu coração, e os guiou pela perícia de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ossem como seus pais, geração contumaz e rebelde, geração que não regeu o seu coração, e cujo espírito não foi fiel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fraim, armados e trazendo arcos, viraram as costas no dia d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32Z</dcterms:created>
  <dc:creator>Admin</dc:creator>
  <dc:description/>
  <dc:language>en-US</dc:language>
  <cp:lastModifiedBy>Admin</cp:lastModifiedBy>
  <dcterms:modified xsi:type="dcterms:W3CDTF">2008-07-31T00:26:32Z</dcterms:modified>
  <cp:revision>1</cp:revision>
  <dc:subject/>
  <dc:title>Slide 1</dc:title>
</cp:coreProperties>
</file>