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34F-7EA8-4612-89C1-68B9578D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DE6-5DCD-45D2-AB76-B459A68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5A5-B10E-4165-BE0F-C8F684FF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444-4C42-44D2-A193-B153A8DE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2E3-2EF8-46DA-9FD9-91AD59B8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588-9DDA-48B6-BCEB-923C420F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CEC-6196-4821-8D9F-A518AFAE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1A-49B2-4A7D-B8DD-7168300A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C1D-1464-4578-A9B3-F2EF5B0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6C6-C9F9-4489-B0D9-602681D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99F-3C98-45B1-BBFC-500E291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66A-988C-4762-9530-D86081C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D40-11DE-477C-AB99-489EA2B837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 glorias na malícia, ó homem poderoso? Pois a bondade de Deus permanece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língua intenta o mal, como uma navalha amolada, traçando eng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mas mais o mal do que o bem, e a mentira mais do que o falar a retidã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s todas as palavras devoradoras, ó língua fraudul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us te destruirá para sempre; arrebatar-te-á e arrancar-te-á da tua habitação, e desarraigar-te-á da terra dos vivente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justos o verão, e temerão: e se rirão del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 o homem que não pôs em Deus a sua fortaleza, antes confiou na abundância das suas riquezas, e se fortaleceu na su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sou como a oliveira verde na casa de Deus; confio na misericórdia de Deus para sempre,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sempre te louvarei, porque tu o fizeste, e esperarei no teu nome, porque é bom diante de teu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6Z</dcterms:created>
  <dc:creator>Admin</dc:creator>
  <dc:description/>
  <dc:language>en-US</dc:language>
  <cp:lastModifiedBy>Admin</cp:lastModifiedBy>
  <dcterms:modified xsi:type="dcterms:W3CDTF">2008-07-31T00:25:36Z</dcterms:modified>
  <cp:revision>1</cp:revision>
  <dc:subject/>
  <dc:title>Slide 1</dc:title>
</cp:coreProperties>
</file>