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BFCC-AD2A-4FA1-B0F3-8329A9008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ACDD-17F3-4594-9B27-CB9F840C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F1A0-8171-4802-8517-A4301654A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FF5C-A7BC-45C5-9EFC-D37A50616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09EE-6C9D-4299-8F05-AB243FC8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2D21-329D-440E-A31E-7E08582E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A6AB-35B0-415A-897F-A413A242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B113-A768-49F6-826C-B7AA9C49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6A02-89A0-4D31-9732-1BF3E384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412C-3DD3-4BCF-A08D-9095A1D5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6B29-4873-4FFB-B1B9-B420F2C1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F98D-AED9-4B57-A787-61B9F8BD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B905-19AC-4B4A-A5E4-939B072ABF9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lias, o tisbita, dos moradores de Gileade, disse a Acabe: Vive o SENHOR Deus de Israel, perante cuja face estou, que nestes anos nem orvalho nem chuva haverá, senão segundo a minha palav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le se levantou, e foi a Sarepta; e, chegando à porta da cidade, eis que estava ali uma mulher viúva apanhando lenha; e ele a chamou, e lhe disse: Traze-me, peço-te, num vaso um pouco de água que beb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indo ela a trazê-la, ele a chamou e lhe disse: Traze-me agora também um bocado de pão na tu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ela disse: Vive o SENHOR teu Deus, que nem um bolo tenho, senão somente um punhado de farinha numa panela, e um pouco de azeite numa botija; e vês aqui apanhei dois cavacos, e vou prepará-lo para mim e para o meu filho, para que o comamos, e mor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ias lhe disse: Não temas; vai, faze conforme à tua palavra; porém faze dele primeiro para mim um bolo pequeno, e traze-mo aqui; depois farás para ti e para teu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diz o SENHOR Deus de Israel: A farinha da panela não se acabará, e o azeite da botija não faltará até ao dia em que o SENHOR dê chuva sobre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a foi e fez conforme a palavra de Elias; e assim comeu ela, e ele, e a sua casa muito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 panela a farinha não se acabou, e da botija o azeite não faltou; conforme a palavra do SENHOR, que ele falara pelo ministério de El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pois destas coisas sucedeu que adoeceu o filho desta mulher, dona da casa; e a sua doença se agravou muito, até que nele nenhum fôlego fic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la disse a Elias: Que tenho eu contigo, homem de Deus? vieste tu a mim para trazeres à memória a minha iniqüidade, e matares a meu filh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disse: Dá-me o teu filho. E ele o tomou do seu regaço, e o levou para cima, ao quarto, onde ele mesmo habitava, e o deitou em sua cam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veio a ele a palavra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lamou ao SENHOR, e disse: Ó SENHOR meu Deus, também até a esta viúva, com quem me hospedo, afligiste, matando-lhe o filh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 estendeu sobre o menino três vezes, e clamou ao SENHOR, e disse: Ó SENHOR meu Deus, rogo-te que a alma deste menino torne a entrar n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7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ouviu a voz de Elias; e a alma do menino tornou a entrar nele, e reviv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7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ias tomou o menino, e o trouxe do quarto à casa, e o deu a sua mãe; e disse Elias: Vês aí, teu filho viv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7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 mulher disse a Elias: Nisto conheço agora que tu és homem de Deus, e que a palavra do SENHOR na tua boca é ver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tira-te daqui, e vai para o oriente, e esconde-te junto ao ribeiro de Querite, que está diante do Jor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á de ser que beberás do ribeiro; e eu tenho ordenado aos corvos que ali te sustent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i, pois, e fez conforme a palavra do SENHOR; porque foi, e habitou junto ao ribeiro de Querite, que está diante do Jor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corvos lhe traziam pão e carne pela manhã; como também pão e carne à noite; e bebia do rib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passados dias, o ribeiro se secou, porque não tinha havido chuva n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eio a ele a palavra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-te, e vai para Sarepta, que é de Sidom, e habita ali; eis que eu ordenei ali a uma mulher viúva que te sust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5:50Z</dcterms:created>
  <dc:creator>Admin</dc:creator>
  <dc:description/>
  <dc:language>en-US</dc:language>
  <cp:lastModifiedBy>Admin</cp:lastModifiedBy>
  <dcterms:modified xsi:type="dcterms:W3CDTF">2008-07-30T23:45:50Z</dcterms:modified>
  <cp:revision>1</cp:revision>
  <dc:subject/>
  <dc:title>Slide 1</dc:title>
</cp:coreProperties>
</file>