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B28-9472-4598-BA9E-C65FAAAA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BD2-CFEB-4FE9-BF58-7F0C507C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466-E900-40B8-A26C-56220EAA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FD4-3FAD-4B71-849C-8056A6CA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10F-DE99-4508-845C-0D6590E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59A-2D8E-4A5D-8A3C-44868002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354-CB36-4AE3-8065-E0CD41BB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DFA-F6AB-4E28-B908-7C9BA30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564-6712-4D15-A785-F8FD93A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78B-2A1E-4174-84AB-156F17D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854-2CA6-48A4-BDAB-9F4B408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9FB-B6F5-4F50-A26F-B3D8212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0DB1-9548-4E02-974E-ACDA9110FE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LEBRAI com júbilo ao SENHOR, todas 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vi ao SENHOR com alegria; e entrai diante dele com c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 que o SENHOR é Deus; foi ele que nos fez, e não nós a nós mesmos; somos povo seu e ovelhas do seu pa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i pelas portas dele com gratidão, e em seus átrios com louvor; louvai-o, e bendizei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é bom, e eterna a sua misericórdia; e a sua verdade dura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9Z</dcterms:created>
  <dc:creator>Admin</dc:creator>
  <dc:description/>
  <dc:language>en-US</dc:language>
  <cp:lastModifiedBy>Admin</cp:lastModifiedBy>
  <dcterms:modified xsi:type="dcterms:W3CDTF">2008-07-31T00:27:09Z</dcterms:modified>
  <cp:revision>1</cp:revision>
  <dc:subject/>
  <dc:title>Slide 1</dc:title>
</cp:coreProperties>
</file>