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5F8-2062-4A34-A499-62471E66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B66-7D00-4DB4-B03E-4A0AD7A5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A72-732F-4DD2-B6B3-3C1254D7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127-6501-434E-AD39-C461FF2F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5EB-1ABB-4144-8BED-D26B6FFE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7A6-C830-4462-9A84-5726BBDF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274-7546-4D9C-B3C6-AC4E9113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81A-F049-4FF8-8BC1-8AD1141F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ADD-BF23-4E5F-9064-3D3CB081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AB0-6983-4944-8459-3686AE5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E73-D410-42C2-A359-C541E24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48C-BE1A-4EE3-8DC8-B12D73B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C19D-1CAC-435B-B9C4-423F489899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alma esteja sujeita às potestades superiores; porque não há potestade que não venha de Deus; e as potestades que há foram ordenadas p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mor não faz mal ao próximo. De sorte que o cumprimento da lei é 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digo, conhecendo o tempo, que já é hora de despertarmos do sono; porque a nossa salvação está agora mais perto de nós do que quando aceitamos 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ite é passada, e o dia é chegado. Rejeitemos, pois, as obras das trevas, e vistamo-nos das armas d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emos honestamente, como de dia; não em glutonarias, nem em bebedeiras, nem em desonestidades, nem em dissoluções, nem em contendas e inv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evesti-vos do Senhor Jesus Cristo, e não tenhais cuidado da carne em suas concupiscê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quem resiste à potestade resiste à ordenação de Deus; e os que resistem trarão sobre si mesmos a conde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magistrados não são terror para as boas obras, mas para as más. Queres tu, pois, não temer a potestade? Faze o bem, e terás louvor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a é ministro de Deus para teu bem. Mas, se fizeres o mal, teme, pois não traz debalde a espada; porque é ministro de Deus, e vingador para castigar o que faz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é necessário que lhe estejais sujeitos, não somente pelo castigo, mas também pela consc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razão também pagais tributos, porque são ministros de Deus, atendendo sempre a ist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dai a cada um o que deveis: a quem tributo, tributo; a quem imposto, imposto; a quem temor, temor; a quem honra,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inguém devais coisa alguma, a não ser o amor com que vos ameis uns aos outros; porque quem ama aos outros cumpriu 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feito: Não adulterarás, não matarás, não furtarás, não darás falso testemunho, não cobiçarás; e se há algum outro mandamento, tudo nesta palavra se resume: Amarás ao teu próximo como a t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44Z</dcterms:created>
  <dc:creator>Admin</dc:creator>
  <dc:description/>
  <dc:language>en-US</dc:language>
  <cp:lastModifiedBy>Admin</cp:lastModifiedBy>
  <dcterms:modified xsi:type="dcterms:W3CDTF">2008-07-31T00:23:44Z</dcterms:modified>
  <cp:revision>1</cp:revision>
  <dc:subject/>
  <dc:title>Slide 1</dc:title>
</cp:coreProperties>
</file>