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3D64-3312-4D94-9A11-2DF7D681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BF3C-7843-4B01-811C-E59AE28F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E277-4B99-4569-99FE-054AFD80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6225-782A-46F7-AC15-C4010B9C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2DB0-D216-4C76-9FE3-BBDC7165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9726-8C90-4A02-8748-3909C864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C156-8A45-48F5-A7F3-E5732364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9720-1542-47C6-B7FB-7F9AA329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7EE9-9D94-4A62-8C57-6993AFB4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97D4-751A-4C07-8B3A-8750F9EA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03F6-FAD2-4C74-B0A2-26E73398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DFA1-300E-4991-B338-72D1A927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2E76-85D8-422B-A9E2-5530DD40CB8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RA Zedequias da idade de vinte e um anos quando começou a reinar, e reinou onze anos em Jerusalém; e o nome de sua mãe era Hamutal, filha de Jeremias, de Lib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de Babilônia degolou os filhos de Zedequias à sua vista, e também degolou a todos os príncipes de Judá em Rib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egou os olhos a Zedequias, e o atou com cadeias; e o rei de Babilônia o levou para Babilônia, e o conservou na prisão até o dia da su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quinto mês, no décimo dia do mês, que era o décimo nono ano do rei Nabucodonosor, rei de Babilônia, Nebuzaradã, capitão da guarda, que assistia na presença do rei de Babilônia, veio 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imou a casa do SENHOR, e a casa do rei; e também a todas as casas de Jerusalém, e a todas as casas dos grandes ele as incendi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exército dos caldeus, que estava com o capitão da guarda, derrubou a todos os muros em redor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mais pobres do povo, e a parte do povo, que tinha ficado na cidade, e os rebeldes que se haviam passado para o rei de Babilônia, e o mais da multidão, Nebuzaradã, capitão da guarda, levou pre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os mais pobres da terra Nebuzaradã, capitão da guarda, deixou ficar alguns, para serem vinhateiros e lavra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braram mais os caldeus as colunas de bronze, que estavam na casa do SENHOR, e as bases, e o mar de bronze, que estavam na casa do SENHOR, e levaram todo o bronze para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omaram os caldeirões, e as pás, e as espevitadeiras, e as bacias, e as colheres, e todos os utensílios de bronze, com que se ministr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 o capitão da guarda as bacias, e os braseiros, e as tigelas, e os caldeirões, e os castiçais, e as colheres, e os copos; tanto o que era de puro ouro, como o que era de prata mac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mau aos olhos do SENHOR, conforme tudo o que fizera Jeoiaqu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às duas colunas, ao único mar, e aos doze bois de bronze, que estavam debaixo das bases, que fizera o rei Salomão para a casa do SENHOR, o peso do bronze de todos estes utensílios era incalculáv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às colunas, a altura de cada uma era de dezoito côvados, e um fio de doze côvados a cercava; e era a sua espessura de quatro dedos, e era 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ia sobre ela um capitel de bronze; e a altura do capitel era de cinco côvados; a rede e as romãs ao redor do capitel eram de bronze; e semelhante a esta era a segunda coluna, com as romã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ia noventa e seis romãs em cada lado; as romãs todas, em redor da rede, eram c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ou também o capitão da guarda a Seraías, o sacerdote chefe, e a Sofonias, o segundo sacerdote, e aos três guardas da po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cidade tomou a um eunuco que tinha a seu cargo os homens de guerra, e a sete homens que estavam próximos à pessoa do rei, que se achavam na cidade, como também o escrivão-mor do exército, que alistava o povo da terra para a guerra, e a sessenta 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ndo-os, pois, Nebuzaradã, capitão da guarda, levou-os ao rei de Babilônia, a Rib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de Babilônia os feriu e os matou em Ribla, na terra de Hamate; assim Judá foi levado cativo para fora da su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é o povo que Nabucodonosor levou cativo, no sétimo ano: três mil e vinte e três ju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ano décimo oitavo de Nabucodonosor, ele levou cativas de Jerusalém oitocentas e trinta e duas pesso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por causa da ira do SENHOR, contra Jerusalém e Judá, ele os lançou de diante dele, e Zedequias se rebelou contra o rei de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ano vinte e três de Nabucodonosor, Nebuzaradã, capitão da guarda, levou cativas, dos judeus, setecentas e quarenta e cinco pessoas; todas as pessoas foram quatro mil e seiscen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is, no ano trigésimo sétimo do cativeiro de Jeoiaquim, rei de Judá, no duodécimo mês, aos vinte e cinco dias do mês, que Evil-Merodaque, rei de Babilônia, no primeiro ano do seu reinado, levantou a cabeça de Jeoiaquim, rei de Judá, e tirou-o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com ele benignamente, e pôs o seu trono acima dos tronos dos reis que estavam com ele em Babilôn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he fez mudar as vestes da sua prisão; e passou a comer pão sempre na presença do rei, todos os dias da su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to à sua alimentação, foi-lhe dada refeição contínua do rei de Babilônia, porção cotidiana, no seu dia, até o dia da sua morte, todos os dias da su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, que no ano nono do seu reinado, no décimo mês, no décimo dia do mês, veio Nabucodonosor, rei de Babilônia, contra Jerusalém, ele e todo o seu exército, e se acamparam contra ela, e levantaram contra ela trincheiras ao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esteve cercada a cidade, até ao undécimo ano do rei Zedequ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quarto mês, aos nove dias do mês, quando já a fome prevalecia na cidade, e o povo da terra não tinha p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oi aberta uma brecha na cidade, e todos os homens de guerra fugiram, e saíram da cidade de noite, pelo caminho da porta entre os dois muros, a qual estava perto do jardim do rei (porque os caldeus cercavam a cidade ao redor), e foram pelo caminh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exército dos caldeus perseguiu o rei, e alcançou a Zedequias nas campinas de Jericó, e todo o seu exército se espalhou, abandonando-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renderam o rei, e o fizeram subir ao rei de Babilônia, a Ribla, na terra de Hamate, o qual lhe pronunciou a sente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0:18Z</dcterms:created>
  <dc:creator>Admin</dc:creator>
  <dc:description/>
  <dc:language>en-US</dc:language>
  <cp:lastModifiedBy>Admin</cp:lastModifiedBy>
  <dcterms:modified xsi:type="dcterms:W3CDTF">2008-07-31T00:00:18Z</dcterms:modified>
  <cp:revision>1</cp:revision>
  <dc:subject/>
  <dc:title>Slide 1</dc:title>
</cp:coreProperties>
</file>