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1A9-8B8F-4C90-8B17-29A78A95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836-9F72-413C-9CF7-75AA794E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47E-189A-45E3-A32C-8B4D6B49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FAA-FD3E-408C-9787-E3C8C50D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833-1491-4775-8A7B-4FA3B157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9A94-2C40-4A78-9745-5BCDCDEE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596-9C06-4A86-86D5-503786EF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CC0-17E7-4805-90D0-9E28034F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088-090E-4C59-B6EE-8CBB0EAC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7CB-98AB-41BA-A978-E1DDD9D8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285-9731-4A8C-ADC5-4EEE1915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F41-4EAA-4572-8E01-2002E390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55C9-C4E7-41D0-91CA-8384FE42C52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o fim de dois anos inteiros, Faraó sonhou, e eis que estava em pé junto ao 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Faraó muito indignado contra os seus servos, e pondo-me sob prisão na casa do capitão da guarda, a mim e ao padeiro-m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ivemos um sonho na mesma noite, eu e ele; sonhamos, cada um conforme a interpretação do seu so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va ali conosco um jovem hebreu, servo do capitão da guarda, e contamos-lhe os nossos sonhos e ele no-los interpretou, a cada um conforme o seu so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o ele nos interpretou, assim aconteceu; a mim me foi restituído o meu cargo, e ele foi enfor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ndou Faraó chamar a José, e o fizeram sair logo do cárcere; e barbeou-se e mudou as suas roupas e apresentou-se a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aó disse a José: Eu tive um sonho, e ninguém há que o interprete; mas de ti ouvi dizer que quando ouves um sonho o interpr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José a Faraó, dizendo: Isso não está em mim; Deus dará resposta de paz a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Faraó a José: Eis que em meu sonho estava eu em pé na margem do ri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subiam do rio sete vacas gordas de carne e formosas à vista, e pastavam no p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outras sete vacas subiam após estas, muito feias à vista e magras de carne; não tenho visto outras tais, quanto à fealdade, em toda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subiam do rio sete vacas, formosas à vista e gordas de carne, e pastavam no p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vacas magras e feias comiam as primeiras sete vacas gord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avam em suas entranhas, mas não se conhecia que houvessem entrado; porque o seu parecer era feio como no princípio. Então acord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vi em meu sonho, e eis que de um mesmo pé subiam sete espigas cheias e bo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sete espigas secas, miúdas e queimadas do vento oriental, brotavam após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sete espigas miúdas devoravam as sete espigas boas. E eu contei isso aos magos, mas ninguém houve que mo interpret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osé a Faraó: O sonho de Faraó é um só; o que Deus há de fazer, mostrou-o a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ete vacas formosas são sete anos, as sete espigas formosas também são sete anos, o sonho é um s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sete vacas feias à vista e magras, que subiam depois delas, são sete anos, e as sete espigas miúdas e queimadas do vento oriental, serão sete anos de f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palavra que tenho dito a Faraó; o que Deus há de fazer, mostrou-o a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vêm sete anos, e haverá grande fartura em toda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subiam do rio após elas outras sete vacas, feias à vista e magras de carne; e paravam junto às outras vacas na praia do 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deles levantar-se-ão sete anos de fome, e toda aquela fartura será esquecida na terra do Egito, e a fome consumirá 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erá conhecida a abundância na terra, por causa daquela fome que haverá depois; porquanto será gravíss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o sonho foi repetido duas vezes a Faraó, é porque esta coisa é determinada por Deus, e Deus se apressa em fazê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Faraó previna-se agora de um homem entendido e sábio, e o ponha sobre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ça isso Faraó e ponha governadores sobre a terra, e tome a quinta parte da terra do Egito nos sete anos de fartu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em toda a comida destes bons anos, que vêm, e amontoem o trigo debaixo da mão de Faraó, para mantimento nas cidades, e o guard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rá o mantimento para provimento da terra, para os sete anos de fome, que haverá na terra do Egito; para que a terra não pereça de f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palavra foi boa aos olhos de Faraó, e aos olhos de todos os s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Faraó a seus servos: Acharíamos um homem como este em quem haja o espírito de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Faraó a José: Pois que Deus te fez saber tudo isto, ninguém há tão entendido e sábio como t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vacas feias à vista e magras de carne, comiam as sete vacas formosas à vista e gordas. Então acordou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estarás sobre a minha casa, e por tua boca se governará todo o meu povo, somente no trono eu serei maior que t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Faraó a José: Vês aqui te tenho posto sobre toda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ou Faraó o anel da sua mão, e o pôs na mão de José, e o fez vestir de roupas de linho fino, e pôs um colar de ouro no seu pesc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fez subir no segundo carro que tinha, e clamavam diante dele: Ajoelhai. Assim o pôs sobre toda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Faraó a José: Eu sou Faraó; porém sem ti ninguém levantará a sua mão ou o seu pé em toda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aó chamou a José de Zafenate-Panéia, e deu-lhe por mulher a Azenate, filha de Potífera, sacerdote de Om; e saiu José por toda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 era da idade de trinta anos quando se apresentou a Faraó, rei do Egito. E saiu José da presença de Faraó e passou por toda 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sete anos de fartura a terra produziu abundante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ajuntou todo o mantimento dos sete anos, que houve na terra do Egito; e guardou o mantimento nas cidades, pondo nas mesmas o mantimento do campo que estava ao redor de ca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ajuntou José muitíssimo trigo, como a areia do mar, até que cessou de contar; porquanto não havia num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ormiu e sonhou outra vez, e eis que brotavam de um mesmo pé sete espigas cheias e bo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sceram a José dois filhos (antes que viesse um ano de fome), que lhe deu Azenate, filha de Potífera, sacerdote de 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José ao primogênito Manassés, porque disse: Deus me fez esquecer de todo o meu trabalho, e de toda a casa de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segundo chamou Efraim; porque disse: Deus me fez crescer na terra da minha afl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cabaram-se os sete anos de fartura que havia n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çaram a vir os sete anos de fome, como José tinha dito; e havia fome em todas as terras, mas em toda a terra do Egito havia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ndo toda a terra do Egito fome, clamou o povo a Faraó por pão; e Faraó disse a todos os egípcios: Ide a José; o que ele vos disser, faz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ndo, pois, fome sobre toda a terra, abriu José tudo em que havia mantimento, e vendeu aos egípcios; porque a fome prevaleceu n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todas as terras vinham ao Egito, para comprar de José; porquanto a fome prevaleceu em todas as ter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sete espigas miúdas, e queimadas do vento oriental, brotavam após 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espigas miúdas devoravam as sete espigas grandes e cheias. Então acordou Faraó, e eis que era um so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 pela manhã o seu espírito perturbou-se, e enviou e chamou todos os adivinhadores do Egito, e todos os seus sábios; e Faraó contou-lhes os seus sonhos, mas ninguém havia que lhos interpret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o copeiro-mor a Faraó, dizendo: Das minhas ofensas me lembro hoj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9:46Z</dcterms:created>
  <dc:creator>Admin</dc:creator>
  <dc:description/>
  <dc:language>en-US</dc:language>
  <cp:lastModifiedBy>Admin</cp:lastModifiedBy>
  <dcterms:modified xsi:type="dcterms:W3CDTF">2008-07-30T23:39:46Z</dcterms:modified>
  <cp:revision>1</cp:revision>
  <dc:subject/>
  <dc:title>Slide 1</dc:title>
</cp:coreProperties>
</file>