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E6B-24EC-488E-BB74-09BA7D5F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760-8726-4A47-B72A-A83B9DF2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E0B-85E9-49D3-8078-C6930916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7C7-8425-4E62-9432-C3D2CE4E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3B2-A1FC-420C-85F2-97823E09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02B-55DC-4BB3-80A9-E53309A5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038-8EC0-43B1-8847-8DE6327F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529-0A2E-4DEF-8540-4D5E69B9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E40-566B-432C-9692-4FCA1B42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CCF-D117-4D62-8C04-5FD81D7F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08B-4469-4B9C-AD30-1B576CA7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A08-635A-4DD4-A624-1E423976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B4C3-2D71-43F8-9B01-6BAF4271A80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dali, foi para os termos da Judéia, além do Jordão, e a multidão se reuniu em torno dele; e tornou a ensiná-los, como tinha por costu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casa tornaram os discípulos a interrogá-lo acerca disto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Qualquer que deixar a sua mulher e casar com outra, adultera contr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 mulher deixar a seu marido, e casar com outro, adult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ziam-lhe meninos para que lhes tocasse, mas os discípulos repreendiam aos que lhos traz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vendo isto, indignou-se, e disse-lhes: Deixai vir os meninos a mim, e não os impeçais; porque dos tais é 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vos digo que qualquer que não receber o reino de Deus como menino, de maneira nenhuma entrará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mando-os nos seus braços, e impondo-lhes as mãos, os abenço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ndo-se a caminho, correu para ele um homem, o qual se ajoelhou diante dele, e lhe perguntou: Bom Mestre, que farei para herdar a vida etern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 disse: Por que me chamas bom? Ninguém há bom senão um, que é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sabes os mandamentos: Não adulterarás; não matarás; não furtarás; não dirás falso testemunho; não defraudarás alguém; honra a teu pai e a t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proximando-se dele os fariseus, perguntaram-lhe, tentando-o: É lícito ao homem repudiar sua mulh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respondendo, lhe disse: Mestre, tudo isso guardei desde a minha mo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olhando para ele, o amou e lhe disse: Falta-te uma coisa: vai, vende tudo quanto tens, e dá-o aos pobres, e terás um tesouro no céu; e vem, toma a cruz, e segue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, pesaroso desta palavra, retirou-se triste; porque possuía muitas proprie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sus, olhando em redor, disse aos seus discípulos: Quão dificilmente entrarão no reino de Deus os que têm riqueza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iscípulos se admiraram destas suas palavras; mas Jesus, tornando a falar, disse-lhes: Filhos, quão difícil é, para os que confiam nas riquezas, entrar no reino de Deu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mais fácil passar um camelo pelo fundo de uma agulha, do que entrar um rico n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se admiravam ainda mais, dizendo entre si: Quem poderá, pois, salvar-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olhando para eles, disse: Para os homens é impossível, mas não para Deus, porque para Deus todas as coisas são possí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 começou a dizer-lhe: Eis que nós tudo deixamos, e te segu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, disse: Em verdade vos digo que ninguém há, que tenha deixado casa, ou irmãos, ou irmãs, ou pai, ou mãe, ou mulher, ou filhos, ou campos, por amor de mim e do evangel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, respondendo, disse-lhes: Que vos mandou Moisé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não receba cem vezes tanto, já neste tempo, em casas, e irmãos, e irmãs, e mães, e filhos, e campos, com perseguições; e no século futuro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muitos primeiros serão derradeiros, e muitos derradeiros serão prim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am no caminho, subindo para Jerusalém; e Jesus ia adiante deles. E eles maravilhavam-se, e seguiam-no atemorizados. E, tornando a tomar consigo os doze, começou a dizer-lhes as coisas que lhe deviam sobrevi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Eis que nós subimos a Jerusalém, e o Filho do homem será entregue aos príncipes dos sacerdotes, e aos escribas, e o condenarão à morte, e o entregarão a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scarnecerão, e açoitarão, e cuspirão nele, e o matarão; e, ao terceiro dia, ressusci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roximaram-se dele Tiago e João, filhos de Zebedeu, dizendo: Mestre, queremos que nos faças o que te pedi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Que quereis que vos faç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lhe disseram: Concede-nos que na tua glória nos assentemos, um à tua direita, e outro à tu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sus lhes disse: Não sabeis o que pedis; podeis vós beber o cálice que eu bebo, e ser batizados com o batismo com que eu sou batiz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lhe disseram: Podemos. Jesus, porém, disse-lhes: Em verdade, vós bebereis o cálice que eu beber, e sereis batizados com o batismo com que eu sou batiz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disseram: Moisés permitiu escrever carta de divórcio e repudi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o assentar-se à minha direita, ou à minha esquerda, não me pertence a mim concedê-lo, mas isso é para aqueles a quem está reserv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ez, tendo ouvido isto, começaram a indignar-se contra Tiago e J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sus, chamando-os a si, disse-lhes: Sabeis que os que julgam ser príncipes dos gentios, deles se assenhoreiam, e os seus grandes usam de autoridade sobre el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ntre vós não será assim; antes, qualquer que entre vós quiser ser grande, será vosso serviç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quer que dentre vós quiser ser o primeiro, será servo de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Filho do homem também não veio para ser servido, mas para servir e dar a sua vida em resgate de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, foram para Jericó. E, saindo ele de Jericó com seus discípulos e uma grande multidão, Bartimeu, o cego, filho de Timeu, estava assentado junto do caminho, mendig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que era Jesus de Nazaré, começou a clamar, e a dizer: Jesus, filho de Davi, tem misericórdia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o repreendiam, para que se calasse; mas ele clamava cada vez mais: Filho de Davi! tem misericórdia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parando, disse que o chamassem; e chamaram o cego, dizendo-lhe: Tem bom ânimo; levanta-te, que ele te ch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, disse-lhes: Pela dureza dos vossos corações vos deixou ele escrito esse mandam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lançando de si a sua capa, levantou-se, e foi ter com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falando, disse-lhe: Que queres que te faça? E o cego lhe disse: Mestre, que eu tenha v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 disse: Vai, a tua fé te salvou. E logo viu, e seguiu a Jesus pel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desde o princípio da criação, Deus os fez macho e fême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eixará o homem a seu pai e a sua mãe, e unir-se-á a sua mulh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ão os dois uma só carne; e assim já não serão dois, mas uma só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o que Deus ajuntou não o separe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3:29Z</dcterms:created>
  <dc:creator>Admin</dc:creator>
  <dc:description/>
  <dc:language>en-US</dc:language>
  <cp:lastModifiedBy>Admin</cp:lastModifiedBy>
  <dcterms:modified xsi:type="dcterms:W3CDTF">2008-07-31T00:13:29Z</dcterms:modified>
  <cp:revision>1</cp:revision>
  <dc:subject/>
  <dc:title>Slide 1</dc:title>
</cp:coreProperties>
</file>