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C39-8DE6-488D-8BE1-EEBD9A76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C36-EF4F-423D-B151-FECC464A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D46-107B-4433-B079-3FC0DC6E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EBF-2A5C-4351-93DB-568C7F25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55C-7594-4A52-871F-D7B21376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8A3-F510-4DAB-9379-1277A49F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C41-5382-44DA-88D7-2D0F0FA4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19C-7C5C-45F2-887D-4F652C9A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E56-86BF-4A2F-B74C-03A94D9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879-13CA-4FAD-9444-F270BF2D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FDA-1897-4715-B5D6-640DE8A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4E6-EB69-4ACB-9427-F28BCB2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174-2877-4F33-853B-28C4C2A318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irmãos, rogamo-vos, pela vinda de nosso Senhor Jesus Cristo, e pela nossa reunião com el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todo o engano da injustiça para os que perecem, porque não receberam o amor da verdade para se salvar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or isso Deus lhes enviará a operação do erro, para que creiam a menti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sejam julgados todos os que não creram a verdade, antes tiveram prazer na iniqüi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vemos sempre dar graças a Deus por vós, irmãos amados do SENHOR, por vos ter Deus elegido desde o princípio para a salvação, em santificação do Espírito, e fé da ver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o que pelo nosso evangelho vos chamou, para alcançardes a glória de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irmãos, estai firmes e retende as tradições que vos foram ensinadas, seja por palavra, seja por epístola noss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óprio nosso Senhor Jesus Cristo e nosso Deus e Pai, que nos amou, e em graça nos deu uma eterna consolação e boa esperanç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ole os vossos corações, e vos confirme em toda a boa palavra e 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não vos movais facilmente do vosso entendimento, nem vos perturbeis, quer por espírito, quer por palavra, quer por epístola, como de nós, como se o dia de Cristo estivesse já p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de maneira alguma vos engane; porque não será assim sem que antes venha a apostasia, e se manifeste o homem do pecado, o filho da perdiçã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se opõe, e se levanta contra tudo o que se chama Deus, ou se adora; de sorte que se assentará, como Deus, no templo de Deus, querendo parece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vos lembrais de que estas coisas vos dizia quando ainda estava convosc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gora vós sabeis o que o detém, para que a seu próprio tempo seja manife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já o mistério da injustiça opera; somente há um que agora resiste até que do meio seja tir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tão será revelado o iníquo, a quem o Senhor desfará pelo assopro da sua boca, e aniquilará pelo esplendor da sua vind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esse cuja vinda é segundo a eficácia de Satanás, com todo o poder, e sinais e prodígios de menti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08Z</dcterms:created>
  <dc:creator>Admin</dc:creator>
  <dc:description/>
  <dc:language>en-US</dc:language>
  <cp:lastModifiedBy>Admin</cp:lastModifiedBy>
  <dcterms:modified xsi:type="dcterms:W3CDTF">2008-07-30T23:54:08Z</dcterms:modified>
  <cp:revision>1</cp:revision>
  <dc:subject/>
  <dc:title>Slide 1</dc:title>
</cp:coreProperties>
</file>