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D37-1E96-49E9-917C-4044396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030-F81C-4423-880A-484EF306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E38-353C-4ACE-B542-427EBDB0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F94-93FA-49B3-A10D-D5456B43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E3E-4A0F-4812-813C-0CF1421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E2D-7047-4ABE-9FB4-38FFE52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7B1-EFF6-405C-9A30-6FC9FC2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ADE-A088-42CF-B685-2A305016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572-CA18-4BFE-9082-B81CFE5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180-CDDF-4735-9AE1-4248C44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83D-72BD-4304-987E-0EABF01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D7E-494D-477A-A4FF-60F1D61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99F7-7F7E-4C87-B2BF-16BB041255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depois disto que, ouvindo-o Jabim, rei de Hazor, enviou mensageiros a Jobabe, rei de Madom, e ao rei de Sinrom, e ao rei de Acsaf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tempo voltou Josué, e tomou a Hazor, e feriu à espada ao seu rei; porquanto Hazor antes era a cabeça de todos estes rei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os que nela estavam, feriram ao fio da espada, e totalmente os destruíram; nada restou do que tinha fôlego, e a Hazor queimou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tomou todas as cidades destes reis, e todos os seus reis, e os feriu ao fio da espada, destruindo-os totalmente, como ordenara Moisés ser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não queimaram os israelitas as cidades que estavam sobre os seus outeiros; a não ser Hazor, a qual Josué quei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despojos destas cidades, e o gado, os filhos de Israel tomaram para si; tão-somente a todos os homens feriram ao fio da espada, até que os destruíram; nada do que tinha fôlego deixaram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rdenara o SENHOR a Moisés, seu servo, assim Moisés ordenou a Josué; e assim Josué o fez; nem uma só palavra tirou de tudo o que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osué tomou toda aquela terra, as montanhas, e todo o sul, e toda a terra de Gósen, e as planícies, e as campinas, e as montanhas de Israel, e as suas planíci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monte Halaque, que sobe a Seir, até Baal-Gade, no vale do Líbano, ao pé do monte de Hermom; também tomou todos os seus reis, e os feriu e os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uito tempo Josué fez guerra contra todos estes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ouve cidade que fizesse paz com os filhos de Israel, senão os heveus, moradores de Gibeom; por guerra as tomaram t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reis que estavam ao norte, na região montanhosa, na Arabá ao sul de Quinerote, na baixada, e nos planaltos de Dor ao ocident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o SENHOR vinha o endurecimento de seus corações, para saírem à guerra contra Israel, para que fossem totalmente destruídos e não achassem piedade alguma; mas para os destruir a todos como o SENHOR tinha ordenado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veio Josué, e extirpou os anaquins das montanhas de Hebrom, de Debir, de Anabe e de todas as montanhas de Judá e de todas as montanhas de Israel; Josué os destruiu totalmente com as s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dos anaquins foi deixado na terra dos filhos de Israel; somente ficaram alguns em Gaza, em Gate, e em Asdo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osué tomou toda esta terra, conforme a tudo o que o SENHOR tinha dito a Moisés; e Josué a deu em herança aos filhos de Israel, conforme as suas divisões, segundo as suas tribos; e a terra descansou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cananeu do oriente e do ocidente; e ao amorreu, e ao heteu, e ao perizeu, e ao jebuseu nas montanhas; e ao heveu ao pé de Hermom, na terra de Mizp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ram pois estes, e todos os seus exércitos com eles, muito povo, em multidão como a areia que está na praia do mar; e muitíssimos cavalos e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reis se ajuntaram, e vieram e se acamparam junto às águas de Merom, para pelejarem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Josué: Não temas diante deles; porque amanhã, a esta mesma hora, eu os darei todos feridos diante dos filhos de Israel; os seus cavalos jarretarás, e os seus carros queimarás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e todos os homens de guerra com ele, veio apressadamente sobre eles às águas de Merom, e atacou-os de rep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s deu nas mãos de Israel; e eles os feriram, e os perseguiram até à grande Sidom, e até Misrefote-Maim, e até ao vale de Mizpá ao oriente; feriram até não lhes deixarem nenh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-lhes Josué como o SENHOR lhe dissera; os seus cavalos jarretou, e os seus carros queimou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23Z</dcterms:created>
  <dc:creator>Admin</dc:creator>
  <dc:description/>
  <dc:language>en-US</dc:language>
  <cp:lastModifiedBy>Admin</cp:lastModifiedBy>
  <dcterms:modified xsi:type="dcterms:W3CDTF">2008-07-31T00:05:23Z</dcterms:modified>
  <cp:revision>1</cp:revision>
  <dc:subject/>
  <dc:title>Slide 1</dc:title>
</cp:coreProperties>
</file>