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03A-567F-4722-A2DB-865990B3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5A6-298F-4379-9E87-877CA55A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D1F-1911-431F-8F78-1F18CEE9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B80-0349-450B-A8ED-989D8A8D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106-180C-407F-912B-AA07E16D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611-5C68-427C-B78C-9AA520C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12B-4431-438F-A302-A1265FF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3C-BE15-42DC-82F2-8E3480C8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E36-7532-4042-B3FF-804B694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07D-A35C-4A1D-A6E0-ED8D4A3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B66-6FD6-4290-8FCE-7EA5AE8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AAF-95E3-4776-8C0E-0EBDBD0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9D9-05AB-4F44-897F-218509C3E0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acabando Salomão de edificar a casa do SENHOR, e a casa do rei, e todo o desejo de Salomão, que lhe veio à vontade faz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ao fim de vinte anos, que Salomão edificara as duas casas; a casa do SENHOR e a casa do re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ara o que Hirão, rei de Tiro, trouxera a Salomão madeira de cedro e de cipreste, e ouro, segundo todo o seu desejo); então deu o rei Salomão a Hirão vinte cidades na terra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Hirão de Tiro a ver as cidades que Salomão lhe dera, porém não foram boas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: Que cidades são estas que me deste, irmão meu? E chamaram-nas: Terra de Cabul, até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 Hirão ao rei cento e vinte talento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causa do tributo que impôs o rei Salomão, para edificar a casa do SENHOR e a sua casa, e Milo, e o muro de Jerusalém, como também a Hasor, e a Megido, e a G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araó, rei do Egito, subiu e tomou a Gezer, e a queimou a fogo, e matou os cananeus que moravam na cidade, e a deu em dote à sua filha, mulher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dificou Salomão a Gezer, e Bete-Horom, a baix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aalate, e a Tadmor, no deserto daquel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as as cidades de provisões que Salomão tinha, e as cidades dos carros, e as cidades dos cavaleiros, e tudo o que Salomão quis edificar em Jerusalém, e no Líbano, e em toda a terra do seu domí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ornou a aparecer a Salomão; como lhe tinha aparecido em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todo o povo que restou dos amorreus, heteus, perizeus, heveus, e jebuseus, e que não eram dos filho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us filhos, que restaram depois deles na terra, os quais os filhos de Israel não puderam destruir totalmente, Salomão os reduziu a tributo servil, até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os filhos de Israel não fez Salomão servo algum; porém eram homens de guerra, e seus criados, e seus príncipes, e seus capitães, e chefes dos seus carros e dos seu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eram os chefes dos oficiais que estavam sobre a obra de Salomão, quinhentos e cinqüenta, que davam ordens ao povo que trabalhava n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rém, a filha de Faraó da cidade de Davi, à sua casa, que Salomão lhe edificara; então edificou a M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ia Salomão três vezes cada ano holocaustos e sacrifícios pacíficos sobre o altar que edificaram ao SENHOR, e queimava incenso sobre o que estava perante o SENHOR; e assim acabou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 Salomão fez naus em Eziom-Geber, que está junto a Elate, à praia do mar de Sufe, na terra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Hirão com aquelas naus a seus servos, marinheiros, que sabiam do mar, com os servos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a Ofir, e tomaram de lá quatrocentos e vinte talentos de ouro, e os trouxeram ao rei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 disse: Ouvi a tua oração, e a súplica que fizeste perante mim; santifiquei a casa que edificaste, a fim de pôr ali o meu nome para sempre; e os meus olhos e o meu coração estarão ali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tu andares perante mim como andou Davi, teu pai, com inteireza de coração e com sinceridade, para fazeres segundo tudo o que te mandei, e guardares os meus estatutos e os meus juíz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firmarei o trono de teu reino sobre Israel para sempre; como falei acerca de teu pai Davi, dizendo: Não te faltará sucessor sobre o trono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vós e vossos filhos de qualquer maneira vos apartardes de mim, e não guardardes os meus mandamentos, e os meus estatutos, que vos tenho proposto, mas fordes, e servirdes a outros deuses, e vos prostrardes perante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truirei a Israel da terra que lhes dei; e a esta casa, que santifiquei a meu nome, lançarei longe da minha presença; e Israel será por provérbio e motejo, entre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casa, que é tão exaltada, todo aquele que por ela passar pasmará, e assobiará, e dirá: Por que fez o SENHOR assim a esta terra e a est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: Porque deixaram ao SENHOR seu Deus, que tirou da terra do Egito a seus pais, e se apegaram a deuses alheios, e se encurvaram perante eles, e os serviram; por isso trouxe o SENHOR sobre eles todo est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15Z</dcterms:created>
  <dc:creator>Admin</dc:creator>
  <dc:description/>
  <dc:language>en-US</dc:language>
  <cp:lastModifiedBy>Admin</cp:lastModifiedBy>
  <dcterms:modified xsi:type="dcterms:W3CDTF">2008-07-30T23:45:15Z</dcterms:modified>
  <cp:revision>1</cp:revision>
  <dc:subject/>
  <dc:title>Slide 1</dc:title>
</cp:coreProperties>
</file>