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F2B-52FC-4FE9-A9A4-3AA41C16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141-8749-4500-9389-CB86F218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C83-47B5-44A2-917B-E9D4FABA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4A7-A310-4E0F-A2A8-89D915BD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2EF-0267-4AD4-85BF-62FD5BD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67A-380E-4F04-8886-7AF5BCCD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37F-19B1-4F1F-AC70-53AB8A87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23D-C233-4B22-AE28-5E18CBF1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5AB-9223-40FA-B446-48DEF7C0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E33-0801-4A93-BE85-1AFAC418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3BD-B951-40D2-8CBA-EAF01635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52D-8608-41AA-A77B-A19F93A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0979-E93B-48DE-9B0F-878A5880D6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adoeceu Abias, filho de Je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trarei mal sobre a casa de Jeroboão; destruirei de Jeroboão todo o homem até ao menino, tanto o escravo como o livre em Israel; e lançarei fora os descendentes da casa de Jeroboão, como se lança fora o esterco, até que de todo se aca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morrer dos de Jeroboão, na cidade, os cães o comerão, e o que morrer no campo as aves do céu o comerão, porque o SENHOR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levanta-te, e vai para tua casa; entrando os teus pés na cidade, o menin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Israel o pranteará, e o sepultará; porque de Jeroboão só este entrará em sepultura, porquanto se achou nele coisa boa para com o SENHOR Deus de Israel em casa de Je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rém, levantará para si um rei sobre Israel, que destruirá a casa de Jeroboão no mesmo dia. Que digo eu? Há de ser j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NHOR ferirá a Israel como se agita a cana nas águas; e arrancará a Israel desta boa terra que tinha dado a seus pais, e o espalhará para além do rio; porquanto fizeram os seus ídolos, provocando o SENHOR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ará a Israel por causa dos pecados de Jeroboão, o qual pecou, e fez pec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mulher de Jeroboão se levantou, e foi, e chegou a Tirza; chegando ela ao limiar da porta, morreu o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pultaram, e todo o Israel o pranteou, conforme a palavra do SENHOR, a qual dissera pelo ministério de seu servo Aías, o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Jeroboão, como guerreou, e como reinou, eis que está escrito no livro das crônicas dos rei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roboão à sua mulher: Levanta-te agora, e disfarça-te, para que não conheçam que és mulher de Jeroboão; e vai a Siló. Eis que lá está o profeta Aías, o qual falou de mim, que eu seria rei sobre 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dias que Jeroboão reinou vinte e dois anos; e dormiu com seus pais; e Nadabe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boão, filho de Salomão, reinava em Judá; de quarenta e um anos de idade era Roboão quando começou a reinar, e dezessete anos reinou em Jerusalém, na cidade que o SENHOR escolhera de todas as tribos de Israel para pôr ali o seu nome; e era o nome de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Judá o que era mau aos olhos do SENHOR; e com os seus pecados que cometeram, provocaram-no a zelos, mais do que todos os seus pais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eles edificaram altos, e estátuas, e imagens de Asera sobre todo o alto outeiro e debaixo de toda a árvore ve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também sodomitas na terra; fizeram conforme a todas as abominações dos povos que o SENHOR tinha expulsado de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ucedeu que, no quinto ano do rei Roboão, Sisaque, rei do Egito, subiu contra Jerusal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s tesouros da casa do SENHOR e os tesouros da casa do rei; e levou tudo. Também tomou todos os escudos de ouro que Salomão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lugar deles fez o rei Roboão escudos de cobre, e os entregou nas mãos dos chefes da guarda que guardavam a porta da cas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vezes que o rei entrava na casa do SENHOR, os da guarda os levavam, e depois os tornavam à câmara da 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Roboão, e a tudo quanto fez, porventura não está escrito no livro das crônicas dos reis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 contigo dez pães, e bolos, e uma botija de mel, e vai a ele; ele te declarará o que há de suceder a este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guerra entre Roboão e Jeroboão todos os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boão dormiu com seus pais, e foi sepultado com seus pais na cidade de Davi; e era o nome de sua mãe Naamá, amonita; e Ab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de Jeroboão assim fez, e se levantou, e foi a Siló, e entrou na casa de Aías; e já Aías não podia ver, porque os seus olhos estavam já escurecidos por causa da sua velhi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disse a Aías: Eis que a mulher de Jeroboão vem consultar-te sobre seu filho, porque está doente; assim e assim lhe falarás; porque há de ser que, entrando ela, fingirá ser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Aías o ruído de seus pés, entrando ela pela porta, disse-lhe ele: Entra, mulher de Jeroboão; por que te disfarças assim? Pois eu sou enviado a ti com duras n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dize a Jeroboão: Assim diz o SENHOR Deus de Israel: Porquanto te levantei do meio do povo, e te pus por príncipe sobre o meu povo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asguei o reino da casa de Davi, e o dei a ti, e tu não foste como o meu servo Davi, que guardou os meus mandamentos e que andou após mim com todo o seu coração para fazer somente o que era reto aos meus ol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tu fizeste o mal, pior do que todos os que foram antes de ti; e foste, e fizeste outros deuses e imagens de fundição, para provocar-me à ira, e me lançaste para trás das tuas cos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38Z</dcterms:created>
  <dc:creator>Admin</dc:creator>
  <dc:description/>
  <dc:language>en-US</dc:language>
  <cp:lastModifiedBy>Admin</cp:lastModifiedBy>
  <dcterms:modified xsi:type="dcterms:W3CDTF">2008-07-30T23:45:38Z</dcterms:modified>
  <cp:revision>1</cp:revision>
  <dc:subject/>
  <dc:title>Slide 1</dc:title>
</cp:coreProperties>
</file>