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F2C-AA79-4A4D-A259-73340714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4EA-F939-4825-BAD9-919F2FAE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018-9A50-44BA-954D-7605A63B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073-8DB5-4F95-AC75-FE4C126D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55F-1B7C-4615-8D82-C915C387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C74-5E45-4AF4-876E-848C02AD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3C4-4E2A-4261-B34F-B740FD4B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6EA-5F9F-44AA-8CEE-AC71E76E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725-4E20-4756-8AB6-5E5E4FEB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5AD-614C-404B-AEA9-80B2AD42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F67-C427-4E15-BCE4-27144C8A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531-B2F9-47F8-B85D-2FA45E36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DE16-6F58-4874-A97D-D99AC34B141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Israel saiu do Egito, e a casa de Jacó de um povo de língua estranh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dá foi seu santuário, e Israel seu domín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ar viu isto, e fugiu; o Jordão voltou para t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ontes saltaram como carneiros, e os outeiros como cord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tiveste tu, ó mar, que fugiste, e tu, ó Jordão, que voltaste para trá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ntes, que saltastes como carneiros, e outeiros, como cordeir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eme, terra, na presença do Senhor, na presença do Deus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converteu o rochedo em lago de águas, e o seixo em fonte de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47Z</dcterms:created>
  <dc:creator>Admin</dc:creator>
  <dc:description/>
  <dc:language>en-US</dc:language>
  <cp:lastModifiedBy>Admin</cp:lastModifiedBy>
  <dcterms:modified xsi:type="dcterms:W3CDTF">2008-07-31T00:27:47Z</dcterms:modified>
  <cp:revision>1</cp:revision>
  <dc:subject/>
  <dc:title>Slide 1</dc:title>
</cp:coreProperties>
</file>