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6EBA-1470-4104-92AE-04F250C97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419F-0848-428E-B7F3-4BA731B9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26F5-1325-4EF0-86A1-90BECAF12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E608-1DF3-4572-BD5D-F0DAFDA8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E24B-1700-4A70-B65A-B642913F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0C69-2EBF-4E58-8FEF-A51C507B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CF94-6B77-4067-BAEA-15EDA130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13CF-2588-466A-97ED-8B37540A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BFE8-E4AD-4EB1-9D33-0519F639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1ED0-F54C-4418-8CA8-701A954B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2E4E-00F4-426F-8A33-44C81824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7F14-CF3F-458B-A60C-951A01D3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C81C-86B2-4AE3-BF86-F05E0593006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o SENHOR a Moisés e a Arã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volverão, a ele e a todos os seus utensílios, na coberta de peles de texugos; e o colocarão sobre os var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obre o altar de ouro estenderão um pano azul, e com a coberta de peles de texugos, o cobrirão, e lhe colocarão os seus var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tomarão todos os utensílios do ministério, com que servem no santuário; e os colocarão num pano azul, e os cobrirão com uma coberta de peles de texugos, e os colocarão sobre os var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rarão as cinzas do altar, e por cima dele estenderão um pano de púrp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obre ele colocarão todos os seus instrumentos com que o servem: os seus braseiros, os garfos e as pás, e as bacias; todos os pertences do altar; e por cima dele estenderão uma coberta de peles de texugos, e lhe colocarão os seus var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vendo, pois, Arão e seus filhos, ao partir do arraial, acabado de cobrir o santuário, e todos os instrumentos do santuário, então os filhos de Coate virão para levá-lo; mas no santuário não tocarão para que não morram; este é o cargo dos filhos de Co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cargo de Eleazar, filho de Arão, o sacerdote, será o azeite da luminária e o incenso aromático, e a contínua oferta dos alimentos, e o azeite da unção, o cargo de todo o tabernáculo, e de tudo que nele há, o santuário e os seus utensíl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o SENHOR a Moisés e a Arã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deixareis extirpar a tribo das famílias dos coatitas do meio dos lev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isto lhes fareis, para que vivam e não morram, quando se aproximarem das coisas santíssimas: Arão e seus filhos virão, e a cada um colocarão no seu ministério e no seu carg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i a soma dos filhos de Coate, dentre os filhos de Levi, pelas suas famílias, segundo a casa de seus pai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não entrarão a ver, quando cobrirem o santuário, para que não mor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mais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i também a soma dos filhos de Gérson, segundo a casa de seus pais, segundo as suas família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idade de trinta anos para cima até aos cinqüenta, contarás a todo aquele que entrar a se ocupar no seu serviço, para executar o ministério na tenda da cong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será o ministério das famílias dos gersonitas no serviço e no car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rão, pois, as cortinas do tabernáculo, e a tenda da congregação, e a sua coberta, e a coberta de peles de texugos, que está por cima dele, e a cortina da porta da tenda da congregaç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cortinas do pátio, e a cortina da porta do pátio, que está junto ao tabernáculo, e junto ao altar em redor, e as suas cordas, e todos os instrumentos do seu ministério, com tudo o que diz respeito a eles, para que sir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o ministério dos filhos dos gersonitas, em todo o seu cargo, e em todo o seu trabalho, será segundo o mandado de Arão e de seus filhos; e lhes designareis as responsabilidades do seu car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é o ministério das famílias dos filhos dos gersonitas na tenda da congregação; e a sua guarda será debaixo da mão de Itamar, filho de Arão, o sacerd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os filhos de Merari, segundo as suas famílias e segundo a casa de seus pais os contará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idade de trinta anos para cima até aos cinqüenta anos, será todo aquele que entrar neste serviço, para fazer o trabalho na tenda da cong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idade de trinta anos para cima, até aos cinqüenta, contarás a todo aquele que entrar neste serviço, para administrar o ministério da tenda da cong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, pois, será a responsabilidade do seu cargo, segundo todo o seu ministério, na tenda da congregação: As tábuas do tabernáculo, e os seus varais, e as suas colunas, e as suas bas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ambém as colunas do pátio em redor, e as suas bases, e as suas estacas, e as suas cordas, com todos os seus instrumentos, e com todo o seu ministério; e contareis os objetos que ficarão a seu cargo, nome por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é o ministério das famílias dos filhos de Merari, segundo todo o seu ministério, na tenda da congregação, debaixo da mão de Itamar, filho de Arão, o sacerd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oisés, pois, e Arão e os príncipes da congregação contaram os filhos dos coatitas, segundo as suas famílias e segundo a casa de seus pai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idade de trinta anos para cima, até aos cinqüenta, todo aquele que entrou neste serviço, para o ministério da tenda da cong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e deles foram contados, pois, segundo as suas famílias, foram dois mil e setecentos e cinqüe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que foram contados das famílias dos coatitas, de todo aquele que ministrava na tenda da congregação, os quais Moisés e Arão contaram, conforme ao mandado do SENHOR pela mão de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melhantemente os que foram contados dos filhos de Gérson, segundo as suas famílias, e segundo a casa de seus pai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idade de trinta anos para cima até aos cinqüenta, todo aquele que entrou neste serviço, para o ministério na tenda da cong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será o ministério dos filhos de Coate na tenda da congregação, nas coisas santíssim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e deles foram contados, segundo as suas famílias, segundo a casa de seus pais, foram dois mil e seiscentos e tri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contados das famílias dos filhos de Gérson, de todo aquele que ministrava na tenda da congregação; os quais Moisés e Arão contaram, conforme ao mandado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foram contados das famílias dos filhos de Merari, segundo as suas famílias, segundo a casa de seus pai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idade de trinta anos para cima, até aos cinqüenta, todo aquele que entrou neste serviço, para o ministério na tenda da cong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e deles foram contados, segundo as suas famílias, eram três mil e duz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contados das famílias dos filhos de Merari; os quais Moisés e Arão contaram, conforme ao mandado do SENHOR, pela mão de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que deles foram contados, que contaram Moisés e Arão, e os príncipes de Israel, dos levitas, segundo as suas famílias, segundo a casa de seus pai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idade de trinta anos para cima, até aos cinqüenta, todo aquele que entrava a executar o ministério da administração, e o ministério das cargas na tenda da congregaç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e deles foram contados foram oito mil quinhentos e oite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forme ao mandado do SENHOR, pela mão de Moisés, foram contados cada qual segundo o seu ministério, e segundo o seu cargo; assim foram contados por ele, como o SENHOR ordenara a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partir o arraial, Arão e seus filhos virão e tirarão o véu da tenda, e com ele cobrirão a arca do testemunh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ôr-lhe-ão por cima uma coberta de peles de texugos, e sobre ela estenderão um pano, todo azul, e lhe colocarão os var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sobre a mesa da proposição estenderão um pano azul; e sobre ela porão os pratos, as colheres, e as taças e os jarros para libação; também o pão contínuo estará sobre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estenderão em cima deles um pano de carmesim, e com a coberta de peles de texugos o cobrirão, e lhe colocarão os seus var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marão um pano azul, e cobrirão o candelabro da luminária, e as suas lâmpadas, e os seus espevitadores, e os seus apagadores, e todos os seus vasos de azeite, com que o serv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7:58Z</dcterms:created>
  <dc:creator>Admin</dc:creator>
  <dc:description/>
  <dc:language>en-US</dc:language>
  <cp:lastModifiedBy>Admin</cp:lastModifiedBy>
  <dcterms:modified xsi:type="dcterms:W3CDTF">2008-07-31T00:17:58Z</dcterms:modified>
  <cp:revision>1</cp:revision>
  <dc:subject/>
  <dc:title>Slide 1</dc:title>
</cp:coreProperties>
</file>