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5ED-E114-40D3-AA95-E7D97B6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A47-3F42-405F-8BED-A6A27B65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F1C-6EEB-4CC4-8F32-7C8D6EF8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08B-78AB-40A6-8927-10941C7D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639-A6D6-410E-B978-F8542A8F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7FF-9610-4687-9731-552F51C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FDC-1FFA-4861-A152-D57D4297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25A-559B-48BB-A14B-330C566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8AF-F1DA-45AA-944A-A14C7D2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6C3-02B5-41E1-B3C3-A7C47E2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4F4-97CF-4AC6-A74B-A1D9916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75B-AEAF-4502-AECF-7CE081D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B4C-54D0-46B1-8F8A-CE7C4C4F1BF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aliança com os meus olhos; como, pois, os fixaria numa virg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a minha mulher para outro, e outros se encurvem sobre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uma infâmia, e é delito pertencente aos ju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fogo que consome até à perdição, e desarraigaria toda a minha r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sprezei o direito do meu servo ou da minha serva, quando eles contendiam com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que faria eu quando Deus se levantasse? E, inquirindo a causa, que lhe responde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me formou no ventre não o fez também a ele? Ou não nos formou do mesmo modo na mad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retive o que os pobres desejavam, ou fiz desfalecer os olhos da viúv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, sozinho comi o meu bocado, e o órfão não comeu d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desde a minha mocidade cresceu comigo como com seu pai, e fui o guia da viúva desde o ventre de minha mãe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vi perecer por falta de roupa, e ao necessitado por não ter cober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orção teria eu do Deus lá de cima, ou que herança do Todo-Poderoso desde as altu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s seus lombos não me abençoaram, se ele não se aquentava com as peles dos meus cord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levantei a minha mão contra o órfão, porquanto na porta via a minha aju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ia do ombro a minha espádua, e separe-se o meu braço do o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castigo de Deus era para mim um assombro, e eu não podia suportar a sua grand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o ouro pus a minha esperança, ou disse ao ouro fino: Tu és a minha confi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me alegrei de que era muita a minha riqueza, e de que a minha mão tinha alcançado mu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lhei para o sol, quando resplandecia, ou para a lua, caminhando glorio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coração se deixou enganar em oculto, e a minha boca beijou a minha 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isto seria delito à punição de juízes; pois assim negaria a Deus que está lá em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me alegrei da desgraça do que me tem ódio, e se exultei quando o mal o atingi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é a perdição para o perverso, o desastre para os que praticam iniqü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Também não deixei pecar a minha boca, desejando a sua morte com maldição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gente da minha tenda não disse: Ah! quem nos dará da sua carne? Nunca nos fartaríamos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trangeiro não passava a noite na rua; as minhas portas abria ao viand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, como Adão, encobri as minhas transgressões, ocultando o meu delito no meu se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temia a grande multidão, e o desprezo das famílias me apavorava, e eu me calei, e não saí da por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quem me dera um que me ouvisse! Eis que o meu desejo é que o Todo-Poderoso me responda, e que o meu adversário escreva um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erto que o levaria sobre o meu ombro, sobre mim o ataria por cor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úmero dos meus passos lhe mostraria; como príncipe me chegaria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minha terra clamar contra mim, e se os seus sulcos juntamente chorar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mi os seus frutos sem dinheiro, e sufoquei a alma dos seus do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vê ele os meus caminhos, e não conta todos os meus pas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rigo me produza cardos, e por cevada joio. Acabaram-se as palavras de J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ndei com falsidade, e se o meu pé se apressou para o enga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ese-me em balanças fiéis, e saberá Deus a minha sinceridade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s meus passos se desviaram do caminho, e se o meu coração segue os meus olhos, e se às minhas mãos se apegou qualquer coi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meie eu e outro coma, e seja a minha descendência arrancada até à ra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meu coração se deixou seduzir por uma mulher, ou se eu armei traições à porta do meu próxi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56Z</dcterms:created>
  <dc:creator>Admin</dc:creator>
  <dc:description/>
  <dc:language>en-US</dc:language>
  <cp:lastModifiedBy>Admin</cp:lastModifiedBy>
  <dcterms:modified xsi:type="dcterms:W3CDTF">2008-07-31T00:01:56Z</dcterms:modified>
  <cp:revision>1</cp:revision>
  <dc:subject/>
  <dc:title>Slide 1</dc:title>
</cp:coreProperties>
</file>