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E1B-A032-4BF6-92FE-243C9F89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516-1AC7-4D79-B9BC-E227753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8D1-B2D8-436F-9C7F-239436BB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6E6-3BE9-43FD-A666-EC2D159B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35E-99EF-4330-8F10-2DBD7F79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5EA-4675-4D7F-9E4D-E838947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068-C147-407B-9508-4A326F3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B5F-4C0A-4BE8-957C-1664FA5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32F-1D0A-49E7-827D-A2E5DA5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A36-1243-4C11-A5EA-E82AECA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C5A-3720-459D-91F6-B0F8007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B08-F21E-4F2E-8A42-9891E14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998-52EA-4E7B-9EF1-33658DFF31B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tanás se levantou contra Israel, e incitou Davi a numer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fala a Davi, dizendo: Assim diz o SENHOR: Três coisas te proponho; escolhe uma delas, para que eu ta f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ade veio a Davi, e lhe disse: Assim diz o SENHOR: Escolhe para 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rês anos de fome, ou que três meses sejas consumido diante dos teus adversários, e a espada de teus inimigos te alcance, ou que três dias a espada do SENHOR, isto é, a peste na terra, e o anjo do SENHOR destrua todos os termos de Israel; vê, pois, 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Gade: Estou em grande angústia; caia eu, pois, nas mãos do SENHOR, porque são muitíssimas as suas misericórdias; mas que eu não caia nas mã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, pois, o SENHOR a peste a Israel; e caíram de Israel setenta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mandou um anjo a Jerusalém para a destruir; e, destruindo-a ele, o SENHOR olhou, e se arrependeu daquele mal, e disse ao anjo destruidor: Basta, agora retira a tua mão. E o anjo do SENHOR estava junto à eira de Ornã,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Davi os seus olhos, viu o anjo do SENHOR, que estava entre a terra e o céu, com a sua espada desembainhada na sua mão estendida contra Jerusalém; então Davi e os anciãos, cobertos de sacos, se prostraram sobre os seus ro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Deus: Não sou eu o que disse que se contasse o povo? E eu mesmo sou o que pequei, e fiz muito mal; mas estas ovelhas que fizeram? Ah! SENHOR, meu Deus, seja a tua mão contra mim, e contra a casa de meu pai, e não para castigo de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ordenou a Gade que dissesse a Davi para subir e levantar um altar ao SENHOR na eira de Ornã,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Davi, conforme a palavra de Gade, que falara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Joabe e aos maiorais do povo: Ide, numerai a Israel, desde Berseba até Dã; e trazei-me a conta para que saiba o númer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rando-se Ornã, viu o anjo, e esconderam-se seus quatro filhos que estavam com ele; e Ornã estava trilhando o t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veio a Ornã; e olhou Ornã, e viu a Davi, e saiu da eira, e se prostrou perante Davi com o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Ornã: Dá-me este lugar da eira, para edificar nele um altar ao SENHOR; dá-mo pelo seu valor, para que cesse este castigo sob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rnã a Davi: Toma-o para ti, e faça o rei meu senhor dele o que parecer bem aos seus olhos; eis que dou os bois para holocaustos, e os trilhos para lenha, e o trigo para oferta de alimentos; tudo 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Davi a Ornã: Não, antes, pelo seu valor, a quero comprar; porque não tomarei o que é teu, para o SENHOR, para que não ofereça holocausto sem c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eu a Ornã, por aquele lugar, o peso de seiscentos siclo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edificou ali um altar ao SENHOR, e ofereceu nele holocaustos e sacrifícios pacíficos; e invocou o SENHOR, o qual lhe respondeu com fogo do céu sobre o altar d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 ordem ao anjo, e ele tornou a sua espada à ba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Davi, no mesmo tempo, que o SENHOR lhe respondera na eira de Ornã, o jebuseu, sacrifico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tabernáculo do SENHOR, que Moisés fizera no deserto, e o altar do holocausto, estavam naquele tempo no alto de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abe: O SENHOR acrescente ao seu povo cem vezes tanto como é; porventura, ó rei meu senhor, não são todos servos de meu senhor? Por que procura isto o meu senhor? Porque seria isto causa de delito para co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odia Davi ir perante ele consultar a Deus; porque estava aterrorizado por causa da espada do anj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palavra do rei prevaleceu contra Joabe; por isso saiu Joabe, e passou por todo o Israel; então voltou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 deu a Davi a soma do número do povo; e era todo o Israel um milhão e cem mil homens, dos que arrancavam da espada; e de Judá quatrocentos e setenta mil homens, dos que arrancavam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de Levi e Benjamim não contou entre eles, porque a palavra do rei foi abominável a J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negócio também pareceu mau aos olhos de Deus; por isso feriu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Deus: Gravemente pequei em fazer este negócio; porém agora sê servido tirar a iniqüidade de teu servo, porque procedi mui lou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o SENHOR a Gade, o vidente de Dav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32Z</dcterms:created>
  <dc:creator>Admin</dc:creator>
  <dc:description/>
  <dc:language>en-US</dc:language>
  <cp:lastModifiedBy>Admin</cp:lastModifiedBy>
  <dcterms:modified xsi:type="dcterms:W3CDTF">2008-07-30T23:43:32Z</dcterms:modified>
  <cp:revision>1</cp:revision>
  <dc:subject/>
  <dc:title>Slide 1</dc:title>
</cp:coreProperties>
</file>