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681-7F17-4AE2-B4A5-F88D708E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359-DABC-439E-8F7C-B9E7F5A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7B3-7AF0-4FC4-932F-47EFFEF9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761-B4CA-40FE-AFCF-E5DEEAB7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0B5-6526-40B9-93D4-AE19ABE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2C7-10B0-411F-BFFE-E0CDBD8D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371-088E-4F33-BE63-6FA59813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F5D-C7BC-415B-8196-FF64D973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B3F-761A-466A-9F66-B8C677E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A9C-99FF-42FD-BC4C-56A28AC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DE3-2214-42A1-A06B-ABD5743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B7D-FA64-4311-8AE2-A928B30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EFA-2574-4F4D-9ABD-BE97952A46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-SE a ele os fariseus, e alguns dos escribas que tinham vindo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oisés disse: Honra a teu pai e a tua mãe; e quem maldisser, ou o pai ou a mãe,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rém, dizeis: Se um homem disser ao pai ou à mãe: Aquilo que poderias aproveitar de mim é Corbã, isto é, oferta a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mais lhe deixais fazer por seu pai ou por sua mã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validando assim a palavra de Deus pela vossa tradição, que vós ordenastes. E muitas coisas fazeis semelhantes a e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outra vez a multidão, disse-lhes: Ouvi-me vós, todos, e compreend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há, fora do homem, que, entrando nele, o possa contaminar; mas o que sai dele isso é que contamina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quando deixou a multidão, e entrou em casa, os seus discípulos o interrogavam acerca desta parábo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Assim também vós estais sem entendimento? Não compreendeis que tudo o que de fora entra no homem não o pode contamin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entra no seu coração, mas no ventre, e é lançado fora, ficando puras todas as comi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que alguns dos seus discípulos comiam pão com as mãos impuras, isto é, por lavar, os repreend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: O que sai do homem isso contamina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o interior do coração dos homens saem os maus pensamentos, os adultérios, as prostituições, os homicíd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urtos, a avareza, as maldades, o engano, a dissolução, a inveja, a blasfêmia, a soberba, a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males procedem de dentro e contaminam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dali, foi para os termos de Tiro e de Sidom. E, entrando numa casa, não queria que alguém o soubesse, mas não pôde esconder-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a mulher, cuja filha tinha um espírito imundo, ouvindo falar dele, foi e lançou-se a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mulher era grega, siro-fenícia de nação, e rogava-lhe que expulsasse de sua filha o demô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disse-lhe: Deixa primeiro saciar os filhos; porque não convém tomar o pão dos filhos e lançá-lo aos cachorr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, porém, respondeu, e disse-lhe: Sim, Senhor; mas também os cachorrinhos comem, debaixo da mesa, as migalhas d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-lhe: Por essa palavra, vai; o demônio já saiu de tua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fariseus, e todos os judeus, conservando a tradição dos antigos, não comem sem lavar as mãos muitas vez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a para sua casa, achou a filha deitada sobre a cama, e que o demônio já tinha sa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tornando a sair dos termos de Tiro e de Sidom, foi até ao mar da Galiléia, pelos confins de Decápol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-lhe um surdo, que falava dificilmente; e rogaram-lhe que pusesse a mão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irando-o à parte, de entre a multidão, pôs-lhe os dedos nos ouvidos; e, cuspindo, tocou-lhe n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os olhos ao céu, suspirou, e disse: Efatá; isto é, Abre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se abriram os seus ouvidos, e a prisão da língua se desfez, e falava perfei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s que a ninguém o dissessem; mas, quanto mais lhos proibia, tanto mais o divulg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dmirando-se sobremaneira, diziam: Tudo faz bem; faz ouvir os surdos e falar os mu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oltam do mercado, se não se lavarem, não comem. E muitas outras coisas há que receberam para observar, como lavar os copos, e os jarros, e os vasos de metal e as ca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erguntaram-lhe os fariseus e os escribas: Por que não andam os teus discípulos conforme a tradição dos antigos, mas comem o pão com as mãos por lav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respondendo, disse-lhes: Bem profetizou Isaías acerca de vós, hipócritas, como está escrito: Este povo honra-me com os lábios, Mas o seu coração está longe d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ão, porém, me honram, Ensinando doutrinas que são mandamento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deixando o mandamento de Deus, retendes a tradição dos homens; como o lavar dos jarros e dos copos; e fazeis muitas outras coisas semelhantes a e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-lhes: Bem invalidais o mandamento de Deus para guardardes a vossa tra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12Z</dcterms:created>
  <dc:creator>Admin</dc:creator>
  <dc:description/>
  <dc:language>en-US</dc:language>
  <cp:lastModifiedBy>Admin</cp:lastModifiedBy>
  <dcterms:modified xsi:type="dcterms:W3CDTF">2008-07-31T00:13:12Z</dcterms:modified>
  <cp:revision>1</cp:revision>
  <dc:subject/>
  <dc:title>Slide 1</dc:title>
</cp:coreProperties>
</file>