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16A0-2E7B-474B-A359-526B5A7A2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4D24-B0FF-48B1-A91C-69DA19652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D3D7-99D8-42D0-99CE-E6B10DB32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AD4E-3C8E-4B53-BF57-E4A1E6BC9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9F7C-01FE-45C9-8C00-9E54E8FA7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EA73-AB5E-4EFE-81BD-D0F1F266F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39F4-ADDE-4804-BE76-E43D632D4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F232-3C4D-4B89-81F0-A59875181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87C5-A68B-4AE0-8BA5-0EF38BD85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011D-C6FA-4511-A5D8-8A99C523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02BF-5C86-4B95-80F7-02CF9820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0347-F266-4674-B217-BB5436FB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1476F-7932-4A8D-A385-6ED54AFCFB0D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ó Israel, ouve os estatutos e os juízos que eu vos ensino, para os cumprirdes; para que vivais, e entreis, e possuais a terra que o SENHOR Deus de vossos pais vos d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dia em que estiveste perante o SENHOR teu Deus em Horebe, quando o SENHOR me disse: Ajunta-me este povo, e os farei ouvir as minhas palavras, e aprendê-las-ão, para me temerem todos os dias que na terra viverem, e as ensinarão a seus filh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ós vos chegastes, e vos pusestes ao pé do monte; e o monte ardia em fogo até ao meio dos céus, e havia trevas, e nuvens e escuridã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SENHOR vos falou do meio do fogo; a voz das palavras ouvistes; porém, além da voz, não vistes figura algu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vos anunciou ele a sua aliança que vos ordenou cumprir, os dez mandamentos, e os escreveu em duas tábuas de ped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4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o SENHOR me ordenou ao mesmo tempo que vos ensinasse estatutos e juízos, para que os cumprísseis na terra a qual passais a possu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4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Guardai, pois, com diligência as vossas almas, pois nenhuma figura vistes no dia em que o SENHOR, em Horebe, falou convosco do meio do fog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4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não vos corrompais, e vos façais alguma imagem esculpida na forma de qualquer figura, semelhança de homem ou mulhe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4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gura de algum animal que haja na terra; figura de alguma ave alada que voa pelos céu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4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gura de algum animal que se arrasta sobre a terra; figura de algum peixe que esteja nas águas debaixo da terr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4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não levantes os teus olhos aos céus e vejas o sol, e a lua, e as estrelas, todo o exército dos céus; e sejas impelido a que te inclines perante eles, e sirvas àqueles que o SENHOR teu Deus repartiu a todos os povos debaixo de todos os cé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acrescentareis à palavra que vos mando, nem diminuireis dela, para que guardeis os mandamentos do SENHOR vosso Deus, que eu vos ma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4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 SENHOR vos tomou, e vos tirou da fornalha de ferro do Egito, para que lhe sejais por povo hereditário, como neste dia se vê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4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o SENHOR se indignou contra mim por causa das vossas palavras, e jurou que eu não passaria o Jordão, e que não entraria na boa terra que o SENHOR teu Deus te dará por hera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4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u nesta terra morrerei, não passarei o Jordão; porém vós o passareis, e possuireis aquela bo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4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Guardai-vos e não vos esqueçais da aliança do SENHOR vosso Deus, que tem feito convosco, e não façais para vós escultura alguma, imagem de alguma coisa que o SENHOR vosso Deus vos proibi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4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SENHOR teu Deus é um fogo que consome, um Deus zelo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4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, pois, gerardes filhos, e filhos de filhos, e vos envelhecerdes na terra, e vos corromperdes, e fizerdes alguma escultura, semelhança de alguma coisa, e fizerdes o que é mau aos olhos do SENHOR teu Deus, para o provocar à ir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4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oje tomo por testemunhas contra vós o céu e a terra, que certamente logo perecereis da terra, a qual passais o Jordão para a possuir; não prolongareis os vossos dias nela, antes sereis de todo destruí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4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 vos espalhará entre os povos, e ficareis poucos em número entre as nações às quais o SENHOR vos conduzi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4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li servireis a deuses que são obra de mãos de homens, madeira e pedra, que não vêem, nem ouvem, nem comem, nem chei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4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ali buscarás ao SENHOR teu Deus, e o acharás, quando o buscares de todo o teu coração e de toda a tua al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vossos olhos têm visto o que o SENHOR fez por causa de Baal-Peor; pois a todo o homem que seguiu a Baal-Peor o SENHOR teu Deus consumiu do meio de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4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estiverdes em angústia, e todas estas coisas te alcançarem, então nos últimos dias voltarás para o SENHOR teu Deus, e ouvirás a sua vo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4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anto o SENHOR teu Deus é Deus misericordioso, e não te desamparará, nem te destruirá, nem se esquecerá da aliança que jurou a teus p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4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pergunta aos tempos passados, que te precederam desde o dia em que Deus criou o homem sobre a terra, desde uma extremidade do céu até à outra, se sucedeu jamais coisa tão grande como esta, ou se jamais se ouviu coisa como est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4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 se algum povo ouviu a voz de Deus falando do meio do fogo, como tu a ouviste, e ficou viv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4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 se Deus intentou ir tomar para si um povo do meio de outro povo com provas, com sinais, e com milagres, e com peleja, e com mão forte, e com braço estendido, e com grandes espantos, conforme a tudo quanto o SENHOR vosso Deus vos fez no Egito aos vos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4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ti te foi mostrado para que soubesses que o SENHOR é Deus; nenhum outro há senão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4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de os céus te fez ouvir a sua voz, para te ensinar, e sobre a terra te mostrou o seu grande fogo, e ouviste as suas palavras do meio do fo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4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porquanto amou teus pais, e escolheu a sua descendência depois deles, te tirou do Egito diante de si, com a sua grande forç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4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lançar fora de diante de ti nações maiores e mais poderosas do que tu, para te introduzir e te dar a sua terra por herança, como neste dia se vê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4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hoje saberás, e refletirás no teu coração, que só o SENHOR é Deus, em cima no céu e em baixo na terra; nenhum outro h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vós, que vos achegastes ao SENHOR vosso Deus, hoje todos estais viv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4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guardarás os seus estatutos e os seus mandamentos, que te ordeno hoje para que te vá bem a ti, e a teus filhos depois de ti, e para que prolongues os dias na terra que o SENHOR teu Deus te dá para todo o se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4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Moisés separou três cidades além do Jordão, do lado do nascimento do sol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4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ali se acolhesse o homicida que involuntariamente matasse o seu próximo a quem dantes não tivesse ódio algum; e se acolhesse a uma destas cidades, e vivess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4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Bezer, no deserto, no planalto, para os rubenitas; e a Ramote, em Gileade, para os gaditas; e a Golã, em Basã, para os manassi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4: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 é, pois, a lei que Moisés propôs aos filho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4:4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s são os testemunhos, e os estatutos, e os juízos, que Moisés falou aos filhos de Israel, havendo saído do Egi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4:4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lém do Jordão, no vale defronte de Bete-Peor, na terra de Siom, rei dos amorreus, que habitava em Hesbom, a quem feriu Moisés e os filhos de Israel, havendo eles saído do Eg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4:4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maram a sua terra em possessão, como também a terra de Ogue, rei de Basã, dois reis dos amorreus, que estavam além do Jordão, do lado do nascimento do so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4:4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de Aroer, que está à margem do ribeiro de Arnom, até ao monte Sião, que é Hermom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4:4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a a campina além do Jordão, do lado do oriente, até ao mar da campina, abaixo de Asdote-Pisg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des aqui vos tenho ensinado estatutos e juízos, como me mandou o SENHOR meu Deus; para que assim façais no meio da terra a qual ides a herd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Guardai-os pois, e cumpri-os, porque isso será a vossa sabedoria e o vosso entendimento perante os olhos dos povos, que ouvirão todos estes estatutos, e dirão: Este grande povo é nação sábia e entend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, que nação há tão grande, que tenha deuses tão chegados como o SENHOR nosso Deus, todas as vezes que o invocam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e nação há tão grande, que tenha estatutos e juízos tão justos como toda esta lei que hoje ponho perante vó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ão-somente guarda-te a ti mesmo, e guarda bem a tua alma, que não te esqueças daquelas coisas que os teus olhos têm visto, e não se apartem do teu coração todos os dias da tua vida; e as farás saber a teus filhos, e aos filhos de teus fi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7:21Z</dcterms:created>
  <dc:creator>Admin</dc:creator>
  <dc:description/>
  <dc:language>en-US</dc:language>
  <cp:lastModifiedBy>Admin</cp:lastModifiedBy>
  <dcterms:modified xsi:type="dcterms:W3CDTF">2008-07-30T23:27:21Z</dcterms:modified>
  <cp:revision>1</cp:revision>
  <dc:subject/>
  <dc:title>Slide 1</dc:title>
</cp:coreProperties>
</file>