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78C-761D-4E79-B3A5-DDA2675E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173-50A4-490B-B0CE-EA711CB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178-5318-4511-9EE2-D8AC802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DC5-90EC-4F5A-9CE6-3215B748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D0C-F00C-481A-996E-E34C527D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556-DD50-4825-B62D-EFAD630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F37-FE57-4DD2-928D-80AC186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BFA-5428-4655-8C42-254B3E8E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349-2C5F-425C-B1A2-E7851E6D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10F-0C90-4CF0-A161-D23D4D9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EAE-B3BE-4F94-BC28-E40B62F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DF3-27F5-4C53-A1C6-B9EE35A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370-4746-4C08-AFA5-01BD50C27D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as moscas mortas fazem exalar mau cheiro e inutilizar o ungüento do perfumador, assim é, para o famoso em sabedoria e em honra, um pouco de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stiver embotado o ferro, e não se afiar o corte, então se deve redobrar a força; mas a sabedoria é excelente para diri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ramente a serpente morderá antes de estar encantada, e o falador não é mel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palavras da boca do sábio há favor, porém os lábios do tolo o dev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incípio das palavras da sua boca é a estultícia, e o fim do seu falar um desvario pé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lo multiplica as palavras, porém, o homem não sabe o que será; e quem lhe fará saber o que será depois d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rabalho dos tolos a cada um deles fatiga, porque não sabem como ir à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ó terra, quando seu rei é uma criança, e cujos príncipes comem de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a tu, ó terra, quando seu rei é filho dos nobres, e seus príncipes comem a tempo, para se fortalecerem, e não para bebed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uita preguiça se enfraquece o teto, e pela frouxidão das mãos a casa got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rir se fazem banquetes, e o vinho produz alegria, e por tudo o dinheiro respo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sábio está à sua direita, mas o coração do tolo está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inda no teu pensamento amaldiçoes ao rei, nem tampouco no mais interior da tua recâmara amaldiçoes ao rico; porque as aves dos céus levariam a voz, e os que têm asas dariam notícia do assu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té quando o tolo vai pelo caminho, falta-lhe o seu entendimento e diz a todos que é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ndo-se contra ti o espírito do governador, não deixes o teu lugar, porque a submissão é um remédio que aplaca grandes ofen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há um mal que vi debaixo do sol, como o erro que procede do govern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ultícia está posta em grandes alturas, mas os ricos estão assentados em lugar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os servos a cavalo, e os príncipes andando sobre a terra como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brir uma cova, nela cairá, e quem romper um muro, uma cobra o mor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ransporta pedras, será maltratado por elas, e o que rachar lenha expõe-se ao pe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41Z</dcterms:created>
  <dc:creator>Admin</dc:creator>
  <dc:description/>
  <dc:language>en-US</dc:language>
  <cp:lastModifiedBy>Admin</cp:lastModifiedBy>
  <dcterms:modified xsi:type="dcterms:W3CDTF">2008-07-30T23:29:41Z</dcterms:modified>
  <cp:revision>1</cp:revision>
  <dc:subject/>
  <dc:title>Slide 1</dc:title>
</cp:coreProperties>
</file>