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6DF-4260-421A-AAC7-477F0BD4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6B7-82B3-4B2A-8F59-49B8719A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FF4-8B20-4C03-BF3B-2EDD9CE9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4E1-31B5-40C2-8D5B-3D63092D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15E-167C-4C48-9184-4262B735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7EC-D16F-4B24-AF84-3ECDCA76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F57-0701-44EC-BC28-603AFBD3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D88-601B-4888-B097-8078F8E9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BB4-621F-4CFC-A299-919EFCE9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691-F72C-4227-A38F-EF0EE1A0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E44-E2C1-4931-99D4-E7DDC9E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6A9-B851-4199-B4F7-47DF92C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CF02-66B5-485A-B66E-6F0078A333B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és formosa, meu amor, eis que és formosa; os teus olhos são como os das pombas entre as tuas tranças; o teu cabelo é como o rebanho de cabras que pastam no monte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belos são os teus amores, minha irmã, esposa minha! Quanto melhor é o teu amor do que o vinho! E o aroma dos teus ungüentos do que o de todas as especiari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vos de mel manam dos teus lábios, minha esposa! Mel e leite estão debaixo da tua língua, e o cheiro dos teus vestidos é como o cheiro do Líb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rdim fechado és tu, minha irmã, esposa minha, manancial fechado, fonte sel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renovos são um pomar de romãs, com frutos excelentes, o cipreste com o nar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nardo, e o açafrão, o cálamo, e a canela, com toda a sorte de árvores de incenso, a mirra e aloés, com todas as principais especi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s a fonte dos jardins, poço das águas vivas, que correm do Líban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vento norte, e vem tu, vento sul; assopra no meu jardim, para que destilem os seus aromas. Ah! entre o meu amado no jardim, e coma os seus frutos excelent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dentes são como o rebanho das ovelhas tosquiadas, que sobem do lavadouro, e das quais todas produzem gêmeos, e nenhuma há estéril entre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lábios são como um fio de escarlate, e o teu falar é agradável; a tua fronte é qual um pedaço de romã entre os teus cab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pescoço é como a torre de Davi, edificada para pendurar armas; mil escudos pendem dela, todos broquéis de pode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dois seios são como dois filhos gêmeos da gazela, que se apascentam entre os lí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refresque o dia, e fujam as sombras, irei ao monte da mirra, e ao outeiro do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toda formosa, meu amor, e em ti não há man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 comigo do Líbano, ó minha esposa, vem comigo do Líbano; olha desde o cume de Amana, desde o cume de Senir e de Hermom, desde os covis dos leões, desde os montes dos leopar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levaste-me o coração, minha irmã, minha esposa; enlevaste-me o coração com um dos teus olhares, com um colar do teu pesc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46Z</dcterms:created>
  <dc:creator>Admin</dc:creator>
  <dc:description/>
  <dc:language>en-US</dc:language>
  <cp:lastModifiedBy>Admin</cp:lastModifiedBy>
  <dcterms:modified xsi:type="dcterms:W3CDTF">2008-07-30T23:25:46Z</dcterms:modified>
  <cp:revision>1</cp:revision>
  <dc:subject/>
  <dc:title>Slide 1</dc:title>
</cp:coreProperties>
</file>