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3A8-B3F1-434E-AD87-E90AC734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E888-66E3-4B6A-8482-A4DFABB4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E44-15FA-41C8-B856-9F08E7D4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9A9-D109-4AC7-B6BD-55DD1B4A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496-DCA9-4FDC-81F6-9AF41901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DCC0-B2B1-42C6-959E-5C8DB51F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45D5-D3C6-4839-A288-216F841C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AD3-51F5-4ED2-B432-1B41365B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4C3-9017-4160-8E27-05B10F26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968-7F5F-4E19-83BB-A26BB5E8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109-F438-4015-99A7-6F2332D8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82B-E216-4CDD-8373-C6C80782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F5D4-FF91-4DD6-A387-1B77CAB78A5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Manassés doze anos de idade, quando começou a reinar, e cinqüenta e cinco anos reinou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anassés e ao seu povo, porém não deram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SENHOR trouxe sobre eles os capitães do exército do rei da Assíria, os quais prenderam a Manassés com ganchos e, amarrando-o com cadeias, o levaram para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, angustiado, orou deveras ao SENHOR seu Deus, e humilhou-se muito perante o Deus de seus pa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-lhe oração, e Deus se aplacou para com ele, e ouviu a sua súplica, e tornou a trazê-lo a Jerusalém, ao seu reino. Então conheceu Manassés que o SENHOR er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isto edificou o muro de fora da cidade de Davi, ao ocidente de Giom, no vale, e à entrada da porta do peixe, e ao redor de Ofel, e o levantou muito alto; também pôs capitães de guerra em todas as cidades fortificadas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ou da casa do SENHOR os deuses estranhos e o ídolo, como também todos os altares que tinha edificado no monte da casa do SENHOR, e em Jerusalém, e os lançou fora d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parou o altar do SENHOR e ofereceu sobre ele sacrifícios de ofertas pacíficas e de louvor; e ordenou a Judá que servisse ao SENHOR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o povo ainda sacrificava nos altos, mas somente ao SENHOR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stante dos atos de Manassés, e a sua oração ao seu Deus, e as palavras dos videntes que lhe falaram no nome do SENHOR Deus de Israel, eis que estão nas crônicas dos rei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oração, e como Deus se aplacou para com ele, e todo o seu pecado, e a sua transgressão, e os lugares onde edificou altos, e pôs bosques e imagens de escultura, antes que se humilhasse, eis que estão escritos nos livros dos vid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, conforme às abominações dos gentios que o SENHOR lançara fora de diante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rmiu Manassés com seus pais, e o sepultaram em sua casa. Amom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Amom vinte e dois anos de idade quando começou a reinar, e dois anos reinou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, como havia feito Manassés, seu pai; porque Amom sacrificou a todas as imagens de escultura que Manassés, seu pai tinha feito, e as serv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ão se humilhou perante o SENHOR, como Manassés, seu pai, se humilhara; antes multiplicou Amom os seus del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spiraram contra ele os seus servos, e o mataram em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povo da terra feriu a todos quantos conspiraram contra o rei Amom; e o povo da terra fez reinar em seu lugar a Josias, s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rnou a edificar os altos que Ezequias, seu pai, tinha derrubado; e levantou altares aos Baalins, e fez bosques, e prostrou-se diante de todo o exército dos céus, e o serv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dificou altares na casa do SENHOR, da qual o SENHOR tinha falado: Em Jerusalém estará o meu nome etern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dificou altares a todo o exército dos céus, em ambos os átrios d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ele também passar seus filhos pelo fogo no vale do filho de Hinom, e usou de adivinhações e de agouros, e de feitiçarias, e consultou adivinhos e encantadores, e fez muitíssimo mal aos olhos do SENHOR, para o provocar à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pôs uma imagem de escultura do ídolo que tinha feito, na casa de Deus, da qual Deus tinha falado a Davi e a Salomão seu filho: Nesta casa e em Jerusalém, que escolhi de todas as tribos de Israel, porei o meu nom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unca mais removerei o pé de Israel da terra que destinei a vossos pais; contanto que tenham cuidado de fazer tudo o que eu lhes ordenei, conforme a toda a lei, e estatutos, e juízos, dados pela mão de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assés tanto fez errar a Judá e aos moradores de Jerusalém, que fizeram pior do que as nações que o SENHOR tinha destruído de diante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0:38Z</dcterms:created>
  <dc:creator>Admin</dc:creator>
  <dc:description/>
  <dc:language>en-US</dc:language>
  <cp:lastModifiedBy>Admin</cp:lastModifiedBy>
  <dcterms:modified xsi:type="dcterms:W3CDTF">2008-07-30T23:50:38Z</dcterms:modified>
  <cp:revision>1</cp:revision>
  <dc:subject/>
  <dc:title>Slide 1</dc:title>
</cp:coreProperties>
</file>