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1D1-DAC8-4A0E-8E1E-9FF418E3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EAE-BA82-4C8C-BE91-F7F5206C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D5C-734B-4363-A7E3-E9ECB9FD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02A-CFCD-4167-BF85-8C23398F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642-B781-4BF3-8EC4-CFBF42DF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A7E-1863-4D15-A39F-CA6D2EBA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FDF-AC3A-49D2-9A8A-7AD182BD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9B6-1448-45D9-9A12-6ADD4335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812-66CF-416C-BEDB-A29AD1AD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9FC-0E7F-4CDF-B953-754BCA32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85A-D3F3-45F1-A99F-0A0C7B1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E74-55CB-4B42-8AFA-E86397B3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3883-FC27-45F6-84C7-86B97E93F2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I o amor, e procurai com zelo os dons espirituais, mas principalmente o de profetiz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, por exemplo, tanta espécie de vozes no mundo, e nenhuma delas é sem sign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eu ignorar o sentido da voz, serei bárbaro para aquele a quem falo, e o que fala será bárbaro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, como desejais dons espirituais, procurai abundar neles, para edificação da igr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o que fala em língua desconhecida, ore para que a possa interpre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eu orar em língua desconhecida, o meu espírito ora bem, mas o meu entendimento fica sem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arei, pois? Orarei com o espírito, mas também orarei com o entendimento; cantarei com o espírito, mas também cantarei com o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outra maneira, se tu bendisseres com o espírito, como dirá o que ocupa o lugar de indouto, o Amém, sobre a tua ação de graças, visto que não sabe o que diz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realmente tu dás bem as graças, mas o outro não é ed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u graças ao meu Deus, porque falo mais línguas do que vós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eu antes quero falar na igreja cinco palavras na minha própria inteligência, para que possa também instruir os outros, do que dez mil palavras em língua desconhe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fala em língua desconhecida não fala aos homens, senão a Deus; porque ninguém o entende, e em espírito fala misté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não sejais meninos no entendimento, mas sede meninos na malícia, e adultos no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escrito na lei: Por gente de outras línguas, e por outros lábios, falarei a este povo; e ainda assim me não ouvirã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as línguas são um sinal, não para os fiéis, mas para os infiéis; e a profecia não é sinal para os infiéis, mas para os fi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is, toda a igreja se congregar num lugar, e todos falarem em línguas, e entrarem indoutos ou infiéis, não dirão porventura que estais louc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todos profetizarem, e algum indouto ou infiel entrar, de todos é convencido, de todos é jul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s segredos do seu coração ficarão manifestos, e assim, lançando-se sobre o seu rosto, adorará a Deus, publicando que Deus está verdadeiramente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areis, pois, irmãos? Quando vos ajuntais, cada um de vós tem salmo, tem doutrina, tem revelação, tem língua, tem interpretação. Faça-se tudo para ed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falar em língua desconhecida, faça-se isso por dois, ou quando muito três, e por sua vez, e haja intérpr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 houver intérprete, esteja calado na igreja, e fale consigo mesmo, e co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em dois ou três profetas, e os outros julgu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profetiza fala aos homens, para edificação, exortação e con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 outro, que estiver assentado, for revelada alguma coisa, cale-se o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podereis profetizar, uns depois dos outros; para que todos aprendam, e todos sejam conso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píritos dos profetas estão sujeitos a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não é Deus de confusão, senão de paz, como em todas as igrejas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ossas mulheres estejam caladas nas igrejas; porque não lhes é permitido falar; mas estejam sujeitas, como também ordena 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querem aprender alguma coisa, interroguem em casa a seus próprios maridos; porque é vergonhoso que as mulheres falem na igr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saiu dentre vós a palavra de Deus? Ou veio ela somente para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cuida ser profeta, ou espiritual, reconheça que as coisas que vos escrevo são mandament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ém ignora isto, que igno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irmãos, procurai, com zelo, profetizar, e não proibais falar lín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ala em língua desconhecida edifica-se a si mesmo, mas o que profetiza edifica a igr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faça-se tudo decentemente e com or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quero que todos vós faleis em línguas, mas muito mais que profetizeis; porque o que profetiza é maior do que o que fala em línguas, a não ser que também interprete para que a igreja receba ed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irmãos, se eu for ter convosco falando em línguas, que vos aproveitaria, se não vos falasse ou por meio da revelação, ou da ciência, ou da profecia, ou da doutri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esma sorte, se as coisas inanimadas, que fazem som, seja flauta, seja cítara, não formarem sons distintos, como se conhecerá o que se toca com a flauta ou com a cíta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 trombeta der sonido incerto, quem se preparará para a batalh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, se com a língua não pronunciardes palavras bem inteligíveis, como se entenderá o que se diz? porque estareis como que falando ao 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53Z</dcterms:created>
  <dc:creator>Admin</dc:creator>
  <dc:description/>
  <dc:language>en-US</dc:language>
  <cp:lastModifiedBy>Admin</cp:lastModifiedBy>
  <dcterms:modified xsi:type="dcterms:W3CDTF">2008-07-30T23:41:53Z</dcterms:modified>
  <cp:revision>1</cp:revision>
  <dc:subject/>
  <dc:title>Slide 1</dc:title>
</cp:coreProperties>
</file>