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570-22ED-4533-ACBB-674E04FD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5BF-2FE5-471D-8FBC-A636A640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957-316E-4D8D-8E82-17C6336A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D80-7AC3-4199-8F12-82E4C788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5A5-886C-4D9D-869A-1CB081B3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7FB-2302-4DFE-8D5D-DEAA0A84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7DC-1094-4712-96A9-7906830D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6F1-6F80-47B9-90FF-FCD21F24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7F3-35D4-471C-9735-ADDBC8AE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896-A884-4C8B-97D9-EB8B7828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72F-C579-43D5-99AC-167CEA8D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183-7B43-455B-A121-AF64B86B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39C5-2AC8-4069-AB9C-3ACCEA402DE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u no meu coração: Ora vem, eu te provarei com alegria; portanto goza o prazer; mas eis que também isso era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do quanto desejaram os meus olhos não lhes neguei, nem privei o meu coração de alegria alguma; mas o meu coração se alegrou por todo o meu trabalho, e esta foi a minha porção de todo o meu trab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 eu para todas as obras que fizeram as minhas mãos, como também para o trabalho que eu, trabalhando, tinha feito, e eis que tudo era vaidade e aflição de espírito, e que proveito nenhum havia debaixo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ssei a contemplar a sabedoria, e a loucura e a estultícia. Pois que fará o homem que seguir ao rei? O mesmo que outros já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 eu que a sabedoria é mais excelente do que a estultícia, quanto a luz é mais excelente do que 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lhos do homem sábio estão na sua cabeça, mas o louco anda em trevas; então também entendi eu que o mesmo lhes sucede a am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u disse no meu coração: Como acontece ao tolo, assim me sucederá a mim; por que então busquei eu mais a sabedoria? Então disse no meu coração que também isto era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unca haverá mais lembrança do sábio do que do tolo; porquanto de tudo, nos dias futuros, total esquecimento haverá. E como morre o sábio, assim morre o tol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diei esta vida, porque a obra que se faz debaixo do sol me era penosa; sim, tudo é vaidade e aflição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u odiei todo o meu trabalho, que realizei debaixo do sol, visto que eu havia de deixá-lo ao homem que viesse depois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m sabe se será sábio ou tolo? Todavia, se assenhoreará de todo o meu trabalho que realizei e em que me houve sabiamente debaixo do sol; também isto é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riso disse: Está doido; e da alegria: De que serve es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me volvi e entreguei o meu coração ao desespero no tocante ao trabalho, o qual realizei debaixo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á homem cujo trabalho é feito com sabedoria, conhecimento, e destreza; contudo deixará o seu trabalho como porção de quem nele não trabalhou; também isto é vaidade e grande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e mais tem o homem de todo o seu trabalho, e da aflição do seu coração, em que ele anda trabalhando debaixo do so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os seus dias são dores, e a sua ocupação é aflição; até de noite não descansa o seu coração; também isto é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nada melhor para o homem do que comer e beber, e fazer com que sua alma goze do bem do seu trabalho. Também vi que isto vem da mã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em pode comer, ou quem pode gozar melhor do que 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o homem que é bom diante dele, dá Deus sabedoria e conhecimento e alegria; mas ao pecador dá trabalho, para que ele ajunte, e amontoe, para dá-lo ao que é bom perante Deus. Também isto é vaidade e aflição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quei no meu coração como estimular com vinho a minha carne (regendo porém o meu coração com sabedoria), e entregar-me à loucura, até ver o que seria melhor que os filhos dos homens fizessem debaixo do céu durante o número dos dias de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 para mim obras magníficas; edifiquei para mim casas; plantei para mim vi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 para mim hortas e jardins, e plantei neles árvores de toda a espécie de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 para mim tanques de águas, para regar com eles o bosque em que reverdeciam as árv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dquiri servos e servas, e tive servos nascidos em casa; também tive grandes possessões de gados e ovelhas, mais do que todos os que houve antes de mim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ontoei também para mim prata e ouro, e tesouros dos reis e das províncias; provi-me de cantores e cantoras, e das delícias dos filhos dos homens; e de instrumentos de música de toda a espéc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i engrandecido, e aumentei mais do que todos os que houve antes de mim em Jerusalém; perseverou também comigo a minh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20Z</dcterms:created>
  <dc:creator>Admin</dc:creator>
  <dc:description/>
  <dc:language>en-US</dc:language>
  <cp:lastModifiedBy>Admin</cp:lastModifiedBy>
  <dcterms:modified xsi:type="dcterms:W3CDTF">2008-07-30T23:29:20Z</dcterms:modified>
  <cp:revision>1</cp:revision>
  <dc:subject/>
  <dc:title>Slide 1</dc:title>
</cp:coreProperties>
</file>