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607C-F477-446D-8DC0-3FA130199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EFE3-1073-4C96-A31F-00905AA6F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3A91-B223-4885-95C8-CA9F49EF4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17CD-1F79-4B87-9611-87525435D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E1CA-95C6-47A7-9E99-8D78C74CA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3749-26AF-4974-9E0F-BA3D7D5E6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4EAC-3B2B-43C7-B00F-9758C621A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8962-A88C-43D1-9F54-EDDA37402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A0F1-F434-4581-83DE-6DBF7792A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7B6E-DB1E-4D56-BD6A-F0F4456E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B8CA-2E06-4B44-A8C8-9F7D5F64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8E29-321D-4920-8585-425FE9DB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1668E-FCCC-4144-BCE8-3181E481DE6F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8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te louvarei, de todo o meu coração; na presença dos deuses a ti cantarei louvo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8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nclinar-me-ei para o teu santo templo, e louvarei o teu nome pela tua benignidade, e pela tua verdade; pois engrandeceste a tua palavra acima de todo o teu no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8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dia em que eu clamei, me escutaste; e alentaste com força a minha al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8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s os reis da terra te louvarão, ó SENHOR, quando ouvirem as palavras da tua boc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8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antarão os caminhos do SENHOR; pois grande é a glóri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8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nda que o SENHOR é excelso, atenta todavia para o humilde; mas ao soberbo conhece-o de long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8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ndando eu no meio da angústia, tu me reviverás; estenderás a tua mão contra a ira dos meus inimigos, e a tua destra me salv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8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aperfeiçoará o que me toca; a tua benignidade, ó SENHOR, dura para sempre; não desampares as obras das tuas m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8:34Z</dcterms:created>
  <dc:creator>Admin</dc:creator>
  <dc:description/>
  <dc:language>en-US</dc:language>
  <cp:lastModifiedBy>Admin</cp:lastModifiedBy>
  <dcterms:modified xsi:type="dcterms:W3CDTF">2008-07-31T00:28:34Z</dcterms:modified>
  <cp:revision>1</cp:revision>
  <dc:subject/>
  <dc:title>Slide 1</dc:title>
</cp:coreProperties>
</file>