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C4E-FC33-4671-B898-69054B60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296-FC47-42F6-9FCD-8685383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0C6-D484-4028-AD7A-A31E56DC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C29-F958-4CF3-B76A-8FEB8634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7FB-6572-43E2-B35C-2E9F91F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218-5370-4F44-9DEA-EF74311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452-AA5A-4D94-BAE6-4E15841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0D7-EAD7-46BA-AFDD-6942781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C81-1113-4ECB-83AF-6809342A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44C-C919-439F-A638-F0E24E2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2E8-DCC8-4DCB-AA02-6BE7EF2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696-7ABD-48BF-AF5B-F026752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8BB-AE6D-4756-9DCF-79812F4BEB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Zofar, o naamati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filhos procurarão agradar aos pobres, e as suas mãos restituirão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ossos estão cheios do vigor da sua mocidade, mas este se deitará com ele n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o mal lhe seja doce na boca, e ele o esconda debaixo da sua líng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guarde, e não o deixe, antes o retenha no seu palad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a sua comida se mudará nas suas entranhas; fel de áspides será interior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oliu riquezas, porém vomitá-las-á; do seu ventre Deus as lanç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eno de áspides sorverá; língua de víbora o ma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rá as correntes, os rios e os ribeiros de mel e mantei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tituirá o seu trabalho, e não o engolirá; conforme ao poder de sua mudança, e não saltará de go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primiu e desamparou os pobres, e roubou a casa que não ed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os meus pensamentos me fazem responder, eu me apre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sentiu sossego no seu ventre; nada salvará das coisas por ele desej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lhe sobejará do que coma; por isso as suas riquezas não du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plena a sua abastança, estará angustiado; toda a força da miséria virá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mo estando ele a encher a sua barriga, Deus mandará sobre ele o ardor da sua ira, e a fará chover sobre ele quando for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fuja das armas de ferro, o arco de bronze o atraves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embainhará a espada que sairá do seu corpo, e resplandecendo virá do seu fel; e haverá sobre ele ass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escuridão se ocultará nos seus esconderijos; um fogo não assoprado o consumirá, irá mal com o que ficar na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 manifestarão a sua iniqüidade; e a terra se levantará cont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riquezas de sua casa serão transportadas; no dia da sua ira todas se derram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da parte de Deus, é a porção do homem ímpio; esta é a herança que Deus lhe decre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uvi a repreensão, que me envergonha, mas o espírito do meu entendimento responderá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abes tu que desde a antiguidade, desde que o homem foi posto sobre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úbilo dos ímpios é breve, e a alegria dos hipócritas momentâne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a sua altivez suba até ao céu, e a sua cabeça chegue até à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como o seu próprio esterco, perecerá para sempre; e os que o viam dirão: Onde est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 sonho voará, e não será achado, e será afugentado como uma visão d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olho, que já o viu, jamais o verá, nem o seu lugar o verá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20Z</dcterms:created>
  <dc:creator>Admin</dc:creator>
  <dc:description/>
  <dc:language>en-US</dc:language>
  <cp:lastModifiedBy>Admin</cp:lastModifiedBy>
  <dcterms:modified xsi:type="dcterms:W3CDTF">2008-07-31T00:01:20Z</dcterms:modified>
  <cp:revision>1</cp:revision>
  <dc:subject/>
  <dc:title>Slide 1</dc:title>
</cp:coreProperties>
</file>