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E2C-66EE-4EF6-8BC3-2C2B2637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F22-D39E-4467-9861-4B61BB64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0DE-E586-4A87-8C2C-75E2DD85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58E-EDAE-4610-A63D-DA8290E5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A66-AE95-4C84-950F-29532C85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51E-0A4C-46E5-A7ED-AB7A7344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1A1-F772-425F-A050-1F0F1680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20B-8B16-4EE1-9E3F-EF966E8F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325-74F3-4B9E-A1C3-FB6A6B6F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7A9-5CBC-4E96-8368-5F6AD64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583-D40B-462F-B563-2EB3204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F23-2844-48BE-82B0-6ED0ED40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2059-C9E1-4AEA-A259-DEE257A8C1D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 palavra do SENHOR, vós filhos de Israel, porque o SENHOR tem uma contenda com os habitantes da terra; porque na terra não há verdade, nem benignidade, nem conhecimen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rão, mas não se fartarão; entregar-se-ão à luxúria, mas não se multiplicarão; porque deixaram de atenta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uxúria, e o vinho, e o mosto tiram 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povo consulta a sua madeira, e a sua vara lhe responde, porque o espírito da luxúria os engana, e prostituem-se, apartando-se da sujeição d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crificam sobre os cumes dos montes, e queimam incenso sobre os outeiros, debaixo do carvalho, e do álamo, e do olmeiro, porque é boa a sua sombra; por isso vossas filhas se prostituem, e as vossas noras adult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não castigarei vossas filhas, quando se prostituem, nem vossas noras, quando adulteram; porque eles mesmos com as prostitutas se desviam, e com as meretrizes sacrificam; pois o povo que não tem entendimento será transtor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tu, ó Israel, queiras prostituir-te, contudo não se faça culpado Judá; não venhais a Gilgal, e não subais a Bete-Áven, e não jureis, dizendo: Viv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mo uma novilha obstinada se rebelou Israel; agora o SENHOR os apascentará como a um cordeiro num lugar espaç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está entregue aos ídolos; deixa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bebida se foi; lançaram-se à luxúria continuamente; certamente os seus governadores amam a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vento os envolveu nas suas asas, e envergonhar-se-ão por causa dos seus sacri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ó permanecem o perjurar, o mentir, o matar, o furtar e o adulterar; fazem violência, um ato sanguinário segue imediatamente a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terra se lamentará, e qualquer que morar nela desfalecerá, com os animais do campo e com as aves do céu; e até os peixes do mar serão ti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ninguém contenda, ninguém repreenda, porque o teu povo é como os que contendem com 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ropeçarás de dia, e o profeta contigo tropeçará de noite; e destruirei a t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povo foi destruído, porque lhe faltou o conhecimento; porque tu rejeitaste o conhecimento, também eu te rejeitarei, para que não sejas sacerdote diante de mim; e, visto que te esqueceste da lei do teu Deus, também eu me esquecerei de t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les se multiplicaram, assim pecaram contra mim; eu mudarei a sua honra em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m da oferta pelo pecado do meu povo, e pela transgressão dele têm desejo ar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como é o povo, assim será o sacerdote; e castigá-lo-ei segundo os seus caminhos, e dar-lhe-ei a recompensa d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38Z</dcterms:created>
  <dc:creator>Admin</dc:creator>
  <dc:description/>
  <dc:language>en-US</dc:language>
  <cp:lastModifiedBy>Admin</cp:lastModifiedBy>
  <dcterms:modified xsi:type="dcterms:W3CDTF">2008-07-31T00:20:38Z</dcterms:modified>
  <cp:revision>1</cp:revision>
  <dc:subject/>
  <dc:title>Slide 1</dc:title>
</cp:coreProperties>
</file>