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4C6-D4F7-4BF2-8046-935858F6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210-EC2F-4663-AF04-BC7D9DE9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A6E-739A-4FBF-B388-B65487B5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C601-9088-4A37-96DE-1374DA2C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E45-3DC5-409D-834F-BE22AE75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503-0827-403E-8252-484F490D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910-1568-4C87-AFA4-D0DB5718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C054-13A3-4EFE-AA66-D3CB27F3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CB82-3763-428D-BA40-73662F68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C9D1-9694-4A9E-B792-52A019C0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F949-8434-4CDA-ADF5-64E2DEEC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D9D-8591-410C-B4CD-94CAA5E6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B371-6417-4EF6-85E4-37A6C9E3D2F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, pois, são os mandamentos, os estatutos e os juízos que mandou o SENHOR vosso Deus para ensinar-vos, para que os cumprísseis na terra a que passais a possui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, pois, o SENHOR teu Deus te introduzir na terra que jurou a teus pais, Abraão, Isaque e Jacó, que te daria, com grandes e boas cidades, que tu não edificas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sas cheias de todo o bem, que tu não encheste, e poços cavados, que tu não cavaste, vinhas e olivais, que tu não plantaste, e comeres, e te fartar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-te, que não te esqueças do SENHOR, que te tirou da terra do Egito, da casa da serv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teu Deus temerás e a ele servirás, e pelo seu nome jur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guireis outros deuses, os deuses dos povos que houver ao redor de vó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teu Deus é um Deus zeloso no meio de ti, para que a ira do SENHOR teu Deus se não acenda contra ti e te destrua de sobre a face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ntareis o SENHOR vosso Deus, como o tentastes em Mass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ligentemente guardareis os mandamentos do SENHOR vosso Deus, como também os seus testemunhos, e seus estatutos, que te tem man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ás o que é reto e bom aos olhos do SENHOR, para que bem te suceda, e entres, e possuas a boa terra, a qual o SENHOR jurou dar a t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lance fora a todos os teus inimigos de diante de ti, como o SENHOR tem f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temas ao SENHOR teu Deus, e guardes todos os seus estatutos e mandamentos, que eu te ordeno, tu, e teu filho, e o filho de teu filho, todos os dias da tua vida, e que teus dias sejam prolong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eu filho te perguntar no futuro, dizendo: Que significam os testemunhos, e estatutos e juízos que o SENHOR nosso Deus vos ordeno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rás a teu filho: Éramos servos de Faraó no Egito; porém o SENHOR, com mão forte, nos tirou do Eg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, aos nossos olhos, fez sinais e maravilhas, grandes e terríveis, contra o Egito, contra Faraó e toda sua cas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li nos tirou, para nos levar, e nos dar a terra que jurara a nosso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nos ordenou que cumpríssemos todos estes estatutos, que temêssemos ao SENHOR nosso Deus, para o nosso perpétuo bem, para nos guardar em vida, como n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para nós justiça, quando tivermos cuidado de cumprir todos estes mandamentos perante o SENHOR nosso Deus, como nos tem ord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, pois, ó Israel, e atenta em os guardares, para que bem te suceda, e muito te multipliques, como te disse o SENHOR Deus de teus pais, na terra que mana leite e m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, Israel, o SENHOR nosso Deus é o únic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rás, pois, o SENHOR teu Deus de todo o teu coração, e de toda a tua alma, e de todas as tuas for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s palavras, que hoje te ordeno, estarão no teu cor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ensinarás a teus filhos e delas falarás assentado em tua casa, e andando pelo caminho, e deitando-te e levantando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s atarás por sinal na tua mão, e te serão por frontais entre os t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escreverás nos umbrais de tua casa, e nas tuas po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7:29Z</dcterms:created>
  <dc:creator>Admin</dc:creator>
  <dc:description/>
  <dc:language>en-US</dc:language>
  <cp:lastModifiedBy>Admin</cp:lastModifiedBy>
  <dcterms:modified xsi:type="dcterms:W3CDTF">2008-07-30T23:27:29Z</dcterms:modified>
  <cp:revision>1</cp:revision>
  <dc:subject/>
  <dc:title>Slide 1</dc:title>
</cp:coreProperties>
</file>