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1BB-70F6-490C-A1C5-A926A526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7B2-7428-488A-9304-395C18B2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DC4-BE13-4694-ACF4-894F40B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066-B89B-4A14-A7EB-811BAC19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EF1-E756-450E-8A39-827F5BA1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DC6-4A59-4048-A3DF-4992CDC2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871-C95B-4ECD-88C1-BDD12447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CCB-D2E0-45D4-AC85-6E731D6D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13A-E14F-474D-9D77-2FCA2FFF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4C9-F184-45B9-87D2-1A5F790F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4DD-F626-4EB7-AF91-B5E5C1E0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643-31B8-40E2-B422-AF57F298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4B3B-B714-45C8-B67F-4E6FD1A465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, por ordem do SENHOR, veio, de Judá a Betel, um homem de Deus; e Jeroboão estava junto ao altar, para queimar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i por outro caminho; e não voltou pelo caminho, por onde viera a Be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ava em Betel um velho profeta; e vieram seus filhos, e contaram-lhe tudo o que o homem de Deus fizera aquele dia em Betel, e as palavras que dissera ao rei; e as contaram 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seu pai: Por que caminho se foi? E seus filhos lhe mostraram o caminho por onde fora o homem de Deus que vier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 seus filhos: Albardai-me um jumento. E albardaram-lhe o jumento no qual ele mo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pós o homem de Deus, e achou-o assentado debaixo de um carvalho, e disse-lhe: És tu o homem de Deus que vieste de Judá? E ele disse: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: Vem comigo à casa, e com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disse: Não posso voltar contigo, nem entrarei contigo; nem tampouco comerei pão, nem beberei contigo água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foi mandado pela palavra do SENHOR: Ali não comerás pão, nem beberás água; nem voltarás pelo caminho por onde vi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Também eu sou profeta como tu, e um anjo me falou por ordem do SENHOR, dizendo: Faze-o voltar contigo à tua casa, para que coma pão e beba água (porém mentiu-lhe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oltou com ele, e comeu pão em sua casa e bebeu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clamou contra o altar por ordem do SENHOR, e disse: Altar, altar! Assim diz o SENHOR: Eis que um filho nascerá à casa de Davi, cujo nome será Josias, o qual sacrificará sobre ti os sacerdotes dos altos que sobre ti queimam incenso, e ossos de h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stando eles à mesa, a palavra do SENHOR veio ao profeta que o tinha feito vo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ou ao homem de Deus, que viera de Judá, dizendo: Assim diz o SENHOR: Porquanto foste rebelde à ordem do SENHOR, e não guardaste o mandamento que o SENHOR teu Deus te manda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voltaste, e comeste pão e bebeste água no lugar de que o SENHOR te dissera: Não comerás pão nem beberás água; o teu cadáver não entrará no sepulcro de t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pois que comeu pão, e depois que bebeu, albardou ele o jumento para o profeta que fizera vo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, pois, se foi, e um leão o encontrou no caminho, e o matou; e o seu cadáver ficou estendido no caminho, e o jumento estava parado junto a ele, e também o leão estava junto ao cadá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lguns homens passaram, e viram o corpo lançado no caminho, como também o leão, que estava junto ao corpo; e foram, e o disseram na cidade onde o velho profeta habi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-o o profeta que o fizera voltar do caminho, disse: É o homem de Deus, que foi rebelde à ordem do SENHOR; por isso o SENHOR o entregou ao leão, que o despedaçou e matou, segundo a palavra que o SENHOR lhe diss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 seus filhos: Albardai-me o jumento. Eles o albard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, e achou o cadáver estendido no caminho, e o jumento e o leão, que estavam parados junto ao cadáver; e o leão não tinha devorado o corpo, nem tinha despedaçado o ju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rofeta levantou o cadáver do homem de Deus, e pô-lo em cima do jumento levando-o consigo; assim veio o velho profeta à cidade, para o chorar e enter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, naquele mesmo dia, um sinal, dizendo: Este é o sinal de que o SENHOR falou: Eis que o altar se fenderá, e a cinza, que nele está, se derram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locou o cadáver no seu próprio sepulcro; e prantearam-no, dizendo: Ah, irmão meu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pois de o haver sepultado, disse a seus filhos: Morrendo eu, sepultai-me no sepulcro em que o homem de Deus está sepultado; ponde os meus ossos junto aos osso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ertamente se cumprirá o que pela palavra do SENHOR exclamou contra o altar que está em Betel, como também contra todas as casas dos altos que estão nas cidades de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depois destas coisas deixou Jeroboão o seu mau caminho; antes, de todo o povo, tornou a constituir sacerdotes dos lugares altos; e a qualquer que queria consagrava sacerdote dos lugares al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so foi causa de pecado à casa de Jeroboão, para destruí-la e extingui-la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ouvindo o rei a palavra do homem de Deus, que clamara contra o altar de Betel, Jeroboão estendeu a sua mão de sobre o altar, dizendo: Pegai-o! Mas a sua mão, que estendera contra ele, se secou, e não podia tornar a trazê-la a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ltar se fendeu, e a cinza se derramou do altar, segundo o sinal que o homem de Deus apontara por ordem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o rei, e disse ao homem de Deus: Suplica ao SENHOR teu Deus, e roga por mim, para que se me restitua a minha mão. Então o homem de Deus suplicou ao SENHOR, e a mão do rei se lhe restituiu, e ficou como d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isse ao homem de Deus: Vem comigo para casa, e conforta-te; e dar-te-ei um pres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homem de Deus disse ao rei: Ainda que me desses metade da tua casa, não iria contigo, nem comeria pão nem beberia água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me ordenou o SENHOR pela sua palavra, dizendo: Não comerás pão nem beberás água; e não voltarás pelo caminho por onde vi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33Z</dcterms:created>
  <dc:creator>Admin</dc:creator>
  <dc:description/>
  <dc:language>en-US</dc:language>
  <cp:lastModifiedBy>Admin</cp:lastModifiedBy>
  <dcterms:modified xsi:type="dcterms:W3CDTF">2008-07-30T23:45:33Z</dcterms:modified>
  <cp:revision>1</cp:revision>
  <dc:subject/>
  <dc:title>Slide 1</dc:title>
</cp:coreProperties>
</file>