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E6D-BFFB-44C8-8D42-21004B84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D7A-3127-43C6-9373-040D1F93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5FB-2402-42E5-9098-2EACE428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42C-CB5D-4036-9737-7CEC89EB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475-562A-4A96-A334-AD8C763A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023-ADBC-424B-A77F-7861BAA6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C1A-D39B-4CF6-9406-6536C6F8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43E-49ED-4698-87B6-FCB24A62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8CB-ADD1-454D-BD0B-303510F2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2DD-EEF3-46F7-8EA3-6E4CF844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159-4C79-42F5-B512-505A3902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DC1-0FD3-4272-82CF-78981E3D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5F6A-F36D-4837-AB79-70DE135C546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mais o SENHOR a Moisés no deserto de Sinai, na tenda da congregação, no primeiro dia do segundo mês, no segundo ano da sua saída da terra do Egit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José: De Efraim, Elisama, filho de Amiúde; de Manassés, Gamaliel, filho de Pedazu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Benjamim, Abidã, filho de Gideon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Dã, Aieser, filho de Amisad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Aser, Pagiel, filho de Ocr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Gade, Eliasafe, filho de Deu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Naftali, Aira, filho de En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foram os chamados da congregação, os príncipes das tribos de seus pais, os cabeças dos milhare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ram Moisés e Arão a estes homens, que foram declarados pelos seus nom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uniram toda a congregação no primeiro dia do mês segundo, e declararam a sua descendência segundo as suas famílias, segundo a casa de seus pais, pelo número dos nomes dos de vinte anos para cima, cabeça por cabe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o SENHOR ordenara a Moisés, assim os contou no deserto de Sin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 a soma de toda a congregação dos filhos de Israel, segundo as suas famílias, segundo a casa de seus pais, conforme o número dos nomes de todo o homem, cabeça por cabe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, pois, os filhos de Rúben, o primogênito de Israel, as suas gerações, pelas suas famílias, segundo a casa de seus pais, pelo número dos nomes, cabeça por cabeça, todo o homem de vinte anos para cima, todos os que podiam sair à gu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contados deles, da tribo de Rúben, quarenta e seis mil e quinh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Simeão, as suas gerações pelas suas famílias, segundo a casa dos seus pais; os seus contados, pelo número dos nomes, cabeça por cabeça, todo o homem de vinte anos para cima, todos os que podiam sair à gu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contados deles, da tribo de Simeão, cinqüenta e nove mil e trez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Gade, as suas gerações, pelas suas famílias, segundo a casa de seus pais, pelo número dos nomes dos de vinte anos para cima, todos os que podiam sair à gu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contados deles, da tribo de Gade, quarenta e cinco mil e seiscentos e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Judá, as suas gerações, pelas suas famílias, segundo a casa de seus pais; pelo número dos nomes dos de vinte anos para cima, todos os que podiam sair à gu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contados deles, da tribo de Judá, setenta e quatro mil e seis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Issacar, as suas gerações, pelas suas famílias, segundo a casa de seus pais, pelo número dos nomes dos de vinte anos para cima, todos os que podiam sair à gu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contados deles da tribo de Issacar, cinqüenta e quatro mil e quatro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idade de vinte anos para cima, todos os que em Israel podem sair à guerra, a estes contareis segundo os seus exércitos, tu e 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Zebulom, as suas gerações, pelas suas famílias, segundo a casa de seus pais, pelo número dos nomes dos de vinte anos para cima, todos os que podiam sair à gu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contados deles, da tribo de Zebulom, cinqüenta e sete mil e quatro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José, dos filhos de Efraim, as suas gerações, pelas suas famílias, segundo a casa de seus pais, pelo número dos nomes dos de vinte anos para cima, todos os que podiam sair à gu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contados deles, da tribo de Efraim, quarenta mil e quinh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Manassés, as suas gerações, pelas suas famílias, segundo a casa de seus pais, pelo número dos nomes dos de vinte anos para cima, todos os que podiam sair à gu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contados deles, da tribo de Manassés, trinta e dois mil e duz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Benjamim, as suas gerações, pelas suas famílias, segundo a casa de seus pais, pelo número dos nomes dos de vinte anos para cima, todos os que podiam sair à gu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contados deles, da tribo de Benjamim, trinta e cinco mil e quatro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Dã, as suas gerações, pelas suas famílias, segundo a casa de seus pais, pelo número dos nomes dos de vinte anos para cima, todos os que podiam sair à gu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contados deles, da tribo de Dã, sessenta e dois mil e sete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rá convosco, de cada tribo, um homem que seja cabeça da casa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Aser, as suas gerações, pelas suas famílias, segundo a casa de seus pais, pelo número dos nomes dos de vinte anos para cima, todos os que podiam sair à gu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contados deles, da tribo de Aser, quarenta e um mil e quinh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filhos de Naftali, as suas gerações, pelas suas famílias, segundo a casa de seus pais, pelo número dos nomes dos de vinte anos para cima, todos os que podiam sair à gu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contados deles, da tribo de Naftali, cinqüenta e três mil e quatroc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foram os contados, que contaram Moisés e Arão, e os príncipes de Israel, doze homens, cada um era pela casa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oram todos os contados dos filhos de Israel, segundo a casa de seus pais, de vinte anos para cima, todos os que podiam sair à guerra em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contados eram seiscentos e três mil e quinhentos e cinqü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levitas, segundo a tribo de seus pais, não foram contados entre el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 SENHOR tinha falado a Moisé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ão contarás a tribo de Levi, nem tomarás a soma deles entre os filhos de Isra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is, são os nomes dos homens que estarão convosco: De Rúben, Elizur, filho de Sedeu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 põe os levitas sobre o tabernáculo do testemunho, e sobre todos os seus utensílios, e sobre tudo o que pertence a ele; eles levarão o tabernáculo e todos os seus utensílios; e eles o administrarão, e acampar-se-ão ao redor do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 tabernáculo partir, os levitas o desarmarão; e, quando o tabernáculo se houver de assentar no arraial, os levitas o armarão; e o estranho que se chegar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armarão as suas tendas, cada um no seu esquadrão, e cada um junto à sua bandeira, segundo os seu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levitas armarão as suas tendas ao redor do tabernáculo do testemunho, para que não haja indignação sobre a congregação dos filhos de Israel, pelo que os levitas terão o cuidado da guarda do tabernáculo do testemu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izeram os filhos de Israel; conforme a tudo o que o SENHOR ordenara a Moisés, assim o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imeão, Selumiel, filho de Zurisad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Judá, Naasson, filho de Aminadab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Issacar, Natanael, filho de Zu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úmero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Zebulom, Eliabe, filho de Helo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7:40Z</dcterms:created>
  <dc:creator>Admin</dc:creator>
  <dc:description/>
  <dc:language>en-US</dc:language>
  <cp:lastModifiedBy>Admin</cp:lastModifiedBy>
  <dcterms:modified xsi:type="dcterms:W3CDTF">2008-07-31T00:17:40Z</dcterms:modified>
  <cp:revision>1</cp:revision>
  <dc:subject/>
  <dc:title>Slide 1</dc:title>
</cp:coreProperties>
</file>