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F0D-CBE7-45A2-9C1B-FA526A20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BCE-6C99-469E-9EFE-49C09106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502-4900-4E35-B493-28FBD3DC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B4B-FDDE-4764-A8F2-A2EB275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9B1-BDA1-4D6C-B7F8-EE831F83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5C8-E01D-4091-9ABC-1CB005F7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520-EEA3-48C9-AB43-CB3DE91E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162-0C0A-4B26-BA5B-D8009D4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597-3EF9-4BD2-8B63-5ADFFE5A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D79-7140-4F1C-9EA8-EA1D2E7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559-CEAA-45BB-A8C8-615DEF76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266-F00C-49D9-BA96-FF9CFA5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33BA-D746-4F8C-8F9F-849D630C796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Espírito expressamente diz que nos últimos tempos apostatarão alguns da fé, dando ouvidos a espíritos enganadores, e a doutrinas de demôn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ara isto trabalhamos e lutamos, pois esperamos no Deus vivo, que é o Salvador de todos os homens, principalmente dos fié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 estas coisas e ensina-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despreze a tua mocidade; mas sê o exemplo dos fiéis, na palavra, no trato, no amor, no espírito, na fé, na pur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siste em ler, exortar e ensinar, até que eu v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sprezes o dom que há em ti, o qual te foi dado por profecia, com a imposição das mãos do presbité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dita estas coisas; ocupa-te nelas, para que o teu aproveitamento seja manifesto a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m cuidado de ti mesmo e da doutrina. Persevera nestas coisas; porque, fazendo isto, te salvarás, tanto a ti mesmo como aos que te ouv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a hipocrisia de homens que falam mentiras, tendo cauterizada a sua própria consciê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ibindo o casamento, e ordenando a abstinência dos alimentos que Deus criou para os fiéis, e para os que conhecem a verdade, a fim de usarem deles com ações de graç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a criatura de Deus é boa, e não há nada que rejeitar, sendo recebido com ações de g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ela palavra de Deus e pela oração é santif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pondo estas coisas aos irmãos, serás bom ministro de Jesus Cristo, criado com as palavras da fé e da boa doutrina que tens segui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rejeita as fábulas profanas e de velhas, e exercita-te a ti mesmo em pie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exercício corporal para pouco aproveita, mas a piedade para tudo é proveitosa, tendo a promessa da vida presente e da que há d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palavra é fiel e digna de toda a aceit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21Z</dcterms:created>
  <dc:creator>Admin</dc:creator>
  <dc:description/>
  <dc:language>en-US</dc:language>
  <cp:lastModifiedBy>Admin</cp:lastModifiedBy>
  <dcterms:modified xsi:type="dcterms:W3CDTF">2008-07-30T23:48:21Z</dcterms:modified>
  <cp:revision>1</cp:revision>
  <dc:subject/>
  <dc:title>Slide 1</dc:title>
</cp:coreProperties>
</file>