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A87-0414-40A7-91D9-991B0848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AEA-FCAF-42B7-AB6B-4C1D2333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BB5-6A67-4B25-B0E5-067B85D5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031-36B6-46E5-9044-0F141FDD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D42-0B82-4B4F-824E-B59C8143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D51-C8A0-4496-96F0-F5A96713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919-DDEF-4FBD-9BFA-CB6D3C0E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4B3-EC46-4534-BEA8-7906F467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E5C-F3E0-4949-9E3E-9BC04E6C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EE9-7509-419D-B4E1-0A8B0293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FD0-79DE-4569-A3A4-AEA215F3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0F2-82F1-48AC-A432-8F91A714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86FE-700E-4600-96C8-EB5E33BA382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o néscio no seu coração: Não há Deus. Têm-se corrompido, fazem-se abomináveis em suas obras, não há ninguém que faça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olhou desde os céus para os filhos dos homens, para ver se havia algum que tivesse entendimento e buscasse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viaram-se todos e juntamente se fizeram imundos: não há quem faça o bem, não há sequer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rão conhecimento os que praticam a iniqüidade, os quais comem o meu povo, como se comessem pão, e não invocam a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se acharam em grande pavor, porque Deus está na geração dos jus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envergonhais o conselho dos pobres, porquanto o SENHOR é o seu refúg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, se de Sião tivera já vindo a redenção de Israel! Quando o SENHOR fizer voltar os cativos do seu povo, se regozijará Jacó e se alegrará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22Z</dcterms:created>
  <dc:creator>Admin</dc:creator>
  <dc:description/>
  <dc:language>en-US</dc:language>
  <cp:lastModifiedBy>Admin</cp:lastModifiedBy>
  <dcterms:modified xsi:type="dcterms:W3CDTF">2008-07-31T00:24:22Z</dcterms:modified>
  <cp:revision>1</cp:revision>
  <dc:subject/>
  <dc:title>Slide 1</dc:title>
</cp:coreProperties>
</file>