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DC1-BE96-4378-BF85-434D8A11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055-FBC2-4333-BCA8-441740F8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BEA-3D9C-4364-9E33-2201483B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D5D-180C-4866-9A7D-8FC254BE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D71-31D8-4523-9D0A-90F6B13A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0C9-0B48-4B26-B0E3-2F570E35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1C5-1D15-47E7-BF19-32F3233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ECC-95EE-4F33-9C34-444BD764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297-FC1B-40DE-B088-0AB74CB7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459-55E4-4DD5-BA0E-AEC225D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A27-462E-4C11-91C9-1FB1D98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B10-3BD0-4835-8E87-084BAF1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A874-A17C-4710-BE45-8398AC7595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seus dias subiu Nabucodonosor, rei de Babilônia, e Jeoiaquim ficou três anos seu servo; depois se virou, e se rebelou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subiram os servos de Nabucodonosor, rei de Babilônia, a Jerusalém; e a cidade foi cer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eio Nabucodonosor, rei de Babilônia, contra a cidade, quando já os seus servos a estavam siti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Joaquim, rei de Judá, ao rei de Babilônia, ele, sua mãe, seus servos, seus príncipes e seus oficiais; e o rei de Babilônia o tomou preso, no ano oitavo do seu re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dali todos os tesouros da casa do SENHOR e os tesouros da casa do rei; e partiu todos os vasos de ouro, que fizera Salomão, rei de Israel, no templo do SENHOR, como o SENHOR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nsportou a toda a Jerusalém como também a todos os príncipes, e a todos os homens valorosos, dez mil presos, e a todos os artífices e ferreiros; ninguém ficou senão o povo pobr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ransportou Joaquim à Babilônia; como também a mãe do rei, as mulheres do rei, os seus oficiais e os poderosos da terra levou presos de Jerusalém à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homens valentes, até sete mil, e artífices e ferreiros até mil, e todos os homens destros na guerra, a estes o rei de Babilônia levou presos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Babilônia estabeleceu a Matanias, seu tio, rei em seu lugar; e lhe mudou o nome para Zede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Zedequias vinte e um anos de idade quando começou a reinar, e reinou onze anos em Jerusalém; e era o nome de sua mãe Hamutal, filha de Jeremias, de Lib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tudo quanto fizera Jeoiaqu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nviou contra ele as tropas dos caldeus, as tropas dos sírios, as tropas dos moabitas e as tropas dos filhos de Amom; e as enviou contra Judá, para o destruir, conforme a palavra do SENHOR, que falara pelo ministério de seus servos, os prof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sucedeu por causa da ira do SENHOR contra Jerusalém, e contra Judá, até os rejeitar de diante da sua presença; e Zedequias se rebelou contra o rei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conforme o mandado do SENHOR, assim sucedeu a Judá, para o afastar da sua presença por causa dos pecados de Manassés, conforme tudo quanto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por causa do sangue inocente que derramou; pois encheu a Jerusalém de sangue inocente; e por isso o SENHOR não quis perd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eoiaquim, e tudo quanto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iaquim dormiu com seus pais; e Joaquim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o Egito nunca mais saiu da sua terra; porque o rei de Babilônia tomou tudo quanto era do rei do Egito, desde o rio do Egito até ao ri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aquim dezoito anos de idade quando começou a reinar, e reinou três meses em Jerusalém; e era o nome de sua mãe, Neusta, filha de Elnatã,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tudo quanto fizer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29Z</dcterms:created>
  <dc:creator>Admin</dc:creator>
  <dc:description/>
  <dc:language>en-US</dc:language>
  <cp:lastModifiedBy>Admin</cp:lastModifiedBy>
  <dcterms:modified xsi:type="dcterms:W3CDTF">2008-07-30T23:52:29Z</dcterms:modified>
  <cp:revision>1</cp:revision>
  <dc:subject/>
  <dc:title>Slide 1</dc:title>
</cp:coreProperties>
</file>