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564-52A9-4217-8D56-C9BFDBB7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55D6-98FF-4353-B4A0-33F8782D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5B36-E858-4F17-8C2D-0CD433D0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5A8D-5FE0-45C2-9753-A32DC42B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D96E-766A-4C00-A527-518A1649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FA3-B18B-4E8E-B192-F5D45DB6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A7B-AE9C-49FF-A6F9-557550BB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6D0-8FCA-40B3-9040-45380DEA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62F0-4A27-47F0-80D6-6752A336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9EC-CD23-4DB5-B5F9-2B15B383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EFA-5EBC-40B5-A1F1-223F90A0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F667-9E35-4595-95B3-78282AA9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1EC9-D704-4360-8D22-9CF587E2694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ALAVRA que do SENHOR veio a Jeremias, quando Nabucodonosor, rei de Babilônia, e todo o seu exército, e todos os reinos da terra, que estavam sob o domínio da sua mão, e todos os povos, pelejavam contra Jerusalém, e contra todas as suas cidades, diz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bedeceram todos os príncipes, e todo o povo que havia entrado na aliança, que cada um despedisse livre o seu servo, e cada um a sua serva, de maneira que não se fizessem mais servir deles; obedeceram, pois, e os soltara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pois se arrependeram, e fizeram voltar os servos e as servas que haviam libertado, e os sujeitaram por servos e por ser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, pois, a palavra do SENHOR a Jeremias, da parte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, Deus de Israel: Eu fiz aliança com vossos pais, no dia em que os tirei da terra do Egito, da casa da servidã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fim de sete anos libertareis cada um a seu irmão hebreu, que te for vendido, e te houver servido seis anos, e despedi-lo-ás livre de ti; mas vossos pais não me ouviram, nem inclinaram os seus ouv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s havíeis hoje arrependido, e fizestes o que é reto aos meus olhos, apregoando liberdade cada um ao seu próximo; e fizestes diante de mim uma aliança, na casa que se chama pelo meu nom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dastes, porém, e profanastes o meu nome, e fizestes voltar cada um ao seu servo, e cada um à sua serva, os quais já tínheis despedido libertos conforme a vontade deles; e os sujeitastes, para que se vos fizessem servos e ser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: Vós não me ouvistes a mim, para apregoardes a liberdade, cada um ao seu irmão, e cada um ao seu próximo; pois eis que eu vos apregôo a liberdade, diz o SENHOR, para a espada, para a pestilência, e para a fome; e farei que se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egarei os homens que transgrediram a minha aliança, que não cumpriram as palavras da aliança que fizeram diante de mim, com o bezerro, que dividiram em duas partes, e passaram pelo meio das suas porçõ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aber, os príncipes de Judá, e os príncipes de Jerusalém, os eunucos, e os sacerdotes, e todo o povo da terra que passou por meio das porções do bezer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, o Deus de Israel: Vai, e fala a Zedequias, rei de Judá, e dize-lhe: Assim diz o SENHOR: Eis que eu entrego esta cidade na mão do rei de Babilônia, o qual queimá-la-á a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egá-los-ei, digo, na mão de seus inimigos, e na mão dos que procuram a sua morte, e os cadáveres deles servirão de alimento para as aves dos céus e para os animai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é o rei Zedequias, rei de Judá, e seus príncipes entregarei na mão de seus inimigos e na mão dos que procuram a sua morte, a saber, na mão do exército do rei de Babilônia, que já se retirou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darei ordem, diz o SENHOR, e os farei voltar a esta cidade, e pelejarão contra ela, e a tomarão, e a queimarão a fogo; e as cidades de Judá porei em assolação, de sorte que ninguém habite n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 não escaparás da sua mão, antes certamente serás preso e entregue na sua mão; e teus olhos verão os olhos do rei de Babilônia, e ele te falará boca a boca, e entrarás em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ouve a palavra do SENHOR, ó Zedequias, rei de Judá; assim diz o SENHOR acerca de ti: Não morrerás à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paz morrerás, e conforme as queimas para teus pais, os reis precedentes, que foram antes de ti, assim queimarão para ti, e prantear-te-ão, dizendo: Ah, SENHOR! Pois eu disse a palavra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Jeremias, o profeta, a Zedequias, rei de Judá, todas estas palavras, em Jerusalé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exército do rei de Babilônia pelejava contra Jerusalém, e contra todas as cidades que restavam de Judá, contra Laquis e contra Azeca; porque estas fortes cidades foram as que ficaram dentre as cidades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alavra que do SENHOR veio a Jeremias, depois que o rei Zedequias fez aliança com todo o povo que havia em Jerusalém, para lhes apregoar a liber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cada um despedisse livre o seu servo, e cada um a sua serva, hebreu ou hebréia; de maneira que ninguém se fizesse servir deles, sendo judeus, seu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9:11Z</dcterms:created>
  <dc:creator>Admin</dc:creator>
  <dc:description/>
  <dc:language>en-US</dc:language>
  <cp:lastModifiedBy>Admin</cp:lastModifiedBy>
  <dcterms:modified xsi:type="dcterms:W3CDTF">2008-07-30T23:59:11Z</dcterms:modified>
  <cp:revision>1</cp:revision>
  <dc:subject/>
  <dc:title>Slide 1</dc:title>
</cp:coreProperties>
</file>