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5F6-EF57-4439-A872-1C846FB0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7FF-8F3C-475F-B15A-F54C91E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F4A-3E03-4056-BE0E-CCF8EE1D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88E-3DFD-4E17-BFAA-79489F2E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480-B511-49DD-8F11-91042D7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638-E9E7-4032-A752-A6511602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D5A-B0E7-475D-8EFD-7E1C0CAE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1C9-571B-4F77-9F62-1A591A1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53B-269B-4077-B3A8-CE8CFC39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ABB-7D60-4BAB-8534-B520964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F61-222A-48BF-B736-716C41A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68E-998D-4F61-B373-F07C0AF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FDF1-7238-4768-B522-31792C04FB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-LHES também: Em verdade vos digo que, dos que aqui estão, alguns há que não provarão a morte sem que vejam chegado o reino de Deus com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retiveram o caso entre si, perguntando uns aos outros que seria aquilo, ressuscitar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terrogaram-no, dizendo: Por que dizem os escribas que é necessário que Elias venha prim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-lhes: Em verdade Elias virá primeiro, e todas as coisas restaurará; e, como está escrito do Filho do homem, que ele deva padecer muito e ser avi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, porém, que Elias já veio, e fizeram-lhe tudo o que quiseram, como dele está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e aproximou dos discípulos, viu ao redor deles grande multidão, e alguns escribas que disputavam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toda a multidão, vendo-o, ficou espantada e, correndo para ele, o sau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 aos escribas: Que é que discutis co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a multidão, respondendo, disse: Mestre, trouxe-te o meu filho, que tem um espírito mu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, onde quer que o apanha, despedaça-o, e ele espuma, e range os dentes, e vai definhando; e eu disse aos teus discípulos que o expulsassem, e não pu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-lhes, disse: Ó geração incrédula! até quando estarei convosco? até quando vos sofrerei ainda? Trazei-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is dias depois Jesus tomou consigo a Pedro, a Tiago, e a João, e os levou sós, em particular, a um alto monte; e transfigurou-se diante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-lho; e quando ele o viu, logo o espírito o agitou com violência, e, caindo o endemoninhado por terra, revolvia-se, escum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 ao pai dele: Quanto tempo há que lhe sucede isto? E ele disse-lhe: Desde a inf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as vezes o tem lançado no fogo, e na água, para o destruir; mas, se tu podes fazer alguma coisa, tem compaixão de nós, e ajuda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: Se tu podes crer, tudo é possível ao que cr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 pai do menino, clamando, com lágrimas, disse: Eu creio, Senhor! ajuda a minha incredu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que a multidão concorria, repreendeu o espírito imundo, dizendo-lhe: Espírito mudo e surdo, eu te ordeno: Sai dele, e não entres mai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clamando, e agitando-o com violência, saiu; e ficou o menino como morto, de tal maneira que muitos diziam que estava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tomando-o pela mão, o ergueu, e ele se lev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ntrou em casa, os seus discípulos lhe perguntaram à parte: Por que o não pudemos nós expuls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Esta casta não pode sair com coisa alguma, a não ser com oração e jej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vestes tornaram-se resplandecentes, extremamente brancas como a neve, tais como nenhum lavadeiro sobre a terra os poderia branqu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partido dali, caminharam pela Galiléia, e não queria que alguém o soubes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sinava os seus discípulos, e lhes dizia: O Filho do homem será entregue nas mãos dos homens, e matá-lo-ão; e, morto ele, ressuscitará a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não entendiam esta palavra, e receavam interrog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Cafarnaum e, entrando em casa, perguntou-lhes: Que estáveis vós discutindo pelo cam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calaram-se; porque pelo caminho tinham disputado entre si qual era o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assentando-se, chamou os doze, e disse-lhes: Se alguém quiser ser o primeiro, será o derradeiro de todos e o servo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nçando mão de um menino, pô-lo no meio deles e, tomando-o nos seus braços, disse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receber um destes meninos em meu nome, a mim me recebe; e qualquer que a mim me receber, recebe, não a mim, mas ao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ão lhe respondeu, dizendo: Mestre, vimos um que em teu nome expulsava demônios, o qual não nos segue; e nós lho proibimos, porque não nos se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disse: Não lho proibais; porque ninguém há que faça milagre em meu nome e possa logo falar mal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-lhes Elias, com Moisés, e falavam co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não é contra nós, é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qualquer que vos der a beber um copo de água em meu nome, porque sois discípulos de Cristo, em verdade vos digo que não perderá o seu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escandalizar um destes pequeninos que crêem em mim, melhor lhe fora que lhe pusessem ao pescoço uma mó de atafona, e que fosse lançado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tua mão te escandalizar, corta-a; melhor é para ti entrares na vida aleijado do que, tendo duas mãos, ires para o inferno, para o fogo que nunca se apag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o seu bicho não morre, e o fogo nunca se ap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teu pé te escandalizar, corta-o; melhor é para ti entrares coxo na vida do que, tendo dois pés, seres lançado no inferno, no fogo que nunca se apag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o seu bicho não morre, e o fogo nunca se ap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teu olho te escandalizar, lança-o fora; melhor é para ti entrares no reino de Deus com um só olho do que, tendo dois olhos, seres lançado no fogo do infer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o seu bicho não morre, e o fogo nunca se ap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da um será salgado com fogo, e cada sacrifício será salgado com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tomando a palavra, disse a Jesus: Mestre, é bom que estejamos aqui; e façamos três cabanas, uma para ti, outra para Moisés, e outra para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o sal; mas, se o sal se tornar insípido, com que o temperareis? Tende sal em vós mesmos, e paz uns com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sabia o que dizia, porque estavam assomb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uma nuvem que os cobriu com a sua sombra, e saiu da nuvem uma voz que dizia: Este é o meu filho amado; a ele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olhado em redor, ninguém mais viram, senão só Jesus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eles do monte, ordenou-lhes que a ninguém contassem o que tinham visto, até que o Filho do homem ressuscitasse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23Z</dcterms:created>
  <dc:creator>Admin</dc:creator>
  <dc:description/>
  <dc:language>en-US</dc:language>
  <cp:lastModifiedBy>Admin</cp:lastModifiedBy>
  <dcterms:modified xsi:type="dcterms:W3CDTF">2008-07-31T00:13:23Z</dcterms:modified>
  <cp:revision>1</cp:revision>
  <dc:subject/>
  <dc:title>Slide 1</dc:title>
</cp:coreProperties>
</file>