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F1E-3E4B-4D3F-8064-6511FE8A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7C5-4E8D-488D-B27D-B07DCFF5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E80-3C59-4BAE-9AC9-4C1995F7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D51-FF33-4816-B48F-846738E2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AC3-EDC8-4C48-86BB-64178A9C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5A8-DB4D-45C3-9C31-B792AD08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6A0-0203-4960-A5E6-02562D99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56B-CB81-4048-9068-863935E3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D67-80A6-4A90-86D8-B21F179E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252-B5E4-40FF-A7BE-17D43CE4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F8B-4D76-4087-8246-DB67FE71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56E-0A8B-4C49-B1DF-7094FE83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02E8-8E68-4583-AEF0-543231E23C8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toda a multidão deles, o levaram a Pila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m os principais dos sacerdotes, e os escribas, acusando-o com grande veem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erodes, com os seus soldados, desprezou-o e, escarnecendo dele, vestiu-o de uma roupa resplandecente e tornou a enviá-lo a Pila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mesmo dia, Pilatos e Herodes entre si se fizeram amigos; pois dantes andavam em inimizade um com o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nvocando Pilatos os principais dos sacerdotes, e os magistrados, e o pov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: Haveis-me apresentado este homem como pervertedor do povo; e eis que, examinando-o na vossa presença, nenhuma culpa, das de que o acusais, acho nest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mesmo Herodes, porque a ele vos remeti, e eis que não tem feito coisa alguma digna de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stigá-lo-ei, pois, e soltá-lo-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-lhe necessário soltar-lhes um pela f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oda a multidão clamou a uma, dizendo: Fora daqui com este, e solta-nos Barrab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fora lançado na prisão por causa de uma sedição feita na cidade, e de um homicíd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çaram a acusá-lo, dizendo: Havemos achado este pervertendo a nossa nação, proibindo dar o tributo a César, e dizendo que ele mesmo é Cristo, 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, pois, outra vez Pilatos, querendo soltar a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clamavam em contrário, dizendo: Crucifica-o, crucifica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, pela terceira vez, lhes disse: Mas que mal fez este? Não acho nele culpa alguma de morte. Castigá-lo-ei pois, e soltá-lo-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instavam com grandes gritos, pedindo que fosse crucificado. E os seus gritos, e os dos principais dos sacerdotes, redobr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ilatos julgou que devia fazer o que eles ped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ltou-lhes o que fora lançado na prisão por uma sedição e homicídio, que era o que pediam; mas entregou Jesus à vontad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o iam levando, tomaram um certo Simão, cireneu, que vinha do campo, e puseram-lhe a cruz às costas, para que a levasse após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guia-o grande multidão de povo e de mulheres, as quais batiam nos peitos, e o lament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voltando-se para elas, disse: Filhas de Jerusalém, não choreis por mim; chorai antes por vós mesmas, e por vosso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hão de vir dias em que dirão: Bem-aventuradas as estéreis, e os ventres que não geraram, e os peitos que não amamentara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ilatos perguntou-lhe, dizendo: Tu és o Rei dos Judeus? E ele, respondendo, disse-lhe: Tu o di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meçarão a dizer aos montes: Caí sobre nós, e aos outeiros: Cobri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ao madeiro verde fazem isto, que se fará ao sec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conduziram outros dois, que eram malfeitores, para com ele serem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chegaram ao lugar chamado a Caveira, ali o crucificaram, e aos malfeitores, um à direita e outro à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 Jesus: Pai, perdoa-lhes, porque não sabem o que fazem. E, repartindo as suas vestes, lançaram sor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estava olhando. E também os príncipes zombavam dele, dizendo: Aos outros salvou, salve-se a si mesmo, se este é o Cristo, o escolhid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s soldados o escarneciam, chegando-se a ele, e apresentando-lhe vinag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ndo: Se tu és o Rei dos Judeus, salva-te a t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por cima dele, estava um título, escrito em letras gregas, romanas, e hebraicas: ESTE É O REI D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dos malfeitores que estavam pendurados blasfemava dele, dizendo: Se tu és o Cristo, salva-te a ti mesmo, e a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Pilatos aos principais dos sacerdotes, e à multidão: Não acho culpa alguma nest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ndo, porém, o outro, repreendia-o, dizendo: Tu nem ainda temes a Deus, estando na mesma conden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, na verdade, com justiça, porque recebemos o que os nossos feitos mereciam; mas este nenhum mal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 Jesus: Senhor, lembra-te de mim, quando entrares no teu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Jesus: Em verdade te digo que hoje estarás comigo no Paraí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já quase a hora sexta, e houve trevas em toda a terra até à hora nona, escurecendo-se o so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asgou-se ao meio o véu d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lamando Jesus com grande voz, disse: Pai, nas tuas mãos entrego o meu espírito. E, havendo dito isto, expi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enturião, vendo o que tinha acontecido, deu glória a Deus, dizendo: Na verdade, este homem era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multidão que se ajuntara a este espetáculo, vendo o que havia acontecido, voltava batendo nos p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seus conhecidos, e as mulheres que juntamente o haviam seguido desde a Galiléia, estavam de longe vendo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insistiam cada vez mais, dizendo: Alvoroça o povo ensinando por toda a Judéia, começando desde a Galiléia até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um homem por nome José, senador, homem de bem e ju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ão tinha consentido no conselho e nos atos dos outros, de Arimatéia, cidade dos judeus, e que também esperava o reino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se, chegando a Pilatos, pediu o corpo d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o tirado, envolveu-o num lençol, e pô-lo num sepulcro escavado numa penha, onde ninguém ainda havia sido p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o dia da preparação, e amanhecia o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mulheres, que tinham vindo com ele da Galiléia, seguiram também e viram o sepulcro, e como foi posto o seu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oltando elas, prepararam especiarias e ungüentos; e no sábado repousaram, conforme o mand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ilatos, ouvindo falar da Galiléia perguntou se aquele homem era galil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bendo que era da jurisdição de Herodes, remeteu-o a Herodes, que também naqueles dias estava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erodes, quando viu a Jesus, alegrou-se muito; porque havia muito que desejava vê-lo, por ter ouvido dele muitas coisas; e esperava que lhe veria fazer algum si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nterrogava-o com muitas palavras, mas ele nada lhe respon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2:21Z</dcterms:created>
  <dc:creator>Admin</dc:creator>
  <dc:description/>
  <dc:language>en-US</dc:language>
  <cp:lastModifiedBy>Admin</cp:lastModifiedBy>
  <dcterms:modified xsi:type="dcterms:W3CDTF">2008-07-31T00:12:21Z</dcterms:modified>
  <cp:revision>1</cp:revision>
  <dc:subject/>
  <dc:title>Slide 1</dc:title>
</cp:coreProperties>
</file>