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0A0-310C-453B-A52C-7E83FA19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058-B05C-484C-BB36-C4C87AAC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28B-6150-45DC-B8CD-ECD1269A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A928-C233-4977-AB1D-3F36F332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4CB0-0EEE-4AEF-A4CA-73E36F78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261D-F208-42FD-8F3C-7378B094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0CB-0501-44B6-BAA4-606A4D14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FC7-DFD3-4D50-AB97-A3D30059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02F-DA31-4BC7-8513-AA63E76C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121-9C38-434C-936D-A0F46CC2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662-A93E-4755-93C6-97F8BD92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F32-B8F8-4D1D-9371-ED143D54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EBD2-F029-4DCD-BF91-962E0BC9ADF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 então Jefté, o gileadita, homem valoroso, porém filho de uma prostituta; mas Gileade gerara a Jeft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os anciãos de Gileade a Jefté: O SENHOR será testemunha entre nós, e assim o faremos conforme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Jefté foi com os anciãos de Gileade, e o povo o pôs por chefe e príncipe sobre si; e Jefté falou todas as suas palavras perante o SENHOR em Mizp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 Jefté mensageiros ao rei dos filhos de Amom, dizendo: Que há entre mim e ti, que vieste a mim a pelejar contra a minh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 dos filhos de Amom aos mensageiros de Jefté: É porque, saindo Israel do Egito, tomou a minha terra, desde Arnom até Jaboque, e ainda até ao Jordão: Restitui-ma agora, e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Jefté prosseguiu ainda em enviar mensageiros ao rei dos filhos de Am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-lhe: Assim diz Jefté: Israel não tomou, nem a terra dos moabitas, nem a terra dos filhos de 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ubindo Israel do Egito, andou pelo deserto até ao Mar Vermelho, e chegou até C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rael enviou mensageiros ao rei dos edomitas, dizendo: Rogo-te que me deixes passar pela tua terra. Porém o rei dos edomitas não lhe deu ouvidos; enviou também ao rei dos moabitas, o qual igualmente não consentiu; e assim Israel ficou em C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andou pelo deserto e rodeou a terra dos edomitas e a terra dos moabitas, e veio do nascente do sol à terra dos moabitas, e alojou-se além de Arnom; porém não entrou nos limites dos moabitas, porque Arnom é limite dos moab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Israel enviou mensageiros a Siom, rei dos amorreus, rei de Hesbom; e disse-lhe Israel: Deixa-nos, peço-te, passar pela tua terra até ao m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mulher de Gileade lhe deu filhos, e, sendo os filhos desta mulher já grandes, expulsaram a Jefté, e lhe disseram: Não herdarás na casa de nosso pai, porque és filho de outr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iom não confiou em Israel para este passar nos seus limites; antes Siom ajuntou todo o seu povo, e se acamparam em Jasa, e combateu contr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eus de Israel deu a Siom, com todo o seu povo, na mão de Israel, que os feriu; e Israel tomou por herança toda a terra dos amorreus que habitavam naquela reg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herança tomaram todos os limites dos amorreus, desde Arnom até Jaboque, e desde o deserto até a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SENHOR Deus de Israel desapossou os amorreus de diante do seu povo de Israel; e os possuirias t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ossuirias tu aquilo que Quemós, teu deus, desapossasse de diante de ti? Assim possuiremos nós todos quantos o SENHOR nosso Deus desapossar de diante d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és tu ainda melhor do que Balaque, filho de Zipor, rei dos moabitas? Porventura contendeu ele em algum tempo com Israel, ou pelejou alguma vez contra e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quanto Israel habitou trezentos anos em Hesbom e nas suas vilas, e em Aroer e nas suas vilas, em todas as cidades que estão ao longo de Arnom, por que o não recuperastes naquele temp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pouco pequei eu contra ti! Porém tu usas mal comigo em pelejar contra mim; o SENHOR, que é juiz, julgue hoje entre os filhos de Israel e entre os filhos de 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rei dos filhos de Amom não deu ouvidos às palavras que Jefté lh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Espírito do SENHOR veio sobre Jefté, e atravessou ele por Gileade e Manassés, passando por Mizpá de Gileade, e de Mizpá de Gileade passou até aos filhos de 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fté fugiu de diante de seus irmãos, e habitou na terra de Tobe; e homens levianos se ajuntaram a Jefté, e saíam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fté fez um voto ao SENHOR, e disse: Se totalmente deres os filhos de Amom na minha m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ilo que, saindo da porta de minha casa, me sair ao encontro, voltando eu dos filhos de Amom em paz, isso será do SENHOR, e o oferecerei em holoca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Jefté passou aos filhos de Amom, a combater contra eles; e o SENHOR os deu n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eriu com grande mortandade, desde Aroer até chegar a Minite, vinte cidades, e até Abel-Queramim; assim foram subjugados os filhos de Amom diante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is, Jefté a Mizpá, à sua casa, eis que a sua filha lhe saiu ao encontro com adufes e com danças; e era ela a única filha; não tinha ele outro filho nem fi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quando a viu, rasgou as suas vestes, e disse: Ah! filha minha, muito me abateste, e estás entre os que me turbam! Porque eu abri a minha boca ao SENHOR, e não tornarei at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lhe disse: Meu pai, tu deste a palavra ao SENHOR, faze de mim conforme o que prometeste; pois o SENHOR te vingou dos teus inimigos, os filhos de 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a seu pai: Conceda-me isto: Deixa-me por dois meses que vá, e desça pelos montes, e chore a minha virgindade, eu e as minhas companh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Vai. E deixou-a ir por dois meses; então foi ela com as suas companheiras, e chorou a sua virgindade pelos mo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o fim de dois meses, tornou ela para seu pai, o qual cumpriu nela o seu voto que tinha feito; e ela não conheceu homem; e daí veio o costume de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depois de algum tempo, os filhos de Amom pelejaram contr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as filhas de Israel iam de ano em ano lamentar, por quatro dias, a filha de Jefté, o gilead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como os filhos de Amom pelejassem contra Israel, foram os anciãos de Gileade buscar a Jefté na terra de To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a Jefté: Vem, e sê o nosso chefe; para que combatamos contra os filhos de 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Jefté disse aos anciãos de Gileade: Porventura não me odiastes a mim, e não me expulsastes da casa de meu pai? Por que, pois, agora viestes a mim, quando estais em aper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os anciãos de Gileade a Jefté: Por isso tornamos a ti, para que venhas conosco, e combatas contra os filhos de Amom; e nos sejas por chefe sobre todos os moradores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fté disse aos anciãos de Gileade: Se me levardes de volta para combater contra os filhos de Amom, e o SENHOR mos der diante de mim, então eu vos serei por chef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7:05Z</dcterms:created>
  <dc:creator>Admin</dc:creator>
  <dc:description/>
  <dc:language>en-US</dc:language>
  <cp:lastModifiedBy>Admin</cp:lastModifiedBy>
  <dcterms:modified xsi:type="dcterms:W3CDTF">2008-07-31T00:07:05Z</dcterms:modified>
  <cp:revision>1</cp:revision>
  <dc:subject/>
  <dc:title>Slide 1</dc:title>
</cp:coreProperties>
</file>