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7E32-29F1-4C15-94D8-2B1CC55E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A2C1-97F5-4A78-BA05-412FFA08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C56F-0125-4E1E-A802-FF8703EA8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A4F8-71D1-4831-B0AC-7911A45DA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B507-CA4E-4E15-8D41-A4BF6E39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113C-2C88-4766-999B-AF798154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D194-F8FC-4686-80EE-8025E577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7B03-4EF5-4132-A97C-78C28504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3A01-5E09-4384-A33F-1E503E00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B1BB-27A1-4320-A75F-867FAF40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859C-8497-433D-ABE7-5A1C63E7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09F1-786F-4124-817C-EB05FECF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41FE-8D18-4446-A74D-F71E221F1A3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umo sacerdote: Porventura é isto assi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ivrou-o de todas as suas tribulações, e lhe deu graça e sabedoria ante Faraó, rei do Egito, que o constituiu governador sobre o Egito e toda a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breveio então a todo o país do Egito e de Canaã fome e grande tribulação; e nossos pais não achavam ali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endo ouvido Jacó que no Egito havia trigo, enviou ali nossos pais, a primeira ve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 segunda vez foi José conhecido por seus irmãos, e a sua linhagem foi manifesta a Fara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sé mandou chamar a seu pai Jacó, e a toda a sua parentela, que era de setenta e cinco alm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acó desceu ao Egito, e morreu, ele e nossos pai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transportados para Siquém, e depositados na sepultura que Abraão comprara por certa soma de dinheiro aos filhos de Emor, pai de Siqu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roximando-se, porém, o tempo da promessa que Deus tinha feito a Abraão, o povo cresceu e se multiplicou no Egi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que se levantou outro rei, que não conhecia a Jos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se, usando de astúcia contra a nossa linhagem, maltratou nossos pais, a ponto de os fazer enjeitar as suas crianças, para que não se multiplicass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: Homens, irmãos, e pais, ouvi. O Deus da glória apareceu a nosso pai Abraão, estando na Mesopotâmia, antes de habitar em Harã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sse tempo nasceu Moisés, e era mui formoso, e foi criado três meses em casa de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ndo enjeitado, tomou-o a filha de Faraó, e o criou como seu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isés foi instruído em toda a ciência dos egípcios; e era poderoso em suas palavras e ob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completou a idade de quarenta anos, veio-lhe ao coração ir visitar seus irmãos, 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endo maltratado um deles, o defendeu, e vingou o ofendido, matando o egípc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cuidava que seus irmãos entenderiam que Deus lhes havia de dar a liberdade pela sua mão; mas eles não entend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dia seguinte, pelejando eles, foi por eles visto, e quis levá-los à paz, dizendo: Homens, sois irmãos; por que vos agravais um ao outr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que ofendia o seu próximo o repeliu, dizendo: Quem te constituiu príncipe e juiz sobre nó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res tu matar-me, como ontem mataste o egípci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esta palavra fugiu Moisés, e esteve como estrangeiro na terra de Midiã, onde gerou dois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: Sai da tua terra e dentre a tua parentela, e dirige-te à terra que eu te mostr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ompletados quarenta anos, apareceu-lhe o anjo do Senhor no deserto do monte Sinai, numa chama de fogo no meio de uma sar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oisés, quando viu isto, se maravilhou da visão; e, aproximando-se para observar, foi-lhe dirigida a voz do Senho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: Eu sou o Deus de teus pais, o Deus de Abraão, e o Deus de Isaque, e o Deus de Jacó. E Moisés, todo trêmulo, não ousava olh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o Senhor: Tira as alparcas dos teus pés, porque o lugar em que estás é terra sa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ho visto atentamente a aflição do meu povo que está no Egito, e ouvi os seus gemidos, e desci a livrá-los. Agora, pois, vem, e enviar-te-ei a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este Moisés, ao qual haviam negado, dizendo: Quem te constituiu príncipe e juiz? a este enviou Deus como príncipe e libertador, pela mão do anjo que lhe aparecera na sar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i este que os conduziu para fora, fazendo prodígios e sinais na terra do Egito, e no Mar Vermelho, e no deserto, por quarenta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é aquele Moisés que disse aos filhos de Israel: O Senhor vosso Deus vos levantará dentre vossos irmãos um profeta como eu; a ele ouvi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é o que esteve entre a congregação no deserto, com o anjo que lhe falava no monte Sinai, e com nossos pais, o qual recebeu as palavras de vida para no-las d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qual nossos pais não quiseram obedecer, antes o rejeitaram e em seu coração se tornaram ao Egi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iu da terra dos caldeus, e habitou em Harã. E dali, depois que seu pai faleceu, Deus o trouxe para esta terra em que habitais ag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 a Arão: Faze-nos deuses que vão adiante de nós; porque a esse Moisés, que nos tirou da terra do Egito, não sabemos o que lhe acontec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queles dias fizeram o bezerro, e ofereceram sacrifícios ao ídolo, e se alegraram nas obras das su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eus se afastou, e os abandonou a que servissem ao exército do céu, como está escrito no livro dos profetas: Porventura me oferecestes vítimas e sacrifícios No deserto por quarenta anos, ó casa de Israe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tomastes o tabernáculo de Moloque, E a estrela do vosso deus Renfã, Figuras que vós fizestes para as adorar. Transportar-vos-ei, pois, para além da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va entre nossos pais no deserto o tabernáculo do testemunho, como ordenara aquele que disse a Moisés que o fizesse segundo o modelo que tinha v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, nossos pais, recebendo-o também, o levaram com Josué quando entraram na posse das nações que Deus lançou para fora da presença de nossos pais, até aos dias de Dav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achou graça diante de Deus, e pediu que pudesse achar tabernáculo para o Deus de Ja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lomão lhe edificou cas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Altíssimo não habita em templos feitos por mãos de homens, como diz o profeta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éu é o meu trono, E a terra o estrado dos meus pés. Que casa me edificareis? diz o Senhor, Ou qual é o lugar do meu repous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lhe deu nela herança, nem ainda o espaço de um pé; mas prometeu que lhe daria a posse dela, e depois dele, à sua descendência, não tendo ele ainda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fez a minha mão todas estas cois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omens de dura cerviz, e incircuncisos de coração e ouvido, vós sempre resistis ao Espírito Santo; assim vós sois como vosso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qual dos profetas não perseguiram vossos pais? Até mataram os que anteriormente anunciaram a vinda do Justo, do qual vós agora fostes traidores e homicid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, que recebestes a lei por ordenação dos anjos, e não a guarda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5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uvindo eles isto, enfureciam-se em seus corações, e rangiam os dentes contra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5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, estando cheio do Espírito Santo, fixando os olhos no céu, viu a glória de Deus, e Jesus, que estava à direita de 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5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Eis que vejo os céus abertos, e o Filho do homem, que está em pé à mão direit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5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s gritaram com grande voz, taparam os seus ouvidos, e arremeteram unânimes contra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5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xpulsando-o da cidade, o apedrejavam. E as testemunhas depuseram as suas capas aos pés de um jovem chamado Sau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5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pedrejaram a Estêvão que em invocação dizia: Senhor Jesus, recebe o meu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Deus assim: Que a sua descendência seria peregrina em terra alheia, e a sujeitariam à escravidão, e a maltratariam por quatrocentos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6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ondo-se de joelhos, clamou com grande voz: Senhor, não lhes imputes este pecado. E, tendo dito isto, adormec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julgarei a nação que os tiver escravizado, disse Deus. E depois disto sairão e me servirão neste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-lhe a aliança da circuncisão; e assim gerou a Isaque, e o circuncidou ao oitavo dia; e Isaque a Jacó; e Jacó aos doze patriarc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patriarcas, movidos de inveja, venderam José para o Egito; mas Deus era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3:43Z</dcterms:created>
  <dc:creator>Admin</dc:creator>
  <dc:description/>
  <dc:language>en-US</dc:language>
  <cp:lastModifiedBy>Admin</cp:lastModifiedBy>
  <dcterms:modified xsi:type="dcterms:W3CDTF">2008-07-30T23:23:43Z</dcterms:modified>
  <cp:revision>1</cp:revision>
  <dc:subject/>
  <dc:title>Slide 1</dc:title>
</cp:coreProperties>
</file>