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140-BF1F-4E78-B46F-5CA3DDF9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00E-7F2E-4A3D-A16E-4D3137CA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8BB-8E2F-4E90-8C8E-3EC2AB45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B33-B611-4AA9-B504-F4825193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823-F3C3-4427-9FD3-E60113AF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643-2EF8-4955-906B-9299FACA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740-1AC2-4198-8BD6-B3D9CEAA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FAF-9E6B-4EA0-ADAF-309D84C3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3CE-D475-4B3B-87DA-C8036D7C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B96-2FC0-461E-9CC2-D2EF0788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127-FF1F-4622-A3F4-705A82F7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3A0-F581-4989-BB9E-2360EE8B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B132-B619-49E0-B14A-F56B9797FC3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VELAÇÃO de Jesus Cristo, a qual Deus lhe deu, para mostrar aos seus servos as coisas que brevemente devem acontecer; e pelo seu anjo as enviou, e as notificou a João seu serv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fui arrebatado no Espírito no dia do Senhor, e ouvi detrás de mim uma grande voz, como de trombet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dizia: Eu sou o Alfa e o Ômega, o primeiro e o derradeiro; e o que vês, escreve-o num livro, e envia-o às sete igrejas que estão na Ásia: a Éfeso, e a Esmirna, e a Pérgamo, e a Tiatira, e a Sardes, e a Filadélfia, e a Laodicé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irei-me para ver quem falava comigo. E, virando-me, vi sete castiçais de our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 meio dos sete castiçais um semelhante ao Filho do homem, vestido até aos pés de uma roupa comprida, e cingido pelos peitos com um cinto de ou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 sua cabeça e cabelos eram brancos como lã branca, como a neve, e os seus olhos como chama de fog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s seus pés, semelhantes a latão reluzente, como se tivessem sido refinados numa fornalha, e a sua voz como a voz de muitas águ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le tinha na sua destra sete estrelas; e da sua boca saía uma aguda espada de dois fios; e o seu rosto era como o sol, quando na sua força resplande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u, quando vi, caí a seus pés como morto; e ele pôs sobre mim a sua destra, dizendo-me: Não temas; Eu sou o primeiro e o últim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que vivo e fui morto, mas eis aqui estou vivo para todo o sempre. Amém. E tenho as chaves da morte e do infer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creve as coisas que tens visto, e as que são, e as que depois destas hão de acontec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al testificou da palavra de Deus, e do testemunho de Jesus Cristo, e de tudo o que tem v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mistério das sete estrelas, que viste na minha destra, e dos sete castiçais de ouro. As sete estrelas são os anjos das sete igrejas, e os sete castiçais, que viste, são as sete igrej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em-aventurado aquele que lê, e os que ouvem as palavras desta profecia, e guardam as coisas que nela estão escritas; porque o tempo está próxim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oão, às sete igrejas que estão na Ásia: Graça e paz seja convosco da parte daquele que é, e que era, e que há de vir, e da dos sete espíritos que estão diante do seu trono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a parte de Jesus Cristo, que é a fiel testemunha, o primogênito dentre os mortos e o príncipe dos reis da terra. Àquele que nos amou, e em seu sangue nos lavou dos nossos pecad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os fez reis e sacerdotes para Deus e seu Pai; a ele glória e poder para todo o sempre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em com as nuvens, e todo o olho o verá, até os mesmos que o traspassaram; e todas as tribos da terra se lamentarão sobre ele. Sim. Am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 sou o Alfa e o Ômega, o princípio e o fim, diz o Senhor, que é, e que era, e que há de vir, o Todo-Poder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pocalipse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u, João, que também sou vosso irmão, e companheiro na aflição, e no reino, e paciência de Jesus Cristo, estava na ilha chamada Patmos, por causa da palavra de Deus, e pelo testemunho de Jesus Cri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06Z</dcterms:created>
  <dc:creator>Admin</dc:creator>
  <dc:description/>
  <dc:language>en-US</dc:language>
  <cp:lastModifiedBy>Admin</cp:lastModifiedBy>
  <dcterms:modified xsi:type="dcterms:W3CDTF">2008-07-30T23:22:06Z</dcterms:modified>
  <cp:revision>1</cp:revision>
  <dc:subject/>
  <dc:title>Slide 1</dc:title>
</cp:coreProperties>
</file>