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397-7EEF-4BC7-BBE8-93443F08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100-C388-4B29-ADAB-D50C1DAB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726-CB47-4C9B-8B9E-296A602F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B00-4E38-4DFC-9C11-262503FC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FAF-410A-4D0B-8D61-01ADC9AE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2AD-D629-4F61-AF57-19DC143F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B17-1384-4A34-B114-70CD3293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741-FE93-4B43-A513-38FAF5E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2FF-44BA-48BE-BFD0-327CB1CE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29B-D75B-4DCE-A467-06AA198C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E70-5D91-4CE2-9651-32F7B77C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E97-3577-480D-82ED-74B895B2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D374-1A96-49DE-93B7-A29209077B2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o altar do holocausto de madeira de acácia; de cinco côvados era o seu comprimento, e de cinco côvados a sua largura, era quadrado; e de três côvados a sua a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vinte colunas e as suas vinte bases eram de cobre; os colchetes destas colunas e as suas molduras eram de pra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lado norte cortinas de cem côvados; as suas vinte colunas e as suas vinte bases eram de cobre, os colchetes das colunas e as suas molduras eram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lado do ocidente cortinas de cinqüenta côvados, as suas colunas dez, e as suas bases dez; os colchetes das colunas e as suas molduras eram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lado leste, ao oriente, cortinas de cinqüenta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cortinas de um lado da porta eram de quinze côvados; as suas colunas três e as suas bases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outro lado da porta do pátio, de ambos os lados, eram cortinas de quinze côvados; as suas colunas três e as suas bases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ortinas do pátio ao redor eram de linho fino tor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bases das colunas eram de cobre; os colchetes das colunas e as suas molduras eram de prata; e o revestimento dos seus capitéis era de prata; e todas as colunas do pátio eram cingida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obertura da porta do pátio era de obra de bordador, de azul, e de púrpura, e de carmesim, e de linho fino torcido; e o comprimento era de vinte côvados, e a altura, na largura, de cinco côvados, conforme as cortinas do pát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quatro colunas e as suas quatro bases eram de cobre, os seus colchetes de prata, e o revestimento dos seus capitéis, e as suas molduras, também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-lhe as suas pontas nos seus quatro cantos; da mesma peça eram as suas pontas; e cobriu-o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estacas do tabernáculo e do pátio ao redor eram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enumeração das coisas usadas no tabernáculo do testemunho, que por ordem de Moisés foram contadas para o ministério dos levitas, por intermédio de Itamar, filho de Arão, 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, pois, Bezalel, o filho de Uri, filho de Hur, da tribo de Judá, tudo quanto o SENHOR tinha ordenado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ele Aoliabe, filho de Aisamaque, da tribo de Dã, um mestre de obra, e engenhoso artífice, e bordador em azul, e em púrpura e em carmesim e em linho f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ouro gasto na obra, em toda a obra do santuário, a saber o ouro da oferta, foi vinte e nove talentos e setecentos e trinta siclos, conforme ao siclo do santuá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rata dos arrolados da congregação foi cem talentos e mil e setecentos e setenta e cinco siclos, conforme o siclo do santuá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eca por cabeça, isto é, meio siclo, conforme o siclo do santuário; de todo aquele que passava aos arrolados, da idade de vinte anos para cima, que foram seiscentos e três mil e quinhentos e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cem talentos de prata para fundir as bases do santuário e as bases do véu; para as cem bases cem talentos; um talento para cada ba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mil e setecentos e setenta e cinco siclos fez os colchetes das colunas, e cobriu os seus capitéis, e os cingiu de mold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obre da oferta foi setenta talentos e dois mil e quatrocentos sic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todos os utensílios do altar; os cinzeiros, e as pás, e as bacias, e os garfos, e os braseiros; todos esses pertences fez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le fez as bases da porta da tenda da congregação e o altar de cobre, e o crivo de cobre e todos os utensílios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bases do pátio ao redor, e as bases da porta do pátio, e todas as estacas do tabernáculo e todas as estacas do pátio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, para o altar, um crivo de cobre, em forma de rede, na sua cercadura em baixo, até ao meio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ndiu quatro argolas para as quatro extremidades do crivo de cobre, para os lugares dos va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s varais de madeira de acácia, e os cobriu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os varais pelas argolas aos lados do altar, para com eles levar o altar; fê-lo oco e de táb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a pia de cobre com a sua base de cobre, dos espelhos das mulheres que se reuniam, para servir à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o pátio do lado meridional; as cortinas do pátio eram de linho fino torcido, de cem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31Z</dcterms:created>
  <dc:creator>Admin</dc:creator>
  <dc:description/>
  <dc:language>en-US</dc:language>
  <cp:lastModifiedBy>Admin</cp:lastModifiedBy>
  <dcterms:modified xsi:type="dcterms:W3CDTF">2008-07-30T23:33:31Z</dcterms:modified>
  <cp:revision>1</cp:revision>
  <dc:subject/>
  <dc:title>Slide 1</dc:title>
</cp:coreProperties>
</file>