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43B-928A-40BB-8635-4018BA04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FE3-FA33-402F-B237-7FEAFD84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77D-0AEE-472F-9375-4C655D83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5BC-EEE8-44DC-9553-A5F641B2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5CE-F506-4356-BDD3-E98B378E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11F-0EBF-4940-BEE9-E24921F4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BA9-C5DA-47BD-94B6-49D4B86F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665-BC94-4675-9291-C878BB69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030-2849-47D0-A286-9BA618C4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EA3-8211-4AA8-8467-4511E114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A98-7ABA-44FC-B763-6410E9B1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3BC-E7B4-4159-A1C5-14A860DE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FCF6-121E-47B5-9994-792CA9DBB4F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amarei, ó SENHOR, fortaleza m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ntou num querubim, e voou; sim, voou sobre as asas do v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 das trevas o seu lugar oculto; o pavilhão que o cercava era a escuridão das águas e as nuvens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resplendor da sua presença as nuvens se espalharam, e a saraiva e as brasas de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trovejou nos céus, o Altíssimo levantou a sua voz; e houve saraiva e brasas de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u as suas setas, e as espalhou; multiplicou raios, e os desbar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ram vistas as profundezas das águas, e foram descobertos os fundamentos do mundo, pela tua repreensão, SENHOR, ao sopro das tuas nar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 desde o alto, e me tomou; tirou-me das muit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ou-me do meu inimigo forte e dos que me odiavam, pois eram mais poderosos do que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rpreenderam-me no dia da minha calamidade; mas o SENHOR foi o meu ampa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ouxe-me para um lugar espaçoso; livrou-me, porque tinha prazer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o meu rochedo, e o meu lugar forte, e o meu libertador; o meu Deus, a minha fortaleza, em quem confio; o meu escudo, a força da minha salvação, e o meu alto refúg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ompensou-me o SENHOR conforme a minha justiça, retribuiu-me conforme a pureza das minh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guardei os caminhos do SENHOR, e não me apartei impiamente d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seus juízos estavam diante de mim, e não rejeitei os seus estat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ui sincero perante ele, e me guardei da minh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retribuiu-me o SENHOR conforme a minha justiça, conforme a pureza de minhas mãos perante 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benigno te mostrarás benigno; e com o homem sincero te mostrarás since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puro te mostrarás puro; e com o perverso te mostrarás indomá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livrarás o povo aflito, e abaterás os olhos al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acenderás a minha candeia; o SENHOR meu Deus iluminará as minh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ntigo entrei pelo meio duma tropa, com o meu Deus saltei uma mur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vocarei o nome do SENHOR, que é digno de louvor, e ficarei livre dos m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inho de Deus é perfeito; a palavra do SENHOR é provada; é um escudo para todos os que nele conf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em é Deus senão o SENHOR? E quem é rochedo senão o nosso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o que me cinge de força e aperfeiçoa o m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 os meus pés como os das cervas, e põe-me nas minh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 as minhas mãos para a guerra, de sorte que os meus braços quebraram um arco de c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me deste o escudo da tua salvação; a tua mão direita me susteve, e a tua mansidão me engrand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argaste os meus passos debaixo de mim, de maneira que os meus artelhos não vacil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segui os meus inimigos, e os alcancei; não voltei senão depois de os ter consum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ravessei-os de sorte que não se puderam levantar; caíram debaixo dos m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me cingiste de força para a peleja; fizeste abater debaixo de mim aqueles que contra mim se levan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istezas de morte me cercaram, e torrentes de impiedade me assomb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-me também o pescoço dos meus inimigos para que eu pudesse destruir os que me ode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ram, mas não houve quem os livrasse; até ao SENHOR, mas ele não lhes respo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esmiucei como o pó diante do vento; deitei-os fora como a lama d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ste-me das contendas do povo, e me fizeste cabeça dos gentios; um povo que não conheci me ser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ouvindo a minha voz, me obedecerão; os estranhos se submeterão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estranhos descairão, e terão medo nos seus esconderi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vive; e bendito seja o meu rochedo, e exaltado seja o Deus d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Deus que me vinga inteiramente, e sujeita os povos debaixo de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me livra de meus inimigos; sim, tu me exaltas sobre os que se levantam contra mim, tu me livras do homem viol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, ó SENHOR, te louvarei entre os gentios, e cantarei louvores ao teu no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istezas do inferno me cingiram, laços de morte me surpree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ngrandece a salvação do seu rei, e usa de benignidade com o seu ungido, com Davi, e com a sua sement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angústia invoquei ao SENHOR, e clamei ao meu Deus; desde o seu templo ouviu a minha voz, aos seus ouvidos chegou o meu clamor perante a s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terra se abalou e tremeu; e os fundamentos dos montes também se moveram e se abalaram, porquanto se indig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suas narinas subiu fumaça, e da sua boca saiu fogo que consumia; carvões se acenderam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aixou os céus, e desceu, e a escuridão estava debaixo de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32Z</dcterms:created>
  <dc:creator>Admin</dc:creator>
  <dc:description/>
  <dc:language>en-US</dc:language>
  <cp:lastModifiedBy>Admin</cp:lastModifiedBy>
  <dcterms:modified xsi:type="dcterms:W3CDTF">2008-07-31T00:24:32Z</dcterms:modified>
  <cp:revision>1</cp:revision>
  <dc:subject/>
  <dc:title>Slide 1</dc:title>
</cp:coreProperties>
</file>