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2FB7-B1D1-48CC-80C3-B9859918D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7DF7-0951-439F-B140-2921DF6B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5B79-321D-4158-B265-73DC8F254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C504-F973-4CE0-BE9C-AA39BFA18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8F12-D97A-4141-8870-0DBEF476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3714-8A89-4655-A607-DD7AF972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915B-AF36-4305-8283-B0F8A7F5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2253-E613-4375-A753-E59899F1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A8E7-34E0-4E54-8BD7-C9A11012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A432-0E00-476B-BD7C-8B943640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7669-064F-4789-8BCD-591F0D1C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B649-B7A7-4FEB-B0C5-B0941F2E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8677-71D8-4475-BA9D-E81A2FF2F41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-ME justiça, ó Deus, e pleiteia a minha causa contra a nação ímpia. Livra-me do homem fraudulento e inju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tu és o Deus da minha fortaleza; por que me rejeitas? Por que ando lamentando por causa da opressão do inimig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via a tua luz e a tua verdade, para que me guiem e me levem ao teu santo monte, e aos teus tabernácu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irei ao altar de Deus, a Deus, que é a minha grande alegria, e com harpa te louvarei, ó Deus, Deus m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estás abatida, ó minha alma? E por que te perturbas dentro de mim? Espera em Deus, pois ainda o louvarei, o qual é a salvação da minha face e Deus m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5:19Z</dcterms:created>
  <dc:creator>Admin</dc:creator>
  <dc:description/>
  <dc:language>en-US</dc:language>
  <cp:lastModifiedBy>Admin</cp:lastModifiedBy>
  <dcterms:modified xsi:type="dcterms:W3CDTF">2008-07-31T00:25:19Z</dcterms:modified>
  <cp:revision>1</cp:revision>
  <dc:subject/>
  <dc:title>Slide 1</dc:title>
</cp:coreProperties>
</file>