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E6E8-7C42-4921-A43D-10CFCFDFA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4E46-3645-4630-90BF-BF1210F8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68D8-A8CC-44A3-81B4-A8B7F618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6EDE-87E8-4627-BC81-0A620ADA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94F1-5B31-4B45-A660-C28D7AEB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3041-D80F-4B11-912A-242E13D4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2367-2040-4F9A-BF1A-7C25FF76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E8AF-C8EB-42D4-BB92-B1665F1D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74B1-72BC-487E-9B26-7576D2D6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DDEC-712F-4542-AC24-3FCDFBFC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D182-3828-4089-A781-34F3B0FB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E5CC-95DF-4419-8711-CD9C63BE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9EF1-FA45-4A1E-8680-34146DFD2AB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alou Deus todas estas palavra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sétimo dia é o sábado do SENHOR teu Deus; não farás nenhuma obra, nem tu, nem teu filho, nem tua filha, nem o teu servo, nem a tua serva, nem o teu animal, nem o teu estrangeiro, que está dentro das tuas por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m seis dias fez o SENHOR os céus e a terra, o mar e tudo que neles há, e ao sétimo dia descansou; portanto abençoou o SENHOR o dia do sábado, e o santific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onra a teu pai e a tua mãe, para que se prolonguem os teus dias na terra que o SENHOR teu Deus te 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mat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adulter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furt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dirás falso testemunho contra o teu próxi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cobiçarás a casa do teu próximo, não cobiçarás a mulher do teu próximo, nem o seu servo, nem a sua serva, nem o seu boi, nem o seu jumento, nem coisa alguma do teu próxi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 o povo viu os trovões e os relâmpagos, e o sonido da buzina, e o monte fumegando; e o povo, vendo isso retirou-se e pôs-se de long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 a Moisés: Fala tu conosco, e ouviremos: e não fale Deus conosco, para que não morra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sou o SENHOR teu Deus, que te tirei da terra do Egito, da casa da serv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Moisés ao povo: Não temais, Deus veio para vos provar, e para que o seu temor esteja diante de vós, afim de que não pequ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ovo estava em pé de longe. Moisés, porém, se chegou à escuridão, onde Deus est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SENHOR a Moisés: Assim dirás aos filhos de Israel: Vós tendes visto que, dos céus, eu falei convo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fareis outros deuses comigo; deuses de prata ou deuses de ouro não fareis para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altar de terra me farás, e sobre ele sacrificarás os teus holocaustos, e as tuas ofertas pacíficas, as tuas ovelhas, e as tuas vacas; em todo o lugar, onde eu fizer celebrar a memória do meu nome, virei a ti e te abenço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me fizeres um altar de pedras, não o farás de pedras lavradas; se sobre ele levantares o teu buril, profaná-lo-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não subirás ao meu altar por degraus, para que a tua nudez não seja descoberta diante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rás outros deuses diante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farás para ti imagem de escultura, nem alguma semelhança do que há em cima nos céus, nem em baixo na terra, nem nas águas debaixo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 encurvarás a elas nem as servirás; porque eu, o SENHOR teu Deus, sou Deus zeloso, que visito a iniqüidade dos pais nos filhos, até a terceira e quarta geração daqueles que me ode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ço misericórdia a milhares dos que me amam e aos que guardam os meus manda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omarás o nome do SENHOR teu Deus em vão; porque o SENHOR não terá por inocente o que tomar o seu nome em v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-te do dia do sábado, para o santific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is dias trabalharás, e farás toda a tua o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2:13Z</dcterms:created>
  <dc:creator>Admin</dc:creator>
  <dc:description/>
  <dc:language>en-US</dc:language>
  <cp:lastModifiedBy>Admin</cp:lastModifiedBy>
  <dcterms:modified xsi:type="dcterms:W3CDTF">2008-07-30T23:32:13Z</dcterms:modified>
  <cp:revision>1</cp:revision>
  <dc:subject/>
  <dc:title>Slide 1</dc:title>
</cp:coreProperties>
</file>