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5DF-B915-4D35-B24D-0D14E73B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920-3B8C-4FB4-9D99-6B07CAB8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501-0BD2-478F-AD3A-9B8A0733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DB6-A9C7-429E-B153-9EEB006A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3D7-3183-4C9E-A1E6-6CB6FB1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EBF-30C0-48B7-AAF9-B3C53D3D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D0C-5E14-4569-BF7F-BA3B123E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1C6-6CC8-4FF1-85A1-025ABA62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5D1-3CF1-46A9-9374-6682F56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A1D-52B9-48B4-A0B5-847CA0D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606-8103-438C-BD9E-40867AE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7D9-2C8C-40EF-9479-725A1197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3463-1A30-449A-9101-300B15310C5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o teu pé, quando entrares na casa de Deus; porque chegar-se para ouvir é melhor do que oferecer sacrifícios de tolos, pois não sabem que faze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mar o dinheiro jamais dele se fartará; e quem amar a abundância nunca se fartará da renda; também isto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os bens se multiplicam, ali se multiplicam também os que deles comem; que mais proveito, pois, têm os seus donos do que os ver com os seus o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ce é o sono do trabalhador, quer coma pouco quer muito; mas a fartura do rico não o deixa dor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 grave mal que vi debaixo do sol, e atrai enfermidades: as riquezas que os seus donos guardam para o seu próprio da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mesmas riquezas se perdem por qualquer má ventura, e havendo algum filho nada lhe fica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aiu do ventre de sua mãe, assim nu tornará, indo-se como veio; e nada tomará do seu trabalho, que possa levar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também isto é um grave mal que, justamente como veio, assim há de ir; e que proveito lhe vem de trabalhar para o ve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haver comido todos os seus dias nas trevas, e de haver padecido muito enfado, e enfermidade, e fur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 o que eu vi, uma boa e bela coisa: comer e beber, e gozar cada um do bem de todo o seu trabalho, em que trabalhou debaixo do sol, todos os dias de vida que Deus lhe deu, porque esta é a su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 o homem, a quem Deus deu riquezas e bens, e lhe deu poder para delas comer e tomar a sua porção, e gozar do seu trabalho, isto é dom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precipites com a tua boca, nem o teu coração se apresse a pronunciar palavra alguma diante de Deus; porque Deus está nos céus, e tu estás sobre a terra; assim sejam poucas as t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se lembrará muito dos dias da sua vida; porquanto Deus lhe enche de alegria 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da muita ocupação vêm os sonhos, e a voz do tolo da multidão d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 Deus fizeres algum voto, não tardes em cumpri-lo; porque não se agrada de tolos; o que votares, paga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que não votes do que votares e não cumpri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sintas que a tua boca faça pecar a tua carne, nem digas diante do anjo que foi erro; por que razão se iraria Deus contra a tua voz, e destruiria a obra das tuas 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na multidão dos sonhos há vaidades, assim também nas muitas palavras; mas tu tem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ires em alguma província opressão do pobre, e violência do direito e da justiça, não te admires de tal procedimento; pois quem está altamente colocado tem superior que o vigia; e há mais altos do qu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oveito da terra é para todos; até o rei se serve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28Z</dcterms:created>
  <dc:creator>Admin</dc:creator>
  <dc:description/>
  <dc:language>en-US</dc:language>
  <cp:lastModifiedBy>Admin</cp:lastModifiedBy>
  <dcterms:modified xsi:type="dcterms:W3CDTF">2008-07-30T23:29:28Z</dcterms:modified>
  <cp:revision>1</cp:revision>
  <dc:subject/>
  <dc:title>Slide 1</dc:title>
</cp:coreProperties>
</file>