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C5F-3654-45BD-9618-CDC52C85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3ED-9813-48E0-BA44-783851A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221-626C-4165-868D-98CD63B5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4B5-E93D-4431-9601-F1AA8177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D89-08EF-4AE3-87CF-386EF3B6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0B4-2EE9-4064-86E0-9C48C8B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FF0-D353-4C0A-9494-1A275EC1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D45-6593-40AD-BE4A-48EBF982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02E-AB59-4961-8C52-90815159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7E4-CB3C-460E-BDFF-1D726D9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311-94B9-40B8-85F7-1F2C25E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FA2-1964-4C67-81A6-23D3160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0B22-5CE4-4C65-BADF-BBC0193D7CE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não tenhais a fé de nosso Senhor Jesus Cristo, Senhor da glória, em acepção de pesso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qualquer que guardar toda a lei, e tropeçar em um só ponto, tornou-se culpado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quele que disse: Não cometerás adultério, também disse: Não matarás. Se tu pois não cometeres adultério, mas matares, estás feito transgressor da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i, e assim procedei, como devendo ser julgados pela lei da liber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juízo será sem misericórdia sobre aquele que não fez misericórdia; e a misericórdia triunfa do juí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que aproveita se alguém disser que tem fé, e não tiver as obras? Porventura a fé pode salvá-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o irmão ou a irmã estiverem nus, e tiverem falta de mantimento quotidian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lgum de vós lhes disser: Ide em paz, aquentai-vos, e fartai-vos; e não lhes derdes as coisas necessárias para o corpo, que proveito virá daí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ambém a fé, se não tiver as obras, é morta em si mes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irá alguém: Tu tens a fé, e eu tenho as obras; mostra-me a tua fé sem as tuas obras, e eu te mostrarei a minha fé pelas minh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 crês que há um só Deus; fazes bem. Também os demônios o crêem, e estremec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no vosso ajuntamento entrar algum homem com anel de ouro no dedo, com trajes preciosos, e entrar também algum pobre com sórdido traj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ó homem vão, queres tu saber que a fé sem as obras é mor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o nosso pai Abraão não foi justificado pelas obras, quando ofereceu sobre o altar o seu filho Isa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 vês que a fé cooperou com as suas obras, e que pelas obras a fé foi aperfeiço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umpriu-se a Escritura, que diz: E creu Abraão em Deus, e foi-lhe isso imputado como justiça, e foi chamado o amig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s então que o homem é justificado pelas obras, e não somente pela f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 igual modo Raabe, a meretriz, não foi também justificada pelas obras, quando recolheu os emissários, e os despediu por outro camin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assim como o corpo sem o espírito está morto, assim também a fé sem obras é m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tentardes para o que traz o traje precioso, e lhe disserdes: Assenta-te tu aqui num lugar de honra, e disserdes ao pobre: Tu, fica aí em pé, ou assenta-te abaixo do meu estra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fizestes distinção entre vós mesmos, e não vos fizestes juízes de maus pensamen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meus amados irmãos: Porventura não escolheu Deus aos pobres deste mundo para serem ricos na fé, e herdeiros do reino que prometeu aos que o am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desonrastes o pobre. Porventura não vos oprimem os ricos, e não vos arrastam aos tribun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não blasfemam eles o bom nome que sobre vós foi invoc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, se cumprirdes, conforme a Escritura, a lei real: Amarás a teu próximo como a ti mesmo, bem faz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fazeis acepção de pessoas, cometeis pecado, e sois redargüidos pela lei como transgress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06Z</dcterms:created>
  <dc:creator>Admin</dc:creator>
  <dc:description/>
  <dc:language>en-US</dc:language>
  <cp:lastModifiedBy>Admin</cp:lastModifiedBy>
  <dcterms:modified xsi:type="dcterms:W3CDTF">2008-07-31T00:29:06Z</dcterms:modified>
  <cp:revision>1</cp:revision>
  <dc:subject/>
  <dc:title>Slide 1</dc:title>
</cp:coreProperties>
</file>