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5526-5D3B-426B-A980-891D18BE1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3BD4-D361-460D-BED3-1D9F05B8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D377-2B62-4E67-866A-02A2DDC9B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7A04-DF51-4A4C-9564-44E43249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C016-A15C-4040-A495-7EB73DD0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2521-0087-459B-A25B-802A974B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6D47-3ED9-4F08-9F89-C7CE3FAB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4882-C261-43C7-BC67-2522E30E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7BE5-7D35-472C-901A-E61CED9D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35CD-3EEE-4B26-A050-6E89AC7A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2D85-DA08-4737-90A3-B9293E14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D410-DA86-4F2E-B478-FE786613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F67F-0158-4D0C-9516-D813F6E8345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Mardoqueu soube tudo quanto se havia passado, rasgou as suas vestes, e vestiu-se de saco e de cinza, e saiu pelo meio da cidade, e clamou com grande e amargo clam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alou Ester a Hatá, mandando-o dizer a Mardoqueu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servos do rei, e o povo das províncias do rei, bem sabem que todo o homem ou mulher que chegar ao rei no pátio interior, sem ser chamado, não há senão uma sentença, a de morte, salvo se o rei estender para ele o cetro de ouro, para que viva; e 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izeram saber a Mardoqueu as palavras de Est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ardoqueu mandou que respondessem a Ester: Não imagines no teu íntimo que por estares na casa do rei, escaparás só tu entre todos os ju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se de todo te calares neste tempo, socorro e livramento de outra parte sairá para os judeus, mas tu e a casa de teu pai perecereis; e quem sabe se para tal tempo como este chegaste a este rein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Ester que tornassem a dizer a Mardoqueu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ai, ajunta a todos os judeus que se acharem em Susã, e jejuai por mim, e não comais nem bebais por três dias, nem de dia nem de noite, e eu e as minhas servas também assim jejuaremos. E assim irei ter com o rei, ainda que não seja segundo a lei; e se 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ardoqueu foi, e fez conforme a tudo quanto Ester lhe orden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egou até diante da porta do rei, porque ninguém vestido de saco podia entrar pelas portas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m todas as províncias aonde a palavra do rei e a sua lei chegava, havia entre os judeus grande luto, com jejum, e choro, e lamentação; e muitos estavam deitados em saco e em cin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ieram as servas de Ester, e os seus camareiros, e fizeram-na saber, do que a rainha muito se doeu; e mandou roupas para vestir a Mardoqueu, e tirar-lhe o pano de saco; porém ele não as acei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ster chamou a Hatá (um dos camareiros do rei, que este tinha posto para servi-la), e deu-lhe ordem para ir a Mardoqueu, para saber que era aquilo, e porquê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aindo Hatá a Mardoqueu, à praça da cidade, que estava diante da porta do re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rdoqueu lhe fez saber tudo quanto lhe tinha sucedido; como também a soma exata do dinheiro, que Hamã dissera que daria para os tesouros do rei, pelos judeus, para destruí-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lhe deu a cópia da lei escrita, que se publicara em Susã, para os destruir, para que a mostrasse a Ester, e a fizesse saber; e para lhe ordenar que fosse ter com o rei, e lhe pedisse e suplicasse na sua presença pelo s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io, pois, Hatá, e fez saber a Ester as palavras de Mardoqu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0:51Z</dcterms:created>
  <dc:creator>Admin</dc:creator>
  <dc:description/>
  <dc:language>en-US</dc:language>
  <cp:lastModifiedBy>Admin</cp:lastModifiedBy>
  <dcterms:modified xsi:type="dcterms:W3CDTF">2008-07-30T23:30:51Z</dcterms:modified>
  <cp:revision>1</cp:revision>
  <dc:subject/>
  <dc:title>Slide 1</dc:title>
</cp:coreProperties>
</file>