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16F2-BBF8-4719-A380-3C4DDAAE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3C0F-7464-4D0D-9838-86F42B2E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D4F5-AD50-4016-B08D-A73C0380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C9A4-4272-4067-AA37-01383FA24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2750-C482-4C41-BFAA-6B4D841D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1377-6D01-4528-B7D2-D7167EB7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EC38-F2F7-4915-BDF9-7711D0EB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4E89-B6D4-426B-BC36-EF6C82EC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953D-F96F-41A4-8858-5AB28603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B988-869A-471E-9971-5EE961BE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8344-91A1-43DB-8243-0E346E4A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B46E-3DA7-46D4-BB96-0CE322F7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03CE-D50A-4CEE-9EBC-0182249B401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LVA-ME, ó Deus, pelo teu nome, e faze-me justiça pelo teu pod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Deus, ouve a minha oração, inclina os teus ouvidos às palavras da minh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estranhos se levantam contra mim, e tiranos procuram a minha vida; não têm posto Deus perante os seus olhos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Deus é o meu ajudador, o Senhor está com aqueles que sustêm a minh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recompensará com o mal os meus inimigos. Destrói-os na tua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te oferecerei voluntariamente sacrifícios; louvarei o teu nome, ó SENHOR, porque é bo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me tem livrado de toda a angústia; e os meus olhos viram o meu desejo sobre os meus ini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5:37Z</dcterms:created>
  <dc:creator>Admin</dc:creator>
  <dc:description/>
  <dc:language>en-US</dc:language>
  <cp:lastModifiedBy>Admin</cp:lastModifiedBy>
  <dcterms:modified xsi:type="dcterms:W3CDTF">2008-07-31T00:25:37Z</dcterms:modified>
  <cp:revision>1</cp:revision>
  <dc:subject/>
  <dc:title>Slide 1</dc:title>
</cp:coreProperties>
</file>