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AA3-0CDC-4F6D-B522-59B5F362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1EE-75B0-4CD8-892A-511A44DC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505-9733-47CA-95D2-3C9B1AC1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769-3D38-4A2C-9035-DB9C71BB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7CC-7DF6-4C53-98E2-44844F0C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C89-D2FB-4BB4-BA02-00750114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50C-029E-4D86-B342-6CD10C8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05B-8720-4933-8381-2E946DC6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236-9AE9-4C3B-B029-6251E87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1CD-4761-4417-A67A-A2595C0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375-1D4C-4105-83C9-CA24A8D2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78E-FDE4-4A50-958F-E7EF386F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9E0B-2760-4F87-843D-F3924BDC678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ouça no dia da angústia, o nome do Deus de Jacó te prot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e-te socorro desde o seu santuário, e te sustenha desd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e-se de todas as tuas ofertas, e aceite os teus holocausto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ceda-te conforme ao teu coração, e cumpra todo o teu pl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nos alegraremos pela tua salvação, e em nome do nosso Deus arvoraremos pendões; cumpra o SENHOR todas as tuas pet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sei que o SENHOR salva o seu ungido; ele o ouvirá desde o seu santo céu, com a força salvadora da sua mão dire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s confiam em carros e outros em cavalos, mas nós faremos menção do nome do SENHOR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ns encurvam-se e caem, mas nós nos levantamos e estamos de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-nos, SENHOR; ouça-nos o rei quando clama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35Z</dcterms:created>
  <dc:creator>Admin</dc:creator>
  <dc:description/>
  <dc:language>en-US</dc:language>
  <cp:lastModifiedBy>Admin</cp:lastModifiedBy>
  <dcterms:modified xsi:type="dcterms:W3CDTF">2008-07-31T00:24:35Z</dcterms:modified>
  <cp:revision>1</cp:revision>
  <dc:subject/>
  <dc:title>Slide 1</dc:title>
</cp:coreProperties>
</file>