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83A-8216-4246-8D5A-CB3368FD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9F7-F0C0-4C57-B51D-A982C10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3DB-B4C4-4DB4-A1EB-1EC1F1B8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A4D-8503-40F6-A4DF-7CD8D8F9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E50-B65E-451A-8E91-3EB8746C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EB5-4574-4E25-97EE-D013D83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53C-EE31-4E3F-B350-A1AEE3A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AF4-8AF0-4230-ACBB-6BE891A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2A8-72E7-4A01-811F-DD22BDB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4C0-E7BE-400F-997C-65912A7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07F-80A4-496A-A179-E0A5DA9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CC1-1245-46EC-AA35-6B9A612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D5C1-4B4D-4293-ACBA-9155AA213F7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julgueis, para que não sejais jul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dindo-lhe peixe, lhe dará uma serp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ós, pois, sendo maus, sabeis dar boas coisas aos vossos filhos, quanto mais vosso Pai, que está nos céus, dará bens aos que lhe pedi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udo o que vós quereis que os homens vos façam, fazei-lho também vós, porque esta é a lei e 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i pela porta estreita; porque larga é a porta, e espaçoso o caminho que conduz à perdição, e muitos são os que entram por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que estreita é a porta, e apertado o caminho que leva à vida, e poucos há que a encont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utelai-vos, porém, dos falsos profetas, que vêm até vós vestidos como ovelhas, mas, interiormente, são lobos devo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eus frutos os conhecereis. Porventura colhem-se uvas dos espinheiros, ou figos dos abr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toda a árvore boa produz bons frutos, e toda a árvore má produz frutos m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de a árvore boa dar maus frutos; nem a árvore má dar frutos b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árvore que não dá bom fruto corta-se e lança-se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 o juízo com que julgardes sereis julgados, e com a medida com que tiverdes medido vos hão de medir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elos seus frutos os conh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odo o que me diz: Senhor, Senhor! entrará no reino dos céus, mas aquele que faz a vontade de meu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me dirão naquele dia: Senhor, Senhor, não profetizamos nós em teu nome? e em teu nome não expulsamos demônios? e em teu nome não fizemos muitas maravil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lhes direi abertamente: Nunca vos conheci; apartai-vos de mim, vós que praticais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, pois, que escuta estas minhas palavras, e as pratica, assemelhá-lo-ei ao homem prudente, que edificou a sua casa sobre a roc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 a chuva, e correram rios, e assopraram ventos, e combateram aquela casa, e não caiu, porque estava edificada sobre 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ouve estas minhas palavras, e não as cumpre, compará-lo-ei ao homem insensato, que edificou a sua casa sobre a are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 a chuva, e correram rios, e assopraram ventos, e combateram aquela casa, e caiu, e foi grande a sua qu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ncluindo Jesus este discurso, a multidão se admirou da sua doutri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s ensinava como tendo autoridade; e não como os escri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reparas tu no argueiro que está no olho do teu irmão, e não vês a trave que está no teu o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o dirás a teu irmão: Deixa-me tirar o argueiro do teu olho, estando uma trave no t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ipócrita, tira primeiro a trave do teu olho, e então cuidarás em tirar o argueiro do olho do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s aos cães as coisas santas, nem deiteis aos porcos as vossas pérolas, não aconteça que as pisem com os pés e, voltando-se, vos despeda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i, e dar-se-vos-á; buscai, e encontrareis; batei, e abrir-se-vos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quele que pede, recebe; e, o que busca, encontra; e, ao que bate, abrir-se-lhe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de entre vós é o homem que, pedindo-lhe pão o seu filho, lhe dará uma ped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28Z</dcterms:created>
  <dc:creator>Admin</dc:creator>
  <dc:description/>
  <dc:language>en-US</dc:language>
  <cp:lastModifiedBy>Admin</cp:lastModifiedBy>
  <dcterms:modified xsi:type="dcterms:W3CDTF">2008-07-31T00:14:28Z</dcterms:modified>
  <cp:revision>1</cp:revision>
  <dc:subject/>
  <dc:title>Slide 1</dc:title>
</cp:coreProperties>
</file>