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6C8-5568-404B-884B-D0BE03EE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BAF7-2C27-48C8-B68A-B4C99A6A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088-1BFF-479C-AE6D-A360A9F9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503F-DE27-43A9-8699-D62EFE92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C44-501B-4FF3-B1D0-EADF1874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BB97-0895-477E-87AE-0FBC7F75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33E-7C84-4C39-9556-0362F073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989C-4288-41F9-9FE4-6158000F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0BB-D4F7-4E01-A4C4-392D2BB7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871-75F7-464E-B203-769A4FC1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BC8F-9AC7-4E6C-AD4A-87537476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C163-3E9F-4F9F-BCC7-133AAD01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ED4B-8555-4658-BC93-E13790D712A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é a boa fama do que o melhor ungüento, e o dia da morte do que o dia do nascimento de algu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nca digas: Por que foram os dias passados melhores do que estes? Porque não provém da sabedoria esta pergu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ão boa é a sabedoria como a herança, e dela tiram proveito os que vêem o so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sabedoria serve de defesa, como de defesa serve o dinheiro; mas a excelência do conhecimento é que a sabedoria dá vida ao seu possui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enta para a obra de Deus; porque quem poderá endireitar o que ele fez tor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ia da prosperidade goza do bem, mas no dia da adversidade considera; porque também Deus fez a este em oposição àquele, para que o homem nada descubra do que há de vir depois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isto vi nos dias da minha vaidade: há justo que perece na sua justiça, e há ímpio que prolonga os seus dias na sua mal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jas demasiadamente justo, nem demasiadamente sábio; por que te destruirias a ti mesm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jas demasiadamente ímpio, nem sejas louco; por que morrerias fora de teu temp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om é que retenhas isto, e também daquilo não retires a tua mão; porque quem teme a Deus escapa de tudo i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abedoria fortalece ao sábio, mais do que dez poderosos que haja n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é ir à casa onde há luto do que ir à casa onde há banquete, porque naquela está o fim de todos os homens, e os vivos o aplicam ao s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 que não há homem justo sobre a terra, que faça o bem, e nunca pe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pouco apliques o teu coração a todas as palavras que se disserem, para que não venhas a ouvir o teu servo amaldiçoar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teu coração também já confessou que muitas vezes tu amaldiçoaste a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isto provei-o pela sabedoria; eu disse: Sabedoria adquirirei; mas ela ainda estava longe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já sucedeu é remoto e profundíssimo; quem o achar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apliquei o meu coração para saber, e inquirir, e buscar a sabedoria e a razão das coisas, e para conhecer que a impiedade é insensatez e que a estultícia é louc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achei uma coisa mais amarga do que a morte, a mulher cujo coração são redes e laços, e cujas mãos são ataduras; quem for bom diante de Deus escapará dela, mas o pecador virá a ser preso por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des aqui, isto achei, diz o pregador, conferindo uma coisa com a outra para achar a razão del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al ainda busca a minha alma, porém ainda não a achei; um homem entre mil achei eu, mas uma mulher entre todas estas não ach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aqui, o que tão-somente achei: que Deus fez ao homem reto, porém eles buscaram muitas astúc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é a mágoa do que o riso, porque com a tristeza do rosto se faz melhor 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ração dos sábios está na casa do luto, mas o coração dos tolos na casa da aleg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é ouvir a repreensão do sábio, do que ouvir alguém a canção do to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qual o crepitar dos espinhos debaixo de uma panela, tal é o riso do tolo; também isto é va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rdadeiramente que a opressão faria endoidecer até ao sábio, e o suborno corrompe 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é o fim das coisas do que o princípio delas; melhor é o paciente de espírito do que o altivo de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apresses no teu espírito a irar-te, porque a ira repousa no íntimo dos t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9:33Z</dcterms:created>
  <dc:creator>Admin</dc:creator>
  <dc:description/>
  <dc:language>en-US</dc:language>
  <cp:lastModifiedBy>Admin</cp:lastModifiedBy>
  <dcterms:modified xsi:type="dcterms:W3CDTF">2008-07-30T23:29:33Z</dcterms:modified>
  <cp:revision>1</cp:revision>
  <dc:subject/>
  <dc:title>Slide 1</dc:title>
</cp:coreProperties>
</file>