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EB6-0B48-4D7E-A3CB-92DD664A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78B-00A3-4A8A-8120-B4F9B9EB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2AC-5B8E-49DB-8840-7A6EDB20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E282-7254-4A4D-A6B9-B8B558F6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BB21-AA09-4C0F-8CFC-B688DFE6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A27E-61A9-4B56-AC79-A6D0AB08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3A7E-7D17-4C8F-BFE0-8C0E3258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0114-9182-4382-8DFB-09C9B545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860-591D-40DE-ADB7-A06B9236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4B1A-FF30-4CF9-A5E3-C41C80E6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AC18-4E75-4BFA-8D57-560CDE56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83A-EF0B-485F-977D-DBAB2765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634D-1938-41A6-B299-C8A04987575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mulher sábia edifica a sua casa; mas a tola a derruba com as própri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ração conhece a sua própria amargura, e o estranho não participará no íntimo da sua aleg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casa dos ímpios se desfará, mas a tenda dos retos flores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 um caminho que ao homem parece direito, mas o fim dele são os caminhos d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no riso o coração sente dor e o fim da alegria é trist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no seu coração comete deslize, se enfada dos seus caminhos, mas o homem bom fica satisfeito com o seu proce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imples dá crédito a cada palavra, mas o prudente atenta para os seus pas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ábio teme, e desvia-se do mal, mas o tolo se encoleriza, e dá-se por seg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se indigna à toa fará doidices, e o homem de maus intentos será odi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imples herdarão a estultícia, mas os prudentes serão coroados de conhec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aus inclinam-se diante dos bons, e os ímpios diante das portas dos ju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anda na retidão teme ao SENHOR, mas o que se desvia de seus caminhos o despr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obre é odiado até pelo seu próximo, porém os amigos dos ricos são mu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despreza ao seu próximo peca, mas o que se compadece dos humildes é bem-aventu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erram os que praticam o mal? mas beneficência e fidelidade haverá para os que praticam 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todo trabalho há proveito, mas ficar só em palavras leva à pobr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coroa dos sábios é a sua riqueza, a estultícia dos tolos é só estultí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estemunha verdadeira livra as almas, mas o que se desboca em mentiras é engan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temor do SENHOR há firme confiança e ele será um refúgio para seu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mor do SENHOR é fonte de vida, para desviar dos laços d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multidão do povo está a glória do rei, mas na falta de povo a ruína do príncip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longânimo é grande em entendimento, mas o que é de espírito impaciente mostra a sua louc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boca do tolo está a punição da soberba, mas os sábios se conservam pelos próprios láb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timento sadio é vida para o corpo, mas a inveja é podridão para os os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oprime o pobre insulta àquele que o criou, mas o que se compadece do necessitado o hon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sua própria malícia é lançado fora o perverso, mas o justo até na morte se mantém confi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coração do prudente a sabedoria permanece, mas o que está no interior dos tolos se faz conhe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justiça exalta os povos, mas o pecado é a vergonha d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se alegra no servo prudente, mas sobre o que o envergonha cairá o seu fur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avendo bois o estábulo fica limpo, mas pela força do boi há abundância de colhe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erdadeira testemunha não mentirá, mas a testemunha falsa se desboca em ment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escarnecedor busca sabedoria e não acha nenhuma, para o prudente, porém, o conhecimento é fác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via-te do homem insensato, porque nele não acharás lábios de conhec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abedoria do prudente é entender o seu caminho, mas a estultícia dos insensatos é eng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insensatos zombam do pecado, mas entre os retos há benevol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1:48Z</dcterms:created>
  <dc:creator>Admin</dc:creator>
  <dc:description/>
  <dc:language>en-US</dc:language>
  <cp:lastModifiedBy>Admin</cp:lastModifiedBy>
  <dcterms:modified xsi:type="dcterms:W3CDTF">2008-07-31T00:21:48Z</dcterms:modified>
  <cp:revision>1</cp:revision>
  <dc:subject/>
  <dc:title>Slide 1</dc:title>
</cp:coreProperties>
</file>