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5AA-3785-4C19-A031-1D7A1EF8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A5B-4FA8-4665-ABA6-7B22BA4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C61-B603-4C11-B611-87525B7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DEE-E092-4E9B-9B31-6E432D18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FFE-457B-4D5E-92A5-C211CAB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6AA-18FE-41F9-9217-1902E83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6C7-6084-45A4-ABB0-738F889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C2E-124D-49A2-B972-29414139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1CB-4FA2-4B36-9D68-AACBAD52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C32-77EE-48FF-8F50-A00C546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334-B5C3-4B59-A874-BD0BE6B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CBB-7739-486F-A33F-4B08245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71A-3CE0-411B-95D4-220C708AFB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Jetro, sacerdote de Midiã, sogro de Moisés, ouviu todas as coisas que Deus tinha feito a Moisés e a Israel seu povo, como o SENHOR tinha tirado a Israel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tro disse: Bendito seja o SENHOR, que vos livrou das mãos dos egípcios e da mão de Faraó; que livrou a este povo de debaixo da mão d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ei que o SENHOR é maior que todos os deuses; porque na coisa em que se ensoberbeceram, os sobrepuj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tro, o sogro de Moisés, tomou holocausto e sacrifícios para Deus; e veio Arão, e todos os anciãos de Israel, para comerem pão com o sogro de Moisés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o outro dia, Moisés assentou-se para julgar o povo; e o povo estava em pé diante de Moisés desde a manhã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ogro de Moisés tudo o que ele fazia ao povo, disse: Que é isto, que tu fazes ao povo? Por que te assentas só, e todo o povo está em pé diante de ti, desde a manhã até à tar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a seu sogro: É porque este povo vem a mim, para consultar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m algum negócio vem a mim, para que eu julgue entre um e outro e lhes declare os estatutos de Deus e as suas l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gro de Moisés, porém, lhe disse: Não é bom o que fa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talmente desfalecerás, assim tu como este povo que está contigo; porque este negócio é mui difícil para ti; tu só não o pode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agora minha voz, eu te aconselharei, e Deus será contigo. Sê tu pelo povo diante de Deus, e leva tu as causas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tro, sogro de Moisés, tomou a Zípora, a mulher de Moisés, depois que ele lha envia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clara-lhes os estatutos e as leis, e faze-lhes saber o caminho em que devem andar, e a obra que devem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dentre todo o povo procura homens capazes, tementes a Deus, homens de verdade, que odeiem a avareza; e põe-nos sobre eles por maiorais de mil, maiorais de cem, maiorais de cinqüenta, e maiorais de de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julguem este povo em todo o tempo; e seja que todo o negócio grave tragam a ti, mas todo o negócio pequeno eles o julguem; assim a ti mesmo te aliviarás da carga, e eles a levarão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isto fizeres, e Deus to mandar, poderás então subsistir; assim também todo este povo em paz irá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eu ouvidos à voz de seu sogro, e fez tudo quanto tinha d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olheu Moisés homens capazes, de todo o Israel, e os pôs por cabeças sobre o povo; maiorais de mil, maiorais de cem, maiorais de cinqüenta e maiorais de 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julgaram o povo em todo o tempo; o negócio árduo trouxeram a Moisés, e todo o negócio pequeno julgara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pediu Moisés o seu sogro, o qual se foi à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seus dois filhos, dos quais um se chamava Gérson; porque disse: Eu fui peregrino em terra estran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tro se chamava Eliézer; porque disse: O Deus de meu pai foi por minha ajuda, e me livrou da espada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Jetro, o sogro de Moisés, com seus filhos e com sua mulher, a Moisés no deserto, ao monte de Deus, onde se tinha acamp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a Moisés: Eu, teu sogro Jetro, venho a ti, com tua mulher e seus dois filhos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Moisés ao encontro de seu sogro, e inclinou-se, e beijou-o, e perguntaram um ao outro como estavam, e entraram n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contou a seu sogro todas as coisas que o SENHOR tinha feito a Faraó e aos egípcios por amor de Israel, e todo o trabalho que passaram no caminho, e como o SENHOR os liv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egrou-se Jetro de todo o bem que o SENHOR tinha feito a Israel, livrando-o da mão d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06Z</dcterms:created>
  <dc:creator>Admin</dc:creator>
  <dc:description/>
  <dc:language>en-US</dc:language>
  <cp:lastModifiedBy>Admin</cp:lastModifiedBy>
  <dcterms:modified xsi:type="dcterms:W3CDTF">2008-07-30T23:32:06Z</dcterms:modified>
  <cp:revision>1</cp:revision>
  <dc:subject/>
  <dc:title>Slide 1</dc:title>
</cp:coreProperties>
</file>