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668-4107-4BAA-8C0F-F39B3D31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DE6-3EF6-4CF1-BE90-90E01754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2A6-3FDF-492A-8CA6-4AFD20B9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036-55A4-4CED-944E-F9D2CD95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5F1-9634-4E0A-9F5A-D3BB58CA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C17-F2EF-43A8-AB7E-FF18A4C8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87D-D28D-46BC-B682-8940AB16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64C-0C4F-423A-AD63-5570CB2C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E9B-F709-4185-B66D-950A7393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C2E-39D5-4FCE-9D5F-D9F5046C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1D9-FC76-444F-BDC7-F1DEFE2F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20A-C918-48F1-8DF4-B5E22946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242-EF10-478D-965B-CD95F2EC24F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a Joabe: Eis que o rei anda chorando, e lastima-se por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salão, a quem ungimos sobre nós, já morreu na peleja; agora, pois, por que vos calais, e não fazeis voltar o 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avi mandou dizer a Zadoque e a Abiatar, sacerdotes: Falai aos anciãos de Judá, dizendo: Por que seríeis vós os últimos em tornar a trazer o rei para a sua casa? Porque as palavras de todo o Israel chegaram ao rei, até à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sois meus irmãos, meus ossos e minha carne sois vós; por que, pois, seríeis os últimos em tornar a trazer o 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masa direis: Porventura não és tu meu osso e minha carne? Assim me faça Deus, e outro tanto, se não fores capitão do arraial diante de mim para sempre, em lugar de J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oveu ele o coração de todos os homens de Judá, como o de um só homem; e enviaram ao rei, dizendo: Volta tu com todos os t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voltou, e chegou até ao Jordão; e Judá veio a Gilgal, para ir encontrar-se com o rei, ao outro lado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essou-se Simei, filho de Gera, benjamita, que era de Baurim; e desceu com os homens de Judá a encontrar-se com o rei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ele mil homens de Benjamim, como também Ziba, servo da casa de Saul, e seus quinze filhos, e seus vinte servos com ele; e prontamente passaram o Jordão adiant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travessando a barca, para fazer passar a casa do rei e para fazer o que bem parecesse aos seus olhos, então Simei, filho de Gera, se prostrou diante do rei, quando ele passava 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rei: Não me impute meu senhor a minha culpa, e não te lembres do que tão perversamente fez teu servo, no dia em que o rei meu senhor saiu de Jerusalém; não conserve o rei isso n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vitória se tornou naquele mesmo dia em tristeza por todo o povo; porque naquele mesmo dia o povo ouvira dizer: Mui triste está o rei por causa de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u servo deveras confessa que pecou; porém eis que eu sou o primeiro que de toda a casa de José desci a encontrar-me com o rei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Abisai, filho de Zeruia, e disse: Não morreria, pois, Simei por isto, havendo amaldiçoado ao ungido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avi disse: Que tenho eu convosco, filhos de Zeruia, para que hoje me sejais adversários? Morreria alguém hoje em Israel? Pois porventura não sei que hoje fui feito rei sobr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a Simei: Não morrerás. E o rei lho ju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Mefibosete, filho de Saul, desceu a encontrar-se com o rei, e não tinha lavado os pés, nem tinha feito a barba, nem tinha lavado as suas vestes desde o dia em que o rei tinha saído até ao dia em que voltou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indo ele a Jerusalém a encontrar-se com o rei, disse-lhe o rei: Por que não foste comigo, Mefibose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Ó rei meu senhor, o meu servo me enganou; porque o teu servo dizia: Albardarei um jumento, e nele montarei, e irei com o rei; pois o teu servo é co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mais disto, falsamente acusou a teu servo diante do rei meu senhor; porém o rei meu senhor é como um anjo de Deus; faze, pois, o que parecer bem a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 a casa de meu pai não era senão de homens dignos de morte diante do rei meu senhor; e contudo puseste a teu servo entre os que comem à tua mesa; e que mais direito tenho eu de clamar ao 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rei: Por que ainda mais falas de teus negócios? Já disse eu: Tu e Ziba reparti 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mesmo dia o povo entrou às furtadelas na cidade, como o faz quando, envergonhado, foge d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efibosete ao rei: Tome ele também tudo; pois já veio o rei meu senhor em paz à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Barzilai, o gileadita, desceu de Rogelim, e passou com o rei o Jordão, para o acompanhar ao outro lado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Barzilai muito velho, da idade de oitenta anos; e ele tinha sustentado o rei, quando tinha a sua morada em Maanaim, porque era grand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a Barzilai: Passa tu comigo, e sustentar-te-ei comigo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Barzilai disse ao rei: Quantos serão os dias dos anos da minha vida, para que suba com o rei a Jerusalé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oitenta anos sou eu hoje; poderia eu discernir entre o bom e o mau? Poderia o teu servo ter gosto no que comer e beber? Poderia eu mais ouvir a voz dos cantores e cantoras? E por que será o teu servo ainda pesado ao rei meu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rei passará teu servo ainda um pouco mais além do Jordão; e por que me recompensará o rei com tal recompen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 voltar o teu servo, e morrerei na minha cidade, junto à sepultura de meu pai e de minha mãe; mas eis aí está o teu servo Quimã; passe ele com o rei meu senhor, e faze-lhe o que bem parecer a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: Quimã passará comigo, e eu lhe farei como bem parecer aos teus olhos, e tudo quanto me pedires te f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, pois, todo o povo passado o Jordão, e passando também o rei, beijou o rei a Barzilai, e o abençoou; e ele voltou para 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, pois, o rei com o rosto coberto; e o rei gritava a alta voz: Meu filho Absalão, Absalão meu filho, meu filh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passou o rei a Gilgal, e Quimã passou com ele; e todo o povo de Judá conduziu o rei, como também a metade do pov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todos os homens de Israel vieram ao rei, e disseram ao rei: Por que te furtaram nossos irmãos, os homens de Judá, e conduziram o rei e a sua casa dalém do Jordão, e todos os homens de Davi com e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ram todos os homens de Judá aos homens de Israel: Porquanto o rei é nosso parente; e por que vos irais por isso? Porventura comemos às custas do rei, ou nos deu algum pres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ram os homens de Israel aos homens de Judá, e disseram: Dez partes temos no rei, e até em Davi mais temos nós do que vós; por que, pois, não fizestes conta de nós, para que a nossa palavra não fosse a primeira, para tornar a trazer o nosso re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ou Joabe na casa do rei, e disse: Hoje envergonhaste o rosto de todos os teus servos, que livraram hoje a tua vida, e a vida de teus filhos, e de tuas filhas, e a vida de tuas mulheres, e a vida de tuas concubin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ndo tu aos teus inimigos, e odiando aos teus amigos. Porque hoje dás a entender que nada valem para contigo príncipes e servos; porque entendo hoje que se Absalão vivesse, e todos nós hoje fôssemos mortos, estarias bem cont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pois, agora; sai, e fala conforme ao coração de teus servos; porque pelo SENHOR te juro que, se não saíres, nem um só homem ficará contigo esta noite; e maior mal te será isto do que todo o mal que tem vindo sobre ti desde a tua mocidade at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se levantou, e se assentou à porta; e fizeram saber a todo o povo dizendo: Eis que o rei está assentado à porta. Então todo o povo veio apresentar-se diante do rei; porém Israel havia fugido cada um para a su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, em todas as tribos de Israel, andava porfiando entre si, dizendo: O rei nos tirou das mãos de nossos inimigos, e ele nos livrou das mãos dos filisteus; e agora fugiu da terra por causa de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44Z</dcterms:created>
  <dc:creator>Admin</dc:creator>
  <dc:description/>
  <dc:language>en-US</dc:language>
  <cp:lastModifiedBy>Admin</cp:lastModifiedBy>
  <dcterms:modified xsi:type="dcterms:W3CDTF">2008-07-30T23:53:44Z</dcterms:modified>
  <cp:revision>1</cp:revision>
  <dc:subject/>
  <dc:title>Slide 1</dc:title>
</cp:coreProperties>
</file>