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F2F5-C683-4624-858D-A28AA1B4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3C20-5A7B-43FA-BCCB-E6077EC9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37A0-1AD6-4E00-B2D2-1CB676EB5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9D22-636B-4A93-942E-FB59F1DEC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F406-7DB5-432D-BE99-497FC0C6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A10B-031F-42C8-90DD-390C4B63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CCE6-108E-4290-A5D5-3D30B0D1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C175-F05E-402C-9E18-A04C8051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6566-6103-4925-B71D-76FF8289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E21F-14FB-4A38-A336-8D84361A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45AE-79FF-406C-A8D7-302B0191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96B3-0325-4CC9-B649-B173F952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173C-DC6D-46D2-A293-1291333E4B9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osué chamou os rubenitas, e os gaditas, e a meia tribo de Manas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ndo eles aos limites do Jordão, ainda na terra de Canaã, ali os filhos de Rúben, e os filhos de Gade, e a meia tribo de Manassés edificaram um altar junto ao Jordão, um altar de grande aparê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viram os filhos de Israel dizer: Eis que os filhos de Rúben, e os filhos de Gade, e a meia tribo de Manassés edificaram um altar diante da terra de Canaã, nos limites do Jordão, do lado d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ndo isso os filhos de Israel, reuniu-se toda a congregação dos filhos de Israel em Siló, para saírem em guerra contra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viaram os filhos de Israel, aos filhos de Rúben, e aos filhos de Gade, e à meia tribo de Manassés, na terra de Gileade, a Finéias, filho de Eleazar, o sacerdot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dez príncipes com ele, de cada casa paterna um príncipe, de todas as tribos de Israel; e cada um era cabeça da casa de seus pais entre os milhare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indo eles aos filhos de Rúben, e aos filhos de Gade, e à meia tribo de Manassés, à terra de Gileade, falaram-lhe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toda a congregação do SENHOR: Que transgressão é esta, que cometestes contra o Deus de Israel, deixando hoje de seguir ao SENHOR, edificando-vos um altar, para vos rebelardes contra o SENH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i-nos pouco a iniqüidade de Peor, de que ainda até o dia de hoje não estamos purificados, mesmo que tenha havido castigo na congregação do SENHO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hoje deixais de seguir o SENHOR? Será que rebelando-vos hoje contra o SENHOR, amanhã ele se irará contra toda a congregação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é, porém, que a terra da vossa herança é imunda, passai-vos para a terra da possessão do SENHOR, onde habita o tabernáculo do SENHOR, e tomai possessão entre nós; mas não vos rebeleis contra o SENHOR, nem tampouco vos rebeleis contra nós, edificando-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: Tudo quanto Moisés, o servo do SENHOR, vos ordenou, guardastes; e à minha voz obedecestes em tudo quanto vos orden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cometeu Acã, filho de Zera, transgressão no tocante ao anátema? Não veio ira sobre toda a congregação de Israel, de modo que aquele homem não morreu só, na sua iniqüidad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esponderam os filhos de Rúben, e os filhos de Gade, e a meia tribo de Manassés, e disseram aos cabeças dos milhares de Israel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Deus dos deuses, o SENHOR Deus dos deuses, ele o sabe, e Israel mesmo o saberá. Se foi por rebeldia, ou por transgressão contra o SENHOR, hoje não nos preserv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nós edificamos um altar para nos desviarmos do SENHOR, ou para sobre ele oferecer holocausto e oferta de alimentos, ou sobre ele apresentar oferta pacífica, o SENHOR mesmo de nós o reque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antes o não fizemos por receio disto, dizendo: Amanhã vossos filhos virão a falar a nossos filhos, dizendo: Que tendes vós com o SENHOR Deus de Israe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o SENHOR pôs o Jordão por termo entre nós e vós, ó filhos de Rúben, e filhos de Gade; não tendes parte no SENHOR; e assim bem poderiam vossos filhos fazer desistir a nossos filhos de temer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dissemos: Preparemo-nos agora, e edifiquemos um altar, não para holocausto, nem para sacrifíci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para que, entre nós e vós, e entre as nossas gerações depois de nós, nos seja em testemunho, para podermos fazer o serviço do SENHOR diante dele com os nossos holocaustos, e com os nossos sacrifícios, e com as nossas ofertas pacíficas; para que vos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dissemos: Quando suceder que amanhã assim nos digam a nós e às nossas gerações, então diremos: Vede o modelo do altar do SENHOR que fizeram nossos pais, não para holocausto nem para sacrifício, porém para ser testemunho entre nós 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2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unca tal nos aconteça que nos rebelemos contra o SENHOR, ou que hoje nós abandonássemos o SENHOR, edificando altar para holocausto, oferta de alimentos ou sacrifício, fora do altar do SENHOR nosso Deus, que está perante o seu tabernácu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vossos irmãos por todo este tempo, até ao dia de hoje, não desamparastes; antes tivestes cuidado de guardar o mandamento do SENHOR v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2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ndo, pois, Finéias, o sacerdote, e os príncipes da congregação, e os cabeças dos milhares de Israel, que com eles estavam, as palavras que disseram os filhos de Rúben, e os filhos de Gade, e os filhos de Manassés, pareceu bem aos s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2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Finéias, filho de Eleazar, o sacerdote, aos filhos de Rúben, e aos filhos de Gade, e aos filhos de Manassés: Hoje sabemos que o SENHOR está no meio de nós; porquanto não cometestes transgressão contra o SENHOR; agora livrastes os filhos de Isra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2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inéias filho de Eleazar, o sacerdote, com os príncipes, deixando os filhos de Rúben, e os filhos de Gade, voltaram da terra de Gileade à terra de Canaã, aos filhos de Israel, e trouxeram-lhes a respos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2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eceu a resposta boa aos olhos dos filhos de Israel, e os filhos de Israel louvaram a Deus; e não falaram mais em subir à guerra contra eles em exército, para destruírem a terra em que habitavam os filhos de Rúben e os filhos de G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2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Rúben e os filhos de Gade deram ao altar o nome de Ede; para que seja testemunho entre nós que o SENHOR é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 o SENHOR vosso Deus deu repouso a vossos irmãos, como lhes tinha prometido; voltai-vos, pois, agora, e ide-vos às vossas tendas, à terra da vossa possessão, que Moisés, o servo do SENHOR, vos deu além do Jor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ão-somente tende cuidado de guardar com diligência o mandamento e a lei que Moisés, o servo do SENHOR, vos mandou: que ameis ao SENHOR vosso Deus, e andeis em todos os seus caminhos, e guardeis os seus mandamentos, e vos achegueis a ele, e o sirvais 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Josué os abençoou, e despediu-os; e foram-se às suas ten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Moisés dera herança em Basã à meia tribo de Manassés, porém à outra metade Josué deu herança entre seus irmãos aquém do Jordão para o ocidente; e enviando-os Josué também às suas tendas os abençoou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-lhes, dizendo: Voltai-vos às vossas tendas com grandes riquezas, e com muitíssimo gado, com prata, e com ouro, e com metal, e com ferro, e com muitíssimas roupas; e com vossos irmãos reparti o despojo dos vossos inimi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os filhos de Rúben, e os filhos de Gade, e a meia tribo de Manassés voltaram, e separaram-se dos filhos de Israel, de Siló, que está na terra de Canaã, para irem à terra de Gileade, à terra da sua possessão, de que foram feitos possuidores, con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6:06Z</dcterms:created>
  <dc:creator>Admin</dc:creator>
  <dc:description/>
  <dc:language>en-US</dc:language>
  <cp:lastModifiedBy>Admin</cp:lastModifiedBy>
  <dcterms:modified xsi:type="dcterms:W3CDTF">2008-07-31T00:06:06Z</dcterms:modified>
  <cp:revision>1</cp:revision>
  <dc:subject/>
  <dc:title>Slide 1</dc:title>
</cp:coreProperties>
</file>