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C43-CD27-4190-B834-E87AD558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B82-95FB-447F-A091-F0BC5A1A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14D-8F07-413A-B332-2B373EB6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958-6B80-491B-ABE8-EAC575F9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358-8A11-4FC1-AACE-9AE020DD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B01-F05D-4560-93FD-FEB9D070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AC5B-E4CC-497E-976F-C83C6BAA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486-3738-4D80-8BC4-C2B16975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A55-0E52-4264-B820-41BBA698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5B3-E66E-4113-A6A5-949252D3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EE1-2AB9-4406-9F75-02AAA068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875-A283-4F6B-B3CC-4C991819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1AE6-E3E2-4289-B154-F126EB741D3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isse a Moisés: Ainda uma praga trarei sobre Faraó, e sobre o Egito; depois vos deixará ir daqui; e, quando vos deixar ir totalmente, a toda a pressa vos lançará d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e Arão fizeram todas estas maravilhas diante de Faraó; mas o SENHOR endureceu o coração de Faraó, que não deixou ir os filhos de Israel d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gora aos ouvidos do povo, que cada homem peça ao seu vizinho, e cada mulher à sua vizinha, jóias de prata e jóias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u ao povo graça aos olhos dos egípcios; também o homem Moisés era mui grande na terra do Egito, aos olhos dos servos de Faraó e aos olhos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Moisés: Assim o SENHOR tem dito: À meia noite eu sairei pelo meio do Eg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rimogênito na terra do Egito morrerá, desde o primogênito de Faraó, que haveria de assentar-se sobre o seu trono, até ao primogênito da serva que está detrás da mó, e todo o primogênito dos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rá grande clamor em toda a terra do Egito, como nunca houve semelhante e nunca have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ntre todos os filhos de Israel nem mesmo um cão moverá a sua língua, desde os homens até aos animais, para que saibais que o SENHOR fez diferença entre os egípcios e os israel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estes teus servos descerão a mim, e se inclinarão diante de mim, dizendo: Sai tu, e todo o povo que te segue as pisadas; e depois eu sairei. E saiu da presença de Faraó ardendo em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issera a Moisés: Faraó não vos ouvirá, para que as minhas maravilhas se multipliquem n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39Z</dcterms:created>
  <dc:creator>Admin</dc:creator>
  <dc:description/>
  <dc:language>en-US</dc:language>
  <cp:lastModifiedBy>Admin</cp:lastModifiedBy>
  <dcterms:modified xsi:type="dcterms:W3CDTF">2008-07-30T23:31:39Z</dcterms:modified>
  <cp:revision>1</cp:revision>
  <dc:subject/>
  <dc:title>Slide 1</dc:title>
</cp:coreProperties>
</file>