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00A-C786-4FB4-8567-B74C8590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C40-728E-49B5-9B1D-71A4F637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018-1110-4607-8B7F-4DEF8579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3A8-0CCF-4621-AD39-AE9FE483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87A-E7F4-4743-8ED5-745FBCB9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F59-4FC2-4C5F-8906-7ABC07E3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8BB-0D28-4EF7-8989-57D62BE3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8A9-5902-4090-A6E5-FABAE97E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766-3DE6-4821-B0AF-16C500EC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560-966C-40B8-9455-22D14479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3F3-A79F-4C7D-878D-D0818D9E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689-C62B-44A5-ADB7-553D979D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A4D0-B571-46DE-8157-2B0C79111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Neemi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palavras de Neemias, filho de Hacalias. E sucedeu no mês de Quislev, no ano vigésimo, estando eu em Susã, a fortalez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Neemi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s são teus servos e o teu povo que resgataste com a tua grande força e com a tua forte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Neemi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h! Senhor, estejam, pois, atentos os teus ouvidos à oração do teu servo, e à oração dos teus servos que desejam temer o teu nome; e faze prosperar hoje o teu servo, e dá-lhe graça perante este homem. Então era eu copeir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Neemi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veio Hanani, um de meus irmãos, ele e alguns de Judá; e perguntei-lhes pelos judeus que escaparam, e que restaram do cativeiro, e acerca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Neemi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disseram-me: Os restantes, que ficaram do cativeiro, lá na província estão em grande miséria e desprezo; e o muro de Jerusalém fendido e as suas portas queimadas a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Neemi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sucedeu que, ouvindo eu estas palavras, assentei-me e chorei, e lamentei por alguns dias; e estive jejuando e orando perante o Deus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Neemi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disse: Ah! SENHOR Deus dos céus, Deus grande e terrível! Que guarda a aliança e a benignidade para com aqueles que o amam e guardam os seus mandam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Neemi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jam, pois, atentos os teus ouvidos e os teus olhos abertos, para ouvires a oração do teu servo, que eu hoje faço perante ti, dia e noite, pelos filhos de Israel, teus servos; e faço confissão pelos pecados dos filhos de Israel, que temos cometido c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Neemi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 todo nos corrompemos contra ti, e não guardamos os mandamentos, nem os estatutos, nem os juízos, que ordenaste a Moisés,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Neemi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mbra-te, pois, da palavra que ordenaste a Moisés, teu servo, dizendo: Vós transgredireis, e eu vos espalharei entre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Neemi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vós vos convertereis a mim, e guardareis os meus mandamentos, e os cumprireis; então, ainda que os vossos rejeitados estejam na extremidade do céu, de lá os ajuntarei e os trarei ao lugar que tenho escolhido para ali fazer habitar 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41Z</dcterms:created>
  <dc:creator>Admin</dc:creator>
  <dc:description/>
  <dc:language>en-US</dc:language>
  <cp:lastModifiedBy>Depav</cp:lastModifiedBy>
  <dcterms:modified xsi:type="dcterms:W3CDTF">2009-07-22T19:32:02Z</dcterms:modified>
  <cp:revision>2</cp:revision>
  <dc:subject/>
  <dc:title>Slide 1</dc:title>
</cp:coreProperties>
</file>