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4E3-18A1-4E11-8B8A-1E316E5E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77A-254D-4E59-BD86-BA851311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8CF-5035-4F7C-9F68-BBB967D6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417-479C-4B94-A713-CD81DD21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5C1-E9DF-4E50-9A7B-741455B0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B69-374A-4706-ADDB-93B6948C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1BC-DC3F-4A79-89D5-4A2EDB40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220-BDBB-4CEA-9457-6CA6667D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D5B-48A3-42FC-9543-25C516C3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C5C-22DC-4FB0-9C9D-7A4DC3EA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FF1-8F11-4E76-81CE-3945F77F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B32-0D5B-495F-B581-6DED820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8CC5-5508-4E62-88F8-3E5AAD1A7D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am ao pé de Jesus uns escribas e fariseus de Jerusalé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amando a si a multidão, disse-lhes: Ouvi, e entende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contamina o homem não é o que entra na boca, mas o que sai da boca, isso é o que contamina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acercando-se dele os seus discípulos, disseram-lhe: Sabes que os fariseus, ouvindo essas palavras, se escandaliza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spondendo, disse: Toda a planta, que meu Pai celestial não plantou, será arran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i-os; são condutores cegos. Ora, se um cego guiar outro cego, ambos cairão na c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dro, tomando a palavra, disse-lhe: Explica-nos essa parábo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disse: Até vós mesmos estais ainda sem enten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não compreendeis que tudo o que entra pela boca desce para o ventre, e é lançado fo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o que sai da boca, procede do coração, e isso contamina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o coração procedem os maus pensamentos, mortes, adultérios, prostituição, furtos, falsos testemunhos e blasfêm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transgridem os teus discípulos a tradição dos anciãos? pois não lavam as mãos quando comem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ão estas coisas que contaminam o homem; mas comer sem lavar as mãos, isso não contamina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artindo Jesus dali, foi para as partes de Tiro e de Si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uma mulher cananéia, que saíra daquelas cercanias, clamou, dizendo: Senhor, Filho de Davi, tem misericórdia de mim, que minha filha está miseravelmente endemoninh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não lhe respondeu palavra. E os seus discípulos, chegando ao pé dele, rogaram-lhe, dizendo: Despede-a, que vem gritando atrás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respondendo, disse: Eu não fui enviado senão às ovelhas perdidas d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ou ela, e adorou-o, dizendo: Senhor, socorre-m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spondendo, disse: Não é bom pegar no pão dos filhos e deitá-lo aos cachorr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disse: Sim, SENHOR, mas também os cachorrinhos comem das migalhas que caem da mesa dos seus senh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Jesus, e disse-lhe: Ó mulher, grande é a tua fé! Seja isso feito para contigo como tu desejas. E desde aquela hora a sua filha ficou s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ndo Jesus dali, chegou ao pé do mar da Galiléia, e, subindo a um monte, assentou-se 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respondendo, disse-lhes: Por que transgredis vós, também, o mandamento de Deus pela vossa tradi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ter com ele grandes multidões, que traziam coxos, cegos, mudos, aleijados, e outros muitos, e os puseram aos pés de Jesus, e ele os sar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al sorte, que a multidão se maravilhou vendo os mudos a falar, os aleijados sãos, os coxos a andar, e os cegos a ver; e glorificava o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chamando os seus discípulos, disse: Tenho compaixão da multidão, porque já está comigo há três dias, e não tem o que comer; e não quero despedi-la em jejum, para que não desfaleça n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discípulos disseram-lhe: De onde nos viriam, num deserto, tantos pães, para saciar tal multid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 disse-lhes: Quantos pães tendes? E eles disseram: Sete, e uns poucos de peix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ou à multidão que se assentasse no ch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omando os sete pães e os peixes, e dando graças, partiu-os, e deu-os aos seus discípulos, e os discípulos à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comeram e se saciaram; e levantaram, do que sobejou, sete cestos cheios de ped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s que tinham comido eram quatro mil homens, além de mulheres e cri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despedido a multidão, entrou no barco, e dirigiu-se ao território de Maga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ordenou, dizendo: Honra a teu pai e a tua mãe; e: Quem maldisser ao pai ou à mãe,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dizeis: Qualquer que disser ao pai ou à mãe: É oferta ao Senhor o que poderias aproveitar de mim; esse não precisa honrar nem a seu pai nem a sua mã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invalidastes, pela vossa tradição, o mandament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ipócritas, bem profetizou Isaías a vosso respeit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povo se aproxima de mim com a sua boca e me honra com os seus lábios, mas o seu coração está longe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em vão me adoram, ensinando doutrinas que são preceitos d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09Z</dcterms:created>
  <dc:creator>Admin</dc:creator>
  <dc:description/>
  <dc:language>en-US</dc:language>
  <cp:lastModifiedBy>Admin</cp:lastModifiedBy>
  <dcterms:modified xsi:type="dcterms:W3CDTF">2008-07-31T00:15:09Z</dcterms:modified>
  <cp:revision>1</cp:revision>
  <dc:subject/>
  <dc:title>Slide 1</dc:title>
</cp:coreProperties>
</file>