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3D1-DF43-4364-B782-9567F90A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233-5EC0-4DEA-820C-F9965A97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309-C6AD-4320-B249-F06D9B57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AAA-A009-47B4-97AF-499F88E4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A7B-9A5A-42E1-BC9D-49CB6A60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EFB-CC87-4AB7-BE50-DE6965F7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6D7-3431-4A58-A9EA-B5B52A17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9D5-F951-46B0-87C8-DE4FB067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117-BB3F-4770-BE2C-96CFEE28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B7C-7B25-499A-BF09-CCD3F6AA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F62-08B4-4612-8B02-85D981C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B39-7EDD-4EC9-A94E-88218F9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A21D-984E-4018-A089-CEB16C30FA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NDO a rainha de Sabá a fama de Salomão, acerca do nome do SENHOR, veio prová-lo com questões difíc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ao rei cento e vinte talentos de ouro, e muitíssimas especiarias, e pedras preciosas; nunca veio especiaria em tanta abundância, como a que a rainha de Sabá deu ao rei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s naus de Hirão, que de Ofir levavam ouro, traziam de Ofir muita madeira de almugue, e pedras preci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madeira de almugue fez o rei balaústres para a casa do SENHOR, e para a casa do rei, como também harpas e alaúdes para os cantores; nunca veio tal madeira de almugue, nem se viu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alomão deu à rainha de Sabá tudo o que ela desejou, tudo quanto pediu, além do que dera por sua generosidade; então voltou e partiu para a sua terra, ela e 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eso do ouro que se trazia a Salomão cada ano era de seiscentos e sessenta e seis talentos de 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 que entrava dos negociantes, e do contrato dos especieiros, e de todos os reis da Arábia, e dos governadores da mesm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rei Salomão fez duzentos paveses de ouro batido; seiscentos siclos de ouro destinou para cada pavê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trezentos escudos de ouro batido; três arráteis de ouro destinou para cada escudo; e o rei os pôs na casa do bosque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mais o rei um grande trono de marfim, e o revestiu de ouro pur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este trono seis degraus, e era o alto do trono por detrás redondo, e de ambos os lados tinha encostos até ao assento; e dois leões, em pé, juntos aos enco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Jerusalém com uma grande comitiva; com camelos carregados de especiarias, e muitíssimo ouro, e pedras preciosas; e foi a Salomão, e disse-lhe tudo quanto tinha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oze leões estavam ali sobre os seis degraus de ambos os lados; nunca se tinha feito obra semelhante em nenhum dos re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s as taças de beber do rei Salomão eram de ouro, e todos os vasos da casa do bosque do Líbano eram de ouro puro; não havia neles prata, porque nos dias de Salomão não tinha valor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tinha no mar as naus de Társis, com as naus de Hirão; uma vez em três anos tornavam as naus de Társis, e traziam ouro e prata, marfim, e bugios, e pav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rei Salomão excedeu a todos os reis da terra, tanto em riquezas como em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terra buscava a face de Salomão, para ouvir a sabedoria que Deus tinha posto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trazia o seu presente, vasos de prata e vasos de ouro, e roupas, e armaduras, e especiarias, cavalos e mulas; isso faziam de ano em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juntou Salomão carros e cavaleiros, de sorte que tinha mil e quatrocentos carros e doze mil cavaleiros; e os levou às cidades dos carros, e junto ao rei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rei que em Jerusalém houvesse prata como pedras; e cedros em abundância como sicômoros que estão nas planíci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iam do Egito, para Salomão, cavalos e fio de linho; e os mercadores do rei recebiam o fio de linho, por um certo pr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a e saía um carro do Egito por seiscentos siclos de prata, e um cavalo por cento e cinqüenta; e assim, por meio deles, eram exportados para todos os reis dos heteus e para os reis da 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lhe deu resposta a todas as suas perguntas, nada houve que não lhe pudesse escla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 rainha de Sabá toda a sabedoria de Salomão, e a casa que edifica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mida da sua mesa, e o assentar de seus servos, e o estar de seus criados, e as vestes deles, e os seus copeiros, e os holocaustos que ele oferecia na casa do SENHOR, ficou fora d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rei: Era verdade a palavra que ouvi na minha terra, dos teus feitos e da tu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não cria naquelas palavras, até que vim e os meus olhos o viram; eis que não me disseram metade; sobrepujaste em sabedoria e bens a fama que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teus homens, bem-aventurados estes teus servos, que estão sempre diante de ti, que ouvem a tua sabedor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teu Deus, que teve agrado em ti, para te pôr no trono de Israel; porque o SENHOR ama a Israel para sempre, por isso te estabeleceu rei, para fazeres juízo 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19Z</dcterms:created>
  <dc:creator>Admin</dc:creator>
  <dc:description/>
  <dc:language>en-US</dc:language>
  <cp:lastModifiedBy>Admin</cp:lastModifiedBy>
  <dcterms:modified xsi:type="dcterms:W3CDTF">2008-07-30T23:45:19Z</dcterms:modified>
  <cp:revision>1</cp:revision>
  <dc:subject/>
  <dc:title>Slide 1</dc:title>
</cp:coreProperties>
</file>