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65B-7484-4C83-8A54-3427F154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902-A237-4C6B-8B1E-7CB06B06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31C-4DA7-40D7-8781-DFCC5E67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443-37A0-4691-8288-E1298337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6BE-C1B2-4D5A-B21C-4B7C6237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C5C-27BE-4194-A631-74AF329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AB5-8EA4-4B4B-87ED-D9EB9150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CBF-6BE0-41D8-9678-B583415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D74-996D-4CEC-8CF7-371DBB52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EF0-05EE-4103-9F25-3FB20EB0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CAA-F3B0-4784-A945-840C7A8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6AE-BDF8-4838-AC15-0AE4DC87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D29E-E2A5-4A42-B97A-3ED5EFAED74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RAM, pois, Sefatias, filho de Matã, e Gedalias, filho de Pasur, e Jucal, filho de Selemias, e Pasur, filho de Malquias, as palavras que anunciava Jeremias a todo o pov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u ordem o rei a Ebede-Meleque, o etíope, dizendo: Toma contigo daqui trinta homens, e tira a Jeremias, o profeta, da cisterna, antes que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Ebede-Meleque os homens consigo, e foi à casa do rei, por debaixo da tesouraria, e tomou dali uns trapos velhos e rotos, e roupas velhas, e desceu-os a Jeremias na cisterna por meio de cor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bede-Meleque, o etíope, a Jeremias: Põe agora estes trapos velhos e rotos, já apodrecidos, nas axilas, calçando as cordas. E Jeremias assim o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xaram a Jeremias com as cordas, e o alçaram da cisterna; e ficou Jeremias no átrio da 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Zedequias mandou trazer à sua presença Jeremias, o profeta, à terceira entrada da casa do SENHOR; e disse o rei a Jeremias: Pergunto-te uma coisa, não me encubras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remias a Zedequias: Se eu te declarar, porventura não me matarás? E se eu te aconselhar, não me ouvi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urou o rei Zedequias a Jeremias, em segredo, dizendo: Vive o SENHOR, que nos fez esta alma, que não te matarei nem te entregarei na mão destes homens que procuram a tu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remias disse a Zedequias: Assim diz o SENHOR, Deus dos Exércitos, Deus de Israel: Se voluntariamente saíres aos príncipes do rei de Babilônia, então viverá a tua alma, e esta cidade não se queimará a fogo, e viverás tu e 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não saíres aos príncipes do rei de Babilônia, então será entregue esta cidade na mão dos caldeus, e queimá-la-ão a fogo, e tu não escaparás da mã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Zedequias a Jeremias: Receio-me dos judeus, que se passaram para os caldeus; que estes me entreguem na mão deles, e escarneça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O que ficar nesta cidade morrerá à espada, de fome e de pestilência; mas o que sair aos caldeus viverá; porque a sua alma lhe será por despojo, e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remias: Não te entregarão; ouve, peço-te, a voz do SENHOR, conforme a qual eu te falo; e bem te irá, e viverá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tu não quiseres sair, esta é a palavra que me mostrou o SENH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odas as mulheres que ficaram na casa do rei de Judá serão levadas aos príncipes do rei de Babilônia, e elas mesmas dirão: Teus pacificadores te incitaram e prevaleceram contra ti, mas agora que se atolaram os teus pés na lama, voltaram a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a todas as tuas mulheres e a teus filhos levarão aos caldeus, e nem tu escaparás da sua mão, antes pela mão do rei de Babilônia serás preso, e esta cidade será queimada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Zedequias a Jeremias: Ninguém saiba estas palavras, e não morr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s príncipes, ouvindo que falei contigo, vierem a ti, e te disserem: Declara-nos agora o que disseste ao rei e o que ele te disse, não no-lo encubras, e não te matare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rás: Eu lancei a minha súplica diante do rei, que não me fizesse tornar à casa de Jônatas, para morrer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todos os príncipes a Jeremias, e interrogando-o, declarou-lhes todas as palavras que o rei lhe havia ordenado; e calados o deixaram, porque o assunto não foi reve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cou Jeremias no átrio da guarda, até o dia em que Jerusalém foi tomada, e ainda ali estava quando Jerusalém foi to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sta cidade infalivelmente será entregue na mão do exército do rei de Babilônia, e ele a tom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os príncipes ao rei: Morra este homem, visto que ele assim enfraquece as mãos dos homens de guerra que restam nesta cidade, e as mãos de todo o povo, dizendo-lhes tais palavras; porque este homem não busca a paz para este povo, porém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Zedequias: Eis que ele está na vossa mão; porque o rei nada pode fazer cont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am a Jeremias, e o lançaram na cisterna de Malquias, filho do rei, que estava no átrio da guarda; e desceram a Jeremias com cordas; mas na cisterna não havia água, senão lama; e atolou-se Jeremias na l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bede-Meleque, o etíope, um eunuco que então estava na casa do rei, que tinham posto a Jeremias na cisterna (estava, porém, o rei assentado à porta de Benjamim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 Ebede-Meleque saiu da casa do rei, e falou ao re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rei, senhor meu, estes homens agiram mal em tudo quanto fizeram a Jeremias, o profeta, lançando-o na cisterna; de certo morrerá de fome no lugar onde se acha, pois não há mais pão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25Z</dcterms:created>
  <dc:creator>Admin</dc:creator>
  <dc:description/>
  <dc:language>en-US</dc:language>
  <cp:lastModifiedBy>Admin</cp:lastModifiedBy>
  <dcterms:modified xsi:type="dcterms:W3CDTF">2008-07-30T23:59:25Z</dcterms:modified>
  <cp:revision>1</cp:revision>
  <dc:subject/>
  <dc:title>Slide 1</dc:title>
</cp:coreProperties>
</file>