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27E-841B-4E3B-B912-E93A9A09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36E-7E37-4055-B2C3-30838C99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2F9-B370-4F57-9B17-9190760D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FA2-2F08-4159-A749-017432AD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AD4-19D0-4112-8746-550FB11B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F66-B7B2-4EDA-A73D-21C91E88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200-9F4A-423A-A984-9027C9A6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F8A-F387-4FF2-8BE5-AE0A37C2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788-6453-49A0-A034-FAC78BCA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69C-E4A8-491D-9BF6-991C928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7F9-6FAC-4602-A0D6-F7C2B42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49B-8259-4BD7-84EC-6980A19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A069-21A1-442F-A1C0-1A3601FBFD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VÉRBIOS de Salomão: O filho sábio alegra a seu pai, mas o filho insensato é a tristeza de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cena com os olhos causa dores, e o tolo de lábios ficará transtor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oca do justo é fonte de vida, mas a violência cobre a boca dos perver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ódio excita contendas, mas o amor cobre todos 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lábios do entendido se acha a sabedoria, mas a vara é para as costas do falto de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ábios entesouram a sabedoria; mas a boca do tolo o aproxima da ruí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bens do rico são a sua cidade forte, a pobreza dos pobres a sua ruí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obra do justo conduz à vida, o fruto do perverso, a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para a vida é daquele que guarda a instrução, mas o que deixa a repreensão comete 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ncobre o ódio tem lábios falsos, e o que divulga má fama é um insensa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multidão de palavras não falta pecado, mas o que modera os seus lábios é sáb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souros da impiedade de nada aproveitam; mas a justiça livra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ata escolhida é a língua do justo; o coração dos perversos é de nenhum val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ábios do justo apascentam a muitos, mas os tolos morrem por falta de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ênção do SENHOR é que enriquece; e não traz consigo 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 tolo, o cometer desordem é divertimento; mas para o homem entendido é o ter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ilo que o perverso teme sobrevirá a ele, mas o desejo dos justos será conc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passa a tempestade, assim desaparece o perverso, mas o justo tem fundamento perpét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vinagre para os dentes, como fumaça para os olhos, assim é o preguiçoso para aqueles que o man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SENHOR aumenta os dias, mas os perversos terão os anos da vida abrevi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perança dos justos é alegria, mas a expectação dos perversos pe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o SENHOR é fortaleza para os retos, mas ruína para os que praticam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não deixa o justo passar fome, mas rechaça a aspiração dos perver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nunca jamais será abalado, mas os perversos não habitarão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oca do justo jorra sabedoria, mas a língua da perversidade será cort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ábios do justo sabem o que agrada, mas a boca dos perversos, só pervers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trabalha com mão displicente empobrece, mas a mão dos diligentes enriqu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junta no verão é filho ajuizado, mas o que dorme na sega é filho que en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ênçãos há sobre a cabeça do justo, mas a violência cobre a boca dos perver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emória do justo é abençoada, mas o nome dos perversos apod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ábio de coração aceita os mandamentos, mas o insensato de lábios ficará transtor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nda em sinceridade, anda seguro; mas o que perverte os seus caminhos ficará conh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30Z</dcterms:created>
  <dc:creator>Admin</dc:creator>
  <dc:description/>
  <dc:language>en-US</dc:language>
  <cp:lastModifiedBy>Admin</cp:lastModifiedBy>
  <dcterms:modified xsi:type="dcterms:W3CDTF">2008-07-31T00:21:30Z</dcterms:modified>
  <cp:revision>1</cp:revision>
  <dc:subject/>
  <dc:title>Slide 1</dc:title>
</cp:coreProperties>
</file>