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128-D666-440B-BBF0-349CD62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DD2-EA2B-48EE-839F-24C2FE4F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FB6-6A3A-4259-B68C-422E9289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B80-3C78-4921-9EC2-55CBAF4E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E4E-3AD2-435C-AAEC-86D76C8F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B92-FB4E-414E-8134-650CA010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DA5-DE35-4727-AEF9-8FA820F9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1AA-C5BB-49C9-8E0E-8FE930A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190-99D2-4BF2-8C58-BC34C1D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F54-28C8-48FA-AF46-05A1CB4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250-A2DE-43C7-B02D-1504E70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B2C-A243-45E6-A04A-8CED4D1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DB8-8A42-42D6-877D-555AA4EC61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epois da morte dos dois filhos de Arão, que morreram quando se chegaram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bode, sobre que cair a sorte para ser bode emissário, apresentar-se-á vivo perante o SENHOR, para fazer expiação com ele, a fim de enviá-lo ao deserto como bode emiss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fará chegar o novilho da expiação, que será por ele, e fará expiação por si e pela sua casa; e degolará o novilho da sua exp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á também o incensário cheio de brasas de fogo do altar, de diante do SENHOR, e os seus punhos cheios de incenso aromático moído, e o levará para dentro do v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o incenso sobre o fogo perante o SENHOR, e a nuvem do incenso cobrirá o propiciatório, que está sobre o testemunho, para que não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 do sangue do novilho, e com o seu dedo espargirá sobre a face do propiciatório, para o lado oriental; e perante o propiciatório espargirá sete vezes do sangue com o seu d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golará o bode, da expiação, que será pelo povo, e trará o seu sangue para dentro do véu; e fará com o seu sangue como fez com o sangue do novilho, e o espargirá sobre o propiciatório, e perante a face d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á expiação pelo santuário por causa das imundícias dos filhos de Israel e das suas transgressões, e de todos os seus pecados; e assim fará para a tenda da congregação que reside com eles no meio das suas imundí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homem estará na tenda da congregação quando ele entrar para fazer expiação no santuário, até que ele saia, depois de feita expiação por si mesmo, e pela sua casa, e por toda a congregaçã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rá ao altar, que está perante o SENHOR, e fará expiação por ele; e tomará do sangue do novilho, e do sangue do bode, e o porá sobre as pontas do altar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quele sangue espargirá sobre o altar, com o seu dedo, sete vezes, e o purificará das imundícias dos filhos de Israel, e o santi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SENHOR a Moisés: Dize a Arão, teu irmão, que não entre no santuário em todo o tempo, para dentro do véu, diante do propiciatório que está sobre a arca, para que não morra; porque eu aparecerei na nuvem sobre o propiciató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acabado de fazer expiação pelo santuário, e pela tenda da congregação, e pelo altar, então fará chegar o bode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porá ambas as suas mãos sobre a cabeça do bode vivo, e sobre ele confessará todas as iniqüidades dos filhos de Israel, e todas as suas transgressões, e todos os seus pecados; e os porá sobre a cabeça do bode, e enviá-lo-á ao deserto, pela mão de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quele bode levará sobre si todas as iniqüidades deles à terra solitária; e deixará o bode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rão virá à tenda da congregação, e despirá as vestes de linho, que havia vestido quando entrara no santuário, e ali as deix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nhará a sua carne em água no lugar santo, e vestirá as suas vestes; então sairá e preparará o seu holocausto, e o holocausto do povo, e fará expiação por si e pel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eimará a gordura da expiação do pecado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tiver levado o bode emissário lavará as suas vestes, e banhará a sua carne em água; e depois entrará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novilho da expiação, e o bode da expiação do pecado, cujo sangue foi trazido para fazer expiação no santuário, serão levados fora do arraial; porém as suas peles, a sua carne, e o seu esterco queimarão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os queimar lavará as suas vestes, e banhará a sua carne em água; e depois entrará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vos será por estatuto perpétuo: no sétimo mês, aos dez do mês, afligireis as vossas almas, e nenhum trabalho fareis nem o natural nem o estrangeiro que peregrina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isto Arão entrará no santuário: com um novilho, para expiação do pecado, e um carneiro para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quele dia se fará expiação por vós, para purificar-vos; e sereis purificados de todos os vossos pecado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um sábado de descanso para vós, e afligireis as vossas almas; isto é estatu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, que for ungido, e que for sagrado, para administrar o sacerdócio, no lugar de seu pai, fará a expiação, havendo vestido as vestes de linho, as vestes san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á expiação pelo santo santuário; também fará expiação pela tenda da congregação e pelo altar; semelhantemente fará expiação pelos sacerdotes e por todo o povo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vos será por estatuto perpétuo, para fazer expiação pelos filhos de Israel de todos os seus pecados, uma vez no ano. E fez Arão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stirá ele a túnica santa de linho, e terá ceroulas de linho sobre a sua carne, e cingir-se-á com um cinto de linho, e se cobrirá com uma mitra de linho; estas são vestes santas; por isso banhará a sua carne na água, e as ves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congregação dos filhos de Israel tomará dois bodes para expiação do pecado e um carneiro para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rão oferecerá o novilho da expiação, que será para ele; e fará expiação por si e pel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á ambos os bodes, e os porá perante o SENHOR,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lançará sortes sobre os dois bodes; uma pelo SENHOR, e a outra pelo bode emiss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ão fará chegar o bode, sobre o qual cair a sorte pelo SENHOR, e o oferecerá para expiaçã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07Z</dcterms:created>
  <dc:creator>Admin</dc:creator>
  <dc:description/>
  <dc:language>en-US</dc:language>
  <cp:lastModifiedBy>Admin</cp:lastModifiedBy>
  <dcterms:modified xsi:type="dcterms:W3CDTF">2008-07-31T00:09:07Z</dcterms:modified>
  <cp:revision>1</cp:revision>
  <dc:subject/>
  <dc:title>Slide 1</dc:title>
</cp:coreProperties>
</file>