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AD6-889B-40DD-B6D6-0FC1AB27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D55-E94A-43D8-8BC2-84332A77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854-A3B3-46AF-8CEC-15E2A68A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A75-D256-45C9-A91C-BFB79B89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0A5-6B28-49C8-A617-9B401AB0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028-8D1E-4BFA-91F8-FD63F5C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02E-9624-4ADC-BCDD-3CD22251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3EA-56D1-4A8A-A260-6EFAB455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E0E-4A14-4631-8226-920B62F1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A88-17FA-47CA-8023-E81FE3D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7C2-9CD2-4E12-801D-022A501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18E-DE6F-45FA-9CB1-CD5DA2D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047-97BA-4F40-A7F2-A84FF75EE7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INHO é escarnecedor, a bebida forte alvoroçadora; e todo aquele que neles errar nunca será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pesos diferentes e duas espécies de medida são abominação ao SENHOR, tanto um com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 criança se dará a conhecer pelas suas ações, se a sua obra é pura e r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ouvido que ouve, e o olho que vê, o SENHOR os fez a a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mes o sono, para que não empobreças; abre os teus olhos, e te fartarás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vale, nada vale, dirá o comprador, mas, indo-se, então se gab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ouro e abundância de rubis, mas os lábios do conhecimento são jóia preci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ndo alguém por fiador de um estranho, tome-se-lhe a roupa; e por penhor àquele que se obriga pela mulher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ave é ao homem o pão da mentira, mas depois a sua boca se encherá de casc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pensamento se confirma com conselho e com bons conselhos se faz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nda tagarelando revela o segredo; não te intrometas com o que lisonjeia com os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rugido do leão é o terror do rei; o que o provoca à ira peca contra a sua própri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maldiçoa seu pai ou sua mãe, apagar-se-á a sua lâmpada em negr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herança que no princípio é adquirida às pressas, no fim não será abenç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as: Vingar-me-ei do mal; espera pelo SENHOR, e ele te liv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s diferentes são abomináveis ao SENHOR, e balança enganosa não é 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assos do homem são dirigidos pelo SENHOR; como, pois, entenderá o homem o seu cam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ço é para o homem apropriar-se do que é santo, e só refletir depois de feitos os v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sábio dispersa os ímpios e faz passar sobre eles a ro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o homem é a lâmpada do SENHOR, que esquadrinha todo o interior até o mais íntimo do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ignidade e verdade guardam ao rei, e com benignidade sustém ele o s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o jovem é a sua força; e a beleza dos velhos são as c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oso é para o homem desviar-se de questões, mas todo tolo é introm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ergões das feridas são a purificação dos maus, como também as pancadas que penetram até o mais íntimo do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guiçoso não lavrará por causa do inverno, pelo que mendigará na sega, mas nada receb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águas profundas é o conselho no coração do homem; mas o homem de inteligência o trará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tidão dos homens apregoa a sua própria bondade, porém o homem fidedigno quem o ach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anda na sua sinceridade; bem-aventurados serão os seus filhos depoi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ando-se o rei no trono do juízo, com os seus olhos dissipa todo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oderá dizer: Purifiquei o meu coração, limpo estou de meu pe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16Z</dcterms:created>
  <dc:creator>Admin</dc:creator>
  <dc:description/>
  <dc:language>en-US</dc:language>
  <cp:lastModifiedBy>Admin</cp:lastModifiedBy>
  <dcterms:modified xsi:type="dcterms:W3CDTF">2008-07-31T00:22:16Z</dcterms:modified>
  <cp:revision>1</cp:revision>
  <dc:subject/>
  <dc:title>Slide 1</dc:title>
</cp:coreProperties>
</file>