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5A08-2236-4116-B496-A53C23860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3970-2B4C-4EB0-82F9-B2AA3088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60B3-CDCE-4D48-9188-31D2499D3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D985-EABA-4D78-B527-575431584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881A-F04E-42FC-86CF-4286AC62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414B-6B2F-4DFC-B86D-BE8B2DD9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BA79-ABBE-4359-868C-2557F570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81A2-FF57-4C47-B397-3B98EE6F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6ABE-E2DE-418C-8A0D-BAEFD128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D2D6-6A82-4DCF-BEE9-5D0AB0B8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39FE-1A59-4143-9A9F-3E458E94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BE27-E9D4-40C7-AB23-1EFF2033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3BDE-E963-4562-99A5-E6554B5E497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INALMENTE, irmãos, vos rogamos e exortamos no Senhor Jesus, que assim como recebestes de nós, de que maneira convém andar e agradar a Deus, assim andai, para que possais progredir cada vez m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também já assim o fazeis para com todos os irmãos que estão por toda a Macedônia. Exortamo-vos, porém, a que ainda nisto aumenteis cada vez m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rocureis viver quietos, e tratar dos vossos próprios negócios, e trabalhar com vossas próprias mãos, como já vo-lo temos mandad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andeis honestamente para com os que estão de fora, e não necessiteis de coisa algum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quero, porém, irmãos, que sejais ignorantes acerca dos que já dormem, para que não vos entristeçais, como os demais, que não têm esperan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se cremos que Jesus morreu e ressuscitou, assim também aos que em Jesus dormem, Deus os tornará a trazer com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mo-vos, pois, isto, pela palavra do Senhor: que nós, os que ficarmos vivos para a vinda do Senhor, não precederemos os que dorm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mesmo Senhor descerá do céu com alarido, e com voz de arcanjo, e com a trombeta de Deus; e os que morreram em Cristo ressuscitarão prim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nós, os que ficarmos vivos, seremos arrebatados juntamente com eles nas nuvens, a encontrar o Senhor nos ares, e assim estaremos sempre com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consolai-vos uns aos outros com estas palav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vós bem sabeis que mandamentos vos temos dado pelo Senhor Jes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sta é a vontade de Deus, a vossa santificação; que vos abstenhais da prostituiç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cada um de vós saiba possuir o seu vaso em santificação e honr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na paixão da concupiscência, como os gentios, que não conhecem a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inguém oprima ou engane a seu irmão em negócio algum, porque o SENHOR é vingador de todas estas coisas, como também antes vo-lo dissemos e testifica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ão nos chamou Deus para a imundícia, mas para a santifica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quem despreza isto não despreza ao homem, mas sim a Deus, que nos deu também o seu Espírito Sa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to, porém, ao amor fraternal, não necessitais de que vos escreva, visto que vós mesmos estais instruídos por Deus que vos ameis uns aos outr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8:10Z</dcterms:created>
  <dc:creator>Admin</dc:creator>
  <dc:description/>
  <dc:language>en-US</dc:language>
  <cp:lastModifiedBy>Admin</cp:lastModifiedBy>
  <dcterms:modified xsi:type="dcterms:W3CDTF">2008-07-30T23:48:10Z</dcterms:modified>
  <cp:revision>1</cp:revision>
  <dc:subject/>
  <dc:title>Slide 1</dc:title>
</cp:coreProperties>
</file>