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070-EB75-4402-99F2-BD0A6610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AF7-9F9A-401D-9252-F5E3FA11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AC0-7EE5-4660-83B4-E14934A7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428-3F20-4079-B34E-128C543D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D5C-BCAA-4845-B7AE-00B5E09D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833-6F8F-479F-A92E-3B21C40B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8C2-1FDC-457C-970E-1A66968E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144-1482-438D-ABC1-39A9B7E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786-2565-4A11-B96B-1E981AB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A72-69A5-4FA7-B7D4-94CC8F5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DD1-0FD1-4E8D-BCB2-B2F731F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790-2A95-4B81-948B-226670A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7269-5EB4-431F-8BA6-ECC1811C870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SENHOR teu Deus te houver introduzido na terra, à qual vais para a possuir, e tiver lançado fora muitas nações de diante de ti, os heteus, e os girgaseus, e os amorreus, e os cananeus, e os perizeus, e os heveus, e os jebuseus, sete nações ma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tribui no rosto qualquer dos que o odeiam, fazendo-o perecer; não será tardio ao que o odeia; em seu rosto lho 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, pois, os mandamentos e os estatutos e os juízos que hoje te mando cump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is, que, se ouvindo estes juízos, os guardardes e cumprirdes, o SENHOR teu Deus te guardará a aliança e a misericórdia que jurou a t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r-te-á, e abençoar-te-á, e te fará multiplicar; abençoará o fruto do teu ventre, e o fruto da tua terra, o teu grão, e o teu mosto, e o teu azeite, e a criação das tuas vacas, e o rebanho do teu gado miúdo, na terra que jurou a teus pais d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rás mais do que todos os povos; não haverá estéril entre ti, seja homem, seja mulher, nem entre os teu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 ti desviará toda a enfermidade; sobre ti não porá nenhuma das más doenças dos egípcios, que bem sabes, antes as porá sobre todos os que t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consumirás a todos os povos que te der o SENHOR teu Deus; os teus olhos não os poupará; e não servirás a seus deuses, pois isto te seria por la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es no teu coração: Estas nações são mais numerosas do que eu; como as poderei lançar fo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as não tenhas temor; não deixes de te lembrar do que o SENHOR teu Deus fez a Faraó e a todos os egípc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grandes provas que viram os teus olhos, e dos sinais, e maravilhas, e mão forte, e braço estendido, com que o SENHOR teu Deus te tirou; assim fará o SENHOR teu Deus com todos os povos, diante dos quais tu te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as tiver dado diante de ti, para as ferir, totalmente as destruirás; não farás com elas aliança, nem terás piedade de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is, o SENHOR teu Deus entre eles mandará vespões, até que pereçam os que ficarem e se esconderem de 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espantes diante deles; porque o SENHOR teu Deus está no meio de ti, Deus grande e terr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lançará fora estas nações pouco a pouco de diante de ti; não poderás destruí-las todas de pronto, para que as feras do campo não se multipliquem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eu Deus as entregará a ti, e lhes infligirá uma grande confusão até que sejam consum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seus reis te entregará na mão, para que apagues os seus nomes de debaixo dos céus; nenhum homem resistirá diante de ti, até que os dest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imagens de escultura de seus deuses queimarás a fogo; a prata e o ouro que estão sobre elas não cobiçarás, nem os tomarás para ti, para que não te enlaces neles; pois abominação é a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rás, pois, abominação em tua casa, para que não sejas anátema, assim como ela; de todo a detestarás, e de todo a abominarás, porque anátem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e aparentarás com elas; não darás tuas filhas a seus filhos, e não tomarás suas filhas para t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fariam desviar teus filhos de mim, para que servissem a outros deuses; e a ira do SENHOR se acenderia contra vós, e depressa vos consumi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ssim lhes fareis: Derrubareis os seus altares, quebrareis as suas estátuas; e cortareis os seus bosques, e queimareis a fogo as suas imagens de esc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vo santo és ao SENHOR teu Deus; o SENHOR teu Deus te escolheu, para que lhe fosses o seu povo especial, de todos os povos que há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ão tomou prazer em vós, nem vos escolheu, porque a vossa multidão era mais do que a de todos os outros povos, pois vós éreis menos em número do que todos os po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orque o SENHOR vos amava, e para guardar o juramento que fizera a vossos pais, o SENHOR vos tirou com mão forte e vos resgatou da casa da servidão, da mão de Faraó, rei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rás, pois, que o SENHOR teu Deus, ele é Deus, o Deus fiel, que guarda a aliança e a misericórdia até mil gerações aos que o amam e guardam os s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33Z</dcterms:created>
  <dc:creator>Admin</dc:creator>
  <dc:description/>
  <dc:language>en-US</dc:language>
  <cp:lastModifiedBy>Admin</cp:lastModifiedBy>
  <dcterms:modified xsi:type="dcterms:W3CDTF">2008-07-30T23:27:33Z</dcterms:modified>
  <cp:revision>1</cp:revision>
  <dc:subject/>
  <dc:title>Slide 1</dc:title>
</cp:coreProperties>
</file>