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E8D-320E-446B-B866-CD66E5F9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833-BA82-4B7E-B11C-FE0ACD2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264-710A-476D-A992-48523A28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F0D-B8DD-4E15-B92F-B5A8BAC2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F4C-7142-4AAE-BC6D-1B56095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59A-0741-4E35-B25D-EC11D8E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A7E-BBE8-45E7-B00C-3514EB9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ED-527F-4B2E-83DC-1DFA03E6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E7D-BC5F-4C29-8CBB-FE0D619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A1C-C7E2-4120-9D13-919A7AC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B1A-5189-4437-BE39-1E23835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9D2-A303-418E-8928-76F2E42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031-8CC2-4459-9EB8-017B651B68F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ERALMENTE se ouve que há entre vós fornicação, e fornicação tal, que nem ainda entre os gentios se nomeia, como é haver quem abuse da mulher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não quer dizer absolutamente com os devassos deste mundo, ou com os avarentos, ou com os roubadores, ou com os idólatras; porque então vos seria necessário sair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vos escrevi que não vos associeis com aquele que, dizendo-se irmão, for devasso, ou avarento, ou idólatra, ou maldizente, ou beberrão, ou roubador; com o tal nem ainda co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 tenho eu em julgar também os que estão de fora? Não julgais vós os que estão dent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julga os que estão de fora. Tirai, pois, dentre vós a esse iníq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is ensoberbecidos, e nem ao menos vos entristecestes por não ter sido dentre vós tirado quem cometeu tal 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na verdade, ainda que ausente no corpo, mas presente no espírito, já determinei, como se estivesse presente, que o que tal ato pratic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nome de nosso SENHOR Jesus Cristo, juntos vós e o meu espírito, pelo poder de nosso Senhor Jesus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entregue a Satanás para destruição da carne, para que o espírito seja salvo no dia d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boa a vossa jactância. Não sabeis que um pouco de fermento faz levedar toda a mas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mpai-vos, pois, do fermento velho, para que sejais uma nova massa, assim como estais sem fermento. Porque Cristo, nossa páscoa, foi sacrificado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façamos a festa, não com o fermento velho, nem com o fermento da maldade e da malícia, mas com os ázimos da sinceridade e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por carta vos tenho escrito, que não vos associeis com os que se prostitu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21Z</dcterms:created>
  <dc:creator>Admin</dc:creator>
  <dc:description/>
  <dc:language>en-US</dc:language>
  <cp:lastModifiedBy>Admin</cp:lastModifiedBy>
  <dcterms:modified xsi:type="dcterms:W3CDTF">2008-07-30T23:41:21Z</dcterms:modified>
  <cp:revision>1</cp:revision>
  <dc:subject/>
  <dc:title>Slide 1</dc:title>
</cp:coreProperties>
</file>