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FB1D-882D-4BA0-B1A9-BADEC18A3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ADD7-BEB3-410B-AD5F-E8A92A943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19B3-8DAD-4DFD-9009-C47CBA606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2A95-7F51-42C4-A366-CA5C36ED6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C4D9-3788-4E5D-AA33-73F04B810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D73C-6D51-4670-9DA7-A1E636C06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7FDD-53A8-4B31-95EA-118C3BABE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7DC3-8284-46A1-B8AB-A60BA35C0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32ED-191F-44F3-B383-80F47A1E1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49D1-4A64-4FAA-A27B-C8532A62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4270-0B72-4486-84DC-99462B93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CA4B-E057-4056-8B50-4F2D36AB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BE1CB-4006-44D2-8D4A-F54B95076C4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10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terceiro ano de Ciro, rei da Pérsia, foi revelada uma palavra a Daniel, cujo nome era Beltessazar; a palavra era verdadeira e envolvia grande conflito; e ele entendeu esta palavra, e tinha entendimento da vis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10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is que certa mão me tocou, e fez com que me movesse sobre os meus joelhos e sobre as palmas das minhas m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10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e disse: Daniel, homem muito amado, entende as palavras que vou te dizer, e levanta-te sobre os teus pés, porque a ti sou enviado. E, falando ele comigo esta palavra, levantei-me treme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10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me disse: Não temas, Daniel, porque desde o primeiro dia em que aplicaste o teu coração a compreender e a humilhar-te perante o teu Deus, são ouvidas as tuas palavras; e eu vim por causa das tuas palav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10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 príncipe do reino da Pérsia me resistiu vinte e um dias, e eis que Miguel, um dos primeiros príncipes, veio para ajudar-me, e eu fiquei ali com os reis da Pérs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10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 vim, para fazer-te entender o que há de acontecer ao teu povo nos derradeiros dias; porque a visão é ainda para muitos d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10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falando ele comigo estas palavras, abaixei o meu rosto para a terra, e emudec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10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is que alguém, semelhante aos filhos dos homens, tocou-me os lábios; então abri a minha boca, e falei, dizendo àquele que estava em pé diante de mim: SENHOR meu, por causa da visão sobrevieram-me dores, e não me ficou força algu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10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, pois, pode o servo do meu senhor falar com o meu senhor? Porque, quanto a mim, desde agora não resta força em mim, e nem fôlego ficou em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10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quele, que tinha aparência de um homem, tocou-me outra vez, e fortaleceu-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10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: Não temas, homem muito amado, paz seja contigo; anima-te, sim, anima-te. E, falando ele comigo, fiquei fortalecido, e disse: Fala, meu senhor, porque me fortaleces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10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queles dias eu, Daniel, estive triste por três seman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10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disse: Sabes por que eu vim a ti? Agora, pois, tornarei a pelejar contra o príncipe dos persas; e, saindo eu, eis que virá o príncipe da Gré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10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u te declararei o que está registrado na escritura da verdade; e ninguém há que me anime contra aqueles, senão Miguel, vosso príncip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10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limento desejável não comi, nem carne nem vinho entraram na minha boca, nem me ungi com ungüento, até que se cumpriram as três seman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10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o dia vinte e quatro do primeiro mês eu estava à borda do grande rio Hidequel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10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evantei os meus olhos, e olhei, e eis um homem vestido de linho, e os seus lombos cingidos com ouro fino de Ufaz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10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u corpo era como berilo, e o seu rosto parecia um relâmpago, e os seus olhos como tochas de fogo, e os seus braços e os seus pés brilhavam como bronze polido; e a voz das suas palavras era como a voz de uma multid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10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ó eu, Daniel, tive aquela visão. Os homens que estavam comigo não a viram; contudo caiu sobre eles um grande temor, e fugiram, escondendo-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10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quei, pois, eu só, a contemplar esta grande visão, e não ficou força em mim; transmudou-se o meu semblante em corrupção, e não tive força algu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10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tudo ouvi a voz das suas palavras; e, ouvindo o som das suas palavras, eu caí sobre o meu rosto num profundo sono, com o meu rosto em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6:50Z</dcterms:created>
  <dc:creator>Admin</dc:creator>
  <dc:description/>
  <dc:language>en-US</dc:language>
  <cp:lastModifiedBy>Admin</cp:lastModifiedBy>
  <dcterms:modified xsi:type="dcterms:W3CDTF">2008-07-30T23:26:50Z</dcterms:modified>
  <cp:revision>1</cp:revision>
  <dc:subject/>
  <dc:title>Slide 1</dc:title>
</cp:coreProperties>
</file>