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5E1-6552-4416-9189-68DF69D1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726-1C04-4279-84EB-59A246A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9E0-33F6-4BB1-986B-C38EE303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F15-AB43-453A-BF72-727ACB8E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547-4C2C-4386-AA14-C702D21E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B5F-376C-43C5-A79F-7A870127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B50-02AF-4AF0-85BB-7CE6FC65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9EC-802B-4D9B-80E5-E0129A3B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3BA-BF95-4005-872C-074DCCB4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4E8-A016-4E99-83F3-7C5D31B2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605-6E14-4C87-8F81-8A24ACA1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196-5E10-4626-A542-851F771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7C8-EA7A-415E-B785-E09BCF2B70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do SENHOR, que foi dirigida a Oséias, filho de Beeri, nos dias de Uzias, Jotão, Acaz, Ezequias, reis de Judá, e nos dias de Jeroboão, filho de Joás,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número dos filhos de Israel será como a areia do mar, que não pode medir-se nem contar-se; e acontecerá que no lugar onde se lhes dizia: Vós não sois meu povo, se lhes dirá: Vós sois filhos d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udá e os filhos de Israel juntos se congregarão, e constituirão sobre si uma só cabeça, e subirão da terra; porque grande será o dia de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incípio da palavra do SENHOR por meio de Oséias. Disse, pois, o SENHOR a Oséias: Vai, toma uma mulher de prostituições, e filhos de prostituição; porque a terra certamente se prostitui, desviando-s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e tomou a Gômer, filha de Diblaim, e ela concebeu, e lhe deu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Põe-lhe o nome de Jizreel; porque daqui a pouco visitarei o sangue de Jizreel sobre a casa de Jeú, e farei cessar o reino d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quebrarei o arco de Israel no vale de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ela a conceber, e deu à luz uma filha. E Deus disse: Põe-lhe o nome de Lo-Ruama; porque eu não tornarei mais a compadecer-me da casa de Israel, mas tudo lhe ti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 casa de Judá me compadecerei, e os salvarei pelo SENHOR seu Deus, pois não os salvarei pelo arco, nem pela espada, nem pela guerra, nem pelos cavalos, nem pelos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 haver desmamado a Lo-Ruama, concebeu e deu à luz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séi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disse: Põe-lhe o nome de Lo-Ami; porque vós não sois meu povo, nem eu serei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32Z</dcterms:created>
  <dc:creator>Admin</dc:creator>
  <dc:description/>
  <dc:language>en-US</dc:language>
  <cp:lastModifiedBy>Admin</cp:lastModifiedBy>
  <dcterms:modified xsi:type="dcterms:W3CDTF">2008-07-31T00:20:32Z</dcterms:modified>
  <cp:revision>1</cp:revision>
  <dc:subject/>
  <dc:title>Slide 1</dc:title>
</cp:coreProperties>
</file>