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0E9-80A1-4610-9CCE-72DCC22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8DC-E3FC-4AF0-BC09-E0421ED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390-9843-4F72-90C3-9EB8ED1A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1DC-B19E-4FE0-B64F-2CED0415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5EA-6B0A-4EC7-96DF-CE31DE8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AEE-AB3E-4AF7-BCF7-24BD4D2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19C-B7BA-4F5B-9985-CC66B6B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B0A-483F-4C35-8234-49F6E7B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7C1-75A4-4A7F-BC8D-AD92BBE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A7D-BC80-4828-9FB9-3D5226D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C2A-D8C6-43CB-9172-7A8C575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1DA-085E-48CE-915B-9F17F3F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767-7C05-41A3-9837-3DC51224CE7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decretam leis injustas, e dos escrivães que prescrevem op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minha mão alcançou os reinos dos ídolos, cujas imagens esculpidas eram melhores do que as de Jerusalém e do que as de Sama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como fiz a Samaria e aos seus ídolos, não o faria igualmente a Jerusalém e aos seus ído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contecerá que, havendo o Senhor acabado toda a sua obra no monte Sião e em Jerusalém, então castigarei o fruto da arrogante grandeza do coração do rei da Assíria e a pompa da altivez d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isse: Com a força da minha mão o fiz, e com a minha sabedoria, porque sou prudente; e removi os limites dos povos, e roubei os seus tesouros, e como valente abati aos habit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a minha mão as riquezas dos povos como a um ninho, e como se ajuntam os ovos abandonados, assim eu ajuntei a toda a terra, e não houve quem movesse a asa, ou abrisse a boca, ou murmu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gloriar-se-á o machado contra o que corta com ele, ou presumirá a serra contra o que puxa por ela, como se o bordão movesse aos que o levantam, ou a vara levantasse como não sendo pa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, o SENHOR dos Exércitos, fará definhar os que entre eles são gordos, e debaixo da sua glória ateará um incêndio, como incêndio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uz de Israel virá a ser como fogo e o seu Santo por labareda, que abrase e consuma os seus espinheiros e as suas sarças num só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nsumirá a glória da sua floresta, e do seu campo fértil, desde a alma até à carne, e será como quando desmaia o porta-ban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o das árvores da sua floresta será tão pouco em número, que um menino poderá contá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sviarem os pobres do seu direito, e para arrebatarem o direito dos aflitos do meu povo; para despojarem as viúvas e roubarem os órfã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 que os restantes de Israel, e os que tiverem escapado da casa de Jacó, nunca mais se estribarão sobre aquele que os feriu; antes estribar-se-ão verdadeiramente sobre o SENHOR,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stantes se converterão ao Deus forte, sim, os restante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o teu povo, ó Israel, seja como a areia do mar, só um remanescente dele se converterá; uma destruição está determinada, transbordando 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terminada já a destruição, o Senhor DEUS dos Exércitos a executará no meio de toda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ssim diz o Senhor DEUS dos Exércitos: Povo meu, que habitas em Sião, não temas à Assíria, quando te ferir com a vara, e contra ti levantar o seu bordão à maneira d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qui a bem pouco se cumprirá a minha indignação e a minha ira, para a consu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os Exércitos suscitará contra ela um flagelo, como na matança de Midiã junto à rocha de Orebe; e a sua vara estará sobre o mar, e ele a levantará como sucedeu a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, naquele dia, que a sua carga será tirada do teu ombro, e o seu jugo do teu pescoço; e o jugo será despedaçado por causa da u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vem chegando a Aiate, já vai passando por Migrom, e em Micmás deixa a sua bag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passaram o desfiladeiro, já se alojam em Geba; já Ramá treme, e Gibeá de Saul vai fug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fareis vós no dia da visitação, e na desolação, que há de vir de longe? A quem recorrereis para obter socorro, e onde deixareis a vossa gló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 alto com a tua voz, ó filha de Galim! Ouve, ó Laís! Ó tu pobre Anato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dmena já se foi; os moradores de Gebim vão fugindo em ba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um dia parará em Nobe; acenará com a sua mão contra o monte da filha de Sião, o outeiro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is que o Senhor, o SENHOR dos Exércitos, cortará os ramos com violência, e os de alta estatura serão cortados, e os altivos serão abat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tará com ferro a espessura da floresta, e o Líbano cairá à mão de um 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que cada um se abata entre os presos, e caia entre mortos? Com tudo isto a sua ira não cessou, mas ainda está estendida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 Assíria, a vara da minha ira, porque a minha indignação é como bordão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á-la-ei contra uma nação hipócrita, e contra o povo do meu furor lhe darei ordem, para que lhe roube a presa, e lhe tome o despojo, e o ponha para ser pisado aos pés, como a lama d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le não cuide assim, nem o seu coração assim o imagine; antes no seu coração intenta destruir e desarraigar não pouc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: Não são meus príncipes todos eles 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Calno como Carquemis? Não é Hamate como Arpade? E Samaria como Damas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52Z</dcterms:created>
  <dc:creator>Admin</dc:creator>
  <dc:description/>
  <dc:language>en-US</dc:language>
  <cp:lastModifiedBy>Admin</cp:lastModifiedBy>
  <dcterms:modified xsi:type="dcterms:W3CDTF">2008-07-30T23:54:52Z</dcterms:modified>
  <cp:revision>1</cp:revision>
  <dc:subject/>
  <dc:title>Slide 1</dc:title>
</cp:coreProperties>
</file>