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778-9F18-43BB-9A88-EC759A01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23B-8478-4E9A-8AFE-D4087BFC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648-740B-49D1-BDDE-02EBF8DE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DD7-178B-40D5-AFE5-0F427470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520-404B-4D25-95DB-E107BBC7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903-E90B-4CAF-B2EA-681ABCDF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E75-DA04-4F95-AD99-2A2A183A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358-B924-48ED-9A2B-592CA3EA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A0E-DC11-4A27-9ED3-4CC48AF3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096-65A8-4531-809A-E5FF11F8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577-D643-4A87-96FA-2DFA07C1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218-18E0-4602-B25F-8D6C5419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9BEE-C0ED-426B-87E6-175349D961C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ZE, ó minha alma, ao SENHOR! SENHOR Deus meu, tu és magnificentíssimo; estás vestido de glória e de maj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que fazes sair as fontes nos vales, as quais correm entre os m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ão de beber a todo o animal do campo; os jumentos monteses matam a sua s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nto delas as aves do céu terão a sua habitação, cantando entre os 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rega os montes desde as suas câmaras; a terra farta-se do fruto d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 crescer a erva para o gado, e a verdura para o serviço do homem, para fazer sair da terra o p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vinho que alegra o coração do homem, e o azeite que faz reluzir o seu rosto, e o pão que fortalece o coraçã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árvores do SENHOR fartam-se de seiva, os cedros do Líbano que ele plant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as aves se aninham; quanto à cegonha, a sua casa é nas fa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ltos montes são para as cabras monteses, e os rochedos são refúgio para os coe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ignou a lua para as estações; o sol conhece o seu oca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se cobre de luz como de um vestido, estende os céus como uma cort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denas a escuridão, e faz-se noite, na qual saem todos os animais da sel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eõezinhos bramam pela presa, e de Deus buscam o seu sust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ce o sol e logo se acolhem, e se deitam nos seus cov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 o homem à sua obra e ao seu trabalho,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quão variadas são as tuas obras! Todas as coisas fizeste com sabedoria; cheia está a terra das tuas riqu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é este mar grande e muito espaçoso, onde há seres sem número, animais pequenos e gra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andam os navios; e o leviatã que formaste para nele fol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peram de ti, que lhes dês o seu sustento em tempo oportu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ndo-lho tu, eles o recolhem; abres a tua mão, e se enchem de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ndes o teu rosto, e ficam perturbados; se lhes tiras o fôlego, morrem, e voltam para o seu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 nas águas as vigas das suas câmaras; faz das nuvens o seu carro, anda sobre as asas do v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s o teu Espírito, e são criados, e assim renovas a fac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lória do SENHOR durará para sempre; o SENHOR se alegrará n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ndo ele para a terra, ela treme; tocando nos montes, logo fumeg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rei ao SENHOR enquanto eu viver; cantarei louvores ao meu Deus, enquanto eu tiver exist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meditação acerca dele será suave; eu me alegrarei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apareçam da terra os pecadores, e os ímpios não sejam mais. Bendize, ó minha alma, ao SENHOR. Louv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 dos seus anjos espíritos, dos seus ministros um fogo abras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ou os fundamentos da terra; ela não vacilará em tempo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a cobriste com o abismo, como com um vestido; as águas estavam sobre os m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tua repreensão fugiram; à voz do teu trovão se apress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ram aos montes, desceram aos vales, até ao lugar que para elas fund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rmo lhes puseste, que não ultrapassarão, para que não tornem mais a cobrir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21Z</dcterms:created>
  <dc:creator>Admin</dc:creator>
  <dc:description/>
  <dc:language>en-US</dc:language>
  <cp:lastModifiedBy>Admin</cp:lastModifiedBy>
  <dcterms:modified xsi:type="dcterms:W3CDTF">2008-07-31T00:27:21Z</dcterms:modified>
  <cp:revision>1</cp:revision>
  <dc:subject/>
  <dc:title>Slide 1</dc:title>
</cp:coreProperties>
</file>