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23C-3428-49C2-B197-D3D63889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452-59BF-409F-A644-430C57C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D98-459F-4098-BB4A-E19E003F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605-31E4-4F4F-BE81-17EA730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B2B-C08A-43A9-9693-5BB5D1C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0D0-6CDA-4E9E-9E0F-7117603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FA9-3144-44AD-A618-65C04AF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1EE-9C66-4ABA-A226-89D088F3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37D-DAB2-41BE-90D4-291C65C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8C8-127C-4ADD-A9E4-EB4914A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F6A-4CF3-443E-8FBB-F6CF94D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734-25C9-4593-93D0-43749F5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A91-E4C3-4A3F-93B8-AA601DBB78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Damasco. Eis que Damasco será tirada, e já não será cidade, antes será um montão de ruí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esqueceste do Deus da tua salvação, e não te lembraste da rocha da tua fortaleza, portanto farás plantações formosas, e assentarás nelas sarmentos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em que as plantares as farás crescer, e pela manhã farás que a tua semente brote; mas a colheita voará no dia da angústia e das dores insofr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 bramido dos grandes povos que bramam como bramam os mares, e do rugido das nações que rugem como rugem as impetuos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ugirão as nações, como rugem as muitas águas, mas Deus as repreenderá e elas fugirão para longe; e serão afugentadas como a pragana dos montes diante do vento, e como o que rola levado pelo tuf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anoitecer eis que há pavor, mas antes que amanheça já não existe; esta é a parte daqueles que nos despojam, e a sorte daqueles que nos saqu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idades de Aroer serão abandonadas; hão de ser para os rebanhos que se deitarão sem que alguém os esp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ortaleza de Efraim cessará, como também o reino de Damasco e o restante da Síria; serão como a glória dos filhos de Israel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será diminuída a glória de Jacó, e a gordura da sua carne ficará emagr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como o segador que colhe a cana do trigo e com o seu braço sega as espigas; e será também como o que colhe espigas n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inda ficarão nele alguns rabiscos, como no sacudir da oliveira: duas ou três azeitonas na mais alta ponta dos ramos, e quatro ou cinco nos seus ramos mais frutíferos, diz 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atentará o homem para o seu Criador, e os seus olhos olharão para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tentará para os altares, obra das suas mãos, nem olhará para o que fizeram seus dedos, nem para os bosques, nem para as im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as suas cidades fortificadas serão como lugares abandonados, no bosque ou sobre o cume das montanhas, os quais foram abandonados ante os filhos de Israel; e haverá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07Z</dcterms:created>
  <dc:creator>Admin</dc:creator>
  <dc:description/>
  <dc:language>en-US</dc:language>
  <cp:lastModifiedBy>Admin</cp:lastModifiedBy>
  <dcterms:modified xsi:type="dcterms:W3CDTF">2008-07-30T23:55:07Z</dcterms:modified>
  <cp:revision>1</cp:revision>
  <dc:subject/>
  <dc:title>Slide 1</dc:title>
</cp:coreProperties>
</file>