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7D7F-33D3-4C86-BCB9-F120F5F7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70EF-6442-4ADA-9F0C-7D3EB196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87E4-583E-44E4-8FA0-19A0C86D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6F07-B060-4C32-BF22-DE57DD92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6D96-7014-4AEB-968E-851E9CB2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FA2A-7EB9-4B49-ADEE-50369DB0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E713-A7D8-4D4F-A5D2-5FABC1EE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0733-3883-47C4-8A04-DE660F45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E2D9-1F6B-473A-8ACA-884FF457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7474-5217-4C4B-A86B-0DF2AD74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7AA5-482B-4E6D-9CA8-4C820245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74D8-67F1-47E2-9870-5FAC8254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96A4-1CAC-4EAF-BF2F-62137C065BF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acabando ele de falar com Saul, a alma de Jônatas se ligou com a alma de Davi; e Jônatas o amou, como à sua própri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no outro dia, que o mau espírito da parte de Deus se apoderou de Saul, e profetizava no meio da casa; e Davi tocava a harpa com a sua mão, como nos outros dias; Saul, porém, tinha na mão uma l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ul atirou com a lança, dizendo: Encravarei a Davi na parede. Porém Davi se desviou dele por duas vez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mia Saul a Davi, porque o SENHOR era com ele e se tinha retirado de Sa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Saul o desviou de si, e o pôs por capitão de mil; e saía e entrava diante d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se conduzia com prudência em todos os seus caminhos, e o SENHOR era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 então Saul que tão prudentemente se conduzia, tinha receio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todo o Israel e Judá amava a Davi, porquanto saía e entrava diante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Saul disse a Davi: Eis que Merabe, minha filha mais velha, te darei por mulher; sê-me somente filho valoroso, e guerreia as guerras do SENHOR (porque Saul dizia consigo: Não seja contra ele a minha mão, mas sim a dos filisteus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avi disse a Saul: Quem sou eu, e qual é a minha vida e a família de meu pai em Israel, para vir a ser genro do re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rém, que ao tempo que Merabe, filha de Saul, devia ser dada a Davi, ela foi dada por mulher a Adriel, meolat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ul naquele dia o tomou, e não lhe permitiu que voltasse para casa de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Mical, a outra filha de Saul amava a Davi; o que, sendo anunciado a Saul, pareceu isto bom aos s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ul disse: Eu lha darei, para que lhe sirva de laço, e para que a mão dos filisteus venha a ser contra ele. Pelo que Saul disse a Davi: Com a outra serás hoje meu gen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ul deu ordem aos seus servos: Falai em segredo a Davi, dizendo: Eis que o rei te está mui afeiçoado, e todos os seus servos te amam; agora, pois, consente em ser genro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rvos de Saul falaram todas estas palavras aos ouvidos de Davi. Então disse Davi: Parece-vos pouco aos vossos olhos ser genro do rei, sendo eu homem pobre e desprezív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rvos de Saul lhe anunciaram isto, dizendo: Foram tais as palavras que falou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Saul: Assim direis a Davi: O rei não tem necessidade de dote, senão de cem prepúcios de filisteus, para se tomar vingança dos inimigos do rei. Porquanto Saul tentava fazer cair a Davi pela mão dos filist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nunciaram os seus servos estas palavras a Davi, e este negócio pareceu bem aos olhos de Davi, de que fosse genro do rei; porém ainda os dias não se haviam cumpr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avi se levantou, e partiu com os seus homens, e feriu dentre os filisteus duzentos homens, e Davi trouxe os seus prepúcios, e os entregou todos ao rei, para que fosse genro do rei; então Saul lhe deu por mulher a sua fi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u Saul, e notou que o SENHOR era com Davi; e Mical, filha de Saul, o am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ul temeu muito mais a Davi; e Saul foi todos os seus dias inimigo de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ônatas e Davi fizeram aliança; porque Jônatas o amava como à sua própri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indo os príncipes dos filisteus à campanha, sucedia que Davi se conduzia com mais êxito do que todos os servos de Saul; portanto o seu nome era muito estim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ônatas se despojou da capa que trazia sobre si, e a deu a Davi, como também as suas vestes, até a sua espada, e o seu arco, e o seu ci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ía Davi aonde quer que Saul o enviasse e conduzia-se com prudência, e Saul o pôs sobre os homens de guerra; e era aceito aos olhos de todo o povo, e até aos olhos dos servos de Sa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rém, que, vindo eles, quando Davi voltava de ferir os filisteus, as mulheres de todas as cidades de Israel saíram ao encontro do rei Saul, cantando e dançando, com adufes, com alegria, e com instrumentos de mús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mulheres dançando e cantando se respondiam umas às outras, dizendo: Saul feriu os seus milhares, porém, Davi os seus dez milha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ul se indignou muito, e aquela palavra pareceu mal aos seus olhos, e disse: Dez milhares deram a Davi, e a mim somente milhares; na verdade, que lhe falta, senão só o rein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sde aquele dia em diante, Saul tinha Davi em suspe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7:20Z</dcterms:created>
  <dc:creator>Admin</dc:creator>
  <dc:description/>
  <dc:language>en-US</dc:language>
  <cp:lastModifiedBy>Admin</cp:lastModifiedBy>
  <dcterms:modified xsi:type="dcterms:W3CDTF">2008-07-30T23:47:20Z</dcterms:modified>
  <cp:revision>1</cp:revision>
  <dc:subject/>
  <dc:title>Slide 1</dc:title>
</cp:coreProperties>
</file>