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056-61DC-43E8-BED1-0D064D5A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213-B232-41F9-819A-1F2ACB4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4B4-2246-4130-8474-AAC5456C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9C3-5462-47F4-9252-9741D73E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05D-1A9D-4EB9-BCE2-5F83196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35F-AAE3-404F-A343-5D1D6071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485-B95E-4862-9DF0-F6D9B66C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0A9-E286-466A-A93D-95467DFB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279-1AB7-4628-9EB5-1AF2E7CE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BEA-206F-457E-98A1-C28787E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909-9DF8-4804-B93F-E1B16B3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62A-1111-4C2B-8E75-66218F5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A767-7F6C-4ED6-BFB2-A6F10E5B50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 os seus doze discípulos, deu-lhes poder sobre os espíritos imundos, para os expulsarem, e para curarem toda a enfermidade e todo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alforjes para o caminho, nem duas túnicas, nem alparcas, nem bordão; porque digno é o operário do seu al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m qualquer cidade ou aldeia em que entrardes, procurai saber quem nela seja digno, e hospedai-vos aí, até que vos ret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entrardes nalguma casa, saudai-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 casa for digna, desça sobre ela a vossa paz; mas, se não for digna, torne para vós a voss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ninguém vos receber, nem escutar as vossas palavras, saindo daquela casa ou cidade, sacudi o pó dos voss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, no dia do juízo, haverá menos rigor para o país de Sodoma e Gomorra do que para aquel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os envio como ovelhas ao meio de lobos; portanto, sede prudentes como as serpentes e inofensivos como as pomb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utelai-vos, porém, dos homens; porque eles vos entregarão aos sinédrios, e vos açoitarão nas suas sinagog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eis até conduzidos à presença dos governadores, e dos reis, por causa de mim, para lhes servir de testemunho a eles, e a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vos entregarem, não vos dê cuidado como, ou o que haveis de falar, porque naquela mesma hora vos será ministrado o que haveis de di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s nomes dos doze apóstolos são estes: O primeiro, Simão, chamado Pedro, e André, seu irmão; Tiago, filho de Zebedeu, e João, seu ir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sois vós quem falará, mas o Espírito de vosso Pai é que fala em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irmão entregará à morte o irmão, e o pai o filho; e os filhos se levantarão contra os pais, e os ma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diados de todos sereis por causa do meu nome; mas aquele que perseverar até ao fim será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ois vos perseguirem nesta cidade, fugi para outra; porque em verdade vos digo que não acabareis de percorrer as cidades de Israel sem que venha 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o discípulo mais do que o mestre, nem o servo mais do que o s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sta ao discípulo ser como seu mestre, e ao servo como seu senhor. Se chamaram Belzebu ao pai de família, quanto mais aos seus doméstic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ão os temais; porque nada há encoberto que não haja de revelar-se, nem oculto que não haja de sabe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os digo em trevas dizei-o em luz; e o que escutais ao ouvido pregai-o sobre os tel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emais os que matam o corpo e não podem matar a alma; temei antes aquele que pode fazer perecer no inferno a alma e o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vendem dois passarinhos por um ceitil? e nenhum deles cairá em terra sem a vontade de voss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ipe e Bartolomeu; Tomé e Mateus, o publicano; Tiago, filho de Alfeu, e Lebeu, apelidado Tade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mesmo os cabelos da vossa cabeça estão todos con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is, pois; mais valeis vós do que muitos passar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qualquer que me confessar diante dos homens, eu o confessarei diante de meu Pai, que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lquer que me negar diante dos homens, eu o negarei também diante de meu Pai, que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uideis que vim trazer a paz à terra; não vim trazer paz, mas esp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vim pôr em dissensão o homem contra seu pai, e a filha contra sua mãe, e a nora contra sua sog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os inimigos do homem serão os seus famili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ma o pai ou a mãe mais do que a mim não é digno de mim; e quem ama o filho ou a filha mais do que a mim não é digno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não toma a sua cruz, e não segue após mim, não é digno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char a sua vida perdê-la-á; e quem perder a sua vida, por amor de mim, achá-la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ão o Zelote, e Judas Iscariotes, aquele que o tra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vos recebe, a mim me recebe; e quem me recebe a mim, recebe aquele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recebe um profeta em qualidade de profeta, receberá galardão de profeta; e quem recebe um justo na qualidade de justo, receberá galardão de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tiver dado só que seja um copo de água fria a um destes pequenos, em nome de discípulo, em verdade vos digo que de modo algum perderá o seu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enviou estes doze, e lhes ordenou, dizendo: Não ireis pelo caminho dos gentios, nem entrareis em cidade de samaritan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de antes às ovelhas perdidas da casa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, pregai, dizendo: É chegado o rein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rai os enfermos, limpai os leprosos, ressuscitai os mortos, expulsai os demônios; de graça recebestes, de graça d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ssuais ouro, nem prata, nem cobre, em vossos ci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42Z</dcterms:created>
  <dc:creator>Admin</dc:creator>
  <dc:description/>
  <dc:language>en-US</dc:language>
  <cp:lastModifiedBy>Admin</cp:lastModifiedBy>
  <dcterms:modified xsi:type="dcterms:W3CDTF">2008-07-31T00:14:42Z</dcterms:modified>
  <cp:revision>1</cp:revision>
  <dc:subject/>
  <dc:title>Slide 1</dc:title>
</cp:coreProperties>
</file>