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D18-4DE1-4862-8E3F-2EEC4D1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220-36C1-4D3C-A8F9-264CB857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BD4-7FBF-4318-8202-13953FCA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EF8-10A4-41DC-8EC8-9D18FE24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166-804D-4D8E-B5BE-EE9997B1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8E2-2424-4B10-BCD7-B0F4EAE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925-DF1D-409D-A09B-60E7D78B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A2C-315D-4015-9CCC-41539334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B3B-5C1F-4D42-A311-510AA8D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714-E62E-4CE4-AA6B-B7396A4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D31-4B2D-491F-B92B-DE379EF0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D1F-1D7E-4C7D-B563-E56A27D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70D-2313-4D78-B254-E2006BED67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que o SENHOR vos fala a vós, ó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Deus é a verdade; ele mesmo é o Deus vivo e o Rei eterno; ao seu furor treme a terra, e as nações não podem suportar a sua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hes direis: Os deuses que não fizeram os céus e a terra desaparecerão da terra e de debaixo deste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ez a terra com o seu poder; ele estabeleceu o mundo com a sua sabedoria, e com a sua inteligência estendeu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ndo ele soar a sua voz, logo há rumor de águas no céu, e faz subir os vapores da extremidade da terra; faz os relâmpagos para a chuva, e dos seus tesouros faz sair 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 é embrutecido no seu conhecimento; envergonha-se todo o fundidor da sua imagem de escultura; porque sua imagem fundida é mentira, e nelas não há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dade são, obra de enganos: no tempo da sua visitação virão a pe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semelhante a estes aquele que é a porção de Jacó; porque ele é o que formou tudo, e Israel é a vara da sua herança: SENHOR dos Exércitos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 da terra a tua mercadoria, ó tu que habitas em lugar sit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Eis que desta vez arrojarei como se fora com uma funda aos moradores da terra, e os angustiarei, para que venham a achá-l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mim por causa do meu quebrantamento! A minha chaga me causa grande dor; e eu havia dito: Certamente isto é enfermidade que eu poderei sup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ão aprendais o caminho dos gentios, nem vos espanteis dos sinais dos céus; porque com eles se atemorizam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tenda está destruída, e todas as minhas cordas se romperam; os meus filhos foram-se de mim, e não existem; ninguém há mais que estenda a minha tenda, nem que levante as minhas cortin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pastores se embruteceram, e não buscaram ao SENHOR; por isso não prosperaram, e todos os seus rebanhos se espal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m uma voz de rumor, grande tremor da terra do norte, para fazer das cidades de Judá uma assolação, uma morada de chac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i, ó SENHOR, que não é do homem o seu caminho; nem do homem que caminha o dirigir os s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tiga-me, ó SENHOR, porém com juízo, não na tua ira, para que não me reduzas a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a tua indignação sobre os gentios que não te conhecem, e sobre as gerações que não invocam o teu nome; porque devoraram a Jacó, e devoraram-no e consumiram-no, e assolaram a sua mo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costumes dos povos são vaidade; pois corta-se do bosque um madeiro, obra das mãos do artífice, feita com mach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prata e com ouro o enfeitam, com pregos e com martelos o firmam, para que não se m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como a palmeira, obra torneada, porém não podem falar; certamente são levados, porquanto não podem andar. Não tenhais receio deles, pois não podem fazer mal, nem tampouco têm poder de fazer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há semelhante a ti, ó SENHOR; tu és grande, e grande o teu nome em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ão te temeria a ti, ó Rei das nações? Pois isto só a ti pertence; porquanto entre todos os sábios das nações, e em todo o seu reino, ninguém há semelhante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todos se embruteceram e tornaram-se loucos; ensino de vaidade é o m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m prata batida de Társis e ouro de Ufaz, trabalho do artífice, e das mãos do fundidor; fazem suas roupas de azul e púrpura; obra de peritos são todos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50Z</dcterms:created>
  <dc:creator>Admin</dc:creator>
  <dc:description/>
  <dc:language>en-US</dc:language>
  <cp:lastModifiedBy>Admin</cp:lastModifiedBy>
  <dcterms:modified xsi:type="dcterms:W3CDTF">2008-07-30T23:57:50Z</dcterms:modified>
  <cp:revision>1</cp:revision>
  <dc:subject/>
  <dc:title>Slide 1</dc:title>
</cp:coreProperties>
</file>