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07B-2BFC-4731-81A6-337F4627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480-6C3D-4BC7-90C6-7E3D137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1F2-193A-48ED-A27F-00416064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BF9-8733-4D84-B887-08E344B0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811-3AE5-415F-89E7-8934B3BF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2F6-1743-4AC5-8E64-962F2076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669-E4F7-421F-BD31-6F8BDD6C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F1C-9849-4905-BF4B-A50725C7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931-58B6-4F87-9C46-39B134C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CA2-6CFD-404F-BCE0-8A8AE12B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414-1F57-4A08-9E5B-2B32C8DB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CA9-5CE9-4B49-B195-422B6D36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30FE-5CBC-4CF1-9F5E-51BE4DFDEE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e tira do boi do sacrifício pacífico; e o sacerdote os queimará sobre o altar do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couro do novilho, e toda a sua carne, com a sua cabeça e as suas pernas, e as suas entranhas, e o seu esterc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fim, o novilho todo levará fora do arraial a um lugar limpo, onde se lança a cinza, e o queimará com fogo sobre a lenha; onde se lança a cinza se queim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toda a congregação de Israel pecar por ignorância, e o erro for oculto aos olhos do povo, e se fizerem contra alguns dos mandamentos do SENHOR, aquilo que não se deve fazer, e forem culp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 pecado que cometeram for conhecido, então a congregação oferecerá um novilho, por expiação do pecado, e o trará diante da tenda da congreg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nciãos da congregação porão as suas mãos sobre a cabeça do novilho perante o SENHOR; e degolar-se-á o novilho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ungido trará do sangue do novilho à tenda da congreg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molhará o seu dedo naquele sangue, e o espargirá sete vezes perante o SENHOR, diante do v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quele sangue porá sobre as pontas do altar, que está perante a face do SENHOR, na tenda da congregação; e todo o restante do sangue derramará à base do altar do holocausto, que está diante da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ará dele toda a sua gordura, e queimá-la-á sobre o al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dizendo: Quando uma alma pecar, por ignorância, contra alguns dos mandamentos do SENHOR, acerca do que não se deve fazer, e proceder contra algum d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 a este novilho, como fez ao novilho da expiação; assim lhe fará, e o sacerdote por eles fará propiciação, e lhes será perdoado 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levará o novilho fora do arraial, e o queimará como queimou o primeiro novilho; é expiação do pecado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um príncipe pecar, e por ignorância proceder contra algum dos mandamentos do SENHOR seu Deus, naquilo que não se deve fazer, e assim for culp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se o pecado que cometeu lhe for notificado, então trará pela sua oferta um bode tirado das cabras, macho sem defe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 a sua mão sobre a cabeça do bode, e o degolará no lugar onde se degola o holocausto, perante a face do SENHOR; expiação do pecado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sacerdote com o seu dedo tomará do sangue da expiação, e o porá sobre as pontas do altar do holocausto; então o restante do seu sangue derramará à base do altar do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queimará sobre o altar toda a sua gordura como gordura do sacrifício pacífico; assim o sacerdote por ele fará expiação do seu pecado, e lhe será perdo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qualquer pessoa do povo da terra pecar por ignorância, fazendo contra algum dos mandamentos do SENHOR, aquilo que não se deve fazer, e assim for culp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se o pecado que cometeu lhe for notificado, então trará pela sua oferta uma cabra sem defeito, pelo seu pecado que comete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 a sua mão sobre a cabeça da oferta da expiação do pecado, e a degolará no lugar do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sacerdote ungido pecar para escândalo do povo, oferecerá ao SENHOR, pelo seu pecado, que cometeu, um novilho sem defeito, por expiação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sacerdote com o seu dedo tomará do seu sangue, e o porá sobre as pontas do altar do holocausto; e todo o restante do seu sangue derramará à base do al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ará toda a gordura, como se tira a gordura do sacrifício pacífico; e o sacerdote a queimará sobre o altar, por cheiro suave ao SENHOR; e o sacerdote fará expiação por ela, e ser-lhe-á perdoado 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pela sua oferta trouxer uma cordeira para expiação do pecado, sem defeito t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 a sua mão sobre a cabeça da oferta da expiação do pecado, e a degolará por oferta pelo pecado, no lugar onde se degola o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sacerdote com o seu dedo tomará do sangue da expiação do pecado, e o porá sobre as pontas do altar do holocausto; então todo o restante do seu sangue derramará na base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ará toda a sua gordura, como se tira a gordura do cordeiro do sacrifício pacífico; e o sacerdote a queimará sobre o altar, em cima das ofertas queimadas do SENHOR; assim o sacerdote por ele fará expiação dos seus pecados que cometeu, e ele será p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rá o novilho à porta da tenda da congregação, perante o SENHOR, e porá a sua mão sobre a cabeça do novilho, e degolará o novilho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ungido tomará do sangue do novilho, e o trará à tenda da congreg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molhará o seu dedo no sangue, e daquele sangue espargirá sete vezes perante o SENHOR diante do véu d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acerdote porá daquele sangue sobre as pontas do altar do incenso aromático, perante o SENHOR que está na tenda da congregação; e todo o restante do sangue do novilho derramará à base do altar do holocausto, que está à porta da tenda da congre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ará toda a gordura do novilho da expiação; a gordura que cobre a fressura, e toda a gordura que está sobre a fressu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ois rins, e a gordura que está sobre eles, que está junto aos lombos, e o redenho de sobre o fígado, com os rins, tirá-los-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12Z</dcterms:created>
  <dc:creator>Admin</dc:creator>
  <dc:description/>
  <dc:language>en-US</dc:language>
  <cp:lastModifiedBy>Admin</cp:lastModifiedBy>
  <dcterms:modified xsi:type="dcterms:W3CDTF">2008-07-31T00:08:12Z</dcterms:modified>
  <cp:revision>1</cp:revision>
  <dc:subject/>
  <dc:title>Slide 1</dc:title>
</cp:coreProperties>
</file>