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55F-E72B-437B-AD21-E291BBA8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D6B-7407-4E1A-8826-B2506D06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966-2A5E-4EC5-AD79-2DA00A76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720-06BC-4A71-87AE-7F9D4D17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7BF-1E4D-4D92-9B61-D1DC7AC0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F66-B003-4F08-AEC3-67DC7D8B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E1D-3BFE-432B-847A-C0759885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FDC-0282-4DDC-ADFA-BDF9A54B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680-925B-4A31-8FD2-62436EBC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04E-3222-41B3-A43C-F5307F6A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3D7-C020-4539-838D-F10E0137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BFF-FB18-453C-AC3B-0836D000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0741-F992-4CB3-B3D0-A06427D76BA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Davi a ajuntar todos os escolhidos de Israel, em número de trinta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quis Davi retirar para junto de si a arca do SENHOR, à cidade de Davi; mas Davi a fez levar à casa de Obede-Edom, o gi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cou a arca do SENHOR em casa de Obede-Edom, o giteu, três meses; e abençoou o SENHOR a Obede-Edom, e a toda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visaram a Davi, dizendo: Abençoou o SENHOR a casa de Obede-Edom, e tudo quanto tem, por causa da arca de Deus; foi pois Davi, e trouxe a arca de Deus para cima, da casa de Obede-Edom, à cidade de Davi, com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quando os que levavam a arca do SENHOR tinham dado seis passos, sacrificava bois e carneiros ce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saltava com todas as suas forças diante do SENHOR; e estava Davi cingido de um éfode de l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ubindo, levavam Davi e todo o Israel a arca do SENHOR, com júbilo, e ao som das tromb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ntrando a arca do SENHOR na cidade de Davi, Mical, a filha de Saul, estava olhando pela janela; e, vendo ao rei Davi, que ia bailando e saltando diante do SENHOR, o desprezou n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troduzindo a arca do SENHOR, a puseram no seu lugar, na tenda que Davi lhe armara; e ofereceu Davi holocaustos e ofertas pacíficas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bando Davi de oferecer os holocaustos e ofertas pacíficas, abençoou o povo em nome d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partiu a todo o povo, e a toda a multidão de Israel, desde os homens até às mulheres, a cada um, um bolo de pão, e um bom pedaço de carne, e um frasco de vinho; então retirou-se todo o povo, cada um para sua ca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Davi, e partiu, com todo o povo que tinha consigo, para Baalim de Judá, para levarem dali para cima a arca de Deus, sobre a qual se invoca o nome, o nome do SENHOR dos Exércitos, que se assenta entre os querub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oltando Davi para abençoar a sua casa, Mical, a filha de Saul, saiu a encontrar-se com Davi, e disse: Quão honrado foi o rei de Israel, descobrindo-se hoje aos olhos das servas de seus servos, como sem pejo se descobre qualquer dos vad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rém, Davi a Mical: Perante o SENHOR, que me escolheu preferindo-me a teu pai, e a toda a sua casa, mandando-me que fosse soberano sobre o povo do SENHOR, sobre Israel, perante o SENHOR tenho me aleg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mais do que isto me envilecerei, e me humilharei aos meus olhos; mas das servas, de quem falaste, delas serei hon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ical, a filha de Saul, não teve filhos, até o dia da su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 a arca de Deus em um carro novo, e a levaram da casa de Abinadabe, que está em Gibeá; e Uzá e Aiô, filhos de Abinadabe, guiavam o carro n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do-o da casa de Abinadabe, que está em Gibeá, com a arca de Deus, Aiô ia adiante d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, e toda a casa de Israel, festejavam perante o SENHOR, com toda a sorte de instrumentos de pau de faia, como também com harpas, e com saltérios, e com tamboris, e com pandeiros, e com címba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à eira de Nacom, estendeu Uzá a mão à arca de Deus, e pegou nela; porque os bois a deixavam pen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ira do SENHOR se acendeu contra Uzá, e Deus o feriu ali por esta imprudência; e morreu ali junto à arc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se contristou, porque o SENHOR abrira rotura em Uzá; e chamou àquele lugar Perez-Uzá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meu Davi ao SENHOR naquele dia; e disse: Como virá a mim a arca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54Z</dcterms:created>
  <dc:creator>Admin</dc:creator>
  <dc:description/>
  <dc:language>en-US</dc:language>
  <cp:lastModifiedBy>Admin</cp:lastModifiedBy>
  <dcterms:modified xsi:type="dcterms:W3CDTF">2008-07-30T23:52:54Z</dcterms:modified>
  <cp:revision>1</cp:revision>
  <dc:subject/>
  <dc:title>Slide 1</dc:title>
</cp:coreProperties>
</file>