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9FC2-C4C0-419A-BB5F-0BD57169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8A15-FCC3-454F-A7C0-CB921639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AAA4-F7F4-44B7-A0D6-7AD4FC6D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00FE-2D87-4229-B2A7-1A79E3A6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2DDF-598E-416C-BE9E-DAB2CB4A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6F3C-2EDC-45FA-B0B3-21F2A060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F255-A905-4CD6-B652-0098830E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8848-C546-45E8-80D5-407296E0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7327-0992-4A5C-9396-820B6ED1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BA79-7B4C-4C6C-BF74-ADA6040D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B536-D277-4711-BAB0-4127E4DD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0CE2-4DAD-48CA-9262-2961D525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8EA5-DDEE-427D-A603-A8700402557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estatutos que lhes propo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lhe tomar outra, não diminuirá o mantimento desta, nem o seu vestido, nem a sua obrigação marit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lhe não fizer estas três coisas, sairá de graça, sem dar dinh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ferir alguém, de modo que este morra, certamente será mo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e lhe não armou cilada, mas Deus lho entregou nas mãos, ordenar-te-ei um lugar para onde fug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 alguém agir premeditadamente contra o seu próximo, matando-o à traição, tirá-lo-ás do meu altar, para que mo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ferir a seu pai, ou a sua mãe, certamente será mo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m raptar um homem, e o vender, ou for achado na sua mão, certamente será mo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m amaldiçoar a seu pai ou a sua mãe, certamente será mo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dois homens pelejarem, ferindo-se um ao outro com pedra ou com o punho, e este não morrer, mas cair na cam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le tornar a levantar-se e andar fora, sobre o seu bordão, então aquele que o feriu será absolvido; somente lhe pagará o tempo que perdera e o fará curar total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comprares um servo hebreu, seis anos servirá; mas ao sétimo sairá livre, de gra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lguém ferir a seu servo, ou a sua serva, com pau, e morrer debaixo da sua mão, certamente será castig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e sobreviver por um ou dois dias, não será castigado, porque é dinheiro s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lguns homens pelejarem, e um ferir uma mulher grávida, e for causa de que aborte, porém não havendo outro dano, certamente será multado, conforme o que lhe impuser o marido da mulher, e julgarem os juíz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 houver morte, então darás vida por vid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o por olho, dente por dente, mão por mão, pé por pé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imadura por queimadura, ferida por ferida, golpe por golp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alguém ferir o olho do seu servo, ou o olho da sua serva, e o danificar, o deixará ir livre pelo seu o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tirar o dente do seu servo, ou o dente da sua serva, o deixará ir livre pelo seu d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algum boi escornear homem ou mulher, que morra, o boi será apedrejado certamente, e a sua carne não se comerá; mas o dono do boi será absolv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 o boi dantes era escorneador, e o seu dono foi conhecedor disso, e não o guardou, matando homem ou mulher, o boi será apedrejado, e também o seu dono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ntrou só com o seu corpo, só com o seu corpo sairá; se ele era homem casado, sua mulher sairá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lhe for imposto resgate, então dará por resgate da sua vida tudo quanto lhe for impos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r tenha escorneado um filho, quer tenha escorneado uma filha; conforme a este estatuto lhe será 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o boi escornear um servo, ou uma serva, dar-se-á trinta siclos de prata ao seu senhor, e o boi será apedrej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lguém abrir uma cova, ou se alguém cavar uma cova, e não a cobrir, e nela cair um boi ou um jumen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dono da cova o pagará; pagará em dinheiro ao seu dono, mas o animal morto será s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o boi de alguém ferir o boi do seu próximo, e morrer, então se venderá o boi vivo, e o dinheiro dele se repartirá igualmente, e também repartirão entre si o boi mo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 foi notório que aquele boi antes era escorneador, e seu dono não o guardou, certamente pagará boi por boi; porém o morto será s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seu senhor lhe houver dado uma mulher e ela lhe houver dado filhos ou filhas, a mulher e seus filhos serão de seu senhor, e ele sairá soz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 aquele servo expressamente disser: Eu amo a meu senhor, e a minha mulher, e a meus filhos; não quero sair livr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u SENHOR o levará aos juízes, e o fará chegar à porta, ou ao umbral da porta, e seu senhor lhe furará a orelha com uma sovela; e ele o servirá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um homem vender sua filha para ser serva, ela não sairá como saem os ser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la não agradar ao seu SENHOR, e ele não se desposar com ela, fará que se resgate; não poderá vendê-la a um povo estranho, agindo deslealmente com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 a desposar com seu filho, fará com ela conforme ao direito das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2:17Z</dcterms:created>
  <dc:creator>Admin</dc:creator>
  <dc:description/>
  <dc:language>en-US</dc:language>
  <cp:lastModifiedBy>Admin</cp:lastModifiedBy>
  <dcterms:modified xsi:type="dcterms:W3CDTF">2008-07-30T23:32:17Z</dcterms:modified>
  <cp:revision>1</cp:revision>
  <dc:subject/>
  <dc:title>Slide 1</dc:title>
</cp:coreProperties>
</file>