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857-CAAC-4603-8EB9-62C46567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A67-7252-4ADF-B686-A4CE7458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4E7-A201-4EAA-A988-E6B2F3BB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FC6-C894-4E94-9F6D-6EDCF24E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A5-3E6B-4DDA-9725-1B7E0F62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6CE-BC32-4BDC-8D89-46A1EB78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909-AA3A-491B-B99D-C8A698D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FC5-9FDE-49F6-A037-B13EC37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3D7-7408-4F71-96A3-AD791710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126-EAC2-4DB6-9429-4ED8626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BF7-9A99-4446-B255-F36F95D1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34B-E655-4250-88E4-DFF192F8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E4E-F54A-4185-B88C-368952A9B9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 nós, SENHOR, não a nós, mas ao teu nome dá glória, por amor da tua benignidade e da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a de Arão, confia no SENHOR; ele é o seu auxílio e o seu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os que temeis ao SENHOR, confiai no SENHOR; ele é o seu auxílio e o seu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lembrou de nós; ele nos abençoará; abençoará a casa de Israel; abençoará a casa d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ençoará os que temem ao SENHOR, tanto pequenos como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vos aumentará cada vez mais, a vós e a voss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is benditos do SENHOR, que fez os céus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éus são os céus do SENHOR; mas a terra a deu a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rtos não louvam ao SENHOR, nem os que descem ao silên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 bendiremos ao SENHOR, desde agora e para sempre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rão os gentios: Onde está o s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nosso Deus está nos céus; fez tudo o que lhe agra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dolos deles são prata e ouro, obra das mã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 boca, mas não falam; olhos têm, mas não vê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 ouvidos, mas não ouvem; narizes têm, mas não che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 mãos, mas não apalpam; pés têm, mas não andam; nem som algum sai da sua garg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les se tornem semelhantes os que os fazem, assim como todos os que neles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, confia no SENHOR; ele é o seu auxílio e o seu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9Z</dcterms:created>
  <dc:creator>Admin</dc:creator>
  <dc:description/>
  <dc:language>en-US</dc:language>
  <cp:lastModifiedBy>Admin</cp:lastModifiedBy>
  <dcterms:modified xsi:type="dcterms:W3CDTF">2008-07-31T00:27:49Z</dcterms:modified>
  <cp:revision>1</cp:revision>
  <dc:subject/>
  <dc:title>Slide 1</dc:title>
</cp:coreProperties>
</file>