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332-B753-4BDF-B3A2-933DB19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DCD-6383-4581-903D-AEBCDFDF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633-8E1C-4AE8-AB77-2489429F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A0C-5716-46B5-9F43-049C07FE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1FB-DA08-4B0A-8964-1DBE1C20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70C-4AF2-4A54-91ED-3FFC29E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806-D8C5-4A64-85F9-2921C1B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CD0-CDA0-4625-A677-44730CA5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FEA-E401-4056-8BA4-B84F71C4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A7A-FA98-4973-9284-69D8CE1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B0C-12C1-465F-A7EA-C1D56EC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741-C4FB-4B30-BC3A-F3A9037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5F6A-3E28-4981-A69A-4F4D51B6C5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o altar de madeira de acácia; cinco côvados será o comprimento, e cinco côvados a largura (será quadrado o altar), e três côvados a s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suas vinte colunas e as suas vinte bases serão de cobre; os colchetes das colunas e as suas faixas serão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para o lado norte as cortinas, no comprimento, serão de cem côvados; e as suas vinte colunas e as suas vinte bases serão de cobre; os colchetes das colunas e as suas faixas serão de pra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largura do pátio para o lado do ocidente haverá cortinas de cinqüenta côvados; as suas colunas dez, e as suas bases 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a largura do pátio do lado oriental para o levante será de cinqü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haja quinze côvados de cortinas de um lado; suas colunas três, e as suas base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inze côvados das cortinas do outro lado; as suas colunas três, e as suas base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porta do pátio haverá uma cortina de vinte côvados, de azul, e púrpura, e carmesim, e de linho fino torcido, de obra de bordador; as suas colunas quatro, e as suas bases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lunas do pátio ao redor serão cingidas de faixas de prata; os seus colchetes serão de prata, mas as suas base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o pátio será de cem côvados, e a largura de cada lado de cinqüenta, e a altura de cinco côvados, as cortinas serão de linho fino torcido; mas as suas bases serão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ocante a todos os vasos do tabernáculo em todo o seu serviço, até todos os seus pregos, e todos os pregos do pátio, serão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as suas pontas nos seus quatro cantos; as suas pontas serão do mesmo, e o cobrirá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pois ordenarás aos filhos de Israel que te tragam azeite puro de oliveiras, batido, para o candeeiro, para fazer arder as lâmpadas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enda da congregação, fora do véu que está diante do testemunho, Arão e seus filhos as porão em ordem, desde a tarde até a manhã, perante o SENHOR; isto será um estatuto perpétuo para os filhos de Israel, pel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-lhe-ás também os seus recipientes, para recolher a sua cinza, e as suas pás, e as suas bacias, e os seus garfos e os seus braseiros; todos os seus utensílios fará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-lhe-ás também um crivo de cobre em forma de rede, e farás a esta rede quatro argolas de metal nos seus quatro c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orás dentro da borda do altar para baixo, de maneira que a rede chegue até ao meio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varais para o altar, varais de madeira de acácia, e os cobrirá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arais serão postos nas argolas, de maneira que os varais estejam de ambos os lados do altar, quando for le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co e de tábuas o farás; como se te mostrou no monte, assim o f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o pátio do tabernáculo, ao lado meridional que dá para o sul; o pátio terá cortinas de linho fino torcido; o comprimento de cada lado será de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41Z</dcterms:created>
  <dc:creator>Admin</dc:creator>
  <dc:description/>
  <dc:language>en-US</dc:language>
  <cp:lastModifiedBy>Admin</cp:lastModifiedBy>
  <dcterms:modified xsi:type="dcterms:W3CDTF">2008-07-30T23:32:41Z</dcterms:modified>
  <cp:revision>1</cp:revision>
  <dc:subject/>
  <dc:title>Slide 1</dc:title>
</cp:coreProperties>
</file>