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2C94-BEA1-49B7-A5E6-2B6F3A29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6BE8-2359-4409-8799-EE9B5D56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ED76-346C-40FF-BCA6-F771A318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C674-2F03-4DBA-8120-D594D3D7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CAF8-DA1A-4F92-8DE8-41FAFACE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6F76-263C-41A6-85B3-21D689EB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46EA-1AA6-4363-B88A-59C87FC3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895B-F178-4508-B634-4F088C4A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16BB-EAB4-43F4-A2C6-788D3015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3CD0-E558-4F5E-A4AC-F62B1E05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4D46-15E8-423E-A526-C096321B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B354-D8CE-4B91-B756-E1BD6CB3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17AC-8E9D-4036-8953-FDF4DEAC69D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A mulher, das mulheres dos filhos dos profetas, clamou a Eliseu, dizendo: Meu marido, teu servo, morreu; e tu sabes que o teu servo temia ao SENHOR; e veio o credor, para levar os meus dois filhos para serem ser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çamos-lhe, pois, um pequeno quarto junto ao muro, e ali lhe ponhamos uma cama, uma mesa, uma cadeira e um candeeiro; e há de ser que, vindo ele a nós, para ali se recolh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 um dia ele chegou ali, e recolheu-se àquele quarto, e se dei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ao seu servo Geazi: Chama esta sunamita. E chamando-a ele, ela se pôs diante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le tinha falado a Geazi: Dize-lhe: Eis que tu nos tens tratado com todo o desvelo; que se há de fazer por ti? Haverá alguma coisa de que se fale por ti ao rei, ou ao capitão do exército? E disse ela: Eu habito no meio do m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le: Que se há de fazer por ela? E Geazi disse: Ora ela não tem filho, e seu marido é ve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disse ele: Chama-a. E, chamando-a ele, ela se pôs à p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A este tempo determinado, segundo o tempo da vida, abraçarás um filho. E disse ela: Não, meu SENHOR, homem de Deus, não mintas à tua ser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cebeu a mulher, e deu à luz um filho, no tempo determinado, no ano seguinte, segundo Eliseu lhe diss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rescendo o filho, sucedeu que um dia saiu para ter com seu pai, que estava com os segador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 seu pai: Ai, a minha cabeça! Ai, a minha cabeça! Então disse a um moço: Leva-o à su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iseu lhe disse: Que te hei de fazer? Dize-me que é o que tens em casa. E ela disse: Tua serva não tem nada em casa, senão uma botija de aze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o tomou, e o levou à sua mãe; e esteve sobre os seus joelhos até ao meio dia, e morr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biu ela, e o deitou sobre a cama do homem de Deus; e fechou a porta, e sa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ou a seu marido, e disse: Manda-me já um dos moços, e uma das jumentas, para que eu corra ao homem de Deus, e vol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le: Por que vais a ele hoje? Não é lua nova nem sábado. E ela disse: Tudo vai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lbardou a jumenta, e disse ao seu servo: Guia e anda, e não te detenhas no caminhar, senão quando eu to diss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tiu ela, pois, e foi ao homem de Deus, ao monte Carmelo; e sucedeu que, vendo-a o homem de Deus de longe, disse a Geazi, seu servo: Eis aí a sunam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corre-lhe ao encontro e dize-lhe: Vai bem contigo? Vai bem com teu marido? Vai bem com teu filho? E ela disse: Vai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ando ela, pois, ao homem de Deus, ao monte, pegou nos seus pés; mas chegou Geazi para retirá-la; disse porém o homem de Deus: Deixa-a, porque a sua alma está triste de amargura, e o SENHOR me encobriu, e não me manifes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la: Pedi eu a meu SENHOR algum filho? Não disse eu: Não me engan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 a Geazi: Cinge os teus lombos, toma o meu bordão na tua mão, e vai; se encontrares alguém não o saúdes, e se alguém te saudar, não lhe respondas; e põe o meu bordão sobre o rosto do men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le: Vai, pede emprestadas, de todos os teus vizinhos, vasilhas vazias, não pouc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disse a mãe do menino: Vive o SENHOR, e vive a tua alma, que não te hei de deixar. Então ele se levantou, e a segu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Geazi passou adiante deles, e pôs o bordão sobre o rosto do menino; porém não havia nele voz nem sentido; e voltou a encontrar-se com ele, e lhe trouxe aviso, dizendo: O menino não desper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Eliseu àquela casa, eis que o menino jazia morto sobre a sua ca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ntrou ele, e fechou a porta sobre eles ambos, e orou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biu à cama e deitou-se sobre o menino, e, pondo a sua boca sobre a boca dele, e os seus olhos sobre os olhos dele, e as suas mãos sobre as mãos dele, se estendeu sobre ele; e a carne do menino aquec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esceu, e andou naquela casa de uma parte para a outra, e tornou a subir, e se estendeu sobre ele, então o menino espirrou sete vezes, e abriu o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hamou a Geazi, e disse: Chama esta sunamita. E chamou-a, e veio a ele. E disse ele: Toma o t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ou ela, e se prostrou a seus pés, e se inclinou à terra; e tomou o seu filho e sa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oltando Eliseu a Gilgal, havia fome naquela terra, e os filhos dos profetas estavam assentados na sua presença; e disse ao seu servo: Põe a panela grande ao lume, e faze um caldo de ervas para os filhos dos profe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um deles saiu ao campo a apanhar ervas, e achou uma parra brava, e colheu dela enchendo a sua capa de colocíntidas; e veio, e as cortou na panela do caldo; porque não as conhec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ntra, e fecha a porta sobre ti, e sobre teus filhos, e deita o azeite em todas aquelas vasilhas, e põe à parte a que estiver che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eram de comer para os homens. E sucedeu que, comendo eles daquele caldo, clamaram e disseram: Homem de Deus, há morte na panela. Não puderam com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le disse: Trazei farinha. E deitou-a na panela, e disse: Dai de comer ao povo. E já não havia mal nenhum na pan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homem veio de Baal-Salisa, e trouxe ao homem de Deus pães das primícias, vinte pães de cevada, e espigas verdes na sua palha, e disse: Dá ao povo, para que co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eu servo disse: Como hei de pôr isto diante de cem homens? E disse ele: Dá ao povo, para que coma; porque assim diz o SENHOR: Comerão, e sobej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os pôs diante, e comeram e ainda sobrou, conforme a palavr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tiu, pois, dele, e fechou a porta sobre si e sobre seus filhos; e eles lhe traziam as vasilhas, e ela as ench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cheias que foram as vasilhas, disse a seu filho: Traze-me ainda uma vasilha. Porém ele lhe disse: Não há mais vasilha alguma. Então o azeite pa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ela, e o fez saber ao homem de Deus; e disse ele: Vai, vende o azeite, e paga a tua dívida; e tu e teus filhos vivei do re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 também um dia que, indo Eliseu a Suném, havia ali uma mulher importante, a qual o reteve para comer pão; e sucedeu que todas as vezes que passava por ali entrava para comer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a disse a seu marido: Eis que tenho observado que este que sempre passa por nós é um santo homem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1:13Z</dcterms:created>
  <dc:creator>Admin</dc:creator>
  <dc:description/>
  <dc:language>en-US</dc:language>
  <cp:lastModifiedBy>Admin</cp:lastModifiedBy>
  <dcterms:modified xsi:type="dcterms:W3CDTF">2008-07-30T23:51:13Z</dcterms:modified>
  <cp:revision>1</cp:revision>
  <dc:subject/>
  <dc:title>Slide 1</dc:title>
</cp:coreProperties>
</file>