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B2F-7C8E-4A58-A310-44685A8E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740E-1214-4F42-AC6E-36F15A05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3C74-115C-4AE0-BBE7-EA0EE0DA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E5C2-8947-454B-8056-18670979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A937-4951-4C1A-AD2E-5B853366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6080-2AED-4067-8EA9-F464505E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FF03-55B5-48E9-8F79-6A3DB962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B6DE-EA07-431C-B6C0-F6BF0BA6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E2EC-0C82-42DB-B61B-1F7278DC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E004-7F98-410C-AA83-93055E72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8B8A-7C8F-4A78-A6E4-0F1994FA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70E8-DC8A-4798-8A6F-74A68AE5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F205-2EE4-478D-89A5-4149D8453E8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INCÍPIO do Evangelho de Jesus Cristo, Filho de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ogo que saiu da água, viu os céus abertos, e o Espírito, que como pomba descia sobr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u-se uma voz dos céus, que dizia: Tu és o meu Filho amado em quem me compra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ogo o Espírito o impeliu para 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i esteve no deserto quarenta dias, tentado por Satanás. E vivia entre as feras, e os anjos o serv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pois que João foi entregue à prisão, veio Jesus para a Galiléia, pregando o evangelho do reino de D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endo: O tempo está cumprido, e o reino de Deus está próximo. Arrependei-vos, e crede no evange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ndando junto do mar da Galiléia, viu Simão, e André, seu irmão, que lançavam a rede ao mar, pois eram pesca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 lhes disse: Vinde após mim, e eu farei que sejais pescadores de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ixando logo as suas redes, o segu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assando dali um pouco mais adiante, viu Tiago, filho de Zebedeu, e João, seu irmão, que estavam no barco consertando as red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está escrito nos profetas: Eis que eu envio o meu anjo ante a tua face, o qual preparará o teu caminho diante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ogo os chamou. E eles, deixando o seu pai Zebedeu no barco com os jornaleiros, foram após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aram em Cafarnaum e, logo no sábado, indo ele à sinagoga, ali ensin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ravilharam-se da sua doutrina, porque os ensinava como tendo autoridade, e não como os escrib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va na sinagoga deles um homem com um espírito imundo, o qual exclamo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Ah! que temos contigo, Jesus Nazareno? Vieste destruir-nos? Bem sei quem és: o Sant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preendeu-o Jesus, dizendo: Cala-te, e sai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espírito imundo, convulsionando-o, e clamando com grande voz, saiu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se admiraram, a ponto de perguntarem entre si, dizendo: Que é isto? Que nova doutrina é esta? Pois com autoridade ordena aos espíritos imundos, e eles lhe obedecem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ogo correu a sua fama por toda a província da Galilé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ogo, saindo da sinagoga, foram à casa de Simão e de André com Tiago e Jo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z do que clama no deserto: Preparai o caminho do Senhor, Endireitai as suas vere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ogra de Simão estava deitada com febre; e logo lhe falaram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, chegando-se a ela, tomou-a pela mão, e levantou-a; e imediatamente a febre a deixou, e servia-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chegado a tarde, quando já se estava pondo o sol, trouxeram-lhe todos os que se achavam enfermos, e os endemoninh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 a cidade se ajuntou à po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urou muitos que se achavam enfermos de diversas enfermidades, e expulsou muitos demônios, porém não deixava falar os demônios, porque o conhec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tando-se de manhã, muito cedo, fazendo ainda escuro, saiu, e foi para um lugar deserto, e ali or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guiram-no Simão e os que com ele est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chando-o, lhe disseram: Todos te busc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disse: Vamos às aldeias vizinhas, para que eu ali também pregue; porque para isso v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regava nas sinagogas deles, por toda a Galiléia, e expulsava os demôn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areceu João batizando no deserto, e pregando o batismo de arrependimento, para remissão dos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proximou-se dele um leproso que, rogando-lhe, e pondo-se de joelhos diante dele, lhe dizia: Se queres, bem podes limpar-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movido de grande compaixão, estendeu a mão, e tocou-o, e disse-lhe: Quero, sê li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ele dito isto, logo a lepra desapareceu, e ficou li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dvertindo-o severamente, logo o desped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: Olha, não digas nada a ninguém; porém vai, mostra-te ao sacerdote, e oferece pela tua purificação o que Moisés determinou, para lhes servir de testemu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tendo ele saído, começou a apregoar muitas coisas, e a divulgar o que acontecera; de sorte que Jesus já não podia entrar publicamente na cidade, mas conservava-se fora em lugares desertos; e de todas as partes iam ter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 a província da Judéia e os de Jerusalém iam ter com ele; e todos eram batizados por ele no rio Jordão, confessando os seus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ão andava vestido de pêlos de camelo, e com um cinto de couro em redor de seus lombos, e comia gafanhotos e mel silvest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regava, dizendo: Após mim vem aquele que é mais forte do que eu, do qual não sou digno de, abaixando-me, desatar a correia das suas alparc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em verdade, tenho-vos batizado com água; ele, porém, vos batizará com o Espírito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rco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naqueles dias que Jesus, tendo ido de Nazaré da Galiléia, foi batizado por João, no Jo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2:41Z</dcterms:created>
  <dc:creator>Admin</dc:creator>
  <dc:description/>
  <dc:language>en-US</dc:language>
  <cp:lastModifiedBy>Admin</cp:lastModifiedBy>
  <dcterms:modified xsi:type="dcterms:W3CDTF">2008-07-31T00:12:41Z</dcterms:modified>
  <cp:revision>1</cp:revision>
  <dc:subject/>
  <dc:title>Slide 1</dc:title>
</cp:coreProperties>
</file>