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BABA-D2A2-41CC-8B42-01B757D88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F2ED-C09A-4330-8ED7-22F8BCAB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6118-D3F5-4C7C-A47D-29EF6956D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E76E-806C-4C74-8582-61AB5B4D5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0915-978B-48C8-AF20-D4FA5E3F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9F8B-0B46-4622-BD12-8ABCC46C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C792-416A-41E3-91B5-11F2728D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33CE-2303-4989-B461-FCB29988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2B26-ABDE-4EDC-ABE8-8F08B97C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3AE2-332D-4049-AC17-2B401AA9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798B-66B4-4BAA-9C7E-513B0AAC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E7F8-7A78-4C2E-AD7D-475D0AA1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57B2-9137-46FA-B85D-DCD25D6B0C4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o SENHOR a Arão: Tu, e teus filhos, e a casa de teu pai contigo, levareis sobre vós a iniqüidade do santuário; e tu e teus filhos contigo levareis sobre vós a iniqüidade do vosso sacerdóc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lugar santíssimo as comerás; todo o homem a comerá; santas serão para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isto será teu: a oferta alçada dos seus dons com todas as ofertas movidas dos filhos de Israel; a ti, a teus filhos, e a tuas filhas contigo, as tenho dado por estatuto perpétuo; todo o que estiver limpo na tua casa, delas com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 o melhor do azeite, e todo o melhor do mosto e do grão, as suas primícias que derem ao SENHOR, as tenho dado a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primeiros frutos de tudo que houver na terra, que trouxerem ao SENHOR, serão teus; todo o que estiver limpo na tua casa os com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 a coisa consagrada em Israel será t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do que abrir a madre, e toda a carne que trouxerem ao SENHOR, tanto de homens como de animais, será teu; porém os primogênitos dos homens resgatarás; também os primogênitos dos animais imundos resgat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e deles se houverem de resgatar resgatarás, da idade de um mês, segundo a tua avaliação, por cinco siclos de dinheiro, segundo o siclo do santuário, que é de vinte ge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primogênito de vaca, ou primogênito de ovelha, ou primogênito de cabra, não resgatarás, santos são; o seu sangue espargirás sobre o altar, e a sua gordura queimarás em oferta queimada de cheiro suave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carne deles será tua; assim como o peito da oferta de movimento, e o ombro direito, teus se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s as ofertas alçadas das coisas santas, que os filhos de Israel oferecerem ao SENHOR, tenho dado a ti, e a teus filhos e a tuas filhas contigo, por estatuto perpétuo; aliança perpétua de sal perante o SENHOR é, para ti e para a tua descendência con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mbém farás chegar contigo a teus irmãos, a tribo de Levi, a tribo de teu pai, para que se ajuntem a ti, e te sirvam; mas tu e teus filhos contigo estareis perante a tenda do testemu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também o SENHOR a Arão: Na sua terra herança nenhuma terás, e no meio deles, nenhuma parte terás; eu sou a tua parte e a tua herança no meio d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aos filhos de Levi tenho dado todos os dízimos em Israel por herança, pelo ministério que executam, o ministério da tenda da congreg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unca mais os filhos de Israel se chegarão à tenda da congregação, para que não levem sobre si o pecado e mor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s levitas executarão o ministério da tenda da congregação, e eles levarão sobre si a sua iniqüidade; pelas vossas gerações estatuto perpétuo será; e no meio dos filhos de Israel nenhuma herança ter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8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s dízimos dos filhos de Israel, que oferecerem ao SENHOR em oferta alçada, tenho dado por herança aos levitas; porquanto eu lhes disse: No meio dos filhos de Israel nenhuma herança te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8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8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falarás aos levitas, e dir-lhes-ás: Quando receberdes os dízimos dos filhos de Israel, que eu deles vos tenho dado por vossa herança, deles oferecereis uma oferta alçada ao SENHOR, os dízimos dos dízi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8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tar-se-vos-á a vossa oferta alçada, como grão da eira, e como plenitude do la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8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também oferecereis ao SENHOR uma oferta alçada de todos os vossos dízimos, que receberdes dos filhos de Israel, e deles dareis a oferta alçada do SENHOR a Arão, o sacerdo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8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todas as vossas dádivas oferecereis toda a oferta alçada do SENHOR; de tudo o melhor deles, a sua santa pa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cumprirão as tuas ordens e terão o encargo de toda a tenda; mas não se chegarão aos utensílios do santuário, nem ao altar, para que não morram, tanto eles como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8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r-lhes-ás pois: Quando oferecerdes o melhor deles, como novidade da eira, e como novidade do lagar, se contará aos lev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8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comereis em todo o lugar, vós e as vossas famílias, porque vosso galardão é pelo vosso ministério na tenda da congreg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8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, não levareis sobre vós o pecado, quando deles oferecerdes o melhor; e não profanareis as coisas santas dos filhos de Israel, para que não morr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se ajuntarão a ti, e farão o serviço da tenda da congregação em todo o ministério da tenda; e o estranho não se chegará a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, pois, fareis o serviço do santuário e o serviço do altar; para que não haja outra vez furor sobre 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, eis que tenho tomado vossos irmãos, os levitas, do meio dos filhos de Israel; são dados a vós em dádiva pelo SENHOR, para que sirvam ao ministério da tenda da congreg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tu e teus filhos contigo cumprireis o vosso sacerdócio no tocante a tudo o que é do altar, e a tudo o que está dentro do véu, nisso servireis; eu vos tenho dado o vosso sacerdócio em dádiva ministerial e o estranho que se chegar morr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 o SENHOR a Arão: Eis que eu te tenho dado a guarda das minhas ofertas alçadas, com todas as coisas santas dos filhos de Israel; por causa da unção as tenho dado a ti e a teus filhos por estatuto perpétu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sto terás das coisas santíssimas do fogo; todas as suas ofertas com todas as suas ofertas de alimentos, e com todas as suas expiações pelo pecado, e com todas as suas expiações pela culpa, que me apresentarão; serão coisas santíssimas para ti e para t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9:05Z</dcterms:created>
  <dc:creator>Admin</dc:creator>
  <dc:description/>
  <dc:language>en-US</dc:language>
  <cp:lastModifiedBy>Admin</cp:lastModifiedBy>
  <dcterms:modified xsi:type="dcterms:W3CDTF">2008-07-31T00:19:05Z</dcterms:modified>
  <cp:revision>1</cp:revision>
  <dc:subject/>
  <dc:title>Slide 1</dc:title>
</cp:coreProperties>
</file>