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03D-EF9D-4DE5-8929-DF67DB37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9C2-8BE0-4D58-9F3F-16FABDE9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60D-41AD-4E67-9269-8A6FC903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E64-F320-4B3C-9BF5-42F095D4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8B2-C579-4193-BDAB-9828B1A9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8E7-9359-48B5-B8AC-2A0FD12C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CD8-EBD0-44D9-A12F-A3EF21E1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025-5BC2-4F1F-8A1B-6714CA8F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A85-AEAB-4AF0-9352-1A370A88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30E-0878-4975-A6A8-135A59A6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033-3005-4E44-A173-2F0D7EB0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7C1-ACC1-4857-9E60-6D9F5FB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D834-CB06-49F2-8AC4-EDC4CA20119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isto, vós todos os povos; inclinai os ouvidos, todos os moradores do mun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vê que os sábios morrem; perecem igualmente tanto o louco como o brutal, e deixam a outros os seus b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pensamento interior é que as suas casas serão perpétuas e as suas habitações de geração em geração; dão às suas terras os seus próprios no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o homem que está em honra não permanece; antes é como os animais, que pere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caminho deles é a sua loucura; contudo a sua posteridade aprova as suas palavra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velhas são postos na sepultura; a morte se alimentará deles e os retos terão domínio sobre eles na manhã, e a sua formosura se consumirá na sepultura, a habitaçã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us remirá a minha alma do poder da sepultura, pois me receberá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mas, quando alguém se enriquece, quando a glória da sua casa se engrand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ndo morrer, nada levará consigo, nem a sua glória o acompanh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na sua vida ele bendisse a sua alma; e os homens te louvarão, quando fizeres bem a ti mesm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á para a geração de seus pais; eles nunca verão 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nto baixos como altos, tanto ricos como pob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que está em honra, e não tem entendimento, é semelhante aos animais, que pere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boca falará de sabedoria, e a meditação do meu coração será de entend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rei os meus ouvidos a uma parábola; declararei o meu enigma na har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temerei eu nos dias maus, quando me cercar a iniqüidade dos que me armam cilad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s que confiam na sua fazenda, e se gloriam na multidão das suas riquez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nhum deles de modo algum pode remir a seu irmão, ou dar a Deus o resgate de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is a redenção da sua alma é caríssima, e cessará para sempre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viva para sempre, e não veja corrup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30Z</dcterms:created>
  <dc:creator>Admin</dc:creator>
  <dc:description/>
  <dc:language>en-US</dc:language>
  <cp:lastModifiedBy>Admin</cp:lastModifiedBy>
  <dcterms:modified xsi:type="dcterms:W3CDTF">2008-07-31T00:25:30Z</dcterms:modified>
  <cp:revision>1</cp:revision>
  <dc:subject/>
  <dc:title>Slide 1</dc:title>
</cp:coreProperties>
</file>