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8A3-CC2C-4956-B531-657A84D9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E66-7B97-48DC-A68A-CED11BD9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67C-788D-4ADE-AF5B-0AA7874D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1F3-1757-43A5-B7EB-E419C604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69A-1D63-4664-9EF7-1A227AFC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E42-D84E-4E6C-9725-0B5E0077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CB3-5440-40A2-B56E-E61ED7D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0CA-719D-4EF0-8F6E-2DD4D13D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539-A109-41A2-A547-4AFDE91A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7FF-9646-4284-9AEA-15E1713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97A-EEEA-499A-A764-618D5BAF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BBF-5A8C-41FA-91D0-172E985E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6CA4-73DF-477F-AC9C-DCEF6705432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apóstolo de Jesus Cristo, pela vontade de Deus, segundo a promessa da vida que está em Cristo Jes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é manifesta agora pela aparição de nosso Salvador Jesus Cristo, o qual aboliu a morte, e trouxe à luz a vida e a incorrupção pelo evangelh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 que fui constituído pregador, e apóstolo, e doutor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uja causa padeço também isto, mas não me envergonho; porque eu sei em quem tenho crido, e estou certo de que é poderoso para guardar o meu depósito até àquele 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erva o modelo das sãs palavras que de mim tens ouvido, na fé e no amor que há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 o bom depósito pelo Espírito Santo que habita em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sabes isto, que os que estão na Ásia todos se apartaram de mim; entre os quais foram Figelo e Hermógen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conceda misericórdia à casa de Onesíforo, porque muitas vezes me recreou, e não se envergonhou das minhas cade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vindo ele a Roma, com muito cuidado me procurou e me ach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lhe conceda que naquele dia ache misericórdia diante do SENHOR. E, quanto me ajudou em Éfeso, melhor o sabes t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móteo, meu amado filho: Graça, misericórdia, e paz da parte de Deus Pai, e da de Cristo Jesus, Senhor no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u graças a Deus, a quem desde os meus antepassados sirvo com uma consciência pura, de que sem cessar faço memória de ti nas minhas orações noite e d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sejando muito ver-te, lembrando-me das tuas lágrimas, para me encher de goz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razendo à memória a fé não fingida que em ti há, a qual habitou primeiro em tua avó Lóide, e em tua mãe Eunice, e estou certo de que também habita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ujo motivo te lembro que despertes o dom de Deus que existe em ti pela imposição das minh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não nos deu o espírito de temor, mas de fortaleza, e de amor, e de moder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ão te envergonhes do testemunho de nosso SENHOR, nem de mim, que sou prisioneiro seu; antes participa das aflições do evangelho segundo o poder de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imóte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os salvou, e chamou com uma santa vocação; não segundo as nossas obras, mas segundo o seu próprio propósito e graça que nos foi dada em Cristo Jesus antes dos tempos dos sécul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12Z</dcterms:created>
  <dc:creator>Admin</dc:creator>
  <dc:description/>
  <dc:language>en-US</dc:language>
  <cp:lastModifiedBy>Admin</cp:lastModifiedBy>
  <dcterms:modified xsi:type="dcterms:W3CDTF">2008-07-30T23:54:12Z</dcterms:modified>
  <cp:revision>1</cp:revision>
  <dc:subject/>
  <dc:title>Slide 1</dc:title>
</cp:coreProperties>
</file>