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FEDD-7E8F-471E-AE43-D41F2F18D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1761-AFAA-496C-8A87-BBA2DDFD9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1893-96F6-4097-B900-DAEE7F9C2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6C1D-9E2D-4380-8FA8-AA9945149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7F09-CFF4-4AEA-AF66-B9595A00F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8006-FB2D-400C-8788-818DC9236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F23B-1018-48B2-93E1-59C85246A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394F-D294-4F5F-BFA8-AFA0A8990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4E2F-448D-434D-95BF-6070AB8A7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2305-24FB-4328-AEE5-883DB8E1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598F-5799-45AD-A9CC-7A3AA83A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B03E-F5D2-4D77-A32B-AFEA1DA0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A1C0B-4BE2-49B0-AEEB-744A3F812AC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, no ano undécimo, no terceiro mês, ao primeiro do mês, que veio a mim a palavra do SENHOR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assim diz o Senhor DEUS: Porquanto te elevaste na tua estatura, e se levantou a sua copa no meio dos espessos ramos, e o seu coração se exalçou na sua altur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o entregarei na mão do mais poderoso dos gentios, que lhe dará o tratamento merecido; pela sua impiedade o lançarei fo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rangeiros, das mais terríveis nações o cortarão, e deixá-lo-ão; cairão os seus ramos sobre os montes e por todos os vales, e os seus renovos serão quebrados por todos os rios da terra; e todos os povos da terra se retirarão da sua sombra, e o deix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s as aves do céu habitarão sobre a sua ruína, e todos os animais do campo se acolherão sob os seus renov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todas as árvores junto às águas não se exaltem na sua estatura, nem levantem a sua copa no meio dos ramos espessos, nem as que bebem as águas venham a confiar em si, por causa da sua altura; porque todos estão entregues à morte, até à terra ma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 DEUS: No dia em que ele desceu ao inferno, fiz eu que houvesse luto; fiz cobrir o abismo, por sua causa, e retive as suas correntes, e detiveram-se as muitas águas; e cobri o Líbano de preto por causa dele, e todas as árvores do camp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o som da sua queda fiz tremer as nações, quando o fiz descer ao inferno, com os que descem à cova; e todas as árvores do Éden, a flor e o melhor do Líbano, todas as árvores que bebem águas, se consolavam nas partes mais baixas d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estes com ele descerão ao inferno a juntar-se aos que foram traspassados à espada, sim, aos que foram seu braço, e que habitavam à sombra no meio dos gent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1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quem, pois, és semelhante em glória e em grandeza entre as árvores do Éden? Todavia serás precipitado com as árvores do Éden às partes mais baixas da terra; no meio dos incircuncisos jazerás com os que foram traspassados à espada; este é Faraó e toda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lho do homem, dize a Faraó, rei do Egito, e à sua multidão: A quem és semelhante na tua grandez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a Assíria era um cedro no Líbano, de ramos formosos, de sombrosa ramagem e de alta estatura, e a sua copa estava entre os ramos espess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águas o fizeram crescer, o abismo o exalçou; as suas correntes corriam em torno da sua plantação, e ele enviava os regatos a todas as árvores do camp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se elevou a sua estatura sobre todas as árvores do campo, e se multiplicaram os seus ramos, e se alongaram as suas varas, por causa das muitas águas quando brota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s as aves do céu se aninhavam nos seus ramos, e todos os animais do campo geravam debaixo dos seus ramos, e todas as grandes nações habitavam à sua somb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era ele formoso na sua grandeza, na extensão dos seus ramos, porque a sua raiz estava junto às muitas águ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cedros, no jardim de Deus, não o podiam obscurecer; as faias não igualavam os seus ramos, e os castanheiros não eram como os seus renovos; nenhuma árvore no jardim de Deus se assemelhou a ele na sua formosu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ormoso o fiz com a multidão dos seus ramos; e todas as árvores do Éden, que estavam no jardim de Deus, tiveram inveja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5:25Z</dcterms:created>
  <dc:creator>Admin</dc:creator>
  <dc:description/>
  <dc:language>en-US</dc:language>
  <cp:lastModifiedBy>Admin</cp:lastModifiedBy>
  <dcterms:modified xsi:type="dcterms:W3CDTF">2008-07-30T23:35:25Z</dcterms:modified>
  <cp:revision>1</cp:revision>
  <dc:subject/>
  <dc:title>Slide 1</dc:title>
</cp:coreProperties>
</file>