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69E-90A1-4D49-89BE-AEBF8E53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57E-29C4-4177-8A4A-A2A5A203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AC3-1933-45A0-8C57-6607C8F1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F22-64F8-4A88-9569-78FFE99F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87C-A5A4-4EED-B561-1D13830C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7C1-8D40-4B42-A08E-A549A79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3F3-A1AA-413E-8664-8BF23DB0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950-87D9-4687-84B7-79A6EA55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A2D-7D63-4C3B-B8FC-144BCD1A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977-10A0-4B6C-BDE0-6A3863A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9E7-2D39-4E84-8763-1A6EFF3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CA8-4619-41F1-A5B0-F1EBCFD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994-BF9C-4C73-8551-14F2BB3CC0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tu és o meu Deus; exaltar-te-ei, e louvarei o teu nome, porque fizeste maravilhas; os teus conselhos antigos são verdade e firm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ão do SENHOR descansará neste monte; mas Moabe será trilhado debaixo dele, como se trilha a palha no mont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rá as suas mãos por entre eles, como as estende o nadador para nadar; e abaterá a sua altivez com as ciladas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aixará as altas fortalezas dos teus muros, abatê-las-á e derrubá-las-á por terra até a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a cidade fizeste um montão de pedras, e da cidade forte uma ruína, e do paço dos estranhos, que não seja mais cidade, e jamais se torne a ed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e glorificará um povo poderoso, e a cidade das nações formidáveis te te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ste a fortaleza do pobre, e a fortaleza do necessitado, na sua angústia; refúgio contra a tempestade, e sombra contra o calor; porque o sopro dos opressores é como a tempestade contra 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calor em lugar seco, assim abaterás o ímpeto dos estranhos; como se abranda o calor pela sombra da espessa nuvem, assim o cântico dos tiranos será humi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os Exércitos dará neste monte a todos os povos uma festa com animais gordos, uma festa de vinhos velhos, com tutanos gordos, e com vinhos velhos, bem pur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irá neste monte a face da cobertura, com que todos os povos andam cobertos, e o véu com que todas as nações se cob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iquilará a morte para sempre, e assim enxugará o Senhor DEUS as lágrimas de todos os rostos, e tirará o opróbrio do seu povo de toda a terra; porque 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se dirá: Eis que este é o nosso Deus, a quem aguardávamos, e ele nos salvará; este é o SENHOR, a quem aguardávamos; na sua salvação gozaremos e nos alegr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24Z</dcterms:created>
  <dc:creator>Admin</dc:creator>
  <dc:description/>
  <dc:language>en-US</dc:language>
  <cp:lastModifiedBy>Admin</cp:lastModifiedBy>
  <dcterms:modified xsi:type="dcterms:W3CDTF">2008-07-30T23:55:24Z</dcterms:modified>
  <cp:revision>1</cp:revision>
  <dc:subject/>
  <dc:title>Slide 1</dc:title>
</cp:coreProperties>
</file>