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668-F265-4F0D-941F-37D8D463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FBF-330A-47C1-A3DE-DBC0986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4A3-6969-4F71-AE9A-2F809EA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8E7-C34D-42EB-85BE-C7C548B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398-F314-44DC-BF66-1DB6E23E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65B-0E10-468D-A7D5-013F271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04C-D285-4FDA-9579-AF43511C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D01-5065-4C12-AFF6-07953891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B92-EA1A-48D3-B14C-D84815A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60A-86A1-4ABE-A368-CAA0572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0F4-167F-44EE-91EC-761F285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6F9-3596-49C9-AAAA-E4DF34F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5A8-9159-4780-97C4-6A2367F62D5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Ezequias vinte e cinco anos de idade, quando começou a reinar, e reinou vinte e nove anos em Jerusalém; e era o nome de sua mãe Abia, filha de Zac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me tem vindo ao coração, que façamos uma aliança com o SENHOR Deus de Israel, para que se desvie de nós o ardor da s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filhos meus, não sejais negligentes; pois o SENHOR vos tem escolhido para estardes diante dele para o servirdes, e para serdes seus ministros e queimadores de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aram os levitas, Maate, filho de Amasai, e Joel, filho de Azarias, dos filhos dos coatitas; e dos filhos de Merari, Quis, filho de Abdi, e Azarias, filho de Jealelel; e dos gersonitas, Joá, filho de Zima, e Éden, filho de Jo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ntre os filhos de Elisafã, Sinri e Jeuel; dentre os filhos de Asafe, Zacarias e Matan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ntre os filhos de Hemam, Jeuel e Simei; e dentre os filhos de Jedutum, Semaías e Uz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 a seus irmãos, e santificaram-se e vieram conforme ao mandado do rei, pelas palavras do SENHOR, para purificarem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cerdotes entraram na casa do SENHOR, para a purificar, e tiraram para fora, ao pátio da casa do SENHOR, toda a imundícia que acharam no templo do SENHOR; e os levitas a tomaram, para a levarem para fora, ao ribeiro de Ced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çaram, pois, a santificar no primeiro dia, do primeiro mês; e ao oitavo dia do mês vieram ao alpendre do SENHOR, e santificaram a casa do SENHOR em oito dias; e no dia décimo sexto do primeiro mês acab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 ter com o rei Ezequias, e disseram: Já purificamos toda a casa do SENHOR, como também o altar do holocausto com todos os seus utensílios e a mesa da proposição com todos os seus utensíl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s os objetos que o rei Acaz no seu reinado lançou fora, na sua transgressão, já preparamos e santificamos; e eis que estão diante do alta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, conforme a tudo quanto fizera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Ezequias se levantou de madrugada, e reuniu os líderes da cidade, e subiu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 sete novilhos e sete carneiros, e sete cordeiros e sete bodes, para sacrifício pelo pecado, pelo reino, e pelo santuário, e por Judá, e disse aos filhos de Arão, os sacerdotes, que os oferecessem sobre o alta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mataram os bois, e os sacerdotes tomaram o sangue e o espargiram sobre o altar; também mataram os carneiros, e espargiram o sangue sobre o altar; semelhantemente mataram os cordeiros, e espargiram o sangue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ouxeram os bodes para sacrifício pelo pecado, perante o rei e a congregação, e lhes impuseram 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acerdotes os mataram, e com o seu sangue fizeram expiação do pecado sobre o altar, para reconciliar a todo o Israel; porque o rei tinha ordenado que se fizesse aquele holocausto e sacrifício pelo pecado, por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os levitas na casa do SENHOR com címbalos, com saltérios, e com harpas, conforme ao mandado de Davi e de Gade, o vidente do rei, e do profeta Natã; porque este mandado veio do SENHOR, por mão de seu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, pois, os levitas em pé com os instrumentos de Davi, e os sacerdotes com as tromb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 deu ordem que oferecessem o holocausto sobre o altar; e ao tempo em que começou o holocausto, começou também o canto do SENHOR, com as trombetas e com os instrumentos de Davi,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ongregação se prostrou, quando entoavam o canto, e as trombetas eram tocadas; tudo isto até o holocausto se aca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ando de o oferecer, o rei e todos quantos com ele se achavam se prostraram e ad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no primeiro ano do seu reinado, no primeiro mês, abriu as portas da casa do SENHOR, e as rep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Ezequias e os príncipes disseram aos levitas que louvassem ao SENHOR com as palavras de Davi, e de Asafe, o vidente. E o louvaram com alegria e se inclinaram e ad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Ezequias, dizendo: Agora vos consagrastes a vós mesmos ao SENHOR; chegai-vos e trazei sacrifícios e ofertas de louvor à casa do SENHOR. E a congregação trouxe sacrifícios e ofertas de louvor, e todos os dispostos de coração trouxeram holoc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úmero dos holocaustos, que a congregação trouxe, foi de setenta bois, cem carneiros, duzentos cordeiros; tudo isto em holocausto pa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uve, também, de coisas consagradas, seiscentos bois e três mil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m, porém, os sacerdotes mui poucos, e não podiam esfolar a todos os holocaustos; pelo que seus irmãos os levitas os ajudaram, até a obra se acabar, e até que os outros sacerdotes se santificaram; porque os levitas foram mais retos de coração, para 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também holocaustos em abundância, com a gordura das ofertas pacíficas, e com as ofertas de libação para os holocaustos. Assim se restabeleceu o ministéri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zequias, e todo o povo se alegraram, por causa daquilo que Deus tinha preparado para o povo; porque apressuradamente se fez est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 os sacerdotes, e os levitas, e ajuntou-os na praça orient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disse: Ouvi-me, ó levitas, santificai-vos agora, e santificai a casa do SENHOR Deus de vossos pais, e tirai do santuário a imund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ssos pais transgrediram, e fizeram o que era mau aos olhos do SENHOR nosso Deus, e o deixaram, e desviaram os seus rostos do tabernáculo do SENHOR, e lhe deram as co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charam as portas do alpendre, e apagaram as lâmpadas, e não queimaram incenso nem ofereceram holocaustos no santuário a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veio grande ira do SENHOR sobre Judá e Jerusalém, e os entregou à perturbação, à assolação, e ao escárnio, como vós o estais vendo com os v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nossos pais caíram à espada, e nossos filhos, e nossas filhas, e nossas mulheres; por isso estiveram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23Z</dcterms:created>
  <dc:creator>Admin</dc:creator>
  <dc:description/>
  <dc:language>en-US</dc:language>
  <cp:lastModifiedBy>Admin</cp:lastModifiedBy>
  <dcterms:modified xsi:type="dcterms:W3CDTF">2008-07-30T23:50:23Z</dcterms:modified>
  <cp:revision>1</cp:revision>
  <dc:subject/>
  <dc:title>Slide 1</dc:title>
</cp:coreProperties>
</file>