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223-57FD-424E-9005-3BE6F494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315-4BC9-44E7-AD16-59173A57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AD9-1350-4FB5-BACB-D0ADD3C9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165-CB54-418E-A6CB-D81C0AC6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AD0-9BD5-4B81-8F2E-676BF7F8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DD8-DDD9-442F-8A8F-B5C64A2C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588-3782-4B49-B315-D65C4FF1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F5B-28A4-4718-A6EA-F400F565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C68-8B27-451D-94C3-6C1BD931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64D-9B26-424C-B89D-F5C30ECB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70B-85D9-4128-9FB8-2CBBEF79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B19-61FA-46D2-82CB-8B26FC57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0C2E-273E-41BB-BEC2-FF816DAF2A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EI ao SENHOR em todo o tempo; o seu louvor estará continuamente n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os leões necessitam e sofrem fome, mas àqueles que buscam ao SENHOR bem nenhum fal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meninos, ouvi-me; eu vos ensinarei o temor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o homem que deseja a vida, que quer largos dias para ver o b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 a tua língua do mal, e os teus lábios de falarem o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ta-te do mal, e faze o bem; procura a paz, e segue-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do SENHOR estão sobre os justos, e os seus ouvidos atentos ao seu cl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ace do SENHOR está contra os que fazem o mal, para desarraigar da terra a memóri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justos clamam, e o SENHOR os ouve, e os livra de todas as suas angúst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to está o SENHOR dos que têm o coração quebrantado, e salva os contritos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as são as aflições do justo, mas o SENHOR o livra de to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se gloriará no SENHOR; os mansos o ouvirão e se aleg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lhe guarda todos os seus ossos; nem sequer um deles se que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alícia matará o ímpio, e os que odeiam o justo serão pun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resgata a alma dos seus servos, e nenhum dos que nele confiam será pun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grandecei ao SENHOR comigo; e juntos exaltemos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quei ao SENHOR, e ele me respondeu; livrou-me de todos os meus tem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ram para ele, e foram iluminados; e os seus rostos não ficaram confun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ou este pobre, e o SENHOR o ouviu, e o salvou de todas as suas angúst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njo do SENHOR acampa-se ao redor dos que o temem, e os li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vai, e vede que o SENHOR é bom; bem-aventurado o homem que nele conf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ei ao SENHOR, vós, os seus santos, pois nada falta aos que o te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59Z</dcterms:created>
  <dc:creator>Admin</dc:creator>
  <dc:description/>
  <dc:language>en-US</dc:language>
  <cp:lastModifiedBy>Admin</cp:lastModifiedBy>
  <dcterms:modified xsi:type="dcterms:W3CDTF">2008-07-31T00:24:59Z</dcterms:modified>
  <cp:revision>1</cp:revision>
  <dc:subject/>
  <dc:title>Slide 1</dc:title>
</cp:coreProperties>
</file>