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1D4-C9B1-4F71-8446-85D4AB76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3CA-D48D-4559-ACEE-7648CC26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578-1BF8-4BB4-82A4-583A1E07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9AB-ECA6-4475-8381-89361F40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44E-C25D-45EF-A28E-9B62C10C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B4C-7BF2-43E3-B24F-5B7DFF99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496-19E7-4305-8FC6-847D803E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747-7544-4325-8FAE-891C021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E63-9E3A-4592-9C0E-05C74ED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45F-9FF9-4A4C-AB04-7FFF347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359-1AE5-4A47-9201-B1934FF3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4A8-C7A5-4575-9B57-43787D4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3342-B1B4-417F-BF32-24161B4D30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homem são as preparações do coração, mas do SENHOR a resposta d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lábios do rei se acha a sentença divina; a sua boca não transgride quando jul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eso e a balança justos são do SENHOR; obra sua são os pesos da bol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ação é aos reis praticarem impiedade, porque com justiça é que se estabelece o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ábios de justiça são o contentamento dos reis; eles amarão o que fala coisas r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uror do rei é mensageiro da morte, mas o homem sábio o apazigu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mblante iluminado do rei está a vida, e a sua benevolência é como a nuvem da chuva serô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melhor é adquirir a sabedoria do que o ouro! e quão mais excelente é adquirir a prudência do que a prat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etos fazem o seu caminho desviar-se do mal; o que guarda o seu caminho preserva 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oberba precede a ruína, e a altivez do espírito precede a qu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ser humilde de espírito com os mansos, do que repartir o despojo com os sober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caminhos do homem são puros aos seus olhos, mas o SENHOR pesa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tenta prudentemente para o assunto achará o bem, e o que confia no SENHOR será bem-avent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ábio de coração será chamado prudente, e a doçura dos lábios aumentará o ens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ntendimento para aqueles que o possuem, é uma fonte de vida, mas a instrução dos tolos é a sua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 sábio instrui a sua boca, e aumenta o ensino dos s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suaves são favos de mel, doces para a alma, e saúde para o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 caminho que parece direito ao homem, mas o seu fim são os caminho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rabalhador trabalha para si mesmo, porque a sua boca o inc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ímpio cava o mal, e nos seus lábios há como que uma fog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perverso instiga a contenda, e o intrigante separa os maiores a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violento coage o seu próximo, e o faz deslizar por caminhos nada b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a ao SENHOR as tuas obras, e teus pensamentos serão estabel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cha os olhos para imaginar coisas ruins, ao cerrar os lábios pratica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oa de honra são as cãs, quando elas estão no caminho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que tarda em irar-se do que o poderoso, e o que controla o seu ânimo do que aquele que toma um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orte se lança no regaço, mas do SENHOR procede toda a deter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fez todas as coisas para atender aos seus próprios desígnios, até o ímpio para o dia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ação é ao SENHOR todo o altivo de coração; não ficará impune mesmo de mãos po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isericórdia e verdade a iniqüidade é perdoada, e pelo temor do SENHOR os homens se desviam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os caminhos do homem agradáveis ao SENHOR, até a seus inimigos faz que tenham paz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pouco com justiça, do que a abundância de bens com in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 homem planeja o seu caminho, mas o SENHOR lhe dirige o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59Z</dcterms:created>
  <dc:creator>Admin</dc:creator>
  <dc:description/>
  <dc:language>en-US</dc:language>
  <cp:lastModifiedBy>Admin</cp:lastModifiedBy>
  <dcterms:modified xsi:type="dcterms:W3CDTF">2008-07-31T00:21:59Z</dcterms:modified>
  <cp:revision>1</cp:revision>
  <dc:subject/>
  <dc:title>Slide 1</dc:title>
</cp:coreProperties>
</file>