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B746-8CB4-4661-87D6-480837A7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7A87-ADB3-4552-92D4-E033391C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220D-233C-48B4-940B-A60D7B89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1E6-B914-4FD7-B90C-C4722407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CE7-B07C-48A7-B63F-29C1FADE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A31-C12C-496B-BF7B-831DA5E3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2408-8889-460F-8D9A-6D46A3FD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71F0-9223-4BF2-BB4F-8732DF18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002E-5EAE-4C1D-8923-C71EB2CA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596-DA23-4994-A2F0-1DF07CF4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AF6-45FE-4810-8274-9514337F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AAD-A8E2-49CC-AC38-ECCF38E2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2DD8-CA34-4FE7-81A4-9F42B6E5745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LOMÃO, filho de Davi, fortaleceu-se no seu reino; e o SENHOR seu Deus era com ele, e o engrandeceu sobreman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á-me, pois, agora, sabedoria e conhecimento, para que possa sair e entrar perante este povo; pois quem poderia julgar a este tão grande pov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us disse a Salomão: Porquanto houve isto no teu coração, e não pediste riquezas, bens, ou honra, nem a morte dos que te odeiam, nem tampouco pediste muitos dias de vida, mas pediste para ti sabedoria e conhecimento, para poderes julgar a meu po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doria e conhecimento te são dados; e te darei riquezas, bens e honra, quais não teve nenhum rei antes de ti, e nem depois de ti hav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alomão veio a Jerusalém, do alto que estava em Gibeom, de diante da tenda da congregação; e reinou sobr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omão ajuntou carros e cavaleiros, e teve mil e quatrocentos carros, e doze mil cavaleiros; os quais pôs nas cidades dos carros, e junto ao rei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rei que houvesse ouro e prata em Jerusalém como pedras; e cedros em tanta abundância como sicômoros que há pelas campi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avalos, que tinha Salomão, eram trazidos do Egito; e os mercadores do rei os recebiam em tropas, cada uma pelo seu pre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ziam subir e sair do Egito cada carro por seiscentos siclos de prata, e cada cavalo por cento e cinqüenta; e assim, por meio deles eram para todos os reis dos heteus, e para os reis da Sí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Salomão a todo o Israel, aos capitães de mil e de cem, aos juízes e a todos os governadores em todo o Israel, chefes das famí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Salomão, e toda a congregação com ele, ao alto que estava em Gibeom, porque ali estava a tenda da congregação de Deus, que Moisés, servo do SENHOR, tinha feito n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avi tinha feito subir a arca de Deus de Quiriate-Jearim ao lugar que lhe preparara; porque lhe tinha armado uma tenda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altar de cobre que tinha feito Bezaleel, filho de Uri, filho de Hur, estava ali diante do tabernáculo do SENHOR; e Salomão e a congregação o busc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omão ofereceu ali sacrifícios perante o SENHOR, sobre o altar de cobre que estava na tenda da congregação; e ofereceu sobre ele mil holocau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a mesma noite Deus apareceu a Salomão, e disse-lhe: Pede o que queres que eu te dê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omão disse a Deus: Tu usaste de grande benignidade com meu pai Davi, e a mim me fizeste rei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ó SENHOR Deus, confirme-se a tua palavra, dada a meu pai Davi; porque tu me fizeste reinar sobre um povo numeroso como o pó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9:02Z</dcterms:created>
  <dc:creator>Admin</dc:creator>
  <dc:description/>
  <dc:language>en-US</dc:language>
  <cp:lastModifiedBy>Admin</cp:lastModifiedBy>
  <dcterms:modified xsi:type="dcterms:W3CDTF">2008-07-30T23:49:02Z</dcterms:modified>
  <cp:revision>1</cp:revision>
  <dc:subject/>
  <dc:title>Slide 1</dc:title>
</cp:coreProperties>
</file>