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512-DC9C-4D3C-8B38-9240707C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D32-A833-4DCF-906D-5F4EC251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0A9-BDC6-464A-B4F1-8D07C173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453-6A4E-447A-A33D-82CB093A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F2A-CF52-41E1-B665-8C002B2A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A1B-A88F-4928-A336-A59586B2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BBC-53FC-4AD2-ACC0-EE0D5D3C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92A-E18B-4ED0-9D85-C57F3A91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1F0-51A6-458E-B996-2843A0AB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342-E51A-45AA-95C9-42457D3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DF0-17AC-4F8C-89E5-984C410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CEA-4D40-4282-99C5-FFABF0F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368B-5773-454A-BB91-3454F9B55B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isto, casa de Jacó, que vos chamais do nome de Israel, e saístes das águas de Judá, que jurais pelo nome do SENHOR, e fazeis menção do Deus de Israel, mas não em verdade nem e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já te purifiquei, mas não como a prata; escolhi-te na fornalha da afl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amor de mim, por amor de mim o farei, porque, como seria profanado o meu nome? E a minha glória não a darei a out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me ouvidos, ó Jacó, e tu, ó Israel, a quem chamei; eu sou o mesmo, eu o primeiro, eu também o últ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minha mão fundou a terra, e a minha destra mediu os céus a palmos; eu os chamarei, e aparecerão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i-vos todos vós, e ouvi: Quem, dentre eles, tem anunciado estas coisas? O SENHOR o amou, e executará a sua vontade contra Babilônia, e o seu braço será contra 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eu o tenho falado; também já o chamei, e o trarei, e farei próspero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i-vos a mim, ouvi isto: Não falei em segredo desde o princípio; desde o tempo em que aquilo se fez eu estava ali, e agora o Senhor DEUS me enviou a mim, e o seu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o teu Redentor, o Santo de Israel: Eu sou o SENHOR teu Deus, que te ensina o que é útil, e te guia pelo caminho em que deves an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se tivesses dado ouvidos aos meus mandamentos, então seria a tua paz como o rio, e a tua justiça como as ondas do ma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tua descendência seria como a areia, e os que procedem das tuas entranhas como os seus grãos; o seu nome nunca seria cortado nem destruído de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da santa cidade tomam o nome e se firmam sobre o Deus de Israel; o SENHOR dos Exércitos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 de Babilônia, fugi de entre os caldeus. E anunciai com voz de júbilo, fazei ouvir isso, e levai-o até ao fim da terra; dizei: O SENHOR remiu a seu servo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inham sede, quando os levava pelos desertos; fez-lhes correr água da rocha; fendeu a rocha, e as águas cor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ímpios não têm paz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rimeiras coisas desde a antiguidade as anunciei; da minha boca saíram, e eu as fiz ouvir; apressuradamente as fiz, e acont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abia que eras duro, e a tua cerviz um nervo de ferro, e a tua testa de bron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e anunciei desde então, e te fiz ouvir antes que acontecesse, para que não dissesses: O meu ídolo fez estas coisas, e a minha imagem de escultura, e a minha imagem de fundição as man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o tens ouvido; olha bem para tudo isto; porventura não o anunciareis? Desde agora te faço ouvir coisas novas e ocultas, e que nunca conhec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são criadas, e não de há muito, e antes deste dia não as ouviste, para que porventura não digas: Eis que eu já as sab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u as ouviste, nem tu as conheceste, nem tampouco há muito foi aberto o teu ouvido, porque eu sabia que procederias muito perfidamente, e que eras chamado transgressor desde o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amor do meu nome retardarei a minha ira, e por amor do meu louvor me refrearei para contigo, para que te não venha a co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32Z</dcterms:created>
  <dc:creator>Admin</dc:creator>
  <dc:description/>
  <dc:language>en-US</dc:language>
  <cp:lastModifiedBy>Admin</cp:lastModifiedBy>
  <dcterms:modified xsi:type="dcterms:W3CDTF">2008-07-30T23:56:32Z</dcterms:modified>
  <cp:revision>1</cp:revision>
  <dc:subject/>
  <dc:title>Slide 1</dc:title>
</cp:coreProperties>
</file>