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5711-28BF-4609-A78E-0935D89E0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48E3-57E5-4228-8829-357353AD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3BF5-6D41-4EE6-81B3-0126FDD52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3C85-C3D3-48DD-B0E2-3D7027580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EF5E-268B-46D0-9F11-8ECD2236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FB27-CAB5-497E-B02F-A77036E4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834C-8077-4B52-9A0B-0794D676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1FA2-5458-4980-855F-43420C16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0DEA-99B2-4736-9D85-611E8C11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5FFD-F69F-4C19-9A20-57ED372A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5E17-9493-483E-BEE6-5BA29FEC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3891-32EF-40E2-8EFD-8FBAC222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BFE6-2204-4B78-BD76-E104FFE06F0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ROSSEGUINDO Jó em seu discurso, diss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leitar-se-á no Todo-Poderoso, ou invocará a Deus em todo o temp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sinar-vos-ei acerca da mão de Deus, e não vos encobrirei o que está com o Todo-Podero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todos vós já o vistes; por que, pois, vos desvaneceis na vossa vaidad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, pois, é a porção do homem ímpio da parte de Deus, e a herança, que os tiranos receberão do Todo-Podero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os seus filhos se multiplicarem, será para a espada, e a sua prole não se fartará de p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e ficarem dele na morte serão enterrados, e as suas viúvas não chor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amontoar prata como pó, e aparelhar roupas como lod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as aparelhará, porém o justo as vestirá, e o inocente repartirá a pra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dificará a sua casa como a traça, e como o guarda que faz a caba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ico se deita, e não será recolhido; abre os seus olhos, e nada t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ve Deus, que desviou a minha causa, e o Todo-Poderoso, que amargurou a minha al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vores se apoderam dele como águas; de noite o arrebata a tempest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vento oriental leva-o, e ele se vai, e varre-o com ímpeto do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s lançará isto sobre ele, e não lhe poupará; irá fugindo da su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da um baterá palmas contra ele e assobiará tirando-o do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, enquanto em mim houver alento, e o sopro de Deus nas minhas narin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falarão os meus lábios iniqüidade, nem a minha língua pronunciará enga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nge de mim que eu vos justifique; até que eu expire, nunca apartarei de mim a minha integr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À minha justiça me apegarei e não a largarei; não me reprovará o meu coração em toda a minh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ja como o ímpio o meu inimigo, e como o perverso o que se levantar contr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qual será a esperança do hipócrita, havendo sido avaro, quando Deus lhe arrancar a sua alm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Deus ouvirá o seu clamor, sobrevindo-lhe a tribulaç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1:39Z</dcterms:created>
  <dc:creator>Admin</dc:creator>
  <dc:description/>
  <dc:language>en-US</dc:language>
  <cp:lastModifiedBy>Admin</cp:lastModifiedBy>
  <dcterms:modified xsi:type="dcterms:W3CDTF">2008-07-31T00:01:39Z</dcterms:modified>
  <cp:revision>1</cp:revision>
  <dc:subject/>
  <dc:title>Slide 1</dc:title>
</cp:coreProperties>
</file>