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2DA-125A-4AB4-B3FD-D73AE409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C55-E307-4E7B-BAAA-83C9020B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D38-1BA3-4F0E-AA58-BF549D4D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0D8-70B2-422E-92AD-9807D959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80F-5D7E-46E2-BBB1-0106ACBD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4F5-F312-434F-8EDC-43924E19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4A9-C491-4F6F-A244-461F4A55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47F-54B9-40CF-92F2-253388FB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F0F-385C-46E7-9BD5-1E0FDDDE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988-B41F-42B2-AA9D-B746A377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007-3ACB-4B33-B534-085A10F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677-CBAA-47EA-B51E-074182D6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4C6-0A52-4E77-8071-D5245314607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Noemi, sua sogra: Minha filha, não hei de buscar descanso, para que fiques b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Bendita sejas tu do SENHOR, minha filha; melhor fizeste esta tua última benevolência do que a primeira, pois após nenhum dos jovens foste, quer pobre quer r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minha filha, não temas; tudo quanto disseste te farei, pois toda a cidade do meu povo sabe que és mulher virtu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gora é verdade que eu sou remidor, mas ainda outro remidor há mais chegado do que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a-te aqui esta noite, e será que, pela manhã, se ele te redimir, bem está, que te redima; porém, se não quiser te redimir, vive o SENHOR, que eu te redimirei. Deita-te aqui até a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ou-se, pois, deitada a seus pés até pela manhã, e levantou-se antes que pudesse um conhecer o outro, porquanto disse: Não se saiba que alguma mulher veio à 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Dá-me a capa que tens sobre ti, e segura-a. E ela a segurou; e ele mediu seis medidas de cevada, e lhas pôs em cima; então foi para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à sua sogra, que lhe disse: Como foi, minha filha? E ela lhe contou tudo quanto aquele homem lhe fiz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Estas seis medidas de cevada me deu, porque me disse: Não vás vazia à tua sog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a: Espera, minha filha, até que saibas como irá o caso, porque aquele homem não descansará até que conclua hoje este neg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não é Boaz, com cujas moças estiveste, de nossa parentela? Eis que esta noite padejará a cevada na 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va-te, pois, e unge-te, e veste os teus vestidos, e desce à eira; porém não te dês a conhecer ao homem, até que tenha acabado de comer e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quando ele se deitar, notarás o lugar em que se deitar; então entrarás, e descobrir-lhe-ás os pés, e te deitarás, e ele te fará saber o que deves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lhe disse: Tudo quanto me disseres, f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para a eira, e fez conforme a tudo quanto sua sogra lhe tinh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, pois, Boaz comido e bebido, e estando já o seu coração alegre, veio deitar-se ao pé de um monte de grãos; então veio ela de mansinho, e lhe descobriu os pés, e se de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ela meia noite, o homem estremeceu, e se voltou; e eis que uma mulher jazia a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Quem és tu? E ela disse: Sou Rute, tua serva; estende pois tua capa sobre a tua serva, porque tu és o rem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03Z</dcterms:created>
  <dc:creator>Admin</dc:creator>
  <dc:description/>
  <dc:language>en-US</dc:language>
  <cp:lastModifiedBy>Admin</cp:lastModifiedBy>
  <dcterms:modified xsi:type="dcterms:W3CDTF">2008-07-31T00:24:03Z</dcterms:modified>
  <cp:revision>1</cp:revision>
  <dc:subject/>
  <dc:title>Slide 1</dc:title>
</cp:coreProperties>
</file>