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DD3-C131-4169-B69A-684D7917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704-729E-4FA2-B55B-9316AD9D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1F6-481C-4A1C-9714-2F8FD722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B49-F069-4AB3-A44C-CD3575D3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1E4-E0C8-4CEB-8965-D772A72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AAE-C2F8-4CA9-B0D3-0CB27390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837-BDAB-4DC7-973D-151E679D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C84-AB30-4A9D-8883-7D529F56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06F-805E-4A2D-90B9-CA5B529E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CA9-3B50-440A-B6CD-A4B3C87B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460-F2FC-470F-AA9A-A16FF5D3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9EC-F9F6-4125-B7EC-15212C5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CB99-471B-4E61-AA74-1ED70539D70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ECE o justo, e não há quem considere isso em seu coração, e os homens compassivos são recolhidos, sem que alguém considere que o justo é levado antes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tua comprida viagem te cansaste; porém não disseste: Não há esperança; achaste novo vigor na tua mão; por isso não adoec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 quem tiveste receio, ou temor, para que mentisses, e não te lembrasses de mim, nem no teu coração me pusesses? Não é porventura porque eu me calei, e isso há muito tempo, e não me tem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publicarei a tua justiça, e as tuas obras, que não te aprovei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clamares, livrem-te os ídolos que ajuntaste; mas o vento a todos levará, e um sopro os arrebatará; mas o que confia em mim possuirá a terra, e herdará o meu sant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-se-á: Aplanai, aplanai a estrada, preparai o caminho; tirai os tropeços do caminho d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Alto e o Sublime, que habita na eternidade, e cujo nome é Santo: Num alto e santo lugar habito; como também com o contrito e abatido de espírito, para vivificar o espírito dos abatidos, e para vivificar o coração dos contr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contenderei para sempre, nem continuamente me indignarei; porque o espírito perante a minha face se desfaleceria, e as almas que eu f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iniqüidade da sua avareza me indignei, e o feri; escondi-me, e indignei-me; contudo, rebelde, seguiu o caminho d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ejo os seus caminhos, e o sararei, e o guiarei, e lhe tornarei a dar consolação, a saber, aos seus prante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crio os frutos dos lábios: paz, paz, para o que está longe; e para o que está perto, diz o SENHOR, e eu o sa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rá em paz; descansarão nas suas camas, os que houverem andado na sua re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ímpios são como o mar bravo, porque não se pode aquietar, e as suas águas lançam de si lama e l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paz para os ímpios, diz 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hegai-vos aqui, vós os filhos da agoureira, descendência adulterina, e de prostit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m fazeis o vosso passatempo? Contra quem escancarais a boca, e deitais para fora a língua? Porventura não sois filhos da transgressão, descendência da fals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vos inflamais com os deuses debaixo de toda a árvore verde, e sacrificais os filhos nos ribeiros, nas fendas dos penhasc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pedras lisas dos ribeiros está a tua parte; estas, estas são a tua sorte; sobre elas também derramaste a tua libação, e lhes ofereceste ofertas; contentar-me-ia eu com estas cois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o monte alto e levantado pões a tua cama; e lá subiste para oferecer sacri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trás das portas, e dos umbrais puseste o teu memorial; pois te descobriste a outros que não a mim, e subiste, alargaste a tua cama, e fizeste aliança com alguns deles; amaste a sua cama, onde quer que a v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ste ao rei com óleo, e multiplicaste os teus perfumes e enviaste os teus embaixadores para longe, e te abateste até a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51Z</dcterms:created>
  <dc:creator>Admin</dc:creator>
  <dc:description/>
  <dc:language>en-US</dc:language>
  <cp:lastModifiedBy>Admin</cp:lastModifiedBy>
  <dcterms:modified xsi:type="dcterms:W3CDTF">2008-07-30T23:56:51Z</dcterms:modified>
  <cp:revision>1</cp:revision>
  <dc:subject/>
  <dc:title>Slide 1</dc:title>
</cp:coreProperties>
</file>