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FF9-CB06-4EAD-9CFF-914297C4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E03-C142-46EE-83DB-5A5D08B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7F7-D5F4-4C05-A9AA-4B3741E9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8A1-2892-41CE-AE17-A612AEE4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6F2-5259-4D65-8075-64A52CF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C85-8D1C-4709-BFCE-0C4F11BD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7F1-6640-454E-99EB-2578D25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80B-663F-427A-B1C6-9B1F64C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B8B-2B5F-4F5C-ACBE-9949406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632-A13D-4F46-A240-E4407C2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DD4-D538-4BBE-AFDF-97BFA72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26-E804-4B67-8871-A3CE8A0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71A-BF6E-4BDB-B76B-D0007B9F0E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SBÍTERO à senhora eleita, e a seus filhos, aos quais amo na verdade, e não somente eu, mas também todos os que têm conhecido a ver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vem ter convosco, e não traz esta doutrina, não o recebais em casa, nem tampouco o saud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o saúda tem parte nas suas má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muito que escrever-vos, não quis fazê-lo com papel e tinta; mas espero ir ter convosco e falar face a face, para que o nosso gozo seja cump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m-te os filhos de tua irmã, a eleita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a verdade que está em nós, e para sempre estará conosc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, misericórdia e paz, da parte de Deus Pai e da do Senhor Jesus Cristo, o Filho do Pai, seja convosco na verdade e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 me alegro por achar que alguns de teus filhos andam na verdade, assim como temos recebido o mandamento d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senhora, rogo-te, não como se escrevesse um novo mandamento, mas aquele mesmo que desde o princípio tivemos: que nos amemo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mor é este: que andemos segundo os seus mandamentos. Este é o mandamento, como já desde o princípio ouvistes, que andei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muitos enganadores entraram no mundo, os quais não confessam que Jesus Cristo veio em carne. Este tal é o enganador e o anti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i por vós mesmos, para que não percamos o que temos ganho, antes recebamos o inteiro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Joã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prevarica, e não persevera na doutrina de Cristo, não tem a Deus. Quem persevera na doutrina de Cristo, esse tem tanto ao Pai como a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0:50Z</dcterms:created>
  <dc:creator>Admin</dc:creator>
  <dc:description/>
  <dc:language>en-US</dc:language>
  <cp:lastModifiedBy>Admin</cp:lastModifiedBy>
  <dcterms:modified xsi:type="dcterms:W3CDTF">2008-07-30T23:50:50Z</dcterms:modified>
  <cp:revision>1</cp:revision>
  <dc:subject/>
  <dc:title>Slide 1</dc:title>
</cp:coreProperties>
</file>