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14F-385B-4C23-8579-612B00FC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9CF-B705-4E90-8ECF-E0373CBF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CE6-814F-4449-BB41-3192417F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977-B36D-4387-A4B5-EB6AFC9F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BA6-874A-426B-8EDF-D503200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754-CB39-485E-893C-858EDC77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4EE-1074-4BED-BFC1-7228F479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29F-A4E6-4851-A2AC-1DA1366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E90-8961-458C-8E85-F1F5C575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991-E7FE-4113-8A12-AECF197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410-343A-4FF7-832F-085749D6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FE2-12EF-4530-B477-1089A18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5A8F-3EEC-4D01-9309-28EC75A77A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o cervo brama pelas correntes das águas, assim suspira a minha alma por ti, ó Deu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ferida mortal em meus ossos me afrontam os meus adversários, quando todo dia me dizem: Onde está o teu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estás abatida, ó minha alma, e por que te perturbas dentro de mim? Espera em Deus, pois ainda o louvarei, o qual é a salvação da minha face, e 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tem sede de Deus, do Deus vivo; quando entrarei e me apresentarei ante a face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nhas lágrimas servem-me de mantimento de dia e de noite, enquanto me dizem constantemente: Onde está o teu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me lembro disto, dentro de mim derramo a minha alma; pois eu havia ido com a multidão. Fui com eles à casa de Deus, com voz de alegria e louvor, com a multidão que festej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estás abatida, ó minha alma, e por que te perturbas em mim? Espera em Deus, pois ainda o louvarei pela salvação da s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meu Deus, dentro de mim a minha alma está abatida; por isso lembro-me de ti desde a terra do Jordão, e desde os hermonitas, desde o pequen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abismo chama outro abismo, ao ruído das tuas catadupas; todas as tuas ondas e as tuas vagas têm passado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o SENHOR mandará a sua misericórdia de dia, e de noite a sua canção estará comigo, uma oração ao Deus da minh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ei a Deus, minha rocha: Por que te esqueceste de mim? Por que ando lamentando por causa da opressão do inim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18Z</dcterms:created>
  <dc:creator>Admin</dc:creator>
  <dc:description/>
  <dc:language>en-US</dc:language>
  <cp:lastModifiedBy>Admin</cp:lastModifiedBy>
  <dcterms:modified xsi:type="dcterms:W3CDTF">2008-07-31T00:25:18Z</dcterms:modified>
  <cp:revision>1</cp:revision>
  <dc:subject/>
  <dc:title>Slide 1</dc:title>
</cp:coreProperties>
</file>