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FEA2-5D0B-46C8-A018-2812BBBF2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51C3-7D07-4FF1-8DE9-017F465C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270C-1A95-4911-95DA-9E83CE6D4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3060-A835-4B21-B59C-894C6F2BA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B0FE-30FF-4C9C-B330-15E5A4C6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FCB2-D680-47C0-A4D9-6407B122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4F37-7365-4A2C-B118-00E96E02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1A17-7D18-4BE9-A0EA-5B20EEE2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40A7-E78C-4E2A-92E3-BBAE5941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0A11-E228-41A6-B947-5BD20538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3834-7A56-4256-B050-44863652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73D3-0ECC-4E36-8678-A687FC99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5BD6-CF7B-40ED-AEBC-AFDBDC90CE5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ROSSEGUIU Jó no seu discurso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voz dos nobres se calava, e a sua língua apegava-se ao seu palad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ndo-me algum ouvido, me tinha por bem-aventurado; vendo-me algum olho, dava testemunho de mi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u livrava o miserável, que clamava, como também o órfão que não tinha quem o socorres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bênção do que ia perecendo vinha sobre mim, e eu fazia que rejubilasse o coração da viú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stia-me da justiça, e ela me servia de vestimenta; como manto e diadema era a minha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me fazia de olhos para o cego, e de pés para o cox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s necessitados era pai, e as causas de que eu não tinha conhecimento inquiria com diligê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brava os queixos do perverso, e dos seus dentes tirava a pre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ia: No meu ninho expirarei, e multiplicarei os meus dias como a are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inha raiz se estendia junto às águas, e o orvalho permanecia sobre os meus ram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h! quem me dera ser como eu fui nos meses passados, como nos dias em que Deus me guardava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inha honra se renovava em mim, e o meu arco se reforçava na minh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am-me e esperavam, e em silêncio atendiam ao meu conse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avendo eu falado, não replicavam, e minhas razões destilavam sobre el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me esperavam, como à chuva; e abriam a sua boca, como à chuva tar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eu ria para eles, não o criam, e a luz do meu rosto não faziam abate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9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escolhia o seu caminho, assentava-me como chefe, e habitava como rei entre as suas tropas; como aquele que consola os que prantei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fazia resplandecer a sua lâmpada sobre a minha cabeça e quando eu pela sua luz caminhava pelas trev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fui nos dias da minha mocidade, quando o segredo de Deus estava sobre a minha tend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o Todo-Poderoso ainda estava comigo, e os meus filhos em redor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lavava os meus passos na manteiga, e da rocha me corriam ribeiros de azei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eu saía para a porta da cidade, e na rua fazia preparar a minha cadei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moços me viam, e se escondiam, e até os idosos se levantavam e se punham em pé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príncipes continham as suas palavras, e punham a mão sobre a sua boc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1:45Z</dcterms:created>
  <dc:creator>Admin</dc:creator>
  <dc:description/>
  <dc:language>en-US</dc:language>
  <cp:lastModifiedBy>Admin</cp:lastModifiedBy>
  <dcterms:modified xsi:type="dcterms:W3CDTF">2008-07-31T00:01:45Z</dcterms:modified>
  <cp:revision>1</cp:revision>
  <dc:subject/>
  <dc:title>Slide 1</dc:title>
</cp:coreProperties>
</file>