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8CC-AA3C-4E35-ACEE-605BD79A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ECA-9A1C-4C8A-89F4-E9F3D1A2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896-A820-4C2C-9C3C-B0F7F27E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9F8-5D0F-44AD-8118-299A6777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177-2E97-4FD4-864C-084753C0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2FF-DF59-484C-B8EC-1A981C99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B31-B9D0-47A1-B66C-D1413678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B1A-6A06-48BA-B0E6-19562965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F4C-3246-46C8-A197-1E5C2799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438-ABE0-47DD-8BE2-8C098315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ECF-6D78-4E89-A4A0-04C97099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4D5-8313-4EA5-8E12-CE15BB67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4907-425E-4D50-A722-69AFA19CB91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chou ali por acaso um homem de Belial, cujo nome era Seba, filho de Bicri, homem de Benjamim, o qual tocou a buzina, e disse: Não temos parte em Davi, nem herança no filho de Jessé; cada um às suas tendas, ó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masa não se resguardou da espada que estava na mão de Joabe, de sorte que este o feriu com ela na quinta costela, e lhe derramou por terra as entranhas, e não o feriu segunda vez, e morreu; então Joabe e Abisai, seu irmão, foram atrás de Seba, filho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um dentre os homens de Joabe parou junto a ele, e disse: Quem há que queira bem a Joabe, e quem seja por Davi, siga Jo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masa estava envolto no seu sangue no meio do caminho; e, vendo aquele homem, que todo o povo parava, removeu a Amasa do caminho para o campo, e lançou sobre ele um manto; porque via que todo aquele que chegava a ele pa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estava removido do caminho, todos os homens seguiram a Joabe, para perseguirem a Seba, filho de Bic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passou por todas as tribos de Israel até Abel, e Bete-Maaca e a todos os beritas; e ajuntaram-se, e também o segu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, e o cercaram em Abel de Bete-Maaca, e levantaram uma barragem contra a cidade, e isto colocado na trincheira; e todo o povo que estava com Joabe batia no muro, para derrub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uma mulher sábia gritou de dentro da cidade: Ouvi, ouvi, peço-vos que digais a Joabe: Chega-te aqui, para que eu te fa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-se a ela, a mulher lhe disse: Tu és Joabe? E disse ele: Eu sou. E ela lhe disse: Ouve as palavras da tua serva. E disse ele: Ou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ela, dizendo: Antigamente costumava-se dizer: Certamente pediram conselho a Abel; e assim resolv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u eu uma das pacíficas e das fiéis em Israel; e tu procuras matar uma cidade que é mãe em Israel; por que, pois, devorarias a herança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homens de Israel se separaram de Davi, e seguiram Seba, filho de Bicri; porém os homens de Judá se uniram ao seu rei desde o Jordão até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Joabe, e disse: Longe, longe de mim que eu tal faça, que eu devore ou arruín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oisa não é assim; porém um só homem do monte de Efraim, cujo nome é Seba, filho de Bicri, levantou a mão contra o rei, contra Davi; entregai-me só este, e retirar-me-ei da cidade. Então disse a mulher a Joabe: Eis que te será lançada a sua cabeça pe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her, na sua sabedoria, foi a todo o povo, e cortaram a cabeça de Seba, filho de Bicri, e a lançaram a Joabe; então este tocou a buzina, e se retiraram da cidade, cada um para a sua tenda, e Joabe voltou a Jerusalém, a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abe estava sobre todo o exército de Israel; e Benaia, filho de Joiada, sobre os quereteus e sobre os pelet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dorão sobre os tributos; e Jeosafá, filho de Ailude, era o cronis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va, o escrivão; e Zadoque e Abiatar, os sacerdo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Ira, o jairita, era o oficial-mor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Davi para sua casa, em Jerusalém, tomou o rei as dez mulheres, suas concubinas, que deixara para guardarem a casa, e as pôs numa casa sob guarda, e as sustentava; porém não as possuiu; e estiveram encerradas até ao dia da sua morte, vive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rei a Amasa: Convoca-me os homens de Judá para o terceiro dia; e tu então apresenta-te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masa para convocar a Judá; porém demorou-se além do tempo que lhe tinha sido desig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 a Abisai: Mais mal agora nos fará Seba, o filho de Bicri, do que Absalão; por isso toma tu os servos de teu senhor, e persegue-o, para que não ache para si cidades fortes; e escape dos noss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íram atrás dele os homens de Joabe, e os quereteus, e os peleteus, e todos os valentes; estes saíram de Jerusalém para irem atrás de Seba, filho de Bic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 eles, pois, à pedra grande, que está junto a Gibeom, Amasa veio diante deles; e estava Joabe cingido da sua roupa que vestira, e sobre ela um cinto, ao qual estava presa a espada a seus lombos, na sua bainha; e, adiantando-se ele, lhe caiu a e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oabe a Amasa: Vai bem, meu irmão? E Joabe, com a mão direita, pegou da barba de Amasa, para o beij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47Z</dcterms:created>
  <dc:creator>Admin</dc:creator>
  <dc:description/>
  <dc:language>en-US</dc:language>
  <cp:lastModifiedBy>Admin</cp:lastModifiedBy>
  <dcterms:modified xsi:type="dcterms:W3CDTF">2008-07-30T23:53:47Z</dcterms:modified>
  <cp:revision>1</cp:revision>
  <dc:subject/>
  <dc:title>Slide 1</dc:title>
</cp:coreProperties>
</file>