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53B-4E9B-42EB-A7F7-ABE272E5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7BB-1B22-4F32-AD83-2141F55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C79-C24C-4A00-8057-0CA701B7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C4C-1FA7-492D-A4DC-A3AED77A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408-92B0-4724-960D-A7B392A0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E80-FE5D-46C8-965C-CF00EAFE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D40-FE7F-4C95-9D0F-9A1E4E4F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6A9-7E53-4E70-AA86-54C3C79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240-A91A-49C5-BC82-C4F29133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1EE-BF16-4053-A379-33FAFA6D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6FE-6095-4E98-8C52-CE182A5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424-73E3-49CA-A79D-59C54D25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1EFF-6A05-46DF-99B7-3177710D57E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tomou conselho com os capitães dos milhares, e das centenas, e com todos os líd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endeu a ira do SENHOR contra Uzá, e o feriu, por ter estendido a sua mão à arca; e morreu ali perant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se encheu de tristeza porque o SENHOR havia aberto brecha em Uzá; pelo que chamou aquele lugar Perez-Uzá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dia temeu Davi a Deus, dizendo: Como trarei a mim a arca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avi não trouxe a arca a si, à cidade de Davi; porém a fez levar à casa de Obede-Edom, o gi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cou a arca de Deus com a família de Obede-Edom, três meses em sua casa; e o SENHOR abençoou a casa de Obede-Edom, e tudo quanto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vi a toda a congregação de Israel: Se bem vos parece, e se isto vem do SENHOR nosso Deus, enviemos depressa mensageiros a todos os nossos outros irmãos em todas as terras de Israel, e aos sacerdotes, e aos levitas nas suas cidades e nos seus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emos a trazer para nós a arca do nosso Deus; porque não a buscamos nos dias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toda a congregação que se fizesse assim; porque este negócio pareceu reto aos olhos de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ocou, pois, Davi a todo o Israel desde Sior do Egito até chegar a Hamate; para trazer a arca de Deus de Quiriate-Jear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 Davi com todo o Israel subiu a Baalá de Quiriate-Jearim, que está em Judá, para fazer subir dali a arca de Deus, o SENHOR que habita entre os querubins, sobre a qual é invocado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am a arca de Deus, da casa de Abinadabe, sobre um carro novo; e Uzá e Aiô guiavam o c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e todo o Israel, alegraram-se perante Deus com todas as suas forças; com cânticos, e com harpas, e com saltérios, e com tamborins, e com címbalos, e com tromb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à eira de Quidom, estendeu Uzá a sua mão, para segurar a arca, porque os bois tropeç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08Z</dcterms:created>
  <dc:creator>Admin</dc:creator>
  <dc:description/>
  <dc:language>en-US</dc:language>
  <cp:lastModifiedBy>Admin</cp:lastModifiedBy>
  <dcterms:modified xsi:type="dcterms:W3CDTF">2008-07-30T23:43:08Z</dcterms:modified>
  <cp:revision>1</cp:revision>
  <dc:subject/>
  <dc:title>Slide 1</dc:title>
</cp:coreProperties>
</file>