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655E-1BAB-4D5D-A925-100AEB741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BCEA-D503-4280-8504-E870E57D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91B6-FDD1-452E-A61A-5255F7AE1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5260-9DB1-4348-81BF-19E0C4EAE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36DC-683A-426B-9988-0BB2AA0E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62EA-4304-4AE0-ADAB-BEF1D75E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D204-A24E-4F65-9BF5-6CDE688E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9A35-97F4-4503-A137-C872CF9B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2462-9E20-4FE6-BB32-3A1E0DF8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6B71-5299-402C-9136-DFDE1520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DD4A-AE8B-4A48-88AA-D8D9CAB8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0BFD-4E92-45F7-8791-AF981F75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A9DC-0F6F-4738-A3F7-0AF3A643DA9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DEUS do meu louvor, não te cal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jam vagabundos e pedintes os seus filhos, e busquem pão fora dos seus lugares desol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ance o credor mão de tudo quanto tenha, e despojem os estranhos o seu traba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haja ninguém que se compadeça dele, nem haja quem favoreça os seus órf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apareça a sua posteridade, o seu nome seja apagado na seguinte ge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ja na memória do SENHOR a iniqüidade de seus pais, e não se apague o pecado de sua mã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 estejam sempre perante o SENHOR, para que faça desaparecer a sua memória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não se lembrou de fazer misericórdia; antes perseguiu ao homem aflito e ao necessitado, para que pudesse até matar o quebrantado de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sto que amou a maldição, ela lhe sobrevenha, e assim como não desejou a bênção, ela se afaste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como se vestiu de maldição, como sua roupa, assim penetre ela nas suas entranhas, como água, e em seus ossos como aze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ja para ele como a roupa que o cobre, e como cinto que o cinj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a boca do ímpio e a boca do enganador estão abertas contra mim. Têm falado contra mim com uma língua mentiro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ja este o galardão dos meus contrários, da parte do SENHOR, e dos que falam mal contra a minha al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tu, ó DEUS o Senhor, trata comigo por amor do teu nome, porque a tua misericórdia é boa, livra-m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estou aflito e necessitado, e o meu coração está ferido dentro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ou-me como a sombra que declina; sou sacudido como o gafanho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jejuar estão enfraquecidos os meus joelhos, e a minha carne emagre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inda lhes sou opróbrio; quando me contemplam, movem as cabeç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9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juda-me, ó SENHOR meu Deus, salva-me segundo a tua misericór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9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saibam que esta é a tua mão, e que tu, SENHOR, o fize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9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maldiçoem eles, mas abençoa tu; quando se levantarem fiquem confundidos; e alegre-se o teu ser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9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stam-se os meus adversários de vergonha, e cubram-se com a sua própria confusão como com uma cap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s me cercaram com palavras odiosas, e pelejaram contra mim sem cau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9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arei grandemente ao SENHOR com a minha boca; louvá-lo-ei entre a multi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9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se porá à direita do pobre, para o livrar dos que condenam a sua al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recompensa do meu amor são meus adversários; mas eu faço 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e deram mal pelo bem, e ódio pelo meu am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õe sobre ele um ímpio, e Satanás esteja à sua direi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for julgado, saia condenado; e a sua oração se lhe torne em pe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jam poucos os seus dias, e outro tome o seu ofíc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jam órfãos os seus filhos, e viúva sua mul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7:42Z</dcterms:created>
  <dc:creator>Admin</dc:creator>
  <dc:description/>
  <dc:language>en-US</dc:language>
  <cp:lastModifiedBy>Admin</cp:lastModifiedBy>
  <dcterms:modified xsi:type="dcterms:W3CDTF">2008-07-31T00:27:42Z</dcterms:modified>
  <cp:revision>1</cp:revision>
  <dc:subject/>
  <dc:title>Slide 1</dc:title>
</cp:coreProperties>
</file>