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463-03A4-47A7-8A26-4C2DB8CC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4C5-D6DB-4A9B-BEE7-E7AA026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A49-6452-4E27-A21C-58A0D899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410-35DF-4363-B5C3-CF3E6BB0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F06-9F65-4A51-8C5A-D5F16DCB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654-2B75-4D75-92D4-A12369E4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44A-30A6-4531-ADC8-BF4B3A1B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5B3-D525-41D4-8D8B-EE583739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E56-C876-4AED-80E7-171176AE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415-3971-4EC7-B12D-4BC57DC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D3A-BCBF-4D14-BF0C-FA0A042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A31-38C5-421B-B2F0-823BFF0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9180-DCB8-4A69-A402-026DB88DB7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vós, mulheres, sede sujeitas aos vossos próprios maridos; para que também, se alguns não obedecem à palavra, pelo porte de suas mulheres sejam ganhos sem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quer amar a vida, E ver os dias bons, Refreie a sua língua do mal, E os seus lábios não falem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e-se do mal, e faça o bem; Busque a paz, e siga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olhos do Senhor estão sobre os justos, E os seus ouvidos atentos às suas orações; Mas o rosto do Senhor é contra os que fazem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é aquele que vos fará mal, se fordes zelosos do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, se padecerdes por amor da justiça, sois bem-aventurados. E não temais com medo deles, nem vos turb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santificai ao SENHOR Deus em vossos corações; e estai sempre preparados para responder com mansidão e temor a qualquer que vos pedir a razão da esperança que há em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uma boa consciência, para que, naquilo em que falam mal de vós, como de malfeitores, fiquem confundidos os que blasfemam do vosso bom porte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lhor é que padeçais fazendo bem (se a vontade de Deus assim o quer), do que fazen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Cristo padeceu uma vez pelos pecados, o justo pelos injustos, para levar-nos a Deus; mortificado, na verdade, na carne, mas vivificado pelo Espír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l também foi, e pregou aos espíritos em pri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ndo a vossa vida casta, em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noutro tempo foram rebeldes, quando a longanimidade de Deus esperava nos dias de Noé, enquanto se preparava a arca; na qual poucas (isto é, oito) almas se salvaram pela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ambém, como uma verdadeira figura, agora vos salva, o batismo, não do despojamento da imundícia da carne, mas da indagação de uma boa consciência para com Deus, pela ressurreição de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está à destra de Deus, tendo subido ao céu, havendo-se-lhe sujeitado os anjos, e as autoridades, e as potê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nfeite delas não seja o exterior, no frisado dos cabelos, no uso de jóias de ouro, na compostura dos vesti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homem encoberto no coração; no incorruptível traje de um espírito manso e quieto, que é precioso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se adornavam também antigamente as santas mulheres que esperavam em Deus, e estavam sujeitas aos seus próprios mari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ara obedecia a Abraão, chamando-lhe senhor; da qual vós sois filhas, fazendo o bem, e não temendo nenhum esp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gualmente vós, maridos, coabitai com elas com entendimento, dando honra à mulher, como vaso mais fraco; como sendo vós os seus co-herdeiros da graça da vida; para que não sejam impedidas as vossas 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inalmente, sede todos de um mesmo sentimento, compassivos, amando os irmãos, entranhavelmente misericordiosos e af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rnando mal por mal, ou injúria por injúria; antes, pelo contrário, bendizendo; sabendo que para isto fostes chamados, para que por herança alcanceis a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23Z</dcterms:created>
  <dc:creator>Admin</dc:creator>
  <dc:description/>
  <dc:language>en-US</dc:language>
  <cp:lastModifiedBy>Admin</cp:lastModifiedBy>
  <dcterms:modified xsi:type="dcterms:W3CDTF">2008-07-30T23:44:23Z</dcterms:modified>
  <cp:revision>1</cp:revision>
  <dc:subject/>
  <dc:title>Slide 1</dc:title>
</cp:coreProperties>
</file>