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06B-F9BB-4E66-98A1-7BE272EB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74B-B669-464A-B040-2A33C9B2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418-ECCF-427B-9E08-7EB5DCAE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01A-9179-41F8-BEB8-8B3C069E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FD1-06D2-43DA-B169-50F1286F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6D2E-AC75-4F55-AE17-E9E843F8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9A9-F6A7-43EA-99F9-525C08B5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C64-6849-4F4A-BF3D-D1B91DD0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9D5-F7C9-48A3-9A94-F3F1142C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6B2-CA67-462E-A949-01827822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AEC6-0E67-4D2E-8C0F-B74C091C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3B1-7B38-4C21-97DE-940B0857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9B3D-C640-4898-9E3A-156CCE5C158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OSAFÁ, seu filho, reinou em seu lugar; e fortificou-se contr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o temor do SENHOR sobre todos os reinos das terras, que estavam ao redor de Judá, e não guerrearam contra Jeosaf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entre os filisteus traziam presentes a Jeosafá, e prata como tributo; também os árabes lhe trouxeram gado miúdo; sete mil e setecentos carneiros, e sete mil e setecentos bo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resceu, pois, Jeosafá grandemente em extremo e edificou fortalezas e cidades de provisões em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ve muitas obras nas cidades de Judá, e homens de guerra e valentes,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é o número deles segundo as suas casas paternas; em Judá eram capitães dos milhares: o chefe Adna, e com ele trezentos mil homens valen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le o capitão Joanã, e com ele duzentos e oitenta mi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Amasias, filho de Zicri, que voluntariamente se entregou ao SENHOR, e com ele duzentos mil homens valen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Benjamim, Eliada, homem valente, e com ele duzentos mil, armados de arco e de escu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le Jozabade, e com ele cento e oitenta mil, armados para 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estavam no serviço do rei; afora os que o rei tinha posto nas cidades fortes por todo o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soldados em todas as cidades fortificadas de Judá, e estabeleceu guarnições na terra de Judá, como também nas cidades de Efraim, que Asa seu pai tinha to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era com Jeosafá; porque andou nos primeiros caminhos de Davi seu pai, e não buscou a Baal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buscou ao Deus de seu pai, andou nos seus mandamentos, e não segundo as obra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confirmou o reino na sua mão, e todo o Judá deu presentes a Jeosafá, o qual teve riquezas e glória em abundâ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altou-se o seu coração nos caminhos do SENHOR e, ainda mais, tirou os altos e os bosques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terceiro ano do seu reinado enviou ele os seus príncipes, a Bene-Hail, a Obadias, a Zacarias, a Natanael e a Micaías, para ensinarem nas cidades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eles os levitas, Semaías, Netanias, Zebadias, Asael, Semiramote, Jônatas, Adonias, Tobias e Tobe-Adonias e, com estes levitas, os sacerdotes, Elisama e Jeo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sinaram em Judá, levando consigo o livro da lei do SENHOR; e foram a todas as cidades de Judá, ensinando entr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45Z</dcterms:created>
  <dc:creator>Admin</dc:creator>
  <dc:description/>
  <dc:language>en-US</dc:language>
  <cp:lastModifiedBy>Admin</cp:lastModifiedBy>
  <dcterms:modified xsi:type="dcterms:W3CDTF">2008-07-30T23:49:45Z</dcterms:modified>
  <cp:revision>1</cp:revision>
  <dc:subject/>
  <dc:title>Slide 1</dc:title>
</cp:coreProperties>
</file>