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426-FAA4-4BB5-ABF6-382A02B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955-B6A4-4210-869C-F62E947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E7C-A484-4933-87FC-5FDEF9C1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602-9AB1-4047-BC9B-9C857CBA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6F0-CABD-4FFF-8B3B-49146849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7A9-4072-4267-9BB1-10212921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CF8-3A53-407D-B8F4-21845115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65B-221C-42BE-A985-B0FE72D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CE8-44A1-4A13-B7E8-68055E76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6BF-AE87-475C-A454-880DDAE5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1DE-8636-468C-8CC6-44B6AC9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017-3729-4C8E-8E01-3ABCD6D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220-411D-440B-8BD5-4D21B391089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primeiro de Dario, filho de Assuero, da linhagem dos medos, o qual foi constituído rei sobre o reino dos cal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bedecemos à voz do SENHOR, nosso Deus, para andarmos nas suas leis, que nos deu por intermédio de seus servos, 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todo o Israel transgrediu a tua lei, desviando-se para não obedecer à tua voz; por isso a maldição e o juramento, que estão escritos na lei de Moisés, servo de Deus, se derramaram sobre nós; porque pecamos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nfirmou a sua palavra, que falou contra nós, e contra os nossos juízes que nos julgavam, trazendo sobre nós um grande mal; porquanto debaixo de todo o céu nunca se fez como se tem feit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stá escrito na lei de Moisés, todo este mal nos sobreveio; apesar disso, não suplicamos à face do SENHOR nosso Deus, para nos convertermos das nossas iniqüidades, e para nos aplicarmos à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 vigiou sobre o mal, e o trouxe sobre nós; porque justo é o SENHOR, nosso Deus, em todas as suas obras, que fez, pois não obedecemos à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Senhor, nosso Deus, que tiraste o teu povo da terra do Egito com mão poderosa, e ganhaste para ti nome, como hoje se vê; temos pecado, temos procedido impi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segundo todas as tuas justiças, aparte-se a tua ira e o teu furor da tua cidade de Jerusalém, do teu santo monte; porque por causa dos nossos pecados, e por causa das iniqüidades de nossos pais, tornou-se Jerusalém e o teu povo um opróbrio p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Deus nosso, ouve a oração do teu servo, e as suas súplicas, e sobre o teu santuário assolado faze resplandecer o teu rosto, por amo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, ó Deus meu, os teus ouvidos, e ouve; abre os teus olhos, e olha para a nossa desolação, e para a cidade que é chamada pelo teu nome, porque não lançamos as nossas súplicas perante a tua face fiados em nossas justiças, mas em tuas muitas miseric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ouve; ó Senhor, perdoa; ó Senhor, atende-nos e age sem tardar; por amor de ti mesmo, ó Deus meu; porque a tua cidade e o teu povo são chamados pel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ano do seu reinado, eu, Daniel, entendi pelos livros que o número dos anos, de que falara o SENHOR ao profeta Jeremias, em que haviam de cumprir-se as desolações de Jerusalém, era de set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u ainda falando e orando, e confessando o meu pecado, e o pecado do meu povo Israel, e lançando a minha súplica perante a face do SENHOR, meu Deus, pelo monte santo do meu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u, digo, ainda falando na oração, o homem Gabriel, que eu tinha visto na minha visão ao princípio, veio, voando rapidamente, e tocou-me, à hora do sacrifício d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 instruiu, e falou comigo, dizendo: Daniel, agora saí para fazer-te entender o sen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ncípio das tuas súplicas, saiu a ordem, e eu vim, para to declarar, porque és mui amado; considera, pois, a palavra, e entende a v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tenta semanas estão determinadas sobre o teu povo, e sobre a tua santa cidade, para cessar a transgressão, e para dar fim aos pecados, e para expiar a iniqüidade, e trazer a justiça eterna, e selar a visão e a profecia, e para ungir o San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 e entende: desde a saída da ordem para restaurar, e para edificar a Jerusalém, até ao Messias, o Príncipe, haverá sete semanas, e sessenta e duas semanas; as ruas e o muro se reedificarão, mas em tempos angusti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as sessenta e duas semanas será cortado o Messias, mas não para si mesmo; e o povo do príncipe, que há de vir, destruirá a cidade e o santuário, e o seu fim será com uma inundação; e até ao fim haverá guerra; estão determinadas as assol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firmará aliança com muitos por uma semana; e na metade da semana fará cessar o sacrifício e a oblação; e sobre a asa das abominações virá o assolador, e isso até à consumação; e o que está determinado será derramado sobre o assol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rigi o meu rosto ao Senhor Deus, para o buscar com oração e súplicas, com jejum, e saco e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ei ao SENHOR meu Deus, e confessei, e disse: Ah! Senhor! Deus grande e tremendo, que guardas a aliança e a misericórdia para com os que te amam e guardam os teus manda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camos, e cometemos iniqüidades, e procedemos impiamente, e fomos rebeldes, apartando-nos dos teus mandamentos e dos teus juíz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demos ouvidos aos teus servos, os profetas, que em teu nome falaram aos nossos reis, aos nossos príncipes, e a nossos pais, como também a todo o pov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Senhor, pertence a justiça, mas a nós a confusão de rosto, como hoje se vê; aos homens de Judá, e aos moradores de Jerusalém, e a todo o Israel, aos de perto e aos de longe, em todas as terras por onde os tens lançado, por causa das suas rebeliõ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a nós pertence a confusão de rosto, aos nossos reis, aos nossos príncipes, e a nossos pais, porque pecamo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nhor, nosso Deus, pertencem a misericórdia, e o perdão; pois nos rebelamos contra 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47Z</dcterms:created>
  <dc:creator>Admin</dc:creator>
  <dc:description/>
  <dc:language>en-US</dc:language>
  <cp:lastModifiedBy>Admin</cp:lastModifiedBy>
  <dcterms:modified xsi:type="dcterms:W3CDTF">2008-07-30T23:26:47Z</dcterms:modified>
  <cp:revision>1</cp:revision>
  <dc:subject/>
  <dc:title>Slide 1</dc:title>
</cp:coreProperties>
</file>