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8E0-5EC9-4608-B7BA-8AA694A6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F3E-D8EE-4A50-97D5-3175EDC2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AA1-3649-4804-A054-EE37D13F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BCE-73B1-44D6-88BB-A514562A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12B-0954-40A3-9047-342302A9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031-510C-4C5B-A9EE-5F39BF95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542-EAEE-4F44-8E45-A2609832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EC3-5AE1-46D5-96CE-306C4C60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04D-6B27-491F-9533-8446BEC5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1DA-EA51-413C-83BB-05791A2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5DD-C038-4E36-A68B-D477554E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5F0-5839-43EA-95FC-621F600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B0E4-636C-4DC9-900C-E0A8974BCD2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 levantei os meus olhos, e vi, e eis que quatro carros saiam dentre dois montes, e estes montes eram montes de bron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 dos que foram levados cativos, a saber, de Heldai, de Tobias e de Jedaías, os quais vieram de Babilônia, e vem tu no mesmo dia, e entra na casa de Josias, filho de Sofon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ma, digo, prata e ouro, e faze coroas, e põe-nas na cabeça do sumo sacerdote Josué, filho de Jozad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la-lhe, dizendo: Assim diz o SENHOR dos Exércitos: Eis aqui o homem cujo nome é RENOVO; ele brotará do seu lugar, e edificará o templ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mesmo edificará o templo do SENHOR, e ele levará a glória; assentar-se-á no seu trono e dominará, e será sacerdote no seu trono, e conselho de paz haverá entre ambos os ofí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tas coroas serão para Helém, e para Tobias, e para Jedaías, e para Hem, filho de Sofonias, como um memorial no templo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queles que estão longe virão, e edificarão no templo do SENHOR, e vós sabereis que o SENHOR dos Exércitos me tem enviado a vós; e isto sucederá assim, se diligentemente ouvirdes a voz do SENHOR vosso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primeiro carro eram cavalos vermelhos, e no segundo carro, cavalos pre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terceiro carro, cavalos brancos, e no quarto carro, cavalos malhados, todos eram for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i, dizendo ao anjo que falava comigo: Que é isto, senhor me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respondeu, dizendo-me: Estes são os quatro espíritos do céu, saindo donde estavam perante o Senhor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carro em que estão os cavalos pretos, sai para a terra do norte, e os brancos saem atrás deles, e os malhados saem para a terra do su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cavalos fortes saíam, e procuravam ir por diante, para percorrerem a terra. E ele disse: Ide, percorrei a terra. E percorreram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hamou-me, e falou-me, dizendo: Eis que aqueles que saíram para a terra do norte fizeram repousar o meu Espírito na terra do n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lavra do SENHOR veio a mi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28Z</dcterms:created>
  <dc:creator>Admin</dc:creator>
  <dc:description/>
  <dc:language>en-US</dc:language>
  <cp:lastModifiedBy>Admin</cp:lastModifiedBy>
  <dcterms:modified xsi:type="dcterms:W3CDTF">2008-07-31T00:29:28Z</dcterms:modified>
  <cp:revision>1</cp:revision>
  <dc:subject/>
  <dc:title>Slide 1</dc:title>
</cp:coreProperties>
</file>