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DD7E-793A-4E72-8F91-709135381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5055-584A-413A-8881-2A103D4F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FE22-885E-4AEF-B233-2EB8E4584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6AF8-D113-4E03-A177-D2C677D32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54F2-80C6-4597-9194-F874DB32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4071-4A7C-43D7-B3A8-F3CF6882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8D24-34DC-4486-B212-1754B8B2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BEC7-517A-4704-8057-753BE222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ED3B-3AC4-478F-9848-28122551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C107-62EE-4C7E-BC5C-4F3BD25E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CCB0-896A-4B6F-9A31-D8603E98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0745-7969-49EA-898F-CDCC912E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CB67-AC2B-42FE-9000-13C83DBB8DA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respondeu Moisés, e disse: Mas eis que não me crerão, nem ouvirão a minha voz, porque dirão: O SENHOR não te aparec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Moisés ao SENHOR: Ah, meu Senhor! eu não sou homem eloqüente, nem de ontem nem de anteontem, nem ainda desde que tens falado ao teu servo; porque sou pesado de boca e pesado de líng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 o SENHOR: Quem fez a boca do homem? ou quem fez o mudo, ou o surdo, ou o que vê, ou o cego? Não sou eu, o SENH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ai, pois, agora, e eu serei com a tua boca e te ensinarei o que hás de fal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, porém, disse: Ah, meu Senhor! Envia pela mão daquele a quem tu hás de envi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 acendeu a ira do SENHOR contra Moisés, e disse: Não é Arão, o levita, teu irmão? Eu sei que ele falará muito bem; e eis que ele também sai ao teu encontro; e, vendo-te, se alegrará em seu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u lhe falarás, e porás as palavras na sua boca; e eu serei com a tua boca, e com a dele, ensinando-vos o que haveis de faz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falará por ti ao povo; e acontecerá que ele te será por boca, e tu lhe serás p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a, pois, esta vara na tua mão, com que farás os sin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oi Moisés, e voltou para Jetro, seu sogro, e disse-lhe: Eu irei agora, e tornarei a meus irmãos, que estão no Egito, para ver se ainda vivem. Disse, pois, Jetro a Moisés: Vai em p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também o SENHOR a Moisés em Midiã: Vai, volta para o Egito; porque todos os que buscavam a tua alma morr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disse-lhe: Que é isso na tua mão? E ele disse: Uma va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ou, pois, Moisés sua mulher e seus filhos, e os levou sobre um jumento, e tornou à terra do Egito; e Moisés tomou a vara de Deus na su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SENHOR a Moisés: Quando voltares ao Egito, atenta que faças diante de Faraó todas as maravilhas que tenho posto na tua mão; mas eu lhe endurecerei o coração, para que não deixe ir 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rás a Faraó: Assim diz o SENHOR: Israel é meu filho, meu primogên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te tenho dito: Deixa ir o meu filho, para que me sirva; mas tu recusaste deixá-lo ir; eis que eu matarei a teu filho, o teu primogên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no caminho, numa estalagem, que o SENHOR o encontrou, e o quis ma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Zípora tomou uma pedra aguda, e circuncidou o prepúcio de seu filho, e lançou-o a seus pés, e disse: Certamente me és um esposo sanguiná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sviou-se dele. Então ela disse: Esposo sanguinário, por causa da circunci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o SENHOR a Arão: Vai ao deserto, ao encontro de Moisés. E ele foi, e encontrou-o no monte de Deus, e beijou-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latou Moisés a Arão todas as palavras do SENHOR, com que o enviara, e todos os sinais que lhe manda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oram Moisés e Arão, e ajuntaram todos os anciãos d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disse: Lança-a na terra. Ele a lançou na terra, e tornou-se em cobra; e Moisés fugia d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rão falou todas as palavras que o SENHOR falara a Moisés e fez os sinais perante os olhos d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povo creu; e quando ouviram que o SENHOR visitava aos filhos de Israel, e que via a sua aflição, inclinaram-se, e ador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o SENHOR a Moisés: Estende a tua mão e pega-lhe pela cauda. E estendeu sua mão, e pegou-lhe pela cauda, e tornou-se em vara na sua m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creiam que te apareceu o SENHOR Deus de seus pais, o Deus de Abraão, o Deus de Isaque e o Deus de Jac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 mais o SENHOR: Põe agora a tua mão no teu seio. E, tirando-a, eis que a sua mão estava leprosa, branca como a nev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Torna a por a tua mão no teu seio. E tornou a colocar sua mão no seu seio; depois tirou-a do seu seio, e eis que se tornara como a sua carn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rá que, se eles não te crerem, nem ouvirem a voz do primeiro sinal, crerão à voz do derradeiro sina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acontecer que ainda não creiam a estes dois sinais, nem ouvirem a tua voz, tomarás das águas do rio, e as derramarás na terra seca; e as águas, que tomarás do rio, tornar-se-ão em sangue sobre a terra se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1:15Z</dcterms:created>
  <dc:creator>Admin</dc:creator>
  <dc:description/>
  <dc:language>en-US</dc:language>
  <cp:lastModifiedBy>Admin</cp:lastModifiedBy>
  <dcterms:modified xsi:type="dcterms:W3CDTF">2008-07-30T23:31:15Z</dcterms:modified>
  <cp:revision>1</cp:revision>
  <dc:subject/>
  <dc:title>Slide 1</dc:title>
</cp:coreProperties>
</file>