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187C-3C1F-4767-B26E-064E8DD6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18CC-D551-45E2-9BF5-93015EB1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135-52E0-4D9F-BA56-5E04D4EC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D451-AD6A-4050-801B-C7A55262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52C1-BDF1-4C22-A3BE-038FECD3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BA25-3D05-468D-9E75-86839EF3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7500-7564-45F6-9940-A7D68B60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6E5D-6B6A-46EE-B9A8-BCD8C3C1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A085-B681-4612-8769-7073AF48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8CB9-7AE0-4598-AC71-5F2322E2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90A9-1419-4221-A31F-51B5FFC1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2E7E-7D24-4627-AA75-9369ADC0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A773-F8BB-4BFE-AD75-0B71A65E99B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levantou-se grande perseguição contra a igreja que estava em Jerusalém; e todos exceto os apóstolos, foram dispersos pelas regiões da Judéia e da Samár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qual todos atendiam, desde o menor até ao maior, dizendo: Este é a grande virtude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tendiam-no, porque já desde muito tempo os havia iludido com artes mágic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como cressem em Filipe, que lhes pregava acerca do reino de Deus, e do nome de Jesus Cristo, se batizavam, tanto homens como mulhe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reu até o próprio Simão; e, sendo batizado, ficou de contínuo com Filipe; e, vendo os sinais e as grandes maravilhas que se faziam, estava atôn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apóstolos, pois, que estavam em Jerusalém, ouvindo que Samaria recebera a palavra de Deus, enviaram para lá Pedro e Jo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, tendo descido, oraram por eles para que recebessem o Espírito San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Porque sobre nenhum deles tinha ainda descido; mas somente eram batizados em nome do Senhor Jesus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s impuseram as mãos, e receberam o Espírito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imão, vendo que pela imposição das mãos dos apóstolos era dado o Espírito Santo, lhes ofereceu dinheir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Dai-me também a mim esse poder, para que aquele sobre quem eu puser as mãos receba o Espírito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ns homens piedosos foram enterrar Estêvão, e fizeram sobre ele grande pr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isse-lhe Pedro: O teu dinheiro seja contigo para perdição, pois cuidaste que o dom de Deus se alcança por dinh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não tens parte nem sorte nesta palavra, porque o teu coração não é reto diante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rrepende-te, pois, dessa tua iniqüidade, e ora a Deus, para que porventura te seja perdoado o pensamento do teu cora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vejo que estás em fel de amargura, e em laço de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ndo, porém, Simão, disse: Orai vós por mim ao Senhor, para que nada do que dissestes venha sobr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 eles, pois, testificado e falado a palavra do Senhor, voltaram para Jerusalém e em muitas aldeias dos samaritanos anunciaram o evange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njo do SENHOR falou a Filipe, dizendo: Levanta-te, e vai para o lado do sul, ao caminho que desce de Jerusalém para Gaza, que está dese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ou-se, e foi; e eis que um homem etíope, eunuco, mordomo-mor de Candace, rainha dos etíopes, o qual era superintendente de todos os seus tesouros, e tinha ido a Jerusalém para adora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gressava e, assentado no seu carro, lia o profeta Isaí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Espírito a Filipe: Chega-te, e ajunta-te a esse car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ulo assolava a igreja, entrando pelas casas; e, arrastando homens e mulheres, os encerrava na pri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rrendo Filipe, ouviu que lia o profeta Isaías, e disse: Entendes tu o que lê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Como poderei entender, se alguém não me ensinar? E rogou a Filipe que subisse e com ele se assenta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lugar da Escritura que lia era este: Foi levado como a ovelha para o matadouro; e, como está mudo o cordeiro diante do que o tosquia, Assim não abriu a su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sua humilhação foi tirado o seu julgamento; E quem contará a sua geração? Porque a sua vida é tirada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spondendo o eunuco a Filipe, disse: Rogo-te, de quem diz isto o profeta? De si mesmo, ou de algum outr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ilipe, abrindo a sua boca, e começando nesta Escritura, lhe anunciou a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indo eles caminhando, chegaram ao pé de alguma água, e disse o eunuco: Eis aqui água; que impede que eu seja batiza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Filipe: É lícito, se crês de todo o coração. E, respondendo ele, disse: Creio que Jesus Cristo é o Filh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ndou parar o carro, e desceram ambos à água, tanto Filipe como o eunuco, e o batiz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saíram da água, o Espírito do Senhor arrebatou a Filipe, e não o viu mais o eunuco; e, jubiloso, continuou o seu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que andavam dispersos iam por toda a parte, anunciando 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ilipe se achou em Azoto e, indo passando, anunciava o evangelho em todas as cidades, até que chegou a Cesaré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scendo Filipe à cidade de Samaria lhes pregava a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multidões unanimemente prestavam atenção ao que Filipe dizia, porque ouviam e viam os sinais que ele faz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que os espíritos imundos saíam de muitos que os tinham, clamando em alta voz; e muitos paralíticos e coxos eram cur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ia grande alegria naquel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va ali um certo homem, chamado Simão, que anteriormente exercera naquela cidade a arte mágica, e tinha iludido o povo de Samaria, dizendo que era uma grande personag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3:49Z</dcterms:created>
  <dc:creator>Admin</dc:creator>
  <dc:description/>
  <dc:language>en-US</dc:language>
  <cp:lastModifiedBy>Admin</cp:lastModifiedBy>
  <dcterms:modified xsi:type="dcterms:W3CDTF">2008-07-30T23:23:49Z</dcterms:modified>
  <cp:revision>1</cp:revision>
  <dc:subject/>
  <dc:title>Slide 1</dc:title>
</cp:coreProperties>
</file>