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F4C-DE23-4D6A-9838-67C67DA9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035-A8F5-4DEB-B3CD-6644A962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99F-03A9-4B9B-9F67-72B5E2A6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FCC-22A6-455A-82EC-667D1FE7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057-613A-41C7-99BD-E60913F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E1B-2A48-42DD-9EF8-A3248C5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55C-8C7B-4C6C-AB39-CD9D4CDB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A47-A0F9-4ADE-A902-EFAD34D6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BB9-7FFC-4A49-AF6A-58FFF8B0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628-5971-4571-8D39-5AD9126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FEB-9ABD-4028-8F6D-01F3984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AB3-8C2C-45EB-B78D-1DC84F5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45C-935E-46E2-B2D3-A53FC280C8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girás também o altar do holocausto, e todos os seus utensílios; e santificarás o altar; e o altar será san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ngirás a pia e a sua base, e a santific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chegar a Arão e a seus filhos à porta da tenda da congregação; e os lavarás co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stirás a Arão as vestes santas, e o ungirás, e o santificarás, para que me administre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chegar a seus filhos, e lhes vestirás as túnic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ungirás como ungiste a seu pai, para que me administrem o sacerdócio, e a sua unção lhes será por sacerdócio perpétuo n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ez conforme a tudo o que o SENHOR lhe ordenou, assim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no primeiro mês, no ano segundo, ao primeiro dia do mês foi levantado 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 levantou o tabernáculo, e pôs as suas bases, e armou as suas tábuas, e colocou nele os seus varais, e levantou as suas colu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u a tenda sobre o tabernáculo, e pôs a cobertura da tenda sobre ela, em cima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mês, no primeiro dia do mês, levantarás o tabernáculo da tenda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o testemunho, e pô-lo na arca, e colocou os varais na arca; e pôs o propiciatório em cima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troduziu a arca no tabernáculo, e pendurou o véu da cobertura, e cobriu a arca do testemunho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 também a mesa na tenda da congregação, ao lado do tabernáculo, para o norte, fora do vé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la pôs em ordem o pão perante o SENH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 também na tenda da congregação o candelabro na frente da mesa, ao lado do tabernáculo, para o su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ndeu as lâmpadas perante o SENH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 altar de ouro na tenda da congregação, diante do vé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ndeu sobre ele o incenso de especiarias aromáticas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ndurou também a cortina da porta do tabernác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 altar do holocausto à porta do tabernáculo da tenda da congregação, e sobre ele ofereceu holocausto e oferta de alimentos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nele a arca do testemunho, e cobrirás a arca com o v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 também a pia entre a tenda da congregação e o altar, e nela pôs água para la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, e Arão e seus filhos nela lavaram as suas mãos e 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vam na tenda da congregação, e quando chegavam ao altar, lavavam-s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 também o pátio ao redor do tabernáculo e do altar, e pendurou a cortina da porta do pátio. Assim Moisés acabou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nuvem cobriu a tenda da congregação, e a glória do SENHOR encheu o tabernácul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Moisés não podia entrar na tenda da congregação, porquanto a nuvem permanecia sobre ela, e a glória do SENHOR enchia 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a nuvem se levantava de sobre o tabernáculo, então os filhos de Israel caminhavam em todas as suas jorn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nuvem, porém, não se levantava, não caminhavam, até ao dia em que ela se levantas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 nuvem do SENHOR estava de dia sobre o tabernáculo, e o fogo estava de noite sobre ele, perante os olhos de toda a casa de Israel, em todas as suas jorn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colocarás nele a mesa, e porás em ordem o que se deve pôr em ordem nela; também colocarás nele o candelabro, e acenderás as suas lâmp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o altar de ouro para o incenso diante da arca do testemunho; então pendurarás a cortina da porta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ás também o altar do holocausto diante da porta do tabernácul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a pia entre a tenda da congregação e o altar, e nela porás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orás o pátio ao redor, e pendurarás a cortina à porta do pát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s o azeite da unção, e ungirás o tabernáculo, e tudo o que há nele; e o santificarás com todos os seus pertences, e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41Z</dcterms:created>
  <dc:creator>Admin</dc:creator>
  <dc:description/>
  <dc:language>en-US</dc:language>
  <cp:lastModifiedBy>Admin</cp:lastModifiedBy>
  <dcterms:modified xsi:type="dcterms:W3CDTF">2008-07-30T23:33:41Z</dcterms:modified>
  <cp:revision>1</cp:revision>
  <dc:subject/>
  <dc:title>Slide 1</dc:title>
</cp:coreProperties>
</file>