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A4D1-C064-4AA3-9E49-CAF9F16AB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7EE2-934E-428D-9195-4A78AB3D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BFCD-8CBC-4B6B-9E21-754CE5580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950D-D529-4EC5-A40A-9B6E52194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8958-FEF2-4BD6-A396-823B9CCD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9DB0-6FFF-42C3-BC81-4E3951B7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7F23-F6ED-4E87-A33F-DCCFA00C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07F7-566B-492C-8482-AFA73449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9D05-4A37-4E15-ADD4-200088F3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4833-434C-44B0-B764-E5603B53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E139-5AB0-4661-966C-1D85CF72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02EB-7A82-4F2C-823A-1A5C60FA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22D4-20DF-4168-8689-042FC57DE30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RA Amazias da idade de vinte e cinco anos, quando começou a reinar, e reinou vinte e nove anos em Jerusalém; e era o nome de sua mãe Joadã, de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parou Amazias as tropas que lhe tinham vindo de Efraim, para que se fossem ao seu lugar; pelo que se acendeu a sua ira contra Judá, e voltaram para as suas casas ardendo em 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forçou-se, pois, Amazias, e conduziu o seu povo, e foi ao Vale do Sal; onde feriu a dez mil dos filhos de Se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s filhos de Judá prenderam vivos dez mil, e os levaram ao cume da rocha; e do mais alto da rocha os lançaram abaixo, e todos se despedaç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s homens das tropas que Amazias despedira, para que não fossem com ele à peleja, deram sobre as cidades de Judá desde Samaria, até Bete-Horom; e feriram deles três mil, e saquearam grande despoj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depois que Amazias veio da matança dos edomitas e trouxe consigo os deuses dos filhos de Seir, tomou-os por seus deuses, e prostrou-se diante deles, e queimou-lhes incen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 ira do SENHOR se acendeu contra Amazias, e mandou-lhe um profeta que lhe disse: Por que buscaste deuses deste povo, os quais não livraram o seu próprio povo da tua m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falando ele ao rei, este lhe respondeu: Puseram-te por conselheiro do rei? Cala-te! Por que haveria de ser ferido? Então parou o profeta, e disse: Bem vejo eu que já Deus deliberou destruir-te; porquanto fizeste isto, e não deste ouvidos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endo tomado conselho, Amazias, rei de Judá, mandou dizer a Jeoás, filho de Jeoacaz, filho de Jeú, rei de Israel: Vem, vejamo-nos face a fa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Jeoás, rei de Israel, mandou dizer a Amazias, rei de Judá: O cardo que estava no Líbano mandou dizer ao cedro que estava no Líbano: Dá tua filha por mulher a meu filho; porém os animais do campo, que estavam no Líbano passaram e pisaram o car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dizes: Eis que tenho ferido os edomitas; e elevou-se o teu coração, para te gloriares; agora, pois, fica em tua casa; por que te entremeterias no mal, para caíres tu e Judá contig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o que era reto aos olhos do SENHOR, porém não com inteireza de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Amazias não lhe deu ouvidos, porque isto vinha de Deus, para entregá-los na mão dos seus inimigos; porquanto buscaram os deuses dos edom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oás, rei de Israel, subiu; e ele e Amazias, rei de Judá, viram-se face a face em Bete-Semes, que está em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udá foi ferido diante de Israel; e fugiu cada um para a sua te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oás, rei de Israel, prendeu a Amazias, rei de Judá, filho de Joás, o filho de Jeoacaz, em Bete-Semes, e o trouxe a Jerusalém; e derrubou o muro de Jerusalém, desde a porta de Efraim até à porta da esquina, quatrocentos côv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tomou todo o ouro, a prata, e todos os utensílios que se acharam na casa de Deus com Obede-Edom, e os tesouros da casa do rei, e os reféns; e voltou para Sama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veu Amazias, filho de Joás, rei de Judá, depois da morte de Jeoás, filho de Jeoacaz, rei de Israel, quinze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5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o mais dos atos de Amazias, tanto os primeiros como os últimos, eis que, porventura, não estão escritos no livro dos reis de Judá e de Israe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5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sde o tempo em que Amazias se desviou do SENHOR, conspiraram contra ele em Jerusalém, porém ele fugiu para Laquis; mas perseguiram-no até Laquis, e o mataram 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5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rouxeram-no sobre cavalos e sepultaram-no com seus pais na cidade d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 que, sendo-lhe o reino já confirmado, matou a seus servos que mataram o rei seu pa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não matou os filhos deles; mas fez segundo está escrito na lei, no livro de Moisés, como o SENHOR ordenou, dizendo: Não morrerão os pais pelos filhos, nem os filhos pelos pais; mas cada um morrerá pelo seu pe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mazias reuniu a Judá e os pôs segundo as casas dos pais, sob capitães de milhares, e sob capitães de cem, por todo o Judá e Benjamim; e os contou, de vinte anos para cima, e achou deles trezentos mil escolhidos que podiam sair à guerra, e manejar lan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de Israel tomou a soldo cem mil homens valentes, por cem talentos de pra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um homem de Deus veio a ele, dizendo: Ó rei, não deixes ir contigo o exército de Israel; porque o SENHOR não é com Israel, a saber com os filhos de Efra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quiseres ir, faze-o assim, esforça-te para a peleja. Deus, porém, te fará cair diante do inimigo; porque força há em Deus para ajudar e para fazer ca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mazias ao homem de Deus: Que se fará, pois, dos cem talentos de prata que dei às tropas de Israel? E disse o homem de Deus: Mais tem o SENHOR que te dar do que is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0:11Z</dcterms:created>
  <dc:creator>Admin</dc:creator>
  <dc:description/>
  <dc:language>en-US</dc:language>
  <cp:lastModifiedBy>Admin</cp:lastModifiedBy>
  <dcterms:modified xsi:type="dcterms:W3CDTF">2008-07-30T23:50:11Z</dcterms:modified>
  <cp:revision>1</cp:revision>
  <dc:subject/>
  <dc:title>Slide 1</dc:title>
</cp:coreProperties>
</file>