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28D-E704-4921-AB10-BEE40D93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CB4-9B16-4E25-A562-77A56A28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8F1-FD5C-4E82-864B-1C9EACC3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2D2-4D44-449B-8465-1D8BEA05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CBC-0C93-43EF-896F-CC319294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D5A-9804-42DE-A096-805C7932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A01-6264-4F83-A3B0-76FAB2EE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FEB-E9FE-4346-848B-E96AB8C0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12D-F396-48B7-B094-4674F8AD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5E8-F64B-44D5-B1D7-384B398D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969-5AB2-4C0E-863E-4F9CEA92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D7F-6F02-4782-B0E0-1217D26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A989-EF72-491F-910F-BE780488FE9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nde foi o teu amado, ó mais formosa entre as mulheres? Para onde se retirou o teu amado, para que o busquemos cont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a que aparece como a alva do dia, formosa como a lua, brilhante como o sol, terrível como um exército com bandei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i ao jardim das nogueiras, para ver os frutos do vale, a ver se floresciam as vides e brotavam as romãz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de eu o sentir, me pôs a minha alma nos carros do meu nobr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, volta, ó Sulamita, volta, volta, para que nós te vejamos. Por que olhas para a Sulamita como para as fileiras de dois exérc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mado desceu ao seu jardim, aos canteiros de bálsamo, para apascentar nos jardins e para colher os l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do meu amado, e o meu amado é meu; ele apascenta entre os l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mosa és, meu amor, como Tirza, aprazível como Jerusalém, terrível como um exército com band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 de mim os teus olhos, porque eles me dominam. O teu cabelo é como o rebanho das cabras que aparecem em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dentes são como o rebanho de ovelhas que sobem do lavadouro, e das quais todas produzem gêmeos, e não há estéril entre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um pedaço de romã, assim são as tuas faces entre os teus cab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ssenta são as rainhas, e oitenta as concubinas, e as virgens sem núm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uma é a minha pomba, a minha imaculada, a única de sua mãe, e a mais querida daquela que a deu à luz; viram-na as filhas e chamaram-na bem-aventurada, as rainhas e as concubinas louvaram-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50Z</dcterms:created>
  <dc:creator>Admin</dc:creator>
  <dc:description/>
  <dc:language>en-US</dc:language>
  <cp:lastModifiedBy>Admin</cp:lastModifiedBy>
  <dcterms:modified xsi:type="dcterms:W3CDTF">2008-07-30T23:25:50Z</dcterms:modified>
  <cp:revision>1</cp:revision>
  <dc:subject/>
  <dc:title>Slide 1</dc:title>
</cp:coreProperties>
</file>