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E0D-1B03-4829-AB5E-69A6CADC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F39-A27F-4333-BAA8-4CBD484A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DCF-0707-4735-90BC-D027F788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291-DDDF-47D1-9BBF-BF9EC2F4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480-DD97-47F7-B289-5D8F30A8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387-E6F1-4237-A1F7-B54726B4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B9C-2B24-4A7A-8AB4-68FFAEA9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841-C821-4A61-87DF-02B85EB3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9AF-0EE3-4225-9958-9E4005FD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20C-DF28-488E-B917-4397867F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DE5-00F9-4F30-84D5-4D49190E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88C-10CA-4E3B-ADC9-61BBDA42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DE3F-28CD-4DAD-BB7C-EC2EFC75394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meu, não te esqueças da minha lei, e o teu coração guarde os m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encherão os teus celeiros, e transbordarão de vinho os teus lag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meu, não rejeites a correção do SENHOR, nem te enojes da sua repreen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repreende aquele a quem ama, assim como o pai ao filho a quem quer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o homem que acha sabedoria, e o homem que adquire conhecim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é melhor a sua mercadoria do que artigos de prata, e maior o seu lucro que o ouro mais f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is preciosa é do que os rubis, e tudo o que mais possas desejar não se pode comparar 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da longa de dias está na sua mão direita; e na esquerda, riquezas e hon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caminhos são caminhos de delícias, e todas as suas veredas de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árvore de vida para os que dela tomam, e são bem-aventurados todos os que a retê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, com sabedoria fundou a terra; com entendimento preparou os cé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s aumentarão os teus dias e te acrescentarão anos de vida e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seu conhecimento se fenderam os abismos, e as nuvens destilam o orv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meu, não se apartem estas coisas dos teus olhos: guarda a verdadeira sabedoria e o bom si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rão vida para a tua alma, e adorno ao teu pesc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ndarás confiante pelo teu caminho, e o teu pé não tropeç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e deitares, não temerás; ao contrário, o teu sono será suave ao te deit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as o pavor repentino, nem a investida dos perversos quando vi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será a tua esperança; guardará os teus pés de serem captu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ixes de fazer bem a quem o merece, estando em tuas mãos a capacidade de fazê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igas ao teu próximo: Vai, e volta amanhã que to darei, se já o tens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aquines o mal contra o teu próximo, pois que habita contigo confiad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desamparem a benignidade e a fidelidade; ata-as ao teu pescoço; escreve-as na tábua do t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ntendas com alguém sem causa, se não te fez nenhum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nhas inveja do homem violento, nem escolhas nenhum dos s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perverso é abominável ao SENHOR, mas com os sinceros ele tem intim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aldição do SENHOR habita na casa do ímpio, mas a habitação dos justos abenço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ele escarnecerá dos escarnecedores, mas dará graça aos man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ábios herdarão honra, mas os loucos tomam sobre si vergo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arás graça e bom entendimento aos olhos de Deus e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ia no SENHOR de todo o teu coração, e não te estribes no teu próprio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onhece-o em todos os teus caminhos, e ele endireitará as tuas vere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jas sábio a teus próprios olhos; teme ao SENHOR e aparta-te d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será saúde para o teu âmago, e medula para os teus o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nra ao SENHOR com os teus bens, e com a primeira parte de todos os teus gan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1:05Z</dcterms:created>
  <dc:creator>Admin</dc:creator>
  <dc:description/>
  <dc:language>en-US</dc:language>
  <cp:lastModifiedBy>Admin</cp:lastModifiedBy>
  <dcterms:modified xsi:type="dcterms:W3CDTF">2008-07-31T00:21:05Z</dcterms:modified>
  <cp:revision>1</cp:revision>
  <dc:subject/>
  <dc:title>Slide 1</dc:title>
</cp:coreProperties>
</file>