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FCC-613F-4DC2-9501-A98116B0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3C47-8F66-4A3E-915D-DB23653E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B42C-97A2-42E9-B1C8-7EDEBBF5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F82-D81C-4EFD-9007-5CA2822A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004-7AB5-41DE-9B0F-9F35DBDF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A56-60C4-4612-8C5D-A2E892D8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339-4A12-4AB5-AAED-9EF002D1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17A7-673D-417A-996E-F7DF393B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125A-5A94-4B43-9521-560F903F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F563-CAA9-4652-8385-F5509031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82EA-902C-4555-BEC4-1CBBD850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05F8-29AC-47A7-A578-79C0D813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B654-404A-49FC-ADF2-C34C5EC74CE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MBROU-SE Deus de Noé, e de todos os seres viventes, e de todo o gado que estavam com ele na arca; e Deus fez passar um vento sobre a terra, e aquietaram-se a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perou ainda outros sete dias, e tornou a enviar a pomba fora da ar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omba voltou a ele à tarde; e eis, arrancada, uma folha de oliveira no seu bico; e conheceu Noé que as águas tinham minguado de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sperou ainda outros sete dias, e enviou fora a pomba; mas não tornou mais 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 no ano seiscentos e um, no mês primeiro, no primeiro dia do mês, as águas se secaram de sobre a terra. Então Noé tirou a cobertura da arca, e olhou, e eis que a face da terra estava enxu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segundo mês, aos vinte e sete dias do mês, a terra estava se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alou Deus a Noé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i da arca, tu com tua mulher, e teus filhos e as mulheres de teu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animal que está contigo, de toda a carne, de ave, e de gado, e de todo o réptil que se arrasta sobre a terra, traze fora contigo; e povoem abundantemente a terra e frutifiquem, e se multipliquem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saiu Noé, e seus filhos, e sua mulher, e as mulheres de seus filhos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 o animal, todo o réptil, e toda a ave, e tudo o que se move sobre a terra, conforme as suas famílias, saiu para fora da ar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raram-se também as fontes do abismo e as janelas dos céus, e a chuva dos céus deteve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dificou Noé um altar ao SENHOR; e tomou de todo o animal limpo e de toda a ave limpa, e ofereceu holocausto sobre 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sentiu o suave cheiro, e o SENHOR disse em seu coração: Não tornarei mais a amaldiçoar a terra por causa do homem; porque a imaginação do coração do homem é má desde a sua meninice, nem tornarei mais a ferir todo o vivente, como fi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quanto a terra durar, sementeira e sega, e frio e calor, e verão e inverno, e dia e noite, não cess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águas iam-se escoando continuamente de sobre a terra, e ao fim de cento e cinqüenta dias mingua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arca repousou no sétimo mês, no dia dezessete do mês, sobre os montes de Arar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as águas indo e minguando até ao décimo mês; no décimo mês, no primeiro dia do mês, apareceram os cumes dos mo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 ao cabo de quarenta dias, abriu Noé a janela da arca que tinha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ltou um corvo, que saiu, indo e voltando, até que as águas se secaram de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soltou uma pomba, para ver se as águas tinham minguado de sobre a face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pomba, porém, não achou repouso para a planta do seu pé, e voltou a ele para a arca; porque as águas estavam sobre a face de toda a terra; e ele estendeu a sua mão, e tomou-a, e recolheu-a consigo na ar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7:34Z</dcterms:created>
  <dc:creator>Admin</dc:creator>
  <dc:description/>
  <dc:language>en-US</dc:language>
  <cp:lastModifiedBy>Admin</cp:lastModifiedBy>
  <dcterms:modified xsi:type="dcterms:W3CDTF">2008-07-30T23:37:34Z</dcterms:modified>
  <cp:revision>1</cp:revision>
  <dc:subject/>
  <dc:title>Slide 1</dc:title>
</cp:coreProperties>
</file>