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510D-F1F9-4DCA-917F-593D082B8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A1DF-C337-48AA-BFAB-5532930B5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0F6D-E7FC-451C-B10F-9E7F17A80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8592-EB3C-44E0-AE52-706151DC3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32C3-1442-4327-8B0F-7AB74917E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A5EA-B2D5-45BE-BF5A-084050B14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84CB-B7F4-4606-9B94-09EBCEEB4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C66B-72CB-4EB7-ACAE-D248E9F5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8143-DFCB-4AC2-9327-695EBE6FA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3626-228A-40F9-94FF-38E07072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0EC4-7F96-496D-9365-0529DA3D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CD2C-0A95-4507-A6FF-BAFF2590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656B0-18C2-467C-8082-C0D11B949A9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0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ano em que Tartã, enviado por Sargom, rei da Assíria, veio a Asdode, e guerreou contra ela, e a tomou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0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sse mesmo tempo falou o SENHOR por intermédio de Isaías, filho de Amós, dizendo: Vai, solta o cilício de teus lombos, e descalça os sapatos dos teus pés. E ele assim o fez, indo nu e descalç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0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o SENHOR: Assim como o meu servo Isaías andou três anos nu e descalço, por sinal e prodígio sobre o Egito e sobre a Etiópi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0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o rei da Assíria levará em cativeiro os presos do Egito, e os exilados da Etiópia, tanto moços como velhos, nus e descalços, e com as nádegas descobertas, para vergonha d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0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sombrar-se-ão, e envergonhar-se-ão, por causa dos etíopes, sua esperança, como também dos egípcios, sua gló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0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s moradores desta ilha dirão naquele dia: Vede que tal é a nossa esperança, à qual fugimos por socorro, para nos livrarmos da face do rei da Assíria! Como pois escaparemos nó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5:12Z</dcterms:created>
  <dc:creator>Admin</dc:creator>
  <dc:description/>
  <dc:language>en-US</dc:language>
  <cp:lastModifiedBy>Admin</cp:lastModifiedBy>
  <dcterms:modified xsi:type="dcterms:W3CDTF">2008-07-30T23:55:12Z</dcterms:modified>
  <cp:revision>1</cp:revision>
  <dc:subject/>
  <dc:title>Slide 1</dc:title>
</cp:coreProperties>
</file>