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CA1-B26D-4F08-9B17-6C14220F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128-401A-4D38-BB97-F62DDE7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A40-5B78-402F-BF3B-9C78103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B6A-335C-4957-9452-A9D76CE1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4E9-6498-4711-B524-D78964F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428-3F3A-4393-9E87-AA993510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C3A-4A9F-4161-B085-334412F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D02-E7E5-463C-AA14-BA4D250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DBB-10AC-42AF-9387-9C97C2C0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167-83ED-4317-832D-76B7B9B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896-B161-4006-ABB1-5D8D7E7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594-A937-4F2D-BB9D-3EDF049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3A83-1275-4F9B-BF3C-3527DA9335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Salomão rei sobr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-Hesede em Arubote; também este tinha a Socó e a toda a terra de Hef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-Abinadabe em todo o termo de Dor; tinha este a Tafate, filha de Salomão, por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aná, filho de Ailude, tinha a Taanaque, e a Megido, e a toda a Bete-Seã, que está junto a Zaretã, abaixo de Jizreel, desde Bete-Seã até Abel-Meolá, para além de Jocme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de Geber, em Ramote de Gileade; tinha este as aldeias de Jair, filho de Manassés, as quais estão em Gileade; também tinha o termo de Argobe, o qual está em Basã, sessenta grandes cidades, com muros e ferrolhos de cob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adabe, filho de Ido, em Maan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maás em Naftali; também este tomou a Basemate, filha de Salomão, por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aná, filho de Husai, em Aser e em Al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osafá, filho de Parua, em Issac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ei, filho de Elá, em Benjam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eber, filho de Uri, na terra de Gileade, a terra de Siom, rei dos amorreus, e de Ogue, rei de Basã; e só uma guarnição havia naquel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eram os príncipes que tinha: Azarias, filho de Zadoque,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m, pois, os de Judá e Israel muitos, como a areia que está junto ao mar em multidão, comendo, e bebendo, e alegrando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minava Salomão sobre todos os reinos desde o rio até à terra dos filisteus, e até ao termo do Egito; os quais traziam presentes, e serviram a Salomão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, pois, o provimento de Salomão cada dia, trinta coros de flor de farinha, e sessenta coros de farin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z bois cevados, e vinte bois de pasto, e cem carneiros; afora os veados e as cabras montesas, e os corços, e aves cev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ominava sobre tudo quanto havia do lado de cá do rio, Tifsa até Gaza, sobre todos os reis do lado de cá do rio; e tinha paz de todos os lados em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e Israel habitavam seguros, cada um debaixo da sua videira, e debaixo da sua figueira, desde Dã até Berseba, todos os dias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também Salomão quarenta mil estrebarias de cavalos para os seus carros, e doze mil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iam, pois, estes provedores, cada um no seu mês, ao rei Salomão e a todos quantos se chegaram à mesa do rei Salomão; coisa nenhuma deixavam f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m a cevada e a palha para os cavalos e para os ginetes, para o lugar onde estava, cada um segundo o seu c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Deus a Salomão sabedoria, e muitíssimo entendimento, e largueza de coração, como a areia que está na pra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orefe e Aías, filhos de Sisa, secretários; Jeosafá, filho de Ailude, croni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sabedoria de Salomão maior do que a sabedoria de todos os do oriente e do que toda a sabedoria d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ele ainda mais sábio do que todos os homens, e do que Etã, ezraíta, e Hemã, e Calcol, e Darda, filhos de Maol; e correu o seu nome por todas as naçõe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três mil provérbios, e foram os seus cânticos mil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lou das árvores, desde o cedro que está no Líbano até ao hissopo que nasce na parede; também falou dos animais e das aves, e dos répteis e dos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nham de todos os povos a ouvir a sabedoria de Salomão, e de todos os reis da terra que tinham ouvido da su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aia, filho de Joiada, sobre o exército; e Zadoque e Abiatar eram sacerdo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, filho de Natã, sobre os provedores; e Zabude, filho de Natã, oficial-mor, amigo do 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sar, mordomo; Adonirão, filho de Abda, sobre o tribu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Salomão doze oficiais sobre todo o Israel, que proviam ao rei e à sua casa; e cada um tinha que abastecê-lo por um mês n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seus nomes: Ben-Hur, nas montanhas de Efra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-Dequer em Macaz, e em Saalbim, e em Bete-Semes, e em Elom, e em Bete-Han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49Z</dcterms:created>
  <dc:creator>Admin</dc:creator>
  <dc:description/>
  <dc:language>en-US</dc:language>
  <cp:lastModifiedBy>Admin</cp:lastModifiedBy>
  <dcterms:modified xsi:type="dcterms:W3CDTF">2008-07-30T23:44:49Z</dcterms:modified>
  <cp:revision>1</cp:revision>
  <dc:subject/>
  <dc:title>Slide 1</dc:title>
</cp:coreProperties>
</file>