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00C-0AF6-40A9-B36C-8F20C99D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471-0297-4FCF-8743-B0292451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809E-EB54-40FB-BDDA-416BAB04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8F3-114C-4D53-81A2-04D100E9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CB4-1BB8-45B8-870C-1EF771C7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8DA8-6537-444D-9A9C-336248CB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BC3-47BB-4D4D-8BF6-E03650F8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806E-EF72-4DA1-862E-919814F9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ED7-1B08-476E-ADD5-9C8DB4B1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7E7-5E73-4517-9334-A7748FBA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E691-365D-4EDE-988B-25987423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515B-C458-4114-ACFC-F8761294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DEB5-964E-48DF-AB33-39FD7E58563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, vinda do templo, uma grande voz, que dizia aos sete anjos: Ide, e derramai sobre a terra as sete taças da ir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into anjo derramou a sua taça sobre o trono da besta, e o seu reino se fez tenebroso; e eles mordiam as suas línguas de 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causa das suas dores, e por causa das suas chagas, blasfemaram do Deus do céu; e não se arrependeram das s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xto anjo derramou a sua taça sobre o grande rio Eufrates; e a sua água secou-se, para que se preparasse o caminho dos reis do ori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boca do dragão, e da boca da besta, e da boca do falso profeta vi sair três espíritos imundos, semelhantes a rã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ão espíritos de demônios, que fazem prodígios; os quais vão ao encontro dos reis da terra e de todo o mundo, para os congregar para a batalha, naquele grande dia do Deus Todo-Pode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enho como ladrão. Bem-aventurado aquele que vigia, e guarda as suas roupas, para que não ande nu, e não se vejam as suas vergon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ongregaram no lugar que em hebreu se chama Armage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étimo anjo derramou a sua taça no ar, e saiu grande voz do templo do céu, do trono, dizendo: Está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vozes, e trovões, e relâmpagos, e um grande terremoto, como nunca tinha havido desde que há homens sobre a terra; tal foi este tão grande terremo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grande cidade fendeu-se em três partes, e as cidades das nações caíram; e da grande Babilônia se lembrou Deus, para lhe dar o cálice do vinho da indignação da su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o primeiro, e derramou a sua taça sobre a terra, e fez-se uma chaga má e maligna nos homens que tinham o sinal da besta e que adoravam a sua imag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ilha fugiu; e os montes não se ach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os homens caiu do céu uma grande saraiva, pedras do peso de um talento; e os homens blasfemaram de Deus por causa da praga da saraiva; porque a sua praga era mui gran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gundo anjo derramou a sua taça no mar, que se tornou em sangue como de um morto, e morreu no mar toda a alma viv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terceiro anjo derramou a sua taça nos rios e nas fontes das águas, e se tornaram em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 o anjo das águas, que dizia: Justo és tu, ó Senhor, que és, e que eras, e santo és, porque julgaste est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 como derramaram o sangue dos santos e dos profetas, também tu lhes deste o sangue a beber; porque disto são merece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 outro do altar, que dizia: Na verdade, ó SENHOR Deus Todo-Poderoso, verdadeiros e justos são os teus juíz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arto anjo derramou a sua taça sobre o sol, e foi-lhe permitido que abrasasse os homens com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 foram abrasados com grandes calores, e blasfemaram o nome de Deus, que tem poder sobre estas pragas; e não se arrependeram para lhe darem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43Z</dcterms:created>
  <dc:creator>Admin</dc:creator>
  <dc:description/>
  <dc:language>en-US</dc:language>
  <cp:lastModifiedBy>Admin</cp:lastModifiedBy>
  <dcterms:modified xsi:type="dcterms:W3CDTF">2008-07-30T23:22:43Z</dcterms:modified>
  <cp:revision>1</cp:revision>
  <dc:subject/>
  <dc:title>Slide 1</dc:title>
</cp:coreProperties>
</file>