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582-9272-49A8-B603-A61A0327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91A-ACC7-483D-AAF9-B2194185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96A-B661-466F-A3AA-D685BB34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FE2-6E0B-4A66-B9B0-B2ED0108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439-7B1D-42FB-9380-F22AAB5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A99-120D-4DAB-8F33-F16F1336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4D1-052D-4182-862C-B63F03CC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92C-699F-401B-A7AB-A6C2F63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53D-5083-4D77-B67E-ED3135DC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44E-8A5E-4176-9CBD-E1E2051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1AD-C3A7-4860-B8DF-132348E4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018-27DA-40E3-A047-BBD3F21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6245-1C6C-4B17-AA9F-DCB965D5FD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LEITEIA, SENHOR, com aqueles que pleiteiam comigo; peleja contra os que pelej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meus ossos dirão: SENHOR, quem é como tu, que livras o pobre daquele que é mais forte do que ele? Sim, o pobre e o necessitado daquele que o rou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sas testemunhas se levantaram; depuseram contra mim coisas que eu não sab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am-me o mal pelo bem, roubando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to a mim, quando estavam enfermos, as minhas vestes eram o saco; humilhava a minha alma com o jejum, e a minha oração voltava para o meu s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va-me como se ele fora meu irmão ou amigo; andava lamentando e muito encurvado, como quem chora por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com a minha adversidade se alegravam e se congregavam; os abjetos se congregavam contra mim, e eu não o sabia; rasgavam-me, e não cess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hipócritas zombadores nas festas, rangiam os dentes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até quando verás isto? Resgata a minha alma das suas assolações, e a minha predileta dos le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-te-ei na grande congregação; entre muitíssimo povo te celeb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 alegrem os meus inimigos de mim sem razão, nem acenem com os olhos aqueles que me odeiam sem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ga do escudo e da rodela, e levanta-te em minha aju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falam de paz; antes projetam enganar os quieto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m a boca de par em par contra mim, e dizem: Ah! Ah! os nossos olhos o 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SENHOR, o tens visto, não te cales; Senhor, não te alongues de mi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perta e acorda para o meu julgamento, para a minha causa, Deus meu e Senhor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lga-me segundo a tua justiça, SENHOR Deus meu, e não deixes que se alegre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igam em seus corações: Ah! alma nossa! Não digam: Nós o havemos devo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ergonhem-se e confundam-se à uma os que se alegram com o meu mal; vistam-se de vergonha e de confusão os que se engrandece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em e alegrem-se os que amam a minha justiça, e digam continuamente: O SENHOR seja engrandecido, o qual ama a prosperidade do s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a minha língua falará da tua justiça e do teu louvor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da lança e obstrui o caminho aos que me perseguem; dize à minha alma: Eu sou a t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confundidos e envergonhados os que buscam a minha vida; voltem atrás e envergonhem-se os que contra mim tenta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como a moinha perante o vento; o anjo do SENHOR os faça fug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o seu caminho tenebroso e escorregadio, e o anjo do SENHOR os persi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m causa encobriram de mim a rede na cova, a qual sem razão cavaram para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venha-lhe destruição sem o saber, e prenda-o a rede que ocultou; caia ele nessa mesm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nha alma se alegrará no SENHOR; alegrar-se-á na s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5:03Z</dcterms:created>
  <dc:creator>Admin</dc:creator>
  <dc:description/>
  <dc:language>en-US</dc:language>
  <cp:lastModifiedBy>Admin</cp:lastModifiedBy>
  <dcterms:modified xsi:type="dcterms:W3CDTF">2008-07-31T00:25:03Z</dcterms:modified>
  <cp:revision>1</cp:revision>
  <dc:subject/>
  <dc:title>Slide 1</dc:title>
</cp:coreProperties>
</file>