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1A34-A289-4EBD-80E9-F2EF9E8DA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6F27-617A-4485-9868-DF4EFFC6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04D4-A6AB-431F-9C75-63694695C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B40C-A398-43F6-9DCA-0F5FA8E6C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3C0D-C084-4208-B7D4-1F462B59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4B66-1A0C-46B8-9232-8DDCD644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C98B-4050-4FE9-B69D-FB4F800D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8D9C-F5AF-4B7C-B1F1-C1A14604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1989-2D33-421B-8636-BB948EAA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BC15-0EE8-488C-84D0-D2A6E1E8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9244-739F-407A-AE16-ACC0E20E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F2A8-AFA1-4E46-9EF1-D199FDD0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FF68-491F-4C4E-9F99-3A3D0081C37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VAI ao SENHOR. Louvarei ao SENHOR de todo o meu coração, na assembléia dos justos e na congreg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temor do SENHOR é o princípio da sabedoria; bom entendimento têm todos os que cumprem os seus mandamentos; o seu louvor permanece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randes são as obras do SENHOR, procuradas por todos os que nelas tomam praz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ua obra tem glória e majestade, e a sua justiça permanece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z com que as suas maravilhas fossem lembradas; piedoso e misericordioso é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u mantimento aos que o temem; lembrar-se-á sempre da sua ali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unciou ao seu povo o poder das suas obras, para lhe dar a herança dos gent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obras das suas mãos são verdade e juízo, seguros todos os seus mandam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rmanecem firmes para todo o sempre; e são feitos em verdade e reti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denção enviou ao seu povo; ordenou a sua aliança para sempre; santo e tremendo é o s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7:44Z</dcterms:created>
  <dc:creator>Admin</dc:creator>
  <dc:description/>
  <dc:language>en-US</dc:language>
  <cp:lastModifiedBy>Admin</cp:lastModifiedBy>
  <dcterms:modified xsi:type="dcterms:W3CDTF">2008-07-31T00:27:44Z</dcterms:modified>
  <cp:revision>1</cp:revision>
  <dc:subject/>
  <dc:title>Slide 1</dc:title>
</cp:coreProperties>
</file>