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483D-B3C3-4DE7-85F0-CB8ACAAA8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0DC9-6884-444F-9A22-6745A253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F189-76B5-4CBD-927A-318234FF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4627-531A-4ABF-A952-CB15D36F8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1EF7-B2BB-4B76-A46C-421DCE39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601D-0844-4E54-9228-22F61117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C612-F6AE-4D23-85C0-5786162A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CF2B-16E4-4F52-8922-7B9E43F7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CEDC-658F-4E3B-91CD-9C4C981E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3A02-F32F-4BD1-85F3-B3ADD432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1D69-5739-4B8E-B204-0FCB6C38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721E-4309-4890-9032-1CEA486E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3017-0274-47CD-BDCC-BB3732D8683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isse Deus a Jacó: Levanta-te, sobe a Betel, e habita ali; e faze ali um altar ao Deus que te apareceu, quando fugiste da face de Esaú teu ir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Deus: O teu nome é Jacó; não te chamarás mais Jacó, mas Israel será o teu nome. E chamou-lh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mais Deus: Eu sou o Deus Todo-Poderoso; frutifica e multiplica-te; uma nação, sim, uma multidão de nações sairá de ti, e reis procederão dos teus lomb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 darei a ti a terra que tenho dado a Abraão e a Isaque, e à tua descendência depois de ti darei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s subiu dele, do lugar onde falara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acó pôs uma coluna no lugar onde falara com ele, uma coluna de pedra; e derramou sobre ela uma libação, e deitou sobre ela aze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amou Jacó aquele lugar, onde Deus falara com ele, Bet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 de Betel; e havia ainda um pequeno espaço de terra para chegar a Efrata, e deu à luz Raquel, e ela teve trabalho em seu pa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tendo ela trabalho em seu parto, lhe disse a parteira: Não temas, porque também este filho te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saindo-se-lhe a alma (porque morreu), chamou-lhe Benoni; mas seu pai chamou-lhe Benja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morreu Raquel, e foi sepultada no caminho de Efrata; que é Be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Jacó à sua família, e a todos os que com ele estavam: Tirai os deuses estranhos, que há no meio de vós, e purificai-vos, e mudai as vossas ve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acó pôs uma coluna sobre a sua sepultura; esta é a coluna da sepultura de Raquel até o dia de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artiu Israel, e estendeu a sua tenda além de Migdal Ed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habitando Israel naquela terra, foi Rúben e deitou-se com Bila, concubina de seu pai; e Israel o soube. E eram doze os filhos de Ja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Lia: Rúben, o primogênito de Jacó, depois Simeão e Levi, e Judá, e Issacar e Zebulo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Raquel: José e Benjami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Bila, serva de Raquel: Dã e Naftal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Zilpa, serva de Lia: Gade e Aser. Estes são os filhos de Jacó, que lhe nasceram em Padã-Ar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acó veio a seu pai Isaque, a Manre, a Quiriate-Arba (que é Hebrom), onde peregrinaram Abraão e Isa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os dias de Isaque cento e oitenta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5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saque expirou, e morreu, e foi recolhido ao seu povo, velho e farto de dias; e Esaú e Jacó, seus filhos, o sepult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emo-nos, e subamos a Betel; e ali farei um altar ao Deus que me respondeu no dia da minha angústia, e que foi comigo no caminho que tenho and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eram a Jacó todos os deuses estranhos, que tinham em suas mãos, e as arrecadas que estavam em suas orelhas; e Jacó os escondeu debaixo do carvalho que está junto a Siqu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ram; e o terror de Deus foi sobre as cidades que estavam ao redor deles, e não seguiram após os filhos de Ja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chegou Jacó a Luz, que está na terra de Canaã (esta é Betel), ele e todo o povo que com ele hav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dificou ali um altar, e chamou aquele lugar El-Betel; porquanto Deus ali se lhe tinha manifestado, quando fugia da face de seu ir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rreu Débora, a ama de Rebeca, e foi sepultada ao pé de Betel, debaixo do carvalho cujo nome chamou Alom-Bacu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pareceu Deus outra vez a Jacó, vindo de Padã-Arã, e abençoou-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9:20Z</dcterms:created>
  <dc:creator>Admin</dc:creator>
  <dc:description/>
  <dc:language>en-US</dc:language>
  <cp:lastModifiedBy>Admin</cp:lastModifiedBy>
  <dcterms:modified xsi:type="dcterms:W3CDTF">2008-07-30T23:39:20Z</dcterms:modified>
  <cp:revision>1</cp:revision>
  <dc:subject/>
  <dc:title>Slide 1</dc:title>
</cp:coreProperties>
</file>