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3120-DEC0-4B22-B7D2-51A299EF9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919C-8C08-4729-BC29-62C6114CB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FD8F-B706-4D70-AF52-AC0A53908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9554-61FF-4350-A600-8C8510411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E09E-F0C1-477A-A214-9510BD0A0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50C7-EDF3-443A-9869-B9C8C47D5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3A5F-9E35-4116-8CAF-10316CC74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EF32-2BA5-494D-AEAD-617398D42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1561-E515-4B95-94AE-4C262C734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A1E0-1FD2-4BFE-862C-9C6611B40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42AE-FCCD-4773-B748-0145BB7F6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A9D1-76EB-4A45-BFDF-3A0903DF7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501C9-B5D4-4341-854B-72D4361F2E33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0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CONTECEU, depois destas coisas, que o copeiro do rei do Egito, e o seu padeiro, ofenderam o seu SENHOR, o rei do Eg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0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a vide três sarmentos, e brotando ela, a sua flor saía, e os seus cachos amadureciam em uva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0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copo de Faraó estava na minha mão, e eu tomava as uvas, e as espremia no copo de Faraó, e dava o copo na mão de Faraó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0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sse-lhe José: Esta é a sua interpretação: Os três sarmentos são três dia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0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ntro ainda de três dias Faraó levantará a tua cabeça, e te restaurará ao teu estado, e darás o copo de Faraó na sua mão, conforme o costume antigo, quando eras seu copei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0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lembra-te de mim, quando te for bem; e rogo-te que uses comigo de compaixão, e que faças menção de mim a Faraó, e faze-me sair desta cas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0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, de fato, fui roubado da terra dos hebreus; e tampouco aqui nada tenho feito para que me pusessem nesta cov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0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endo então o padeiro-mor que tinha interpretado bem, disse a José: Eu também sonhei, e eis que três cestos brancos estavam sobre a minha cabeç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0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o cesto mais alto havia de todos os manjares de Faraó, obra de padeiro; e as aves o comiam do cesto, de sobre a minha cabe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0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respondeu José, e disse: Esta é a sua interpretação: Os três cestos são três dia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0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ntro ainda de três dias Faraó tirará a tua cabeça e te pendurará num pau, e as aves comerão a tua carne de sobre t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0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indignou-se Faraó muito contra os seus dois oficiais, contra o copeiro-mor e contra o padeiro-m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0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conteceu ao terceiro dia, o dia do nascimento de Faraó, que fez um banquete a todos os seus servos; e levantou a cabeça do copeiro-mor, e a cabeça do padeiro-mor, no meio dos seus serv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0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ez tornar o copeiro-mor ao seu ofício de copeiro, e este deu o copo na mão de Faraó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0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ao padeiro-mor enforcou, como José havia interpret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0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copeiro-mor, porém, não se lembrou de José, antes se esqueceu d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0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ntregou-os à prisão, na casa do capitão da guarda, na casa do cárcere, no lugar onde José estava pres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0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capitão da guarda pô-los a cargo de José, para que os servisse; e estiveram muitos dias na pris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0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mbos tiveram um sonho, cada um seu sonho, na mesma noite, cada um conforme a interpretação do seu sonho, o copeiro e o padeiro do rei do Egito, que estavam presos na casa do cárcer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0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veio José a eles pela manhã, e olhou para eles, e viu que estavam perturba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0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perguntou aos oficiais de Faraó, que com ele estavam no cárcere da casa de seu senhor, dizendo: Por que estão hoje tristes os vossos semblante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0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es lhe disseram: Tivemos um sonho, e ninguém há que o interprete. E José disse-lhes: Não são de Deus as interpretações? Contai-mo, peço-v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0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contou o copeiro-mor o seu sonho a José, e disse-lhe: Eis que em meu sonho havia uma vide diante da minha fac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39:39Z</dcterms:created>
  <dc:creator>Admin</dc:creator>
  <dc:description/>
  <dc:language>en-US</dc:language>
  <cp:lastModifiedBy>Admin</cp:lastModifiedBy>
  <dcterms:modified xsi:type="dcterms:W3CDTF">2008-07-30T23:39:39Z</dcterms:modified>
  <cp:revision>1</cp:revision>
  <dc:subject/>
  <dc:title>Slide 1</dc:title>
</cp:coreProperties>
</file>