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11E-6EF0-4A80-9853-6E147D6A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6C1-467D-47EA-ADC0-93309445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E9F-EACA-4F42-9A89-8631E67C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7B7-7A91-44D6-9DFB-99BF0126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14E-8A64-483C-B2FC-E06273CB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731-2545-4109-900C-73A3C53A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4D3-AF7E-421B-A99C-015B551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FBF-E55F-4CD6-B393-21FCB1F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6EA-B6A9-4314-A094-4004F65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4F2-2218-4572-8138-18B7992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ED7-65EE-4D74-BF30-3BC9E93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7F0-5F7D-4A6E-90CA-AE8E804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EA23-E22D-4BE4-8F1C-65E91C9E62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ó sacerdotes, este mandamento é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os nós todos um mesmo Pai? Não nos criou um mesmo Deus? Por que agimos aleivosamente cada um contra seu irmão, profanando a aliança de nossos p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 tem sido desleal, e abominação se cometeu em Israel e em Jerusalém; porque Judá profanou o santuário do SENHOR, o qual ele ama, e se casou com a filha de deus estr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struirá das tendas de Jacó o homem que fizer isto, o que vela, e o que responde, e o que apresenta uma oferta a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fazeis isto outra vez, cobrindo o altar do SENHOR de lágrimas, com choro e com gemidos; de sorte que ele não olha mais para a oferta, nem a aceitará com prazer da voss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is: Por quê? Porque o SENHOR foi testemunha entre ti e a mulher da tua mocidade, com a qual tu foste desleal, sendo ela a tua companheira, e a mulher da t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ez ele somente um, ainda que lhe sobrava o espírito? E por que somente um? Ele buscava uma descendência para Deus. Portanto guardai-vos em vosso espírito, e ninguém seja infiel para com a mulher da s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, o Deus de Israel diz que odeia o repúdio, e aquele que encobre a violência com a sua roupa, diz o SENHOR dos Exércitos; portanto guardai-vos em vosso espírito, e não sejais desle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fadais ao SENHOR com vossas palavras; e ainda dizeis: Em que o enfadamos? Nisto que dizeis: Qualquer que faz o mal passa por bom aos olhos do SENHOR, e desses é que ele se agrada, ou, onde está o Deus do juíz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ouvirdes e se não propuserdes, no vosso coração, dar honra ao meu nome, diz o SENHOR dos Exércitos, enviarei a maldição contra vós, e amaldiçoarei as vossas bênçãos; e também já as tenho amaldiçoado, porque não aplicais a isso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reprovarei a vossa semente, e espalharei esterco sobre os vossos rostos, o esterco das vossas festas solenes; e para junto deste sereis le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bereis que eu vos enviei este mandamento, para que a minha aliança fosse com Levi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nha aliança com ele foi de vida e de paz, e eu lhas dei para que temesse; então temeu-me, e assombrou-se por causa d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ei da verdade esteve na sua boca, e a iniqüidade não se achou nos seus lábios; andou comigo em paz e em retidão, e da iniqüidade converteu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lábios do sacerdote devem guardar o conhecimento, e da sua boca devem os homens buscar a lei porque ele é o mensageiro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vos desviastes do caminho; a muitos fizestes tropeçar na lei; corrompestes a aliança de Levi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eu vos fiz desprezíveis, e indignos diante de todo o povo, visto que não guardastes os meus caminhos, mas fizestes acepção de pessoas n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32Z</dcterms:created>
  <dc:creator>Admin</dc:creator>
  <dc:description/>
  <dc:language>en-US</dc:language>
  <cp:lastModifiedBy>Admin</cp:lastModifiedBy>
  <dcterms:modified xsi:type="dcterms:W3CDTF">2008-07-31T00:12:32Z</dcterms:modified>
  <cp:revision>1</cp:revision>
  <dc:subject/>
  <dc:title>Slide 1</dc:title>
</cp:coreProperties>
</file>