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F5D-F316-4691-8FAF-BAD0F1CA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D7D-5B2B-45D9-84F0-E0A84D23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9FCF-F8DC-45F9-B7B7-DE22EC14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E6D-C0B6-4AC9-9A07-DE40AD5D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DB4-7A5F-4848-ABD6-FB0ED2DD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EAAD-0FF3-4A15-8253-8A929AFF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82AD-B5AA-4B06-9835-00A8ED59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0FC-1C00-4B13-B293-11CAD46A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5E0-1FBE-4DA1-A1A5-11DF9A04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EE5-1E06-443B-8FDE-2060D742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65F-F9F1-45B0-8618-D13004BB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675-008F-4DE5-A553-71F129F2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4B15-22F0-4F12-BBCF-DB022BCED8F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que, depois que o muro foi edificado, eu levantei as portas; e foram estabelecidos os porteiros, os cantores e os levi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Ará, seiscentos e cinqüenta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Paate-Moabe, dos filhos de Jesuá e de Joabe, dois mil, oitocentos e dezo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Elão, mil, duzentos e cinqüenta e qua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Zatu, oitocentos e quarenta e ci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Zacai, setecentos e sess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Binui, seiscentos e quarenta e o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Bebai, seiscentos e vinte e o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Azgade, dois mil, trezentos e vinte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Adonicão, seiscentos e sessenta e s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Bigvai, dois mil e sessenta e s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nomeei a Hanani, meu irmão, e a Hananias, líder da fortaleza, em Jerusalém; porque ele era homem fiel e temente a Deus, mais do que mu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Adim, seiscentos e cinqüenta e ci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Ater, de Ezequias, noventa e o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Hassum, trezentos e vinte e o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Bezai, trezentos e vinte e qua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Harife, cento e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Gibeom, noventa e ci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homens de Belém e de Netofa, cento e oitenta e o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homens de Anatote, cento e vinte e o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homens de Bete-Azmavete, quarenta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homens de Quiriate-Jearim, Quefira e Beerote, setecentos e quarenta e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Não se abram as portas de Jerusalém até que o sol aqueça, e enquanto os que assistirem ali permanecerem, fechem as portas, e vós trancai-as; e ponham-se guardas dos moradores de Jerusalém, cada um na sua guarda, e cada um diante da sua c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homens de Ramá e Geba, seiscentos e vinte e 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homens de Micmás, cento e vinte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homens de Betel e Ai, cento e vinte e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homens do outro Nebo, cinqüenta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o outro Elão, mil, duzentos e cinqüenta e quatr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Harim, trezentos e vi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Jericó, trezentos e quarenta e ci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Lode, Hadide e Ono, setecentos e vinte e 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Senaá, três mil, novecentos e tri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acerdotes: Os filhos de Jedaías, da casa de Jesuá, novecentos e setenta e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a cidade larga de espaço, e grande, porém pouco povo havia dentro dela; e ainda as casas não estavam edific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Imer, mil e cinqüenta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Pasur, mil, duzentos e quarenta e s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Harim, mil e dezess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levitas: Os filhos de Jesuá, de Cadmiel, dos filhos de Hodeva, setenta e qua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antores: Os filhos de Asafe, cento e quarenta e o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orteiros: Os filhos de Salum, os filhos de Ater, os filhos de Talmom, os filhos de Acube, os filhos de Hatita, os filhos de Sobai, cento e trinta e o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rvidores do templo: Os filhos de Zia, os filhos de Hasufa, os filhos de Tabao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Queros, os filhos de Sia, os filhos de Pado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Lebana, os filhos de Hagaba, os filhos de Salma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Hanã, os filhos de Gidel, os filhos de Gaa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meu Deus me pôs no coração que ajuntasse os nobres, os magistrados e o povo, para registrar as genealogias; e achei o livro da genealogia dos que subiram primeiro e nele estava escrito o seguint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Reaías, os filhos de Rezim, os filhos de Neco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Gazão, os filhos de Uzá, os filhos de Pase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Besai, os filhos de Meunim, os filhos de Nefuss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Bacbuque, os filhos de Hacufa, os filhos de Haru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Bazlite, os filhos de Meída, os filhos de Har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Barcos, os filhos de Sísera, os filhos de Tam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Nezia, os filhos de Hatif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os servos de Salomão, os filhos de Sotai, os filhos de Soferete, os filhos de Perid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Jaalá, os filhos de Darcom, os filhos de Gide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Sefatias, os filhos de Hatil, os filhos de Poquerete-Hazebaim, os filhos de Am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a província, que subiram do cativeiro dos exilados, que transportara Nabucodonosor, rei de Babilônia; e voltaram para Jerusalém e para Judá, cada um para a su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servidores do templo e os filhos dos servos de Salomão, trezentos e noventa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stes subiram de Tel-Melá, e Tel-Harsa, Querube, Adom, Imer; porém não puderam provar que a casa de seus pais e a sua linhagem, eram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Dalaías, os filhos de Tobias, os filhos de Necoda, seiscentos e quarenta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s sacerdotes: os filhos de Hobaías, os filhos de Coz, os filhos de Barzilai, que tomara uma mulher das filhas de Barzilai, o gileadita, e que foi chamado d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6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buscaram o seu registro nos livros genealógicos, porém não se achou; então, como imundos, foram excluídos do sacerdó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6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governador lhes disse que não comessem das coisas sagradas, até que se apresentasse o sacerdote com Urim e Tu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6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esta congregação junta foi de quarenta e dois mil, trezentos e sessen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6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fora os seus servos e as suas servas, que foram sete mil, trezentos e trinta e sete; e tinham duzentos e quarenta e cinco cantores e canto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6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cavalos, setecentos e trinta e seis; os seus mulos, duzentos e quarenta e ci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6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melos, quatrocentos e trinta e cinco; jumentos, seis mil, setecentos e vi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vieram com Zorobabel, Jesuá, Neemias, Azarias, Raamias, Naamani, Mordecai, Bilsã, Misperete, Bigvai, Neum, e Baana; este é o número dos homens do pov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7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a parte dos chefes dos pais contribuíram para a obra. O governador deu para o tesouro, em ouro, mil dracmas, cinqüenta bacias, e quinhentas e trinta vestes sacerdot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7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mais dos chefes dos pais contribuíram para o tesouro da obra, em ouro, vinte mil dracmas, e em prata, duas mil e duzentas li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7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deu o restante do povo foi, em ouro, vinte mil dracmas, e em prata, duas mil libras; e sessenta e sete vestes sacerdot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7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bitaram os sacerdotes, os levitas, os porteiros, os cantores, alguns do povo, os servidores do templo, e todo o Israel nas suas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 os filhos de Parós, dois mil, cento e setenta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Sefatias, trezentos e setenta e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7:06Z</dcterms:created>
  <dc:creator>Admin</dc:creator>
  <dc:description/>
  <dc:language>en-US</dc:language>
  <cp:lastModifiedBy>Admin</cp:lastModifiedBy>
  <dcterms:modified xsi:type="dcterms:W3CDTF">2008-07-31T00:17:06Z</dcterms:modified>
  <cp:revision>1</cp:revision>
  <dc:subject/>
  <dc:title>Slide 1</dc:title>
</cp:coreProperties>
</file>