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AFC0-0773-4AEF-B0B7-D906A8BB2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711A-CC61-452C-9A80-3536A1384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C1B0-20E5-4F70-8140-95C1AA067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3D72-62DB-4F68-8B0B-BFE5C38EA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205A-E67D-4677-AF8E-737A793F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1394-7F2F-450F-AE76-B33A233E1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99BC-92FB-4AC1-8631-C5E9FB0FF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0CE2-AC58-43F1-A3CB-CC15B3DF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2733-8E6A-4096-815B-44E950C61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AD4D-02F8-4D29-A40D-4A2BE5B5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1405-2C4B-4D24-9C34-D1724E3B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49AE-881F-41E5-9E54-12EE264C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A8F69-4429-43FF-9BAC-3D65F08E41F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quanto à coleta que se faz para os santos, fazei vós também o mesmo que ordenei às igrejas da Galá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 Timóteo for, vede que esteja sem temor convosco; porque trabalha na obra do Senhor, como eu tamb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ninguém o despreze, mas acompanhai-o em paz, para que venha ter comigo; pois o espero com os ir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acerca do irmão Apolo, roguei-lhe muito que fosse com os irmãos ter convosco, mas, na verdade, não teve vontade de ir agora; irá, porém, quando se lhe oferecer boa ocasi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giai, estai firmes na fé; portai-vos varonilmente, e fortalecei-v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6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s as vossas coisas sejam feitas com am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6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 vos rogo, irmãos (sabeis que a família de Estéfanas é as primícias da Acaia, e que se tem dedicado ao ministério dos santos)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6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também vos sujeiteis aos tais, e a todo aquele que auxilia na obra e trabal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6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olgo, porém, com a vinda de Estéfanas, de Fortunato e de Acaico; porque estes supriram o que da vossa parte me falta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6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recrearam o meu espírito e o vosso. Reconhecei, pois, aos t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6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igrejas da Ásia vos saúdam. Saúdam-vos afetuosamente no Senhor Áqüila e Priscila, com a igreja que está em su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primeiro dia da semana cada um de vós ponha de parte o que puder ajuntar, conforme a sua prosperidade, para que não se façam as coletas quando eu che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6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s os irmãos vos saúdam. Saudai-vos uns aos outros com ósculo sa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6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udação da minha própria mão, de Pau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6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alguém não ama ao Senhor Jesus Cristo, seja anátema. Maranata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6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graça do SENHOR Jesus Cristo seja convos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6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meu amor seja com todos vós em Cristo Jesus. Am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tiver chegado, mandarei os que por cartas aprovardes, para levar a vossa dádiva a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 valer a pena que eu também vá, irão com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rei, porém, ter convosco depois de ter passado pela Macedônia (porque tenho de passar pela Macedônia)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bem pode ser que fique convosco, e passe também o inverno, para que me acompanheis aonde quer que eu f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ão vos quero agora ver de passagem, mas espero ficar convosco algum tempo, se o Senhor o permit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carei, porém, em Éfeso até ao Pentecost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uma porta grande e eficaz se me abriu; e há muitos adversár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2:03Z</dcterms:created>
  <dc:creator>Admin</dc:creator>
  <dc:description/>
  <dc:language>en-US</dc:language>
  <cp:lastModifiedBy>Admin</cp:lastModifiedBy>
  <dcterms:modified xsi:type="dcterms:W3CDTF">2008-07-30T23:42:03Z</dcterms:modified>
  <cp:revision>1</cp:revision>
  <dc:subject/>
  <dc:title>Slide 1</dc:title>
</cp:coreProperties>
</file>