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164-0E5E-439A-8FDD-97963108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456-1142-4968-947E-497E8E7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023-CE7F-484E-9B4F-D10C6754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D49-8D1B-4ECF-96D2-82D5F6EB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EDB-AF7F-48ED-9BDD-7A8116A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02E-A151-4B35-8986-835B919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FD7-279D-4F42-AB5A-1199DCE4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297-D1E1-4F26-BA16-7B319B0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4CB-ADC3-4AF2-B18F-DBFDC47B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06F-C819-4A1F-964A-4EF751F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F8A-B230-4F6D-89B8-962B7EB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9E0-A193-4E23-B3CD-12D0A31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37F1-EB2F-4A18-8963-648A4279C2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-ME quando eu clamo, ó Deus da minha justiça, na angústia me deste largueza; tem misericórdia de mim e ouve a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s dos homens, até quando convertereis a minha glória em infâmia? Até quando amareis a vaidade e buscareis a mentira?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, pois, que o SENHOR separou para si aquele que é piedoso; o SENHOR ouvirá quando eu clamar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turbai-vos e não pequeis; falai com o vosso coração sobre a vossa cama, e calai-v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ferecei sacrifícios de justiça, e confiai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dizem: Quem nos mostrará o bem? SENHOR, exalta sobre nós a luz do t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useste alegria no meu coração, mais do que no tempo em que se lhes multiplicaram o trigo e o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paz também me deitarei e dormirei, porque só tu, SENHOR, me fazes habitar em segu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9Z</dcterms:created>
  <dc:creator>Admin</dc:creator>
  <dc:description/>
  <dc:language>en-US</dc:language>
  <cp:lastModifiedBy>Admin</cp:lastModifiedBy>
  <dcterms:modified xsi:type="dcterms:W3CDTF">2008-07-31T00:24:09Z</dcterms:modified>
  <cp:revision>1</cp:revision>
  <dc:subject/>
  <dc:title>Slide 1</dc:title>
</cp:coreProperties>
</file>