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652-A6C5-403B-BA91-5477C632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D95-20FD-4EB5-8A2C-48663A49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100-818F-4299-82F4-0F879BA0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0B5-41A0-4F5A-B2F9-ACAF7980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5EA-76D7-49CB-8190-72EC661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02F-C546-4BDB-899C-0EC25EB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CDC-EFBD-4EDD-91A4-DC71102A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997-8CD9-4087-A0A0-DB44E156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6DD-CFE3-4929-BA2D-DDE1380F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29D-BCFC-4350-83E0-3CEFDB4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488-9520-4982-AD27-AD56183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B14-DE34-4458-85A8-919449B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0423-24DD-44E7-812C-97C3771C87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u farás chegar a ti teu irmão Arão, e seus filhos com ele, do meio dos filhos de Israel, para me administrarem o ofício sacerdotal; a saber: Arão, Nadabe, e Abiú, Eleazar e Itamar, os filhos de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os seus nomes numa pedra, e os outros seis nomes na outra pedra, segundo as suas ger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à obra do lapidário, como o lavor de selos lavrarás estas duas pedras, com os nomes dos filhos de Israel; engastadas ao redor em ouro as f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s as duas pedras nas ombreiras do éfode, por pedras de memória para os filhos de Israel; e Arão levará os seus nomes sobre ambos os seus ombros, para memória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engastes de ou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uas cadeiazinhas de ouro puro; de igual medida, de obra de fieira as farás; e as cadeiazinhas de fieira porás nos eng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o peitoral do juízo de obra esmerada, conforme à obra do éfode o farás; de ouro, de azul, e de púrpura, e de carmesim, e de linho fino torcido o f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drado e duplo, será de um palmo o seu comprimento, e de um palmo a sua lar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ncherás de pedras de engaste, com quatro ordens de pedras; a ordem de um sárdio, de um topázio, e de um carbúnculo; esta será a primeira ord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gunda ordem será de uma esmeralda, de uma safira, e de um diama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ceira ordem será de um jacinto, de uma ágata, e de uma ametis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vestes sagradas a Arão teu irmão, para glória e orn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arta ordem será de um berilo, e de um ônix, e de um jaspe; engastadas em ouro serão nos seus eng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ão aquelas pedras segundo os nomes dos filhos de Israel, doze segundo os seus nomes; serão esculpidas como selos, cada uma com o seu nome, para as doze tri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para o peitoral cadeiazinhas de igual medida, obra trançada de our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para o peitoral dois anéis de ouro, e porás os dois anéis nas extremidades do peitor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orás as duas cadeiazinhas de fieira de ouro nos dois anéis, nas extremidades do peitor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duas pontas das duas cadeiazinhas de fieira colocarás nos dois engastes, e as porás nas ombreiras do éfode, na fre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dois anéis de ouro, e os porás nas duas extremidades do peitoral, na sua borda que estiver junto ao éfode por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dois anéis de ouro, que porás nas duas ombreiras do éfode, abaixo, na frente dele, perto da sua juntura, sobre o cinto de obra esmerada do éfo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garão o peitoral, com os seus anéis, aos anéis do éfode por cima, com um cordão de azul, para que esteja sobre o cinto de obra esmerada do éfode; e nunca se separará o peitoral do éfo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rão levará os nomes dos filhos de Israel no peitoral do juízo sobre o seu coração, quando entrar no santuário, para memória diante do SENHOR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rás também a todos os que são sábios de coração, a quem eu tenho enchido do espírito da sabedoria, que façam vestes a Arão para santificá-lo; para que me administre o ofício sacerdo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orás no peitoral do juízo Urim e Tumim, para que estejam sobre o coração de Arão, quando entrar diante do SENHOR: assim Arão levará o juízo dos filhos de Israel sobre o seu coração diante do SENHOR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o manto do éfode, todo de az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bertura da cabeça estará no meio dele; esta abertura terá uma borda de obra tecida ao redor; como abertura de cota de malha será, para que não se rom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s suas bordas farás romãs de azul, e de púrpura, e de carmesim, ao redor das suas bordas; e campainhas de ouro no meio dela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ampainha de ouro, e uma romã, outra campainha de ouro, e outra romã, haverá nas bordas do manto ao red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rá sobre Arão quando ministrar, para que se ouça o seu sonido, quando entrar no santuário diante do SENHOR, e quando sair, para que não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uma lâmina de ouro puro, e nela gravarás como as gravuras de selos: SANTIDAD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á-la-ás com um cordão de azul, de modo que esteja na mitra, na frente da mitra esta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rá sobre a testa de Arão, para que Arão leve a iniqüidade das coisas santas, que os filhos de Israel santificarem em todas as ofertas de suas coisas santas; e estará continuamente na sua testa, para que tenham aceitação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túnica de linho fino; também farás uma mitra de linho fino; mas o cinto farás de obra de bord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pois são as vestes que farão: um peitoral, e um éfode, e um manto, e uma túnica bordada, uma mitra, e um cinto; farão, pois, santas vestes para Arão, teu irmão, e para seus filhos, para me administrarem o ofício sacerdo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túnicas aos filhos de Arão, e far-lhes-ás cintos; também lhes farás tiaras, para glória e orn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stirás com eles a Arão, teu irmão, e também seus filhos; e os ungirás e consagrarás, e os santificarás, para que me administrem 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lhes também calções de linho, para cobrirem a carne nua; irão dos lombos até as cox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rão sobre Arão e sobre seus filhos, quando entrarem na tenda da congregação, ou quando chegarem ao altar para ministrar no santuário, para que não levem iniqüidade e morram; isto será estatuto perpétuo para ele e para a sua descendência depois d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ão o ouro, e o azul, e a púrpura, e o carmesim, e o linho fin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ão o éfode de ouro, e de azul, e de púrpura, e de carmesim, e de linho fino torcido, de obra esme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rá duas ombreiras, que se unam às suas duas pontas, e assim se un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into de obra esmerada do seu éfode, que estará sobre ele, será da sua mesma obra, igualmente, de ouro, de azul, e de púrpura, e de carmesim, e de linho fino tor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s duas pedras de ônix, e gravarás nelas os nomes dos filhos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47Z</dcterms:created>
  <dc:creator>Admin</dc:creator>
  <dc:description/>
  <dc:language>en-US</dc:language>
  <cp:lastModifiedBy>Admin</cp:lastModifiedBy>
  <dcterms:modified xsi:type="dcterms:W3CDTF">2008-07-30T23:32:47Z</dcterms:modified>
  <cp:revision>1</cp:revision>
  <dc:subject/>
  <dc:title>Slide 1</dc:title>
</cp:coreProperties>
</file>