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12C-7AA9-4D18-A2AE-ADD6276A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F63-3761-43A9-B56A-F9FCD17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2C8-688B-49B8-9AF0-A89D1725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8C9-A2E7-48CC-9F3E-6CA8FC59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A33-47AD-410E-909E-539AFA00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437-17BE-4933-9128-3D7438B7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AD-3BD2-4EB7-BABC-04562ADA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6DD-157B-48B9-8B57-7E1A0205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EC7-3AD4-420D-887B-24C9074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248-63EB-4EF6-A859-4FE9F1B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4EE-95C8-4C52-9FFB-95191B2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DAD-1F84-4B99-AF7A-54CE8D7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BC4-7E56-404F-86AF-C0D0BDF004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ssado o tumulto, Paulo mandou chamar os discípulos, e, tendo-os confortado, despediu-se, e partiu para a Maced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porém, descendo, inclinou-se sobre ele e, abraçando-o, disse: Não vos perturbeis, que a sua alma nele es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ndo, e partindo o pão, e comendo, ainda lhes falou largamente até à alvorada; e assim par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am vivo o jovem, e ficaram não pouco conso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, porém, subindo ao navio, navegamos até Assôs, onde devíamos receber a Paulo, porque assim o ordenara, indo ele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se ajuntou conosco em Assôs, o recebemos, e fomos a Mitile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vegando dali, chegamos no dia seguinte defronte de Quios, e no outro aportamos a Samos e, ficando em Trogílio, chegamos no dia seguinte a Mil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Paulo tinha determinado passar ao largo de Éfeso, para não gastar tempo na Ásia. Apressava-se, pois, para estar, se lhe fosse possível, em Jerusalém no dia de Penteco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Mileto mandou a Éfeso, a chamar os anciãos d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chegaram junto dele, disse-lhes: Vós bem sabeis, desde o primeiro dia em que entrei na Ásia, como em todo esse tempo me portei no meio de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vindo ao Senhor com toda a humildade, e com muitas lágrimas e tentações, que pelas ciladas dos judeus me sobrevi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ndado por aquelas terras, exortando-os com muitas palavras, veio à Gré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nada, que útil seja, deixei de vos anunciar, e ensinar publicamente e pelas ca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stificando, tanto aos judeus como aos gregos, a conversão a Deus, e a fé em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eis que, ligado eu pelo espírito, vou para Jerusalém, não sabendo o que lá me há de acontec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ão o que o Espírito Santo de cidade em cidade me revela, dizendo que me esperam prisões e tribul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m nada tenho a minha vida por preciosa, contanto que cumpra com alegria a minha carreira, e o ministério que recebi do Senhor Jesus, para dar testemunho do evangelho da gra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na verdade, sei que todos vós, por quem passei pregando o reino de Deus, não vereis mais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o dia de hoje, vos protesto que estou limpo do sangue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nca deixei de vos anunciar todo o conse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, pois, por vós, e por todo o rebanho sobre que o Espírito Santo vos constituiu bispos, para apascentardes a igreja de Deus, que ele resgatou com seu própri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ei isto que, depois da minha partida, entrarão no meio de vós lobos cruéis, que não pouparão ao reban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ali três meses, e sendo-lhe pelos judeus postas ciladas, como tivesse de navegar para a Síria, determinou voltar pela Maced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de entre vós mesmos se levantarão homens que falarão coisas perversas, para atraírem os discípulos após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igiai, lembrando-vos de que durante três anos, não cessei, noite e dia, de admoestar com lágrimas a cada um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irmãos, encomendo-vos a Deus e à palavra da sua graça; a ele que é poderoso para vos edificar e dar herança entre todos os sant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ninguém cobicei a prata, nem o ouro, nem o ves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vós mesmos sabeis que para o que me era necessário a mim, e aos que estão comigo, estas mãos me ser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vos mostrado em tudo que, trabalhando assim, é necessário auxiliar os enfermos, e recordar as palavras do Senhor Jesus, que disse: Mais bem-aventurada coisa é dar do que rec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dito isto, pôs-se de joelhos, e orou com todos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um grande pranto entre todos e, lançando-se ao pescoço de Paulo, o beijav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istecendo-se muito, principalmente pela palavra que dissera, que não veriam mais o seu rosto. E acompanharam-no até o na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mpanhou-o, até à Ásia, Sópater, de Beréia, e, dos de Tessalônica, Aristarco, e Segundo, e Gaio de Derbe, e Timóteo, e, dos da Ásia, Tíquico e Tróf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indo adiante, nos esperaram em Trô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os dias dos pães ázimos, navegamos de Filipos, e em cinco dias fomos ter com eles a Trôade, onde estivemos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primeiro dia da semana, ajuntando-se os discípulos para partir o pão, Paulo, que havia de partir no dia seguinte, falava com eles; e prolongou a prática até à meia-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muitas luzes no cenáculo onde estavam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um certo jovem, por nome Êutico, assentado numa janela, caiu do terceiro andar, tomado de um sono profundo que lhe sobreveio durante o extenso discurso de Paulo; e foi levantado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5:00Z</dcterms:created>
  <dc:creator>Admin</dc:creator>
  <dc:description/>
  <dc:language>en-US</dc:language>
  <cp:lastModifiedBy>Admin</cp:lastModifiedBy>
  <dcterms:modified xsi:type="dcterms:W3CDTF">2008-07-30T23:25:00Z</dcterms:modified>
  <cp:revision>1</cp:revision>
  <dc:subject/>
  <dc:title>Slide 1</dc:title>
</cp:coreProperties>
</file>