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ED2-5145-4721-8709-13CC21AF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C7C-4D50-4BE2-8F00-62D8C4A6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9BF-0022-404E-8A0D-FC78AA0F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B9B-596C-4646-8566-106BA59F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2AA-82CB-47BC-AAF0-D78DD5C6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185-EC63-480C-AEA0-094F2F8A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BCF-3C35-4B24-923A-E7A0188C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223-9292-476B-96CB-DBBCE6A3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57D-E3C7-4E1F-ADDF-4372803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291-B7B7-4C84-9382-66115662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68F-5473-4D74-88E4-F0D3347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F6B-2586-4A22-8566-91AD26F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167F-2358-42E5-93C7-934ED23C3E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é o livro das gerações de Adão. No dia em que Deus criou o homem, à semelhança de Deus o fe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Enos, depois que gerou a Cainã, oitocentos e quinze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Enos novecentos e cinco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Cainã setenta anos, e gerou a Maalale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Cainã, depois que gerou a Maalaleel, oitocentos e quarenta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Cainã novecentos e dez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Maalaleel sessenta e cinco anos, e gerou a Jer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Maalaleel, depois que gerou a Jerede, oitocentos e trinta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Maalaleel oitocentos e noventa e cinco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Jerede cento e sessenta e dois anos, e gerou a Eno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Jerede, depois que gerou a Enoque, oitocento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mem e mulher os criou; e os abençoou e chamou o seu nome Adão, no dia em que foram cri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Jerede novecentos e sessenta e dois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Enoque sessenta e cinco anos, e gerou a Mat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Enoque com Deus, depois que gerou a Matusalém, trezento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Enoque trezentos e sessenta e cinco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ou Enoque com Deus; e não apareceu mais, porquanto Deus para si o to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Matusalém cento e oitenta e sete anos, e gerou a Lam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Matusalém, depois que gerou a Lameque, setecentos e oitenta e doi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Matusalém novecentos e sessenta e nove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Lameque cento e oitenta e dois anos, e gerou um filh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chamou Noé, dizendo: Este nos consolará acerca de nossas obras e do trabalho de nossas mãos, por causa da terra que o SENHOR amaldiço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ão viveu cento e trinta anos, e gerou um filho à sua semelhança, conforme a sua imagem, e pôs-lhe o nome de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Lameque, depois que gerou a Noé, quinhentos e noventa e cinco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Lameque setecentos e setenta e sete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3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ra Noé da idade de quinhentos anos, e gerou Noé a Sem, Cão e Ja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os dias de Adão, depois que gerou a Sete, oitocentos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que Adão viveu, novecentos e trinta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te cento e cinco anos, e gerou a E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Sete, depois que gerou a Enos, oitocentos e sete anos, e gerou filhos e fi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todos os dias de Sete novecentos e doze anos, e 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veu Enos noventa anos, e gerou a Cain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26Z</dcterms:created>
  <dc:creator>Admin</dc:creator>
  <dc:description/>
  <dc:language>en-US</dc:language>
  <cp:lastModifiedBy>Admin</cp:lastModifiedBy>
  <dcterms:modified xsi:type="dcterms:W3CDTF">2008-07-30T23:37:26Z</dcterms:modified>
  <cp:revision>1</cp:revision>
  <dc:subject/>
  <dc:title>Slide 1</dc:title>
</cp:coreProperties>
</file>