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FB3-92D5-4EA0-85C9-EF8127E9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681-6212-4D1D-B963-F374734B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132-991D-4606-9935-25087DCC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2C8-A7EE-419E-8D27-765CD2A7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F55-2141-452C-952E-A65DB51E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B09-697C-4E40-8167-EBDE219B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015-8F98-4B6F-B8DC-A618C96A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9E7-325D-4C08-B8C4-C4557B5F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359-C892-4AA1-920F-F7402A14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2C2-BD7A-4D62-8779-58E6DDF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3AF-7513-41D7-AA01-DB90154E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3E6-8AF4-47BF-8CDC-1328579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D924-CA46-43D8-B778-04659501987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Ó, porém, responde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rcou um limite sobre a superfície das águas em redor, até aos confins da luz e d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colunas do céu tremem, e se espantam da sua ame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 sua força fende o mar, e com o seu entendimento abate a sober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seu Espírito ornou os céus; a sua mão formou a serpente enroscad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isto são apenas as orlas dos seus caminhos; e quão pouco é o que temos ouvido dele! Quem, pois, entenderia o trovão do seu pod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judaste aquele que não tinha força, e sustentaste o braço que não tinha vig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conselhaste aquele que não tinha sabedoria, e plenamente fizeste saber a causa, assim como e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proferiste palavras, e de quem é o espírito que saiu de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rtos tremem debaixo das águas, com os seus mor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inferno está nu perante ele, e não há coberta para a per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norte estende sobre o vazio; e suspende a terra sobre o 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nde as águas nas suas nuvens, todavia a nuvem não se rasga debaixo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obre a face do seu trono, e sobre ele estende a sua nu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36Z</dcterms:created>
  <dc:creator>Admin</dc:creator>
  <dc:description/>
  <dc:language>en-US</dc:language>
  <cp:lastModifiedBy>Admin</cp:lastModifiedBy>
  <dcterms:modified xsi:type="dcterms:W3CDTF">2008-07-31T00:01:36Z</dcterms:modified>
  <cp:revision>1</cp:revision>
  <dc:subject/>
  <dc:title>Slide 1</dc:title>
</cp:coreProperties>
</file>