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1B4-E675-4423-8931-BF4FCD14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7FB-E3CE-4EEE-ADCA-1DD39D58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CCB9-BC61-4FEB-B503-CF38D814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C22-2B10-4D2F-AF7A-EA02336F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0BD-32BF-4B3D-95D1-C33520DC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21E-02B6-4545-B458-769851D8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A10-5BFF-4CF4-A1A0-8C1F527C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7FB-6DA7-4453-B859-57473534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7BE-F6FC-40CB-B012-BF25D621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710-85EE-4CE1-952C-EE1FC491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23B-D5E0-4C0F-AFA8-3280E96E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CE9-3C77-4296-A2AC-8FF00464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99D1-FEB3-4E3D-B855-F93B22C97DE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nhas inveja dos homens malignos, nem desejes estar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e mostrares fraco no dia da angústia, é que a tua força é peque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u deixares de livrar os que estão sendo levados para a morte, e aos que estão sendo levados para a matan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isseres: Eis que não o sabemos; porventura não o considerará aquele que pondera os corações? Não o saberá aquele que atenta para a tua alma? Não dará ele ao homem conforme a sua ob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e mel, meu filho, porque é bom; o favo de mel é doce ao teu pala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rá para a tua alma o conhecimento da sabedoria; se a achares, haverá galardão para ti e não será cortada a tua esp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rmes ciladas contra a habitação do justo, ó ímpio, nem assoles o seu lugar de repous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te vezes cairá o justo, e se levantará; mas os ímpios tropeçarão n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cair o teu inimigo, não te alegres, nem se regozije o teu coração quando ele tropeç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, vendo-o o SENHOR, seja isso mau aos seus olhos, e desvie dele a s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indignes por causa dos malfeitores, nem tenhas inveja dos ímpi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u coração medita a rapina, e os seus lábios falam a mal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homem maligno não terá galardão, e a lâmpada dos ímpios se a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e ao SENHOR, filho meu, e ao rei, e não te ponhas com os que buscam mudanç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 repente se levantará a sua destruição, e a ruína de ambos, quem o sab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stes são provérbios dos sábios: Ter respeito a pessoas no julgamento não é b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disser ao ímpio: Justo és, os povos o amaldiçoarão, as nações o detes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ra os que o repreenderem haverá delícias, e sobre eles virá a bênção d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ijados serão os lábios do que responde com palavras r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a de fora a tua obra, e aparelha-a no campo, e então edifica a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jas testemunha sem causa contra o teu próximo; e não enganes com os teu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igas: Como ele me fez a mim, assim o farei eu a ele; pagarei a cada um segundo a su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 sabedoria se edifica a casa, e com o entendimento ela se estabelec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ei pelo campo do preguiçoso, e junto à vinha do homem falto de entendimen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stava toda cheia de cardos, e a sua superfície coberta de urtiga, e o seu muro de pedras estava derru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eu tenho visto, o guardarei no coração, e vendo-o recebi instru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pouco a dormir, um pouco a cochilar; outro pouco deitado de mãos cruzadas, para dormi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e sobrevirá a tua pobreza como um vagabundo, e a tua necessidade como um homem ar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lo conhecimento se encherão as câmaras com todos os bens preciosos e agradá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sábio é forte, e o homem de conhecimento consolida 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conselhos prudentes tu farás a guerra; e há vitória na multidão dos conselh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bedoria é demasiadamente alta para o tolo, na porta não abrirá 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quele que cuida em fazer mal, chamá-lo-ão de pessoa dan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ensamento do tolo é pecado, e abominável aos homens é o escarnec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35Z</dcterms:created>
  <dc:creator>Admin</dc:creator>
  <dc:description/>
  <dc:language>en-US</dc:language>
  <cp:lastModifiedBy>Admin</cp:lastModifiedBy>
  <dcterms:modified xsi:type="dcterms:W3CDTF">2008-07-31T00:22:35Z</dcterms:modified>
  <cp:revision>1</cp:revision>
  <dc:subject/>
  <dc:title>Slide 1</dc:title>
</cp:coreProperties>
</file>