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99F8-F86F-4DCE-B3D7-3358BB9EE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D17A-93CD-4E77-B1D5-94A374C67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1773-02EC-497C-AAF5-4701613A1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FDCA-94FC-427D-A455-36CC856F8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BF51-9E9C-45C5-B118-296A34BAE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457A-AD16-42E0-B92E-B11F1950C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498C-C554-4503-AA56-3B32B3D16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3065-5ECF-4CFC-8AB4-15BDF8FD8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3BA4-92CC-429F-92A4-1CD3E0905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C08B-E268-4481-A696-8FCCA2A48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DB64-D1F2-4669-A941-324C24061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C2B6-43E4-4C2B-AD01-B23846963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97FD6-16CC-4641-9141-029A2871E13C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6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MO ao SENHOR, porque ele ouviu a minha voz e a minha súplic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6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ri, por isso falei. Estive muito afl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6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zia na minha pressa: Todos os homens são mentiros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6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darei eu ao SENHOR, por todos os benefícios que me tem feit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6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marei o cálice da salvação, e invocarei o nome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6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garei os meus votos ao SENHOR, agora, na presença de todo o seu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6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reciosa é à vista do SENHOR a morte dos seus san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6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Ó SENHOR, deveras sou teu servo; sou teu servo, filho da tua serva; soltaste as minhas atadu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6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ferecer-te-ei sacrifícios de louvor, e invocarei o nome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6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garei os meus votos ao SENHOR, na presença de todo o seu pov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6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s átrios da casa do SENHOR, no meio de ti, ó Jerusalém. Louvai a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6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inclinou a mim os seus ouvidos; portanto, o invocarei enquanto viv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6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cordéis da morte me cercaram, e angústias do inferno se apoderaram de mim; encontrei aperto e tristez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6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invoquei o nome do SENHOR, dizendo: Ó SENHOR, livra a minha al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6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iedoso é o SENHOR e justo; o nosso Deus tem misericórd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6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guarda aos símplices; fui abatido, mas ele me livr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6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olta, minha alma, para o teu repouso, pois o SENHOR te fez b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6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tu livraste a minha alma da morte, os meus olhos das lágrimas, e os meus pés da que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6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ndarei perante a face do SENHOR na terra dos viven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7:51Z</dcterms:created>
  <dc:creator>Admin</dc:creator>
  <dc:description/>
  <dc:language>en-US</dc:language>
  <cp:lastModifiedBy>Admin</cp:lastModifiedBy>
  <dcterms:modified xsi:type="dcterms:W3CDTF">2008-07-31T00:27:51Z</dcterms:modified>
  <cp:revision>1</cp:revision>
  <dc:subject/>
  <dc:title>Slide 1</dc:title>
</cp:coreProperties>
</file>