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ADFD-0926-4A09-8F71-55606A37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A3E0-4B75-4271-9A76-6B21D3F4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CDFF-6EB7-41B6-8991-BCA1DAF9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1967-A5F4-4E9F-A246-785896E5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36CD-38F5-4E2A-BCDB-0AE7F598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6CC0-8999-47A5-BBFE-2B7C111B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BF03-AB45-4990-AD92-8E5C5177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F482-2C31-4AD0-89EB-A1BBBE8A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DA54-4E58-40EC-8831-7D334604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7C7D-8A7A-46C0-A749-546477D5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CE9B-0971-4C67-8121-51288D18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F9E2-6B50-4F1D-94E5-E9B4AE44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FB45-2751-4485-8D3E-C99E6C1DF2A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mesmo tempo me disse o SENHOR: Alisa duas tábuas de pedra, como as primeiras, e sobe a mim ao monte, e faze-te uma arca de madei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estive no monte, como nos primeiros dias, quarenta dias e quarenta noites; e o SENHOR me ouviu ainda por esta vez; não quis o SENHOR destruir-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SENHOR me disse: Levanta-te, põe-te a caminho adiante do povo, para que entrem, e possuam a terra que jurei dar a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ó Israel, que é que o SENHOR teu Deus pede de ti, senão que temas o SENHOR teu Deus, que andes em todos os seus caminhos, e o ames, e sirvas ao SENHOR teu Deus com todo o teu coração e com toda a tua alm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guardes os mandamentos do SENHOR, e os seus estatutos, que hoje te ordeno, para o teu b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os céus e os céus dos céus são do SENHOR teu Deus, a terra e tudo o que nela h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ão-somente o SENHOR se agradou de teus pais para os amar; e a vós, descendência deles, escolheu, depois deles, de todos os povos como neste dia se vê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ircuncidai, pois, o prepúcio do vosso coração, e não mais endureçais a vossa cervi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o SENHOR vosso Deus é o Deus dos deuses, e o Senhor dos senhores, o Deus grande, poderoso e terrível, que não faz acepção de pessoas, nem aceita recompens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faz justiça ao órfão e à viúva, e ama o estrangeiro, dando-lhe pão e roup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amareis o estrangeiro, pois fostes estrangeiros n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quelas tábuas escreverei as palavras que estavam nas primeiras tábuas, que quebraste, e as porás na ar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SENHOR teu Deus temerás; a ele servirás, e a ele te chegarás, e pelo seu nome jur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é o teu louvor e o teu Deus, que te fez estas grandes e terríveis coisas que os teus olhos têm v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setenta almas teus pais desceram ao Egito; e agora o SENHOR teu Deus te pôs como as estrelas dos céus em mult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fiz uma arca de madeira de acácia, e alisei duas tábuas de pedra, como as primeiras; e subi ao monte com as duas tábuas na minh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screveu nas tábuas, conforme à primeira escritura, os dez mandamentos, que o SENHOR vos falara no dia da assembléia, no monte, do meio do fogo; e o SENHOR mas deu a mi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rei-me, e desci do monte, e pus as tábuas na arca que fizera; e ali estão, como o SENHOR me orden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os filhos de Israel de Beerote-Bene-Jaacã a Moserá; ali faleceu Arão, e ali foi sepultado, e Eleazar, seu filho, administrou o sacerdócio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li partiram a Gudgodá, e de Gudgodá a Jotbatá, terra de ribeiros de á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mesmo tempo o SENHOR separou a tribo de Levi, para levar a arca da aliança do SENHOR, para estar diante do SENHOR, para o servir, e para abençoar em seu nome até a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Levi não tem parte nem herança com seus irmãos; o SENHOR é a sua herança, como o SENHOR teu Deus lhe tem fa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7:43Z</dcterms:created>
  <dc:creator>Admin</dc:creator>
  <dc:description/>
  <dc:language>en-US</dc:language>
  <cp:lastModifiedBy>Admin</cp:lastModifiedBy>
  <dcterms:modified xsi:type="dcterms:W3CDTF">2008-07-30T23:27:43Z</dcterms:modified>
  <cp:revision>1</cp:revision>
  <dc:subject/>
  <dc:title>Slide 1</dc:title>
</cp:coreProperties>
</file>