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513-F703-42AB-A02C-AA63A77D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F53-B177-43E5-8EB9-179279BE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B37-B663-474F-A8FE-F0B19E0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0B7-FBF7-4FF5-9671-0EF9AA3E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E04-ED56-4823-8385-C1ED8FBE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8E7-FE80-49DA-9186-098B47F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F9F-997C-4937-B364-7FFF1214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8D6-1FB1-45CB-9AB8-DADB5AA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C65-4185-47B8-8F89-CE5579A0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B5E-52B5-49DC-BF4C-2AC1969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605-4A07-4DB6-B371-F2666C5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E8F-46FB-4FC4-A384-969D5A8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F0D-3E79-4B0C-B589-24E7BB41CEF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 na terra do Eg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da dele deixareis até amanhã; mas o que dele ficar até amanhã, queimareis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ois o comereis: Os vossos lombos cingidos, os vossos sapatos nos pés, e o vosso cajado na mão; e o comereis apressadamente; esta é a pásco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passarei pela terra do Egito esta noite, e ferirei todo o primogênito na terra do Egito, desde os homens até aos animais; e em todos os deuses do Egito farei juízo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sangue vos será por sinal nas casas em que estiverdes; vendo eu sangue, passarei por cima de vós, e não haverá entre vós praga de mortandade, quando eu ferir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dia vos será por memória, e celebrá-lo-eis por festa ao SENHOR; nas vossas gerações o celebrareis por estatu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comereis pães ázimos; ao primeiro dia tirareis o fermento das vossas casas; porque qualquer que comer pão levedado, desde o primeiro até ao sétimo dia, aquela alma será cortad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primeiro dia haverá santa convocação; também ao sétimo dia tereis santa convocação; nenhuma obra se fará neles, senão o que cada alma houver de comer; isso somente aprontareis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 pois a festa dos pães ázimos, porque naquele mesmo dia tirei vossos exércitos da terra do Egito; pelo que guardareis a este dia nas vossas gerações por estatu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mês, aos catorze dias do mês, à tarde, comereis pães ázimos até vinte e um do mês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ete dias não se ache nenhum fermento nas vossas casas; porque qualquer que comer pão levedado, aquela alma será cortada da congregação de Israel, assim o estrangeiro como o natural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mesmo mês vos será o princípio dos meses; este vos será o primeiro dos meses d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coisa levedada comereis; em todas as vossas habitações comereis pães á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 pois Moisés a todos os anciãos de Israel, e disse-lhes: Escolhei e tomai vós cordeiros para vossas famílias, e sacrificai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i um molho de hissopo, e molhai-o no sangue que estiver na bacia, e passai-o na verga da porta, e em ambas as ombreiras, do sangue que estiver na bacia; porém nenhum de vós saia da porta da sua casa até à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passará para ferir aos egípcios, porém quando vir o sangue na verga da porta, e em ambas as ombreiras, o SENHOR passará aquela porta, e não deixará o destruidor entrar em vossas casas, para vos fe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guardai isto por estatuto para vós, e para vossos filho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entrardes na terra que o SENHOR vos dará, como tem dito, guardareis este 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vossos filhos vos disserem: Que culto é e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eis: Este é o sacrifício da páscoa ao SENHOR, que passou as casas dos filhos de Israel no Egito, quando feriu aos egípcios, e livrou as nossas casas. Então o povo inclinou-se, e ad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Israel, e fizeram isso como o SENHOR ordenara a Moisés e a Arão, assim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à meia noite, que o SENHOR feriu a todos os primogênitos na terra do Egito, desde o primogênito de Faraó, que se sentava em seu trono, até ao primogênito do cativo que estava no cárcere, e todos os primogênitos d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i a toda a congregação de Israel, dizendo: Aos dez deste mês tome cada um para si um cordeiro, segundo as casas dos pais, um cordeiro para cada famí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levantou-se de noite, ele e todos os seus servos, e todos os egípcios; e havia grande clamor no Egito, porque não havia casa em que não houvesse um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 Moisés e a Arão de noite, e disse: Levantai-vos, saí do meio do meu povo, tanto vós como os filhos de Israel; e ide, servi ao SENHOR, como tendes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i também convosco vossas ovelhas e vossas vacas, como tendes dito; e ide, e abençoai-me também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gípcios apertavam ao povo, apressando-se para lançá-los da terra; porque diziam: Todos serem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tomou a sua massa, antes que levedasse, e as suas amassadeiras atadas em suas roupas sobre seu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, pois, os filhos de Israel conforme à palavra de Moisés, e pediram aos egípcios jóias de prata, e jóias de ouro, e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 ao povo graça aos olhos dos egípcios, e estes lhe davam o que pediam; e despojaram a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artiram os filhos de Israel de Ramessés para Sucote, cerca de seiscentos mil a pé, somente de homens, sem contar os men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também com eles muita mistura de gente, e ovelhas, e bois, uma grande quantidade de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zeram bolos ázimos da massa que levaram do Egito, porque não se tinha levedado, porquanto foram lançados do Egito; e não se puderam deter, nem prepararam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 família for pequena para um cordeiro, então tome um só com seu vizinho perto de sua casa, conforme o número das almas; cada um conforme ao seu comer, fareis a conta conforme a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po que os filhos de Israel habitaram no Egito foi de quatrocentos e tri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dos os quatrocentos e trinta anos, naquele mesmo dia, todos os exércitos do SENHOR saíram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noite se guardará ao SENHOR, porque nela os tirou da terra do Egito; esta é a noite do SENHOR, que devem guardar todos os filhos de Israel n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 e a Arão: Esta é a ordenança da páscoa: nenhum filho do estrangeiro comerá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o o servo comprado por dinheiro, depois que o houveres circuncidado, então comerá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trangeiro e o assalariado não comerã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a casa se comerá; não levarás daquela carne fora da casa, nem dela quebrareis o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ongregação de Israel o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algum estrangeiro se hospedar contigo e quiser celebrar a páscoa ao SENHOR, seja-lhe circuncidado todo o homem, e então chegará a celebrá-la, e será como o natural da terra; mas nenhum incircunciso comerá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mesma lei haja para o natural e para o estrangeiro que peregrinar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deiro, ou cabrito, será sem mácula, um macho de um ano, o qual tomareis das ovelhas ou das ca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filhos de Israel o fizeram; como o SENHOR ordenara a Moisés e a Arão, assim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 mesmo dia que o SENHOR tirou os filhos de Israel da terra do Egito, segundo os seu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guardareis até ao décimo quarto dia deste mês, e todo o ajuntamento da congregação de Israel o sacrificará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ão do sangue, e pô-lo-ão em ambas as ombreiras, e na verga da porta, nas casas em que o com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a noite comerão a carne assada no fogo, com pães ázimos; com ervas amargosas a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reis dele cru, nem cozido em água, senão assado no fogo, a sua cabeça com os seus pés e com a sua fres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46Z</dcterms:created>
  <dc:creator>Admin</dc:creator>
  <dc:description/>
  <dc:language>en-US</dc:language>
  <cp:lastModifiedBy>Admin</cp:lastModifiedBy>
  <dcterms:modified xsi:type="dcterms:W3CDTF">2008-07-30T23:31:46Z</dcterms:modified>
  <cp:revision>1</cp:revision>
  <dc:subject/>
  <dc:title>Slide 1</dc:title>
</cp:coreProperties>
</file>