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628-1811-47B6-8D87-4D13A306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4F7-1466-4423-8B48-A82E6943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6C4-3917-49F4-93BB-C9A03A1B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A76-EC8C-419B-B55C-B1BC2A98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AD2-4D6B-4179-9F1C-E55B287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772-61F2-48ED-9DC5-5BED0FA2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743-AF1F-4E67-BC2F-8D18E00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348-ED69-4763-BA31-00D8D931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C38-5564-4EC1-87A3-A8122265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027-6DB4-4F8A-BC90-D05F520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3FB-1F3D-4125-9BF9-6DDB096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220-F17C-478A-B685-40B9EA6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4E1-B4B5-4DCC-A4C2-EB2735495C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ôs-se Jacó a caminho e foi à terra do povo do ori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vendo Jacó a Raquel, filha de Labão, irmão de sua mãe, e as ovelhas de Labão, irmão de sua mãe, chegou Jacó, e revolveu a pedra de sobre a boca do poço e deu de beber às ovelhas de Labão, irmão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beijou a Raquel, e levantou a sua voz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anunciou a Raquel que era irmão de seu pai, e que era filho de Rebeca; então ela correu, e o anunciou 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ouvindo Labão as novas de Jacó, filho de sua irmã, correu-lhe ao encontro, e abraçou-o, e beijou-o, e levou-o à sua casa; e ele contou a Labão todas est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abão disse-lhe: Verdadeiramente és tu o meu osso e a minha carne. E ficou com ele um mês int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Labão a Jacó: Porque tu és meu irmão, hás de servir-me de graça? Declara-me qual será o teu sal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bão tinha duas filhas; o nome da mais velha era Lia, e o nome da menor Raq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a tinha olhos tenros, mas Raquel era de formoso semblante e formosa à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amava a Raquel, e disse: Sete anos te servirei por Raquel, tua filha men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Labão: Melhor é que eu a dê a ti, do que eu a dê a outro homem; fica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, e eis um poço no campo, e eis três rebanhos de ovelhas que estavam deitados junto a ele; porque daquele poço davam de beber aos rebanhos; e havia uma grande pedra sobre a boca do p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viu Jacó sete anos por Raquel; e estes lhe pareceram como poucos dias, pelo muito que a am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Jacó a Labão: Dá-me minha mulher, porque meus dias são cumpridos, para que eu me case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uniu Labão a todos os homens daquele lugar, e fez um banqu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à tarde, que tomou Lia, sua filha, e trouxe-a a Jacó que a possu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bão deu sua serva Zilpa a Lia, sua filha, por s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pela manhã, viu que era Lia; pelo que disse a Labão: Por que me fizeste isso? Não te tenho servido por Raquel? Por que então me engana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Labão: Não se faz assim no nosso lugar, que a menor se dê antes da primogên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mpre a semana desta; então te daremos também a outra, pelo serviço que ainda outros sete anos comigo servi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fez assim, e cumpriu a semana de Lia; então lhe deu por mulher Raquel su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abão deu sua serva Bila por serva a Raquel, sua fi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juntavam ali todos os rebanhos, e removiam a pedra de sobre a boca do poço, e davam de beber às ovelhas; e tornavam a pôr a pedra sobre a boca do poço, n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ssuiu também a Raquel, e amou também a Raquel mais do que a Lia e serviu com ele ainda outros se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o SENHOR que Lia era desprezada, abriu a sua madre; porém Raquel era estér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Lia, e deu à luz um filho, e chamou-o Rúben; pois disse: Porque o SENHOR atendeu à minha aflição, por isso agora me amará o meu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outra vez, e deu à luz um filho, dizendo: Porquanto o SENHOR ouviu que eu era desprezada, e deu-me também este. E chamou-o Sim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outra vez, e deu à luz um filho, dizendo: Agora esta vez se unirá meu marido a mim, porque três filhos lhe tenho dado. Por isso chamou-o Lev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outra vez e deu à luz um filho, dizendo: Esta vez louvarei ao SENHOR. Por isso chamou-o Judá; e cessou de dar à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Jacó: Meus irmãos, donde sois? E disseram: Somos de H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lhes disse: Conheceis a Labão, filho de Naor? E disseram: Conhece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s mais: Está ele bem? E disseram: Está bem, e eis aqui Raquel sua filha, que vem com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is que ainda é pleno dia, não é tempo de ajuntar o gado; dai de beber às ovelhas, e ide apascentá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Não podemos, até que todos os rebanhos se ajuntem, e removam a pedra de sobre a boca do poço, para que demos de beber à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ndo ele ainda falando com eles, veio Raquel com as ovelhas de seu pai; porque ela era past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53Z</dcterms:created>
  <dc:creator>Admin</dc:creator>
  <dc:description/>
  <dc:language>en-US</dc:language>
  <cp:lastModifiedBy>Admin</cp:lastModifiedBy>
  <dcterms:modified xsi:type="dcterms:W3CDTF">2008-07-30T23:38:53Z</dcterms:modified>
  <cp:revision>1</cp:revision>
  <dc:subject/>
  <dc:title>Slide 1</dc:title>
</cp:coreProperties>
</file>