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C0E-D060-41B0-A2AB-AFEC5556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85E-6A6C-404C-B947-57258465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E1A-F79F-485D-9B96-8257A7A1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DEB-DF52-4B70-B6A3-80FE5A2C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C48-8643-4FC1-ABFA-C1EBF97D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93A-8499-4207-A73B-45F9CB94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FDF-FBDC-43C4-A597-1FC016B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F77-212E-4EB7-ABD8-8B99363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B33-CBA4-4AEC-98FD-0C6A920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EE6-4822-4758-9537-0EEEBEC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E38-0673-429D-A1E2-FF0523B8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CF1-CE5B-4E5C-94DF-4FEF9C5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825-D9AD-434C-936C-A704934416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ina; tremam os povos. Ele está assentado entre os querubins; comova-s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grande em Sião, e mais alto do que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 o teu nome, grande e tremendo, pois é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poder do Rei ama o juízo; tu firmas a eqüidade, fazes juízo e justiça em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i ao SENHOR nosso Deus, e prostrai-vos diante do escabelo de seus pés, pois é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 e Arão, entre os seus sacerdotes, e Samuel entre os que invocam o seu nome, clamavam ao SENHOR, e Ele lhes respon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oluna de nuvem lhes falava; eles guardaram os seus testemunhos, e os estatutos que lhes d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escutaste, SENHOR nosso Deus: tu foste um Deus que lhes perdoaste, ainda que tomaste vingança dos seus 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i ao SENHOR nosso Deus e adorai-o no seu monte santo, pois o SENHOR nosso Deus é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9Z</dcterms:created>
  <dc:creator>Admin</dc:creator>
  <dc:description/>
  <dc:language>en-US</dc:language>
  <cp:lastModifiedBy>Admin</cp:lastModifiedBy>
  <dcterms:modified xsi:type="dcterms:W3CDTF">2008-07-31T00:27:09Z</dcterms:modified>
  <cp:revision>1</cp:revision>
  <dc:subject/>
  <dc:title>Slide 1</dc:title>
</cp:coreProperties>
</file>