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E96-388A-4ED9-AD81-54CC09C1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A6C-158E-4E03-9236-CAE30AC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3AB-8A03-4EBE-A8A9-A8711FF0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323-6CB6-4CEF-8999-311D503A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D2-F130-4465-8A24-BFBFFFF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08C-8353-48FA-80C1-8F72648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7D4-9F3C-4DEA-9AE3-5E952994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486-C551-4617-8D8D-356A6866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348-C366-42D1-ABB2-A1685B21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B1B-C9DB-41CC-92CF-1B81DF3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819-0919-4975-A2EC-BE4F15C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3C9-0171-4032-8810-F78DCE9F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E842-5CA9-4BA9-87F6-63D53EA45D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e disse: Filho do homem, come o que achares; come este rolo, e vai, fala à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mais: Filho do homem, recebe no teu coração todas as minhas palavras que te hei de dizer, e ouve-as com os t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a, pois, vai aos do cativeiro, aos filhos do teu povo, e lhes falarás e lhes dirás: Assim diz o Senhor DEUS, quer ouçam quer deixem de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me o Espírito, e ouvi por detrás de mim uma voz de grande estrondo, que dizia: Bendita seja a glória do SENHOR, desde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 ruído das asas dos seres viventes, que tocavam umas nas outras, e o ruído das rodas defronte deles, e o sonido de um grande estro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me levantou, e me levou; e eu me fui amargurado, na indignação do meu espírito; porém a mão do SENHOR era forte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a Tel-Abibe, aos do cativeiro, que moravam junto ao rio Quebar, e eu morava onde eles moravam; e fiquei ali sete dias, pasmado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fim de sete dias, veio a palavra do SENHOR a 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o homem: Eu te dei por atalaia sobre a casa de Israel; e tu da minha boca ouvirás a palavra e avisá-los-ás da minh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disser ao ímpio: Certamente morrerás; e tu não o avisares, nem falares para avisar o ímpio acerca do seu mau caminho, para salvar a sua vida, aquele ímpio morrerá na sua iniqüidade, mas o seu sangue, da tua mão o requer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visares ao ímpio, e ele não se converter da sua impiedade e do seu mau caminho, ele morrerá na sua iniqüidade, mas tu livraste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ri a minha boca, e me deu a comer o r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quando o justo se desviar da sua justiça, e cometer a iniqüidade, e eu puser diante dele um tropeço, ele morrerá: porque tu não o avisaste, no seu pecado morrerá; e suas justiças, que tiver praticado, não serão lembradas, mas o seu sa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visando tu o justo, para que não peque, e ele não pecar, certamente viverá; porque foi avisado; e tu livraste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ão do SENHOR estava sobre mim ali, e ele me disse: Levanta-te, e sai ao vale, e ali fala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i-me, e saí ao vale, e eis que a glória do SENHOR estava ali, como a glória que vi junto ao rio Quebar; e caí sobre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em mim o Espírito, e me pôs em pé, e falou comigo, e me disse: Entra, encerra-te dentro d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ti, ó filho do homem, eis que porão cordas sobre ti, e te ligarão com elas; não sairás, pois, a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farei que a tua língua se pegue ao teu paladar, e ficarás mudo, e não lhes servirás de repreendedor; porque eles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eu falar contigo, abrirei a tua boca, e lhes dirás: Assim diz o Senhor DEUS: Quem ouvir ouça, e quem deixar de ouvir, deixe; porque eles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dá de comer ao teu ventre, e enche as tuas entranhas deste rolo que eu te dou. Então o comi, e era na minha boca doce como o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ainda: Filho do homem, vai, entra na casa de Israel, e dize-lhe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não és enviado a um povo de estranha fala, nem de língua difícil, mas à casa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 muitos povos de estranha fala, e de língua difícil, cujas palavras não possas entender; se eu aos tais te enviara, certamente te dariam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asa de Israel não te quererá dar ouvidos, porque não me querem dar ouvidos a mim; pois toda a casa de Israel é de fronte obstinada e dura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iz duro o teu rosto contra os seus rostos, e forte a tua fronte contra a sua fr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como diamante a tua fronte, mais forte do que a pederneira; não os temas, pois, nem te assombres com os seus rostos, porque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50Z</dcterms:created>
  <dc:creator>Admin</dc:creator>
  <dc:description/>
  <dc:language>en-US</dc:language>
  <cp:lastModifiedBy>Admin</cp:lastModifiedBy>
  <dcterms:modified xsi:type="dcterms:W3CDTF">2008-07-30T23:33:50Z</dcterms:modified>
  <cp:revision>1</cp:revision>
  <dc:subject/>
  <dc:title>Slide 1</dc:title>
</cp:coreProperties>
</file>