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6D56-248C-427F-9BD1-2D36B401D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E334-6EA5-421C-A71D-EE9A3679B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531B-901C-400F-984D-5F5ED8923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3B2D-D454-4CA0-BDAE-068897FAE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46C4-8496-4C41-835D-D972A1EE0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EB5F-F905-4AC7-B226-DA749B1CC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0B68-8BC8-4694-828B-16CA8F726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9A72-E685-42F5-9076-3779FCB52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821A-82EB-4FEC-8212-A0A4A59EB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7B03-5EE4-4F46-9FDD-A3D85FB9D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4126-F6B9-433C-84E2-855643CF8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387D-70C3-4541-B3E7-398D4F52B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5B8D7-7164-4CE1-A26E-81B01F363C25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3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Balaão disse a Balaque: Edifica-me aqui sete altares, e prepara-me aqui sete novilhos e sete carneir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3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m contará o pó de Jacó e o número da quarta parte de Israel? Que a minha alma morra da morte dos justos, e seja o meu fim como o s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3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Balaque a Balaão: Que me fizeste? Chamei-te para amaldiçoar os meus inimigos, mas eis que inteiramente os abençoas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3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respondeu, e disse: Porventura não terei cuidado de falar o que o SENHOR pôs na minha boc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3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Balaque lhe disse: Rogo-te que venhas comigo a outro lugar, de onde o verás; verás somente a última parte dele, mas a todo ele não verás; e amaldiçoa-mo dal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3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o levou consigo ao campo de Zofim, ao cume de Pisga; e edificou sete altares, e ofereceu um novilho e um carneiro sobre cada alt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3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a Balaque: Fica aqui junto do teu holocausto, e eu irei ali ao encontro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3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encontrando-se o SENHOR com Balaão, pôs uma palavra na sua boca, e disse: Torna para Balaque, e assim falará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3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vindo a ele, eis que estava junto do holocausto, e os príncipes dos moabitas com ele; disse-lhe pois Balaque: Que coisa falou o SENHO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3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proferiu a sua parábola, e disse: Levanta-te, Balaque, e ouve; inclina os teus ouvidos a mim, filho de Zip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3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us não é homem, para que minta; nem filho do homem, para que se arrependa; porventura diria ele, e não o faria? Ou falaria, e não o confirmari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3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ez, pois, Balaque como Balaão dissera: e Balaque e Balaão ofereceram um novilho e um carneiro sobre cada alt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3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recebi mandado de abençoar; pois ele tem abençoado, e eu não o posso revog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3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viu iniqüidade em Israel, nem contemplou maldade em Jacó; o SENHOR seu Deus é com ele, e no meio dele se ouve a aclamação de um 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3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us os tirou do Egito; as suas forças são como as do boi selvag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3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contra Jacó não vale encantamento, nem adivinhação contra Israel; neste tempo se dirá de Jacó e de Israel: Que coisas Deus tem realizado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3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o povo se levantará como leoa, e se erguerá como leão; não se deitará até que coma a presa, e beba o sangue dos mor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3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Balaque disse a Balaão: Nem o amaldiçoarás, nem o abençoará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3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Balaão respondeu, e disse a Balaque: Não te falei eu, dizendo: Tudo o que o SENHOR falar isso farei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3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 mais Balaque a Balaão: Ora vem, e te levarei a outro lugar; porventura bem parecerá aos olhos de Deus que dali mo amaldiço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3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Balaque levou Balaão consigo ao cume de Peor, que dá para o lado do deser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3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alaão disse a Balaque: Edifica-me aqui sete altares, e prepara-me aqui sete novilhos e sete carneir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3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Balaão disse a Balaque: Fica-te junto do teu holocausto, e eu irei; porventura o SENHOR me sairá ao encontro, e o que me mostrar te notificarei. Então foi a um lugar al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3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alaque, pois, fez como dissera Balaão: e ofereceu um novilho e um carneiro sobre cada alt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3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ncontrando-se Deus com Balaão, este lhe disse: Preparei sete altares, e ofereci um novilho e um carneiro sobre cada alt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3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SENHOR pôs a palavra na boca de Balaão, e disse: Torna-te para Balaque, e assim falará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3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rnando para ele, eis que estava junto do seu holocausto, ele e todos os príncipes dos moabi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3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proferiu a sua parábola, e disse: De Arã, me mandou trazer Balaque, rei dos moabitas, das montanhas do oriente, dizendo: Vem, amaldiçoa-me a Jacó; e vem, denuncia a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3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amaldiçoarei o que Deus não amaldiçoa? E como denunciarei, quando o SENHOR não denunci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3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do cume das penhas o vejo, e dos outeiros o contemplo; eis que este povo habitará só, e entre as nações não será cont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19:26Z</dcterms:created>
  <dc:creator>Admin</dc:creator>
  <dc:description/>
  <dc:language>en-US</dc:language>
  <cp:lastModifiedBy>Admin</cp:lastModifiedBy>
  <dcterms:modified xsi:type="dcterms:W3CDTF">2008-07-31T00:19:26Z</dcterms:modified>
  <cp:revision>1</cp:revision>
  <dc:subject/>
  <dc:title>Slide 1</dc:title>
</cp:coreProperties>
</file>