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A31-5FB5-4F3C-BA15-85138B4A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C96-5017-46F3-ACDA-2E1B66B6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68E-823C-4F15-BD1C-B24000EE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06D-3ABC-45FB-8780-3E12CC7B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3EF-0E10-48C5-B17F-C3AACCDF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8BF-9A53-4896-9583-EAA343C5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072-E9A0-47B2-A9B7-7E7BBD56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3B6-6318-4137-8351-796CBF6D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0C0-7E46-439C-AAE9-6A586E59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0B1-1644-48BE-A1C1-8F8C697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3A2-5071-4139-A97A-02F2428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742-F0D4-422B-9398-9720F8C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57C3-B600-4BA8-AB95-31338EA186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 do templo, disse-lhe um dos seus discípulos: Mestre, olha que pedras, e que edifíci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mporta que o evangelho seja primeiramente pregado entre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vos conduzirem e vos entregarem, não estejais solícitos de antemão pelo que haveis de dizer, nem premediteis; mas, o que vos for dado naquela hora, isso falai, porque não sois vós os que falais, mas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irmão entregará à morte o irmão, e o pai ao filho; e levantar-se-ão os filhos contra os pais, e os farão mor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eis odiados por todos por amor do meu nome; mas quem perseverar até ao fim, esse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do vós virdes a abominação do assolamento, que foi predito por Daniel o profeta, estar onde não deve estar (quem lê, entenda), então os que estiverem na Judéia fujam para 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estiver sobre o telhado não desça para casa, nem entre a tomar coisa alguma de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estiver no campo não volte atrás, para tomar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i das grávidas, e das que criarem naqueles di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i, pois, para que a vossa fuga não suceda no inv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queles dias haverá uma aflição tal, qual nunca houve desde o princípio da criação, que Deus criou, até agora, nem jamais ha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-lhe: Vês estes grandes edifícios? Não ficará pedra sobre pedra que não seja derrub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Senhor não abreviasse aqueles dias, nenhuma carne se salvaria; mas, por causa dos eleitos que escolheu, abreviou aquel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, se alguém vos disser: Eis aqui o Cristo; ou: Ei-lo ali; não acredit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levantarão falsos cristos, e falsos profetas, e farão sinais e prodígios, para enganarem, se for possível, até o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vede; eis que de antemão vos tenho dito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aqueles dias, depois daquela aflição, o sol se escurecerá, e a lua não dará a su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strelas cairão do céu, e as forças que estão nos céus serão aba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verão vir o Filho do homem nas nuvens, com grande poder e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enviará os seus anjos, e ajuntará os seus escolhidos, desde os quatro ventos, da extremidade da terra até a extremidade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ndei, pois, a parábola da figueira: Quando já o seu ramo se torna tenro, e brota folhas, bem sabeis que já está próximo o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, quando virdes sucederem estas coisas, sabei que já está perto, à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ssentando-se ele no Monte das Oliveiras, defronte do templo, Pedro, e Tiago, e João e André lhe perguntaram em particula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vos digo que não passará esta geração, sem que todas estas coisas aconteç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rá o céu e a terra, mas as minhas palavras não pas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quele dia e hora ninguém sabe, nem os anjos que estão no céu, nem o Filho, senão 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, vigiai e orai; porque não sabeis quando chegará 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como se um homem, partindo para fora da terra, deixasse a sua casa, e desse autoridade aos seus servos, e a cada um a sua obra, e mandasse ao porteiro que vigi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, pois, porque não sabeis quando virá o senhor da casa; se à tarde, se à meia-noite, se ao cantar do galo, se pela manh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vindo de improviso, não vos ache dorm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oisas que vos digo, digo-as a todos: Vigi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nos, quando serão essas coisas, e que sinal haverá quando todas elas estiverem para se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-lhes, começou a dizer: Olhai que ninguém vos enga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virão em meu nome, dizendo: Eu sou o Cristo; e enganarão a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uvirdes de guerras e de rumores de guerras, não vos perturbeis; porque assim deve acontecer; mas ainda não será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levantará nação contra nação, e reino contra reino, e haverá terremotos em diversos lugares, e haverá fomes e tribulações. Estas coisas são os princípios das 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lhai por vós mesmos, porque vos entregarão aos concílios e às sinagogas; e sereis açoitados, e sereis apresentados perante presidentes e reis, por amor de mim, para lhes servir de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44Z</dcterms:created>
  <dc:creator>Admin</dc:creator>
  <dc:description/>
  <dc:language>en-US</dc:language>
  <cp:lastModifiedBy>Admin</cp:lastModifiedBy>
  <dcterms:modified xsi:type="dcterms:W3CDTF">2008-07-31T00:13:44Z</dcterms:modified>
  <cp:revision>1</cp:revision>
  <dc:subject/>
  <dc:title>Slide 1</dc:title>
</cp:coreProperties>
</file>