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50E-D66E-4B28-BCAF-D0FC6FAA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24A-9841-411C-8EAC-41F202ED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A75-6030-409C-B124-CD2DE71E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0DD-83A6-486E-B9FD-B15C8CC8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EBF-73B7-4860-A7A0-D71E8B4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B49-DF17-484B-9F8A-12BFFDEF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160-34FB-4E20-A2A5-20FC626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33A-02D1-448B-9BB2-C819854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EC5-C54B-4C73-A4EF-C2013C6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5CB-EF57-468B-BA39-D70613F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ACF-3B29-48A5-9319-6764B06D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6CA-5315-4CAC-B3AC-1A3224E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ADAF-F1CE-42F4-8C57-F9CF97A478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Bezalel a arca de madeira de acácia; o seu comprimento era de dois côvados e meio; e a sua largura de um côvado e meio; e a sua altura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a mesa de madeira de acácia; o seu comprimento era de dois côvados, e a sua largura de um côvado, e a sua altura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u-a de ouro puro, e fez-lhe uma coroa de our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-lhe também, ao redor, uma moldura da largura da mão; e fez uma coroa de ouro ao redor da mol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ndiu-lhe também quatro argolas de ouro; e pôs as argolas nos quatro cantos que estavam em seus quatro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fronte da moldura estavam as argolas para os lugares dos varais, para se levar 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s varais de madeira de acácia, e os cobriu de ouro, para se levar 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e ouro puro os utensílios que haviam de estar sobre a mesa, os seus pratos e as suas colheres, e as suas tigelas e as suas taças em que se haviam de oferecer lib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 candelabro de ouro puro; de obra batida fez este candelabro; o seu pedestal, e as suas hastes, os seus copos, as suas maçãs, e as suas flores, formavam com ele uma só p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hastes saíam dos seus lados; três hastes do candelabro, de um lado dele, e três do 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a haste estavam três copos do feitio de amêndoas, um botão e uma flor; e na outra haste três copos do feitio de amêndoas, um botão e uma flor; assim eram as seis hastes que saíam do candela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u-a de ouro puro por dentro e por fora; e fez-lhe uma coroa de ouro ao re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mesmo candelabro havia quatro copos do feitio de amêndoas com os seus botões e com as suas fl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botão debaixo de duas hastes da mesma peça; e outro botão debaixo de duas hastes da mesma peça; e mais um botão debaixo de duas hastes da mesma peça; assim se fez para as seis hastes, que saí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botões e as suas hastes eram da mesma peça; tudo era uma obra batida de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lhe, de ouro puro, sete lâmpadas com os seus espevitadores e os seus apagad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um talento de ouro puro fez o candelabro e todos os seus utensíl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altar do incenso de madeira de acácia; de um côvado era o seu comprimento, e de um côvado a sua largura, era quadrado; e de dois côvados a sua altura; dele mesmo eram feitas as suas po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u-o de ouro puro, a parte superior e as suas paredes ao redor, e as suas pontas; e fez-lhe uma coroa de our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-lhe também duas argolas de ouro debaixo da sua coroa, e os seus dois cantos, de ambos os seus lados, para neles se colocar os varais, e com eles lev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arais fez de madeira de acácia, e os cobriu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o azeite santo da unção, e o incenso aromático, puro, qual obra do perfum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ndiu-lhe quatro argolas de ouro nos seus quatro cantos; num lado duas, e no outro lado duas argo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varais de madeira de acácia, e os cobriu de 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os varais pelas argolas aos lados da arca, para se levar 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 propiciatório de ouro puro; o seu comprimento era de dois côvados e meio, e a sua largura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dois querubins de ouro; de obra batida os fez, nas duas extremidades d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querubim na extremidade de um lado, e o outro na outra extremidade do outro lado; de uma só peça com o propiciatório fez os querubins nas duas extremidad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rubins estendiam as asas por cima, cobrindo com elas o propiciatório; e os seus rostos estavam defronte um do outro; os rostos dos querubins estavam virados para 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26Z</dcterms:created>
  <dc:creator>Admin</dc:creator>
  <dc:description/>
  <dc:language>en-US</dc:language>
  <cp:lastModifiedBy>Admin</cp:lastModifiedBy>
  <dcterms:modified xsi:type="dcterms:W3CDTF">2008-07-30T23:33:26Z</dcterms:modified>
  <cp:revision>1</cp:revision>
  <dc:subject/>
  <dc:title>Slide 1</dc:title>
</cp:coreProperties>
</file>