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AFF-6BC0-4F9E-9B83-D6846DF8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DC7-AFAB-42D8-808E-9B3D6580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FFC-AA64-4047-A046-4E9DB3E9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6CB-1A40-4F77-8F2C-91F511A5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2F8-287A-431D-B63D-C6DBEC74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B74-3807-47FF-9392-FA1897D1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A38-5741-4F80-A2A9-B83136A9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35B-9090-4DC9-B6F8-32815F48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F2E-F75B-4C86-A973-73FE77AD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1E6-557D-43B4-9308-6551962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962-8C45-4FC7-B6DF-C05931E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82A-D266-462E-A14F-B5E6DCB4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224F-EEAE-42BC-8B1F-DB2B9823C4E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S, não creiais a todo o espírito, mas provai se os espíritos são de Deus, porque já muitos falsos profetas se têm levantado n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está o amor, não em que nós tenhamos amado a Deus, mas em que ele nos amou a nós, e enviou seu Filho para propiciação pelos noss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s, se Deus assim nos amou, também nós devemos amar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jamais viu a Deus; se nos amamos uns aos outros, Deus está em nós, e em nós é perfeito o seu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conhecemos que estamos nele, e ele em nós, pois que nos deu do seu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mos, e testificamos que o Pai enviou seu Filho para Salvador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confessar que Jesus é o Filho de Deus, Deus está nele, e ele e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conhecemos, e cremos no amor que Deus nos tem. Deus é amor; e quem está em amor está em Deus, e Deus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é perfeito o amor para conosco, para que no dia do juízo tenhamos confiança; porque, qual ele é, somos nós também neste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mor não há temor, antes o perfeito amor lança fora o temor; porque o temor tem consigo a pena, e o que teme não é perfeito em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o amamos a ele porque ele nos amou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conhecereis o Espírito de Deus: Todo o espírito que confessa que Jesus Cristo veio em carne é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diz: Eu amo a Deus, e odeia a seu irmão, é mentiroso. Pois quem não ama a seu irmão, ao qual viu, como pode amar a Deus, a quem não vi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le temos este mandamento: que quem ama a Deus, ame também a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espírito que não confessa que Jesus Cristo veio em carne não é de Deus; mas este é o espírito do anticristo, do qual já ouvistes que há de vir, e eis que já está n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inhos, sois de Deus, e já os tendes vencido; porque maior é o que está em vós do que o que está n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mundo são, por isso falam do mundo, e o mundo os ou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somos de Deus; aquele que conhece a Deus ouve-nos; aquele que não é de Deus não nos ouve. Nisto conhecemos nós o espírito da verdade e o espírito do 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s, amemo-nos uns aos outros; porque o amor é de Deus; e qualquer que ama é nascido de Deus e conhec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não ama não conhece a Deus; porque Deus é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se manifesta o amor de Deus para conosco: que Deus enviou seu Filho unigênito ao mundo, para que por ele viv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12Z</dcterms:created>
  <dc:creator>Admin</dc:creator>
  <dc:description/>
  <dc:language>en-US</dc:language>
  <cp:lastModifiedBy>Admin</cp:lastModifiedBy>
  <dcterms:modified xsi:type="dcterms:W3CDTF">2008-07-30T23:44:12Z</dcterms:modified>
  <cp:revision>1</cp:revision>
  <dc:subject/>
  <dc:title>Slide 1</dc:title>
</cp:coreProperties>
</file>