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B2B-278E-475A-8A51-B6344867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EF6-0BB3-4E8C-B1AE-C4904DFE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67A-82B8-480B-93EC-BD01EC5A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6AB-A8F7-47D1-8E56-7EDB0B72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0E6-2004-44D9-B754-11BCFE0B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374-EDC1-4001-8092-35452F9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4DD-44A8-43BE-B290-F5CF6875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5A1-1B73-4B24-A88D-6DE5D541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9B6-0B51-44D6-8B42-97FE44AF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9B3-76FB-4F65-9906-DF7DE503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4F8-E74E-4D7C-BC1D-62A9F2BA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B9E-8672-4E3D-80B5-9454841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4C7C-A91D-4F82-BC5F-2278A029C58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então Jacó que havia mantimento no Egito, disse a seus filhos: Por que estais olhando uns para os outr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disseram: Não, senhor meu; mas teus servos vieram comprar mant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nós somos filhos de um mesmo homem; somos homens de retidão; os teus servos não são esp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Não; antes viestes para ver a nudez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Nós, teus servos, somos doze irmãos, filhos de um homem na terra de Canaã; e eis que o mais novo está com nosso pai hoje; mas um já não ex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disse José: Isso é o que vos tenho dito, sois esp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sereis provados; pela vida de Faraó, não saireis daqui senão quando vosso irmão mais novo vier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ai um dentre vós, que traga vosso irmão, mas vós ficareis presos, e vossas palavras sejam provadas, se há verdade convosco; e se não, pela vida de Faraó, vós sois esp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-los juntos, em prisão, trê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terceiro dia disse-lhes José: Fazei isso, e vivereis; porque eu temo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sois homens de retidão, que fique um de vossos irmãos preso na casa de vossa prisão; e vós ide, levai mantimento para a fome de vossa ca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Eis que tenho ouvido que há mantimentos no Egito; descei para lá, e comprai-nos dali, para que vivamos e não morr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zei-me o vosso irmão mais novo, e serão verificadas vossas palavras, e não morrereis. E eles assim fiz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uns aos outros: Na verdade, somos culpados acerca de nosso irmão, pois vimos a angústia da sua alma, quando nos rogava; nós porém não ouvimos, por isso vem sobre nós esta angúst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úben respondeu-lhes, dizendo: Não vo-lo dizia eu: Não pequeis contra o menino; mas não ouvistes; e vedes aqui, o seu sangue também é reque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não sabiam que José os entendia, porque havia intérprete entre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tirou-se deles e chorou. Depois tornou a eles, e falou-lhes, e tomou a Simeão dentre eles, e amarrou-o perante 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 José, que enchessem os seus sacos de trigo, e que lhes restituíssem o seu dinheiro a cada um no seu saco, e lhes dessem comida para o caminho; e fizeram-lhes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rregaram o seu trigo sobre os seus jumentos e partiram d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brindo um deles o seu saco, para dar pasto ao seu jumento na estalagem, viu o seu dinheiro; porque eis que estava na boca do seu sa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seus irmãos: Devolveram o meu dinheiro, e ei-lo também aqui no saco. Então lhes desfaleceu o coração, e pasmavam, dizendo um ao outro: Que é isto que Deus nos tem fe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para Jacó, seu pai, na terra de Canaã; e contaram-lhe tudo o que lhes acontece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ceram os dez irmãos de José, para comprarem trigo n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, o senhor da terra, falou conosco asperamente, e tratou-nos como espias d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ssemos-lhe: Somos homens de retidão; não somos esp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mos doze irmãos, filhos de nosso pai; um não mais existe, e o mais novo está hoje com nosso pai n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 homem, o senhor da terra, nos disse: Nisto conhecerei que vós sois homens de retidão; deixai comigo um de vossos irmãos, e tomai para a fome de vossas casas, e part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zei-me vosso irmão mais novo; assim saberei que não sois espias, mas homens de retidão; então vos darei o vosso irmão e negociareis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despejando eles os seus sacos, eis que cada um tinha o pacote com seu dinheiro no seu saco; e viram os pacotes com seu dinheiro, eles e seu pai, e tem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acó, seu pai, disse-lhes: Tendes-me desfilhado; José já não existe e Simeão não está aqui; agora levareis a Benjamim. Todas estas coisas vieram sobr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Rúben falou a seu pai, dizendo: Mata os meus dois filhos, se eu não tornar a trazê-lo para ti; entrega-o em minha mão, e tornarei a trazê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porém disse: Não descerá meu filho convosco; porquanto o seu irmão é morto, e só ele ficou. Se lhe suceder algum desastre no caminho por onde fordes, fareis descer minhas cãs com tristeza à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Benjamim, porém, irmão de José, não enviou Jacó com os seus irmãos, porque dizia: Para que lhe não suceda, porventura, algum desas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entre os que iam lá foram os filhos de Israel para comprar, porque havia fome n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sé, pois, era o governador daquela terra; ele vendia a todo o povo da terra; e os irmãos de José chegaram e inclinaram-se a ele, com o rosto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, vendo os seus irmãos, conheceu-os; porém mostrou-se estranho para com eles, e falou-lhes asperamente, e disse-lhes: De onde vindes? E eles disseram: Da terra de Canaã, para comprarmos mant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sé, pois, conheceu os seus irmãos; mas eles não o conh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osé lembrou-se dos sonhos que havia tido deles e disse-lhes: Vós sois espias, e viestes para ver a nudez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51Z</dcterms:created>
  <dc:creator>Admin</dc:creator>
  <dc:description/>
  <dc:language>en-US</dc:language>
  <cp:lastModifiedBy>Admin</cp:lastModifiedBy>
  <dcterms:modified xsi:type="dcterms:W3CDTF">2008-07-30T23:39:51Z</dcterms:modified>
  <cp:revision>1</cp:revision>
  <dc:subject/>
  <dc:title>Slide 1</dc:title>
</cp:coreProperties>
</file>