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921-F1CC-43AE-888E-02A0F3F0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AA5-955A-471D-96B0-2DBA98DD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9D6-1451-41A9-A46B-2E57DD26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C5E-872C-40CC-8E3D-960FC7AD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895-A6D6-49DE-9C4D-36DD89D2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EBD-427D-47EC-BE1E-13520436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CEC-6C4E-4C10-9B58-86B173A7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8D1-02ED-466F-B492-06BE5553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6E3-8F49-426A-8B6B-067CA36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79C-40E8-4A17-94EB-C827968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9FA-895A-4D38-861A-79A6644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9B3-DEE4-4A3E-8E04-06FD9ECD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A30E-7AAF-4038-8D08-D8AB38F649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nos dias de Davi uma fome de três anos consecutivos; e Davi consultou ao SENHOR, e o SENHOR lhe disse: É por causa de Saul e da sua casa sanguinária, porque matou os gibeo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ispa, filha de Aiá, tomou um pano de cilício, e estendeu-lho sobre uma penha, desde o princípio da sega até que a água do céu caiu sobre eles; e não deixou as aves do céu pousar sobre eles de dia, nem os animais do campo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contado a Davi o que fizera Rispa, filha de Aiá, concubina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Davi, e tomou os ossos de Saul, e os ossos de Jônatas seu filho, dos moradores de Jabes-Gileade, os quais os furtaram da rua de Bete-Sã, onde os filisteus os tinham pendurado, quando feriram a Saul em Gil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subir dali os ossos de Saul, e os ossos de Jônatas seu filho; e ajuntaram também os ossos dos enfor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erraram os ossos de Saul, e de Jônatas seu filho na terra de Benjamim, em Zela, na sepultura de seu pai Quis, e fizeram tudo o que o rei ordenara; e depois disto Deus se aplacou co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veram mais os filisteus uma peleja contra Israel; e desceu Davi, e com ele os seus servos; e tanto pelejaram contra os filisteus, que Davi se can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bi-Benobe, que era dos filhos do gigante, cuja lança pesava trezentos siclos de cobre, e que cingia uma espada nova, intentou ferir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Abisai, filho de Zeruia, o socorreu, e feriu o filisteu, e o matou. Então os homens de Davi lhe juraram, dizendo: Nunca mais sairás conosco à peleja, para que não apagues a lâmpad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depois disto que houve em Gobe ainda outra peleja contra os filisteus; então Sibecai, o husatita, feriu a Safe, que era dos filhos do gig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 mais outra peleja contra os filisteus em Gobe; e El-Hanã, filho de Jaaré-Oregim, o belemita, feriu Golias, o giteu, de cuja lança era a haste como órgão de tece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o rei aos gibeonitas, e lhes falou (ora os gibeonitas não eram dos filhos de Israel, mas do restante dos amorreus, e os filhos de Israel lhes tinham jurado, porém Saul, no seu zelo à causa dos filhos de Israel e de Judá, procurou feri-lo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 ainda também outra peleja em Gate, onde estava um homem de alta estatura, que tinha em cada mão seis dedos, e em cada pé outros seis, vinte e quatro ao todo, e também este nascera do gig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juriava a Israel; porém Jônatas, filho de Simei, irmão de Davi, o fer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quatro nasceram ao gigante em Gate; e caíram pela mão de Davi e pela mão de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Davi aos gibeonitas: Que quereis que eu vos faça? E que satisfação vos darei, para que abençoeis a herança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gibeonitas lhe disseram: Não é por prata nem ouro que temos questão com Saul e com sua casa; nem tampouco pretendemos matar pessoa alguma em Israel. E disse ele: Que é, pois, que quereis que vos fa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o rei: O homem que nos destruiu, e intentou contra nós de modo que fôssemos assolados, sem que pudéssemos subsistir em termo algum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eus filhos se nos dêem sete homens, para que os enforquemos ao SENHOR em Gibeá de Saul, o eleito do SENHOR. E disse o rei: Eu os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rei poupou a Mefibosete, filho de Jônatas, filho de Saul, por causa do juramento do SENHOR, que entre eles houvera, entre Davi e Jônatas, filho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omou o rei os dois filhos de Rispa, filha da Aiá, que tinha tido de Saul, a Armoni e a Mefibosete; como também os cinco filhos da irmã de Mical, filha de Saul, que tivera de Adriel, filho de Barzilai, meolati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ntregou na mão dos gibeonitas, os quais os enforcaram no monte, perante o SENHOR; e caíram estes sete juntamente; e foram mortos nos dias da sega, nos dias primeiros, no princípio da sega das cev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50Z</dcterms:created>
  <dc:creator>Admin</dc:creator>
  <dc:description/>
  <dc:language>en-US</dc:language>
  <cp:lastModifiedBy>Admin</cp:lastModifiedBy>
  <dcterms:modified xsi:type="dcterms:W3CDTF">2008-07-30T23:53:50Z</dcterms:modified>
  <cp:revision>1</cp:revision>
  <dc:subject/>
  <dc:title>Slide 1</dc:title>
</cp:coreProperties>
</file>