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959-8A3B-4038-9101-4683A5A1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F20-1B40-4DBC-B4F3-A2E29078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A35-7F7F-44D7-9C07-22EBF2D3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EC8-E8F5-4FB3-A837-926A073B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C17-B99A-4AC6-9523-D74F76FD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7A6-D778-4C60-B304-351D0A95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22E-CE63-46B4-8A34-55A0C9F2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B9A-7A5B-45C8-B674-F8641F16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8259-826A-49E4-AB0D-37E16138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738-1AF9-4848-8961-B1385AD1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BBF-3F0F-4909-A11E-4C1D5C74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0A1-031D-48CF-B46C-E95E7ABD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657D-168F-448D-AC4E-0E40CFA26B2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a cidade ensangüentada! Ela está toda cheia de mentiras e de rapina; não se aparta dela o roub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foi levada cativa para o desterro; também os seus filhos foram despedaçados nas entradas de todas as ruas, e sobre os seus nobres lançaram sortes, e todos os seus grandes foram presos com grilh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também serás embriagada, e te esconderás; também buscarás força por causa do ini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tuas fortalezas serão como figueiras com figos temporãos; se os sacodem, caem na boca do que os há de co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teu povo no meio de ti são como mulheres; as portas da tua terra estarão de todo abertas aos teus inimigos; o fogo consumirá os teus ferr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a águas para o cerco, reforça as tuas fortalezas; entra no lodo, e pisa o barro, pega a forma para os tij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ogo ali te consumirá, a espada te exterminará; consumir-te-á, como a locusta. Multiplica-te como a locusta, multiplica-te como os gafanho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ultiplicaste os teus negociantes mais do que as estrelas do céu; a locusta se espalhará e vo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príncipes são como os gafanhotos, e os teus capitães como os gafanhotos grandes, que se acampam nas sebes nos dias de frio; em subindo o sol voam, de sorte que não se sabe mais o lugar onde est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pastores dormirão, ó rei da Assíria, os teus ilustres repousarão, o teu povo se espalhará pelos montes, sem que haja quem o aju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há cura para a tua ferida, a tua chaga é dolorosa. Todos os que ouvirem a tua fama baterão as palmas sobre ti; porque, sobre quem não passou continuamente a tua malíc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répito de açoite há, e o barulho do ruído das rodas; e os cavalos atropelam, e carros vão salt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valeiro levanta a espada flamejante, como a lança relampejante, e ali haverá uma multidão de mortos, e abundância de cadáveres, e não terão fim os defuntos; tropeçarão nos seus corp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a multidão dos pecados da meretriz mui graciosa, da mestra das feitiçarias, que vendeu as nações com as suas fornicações, e as famílias pelas suas feitiça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estou contra ti, diz o SENHOR dos Exércitos; e levantarei a tua saia sobre a tua face, e às nações mostrarei a tua nudez, e aos reinos a tua vergo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arei sobre ti coisas abomináveis, e envergonhar-te-ei, e pôr-te-ei como espet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e ser que, todos os que te virem, fugirão de ti, e dirão: Nínive está destruída, quem terá compaixão dela? Donde te buscarei consolado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s tu melhor do que Nô-Amom, que está assentada entre os canais do Nilo, cercada de águas, tendo por esplanada o mar, e ainda o mar por muralh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tiópia e Egito eram a sua força, e não tinha fim; Pute e Líbia foram o seu soco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39Z</dcterms:created>
  <dc:creator>Admin</dc:creator>
  <dc:description/>
  <dc:language>en-US</dc:language>
  <cp:lastModifiedBy>Admin</cp:lastModifiedBy>
  <dcterms:modified xsi:type="dcterms:W3CDTF">2008-07-31T00:16:39Z</dcterms:modified>
  <cp:revision>1</cp:revision>
  <dc:subject/>
  <dc:title>Slide 1</dc:title>
</cp:coreProperties>
</file>