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911-F49D-4DDC-8B2A-FC4B038F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6A4-5232-4A6B-BED0-E077A18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299-4862-4084-B162-C5A0E30C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E44-4A8C-4594-A215-884B7E90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BAB-E6DA-48D5-8230-E782D84D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DB8-68B4-4FD7-83BA-882FE19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F13-BDCA-440A-A1F7-7DB0C98D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2D3-F87F-4A11-8E05-9D5EB858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DF2-017B-4B8C-B37E-3CE931E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D99-4CDA-4FF7-9443-8290893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F52-BF0D-425D-8F97-88C6D06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B82-D573-4438-AD4D-F9B9905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E44D-4AFD-47DD-BAC4-24AF4D93566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 se alegra em tua força, SENHOR; e na tua salvação grandemente se regozi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 fruto destruirás da terra, e a sua semente dentre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ntentaram o mal contra ti; maquinaram um ardil, mas não preval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tu lhes farás voltar as costas; e com tuas flechas postas nas cordas lhes apontarás ao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lta-te, SENHOR, na tua força; então cantaremos e louvaremos o t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mpriste-lhe o desejo do seu coração, e não negaste as súplicas dos seus lábi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vais ao seu encontro com as bênçãos de bondade; pões na sua cabeça uma coroa de ouro f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da te pediu, e lha deste, mesmo longura de dias para sempre 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nde é a sua glória pela tua salvação; glória e majestade puseste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 abençoaste para sempre; tu o enches de gozo com 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 confia no SENHOR, e pela misericórdia do Altíssimo nunca vacil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mão alcançará todos os teus inimigos, a tua mão direita alcançará aqueles que t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farás como um forno de fogo no tempo da tua ira; o SENHOR os devorará na sua indignação, e o fogo os consum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36Z</dcterms:created>
  <dc:creator>Admin</dc:creator>
  <dc:description/>
  <dc:language>en-US</dc:language>
  <cp:lastModifiedBy>Admin</cp:lastModifiedBy>
  <dcterms:modified xsi:type="dcterms:W3CDTF">2008-07-31T00:24:36Z</dcterms:modified>
  <cp:revision>1</cp:revision>
  <dc:subject/>
  <dc:title>Slide 1</dc:title>
</cp:coreProperties>
</file>