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050-4B5C-4A12-AE5A-02074ABC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A92-A66A-4C80-9EEA-1FD56242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29A-BCBE-44DE-AAFC-5999D84F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8EF-7386-4643-882C-484C016A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4A3-C2B5-4CFE-A36B-3FCCD090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7F4-E27B-4D15-A69B-95776FC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A76-D7F4-4248-A7A2-986808F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55F-06B8-4ED9-A09A-ECB66AC0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580-F9C5-4BB3-BF76-AB704683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C88-1165-44F7-9D86-9C116AA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B4E-A817-4A2D-90D1-DF424A33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0E8-275E-40C0-B9A3-062B143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3C1A-C1E1-4D8F-8818-34B45772E68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a morte de Acabe, Moabe se rebelou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ias respondeu, e disse ao capitão de cinqüenta: Se eu, pois, sou homem de Deus, desça fogo do céu, e te consuma a ti e aos teus cinqüenta. Então fogo desceu do céu, e consumiu a ele e aos seus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o rei a enviar-lhe outro capitão de cinqüenta, com os seus cinqüenta; ele lhe respondeu, dizendo: Homem de Deus, assim diz o rei: Desce depr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Elias: Se eu sou homem de Deus, desça fogo do céu, e te consuma a ti e aos teus cinqüenta. Então o fogo de Deus desceu do céu, e o consumiu a ele e aos seus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enviar um terceiro capitão de cinqüenta, com os seus cinqüenta; então subiu o capitão de cinqüenta e, chegando, pôs-se de joelhos diante de Elias, e suplicou-lhe, dizendo: Homem de Deus, seja, peço-te, preciosa aos teus olhos a minha vida, 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ogo desceu do céu, e consumiu aqueles dois primeiros capitães de cinqüenta, com os seus cinqüenta; porém, agora seja preciosa aos teus olhos a minh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anjo do SENHOR disse a Elias: Desce com este, não temas. E levantou-se, e desceu com ele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Assim diz o SENHOR: Por que enviaste mensageiros a consultar a Baal-Zebube, deus de Ecrom? Porventura é porque não há Deus em Israel, para consultar a sua palavra? Portanto desta cama, a que subiste, não descerás, mas certamente morr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morreu, conforme a palavra do SENHOR, que Elias falara; e Jorão começou a reinar no seu lugar no ano segundo de Jeorão, filho de Jeosafá, rei de Judá; porquanto não tinha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ais dos atos de Acazias, tudo quanto fez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iu Acazias pelas grades de um quarto alto, que tinha em Samaria, e adoeceu; e enviou mensageiros, e disse-lhes: Ide, e perguntai a Baal-Zebube, deus de Ecrom, se sararei desta do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anjo do SENHOR disse a Elias, o tisbita: Levanta-te, sobe para te encontrares com os mensageiros do rei de Samaria, e dize-lhes: Porventura não há Deus em Israel, para irdes consultar a Baal-Zebube, deus de Ecr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assim diz o SENHOR: Da cama, a que subiste, não descerás, mas sem falta morrerás. Então Elias par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ensageiros voltaram para ele; e ele lhes disse: Que há, que volta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disseram: Um homem saiu ao nosso encontro, e nos disse: Ide, voltai para o rei que vos mandou, e dizei-lhe: Assim diz o SENHOR: Porventura não há Deus em Israel, para que mandes consultar a Baal-Zebube, deus de Ecrom? Portanto da cama, a que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Qual era a aparência do homem que veio ao vosso encontro e vos falou estas palav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disseram: Era um homem peludo, e com os lombos cingidos de um cinto de couro. Então disse ele: É Elias, o tisb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Rei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lhe enviou um capitão de cinqüenta com seus cinqüenta; e, subindo a ele (porque eis que estava assentado no cume do monte), disse-lhe: Homem de Deus, o rei diz: Des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1:00Z</dcterms:created>
  <dc:creator>Admin</dc:creator>
  <dc:description/>
  <dc:language>en-US</dc:language>
  <cp:lastModifiedBy>Admin</cp:lastModifiedBy>
  <dcterms:modified xsi:type="dcterms:W3CDTF">2008-07-30T23:51:00Z</dcterms:modified>
  <cp:revision>1</cp:revision>
  <dc:subject/>
  <dc:title>Slide 1</dc:title>
</cp:coreProperties>
</file>