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9E0-DC66-4FCC-BFF8-EA991620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BF6-3FF6-42BD-A078-1F69125F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806-4EA8-464B-B609-496A2246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0B6-00DB-4598-A2A8-22C9152D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708-4663-48E8-A5DB-A576CFF0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507-36C1-45D8-AC51-F3057F44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53C-0195-4D3E-8E2E-F12F575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291-DC73-49A8-B29D-8CAB2C8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7EA-C3CC-42A4-9D35-42FBD159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50E-0403-49C2-8D42-E88E516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CE7-EE7E-46AA-A373-A1DDDB1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F8B-0630-4F1B-8AAB-EF28ABE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8182-3A00-4B6F-93E3-950BB20A4B3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ias depois entrou outra vez em Cafarnaum, e soube-se que estava em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ara que saibais que o Filho do homem tem na terra poder para perdoar pecados (disse ao paralítico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 te digo: Levanta-te, toma o teu leito, e vai par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e, tomando logo o leito, saiu em presença de todos, de sorte que todos se admiraram e glorificaram a Deus, dizendo: Nunca tal v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 sair para o mar, e toda a multidão ia ter com ele, e ele os ensin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, viu Levi, filho de Alfeu, sentado na recebedoria, e disse-lhe: Segue-me. E, levantando-se, o seg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stando sentado à mesa em casa deste, também estavam sentados à mesa com Jesus e seus discípulos muitos publicanos e pecadores; porque eram muitos, e o tinham segu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cribas e fariseus, vendo-o comer com os publicanos e pecadores, disseram aos seus discípulos: Por que come e bebe ele com os publicanos e pecad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tendo ouvido isto, disse-lhes: Os sãos não necessitam de médico, mas, sim, os que estão doentes; eu não vim chamar os justos, mas, sim, os pecadores ao arrep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s discípulos de João e os fariseus jejuavam; e foram e disseram-lhe: Por que jejuam os discípulos de João e os dos fariseus, e não jejuam os teus discípul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disse-lhes: Podem porventura os filhos das bodas jejuar enquanto está com eles o esposo? Enquanto têm consigo o esposo, não podem jeju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se ajuntaram tantos, que nem ainda nos lugares junto à porta cabiam; e anunciava-lhes 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as virão em que lhes será tirado o esposo, e então jejuarão naquele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deita remendo de pano novo em roupa velha; doutra sorte o mesmo remendo novo rompe o velho, e a rotura fica ma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deita vinho novo em odres velhos; doutra sorte, o vinho novo rompe os odres e entorna-se o vinho, e os odres estragam-se; o vinho novo deve ser deitado em odres n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passando ele num sábado pelas searas, os seus discípulos, caminhando, começaram a colher espi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ariseus lhe disseram: Vês? Por que fazem no sábado o que não é líc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disse-lhes: Nunca lestes o que fez Davi, quando estava em necessidade e teve fome, ele e os que com ele estav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ntrou na casa de Deus, no tempo de Abiatar, sumo sacerdote, e comeu os pães da proposição, dos quais não era lícito comer senão aos sacerdotes, dando também aos que com ele estav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O sábado foi feito por causa do homem, e não o homem por causa do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Filho do homem até do sábado é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ter com ele conduzindo um paralítico, trazido por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ão podendo aproximar-se dele, por causa da multidão, descobriram o telhado onde estava, e, fazendo um buraco, baixaram o leito em que jazia o paralít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vendo a fé deles, disse ao paralítico: Filho, perdoados estão os t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ali assentados alguns dos escribas, que arrazoavam em seus coraçõe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diz este assim blasfêmias? Quem pode perdoar pecados, senão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conhecendo logo em seu espírito que assim arrazoavam entre si, lhes disse: Por que arrazoais sobre estas coisas em vossos coraç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é mais fácil? dizer ao paralítico: Estão perdoados os teus pecados; ou dizer-lhe: Levanta-te, e toma o teu leito, e an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45Z</dcterms:created>
  <dc:creator>Admin</dc:creator>
  <dc:description/>
  <dc:language>en-US</dc:language>
  <cp:lastModifiedBy>Admin</cp:lastModifiedBy>
  <dcterms:modified xsi:type="dcterms:W3CDTF">2008-07-31T00:12:45Z</dcterms:modified>
  <cp:revision>1</cp:revision>
  <dc:subject/>
  <dc:title>Slide 1</dc:title>
</cp:coreProperties>
</file>