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49D-1ACD-491B-BAFE-563F5A6D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330-FA1E-4D9C-96DD-59FBA3E7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736-D1D7-4D7C-9EFF-3F69FDD9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5F0-BA85-483D-B8F4-AA42E1D8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C4F-8122-4FD8-806A-6C4534B7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7E7-7358-41EF-87C7-6A3871DB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7EB-E12E-48DE-B1E8-F987A65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09E-06F8-4FFD-91F0-94740591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5D5-2A17-406F-A343-114F195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596-2F60-4140-8464-5A6EA93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29D-4590-4DE9-9206-503A49F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ADF-FC5A-454C-863B-7A02528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866-8813-4CED-9573-73E7256694A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em Icônio entraram juntos na sinagoga dos judeus, e falaram de tal modo que creu uma grande multidão, não só de judeus mas de gr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m voz alta: Levanta-te direito sobre teus pés. E ele saltou e an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multidões, vendo o que Paulo fizera, levantaram a sua voz, dizendo em língua licaônica: Fizeram-se os deuses semelhantes aos homens, e desceram até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vam Júpiter a Barnabé, e Mercúrio a Paulo; porque este era o qu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de Júpiter, cujo templo estava em frente da cidade, trazendo para a entrada da porta touros e grinaldas, queria com a multidão sacrificar-lh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rém, isto os apóstolos Barnabé e Paulo, rasgaram as suas vestes, e saltaram para o meio da multidão, clama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SENHORes, por que fazeis essas coisas? Nós também somos homens como vós, sujeitos às mesmas paixões, e vos anunciamos que vos convertais dessas vaidades ao Deus vivo, que fez o céu, e a terra, o mar, e tudo quanto há n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nos tempos passados deixou andar todas as nações em seus próprio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udo, não se deixou a si mesmo sem testemunho, beneficiando-vos lá do céu, dando-vos chuvas e tempos frutíferos, enchendo de mantimento e de alegria os v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isto, com dificuldade impediram que as multidões lhes sacrific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vieram, porém, uns judeus de Antioquia e de Icônio que, tendo convencido a multidão, apedrejaram a Paulo e o arrastaram para fora da cidade, cuidando que estava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judeus incrédulos incitaram e irritaram, contra os irmãos, os ânimo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rodeando-o os discípulos, levantou-se, e entrou na cidade, e no dia seguinte saiu com Barnabé para Der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anunciado o evangelho naquela cidade e feito muitos discípulos, voltaram para Listra, e Icônio e Antioqu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rmando os ânimos dos discípulos, exortando-os a permanecer na fé, pois que por muitas tribulações nos importa entrar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s, por comum consentimento, eleito anciãos em cada igreja, orando com jejuns, os encomendaram ao SENHOR em quem haviam c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 depois por Pisídia, dirigiram-se a Panfí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anunciado a palavra em Perge, desceram a Atá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navegaram para Antioquia, de onde tinham sido encomendados à graça de Deus para a obra que já haviam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am e reuniram a igreja, relataram quão grandes coisas Deus fizera por eles, e como abrira aos gentios a porta d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aram ali não pouco tempo com o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tiveram-se, pois, muito tempo, falando ousadamente acerca do Senhor, o qual dava testemunho à palavra da sua graça, permitindo que por suas mãos se fizessem sinais e prodíg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vidiu-se a multidão da cidade; e uns eram pelos judeus, e outros pel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um motim, tanto dos judeus como dos gentios, com os seus principais, para os insultarem e apedrejar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-o eles, fugiram para Listra e Derbe, cidades de Licaônia, e para a província circunvizin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pregavam 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ssentado em Listra certo homem leso dos pés, coxo desde o ventre de sua mãe, o qual nunca tinha 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ouviu falar Paulo, que, fixando nele os olhos, e vendo que tinha fé para ser cur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28Z</dcterms:created>
  <dc:creator>Admin</dc:creator>
  <dc:description/>
  <dc:language>en-US</dc:language>
  <cp:lastModifiedBy>Admin</cp:lastModifiedBy>
  <dcterms:modified xsi:type="dcterms:W3CDTF">2008-07-30T23:24:28Z</dcterms:modified>
  <cp:revision>1</cp:revision>
  <dc:subject/>
  <dc:title>Slide 1</dc:title>
</cp:coreProperties>
</file>