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3BB-3941-41F6-91B1-C9D86BD0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CF3-8E93-4BED-997E-304205E7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D03-4E0E-45E7-AAB9-77407337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3E0-AC67-4650-8EDF-38345844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93E-B2DE-4DD9-B09F-2E870521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6D0-DC08-47BA-AE71-91D75A0A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085-6094-48B0-B9B3-730A80EA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ACA-00A7-4333-B536-88513563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168-9CEA-4FC1-BE15-790175DA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82D-7195-4712-9068-9FC6EAE9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D28-50BE-49B7-8384-EAEAC3F1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566-70F9-4D3D-92F8-367CE617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D427-37E8-4673-81A1-AA829E82BB0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NSGREDIRAM os filhos de Israel no anátema; porque Acã filho de Carmi, filho de Zabdi, filho de Zerá, da tribo de Judá, tomou do anátema, e a ira do SENHOR se acendeu contra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Josué: Levanta-te; por que estás prostrado assim sobre o teu ro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rael pecou, e transgrediram a minha aliança que lhes tinha ordenado, e tomaram do anátema, e furtaram, e mentiram, e debaixo da sua bagagem o pus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s filhos de Israel não puderam subsistir perante os seus inimigos; viraram as costas diante dos seus inimigos; porquanto estão amaldiçoados; não serei mais convosco, se não desarraigardes o anátema do meio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santifica o povo, e dize: Santificai-vos para amanhã, porque assim diz o SENHOR Deus de Israel: Anátema há no meio de ti, Israel; diante dos teus inimigos não poderás suster-te, até que tireis o anátema do meio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nhã, pois, vos chegareis, segundo as vossas tribos; e será que a tribo que o SENHOR tomar se chegará, segundo as famílias; e a família que o SENHOR tomar se chegará por casas; e a casa que o SENHOR tomar se chegará homem por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aquele que for tomado com o anátema será queimado a fogo, ele e tudo quanto tiver; porquanto transgrediu a aliança do SENHOR, e fez uma loucura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se levantou de madrugada, e fez chegar a Israel, segundo as suas tribos; e a tribo de Judá foi tom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fazendo chegar a tribo de Judá, tomou a família dos zeraítas; e fazendo chegar a família dos zeraítas homem por homem, foi tomado Zabd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fazendo chegar a sua casa, homem por homem, foi tomado Acã, filho de Carmi, filho de Zabdi, filho de Zerá, da tribo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osué a Acã: Filho meu, dá, peço-te, glória ao SENHOR Deus de Israel, e faze confissão perante ele; e declara-me agora o que fizeste, não mo ocul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ando, pois, Josué, de Jericó, alguns homens a Ai, que está junto a Bete-Áven do lado do oriente de Betel, falou-lhes dizendo: Subi, e espiai a terra. Subiram, pois, aqueles homens, e espiaram a 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Acã a Josué, e disse: Verdadeiramente pequei contra o SENHOR Deus de Israel, e fiz assim e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vi entre os despojos uma boa capa babilônica, e duzentos siclos de prata, e uma cunha de ouro, do peso de cinqüenta siclos, cobicei-os e tomei-os; e eis que estão escondidos na terra, no meio da minha tenda, e a prata por baix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enviou mensageiros, que foram correndo à tenda; e eis que tudo estava escondido na sua tenda, e a prata por bai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am, pois, aquelas coisas do meio da tenda, e as trouxeram a Josué e a todos os filhos de Israel; e as puseram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, e todo o Israel com ele, tomaram a Acã filho de Zerá, e a prata, e a capa, e a cunha de ouro, e seus filhos, e suas filhas, e seus bois, e seus jumentos, e suas ovelhas, e sua tenda, e tudo quanto ele tinha; e levaram-nos ao vale de Ac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osué: Por que nos perturbaste? O SENHOR te perturbará neste dia. E todo o Israel o apedrejou; e os queimaram a fogo depois de apedrejá-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 sobre ele um grande montão de pedras, até o dia de hoje; assim o SENHOR se apartou do ardor da sua ira; pelo que aquele lugar se chama o vale de Acor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aram a Josué, e disseram-lhe: Não suba todo o povo; subam uns dois mil, ou três mil homens, a ferir a Ai; não fatigueis ali a todo o povo, porque poucos 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subiram lá, do povo, uns três mil homens, os quais fugiram diante dos homens de 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e Ai feriram deles uns trinta e seis, e os perseguiram desde a porta até Sebarim, e os feriram na descida; e o coração do povo se derreteu e se tornou como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rasgou as suas vestes, e se prostrou em terra sobre o seu rosto perante a arca do SENHOR até à tarde, ele e os anciãos de Israel; e deitaram pó sobre as suas cabe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osué: Ah! Senhor DEUS! Por que, com efeito, fizeste passar a este povo o Jordão, para nos entregares nas mãos dos amorreus para nos fazerem perecer? Antes nos tivéssemos contentado em ficar além do Jordã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, SENHOR! Que direi? Pois Israel virou as costas diante dos inimigo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 isto, os cananeus, e todos os moradores da terra, nos cercarão e desarraigarão o nosso nome da terra; e então que farás ao teu grande no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05Z</dcterms:created>
  <dc:creator>Admin</dc:creator>
  <dc:description/>
  <dc:language>en-US</dc:language>
  <cp:lastModifiedBy>Admin</cp:lastModifiedBy>
  <dcterms:modified xsi:type="dcterms:W3CDTF">2008-07-31T00:05:05Z</dcterms:modified>
  <cp:revision>1</cp:revision>
  <dc:subject/>
  <dc:title>Slide 1</dc:title>
</cp:coreProperties>
</file>