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DE4-3805-4AC5-9F21-7B4FD286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64D-E70D-4CAB-B2C2-03380CBD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CEF-A5F2-4C4D-BB00-37FB0EA2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F74-399F-4EE1-94E8-853AD980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FC0-6538-4D9C-9F0D-0F1DE508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1F5-F317-443E-95E3-E2C6A92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435-FF4E-4400-A09B-AB96B96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D29-BAB8-447D-8E6B-66367C8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39A-EBC7-49E0-B8CB-3328A2DE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B3F-22D0-4DFF-B652-77A837B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F8E-CE91-48D1-A45F-FF57304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16D-D7D7-4E9A-B681-F5F7FB1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DD8-8C6B-47C7-A630-0056FDA390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a palavra do SENHOR contra Israel, por intermédio de Mala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há também entre vós que feche as portas por nada, e não acenda debalde o fogo do meu altar? Eu não tenho prazer em vós, diz o SENHOR dos Exércitos, nem aceitarei oferta da voss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sde o nascente do sol até ao poente é grande entre os gentios o meu nome; e em todo o lugar se oferecerá ao meu nome incenso, e uma oferta pura; porque o meu nome é grande entre os gentios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o profanais, quando dizeis: A mesa do SENHOR é impura, e o seu produto, isto é, a sua comida é desprez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is ainda: Eis aqui, que canseira! E o lançastes ao desprezo, diz o SENHOR dos Exércitos; vós ofereceis o que foi roubado, e o coxo e o enfermo; assim trazeis a oferta. Aceitaria eu isso de vossa mão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ja maldito o enganador que, tendo macho no seu rebanho, promete e oferece ao Senhor o que tem mácula; porque eu sou grande Rei, diz o SENHOR dos Exércitos, o meu nome é temível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tenho amado, diz o SENHOR. Mas vós dizeis: Em que nos tem amado? Não era Esaú irmão de Jacó? disse o SENHOR; todavia amei a Jac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diei a Esaú; e fiz dos seus montes uma desolação, e dei a sua herança aos chacais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dom diga: Empobrecidos estamos, porém tornaremos a edificar os lugares desolados; assim diz o SENHOR dos Exércitos: Eles edificarão, e eu destruirei; e lhes chamarão: Termo de impiedade, e povo contra quem o SENHOR está irad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ossos olhos o verão, e direis: O SENHOR seja engrandecido além dos term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honra o pai, e o servo o seu senhor; se eu sou pai, onde está a minha honra? E, se eu sou senhor, onde está o meu temor? diz o SENHOR dos Exércitos a vós, ó sacerdotes, que desprezais o meu nome. E vós dizeis: Em que nós temos desprezado o teu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is sobre o meu altar pão imundo, e dizeis: Em que te havemos profanado? Nisto que dizeis: A mesa do SENHOR é desprez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ofereceis animal cego para o sacrifício, isso não é mau? E quando ofereceis o coxo ou enfermo, isso não é mau? Ora apresenta-o ao teu governador; porventura terá ele agrado em ti? ou aceitará ele a tua pessoa?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laqu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u suplico, peça a Deus, que ele seja misericordioso conosco; isto veio das vossas mãos; aceitará ele a vossa pessoa?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30Z</dcterms:created>
  <dc:creator>Admin</dc:creator>
  <dc:description/>
  <dc:language>en-US</dc:language>
  <cp:lastModifiedBy>Admin</cp:lastModifiedBy>
  <dcterms:modified xsi:type="dcterms:W3CDTF">2008-07-31T00:12:30Z</dcterms:modified>
  <cp:revision>1</cp:revision>
  <dc:subject/>
  <dc:title>Slide 1</dc:title>
</cp:coreProperties>
</file>