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A1B-574A-477A-86C8-8F56E612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BFB-3160-4F5B-B230-2E07EB4F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09D7-329B-46CE-8BB3-18BACF04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FDA-2BA8-4F3D-A42D-A01EC89F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662-A59C-448E-8889-313B277B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1E4-229D-4D39-993F-686F2C0E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732-662B-4362-B617-FE8B7F69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47D-E568-4C33-AD30-02B14FC5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7DB-2C51-4227-82DA-785B7330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C58-F25B-4DF1-9668-4B7FA5FD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885-2D38-4AFA-9D8B-DE7A130B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389-41A6-4888-907D-B186BF73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7D47-A6B9-4EED-BAB4-5B980CFB214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partiu Jesus para o outro lado do mar da Galiléia, que é o de Tiberí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esus: Mandai assentar os homens. E havia muita relva naquele lugar. Assentaram-se, pois, os homens em número de quase cinco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tomou os pães e, havendo dado graças, repartiu-os pelos discípulos, e os discípulos pelos que estavam assentados; e igualmente também dos peixes, quanto eles quer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estavam saciados, disse aos seus discípulos: Recolhei os pedaços que sobejaram, para que nada se pe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olheram-nos, pois, e encheram doze alcofas de pedaços dos cinco pães de cevada, que sobejaram aos que haviam com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aqueles homens o milagre que Jesus tinha feito, diziam: Este é verdadeiramente o profeta que devia vir a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, pois, Jesus que haviam de vir arrebatá-lo, para o fazerem rei, tornou a retirar-se, ele só, para o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veio a tarde, os seus discípulos desceram para 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no barco, atravessaram o mar em direção a Cafarnaum; e era já escuro, e ainda Jesus não tinha chegado ao pé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ar se levantou, porque um grande vento assopr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navegado uns vinte e cinco ou trinta estádios, viram a Jesus, andando sobre o mar e aproximando-se do barco; e tem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rande multidão o seguia, porque via os sinais que operava sobre os enf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lhes disse: Sou eu, não te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s de boa mente o receberam no barco; e logo o barco chegou à terra para onde 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ia seguinte, a multidão que estava do outro lado do mar, vendo que não havia ali mais do que um barquinho, a não ser aquele no qual os discípulos haviam entrado, e que Jesus não entrara com os seus discípulos naquele barquinho, mas que os seus discí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Contudo, outros barquinhos tinham chegado de Tiberíades, perto do lugar onde comeram o pão, havendo o SENHOR dado graças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a multidão que Jesus não estava ali nem os seus discípulos, entraram eles também nos barcos, e foram a Cafarnaum, em busca de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hando-o no outro lado do mar, disseram-lhe: Rabi, quando chegaste aqu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respondeu-lhes, e disse: Na verdade, na verdade vos digo que me buscais, não pelos sinais que vistes, mas porque comestes do pão e vos sacia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abalhai, não pela comida que perece, mas pela comida que permanece para a vida eterna, a qual o Filho do homem vos dará; porque a este o Pai, Deus, o sel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, pois: Que faremos para executarmos as obras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respondeu, e disse-lhes: A obra de Deus é esta: Que creiais naquele que el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subiu ao monte, e assentou-se ali com os seus discíp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, pois: Que sinal, pois, fazes tu, para que o vejamos, e creiamos em ti? Que operas t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sos pais comeram o maná no deserto, como está escrito: Deu-lhes a comer o pão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, pois, Jesus: Na verdade, na verdade vos digo: Moisés não vos deu o pão do céu; mas meu Pai vos dá o verdadeiro pão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pão de Deus é aquele que desce do céu e dá vida a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, pois: SENHOR, dá-nos sempre desse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lhes disse: Eu sou o pão da vida; aquele que vem a mim não terá fome, e quem crê em mim nunca terá s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á vos disse que também vós me vistes, e contudo não cre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que o Pai me dá virá a mim; e o que vem a mim de maneira nenhuma o lançarei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desci do céu, não para fazer a minha vontade, mas a vontade daquele que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vontade do Pai que me enviou é esta: Que nenhum de todos aqueles que me deu se perca, mas que o ressuscite no últim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áscoa, a festa dos judeus, estava próx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a vontade daquele que me enviou é esta: Que todo aquele que vê o Filho, e crê nele, tenha a vida eterna; e eu o ressuscitarei no últim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rmuravam, pois, dele os judeus, porque dissera: Eu sou o pão que desceu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m: Não é este Jesus, o filho de José, cujo pai e mãe nós conhecemos? Como, pois, diz ele: Desci do cé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, pois, Jesus, e disse-lhes: Não murmureis ent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pode vir a mim, se o Pai que me enviou o não trouxer; e eu o ressuscitarei no últim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á escrito nos profetas: E serão todos ensinados por Deus. Portanto, todo aquele que do Pai ouviu e aprendeu vem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que alguém visse ao Pai, a não ser aquele que é de Deus; este tem visto a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na verdade vos digo que aquele que crê em mim tem 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pão d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ssos pais comeram o maná no deserto, e morr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sus, levantando os olhos, e vendo que uma grande multidão vinha ter com ele, disse a Filipe: Onde compraremos pão, para estes comer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o pão que desce do céu, para que o que dele comer não 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pão vivo que desceu do céu; se alguém comer deste pão, viverá para sempre; e o pão que eu der é a minha carne, que eu darei pela vida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putavam, pois, os judeus entre si, dizendo: Como nos pode dar este a sua carne a com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is, lhes disse: Na verdade, na verdade vos digo que, se não comerdes a carne do Filho do homem, e não beberdes o seu sangue, não tereis vida em vós mes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come a minha carne e bebe o meu sangue tem a vida eterna, e eu o ressuscitarei no últim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minha carne verdadeiramente é comida, e o meu sangue verdadeiramente é beb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come a minha carne e bebe o meu sangue permanece em mim e eu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o Pai, que vive, me enviou, e eu vivo pelo Pai, assim, quem de mim se alimenta, também viverá por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o pão que desceu do céu; não é o caso de vossos pais, que comeram o maná e morreram; quem comer este pão viverá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disse estas coisas na sinagoga, ensinando em Cafarna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izia isto para o experimentar; porque ele bem sabia o que havia de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os, pois, dos seus discípulos, ouvindo isto, disseram: Duro é este discurso; quem o pode ouv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, pois, Jesus em si mesmo que os seus discípulos murmuravam disto, disse-lhes: Isto escandaliza-v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seria, pois, se vísseis subir o Filho do homem para onde primeiro estav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spírito é o que vivifica, a carne para nada aproveita; as palavras que eu vos disse são espírito e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há alguns de vós que não crêem. Porque bem sabia Jesus, desde o princípio, quem eram os que não criam, e quem era o que o havia de entre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: Por isso eu vos disse que ninguém pode vir a mim, se por meu Pai não lhe for conce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6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então muitos dos seus discípulos tornaram para trás, e já não andavam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6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esus aos doze: Quereis vós também retirar-v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6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-lhe, pois, Simão Pedro: Senhor, para quem iremos nós? Tu tens as palavras d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6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ós temos crido e conhecido que tu és o Cristo, o Filho do Deus viv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ipe respondeu-lhe: Duzentos dinheiros de pão não lhes bastarão, para que cada um deles tome um pou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7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-lhe Jesus: Não vos escolhi a vós os doze? e um de vós é um diab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7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dizia ele de Judas Iscariotes, filho de Simão; porque este o havia de entregar, sendo um dos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dos seus discípulos, André, irmão de Simão Pedro, disse-lh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á aqui um rapaz que tem cinco pães de cevada e dois peixinhos; mas que é isto para tan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3:11Z</dcterms:created>
  <dc:creator>Admin</dc:creator>
  <dc:description/>
  <dc:language>en-US</dc:language>
  <cp:lastModifiedBy>Admin</cp:lastModifiedBy>
  <dcterms:modified xsi:type="dcterms:W3CDTF">2008-07-31T00:03:11Z</dcterms:modified>
  <cp:revision>1</cp:revision>
  <dc:subject/>
  <dc:title>Slide 1</dc:title>
</cp:coreProperties>
</file>