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61F-9BDE-41BA-814E-A257544B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E89-70C8-404C-8D5D-8BAE94E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422-8A48-4652-A6CA-454E85AA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291-36F5-4EAD-A633-DB0DE694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EC2-AB47-4151-95CA-6F8670A5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9E7-8C7B-42AC-ADDF-F5EB96C3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613-FB8F-46B6-A790-82EE32EC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3E7-A281-480E-84DA-C2C2A295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328-2B49-4155-B5B7-97CCF8E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83C-92E7-47FC-B41B-5CFAF9B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195-84D1-49D7-B86A-699C9F75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B4C-FA3A-46BB-ABC7-0A7F706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EA46-63C1-42DB-BBE8-D208D69AED9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apóstolo de Jesus Cristo, pela vontade de Deus, e o irmão Timóteo, à igreja de Deus, que está em Corinto, com todos os santos que estão em toda a Ac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os livrou de tão grande morte, e livra; em quem esperamos que também nos livrará ain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dando-nos também vós com orações por nós, para que pela mercê, que por muitas pessoas nos foi feita, por muitas também sejam dadas graças a nosso resp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nossa glória é esta: o testemunho da nossa consciência, de que com simplicidade e sinceridade de Deus, não com sabedoria carnal, mas na graça de Deus, temos vivido no mundo, e de modo particular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nhumas outras coisas vos escrevemos, senão as que já sabeis ou também reconheceis; e espero que também até ao fim as reconh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já em parte reconhecestes em nós, que somos a vossa glória, como também vós sereis a nossa no dia d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sta confiança quis primeiro ir ter convosco, para que tivésseis uma segunda gra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vós passar à Macedônia, e da Macedônia ir outra vez ter convosco, e ser guiado por vós à Jud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liberando isto, usei porventura de leviandade? Ou o que delibero, o delibero segundo a carne, para que haja em mim sim, sim, e não, n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como Deus é fiel, a nossa palavra para convosco não foi sim e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e Deus, Jesus Cristo, que entre vós foi pregado por nós, isto é, por mim, Silvano e Timóteo, não foi sim e não; mas nele houve 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 a vós e paz da parte de Deus nosso Pai, e da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s quantas promessas há de Deus, são nele sim, e por ele o Amém, para glória de Deus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nos confirma convosco em Cristo, e o que nos ungiu, é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também nos selou e deu o penhor do Espírito em noss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voco, porém, a Deus por testemunha sobre a minha alma, que para vos poupar não tenho até agora ido a Cori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 tenhamos domínio sobre a vossa fé, mas porque somos cooperadores de vosso gozo; porque pela fé estais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Deus e Pai de nosso Senhor Jesus Cristo, o Pai das misericórdias e o Deus de toda a consol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os consola em toda a nossa tribulação, para que também possamos consolar os que estiverem em alguma tribulação, com a consolação com que nós mesmos somos consolados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as aflições de Cristo são abundantes em nós, assim também é abundante a nossa consolação por meio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somos atribulados, é para vossa consolação e salvação; ou, se somos consolados, para vossa consolação e salvação é, a qual se opera suportando com paciência as mesmas aflições que nós também padece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nossa esperança acerca de vós é firme, sabendo que, como sois participantes das aflições, assim o sereis também da con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queremos, irmãos, que ignoreis a tribulação que nos sobreveio na Ásia, pois que fomos sobremaneira agravados mais do que podíamos suportar, de modo tal que até da vida desespe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orinti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á em nós mesmos tínhamos a sentença de morte, para que não confiássemos em nós, mas em Deus, que ressuscita os mor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31Z</dcterms:created>
  <dc:creator>Admin</dc:creator>
  <dc:description/>
  <dc:language>en-US</dc:language>
  <cp:lastModifiedBy>Admin</cp:lastModifiedBy>
  <dcterms:modified xsi:type="dcterms:W3CDTF">2008-07-30T23:48:31Z</dcterms:modified>
  <cp:revision>1</cp:revision>
  <dc:subject/>
  <dc:title>Slide 1</dc:title>
</cp:coreProperties>
</file>