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28C-A6B4-4F61-84FE-D7CCB0E9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7EF-8E4A-4EC4-913B-20F4DC70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B99-1FC0-4713-9DC5-5976347E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C6D-2595-4011-B01E-990DCA87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027-2DEE-48CD-BEB2-7A1012F4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BE0-9DAF-47AA-B0E2-361E161A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D93-2D2C-435F-BEE2-484843CA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6EF-4AD6-487A-B20E-13F0FFE6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A32-CE61-465E-9D06-74CCF6F0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AF5-4345-4C3D-B3CB-75C30D0D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5AA-8AE5-4265-82EE-17074FB9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84D-4613-4FB1-8832-7959201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FC7E-1161-4E72-886E-8429D53D63B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benignidades do SENHOR cantarei perpetuamente; com a minha boca manifestarei a tua fidelidade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quebraste a Raabe como se fora ferida de morte; espalhaste os teus inimigos com o teu braço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us são os céus, e tua é a terra; o mundo e a sua plenitude tu os fund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norte e o sul tu os criaste; Tabor e Hermom jubilam em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tens um braço poderoso; forte é a tua mão, e alta está a tua des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stiça e juízo são a base do teu trono; misericórdia e verdade irão adiante do t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povo que conhece o som alegre; andará, ó SENHOR, na luz da t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eu nome se alegrará todo o dia, e na tua justiça se exal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 és a glória da sua força; e no teu favor será exaltado o nosso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é a nossa defesa, e o Santo de Israel o noss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aste em visão ao teu santo, e disseste: Pus o socorro sobre um que é poderoso; exaltei a um eleito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disse eu: A tua benignidade será edificada para sempre; tu confirmarás a tua fidelidade até nos céu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hei a Davi, meu servo; com santo óleo o ung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qual a minha mão ficará firme, e o meu braço o fortal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inimigo não o importunará, nem o filho da perversidade o aflig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errubarei os seus inimigos perante a sua face, e ferirei aos que o 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inha fidelidade e a minha benignidade estarão com ele; e em meu nome será exaltado o s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ei também a sua mão no mar, e a sua direita nos 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me chamará, dizendo: Tu és meu pai, meu Deus, e a rocha da minh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farei meu primogênito mais elevado do que os rei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benignidade lhe conservarei eu para sempre, e a minha aliança lhe será firm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ervarei para sempre a sua semente, e o seu trono como os dia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 uma aliança com o meu escolhido, e jurei ao meu servo Dav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s seus filhos deixarem a minha lei, e não andarem nos meus juíz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profanarem os meus preceitos, e não guardarem os meus mandame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sitarei a sua transgressão com a vara, e a sua iniqüidade com aço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retirarei totalmente dele a minha benignidade, nem faltarei à minha fide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quebrarei a minha aliança, não alterarei o que saiu dos m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vez jurei pela minha santidade que não mentirei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semente durará para sempre, e o seu trono, como o sol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estabelecido para sempre como a lua e como uma testemunha fiel no céu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rejeitaste e aborreceste; tu te indignaste contra o teu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ominaste a aliança do teu servo; profanaste a sua coroa, lançando-a por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semente estabelecerei para sempre, e edificarei o teu trono de geração em geraçã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ubaste todos os seus muros; arruinaste as suas fortific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passam pelo caminho o despojam; é um opróbrio para os seus viz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ltaste a destra dos seus adversários; fizeste com que todos os seus inimigos se regozija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mbotaste o fio da sua espada, e não o sustentaste n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ste cessar a sua glória, e deitaste por terra o seu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viaste os dias da sua mocidade; cobriste-o de vergonh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, SENHOR? Acaso te esconderás para sempre? Arderá a tua ira como f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e quão breves são os meus dias; por que criarias debalde todos os filhos dos hom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homem há, que viva, e não veja a morte? Livrará ele a sua alma do poder da sepultura?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onde estão as tuas antigas benignidades que juraste a Davi pela tua ver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éus louvarão as tuas maravilhas, ó SENHOR, a tua fidelidade também na congregação d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, Senhor, do opróbrio dos teus servos; como eu trago no meu peito o opróbrio de todos os povos poderos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qual, SENHOR, os teus inimigos têm difamado, com o qual têm difamado as pisadas do teu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 para sempre. Amém, e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m no céu se pode igualar ao SENHOR? Quem entre os filhos dos poderosos pode ser semelhante a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é muito formidável na assembléia dos santos, e para ser reverenciado por todos os que o cer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 Deus dos Exércitos, quem é poderoso como tu, SENHOR, com a tua fidelidade ao redor de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dominas o ímpeto do mar; quando as suas ondas se levantam, tu as fazes aquie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54Z</dcterms:created>
  <dc:creator>Admin</dc:creator>
  <dc:description/>
  <dc:language>en-US</dc:language>
  <cp:lastModifiedBy>Admin</cp:lastModifiedBy>
  <dcterms:modified xsi:type="dcterms:W3CDTF">2008-07-31T00:26:54Z</dcterms:modified>
  <cp:revision>1</cp:revision>
  <dc:subject/>
  <dc:title>Slide 1</dc:title>
</cp:coreProperties>
</file>