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48585-C1B9-4FB2-89B1-CFCD66260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5AE49-414C-43DB-8030-79159E566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08033-1315-4967-887F-D8E85D0BD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16949-E933-4FB7-AE1F-14D6B9760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EFFCB-FCA1-4D7A-B407-A3457AE34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B4500-B3D6-487C-B278-CE8219EB4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42F06-503A-4F9A-9E35-1C54728C1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5DD46-7736-4598-991B-2EEAA4B25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57C1F-B2CC-4D5C-AFAE-F9FD455DA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4BCF4-8025-4EC9-B233-D3E8EEBBB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C37B0-F82C-43C7-9CFA-BB16459D2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0156A-739B-410A-8C02-AF1949D48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A6739-8A33-4A61-B773-DED0F8144B88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10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tomou Samuel um vaso de azeite, e lho derramou sobre a cabeça, e beijou-o, e disse: Porventura não te ungiu o SENHOR por capitão sobre a sua herança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10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chegando eles ao outeiro, eis que um grupo de profetas lhes saiu ao encontro; e o Espírito de Deus se apoderou dele, e profetizou no meio del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10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conteceu que, como todos os que antes o conheciam viram que ele profetizava com os profetas, então disse o povo, cada um ao seu companheiro: Que é o que sucedeu ao filho de Quis? Está também Saul entre os profeta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10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um homem dali respondeu, e disse: Pois quem é o pai deles? Pelo que se tornou em provérbio: Está Saul também entre os profeta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10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acabando de profetizar, foi ao al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10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-lhe o tio de Saul, a ele e ao seu moço: Aonde fostes? E disse ele: A buscar as jumentas, e, vendo que não apareciam, fomos a Samue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10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disse o tio de Saul: Declara-me, peço-te, o que vos disse Samuel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10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 Saul a seu tio: Declarou-nos, na verdade, que as jumentas foram encontradas. Porém o negócio do reino, de que Samuel falara, não lhe declaro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10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onvocou, pois, Samuel o povo ao SENHOR, em Mizpá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10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 aos filhos de Israel: Assim disse o SENHOR Deus de Israel: Eu fiz subir a Israel do Egito, e livrei-vos da mão dos egípcios e da mão de todos os reinos que vos oprimia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10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vós tendes rejeitado hoje a vosso Deus, que vos livrou de todos os vossos males e trabalhos, e lhe tendes falado: Põe um rei sobre nós. Agora, pois, ponde-vos perante o SENHOR, pelas vossas tribos e segundo os vossos milhar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10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partando-te hoje de mim, acharás dois homens junto ao sepulcro de Raquel, no termo de Benjamim, em Zelza, os quais te dirão: Acharam-se as jumentas que foste buscar, e eis que já o teu pai deixou o negócio das jumentas, e anda aflito por causa de vós, 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10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endo, pois, Samuel feito chegar todas as tribos, tomou-se a tribo de Benjami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10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fazendo chegar a tribo de Benjamim pelas suas famílias, tomou-se a família de Matri; e dela se tomou Saul, filho de Quis; e o buscaram, porém não se acho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10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tornaram a perguntar ao SENHOR se aquele homem ainda viria ali. E disse o SENHOR: Eis que se escondeu entre a bagage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10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correram, e o tomaram dali, e pôs-se no meio do povo; e era mais alto do que todo o povo desde o ombro para cim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10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disse Samuel a todo o povo: Vedes já a quem o SENHOR escolheu? Pois em todo o povo não há nenhum semelhante a ele. Então jubilou todo o povo, e disse: Viva o rei!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10:2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eclarou Samuel ao povo o direito do reino, e escreveu-o num livro, e pô-lo perante o SENHOR; então despediu Samuel a todo o povo, cada um para sua cas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10:2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foi também Saul à sua casa, em Gibeá; e foram com ele do exército aqueles cujos corações Deus toca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10:2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os filhos de Belial disseram: É este o que nos há de livrar? E o desprezaram, e não lhe trouxeram presentes; porém ele se fez como sur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10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quando dali passares mais adiante, e chegares ao carvalho de Tabor, ali te encontrarão três homens, que vão subindo a Deus a Betel; um levando três cabritos, o outro três bolos de pão e o outro um odre de vinh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10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te perguntarão como estás, e te darão dois pães, que tomarás das suas mã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10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chegarás ao outeiro de Deus, onde está a guarnição dos filisteus; e há de ser que, entrando ali na cidade, encontrarás um grupo de profetas que descem do alto, e trazem diante de si saltérios, e tambores, e flautas, e harpas; e eles estarão profet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10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Espírito do SENHOR se apoderará de ti, e profetizarás com eles, e tornar-te-ás um outro home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10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há de ser que, quando estes sinais te vierem, faze o que achar a tua mão, porque Deus é contig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10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u, porém, descerás antes de mim a Gilgal, e eis que eu descerei a ti, para sacrificar holocaustos, e para oferecer ofertas pacíficas; ali sete dias esperarás, até que eu venha a ti, e te declare o que hás de faze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10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ucedeu, pois, que, virando ele as costas para partir de Samuel, Deus lhe mudou o coração em outro; e todos aqueles sinais aconteceram naquele mesmo d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46:46Z</dcterms:created>
  <dc:creator>Admin</dc:creator>
  <dc:description/>
  <dc:language>en-US</dc:language>
  <cp:lastModifiedBy>Admin</cp:lastModifiedBy>
  <dcterms:modified xsi:type="dcterms:W3CDTF">2008-07-30T23:46:46Z</dcterms:modified>
  <cp:revision>1</cp:revision>
  <dc:subject/>
  <dc:title>Slide 1</dc:title>
</cp:coreProperties>
</file>