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EE70-061C-4A35-ABBD-CAC3E5FA5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7A95-2EFC-4E88-9FED-0A93D82C8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412E-6EE4-4F3D-953A-05E4FCA50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1F8E-D8D8-4BE7-9647-2AD367FE7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2979-FFD6-4223-8218-35194BAC2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8873-2575-4F9E-A5FA-37578411B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21C1-E15F-4D55-969D-99D5A25B2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EBF6-0232-465F-B24F-23D0F74D7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6C00-FE4A-46A8-96AC-FC1544CE5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92E6-C67A-4C93-B24A-4D9319256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5145-ED36-4123-A294-97B4DCCDE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51E2-82DE-4716-B50F-1DF1C0CAA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81E29-7A2C-49C9-8196-13BD30A5F307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16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O trigésimo sexto ano do reinado de Asa, Baasa, rei de Israel, subiu contra Judá e edificou a Ramá, para não deixar ninguém sair, nem chegar a Asa, rei de Jud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16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Asa se indignou contra o vidente, e lançou-o na casa do tronco; porque estava enfurecido contra ele, por causa disto; também Asa, no mesmo tempo, oprimiu a alguns do pov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16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is que os atos de Asa, tanto os primeiros, como os últimos, estão escritos no livro dos reis de Judá e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16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no ano trinta e nove do seu reinado, Asa caiu doente de seus pés, a sua doença era em extremo grave; contudo, na sua enfermidade, não buscou ao SENHOR, mas antes os médic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16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sa dormiu com seus pais; e morreu no ano quarenta e um do seu rein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16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sepultaram no seu sepulcro, que tinha cavado para si na cidade de Davi, havendo-o deitado na cama, que se enchera de perfumes e especiarias preparadas segundo a arte dos perfumistas; e, destas coisas fizeram-lhe uma grande queim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16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Asa tirou a prata e o ouro dos tesouros da casa do SENHOR, e da casa do rei; e enviou servos a Ben-Hadade, rei da Síria, que habitava em Damasco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16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cordo há entre mim e ti, como houve entre meu pai e o teu; eis que te envio prata e ouro; vai, pois, e anula o teu acordo com Baasa, rei de Israel, para que se retire de sobre mi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16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Ben-Hadade deu ouvidos ao rei Asa, e enviou os capitães dos seus exércitos, contra as cidades de Israel, e eles feriram a Ijom, a Dã, a Abel-Maim, e a todas as cidades-armazéns de Naftal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16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ucedeu que, ouvindo-o Baasa, deixou de edificar a Ramá, e não continuou a sua ob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16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o rei Asa tomou a todo o Judá, e levaram as pedras de Ramá, e a sua madeira, com que Baasa edificara; e com elas edificou a Geba e a Mizp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16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aquele mesmo tempo veio Hanani, o vidente, a Asa, rei de Judá, e disse-lhe: Porquanto confiaste no rei da Síria, e não confiaste no SENHOR teu Deus, por isso o exército do rei da Síria escapou da tua m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16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ventura não foram os etíopes e os líbios um grande exército, com muitíssimos carros e cavaleiros? Confiando tu, porém, no SENHOR, ele os entregou nas tuas mã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16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, quanto ao SENHOR, seus olhos passam por toda a terra, para mostrar-se forte para com aqueles cujo coração é perfeito para com ele; nisto, pois, procedeste loucamente porque desde agora haverá guerras contra t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49:43Z</dcterms:created>
  <dc:creator>Admin</dc:creator>
  <dc:description/>
  <dc:language>en-US</dc:language>
  <cp:lastModifiedBy>Admin</cp:lastModifiedBy>
  <dcterms:modified xsi:type="dcterms:W3CDTF">2008-07-30T23:49:43Z</dcterms:modified>
  <cp:revision>1</cp:revision>
  <dc:subject/>
  <dc:title>Slide 1</dc:title>
</cp:coreProperties>
</file>