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7996-0231-4B77-865C-63194DA19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87AF-9E70-4448-AB9B-D0D250CF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0A81-C010-4402-BF76-E3C0A8105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2A2E-CDCB-4E8A-95D2-5D3F05740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96F3-F41D-4319-969E-E91BFC16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7DA6-1818-4B98-BC76-5621AC69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F6CC-91F8-4E41-965C-D78BDD88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B06F-E4AB-4D50-8EDC-99FD0C20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A941-345B-45D8-AE73-A611CD14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A1F2-1CD9-462D-B0EE-B39E9579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F414-B5EE-439B-8623-670690D2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2DAC-CC4E-4155-8DE3-E8C6FFA5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9FC9-D6D1-43C2-8907-18A92BCE42F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: Por três transgressões de Moabe, e por quatro, não retirarei o castigo, porque queimou os ossos do rei de Edom, até os tornar a ca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ambém vos fiz subir da terra do Egito, e quarenta anos vos guiei no deserto, para que possuísseis a terra do amorre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entre vossos filhos suscitei profetas, e dentre os vossos jovens nazireus. Não é isto assim, filhos de Israel?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as vós aos nazireus destes vinho a beber, e aos profetas ordenastes, dizendo: Não profetizare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is que eu vos apertarei no vosso lugar como se aperta um carro cheio de feix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perecerá a fuga ao ágil; nem o forte corroborará a sua força, nem o poderoso livrará a sua vi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não ficará em pé o que maneja o arco, nem o ligeiro de pés se livrará, nem tampouco se livrará o que vai montado a cava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mais corajoso entre os fortes fugirá nu naquele dia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porei fogo a Moabe, e consumirá os palácios de Queriote; e Moabe morrerá com grande estrondo, com alarido, com som de trombe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xterminarei o juiz do meio dele, e a todos os seus príncipes com ele matarei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: Por três transgressões de Judá, e por quatro, não retirarei o castigo, porque rejeitaram a lei do SENHOR, e não guardaram os seus estatutos, antes se deixaram enganar por suas próprias mentiras, após as quais andaram seus p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porei fogo a Judá, e ele consumirá os palácios de Jerusalé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: Por três transgressões de Israel, e por quatro, não retirarei o castigo, porque vendem o justo por dinheiro, e o necessitado por um par de sapat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spirando pelo pó da terra, sobre a cabeça dos pobres, pervertem o caminho dos mansos; e um homem e seu pai entram à mesma moça, para profanarem o meu santo no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se deitam junto a qualquer altar sobre roupas empenhadas, e na casa dos seus deuses bebem o vinho dos que tinham mult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odavia eu destruí diante dele o amorreu, cuja altura era como a altura dos cedros, e que era forte como os carvalhos; mas destruí o seu fruto por cima, e as suas raízes por baix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1:48Z</dcterms:created>
  <dc:creator>Admin</dc:creator>
  <dc:description/>
  <dc:language>en-US</dc:language>
  <cp:lastModifiedBy>Admin</cp:lastModifiedBy>
  <dcterms:modified xsi:type="dcterms:W3CDTF">2008-07-30T23:21:48Z</dcterms:modified>
  <cp:revision>1</cp:revision>
  <dc:subject/>
  <dc:title>Slide 1</dc:title>
</cp:coreProperties>
</file>