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F0B-55B3-41C2-BA47-64AE5186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8D4-7AFF-46A9-BC6C-9C02E606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10F-C25C-42C9-8654-EC15C08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A94-7ACA-4CBA-966B-74FC0260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1DC-2A9D-4A2E-A4C5-AC950BCE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48A-497C-4388-99EC-30E7C13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BF3-EABB-4E5E-B008-EA40144F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779-CD3A-4C6B-A5B4-E1676C30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741-8472-401F-8235-D28613B1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789-FE08-44D9-9BCE-E09E273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3C4-65F5-4738-B9B0-58DE365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F81-D05A-42D4-ADB4-EF14D29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2473-57C9-4CC8-80E8-F45E3306E7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o sétimo mês, e estando os filhos de Israel já nas cidades, ajuntou-se o povo, como um só homem,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os edificadores lançaram os alicerces do templo do SENHOR, então apresentaram-se os sacerdotes, já vestidos e com trombetas, e os levitas, filhos de Asafe, com címbalos, para louvarem ao SENHOR conforme à instituição de Davi, rei de Isra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tavam juntos por grupo, louvando e rendendo graças ao SENHOR, dizendo: porque é bom; porque a sua benignidade dura para sempre sobre Israel. E todo o povo jubilou com altas vozes, quando louvaram ao SENHOR, pela fundaçã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uitos dos sacerdotes, e levitas e chefes dos pais, já idosos, que viram a primeira casa, choraram em altas vozes quando à sua vista foram lançados os fundamentos desta casa; mas muitos levantaram as vozes com júbilo e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não discernia o povo as vozes do júbilo de alegria das vozes do choro do povo; porque o povo jubilava com tão altas vozes, que o som se ouvia de muito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Jesuá, filho de Jozadaque, e seus irmãos, os sacerdotes, e Zorobabel, filho de Sealtiel, e seus irmãos, e edificaram o altar do Deus de Israel, para oferecerem sobre ele holocaustos, como está escrito na lei de Moisés, o home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rmaram o altar sobre as suas bases, porque o terror estava sobre eles, por causa dos povos das terras; e ofereceram sobre ele holocaustos ao SENHOR, holocaustos pela manhã e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lebraram a festa dos tabernáculos, como está escrito; ofereceram holocaustos cada dia, por ordem, conforme ao rito, cada coisa em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o holocausto contínuo, e os das luas novas e de todas as solenidades consagradas ao SENHOR; como também de qualquer que oferecia oferta voluntária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primeiro dia do sétimo mês começaram a oferecer holocaustos ao SENHOR; porém ainda não estavam postos os fundamentos do templ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, pois, o dinheiro aos pedreiros e carpinteiros, como também comida e bebida, e azeite aos sidônios, e aos tírios, para trazerem do Líbano madeira de cedro ao mar, para Jope, segundo a concessão que lhes tinha feito Ciro, rei da Pér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egundo ano da sua vinda à casa de Deus em Jerusalém, no segundo mês, Zorobabel, filho de Sealtiel, e Jesuá, filho de Jozadaque, e os outros seus irmãos, os sacerdotes e os levitas, e todos os que vieram do cativeiro a Jerusalém, começaram a obra 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Jesuá, seus filhos, e seus irmãos, Cadmiel e seus filhos, os filhos de Judá, como um só homem, para dirigirem os que faziam a obra na casa de Deus, bem como os filhos de Henadade, seus filhos e seus irmãos, 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16Z</dcterms:created>
  <dc:creator>Admin</dc:creator>
  <dc:description/>
  <dc:language>en-US</dc:language>
  <cp:lastModifiedBy>Admin</cp:lastModifiedBy>
  <dcterms:modified xsi:type="dcterms:W3CDTF">2008-07-30T23:30:16Z</dcterms:modified>
  <cp:revision>1</cp:revision>
  <dc:subject/>
  <dc:title>Slide 1</dc:title>
</cp:coreProperties>
</file>