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164-2346-463F-9B60-5C86C2FB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B55-5D56-4F8C-93B5-A46342AB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CD4-2806-4128-9D3F-EEF47C4B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E4C-54AC-42E7-985C-5705C7A7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411-764A-42DF-8202-01B16DED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343-E7C3-4525-85F4-623AC2E7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D96-2D5A-4636-8269-936A0B28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401-D690-4274-B0A9-9F0F3D10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465D-F609-4642-9CE6-FC801FB4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1E1-6D93-49EC-A5E2-73384889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027-88A9-44DD-BEC2-C87B5344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329C-3A4B-4F47-8D99-6FB8AC22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C7F0-E8F6-4F02-9998-3F8B5673C1F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, depois disto que Naás, rei dos filhos de Amom, morreu; e seu filho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Joabe que a batalha estava preparada contra ele, pela frente e pela retaguarda, separou dentre os mais escolhidos de Israel, e os ordenou contra os sí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sto do povo entregou na mão de Abisai, seu irmão; e puseram-se em ordem de batalha contra os filhos de A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Se os sírios forem mais fortes do que eu, tu virás socorrer-me; e, se os filhos de Amom forem mais fortes do que tu, então eu te socorre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força-te, e esforcemo-nos pelo nosso povo, e pelas cidades do nosso Deus, e faça o SENHOR o que parecer bem a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chegou Joabe, e o povo que tinha consigo, diante dos sírios, para a batalha; e fugiram de dia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os filhos de Amom que os sírios fugiram, também eles fugiram de diante de Abisai, seu irmão, e entraram na cidade; e veio Joabe par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os sírios que foram derrotados diante de Israel, enviaram mensageiros, e fizeram sair os sírios que habitavam do outro lado do rio; e Sofaque, capitão do exército de Hadar-Ezer, marchava diante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que avisado Davi, ajuntou a todo o Israel, e passou o Jordão, e foi ter com eles, e ordenou contra eles a batalha; e, tendo Davi ordenado a batalha contra os sírios, pelejaram cont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sírios fugiram de diante de Israel, e feriu Davi, dos sírios, os homens de sete mil carros, e quarenta mil homens de pé; e a Sofaque, capitão do exército, ma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os servos de Hadar-Ezer que tinham sido feridos diante de Israel, fizeram paz com Davi, e o serviram; e os sírios nunca mais quiseram socorrer os filhos de A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Davi: Usarei de benevolência com Hanum, filho de Naás, porque seu pai usou de benevolência comigo. Por isso Davi enviou mensageiros para o consolarem acerca de seu pai. E, chegando os servos de Davi à terra dos filhos de Amom, a Hanum, para 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 os príncipes dos filhos de Amom a Hanum: Pensas porventura, que foi para honrar teu pai aos teus olhos, que Davi te mandou consoladores? Não vieram seus servos a ti, a esquadrinhar, e a transtornar, e a espiar a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Hanum tomou os servos de Davi, e raspou-os, e cortou-lhes as vestes no meio até à coxa da perna, e os desped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-se, e avisaram a Davi acerca daqueles homens; e enviou ele mensageiros a encontrá-los; porque aqueles homens estavam sobremaneira envergonhados. Disse, pois, o rei: Deixai-vos ficar em Jericó, até que vos torne a crescer a barba, e então volt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os filhos de Amom que se tinham feito odiosos para com Davi, enviou Hanum, e os filhos de Amom, mil talentos de prata para alugarem para si carros e cavaleiros da Mesopotâmia, e da Síria de Maaca, e de Zob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ugaram para si trinta e dois mil carros, e o rei de Maaca e o seu povo, e eles vieram, e se acamparam diante de Medeba; também os filhos de Amom se ajuntaram das suas cidades, e vieram para a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ouvindo Davi, enviou Joabe e todo o exército dos homens val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os filhos de Amom, ordenaram a batalha à porta da cidade; porém os reis que vieram se puseram à parte n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3:27Z</dcterms:created>
  <dc:creator>Admin</dc:creator>
  <dc:description/>
  <dc:language>en-US</dc:language>
  <cp:lastModifiedBy>Admin</cp:lastModifiedBy>
  <dcterms:modified xsi:type="dcterms:W3CDTF">2008-07-30T23:43:27Z</dcterms:modified>
  <cp:revision>1</cp:revision>
  <dc:subject/>
  <dc:title>Slide 1</dc:title>
</cp:coreProperties>
</file>