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C919-066A-4FBB-A387-F469CD532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F95F-AE1B-4F01-AEA4-00CFA0C5B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70D1-315E-4201-A8D2-0BBE2E7E4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331D-AB94-432F-8BA7-435CE68F5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6E62-E55E-47FE-B378-17B75EA95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4173-DFFF-4242-AB16-32ACD8A85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A932-3DBE-4FD6-B684-4E5E84CB3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BDBC-9315-4899-BBB1-534D06F46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BC4B-7CE1-4A62-8E08-3128BE697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6B30-BC67-4BD0-86F8-99AB1E01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BE26-87C4-4975-8E01-39DF919B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CE5E-AABF-4AA7-A6E0-B0C49991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E9597-B782-4E63-9E2B-74143B1144ED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ribeiros de águas assim é o coração do rei na mão do SENHOR, que o inclina a todo o seu quer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alma do ímpio deseja o mal; o seu próximo não agrada aos seus o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o escarnecedor é castigado, o simples torna-se sábio; e o sábio quando é instruído recebe o conhecim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justo considera com prudência a casa do ímpio; mas Deus destrói os ímpios por causa dos seus ma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tapa o seu ouvido ao clamor do pobre, ele mesmo também clamará e não será ouv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presente dado em segredo aplaca a ira, e a dádiva no regaço põe fim à maior indign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fazer justiça é alegria para o justo, mas destruição para os que praticam a iniqü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homem que anda desviado do caminho do entendimento, na congregação dos mortos repous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ama os prazeres padecerá necessidade; o que ama o vinho e o azeite nunca enriquec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resgate do justo é o ímpio; o do honrado é o perver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1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É melhor morar numa terra deserta do que com a mulher rixosa e irritadi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 caminho do homem é reto aos seus olhos, mas o SENHOR sonda os cor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1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souro desejável e azeite há na casa do sábio, mas o homem insensato os esgo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1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segue a justiça e a beneficência achará a vida, a justiça e a hon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1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ábio escala a cidade do poderoso e derruba a força da sua confia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1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guarda a sua boca e a sua língua guarda a sua alma das angúst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1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oberbo e presumido, zombador é o seu nome, trata com indignação e soberb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1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desejo do preguiçoso o mata, porque as suas mãos recusam trabalh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1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cobiçoso cobiça o dia todo, mas o justo dá, e nada ret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1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acrifício dos ímpios já é abominação; quanto mais oferecendo-o com má intenção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1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falsa testemunha perecerá, porém o homem que dá ouvidos falará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1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homem ímpio endurece o seu rosto; mas o reto considera o seu cami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zer justiça e juízo é mais aceitável ao SENHOR do que sacrifíc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1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há sabedoria, nem inteligência, nem conselho contra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1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repara-se o cavalo para o dia da batalha, porém do SENHOR vem a vitó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olhos altivos, o coração orgulhoso e a lavoura dos ímpios é pec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pensamentos do diligente tendem só para a abundância, porém os de todo apressado, tão-somente para a pobrez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rabalhar com língua falsa para ajuntar tesouros é vaidade que conduz aqueles que buscam a mo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rapinas dos ímpios os destruirão, porquanto se recusam a fazer justi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caminho do homem é todo perverso e estranho, porém a obra do homem puro é re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É melhor morar num canto de telhado do que ter como companheira em casa ampla uma mulher briguen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2:20Z</dcterms:created>
  <dc:creator>Admin</dc:creator>
  <dc:description/>
  <dc:language>en-US</dc:language>
  <cp:lastModifiedBy>Admin</cp:lastModifiedBy>
  <dcterms:modified xsi:type="dcterms:W3CDTF">2008-07-31T00:22:20Z</dcterms:modified>
  <cp:revision>1</cp:revision>
  <dc:subject/>
  <dc:title>Slide 1</dc:title>
</cp:coreProperties>
</file>