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0AF-1938-47B3-8605-D6356B29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1D76-4653-4363-B8D3-B36914E5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49AE-14F8-4E67-AF06-75091CA2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9FCE-2D16-4D42-ACC5-65EC534E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7D0F-5561-4931-B05C-8B21D10C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F6E9-6A9A-4A94-99FF-5276149D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1F9-6FED-4C26-9BE6-85736C62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3467-F6E3-4D2D-9F02-A5A95577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B357-4B9B-4A93-95F7-518D84A2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B437-FBBB-4BBF-9E96-95F4FA75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586-16C3-4DA7-8281-21DE16B1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673-423E-4884-9406-B574A190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1AA4-48D0-41F8-8665-A8BCBF39894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da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DAS, servo de Jesus Cristo, e irmão de Tiago, aos chamados, santificados em Deus Pai, e conservados por Jesus Crist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da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, porém, dizem mal do que não sabem; e, naquilo que naturalmente conhecem, como animais irracionais se corromp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da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les! porque entraram pelo caminho de Caim, e foram levados pelo engano do prêmio de Balaão, e pereceram na contradição de Cor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da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manchas em vossas festas de amor, banqueteando-se convosco, e apascentando-se a si mesmos sem temor; são nuvens sem água, levadas pelos ventos de uma para outra parte; são como árvores murchas, infrutíferas, duas vezes mortas, desarraigad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da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das impetuosas do mar, que escumam as suas mesmas abominações; estrelas errantes, para os quais está eternamente reservada a negrura das tre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da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tes profetizou também Enoque, o sétimo depois de Adão, dizendo: Eis que é vindo o Senhor com milhares de seus san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da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fazer juízo contra todos e condenar dentre eles todos os ímpios, por todas as suas obras de impiedade, que impiamente cometeram, e por todas as duras palavras que ímpios pecadores disseram contr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das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murmuradores, queixosos da sua sorte, andando segundo as suas concupiscências, e cuja boca diz coisas mui arrogantes, admirando as pessoas por causa do intere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das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vós, amados, lembrai-vos das palavras que vos foram preditas pelos apóstolos de nosso Senhor Jesus Cri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das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vos diziam que nos últimos tempos haveria escarnecedores que andariam segundo as suas ímpias concupiscênc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das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que causam divisões, sensuais, que não têm o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da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isericórdia, e paz, e amor vos sejam multipli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das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vós, amados, edificando-vos a vós mesmos sobre a vossa santíssima fé, orando no Espírito San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das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servai-vos a vós mesmos no amor de Deus, esperando a misericórdia de nosso Senhor Jesus Cristo para a vida et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das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iedai-vos de alguns, usando de discernime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das 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lvai alguns com temor, arrebatando-os do fogo, odiando até a túnica manchada d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das 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àquele que é poderoso para vos guardar de tropeçar, e apresentar-vos irrepreensíveis, com alegria, perante a sua glór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das 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único Deus sábio, Salvador nosso, seja glória e majestade, domínio e poder, agora, e para todo o sempre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da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dos, procurando eu escrever-vos com toda a diligência acerca da salvação comum, tive por necessidade escrever-vos, e exortar-vos a batalhar pela fé que uma vez foi dada aos sa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da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 introduziram alguns, que já antes estavam escritos para este mesmo juízo, homens ímpios, que convertem em dissolução a graça de Deus, e negam a Deus, único dominador e Senhor nosso,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da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ero lembrar-vos, como a quem já uma vez soube isto, que, havendo o Senhor salvo um povo, tirando-o da terra do Egito, destruiu depois os que não crera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da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s anjos que não guardaram o seu principado, mas deixaram a sua própria habitação, reservou na escuridão e em prisões eternas até ao juízo daquele grande d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da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omo Sodoma e Gomorra, e as cidades circunvizinhas, que, havendo-se entregue à fornicação como aqueles, e ido após outra carne, foram postas por exemplo, sofrendo a pena do fogo eter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da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ntudo, também estes, semelhantemente adormecidos, contaminam a sua carne, e rejeitam a dominação, e vituperam as dign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uda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arcanjo Miguel, quando contendia com o diabo, e disputava a respeito do corpo de Moisés, não ousou pronunciar juízo de maldição contra ele; mas disse: O Senhor te repre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6:16Z</dcterms:created>
  <dc:creator>Admin</dc:creator>
  <dc:description/>
  <dc:language>en-US</dc:language>
  <cp:lastModifiedBy>Admin</cp:lastModifiedBy>
  <dcterms:modified xsi:type="dcterms:W3CDTF">2008-07-31T00:06:16Z</dcterms:modified>
  <cp:revision>1</cp:revision>
  <dc:subject/>
  <dc:title>Slide 1</dc:title>
</cp:coreProperties>
</file>