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4E7-DDC0-430C-9544-E4B8E3F7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90F-3EF2-4C69-B8E2-3E7B27D8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2D1-565D-453E-AF42-935A616F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131-54A8-45FC-8A2B-C3485F89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E43-1E3E-407B-B87B-8CB75F2D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3CC-0154-40B3-A902-5A116138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249-51D4-4D36-81FA-82172A53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CB3-9325-4FA5-A09B-8D9D2D44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90B-C018-4F8E-B96C-F9D6C5A6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776-20BB-4E59-8A46-0766D91C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D81-DEE2-49BE-9E71-0C7A74D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9A1-A41F-461C-9C48-B1224BEA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A139-B50B-4CBF-A527-17A37BB9738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 e João subiam juntos ao templo à hora da oração, a no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heciam-no, pois era ele o que se assentava a pedir esmola à porta Formosa do templo; e ficaram cheios de pasmo e assombro, pelo que lhe acontec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egando-se o coxo, que fora curado, a Pedro e João, todo o povo correu atônito para junto deles, ao alpendre chamado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Pedro viu isto, disse ao povo: Homens israelitas, por que vos maravilhais disto? Ou, por que olhais tanto para nós, como se por nossa própria virtude ou santidade fizéssemos andar este hom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us de Abraão, de Isaque e de Jacó, o Deus de nossos pais, glorificou a seu filho Jesus, a quem vós entregastes e perante a face de Pilatos negastes, tendo ele determinado que fosse so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negastes o Santo e o Justo, e pedistes que se vos desse um homem homic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tastes o Príncipe da vida, ao qual Deus ressuscitou dentre os mortos, do que nós somos testemu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a fé no seu nome fez o seu nome fortalecer a este que vedes e conheceis; sim, a fé que vem por ele, deu a este, na presença de todos vós, esta perfeita sa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, irmãos, eu sei que o fizestes por ignorância, como também os vossos príncip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assim cumpriu o que já dantes pela boca de todos os seus profetas havia anunciado; que o Cristo havia de pad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rependei-vos, pois, e convertei-vos, para que sejam apagados os vossos pecados, e venham assim os tempos do refrigério pela presença d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trazido um homem que desde o ventre de sua mãe era coxo, o qual todos os dias punham à porta do templo, chamada Formosa, para pedir esmola aos que entr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e ele a Jesus Cristo, que já dantes vos foi pre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convém que o céu contenha até aos tempos da restauração de tudo, dos quais Deus falou pela boca de todos os seus santos profetas, desde o princí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oisés disse aos pais: O Senhor vosso Deus levantará de entre vossos irmãos um profeta semelhante a mim; a ele ouvireis em tudo quanto vos dis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 toda a alma que não escutar esse profeta será exterminada dent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e todos os profetas, desde Samuel, todos quantos depois falaram, também predisseram este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sois os filhos dos profetas e da aliança que Deus fez com nossos pais, dizendo a Abraão: Na tua descendência serão benditas todas as família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suscitando Deus a seu Filho Jesus, primeiro o enviou a vós, para que nisso vos abençoasse, no apartar, a cada um de vós, das vossas mal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, vendo a Pedro e a João que iam entrando no templo, pediu que lhe dessem uma esmo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, com João, fitando os olhos nele, disse: Olha par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ou para eles, esperando receber deles alguma coi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Pedro: Não tenho prata nem ouro; mas o que tenho isso te dou. Em nome de Jesus Cristo, o Nazareno, levanta-te e a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-o pela mão direita, o levantou, e logo os seus pés e artelhos se firm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ltando ele, pôs-se em pé, e andou, e entrou com eles no templo, andando, e saltando, e louvando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o viu andar e louvar a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3:16Z</dcterms:created>
  <dc:creator>Admin</dc:creator>
  <dc:description/>
  <dc:language>en-US</dc:language>
  <cp:lastModifiedBy>Admin</cp:lastModifiedBy>
  <dcterms:modified xsi:type="dcterms:W3CDTF">2008-07-30T23:23:16Z</dcterms:modified>
  <cp:revision>1</cp:revision>
  <dc:subject/>
  <dc:title>Slide 1</dc:title>
</cp:coreProperties>
</file>