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FBE-4F0B-43BA-AA6F-124B38F7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C71-3952-4E2D-A1D9-2F7673DC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731-172F-42C7-8626-25B02526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34A-C672-4C71-8B88-832B948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10E-75EC-422F-B162-AB9D7632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73F-EE5F-4DA0-99BF-C1810C12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D1B-B19D-4C86-94B5-52A5ED7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6C2-4F02-4221-BA3F-58B7C8D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383-F1D7-4FE0-BEA8-C9A8840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0ED-1794-4C15-84AD-B1822AED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1AD-7777-487A-8AA7-AEE1C3E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AB6-1B74-4DEA-B89E-F3EF909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8B3-E7BC-43F5-8E45-CD353772E6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estatutos e os juízos que tereis cuidado em cumprir na terra que vos deu o SENHOR Deus de vossos pais, para a possuir todos os dias que viverde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ssareis o Jordão, e habitareis na terra que vos fará herdar o SENHOR vosso Deus; e vos dará repouso de todos os vossos inimigos em redor, e morareis seg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averá um lugar que escolherá o SENHOR vosso Deus para ali fazer habitar o seu nome; ali trareis tudo o que vos ordeno; os vossos holocaustos, e os vossos sacrifícios, e os vossos dízimos, e a oferta alçada da vossa mão, e toda a escolha dos vos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 alegrareis perante o SENHOR vosso Deus, vós, e vossos filhos, e vossas filhas, e os vossos servos, e as vossas servas, e o levita que está dentro das vossas portas; pois convosco não tem parte n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que não ofereças os teus holocaustos em todo o lugar que vi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lugar que o SENHOR escolher numa das tuas tribos ali oferecerás os teus holocaustos, e ali farás tudo o que te ord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conforme a todo o desejo da tua alma, matarás e comerás carne, dentro das tuas portas, segundo a bênção do SENHOR teu Deus, que te dá em todas as tuas portas; o imundo e o limpo dela comerá, como do corço e do ve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 sangue não comereis; sobre a terra o derramareis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o das tuas portas não poderás comer o dízimo do teu grão, nem do teu mosto, nem do teu azeite, nem os primogênitos das tuas vacas, nem das tuas ovelhas; nem nenhum dos teus votos, que houveres prometido, nem as tuas ofertas voluntárias, nem a of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comerás perante o SENHOR teu Deus, no lugar que escolher o SENHOR teu Deus, tu, e teu filho, e a tua filha, e o teu servo, e a tua serva, e o levita que está dentro das tuas portas; e perante o SENHOR teu Deus te alegrarás em tudo em que pusere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que não desampares ao levita todos os teus dia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talmente destruireis todos os lugares, onde as nações que possuireis serviram os seus deuses, sobre as altas montanhas, e sobre os outeiros, e debaixo de toda a árvore frondo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teu Deus dilatar os teus termos, como te disse, e disseres: Comerei carne; porquanto a tua alma tem desejo de comer carne; conforme a todo o desejo da tua alma, comerás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stiver longe de ti o lugar que o SENHOR teu Deus escolher, para ali pôr o seu nome, então matarás das tuas vacas e das tuas ovelhas, que o SENHOR te tiver dado, como te tenho ordenado; e comerás dentro das tuas portas, conforme a todo o desejo da t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como se come o corço e o veado, assim comerás; o imundo e o limpo também comer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esforça-te para que não comas o sangue; pois o sangue é vida; pelo que não comerás a vida com a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 comerás; na terra o derramarás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 comerás; para que bem te suceda a ti, e a teus filhos, depois de ti, quando fizeres o que for reto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s coisas santas que tiveres, e os teus votos tomarás, e virás ao lugar que o SENHOR esco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rás os teus holocaustos, a carne e o sangue sobre o altar do SENHOR teu Deus; e o sangue dos teus sacrifícios se derramará sobre o altar do SENHOR teu Deus; porém a carne co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e ouve todas estas palavras que te ordeno, para que bem te suceda a ti e a teus filhos depois de ti para sempre, quando fizeres o que for bom e reto aos olhos d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teu Deus desarraigar de diante de ti as nações, aonde vais a possuí-las, e as possuíres e habitares na su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ubareis os seus altares, e quebrareis as suas estátuas, e os seus bosques queimareis a fogo, e destruireis as imagens esculpidas dos seus deuses, e apagareis o seu nome daquel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que não te enlaces seguindo-as, depois que forem destruídas diante de ti; e que não perguntes acerca dos seus deuses, dizendo: Assim como serviram estas nações os seus deuses, do mesmo modo também farei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farás ao SENHOR teu Deus; porque tudo o que é abominável ao SENHOR, e que ele odeia, fizeram eles a seus deuses; pois até seus filhos e suas filhas queimaram no fogo a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eu te ordeno, observarás para fazer; nada lhe acrescentarás nem diminu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fareis ao SENHOR vosso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lugar que o SENHOR vosso Deus escolher de todas as vossas tribos, para ali pôr o seu nome, buscareis, para sua habitação, e ali v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trareis os vossos holocaustos, e os vossos sacrifícios, e os vossos dízimos, e a oferta alçada da vossa mão, e os vossos votos, e as vossas ofertas voluntárias, e os primogênitos das vossas vacas e das voss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comereis perante o SENHOR vosso Deus, e vos alegrareis em tudo em que puserdes a vossa mão, vós e as vossas casas, no que abençoar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eis conforme a tudo o que hoje fazemos aqui, cada qual tudo o que bem parece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agora não entrastes no descanso e na herança que vos dá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52Z</dcterms:created>
  <dc:creator>Admin</dc:creator>
  <dc:description/>
  <dc:language>en-US</dc:language>
  <cp:lastModifiedBy>Admin</cp:lastModifiedBy>
  <dcterms:modified xsi:type="dcterms:W3CDTF">2008-07-30T23:27:52Z</dcterms:modified>
  <cp:revision>1</cp:revision>
  <dc:subject/>
  <dc:title>Slide 1</dc:title>
</cp:coreProperties>
</file>