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D0E-CF03-4E27-884C-7B44A48E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1D8-0FDE-4B71-B547-0EAAA226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7AA-B94F-45B9-BC90-731F5B52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76F-9EC7-4241-A8DF-77481C59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F9F-6051-4EB0-BC06-AF2D4B39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B01-4371-4E58-A6A8-01218C7C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251-4287-43CD-B3F5-AC441046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123-8C47-4816-B2C0-C461E860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79C-CEE6-4EEF-9A4B-4D3E6857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835-3523-42E6-B8E3-6B3291EB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7B4-BBE1-4045-BBD7-37A607E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080-1898-4B70-8448-623D300E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0647-4F9E-423B-B317-B98527A05B3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ouviu Herodes, o tetrarca, a fama de Jes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degolar João no cárce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cabeça foi trazida num prato, e dada à jovem, e ela a levou a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ram os seus discípulos, e levaram o corpo, e o sepultaram; e foram anunciá-lo a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esus, ouvindo isto, retirou-se dali num barco, para um lugar deserto, apartado; e, sabendo-o o povo, seguiu-o a pé desde 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Jesus, saindo, viu uma grande multidão, e possuído de íntima compaixão para com ela, curou os seus enf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chegada a tarde, os seus discípulos aproximaram-se dele, dizendo: O lugar é deserto, e a hora é já avançada; despede a multidão, para que vão pelas aldeias, e comprem comida para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lhes disse: Não é mister que vão; dai-lhes vós de com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s lhe disseram: Não temos aqui senão cinco pães e dois peix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Trazei-mos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mandado que a multidão se assentasse sobre a erva, tomou os cinco pães e os dois peixes, e, erguendo os olhos ao céu, os abençoou, e, partindo os pães, deu-os aos discípulos, e os discípulos à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s seus criados: Este é João o Batista; ressuscitou dos mortos, e por isso estas maravilhas operam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ram todos, e saciaram-se; e levantaram dos pedaços, que sobejaram, doze alcofas ch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comeram foram quase cinco mil homens, além das mulheres e crian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ordenou Jesus que os seus discípulos entrassem no barco, e fossem adiante para o outro lado, enquanto despedia a mult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despedida a multidão, subiu ao monte para orar, à parte. E, chegada já a tarde, estava ali s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barco estava já no meio do mar, açoitado pelas ondas; porque o vento era contrár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à quarta vigília da noite, dirigiu-se Jesus para eles, andando por cima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iscípulos, vendo-o andando sobre o mar, assustaram-se, dizendo: É um fantasma. E gritaram com me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, porém, lhes falou logo, dizendo: Tende bom ânimo, sou eu, não te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-lhe Pedro, e disse: Senhor, se és tu, manda-me ir ter contigo por cima d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Vem. E Pedro, descendo do barco, andou sobre as águas para ir ter com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erodes tinha prendido João, e tinha-o maniatado e encerrado no cárcere, por causa de Herodias, mulher de seu irmão Filip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ntindo o vento forte, teve medo; e, começando a ir para o fundo, clamou, dizendo: Senhor, salva-m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Jesus, estendendo a mão, segurou-o, e disse-lhe: Homem de pouca fé, por que duvida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subiram para o barco, acalmou o v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proximaram-se os que estavam no barco, e adoraram-no, dizendo: És verdadeiramente o Fi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tendo passado para o outro lado, chegaram à terra de Genesar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s homens daquele lugar o conheceram, mandaram por todas aquelas terras em redor e trouxeram-lhe todos os que estavam enf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gavam-lhe que ao menos eles pudessem tocar a orla da sua roupa; e todos os que a tocavam ficavam s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oão lhe dissera: Não te é lícito possuí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erendo matá-lo, temia o povo; porque o tinham como prof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stejando-se, porém, o dia natalício de Herodes, dançou a filha de Herodias diante dele, e agradou a Hero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prometeu, com juramento, dar-lhe tudo o que pediss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, instruída previamente por sua mãe, disse: Dá-me aqui, num prato, a cabeça de João o Bat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afligiu-se, mas, por causa do juramento, e dos que estavam à mesa com ele, ordenou que se lhe de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04Z</dcterms:created>
  <dc:creator>Admin</dc:creator>
  <dc:description/>
  <dc:language>en-US</dc:language>
  <cp:lastModifiedBy>Admin</cp:lastModifiedBy>
  <dcterms:modified xsi:type="dcterms:W3CDTF">2008-07-31T00:15:04Z</dcterms:modified>
  <cp:revision>1</cp:revision>
  <dc:subject/>
  <dc:title>Slide 1</dc:title>
</cp:coreProperties>
</file>