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D276-8523-45BE-972F-DC414C8B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03DA-565C-413C-91E5-6D0CBD0A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18B-CAE7-480B-87E8-BD15E124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8A97-CD17-4D59-93D3-34A6D23C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2809-44B5-4889-8D3A-C7558F5F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A5E6-580A-4C72-81F5-FBDD847F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063C-9CE9-4C53-ADA7-9184DFF9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7896-5EBA-43BB-91CC-C32288AA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43C4-7A1C-40FD-B328-0ED45F5D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E687-4342-4E6C-829E-EAA17BBD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B51E-C116-4B40-BF41-F5AA6A6E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560E-B87E-490D-883E-188B31C1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C5EB-B2CB-49E6-9484-5E7875B622D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um homem tomar uma mulher e se casar com ela, então será que, se não achar graça em seus olhos, por nela encontrar coisa indecente, far-lhe-á uma carta de repúdio, e lha dará na sua mão, e a despedirá da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mprestares alguma coisa ao teu próximo, não entrarás em sua casa, para lhe tirar o p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a ficarás; e o homem, a quem emprestaste, te trará fora o p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se for homem pobre, não te deitarás com o seu p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se pondo o sol, sem falta lhe restituirás o penhor; para que durma na sua roupa, e te abençoe; e isto te será justiça diante do SENHOR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oprimirás o diarista pobre e necessitado de teus irmãos, ou de teus estrangeiros, que está na tua terra e nas tuas por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seu dia lhe pagarás a sua diária, e o sol não se porá sobre isso; porquanto pobre é, e sua vida depende disso; para que não clame contra ti ao SENHOR, e haja em ti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pais não morrerão pelos filhos, nem os filhos pelos pais; cada um morrerá pelo seu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perverterás o direito do estrangeiro e do órfão; nem tomarás em penhor a roupa da viú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lembrar-te-ás de que foste servo no Egito, e de que o SENHOR teu Deus te livrou dali; pelo que te ordeno que faças is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no teu campo colheres a tua colheita, e esqueceres um molho no campo, não tornarás a tomá-lo; para o estrangeiro, para o órfão, e para a viúva será; para que o SENHOR teu Deus te abençoe em toda a obra das t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la, pois, saindo da sua casa, for e se casar com outro home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sacudires a tua oliveira, não voltarás para colher o fruto dos ramos; para o estrangeiro, para o órfão, e para a viúva s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vindimares a tua vinha, não voltarás para rebuscá-la; para o estrangeiro, para o órfão, e para a viúva s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mbrar-te-ás de que foste servo na terra do Egito; portanto te ordeno que faças is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 também a desprezar, e lhe fizer carta de repúdio, e lha der na sua mão, e a despedir da sua casa, ou se este último homem, que a tomou para si por mulher, vier a morre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u primeiro marido, que a despediu, não poderá tornar a tomá-la, para que seja sua mulher, depois que foi contaminada; pois é abominação perante o SENHOR; assim não farás pecar a terra que o SENHOR teu Deus te dá por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um homem for recém-casado não sairá à guerra, nem se lhe imporá encargo algum; por um ano inteiro ficará livre na sua casa para alegrar a mulher que tom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 tomará em penhor ambas as mós, nem a mó de cima nem a de baixo; pois se penhoraria assim 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se achar alguém que tiver furtado um dentre os seus irmãos, dos filhos de Israel, e escravizá-lo, ou vendê-lo, esse ladrão morrerá, e tirarás o mal do meio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-te da praga da lepra, e tenhas grande cuidado de fazer conforme a tudo o que te ensinarem os sacerdotes levitas; como lhes tenho ordenado, terás cuidado de o f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-te do que o SENHOR teu Deus fez a Miriã no caminho, quando saíste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8:31Z</dcterms:created>
  <dc:creator>Admin</dc:creator>
  <dc:description/>
  <dc:language>en-US</dc:language>
  <cp:lastModifiedBy>Admin</cp:lastModifiedBy>
  <dcterms:modified xsi:type="dcterms:W3CDTF">2008-07-30T23:28:31Z</dcterms:modified>
  <cp:revision>1</cp:revision>
  <dc:subject/>
  <dc:title>Slide 1</dc:title>
</cp:coreProperties>
</file>