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34D-11CC-4A2C-9255-E20A31D4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C59-0D9D-4589-84AE-AFA13802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BF5-6DF9-4D97-A7B8-FA91CD11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EBE-FE6F-47B8-8B1E-A1BDD4E9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FD5-2379-4823-9E3B-5097941B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6A0-74F7-4D23-AAC1-10D97464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3D6-F39E-4E7A-BF11-05DD8E8B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9F6-EBE5-49AB-8A5F-855B3E98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253-60C5-433F-A42C-5F04A150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6F0-9E11-4205-9029-525D52A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CF7-5EAE-4EDA-954C-2F28F1B5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AAA-7069-4794-B17A-30959D65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F561-DFC2-48CB-A037-F036C417759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do SENHOR veio a Jerem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s, pois, tu, ó meu servo Jacó, diz o SENHOR, nem te espantes, ó Israel; porque eis que te livrarei de terras de longe, e à tua descendência da terra do seu cativeiro; e Jacó voltará, e descansará, e ficará em sossego, e não haverá quem o atemor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ou contigo, diz o SENHOR, para te salvar; porquanto darei fim a todas as nações entre as quais te espalhei; a ti, porém, não darei fim, mas castigar-te-ei com medida, e de todo não te terei por inoc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A tua ferida é incurável; a tua chaga é dolor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quem defenda a tua causa para te aplicar curativo; não tens remédios que possam cu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teus amantes se esqueceram de ti, e não perguntam por ti; porque te feri com ferida de inimigo, e com castigo de quem é cruel, pela grandeza da tua maldade e multidão de t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gritas por causa da tua ferida? Tua dor é incurável. Pela grandeza de tua maldade, e multidão de teus pecados, eu fiz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odos os que te devoram serão devorados; e todos os teus adversários irão, todos eles, para o cativeiro; e os que te roubam serão roubados, e a todos os que te despojam entregarei ao 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 restaurarei a saúde, e te curarei as tuas chagas, diz o SENHOR; porquanto te chamaram a repudiada, dizendo: É Sião, já ninguém pergunta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is que farei voltar do cativeiro as tendas de Jacó, e apiedar-me-ei das suas moradas; e a cidade será reedificada sobre o seu montão, e o palácio permanecerá como habitual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rá deles o louvor e a voz de júbilo; e multiplicá-los-ei, e não serão diminuídos, e glorificá-los-ei, e não serão apou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 de Israel: Escreve num livro todas as palavras que te tenho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filhos serão como na antiguidade, e a sua congregação será confirmada diante de mim; e castigarei todos os seus opress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nobres serão deles; e o seu governador sairá do meio deles, e o farei aproximar, e ele se chegará a mim; pois, quem de si mesmo se empenharia para chegar-se a mim?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-me-eis por povo, e eu vos serei p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tempestade do SENHOR, a sua indignação, já saiu; uma tempestade varredora, cairá cruelmente sobre a cabeça d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ltará atrás o furor da ira do SENHOR, até que tenha executado e até que tenha cumprido os desígnios do seu coração; no fim dos dias entendereis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vêm dias, diz o SENHOR, em que farei voltar do cativeiro o meu povo Israel, e de Judá, diz o SENHOR; e tornarei a trazê-los à terra que dei a seus pais, e a possu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são as palavras que disse o SENHOR, acerca de Israel e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Ouvimos uma voz de tremor, de temor mas não de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guntai, pois, e vede, se um homem pode dar à luz. Por que, pois, vejo a cada homem com as mãos sobre os lombos como a que está dando à luz? e por que se tornaram pálidos todos os ros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porque aquele dia é tão grande, que não houve outro semelhante; e é tempo de angústia para Jacó; ele, porém, será salv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á naquele dia, diz o SENHOR dos Exércitos, que eu quebrarei o seu jugo de sobre o teu pescoço, e quebrarei os teus grilhões; e nunca mais se servirão dele os estrang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rvirão ao SENHOR, seu Deus, como também a Davi, seu rei, que lhes levant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53Z</dcterms:created>
  <dc:creator>Admin</dc:creator>
  <dc:description/>
  <dc:language>en-US</dc:language>
  <cp:lastModifiedBy>Admin</cp:lastModifiedBy>
  <dcterms:modified xsi:type="dcterms:W3CDTF">2008-07-30T23:58:53Z</dcterms:modified>
  <cp:revision>1</cp:revision>
  <dc:subject/>
  <dc:title>Slide 1</dc:title>
</cp:coreProperties>
</file>