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D7D-787E-4525-B2CF-3F3CCEC6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C29-C1E4-44EB-81CB-FC3F0285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D5A-A68A-40A0-9F82-2ABEA7CF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AF8-481B-40E4-A9F5-EE2E4DCF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1FB6-9456-42D2-8D3C-427F3C61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7F0-697C-4046-B7F3-F79F4446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E60-2B6D-482C-9C1E-357B4B01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15C-0994-479D-9795-C6717F8B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5EA-7843-4F56-81F2-C64DEF73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648-59BA-4B4B-9ECC-1FCD79B1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C10C-EB59-43AA-83DE-29AB2587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7AA-055F-48B9-BC17-4A91A9F7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08CC-B079-4A8F-93CB-8D581091246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 clamarei, ó SENHOR, Rocha minha; não emudeças para comigo; não aconteça, calando-te tu para comigo, que eu fique semelhante aos que descem ao abi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 a voz das minhas súplicas, quando a ti clamar, quando levantar as minhas mãos para o teu santo orác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e arrastes com os ímpios e com os que praticam a iniqüidade; que falam de paz ao seu próximo, mas têm mal nos seus co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-lhes segundo as suas obras e segundo a malícia dos seus esforços; dá-lhes conforme a obra das suas mãos; torna-lhes a sua recompen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não atentam às obras do SENHOR, nem à obra das suas mãos; pois que ele os derrubará e não os reedific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dito seja o SENHOR, porque ouviu a voz das minhas súpli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a minha força e o meu escudo; nele confiou o meu coração, e fui socorrido; assim o meu coração salta de prazer, e com o meu canto o louv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a força do seu povo; também é a força salvadora do seu ung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lva o teu povo, e abençoa a tua herança; e apascenta-os e exalta-os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48Z</dcterms:created>
  <dc:creator>Admin</dc:creator>
  <dc:description/>
  <dc:language>en-US</dc:language>
  <cp:lastModifiedBy>Admin</cp:lastModifiedBy>
  <dcterms:modified xsi:type="dcterms:W3CDTF">2008-07-31T00:24:48Z</dcterms:modified>
  <cp:revision>1</cp:revision>
  <dc:subject/>
  <dc:title>Slide 1</dc:title>
</cp:coreProperties>
</file>