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A88-E72F-4DEA-A273-9F3666FB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27D-1769-429E-9D13-8CE4D076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D70-BB57-45A8-8F23-228D7F63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144-EF2E-4BDF-A9BF-5E92A207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0EF-E3BE-42BB-817F-21D4DA56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C88-E47A-49E7-A93C-23C48667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72B-4DB8-4EF6-8D5B-0AD51722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9CB-8201-4BFF-ACFE-7C90A722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173-3587-4A7D-BE44-B8C11AF6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AB8-AA53-4258-A90F-32588522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C4E-2514-4739-A3EB-8AD7D799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CF3-810F-4EB9-B298-658594F7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E66C-C072-43B1-9660-B9DC22221D7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, apóstolo (não da parte dos homens, nem por homem algum, mas por Jesus Cristo, e por Deus Pai, que o ressuscitou dentre os mortos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persuado eu agora a homens ou a Deus? ou procuro agradar a homens? Se estivesse ainda agradando aos homens, não seria servo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faço-vos saber, irmãos, que o evangelho que por mim foi anunciado não é segundo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o recebi, nem aprendi de homem algum, mas pela revelação de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á ouvistes qual foi antigamente a minha conduta no judaísmo, como sobremaneira perseguia a igreja de Deus e a assol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minha nação excedia em judaísmo a muitos da minha idade, sendo extremamente zeloso das tradições de m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aprouve a Deus, que desde o ventre de minha mãe me separou, e me chamou pela sua gra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velar seu Filho em mim, para que o pregasse entre os gentios, não consultei a carne nem o sang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ornei a Jerusalém, a ter com os que já antes de mim eram apóstolos, mas parti para a Arábia, e voltei outra vez a Dama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, passados três anos, fui a Jerusalém para ver a Pedro, e fiquei com ele quinz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vi a nenhum outro dos apóstolos, senão a Tiago, irmã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irmãos que estão comigo, às igrejas da Galáci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cerca do que vos escrevo, eis que diante de Deus testifico que não mi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ui para as partes da Síria e da Cil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era conhecido de vista das igrejas da Judéia, que estavam em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omente tinham ouvido dizer: Aquele que já nos perseguiu anuncia agora a fé que antes destruí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lorificavam a Deus a respeito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ça e paz da parte de Deus Pai e do nosso Senhor Jesus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se deu a si mesmo por nossos pecados, para nos livrar do presente século mau, segundo a vontade de Deus nosso P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al seja dada glória para todo o sempr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ravilho-me de que tão depressa passásseis daquele que vos chamou à graça de Cristo para outro evange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não é outro, mas há alguns que vos inquietam e querem transtornar o evangelho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ainda que nós mesmos ou um anjo do céu vos anuncie outro evangelho além do que já vos tenho anunciado, seja anáte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como já vo-lo dissemos, agora de novo também vo-lo digo. Se alguém vos anunciar outro evangelho além do que já recebestes, seja anáte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50Z</dcterms:created>
  <dc:creator>Admin</dc:creator>
  <dc:description/>
  <dc:language>en-US</dc:language>
  <cp:lastModifiedBy>Admin</cp:lastModifiedBy>
  <dcterms:modified xsi:type="dcterms:W3CDTF">2008-07-30T23:36:50Z</dcterms:modified>
  <cp:revision>1</cp:revision>
  <dc:subject/>
  <dc:title>Slide 1</dc:title>
</cp:coreProperties>
</file>