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5C7-DE61-42D9-AE86-B879D73A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D69-B895-4EEB-931C-FC2E7F71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D38-B451-47E5-9283-8271B49A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55B-CB2F-484A-A5FB-FAD2A863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E69-5E93-48E5-9DAE-24D243D1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99B-26AF-4AF6-9614-40F31240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198-7E11-4B32-BE36-F4F05A33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401-55DE-4B7D-B6E4-545B4A6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541-A8C6-43CB-9611-9072A8FA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B45-3534-4A08-856D-ED6E062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254-BE23-40E0-8C5C-A610AB4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AE1-3188-414A-8D1A-24BE152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D4E-6F35-4374-961C-806F7E94CE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Davi no seu coração: Ora, algum dia ainda perecerei pela mão de Saul; não há coisa melhor para mim do que escapar apressadamente para a terra dos filisteus, para que Saul perca a esperança de mim, e cesse de me buscar por todos os termos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 Aquis: Onde atacastes hoje? Davi dizia: Sobre o sul de Judá, e sobre o sul dos jerameelitas, e sobre o sul dos quen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não deixava com vida nem a homem nem a mulher, para trazê-los a Gate, dizendo: Para que porventura não nos denunciem, dizendo: Assim Davi o fazia. E este era o seu costume por todos os dias que habitou na terra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is confiava em Davi, dizendo: Fez-se ele por certo aborrecível para com o seu povo em Israel; por isso me será por serv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se levantou, e passou, com os seiscentos homens que com ele estavam, a Aquis, filho de Maoque, rei de G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ficou com Aquis em Gate, ele e os seus homens, cada um com a sua casa; Davi com ambas as suas mulheres, Ainoã, a jizreelita, e Abigail, a mulher de Nabal, o carmel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Saul avisado que Davi tinha fugido para Gate, não cuidou mais de busc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Aquis: Se eu tenho achado graça em teus olhos, dá-me lugar numa das cidades da terra, para que ali habite; pois por que razão habitaria o teu servo contigo na cidade re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eu Aquis, naquele dia, a cidade de Ziclague (por isso Ziclague pertence aos reis de Judá, até ao dia de hoje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número dos dias, que Davi habitou na terra dos filisteus, um ano e quatro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a Davi com os seus homens, e davam sobre os gesuritas, e os gersitas, e os amalequitas; porque antigamente foram estes os moradores da terra que se estende na direção de Sur, até à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feria aquela terra, e não dava vida nem a homem nem a mulher, e tomava ovelhas, e vacas, e jumentos, e camelos, e vestes; e voltava, e vinha a A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52Z</dcterms:created>
  <dc:creator>Admin</dc:creator>
  <dc:description/>
  <dc:language>en-US</dc:language>
  <cp:lastModifiedBy>Admin</cp:lastModifiedBy>
  <dcterms:modified xsi:type="dcterms:W3CDTF">2008-07-30T23:47:52Z</dcterms:modified>
  <cp:revision>1</cp:revision>
  <dc:subject/>
  <dc:title>Slide 1</dc:title>
</cp:coreProperties>
</file>