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769-63BA-4760-AF1B-13188FF4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34D-E754-4503-9094-B59F089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BD8-BFCD-468B-AE5E-B7782ECB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BF4-EA27-4718-9531-FD668502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763-5D0F-47BB-AA0E-3A282F9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6D2-7775-4FE3-9924-865CDF64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11E-2699-452D-B6CE-AD77ECBE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882-E9F0-4304-9A2B-AA09EE8C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778-5C19-4191-8681-968CC5DB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5FB-3563-4F79-B94F-44B9DD2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050-CC06-44A4-AD52-6770E9A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4FC-FEC2-461E-B21A-FEB7F3E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E4D9-D8CA-4706-A26C-605320E2E38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e Babilônia, que viu Isaías, filho de Am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estrelas dos céus e as suas constelações não darão a sua luz; o sol se escurecerá ao nascer, e a lua não resplandecerá com a su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sitarei sobre o mundo a maldade, e sobre os ímpios a sua iniqüidade; e farei cessar a arrogância dos atrevidos, e abaterei a soberba dos tir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 que o homem seja mais precioso do que o ouro puro, e mais raro do que o ouro fino de Of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farei estremecer os céus; e a terra se moverá do seu lugar, por causa do furor do SENHOR dos Exércitos, e por causa do dia da sua ardente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será como a corça que foge, e como a ovelha que ninguém recolhe; cada um voltará para o seu povo, e cada um fugirá par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que for achado será transpassado; e todo o que se unir a ele cairá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s crianças serão despedaçadas perante os seus olhos; as suas casas serão saqueadas, e as suas mulheres vio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despertarei contra eles os medos, que não farão caso da prata, nem tampouco desejarão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arcos despedaçarão os jovens, e não se compadecerão do fruto do ventre; os seus olhos não pouparão a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bilônia, o ornamento dos reinos, a glória e a soberba dos caldeus, será como Sodoma e Gomorra, quando Deus as transtor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çai uma bandeira sobre o monte elevado, levantai a voz para eles; acenai-lhes com a mão, para que entrem pelas portas dos nob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ais será habitada, nem nela morará alguém de geração em geração; nem o árabe armará ali a sua tenda, nem tampouco os pastores ali farão deitar os seus reb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feras do deserto repousarão ali, e as suas casas se encherão de horríveis animais; e ali habitarão os avestruzes, e os sátiros pularão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nimais selvagens das ilhas uivarão em suas casas vazias, como também os chacais nos seus palácios de prazer; pois bem perto já vem chegando o seu tempo, e os seus dias não se prolong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ei ordens aos meus santificados; sim, já chamei os meus poderosos para executarem a minha ira, os que exultam com a minha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se ouve a gritaria da multidão sobre os montes, como a de muito povo; o som do rebuliço de reinos e de nações congregados. O SENHOR dos Exércitos passa em revista o exército de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vem de uma terra remota, desde a extremidade do céu, o SENHOR, e os instrumentos da sua indignação, para destruir toda aquel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i, pois, o dia do SENHOR está perto; vem do Todo-Poderoso como as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todas as mãos se debilitarão, e o coração de todos os homens se desani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ombrar-se-ão, e apoderar-se-ão deles dores e ais, e se angustiarão, como a mulher com dores de parto; cada um se espantará do seu próximo; os seus rostos serão rostos flamej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m o dia do SENHOR, horrendo, com furor e ira ardente, para pôr a terra em assolação, e dela destruir os pe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58Z</dcterms:created>
  <dc:creator>Admin</dc:creator>
  <dc:description/>
  <dc:language>en-US</dc:language>
  <cp:lastModifiedBy>Admin</cp:lastModifiedBy>
  <dcterms:modified xsi:type="dcterms:W3CDTF">2008-07-30T23:54:58Z</dcterms:modified>
  <cp:revision>1</cp:revision>
  <dc:subject/>
  <dc:title>Slide 1</dc:title>
</cp:coreProperties>
</file>