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547-EBFD-4676-98E8-263FD5DE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F1A-FA2A-4805-BA57-165D6D6B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1C9-4200-499C-9E9B-64A649B7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A9A-1AAF-4CF2-BBC8-EB8F8877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79E-778A-4F36-8D59-9EA3CE09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182-710E-499E-92FF-B0AD9FB0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538-7327-42C4-8D4F-12AF2D7E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13E-7D0C-4928-B830-A3283276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59B-EDC3-42DA-9242-8067F5B3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AD7-9670-48F5-97AB-19E0462F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FE2-3AEA-494A-82D4-975C8B7A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CDE-A456-4243-A37B-AFAB7AD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60DC-7D4A-40E4-BF6A-41000E7863F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isto, ó sacerdotes, e escutai, ó casa de Israel, e dai ouvidos, ó casa do rei, porque contra vós se dirige este juízo, visto que fostes um laço para Mizpá, e rede estendida sobre o Tab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ríncipes de Judá são como os que mudam os limites; derramarei, pois, o meu furor sobre eles como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fraim está oprimido e quebrantado no juízo, porque quis andar após o mandamento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 Efraim serei como a traça, e para a casa de Judá como a podr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fraim viu a sua enfermidade, e Judá a sua chaga, subiu Efraim à Assíria e enviou ao rei Jarebe; mas ele não poderá sarar-vos, nem curar a vossa cha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ara Efraim serei como um leão, e como um leãozinho à casa de Judá: eu, eu o despedaçarei, e ir-me-ei embora; arrebatarei, e não haverá quem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ei e voltarei ao meu lugar, até que se reconheçam culpados e busquem a minha face; estando eles angustiados, de madrugada me busc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revoltos se aprofundaram na matança; mas eu castigarei a todos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conheço a Efraim, e Israel não se esconde de mim; porque agora te tens prostituído, ó Efraim, e Israel se contami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querem ordenar as suas ações a fim de voltarem para o seu Deus, porque o espírito das prostituições está no meio deles, e não conhece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oberba de Israel testificará no seu rosto; e Israel e Efraim cairão pela sua injustiça, e Judá cairá juntamente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rão com os seus rebanhos, e com o seu gado, para buscarem ao SENHOR, mas não o acharão; ele se retirou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ivosamente se houveram contra o SENHOR, porque geraram filhos estranhos; agora em um só mês os consumirá com as suas por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cai a buzina em Gibeá, a trombeta em Ramá; gritai altamente em Bete-Áven; depois de ti, ó Benj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fraim será para assolação no dia do castigo; entre as tribos de Israel manifestei o que está c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40Z</dcterms:created>
  <dc:creator>Admin</dc:creator>
  <dc:description/>
  <dc:language>en-US</dc:language>
  <cp:lastModifiedBy>Admin</cp:lastModifiedBy>
  <dcterms:modified xsi:type="dcterms:W3CDTF">2008-07-31T00:20:40Z</dcterms:modified>
  <cp:revision>1</cp:revision>
  <dc:subject/>
  <dc:title>Slide 1</dc:title>
</cp:coreProperties>
</file>