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F14-A2FB-46C1-BE4F-6E516025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18B-BC92-4A2A-B851-E11DF523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E94-DBC9-4922-BCC3-635A0656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EFD-C8CA-418B-95BF-3BB65470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58F-FFF5-4AE4-8E7D-AFE6FB7E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8EF-9A05-46BC-9677-D80A741E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C57-D2E4-48BF-A573-9E1C5DA9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BB3F-E0A7-4C32-B469-A1EE3FEE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99F-1DD4-4F0F-BBD2-0E423A4B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833-C837-4AA5-9A08-369D02B0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31D-9E01-451C-90BC-8EBC9CD5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EC8-7B0E-4B44-9468-32B75542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B32F-2C2E-4172-9E95-20E1EC39EC8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ALANÇA enganosa é abominação para o SENHOR, mas o peso justo é o seu pr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bem dos justos exulta a cidade; e perecendo os ímpios, há júbi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bênção dos homens de bem a cidade se exalta, mas pela boca dos perversos é derrub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despreza o seu próximo carece de entendimento, mas o homem entendido se mantém c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xeriqueiro revela o segredo, mas o fiel de espírito o mantém em ocul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avendo sábios conselhos, o povo cai, mas na multidão de conselhos há segu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certo sofrerá severamente aquele que fica por fiador do estranho, mas o que evita a fiança estará seg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ulher graciosa guarda a honra como os violentos guardam as riquez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bom cuida bem de si mesmo, mas o cruel prejudica o seu cor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ímpio faz obra falsa, mas para o que semeia justiça haverá galardão fi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 justiça encaminha para a vida, assim o que segue o mal vai para a su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indo a soberba, virá também a afronta; mas com os humildes está a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ominação ao SENHOR são os perversos de coração, mas os de caminho sincero são o seu del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junte as mãos, o mau não ficará impune, mas a semente dos justos será libe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jóia de ouro no focinho de uma porca, assim é a mulher formosa que não tem discr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esejo dos justos é tão somente para o bem, mas a esperança dos ímpios é criar contrarie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que distribui mais se lhe acrescenta, e ao que retém mais do que é justo, é para a sua p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alma generosa prosperará e aquele que atende também será aten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que retém o trigo o povo amaldiçoa, mas bênção haverá sobre a cabeça do que o ve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cedo busca o bem, busca favor, mas o que procura o mal, esse lhe sobrev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confia nas suas riquezas cairá, mas os justos reverdecerão como a folhag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perturba a sua casa herdará o vento, e o tolo será servo do sábio de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inceridade dos íntegros os guiará, mas a perversidade dos aleivosos os destru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ruto do justo é árvore de vida, e o que ganha almas é sáb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 justo recebe na terra a retribuição; quanto mais o ímpio e o pecado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nada aproveitam as riquezas no dia da ira, mas a justiça livra 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justiça do sincero endireitará o seu caminho, mas o perverso pela sua falsidade ca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justiça dos virtuosos os livrará, mas na sua perversidade serão apanhados os iníqu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rrendo o homem perverso perece sua esperança, e acaba-se a expectação de riquez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justo é libertado da angústia, e vem o ímpio para 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ipócrita com a boca destrói o seu próximo, mas os justos se libertam pelo conhe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1:35Z</dcterms:created>
  <dc:creator>Admin</dc:creator>
  <dc:description/>
  <dc:language>en-US</dc:language>
  <cp:lastModifiedBy>Admin</cp:lastModifiedBy>
  <dcterms:modified xsi:type="dcterms:W3CDTF">2008-07-31T00:21:35Z</dcterms:modified>
  <cp:revision>1</cp:revision>
  <dc:subject/>
  <dc:title>Slide 1</dc:title>
</cp:coreProperties>
</file>