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524-CFB7-48ED-B61E-F26F4664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3DC-4DA3-4883-8684-6FA7950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647-C9CA-42F4-93C4-F3C2CC3B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AB2-DA89-4522-9BFD-2636EDEB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AA9-D734-4EA8-A75D-76353FE9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CD8-72C0-422C-A378-1C242F0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804-8FAD-4E12-B650-21A22957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7BE-6A68-45AC-AEA6-325D9BA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84A-8BF8-4B08-A432-9F43A915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4A4-39CB-470A-ADF8-7DAB43A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B0F-BCE9-4C7E-B171-BD85379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20E-6A17-4A02-A9BA-5FF6B00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125-109E-47E2-9DFB-5DC24967A9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repartirdes a terra em herança, oferecereis uma oferta ao SENHOR, uma porção santa da terra; o seu comprimento será de vinte e cinco mil canas e a largura de dez mil. Esta será santa em toda a sua extensã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eis balanças justas, efa justo e bat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fa e o bato serão de uma mesma medida, de modo que o bato contenha a décima parte do ômer, e o efa a décima parte do ômer; conforme o ômer será a su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iclo será de vinte geras; vinte siclos, vinte e cinco siclos, e quinze siclos terá a vossa m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será a oferta que haveis de oferecer: a sexta parte de um efa de cada ômer de trigo; também dareis a sexta parte de um efa de cada ômer de cev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 ordenança do azeite, de cada bato de azeite oferecereis a décima parte de um bato tirado de um coro, que é um ômer de dez batos; porque dez batos fazem um ô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cordeiro do rebanho, de cada duzentos, da terra mais regada de Israel, para oferta de alimentos, e para holocausto, e para sacrifício pacífico; para que façam expiação por ele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povo da terra concorrerá com esta oferta, para o príncipe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rão a cargo do príncipe os holocaustos, e as ofertas de alimentos, e as libações, nas festas, e nas luas novas, e nos sábados, em todas as solenidades da casa de Israel. Ele preparará a oferta pelo pecado, e a oferta de alimentos, e o holocausto,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No primeiro mês, no primeiro dia do mês, tomarás um bezerro sem mancha e purificarás 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do sangue do sacrifício pelo pecado, e porá dele nas ombreiras da casa, e nos quatro cantos da armação do altar, e nas ombreiras da porta do átrio in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a porção o santuário ocupará quinhentas canas de comprimento, e quinhentas de largura, em quadrado, e terá em redor um espaço vazio de cinqü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farás no sétimo dia do mês, pelos que erram, e pelos símplices; assim expiareis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mês, no dia catorze do mês, tereis a páscoa, uma festa de sete dias; pão ázimo se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dia o príncipe preparará por si e por todo o povo da terra, um bezerro como oferta pel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urante os sete dias da festa preparará um holocausto ao SENHOR, de sete bezerros e sete carneiros sem mancha, cada dia, durante os sete dias; e em sacrifício pelo pecado um bode cada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reparará uma oferta de alimentos, a saber, um efa, para cada bezerro, e um efa para cada carneiro, e um him de azeite para cada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étimo mês, no dia quinze do mês, na festa, fará o mesmo por sete dias, tanto o sacrifício pelo pecado, como o holocausto, e como a oferta de alimentos, e como o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porção medirás vinte e cinco mil côvados de comprimento, e a largura de dez mil; e ali estará o santuário, o lugar san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será a porção santa da terra; ela será para os sacerdotes, ministros do santuário, que dele se aproximam para servir ao SENHOR; e lhes servirá de lugar para suas casas, e de lugar santo para 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, ministros da casa, terão em sua possessão, vinte e cinco mil canas de comprimento, para vinte câma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possessão da cidade, de largura dareis cinco mil canas, e de comprimento vinte e cinco mil, defronte da oferta santa; o que será para toda 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, porém, terá a sua parte deste e do outro lado da área santa, e da possessão da cidade, diante da santa oferta, e em frente da possessão da cidade, desde o extremo ocidental até o extremo oriental, e de comprimento, corresponderá a uma das 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terra será a sua possessão em Israel; e os meus príncipes nunca mais oprimirão o meu povo, antes deixarão a terra à casa de Israel, conforme as suas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Basta já, ó príncipes de Israel; afastai a violência e a assolação e praticai juízo e justiça; tirai as vossas imposições do meu pov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19Z</dcterms:created>
  <dc:creator>Admin</dc:creator>
  <dc:description/>
  <dc:language>en-US</dc:language>
  <cp:lastModifiedBy>Admin</cp:lastModifiedBy>
  <dcterms:modified xsi:type="dcterms:W3CDTF">2008-07-30T23:36:19Z</dcterms:modified>
  <cp:revision>1</cp:revision>
  <dc:subject/>
  <dc:title>Slide 1</dc:title>
</cp:coreProperties>
</file>