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B55-2E31-49A4-801F-1C111CA4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1C8-A4C0-4AC5-9080-436B15BA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7B5-9EFD-4484-8EB4-59493D83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086-3349-489D-AC51-9DFB5EF5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DD9-78ED-4FB5-86CE-6A96163D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5C8-33D5-4492-82D0-50E530CD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046-D1CE-44B3-9869-D3D34D3A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C14-F4F9-4243-9C53-566307E8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B04-CEF5-42DA-AC68-190A740C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B6C-7423-4A8A-9F81-C84753CF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F1A-78A9-4E22-86B2-E3CF82AA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535-8F76-4368-B5E1-028AF20A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FA80-147A-4FC3-8ECF-A5E4BC730C5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ACÓ também seguiu o seu caminho, e encontraram-no os anjo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nor sou eu que todas as beneficências, e que toda a fidelidade que fizeste ao teu servo; porque com meu cajado passei este Jordão, e agora me tornei em dois ban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vra-me, peço-te, da mão de meu irmão, da mão de Esaú; porque eu o temo; porventura não venha, e me fira, e a mãe com o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o disseste: Certamente te farei bem, e farei a tua descendência como a areia do mar, que pela multidão não se pode con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ou ali aquela noite; e tomou do que lhe veio à sua mão, um presente para seu irmão Esaú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uzentas cabras e vinte bodes; duzentas ovelhas e vinte carnei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inta camelas de leite com suas crias, quarenta vacas e dez novilhos; vinte jumentas e dez jumentin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-os na mão dos seus servos, cada rebanho à parte, e disse a seus servos: Passai adiante de mim e ponde espaço entre rebanho e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 ao primeiro, dizendo: Quando Esaú, meu irmão, te encontrar, e te perguntar, dizendo: De quem és, e para onde vais, e de quem são estes diante de t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rás: São de teu servo Jacó, presente que envia a meu senhor, a Esaú; e eis que ele mesmo vem também atrás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 também ao segundo, e ao terceiro, e a todos os que vinham atrás dos rebanhos, dizendo: Conforme a esta mesma palavra falareis a Esaú, quando o acha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disse, quando os viu: Este é o exército de Deus. E chamou aquele lugar Maana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reis também: Eis que o teu servo Jacó vem atrás de nós. Porque dizia: Eu o aplacarei com o presente, que vai adiante de mim, e depois verei a sua face; porventura ele me acei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assou o presente adiante dele; ele, porém, passou aquela noite no arrai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aquela mesma noite, e tomou as suas duas mulheres, e as suas duas servas, e os seus onze filhos, e passou o vau de Jabo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-os e fê-los passar o ribeiro; e fez passar tudo o que t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acó, porém, ficou só; e lutou com ele um homem, até que a alva sub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ndo este que não prevalecia contra ele, tocou a juntura de sua coxa, e se deslocou a juntura da coxa de Jacó, lutando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Deixa-me ir, porque já a alva subiu. Porém ele disse: Não te deixarei ir, se não me abenço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Qual é o teu nome? E ele disse: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: Não te chamarás mais Jacó, mas Israel; pois como príncipe lutaste com Deus e com os homens, e prevalec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lhe perguntou, e disse: Dá-me, peço-te, a saber o teu nome. E disse: Por que perguntas pelo meu nome? E abençoou-o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ou Jacó mensageiros adiante de si a Esaú, seu irmão, à terra de Seir, território de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Jacó o nome daquele lugar Peniel, porque dizia: Tenho visto a Deus face a face, e a minha alma foi sal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-lhe o sol, quando passou a Peniel; e manquejava da sua cox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os filhos de Israel não comem o nervo encolhido, que está sobre a juntura da coxa, até o dia de hoje; porquanto tocara a juntura da coxa de Jacó no nervo encolh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-lhes, dizendo: Assim direis a meu senhor Esaú: Assim diz Jacó, teu servo: Como peregrino morei com Labão, e me detive lá até ago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nho bois e jumentos, ovelhas, e servos e servas; e enviei para o anunciar a meu senhor, para que ache graça em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mensageiros voltaram a Jacó, dizendo: Fomos a teu irmão Esaú; e também ele vem para encontrar-te, e quatrocentos homens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Jacó temeu muito e angustiou-se; e repartiu o povo que com ele estava, e as ovelhas, e as vacas, e os camelos, em dois ban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zia: Se Esaú vier a um bando e o ferir, o outro bando escap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Jacó: Deus de meu pai Abraão, e Deus de meu pai Isaque, o SENHOR, que me disseste: Torna-te à tua terra, e a tua parentela, e far-te-ei b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09Z</dcterms:created>
  <dc:creator>Admin</dc:creator>
  <dc:description/>
  <dc:language>en-US</dc:language>
  <cp:lastModifiedBy>Admin</cp:lastModifiedBy>
  <dcterms:modified xsi:type="dcterms:W3CDTF">2008-07-30T23:39:09Z</dcterms:modified>
  <cp:revision>1</cp:revision>
  <dc:subject/>
  <dc:title>Slide 1</dc:title>
</cp:coreProperties>
</file>