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2E4-8238-4ABB-9462-90133C3C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F02-BAB6-4E2B-B473-A67686E1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F13-C3CE-4150-B688-3C975BB1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470-9107-4B06-AE55-96F31691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54B-6DBF-4AD0-B1B6-5BA89BD6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D2F-6AE9-4E47-A054-2B45CA99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BF0-E55E-4DAD-A812-F09F1B8A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2A9-AF79-4F54-A078-96C9A6D9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D39-0193-43F1-9A18-860A9B1C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899-3F12-4B1D-AD74-F355AD6F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775-C770-4C3A-B7E5-9A6AAFF4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070-4FDC-46A9-9CA0-7C434270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1251-F10D-45F6-A1DF-445DDFDF7CB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 mais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descobriram a sua vergonha, levaram seus filhos e suas filhas, mas a ela mataram à espada; e tornou-se falada entre as mulheres, e sobre ela executaram o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 isto sua irmã Aolibá, corrompeu o seu imoderado amor mais do que ela, e as suas devassidões foram mais do que as de sua irm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amorou-se dos filhos da Assíria, dos capitães e dos magistrados seus vizinhos, vestidos com primor, cavaleiros que andam montados em cavalos, todos jovens cobiçá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que se tinha contaminado; o caminho de ambas era o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umentou as suas impudicícias, porque viu homens pintados na parede, imagens dos caldeus, pintadas de vermel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ingidos de cinto nos seus lombos, e tiaras largas e tingidas nas suas cabeças, todos com parecer de príncipes, semelhantes aos filhos de Babilônia em Caldéia, terra do seu nas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amorou-se deles, ao lançar sobre eles os seus olhos; e lhes mandou mensageiros à Cald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eram a ela os filhos de Babilônia para o leito dos amores, e a contaminaram com as suas impudicícias; e ela se contaminou com eles; então a sua alma apartou-s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ôs a descoberto as suas devassidões, e descobriu a sua vergonha; então a minha alma se apartou dela, como já tinha se apartado a minha alma de sua irm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ela multiplicou as suas prostituições, lembrando-se dos dias da sua mocidade, em que se prostituíra n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houve duas mulheres, filhas de uma mesm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amorou-se dos seus amantes, cuja carne é como a de jumentos, e cujo fluxo é como o de cava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rouxeste à memória a perversidade da tua mocidade, quando os do Egito apalpavam os teus seios, por causa dos peitos da tua mo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ó Aolibá, assim diz o Senhor DEUS: Eis que eu suscitarei contra ti os teus amantes, dos quais se tinha apartado a tua alma, e os trarei contra ti de toda a parte em der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abilônia, e todos os caldeus de Pecode, e de Soa, e de Coa, e todos os filhos da Assíria com eles, jovens cobiçáveis, capitães e magistrados todos eles, grandes e afamados senhores, todos eles montados a cava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ão contra ti com carros, carretas e rodas, e com multidão de povos; e se colocarão contra ti em redor com paveses, e escudos e capacetes; e porei diante deles o juízo, e julgar-te-ão segundo os seu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contra ti o meu zelo, e usarão de indignação contigo. Tirar-te-ão o nariz e as orelhas, e o que restar cairá à espada. Eles tomarão teus filhos e tuas filhas, e o que ficar por último em ti será consumido pel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e despirão as tuas vestes, e te tomarão as tuas belas jó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rei cessar em ti a tua perversidade e a tua prostituição trazida da terra do Egito; e não levantarás os teus olhos para eles, nem te lembrarás nunca mais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EUS: Eis que eu te entregarei na mão dos que odeias, na mão daqueles de quem tem se apartado a t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te tratarão com ódio, e levarão todo o fruto do teu trabalho, e te deixarão nua e despida; e descobrir-se-á a vergonha da tua prostituição, e a tua perversidade, e as tuas devassid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e prostituíram no Egito; prostituíram-se na sua mocidade; ali foram apertados os seus seios, e ali foram apalpados os seios da sua virgin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coisas se te farão, porque te prostituíste após os gentios, e te contaminaste com os seus íd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caminho de tua irmã andaste; por isso entregarei o seu cálice n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Beberás o cálice de tua irmã, fundo e largo; servirás de riso e escárnio; pois nele cabe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embriaguez e de dor te encherás; o cálice de tua irmã Samaria é cálice de espanto e de as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bê-lo-ás, pois, e esgotá-lo-ás, e os seus cacos roerás, e os teus seios arrancarás; porque eu o falei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 DEUS: Como te esqueceste de mim, e me lançaste para trás das tuas costas, também carregarás com a tua perversidade e as tuas devassid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me ainda o SENHOR: Filho do homem, porventura julgarás tu a Aolá e a Aolibá? Mostra-lhes, pois, as suas abomi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dulteraram, e sangue se acha nas suas mãos, e com os seus ídolos adulteraram, e até os seus filhos, que de mim geraram, fizeram passar pelo fogo, para os consum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isto me fizeram: contaminaram o meu santuário no mesmo dia, e profanaram os meus sáb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, havendo sacrificado seus filhos aos seus ídolos, vinham ao meu santuário no mesmo dia para o profanarem; e eis que assim fizeram no meio da minh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nomes eram: Aolá, a mais velha, e Aolibá, sua irmã; e foram minhas, e tiveram filhos e filhas; e, quanto aos seus nomes, Samaria é Aolá, e Jerusalém é Aolib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mais ainda, mandaram vir alguns homens, de longe, aos quais fora enviado um mensageiro, e eis que vieram. Por amor deles te lavaste, coloriste os teus olhos, e te ornaste de enfei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assentaste sobre um leito de honra, diante do qual estava uma mesa preparada; e puseste sobre ela o meu incenso e o meu az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ela se ouvia a voz de uma multidão satisfeita; com homens de classe baixa foram trazidos beberrões do deserto; e puseram braceletes nas mãos das mulheres e coroas de esplendor nas suas cabe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à envelhecida em adultérios: Agora deveras se prostituirão com ela, e ela com e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aram a ela, como quem entra a uma prostituta; assim entraram a Aolá e a Aolibá, mulheres infa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homens justos as julgarão como se julgam as adúlteras, e como se julgam as que derramam sangue; porque são adúlteras, e sangue há n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EUS: Farei subir contra elas uma multidão, e as entregarei ao desterro e ao s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tidão as apedrejará, e as golpeará com as suas espadas; eles a seus filhos e a suas filhas matarão, e as suas casas queimarão a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rei cessar a perversidade da terra, para que se escarmentem todas as mulheres, e não façam conforme a vossa perversi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stigo da vossa perversidade eles farão recair sobre vós, e levareis os pecados dos vossos ídolos; e sabereis que eu sou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stituiu-se Aolá, sendo minha; e enamorou-se dos seus amantes, dos assírios, seus vizinh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stidos de azul, capitães e magistrados, todos jovens cobiçáveis, cavaleiros montados a cava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eteu ela as suas devassidões com eles, que eram todos a flor dos filhos da Assíria, e com todos os de quem se enamorava; com todos os seus ídolos se contamin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suas prostituições, que trouxe do Egito, não as deixou; porque com ela se deitaram na sua mocidade, e eles apalparam os seios da sua virgindade, e derramaram sobre ela a sua impudic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 entreguei na mão dos seus amantes, na mão dos filhos da Assíria, de quem se enamor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5:00Z</dcterms:created>
  <dc:creator>Admin</dc:creator>
  <dc:description/>
  <dc:language>en-US</dc:language>
  <cp:lastModifiedBy>Admin</cp:lastModifiedBy>
  <dcterms:modified xsi:type="dcterms:W3CDTF">2008-07-30T23:35:00Z</dcterms:modified>
  <cp:revision>1</cp:revision>
  <dc:subject/>
  <dc:title>Slide 1</dc:title>
</cp:coreProperties>
</file>