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34A-AF63-4EDE-B88C-E721CF5A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366-8E08-4C17-836D-D8DC4980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776-10C0-4CF8-A107-693CA8B5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D9C-E61F-4F0D-8AF5-85FE3F49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525-82A3-4805-89D9-59DCDEE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E12-29D8-46F5-881C-E9FCDDFB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FFE-2702-4D39-9257-D47CFFD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8FF-1469-481C-9C6E-290EA50F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9AB-9399-4C69-9C9F-6A01F06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88F-8B0B-41F4-A20B-0DA30EF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4D5-365D-4795-ACFD-B0EFD35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48E-9BCD-4479-B59E-855FB1B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F96-70D2-467C-AFDD-D85CE81420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s falando ao povo, sobrevieram os sacerdotes, e o capitão do templo, e os saduc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conhecido de vós todos, e de todo o povo de Israel, que em nome de Jesus Cristo, o Nazareno, aquele a quem vós crucificastes e a quem Deus ressuscitou dentre os mortos, em nome desse é que este está são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a pedra que foi rejeitada por vós, os edificadores, a qual foi posta por cabeça de esqu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nenhum outro há salvação, porque também debaixo do céu nenhum outro nome há, dado entre os homens, pelo qual devamos ser sal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, vendo a ousadia de Pedro e João, e informados de que eram homens sem letras e indoutos, maravilharam-se e reconheceram que eles haviam estado co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star com eles o homem que fora curado, nada tinham que dizer em contr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mandando-os sair fora do conselho, conferenciaram entre s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Que havemos de fazer a estes homens? porque a todos os que habitam em Jerusalém é manifesto que por eles foi feito um sinal notório, e não o podemos ne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ara que não se divulgue mais entre o povo, ameacemo-los para que não falem mais nesse nome a homem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-os, disseram-lhes que absolutamente não falassem, nem ensinassem, no nom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porém, Pedro e João, lhes disseram: Julgai vós se é justo, diante de Deus, ouvir-vos antes a vós do que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endo-se muito de que ensinassem o povo, e anunciassem em Jesus a ressurreição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podemos deixar de falar do que temos visto e ou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ainda os ameaçaram mais e, não achando motivo para os castigar, deixaram-nos ir, por causa do povo; porque todos glorificavam a Deus pelo que acontece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inha mais de quarenta anos o homem em quem se operara aquele milagre de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oltos eles, foram para os seus, e contaram tudo o que lhes disseram os principais dos sacerdotes e os anci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isto, unânimes levantaram a voz a Deus, e disseram: Senhor, tu és o Deus que fizeste o céu, e a terra, e o mar e tudo o que neles h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sseste pela boca de Davi, teu servo: Por que bramaram os gentios, e os povos pensaram coisas vã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ram-se os reis da terra, E os príncipes se ajuntaram à uma, Contra o Senhor e contra o s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erdadeiramente contra o teu santo Filho Jesus, que tu ungiste, se ajuntaram, não só Herodes, mas Pôncio Pilatos, com os gentios e os povo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em tudo o que a tua mão e o teu conselho tinham anteriormente determinado que se havia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, olha para as suas ameaças, e concede aos teus servos que falem com toda a ousadia a tu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mão deles, e os encerraram na prisão até ao dia seguinte, pois já er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estendes a tua mão para curar, e para que se façam sinais e prodígios pelo nome de teu santo Filh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orado, moveu-se o lugar em que estavam reunidos; e todos foram cheios do Espírito Santo, e anunciavam com ousadia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um o coração e a alma da multidão dos que criam, e ninguém dizia que coisa alguma do que possuía era sua própria, mas todas as coisas lhes eram comu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póstolos davam, com grande poder, testemunho da ressurreição do Senhor Jesus, e em todos eles havia abundante g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ia, pois, entre eles necessitado algum; porque todos os que possuíam herdades ou casas, vendendo-as, traziam o preço do que fora vendido, e o depositavam aos pés d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artia-se a cada um, segundo a necessidade que cada um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, cognominado pelos apóstolos, Barnabé (que, traduzido, é Filho da consolação), levita, natural de Chip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ssuindo uma herdade, vendeu-a, e trouxe o preço, e o depositou aos pés d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, porém, dos que ouviram a palavra creram, e chegou o número desses homens a quase cinc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dia seguinte, reunirem-se em Jerusalém os seus principais, os anciãos, os escrib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ás, o sumo sacerdote, e Caifás, e João, e Alexandre, e todos quantos havia da linhagem do sum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-os no meio, perguntaram: Com que poder ou em nome de quem fizestes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dro, cheio do Espírito Santo, lhes disse: Principais do povo, e vós, ancião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hoje somos interrogados acerca do benefício feito a um homem enfermo, e do modo como foi cur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23Z</dcterms:created>
  <dc:creator>Admin</dc:creator>
  <dc:description/>
  <dc:language>en-US</dc:language>
  <cp:lastModifiedBy>Admin</cp:lastModifiedBy>
  <dcterms:modified xsi:type="dcterms:W3CDTF">2008-07-30T23:23:23Z</dcterms:modified>
  <cp:revision>1</cp:revision>
  <dc:subject/>
  <dc:title>Slide 1</dc:title>
</cp:coreProperties>
</file>