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1C2-3D41-4723-BEA3-D7B971D2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CBD-1E71-4092-9B66-54F3E1C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B41-1BCF-429B-9009-5286DA53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8B6-F0BC-43F2-846D-8628BB1B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3AA-2A2F-4B25-8474-014CDBF2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FE4-5D18-4447-BC64-4388F52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901-0EEC-4380-9E97-7443590B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8E4-490E-4419-A1ED-6C67A02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8F2-D9CF-48EA-A2F5-81E68D5F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A3C-47FC-4CBA-AACC-F5D683D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C46-5991-43A2-95A7-9D39B032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114-40F1-4C57-8A48-531BA1F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EB7-3363-4003-B25A-21F3F7D5F0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bemos que, se a nossa casa terrestre deste tabernáculo se desfizer, temos de Deus um edifício, uma casa não feita por mãos, eterna,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devemos comparecer ante o tribunal de Cristo, para que cada um receba segundo o que tiver feito por meio do corpo, ou bem, o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sabendo o temor que se deve ao Senhor, persuadimos os homens à fé, mas somos manifestos a Deus; e espero que nas vossas consciências sejamos também manife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nos recomendamos outra vez a vós; mas damo-vos ocasião de vos gloriardes de nós, para que tenhais que responder aos que se gloriam na aparência e não n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enlouquecemos, é para Deus; e, se conservamos o juízo, é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amor de Cristo nos constrange, julgando nós assim: que, se um morreu por todos, logo todos mor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orreu por todos, para que os que vivem não vivam mais para si, mas para aquele que por eles morreu e ressusc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daqui por diante a ninguém conhecemos segundo a carne, e, ainda que também tenhamos conhecido Cristo segundo a carne, contudo agora já não o conhecemos deste m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se alguém está em Cristo, nova criatura é; as coisas velhas já passaram; eis que tudo se fez n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isto provém de Deus, que nos reconciliou consigo mesmo por Jesus Cristo, e nos deu o ministério da reconcili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, Deus estava em Cristo reconciliando consigo o mundo, não lhes imputando os seus pecados; e pôs em nós a palavra da reconcil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também gememos, desejando ser revestidos da nossa habitação, que é do cé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somos embaixadores da parte de Cristo, como se Deus por nós rogasse. Rogamo-vos, pois, da parte de Cristo, que vos reconcilieis co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quele que não conheceu pecado, o fez pecado por nós; para que nele fôssemos feitos justi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todavia, estando vestidos, não formos achados n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nós, os que estamos neste tabernáculo, gememos carregados; não porque queremos ser despidos, mas revestidos, para que o mortal seja absorvido pel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em para isto mesmo nos preparou foi Deus, o qual nos deu também o penhor d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stamos sempre de bom ânimo, sabendo que, enquanto estamos no corpo, vivemos ausentes do Senh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andamos por fé, e não por vist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emos confiança e desejamos antes deixar este corpo, para habitar com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muito desejamos também ser-lhe agradáveis, quer presentes, quer aus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40Z</dcterms:created>
  <dc:creator>Admin</dc:creator>
  <dc:description/>
  <dc:language>en-US</dc:language>
  <cp:lastModifiedBy>Admin</cp:lastModifiedBy>
  <dcterms:modified xsi:type="dcterms:W3CDTF">2008-07-30T23:48:40Z</dcterms:modified>
  <cp:revision>1</cp:revision>
  <dc:subject/>
  <dc:title>Slide 1</dc:title>
</cp:coreProperties>
</file>