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54B-23AD-4418-9D67-93B73386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6F4-AFE6-4038-998C-97797460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194-D1E4-4282-8143-AA6C6B66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998-7AFF-4300-B1FE-D1FDB1A6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1D3-D7F4-4553-9894-0B3B5BE9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38A-189E-4862-B4F5-67B22757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CF1-1DE4-40B9-85BA-9E49578C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8DC-4503-40A0-8694-DDD34B03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7F4-9932-4339-B936-7781EEA9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D93-3065-40C1-A105-5653D604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4D1-F03F-4BB8-8C12-8B7B2329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972-3B23-44BC-A2C0-D1190F49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5D6F-9B6D-456C-B914-ABDD2018420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meu, Deus meu, por que me desamparaste? Por que te alongas do meu auxílio e das palavras do meu brami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ti fui lançado desde a madre; tu és o meu Deus desde o ventre de minh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alongues de mim, pois a angústia está perto, e não há quem aju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itos touros me cercaram; fortes touros de Basã me rode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iram contra mim suas bocas, como um leão que despedaça e que ru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água me derramei, e todos os meus ossos se desconjuntaram; o meu coração é como cera, derreteu-se no meio das minhas entra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força se secou como um caco, e a língua se me pega ao paladar; e me puseste no pó 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me rodearam cães; o ajuntamento de malfeitores me cercou, traspassaram-me as mãos e o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deria contar todos os meus ossos; eles vêem e me contempl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partem entre si as minhas vestes, e lançam sortes sobre a minha roup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SENHOR, não te alongues de mim. Força minha, apressa-te em socorrer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meu, eu clamo de dia, e tu não me ouves; de noite, e não tenho sosse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 a minha alma da espada, e a minha predileta da força do c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a-me da boca do leão; sim, ouviste-me, das pontas dos bois selvag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clararei o teu nome aos meus irmãos; louvar-te-ei no meio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que temeis ao SENHOR, louvai-o; todos vós, semente de Jacó, glorificai-o; e temei-o todos vós, semente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desprezou nem abominou a aflição do aflito, nem escondeu dele o seu rosto; antes, quando ele clamou, o ou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louvor será de ti na grande congregação; pagarei os meus votos perante os que o te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ansos comerão e se fartarão; louvarão ao SENHOR os que o buscam; o vosso coração viverá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limites da terra se lembrarão, e se converterão ao SENHOR; e todas as famílias das nações adorarão perante a t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no é do SENHOR, e ele domina entre 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na terra são gordos comerão e adorarão, e todos os que descem ao pó se prostrarão perante ele; e nenhum poderá reter viva a s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u és santo, tu que habitas entre os louvor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semente o servirá; será declarada ao Senhor a cad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rão e anunciarão a sua justiça ao povo que nascer, porquanto ele o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i confiaram nossos pais; confiaram, e tu os livr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 clamaram e escaparam; em ti confiaram, e não foram confund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sou verme, e não homem, opróbrio dos homens e desprezado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me vêem zombam de mim, estendem os lábios e meneiam a cabeça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ou no SENHOR, que o livre; livre-o, pois nele tem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és o que me tiraste do ventre; fizeste-me confiar, estando aos seios de minh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40Z</dcterms:created>
  <dc:creator>Admin</dc:creator>
  <dc:description/>
  <dc:language>en-US</dc:language>
  <cp:lastModifiedBy>Admin</cp:lastModifiedBy>
  <dcterms:modified xsi:type="dcterms:W3CDTF">2008-07-31T00:24:40Z</dcterms:modified>
  <cp:revision>1</cp:revision>
  <dc:subject/>
  <dc:title>Slide 1</dc:title>
</cp:coreProperties>
</file>