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5EB-045D-4F36-BF12-CCFB0F59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54F-F6F8-42B1-9CF3-5DFDE660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E2F-F202-4189-9073-B25FA1B3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399-616E-42B7-BA79-BC4E54BD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F75-8312-46C3-9556-8E2D96FE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CAB-B23B-476A-AD88-2539580E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B4D-4A9E-42DB-9ED5-2B518642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775-2E18-4A3B-8AF0-D5C48003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C05-AE2F-4201-AA58-9B9942C7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D65-0BB4-4E5E-84E9-B4B7515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227-9045-4079-B3CC-60CCD9D3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5A1-82E9-4748-9547-A7A72603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22D6-2A96-4375-8517-D43F505A33F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oradores de Jerusalém, em lugar de Jeorão, fizeram rei a Acazias, seu filho mais moço, porque a tropa, que viera com os árabes ao arraial, tinha matado a todos os mais velhos. Assim reinou Acazias, filho de Jeorão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Atalia, mãe de Acazias, que seu filho era morto, levantou-se e destruiu toda a descendência real da casa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Jeosabeate, filha do rei, tomou a Joás, filho de Acazias, furtando-o dentre os filhos do rei, aos quais matavam, e o pôs com a sua ama na câmara dos leitos; assim Jeosabeate, filha do rei Jeorão, mulher do sacerdote Joiada (porque era irmã de Aca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ve com eles seis anos escondido na casa de Deus; e Atalia reinou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da idade de quarenta e dois anos, quando começou a reinar, e reinou um ano em Jerusalém; e era o nome de sua mãe Atalia, filha de On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le andou nos caminhos da casa de Acabe, porque sua mãe era sua conselheira, para proceder impi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que era mau aos olhos do SENHOR, como a casa de Acabe, porque eles eram seus conselheiros depois da morte de seu pai, para a sua perd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ndou nos conselhos deles, e foi com Jorão, filho de Acabe, rei de Israel, à peleja contra Hazael, rei da Síria, junto a Ramote de Gileade; e os sírios feriram a Jo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ou para curar-se em Jizreel, das feridas que lhe fizeram em Ramá, pelejando contra Hazael, rei da Síria; e Acazias, filho de Jeorão, rei de Judá, desceu para ver a Jorão, filho de Acabe, em Jizreel, porque estava do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, pois, da vontade de Deus, que Acazias, para sua ruína, visitou Jorão; porque chegando ele, saiu com Jorão contra Jeú, filho de Ninsi, a quem o SENHOR tinha ungido para desarraigar a casa de Ac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xecutando Jeú juízo contra a casa de Acabe, achou os príncipes de Judá e os filhos dos irmãos de Acazias, que serviam a Acazias, e os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buscou a Acazias (porque se tinha escondido em Samaria), e o alcançaram, e o trouxeram a Jeú, e o mataram, e o sepultaram; porque disseram: Filho é de Jeosafá, que buscou ao SENHOR com todo o seu coração. E já não tinha a casa de Acazias ninguém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00Z</dcterms:created>
  <dc:creator>Admin</dc:creator>
  <dc:description/>
  <dc:language>en-US</dc:language>
  <cp:lastModifiedBy>Admin</cp:lastModifiedBy>
  <dcterms:modified xsi:type="dcterms:W3CDTF">2008-07-30T23:50:00Z</dcterms:modified>
  <cp:revision>1</cp:revision>
  <dc:subject/>
  <dc:title>Slide 1</dc:title>
</cp:coreProperties>
</file>