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AE4C-76EA-4868-98D9-6BEC42C3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804A-D7E0-4159-AB30-CE8CB106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1243-4ACF-46CA-80D5-5AB53A4A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5D71-E8A7-46AC-AD4C-30E058CE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DBFD-1111-4B27-8547-370FC430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AA7B-011B-4D26-B414-46FB4A79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77E8-527C-41E8-88B1-AE6E411D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DF1E-7382-4CCA-8318-103FC5E2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EA6-4A6A-4021-9B7D-DAA8C831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8868-7B69-4F85-956C-0A7788BD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1269-0226-4061-A9BF-404AA2B2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EA2F-412D-485D-82AE-E64D95A3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02CC-85C3-47C4-97C2-8471B24E5B2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ABE fez saber a Jezabel tudo quanto Elias havia feito, e como totalmente matara todos os profetas à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Tenho sido muito zeloso pelo SENHOR Deus dos Exércitos, porque os filhos de Israel deixaram a tua aliança, derrubaram os teus altares, e mataram os teus profetas à espada, e só eu fiquei, e buscam a minha vida para ma tira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s lhe disse: Sai para fora, e põe-te neste monte perante o SENHOR. E eis que passava o SENHOR, como também um grande e forte vento que fendia os montes e quebrava as penhas diante do SENHOR; porém o SENHOR não estava no vento; e depois do vento um 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o terremoto um fogo; porém também o SENHOR não estava no fogo; e depois do fogo uma voz mansa e delic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ouvindo-a Elias, envolveu o seu rosto na sua capa, e saiu para fora, e pôs-se à entrada da caverna; e eis que veio a ele uma voz, que dizia: Que fazes aqui, Eli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Eu tenho sido em extremo zeloso pelo SENHOR Deus dos Exércitos, porque os filhos de Israel deixaram a tua aliança, derrubaram os teus altares, e mataram os teus profetas à espada, e só eu fiquei; e buscam a minha vida para ma tira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lhe disse: Vai, volta pelo teu caminho para o deserto de Damasco; e, chegando lá, unge a Hazael rei sobre a Sí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 Jeú, filho de Ninsi, ungirás rei de Israel; e também a Eliseu, filho de Safate de Abel-Meolá, ungirás profeta em t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á de ser que o que escapar da espada de Hazael, matá-lo-á Jeú; e o que escapar da espada de Jeú, matá-lo-á Elis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eixei ficar em Israel sete mil: todos os joelhos que não se dobraram a Baal, e toda a boca que não o beij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tiu, pois, Elias dali, e achou a Eliseu, filho de Safate, que andava lavrando com doze juntas de bois adiante dele, e ele estava com a duodécima; e Elias passou por ele, e lançou a sua capa sobr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ezabel mandou um mensageiro a Elias, a dizer-lhe: Assim me façam os deuses, e outro tanto, se de certo amanhã a estas horas não puser a tua vida como a de um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eixou ele os bois, e correu após Elias; e disse: Deixa-me beijar a meu pai e a minha mãe, e então te seguirei. E ele lhe disse: Vai, e volta; pois, que te fiz e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ltou, pois, de o seguir, e tomou a junta de bois, e os matou, e com os aparelhos dos bois cozeu as carnes, e as deu ao povo, e comeram; então se levantou e seguiu a Elias, e o serv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vendo ele, se levantou e, para escapar com vida, se foi, e chegando a Berseba, que é de Judá, deixou ali o seu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, porém, foi ao deserto, caminho de um dia, e foi sentar-se debaixo de um zimbro; e pediu para si a morte, e disse: Já basta, ó SENHOR; toma agora a minha vida, pois não sou melhor do que m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itou-se, e dormiu debaixo do zimbro; e eis que então um anjo o tocou, e lhe disse: Levanta-te, c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lhou, e eis que à sua cabeceira estava um pão cozido sobre as brasas, e uma botija de água; e comeu, e bebeu, e tornou a deitar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njo do SENHOR tornou segunda vez, e o tocou, e disse: Levanta-te e come, porque te será muito longo o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ou-se, pois, e comeu e bebeu; e com a força daquela comida caminhou quarenta dias e quarenta noites até Horebe, o monte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i entrou numa caverna e passou ali a noite; e eis que a palavra do SENHOR veio a ele, e lhe disse: Que fazes aqui Eli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5:59Z</dcterms:created>
  <dc:creator>Admin</dc:creator>
  <dc:description/>
  <dc:language>en-US</dc:language>
  <cp:lastModifiedBy>Admin</cp:lastModifiedBy>
  <dcterms:modified xsi:type="dcterms:W3CDTF">2008-07-30T23:45:59Z</dcterms:modified>
  <cp:revision>1</cp:revision>
  <dc:subject/>
  <dc:title>Slide 1</dc:title>
</cp:coreProperties>
</file>