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83CE7-5305-47E2-848B-B7F9DBC0D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B4D99-B95A-408F-894A-4790F2306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29110-810E-4435-B725-2EC35806D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5684D-2915-4F04-B026-7E1F7FD6C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8CB1B-9845-4AAA-A83A-A751E3A01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938BD-AE9D-4A0E-A39D-D49DA2F6F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32553-51CB-425C-A322-E2D55D594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BE15F-048F-4A75-A380-40604DC22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E728E-8456-4367-A16C-8D06C5D11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205DC-3894-46BA-98AA-2592321CE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C7B70-5FAD-4D22-AC3C-CB2A90F59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91BD6-0541-46BF-8587-C473AB0D0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D7E5E-DF0A-4D80-B6A0-7C7CDD8971EA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Tessalonicenses 1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AULO, e Silvano, e Timóteo, à igreja dos tessalonicenses, em Deus nosso Pai, e no Senhor Jesus Cristo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Tessalonicenses 1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ando vier para ser glorificado nos seus santos, e para se fazer admirável naquele dia em todos os que crêem (porquanto o nosso testemunho foi crido entre vós)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Tessalonicenses 1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 isso também rogamos sempre por vós, para que o nosso Deus vos faça dignos da sua vocação, e cumpra todo o desejo da sua bondade, e a obra da fé com poder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Tessalonicenses 1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ara que o nome de nosso SENHOR Jesus Cristo seja em vós glorificado, e vós nele, segundo a graça de nosso Deus e do Senhor Jesus Cris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Tessalonicenses 1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Graça e paz a vós da parte de Deus nosso Pai, e da do Senhor Jesus Cris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Tessalonicenses 1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mpre devemos, irmãos, dar graças a Deus por vós, como é justo, porque a vossa fé cresce muitíssimo e o amor de cada um de vós aumenta de uns para com os outros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Tessalonicenses 1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 maneira que nós mesmos nos gloriamos de vós nas igrejas de Deus por causa da vossa paciência e fé, e em todas as vossas perseguições e aflições que suportai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Tessalonicenses 1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rova clara do justo juízo de Deus, para que sejais havidos por dignos do reino de Deus, pelo qual também padecei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Tessalonicenses 1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 de fato é justo diante de Deus que dê em paga tribulação aos que vos atribulam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Tessalonicenses 1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 vós, que sois atribulados, descanso conosco, quando se manifestar o Senhor Jesus desde o céu com os anjos do seu poder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Tessalonicenses 1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mo labareda de fogo, tomando vingança dos que não conhecem a Deus e dos que não obedecem ao evangelho de nosso Senhor Jesus Cristo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Tessalonicenses 1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quais, por castigo, padecerão eterna perdição, ante a face do Senhor e a glória do seu poder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54:06Z</dcterms:created>
  <dc:creator>Admin</dc:creator>
  <dc:description/>
  <dc:language>en-US</dc:language>
  <cp:lastModifiedBy>Admin</cp:lastModifiedBy>
  <dcterms:modified xsi:type="dcterms:W3CDTF">2008-07-30T23:54:06Z</dcterms:modified>
  <cp:revision>1</cp:revision>
  <dc:subject/>
  <dc:title>Slide 1</dc:title>
</cp:coreProperties>
</file>