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B6FC-287E-438E-A5AB-7B6AE8F2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9701-0D49-451E-A4CE-347518A4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CE1B-167B-4068-B92B-72ECB050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9851-5219-4BC9-B541-C00E8D5C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C37-3093-489F-A6B5-C563DA40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561-9460-4D67-A382-FC24B54A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0A8C-9D31-4C36-8966-4FA351D9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A11-BF26-416C-BB87-0FD55CD5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6CD9-C3EC-4465-A23F-66CC5642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2B23-B27B-42D5-AB3F-084E477B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E0BB-57AF-4EB6-B187-700C4C76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59A2-ED97-4890-BAEF-7263C688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161C-655B-49F6-A49B-569E4899D82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nudez da filha do teu filho, ou da filha de tua filha, a sua nudez não descobrirás; porque é tua nud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nudez da filha da mulher de teu pai, gerada de teu pai (ela é tua irmã), a sua nudez não descobri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nudez da irmã de teu pai não descobrirás; ela é parenta de t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nudez da irmã de tua mãe não descobrirás; pois ela é parenta de t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nudez do irmão de teu pai não descobrirás; não te chegarás à sua mulher; ela é tua t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nudez de tua nora não descobrirás: ela é mulher de teu filho; não descobrirás a sua nud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nudez da mulher de teu irmão não descobrirás; é a nudez de t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nudez de uma mulher e de sua filha não descobrirás; não tomarás a filha de seu filho, nem a filha de sua filha, para descobrir a sua nudez; parentas são; maldade 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tomarás uma mulher juntamente com sua irmã, para fazê-la sua rival, descobrindo a sua nudez diante dela em s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chegarás à mulher durante a separação da sua imundícia, para descobrir a sua nudez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os filhos de Israel, e dize-lhes: Eu sou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te deitarás com a mulher de teu próximo para cópula, para te contaminares com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tua descendência não darás nenhum para fazer passar pelo fogo perante Moloque; e não profanarás o nome de teu Deus.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homem não te deitarás, como se fosse mulher; abominação é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te deitarás com um animal, para te contaminares com ele; nem a mulher se porá perante um animal, para ajuntar-se com ele; confusão 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nenhuma destas coisas vos contamineis; porque com todas estas coisas se contaminaram as nações que eu expulso de diante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a terra está contaminada; e eu visito a sua iniqüidade, e a terra vomita os seus mor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vós guardareis os meus estatutos e os meus juízos, e nenhuma destas abominações fareis, nem o natural, nem o estrangeiro que peregrina entre vó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as estas abominações fizeram os homens desta terra, que nela estavam antes de vós; e a terra foi contamin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a terra não vos vomite, havendo-a contaminado, como vomitou a nação que nela estava antes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qualquer que fizer alguma destas abominações, sim, aqueles que as fizerem serão extirpados d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fareis segundo as obras da terra do Egito, em que habitastes, nem fareis segundo as obras da terra de Canaã, para a qual vos levo, nem andareis nos seus estat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guardareis o meu mandamento, não fazendo nenhuma das práticas abomináveis que se fizeram antes de vós, e não vos contamineis com elas. Eu sou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eis conforme os meus juízos, e os meus estatutos guardareis, para andardes neles. Eu sou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os meus estatutos e os meus juízos guardareis; os quais, observando-os o homem, viverá por eles.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nhum homem se chegará a qualquer parenta da sua carne, para descobrir a sua nudez.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escobrirás a nudez de teu pai e de tua mãe: ela é tua mãe; não descobrirás a sua nud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escobrirás a nudez da mulher de teu pai; é nudez de t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nudez da tua irmã, filha de teu pai, ou filha de tua mãe, nascida em casa, ou fora de casa, a sua nudez não descobri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9:13Z</dcterms:created>
  <dc:creator>Admin</dc:creator>
  <dc:description/>
  <dc:language>en-US</dc:language>
  <cp:lastModifiedBy>Admin</cp:lastModifiedBy>
  <dcterms:modified xsi:type="dcterms:W3CDTF">2008-07-31T00:09:13Z</dcterms:modified>
  <cp:revision>1</cp:revision>
  <dc:subject/>
  <dc:title>Slide 1</dc:title>
</cp:coreProperties>
</file>