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7A3-90FF-48A8-8197-8D3770C0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869-40F1-468A-9767-1774AA40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896-BD30-4A2A-A0E3-3BD202B9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41B-B5A5-42F0-A313-AB954420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505-FEFB-4CE2-BA62-824085A2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E21-2952-4C4E-87E7-CA2F9FE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1F7-7FDE-4598-B10B-42E268B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38E-32AF-4BD3-9B86-95DC2A8F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051-6F2F-4F34-A1AC-8663B9D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DC2-CC19-424F-9869-A2A1481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B23-21E0-466C-AAA0-C08AEFC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325-F3E8-45D0-BF28-9E33BCB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9E0C-B5AE-46D4-A646-EC6BCD23DF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SENHOR DEUS assim me fez ver, e eis que ele formava gafanhotos no princípio do rebento da erva serôdia, e eis que era a erva serôdia depois de findas as ceifas do 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mazias, o sacerdote de Betel, mandou dizer a Jeroboão, rei de Israel: Amós tem conspirado contra ti, no meio da casa de Israel; a terra não poderá sofrer todas as suas palavr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Amós: Jeroboão morrerá à espada, e Israel certamente será levado para fora da sua terra em cativ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pois Amazias disse a Amós: Vai-te, ó vidente, e foge para a terra de Judá, e ali come o pão, e ali profetiz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em Betel daqui por diante não profetizes mais, porque é o santuário do rei e casa re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respondeu Amós, dizendo a Amazias: Eu não sou profeta, nem filho de profeta, mas boiadeiro, e cultivador de sicômo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 SENHOR me tirou de seguir o rebanho, e o SENHOR me disse: Vai, e profetiza ao meu povo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ouve a palavra do SENHOR: Tu dizes: Não profetizes contra Israel, nem fales contra a casa de Isaq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ssim diz o SENHOR: Tua mulher se prostituirá na cidade, e teus filhos e tuas filhas cairão à espada, e a tua terra será repartida a cordel, e tu morrerás na terra imunda, e Israel certamente será levado cativo para fora da su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u que, tendo eles comido completamente a erva da terra, eu disse: Senhor DEUS, perdoa, rogo-te; quem levantará a Jacó? pois ele é pequ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o SENHOR se arrependeu disso. Não acontecerá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me mostrou o Senhor DEUS: Eis que o Senhor DEUS clamava, para contender com fogo; este consumiu o grande abismo, e também uma parte da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eu disse: Senhor DEUS, cessa, eu te peço; quem levantará Jacó? pois é peque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e arrependeu disso. Nem isso acontecerá, disse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strou-me também assim: e eis que o Senhor estava sobre um muro, levantado a prumo; e tinha um prumo na sua 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me disse: Que vês tu, Amós? E eu disse: Um prumo. Então disse o Senhor: Eis que eu porei o prumo no meio do meu povo Israel; nunca mais passarei por e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7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os altos de Isaque serão assolados, e destruídos os santuários de Israel; e levantar-me-ei com a espada contra a casa de Jerobo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2:00Z</dcterms:created>
  <dc:creator>Admin</dc:creator>
  <dc:description/>
  <dc:language>en-US</dc:language>
  <cp:lastModifiedBy>Admin</cp:lastModifiedBy>
  <dcterms:modified xsi:type="dcterms:W3CDTF">2008-07-30T23:22:00Z</dcterms:modified>
  <cp:revision>1</cp:revision>
  <dc:subject/>
  <dc:title>Slide 1</dc:title>
</cp:coreProperties>
</file>