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570-5F47-413A-B3AE-910675CA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906-A698-4301-AACB-0E259158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8CE-97E6-42CA-A9A0-AE266E94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508-5AEF-43AA-92B3-1EFF11B3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18C-4755-4A76-9BD2-EEF57D5C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A88-BB5E-4692-AE44-607DE4C0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C0E-A18E-4180-BD37-AACD8517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1FB-1180-4E2E-A7B7-50E2BDF8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37C-1A79-49C2-BBDE-62BB4E6A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41A-C7F9-4192-8F3E-34D3B152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5F3-B78A-4517-92A5-AAECFF66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861-FD57-4577-B57B-05E778F4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4F7D-F37D-4651-8943-6095AD5D09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is, no primeiro ano de Dario, o medo, levantei-me para animá-lo e fortalecê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us filhos intervirão e reunirão uma multidão de grandes forças; e virá apressadamente e inundará, e passará adiante; e, voltando levará a guerra até a sua fort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o sul se exasperará, e sairá, e pelejará contra ele, contra o rei do norte; este porá em campo grande multidão, e aquela multidão será entregue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tidão será tirada e o seu coração se elevará; mas ainda que derrubará muitos milhares, contudo não preval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 do norte tornará, e porá em campo uma multidão maior do que a primeira, e ao fim dos tempos, isto é, de anos, virá à pressa com grande exército e com muitas riqu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queles tempos, muitos se levantarão contra o rei do sul; e os violentos dentre o teu povo se levantarão para cumprir a visão, mas eles ca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o norte virá, e levantará baluartes, e tomará a cidade forte; e os braços do sul não poderão resistir, nem o seu povo escolhido, pois não haverá força para resis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, pois, há de vir contra ele fará segundo a sua vontade, e ninguém poderá resistir diante dele; e estará na terra gloriosa, e por sua mão haverá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igirá o seu rosto, para vir com a potência de todo o seu reino, e com ele os retos, assim ele fará; e lhe dará uma filha das mulheres, para corrompê-la; ela, porém, não subsistirá, nem será pa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virará o seu rosto para as ilhas, e tomará muitas; mas um príncipe fará cessar o seu opróbrio contra ele, e ainda fará recair sobre ele o seu oprób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ará então o seu rosto para as fortalezas da sua própria terra, mas tropeçará, e cairá, e não será ac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te declararei a verdade: Eis que ainda três reis estarão na Pérsia, e o quarto acumulará grandes riquezas, mais do que todos; e, tornando-se forte, por suas riquezas, suscitará a todos contra o reino da Gré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seu lugar se levantará quem fará passar um arrecadador pela glória do reino; mas em poucos dias será quebrantado, e isto sem ira e sem bat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se levantará em seu lugar um homem vil, ao qual não tinham dado a dignidade real; mas ele virá caladamente, e tomará o reino com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os braços de uma inundação serão varridos de diante dele; e serão quebrantados, como também o príncipe d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o concerto com ele, usará de engano; e subirá, e se tornará forte com pouca g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á também caladamente aos lugares mais férteis da província, e fará o que nunca fizeram seus pais, nem os pais de seus pais; repartirá entre eles a presa e os despojos, e os bens, e formará os seus projetos contra as fortalezas, mas por cert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scitará a sua força e a sua coragem contra o rei do sul com um grande exército; e o rei do sul se envolverá na guerra com um grande e mui poderoso exército; mas não subsistirá, porque maquinarão projetos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comerem os seus alimentos o destruirão; e o exército dele será arrasado, e cairão muit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s dois reis terão o coração atento para fazerem o mal, e a uma mesma mesa falarão a mentira; mas isso não prosperará, porque ainda verá o fim no tempo determ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rnará para a sua terra com muitos bens, e o seu coração será contra a santa aliança; e fará o que lhe aprouver, e tornará para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empo determinado tornará a vir em direção do sul; mas não será na última vez como foi na prim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se levantará um rei valente, que reinará com grande domínio, e fará o que lhe aprou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irão contra ele navios de Quitim, que lhe causarão tristeza; e voltará, e se indignará contra a santa aliança, e fará o que lhe aprouver; voltará e atenderá aos que tiverem abandonado a sant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raços serão colocados sobre ele, que profanarão o santuário e a fortaleza, e tirarão o sacrifício contínuo, estabelecendo abominação desolad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violadores da aliança ele com lisonjas perverterá, mas o povo que conhece ao seu Deus se tornará forte e fará pro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ntendidos entre o povo ensinarão a muitos; todavia cairão pela espada, e pelo fogo, e pelo cativeiro, e pelo roubo, por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aindo eles, serão ajudados com pequeno socorro; mas muitos se ajuntarão a eles com lison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entendidos cairão, para serem provados, purificados, e embranquecidos, até ao fim do tempo, porque será ainda para o tempo determ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rei fará conforme a sua vontade, e levantar-se-á, e engrandecer-se-á sobre todo deus; e contra o Deus dos deuses falará coisas espantosas, e será próspero, até que a ira se complete; porque aquilo que está determinado será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erá respeito ao Deus de seus pais, nem terá respeito ao amor das mulheres, nem a deus algum, porque sobre tudo se engrand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m seu lugar honrará a um deus das forças; e a um deus a quem seus pais não conheceram honrará com ouro, e com prata, e com pedras preciosas, e com coisas agrad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auxílio de um deus estranho agirá contra as poderosas fortalezas; aos que o reconhecerem multiplicará a honra, e os fará reinar sobre muitos, e repartirá a terra por pre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estando ele em pé, o seu reino será quebrado, e será repartido para os quatro ventos do céu; mas não para a sua posteridade, nem tampouco segundo o seu domínio com que reinou, porque o seu reino será arrancado, e passará a outros que não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fim do tempo, o rei do sul lutará com ele, e o rei do norte se levantará contra ele com carros, e com cavaleiros, e com muitos navios; e entrará nas suas terras e as inundará, e pass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ará na terra gloriosa, e muitos países cairão, mas da sua mão escaparão estes: Edom e Moabe, e os chefes d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rá a sua mão contra os países, e a terra do Egito não escap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oderar-se-á dos tesouros de ouro e de prata e de todas as coisas preciosas do Egito; e os líbios e os etíopes o segu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rumores do oriente e do norte o espantarão; e sairá com grande furor, para destruir e extirpar a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mará as tendas do seu palácio entre o mar grande e o monte santo e glorioso; mas chegará ao seu fim, e não haverá quem o soc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forte o rei do sul; mas um dos seus príncipes será mais forte do que ele, e reinará poderosamente; seu domínio será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ao fim de alguns anos, eles se aliarão; e a filha do rei do sul virá ao rei do norte para fazer um tratado; mas ela não reterá a força do seu braço; nem ele persistirá, nem o seu braço, porque ela será entregue, e os que a tiverem trazido, e seu p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 um renovo das raízes dela um se levantará em seu lugar, e virá com o exército, e entrará na fortaleza do rei do norte, e operará contra eles, e preval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seus deuses com as suas imagens de fundição, com os seus objetos preciosos de prata e ouro, levará cativos para o Egito; e por alguns anos ele persistirá contra o rei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ará no reino o rei do sul, e tornará para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56Z</dcterms:created>
  <dc:creator>Admin</dc:creator>
  <dc:description/>
  <dc:language>en-US</dc:language>
  <cp:lastModifiedBy>Admin</cp:lastModifiedBy>
  <dcterms:modified xsi:type="dcterms:W3CDTF">2008-07-30T23:26:56Z</dcterms:modified>
  <cp:revision>1</cp:revision>
  <dc:subject/>
  <dc:title>Slide 1</dc:title>
</cp:coreProperties>
</file>