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9DF-2AB2-4634-AD96-01362776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C32D-0D81-42BF-A976-0A1B9CB2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5D99-72E6-4416-904D-CF162B5B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C1A8-C500-43A6-A987-F54A0B13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9A18-477B-43E0-B332-A3151D67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6DD1-0A48-4F77-A4BF-059B52DA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150-F5CC-4170-8DC1-F5C811E2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DC1-3DE5-41DD-A8C1-EC571EE9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11BC-D9D9-45C5-A865-EB36F4E0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1A85-AEE3-48A5-AB2A-91A568BD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CE2-35B2-4EA4-A1EA-90C62AF0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FD5-0EB2-4BEA-A621-54080727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E616-44D2-4F3E-8B42-6763BAE2E4A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SENHOR é a terra e a sua plenitude, o mundo e aqueles que nele habit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este Rei da Glória? O SENHOR dos Exércitos, ele é o Rei da Glória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e a fundou sobre os mares, e a firmou sobre os 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subirá ao monte do SENHOR, ou quem estará no seu lugar san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é limpo de mãos e puro de coração, que não entrega a sua alma à vaidade, nem jura enganos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receberá a bênção do SENHOR e a justiça do Deus da su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geração daqueles que buscam, daqueles que buscam a tua face, ó Deus de Jacó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i, ó portas, as vossas cabeças; levantai-vos, ó entradas eternas, e entrará o Rei d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este Rei da Glória? O SENHOR forte e poderoso, o SENHOR poderoso na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i, ó portas, as vossas cabeças, levantai-vos, ó entradas eternas, e entrará o Rei d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41Z</dcterms:created>
  <dc:creator>Admin</dc:creator>
  <dc:description/>
  <dc:language>en-US</dc:language>
  <cp:lastModifiedBy>Admin</cp:lastModifiedBy>
  <dcterms:modified xsi:type="dcterms:W3CDTF">2008-07-31T00:24:41Z</dcterms:modified>
  <cp:revision>1</cp:revision>
  <dc:subject/>
  <dc:title>Slide 1</dc:title>
</cp:coreProperties>
</file>