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E56-7A89-4A30-AB22-2186231F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3D1-82B9-4D66-95D7-E994DC16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5A9-3C26-4E88-87F6-4A67001F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EAD-4D24-4F6C-8118-058267C7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F2B-E4F1-4F41-8609-029027FE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FD6-877F-4B11-AF08-F637C295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E54-B22D-48EB-955C-56F99997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340-2338-4627-AF49-F4C0C576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B71-A183-483E-8E0F-7FC441DA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C19-B9DE-4222-AFEB-3E511CF0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761-0FBD-454D-9B88-0EF6EECD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C68-1C9A-46CE-BDBB-ED72B6DC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41C0-89EC-4D0B-98A8-F263CF3EA8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coube sorte à tribo de Manassés, porquanto era o primogênito de José. Maquir, o primogênito de Manassés, pai de Gileade, porquanto era homem de guerra, teve a Gileade e Bas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fraim ao sul, e Manassés ao norte, e o mar é o seu termo; pelo norte tocam em Aser, e pelo oriente em Issa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Issacar e em Aser tinha Manassés a Bete-Seã e as suas vilas, e Ibleã e as suas vilas, e os habitantes de Dor e as suas vilas, e os habitantes de En-Dor e as suas vilas, e os habitantes de Taanaque e as suas vilas, e os habitantes de Megido e 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anassés não puderam expulsar os habitantes daquelas cidades; porquanto os cananeus queriam habitar na mesm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ngrossando em forças os filhos de Israel, fizeram tributários aos cananeus; porém não os expulsaram de t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José falaram a Josué, dizendo: Por que me deste por herança só uma sorte e um quinhão, sendo eu um tão grande povo, visto que o SENHOR até aqui me tem abenço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Josué: Se tão grande povo és, sobe ao bosque, e ali corta, para ti, lugar na terra dos perizeus e dos refains; pois que as montanhas de Efraim te são tão estre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os filhos de José: As montanhas não nos bastariam; também carros de ferro há entre todos os cananeus que habitam na terra do vale, entre os de Bete-Seã e as suas vilas, e entre os que estão no vale de Jizr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falou à casa de José, a Efraim e a Manassés, dizendo: Grande povo és, e grande força tens; não terás uma sorte apen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s montanhas serão tuas. Ainda que é bosque, cortá-lo-ás, e as suas extremidades serão tuas; porque expulsarás os cananeus, ainda que tenham carros de ferro, ainda que sejam for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demais filhos de Manassés tiveram a sua parte, segundo as suas famílias, a saber: Os filhos de Abiezer, e os filhos de Heleque, e os filhos de Asriel, e os filhos de Siquém, e os filhos de Hefer, e os filhos de Semida; esses são os filhos de 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elofeade, porém, filho de Hefer, filho de Gileade, filho de Maquir, filho de Manassés, não teve filhos, mas só filhas; e estes são os nomes de suas filhas: Maalá, Noa, Hogla, Milca e Tir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, pois, chegaram diante de Eleazar, o sacerdote, e diante de Josué, filho de Num, e diante dos príncipes, dizendo: O SENHOR ordenou a Moisés que se nos desse herança no meio de nossos irmãos, pelo que, conforme a ordem do SENHOR, lhes deu herança 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uberam a Manassés dez quinhões, afora a terra de Gileade e Basã, que está além do Jor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filhas de Manassés receberam herança entre os filhos dele; e os outros filhos de Manassés ficaram com a terra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rmo de Manassés foi desde Aser até Micmetá, que está defronte de Siquém; e estende-se este termo à direita até os moradores de En-Tap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Manassés a terra de Tapua; porém Tapua, junto ao termo de Manassés, pertencia aos filhos d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cia este termo ao ribeiro de Caná. A Efraim couberam as cidades ao sul do ribeiro, entre as cidades de Manassés; e o termo de Manassés estava ao norte do ribeiro, indo terminar n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44Z</dcterms:created>
  <dc:creator>Admin</dc:creator>
  <dc:description/>
  <dc:language>en-US</dc:language>
  <cp:lastModifiedBy>Admin</cp:lastModifiedBy>
  <dcterms:modified xsi:type="dcterms:W3CDTF">2008-07-31T00:05:44Z</dcterms:modified>
  <cp:revision>1</cp:revision>
  <dc:subject/>
  <dc:title>Slide 1</dc:title>
</cp:coreProperties>
</file>