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D87-D739-4374-AEFB-FE1EF41B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D94-A172-4B8D-805C-1C52F90F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E3D-A851-4B90-A6CF-35B4C04A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44F-12CC-4F65-943C-9773C640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2DC-0A85-47A9-873F-6594944B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E12-F230-46D7-8BC0-DB5FBF3C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0A9-2216-42B5-A252-99D3FCEE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FB2-0690-4D2E-8C02-81FC465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743-FF92-4638-9FE2-1EF37525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1AE-B928-4BA6-A3F4-D25FA27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A99-FC9B-46AE-9579-42CE11F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8D1-D50F-4CED-9F36-8F8847F6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48AD-69D0-47D8-9FCD-A27ED063D1A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isteus, pois, pelejaram contra Israel; e os homens de Israel fugiram de diante dos filisteus, e caíram mortos na montanha de Gilb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as suas armas no templo de Astarote, e o seu corpo o afixaram no muro de Bete-Se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então os moradores de Jabes-Gileade, o que os filisteus fizeram a Sau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homem valoroso se levantou, e caminharam toda a noite, e tiraram o corpo de Saul e os corpos de seus filhos do muro, de Bete-Seã, e, vindo a Jabes, os queim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os seus ossos, e os sepultaram debaixo de um arvoredo, em Jabes, e jejuaram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 perseguiram a Saul e a seus filhos; e mataram a Jônatas, e a Abinadabe, e a Malquisua, filhos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eleja se agravou contra Saul, e os flecheiros o alcançaram; e muito temeu por causa dos flec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 ao seu pajem de armas: Arranca a tua espada, e atravessa-me com ela, para que porventura não venham estes incircuncisos, e me atravessem e escarneçam de mim. Porém o seu pajem de armas não quis, porque temia muito; então Saul tomou a e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 seu pajem de armas que Saul já era morto, também ele se lançou sobre a sua espada, e morreu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eceu Saul, e seus três filhos, e o seu pajem de armas, e também todos os seus homens morreram juntamente n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os homens de Israel, que estavam deste lado do vale e deste lado do Jordão, que os homens de Israel fugiram, e que Saul e seus filhos estavam mortos, abandonaram as cidades, e fugiram; e vieram os filisteus, e habitaram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vindo os filisteus no outro dia para despojar os mortos, acharam a Saul e a seus três filhos estirados na montanha de Gilb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rtaram-lhe a cabeça, e o despojaram das suas armas, e enviaram pela terra dos filisteus, em redor, a anunciá-lo no templo dos seus ídolos e 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02Z</dcterms:created>
  <dc:creator>Admin</dc:creator>
  <dc:description/>
  <dc:language>en-US</dc:language>
  <cp:lastModifiedBy>Admin</cp:lastModifiedBy>
  <dcterms:modified xsi:type="dcterms:W3CDTF">2008-07-30T23:48:02Z</dcterms:modified>
  <cp:revision>1</cp:revision>
  <dc:subject/>
  <dc:title>Slide 1</dc:title>
</cp:coreProperties>
</file>