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7743-5E91-4C0D-B07E-50E50491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EC1-50B5-4A4E-8BCA-1548C6A7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8B32-A482-43C5-88BA-F99856A3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CDED-2C52-4FBD-A788-97E97F0A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1F8-EB13-4148-A5CA-8A9A9EFA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9FA5-0F35-4309-B1AF-499E17BC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585-0B70-4155-A993-D772CFCF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074A-A073-4276-8A8C-45AC12AB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ACD-0A21-4176-B6E6-9802D87B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E11-F904-41F2-AA95-5B49AF64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F10-C4D5-4736-89CA-5F122A74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4BA-4011-4D5D-A902-20120B11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432E-F9AD-4E3B-B4CF-AF3325F706D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sua casa edificou Salomão em treze anos; e acabou toda 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stava fundado sobre pedras finas, pedras grandes; sobre pedras de dez côvados e pedras de oito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cima delas pedras de grande valor, lavradas segundo as medidas, e madeira de ced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ia três ordens de pedras lavradas, com uma ordem de vigas de cedro; assim era também o pátio interior da casa do SENHOR e o pórtico daquel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ou o rei Salomão um mensageiro e mandou trazer a Hirão de T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 ele filho de uma mulher viúva, da tribo de Naftali, e fora seu pai um homem de Tiro, que trabalhava em cobre; e era cheio de sabedoria, e de entendimento, e de ciência para fazer toda a obra de cobre; este veio ao rei Salomão, e fez toda a su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mou duas colunas de cobre; a altura de cada coluna era de dezoito côvados, e um fio de doze côvados cercava cada uma das colu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ez dois capitéis de fundição de cobre para pôr sobre as cabeças das colunas; de cinco côvados era a altura de um capitel, e de cinco côvados a altura do outro capit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redes eram de malhas, as ligas de obra de cadeia para os capitéis que estavam sobre a cabeça das colunas, sete para um capitel e sete para o outro capit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ez as colunas, juntamente com duas fileiras em redor sobre uma rede, para cobrir os capitéis que estavam sobre a cabeça das romãs, assim também fez com o outro capit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apitéis que estavam sobre a cabeça das colunas eram de obra de lírios no pórtico, de quatro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dificou a casa do bosque do Líbano de cem côvados de comprimento, e de cinqüenta côvados de largura, e de trinta côvados de altura, sobre quatro ordens de colunas de cedro, e vigas de cedro sobre as colu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apitéis, pois, sobre as duas colunas estavam também defronte, em cima da parte globular que estava junto à rede; e duzentas romãs, em fileiras em redor, estavam também sobre o outro capit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levantou as colunas no pórtico do templo; e levantando a coluna direita, pôs-lhe o nome de Jaquim; e levantando a coluna esquerda, pôs-lhe o nome de Bo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a cabeça das colunas estava a obra de lírios; e assim se acabou a obra das colu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mais o mar de fundição, de dez côvados de uma borda até à outra borda, perfeitamente redondo, e de cinco côvados de alto; e um cordão de trinta côvados o cingia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baixo da sua borda em redor havia botões que o cingiam; por dez côvados cercavam aquele mar em redor; duas ordens destes botões foram fundidas quando o mar foi fun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rmava-se sobre doze bois, três que olhavam para o norte, e três que olhavam para o ocidente, e três que olhavam para o sul, e três que olhavam para o oriente; e o mar estava em cima deles, e todas as suas partes posteriores para o lado de den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grossura era de um palmo, e a sua borda era como a de um copo, como de flor de lírios; ele levava dois mil ba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as dez bases de cobre; o comprimento de uma base de quatro côvados, e de quatro côvados a sua largura, e três côvados a sua a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era a obra das bases; tinham cintas, e as cintas estavam entre as mold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as cintas que estavam entre as molduras havia leões, bois, e querubins, e sobre as molduras uma base por cima; e debaixo dos leões e dos bois junturas de obra estend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cima estava coberta de cedro sobre as vigas, que estavam sobre quarenta e cinco colunas, quinze em cada ord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a base tinha quatro rodas de metal, e lâminas de cobre; e os seus quatro cantos tinham suportes; debaixo da pia estavam estes suportes fundidos, do lado de cada uma das junt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boca da pia estava dentro da coroa, e de um côvado por cima; e era a sua boca redonda segundo a obra da base, de côvado e meio; e também sobre a sua boca havia entalhes, e as suas cintas eram quadradas, não redo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quatro rodas estavam debaixo das cintas, e os eixos das rodas na base; e era a altura de cada roda de côvado e m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a obra das rodas como a obra da roda de carro; seus eixos, e suas cambas e seus cubos, e seus raios, todos eram fund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quatro suportes aos quatro cantos de cada base; seus suportes saíam da ba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alto de cada base havia uma peça redonda de meio côvado de altura; também sobre o alto de cada base havia asas e cintas, que saíam d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s placas de seus esteios e nas suas cintas lavrou querubins, leões, e palmas, segundo o espaço de cada uma, e outros adornos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orme a esta fez as dez bases; todas tinham uma mesma fundição, uma mesma medida, e um mesmo entalh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ez dez pias de cobre; em cada pia cabiam quarenta batos, e cada pia era de quatro côvados, e sobre cada uma das dez bases estava uma p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cinco bases à direita da casa, e cinco à esquerda da casa; porém o mar pôs ao lado direito da casa para o lado do oriente, da parte do s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três ordens de janelas; e uma janela estava defronte da outra janela, em três ord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ez Hirão as pias, e as pás, e as bacias; e acabou Hirão de fazer toda a obra que fez para o rei Salomão, para 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aber: as duas colunas, e os globos dos capitéis que estavam sobre a cabeça das duas colunas; e as duas redes, para cobrir os dois globos dos capitéis que estavam sobre a cabeça das colu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quatrocentas romãs para as duas redes, a saber: duas carreiras de romãs para cada rede, para cobrirem os dois globos dos capitéis que estavam em cima das colu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ntamente com as dez bases, e as dez pias sobre as bas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um mar, e os doze bois debaixo daquele m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aldeirões, e as pás, e as bacias, e todos estes objetos que fez Hirão para o rei Salomão, para a casa do SENHOR, todos eram de cobre pol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planície do Jordão, o rei os fundiu em terra barrenta; entre Sucote e Zaret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ixou Salomão de pesar todos os objetos, pelo seu excessivo número; nem se averiguou o peso do c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ez Salomão todos os objetos que convinham à casa do SENHOR; o altar de ouro, e a mesa de ouro, sobre a qual estavam os pães da propos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astiçais, cinco à direita e cinco à esquerda, diante do oráculo, de ouro finíssimo; e as flores, e as lâmpadas, e os espevitadores, também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das as portas e ombreiras quadradas eram de uma mesma vista; e uma janela estava defronte da outra, em três ord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os vasos, e os apagadores, e as bacias, e as colheres, e os perfumadores, de ouro finíssimo; e as dobradiças para as portas da casa interior para o lugar santíssimo, e as das portas da casa do templo, também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 acabou toda a obra que fez o rei Salomão para a casa do SENHOR; então trouxe Salomão as coisas que seu pai Davi havia consagrado; a prata, e o ouro, e os objetos pôs entre os tesouros d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ez um pórtico de colunas de cinqüenta côvados de comprimento e de trinta côvados de largura; e o pórtico estava defronte delas, e as colunas com as grossas vigas defronte d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ez o pórtico para o trono onde julgava, isto é, o pórtico do juízo, que estava revestido de cedro de soalho a soa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sua casa, em que morava, havia outro pátio, por dentro do pórtico, de obra semelhante à deste; também para a filha de Faraó, que Salomão tomara por mulher, fez uma casa semelhante àquele pórti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estas coisas eram de pedras de grande valor, cortadas à medida, serradas à serra por dentro e por fora; e isto desde o fundamento até às beiras do teto, e por fora até ao grande pát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5:03Z</dcterms:created>
  <dc:creator>Admin</dc:creator>
  <dc:description/>
  <dc:language>en-US</dc:language>
  <cp:lastModifiedBy>Admin</cp:lastModifiedBy>
  <dcterms:modified xsi:type="dcterms:W3CDTF">2008-07-30T23:45:03Z</dcterms:modified>
  <cp:revision>1</cp:revision>
  <dc:subject/>
  <dc:title>Slide 1</dc:title>
</cp:coreProperties>
</file>