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91B6-891F-4F9E-8C77-FA52F3A59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11F9-6592-4233-A69B-0550B06C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E4DE-38B3-4011-B664-A31FD2A99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0320-396E-4901-B121-7F4AF1817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AA48-1003-4BCB-96D5-EE17AEC9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F458-F9AF-44E5-A6E9-97462DF5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2A01-7E5B-4FDC-A11F-41A90535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912A-B884-4A01-AAA3-6928A5AE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07D8-E19D-4E24-A41D-79DBA0CC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9458-90B6-4B41-942F-AB8270D7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87E5-27AF-4666-8584-761E956B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0E01-0FEC-4E24-B44E-A103A82A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FFB2-C6D5-477E-8994-20CACDE2DFF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ás, pois, chegar os levitas perante o SENHOR; e os filhos de Israel porão as suas mãos sobre os lev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rão oferecerá os levitas por oferta movida, perante o SENHOR, pelos filhos de Israel; e serão para servirem no ministério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levitas colocarão as suas mãos sobre a cabeça dos novilhos; então sacrifica tu, um para expiação do pecado, e o outro para holocausto ao SENHOR, para fazer expiação pelos lev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ás os levitas perante Arão, e perante os seus filhos, e os oferecerá por oferta movida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pararás os levitas do meio dos filhos de Israel, para que os levitas sejam m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os levitas entrarão para fazerem o serviço da tenda da congregação; e tu os purificarás, e por oferta movida os oferece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eles, dentre os filhos de Israel, me são dados; em lugar de todo aquele que abre a madre, do primogênito de cada um dos filhos de Israel, para mim os tenho tom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meu é todo o primogênito entre os filhos de Israel, entre os homens e entre os animais; no dia em que, na terra do Egito, feri a todo o primogênito, os santifiquei par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ei os levitas em lugar de todo o primogênito entre 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levitas, dados a Arão e a seus filhos, dentre os filhos de Israel, tenho dado para ministrarem o ministério dos filhos de Israel na tenda da congregação e para fazer expiação pelos filhos de Israel, para que não haja praga entre eles, chegando-se 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 a Arão, e dize-lhe: Quando acenderes as lâmpadas, as sete lâmpadas iluminarão o espaço em frente do candelab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sim fizeram Moisés e Arão, e toda a congregação dos filhos de Israel, com os levitas; conforme a tudo o que o SENHOR ordenara a Moisés acerca dos levitas, assim os filhos de Israel lhes fiz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levitas se purificaram, e lavaram as suas vestes, e Arão os ofereceu por oferta movida perante o SENHOR, e Arão fez expiação por eles, para purificá-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vieram os levitas, para exercerem o seu ministério na tenda da congregação, perante Arão e perante os seus filhos; como o SENHOR ordenara a Moisés acerca dos levitas, assim lhes fiz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é o ofício dos levitas: Da idade de vinte e cinco anos para cima entrarão, para fazerem o serviço no ministério da tenda da congregaç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esde a idade de cinqüenta anos sairão do serviço deste ministério, e nunca mais servir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com os seus irmãos servirão na tenda da congregação, para terem cuidado da guarda; mas o ministério não exercerão; assim farás com os levitas quanto aos seus deve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rão fez assim: Acendeu as lâmpadas do candelabro para iluminar o espaço em frente, como o SENHOR ordenara a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ra esta a obra do candelabro, obra de ouro batido; desde o seu pé até às suas flores era ele de ouro batido; conforme ao modelo que o SENHOR mostrara a Moisés, assim ele fez o candelab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 os levitas do meio dos filhos de Israel e purifica-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sim lhes farás, para os purificar: Esparge sobre eles a água da expiação; e sobre toda a sua carne farão passar a navalha, e lavarão as suas vestes, e se purific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marão um novilho, com a sua oferta de alimentos de flor de farinha amassada com azeite; e tomarás tu outro novilho, para expiação do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ás chegar os levitas perante a tenda da congregação e ajuntarás toda a congregação d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8:22Z</dcterms:created>
  <dc:creator>Admin</dc:creator>
  <dc:description/>
  <dc:language>en-US</dc:language>
  <cp:lastModifiedBy>Admin</cp:lastModifiedBy>
  <dcterms:modified xsi:type="dcterms:W3CDTF">2008-07-31T00:18:22Z</dcterms:modified>
  <cp:revision>1</cp:revision>
  <dc:subject/>
  <dc:title>Slide 1</dc:title>
</cp:coreProperties>
</file>