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B9D-86DB-4759-819D-7638F75A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CFD-27CB-4706-B693-85CDDF3D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5EC-E3F3-4A53-A5DE-DD11BFD5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DC9-0362-4B82-BACE-2D52C017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BF3-3168-4C14-BB14-47F1CD42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F30-E009-4934-B24A-92C0A397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1A7-A9F3-4667-9B1A-339983E9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4BE-639E-4B21-A46A-06C42EAD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CAD-16C8-4F0C-9491-1C08298D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C95-4AA9-40F3-94C4-352D2213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CB4-025C-4267-B2C6-BE2B44F9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941-9A54-4180-96FF-BEB5DD65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13A3-1098-4E17-B3ED-BE47C3EF881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, assim diz o SENHOR que te criou, ó Jacó, e que te formou, ó Israel: Não temas, porque eu te remi; chamei-te pelo teu nome, tu és 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sois as minhas testemunhas, diz o SENHOR, e meu servo, a quem escolhi; para que o saibais, e me creiais, e entendais que eu sou o mesmo, e que antes de mim deus nenhum se formou, e depois de mim nenhum ha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eu sou o SENHOR, e fora de mim não há Salv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anunciei, e eu salvei, e eu o fiz ouvir, e deus estranho não houve entre vós, pois vós sois as minhas testemunhas, diz o SENHOR; eu so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antes que houvesse dia, eu sou; e ninguém há que possa fazer escapar das minhas mãos; agindo eu, quem o impedi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vosso Redentor, o Santo de Israel: Por amor de vós enviei a Babilônia, e a todos fiz descer como fugitivos, os caldeus, nos navios com que se vanglori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SENHOR, vosso Santo, o Criador de Israel, voss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, o que preparou no mar um caminho, e nas águas impetuosas uma vere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ez sair o carro e o cavalo, o exército e a força; eles juntamente se deitaram, e nunca se levantarão; estão extintos; como um pavio se apag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lembreis das coisas passadas, nem considereis as anti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faço uma coisa nova, agora sairá à luz; porventura não a percebeis? Eis que porei um caminho no deserto, e rios no er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passares pelas águas estarei contigo, e quando pelos rios, eles não te submergirão; quando passares pelo fogo, não te queimarás, nem a chama arderá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nimais do campo me honrarão, os chacais, e os avestruzes; porque porei águas no deserto, e rios no ermo, para dar de beber ao meu povo, ao meu el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se povo que formei para mim; o meu louvor rela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tu não me invocaste a mim, ó Jacó, mas te cansaste de mim, ó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trouxeste o gado miúdo dos teus holocaustos, nem me honraste com os teus sacrifícios; não te fiz servir com ofertas, nem te fatiguei com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compraste por dinheiro cana aromática, nem com a gordura dos teus sacrifícios me satisfizeste, mas me deste trabalho com os teus pecados, e me cansaste com as tuas iniqü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eu mesmo, sou o que apago as tuas transgressões por amor de mim, e dos teus pecados não me lem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me lembrar; entremos juntos em juízo; conta tu as tuas razões, para que te possas justifi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u primeiro pai pecou, e os teus intérpretes prevaricar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profanei os príncipes do santuário; e entreguei Jacó ao anátema, e Israel ao oprób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sou o SENHOR teu Deus, o Santo de Israel, o teu Salvador; dei o Egito por teu resgate, a Etiópia e a Seba em t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foste precioso aos meus olhos, também foste honrado, e eu te amei, assim dei os homens por ti, e os povos pela t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s, pois, porque estou contigo; trarei a tua descendência desde o oriente, e te ajuntarei desde o oci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rei ao norte: Dá; e ao sul: Não retenhas; trazei meus filhos de longe e minhas filhas das extremidad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odos os que são chamados pelo meu nome e os que criei para a minha glória, os formei, e também os f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zei o povo cego, que tem olhos; e os surdos, que têm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nações se congreguem, e os povos se reúnam; quem dentre eles pode anunciar isto, e fazer-nos ouvir as coisas antigas? Apresentem as suas testemunhas, para que se justifiquem, e se ouça, e se diga: Verdade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18Z</dcterms:created>
  <dc:creator>Admin</dc:creator>
  <dc:description/>
  <dc:language>en-US</dc:language>
  <cp:lastModifiedBy>Admin</cp:lastModifiedBy>
  <dcterms:modified xsi:type="dcterms:W3CDTF">2008-07-30T23:56:18Z</dcterms:modified>
  <cp:revision>1</cp:revision>
  <dc:subject/>
  <dc:title>Slide 1</dc:title>
</cp:coreProperties>
</file>