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AA-0702-4223-9F73-3E86B2CD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5FA-96CF-4D10-B226-E98C7EFB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344-34C5-4B9C-95A4-DA1E756D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44C-DD48-44BB-94AC-95B1520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477-95A3-4A93-B586-3B47869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357-0B80-47A6-8B21-9F563456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B24-5A9C-4AC0-94CF-7E60157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395-97A4-4C36-BD76-F10C0CB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CE8-AD57-489B-BFD2-192F24B0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CA8-7BAD-4C38-BCFF-1B73C46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CBF-D5F1-4688-9AA4-27CA7A9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EF9-6559-4042-9194-C6B2C8C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0772-A498-4A61-BE20-EC3929C4AD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profetiza ainda contra Gogue, e dize: Assim diz o Senhor DEUS: Eis que eu sou contra ti, ó Gogue, príncipe e chefe de Meseque e de Tub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rarão lenha do campo, nem a cortarão dos bosques, mas com as armas acenderão fogo; e roubarão aos que os roubaram, e despojarão aos que os despojaram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que, naquele dia, darei ali a Gogue um lugar de sepultura em Israel, o vale dos que passam ao oriente do mar; e pararão os que por ele passarem; e ali sepultarão a Gogue, e a toda a sua multidão, e lhe chamarão o vale da multidão de Go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de Israel os enterrará durante sete meses, para purifica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todo o povo da terra os enterrará, e será para eles memorável dia em que eu for glorificad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ararão homens que incessantemente percorrerão a terra, para que eles, juntamente com os que passam, sepultem os que tiverem ficado sobre a face da terra, para a purificarem; durante sete meses farão esta bus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percorrerem a terra, a qual atravessarão, vendo algum osso de homem, porão ao lado um sinal; até que os enterradores o tenham enterrado no vale da multidão de Go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nome da cidade será Hamona; assim purificarão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assim diz o Senhor DEUS, dize às aves de toda espécie, e a todos os animais do campo: Ajuntai-vos e vinde, congregai-vos de toda parte para o meu sacrifício, que eu ofereci por vós, um sacrifício grande, nos monte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reis a carne dos poderosos e bebereis o sangue dos príncipes da terra; dos carneiros, dos cordeiros, e dos bodes, e dos bezerros, todos cevados de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eis a gordura até vos fartardes e bebereis o sangue até vos embebedardes, do meu sacrifício que ofereci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arei voltar, mas deixarei uma sexta parte de ti, e far-te-ei subir do extremo norte, e te trarei aos mont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à minha mesa, fartar-vos-ei de cavalos, de carros, de poderosos, e de todos os homens de guerr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porei a minha glória entre os gentios e todos os gentios verão o meu juízo, que eu tiver executado, e a minha mão, que sobre elas tiver descarr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ão os da casa de Israel que eu sou o SENHOR seu Deus, desde aquele dia em di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entios saberão que os da casa de Israel, por causa da sua iniqüidade, foram levados em cativeiro, porque se rebelaram contra mim, e eu escondi deles a minha face, e os entreguei nas mãos de seus adversários, e todos caíram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sua imundícia e conforme as suas transgressões me houve com eles, e escondi deles a minh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Agora tornarei a trazer os cativos de Jacó, e me compadecerei de toda a casa de Israel; zelarei pelo meu sant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ão sobre si a sua vergonha, e toda a sua rebeldia, com que se rebelaram contra mim, quando eles habitarem seguros na sua terra, sem haver quem os esp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os tornar a trazer de entre os povos, e os houver ajuntado das terras de seus inimigos, e eu for santificado neles aos olhos de muitas n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berão que eu sou o SENHOR seu Deus, vendo que eu os fiz ir em cativeiro entre os gentios, e os ajuntarei para voltarem a sua terra, e não mais deixarei lá nenhu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lhes esconderei mais a minha face, pois derramarei o meu Espírito sobre a casa de Israel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 um golpe, tirarei o teu arco da tua mão esquerda, e farei cair as tuas flechas da tua mão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montes de Israel cairás, tu e todas as tuas tropas, e os povos que estão contigo; e às aves de rapina, de toda espécie, e aos animais do campo, te darei por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 face do campo cairás, porque eu o fale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ei um fogo sobre Magogue e entre os que habitam seguros nas ilhas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onhecido o meu santo nome no meio do meu povo Israel, e nunca mais deixarei profanar o meu santo nome; e os gentios saberão que eu sou o SENHOR, o Sant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m, e se cumprirá, diz o Senhor DEUS; este é o dia de que tenho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abitantes das cidades de Israel sairão, e acenderão o fogo, e queimarão as armas, e os escudos e as rodelas, com os arcos, e com as flechas, e com os bastões de mão, e com as lanças; e acenderão fogo com elas por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56Z</dcterms:created>
  <dc:creator>Admin</dc:creator>
  <dc:description/>
  <dc:language>en-US</dc:language>
  <cp:lastModifiedBy>Admin</cp:lastModifiedBy>
  <dcterms:modified xsi:type="dcterms:W3CDTF">2008-07-30T23:35:56Z</dcterms:modified>
  <cp:revision>1</cp:revision>
  <dc:subject/>
  <dc:title>Slide 1</dc:title>
</cp:coreProperties>
</file>