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CAB-A443-4907-B689-EC4812C3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25B-08EF-4167-8F21-B719ADE1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76C-FDFD-4B8F-BAF6-111FC840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CF8-DEF1-4D8B-A4B8-15C272EF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D5C-39C8-4646-A11F-C0660A9C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C20-0C44-4C27-B488-8FFA6CE0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4B3-9E39-4FB8-B1B5-CC77FC8D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21E-0B6C-4F4C-86FD-8F694782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B34-A91F-4819-9202-5C9F8BE0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014-F76D-42F1-A07C-93D6A5CF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ABD-50A9-44BB-8590-378AAC92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16E-4C6E-40DC-A8B6-6DBBF529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DB9D-5901-4C33-8289-A956A9D78E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NDO, pois, Festo na província, subiu dali a três dias de Cesaréia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ulo disse: Estou perante o tribunal de César, onde convém que seja julgado; não fiz agravo algum aos judeus, como tu muito bem sab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iz algum agravo, ou cometi alguma coisa digna de morte, não recuso morrer; mas, se nada há das coisas de que estes me acusam, ninguém me pode entregar a eles; apelo para Cé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esto, tendo falado com o conselho, respondeu: Apelaste para César? para César 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dos alguns dias, o rei Agripa e Berenice vieram a Cesaréia, a saudar Fe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ali ficassem muitos dias, Festo contou ao rei os negócios de Paulo, dizendo: Um certo homem foi deixado por Félix aqui pres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ujo respeito os principais dos sacerdotes e os anciãos dos judeus, estando eu em Jerusalém, compareceram perante mim, pedindo sentença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quais respondi não ser costume dos romanos entregar algum homem à morte, sem que o acusado tenha presentes os seus acusadores, e possa defender-se da acus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, chegando eles aqui juntos, no dia seguinte, sem fazer dilação alguma, assentado no tribunal, mandei que trouxessem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rca do qual, estando presentes os acusadores, nenhuma coisa apontaram daquelas que eu suspei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m, porém, contra ele algumas questões acerca da sua superstição, e de um tal Jesus, morto, que Paulo afirmava vi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umo sacerdote e os principais dos judeus compareceram perante ele contra Paulo, e lhe rogar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u perplexo acerca da inquirição desta causa, disse se queria ir a Jerusalém, e lá ser julgado acerca d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elando Paulo para que fosse reservado ao conhecimento de Augusto, mandei que o guardassem até que o envie a Cé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gripa disse a Festo: Bem quisera eu também ouvir esse homem. E ele disse: Amanhã o ouv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dia seguinte, vindo Agripa e Berenice, com muito aparato, entraram no auditório com os tribunos e homens principais da cidade, sendo trazido Paulo por mandado de Fe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sto disse: Rei Agripa, e todos os senhores que estais presentes conosco; aqui vedes um homem de quem toda a multidão dos judeus me tem falado, tanto em Jerusalém como aqui, clamando que não convém que viva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achando eu que nenhuma coisa digna de morte fizera, e apelando ele mesmo também para Augusto, tenho determinado enviar-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qual não tenho coisa alguma certa que escreva ao meu senhor, e por isso perante vós o trouxe, principalmente perante ti, ó rei Agripa, para que, depois de interrogado, tenha alguma coisa que escre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 parece contra a razão enviar um preso, e não notificar contra ele as acus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indo como favor contra ele que o fizesse vir a Jerusalém, armando ciladas para o matarem n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Festo respondeu que Paulo estava guardado em Cesaréia, e que ele brevemente partiria para 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, pois, disse, dentre vós, têm poder, desçam comigo e, se neste homem houver algum crime, acusem-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se demorado entre eles mais de dez dias, desceu a Cesaréia; e no dia seguinte, assentando-se no tribunal, mandou que trouxessem P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ele, rodearam-no os judeus que haviam descido de Jerusalém, trazendo contra Paulo muitas e graves acusações, que não podiam prov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em sua defesa, disse: Eu não pequei em coisa alguma contra a lei dos judeus, nem contra o templo, nem contra Cé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Festo, querendo comprazer aos judeus, respondendo a Paulo, disse: Queres tu subir a Jerusalém, e ser lá perante mim julgado acerca destas cois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22Z</dcterms:created>
  <dc:creator>Admin</dc:creator>
  <dc:description/>
  <dc:language>en-US</dc:language>
  <cp:lastModifiedBy>Admin</cp:lastModifiedBy>
  <dcterms:modified xsi:type="dcterms:W3CDTF">2008-07-30T23:25:22Z</dcterms:modified>
  <cp:revision>1</cp:revision>
  <dc:subject/>
  <dc:title>Slide 1</dc:title>
</cp:coreProperties>
</file>