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90F5-CA65-4D01-B579-D4F5AF40A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389B-117D-48D5-B2B0-390178C5D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3294-5533-46D1-9D61-54BF72CCA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3479-F347-44DC-8B39-E5D64EAD2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4078-61E8-4ABA-A933-B17A79BA7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C22E-C2F1-4B97-A3EB-7C027CF21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8F6A-5C9D-4D42-B4E4-6985F632A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8C0E-5D05-4529-A902-DFFCE0A03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22F3-6E36-4851-BDA1-11FF81F8C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699A-EE11-4A29-86E2-100B1931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472A-1E0C-4B2A-B1D1-9DDCE160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999C-4B2A-4849-B808-68831D74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74D33-4BA7-49D0-B566-F645F7DFC41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Israel tornaram a fazer o que era mau aos olhos do SENHOR, e o SENHOR os entregou na mão dos filisteus por quarenta a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pressou-se, pois, a mulher, e correu, e noticiou-o a seu marido, e disse-lhe: Eis que aquele homem que veio a mim o outro dia me aparec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Manoá levantou-se, e seguiu a sua mulher, e foi àquele homem, e disse-lhe: És tu aquele homem que falou a esta mulher? E disse: Eu s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Manoá: Cumpram-se as tuas palavras; mas qual será o modo de viver e o serviço do menin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o anjo do SENHOR a Manoá: De tudo quanto eu disse à mulher guardará 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tudo quanto procede da videira não comerá, nem vinho nem bebida forte beberá, nem coisa imunda comerá; tudo quanto lhe tenho ordenado guard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Manoá disse ao anjo do SENHOR: Ora deixa que te detenhamos, e te preparemos um cabr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o anjo do SENHOR disse a Manoá: Ainda que me detenhas, não comerei de teu pão; e se fizeres holocausto o oferecerás ao SENHOR. Porque não sabia Manoá que era o anjo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3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Manoá ao anjo do SENHOR: Qual é o teu nome, para que, quando se cumprir a tua palavra, te honrem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3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anjo do SENHOR lhe disse: Por que perguntas assim pelo meu nome, visto que é maravilhos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3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Manoá tomou um cabrito e uma oferta de alimentos, e os ofereceu sobre uma penha ao SENHOR: e houve-se o anjo maravilhosamente, observando-o Manoá e sua mulh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avia um homem de Zorá, da tribo de Dã, cujo nome era Manoá; e sua mulher, sendo estéril, não tinha fi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3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subindo a chama do altar para o céu, o anjo do SENHOR subiu na chama do altar; o que vendo Manoá e sua mulher, caíram em terra sobre seus ros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3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unca mais apareceu o anjo do SENHOR a Manoá, nem a sua mulher; então compreendeu Manoá que era o anjo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3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Manoá à sua mulher: Certamente morreremos, porquanto temos visto a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3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sua mulher lhe disse: Se o SENHOR nos quisesse matar, não aceitaria da nossa mão o holocausto e a oferta de alimentos, nem nos mostraria tudo isto, nem nos deixaria ouvir tais coisas neste temp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3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teve esta mulher um filho, a quem pôs o nome de Sansão; e o menino cresceu, e o SENHOR o abenço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3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Espírito do SENHOR começou a incitá-lo de quando em quando para o campo de Maané-Dã, entre Zorá e Estao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anjo do SENHOR apareceu a esta mulher, e disse-lhe: Eis que agora és estéril, e nunca tens concebido; porém conceberás, e terás um fi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guarda-te de beber vinho, ou bebida forte, ou comer coisa imun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is que tu conceberás e terás um filho sobre cuja cabeça não passará navalha; porquanto o menino será nazireu de Deus desde o ventre; e ele começará a livrar a Israel da mão dos filist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a mulher entrou, e falou a seu marido, dizendo: Um homem de Deus veio a mim, cuja aparência era semelhante de um anjo de Deus, terribilíssima; e não lhe perguntei donde era, nem ele me disse o seu no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disse-me: Eis que tu conceberás e terás um filho; agora pois, não bebas vinho, nem bebida forte, e não comas coisa imunda; porque o menino será nazireu de Deus, desde o ventre até ao dia da sua mo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Manoá orou ao SENHOR, e disse: Ah! Senhor meu, rogo-te que o homem de Deus, que enviaste, ainda venha para nós outra vez e nos ensine o que devemos fazer ao menino que há de nasc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us ouviu a voz de Manoá; e o anjo de Deus veio outra vez à mulher, e ela estava no campo, porém não estava com ela seu marido Mano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7:10Z</dcterms:created>
  <dc:creator>Admin</dc:creator>
  <dc:description/>
  <dc:language>en-US</dc:language>
  <cp:lastModifiedBy>Admin</cp:lastModifiedBy>
  <dcterms:modified xsi:type="dcterms:W3CDTF">2008-07-31T00:07:10Z</dcterms:modified>
  <cp:revision>1</cp:revision>
  <dc:subject/>
  <dc:title>Slide 1</dc:title>
</cp:coreProperties>
</file>