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6312-1928-4740-8882-8D73FE91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05EA-850D-4977-8498-E13D89BB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B698-2EBC-4D0D-95A6-1B217EBF4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B7F2-4ABB-4553-8B01-B266A7637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7BED-6A62-42AF-884D-8D5397DF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F17F-83B7-4DEF-B417-52C66E0C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6729-DA4E-44EE-9EA3-ADF38039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CDD3-4DA6-48F6-BC14-C21E115D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2FA8-8F01-40DA-983D-082212FC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E934-4BF5-414F-BD33-C07ED3F7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016F-E806-43A6-8265-E7B434F8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AF0E-8CFE-45D1-8E82-9ACFED27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5B91-2EA9-4DDB-94C6-C7F4D7CC32C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naqueles dias que, juntando os filisteus os seus exércitos à peleja, para fazer guerra contra Israel, disse Aquis a Davi: Sabe de certo que comigo sairás ao arraial, tu e os teu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ul lhe jurou pelo SENHOR, dizendo: Vive o SENHOR, que nenhum mal te sobrevirá por is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ulher então lhe disse: A quem te farei subir? E disse ele: Faze-me subir a Samu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, pois, a mulher a Samuel, gritou com alta voz, e falou a Saul, dizendo: Por que me tens enganado? Pois tu mesmo és Sau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lhe disse: Não temas; que é que vês? Então a mulher disse a Saul: Vejo deuses que sobem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he disse: Como é a sua figura? E disse ela: Vem subindo um homem ancião, e está envolto numa capa. Entendendo Saul que era Samuel, inclinou-se com o rosto em terra, e se prostr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muel disse a Saul: Por que me inquietaste, fazendo-me subir? Então disse Saul: Mui angustiado estou, porque os filisteus guerreiam contra mim, e Deus se tem desviado de mim, e não me responde mais, nem pelo ministério dos profetas, nem por sonhos; p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Samuel: Por que, pois, me perguntas a mim, visto que o SENHOR te tem desamparado, e se tem feito teu inimig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tem feito para contigo como pela minha boca te disse, e o SENHOR tem rasgado o reino da tua mão, e o tem dado ao teu próximo, a Da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tu não deste ouvidos à voz do SENHOR, e não executaste o fervor da sua ira contra Amaleque, por isso o SENHOR te fez hoje 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entregará também a Israel contigo na mão dos filisteus, e amanhã tu e teus filhos estareis comigo; e o arraial de Israel o SENHOR entregará na mão dos filist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Davi a Aquis: Assim saberás o que fará o teu servo. E disse Aquis a Davi: Por isso te terei por guarda da minha pessoa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mediatamente Saul caiu estendido por terra, e grandemente temeu por causa daquelas palavras de Samuel; e não houve força nele; porque não tinha comido pão todo aquele dia e toda aquela no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eio a mulher a Saul e, vendo que estava tão perturbado, disse-lhe: Eis que a tua criada deu ouvidos à tua voz, e pus a minha vida na minha mão, e ouvi as palavras que disse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ouve também tu as palavras da tua serva, e porei um bocado de pão diante de ti, e come, para que tenhas forças para te pores a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le o recusou, e disse: Não comerei. Porém os seus criados e a mulher o constrangeram; e deu ouvidos à sua voz; e levantou-se do chão, e se assentou sobre uma ca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nha a mulher em casa um bezerro cevado, e se apressou, e o matou, e tomou farinha, e a amassou, e a cozeu em bolos ázi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trouxe diante de Saul e de seus criados, e comeram; depois levantaram-se e partiram naquela mesma no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muel já estava morto, e todo o Israel o tinha chorado, e o tinha sepultado em Ramá, que era a sua cidade; e Saul tinha desterrado os adivinhos e os encantad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juntaram-se os filisteus, e vieram, e acamparam-se em Suném; e ajuntou Saul a todo o Israel, e se acamparam em Gilbo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endo Saul o arraial dos filisteus, temeu, e estremeceu muito o seu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rguntou Saul ao SENHOR, porém o SENHOR não lhe respondeu, nem por sonhos, nem por Urim, nem por profe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Saul aos seus criados: Buscai-me uma mulher que tenha o espírito de feiticeira, para que vá a ela, e consulte por ela. E os seus criados lhe disseram: Eis que em En-Dor há uma mulher que tem o espírito de adivinh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ul se disfarçou, e vestiu outras roupas, e foi ele com dois homens, e de noite chegaram à mulher; e disse: Peço-te que me adivinhes pelo espírito de feiticeira, e me faças subir a quem eu te diss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 mulher lhe disse: Eis aqui tu sabes o que Saul fez, como tem destruído da terra os adivinhos e os encantadores; por que, pois, me armas um laço à minha vida, para me fazeres morr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7:55Z</dcterms:created>
  <dc:creator>Admin</dc:creator>
  <dc:description/>
  <dc:language>en-US</dc:language>
  <cp:lastModifiedBy>Admin</cp:lastModifiedBy>
  <dcterms:modified xsi:type="dcterms:W3CDTF">2008-07-30T23:47:55Z</dcterms:modified>
  <cp:revision>1</cp:revision>
  <dc:subject/>
  <dc:title>Slide 1</dc:title>
</cp:coreProperties>
</file>