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07B-E703-49D5-AA5D-2AA78EC0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9DE-6C91-42DA-ABD0-256DB909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DEA-45C8-420F-B0B0-80A7B615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AB5-B976-485C-AA81-A821C69F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DED-A1AE-4D9D-BB45-7421A1FC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87A-F4B2-4097-8BCD-C7DC4C7A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A76-4088-4166-B1D5-25FD44B7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3C5-B32D-4112-9E22-C2FCCDF2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9BA-5B5A-4A5B-9F4C-D419149B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984-EC11-4FA6-B623-900818CE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C1A-DCC8-40AF-B3DB-4DE9E0DE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47B-70E9-4BC8-9D45-B8BB246D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6466-C408-49DE-A8CD-F1B3CA3AA19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UMPRINDO-SE o dia de Pentecostes, estavam todos concordemente no mesmo lug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rígia e Panfília, Egito e partes da Líbia, junto a Cirene, e forasteiros romanos, tanto judeus como proséli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retenses e árabes, todos nós temos ouvido em nossas próprias línguas falar das grandeza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se maravilhavam e estavam suspensos, dizendo uns para os outros: Que quer isto diz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os, zombando, diziam: Estão cheios de m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dro, porém, pondo-se em pé com os onze, levantou a sua voz, e disse-lhes: Homens judeus, e todos os que habitais em Jerusalém, seja-vos isto notório, e escutai as minh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homens não estão embriagados, como vós pensais, sendo a terceira hora d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sto é o que foi dito pelo profeta Joel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últimos dias acontecerá, diz Deus, Que do meu Espírito derramarei sobre toda a carne; E os vossos filhos e as vossas filhas profetizarão, Os vossos jovens terão visões, E os vossos velhos terão son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do meu Espírito derramarei sobre os meus servos e as minhas servas naqueles dias, e profetizar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aparecer prodígios em cima, no céu; E sinais em baixo na terra, Sangue, fogo e vapor de fu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repente veio do céu um som, como de um vento veemente e impetuoso, e encheu toda a casa em que estavam assen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ol se converterá em trevas, E a lua em sangue, Antes de chegar o grande e glorioso dia d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 todo aquele que invocar o nome do Senhor será sal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mens israelitas, escutai estas palavras: A Jesus Nazareno, homem aprovado por Deus entre vós com maravilhas, prodígios e sinais, que Deus por ele fez no meio de vós, como vós mesmos bem sab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te que vos foi entregue pelo determinado conselho e presciência de Deus, prendestes, crucificastes e matastes pelas mãos de injus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al Deus ressuscitou, soltas as ânsias da morte, pois não era possível que fosse retido por el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le disse Davi: Sempre via diante de mim o Senhor, Porque está à minha direita, para que eu não seja comovi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e alegrou o meu coração, e a minha língua exultou; E ainda a minha carne há de repousar em esperan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ão deixarás a minha alma no inferno, Nem permitirás que o teu Santo veja a corrup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ste-me conhecer os caminhos da vida; encher-me-ás de alegria na tua presenç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mens irmãos, seja-me lícito dizer-vos livremente acerca do patriarca Davi, que ele morreu e foi sepultado, e entre nós está até hoje a sua sep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vistas por eles línguas repartidas, como que de fogo, as quais pousaram sobre cada um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, pois, ele profeta, e sabendo que Deus lhe havia prometido com juramento que do fruto de seus lombos, segundo a carne, levantaria o Cristo, para o assentar sobre o seu tron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sta previsão, disse da ressurreição de Cristo, que a sua alma não foi deixada no inferno, nem a sua carne viu a corrup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ressuscitou a este Jesus, do que todos nós somos testemu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, exaltado pela destra de Deus, e tendo recebido do Pai a promessa do Espírito Santo, derramou isto que vós agora vedes e ouv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avi não subiu aos céus, mas ele próprio diz: Disse o SENHOR ao meu Senhor: Assenta-te à minha direi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ponha os teus inimigos por escabelo de t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ba, pois, com certeza toda a casa de Israel que a esse Jesus, a quem vós crucificastes, Deus o fez Senhor 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eles isto, compungiram-se em seu coração, e perguntaram a Pedro e aos demais apóstolos: Que faremos, homens irmã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Pedro: Arrependei-vos, e cada um de vós seja batizado em nome de Jesus Cristo, para perdão dos pecados; e recebereis o dom do Espírito Sa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promessa vos diz respeito a vós, a vossos filhos, e a todos os que estão longe, a tantos quantos Deus nosso Senhor cha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foram cheios do Espírito Santo, e começaram a falar noutras línguas, conforme o Espírito Santo lhes concedia que fala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muitas outras palavras isto testificava, e os exortava, dizendo: Salvai-vos desta geração perver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foram batizados os que de bom grado receberam a sua palavra; e naquele dia agregaram-se quase três mil alm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severavam na doutrina dos apóstolos, e na comunhão, e no partir do pão, e nas 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oda a alma havia temor, e muitas maravilhas e sinais se faziam pelos após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que criam estavam juntos, e tinham tudo em com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iam suas propriedades e bens, e repartiam com todos, segundo cada um havia de mist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erseverando unânimes todos os dias no templo, e partindo o pão em casa, comiam juntos com alegria e singeleza de cor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ndo a Deus, e caindo na graça de todo o povo. E todos os dias acrescentava o Senhor à igreja aqueles que se haviam de salv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Jerusalém estavam habitando judeus, homens religiosos, de todas as nações que estão debaixo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quele som ocorreu, ajuntou-se uma multidão, e estava confusa, porque cada um os ouvia falar na sua própria lín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pasmavam e se maravilhavam, dizendo uns aos outros: Pois quê! não são galileus todos esses homens que estão falan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, pois, os ouvimos, cada um, na nossa própria língua em que somos nasci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os e medos, elamitas e os que habitam na Mesopotâmia, Judéia, Capadócia, Ponto e Ás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3:12Z</dcterms:created>
  <dc:creator>Admin</dc:creator>
  <dc:description/>
  <dc:language>en-US</dc:language>
  <cp:lastModifiedBy>Admin</cp:lastModifiedBy>
  <dcterms:modified xsi:type="dcterms:W3CDTF">2008-07-30T23:23:12Z</dcterms:modified>
  <cp:revision>1</cp:revision>
  <dc:subject/>
  <dc:title>Slide 1</dc:title>
</cp:coreProperties>
</file>