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07A-E940-4BB6-B20F-0E57EF65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B57-5190-45D3-90F9-D567B30B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3B4-3E53-41B2-AA20-88282CE6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135-DDBE-43FB-ABC6-904A48F4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286-5C3F-4E20-946F-77E67ECF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584-A401-47C5-9416-9B1B9DE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844-F6B5-40EB-91FF-E1893C67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1FF-AA6F-4E08-B471-1F9D9DFE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29E-F071-41C6-8EB4-C2BCD6D4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0BC-96DD-4016-81BB-41AE7350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E0D-82C3-4B0F-9431-B8E1006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0B1-780C-4AAF-A475-0D6B7BA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53B3-07FD-47E5-9049-B9F5015F98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homens de Efraim lhes disseram: Que é isto que nos fizeste, que não nos chamaste, quando foste pelejar contra os midianitas? E contenderam com ele for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m, pois, Zeba e Salmuna em Carcor, e os seus exércitos com eles, uns quinze mil homens, todos os que restaram do exército dos filhos do oriente; e os que caíram foram cento e vinte mil homens, que puxavam d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Gideão pelo caminho dos que habitavam em tendas, para o oriente de Nobá e Jogbeá; e feriu aquele exército, porquanto o exército estava descui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giram Zeba e Salmuna; porém ele os perseguiu, e tomou presos a ambos os reis dos midianitas, a Zeba e a Salmuna, e afugentou a todo o exérc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ndo, pois, Gideão, filho de Joás, da peleja, antes do nascer do so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 preso a um moço dos homens de Sucote, e lhe fez perguntas; o qual lhe deu por escrito os nomes dos príncipes de Sucote, e dos seus anciãos, setenta e set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os homens de Sucote, e disse: Vede aqui a Zeba e a Salmuna, a respeito dos quais desprezivelmente me escarnecestes, dizendo: Estão já, Zeba e Salmuna, na tua mão, para que demos pão aos teus homens, já cansa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os anciãos daquela cidade, e os espinhos do deserto, e os abrolhos; e com eles ensinou aos homens de Suc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rubou a torre de Penuel, e matou os homens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erguntou a Zeba e a Salmuna: Que homens eram os que matastes em Tabor? E disseram: Como és tu, assim eram eles; cada um parecia filho de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Meus irmãos eram, filhos de minha mãe; vive o SENHOR, que, se os tivésseis deixado com vida, eu não vos mat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lhes disse: Que mais fiz eu agora do que vós? Não são porventura os rabiscos de Efraim melhores do que a vindima de Abiez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Jeter, seu primogênito: Levanta-te, mata-os. Porém o moço não puxou da sua espada, porque temia; porquanto ainda era jo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Zeba e Salmuna: Levanta-te, e acomete-nos; porque, qual o homem, tal a sua valentia. Levantou-se, pois, Gideão, e matou a Zeba e a Salmuna, e tomou os ornamentos que estavam nos pescoços dos seus cam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homens de Israel disseram a Gideão: Domina sobre nós, tanto tu, como teu filho e o filho de teu filho; porquanto nos livraste da mão dos midi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Gideão lhes disse: Sobre vós eu não dominarei, nem tampouco meu filho sobre vós dominará; o SENHOR sobre vós domin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mais Gideão: Uma petição vos farei: Dá-me, cada um de vós, os pendentes do seu despojo (porque tinham pendentes de ouro, porquanto eram ismaelitas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eles: De boa vontade os daremos. E estenderam uma capa, e cada um deles deitou ali um pendente do seu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peso dos pendentes de ouro, que pediu, mil e setecentos siclos de ouro, afora os ornamentos, e as cadeias, e as vestes de púrpura que traziam os reis dos midianitas, e afora as coleiras que os camelos traziam ao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Gideão dele um éfode, e colocou-o na sua cidade, em Ofra; e todo o Israel prostituiu-se ali após ele; e foi por tropeço a Gideão e à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ram abatidos os midianitas diante dos filhos de Israel, e nunca mais levantaram a sua cabeça; e sossegou a terra quarenta anos nos dias de Gid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Jerubaal, filho de Joás, e habitou em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vos deu na vossa mão os príncipes dos midianitas, Orebe e Zeebe; que mais pude eu fazer do que vós? Então a sua ira se abrandou para com ele, quando falou est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Gideão setenta filhos, que procederam dele, porque tinha muitas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a concubina, que estava em Siquém, lhe deu à luz também um filho; e pôs-lhe por nome Abimel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eceu Gideão, filho de Joás, numa boa velhice; e foi sepultado no sepulcro de seu pai Joás, em Ofra dos abiezr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omo Gideão faleceu, os filhos de Israel tornaram a se prostituir após os baalins; e puseram a Baal-Berite p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os filhos de Israel não se lembraram do SENHOR seu Deus, que os livrara da mão de todos os seus inimigo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usaram de beneficência com a casa de Jerubaal, a saber, de Gideão, conforme a todo o bem que ele havia feito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Gideão veio ao Jordão, passou com os trezentos homens que com ele estavam, já cansados, mas ainda persegui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homens de Sucote: Dai, peço-vos, alguns pedaços de pão ao povo, que segue as minhas pisadas; porque estão cansados, e eu vou ao encalço de Zeba e Salmuna, reis dos midi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príncipes de Sucote disseram: Estão já, Zeba e Salmuna, em tua mão, para que demos pão ao teu exérc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Gideão: Pois quando o SENHOR der na minha mão a Zeba e a Salmuna, trilharei a vossa carne com os espinhos do deserto, e com os abr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subiu a Penuel, e falou-lhes da mesma maneira; e os homens de Penuel lhe responderam como os homens de Sucote lhe haviam respo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falou aos homens de Penuel, dizendo: Quando eu voltar em paz, derribarei esta tor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49Z</dcterms:created>
  <dc:creator>Admin</dc:creator>
  <dc:description/>
  <dc:language>en-US</dc:language>
  <cp:lastModifiedBy>Admin</cp:lastModifiedBy>
  <dcterms:modified xsi:type="dcterms:W3CDTF">2008-07-31T00:06:49Z</dcterms:modified>
  <cp:revision>1</cp:revision>
  <dc:subject/>
  <dc:title>Slide 1</dc:title>
</cp:coreProperties>
</file>