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A92-6285-4999-B132-4D2D1F0D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492-47A2-4DFF-888A-ACEB86F8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B3C-F79B-496A-84D7-324C3F86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3A0-2C80-460B-9B69-F17074D5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B18-1AC4-411F-9CA2-05B18C82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FB4-B970-4F21-AA10-C241ECE0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FA2-59AA-4E38-87B7-9ACB2629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D437-642B-4B00-991B-809B03DB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A94-5FCE-4D3F-8CFC-2B9EF66F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695-BDD3-422F-8B1E-A66E1F12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F99-22CD-43EE-9038-AE5F9F9B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B57-AA53-412F-87AD-C304E5C4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B69C-EF04-4969-AEDE-17A6F371922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NTO dos rios de Babilônia, ali nos assentamos e choramos, quando nos lembramos de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os salgueiros que há no meio dela, penduramos as nossas harp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lá aqueles que nos levaram cativos nos pediam uma canção; e os que nos destruíram, que os alegrássemos, dizendo: Cantai-nos uma das canções de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cantaremos a canção do SENHOR em terra estranh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me esquecer de ti, ó Jerusalém, esqueça-se a minha direita da sua destr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me não lembrar de ti, apegue-se-me a língua ao meu paladar; se não preferir Jerusalém à minha maior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, SENHOR, dos filhos de Edom no dia de Jerusalém, que diziam: Descobri-a, descobri-a até aos seus alicerc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! filha de Babilônia, que vais ser assolada; feliz aquele que te retribuir o pago que tu nos pagaste a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liz aquele que pegar em teus filhos e der com eles nas ped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34Z</dcterms:created>
  <dc:creator>Admin</dc:creator>
  <dc:description/>
  <dc:language>en-US</dc:language>
  <cp:lastModifiedBy>Admin</cp:lastModifiedBy>
  <dcterms:modified xsi:type="dcterms:W3CDTF">2008-07-31T00:28:34Z</dcterms:modified>
  <cp:revision>1</cp:revision>
  <dc:subject/>
  <dc:title>Slide 1</dc:title>
</cp:coreProperties>
</file>