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959-1A5E-4D1D-A68D-C6854ED7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AE5-C1EF-4B59-8689-2CFFC827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5CF-73DA-42DE-8E2F-31C9654E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7A01-A1F2-47D1-9D92-EE433887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E80-811D-4465-BE33-57F437CE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3EA-28BE-4198-84CC-A3A44862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FD5-5DAE-489C-87DD-0108157A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F6D-77C3-44CA-93BF-2FFCC76D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706-9AA3-4DF7-AD36-7EF2721C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3D3-B3F5-40AB-A70E-2182CEA2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01B-EC94-482E-96AD-56122F84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28C-7621-433D-8BB1-F2E168DA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43D0-5C22-42C2-AC4D-D3D7F101638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e Melquisedeque, que era rei de Salém, sacerdote do Deus Altíssimo, e que saiu ao encontro de Abraão quando ele regressava da matança dos reis, e o abençoo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inda ele estava nos lombos de seu pai quando Melquisedeque lhe saiu ao enco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, se a perfeição fosse pelo sacerdócio levítico (porque sob ele o povo recebeu a lei), que necessidade havia logo de que outro sacerdote se levantasse, segundo a ordem de Melquisedeque, e não fosse chamado segundo a ordem de Ar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mudando-se o sacerdócio, necessariamente se faz também mudança d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quele de quem estas coisas se dizem pertence a outra tribo, da qual ninguém serviu ao alt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ser manifesto que nosso Senhor procedeu de Judá, e concernente a essa tribo nunca Moisés falou de sacerd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ito mais manifesto é ainda, se à semelhança de Melquisedeque se levantar outro sacerdo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não foi feito segundo a lei do mandamento carnal, mas segundo a virtude da vida incorruptí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le assim se testifica: Tu és sacerdote eternamente, Segundo a ordem de Melquisede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precedente mandamento é ab-rogado por causa da sua fraqueza e inutilida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ois a lei nenhuma coisa aperfeiçoou) e desta sorte é introduzida uma melhor esperança, pela qual chegamos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em também Abraão deu o dízimo de tudo, e primeiramente é, por interpretação, rei de justiça, e depois também rei de Salém, que é rei de paz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sto como não é sem prestar juramento (porque certamente aqueles, sem juramento, foram feitos sacerdot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ste com juramento por aquele que lhe disse: Jurou o Senhor, e não se arrependerá; Tu és sacerdote eternamente, Segundo a ordem de Melquisedeque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anto melhor aliança Jesus foi feito fi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a verdade, aqueles foram feitos sacerdotes em grande número, porque pela morte foram impedidos de permanec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ste, porque permanece eternamente, tem um sacerdócio perpétu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pode também salvar perfeitamente os que por ele se chegam a Deus, vivendo sempre para interceder por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os convinha tal sumo sacerdote, santo, inocente, imaculado, separado dos pecadores, e feito mais sublime do que os cé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não necessitasse, como os sumos sacerdotes, de oferecer cada dia sacrifícios, primeiramente por seus próprios pecados, e depois pelos do povo; porque isto fez ele, uma vez, oferecendo-se a si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lei constitui sumos sacerdotes a homens fracos, mas a palavra do juramento, que veio depois da lei, constitui ao Filho, perfeito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 pai, sem mãe, sem genealogia, não tendo princípio de dias nem fim de vida, mas sendo feito semelhante ao Filho de Deus, permanece sacerdote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iderai, pois, quão grande era este, a quem até o patriarca Abraão deu os dízimos dos despoj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dentre os filhos de Levi recebem o sacerdócio têm ordem, segundo a lei, de tomar o dízimo do povo, isto é, de seus irmãos, ainda que tenham saído dos lombos de Abra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quele, cuja genealogia não é contada entre eles, tomou dízimos de Abraão, e abençoou o que tinha as promes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sem contradição alguma, o menor é abençoado pelo mai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i certamente tomam dízimos homens que morrem; ali, porém, aquele de quem se testifica que vi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r assim dizer, por meio de Abraão, até Levi, que recebe dízimos, pagou dízi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0:46Z</dcterms:created>
  <dc:creator>Admin</dc:creator>
  <dc:description/>
  <dc:language>en-US</dc:language>
  <cp:lastModifiedBy>Admin</cp:lastModifiedBy>
  <dcterms:modified xsi:type="dcterms:W3CDTF">2008-07-30T23:40:46Z</dcterms:modified>
  <cp:revision>1</cp:revision>
  <dc:subject/>
  <dc:title>Slide 1</dc:title>
</cp:coreProperties>
</file>