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61E-3C14-4C7A-80F8-09C38BFA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875-FF57-481E-944D-7FADD34C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56B-316A-450F-9E28-09A2AB78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19D-9241-4FB9-B8AF-E32AF233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6A2-BE6C-48D6-BC90-BA56240F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478-62C8-400C-808C-6F62EBDF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1EC-7DEC-4D07-B1DB-65CD6EF3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32B-8CE7-4275-BBF4-39F4B7A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57F-0A39-4BB9-950A-55B34684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606-E73F-427F-B150-4352B79E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CF7-C2B6-462E-810A-0225E45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11C-CC9E-4ED6-87C4-2B87116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8BA6-472E-4621-B54A-FAC5C61206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AS dormiu com seus pais, e o sepultaram na cidade de Davi, e Asa, seu filho, reinou em seu lugar; nos seus dias esteve a terra em paz dez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a saiu contra ele; e ordenaram a batalha no vale de Zefatá, junto a Ma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clamou ao SENHOR seu Deus, e disse: SENHOR, nada para ti é ajudar, quer o poderoso quer o de nenhuma força; ajuda-nos, pois, SENHOR nosso Deus, porque em ti confiamos, e no teu nome viemos contra esta multidão. SENHOR, tu és nosso Deus, não prev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eriu os etíopes diante de Asa e diante de Judá; e os etíopes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, e o povo que estava com ele os perseguiram até Gerar, e caíram tantos dos etíopes, que já não havia neles resistência alguma; porque foram destruídos diante do SENHOR, e diante do seu exército; e levaram dali mui gran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am todas as cidades nos arredores de Gerar, porque o terror do SENHOR veio sobre elas; e saquearam todas as cidades, porque havia nelas muita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riram as malhadas do gado; e levaram ovelhas em abundância, e camelos, e voltaram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fez o que era bom e reto aos olhos d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rou os altares dos deuses estranhos, e os altos; e quebrou as imagens, e cortou os bosq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a Judá que buscasse ao SENHOR Deus de seus pais, e que observasse a lei e o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irou de todas as cidades de Judá os altos e as imagens; e sob ele o reino esteve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cidades fortificadas em Judá; porque a terra estava quieta, e não havia guerra contra ele naqueles anos; porquanto o SENHOR lhe dera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a Judá: Edifiquemos estas cidades, e cerquemo-las de muros e torres, portas e ferrolhos, enquanto a terra ainda é nossa, pois buscamos ao SENHOR nosso Deus; buscamo-lo, e deu-nos repouso de todos os lados. Edificaram, pois, e prospe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Asa um exército de trezentos mil de Judá, que traziam pavês e lança; e duzentos e oitenta mil de Benjamim, que traziam escudo e atiravam com arco; todos estes eram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rá, o etíope, saiu contra eles, com um exército de um milhão e com trezentos carros, e chegou até Ma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39Z</dcterms:created>
  <dc:creator>Admin</dc:creator>
  <dc:description/>
  <dc:language>en-US</dc:language>
  <cp:lastModifiedBy>Admin</cp:lastModifiedBy>
  <dcterms:modified xsi:type="dcterms:W3CDTF">2008-07-30T23:49:39Z</dcterms:modified>
  <cp:revision>1</cp:revision>
  <dc:subject/>
  <dc:title>Slide 1</dc:title>
</cp:coreProperties>
</file>