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7EC9-D95B-419E-88FA-3A6351FF1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6E2F-7190-45BB-B723-6F158666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5D17-C6B2-4B6F-8FEC-877ECADB0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EEF1-6CA0-43D3-A383-991067515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25A0-5563-4243-B4D6-F9B1672D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0C8E-F269-4D25-80DB-E9BA416D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6352-7001-4F94-BF69-6A163038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A921-48E1-42B2-93D5-1BEED05A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9A8F-58D7-40C1-823D-E17781A8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B154-7631-4712-8576-7C72A27B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3845-AE21-4E9E-B215-44BC93F0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0EF7-9A19-4357-8001-CA9F8274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FF62-66C4-4B18-88D4-90D05812608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houver contenda entre alguns, e vierem a juízo, para que os julguem, ao justo justificarão, e ao injusto conden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u nome se chamará em Israel: A casa do descalç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pelejarem dois homens, um contra o outro, e a mulher de um chegar para livrar a seu marido da mão do que o fere, e ela estender a sua mão, e lhe pegar pelas suas vergonh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ortar-lhe-ás a mão; não a poupará o teu o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tua bolsa não terás pesos diversos, um grande e um peque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tua casa não terás dois tipos de efa, um grande e um peque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so inteiro e justo terás; efa inteiro e justo terás; para que se prolonguem os teus dias na terra que te dará o SENHOR t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bominação é ao SENHOR teu Deus todo aquele que faz isto, todo aquele que fizer in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mbra-te do que te fez Amaleque no caminho, quando saías do Egi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te saiu ao encontro no caminho, e feriu na tua retaguarda todos os fracos que iam atrás de ti, estando tu cansado e afadigado; e não temeu 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rá, pois, que, quando o SENHOR teu Deus te tiver dado repouso de todos os teus inimigos em redor, na terra que o SENHOR teu Deus te dá por herança, para possuí-la, então apagarás a memória de Amaleque de debaixo do céu; não te esqueç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 que, se o injusto merecer açoites, o juiz o fará deitar-se, para que seja açoitado diante de si; segundo a sua culpa, será o número de açoi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renta açoites lhe fará dar, não mais; para que, porventura, se lhe fizer dar mais açoites do que estes, teu irmão não fique envilecido aos teu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atarás a boca ao boi, quando trilh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irmãos morarem juntos, e um deles morrer, e não tiver filho, então a mulher do falecido não se casará com homem estranho, de fora; seu cunhado estará com ela, e a receberá por mulher, e fará a obrigação de cunhado para com 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primogênito que ela lhe der será sucessor do nome do seu irmão falecido, para que o seu nome não se apague em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se o homem não quiser tomar sua cunhada, esta subirá à porta dos anciãos, e dirá: Meu cunhado recusa suscitar a seu irmão nome em Israel; não quer cumprir para comigo o dever de cunh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anciãos da sua cidade o chamarão, e com ele falarão; e, se ele persistir, e disser: Não quero tomá-l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ua cunhada se chegará a ele na presença dos anciãos, e lhe descalçará o sapato do pé, e lhe cuspirá no rosto, e protestará, e dirá: Assim se fará ao homem que não edificar a casa de seu irm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8:33Z</dcterms:created>
  <dc:creator>Admin</dc:creator>
  <dc:description/>
  <dc:language>en-US</dc:language>
  <cp:lastModifiedBy>Admin</cp:lastModifiedBy>
  <dcterms:modified xsi:type="dcterms:W3CDTF">2008-07-30T23:28:33Z</dcterms:modified>
  <cp:revision>1</cp:revision>
  <dc:subject/>
  <dc:title>Slide 1</dc:title>
</cp:coreProperties>
</file>