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1BFC-BC03-4108-B5B9-C1CC2D446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7DCD-F2BC-47E7-A501-A49351314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0577-F1D3-49A4-835B-7EC6EB7FD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5CFA-8693-42F4-AD0F-0DF3D71A3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C27E-F742-4D0C-8C26-533B5CF8B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C288-A78B-44B7-9C8E-3DD58EA53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D2D1-5BA5-4C80-9C6A-E10F2FD35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DF0F-96DB-42C8-B4E8-FC995EFEC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6308-6DC1-40F8-8E4F-43EC375FB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AAEC-16CA-4184-9BC8-3920D2EE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0DD8-2B06-4737-A904-6C115860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CF5D-08D4-45E4-A610-76B8A4D0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06802-E15F-4261-8F67-0643C71E5C0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4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I esta palavra vós, vacas de Basã, que estais no monte de Samaria, que oprimis aos pobres, que esmagais os necessitados, que dizeis a vossos senhores: Dai cá, e beba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4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viei a peste contra vós, à maneira do Egito; os vossos jovens matei à espada, e os vossos cavalos deixei levar presos, e o mau cheiro dos vossos arraiais fiz subir as vossas narinas; contudo não vos convertestes a mim, disse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4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bverti a alguns dentre vós, como Deus subverteu a Sodoma e Gomorra, e vós fostes como um tição arrebatado do incêndio; contudo não vos convertestes a mim, disse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4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assim te farei, ó Israel! E porque isso te farei, prepara-te, ó Israel, para te encontrares com o teu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4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eis aqui o que forma os montes, e cria o vento, e declara ao homem qual seja o seu pensamento, o que faz da manhã trevas, e pisa os altos da terra; o SENHOR, o Deus dos Exércitos, é o seu n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4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Jurou o Senhor DEUS, pela sua santidade, que dias estão para vir sobre vós, em que vos levarão com ganchos e a vossos descendentes com anzóis de pes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4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aireis pelas brechas, uma após outra, e sereis lançados para Harmom, disse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4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inde a Betel, e transgredi; a Gilgal, e multiplicai as transgressões; e cada manhã trazei os vossos sacrifícios, e os vossos dízimos de três em três d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4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ferecei o sacrifício de louvores do que é levedado, e apregoai as ofertas voluntárias, publicai-as; porque disso gostais, ó filhos de Israel, disse o Senhor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4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também vos dei limpeza de dentes em todas as vossas cidades, e falta de pão em todos os vossos lugares; contudo não vos convertestes a mim, disse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4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lém disso, retive de vós a chuva quando ainda faltava três meses para a ceifa; e fiz que chovesse sobre uma cidade, e não chovesse sobre a outra cidade; sobre um campo choveu, mas o outro, sobre o qual não choveu, secou-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4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andaram errantes duas ou três cidades, indo a outra cidade para beberem água, mas não se saciaram; contudo não vos convertestes a mim, disse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4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eri-vos com queimadura, e com ferrugem; a multidão das vossas hortas, e das vossas vinhas, e das vossas figueiras, e das vossas oliveiras, comeu a locusta; contudo não vos convertestes a mim, disse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1:51Z</dcterms:created>
  <dc:creator>Admin</dc:creator>
  <dc:description/>
  <dc:language>en-US</dc:language>
  <cp:lastModifiedBy>Admin</cp:lastModifiedBy>
  <dcterms:modified xsi:type="dcterms:W3CDTF">2008-07-30T23:21:51Z</dcterms:modified>
  <cp:revision>1</cp:revision>
  <dc:subject/>
  <dc:title>Slide 1</dc:title>
</cp:coreProperties>
</file>