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6D-B0C3-4974-BE61-9BFD382C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E20-4B8D-4424-AB41-7974F63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1F3-B84A-4243-B2D3-626DBE7B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497-411E-4616-8D31-01AD61E8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158-35A4-4A0D-B839-D7B37879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1AC-BB1B-41AB-9E74-D4D92223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FB8-65CE-48F4-B9B2-5C481CBB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252-712B-4025-8B04-FE8E2C6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4A6-553E-40DB-937C-1FCD00EF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96C-6699-463E-9747-D723BCE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CB1-749A-4A87-BF29-16018C4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24E-B0E0-42B0-9845-84F1DF7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4F8-7AF2-4443-8957-E0D086AA356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Deus, glorificamos, a ti damos louvor, pois o teu nome está perto, as tuas maravilhas o decl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brarei todas as forças dos ímpios, mas as forças dos justos serão exalt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ocupar o lugar determinado, julgarei re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e todos os seus moradores estão dissolvidos, mas eu fortaleci as suas coluna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u aos loucos: Não enlouqueçais, e aos ímpios: Não levanteis a fro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evanteis a vossa fronte altiva, nem faleis com cerviz 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m do oriente, nem do ocidente, nem do deserto vem a exal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é o Juiz: a um abate, e a outro ex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mão do SENHOR há um cálice cujo vinho é tinto; está cheio de mistura; e dá a beber dele; mas as escórias dele todos os ímpios da terra as sorverão e beb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o declararei para sempre; cantarei louvores ao Deu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19Z</dcterms:created>
  <dc:creator>Admin</dc:creator>
  <dc:description/>
  <dc:language>en-US</dc:language>
  <cp:lastModifiedBy>Admin</cp:lastModifiedBy>
  <dcterms:modified xsi:type="dcterms:W3CDTF">2008-07-31T00:26:19Z</dcterms:modified>
  <cp:revision>1</cp:revision>
  <dc:subject/>
  <dc:title>Slide 1</dc:title>
</cp:coreProperties>
</file>