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5D5-F8DE-4DBF-BBDE-6704AE2A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06E-1E5F-44DD-AB7C-82EC5DFA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9FA-011C-4A3D-95AC-D4DE4672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7BC-8E2D-4F0F-81FB-5AE75353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925-A926-4041-8E18-8033961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22D-54C0-4F67-8485-FEEC7075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4FA-3535-4471-969F-82C702C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E46-1B1F-498E-9BC2-0B055226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8C2-C7D3-4373-B104-264FE6A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BB8-91D1-4F02-AD90-F80DDF7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3D5-D765-4971-BFAC-59CFF69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62F-F863-4D98-9B5D-6EED6AF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30C-36E3-4308-A793-4C88D150A3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, porém, isto: que nos últimos dias sobrevirão tempos trabalh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tens seguido a minha doutrina, modo de viver, intenção, fé, longanimidade, amor, paci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eguições e aflições tais quais me aconteceram em Antioquia, em Icônio, e em Listra; quantas perseguições sofri, e o SENHOR de todas me livro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todos os que piamente querem viver em Cristo Jesus padecerão persegui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homens maus e enganadores irão de mal para pior, enganando e sendo engan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rém, permanece naquilo que aprendeste, e de que foste inteirado, sabendo de quem o tens aprend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desde a tua meninice sabes as sagradas Escrituras, que podem fazer-te sábio para a salvação, pela fé que há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Escritura é divinamente inspirada, e proveitosa para ensinar, para redargüir, para corrigir, para instruir em justiç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homem de Deus seja perfeito, e perfeitamente instruído para toda a bo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averá homens amantes de si mesmos, avarentos, presunçosos, soberbos, blasfemos, desobedientes a pais e mães, ingratos, profan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 afeto natural, irreconciliáveis, caluniadores, incontinentes, cruéis, sem amor para com os bo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idores, obstinados, orgulhosos, mais amigos dos deleites do que amigos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aparência de piedade, mas negando a eficácia dela. Destes afasta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ste número são os que se introduzem pelas casas, e levam cativas mulheres néscias carregadas de pecados, levadas de várias concupiscênci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aprendem sempre, e nunca podem chegar ao conhecimento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como Janes e Jambres resistiram a Moisés, assim também estes resistem à verdade, sendo homens corruptos de entendimento e réprobos quanto à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irão, porém, avante; porque a todos será manifesto o seu desvario, como também o foi o daquel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17Z</dcterms:created>
  <dc:creator>Admin</dc:creator>
  <dc:description/>
  <dc:language>en-US</dc:language>
  <cp:lastModifiedBy>Admin</cp:lastModifiedBy>
  <dcterms:modified xsi:type="dcterms:W3CDTF">2008-07-30T23:54:17Z</dcterms:modified>
  <cp:revision>1</cp:revision>
  <dc:subject/>
  <dc:title>Slide 1</dc:title>
</cp:coreProperties>
</file>