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5DF-77C2-4CD2-BD14-C8D1BDAE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927-001C-4765-B0EA-CA8A578F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779-D59D-4990-98A5-AAA049BD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52C-B8E0-4F53-A658-F78EB62F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47B-A2D1-426F-89E0-BB12846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257-2B57-40D4-905E-159AEE05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D3B-B2C0-4129-8E43-8BA345E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27E-D2ED-4BD0-89D2-192AD1A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32F-3BBD-401F-887B-33AEB3B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65C-6E9A-4845-9DF8-C30E9CE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893-9C67-4B17-9B10-B36DEA0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207-0A25-46FE-96A0-81891FB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32F-EAE1-4BD8-A6C6-C5DBDF23CC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SA algum de vós, tendo algum negócio contra outro, ir a juízo perante os injustos, e não perante os san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os ladrões, nem os avarentos, nem os bêbados, nem os maldizentes, nem os roubadores herdarão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é o que alguns têm sido; mas haveis sido lavados, mas haveis sido santificados, mas haveis sido justificados em nome do Senhor Jesus, e pelo Espírito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me são lícitas, mas nem todas as coisas convêm. Todas as coisas me são lícitas, mas eu não me deixarei dominar por nenh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limentos são para o estômago e o estômago para os alimentos; Deus, porém, aniquilará tanto um como os outros. Mas o corpo não é para a prostituição, senão para o SENHOR, e o SENHOR para 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Deus, que também ressuscitou o Senhor, nos ressuscitará a nós pel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que os vossos corpos são membros de Cristo? Tomarei, pois, os membros de Cristo, e fá-los-ei membros de uma meretriz? Não, por c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sabeis que o que se ajunta com a meretriz, faz-se um corpo com ela? Porque serão, disse, dois numa só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se ajunta com o Senhor é um mesm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gi da prostituição. Todo o pecado que o homem comete é fora do corpo; mas o que se prostitui peca contra o seu própri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sabeis que o vosso corpo é o templo do Espírito Santo, que habita em vós, proveniente de Deus, e que não sois de vós mes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que os santos hão de julgar o mundo? Ora, se o mundo deve ser julgado por vós, sois porventura indignos de julgar as coisas mínim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stes comprados por bom preço; glorificai, pois, a Deus no vosso corpo, e no vosso espírito, os quais pertence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que havemos de julgar os anjos? Quanto mais as coisas pertencentes a esta v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se tiverdes negócios em juízo, pertencentes a esta vida, pondes para julgá-los os que são de menos estima na igrej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vos envergonhar o digo. Não há, pois, entre vós sábios, nem mesmo um, que possa julgar entre seus ir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irmão vai a juízo com o irmão, e isto perante in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é já realmente uma falta entre vós, terdes demandas uns contra os outros. Por que não sofreis antes a injustiça? Por que não sofreis antes o da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mesmos fazeis a injustiça e fazeis o dano, e isto a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que os injustos não hão de herdar o reino de Deus? Não erreis: nem os devassos, nem os idólatras, nem os adúlteros, nem os efeminados, nem os sodom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23Z</dcterms:created>
  <dc:creator>Admin</dc:creator>
  <dc:description/>
  <dc:language>en-US</dc:language>
  <cp:lastModifiedBy>Admin</cp:lastModifiedBy>
  <dcterms:modified xsi:type="dcterms:W3CDTF">2008-07-30T23:41:23Z</dcterms:modified>
  <cp:revision>1</cp:revision>
  <dc:subject/>
  <dc:title>Slide 1</dc:title>
</cp:coreProperties>
</file>