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B451-9FB0-4501-A68A-2111170C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F730-1459-45CD-90CA-4311C9AA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780C-5730-4F77-AD2A-296FB51B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ED4C-9A08-47EB-B671-EBFD8BAE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578-BC80-4668-A084-5A0452D5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2FE2-EEE4-4610-9D11-A60A8FB4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3E96-0AAD-4B16-9397-8AFAB695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1C31-FF13-4FB9-8D17-CC55476F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6BE0-E60F-47FF-91CC-4FE9EDCF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E9D7-1E1D-43C1-847A-A7CB6394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6FEA-6D91-4F29-BF9F-3A852CBC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1752-1EFF-42E9-88D4-0D58E469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B186-F3EA-42D8-B4C2-EE35D9F65D8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a serpente era mais astuta que todas as alimárias do campo que o SENHOR Deus tinha feito. E esta disse à mulher: É assim que Deus disse: Não comereis de toda a árvore do jardi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Ouvi a tua voz soar no jardim, e temi, porque estava nu, e escondi-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s disse: Quem te mostrou que estavas nu? Comeste tu da árvore de que te ordenei que não comess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Adão: A mulher que me deste por companheira, ela me deu da árvore, e com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Deus à mulher: Por que fizeste isto? E disse a mulher: A serpente me enganou, e eu com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Deus disse à serpente: Porquanto fizeste isto, maldita serás mais que toda a fera, e mais que todos os animais do campo; sobre o teu ventre andarás, e pó comerás todos os dias da tu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ei inimizade entre ti e a mulher, e entre a tua semente e a sua semente; esta te ferirá a cabeça, e tu lhe ferirás o calcanh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à mulher disse: Multiplicarei grandemente a tua dor, e a tua conceição; com dor darás à luz filhos; e o teu desejo será para o teu marido, e ele te domin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Adão disse: Porquanto deste ouvidos à voz de tua mulher, e comeste da árvore de que te ordenei, dizendo: Não comerás dela, maldita é a terra por causa de ti; com dor comerás dela todos os dias da tu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pinhos, e cardos também, te produzirá; e comerás a erva d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suor do teu rosto comerás o teu pão, até que te tornes à terra; porque dela foste tomado; porquanto és pó e em pó te torna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 mulher à serpente: Do fruto das árvores do jardim comerem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ou Adão o nome de sua mulher Eva; porquanto era a mãe de todos os viv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o SENHOR Deus a Adão e à sua mulher túnicas de peles, e os vest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o SENHOR Deus: Eis que o homem é como um de nós, sabendo o bem e o mal; ora, para que não estenda a sua mão, e tome também da árvore da vida, e coma e viva eternamen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Deus, pois, o lançou fora do jardim do Éden, para lavrar a terra de que fora tom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endo lançado fora o homem, pôs querubins ao oriente do jardim do Éden, e uma espada inflamada que andava ao redor, para guardar o caminho da árvore d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o fruto da árvore que está no meio do jardim, disse Deus: Não comereis dele, nem nele tocareis para que não morr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serpente disse à mulher: Certamente não morr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us sabe que no dia em que dele comerdes se abrirão os vossos olhos, e sereis como Deus, sabendo o bem e 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u a mulher que aquela árvore era boa para se comer, e agradável aos olhos, e árvore desejável para dar entendimento; tomou do seu fruto, e comeu, e deu também a seu marido, e ele comeu com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foram abertos os olhos de ambos, e conheceram que estavam nus; e coseram folhas de figueira, e fizeram para si avent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ram a voz do SENHOR Deus, que passeava no jardim pela viração do dia; e esconderam-se Adão e sua mulher da presença do SENHOR Deus, entre as árvores do jard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ou o SENHOR Deus a Adão, e disse-lhe: Onde está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7:19Z</dcterms:created>
  <dc:creator>Admin</dc:creator>
  <dc:description/>
  <dc:language>en-US</dc:language>
  <cp:lastModifiedBy>Admin</cp:lastModifiedBy>
  <dcterms:modified xsi:type="dcterms:W3CDTF">2008-07-30T23:37:19Z</dcterms:modified>
  <cp:revision>1</cp:revision>
  <dc:subject/>
  <dc:title>Slide 1</dc:title>
</cp:coreProperties>
</file>