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B40-5C00-4212-A600-385EDC6C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6D7-2CD3-4FC1-A1FC-A365502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4A8-55D4-4872-8430-A49EC990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D79-5A38-4278-B743-25369FFF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61E-86E5-4B5D-BFAA-38DD993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016-9022-4B3D-AB0D-84A82ED2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108-05C5-49D6-B8AE-F1CC1A30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D66-D849-4721-91AB-690E531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787-1BCC-447B-9450-7C118874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DEE-3E78-4F42-8EEE-FBA4007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F50-233B-468D-B224-7780B6E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924-606C-4964-B6F2-58A2D032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505-7332-46B8-8E66-E4F8F65644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estes do ministério, e as vestes sagradas de Arão o sacerdote, e as vestes de seus filhos, para administrarem o sacerdóc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zeite da unção, e o incenso aromático para o santuário; farão conforme a tudo que te tenho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fala aos filhos de Israel, dizendo: Certamente guardareis meus sábados; porquanto isso é um sinal entre mim e vós nas vossas gerações; para que saibais que eu sou o SENHOR, que vos santi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guardareis o sábado, porque santo é para vós; aquele que o profanar certamente morrerá; porque qualquer que nele fizer alguma obra, aquela alma será eliminada do mei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se trabalhará, porém o sétimo dia é o sábado do descanso, santo ao SENHOR; qualquer que no dia do sábado fizer algum trabalho,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rão, pois, o sábado os filhos de Israel, celebrando-o nas suas gerações por aliança perpé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mim e os filhos de Israel será um sinal para sempre; porque em seis dias fez o SENHOR os céus e a terra, e ao sétimo dia descansou, e restau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a Moisés (quando acabou de falar com ele no monte Sinai) as duas tábuas do testemunho, tábuas de pedra, escritas pelo ded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tenho chamado por nome a Bezalel, o filho de Uri, filho de Hur, da tribo de Ju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nchi do Espírito de Deus, de sabedoria, e de entendimento, e de ciência, em todo o lav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elaborar projetos, e trabalhar em ouro, em prata, e em cob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lapidar pedras para engastar, e em entalhes de madeira, para trabalhar em todo o l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u tenho posto com ele a Aoliabe, o filho de Aisamaque, da tribo de Dã, e tenho dado sabedoria ao coração de todos aqueles que são hábeis, para que façam tudo o que te tenho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: a tenda da congregação, e a arca do testemunho, e o propiciatório que estará sobre ela, e todos os pertences da te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esa com os seus utensílios, e o candelabro de ouro puro com todos os seus pertences, e o altar do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ltar do holocausto com todos os seus utensílios, e a pia com a sua ba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00Z</dcterms:created>
  <dc:creator>Admin</dc:creator>
  <dc:description/>
  <dc:language>en-US</dc:language>
  <cp:lastModifiedBy>Admin</cp:lastModifiedBy>
  <dcterms:modified xsi:type="dcterms:W3CDTF">2008-07-30T23:33:00Z</dcterms:modified>
  <cp:revision>1</cp:revision>
  <dc:subject/>
  <dc:title>Slide 1</dc:title>
</cp:coreProperties>
</file>