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BD7-6BDA-4978-8170-EADFE664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C35-775F-40D4-9AFB-534D728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EB3-A17D-471C-80B6-A0718F7C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BCA-D9FF-425F-A1E4-F2F3F375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95E-D25C-4954-8151-65DD91B4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B87-349D-4488-A7B9-3B4F3567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AAA-169E-4251-981E-20692501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DE9-2D01-4638-A5C3-0F27E14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702-0873-443C-9EF1-D053CEBC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C3D-ABC5-4BE7-9936-E28B303A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9AF-A026-4690-BE97-35B09BF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27F-6069-4F9F-9B50-4F76771E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257C-538C-4175-B8A5-276B4FF3642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ULTAI a Deus, nossa fortaleza; jubilai ao Deu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SENHOR teu Deus, que te tirei da terra do Egito; abre bem a tua boca, e ta ench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meu povo não quis ouvir a minha voz, e Israel não me qu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eu os entreguei aos desejos dos seus corações, e andaram nos seus próprios conse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se o meu povo me tivesse ouvido! se Israel andasse nos meus caminh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breve abateria os seus inimigos, e viraria a minha mão contra os seus advers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odeiam ao SENHOR ter-se-lhe-iam sujeitado, e o seu tempo seria et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ustentaria com o trigo mais fino, e o fartaria com o mel saído da ro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um salmo, e trazei junto o tamborim, a harpa suave e o sal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cai a trombeta na lua nova, no tempo apontado da nossa sole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sto era um estatuto para Israel, e uma lei do Deu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denou-o em José por testemunho, quando saíra pela terra do Egito, onde ouvi uma língua que não enten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ei de seus ombros a carga; as suas mãos foram livres dos ce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ste na angústia, e te livrei; respondi-te no lugar oculto dos trovões; provei-te nas águas de Meribá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-me, povo meu, e eu te atestarei: Ah, Israel, se me ouvir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erá entre ti deus alheio, nem te prostrarás ante um deus estr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38Z</dcterms:created>
  <dc:creator>Admin</dc:creator>
  <dc:description/>
  <dc:language>en-US</dc:language>
  <cp:lastModifiedBy>Admin</cp:lastModifiedBy>
  <dcterms:modified xsi:type="dcterms:W3CDTF">2008-07-31T00:26:38Z</dcterms:modified>
  <cp:revision>1</cp:revision>
  <dc:subject/>
  <dc:title>Slide 1</dc:title>
</cp:coreProperties>
</file>