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6B4-0C36-4AC6-8318-33FCB122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DF7-6C7A-4C6B-A722-4658C916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FC1-C8E3-4212-A39B-B3382EB6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230-6683-4105-BF73-B9EDC536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7CE-8B21-4DC3-B797-40C20D9C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9DE-BEB6-4510-B89A-C32CFC45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78F-D33B-49B6-BA72-AA05AF42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76B-0E25-4BC7-9479-EB85AC73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E98-CD42-447F-9F3F-5B8376A2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595-3B15-4AE2-A57F-3DA66405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7F6-F81C-428D-A667-797CA20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8D8-9044-442E-AC4A-19ACA911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AAC7-A2AD-46A4-987D-99C394FB46E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tendo ouvido isso, o rei Ezequias rasgou as suas vestes, e se cobriu de saco, e entrou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lareis a Ezequias, rei de Judá, dizendo: Não te engane o teu Deus, em quem confias, dizendo: Jerusalém não será entregue na mão do rei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já tens ouvido o que fizeram os reis da Assíria a todas as terras, destruindo-as totalmente; e escaparias t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as livraram os deuses das nações que meus pais destruíram: Gozã, e Harã, e Rezefe, e os filhos de Éden, que estavam em Telass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está o rei de Hamate, e o rei de Arpade, e o rei da cidade de Sefarvaim, Hena e I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ebendo, pois, Ezequias as cartas das mãos dos mensageiros, e lendo-as, subiu à casa do SENHOR; e Ezequias as estendeu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ou Ezequias a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 dos Exércitos, Deus de Israel, que habitas entre os querubins; tu mesmo, só tu és Deus de todos os reinos da terra; tu fizeste os céus 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, ó SENHOR, o teu ouvido, e ouve; abre, SENHOR, os teus olhos, e vê; e ouve todas as palavras de Senaqueribe, as quais ele enviou para afrontar o Deus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rdade é, SENHOR, que os reis da Assíria assolaram todas as nações e su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am no fogo os seus deuses; porque deuses não eram, senão obra de mãos de homens, madeira e pedra; por isso os destruí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Eliaquim, o mordomo, e Sebna, o escrivão, e os anciãos dos sacerdotes, cobertos de sacos, ao profeta Isaías, filho de Am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SENHOR nosso Deus, livra-nos da sua mão; e assim saberão todos os reinos da terra, que só tu és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saías, filho de Amós, mandou dizer a Ezequias: Assim diz o SENHOR Deus de Israel: Quanto ao que pediste acerca de Senaqueribe, rei da Assír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palavra que o SENHOR falou a respeito dele: A virgem, a filha de Sião, te despreza, de ti zomba; a filha de Jerusalém meneia a cabeça por detrás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afrontaste e blasfemaste? E contra quem alçaste a voz, e ergueste os teus olhos ao alto? Contra o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meio de teus servos afrontaste o Senhor, e disseste: Com a multidão dos meus carros subi eu aos cumes dos montes, aos últimos recessos do Líbano; e cortarei os seus altos cedros e as suas faias escolhidas, e entrarei na altura do seu cume, ao bos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cavei, e bebi as águas; e com as plantas de meus pés sequei todos os rios dos lugares siti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ouviste que já há muito tempo eu fiz isto, e já desde os dias antigos o tinha formado? Agora porém o fiz vir, para que tu fosses o que destruísse as cidades fortificadas, e as reduzisse a montões de ruí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s seus moradores, dispondo de pouca força, andaram atemorizados e envergonhados; tornaram-se como a erva do campo, e a relva verde, e o feno dos telhados, e o trigo queimado antes da se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u conheço o teu assentar, e o teu sair, e o teu entrar, e o teu furor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o teu furor contra mim, e porque a tua arrogância subiu até aos meus ouvidos, portanto porei o meu anzol no teu nariz e o meu freio nos teus lábios, e te farei voltar pelo caminho por onde vi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Assim diz Ezequias: Este dia é dia de angústia, e de vitupério, e de blasfêmias; porque chegados são os filhos ao parto, e força não há para dá-los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te será por sinal: Este ano se comerá o que espontaneamente nascer, e no segundo ano o que daí proceder; porém no terceiro ano semeai e segai, e plantai vinhas, e comei os frutos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que escapou da casa de Judá, e restou, tornará a lançar raízes para baixo, e dará fruto para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 Jerusalém sairá o restante, e do monte de Sião os que escaparem; o zelo do SENHOR dos Exércitos fará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acerca do rei da Assíria: Não entrará nesta cidade, nem lançará nela flecha alguma; tampouco virá perante ela com escudo, ou levantará trincheira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caminho por onde vier, por esse voltará; porém nesta cidade não entrará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ampararei esta cidade, para livrá-la, por amor de mim e por amor do meu servo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o anjo do SENHOR, e feriu no arraial dos assírios a cento e oitenta e cinco mil deles; e, quando se levantaram pela manhã cedo, eis que todos estes eram corp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naqueribe, rei da Assíria, se retirou, e se foi, e voltou, e habitou em Nín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stando ele prostrado na casa de Nisroque, seu deus, Adrameleque e Sarezer, seus filhos, o feriram à espada; escaparam para a terra de Ararate; e Esar-Hadom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o SENHOR teu Deus terá ouvido as palavras de Rabsaqué, a quem o rei da Assíria, seu senhor, enviou para afrontar o Deus vivo, e para vituperá-lo com as palavras que o SENHOR teu Deus tem ouvido; faze oração pelo remanescente que 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os do rei Ezequias foram ter com Isaí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aías lhes disse: Assim direis a vosso senhor: Assim diz o SENHOR: Não temas à vista das palavras que ouviste, com as quais os servos do rei da Assíria me blasfem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porei nele um espírito, e ele ouvirá um rumor, e voltará para a sua terra; e fá-lo-ei cair morto à espada n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ou, pois, Rabsaqué, e achou ao rei da Assíria pelejando contra Libna; porque ouvira que já se havia retirado de Laqu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u ele dizer que Tiraca, rei da Etiópia, tinha saído para lhe fazer guerra. Assim que ouviu isto, enviou mensageiros a Ezequ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59Z</dcterms:created>
  <dc:creator>Admin</dc:creator>
  <dc:description/>
  <dc:language>en-US</dc:language>
  <cp:lastModifiedBy>Admin</cp:lastModifiedBy>
  <dcterms:modified xsi:type="dcterms:W3CDTF">2008-07-30T23:55:59Z</dcterms:modified>
  <cp:revision>1</cp:revision>
  <dc:subject/>
  <dc:title>Slide 1</dc:title>
</cp:coreProperties>
</file>