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2554-E7B3-4C88-A600-8B869C60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0E37-E7A0-4DBC-88A5-3A747F25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F8DF-07FE-468C-8B90-44241E9D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8784-577F-4402-AA47-28953177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55CA-12B3-46E3-A679-6B20691A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9072-E310-49FD-991B-E3A3C95C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3A4A-40A6-4315-BA4F-42C931ED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73E1-5279-4AB6-A859-C77053D0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FD5-7DC2-496F-9E9F-776792E0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7335-64D8-4D59-ACEA-80C9039B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0828-6718-436F-B414-2CCC2A1F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545F-DE2D-4DA5-877C-35CC8303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A293-FD51-4D08-B6A1-2CE693C5DE1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ubiu Naás, amonita, e sitiou a Jabes-Gileade; e disseram todos os homens de Jabes a Naás: Faze aliança conosco, e te servir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homens de Jabes disseram aos amonitas: Amanhã sairemos a vós; então nos fareis conforme a tudo o que parecer bem aos vosso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 ao outro dia Saul pôs o povo em três companhias, e vieram ao meio do arraial pela vigília da manhã, e feriram aos amonitas até que o dia aqueceu; e sucedeu que os restantes se espalharam, de modo que não ficaram dois deles ju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povo a Samuel: Quem é aquele que dizia que Saul não reinaria sobre nós? Dai-nos aqueles homens, e os matar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aul disse: Hoje não morrerá nenhum, pois hoje tem feito o SENHOR um livramento em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Samuel ao povo: Vinde, vamos nós a Gilgal, e renovemos ali o re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povo partiu para Gilgal, onde proclamaram a Saul por rei perante o SENHOR, e ofereceram ali ofertas pacíficas perante o SENHOR; e Saul se alegrou muito ali com todos os homen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aás, amonita, lhes disse: Com esta condição farei aliança convosco: que a todos vos arranque o olho direito, e assim ponha esta afronta sobre todo o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anciãos de Jabes lhe disseram: Deixa-nos por sete dias, para que enviemos mensageiros por todos os termos de Israel, e, não havendo ninguém que nos livre, então viremos 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indo os mensageiros a Gibeá de Saul, falaram estas palavras aos ouvidos do povo. Então todo o povo levantou a sua voz, e cho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Saul vinha do campo, atrás dos bois; e disse Saul: Que tem o povo, que chora? E contaram-lhe as palavras dos homens de Jab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Espírito de Deus se apoderou de Saul, ouvindo estas palavras; e acendeu-se em grande maneira a sua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uma junta de bois, e cortou-os em pedaços, e os enviou a todos os termos de Israel pelas mãos dos mensageiros, dizendo: Qualquer que não seguir a Saul e a Samuel, assim se fará aos seus bois. Então caiu o temor do SENHOR sobre o povo, e saíram 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tou-os em Bezeque; e houve dos filhos de Israel trezentos mil, e dos homens de Judá trinta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ram aos mensageiros que vieram: Assim direis aos homens de Jabes-Gileade: Amanhã, em aquecendo o sol, vos virá livramento. Vindo, pois, os mensageiros, e anunciando-o aos homens de Jabes, se alegr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6:48Z</dcterms:created>
  <dc:creator>Admin</dc:creator>
  <dc:description/>
  <dc:language>en-US</dc:language>
  <cp:lastModifiedBy>Admin</cp:lastModifiedBy>
  <dcterms:modified xsi:type="dcterms:W3CDTF">2008-07-30T23:46:48Z</dcterms:modified>
  <cp:revision>1</cp:revision>
  <dc:subject/>
  <dc:title>Slide 1</dc:title>
</cp:coreProperties>
</file>