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F3A-AA16-44A0-96B2-311E1976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E336-7B08-4751-9B6F-84474F25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4C5-1E73-4AAC-9AD6-93FC72E8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DC6-4E47-4270-96E9-6A734E5B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AFA-4C3E-40B0-9752-4C5B7511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174-D69D-4091-BF8A-D7C8224C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5AA-883A-4E5A-ADD0-3B669451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87C-E82A-4F20-9EF9-B3AA04EA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FC0-838B-471B-80A8-62E5ECB8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03C-C476-46EB-9FFB-10A71B3B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4D0-B18A-499B-B0B7-8A2DD3B7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965-94D4-4ED5-B9EA-B1AB2133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4F53-E49C-4E75-8FDD-27A5BEA83DE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E, e tornemos ao SENHOR, porque ele despedaçou, e nos sarará; feriu, e nos atará a fer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jo uma coisa horrenda na casa de Israel, ali está a prostituição de Efraim; Israel está contami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para ti, ó Judá, está assinada uma sega, quando eu trouxer o cativeiro do m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 dois dias nos dará a vida; ao terceiro dia nos ressuscitará, e viveremos 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nheçamos, e prossigamos em conhecer ao SENHOR; a sua saída, como a alva, é certa; e ele a nós virá como a chuva, como chuva serôdia que reg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te farei, ó Efraim? Que te farei, ó Judá? Porque a vossa benignidade é como a nuvem da manhã e como o orvalho da madrugada, que cedo pa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s abati pelos profetas; pelas palavras da minha boca os matei; e os teus juízos sairão como a luz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quero a misericórdia, e não o sacrifício; e o conhecimento de Deus, mais do que os holocau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s transgrediram a aliança, como Adão; eles se portaram aleivosamente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ileade é a cidade dos que praticam iniqüidade, manchada de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s hordas de salteadores que esperam alguns, assim é a companhia dos sacerdotes que matam no caminho num mesmo consenso; sim, eles cometem abomi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41Z</dcterms:created>
  <dc:creator>Admin</dc:creator>
  <dc:description/>
  <dc:language>en-US</dc:language>
  <cp:lastModifiedBy>Admin</cp:lastModifiedBy>
  <dcterms:modified xsi:type="dcterms:W3CDTF">2008-07-31T00:20:41Z</dcterms:modified>
  <cp:revision>1</cp:revision>
  <dc:subject/>
  <dc:title>Slide 1</dc:title>
</cp:coreProperties>
</file>