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C8E-D453-4E8E-BC99-460DDF94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6E2-628E-4225-845E-9128D6B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C44-EA96-4FAA-BA25-F8A0F526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4B2-B4F6-42A4-AEF6-D94EBB5D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4B7-51A0-4E18-B3EE-3DF332B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5E0-15F6-4A5F-A0B6-DC25F885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601-84C8-47E1-A988-E36C69E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0C7-F742-4466-9801-DFB89E17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314-CAF4-4FC6-AA3F-37282071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65A-3E2B-4E3F-9F76-7E41E7A3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894-C56B-4305-AFC3-7BB0CB4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D7D-4133-4148-8F00-D2CF6D8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B565-58FA-4DBB-8522-68135E6A16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o Senhor DEUS está sobre mim; porque o SENHOR me ungiu, para pregar boas novas aos mansos; enviou-me a restaurar os contritos de coração, a proclamar liberdade aos cativos, e a abertura de prisão aos pres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r-me-ei muito no SENHOR, a minha alma se alegrará no meu Deus; porque me vestiu de roupas de salvação, cobriu-me com o manto de justiça, como um noivo se adorna com turbante sacerdotal, e como a noiva que se enfeita com as suas jó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a terra produz os seus renovos, e como o jardim faz brotar o que nele se semeia, assim o Senhor DEUS fará brotar a justiça e o louvor para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pregoar o ano aceitável do SENHOR e o dia da vingança do nosso Deus; a consolar todos os tri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rdenar acerca dos tristes de Sião que se lhes dê glória em vez de cinza, óleo de gozo em vez de tristeza, vestes de louvor em vez de espírito angustiado; a fim de que se chamem árvores de justiça, plantações do SENHOR, para que ele seja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rão os lugares antigamente assolados, e restaurarão os anteriormente destruídos, e renovarão as cidades assoladas, destruídas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estrangeiros, que apascentarão os vossos rebanhos; e estranhos serão os vossos lavradores e os vossos vinha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 sereis chamados sacerdotes do SENHOR, e vos chamarão ministros de nosso Deus; comereis a riqueza dos gentios, e na sua glória vos glori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lugar da vossa vergonha tereis dupla honra; e em lugar da afronta exultareis na vossa parte; por isso na sua terra possuirão o dobro, e terão perpétua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, o SENHOR, amo o juízo, odeio o que foi roubado oferecido em holocausto; portanto, firmarei em verdade a sua obra; e farei uma aliança eterna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posteridade será conhecida entre os gentios, e os seus descendentes no meio dos povos; todos quantos os virem os conhecerão, como descendência bendit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7:00Z</dcterms:created>
  <dc:creator>Admin</dc:creator>
  <dc:description/>
  <dc:language>en-US</dc:language>
  <cp:lastModifiedBy>Admin</cp:lastModifiedBy>
  <dcterms:modified xsi:type="dcterms:W3CDTF">2008-07-30T23:57:00Z</dcterms:modified>
  <cp:revision>1</cp:revision>
  <dc:subject/>
  <dc:title>Slide 1</dc:title>
</cp:coreProperties>
</file>