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459D-5423-40B3-B565-747E839D6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8320-BBFE-46CD-BA77-D11E8AA5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FF5F-1976-4F5B-960E-FDC961E59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0B9D-C1DA-4D81-B58E-BBAFA7A8B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6D90-BA72-41F6-9684-17EBE8C1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5C55-79E9-4155-868D-5023DB67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33C4-5139-4BFB-A5FC-290C949C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91B8-0CF1-4FB6-B977-F883FA0C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7DC3-88A1-47CC-8003-6554FE69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13FD-3A10-4524-A3DB-92F53346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0C2F-9589-42AE-8BD6-1C48F179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4B15-479E-49D3-BA36-4F94CE1B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0A8D-94AB-495F-9C38-1733EA1E153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PALAVRA que veio a Jeremias, acerca de todos os judeus, habitantes da terra do Egito, que habitavam em Migdol, e em Tafnes, e em Nofe, e na terra de Patro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e humilharam até ao dia de hoje, nem temeram, nem andaram na minha lei, nem nos meus estatutos, que pus diante de vós e diante de vosso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assim diz o SENHOR dos Exércitos, Deus de Israel: Eis que eu ponho o meu rosto contra vós para mal, e para desarraigar a todo o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arei os que restam de Judá, os quais puseram os seus rostos para entrarem na terra do Egito, para lá habitar e todos eles serão consumidos na terra do Egito; cairão à espada, e de fome morrerão; consumir-se-ão, desde o menor até ao maior; à espada 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castigarei os que habitam na terra do Egito, como castiguei Jerusalém, com a espada, com a fome e com a pe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maneira que da parte remanescente de Judá, que entrou na terra do Egito, para lá habitar, não haverá quem escape e fique para tornar à terra de Judá, à qual eles suspiram voltar para nela morar; porém não tornarão senão uns fugiti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sponderam a Jeremias todos os homens que sabiam que suas mulheres queimavam incenso a deuses estranhos, e todas as mulheres que estavam presentes em grande multidão, como também todo o povo que habitava na terra do Egito, em Patro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à palavra que nos anunciaste em nome do SENHOR, não obedeceremos a t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certamente cumpriremos toda a palavra que saiu da nossa boca, queimando incenso à rainha dos céus, e oferecendo-lhe libações, como nós e nossos pais, nossos reis e nossos príncipes, temos feito, nas cidades de Judá, e nas ruas de Jerusalém; e então 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esde que cessamos de queimar incenso à rainha dos céus, e de lhe oferecer libações, tivemos falta de tudo, e fomos consumidos pela espada e pela f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do nós queimávamos incenso à rainha dos céus, e lhe oferecíamos libações, acaso lhe fizemos bolos, para a adorar, e oferecemos-lhe libações sem nossos marid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os Exércitos, Deus de Israel: Vós vistes todo o mal que fiz vir sobre Jerusalém, e sobre todas as cidades de Judá; e eis que elas são hoje uma desolação, e ninguém habita nel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Jeremias a todo o povo, aos homens e às mulheres, e a todo o povo que lhe havia dado esta resposta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não se lembrou o SENHOR, e não lhe veio ao coração o incenso que queimastes nas cidades de Judá e nas ruas de Jerusalém, vós e vossos pais, vossos reis e vossos príncipes, como também o povo da ter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maneira que o SENHOR não podia por mais tempo sofrer a maldade das vossas ações, as abominações que cometestes; por isso se tornou a vossa terra em desolação, e em espanto, e em maldição, sem habitantes, como hoje se vê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queimastes incenso, e porque pecastes contra o SENHOR, e não obedecestes à voz do SENHOR, e na sua lei, e nos seus testemunhos não andastes, por isso vos sucedeu este mal, como se vê neste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Jeremias a todo o povo e a todas as mulheres: Ouvi a palavra do SENHOR, vós, todo o Judá, que estais n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fala o SENHOR dos Exércitos, Deus de Israel, dizendo: Vós e vossas mulheres não somente falastes por vossa boca, senão também o cumpristes por vossas mãos, dizendo: Certamente cumpriremos os nossos votos que fizemos de queimar incenso à rainha d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ouvi a palavra do SENHOR, todo o Judá, que habitais na terra do Egito: Eis que eu juro pelo meu grande nome, diz o SENHOR, que nunca mais será pronunciado o meu nome pela boca de nenhum homem de Judá em toda a terra do Egito dizendo: Vive o Sen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4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velarei sobre eles para mal, e não para bem; e serão consumidos todos os homens de Judá, que estão na terra do Egito, pela espada e pela fome, até que de todo se aca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4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 escaparem da espada voltarão da terra do Egito à terra de Judá, poucos em número; e todo o restante de Judá, que entrou na terra do Egito, para habitar ali, saberá se subsistirá a minha palavra ou a s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4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sto vos servirá de sinal, diz o SENHOR, que eu vos castigarei neste lugar, para que saibais que certamente subsistirão as minhas palavras contra vós para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causa da maldade que fizeram, para me irarem, indo queimar incenso, e servir a deuses estranhos, que nunca conheceram, nem eles, nem vós, nem vosso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4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: Eis que eu darei Faraó-Hofra, rei do Egito, na mão de seus inimigos, e na mão dos que procuram a sua morte; como entreguei Zedequias, rei de Judá, na mão de Nabucodonosor, rei de Babilônia, seu inimigo, e que procurava a sua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vos enviei todos os meus servos, os profetas, madrugando e enviando a dizer: Ora, não façais esta coisa abominável que ode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s não escutaram, nem inclinaram os seus ouvidos, para se converterem da sua maldade, para não queimarem incenso a outros deus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rramou-se, pois, a minha indignação e a minha ira, e acendeu-se nas cidades de Judá, e nas ruas de Jerusalém, e elas tornaram-se em deserto e em desolação, como hoje se vê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assim diz o SENHOR, Deus dos Exércitos, Deus de Israel: Por que fazeis vós tão grande mal contra as vossas almas, para vos desarraigardes, ao homem e à mulher, à criança e ao que mama, do meio de Judá, a fim de não deixardes remanescente al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rando-me com as obras de vossas mãos, queimando incenso a deuses estranhos na terra do Egito, aonde vós entrastes para lá habitar; para que a vós mesmos vos desarraigueis, e para que sirvais de maldição, e de opróbrio entre todas as nações da ter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quecestes já as maldades de vossos pais, e as maldades dos reis de Judá, e as maldades de suas mulheres, e as vossas maldades, e as maldades de vossas mulheres, que cometeram na terra de Judá, e nas ruas de Jerusalé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9:41Z</dcterms:created>
  <dc:creator>Admin</dc:creator>
  <dc:description/>
  <dc:language>en-US</dc:language>
  <cp:lastModifiedBy>Admin</cp:lastModifiedBy>
  <dcterms:modified xsi:type="dcterms:W3CDTF">2008-07-30T23:59:41Z</dcterms:modified>
  <cp:revision>1</cp:revision>
  <dc:subject/>
  <dc:title>Slide 1</dc:title>
</cp:coreProperties>
</file>