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62E-A0ED-4FC2-8EF7-702DB923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332-CA6C-4BCC-BA18-54660371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19E-0273-4B81-B153-9BCEF35C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8FE-57DE-40D0-AE86-7BA2F9F0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BF7-A95B-494C-8503-1196BF63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523-1473-4012-95B6-82BA8A89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7DC-1F49-4671-B91D-EF30924D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C9F-D6D6-49E9-877B-374C7B40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C97-705E-4587-B7D1-56D1A28C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08B-982C-48BC-8E7D-794648E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E99-C9B7-4548-8AB1-64BF8AC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38D-64CF-4225-9A26-A58F006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CB5A-5E4E-4BA4-B80A-EA1C82DF58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DEUS, nós ouvimos com os nossos ouvidos, e nossos pais nos têm contado a obra que fizeste em seus dias, nos tempos da antigu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nos fazes retirar do inimigo, e aqueles que nos odeiam nos saqueiam par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nos entregaste como ovelhas para comer, e nos espalhaste ent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vendes por nada o teu povo, e não aumentas a tua riqueza com o seu pr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nos pões por opróbrio aos nossos vizinhos, por escárnio e zombaria daqueles que estão à roda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nos pões por provérbio entre os gentios, por movimento de cabeça entre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confusão está constantemente diante de mim, e a vergonha do meu rosto me cob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voz daquele que afronta e blasfema, por causa do inimigo e do ving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 nos sobreveio; contudo não nos esquecemos de ti, nem nos houvemos falsamente contra a tu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osso coração não voltou atrás, nem os nossos passos se desviaram das tuas vere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nos quebrantaste num lugar de dragões, e nos cobriste com a sombra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expulsaste os gentios com a tua mão e os plantaste a eles; como afligiste os povos e os derrub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nós esquecemos o nome do nosso Deus, e estendemos as nossas mãos para um deus estra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esquadrinhará Deus isso? Pois ele sabe os segredos d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por amor de ti, somos mortos todo o dia; somos reputados como ovelhas para o matad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, por que dormes, Senhor? Acorda, não nos rejeite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escondes a tua face, e te esqueces da nossa miséria e da nossa opress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 nossa alma está abatida até ao pó; o nosso ventre se apega à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 em nosso auxílio, e resgata-nos por amor das tuas misericór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conquistaram a terra pela sua espada, nem o seu braço os salvou, mas a tua destra e o teu braço, e a luz da tua face, porquanto te agradas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o meu Rei, ó Deus; ordena salvações para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ti venceremos os nossos inimigos; pelo teu nome pisaremos os que se levantam contr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u não confiarei no meu arco, nem a minha espada me sal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nos salvaste dos nossos inimigos, e confundiste os que nos odi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Deus nos gloriamos todo o dia, e louvamos o teu nome eternament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tu nos rejeitaste e nos confundiste, e não sais com os noss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22Z</dcterms:created>
  <dc:creator>Admin</dc:creator>
  <dc:description/>
  <dc:language>en-US</dc:language>
  <cp:lastModifiedBy>Admin</cp:lastModifiedBy>
  <dcterms:modified xsi:type="dcterms:W3CDTF">2008-07-31T00:25:22Z</dcterms:modified>
  <cp:revision>1</cp:revision>
  <dc:subject/>
  <dc:title>Slide 1</dc:title>
</cp:coreProperties>
</file>