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4E1-4741-48DC-9012-1F67A426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E70-75EA-466F-B6E4-FBC27882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DF7-A551-4944-8283-52818E2F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686-1FBA-496E-9C14-730E4B92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3E7-B0DF-4B79-82F1-10ADB3B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D89-B061-4075-86FD-0FDEA54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BD1-3E91-429C-AF44-904B4E9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119-D680-4498-853E-B494F4C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679-290E-461D-9BA5-797D3C31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9B0-2E93-4850-954D-1465F60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B33-58DC-44C9-8BA1-C484CDA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C29-F498-4752-9561-A6D4F99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6E1B-1FD0-4FAC-9E37-E3C0408E95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-LHES também uma parábola sobre o dever de orar sempre, e nunca desfalec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homens subiram ao templo, para orar; um, fariseu, e o outro, public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ariseu, estando em pé, orava consigo desta maneira: Ó Deus, graças te dou porque não sou como os demais homens, roubadores, injustos e adúlteros; nem ainda como este public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juo duas vezes na semana, e dou os dízimos de tudo quanto poss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ublicano, porém, estando em pé, de longe, nem ainda queria levantar os olhos ao céu, mas batia no peito, dizendo: Ó Deus, tem misericórdia de mim, pecad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 este desceu justificado para sua casa, e não aquele; porque qualquer que a si mesmo se exalta será humilhado, e qualquer que a si mesmo se humilha será exa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iam-lhe também meninos, para que ele lhes tocasse; e os discípulos, vendo isto, repreendiam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chamando-os para si, disse: Deixai vir a mim os meninos, e não os impeçais, porque dos tais é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, qualquer que não receber o reino de Deus como menino, não entrar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-lhe um certo príncipe, dizendo: Bom Mestre, que hei de fazer para herdar a vida eter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lhe disse: Por que me chamas bom? Ninguém há bom, senão um, que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Havia numa cidade um certo juiz, que nem a Deus temia, nem respeitav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s os mandamentos: Não adulterarás, não matarás, não furtarás, não dirás falso testemunho, honra a teu pai e a t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Todas essas coisas tenho observado desde 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Jesus ouviu isto, disse-lhe: Ainda te falta uma coisa; vende tudo quanto tens, reparte-o pelos pobres, e terás um tesouro no céu; vem, e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ouvindo ele isto, ficou muito triste, porque era muito r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Jesus que ele ficara muito triste, disse: Quão dificilmente entrarão no reino de Deus os que têm riquez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mais fácil entrar um camelo pelo fundo de uma agulha do que entrar um rico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ouviram isto disseram: Logo quem pode salvar-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respondeu: As coisas que são impossíveis aos homens são possívei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Pedro: Eis que nós deixamos tudo e te segu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Na verdade vos digo que ninguém há, que tenha deixado casa, ou pais, ou irmãos, ou mulher, ou filhos, pelo reino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também, naquela mesma cidade, uma certa viúva, que ia ter com ele, dizendo: Faze-me justiça contra o meu advers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haja de receber muito mais neste mundo, e na idade vindou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consigo os doze, disse-lhes: Eis que subimos a Jerusalém, e se cumprirá no Filho do homem tudo o que pelos profetas foi escr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há de ser entregue aos gentios, e escarnecido, injuriado e cusp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açoitado, o matarão; e ao terceiro dia ressusci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nada disto entendiam, e esta palavra lhes era encoberta, não percebendo o que se lhes d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chegando ele perto de Jericó, estava um cego assentado junto do caminho, mendig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passar a multidão, perguntou que era aqu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 que Jesus Nazareno pass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ou, dizendo: Jesus, Filho de Davi, tem misericórdi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iam passando repreendiam-no para que se calasse; mas ele clamava ainda mais: Filho de Davi, tem misericórdia de mi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algum tempo não quis atendê-la; mas depois disse consigo: Ainda que não temo a Deus, nem respeito 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parando, mandou que lho trouxessem; e, chegando ele, perguntou-l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Que queres que te faça? E ele disse: Senhor, que eu v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Vê; a tua fé te sal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viu, e seguia-o, glorificando a Deus. E todo o povo, vendo isto, dava louvore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como esta viúva me molesta, hei de fazer-lhe justiça, para que enfim não volte, e me importun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Ouvi o que diz o injusto ju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não fará justiça aos seus escolhidos, que clamam a ele de dia e de noite, ainda que tardio para co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 depressa lhes fará justiça. Quando porém vier o Filho do homem, porventura achará fé n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também esta parábola a uns que confiavam em si mesmos, crendo que eram justos, e desprezavam os outr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48Z</dcterms:created>
  <dc:creator>Admin</dc:creator>
  <dc:description/>
  <dc:language>en-US</dc:language>
  <cp:lastModifiedBy>Admin</cp:lastModifiedBy>
  <dcterms:modified xsi:type="dcterms:W3CDTF">2008-07-31T00:11:48Z</dcterms:modified>
  <cp:revision>1</cp:revision>
  <dc:subject/>
  <dc:title>Slide 1</dc:title>
</cp:coreProperties>
</file>