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97D-642C-4CC6-861E-84E7FD75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2C3-AA1D-41B1-887E-0E490D71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F35-63D5-40EC-857A-552502FF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849-7C72-4B0D-86CC-74DFE35F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068-5418-4F70-8197-5D4165D5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4A7-6D54-433D-82D3-0602FDE2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5AB-1C78-45BF-BE34-A1DD01B1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C9D-881B-4D75-A927-78438816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1C1-946E-49D9-89B0-E0AC460C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16A1-F8ED-48F9-A763-316EBC48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7AA-F9C5-4DEA-BE25-C90D9F12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E43-7B93-4AD2-B59A-10927893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CAB7-E94C-4A9C-BB1C-C33B38D106D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, porque ele é bom; porque a sua benignidade du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eriu o Egito nos seus primogênitos; porque a sua benignidade dura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ou a Israel do meio deles; porque a sua benignidade dura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mão forte, e com braço estendido; porque a sua benignidade dura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dividiu o Mar Vermelho em duas partes; porque a sua benignidade dura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passar Israel pelo meio dele; porque a sua benignidade dura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rrubou a Faraó com o seu exército no Mar Vermelho; porque a sua benignidade du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guiou o seu povo pelo deserto; porque a sua benignidade dura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feriu os grandes reis; porque a sua benignidade dura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tou reis famosos; porque a sua benignidade dura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om, rei dos amorreus; porque a sua benignidade dura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Deus dos deuses; porque a sua benignidade du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gue, rei de Basã; porque a sua benignidade dura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a terra deles em herança; porque a sua benignidade dura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smo em herança a Israel, seu servo; porque a sua benignidade dura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se lembrou da nossa baixeza; porque a sua benignidade dura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s remiu dos nossos inimigos; porque a sua benignidade dura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dá mantimento a toda a carne; porque a sua benignidade du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Deus dos céus; porque a sua benignidade du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 dos senhores; porque a sua benignidade du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só faz maravilhas; porque a sua benignidade du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por entendimento fez os céus; porque a sua benignidade du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estendeu a terra sobre as águas; porque a sua benignidade du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fez os grandes luminares; porque a sua benignidade dura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ol para governar de dia; porque a sua benignidade dura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ua e as estrelas para presidirem à noite; porque a sua benignidade dura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33Z</dcterms:created>
  <dc:creator>Admin</dc:creator>
  <dc:description/>
  <dc:language>en-US</dc:language>
  <cp:lastModifiedBy>Admin</cp:lastModifiedBy>
  <dcterms:modified xsi:type="dcterms:W3CDTF">2008-07-31T00:28:33Z</dcterms:modified>
  <cp:revision>1</cp:revision>
  <dc:subject/>
  <dc:title>Slide 1</dc:title>
</cp:coreProperties>
</file>