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5B4-14A2-4072-8F8B-3DA7158E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5AD-9547-4A8D-879D-649E6625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D62-2C3B-4503-98A4-41FE7EE6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D40-8000-49CD-99D4-E4DD79F0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41D-1F75-4239-9395-35203EFE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280-FFF2-44E5-A81E-FC75069A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B45-AFF3-4B1B-9A2B-2428ADAF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3D8-30F6-4983-9662-6597A039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737-BA16-4290-AE50-3C384E9A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C8D-62ED-4ADC-84E8-FD063765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3A7-7904-4138-BD0C-5C4FB496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99E-5C4C-4AD8-80ED-D30475ED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3B05-28A0-4224-A374-39283BC1496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os filhos de Arão, estas foram as suas divisões: os filhos de Arão: Nadabe, Abiú, Eleazar e It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étima a Hacoz, a oitava a Ab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na a Jesua, a décima a Secan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undécima a Eliasibe, a duodécima a Jaqu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terceira a Hupa, a décima quarta a Jesebea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quinta a Bilga, a décima sexta a Im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sétima a Hezir, a décima oitava a Hapiz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écima nona a Petaías, a vigésima a Jeezqu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gésima primeira a Jaquim, a vigésima segunda a Gamu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gésima terceira a Delaías, a vigésima quarta a Maaz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ofício destes no seu ministério era entrar na casa do SENHOR, segundo lhes fora ordenado por Arão seu pai, como o SENHOR Deus de Israel lhe tinha ma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ram Nadabe e Abiú antes de seu pai, e não tiveram filhos; e Eleazar e Itamar administravam 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restante dos filhos de Levi: dos filhos de Anrão, Subael; dos filhos de Subael, Je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Reabias: dos filhos de Reabias, Issias era o primei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izaritas, Selomote; dos filhos de Selomote, Ja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Hebrom, Jerias o primeiro, Amarias o segundo, Jaaziel o terceiro, Jecameão o qua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Uziel, Mica; dos filhos de Mica, Sami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irmão de Mica, Issias; dos filhos de Issias, Zacar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erari, Mali e Musi; dos filhos de Jaazias, Be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erari: de Jaazias, Beno, e Soão, e Zacur, e Ibr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li, Eleazar; e este não teve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Quis: dos filhos de Quis, Jerame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, com Zadoque, dos filhos de Eleazar, e Aimeleque, dos filhos de Itamar, dividiu-os segundo o seu ofício no seu min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usi: Mali, e Eder, e Jerimote; estes foram os filhos dos levitas, segundo as suas casas pater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também lançaram sortes como seus irmãos, os filhos de Arão, perante o rei Davi, e Zadoque, e Aimeleque, e os chefes das famílias entre os sacerdotes e entre os levitas; assim fizeram, tanto os pais principais como os irmãos men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ram-se muito mais chefes dos pais entre os filhos de Eleazar do que entre os filhos de Itamar, quando os repartiram; dos filhos de Eleazar dezesseis chefes das casas paternas, mas dos filhos de Itamar, segundo as casas paternas,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repartiram por sortes, uns com os outros; porque houve governadores do santuário e governadores da casa de Deus, assim dentre os filhos de Eleazar, como dentre os filhos de It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maías, filho de Natanael, o escrivão dentre os levitas, os registrou perante o rei, e os príncipes, e Zadoque, o sacerdote, e Aimeleque, filho de Abiatar, e os chefes dos pais entre os sacerdotes, e entre os levitas; dentre as casas dos pais tomou-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a primeira sorte a Jeoiaribe, a segunda a Jedaí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ceira a Harim, a quarta a Seor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inta a Malquias, a sexta a Miam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42Z</dcterms:created>
  <dc:creator>Admin</dc:creator>
  <dc:description/>
  <dc:language>en-US</dc:language>
  <cp:lastModifiedBy>Admin</cp:lastModifiedBy>
  <dcterms:modified xsi:type="dcterms:W3CDTF">2008-07-30T23:43:42Z</dcterms:modified>
  <cp:revision>1</cp:revision>
  <dc:subject/>
  <dc:title>Slide 1</dc:title>
</cp:coreProperties>
</file>