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E378-F3DB-4390-B7BD-12C35E1D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66F3-5579-4B33-B03C-9CA906D3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EEA6-6876-4A12-AA29-C093B712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ED3F-1EC0-4FE6-B8C5-C1F96AAA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683C-AA18-43E3-93C7-C2346B28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5EC8-76DA-4635-BFDD-2B615010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0EAE-A62B-4FC6-8E1F-C7F51D1B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D5C-8492-4C28-967A-0B5DACE5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0B6-D20F-4205-8BCA-72C4CF46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378-5B30-4098-8821-3E012648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E75-CAD3-4EDB-89FE-C9CA1F70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0C7-0908-41D1-B22A-212F5E14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4B60-72D1-45CD-87CC-48BAD9E8D5D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lama porventura a sabedoria, e a inteligência não faz ouvir a sua voz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eitai a minha correção, e não a prata; e o conhecimento, mais do que o ouro fino escolh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elhor é a sabedoria do que os rubis; e tudo o que mais se deseja não se pode comparar com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a sabedoria, habito com a prudência, e acho o conhecimento dos conse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mor do SENHOR é odiar o mal; a soberba e a arrogância, o mau caminho e a boca perversa, eu od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u é o conselho e a verdadeira sabedoria; eu sou o entendimento; minha é a fortal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mim reinam os reis e os príncipes decretam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mim governam príncipes e nobres; sim, todos os juíze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amo aos que me amam, e os que cedo me buscarem, me ach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iquezas e honra estão comigo; assim como os bens duráveis e 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o meu fruto do que o ouro, do que o ouro refinado, e os meus ganhos mais do que a prata escolh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cume das alturas, junto ao caminho, nas encruzilhadas das veredas se po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ço andar pelo caminho da justiça, no meio das veredas do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faça herdar bens permanentes aos que me amam, e eu encha os seus tesou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me possuiu no princípio de seus caminhos, desde então, e antes de su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a eternidade fui ungida, desde o princípio, antes do começo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ainda não havia abismos, fui gerada, quando ainda não havia fontes carregadas de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que os montes se houvessem assentado, antes dos outeiros, eu fui ge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ele não tinha feito a terra, nem os campos, nem o princípio do pó d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le preparava os céus, aí estava eu, quando traçava o horizonte sobre a face do abism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firmava as nuvens acima, quando fortificava as fontes do abism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fixava ao mar o seu termo, para que as águas não traspassassem o seu mando, quando compunha os fundamento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lado das portas da cidade, à entrada da cidade, e à entrada das portas está grita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u estava com ele, e era seu arquiteto; era cada dia as suas delícias, alegrando-me perante ele em todo o temp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gozijando-me no seu mundo habitável e enchendo-me de prazer com os filh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filhos, ouvi-me, porque bem-aventurados serão os que guardarem os meu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a instrução, e sede sábios, não a rejeit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o homem que me dá ouvidos, velando às minhas portas cada dia, esperando às ombreiras da minha ent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que me achar, achará a vida, e alcançará o favor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que pecar contra mim violentará a sua própria alma; todos os que me odeiam amam 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ós, ó homens, clamo; e a minha voz se dirige aos filh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endei, ó simples, a prudência; e vós, insensatos, entendei de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, porque falarei coisas excelentes; os meus lábios se abrirão para a e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minha boca proferirá a verdade, e os meus lábios abominam a impie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ão justas todas as palavras da minha boca: não há nelas nenhuma coisa tortuosa nem pervert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elas são retas para aquele que as entende bem, e justas para os que acham o conhec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1:24Z</dcterms:created>
  <dc:creator>Admin</dc:creator>
  <dc:description/>
  <dc:language>en-US</dc:language>
  <cp:lastModifiedBy>Admin</cp:lastModifiedBy>
  <dcterms:modified xsi:type="dcterms:W3CDTF">2008-07-31T00:21:24Z</dcterms:modified>
  <cp:revision>1</cp:revision>
  <dc:subject/>
  <dc:title>Slide 1</dc:title>
</cp:coreProperties>
</file>