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050-A20C-48B2-84E6-E11BF89D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634-B8DA-4EB2-9505-E2D262FA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545-999F-4E23-AF1E-378BE9D8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BA2-0123-4056-9B94-7B79DB0D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080-ADF7-44BE-B2AE-63974ED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69C-2A67-4F75-8EB1-E1276C6B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1DC-1E8C-40D8-B961-C4106B24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552-7C46-44D0-A531-39D984BC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1C0-8BD7-4818-900E-BF873020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358-8634-4D81-8BCB-9F8217ED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24D-F39F-4B83-B166-422D75A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214-7F06-440B-A95F-AB42F90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68D2-4C0E-4E9A-9BA2-BED88A2F5C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deixando os rudimentos da doutrina de Cristo, prossigamos até à perfeição, não lançando de novo o fundamento do arrependimento de obras mortas e de fé em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não é injusto para se esquecer da vossa obra, e do trabalho do amor que para com o seu nome mostrastes, enquanto servistes aos santos; e ainda serv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sejamos que cada um de vós mostre o mesmo cuidado até ao fim, para completa certeza da esperan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vos não façais negligentes, mas sejais imitadores dos que pela fé e paciência herdam as promes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do Deus fez a promessa a Abraão, como não tinha outro maior por quem jurasse, jurou por si mesm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Certamente, abençoando te abençoarei, e multiplicando te multipli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im, esperando com paciência, alcançou a prom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homens certamente juram por alguém superior a eles, e o juramento para confirmação é, para eles, o fim de toda a con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querendo Deus mostrar mais abundantemente a imutabilidade do seu conselho aos herdeiros da promessa, se interpôs com jura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por duas coisas imutáveis, nas quais é impossível que Deus minta, tenhamos a firme consolação, nós, os que pomos o nosso refúgio em reter a esperança propos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temos como âncora da alma, segura e firme, e que penetra até ao interior do vé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doutrina dos batismos, e da imposição das mãos, e da ressurreição dos mortos, e do juízo et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Jesus, nosso precursor, entrou por nós, feito eternamente sumo sacerdote, segundo a ordem de Melquised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faremos, se Deus o permit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impossível que os que já uma vez foram iluminados, e provaram o dom celestial, e se tornaram participantes do Espírito Sa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varam a boa palavra de Deus, e as virtudes do século futu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caíram, sejam outra vez renovados para arrependimento; pois assim, quanto a eles, de novo crucificam o Filho de Deus, e o expõem ao vitup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erra que embebe a chuva, que muitas vezes cai sobre ela, e produz erva proveitosa para aqueles por quem é lavrada, recebe a bênção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que produz espinhos e abrolhos, é reprovada, e perto está da maldição; o seu fim é ser quei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 vós, ó amados, esperamos coisas melhores, e coisas que acompanham a salvação, ainda que assim fal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42Z</dcterms:created>
  <dc:creator>Admin</dc:creator>
  <dc:description/>
  <dc:language>en-US</dc:language>
  <cp:lastModifiedBy>Admin</cp:lastModifiedBy>
  <dcterms:modified xsi:type="dcterms:W3CDTF">2008-07-30T23:40:42Z</dcterms:modified>
  <cp:revision>1</cp:revision>
  <dc:subject/>
  <dc:title>Slide 1</dc:title>
</cp:coreProperties>
</file>