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4EBC-6B5C-4300-9AE7-A0553D7C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3A99-3A88-4FFE-B2B7-11BB1421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2955-0888-4E0B-AC05-AE02E4FD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72B5-2BE7-40D2-9274-8DF90AE4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DB8F-D510-4D88-A5D6-FDB6709C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ECC5-1D3E-412A-88D2-96445FC5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CEDE-CBEB-496C-911A-EEB32E6C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C957-C55B-4FE1-B4C4-5584E38F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EF47-5D24-4554-9B52-4BBA21A3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8A15-AC65-4801-8C7D-F40A34EE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D83E-6E07-4CC8-A889-983A155D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92D9-7998-4AB8-91C5-7E27DD18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9F9C-8EA0-44F1-93E0-36A12EDD643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reina; regozije-se a terra; alegrem-se as muitas 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, que amais ao SENHOR, odiai o mal. Ele guarda as almas dos seus santos; ele os livra das mãos dos ímp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luz semeia-se para o justo, e a alegria para os retos de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egrai-vos, ó justos, no SENHOR, e dai louvores à memória da sua sant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uvens e escuridão estão ao redor dele; justiça e juízo são a base do seu tro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fogo vai adiante dele, e abrasa os seus inimigos em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eus relâmpagos iluminam o mundo; a terra viu e trem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ontes derretem como cera na presença do SENHOR, na presença do Senhor de toda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céus anunciam a sua justiça, e todos os povos vêem a sua gl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fundidos sejam todos os que servem imagens de escultura, que se gloriam de ídolos; prostrai-vos diante dele todos os deus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ião ouviu e se alegrou; e os filhos de Judá se alegraram por causa da tua justiça, ó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tu, SENHOR, és o mais alto sobre toda a terra; tu és muito mais exaltado do que todos os deus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7:07Z</dcterms:created>
  <dc:creator>Admin</dc:creator>
  <dc:description/>
  <dc:language>en-US</dc:language>
  <cp:lastModifiedBy>Admin</cp:lastModifiedBy>
  <dcterms:modified xsi:type="dcterms:W3CDTF">2008-07-31T00:27:07Z</dcterms:modified>
  <cp:revision>1</cp:revision>
  <dc:subject/>
  <dc:title>Slide 1</dc:title>
</cp:coreProperties>
</file>