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DA9-07C7-4B19-8742-7189F7B8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0D5-8A15-4D03-9F98-85414BC8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90F-76EC-4CFE-AB98-F7D61007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78D-AFD9-4723-B336-A251E583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032-E03D-4BE6-9C06-E90929C8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CAD-C2BF-4573-8D5C-BFB7E6F4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495-43D9-4E20-A578-9E6232CC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D59-E197-47A9-A864-0722B66B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1A7-CC56-4E26-8DD1-E4830D22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CD2-EAB7-4330-A6E0-5C2521E6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935-CF5A-42ED-B883-8287E921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D54-D51C-45AB-8360-071416D1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B90-A461-41FA-B50C-8F5277BA0A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A-NOS, SENHOR, porque faltam os homens bons; porque são poucos os fiéis entre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um fala com falsidade ao seu próximo; falam com lábios lisonjeiros e coração dob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cortará todos os lábios lisonjeiros e a língua que fala soberb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dizem: Com a nossa língua prevaleceremos; são nossos os lábios; quem é SENHOR sobre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opressão dos pobres, pelo gemido dos necessitados me levantarei agora, diz o SENHOR; porei a salvo aquele para quem eles assop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o SENHOR são palavras puras, como prata refinada em fornalha de barro, purificada sete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s guardarás, SENHOR; desta geração os livrará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mpios andam por toda parte, quando os mais vis dos filhos dos homens são exal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21Z</dcterms:created>
  <dc:creator>Admin</dc:creator>
  <dc:description/>
  <dc:language>en-US</dc:language>
  <cp:lastModifiedBy>Admin</cp:lastModifiedBy>
  <dcterms:modified xsi:type="dcterms:W3CDTF">2008-07-31T00:24:21Z</dcterms:modified>
  <cp:revision>1</cp:revision>
  <dc:subject/>
  <dc:title>Slide 1</dc:title>
</cp:coreProperties>
</file>