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9A8-A62E-40E8-9599-B6B08430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ECD-860C-4D21-B94A-89E4320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C09-F91E-4C73-A425-DC4EFBEF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0F9-BC97-41A3-8626-E29B8A82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06F-044D-48D2-B1AC-8964E52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911-D839-4D30-A109-CC575F7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600-E6E0-4A9D-969B-CF4DF8D9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AB4-CDF6-4E56-803C-64A79E82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8EF-E9B0-441F-9391-53D84E9B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737-C91B-4B1E-9E56-B3E4159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C51-4820-4449-A41D-41B7B044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F92-23B3-404F-B38F-7F839DB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155-F7D0-4266-9CC0-9A4BCFDEF5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no mês sétimo, que veio Ismael, filho de Netanias, filho de Elisama, de sangue real, e com ele dez homens, príncipes do rei, a Gedalias, filho de Aicão, a Mizpá; e comeram pão juntos ali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mael levou cativo a todo o restante do povo que estava em Mizpá, isto é, as filhas do rei, e todo o povo que ficara em Mizpá, que Nebuzaradã, capitão da guarda, havia confiado a Gedalias, filho de Aicão; e levou-os cativos Ismael, filho de Netan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Joanã, filho de Careá, e todos os capitães dos exércitos que estavam com ele, todo o mal que havia feito Ismael, filho de Netan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todos os seus homens, e foram pelejar contra Ismael, filho de Netanias; e acharam-no ao pé das grandes águas que há em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vendo todo o povo, que estava com Ismael, a Joanã, filho de Careá, e a todos os capitães dos exércitos, que vinham com ele, se aleg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que Ismael levara cativo de Mizpá virou as costas, e voltou, e foi para Joanã, filho de Car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mael, filho de Netanias, escapou com oito homens de diante de Joanã, e se foi para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Joanã, filho de Careá, e todos os capitães dos exércitos que estavam com ele, a todo o restante do povo que ele havia recobrado de Ismael, filho de Netanias, desde Mizpá, depois de haver matado a Gedalias, filho de Aicão, isto é, aos homens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, indo habitar em Gerute-Quimã, que está perto de Belém, para dali irem e entrarem n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s caldeus; porque os temiam, por ter Ismael, filho de Netanias, matado a Gedalias, filho de Aicão, a quem o rei de Babilônia tinha feito governador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Ismael, filho de Netanias, com os dez homens que estavam com ele, e feriram à espada a Gedalias, filho de Aicão, filho de Safã, matando assim aquele que o rei de Babilônia havia posto por governador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atou Ismael a todos os judeus que com ele, com Gedalias, estavam em Mizpá, como também aos caldeus, homens de guerra, que se achav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 dia seguinte, depois que ele matara a Gedalias, sem ninguém o sab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ieram homens de Siquém, de Siló, e de Samaria; oitenta homens, com a barba rapada, e as vestes rasgadas, e retalhando-se; e trazendo nas suas mãos ofertas e incenso, para levarem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-lhes ao encontro Ismael, filho de Netanias, desde Mizpá, ia chorando; e sucedeu que, encontrando-os lhes disse: Vinde a Gedalias, filho de Aic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entrando eles até ao meio da cidade, matou-os Ismael, filho de Netanias, e os lançou num poço, ele e os homen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houve entre eles dez homens que disseram a Ismael: Não nos mates, porque temos, no campo, tesouros, trigo, cevada, azeite e mel. E ele por isso os deixou, e não os matou entr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ço em que Ismael lançou todos os cadáveres dos homens que matou por causa de Gedalias é o mesmo que fez o rei Asa, por causa de Baasa, rei de Israel; foi esse mesmo que Ismael, filho de Netanias, encheu de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32Z</dcterms:created>
  <dc:creator>Admin</dc:creator>
  <dc:description/>
  <dc:language>en-US</dc:language>
  <cp:lastModifiedBy>Admin</cp:lastModifiedBy>
  <dcterms:modified xsi:type="dcterms:W3CDTF">2008-07-30T23:59:32Z</dcterms:modified>
  <cp:revision>1</cp:revision>
  <dc:subject/>
  <dc:title>Slide 1</dc:title>
</cp:coreProperties>
</file>