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58A-A64F-4B10-9F50-027B8CEA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EB1-6681-4804-BFE5-7335E47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44E-7B66-4AA1-8E3A-8AB6420F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764-6942-43BD-9025-B2EF2D53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091-E10A-4330-A7EF-9E4BF29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D58-BECE-4678-9752-94011424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6AB-D6AE-4464-90DB-46E5A4F1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476-6F6C-4277-98E9-2A8B3759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793-E5B1-449B-A4FA-7F57FD4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A5F-8550-400B-80F7-A75CF88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DA9-CD55-41C3-9BC5-ED99070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D57-1B11-4C3F-A40B-DB000F1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170-3C54-4F12-8949-898C13AEA59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legres, ó Israel, não exultes, como os povos; porque ao prostituir-te abandonaste o teu Deus; amaste a paga de meretriz sobre todas as eiras de t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ei a Israel como uvas no deserto, vi a vossos pais como a fruta temporã da figueira no seu princípio; mas eles foram para Baal-Peor, e se consagraram a essa vergonha, e se tornaram abomináveis como aquilo que a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Efraim, a sua glória como ave voará, não haverá nascimento, não haverá gestação nem conce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venham a criar seus filhos, contudo os privarei deles para que não fique nenhum homem. Ai deles, quando deles eu me aparta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, assim como vi a Tiro, está plantado num lugar aprazível; mas Efraim levará os seus filhos ao mat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lhes, ó SENHOR; mas que lhes darás? Dá-lhes uma madre que aborte e seios se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sua malícia se acha em Gilgal, porque ali os odiei; por causa da maldade das suas obras lançá-los-ei para fora de minha casa. Não os amarei mais; todos os seus príncipes são rebe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foi ferido, secou-se a sua raiz; não darão fruto; sim, ainda que gerem, matarei os frutos desejáveis do s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Deus os rejeitará, porque não o ouviram, e errantes andarão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ira e o lagar não os manterão; e o mosto lhes f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erra do SENHOR não permanecerão; mas Efraim tornará ao Egito, e na Assíria comerão comida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rramarão libações de vinho ao SENHOR, nem lhe agradarão as suas ofertas. Os seus sacrifícios lhes serão como pão de pranteadores; todos os que dele comerem serão imundos, porque o seu pão será somente para si mesmos; não entrará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eis vós no dia da solenidade, e no dia da fest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eles se foram por causa da destruição, mas o Egito os recolherá, Mênfis os sepultará; o desejável da sua prata as urtigas o possuirão por herança, espinhos crescerão nas s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ão os dias da punição, chegarão os dias da retribuição; Israel o saberá; o profeta é um insensato, o homem de espírito é um louco; por causa da abundância da tua iniqüidade também haverá grande ód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era o vigia com o meu Deus, mas o profeta é como um laço de caçador de aves em todos os seus caminhos, e ódio na casa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 profundamente se corromperam, como nos dias de Gibeá; ele lembrar-se-á das suas injustiças, visitará os pecad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6Z</dcterms:created>
  <dc:creator>Admin</dc:creator>
  <dc:description/>
  <dc:language>en-US</dc:language>
  <cp:lastModifiedBy>Admin</cp:lastModifiedBy>
  <dcterms:modified xsi:type="dcterms:W3CDTF">2008-07-31T00:20:46Z</dcterms:modified>
  <cp:revision>1</cp:revision>
  <dc:subject/>
  <dc:title>Slide 1</dc:title>
</cp:coreProperties>
</file>