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0ED-A0F1-44E2-A441-132C5DF9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35F-B2A2-416F-92B4-CDA178E7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891-6053-41B0-B448-543A0485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0A8-E111-4255-86D1-E7D5E741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9A1-4039-4191-A3C1-6F9342ED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7E3-CFA1-49B1-8193-F68FEE44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130-A429-4D0E-BFC0-32586AD4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2A4-4AB1-4EBC-B3ED-E16468CA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41B-B327-4312-A1ED-71FF1791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01A-EE75-416F-88A5-3459408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0EB-E334-4B43-A18B-6F8C29F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C8F-F6DE-4C45-9F1D-3C00B7D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FA36-F024-4EDD-A94D-909509ACDB1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lguns que tinham descido da Judéia ensinavam assim os irmãos: Se não vos circuncidardes conforme o uso de Moisés, não podeis salvar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or que tentais a Deus, pondo sobre a cerviz dos discípulos um jugo que nem nossos pais nem nós pudemos suport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remos que seremos salvos pela graça do Senhor Jesus Cristo, como eles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a a multidão se calou e escutava a Barnabé e a Paulo, que contavam quão grandes sinais e prodígios Deus havia feito por meio deles ent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se eles calado, tomou Tiago a palavra, dizendo: Homens irmãos, ouvi-m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ão relatou como primeiramente Deus visitou os gentios, para tomar deles um povo para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isto concordam as palavras dos profetas; como está escri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voltarei, E reedificarei o tabernáculo de Davi, que está caído, Levantá-lo-ei das suas ruínas, E tornarei a edific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restante dos homens busque ao Senhor, E todos os gentios, sobre os quais o meu nome é invocado, Diz o Senhor, que faz todas estas coi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cidas são a Deus, desde o princípio do mundo, todas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julgo que não se deve perturbar aqueles, dentre os gentios, que se convertem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tido Paulo e Barnabé não pequena discussão e contenda contra eles, resolveu-se que Paulo e Barnabé, e alguns dentre eles, subissem a Jerusalém, aos apóstolos e aos anciãos, sobre aquela ques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crever-lhes que se abstenham das contaminações dos ídolos, da prostituição, do que é sufocado e d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oisés, desde os tempos antigos, tem em cada cidade quem o pregue, e cada sábado é lido nas sinago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eceu bem aos apóstolos e aos anciãos, com toda a igreja, eleger homens dentre eles e enviá-los com Paulo e Barnabé a Antioquia, a saber: Judas, chamado Barsabás, e Silas, homens distintos entre 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ntermédio deles escreveram o seguinte: Os apóstolos, e os anciãos e os irmãos, aos irmãos dentre os gentios que estão em Antioquia, e Síria e Cilícia, sa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uvimos que alguns que saíram dentre nós vos perturbaram com palavras, e transtornaram as vossas almas, dizendo que deveis circuncidar-vos e guardar a lei, não lhes tendo nós dado mandame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eceu-nos bem, reunidos concordemente, eleger alguns homens e enviá-los com os nossos amados Barnabé e Pau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 que já expuseram as suas vidas pelo nome de noss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mos, portanto, Judas e Silas, os quais por palavra vos anunciarão também as mesm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pareceu bem ao Espírito Santo e a nós, não vos impor mais encargo algum, senão estas coisas necessári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vos abstenhais das coisas sacrificadas aos ídolos, e do sangue, e da carne sufocada, e da prostituição, das quais coisas bem fazeis se vos guardardes. Bem vos v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sendo acompanhados pela igreja, passavam pela Fenícia e por Samaria, contando a conversão dos gentios; e davam grande alegria a todos 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eles então se despedido, partiram para Antioquia e, ajuntando a multidão, entregaram a ca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 leram, alegraram-se pela exor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Judas e Silas, que também eram profetas, exortaram e confirmaram os irmãos com mui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tendo-se ali algum tempo, os irmãos os deixaram voltar em paz para os apósto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eceu bem a Silas ficar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 e Barnabé ficaram em Antioquia, ensinando e pregando, com muitos outros,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ias depois, disse Paulo a Barnabé: Tornemos a visitar nossos irmãos por todas as cidades em que já anunciamos a palavra do Senhor, para ver como es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rnabé aconselhava que tomassem consigo a João, chamado Ma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Paulo parecia razoável que não tomassem consigo aquele que desde a Panfília se tinha apartado deles e não os acompanhou naquel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l contenda houve entre eles, que se apartaram um do outro. Barnabé, levando consigo a Marcos, navegou para Chi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aram a Jerusalém, foram recebidos pela igreja e pelos apóstolos e anciãos, e lhes anunciaram quão grandes coisas Deus tinha feito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ulo, tendo escolhido a Silas, partiu, encomendado pelos irmãos à gra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ou pela Síria e Cilícia, confirmando as igr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guns, porém, da seita dos fariseus, que tinham crido, se levantaram, dizendo que era mister circuncidá-los e mandar-lhes que guardassem a lei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gregaram-se, pois, os apóstolos e os anciãos para considerar este assu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grande contenda, levantou-se Pedro e disse-lhes: Homens irmãos, bem sabeis que já há muito tempo Deus me elegeu dentre nós, para que os gentios ouvissem da minha boca a palavra do evangelho, e cre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, que conhece os corações, lhes deu testemunho, dando-lhes o Espírito Santo, assim como também a n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fez diferença alguma entre eles e nós, purificando os seus corações pel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34Z</dcterms:created>
  <dc:creator>Admin</dc:creator>
  <dc:description/>
  <dc:language>en-US</dc:language>
  <cp:lastModifiedBy>Admin</cp:lastModifiedBy>
  <dcterms:modified xsi:type="dcterms:W3CDTF">2008-07-30T23:24:34Z</dcterms:modified>
  <cp:revision>1</cp:revision>
  <dc:subject/>
  <dc:title>Slide 1</dc:title>
</cp:coreProperties>
</file>