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51E4-8139-4B6A-A8E5-69572119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4D89-CF09-410D-B976-4DD9A8CC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E429-8BB8-4129-BCAD-32F51FEF6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22A5-3BAA-4B79-989F-693A56D9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4387-33B7-4DD2-B9C4-472FF1C9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6335-7589-422A-9290-46053879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703D-3596-47BD-8436-34FB6D06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4914-013B-48CE-A636-C5C5E65D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A11A-C574-4884-BBC0-6424F454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7FA3-A879-4B01-91DE-4F920407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901C-A997-4453-B75D-009AD155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0BEE-DA8D-4986-B69B-2AFEB36D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E2C7-26F2-4C92-A689-ACF3C2FA53A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u Elifaz o temanita, e diss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há entre nós encanecidos e idosos, muito mais idosos do que t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fazes pouco caso das consolações de Deus, e da suave palavra que te dirigim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te arrebata o teu coração, e por que piscam os teus olh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virares contra Deus o teu espírito, e deixares sair tais palavras da tua boc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é o homem, para que seja puro? E o que nasce da mulher, para ser jus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le não confia nos seus santos, e nem os céus são puros aos s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mais abominável e corrupto é o homem que bebe a iniqüidade como a águ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cuta-me, mostrar-te-ei; e o que tenho visto te contare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O que os sábios anunciaram, ouvindo-o de seus pais, e o não ocultara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s quais somente se dera a terra, e nenhum estranho passou por entre eles)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proferirá o sábio vã sabedoria? E encherá do vento oriental o seu ventr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dias o ímpio é atormentado, e se reserva, para o tirano, um certo número de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onido dos horrores está nos seus ouvidos; até na paz lhe sobrevém o assola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crê que tornará das trevas, mas que o espera a esp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da vagueando por pão, dizendo: Onde está? Bem sabe que já o dia das trevas lhe está preparado, à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ombram-no a angústia e a tribulação; prevalecem contra ele, como o rei preparado para a pelej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stendeu a sua mão contra Deus, e contra o Todo-Poderoso se embravec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rremete contra ele com a dura cerviz, e contra os pontos grossos dos seus escu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cobriu o seu rosto com a sua gordura, e criou gordura nas ilharg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5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bitou em cidades assoladas, em casas em que ninguém morava, que estavam a ponto de fazer-se montões de ruín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5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e enriquecerá, nem subsistirá a sua fazenda, nem se estenderão pela terra as suas possess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rgüindo com palavras que de nada servem, e com razões, de que nada aproveit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5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escapará das trevas; a chama do fogo secará os seus renovos, e ao sopro da sua boca desaparec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5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confie, pois, na vaidade, enganando-se a si mesmo, porque a vaidade será a sua recompen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5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 do seu dia ela se consumará; e o seu ramo não reverdec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5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cudirá as suas uvas verdes, como as da vide, e deixará cair a sua flor como a olivei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5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congregação dos hipócritas se fará estéril, e o fogo consumirá as tendas do subor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5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cebem a malícia, e dão à luz a iniqüidade, e o seu ventre prepara eng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u tens feito vão o temor, e diminuis os rogos diante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tua boca declara a tua iniqüidade; e tu escolhes a língua dos astu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ua boca te condena, e não eu, e os teus lábios testificam contr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És tu porventura o primeiro homem que nasceu? Ou foste formado antes dos outeir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ouviste o secreto conselho de Deus e a ti só limitaste a sabedori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sabes tu, que nós não saibamos? Que entendes, que não haja em nó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1:06Z</dcterms:created>
  <dc:creator>Admin</dc:creator>
  <dc:description/>
  <dc:language>en-US</dc:language>
  <cp:lastModifiedBy>Admin</cp:lastModifiedBy>
  <dcterms:modified xsi:type="dcterms:W3CDTF">2008-07-31T00:01:06Z</dcterms:modified>
  <cp:revision>1</cp:revision>
  <dc:subject/>
  <dc:title>Slide 1</dc:title>
</cp:coreProperties>
</file>