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3FD-7342-4462-93CC-D50E49A6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DAB-DD97-4E16-96B0-FDF2308B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87B-DF6B-4DD4-A436-26E1E9BD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597-03D1-46CA-A6C6-37F04242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7BB-FEF4-4069-80A9-32F005C5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CB1-AD55-4EFE-821A-787400DE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B7D-563B-41A3-9F12-FF3677F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6A8-D824-437A-9B7D-6A81FA8E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1A2-E4DE-40CD-B27B-791D5337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EE0-C0AA-45E4-AF32-BB0E1857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2F8-A552-4718-8EAC-6437E0FA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85E-0550-49C6-96D3-41EEBEF2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AF1C-CEE2-4CB7-B2B8-E5ABB4D0896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tempo se levantará Miguel, o grande príncipe, que se levanta a favor dos filhos do teu povo, e haverá um tempo de angústia, qual nunca houve, desde que houve nação até àquele tempo; mas naquele tempo livrar-se-á o teu povo, todo aquele que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serão purificados, e embranquecidos, e provados; mas os ímpios procederão impiamente, e nenhum dos ímpios entenderá, mas os sábios entend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de o tempo em que o sacrifício contínuo for tirado, e posta a abominação desoladora, haverá mil duzentos e noventa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que espera e chega até mil trezentos e trinta e cinco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rém, vai até ao fim; porque descansarás, e te levantarás na tua herança, no fim d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dos que dormem no pó da terra ressuscitarão, uns para vida eterna, e outros para vergonha e desprezo et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forem sábios, pois, resplandecerão como o fulgor do firmamento; e os que a muitos ensinam a justiça, como as estrelas sempre 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Daniel, encerra estas palavras e sela este livro, até ao fim do tempo; muitos correrão de uma parte para outra, e o conhecimento se multipli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, Daniel, olhei, e eis que estavam em pé outros dois, um deste lado, à beira do rio, e o outro do outro lado, à beira d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 ao homem vestido de linho, que estava sobre as águas do rio: Quando será o fim destas maravilh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o homem vestido de linho, que estava sobre as águas do rio, o qual levantou ao céu a sua mão direita e a sua mão esquerda, e jurou por aquele que vive eternamente que isso seria para um tempo, tempos e metade do tempo, e quando tiverem acabado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is, ouvi, mas não entendi; por isso eu disse: Senhor meu, qual será o fim destas cois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Vai, Daniel, porque estas palavras estão fechadas e seladas até ao tempo d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58Z</dcterms:created>
  <dc:creator>Admin</dc:creator>
  <dc:description/>
  <dc:language>en-US</dc:language>
  <cp:lastModifiedBy>Admin</cp:lastModifiedBy>
  <dcterms:modified xsi:type="dcterms:W3CDTF">2008-07-30T23:26:58Z</dcterms:modified>
  <cp:revision>1</cp:revision>
  <dc:subject/>
  <dc:title>Slide 1</dc:title>
</cp:coreProperties>
</file>