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448-C5A6-4007-BEB7-CC853750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98F-7FD8-4FC9-B955-E996C5BC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B3A-62D3-4688-918E-6D48F864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B8D-C655-4A43-8F84-D6470567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A7E-D73F-4404-877F-76AA1A12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370-83BB-4D48-AEFE-6C8757B2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5E8-C2F7-4A92-911E-B3420718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8E0-5D8F-4092-A728-67B277C4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EEA-EB96-4FF0-8FA3-A7FC032A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062-512A-4FA4-A2B9-70BC06E4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7D0-E2C9-411E-83C6-F24F360E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A31-97FD-430B-851A-903C0736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6583-5044-4B23-BD73-F28F969DFEF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 e a Arão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apanhou a cinza da novilha lavará as suas vestes, e será imundo até à tarde; isto será por estatuto perpétuo aos filhos de Israel e ao estrangeiro que peregrina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tocar em algum morto, cadáver de algum homem, imundo será set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terceiro dia se purificará com aquela água, e ao sétimo dia será limpo; mas, se ao terceiro dia se não purificar, não será limpo ao séti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aquele que tocar em algum morto, cadáver de algum homem, e não se purificar, contamina o tabernáculo do SENHOR; e aquela pessoa será extirpada de Israel; porque a água da separação não foi espargida sobre ele, imundo será; está nele ainda a sua im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lei, quando morrer algum homem em alguma tenda, todo aquele que entrar naquela tenda, e todo aquele que nela estiver, será imundo set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do o vaso aberto, sobre o qual não houver pano atado, será i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aquele que sobre a face do campo tocar em alguém que for morto pela espada, ou em outro morto ou nos ossos de algum homem, ou numa sepultura, será imundo set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um imundo, pois, tomarão da cinza da queima da expiação, e sobre ela colocarão água corrente num va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homem limpo tomará hissopo, e o molhará naquela água, e a espargirá sobre aquela tenda, e sobre todos os móveis, e sobre as pessoas que ali estiverem, como também sobre aquele que tocar os ossos, ou em alguém que foi morto, ou que faleceu, ou numa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limpo ao terceiro e sétimo dia espargirá sobre o imundo; e ao sétimo dia o purificará; e lavará as suas vestes, e se banhará na água, e à tarde será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estatuto da lei, que o SENHOR ordenou, dizendo: Dize aos filhos de Israel que te tragam uma novilha ruiva, que não tenha defeito, e sobre a qual não tenha sido posto ju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que for imundo, e se não purificar, do meio da congregação será ele extirpado; porquanto contaminou o santuário do SENHOR; água de separação sobre ele não foi espargida; imundo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lhes será por estatuto perpétuo; e o que espargir a água da separação lavará as suas vestes; e o que tocar a água da separação será imundo até à tar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do o que tocar o imundo também será imundo; e a pessoa que o tocar será imunda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dareis a Eleazar, o sacerdote; ele a tirará para fora do arraial, e degolar-se-á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azar, o sacerdote, tomará do seu sangue com o seu dedo, e dele espargirá para a frente da tenda da congregação sete ve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queimará a novilha perante os seus olhos; o seu couro, e a sua carne, e o seu sangue, com o seu esterco, se queim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tomará pau de cedro, e hissopo, e carmesim, e os lançará no meio do fogo que queima a novi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acerdote lavará as suas vestes, e banhará a sua carne na água, e depois entrará no arraial; e o sacerdote será imundo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que a queimou lavará as suas vestes com água, e em água banhará a sua carne, e imundo será até à t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homem limpo ajuntará a cinza da novilha, e a porá fora do arraial, num lugar limpo, e ficará ela guardada para a congregação dos filhos de Israel, para a água da separação; expiação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9:08Z</dcterms:created>
  <dc:creator>Admin</dc:creator>
  <dc:description/>
  <dc:language>en-US</dc:language>
  <cp:lastModifiedBy>Admin</cp:lastModifiedBy>
  <dcterms:modified xsi:type="dcterms:W3CDTF">2008-07-31T00:19:08Z</dcterms:modified>
  <cp:revision>1</cp:revision>
  <dc:subject/>
  <dc:title>Slide 1</dc:title>
</cp:coreProperties>
</file>