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DFA-F4B3-4F46-BF49-2C41A392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A95-F81B-4BE8-9618-D69A69F2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732-DCFE-42AB-BFCA-A525B088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E6F-183E-4CA1-965C-CF37BFEC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C9B-E57D-4B6F-9F3A-6BB779AF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A72-BB45-4708-A75D-8B1216A5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3EC-DA0E-498D-B2DC-A6A0C081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4CF-3057-49A0-B016-F42732CE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F4E-B80F-4CC7-B32B-7EB167E8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30D-C06F-4BC2-B8E3-65FC5D41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9B6-262D-4FAF-A2E4-45B33C3E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93B-BAB5-43F5-897B-ED7AEF4F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F454-0D2A-4258-9086-35B4446A3BD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LHANDO ele, viu os ricos lançarem as suas ofertas na arca do tesou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s disse: Levantar-se-á nação contra nação, e reino contra rein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erá em vários lugares grandes terremotos, e fomes e pestilências; haverá também coisas espantosas, e grandes sinais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ntes de todas estas coisas lançarão mão de vós, e vos perseguirão, entregando-vos às sinagogas e às prisões, e conduzindo-vos à presença de reis e presidentes, por amor do m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s acontecerá isto para testemu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ponde, pois, em vossos corações não premeditar como haveis de respond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vos darei boca e sabedoria a que não poderão resistir nem contradizer todos quantos se vos opuse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é pelos pais, e irmãos, e parentes, e amigos sereis entregues; e matarão alguns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todos sereis odiados por causa do m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perecerá um único cabelo da voss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ossa paciência possuí as vossas al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 também uma pobre viúva lançar ali duas pequenas moed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virdes Jerusalém cercada de exércitos, sabei então que é chegada a sua de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os que estiverem na Judéia, fujam para os montes; os que estiverem no meio da cidade, saiam; e os que nos campos não entrem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as de vingança são estes, para que se cumpram todas as coisas que estão escr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i das grávidas, e das que criarem naqueles dias! porque haverá grande aperto na terra, e ira sobre este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irão ao fio da espada, e para todas as nações serão levados cativos; e Jerusalém será pisada pelos gentios, até que os tempos dos gentios se complet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erá sinais no sol e na lua e nas estrelas; e na terra angústia das nações, em perplexidade pelo bramido do mar e das o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mens desmaiando de terror, na expectação das coisas que sobrevirão ao mundo; porquanto as virtudes do céu serão abal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ão verão vir o Filho do homem numa nuvem, com poder e grande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quando estas coisas começarem a acontecer, olhai para cima e levantai as vossas cabeças, porque a vossa redenção está próx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uma parábola: Olhai para a figueira, e para todas as árvor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Em verdade vos digo que lançou mais do que todos, esta pobre viúv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já têm rebentado, vós sabeis por vós mesmos, vendo-as, que perto está já o v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vós, quando virdes acontecer estas coisas, sabei que o reino de Deus está p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vos digo que não passará esta geração até que tudo acont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rá o céu e a terra, mas as minhas palavras não hão de pas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ai por vós, não aconteça que os vossos corações se carreguem de glutonaria, de embriaguez, e dos cuidados da vida, e venha sobre vós de improviso aquel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irá como um laço sobre todos os que habitam na face d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giai, pois, em todo o tempo, orando, para que sejais havidos por dignos de evitar todas estas coisas que hão de acontecer, e de estar em pé diante do Filho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dia ensinava no templo, e à noite, saindo, ficava no monte chamado das Oliv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povo ia ter com ele ao templo, de manhã cedo, para o ou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aqueles deitaram para as ofertas de Deus do que lhes sobeja; mas esta, da sua pobreza, deitou todo o sustento que t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izendo alguns a respeito do templo, que estava ornado de formosas pedras e dádivas, diss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estas coisas que vedes, dias virão em que não se deixará pedra sobre pedra, que não seja derrub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aram-lhe, dizendo: Mestre, quando serão, pois, estas coisas? E que sinal haverá quando isto estiver para acontec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então ele: Vede não vos enganem, porque virão muitos em meu nome, dizendo: Sou eu, e o tempo está próximo. Não vades, portanto, após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uvirdes de guerras e sedições, não vos assusteis. Porque é necessário que isto aconteça primeiro, mas o fim não será l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2:06Z</dcterms:created>
  <dc:creator>Admin</dc:creator>
  <dc:description/>
  <dc:language>en-US</dc:language>
  <cp:lastModifiedBy>Admin</cp:lastModifiedBy>
  <dcterms:modified xsi:type="dcterms:W3CDTF">2008-07-31T00:12:06Z</dcterms:modified>
  <cp:revision>1</cp:revision>
  <dc:subject/>
  <dc:title>Slide 1</dc:title>
</cp:coreProperties>
</file>