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C324-D74B-4567-99E2-294E1295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A1E9-F6AF-446C-B289-8E9CD118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3C28-11BE-41BD-B6A0-B80D6284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93D-E42A-40D6-B634-96935336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C97B-6BF1-433E-B867-B6D3BFE9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623-DEF5-4244-BDCD-47EA18DF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D23-B89D-45F1-B714-90720C14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CBA5-0952-49E9-8607-6E4FACEB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CA54-6750-4F4B-9C41-3D587081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E47-E7D8-407E-808A-78B42554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AFC-48F0-4228-B2E7-47F89DA4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3F5-3BE5-4822-B069-B36682B1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7ECF-5C14-4293-9290-350B26BA59C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fim dos sete anos farás remi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emente lhe darás, e que o teu coração não seja maligno, quando lhe deres; pois por esta causa te abençoará o SENHOR teu Deus em toda a tua obra, e em tudo o que puseres a t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nunca deixará de haver pobre na terra; pelo que te ordeno, dizendo: Livremente abrirás a tua mão para o teu irmão, para o teu necessitado, e para o teu pobre na t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eu irmão hebreu ou irmã hebréia se vender a ti, seis anos te servirá, mas no sétimo ano o deixarás ir liv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 deixares ir livre, não o despedirás vaz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beralmente o fornecerás do teu rebanho, e da tua eira, e do teu lagar; daquilo com que o SENHOR teu Deus te tiver abençoado lhe d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mbrar-te-ás de que foste servo na terra do Egito, e de que o SENHOR teu Deus te resgatou; portanto hoje te ordeno 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 ele te disser: Não sairei de ti; porquanto te amo a ti, e a tua casa, por estar bem contig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arás uma sovela, e lhe furarás a orelha à porta, e teu servo será para sempre; e também assim farás à tua ser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ja duro aos teus olhos, quando despedi-lo liberto de ti; pois seis anos te serviu em equivalência ao dobro do salário do diarista; assim o SENHOR teu Deus te abençoará em tudo o que fiz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primogênito que nascer das tuas vacas e das tuas ovelhas, o macho santificarás ao SENHOR teu Deus; com o primogênito do teu boi não trabalharás, nem tosquiarás o primogênito das tu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, pois, é o modo da remissão: todo o credor remitirá o que emprestou ao seu próximo; não o exigirá do seu próximo ou do seu irmão, pois a remissão do SENHOR é aprego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ante o SENHOR teu Deus os comerás de ano em ano, no lugar que o SENHOR escolher, tu e a t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havendo nele algum defeito, se for coxo, ou cego, ou tiver qualquer defeito, não o sacrificarás a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s tuas portas o comerás; o imundo e o limpo o comerão também, como da corça ou do ve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mente o seu sangue não comerás; sobre a terra o derramarás como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estrangeiro o exigirás; mas o que tiveres em poder de teu irmão a tua mão o remit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ceto quando não houver entre ti pobre algum; pois o SENHOR abundantemente te abençoará na terra que o SENHOR teu Deus te dará por herança, para possuí-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somente ouvires diligentemente a voz do SENHOR teu Deus para cuidares em cumprir todos estes mandamentos que hoje te orden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teu Deus te abençoará, como te tem falado; assim, emprestarás a muitas nações, mas não tomarás empréstimos; e dominarás sobre muitas nações, mas elas não dominarão sobr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ntre ti houver algum pobre, de teus irmãos, em alguma das tuas portas, na terra que o SENHOR teu Deus te dá, não endurecerás o teu coração, nem fecharás a tua mão a teu irmão que for pob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lhe abrirás de todo a tua mão, e livremente lhe emprestarás o que lhe falta, quanto baste para a sua necess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-te, que não haja palavra perversa no teu coração, dizendo: Vai-se aproximando o sétimo ano, o ano da remissão; e que o teu olho seja maligno para com teu irmão pobre, e não lhe dês nada; e que ele clame contra ti ao SENHOR, e que haja em ti pe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8:02Z</dcterms:created>
  <dc:creator>Admin</dc:creator>
  <dc:description/>
  <dc:language>en-US</dc:language>
  <cp:lastModifiedBy>Admin</cp:lastModifiedBy>
  <dcterms:modified xsi:type="dcterms:W3CDTF">2008-07-30T23:28:02Z</dcterms:modified>
  <cp:revision>1</cp:revision>
  <dc:subject/>
  <dc:title>Slide 1</dc:title>
</cp:coreProperties>
</file>