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2C1-300D-4CE7-B8A4-CA282138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E00-F968-4866-B02C-6A73D8DB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6EE-2A28-49BD-82EA-955AC8A0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488-ED2E-4925-B8A5-082F6900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1C1-4021-4641-9595-A225BFB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536-0B2C-491D-9F7D-5022EDB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7FB-EC8F-41AB-8A26-3CA7972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05F-9382-4A3E-8B88-821D4753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C78-37A8-46F2-93CB-C4944AD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F05-7E1A-4427-98C5-85B3EF8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F43-F685-429C-B7CD-A25CBDB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08D-C7DD-49E5-A432-0D1BE81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E6F-D430-433A-8657-00E2BB55F6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Eliasibe, o sumo sacerdote, com os seus irmãos, os sacerdotes, e reedificaram a porta das ovelhas, a qual consagraram; e levantaram as suas portas, e até à torre de Meá consagraram, e até à torre de Hanan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ou Jedaías, filho de Harumafe, e defronte de sua casa e ao seu lado reparou Hatus, filho de Hasabné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utra porção reparou Malquias, filho de Harim, e Hasube, filho de Paate-Moabe; como também a torre dos for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ou Sallum, filho de Haloés, líder da outra meia parte de Jerusalém, ele e s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orta do vale reparou-a Hanum e os moradores de Zanoa; estes a edificaram, e lhe levantaram as portas com as suas fechaduras e os seus ferrolhos, como também mil côvados do muro, até a porta do mont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ta do monturo reparou-a Malquias, filho de Recabe, líder do distrito de Bete-Haquerem; este a edificou, e lhe levantou as portas com as suas fechaduras e os seus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ta da fonte reparou-a Salum, filho de Col-Hosé, líder do distrito de Mizpá; este a edificou, e a cobriu, e lhe levantou as portas com as suas fechaduras e os seus ferrolhos, como também o muro do tanque de Hasselá, ao pé do jardim do rei, e até 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edificou Neemias, filho de Azbuque, líder da metade de Bete-Zur, até defronte dos sepulcros de Davi, até ao tanque artificial e até à casa dos val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aram os levitas, Reum, filho de Bani; ao seu lado reparou Hasabias, líder da metade de Queila, no seu dist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aram seus irmãos, Bavai, filho de Henadade, líder da outra meia parte de Quei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u lado reparou Ezer, filho de Jesuá, líder de Mizpá, outra porção, defronte da subida à casa das armas, à esqu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nto a ele edificaram os homens de Jericó; também ao seu lado edificou Zacur, filho de Im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ou com grande ardor Baruque, filho de Zabai, outra medida, desde a esquina até à porta da casa de Eliasibe, o sumo sacerd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ou Meremote, filho de Urias, o filho de Coz, outra porção, desde a porta da casa de Eliasibe, até à extremidade da casa de Eliasi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 repararam os sacerdotes que habitavam na camp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reparou Benjamim e Hasube, defronte da sua casa; depois dele reparou Azarias, filho de Maaséias, o filho de Ananias, junto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ou Binui, filho de Henadade, outra porção, desde a casa de Azarias até à esquina, e até ao c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l, filho de Uzai, reparou defronte da esquina, e a torre que sai da casa real superior, que está junto ao pátio da prisão; depois dele Pedaías, filho de Par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idores do templo que habitavam em Ofel, até defronte da porta das águas, para o oriente, e até à torre 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repararam os tecoítas outra porção, defronte da torre grande e alta, e até ao muro de Of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cima da porta dos cavalos repararam os sacerdotes, cada um defronte d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s reparou Zadoque, filho de Imer, defronte da sua casa; e depois dele reparou Semaías, filho de Secanias, guarda da porta orien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ta do peixe edificaram os filhos de Hassenaá; a qual emadeiraram, e levantaram as suas portas com as suas fechaduras e os seus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ou Hananias, filho de Selemias, e Hanum, filho de Zalafe, o sexto, outra porção; depois dele reparou Mesulão, filho de Berequias, defronte da sua câm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le reparou Malquias, filho de um ourives, até à casa dos servidores do templo e mercadores, defronte da porta de Mifcade, e até à câmara do c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a câmara do canto e a porta das ovelhas, repararam os ourives e os mer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ou Meremote, filho de Urias, o filho de Coz; e ao seu lado reparou Mesulão, filho de Berequias, o filho de Mesezabeel; e ao seu lado reparou Zadoque, filho de Baa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aram os tecoítas; porém os seus nobres não submeteram a cerviz ao serviço de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rta velha repararam-na Joiada, filho de Paséia, e Mesulão, filho de Besodias; estes a emadeiraram, e levantaram as suas portas com as suas fechaduras e os seus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aram Melatias, o gibeonita, e Jadom, meronotita, homens de Gibeom e Mizpá, que pertenciam ao domínio do governador dalém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seu lado reparou Uziel, filho de Haraías, um dos ourives; e ao seu lado reparou Hananias, filho de um dos boticários; e fortificaram a Jerusalém até ao muro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u lado reparou Refaías, filho de Hur, líder da metade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48Z</dcterms:created>
  <dc:creator>Admin</dc:creator>
  <dc:description/>
  <dc:language>en-US</dc:language>
  <cp:lastModifiedBy>Admin</cp:lastModifiedBy>
  <dcterms:modified xsi:type="dcterms:W3CDTF">2008-07-31T00:16:48Z</dcterms:modified>
  <cp:revision>1</cp:revision>
  <dc:subject/>
  <dc:title>Slide 1</dc:title>
</cp:coreProperties>
</file>