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A77-CFBC-48D3-840F-0178AEFA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6E9-0322-4DF1-BA55-47296C0A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6BD-BA8D-4489-BB1E-E0C7DEF2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DB9-7081-419A-BF9C-52F8B633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3FD-BCF2-4212-8C9C-44F45FE5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917-2EDF-48D9-BD74-E8D81F76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4A5-7842-4533-AD37-59CD1110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CD4-254B-44B6-BEFD-F7DFC133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847-5A81-41B6-9E21-9BC743C1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E40-5DB8-4E53-A5DD-DB569D42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786-A25C-4C5C-855C-6538974F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FD6-680B-4056-9077-5E25CEFF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B7D4-0B85-48B4-A5C1-92306617D81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 levanto os meus olhos, ó tu que habitas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os olhos dos servos atentam para as mãos dos seus senhores, e os olhos da serva para as mãos de sua senhora, assim os nossos olhos atentam para o SENHOR nosso Deus, até que tenha piedade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 piedade de nós, ó SENHOR, tem piedade de nós, pois estamos assaz fartos de despre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ossa alma está extremamente farta da zombaria daqueles que estão à sua vontade e do desprezo dos sober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19Z</dcterms:created>
  <dc:creator>Admin</dc:creator>
  <dc:description/>
  <dc:language>en-US</dc:language>
  <cp:lastModifiedBy>Admin</cp:lastModifiedBy>
  <dcterms:modified xsi:type="dcterms:W3CDTF">2008-07-31T00:28:19Z</dcterms:modified>
  <cp:revision>1</cp:revision>
  <dc:subject/>
  <dc:title>Slide 1</dc:title>
</cp:coreProperties>
</file>