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82E-E016-4C9A-BD8A-F7DE707A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27F-11E2-4D0E-92EB-6C4F04C8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7DA-4959-47EB-8B9C-738C025A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DE6-4905-4705-AD11-315A24B9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AB7-E070-4645-A0CD-02136A5F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EA9-DFB0-4209-B5BA-A45BA789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4AA-639F-4882-944E-226BFD8E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CA5-3393-4344-A128-EB2312F8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59F-8871-4CDC-9627-1606673A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C78-786F-4CC9-A160-6CBB3930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D15-9E17-4EE0-B0D1-D4A0A4D2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EF2-7C8C-4C4A-ADE2-AF571C6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748A-11CA-4D02-BF5F-30511FD76B2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cabeças dos pais dos levitas se achegaram a Eleazar, o sacerdote, e a Josué, filho de Num, e aos cabeças dos pais das tribos dos filhos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fossem dos filhos de Arão, das famílias dos coatitas dos filhos de Levi; porquanto a primeira sorte foi s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lhes deram a cidade de Arba, do pai de Anaque (esta é Hebrom), no monte de Judá, e os seus arrabaldes ao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campo da cidade, e as suas aldeias, deram a Calebe, filho de Jefoné, por sua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os filhos de Arão, o sacerdote, deram Hebrom, cidade do refúgio do homicida, e os seus arrabaldes, Libna e os seus arrabal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atir e os seus arrabaldes, e Estemoa e os seus arrabal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lom e os seus arrabaldes, e Debir e os seus arrabal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m e os seus arrabaldes, e Jutá e os seus arrabaldes, e Bete-Semes e os seus arrabaldes; nove cidades destas duas tri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Benjamim, Gibeão e os seus arrabaldes, Geba e os seus arrabal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atote e os seus arrabaldes, e Almom e os seus arrabaldes; quatro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idades dos sacerdotes, filhos de Arão, foram treze cidades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ram-lhes em Siló, na terra de Canaã, dizendo: O SENHOR ordenou, pelo ministério de Moisés, que se nos dessem cidades para habitar, e os seus arrabaldes para os nosso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famílias dos filhos de Coate, levitas, que ficaram dos filhos de Coate, tiveram as cidades da sua sorte, da tribo d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-lhes Siquém, cidade de refúgio do homicida, e os seus arrabaldes, no monte de Efraim, e Gezer e os seus arrabal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ibzaim e os seus arrabaldes, e Bete-Horom e os seus arrabaldes; quatro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Dã, Elteque e os seus arrabaldes, Gibetom e os seus arrabal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jalom e os seus arrabaldes, Gate-Rimom e os seus arrabaldes; quatro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meia tribo de Manassés, Taanaque e os seus arrabaldes, e Gate-Rimom e os seus arrabaldes; du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cidades para as famílias dos demais filhos de Coate, foram dez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filhos de Gérson, das famílias dos levitas, deram da meia tribo de Manassés, Golã, cidade de refúgio do homicida, em Basã, e os seus arrabaldes, e Beesterá e os seus arrabaldes; du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Issacar, Quisiom e os seus arrabaldes, Daberate e os seus arrabal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armute e os seus arrabaldes, En-Ganim e os seus arrabaldes; quatro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s filhos de Israel deram aos levitas da sua herança, conforme a ordem do SENHOR, as seguintes cidades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Aser, Misal e os seus arrabaldes, Abdom e os seus arrabal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elcate e os seus arrabaldes, e Reobe e os seus arrabal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Naftali, Quedes, cidade de refúgio do homicida, na Galiléia, e os seus arrabaldes, e Hamote-Dor e os seus arrabaldes, e Cartã e os seus arrabaldes; trê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idades dos gersonitas, segundo as suas famílias, foram treze cidades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às famílias dos filhos de Merari, aos demais levitas, foram dadas, da tribo de Zebulom, Jocneão e os seus arrabaldes, Cartã e os seus arrabal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mna e os seus arrabaldes, Naalal e os seus arrabaldes; quatro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Rúben, Bezer e os seus arrabaldes, e Jaza e os seus arrabal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demote e os seus arrabaldes, e Mefaate e os seus arrabaldes; quatro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tribo de Gade, Ramote, cidade de refúgio do homicida, em Gileade, e os seus arrabaldes, e Maanaim e os seus arrabal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esbom e os seus arrabaldes, Jazer e os seus arrabaldes; ao todo, quatro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a sorte para as famílias dos coatitas; e aos filhos de Arão, o sacerdote, que eram dos levitas, tiveram por sorte da tribo de Judá, e da tribo de Simeão, e da tribo de Benjamim, treze cida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estas cidades foram dos filhos de Merari, segundo as suas famílias, que ainda restavam das famílias, dos levitas; e foi a sua sorte doze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idades dos levitas, no meio da herança dos filhos de Israel, foram quarenta e oito cidades e os seus arraba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m estas cidades, cada uma com os seus arrabaldes em redor delas; assim estavam todas est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a maneira deu o SENHOR a Israel toda a terra que jurara dar a seus pais; e a possuíram e habitaram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lhes deu repouso de todos os lados, conforme a tudo quanto jurara a seus pais; e nenhum de todos os seus inimigos pôde resisti-los; todos os seus inimigos o SENHOR entregou-lhes n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avra alguma falhou de todas as boas coisas que o SENHOR falou à casa de Israel; tudo se cumpr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outros filhos de Coate couberam por sorte, das famílias da tribo de Efraim, e da tribo de Dã, e da meia tribo de Manassés, dez cida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filhos de Gérson couberam por sorte, das famílias da tribo de Issacar, e da tribo de Aser, e da tribo de Naftali, e da meia tribo de Manassés, em Basã, treze cida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filhos de Merari, segundo as suas famílias, da tribo de Rúben, e da tribo de Gade, e da tribo de Zebulom, doze cida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 os filhos de Israel aos levitas estas cidades e os seus arrabaldes por sorte, como o SENHOR ordenara pelo ministéri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am mais, da tribo dos filhos de Judá e da tribo dos filhos de Simeão, estas cidades, que por nome foram mencionad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6:01Z</dcterms:created>
  <dc:creator>Admin</dc:creator>
  <dc:description/>
  <dc:language>en-US</dc:language>
  <cp:lastModifiedBy>Admin</cp:lastModifiedBy>
  <dcterms:modified xsi:type="dcterms:W3CDTF">2008-07-31T00:06:01Z</dcterms:modified>
  <cp:revision>1</cp:revision>
  <dc:subject/>
  <dc:title>Slide 1</dc:title>
</cp:coreProperties>
</file>