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5B6-AE28-47E0-B031-BB600BFA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DB1-969A-449F-A315-99B5B3CB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B33-6F87-4D90-88BE-0C2FE4A1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F56-1DB2-451D-A8D6-23E45C9B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AF1-D957-41FE-A712-EE994478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9C1-FC87-4935-B12E-F46E80E4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D09-7592-4BA4-8E1E-960F6211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72D-B06D-473A-9C5E-1FF4FAC7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764-08C2-4528-B968-D36E512E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588-3A48-4F10-8CD3-B5C5AA7E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971-9BD3-4B21-AE56-8960F03A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86D-7B61-4935-84F1-DDF463C3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2C20-E114-49E3-AC20-B7BF713FCD8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9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 o Senhor, que estava em pé sobre o altar; e me disse: Fere o capitel, e estremeçam os umbrais, e faze tudo em pedaços sobre a cabeça de todos eles; e eu matarei à espada até ao último deles; nenhum deles conseguirá fugir, nenhum deles escap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9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os os pecadores do meu povo morrerão à espada, os que dizem: Não nos alcançará nem nos encontrará o m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9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tornarei a levantar o tabernáculo caído de Davi, e repararei as suas brechas, e tornarei a levantar as suas ruínas, e o edificarei como nos dias da antiguidad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9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que possuam o restante de Edom, e todos os gentios que são chamados pelo meu nome, diz o SENHOR, que faz ess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9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êm dias, diz o SENHOR, em que o que lavra alcançará ao que sega, e o que pisa as uvas ao que lança a semente; e os montes destilarão mosto, e todos os outeiros se derret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9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rei do cativeiro meu povo Israel, e eles reedificarão as cidades assoladas, e nelas habitarão, e plantarão vinhas, e beberão o seu vinho, e farão pomares, e lhes comerão o fru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9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plantá-los-ei na sua terra, e não serão mais arrancados da sua terra que lhes dei, diz o SENHOR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9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nda que cavem até ao inferno, a minha mão os tirará dali; e, se subirem ao céu, dali os farei desc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9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se esconderem no cume do Carmelo, buscá-los-ei, e dali os tirarei; e, se dos meus olhos se ocultarem no fundo do mar, ali darei ordem à serpente, e ela os picar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9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, se forem em cativeiro diante de seus inimigos, ali darei ordem à espada que os mate; e eu porei os meus olhos sobre eles para o mal, e não para o b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9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o Senhor DEUS dos Exércitos é o que toca a terra, e ela se derrete, e todos os que habitam nela chorarão; e ela subirá toda como um rio, e abaixará como o rio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9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é o que edifica as suas câmaras superiores no céu, e fundou na terra a sua abóbada, e o que chama as águas do mar, e as derrama sobre a terra; o SENHOR é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9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me sois, vós, ó filhos de Israel, como os filhos dos etíopes? diz o SENHOR: Não fiz eu subir a Israel da terra do Egito, e aos filisteus de Caftor, e aos sírios de Qu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9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os olhos do Senhor DEUS estão contra este reino pecador, e eu o destruirei de sobre a face da terra; mas não destruirei de todo a casa de Jacó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9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que darei ordem, e sacudirei a casa de Israel entre todas as nações, assim como se sacode grão no crivo, sem que caia na terra um só g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03Z</dcterms:created>
  <dc:creator>Admin</dc:creator>
  <dc:description/>
  <dc:language>en-US</dc:language>
  <cp:lastModifiedBy>Admin</cp:lastModifiedBy>
  <dcterms:modified xsi:type="dcterms:W3CDTF">2008-07-30T23:22:03Z</dcterms:modified>
  <cp:revision>1</cp:revision>
  <dc:subject/>
  <dc:title>Slide 1</dc:title>
</cp:coreProperties>
</file>