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EA1-2D5F-4F9F-833B-D28A526E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515-EBAF-409E-8D80-00B218C0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0C5-0A58-461F-B23A-DE7924DC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8CD-A5E1-4810-AD9C-661CBACD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AEA-9F1A-43F5-9BA6-B177E23B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376-96F6-4282-96C2-AFEF19C8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76F-215D-4067-9AF3-979BBCA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094-B83D-4C66-8DC4-7A48BD38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F72-36F1-4333-849E-6B539B5E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322-4E44-423B-BC78-20085B7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A7C-7041-44BE-B9A6-C27133B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AFC-45F8-4C21-8571-7AB4E97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6477-0E26-493A-9D03-E2E7A81CAE3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primeiro dia da semana, Maria Madalena foi ao sepulcro de madrugada, sendo ainda escuro, e viu a pedra tirada d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am, pois, os discípulos par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ria estava chorando fora, junto ao sepulcro. Estando ela, pois, chorando, abaixou-se para 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dois anjos vestidos de branco, assentados onde jazera o corpo de Jesus, um à cabeceira e outro a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 eles: Mulher, por que choras? Ela lhes disse: Porque levaram o meu Senhor, e não sei onde o pus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ito isto, voltou-se para trás, e viu Jesus em pé, mas não sabia que er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Mulher, por que choras? Quem buscas? Ela, cuidando que era o hortelão, disse-lhe: Senhor, se tu o levaste, dize-me onde o puseste, e eu o lev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Maria! Ela, voltando-se, disse-lhe: Raboni (que quer dizer, Mestre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Não me detenhas, porque ainda não subi para meu Pai, mas vai para meus irmãos, e dize-lhes que eu subo para meu Pai e vosso Pai, meu Deus e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ia Madalena foi e anunciou aos discípulos que vira o Senhor, e que ele lhe dissera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da, pois, a tarde daquele dia, o primeiro da semana, e cerradas as portas onde os discípulos, com medo dos judeus, se tinham ajuntado, chegou Jesus, e pôs-se no meio, e disse-lhes: Paz sej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eu, pois, e foi a Simão Pedro, e ao outro discípulo, a quem Jesus amava, e disse-lhes: Levaram o Senhor do sepulcro, e não sabemos onde o pus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zendo isto, mostrou-lhes as suas mãos e o lado. De sorte que os discípulos se alegraram, vendo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 outra vez: Paz seja convosco; assim como o Pai me enviou, também eu vos envio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dito isto, assoprou sobre eles e disse-lhes: Recebei 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queles a quem perdoardes os pecados lhes são perdoados; e àqueles a quem os retiverdes lhes são ret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omé, um dos doze, chamado Dídimo, não estava com eles quando vei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, pois, os outros discípulos: Vimos o Senhor. Mas ele disse-lhes: Se eu não vir o sinal dos cravos em suas mãos, e não puser o dedo no lugar dos cravos, e não puser a minha mão no seu lado, de maneira nenhuma o cr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ito dias depois estavam outra vez os seus discípulos dentro, e com eles Tomé. Chegou Jesus, estando as portas fechadas, e apresentou-se no meio, e disse: Paz sej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a Tomé: Põe aqui o teu dedo, e vê as minhas mãos; e chega a tua mão, e põe-na no meu lado; e não sejas incrédulo, mas cr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é respondeu, e disse-lhe: Senhor meu, e Deus meu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Porque me viste, Tomé, creste; bem-aventurados os que não viram e c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dro saiu com o outro discípulo, e foram a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is, operou também em presença de seus discípulos muitos outros sinais, que não estão escritos neste liv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rém, foram escritos para que creiais que Jesus é o Cristo, o Filho de Deus, e para que, crendo, tenhais vida em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ois corriam juntos, mas o outro discípulo correu mais apressadamente do que Pedro, e chegou primeiro a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baixando-se, viu no chão os lençóis; todavia não ent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ou, pois, Simão Pedro, que o seguia, e entrou no sepulcro, e viu no chão os lençó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o lenço, que tinha estado sobre a sua cabeça, não estava com os lençóis, mas enrolado num lugar à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também o outro discípulo, que chegara primeiro ao sepulcro, e viu, e c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não sabiam a Escritura, que era necessário que ressuscitasse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26Z</dcterms:created>
  <dc:creator>Admin</dc:creator>
  <dc:description/>
  <dc:language>en-US</dc:language>
  <cp:lastModifiedBy>Admin</cp:lastModifiedBy>
  <dcterms:modified xsi:type="dcterms:W3CDTF">2008-07-31T00:04:26Z</dcterms:modified>
  <cp:revision>1</cp:revision>
  <dc:subject/>
  <dc:title>Slide 1</dc:title>
</cp:coreProperties>
</file>