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2FE3-B7BF-48BA-BEE6-2883DF79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F2F-D9C8-4780-837D-0176A494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93C-77BE-4683-B53F-C256A717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B79-E65E-4033-910E-7745E69A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732-251A-42C9-8277-2CDCF563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D1A-2693-4E33-9B6A-DAA035EE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2013-1D91-479C-9AD4-C94D5EBC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777-06B8-4947-8094-6EC916F8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743C-C836-4A2F-BE94-6C4DBE8F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9DB-D3E7-492F-91DF-6D345E91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6E9-1FF1-4C2E-BC9A-08D51A70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0A9-6C71-4239-8783-750035DD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BA44-E39A-4051-86A7-09F83F82926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se ouvires a voz do SENHOR teu Deus, tendo cuidado de guardar todos os seus mandamentos que eu hoje te ordeno, o SENHOR teu Deus te exaltará sobre todas as naçõe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povos da terra verão que é invocado sobre ti o nome do SENHOR, e terão temor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te dará abundância de bens no fruto do teu ventre, e no fruto dos teus animais, e no fruto do teu solo, sobre a terra que o SENHOR jurou a teus pais te 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e abrirá o seu bom tesouro, o céu, para dar chuva à tua terra no seu tempo, e para abençoar toda a obra das tuas mãos; e emprestarás a muitas nações, porém tu não tomarás empres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te porá por cabeça, e não por cauda; e só estarás em cima, e não debaixo, se obedeceres aos mandamentos do SENHOR teu Deus, que hoje te ordeno, para os guardar e cumpr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te desviarás de todas as palavras que hoje te ordeno, nem para a direita nem para a esquerda, andando após outros deuses, para os servi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, porém, que, se não deres ouvidos à voz do SENHOR teu Deus, para não cuidares em cumprir todos os seus mandamentos e os seus estatutos, que hoje te ordeno, então virão sobre ti todas estas maldições, e te alcançarã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dito serás tu na cidade, e maldito serás n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dito o teu cesto e a tua amassad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dito o fruto do teu ventre, e o fruto da tua terra, e as crias das tuas vacas, e das tu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dito serás ao entrares, e maldito serás ao saí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s estas bênçãos virão sobre ti e te alcançarão, quando ouvires a voz do SENHOR teu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mandará sobre ti a maldição; a confusão e a derrota em tudo em que puseres a mão para fazer; até que sejas destruído, e até que repentinamente pereças, por causa da maldade das tuas obras, pelas quais me deix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fará pegar em ti a pestilência, até que te consuma da terra a que passas a possu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e ferirá com a tísica e com a febre, e com a inflamação, e com o calor ardente, e com a secura, e com crestamento e com ferrugem; e te perseguirão até que pere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teus céus, que estão sobre a cabeça, serão de bronze; e a terra que está debaixo de ti, será de fe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ará por chuva sobre a tua terra, pó e poeira; dos céus descerá sobre ti, até que pere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e fará cair diante dos teus inimigos; por um caminho sairás contra eles, e por sete caminhos fugirás de diante deles, e serás espalhado por todos os reino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teu cadáver servirá de comida a todas as aves dos céus, e aos animais da terra; e ninguém os espan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e ferirá com as úlceras do Egito, com tumores, e com sarna, e com coceira, de que não possas curar-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e ferirá com loucura, e com cegueira, e com pasmo de cor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alparás ao meio dia, como o cego apalpa na escuridão, e não prosperarás nos teus caminhos; porém somente serás oprimido e roubado todos os dias, e não haverá quem te sal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serás na cidade, e bendito serás n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posar-te-ás com uma mulher, porém outro homem dormirá com ela; edificarás uma casa, porém não morarás nela; plantarás uma vinha, porém não aproveitarás o seu fr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u boi será morto aos teus olhos, porém dele não comerás; o teu jumento será roubado diante de ti, e não voltará a ti; as tuas ovelhas serão dadas aos teus inimigos, e não haverá quem te sal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us filhos e tuas filhas serão dados a outro povo, os teus olhos o verão, e por eles desfalecerão todo o dia; porém não haverá poder na t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ruto da tua terra e todo o teu trabalho, comerá um povo que nunca conheceste; e tu serás oprimido e quebrantado todos 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louquecerás com o que vires com os t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e ferirá com úlceras malignas nos joelhos e nas pernas, de que não possas sarar, desde a planta do teu pé até ao alto d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e levará a ti e a teu rei, que tiveres posto sobre ti, a uma nação que não conheceste, nem tu nem teus pais; e ali servirás a outros deuses, ao pau e à ped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s por pasmo, por ditado, e por fábula, entre todos os povos a que o SENHOR te lev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nçarás muita semente ao campo; porém colherás pouco, porque o gafanhoto a consum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lantarás vinhas, e cultivarás; porém não beberás vinho, nem colherás as uvas; porque o bicho as colh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o fruto do teu ventre, e o fruto da tua terra, e o fruto dos teus animais; e as crias das tuas vacas e das tu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todos os termos terás oliveiras; porém não te ungirás com azeite; porque a azeitona cairá da tua oliv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s e filhas gerarás; porém não serão para ti; porque irão em cativ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teu arvoredo e o fruto da tua terra consumirá a laga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strangeiro, que está no meio de ti, se elevará muito sobre ti, e tu mais baixo descerá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te emprestará a ti, porém tu não emprestarás a ele; ele será por cabeça, e tu serás por cau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s estas maldições virão sobre ti, e te perseguirão, e te alcançarão, até que sejas destruído; porquanto não ouviste à voz do SENHOR teu Deus, para guardares os seus mandamentos, e os seus estatutos, que te tem orden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ão entre ti por sinal e por maravilha, como também entre a tua descendênci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não serviste ao SENHOR teu Deus com alegria e bondade de coração, pela abundância de t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rvirás aos teus inimigos, que o SENHOR enviará contra ti, com fome e com sede, e com nudez, e com falta de tudo; e sobre o teu pescoço porá um jugo de ferro, até que te tenha destruí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levantará contra ti uma nação de longe, da extremidade da terra, que voa como a águia, nação cuja língua não entenderá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o teu cesto e a tua amassad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ção feroz de rosto, que não respeitará o rosto do velho, nem se apiedará do moç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rá o fruto dos teus animais, e o fruto da tua terra, até que sejas destruído; e não te deixará grão, mosto, nem azeite, nem crias das tuas vacas, nem das tuas ovelhas, até que te haja consumi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itiar-te-á em todas as tuas portas, até que venham a cair os teus altos e fortes muros, em que confiavas em toda a tua terra; e te sitiará em todas as tuas portas, em toda a tua terra que te tem dado 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rás o fruto do teu ventre, a carne de teus filhos e de tuas filhas, que te der o SENHOR teu Deus, no cerco e no aperto com que os teus inimigos te apert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homem mais mimoso e delicado no meio de ti, o seu olho será maligno para com o seu irmão, e para com a mulher do seu regaço, e para com os demais de seus filhos que ainda lhe ficar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 não dará a nenhum deles da carne de seus filhos, que ele comer; porquanto nada lhe ficou de resto no cerco e no aperto, com que o teu inimigo te apertará em todas as tuas po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à mulher mais mimosa e delicada no meio de ti, que de mimo e delicadeza nunca tentou pôr a planta de seu pé sobre a terra, será maligno o seu olho contra o homem de seu regaço, e contra seu filho, e contra sua filh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to por causa de suas páreas, que saírem dentre os seus pés, e para com os seus filhos que tiver, porque os comerá às escondidas pela falta de tudo, no cerco e no aperto, com que o teu inimigo te apertará nas tuas po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não tiveres cuidado de guardar todas as palavras desta lei, que estão escritas neste livro, para temeres este nome glorioso e temível, O SENHOR TEU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fará espantosas as tuas pragas, e as pragas de tua descendência, grandes e permanentes pragas, e enfermidades malignas e duradour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serás ao entrares, e bendito serás ao saí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á tornar sobre ti todos os males do Egito, de que tu tiveste temor, e se apegarão 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SENHOR fará vir sobre ti toda a enfermidade e toda a praga, que não está escrita no livro desta lei, até que sejas destruí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careis poucos em número, em lugar de haverem sido como as estrelas dos céus em multidão; porquanto não destes ouvidos à voz d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assim como o SENHOR se deleitava em vós, em fazer-vos bem e multiplicar-vos, assim o SENHOR se deleitará em destruir-vos e consumir-vos; e desarraigados sereis da terra a qual passais a possu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6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vos espalhará entre todos os povos, desde uma extremidade da terra até à outra; e ali servireis a outros deuses que não conheceste, nem tu nem teus pais; ao pau e à ped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6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m ainda entre estas nações descansarás, nem a planta de teu pé terá repouso; porquanto o SENHOR ali te dará coração agitado, e desfalecimento de olhos, e desmaio d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6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ua vida, como em suspenso, estará diante de ti; e estremecerás de noite e de dia, e não crerás na tua própri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6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manhã dirás: Ah! quem me dera ver a noite! E à tarde dirás: Ah! quem me dera ver a manhã! pelo pasmo de teu coração, que sentirás, e pelo que verás com os t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6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te fará voltar ao Egito em navios, pelo caminho de que te tenho dito; nunca jamais o verás; e ali sereis vendidos como escravos e escravas aos vossos inimigos; mas não haverá quem vos co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entregará, feridos diante de ti, os teus inimigos, que se levantarem contra ti; por um caminho sairão contra ti, mas por sete caminhos fugirão da tua prese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mandará que a bênção esteja contigo nos teus celeiros, e em tudo o que puseres a tua mão; e te abençoará na terra que te der 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e confirmará para si como povo santo, como te tem jurado, quando guardares os mandamentos do SENHOR teu Deus, e andares nos seu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8:49Z</dcterms:created>
  <dc:creator>Admin</dc:creator>
  <dc:description/>
  <dc:language>en-US</dc:language>
  <cp:lastModifiedBy>Admin</cp:lastModifiedBy>
  <dcterms:modified xsi:type="dcterms:W3CDTF">2008-07-30T23:28:49Z</dcterms:modified>
  <cp:revision>1</cp:revision>
  <dc:subject/>
  <dc:title>Slide 1</dc:title>
</cp:coreProperties>
</file>