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484-3064-4790-BA31-AFDDC74E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0F3-A009-4A68-8D8D-D33A5B4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5A0-4D06-42D6-BF52-C01C794C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BB0-2267-424C-96EC-582F45FC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6E1-9939-4575-9C8D-F266B13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59F-9333-4439-96F8-2AE5078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409-DB7E-4AE6-8AB4-B57C268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4E3-22DA-4183-88ED-D6E202A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327-B8AE-4F74-9B40-7A8B026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6E1-D17E-4314-B326-4306773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1CB-062E-4067-9676-077CD43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416-4EAF-4975-A769-F057006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321-741F-4F2F-B70C-C2E35F11F4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foi para o Monte das Oliv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direitando-se Jesus, e não vendo ninguém mais do que a mulher, disse-lhe: Mulher, onde estão aqueles teus acusadores? Ninguém te conden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Ninguém, Senhor. E disse-lhe Jesus: Nem eu também te condeno; vai-te, e não peques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-lhes, pois, Jesus outra vez, dizendo: Eu sou a luz do mundo; quem me segue não andará em trevas, mas terá a luz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, os fariseus: Tu testificas de ti mesmo; o teu testemunho não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, e disse-lhes: Ainda que eu testifico de mim mesmo, o meu testemunho é verdadeiro, porque sei de onde vim, e para onde vou; mas vós não sabeis de onde venho, nem para onde 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julgais segundo a carne; eu a ninguém jul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a verdade julgo, o meu juízo é verdadeiro, porque não sou eu só, mas eu e o Pai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vossa lei está também escrito que o testemunho de dois homens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que testifico de mim mesmo, e de mim testifica também o Pai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Onde está teu Pai? Jesus respondeu: Não me conheceis a mim, nem a meu Pai; se vós me conhecêsseis a mim, também conheceríeis a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manhã cedo tornou para o templo, e todo o povo vinha ter com ele, e, assentando-se, os ensin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palavras disse Jesus no lugar do tesouro, ensinando no templo, e ninguém o prendeu, porque ainda não era chegada a su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 outra vez: Eu retiro-me, e buscar-me-eis, e morrereis no vosso pecado. Para onde eu vou, não podeis vós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, pois, os judeus: Porventura quererá matar-se a si mesmo, pois diz: Para onde eu vou não podeis 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: Vós sois de baixo, eu sou de cima; vós sois deste mundo, eu não sou deste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os disse que morrereis em vossos pecados, porque se não crerdes que eu sou, morrereis em v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Quem és tu? Jesus lhes disse: Isso mesmo que já desde o princípio vos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 tenho que dizer e julgar de vós, mas aquele que me enviou é verdadeiro; e o que dele tenho ouvido, isso falo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entenderam que ele lhes falava d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Quando levantardes o Filho do homem, então conhecereis quem eu sou, e que nada faço por mim mesmo; mas falo como meu Pai me ens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me enviou está comigo. O Pai não me tem deixado só, porque eu faço sempre o que lhe ag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e fariseus trouxeram-lhe uma mulher apanhada em adulté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 ele estas coisas, muitos cr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dizia, pois, aos judeus que criam nele: Se vós permanecerdes na minha palavra, verdadeiramente sereis meus discípu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reis a verdade, e a verdade vos liber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-lhe: Somos descendência de Abraão, e nunca servimos a ninguém; como dizes tu: Sereis liv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 Jesus: Em verdade, em verdade vos digo que todo aquele que comete pecado é serv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o servo não fica para sempre em casa; o Filho fic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o Filho vos libertar, verdadeiramente sereis liv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ei que sois descendência de Abraão; contudo, procurais matar-me, porque a minha palavra não entra e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alo do que vi junto de meu Pai, e vós fazeis o que também vistes junto de v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, e disseram-lhe: Nosso pai é Abraão. Jesus disse-lhes: Se fôsseis filhos de Abraão, faríeis as obras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-a no meio, disseram-lhe: Mestre, esta mulher foi apanhada, no próprio ato, adulter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procurais matar-me, a mim, homem que vos tem dito a verdade que de Deus tem ouvido; Abraão não fez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fazeis as obras de vosso pai. Disseram-lhe, pois: Nós não somos nascidos de prostituição; temos um Pai, que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Se Deus fosse o vosso Pai, certamente me amaríeis, pois que eu saí, e vim de Deus; não vim de mim mesmo, mas el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entendeis a minha linguagem? Por não poderdes ouvir a minh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endes por pai ao diabo, e quereis satisfazer os desejos de vosso pai. Ele foi homicida desde o princípio, e não se firmou na verdade, porque não há verdade nele. Quando ele profere mentira, fala do que lhe é próprio, porque é mentiroso, e pai da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orque vos digo a verdade, não me cr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ntre vós me convence de pecado? E se vos digo a verdade, por que não cre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de Deus escuta as palavras de Deus; por isso vós não as escutais, porque não soi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, pois, os judeus, e disseram-lhe: Não dizemos nós bem que és samaritano, e que tens demôn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Eu não tenho demônio, antes honro a meu Pai, e vós me deson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lei nos mandou Moisés que as tais sejam apedrejadas. Tu, pois, que di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ão busco a minha glória; há quem a busque, e jul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, em verdade vos digo que, se alguém guardar a minha palavra, nunca verá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, os judeus: Agora conhecemos que tens demônio. Morreu Abraão e os profetas; e tu dizes: Se alguém guardar a minha palavra, nunca provará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 maior do que o nosso pai Abraão, que morreu? E também os profetas morreram. Quem te fazes tu s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Se eu me glorifico a mim mesmo, a minha glória não é nada; quem me glorifica é meu Pai, o qual dizeis que é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não o conheceis, mas eu conheço-o. E, se disser que o não conheço, serei mentiroso como vós; mas conheço-o e guardo 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aão, vosso pai, exultou por ver o meu dia, e viu-o, e aleg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, os judeus: Ainda não tens cinqüenta anos, e viste Abra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Jesus: Em verdade, em verdade vos digo que antes que Abraão existisse,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garam em pedras para lhe atirarem; mas Jesus ocultou-se, e saiu do templo, passando pelo meio deles, e assim se reti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diziam eles, tentando-o, para que tivessem de que o acusar. Mas Jesus, inclinando-se, escrevia com o ded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insistissem, perguntando-lhe, endireitou-se, e disse-lhes: Aquele que de entre vós está sem pecado seja o primeiro que atire pedra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rnando a inclinar-se, escrevi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uviram isto, redargüidos da consciência, saíram um a um, a começar pelos mais velhos até aos últimos; ficou só Jesus e a mulher que estava n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25Z</dcterms:created>
  <dc:creator>Admin</dc:creator>
  <dc:description/>
  <dc:language>en-US</dc:language>
  <cp:lastModifiedBy>Admin</cp:lastModifiedBy>
  <dcterms:modified xsi:type="dcterms:W3CDTF">2008-07-31T00:03:25Z</dcterms:modified>
  <cp:revision>1</cp:revision>
  <dc:subject/>
  <dc:title>Slide 1</dc:title>
</cp:coreProperties>
</file>