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179-04AF-4881-8C5A-DE260C52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A8B-5FE9-4515-B4F1-6F825728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2CE-5FAC-40C9-A667-BA76F390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1F2-54B3-4839-B027-2771BAE7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972-A214-4B73-A422-02049BC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A7B-9544-460D-B099-B308EDE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F3B-FA50-477E-AF13-AAAEFF7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71C-6B51-4F6D-9D3F-55E2BC6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E57-1BAF-4A9B-B27E-2D68EFB2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700-8C94-4311-9CAB-38D9310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09D-2D2E-4BF2-B4B5-70B15F2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3DA-9D6E-40E5-8AC2-0D0C887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88A-098E-4C8B-903A-A8B818B0B0B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 meu servo, a quem sustenho, o meu eleito, em quem se apraz a minha alma; pus o meu espírito sobre ele; ele trará justiça a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 um cântico novo, e o seu louvor desde a extremidade da terra; vós os que navegais pelo mar, e tudo quanto há nele; vós, ilhas, e seus habit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cem a voz o deserto e as suas cidades, com as aldeias que Quedar habita; exultem os que habitam nas rochas, e clamem do cume d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êem a glória ao SENHOR, e anunciem o seu louvor nas 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airá como poderoso, como homem de guerra despertará o zelo; clamará, e fará grande ruído, e prevalecerá contra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uito tempo me calei; estive em silêncio, e me contive; mas agora darei gritos como a que está de parto, e a todos os assolarei e juntamente devo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e outeiros tornarei em deserto, e toda a sua erva farei secar, e tornarei os rios em ilhas, e as lagoas se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iarei os cegos pelo caminho que nunca conheceram, fá-los-ei caminhar pelas veredas que não conheceram; tornarei as trevas em luz perante eles, e as coisas tortas farei direitas. Estas coisas lhes farei, e nunca os desamp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ão atrás e confundir-se-ão de vergonha os que confiam em imagens de escultura, e dizem às imagens de fundição: Vós sois noss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rdos, ouvi, e vós, cegos, olhai, para que possais 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cego, senão o meu servo, ou surdo como o meu mensageiro, a quem envio? E quem é cego como o que é perfeito, e cego como o servo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lamará, não se exaltará, nem fará ouvir a sua voz na p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vês muitas coisas, mas não as guardas; ainda que tenhas os ouvidos abertos, nada ou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agradava dele por amor da sua justiça; engrandeceu-o pela lei, e o fez glor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 é um povo roubado e saqueado; todos estão enlaçados em cavernas, e escondidos em cárceres; são postos por presa, e ninguém há que os livre; por despojo, e ninguém diz: Restit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há entre vós que ouça isto, que atenda e ouça o que há de ser depo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entregou a Jacó por despojo, e a Israel aos roubadores? Porventura não foi o SENHOR, aquele contra quem pecamos, e nos caminhos do qual não queriam andar, não dando ouvidos à sua 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erramou sobre eles a indignação da sua ira, e a força da guerra, e lhes pôs labaredas em redor; porém nisso não atentaram; e os queimou, mas não puseram nisso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na trilhada não quebrará, nem apagará o pavio que fumega; com verdade trará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ltará, nem será quebrantado, até que ponha na terra a justiça; e as ilhas aguardarão a s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Deus, o SENHOR, que criou os céus, e os estendeu, e espraiou a terra, e a tudo quanto produz; que dá a respiração ao povo que nela está, e o espírito aos que andam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o SENHOR, te chamei em justiça, e te tomarei pela mão, e te guardarei, e te darei por aliança do povo, e para luz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brir os olhos dos cegos, para tirar da prisão os presos, e do cárcere os que jazem em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; este é o meu nome; a minha glória, pois, a outrem não darei, nem o meu louvor às imagens de esc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s primeiras coisas já se cumpriram, e as novas eu vos anuncio, e, antes que venham à luz, vo-las faço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14Z</dcterms:created>
  <dc:creator>Admin</dc:creator>
  <dc:description/>
  <dc:language>en-US</dc:language>
  <cp:lastModifiedBy>Admin</cp:lastModifiedBy>
  <dcterms:modified xsi:type="dcterms:W3CDTF">2008-07-30T23:56:14Z</dcterms:modified>
  <cp:revision>1</cp:revision>
  <dc:subject/>
  <dc:title>Slide 1</dc:title>
</cp:coreProperties>
</file>