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95A-C2F7-40E0-886F-BE4C75F0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9EC-AABC-423B-925A-DDF31128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273-F323-4FA9-A3AE-EBE5B1AA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7AC-36A8-4526-AAB4-656BEF05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190-D10E-43E9-AF16-1026144A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850-2B1B-4EE7-B6B5-3E9ECDF6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102-BA60-40DC-9982-5F4A165D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99C-9CAF-401B-A3DA-ECBF458D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643-AE6F-4C83-8676-A523F997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724-734D-4859-85A4-F7206436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DBB-9485-48B9-959E-6AE6DDFE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4EE-3E5E-47F6-BBBB-580610B2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15EA-8D05-4705-8667-841A0F6C7AC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, pois, Davi já velho, e cheio de dias, fez a Salomão, seu filho, rei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Simei: Jaate, Ziza, Jeús, e Berias; estes foram os filhos de Simei,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ate era o chefe, e Ziza o segundo, mas Jeús e Berias não tiveram muitos filhos; por isso estes, sendo contados juntos se tornaram uma só famíl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Coate: Anrão, Izar, Hebrom, e Uziel,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nrão: Arão e Moisés; e Arão foi separado para santificar o santo dos santos, ele e seus filhos, eternamente; para incensar diante do SENHOR, para o servirem, e para darem a bênção em seu nome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 Moisés, homem de Deus, seus filhos foram contados entre os da tribo de L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, pois, os filhos de Moisés, Gérson e Elié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Gérson foi Sebuel o chef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s filhos de Eliézer, foi Reabias o chefe; e Eliézer não teve outros filhos; porém os filhos de Reabias foram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Izar foi Selomite o chef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filhos de Hebrom, foram Jerias o primeiro, Amarias o segundo, Jaaziel o terceiro, e Jecameão o qua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uniu a todos os príncipes de Israel, como também aos sacerdotes e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filhos de Uziel, Mica o chefe, e Issias o seg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Merari: Mali, e Musi; os filhos de Mali: Eleazar e Qu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Eleazar, e não teve filhos, porém filhas; e os filhos de Quis, seus parentes, as tomaram por mul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Musi: Mali, e Eder, e Jeremote,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Levi, segundo a casa de seus pais, chefes dos pais, conforme foram contados pelos seus nomes, segundo as suas cabeças, que faziam a obra do ministério da casa do SENHOR, desde a idade de vinte anos para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sse Davi: O SENHOR Deus de Israel deu repouso ao seu povo, e habitará em Jerusalém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, quanto aos levitas, que nunca mais levassem o tabernáculo, nem algum de seus aparelhos pertencentes ao seu minis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gundo as últimas palavras de Davi, foram contados os filhos de Levi da idade de vinte anos para cim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u cargo era assistir aos filhos de Arão no ministério da casa do SENHOR, nos átrios, e nas câmaras, e na purificação de todas as coisas sagradas, e na obra do ministério d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aber: para os pães da proposição, e para a flor de farinha, para a oferta de alimentos, e para os coscorões ázimos, e para as sertãs, e para o tostado, e para todo o peso e medi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contados os levitas de trinta anos para cima; e foi o número deles, segundo as suas cabeças, trinta e oito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estarem cada manhã em pé para louvarem e celebrarem ao SENHOR; e semelhantemente à tar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oferecerem os holocaustos do SENHOR, aos sábados, nas luas novas, e nas solenidades, segundo o seu número e costume, continuamente perante 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que tivessem cuidado da guarda da tenda da congregação, e da guarda do santuário, e da guarda dos filhos de Arão, seus irmãos, no ministério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es havia vinte e quatro mil, para promoverem a obra da casa do SENHOR, e seis mil oficiais e juíz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tro mil porteiros, e quatro mil para louvarem ao SENHOR com os instrumentos, que eu fiz para o louvar, diss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os repartiu por turnos, segundo os filhos de Levi, Gérson, Coate e Mera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gersonitas: Ladã e Sim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Ladã: Jeiel, o chefe, e Zetã, e Joel,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imei: Selomite, Haziel, e Harã, três; estes foram os chefes dos pais de La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38Z</dcterms:created>
  <dc:creator>Admin</dc:creator>
  <dc:description/>
  <dc:language>en-US</dc:language>
  <cp:lastModifiedBy>Admin</cp:lastModifiedBy>
  <dcterms:modified xsi:type="dcterms:W3CDTF">2008-07-30T23:43:38Z</dcterms:modified>
  <cp:revision>1</cp:revision>
  <dc:subject/>
  <dc:title>Slide 1</dc:title>
</cp:coreProperties>
</file>