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C2D-817E-4C19-B6A4-9FF827BA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3E0-9A41-4354-8CD2-746AA717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583-B5D3-4065-9F9C-A67E681F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F65-3F80-486E-B318-2D5A2FFC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212-B8C5-427D-9E87-C61D162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AF6-0DBF-4B6D-ABC1-5689C0A9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74E-2E76-443E-BDE3-3D047A0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CEA-280C-49C7-8A0E-09BF882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47D-9B7E-43B6-B8E4-A2610FB2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3F5-584B-4EDD-BCDD-179FCEB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927-1515-4B11-8B29-888DF87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81B-B0C4-41AD-A974-719632AF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E48-DBE3-4258-BEDA-17199140897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discípulos: É impossível que não venham escândalos, mas ai daquele por quem viere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, quando fizerdes tudo o que vos for mandado, dizei: Somos servos inúteis, porque fizemos somente o que devíamo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indo ele a Jerusalém, passou pelo meio de Samaria e da Galilé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uma certa aldeia, saíram-lhe ao encontro dez homens leprosos, os quais pararam de long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 a voz, dizendo: Jesus, Mestre, tem misericórdia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vendo-os, disse-lhes: Ide, e mostrai-vos aos sacerdotes. E aconteceu que, indo eles, ficaram li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eles, vendo que estava são, voltou glorificando a Deus em alta vo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u aos seus pés, com o rosto em terra, dando-lhe graças; e este era samarit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: Não foram dez os limpos? E onde estão os no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ouve quem voltasse para dar glória a Deus senão este estrang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Levanta-te, e vai; a tua fé te sal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lhe fora que lhe pusessem ao pescoço uma mó de atafona, e fosse lançado ao mar, do que fazer tropeçar um destes pequ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terrogado pelos fariseus sobre quando havia de vir o reino de Deus, respondeu-lhes, e disse: O reino de Deus não vem com aparência ex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irão: Ei-lo aqui, ou: Ei-lo ali; porque eis que o reino de Deus está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discípulos: Dias virão em que desejareis ver um dos dias do Filho do homem, e não o v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-vos-ão: Ei-lo aqui, ou: Ei-lo ali. Não vades, nem os sig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o relâmpago ilumina desde uma extremidade inferior do céu até à outra extremidade, assim será também o Filho do homem n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rimeiro convém que ele padeça muito, e seja reprovado por es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aconteceu nos dias de Noé, assim será também nos dias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iam, bebiam, casavam, e davam-se em casamento, até ao dia em que Noé entrou na arca, e veio o dilúvio, e os consumiu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da mesma maneira aconteceu nos dias de Ló: Comiam, bebiam, compravam, vendiam, plantavam e edificav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dia em que Ló saiu de Sodoma choveu do céu fogo e enxofre, e os consumiu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or vós mesmos. E, se teu irmão pecar contra ti, repreende-o e, se ele se arrepender, perdoa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no dia em que o Filho do homem se há de manifes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quem estiver no telhado, tendo as suas alfaias em casa, não desça a tomá-las; e, da mesma sorte, o que estiver no campo não volte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 mulher de 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procurar salvar a sua vida, perdê-la-á, e qualquer que a perder, salvá-la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 naquela noite estarão dois numa cama; um será tomado, e outro será deix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uas estarão juntas, moendo; uma será tomada, e outra será deix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estarão no campo; um será tomado, o outro será deix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, disseram-lhe: Onde, Senhor? E ele lhes disse: Onde estiver o corpo, aí se ajuntarão as ág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pecar contra ti sete vezes no dia, e sete vezes no dia vier ter contigo, dizendo: Arrependo-me; perdoa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então os apóstolos ao Senhor: Acrescenta-nos 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Se tivésseis fé como um grão de mostarda, diríeis a esta amoreira: Desarraiga-te daqui, e planta-te no mar; e ela vos obedec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de vós terá um servo a lavrar ou a apascentar gado, a quem, voltando ele do campo, diga: Chega-te, e assenta-te à me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lhe diga antes: Prepara-me a ceia, e cinge-te, e serve-me até que tenha comido e bebido, e depois comerás e beberá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dá graças ao tal servo, porque fez o que lhe foi mandado? Creio que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42Z</dcterms:created>
  <dc:creator>Admin</dc:creator>
  <dc:description/>
  <dc:language>en-US</dc:language>
  <cp:lastModifiedBy>Admin</cp:lastModifiedBy>
  <dcterms:modified xsi:type="dcterms:W3CDTF">2008-07-31T00:11:42Z</dcterms:modified>
  <cp:revision>1</cp:revision>
  <dc:subject/>
  <dc:title>Slide 1</dc:title>
</cp:coreProperties>
</file>