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A08-E8DB-4050-97E3-1855FB21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C7B-7516-4DDD-BB46-9E34072F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DD2-B4FF-4545-B6A5-011FD548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45A-D8A3-48E0-A663-AD2AC426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48F-3DB1-41CF-A3B9-6759FA11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C82-6C35-4190-9969-444E5093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510-9EF0-4236-AFE7-C976DE03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26C-CCA4-4341-8CF7-4F7F6275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599-2544-4E52-A3B8-5111DDB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67D-7978-4754-B4D0-CC702CE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764-B5F3-4EFC-BCA6-93EE877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788-DC09-43D5-8951-FA259EC7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1682-2F6C-47B8-AB91-019B2920C8C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dia vinte e quatro deste mês, ajuntaram-se os filhos de Israel com jejum e com sacos, e traziam terra sobre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straste sinais e prodígios a Faraó, e a todos os seus servos, e a todo o povo da sua terra, porque soubeste que soberbamente os trataram; e assim adquiriste para ti nome, como hoje s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ar fendeste perante eles, e passaram pelo meio do mar, em seco; e lançaste os seus perseguidores nas profundezas, como uma pedra nas águas viole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uiaste-os de dia por uma coluna de nuvem, e de noite por uma coluna de fogo, para lhes iluminar o caminho por onde haviam de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o monte Sinai desceste, e dos céus falaste com eles, e deste-lhes juízos retos e leis verdadeiras, estatutos e mandamentos b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u santo sábado lhes fizeste conhecer; e preceitos, estatutos e lei lhes mandaste pelo ministério de Moisés,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ão dos céus lhes deste na sua fome, e água da penha lhes produziste na sua sede; e lhes disseste que entrassem para possuírem a terra pela qual alçaste a tua mão, que lhes havias de 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s e nossos pais se houveram soberbamente, e endureceram a sua cerviz, e não deram ouvidos aos teu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cusaram ouvir-te, e não se lembraram das tuas maravilhas, que lhes fizeste, e endureceram a sua cerviz e, na sua rebelião, levantaram um capitão, a fim de voltarem para a sua servidão; porém tu, ó Deus perdoador, clemente e misericordioso, tardio 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mesmo quando eles fizeram para si um bezerro de fundição, e disseram: Este é o teu Deus, que te tirou do Egito; e cometeram grandes blasfêm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tu, pela multidão das tuas misericórdias, não os deixaste no deserto. A coluna de nuvem nunca se apartou deles de dia, para os guiar pelo caminho, nem a coluna de fogo de noite, para lhes iluminar; e isto pelo caminho por onde haviam de 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descendência de Israel se apartou de todos os estrangeiros, e puseram-se em pé, e fizeram confissão pelos seus pecados e pelas iniqüidades de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e o teu bom espírito, para os ensinar; e o teu maná não retiraste da sua boca; e água lhes deste na sua s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al modo os sustentaste quarenta anos no deserto; nada lhes faltou; as suas roupas não se envelheceram, e os seus pés não se inch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hes deste reinos e povos, e os repartiste em porções; e eles possuíram a terra de Siom, a saber, a terra do rei de Hesbom, e a terra de Ogue, rei de Ba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ltiplicaste os seus filhos como as estrelas do céu, e trouxeste-os à terra de que tinhas falado a seus pais que nela entrariam para a possuí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filhos entraram e possuíram aquela terra; e abateste perante eles os moradores da terra, os cananeus, e lhos entregaste na mão, como também os reis e os povos da terra, para fazerem deles conforme a sua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cidades fortificadas e terra fértil, e possuíram casas cheias de toda a fartura, cisternas cavadas, vinhas e olivais, e árvores frutíferas, em abundância; e comeram e se fartaram e engordaram e viveram em delícias, pela tua grande bon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se obstinaram, e se rebelaram contra ti, e lançaram a tua lei para trás das suas costas, e mataram os teus profetas, que protestavam contra eles, para que voltassem para ti; assim fizeram grandes abom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s entregaste na mão dos seus adversários, que os angustiaram; mas no tempo de sua angústia, clamando a ti, desde os céus tu ouviste; e segundo a tua grande misericórdia lhes deste libertadores que os libertaram da mão de seus advers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em tendo repouso, tornavam a fazer o mal diante de ti; e tu os deixavas na mão dos seus inimigos, para que dominassem sobre eles; e convertendo-se eles, e clamando a ti, tu os ouviste desde os céus, e segundo a tua misericórdia os livraste muit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stificaste contra eles, para que voltassem para a tua lei; porém eles se houveram soberbamente, e não deram ouvidos aos teus mandamentos, mas pecaram contra os teus juízos, pelos quais o homem que os cumprir viverá; viraram o ombro, endureceram a s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no seu lugar, leram no livro da lei do SENHOR seu Deus uma quarta parte do dia; e na outra quarta parte fizeram confissão, e adoraram a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stendeste a tua benignidade sobre eles por muitos anos, e testificaste contra eles pelo teu Espírito, pelo ministério dos teus profetas; porém eles não deram ouvidos; por isso os entregaste nas mãos dos povos d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ela tua grande misericórdia os não destruíste nem desamparaste, porque és um Deus clemente e misericordi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nosso Deus, o grande, poderoso e terrível Deus, que guardas a aliança e a beneficência, não tenhas em pouca conta toda a aflição que nos alcançou a nós, aos nossos reis, aos nossos príncipes, aos nossos sacerdotes, aos nossos profetas, aos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tu és justo em tudo quanto tem vindo sobre nós; porque tu tens agido fielmente, e nós temos agido impi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nossos reis, os nossos príncipes, os nossos sacerdotes, e os nossos pais não guardaram a tua lei, e não deram ouvidos aos teus mandamentos e aos teus testemunhos, que testificaste cont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s nem no seu reino, nem na muita abundância de bens que lhes deste, nem na terra espaçosa e fértil que puseste diante deles, te serviram, nem se converteram de suas má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hoje somos servos; e até na terra que deste a nossos pais, para comerem o seu fruto e o seu bem, eis que somos servos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multiplica os seus produtos para os reis, que puseste sobre nós, por causa dos nossos pecados; e conforme a sua vontade dominam sobre os nossos corpos e sobre o nosso gado; e estamos numa grande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davia fizemos uma firme aliança, e o escrevemos; e selaram-no os nossos príncipes, os nossos levitas e os nossos sacerdo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á, Bani, Cadmiel, Sebanias, Buni, Serebias, Bani e Quenani se puseram em pé no lugar alto dos levitas, e clamaram em alta voz ao SENHOR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, Jesuá, Cadmiel, Bani, Hasabnéias, Serebias, Hodias, Sebanias e Petaías, disseram: Levantai-vos, bendizei ao SENHOR vosso Deus de eternidade em eternidade; e bendigam o teu glorioso nome, que está exaltado sobre toda a bênção e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ó tu és SENHOR; tu fizeste o céu, o céu dos céus, e todo o seu exército, a terra e tudo quanto nela há, os mares e tudo quanto neles há, e tu os guardas com vida a todos; e o exército dos céus te ad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o SENHOR, o Deus, que elegeste a Abrão, e o tiraste de Ur dos caldeus, e lhe puseste por nome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ste o seu coração fiel perante ti, e fizeste com ele a aliança, de que darias à sua descendência a terra dos cananeus, dos heteus, dos amorreus, dos perizeus, dos jebuseus e dos girgaseus; e confirmaste as tuas palavras, porquanto és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ste a aflição de nossos pais no Egito, e ouviste o seu clamor junto ao Mar Verme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7:14Z</dcterms:created>
  <dc:creator>Admin</dc:creator>
  <dc:description/>
  <dc:language>en-US</dc:language>
  <cp:lastModifiedBy>Admin</cp:lastModifiedBy>
  <dcterms:modified xsi:type="dcterms:W3CDTF">2008-07-31T00:17:14Z</dcterms:modified>
  <cp:revision>1</cp:revision>
  <dc:subject/>
  <dc:title>Slide 1</dc:title>
</cp:coreProperties>
</file>