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6F77C-3E46-45B5-8AE6-4D58E6829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44F71-7759-4E1F-AB9E-F6EDDB47E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35F02-EED6-4091-AA7C-9E94204FF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8CA30-7E20-4FFA-9A20-76046F829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18AFE-DC08-4CE1-A5E5-2470F7619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1304A-9856-4CCD-853C-5A7D52EF6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C58C4-6487-4F2E-9A03-4CDE3C474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847A8-5EE3-479E-8FC7-14CEBCD33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49374-DC1B-4552-8E87-443F399F2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AB6F9-D042-4E41-B1B7-42EE35123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A790C-3293-4C36-B6D2-FD156270C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219BA-E20D-4076-8400-BAF037DBB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E2038-41EE-4982-9C6F-37401056F639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21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QUANDO se aproximaram de Jerusalém, e chegaram a Betfagé, ao Monte das Oliveiras, enviou, então, Jesus dois discípulos, dizendo-lhes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21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entrando ele em Jerusalém, toda a cidade se alvoroçou, dizendo: Quem é este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21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 multidão dizia: Este é Jesus, o profeta de Nazaré da Galilé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21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ntrou Jesus no templo de Deus, e expulsou todos os que vendiam e compravam no templo, e derribou as mesas dos cambistas e as cadeiras dos que vendiam pomba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21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-lhes: Está escrito: A minha casa será chamada casa de oração; mas vós a tendes convertido em covil de ladrõ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21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oram ter com ele no templo cegos e coxos, e curou-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21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Vendo, então, os principais dos sacerdotes e os escribas as maravilhas que fazia, e os meninos clamando no templo: Hosana ao Filho de Davi, indignaram-se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21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ram-lhe: Ouves o que estes dizem? E Jesus lhes disse: Sim; nunca lestes: Pela boca dos meninos e das criancinhas de peito tiraste o perfeito louvor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21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deixando-os, saiu da cidade para Betânia, e ali passou a noi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21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de manhã, voltando para a cidade, teve fome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21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avistando uma figueira perto do caminho, dirigiu-se a ela, e não achou nela senão folhas. E disse-lhe: Nunca mais nasça fruto de ti! E a figueira secou imediatamen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21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Ide à aldeia que está defronte de vós, e logo encontrareis uma jumenta presa, e um jumentinho com ela; desprendei-a, e trazei-m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21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discípulos, vendo isto, maravilharam-se, dizendo: Como secou imediatamente a figueira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21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Jesus, porém, respondendo, disse-lhes: Em verdade vos digo que, se tiverdes fé e não duvidardes, não só fareis o que foi feito à figueira, mas até se a este monte disserdes: Ergue-te, e precipita-te no mar, assim será feito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21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tudo o que pedirdes na oração, crendo, o receberei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21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chegando ao templo, acercaram-se dele, estando já ensinando, os príncipes dos sacerdotes e os anciãos do povo, dizendo: Com que autoridade fazes isto? e quem te deu tal autoridade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21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Jesus, respondendo, disse-lhes: Eu também vos perguntarei uma coisa; se ma disserdes, também eu vos direi com que autoridade faço is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21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batismo de João, de onde era? Do céu, ou dos homens? E pensavam entre si, dizendo: Se dissermos: Do céu, ele nos dirá: Então por que não o creste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21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se dissermos: Dos homens, tememos o povo, porque todos consideram João como profet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21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respondendo a Jesus, disseram: Não sabemos. Ele disse-lhes: Nem eu vos digo com que autoridade faço is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21:2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, que vos parece? Um homem tinha dois filhos, e, dirigindo-se ao primeiro, disse: Filho, vai trabalhar hoje na minha vinh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21:2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le, porém, respondendo, disse: Não quero. Mas depois, arrependendo-se, fo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21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se alguém vos disser alguma coisa, direis que o Senhor os há de mister; e logo os enviar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21:3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dirigindo-se ao segundo, falou-lhe de igual modo; e, respondendo ele, disse: Eu vou, senhor; e não fo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21:3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al dos dois fez a vontade do pai? Disseram-lhe eles: O primeiro. Disse-lhes Jesus: Em verdade vos digo que os publicanos e as meretrizes entram adiante de vós no reino de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21:3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João veio a vós no caminho da justiça, e não o crestes, mas os publicanos e as meretrizes o creram; vós, porém, vendo isto, nem depois vos arrependestes para o cre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21:3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uvi, ainda, outra parábola: Houve um homem, pai de família, que plantou uma vinha, e circundou-a de um valado, e construiu nela um lagar, e edificou uma torre, e arrendou-a a uns lavradores, e ausentou-se para long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21:3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chegando o tempo dos frutos, enviou os seus servos aos lavradores, para receber os seus frut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21:3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lavradores, apoderando-se dos servos, feriram um, mataram outro, e apedrejaram outr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21:3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pois enviou outros servos, em maior número do que os primeiros; e eles fizeram-lhes o mesm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21:3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por último, enviou-lhes seu filho, dizendo: Terão respeito a meu filh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21:3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os lavradores, vendo o filho, disseram entre si: Este é o herdeiro; vinde, matemo-lo, e apoderemo-nos da sua heranç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21:3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lançando mão dele, o arrastaram para fora da vinha, e o matara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21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ra, tudo isto aconteceu para que se cumprisse o que foi dito pelo profeta, que diz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21:4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ando, pois, vier o senhor da vinha, que fará àqueles lavradore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21:4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izem-lhe eles: Dará afrontosa morte aos maus, e arrendará a vinha a outros lavradores, que a seu tempo lhe dêem os frut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21:4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iz-lhes Jesus: Nunca lestes nas Escrituras: A pedra, que os edificadores rejeitaram, Essa foi posta por cabeça do ângulo; Pelo Senhor foi feito isto, E é maravilhoso aos nossos olho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21:4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tanto, eu vos digo que o reino de Deus vos será tirado, e será dado a uma nação que dê os seus frut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21:4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quem cair sobre esta pedra, despedaçar-se-á; e aquele sobre quem ela cair ficará reduzido a pó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21:4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príncipes dos sacerdotes e os fariseus, ouvindo estas palavras, entenderam que falava dele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21:4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pretendendo prendê-lo, recearam o povo, porquanto o tinham por profet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21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izei à filha de Sião: Eis que o teu Rei aí te vem, Manso, e assentado sobre uma jumenta, E sobre um jumentinho, filho de animal de carg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21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indo os discípulos, e fazendo como Jesus lhes ordenara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21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rouxeram a jumenta e o jumentinho, e sobre eles puseram as suas vestes, e fizeram-no assentar em cim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21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muitíssima gente estendia as suas vestes pelo caminho, e outros cortavam ramos de árvores, e os espalhavam pelo caminh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21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 multidão que ia adiante, e a que seguia, clamava, dizendo: Hosana ao Filho de Davi; bendito o que vem em nome do Senhor. Hosana nas alturas!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15:35Z</dcterms:created>
  <dc:creator>Admin</dc:creator>
  <dc:description/>
  <dc:language>en-US</dc:language>
  <cp:lastModifiedBy>Admin</cp:lastModifiedBy>
  <dcterms:modified xsi:type="dcterms:W3CDTF">2008-07-31T00:15:35Z</dcterms:modified>
  <cp:revision>1</cp:revision>
  <dc:subject/>
  <dc:title>Slide 1</dc:title>
</cp:coreProperties>
</file>