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1EA-79DF-4C35-A63E-D07C5A7A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F33-E23F-496F-B27D-447DFBA0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845-46F5-402D-BD7E-28DBA20F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B61-7274-4CCC-936E-828A8AB3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09C-1841-4D14-9380-24CD0FF4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1CF-4427-4335-8F8D-EEADDDDA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17E-48B1-43CB-8F94-8E54BD21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2F7-FE6B-4DA3-A2C9-EA8C8834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043-F001-419F-B4E8-01D0FF1D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A8C-5281-4980-904D-FA1373DE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948-D589-481F-BC61-C5933871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C4F-DC61-4D4E-B7EB-480C9F02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1726-BB99-4CE4-9649-1FB85C69FCA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ÇOU a falar-lhes por parábolas: Um homem plantou uma vinha, e cercou-a de um valado, e fundou nela um lagar, e edificou uma torre, e arrendou-a a uns lavradores, e partiu para fora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não lestes esta Escritura: A pedra, que os edificadores rejeitaram, Esta foi posta por cabeça de esquin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foi feito pelo Senhor E é coisa maravilhosa aos nossos ol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uscavam prendê-lo, mas temiam a multidão; porque entendiam que contra eles dizia esta parábola; e, deixando-o, foram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ram-lhe alguns dos fariseus e dos herodianos, para que o apanhassem nalgum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eles, disseram-lhe: Mestre, sabemos que és homem de verdade, e de ninguém se te dá, porque não olhas à aparência dos homens, antes com verdade ensinas o caminho de Deus; é lícito dar o tributo a César, ou não? Daremos, ou não dare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, conhecendo a sua hipocrisia, disse-lhes: Por que me tentais? Trazei-me uma moeda, para que a v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lha trouxeram. E disse-lhes: De quem é esta imagem e inscrição? E eles lhe disseram: De Cé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-lhes: Dai pois a César o que é de César, e a Deus o que é de Deus. E maravilharam-s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saduceus, que dizem que não há ressurreição, aproximaram-se dele, e perguntaram-lh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stre, Moisés nos escreveu que, se morresse o irmão de alguém, e deixasse a mulher e não deixasse filhos, seu irmão tomasse a mulher dele, e suscitasse descendência a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do o tempo, mandou um servo aos lavradores para que recebesse, dos lavradores, do fruto da v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havia sete irmãos, e o primeiro tomou a mulher, e morreu sem deixar descendênc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gundo também a tomou e morreu, e nem este deixou descendência; e o terceiro da mesma man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am-na os sete, sem, contudo, terem deixado descendência. Finalmente, depois de todos, morreu também 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ressurreição, pois, quando ressuscitarem, de qual destes será a mulher? porque os sete a tiveram por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-lhes: Porventura não errais vós em razão de não saberdes as Escrituras nem o poder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, quando ressuscitarem dentre os mortos, nem casarão, nem se darão em casamento, mas serão como os anjos que estão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erca dos mortos que houverem de ressuscitar, não tendes lido no livro de Moisés como Deus lhe falou na sarça, dizendo: Eu sou o Deus de Abraão, e o Deus de Isaque, e o Deus de Jacó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Deus não é de mortos, mas sim, é Deus de vivos. Por isso vós errais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oximou-se dele um dos escribas que os tinha ouvido disputar, e sabendo que lhes tinha respondido bem, perguntou-lhe: Qual é o primeiro de todos os mandamen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respondeu-lhe: O primeiro de todos os mandamentos é: Ouve, Israel, o SENHOR nosso Deus é o únic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tes, apoderando-se dele, o feriram e o mandaram embora vaz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rás, pois, ao Senhor teu Deus de todo o teu coração, e de toda a tua alma, e de todo o teu entendimento, e de todas as tuas forças; este é o primeiro mand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gundo, semelhante a este, é: Amarás o teu próximo como a ti mesmo. Não há outro mandamento maior do que 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scriba lhe disse: Muito bem, Mestre, e com verdade disseste que há um só Deus, e que não há outro além del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amá-lo de todo o coração, e de todo o entendimento, e de toda a alma, e de todas as forças, e amar o próximo como a si mesmo, é mais do que todos os holocaustos e sacrifí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vendo que havia respondido sabiamente, disse-lhe: Não estás longe do reino de Deus. E já ninguém ousava perguntar-lhe mais 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falando Jesus, dizia, ensinando no templo: Como dizem os escribas que o Cristo é filho de Dav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óprio Davi disse pelo Espírito Santo: O Senhor disse ao meu Senhor: Assenta-te à minha direita Até que eu ponha os teus inimigos por escabelo dos t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se Davi mesmo lhe chama SENHOR, como é logo seu filho? E a grande multidão o ouvia de boa von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sinando-os, dizia-lhes: Guardai-vos dos escribas, que gostam de andar com vestes compridas, e das saudações nas praç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s primeiras cadeiras nas sinagogas, e dos primeiros assentos nas ce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a enviar-lhes outro servo; e eles, apedrejando-o, o feriram na cabeça, e o mandaram embora, tendo-o afro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evoram as casas das viúvas, e isso com pretexto de largas orações. Estes receberão mais grave conde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Jesus assentado defronte da arca do tesouro, observava a maneira como a multidão lançava o dinheiro na arca do tesouro; e muitos ricos deitavam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rém, uma pobre viúva, deitou duas pequenas moedas, que valiam meio centa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amando os seus discípulos, disse-lhes: Em verdade vos digo que esta pobre viúva deitou mais do que todos os que deitaram na arca do tesou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ali deitaram do que lhes sobejava, mas esta, da sua pobreza, deitou tudo o que tinha, todo o seu sust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a enviar-lhes outro, e a este mataram; e a outros muitos, dos quais a uns feriram e a outros ma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ele, pois, ainda um seu filho amado, enviou-o também a estes por derradeiro, dizendo: Ao menos terão respeito ao m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queles lavradores disseram entre si: Este é o herdeiro; vamos, matemo-lo, e a herança será no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egando dele, o mataram, e o lançaram fora da v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fará, pois, o SENHOR da vinha? Virá, e destruirá os lavradores, e dará a vinha a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3:39Z</dcterms:created>
  <dc:creator>Admin</dc:creator>
  <dc:description/>
  <dc:language>en-US</dc:language>
  <cp:lastModifiedBy>Admin</cp:lastModifiedBy>
  <dcterms:modified xsi:type="dcterms:W3CDTF">2008-07-31T00:13:39Z</dcterms:modified>
  <cp:revision>1</cp:revision>
  <dc:subject/>
  <dc:title>Slide 1</dc:title>
</cp:coreProperties>
</file>