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12E1-3A94-45CF-8BB3-AE51CA27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C645-E3D6-4FD4-9880-19A84CD8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15E0-5538-436F-A2E7-8A7A6CC5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84BE-6DC2-4447-BEAB-C0F2693F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BA18-AF3E-487B-A192-4B669EF2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49AA-9C95-4C96-8923-5069C5E4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4513-16FF-46B0-9169-D5D94527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D1A1-1F88-4430-AAF0-E831B190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36DB-C3E5-4790-BA22-1C9C0021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E1A4-893B-41BB-A2CE-29DC1AB6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BD9B-45FE-42B6-AAF2-F48B359F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0008-5FC1-4AE2-945E-A77C2F68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8B33-5416-40DD-88A8-D6A42A82D9D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PEREI com paciência no SENHOR, e ele se inclinou para mim, e ouviu o meu cl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escondi a tua justiça dentro do meu coração; apregoei a tua fidelidade e a tua salvação. Não escondi da grande congregação a tua benignidade e a tu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retires de mim, SENHOR, as tuas misericórdias; guardem-me continuamente a tua benignidade e a tu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ales sem número me têm rodeado; as minhas iniqüidades me prenderam de modo que não posso olhar para cima. São mais numerosas do que os cabelos da minha cabeça; assim desfalece o m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gna-te, SENHOR, livrar-me: SENHOR, apressa-te em meu auxíl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m à uma confundidos e envergonhados os que buscam a minha vida para destruí-la; tornem atrás e confundam-se os que me querem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olados sejam em pago da sua afronta os que me dizem: Ah! Ah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lguem e alegrem-se em ti os que te buscam; digam constantemente os que amam a tua salvação: Magnificado seja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u sou pobre e necessitado; contudo o Senhor cuida de mim. Tu és o meu auxílio e o meu libertador; não te detenhas, ó m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rou-me dum lago horrível, dum charco de lodo, pôs os meus pés sobre uma rocha, firmou os meus pas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s um novo cântico na minha boca, um hino ao nosso Deus; muitos o verão, e temerão, e confiarão n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 o homem que põe no SENHOR a sua confiança, e que não respeita os soberbos nem os que se desviam para a ment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itas são, SENHOR meu Deus, as maravilhas que tens operado para conosco, e os teus pensamentos não se podem contar diante de ti; se eu os quisera anunciar, e deles falar, são mais do que se podem con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crifício e oferta não quiseste; os meus ouvidos abriste; holocausto e expiação pelo pecado não reclam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: Eis aqui venho; no rolo do livro de mim está esc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leito-me em fazer a tua vontade, ó Deus meu; sim, a tua lei está dentro do m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4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eguei a justiça na grande congregação; eis que não retive os meus lábios, SENHOR, tu o sab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15Z</dcterms:created>
  <dc:creator>Admin</dc:creator>
  <dc:description/>
  <dc:language>en-US</dc:language>
  <cp:lastModifiedBy>Admin</cp:lastModifiedBy>
  <dcterms:modified xsi:type="dcterms:W3CDTF">2008-07-31T00:25:15Z</dcterms:modified>
  <cp:revision>1</cp:revision>
  <dc:subject/>
  <dc:title>Slide 1</dc:title>
</cp:coreProperties>
</file>