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4E3-520F-4CB4-9AAD-F7248C48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4ED-E77A-4300-BBCB-D9BE3DF2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09B-91A5-4757-B824-F3BC471F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DD7-25F9-47A7-A7C6-6986C52F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D7E-4C11-43C0-B006-5E76DC60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BDC-30AE-40DA-844C-BE458191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32F-8E0E-467D-B02E-DE590C14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87F-3E98-47CD-8023-30B14B0B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041-B8A0-4368-B6A0-1037DB14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98E-E24E-47ED-98FB-F2427A8B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A4A-814D-4D9F-92CF-5A629CA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B87-DDEF-40A9-9E4C-552E8145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831D-FF31-4D4A-A205-D0A00A4AD9C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Jesus saído de casa, naquele dia, estava assentado junto ao m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ercando-se dele os discípulos, disseram-lhe: Por que lhes falas por parábol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respondendo, disse-lhes: Porque a vós é dado conhecer os mistérios do reino dos céus, mas a eles não lhes é d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àquele que tem, se dará, e terá em abundância; mas àquele que não tem, até aquilo que tem lhe será ti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lhes falo por parábolas; porque eles, vendo, não vêem; e, ouvindo, não ouvem nem compreen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les se cumpre a profecia de Isaías, que diz: Ouvindo, ouvireis, mas não compreendereis, E, vendo, vereis, mas não perceb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coração deste povo está endurecido, E ouviram de mau grado com seus ouvidos, E fecharam seus olhos; Para que não vejam com os olhos, E ouçam com os ouvidos, E compreendam com o coração, E se convertam, E eu os cu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bem-aventurados os vossos olhos, porque vêem, e os vossos ouvidos, porque ou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verdade vos digo que muitos profetas e justos desejaram ver o que vós vedes, e não o viram; e ouvir o que vós ouvis, e não o ou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utai vós, pois, a parábola do seme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 alguém a palavra do reino, e não a entendendo, vem o maligno, e arrebata o que foi semeado no seu coração; este é o que foi semeado ao pé d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ou-se muita gente ao pé dele, de sorte que, entrando num barco, se assentou; e toda a multidão estava em pé na pra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foi semeado em pedregais é o que ouve a palavra, e logo a recebe com alegr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tem raiz em si mesmo, antes é de pouca duração; e, chegada a angústia e a perseguição, por causa da palavra, logo se ofen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foi semeado entre espinhos é o que ouve a palavra, mas os cuidados deste mundo, e a sedução das riquezas sufocam a palavra, e fica infrutífe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o que foi semeado em boa terra é o que ouve e compreende a palavra; e dá fruto, e um produz cem, outro sessenta, e outro tri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pôs-lhes outra parábola, dizendo: O reino dos céus é semelhante ao homem que semeia a boa semente no seu camp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dormindo os homens, veio o seu inimigo, e semeou joio no meio do trigo, e retir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a erva cresceu e frutificou, apareceu também o jo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rvos do pai de família, indo ter com ele, disseram-lhe: Senhor, não semeaste tu, no teu campo, boa semente? Por que tem, então, jo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Um inimigo é quem fez isso. E os servos lhe disseram: Queres pois que vamos arrancá-l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lhes disse: Não; para que, ao colher o joio, não arranqueis também o trigo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-lhe de muitas coisas por parábolas, dizendo: Eis que o semeador saiu a seme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ixai crescer ambos juntos até à ceifa; e, por ocasião da ceifa, direi aos ceifeiros: Colhei primeiro o joio, e atai-o em molhos para o queimar; mas, o trigo, ajuntai-o no meu cel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tra parábola lhes propôs, dizendo: O reino dos céus é semelhante ao grão de mostarda que o homem, pegando nele, semeou no seu camp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é, realmente, a menor de todas as sementes; mas, crescendo, é a maior das plantas, e faz-se uma árvore, de sorte que vêm as aves do céu, e se aninham nos seus 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tra parábola lhes disse: O reino dos céus é semelhante ao fermento, que uma mulher toma e introduz em três medidas de farinha, até que tudo esteja leve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isto disse Jesus, por parábolas à multidão, e nada lhes falava sem parábol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 cumprisse o que fora dito pelo profeta, que disse: Abrirei em parábolas a minha boca; Publicarei coisas ocultas desde a fundação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tendo despedido a multidão, foi Jesus para casa. E chegaram ao pé dele os seus discípulos, dizendo: Explica-nos a parábola do joio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, respondendo, disse-lhes: O que semeia a boa semente, é o Filho do hom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po é o mundo; e a boa semente são os filhos do reino; e o joio são os filhos do malig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inimigo, que o semeou, é o diabo; e a ceifa é o fim do mundo; e os ceifeiros são os an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semeava, uma parte da semente caiu ao pé do caminho, e vieram as aves, e comeram-n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o joio é colhido e queimado no fogo, assim será na consumação deste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rá o Filho do homem os seus anjos, e eles colherão do seu reino tudo o que causa escândalo, e os que cometem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á-los-ão na fornalha de fogo; ali haverá pranto e ranger de 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justos resplandecerão como o sol, no reino de seu Pai. Quem tem ouvidos para ouvir, ou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o reino dos céus é semelhante a um tesouro escondido num campo, que um homem achou e escondeu; e, pelo gozo dele, vai, vende tudo quanto tem, e compra aquele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trossim, o reino dos céus é semelhante ao homem, negociante, que busca boas pérol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ncontrando uma pérola de grande valor, foi, vendeu tudo quanto tinha, e comprou-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gualmente o reino dos céus é semelhante a uma rede lançada ao mar, e que apanha toda a qualidade de peix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estando cheia, a puxam para a praia; e, assentando-se, apanham para os cestos os bons; os ruins, porém, lançam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á na consumação dos séculos: virão os anjos, e separarão os maus de entre os jus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parte caiu em pedregais, onde não havia terra bastante, e logo nasceu, porque não tinha terra fun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á-los-ão na fornalha de fogo; ali haverá pranto e ranger de d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Jesus: Entendestes todas estas coisas? Disseram-lhe eles: Sim,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-lhes: Por isso, todo o escriba instruído acerca do reino dos céus é semelhante a um pai de família, que tira do seu tesouro coisas novas e 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Jesus, concluindo estas parábolas, se retirou d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à sua pátria, ensinava-os na sinagoga deles, de sorte que se maravilhavam, e diziam: De onde veio a este a sabedoria, e estas maravilh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este o filho do carpinteiro? e não se chama sua mãe Maria, e seus irmãos Tiago, e José, e Simão, e Jud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stão entre nós todas as suas irmãs? De onde lhe veio, pois, tudo 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candalizavam-se nele. Jesus, porém, lhes disse: Não há profeta sem honra, a não ser na sua pátria e n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fez ali muitas maravilhas, por causa da incredulidad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vindo o sol, queimou-se, e secou-se, porque não tinha ra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caiu entre espinhos, e os espinhos cresceram e sufocaram-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caiu em boa terra, e deu fruto: um a cem, outro a sessenta e outro a tri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Mateu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m ouvidos para ouvir, ou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15:00Z</dcterms:created>
  <dc:creator>Admin</dc:creator>
  <dc:description/>
  <dc:language>en-US</dc:language>
  <cp:lastModifiedBy>Admin</cp:lastModifiedBy>
  <dcterms:modified xsi:type="dcterms:W3CDTF">2008-07-31T00:15:00Z</dcterms:modified>
  <cp:revision>1</cp:revision>
  <dc:subject/>
  <dc:title>Slide 1</dc:title>
</cp:coreProperties>
</file>