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8A9-4A13-4DC4-9CA8-AE3587BF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0EC-364D-4E86-8FA2-DD6F56D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DFF-6B3A-4E61-90BA-18CA827A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728-3C88-46D4-A7DD-6C3B215D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1E3-ED2D-4AE5-B529-493A7B0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2CD-725D-4A40-8667-DE56CF23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02B-084E-427B-B49C-4419AA17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D8F-0D84-45D2-B14D-66B38D2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AFA-E32E-4D77-A954-6FCEC38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211-DAA9-42E7-8C26-16FB8B52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0DB-F5DE-4734-A0E1-3C1135E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3A3-C539-40A4-B3EB-559CBDA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2D57-9B0A-4344-BCA0-4F7FB773D5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 filho de Saul, que Abner morrera em Hebrom, as mãos se lhe afrouxaram; e todo o Israel pas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quele que me trouxe novas, dizendo: Eis que Saul é morto, parecendo-lhe, porém, aos olhos que era como quem trazia boas novas, eu logo lancei mão dele, e o matei em Ziclague, cuidando ele que eu por isso lhe desse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mais a ímpios homens, que mataram um homem justo em sua casa, sobre a sua cama; agora, pois, não requereria eu o seu sangue de vossas mãos, e não vos exterminaria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Davi ordem aos seus moços que os matassem; e cortaram-lhes os pés e as mãos, e os penduraram sobre o tanque de Hebrom; tomaram, porém, a cabeça de Is-Bosete, e a sepultaram na sepultura de Abner, em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o filho de Saul dois homens capitães de tropas; e era o nome de um Baaná, e o nome do outro Recabe, filhos de Rimom, o beerotita, dos filhos de Benjamim, porque também Beerote se reputava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fugido os beerotitas para Gitaim, e ali têm peregrinado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, filho de Saul, tinha um filho aleijado de ambos os pés; era da idade de cinco anos quando as novas de Saul e Jônatas vieram de Jizreel, e sua ama o tomou, e fugiu; e sucedeu que, apressando-se ela a fugir, ele caiu, e ficou coxo; e o seu no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Rimom, o beerotita, Recabe e Baaná, e entraram em casa de Is-Bosete no maior calor do dia, estando ele deitado a dormir, ao mei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entraram até ao meio da casa, como que vindo buscar trigo, e o feriram na quinta costela; e Recabe e Baaná, seu irmão, escap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traram na sua casa, estando ele na cama deitado, no seu quarto, e o feriram, e o mataram, e lhe cortaram a cabeça; e, tomando a sua cabeça, andaram toda a noite caminhando pela planíci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 a cabeça de Is-Bosete a Davi, a Hebrom, e disseram ao rei: Eis aqui a cabeça de Is-Bosete, filho de Saul, teu inimigo, que procurava a tua morte; assim o SENHOR vingou hoje ao rei meu senhor, de Saul e da s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avi, respondendo a Recabe e a Baaná, seu irmão, filhos de Rimom, o beerotita, disse-lhes: Vive o SENHOR, que remiu a minha alma de toda a angúst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48Z</dcterms:created>
  <dc:creator>Admin</dc:creator>
  <dc:description/>
  <dc:language>en-US</dc:language>
  <cp:lastModifiedBy>Admin</cp:lastModifiedBy>
  <dcterms:modified xsi:type="dcterms:W3CDTF">2008-07-30T23:52:48Z</dcterms:modified>
  <cp:revision>1</cp:revision>
  <dc:subject/>
  <dc:title>Slide 1</dc:title>
</cp:coreProperties>
</file>