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CE9-08A1-46E5-A63F-ABA89EF4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AD4-17C7-41BD-9797-FC257F6D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CAC-11CC-4595-81FB-F80C786D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55F-F6F0-40DD-A38B-1C8C3382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E48-6B6F-4D4C-97A9-D22BED2D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8F1-D17C-409B-859D-E7B18283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5A0-59C0-402D-9420-AA643AF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AA3-4296-404C-9128-6C82BCF4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3A9-FD74-4A6C-AB50-E6E7609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D2B-5F76-4087-B0CF-EB2409FF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E6A-F4A6-460A-B549-0A6D745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6F5-05A4-4876-93CC-72E703B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C3D1-7E7A-488D-A9A8-27A7C467DE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Vai, sobe daqui, tu e o povo que fizeste subir da terra do Egito, à terra que jurei a Abraão, a Isaque, e a Jacó, dizendo: À tua descendência a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todo o povo a coluna de nuvem que estava à porta da tenda, todo o povo se levantava e cada um, à porta da sua tenda, ado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va o SENHOR a Moisés face a face, como qualquer fala com o seu amigo; depois tornava-se ao arraial; mas o seu servidor, o jovem Josué, filho de Num, nunca se apartava do meio d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 ao SENHOR: Eis que tu me dizes: Faze subir a este povo, porém não me fazes saber a quem hás de enviar comigo; e tu disseste: Conheço-te por teu nome, também achaste graça a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tenho achado graça aos teus olhos, rogo-te que me faças saber o teu caminho, e conhecer-te-ei, para que ache graça aos teus olhos; e considera que esta nação é 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pois: Irá a minha presença contigo para te fazer descan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: Se tu mesmo não fores conosco, não nos faças subir d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se saberá agora que tenho achado graça aos teus olhos, eu e o teu povo? Acaso não é por andares tu conosco, de modo a sermos separados, eu e o teu povo, de todos os povos que há sobre a face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Farei também isto, que tens dito; porquanto achaste graça aos meus olhos, e te conheço por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: Rogo-te que me mostres a t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isse: Eu farei passar toda a minha bondade por diante de ti, e proclamarei o nome do SENHOR diante de ti; e terei misericórdia de quem eu tiver misericórdia, e me compadecerei de quem eu me compad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ei um anjo adiante de ti, e lançarei fora os cananeus, e os amorreus, e os heteus, e os perizeus, e os heveus, e os jebus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ais: Não poderás ver a minha face, porquanto homem nenhum verá a minha face, e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: Eis aqui um lugar junto a mim; aqui te porás sobre a p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quando a minha glória passar, pôr-te-ei numa fenda da penha, e te cobrirei com a minha mão, até que eu haja pass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eu tirado a minha mão, me verás pelas costas; mas a minha face não se 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uma terra que mana leite e mel; porque eu não subirei no meio de ti, porquanto és povo de dura cerviz, para que te não consuma eu n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o povo esta má notícia, pranteou-se e ninguém pôs sobre si os seus atav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SENHOR tinha dito a Moisés: Dize aos filhos de Israel: És povo de dura cerviz; se por um momento subir no meio de ti, te consumirei; porém agora tira os teus atavios, para que eu saiba o que te hei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se despojaram dos seus atavios, ao pé do monte Hor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Moisés a tenda, e a estendeu para si fora do arraial, desviada longe do arraial, e chamou-lhe a tenda da congregação. E aconteceu que todo aquele que buscava o SENHOR saía à tenda da congregação, que estava fora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ia que, saindo Moisés à tenda, todo o povo se levantava, e cada um ficava em pé à porta da sua tenda; e olhava para Moisés pelas costas, até ele entrar n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ia que, entrando Moisés na tenda, descia a coluna de nuvem, e punha-se à porta da tenda; e o SENHOR falava com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08Z</dcterms:created>
  <dc:creator>Admin</dc:creator>
  <dc:description/>
  <dc:language>en-US</dc:language>
  <cp:lastModifiedBy>Admin</cp:lastModifiedBy>
  <dcterms:modified xsi:type="dcterms:W3CDTF">2008-07-30T23:33:08Z</dcterms:modified>
  <cp:revision>1</cp:revision>
  <dc:subject/>
  <dc:title>Slide 1</dc:title>
</cp:coreProperties>
</file>