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F031-5850-4F11-B54B-5C0036F3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D56F-AC37-444D-8B83-ADB05AF7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C5A3-7B53-4484-9140-DDBB98E21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5EFF-A9C1-4138-BC2C-90C6406B1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6C3E-FFCA-4E55-A737-1CD72010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478F-9EBB-47E1-83F4-36C99047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BD78-DCB0-447F-8CB1-8E296FB4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8D6A-F352-4AB7-82CF-ABBFCD0F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9EC3-A159-4E08-A48D-212FE2BD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0964-B5D4-46EF-BAA8-11911FE5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F052-0B05-48EA-AAD0-B2501A71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79ED-DEFB-4C3A-BEBF-A3089362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9D22-775E-475A-8F5C-8B37C8AE528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naqueles dias que saiu um decreto da parte de César Augusto, para que todo o mundo se alistas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anjo lhes disse: Não temais, porque eis aqui vos trago novas de grande alegria, que será para todo o pov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, na cidade de Davi, vos nasceu hoje o Salvador, que é Cristo,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sto vos será por sinal: Achareis o menino envolto em panos, e deitado numa manjedo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no mesmo instante, apareceu com o anjo uma multidão dos exércitos celestiais, louvando a Deus, e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lória a Deus nas alturas, Paz na terra, boa vontade para com 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ausentando-se deles os anjos para o céu, disseram os pastores uns aos outros: Vamos, pois, até Belém, e vejamos isso que aconteceu, e que o Senhor nos fez sab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apressadamente, e acharam Maria, e José, e o menino deitado na manjedo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endo-o, divulgaram a palavra que acerca do menino lhes fora di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que a ouviram se maravilharam do que os pastores lhes diz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Maria guardava todas estas coisas, conferindo-as em seu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Este primeiro alistamento foi feito sendo Quirino presidente da Síria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oltaram os pastores, glorificando e louvando a Deus por tudo o que tinham ouvido e visto, como lhes havia sido d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os oito dias foram cumpridos, para circuncidar o menino, foi-lhe dado o nome de Jesus, que pelo anjo lhe fora posto antes de ser conceb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umprindo-se os dias da purificação dela, segundo a lei de Moisés, o levaram a Jerusalém, para o apresentarem ao Senh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Segundo o que está escrito na lei do Senhor: Todo o macho primogênito será consagrado ao Senhor)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a darem a oferta segundo o disposto na lei do SENHOR: Um par de rolas ou dois pombi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via em Jerusalém um homem cujo nome era Simeão; e este homem era justo e temente a Deus, esperando a consolação de Israel; e o Espírito Santo estava sobre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-lhe revelado, pelo Espírito Santo, que ele não morreria antes de ter visto o Cristo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lo Espírito foi ao templo e, quando os pais trouxeram o menino Jesus, para com ele procederem segundo o uso da le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, então, o tomou em seus braços, e louvou a Deus, e diss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Senhor, despedes em paz o teu servo, Segundo a tua palav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iam alistar-se, cada um à sua própri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já os meus olhos viram a tua salvaç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qual tu preparaste perante a face de todos os pov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uz para iluminar as nações, E para glória de teu povo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sé, e sua mãe, se maravilharam das coisas que dele se diz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imeão os abençoou, e disse a Maria, sua mãe: Eis que este é posto para queda e elevação de muitos em Israel, e para sinal que é contradita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E uma espada traspassará também a tua própria alma); para que se manifestem os pensamentos de muitos cor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va ali a profetisa Ana, filha de Fanuel, da tribo de Aser. Esta era já avançada em idade, e tinha vivido com o marido sete anos, desde a sua virgindad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ra viúva, de quase oitenta e quatro anos, e não se afastava do templo, servindo a Deus em jejuns e orações, de noite e de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obrevindo na mesma hora, ela dava graças a Deus, e falava dele a todos os que esperavam a redenção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acabaram de cumprir tudo segundo a lei do Senhor, voltaram à Galiléia, para a sua cidade de Nazar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biu também José da Galiléia, da cidade de Nazaré, à Judéia, à cidade de Davi, chamada Belém (porque era da casa e família de Davi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menino crescia, e se fortalecia em espírito, cheio de sabedoria; e a graça de Deus estava sobre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todos os anos iam seus pais a Jerusalém à festa da pásco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ndo ele já doze anos, subiram a Jerusalém, segundo o costume do dia da fes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regressando eles, terminados aqueles dias, ficou o menino Jesus em Jerusalém, e não o soube José, nem sua mã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nsando, porém, eles que viria de companhia pelo caminho, andaram caminho de um dia, e procuravam-no entre os parentes e conhecid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omo o não encontrassem, voltaram a Jerusalém em busca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passados três dias, o acharam no templo, assentado no meio dos doutores, ouvindo-os, e interrogando-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que o ouviam admiravam a sua inteligência e respos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do o viram, maravilharam-se, e disse-lhe sua mãe: Filho, por que fizeste assim para conosco? Eis que teu pai e eu ansiosos te procuráva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s disse: Por que é que me procuráveis? Não sabeis que me convém tratar dos negócios de meu Pa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fim de alistar-se com Maria, sua esposa, que estava grá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não compreenderam as palavras que lhes diz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ceu com eles, e foi para Nazaré, e era-lhes sujeito. E sua mãe guardava no seu coração todas estas coi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rescia Jesus em sabedoria, e em estatura, e em graça para com Deus e 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estando eles ali, se cumpriram os dias em que ela havia de dar à l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 à luz a seu filho primogênito, e envolveu-o em panos, e deitou-o numa manjedoura, porque não havia lugar para eles na estalag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havia naquela mesma comarca pastores que estavam no campo, e guardavam, durante as vigílias da noite, o seu reba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o anjo do Senhor veio sobre eles, e a glória do Senhor os cercou de resplendor, e tiveram grande tem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0:17Z</dcterms:created>
  <dc:creator>Admin</dc:creator>
  <dc:description/>
  <dc:language>en-US</dc:language>
  <cp:lastModifiedBy>Admin</cp:lastModifiedBy>
  <dcterms:modified xsi:type="dcterms:W3CDTF">2008-07-31T00:10:17Z</dcterms:modified>
  <cp:revision>1</cp:revision>
  <dc:subject/>
  <dc:title>Slide 1</dc:title>
</cp:coreProperties>
</file>