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281-9FDC-48CF-9D77-159A156D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62F-9DE4-4921-8AD8-CC9E6F5B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99F-5C76-4C08-9011-DCB0D070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573-45F6-4373-9071-2EED6389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1B2-9BD2-438E-A5C8-9E18DEA3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DEB-9D7D-4DF3-9BEC-5C4C1992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DA9-C3B9-4413-B0C3-3713E5A3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0B2-FBD4-4470-8FB0-24219284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A25-743E-4623-B02B-2C0A9660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FA0-4E60-4F46-A3CE-8F67D379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D72-B49C-4465-B094-7C55F77E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205-319A-44D0-936A-163AF81F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7F68-710A-4CE1-807D-9047CBA7451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é se lançou sobre o rosto de seu pai e chorou sobre ele, e o beij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 eles, pois, à eira de Atade, que está além do Jordão, fizeram um grande e dolorido pranto; e fez a seu pai uma grande lamentação por sete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o os moradores da terra, os cananeus, o luto na eira de Atade, disseram: É este o pranto grande dos egípcios. Por isso chamou-se-lhe Abel-Mizraim, que está além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izeram-lhe os seus filhos assim como ele lhes orden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os seus filhos o levaram à terra de Canaã, e o sepultaram na cova do campo de Macpela, que Abraão tinha comprado com o campo, por herança de sepultura de Efrom, o heteu, em frente de Man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 haver sepultado seu pai, voltou José para o Egito, ele e seus irmãos, e todos os que com ele subiram a sepultar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então os irmãos de José que seu pai já estava morto, disseram: Porventura nos odiará José e certamente nos retribuirá todo o mal que lhe fiz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mandaram dizer a José: Teu pai ordenou, antes da sua mort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reis a José: Perdoa, rogo-te, a transgressão de teus irmãos, e o seu pecado, porque te fizeram mal; agora, pois, rogamos-te que perdoes a transgressão dos servos do Deus de teu pai. E José chorou quando eles lhe fal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vieram também seus irmãos, e prostraram-se diante dele, e disseram: Eis-nos aqui por t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lhes disse: Não temais; porventura estou eu em lugar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ordenou aos seus servos, os médicos, que embalsamassem a seu pai; e os médicos embalsamaram a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bem intentastes mal contra mim; porém Deus o intentou para bem, para fazer como se vê neste dia, para conservar muita gente com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não temais; eu vos sustentarei a vós e a vossos filhos. Assim os consolou, e falou segundo o coração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sé, pois, habitou no Egito, ele e a casa de seu pai; e viveu José cento e dez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José os filhos de Efraim, da terceira geração; também os filhos de Maquir, filho de Manassés, nasceram sobre os joelhos de Jo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osé a seus irmãos: Eu morro; mas Deus certamente vos visitará, e vos fará subir desta terra à terra que jurou a Abraão, a Isaque e a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fez jurar os filhos de Israel, dizendo: Certamente vos visitará Deus, e fareis transportar os meus ossos d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José da idade de cento e dez anos, e o embalsamaram e o puseram num caixão n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umpriram-se-lhe quarenta dias; porque assim se cumprem os dias daqueles que se embalsamam; e os egípcios o choraram setenta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dos, pois, os dias de seu choro, falou José à casa de Faraó, dizendo: Se agora tenho achado graça aos vossos olhos, rogo-vos que faleis aos ouvidos de Faraó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 pai me fez jurar, dizendo: Eis que eu morro; em meu sepulcro, que cavei para mim na terra de Canaã, ali me sepultarás. Agora, pois, te peço, que eu suba, para que sepulte a meu pai; então volt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aó disse: Sobe, e sepulta a teu pai como ele te fez ju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subiu para sepultar a seu pai; e subiram com ele todos os servos de Faraó, os anciãos da sua casa, e todos os anciãos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ambém toda a casa de José, e seus irmãos, e a casa de seu pai; somente deixaram na terra de Gósen os seus meninos, e as suas ovelhas e as suas vac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ram também com ele, tanto carros como gente a cavalo; e o cortejo foi grand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23Z</dcterms:created>
  <dc:creator>Admin</dc:creator>
  <dc:description/>
  <dc:language>en-US</dc:language>
  <cp:lastModifiedBy>Admin</cp:lastModifiedBy>
  <dcterms:modified xsi:type="dcterms:W3CDTF">2008-07-30T23:40:23Z</dcterms:modified>
  <cp:revision>1</cp:revision>
  <dc:subject/>
  <dc:title>Slide 1</dc:title>
</cp:coreProperties>
</file>