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7E6-FB0F-43A9-B0D3-D3536AD2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001-1B92-4363-8E0A-764F69E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064-E8A8-4298-BD39-B6E7A1FE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A82-F7B9-472B-87B0-3E4E5D9D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D88-1758-47EA-85A2-3EE1FDD1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FF4-6973-4E56-8C23-6AC746B4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B87-ADA7-4689-8E94-218F9F68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32C-991E-4D53-9106-F0D7062E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3CE-5A0B-4F01-84F8-DD7B55F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F8E-3236-4508-BB55-602E410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AA0-0461-4325-BD31-F9C16E48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61D-1160-4E99-A20B-D931B89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E842-7AF0-4DEF-8D2F-62AD4A73D3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Jeremias de falar a todo o povo todas as palavras do SENHOR seu Deus, com as quais o SENHOR seu Deus lho havia enviado, para que lhes dissesse todas estas palav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-lhes: Assim diz o SENHOR dos Exércitos, Deus de Israel: Eis que eu enviarei, e tomarei a Nabucodonosor, rei de Babilônia, meu servo, e porei o seu trono sobre estas pedras que escondi; e ele estenderá a sua tenda real sobre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á, e ferirá a terra do Egito; entregando para a morte, quem é para a morte; e quem é para o cativeiro, para o cativeiro; e quem é para a espada, para 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ei fogo às casas dos deuses do Egito, e queimá-los-á, e levá-los-á cativos; e vestir-se-á da terra do Egito, como veste o pastor a sua roupa, e sairá dali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brará as estátuas de Bete-Semes, que está na terra do Egito; e as casas dos deuses do Egito queimará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aram Azarias, filho de Hosaías, e Joanã, filho de Careá, e todos os homens soberbos, dizendo a Jeremias: Tu dizes mentiras; o SENHOR nosso Deus não te enviou a dizer: Não entreis no Egito, para ali habi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Baruque, filho de Nerias, te incita contra nós, para entregar-nos na mão dos caldeus, para nos matarem, ou para nos levarem cativos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bedeceu, pois, Joanã, filho de Careá, nem nenhum de todos os capitães dos exércitos, nem o povo todo, à voz do SENHOR, para ficarem na terr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tomou Joanã, filho de Careá, e todos os capitães dos exércitos a todo o restante de Judá, que havia voltado dentre todas as nações, para onde haviam sido lançados, para morarem na terra de Jud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homens, e às mulheres, e aos meninos, e às filhas do rei, e a toda a alma que Nebuzaradã, capitão da guarda, deixara com Gedalias, filho de Aicão, filho de Safã; como também a Jeremias, o profeta, e a Baruque, filho de Ner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ram na terra do Egito, porque não obedeceram à voz do SENHOR; e vieram até Tafn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Jeremias, em Tafne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na tua mão pedras grandes, e esconde-as no barro, no forno que está à entrada da casa de Faraó, em Tafnes, perante os olhos dos homens de Ju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37Z</dcterms:created>
  <dc:creator>Admin</dc:creator>
  <dc:description/>
  <dc:language>en-US</dc:language>
  <cp:lastModifiedBy>Admin</cp:lastModifiedBy>
  <dcterms:modified xsi:type="dcterms:W3CDTF">2008-07-30T23:59:37Z</dcterms:modified>
  <cp:revision>1</cp:revision>
  <dc:subject/>
  <dc:title>Slide 1</dc:title>
</cp:coreProperties>
</file>