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E84-B12F-464D-A554-E641481C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00D-1B87-4313-9E53-D599450B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755-5574-44A0-9722-9234FB08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7F2-D7ED-4F1E-85F5-C05C065B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73A-0692-445C-B17A-DBFF9869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7A4-7A72-4177-A991-CA5F45E9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93C-5B12-4225-856E-4A97B290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9E6-EC9B-47FF-8340-496D4959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06D-F08A-4B68-9D38-9441913A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48A-4D4B-4AE1-9DB9-352A1730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CDC2-C96D-4889-8EEA-DCA64288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2D3-701F-4105-A56C-1B79F184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7D2E-D9E1-4996-8772-8FC898BE023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, no dia da vossa alegria e nas vossas solenidades, e nos princípios de vossos meses, também tocareis as trombetas sobre os vossos holocaustos, sobre os vossos sacrifícios pacíficos, e vos serão por memorial perante vosso Deus: Eu sou o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no ano segundo, no segundo mês, aos vinte do mês, que a nuvem se alçou de sobre o tabernáculo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, segundo a ordem de marcha, partiram do deserto de Sinai; e a nuvem parou no deserto de Pa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artiram pela primeira vez segundo a ordem do SENHOR, por intermédio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rimeiramente partiu a bandeira do arraial dos filhos de Judá segundo os seus exércitos; e sobre o seu exército estava Naassom, filho de Aminad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 exército da tribo dos filhos de Issacar, Natanael, filho de Zu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 exército da tribo dos filhos de Zebulom, Eliabe, filho de Hel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sarmaram o tabernáculo, e os filhos de Gérson e os filhos de Merari partiram, levando o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partiu a bandeira do arraial de Rúben segundo os seus exércitos; e sobre o seu exército estava Elizur, filho de Sedeu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 exército da tribo dos filhos de Simeão, Selumiel, filho de Zurisad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-te duas trombetas de prata; de obra batida as farás, e elas te servirão para a convocação da congregação, e para a partida dos arrai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 exército da tribo dos filhos de Gade, Eliasafe, filho de De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artiram os coatitas, levando o santuário; e os outros levantaram o tabernáculo, enquanto estes vinh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partiu a bandeira do arraial dos filhos de Efraim segundo os seus exércitos; e sobre o seu exército estava Elisama, filho de Amiú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 exército da tribo dos filhos de Manassés, Gamaliel, filho de Pedazu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 exército da tribo dos filhos de Benjamim, Abidã, filho de Gideon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artiu a bandeira do arraial dos filhos de Dã, fechando todos os arraiais segundo os seus exércitos; e sobre o seu exército estava Aieser, filho de Amisad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 exército da tribo dos filhos de Aser, Pagiel, filho de Oc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 exército da tribo dos filhos de Naftali, Aira, filho de En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era a ordem das partidas dos filhos de Israel segundo os seus exércitos, quando part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então Moisés a Hobabe, filho de Reuel, o midianita, sogro de Moisés: Nós caminhamos para aquele lugar, de que o SENHOR disse: Vo-lo darei; vai conosco e te faremos bem; porque o SENHOR falou bem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as tocarem, então toda a congregação se reunirá a ti à porta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lhe disse: Não irei; antes irei à minha terra e à minha parent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Ora, não nos deixes; porque tu sabes onde devemos acampar no deserto; nos servirás de gu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vindo tu conosco, e sucedendo o bem que o SENHOR nos fizer, também nós te faremos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artiram do monte do SENHOR caminho de três dias; e a arca da aliança do SENHOR caminhou diante deles caminho de três dias, para lhes buscar lugar de desca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nuvem do SENHOR ia sobre eles de dia, quando partiam d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ontecia que, partindo a arca, Moisés dizia: Levanta-te, SENHOR, e dissipados sejam os teus inimigos, e fujam diante de ti os odi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usando ela, dizia: Volta, ó SENHOR, para os muitos milhare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tocar uma só, então a ti se congregarão os príncipes, os cabeças dos milhare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retinindo, as tocardes, então partirão os arraiais que estão acampados do lado do or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a segunda vez retinindo, as tocardes, então partirão os arraiais que estão acampados do lado do sul; retinindo, as tocarão para as suas part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ajuntando a congregação, as tocareis; mas sem retin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Arão, sacerdotes, tocarão as trombetas; e a vós serão por estatuto perpétuo nas voss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na vossa terra sairdes a pelejar contra o inimigo, que vos oprime, também tocareis as trombetas retinindo, e perante o SENHOR vosso Deus haverá lembrança de vós, e sereis salvos de vosso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8:30Z</dcterms:created>
  <dc:creator>Admin</dc:creator>
  <dc:description/>
  <dc:language>en-US</dc:language>
  <cp:lastModifiedBy>Admin</cp:lastModifiedBy>
  <dcterms:modified xsi:type="dcterms:W3CDTF">2008-07-31T00:18:30Z</dcterms:modified>
  <cp:revision>1</cp:revision>
  <dc:subject/>
  <dc:title>Slide 1</dc:title>
</cp:coreProperties>
</file>