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D6F9-6A3B-4D4A-9D17-E917F387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744-D0AB-4859-ACE3-2F65EF96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0BD-4ACF-4136-B0E5-86524EF3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E413-642D-4254-93BB-CCE2FB06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D1D4-1529-405F-82B9-D24DA139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1CFA-2251-44C7-8029-8550D269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CF4-2FB9-48A8-865A-C733A2FB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9F2-367B-460A-BD4D-1E3561E7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FF4-D102-439C-8BC9-BA3A891C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E4CF-C645-4599-8D09-032AA643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A03A-C6AE-4B60-9E63-5B74F599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03D2-0F7C-4A81-805D-B8BFA71C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1CE0-00F9-45B1-933E-3C714097320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 meu Deus, em ti confio; salva-me de todos os que me perseguem, e livra-m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escudo é de Deus, que salva os retos de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é juiz justo, um Deus que se ira todos 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 homem não se converter, Deus afiará a sua espada; já tem armado o seu arco, e está aparelh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á para ele preparou armas mortais; e porá em ação as suas setas inflamadas contra os persegui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le está com dores de perversidade; concebeu trabalhos, e produziu ment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vou um poço e o fez fundo, e caiu na cova que f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obra cairá sobre a sua cabeça; e a sua violência descerá sobre a sua própri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louvarei ao SENHOR segundo a sua justiça, e cantarei louvores ao nome do SENHOR altíss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ele não arrebate a minha alma, como leão, despedaçando-a, sem que haja quem a liv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 meu Deus, se eu fiz isto, se há perversidade nas minhas mã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paguei com o mal àquele que tinha paz comigo (antes, livrei ao que me oprimia sem causa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siga o inimigo a minha alma e alcance-a; calque aos pés a minha vida sobre a terra, e reduza a pó a minha glória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, SENHOR, na tua ira; exalta-te por causa do furor dos meus opressores; e desperta por mim para o juízo que orden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e rodeará o ajuntamento de povos; por causa deles, pois, volta-te para as altu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julgará os povos; julga-me, SENHOR, conforme a minha justiça, e conforme a integridade que há em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a já fim a malícia dos ímpios; mas estabeleça-se o justo; pois tu, ó justo Deus, provas os corações e os ri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13Z</dcterms:created>
  <dc:creator>Admin</dc:creator>
  <dc:description/>
  <dc:language>en-US</dc:language>
  <cp:lastModifiedBy>Admin</cp:lastModifiedBy>
  <dcterms:modified xsi:type="dcterms:W3CDTF">2008-07-31T00:24:13Z</dcterms:modified>
  <cp:revision>1</cp:revision>
  <dc:subject/>
  <dc:title>Slide 1</dc:title>
</cp:coreProperties>
</file>