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AB0-8042-48FF-9FD8-031BA1C1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7A3-9EE6-43B6-9CBB-27CEA062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76F-7129-4C7B-87E3-428C6BC7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11B-2ABB-43C9-A3CD-E58DC44D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BA9-AFB7-4363-801D-3FB199B9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3F9-C786-4F64-8546-DEF9AAD0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C5F-A341-4045-A3ED-54DBF3D2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00B-C2B4-4CE6-954F-D1F71CA0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527-531E-4780-A62A-1D2CDD6E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109-712E-4096-97C4-D434FAA7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411-7E5E-497A-A794-72D05581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B55-AA0D-4EDD-88AA-055E93C6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7DFA-0A76-43E2-B9B0-AB8D8D758B1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quando anunciares a este povo todas estas palavras, e eles te disserem: Por que pronuncia o SENHOR sobre nós todo este grande mal? E qual é a nossa iniqüidade, e qual é o nosso pecado, que cometemos contra o SENHOR nosso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dirás: Porquanto vossos pais me deixaram, diz o SENHOR, e se foram após outros deuses, e os serviram, e se inclinaram diante deles, e a mim me deixaram, e a minha lei não a guard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fizestes pior do que vossos pais; porque, eis que cada um de vós anda segundo o propósito do seu mau coração, para não me dar ouvidos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lançar-vos-ei fora desta terra, para uma terra que não conhecestes, nem vós nem vossos pais; e ali servireis a deuses alheios de dia e de noite, porque não usarei de misericórdia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dias vêm, diz o SENHOR, em que nunca mais se dirá: Vive o SENHOR, que fez subir os filhos de Israel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: Vive o SENHOR, que fez subir os filhos de Israel da terra do norte, e de todas as terras para onde os tinha lançado; porque eu os farei voltar à sua terra, a qual dei a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mandarei muitos pescadores, diz o SENHOR, os quais os pescarão; e depois enviarei muitos caçadores, os quais os caçarão de sobre todo o monte, e de sobre todo o outeiro, e até das fendas das roc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meus olhos estão sobre todos os seus caminhos; não se escondem da minha face, nem a sua maldade se encobre aos m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imeiramente pagarei em dobro a sua maldade e o seu pecado, porque profanaram a minha terra com os cadáveres das suas coisas detestáveis, e das suas abominações encheram a minh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fortaleza minha, e força minha, e refúgio meu no dia da angústia; a ti virão os gentios desde os fins da terra, e dirão: Nossos pais herdaram só mentiras, e vaidade, em que não havia prov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omarás para ti mulher, nem terás filhos nem filhas n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fará um homem deuses para si, que contudo não são deus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lhes farei conhecer, desta vez lhes farei conhecer a minha mão e o meu poder; e saberão que o meu nome é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, acerca dos filhos e das filhas que nascerem neste lugar, acerca de suas mães, que os tiverem, e de seus pais que os gerarem nesta terr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rrerão de enfermidades dolorosas, e não serão pranteados nem sepultados; servirão de esterco sobre a face da terra; e pela espada e pela fome serão consumidos, e os seus cadáveres servirão de mantimento para as aves do céu e para os animai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: Não entres na casa do luto, nem vás a lamentar, nem te compadeças deles; porque deste povo, diz o SENHOR, retirei a minha paz, benignidade e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rão grandes e pequenos nesta terra, e não serão sepultados, e não os prantearão, nem se farão por eles incisões, nem por eles se raparão os cabe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e partirá pão para consolá-los por causa de seus mortos; nem lhes darão a beber do copo de consolação, pelo pai ou pela mãe de algu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entres na casa do banquete, para te assentares com eles a comer e a b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os Exércitos, o Deus de Israel: Eis que farei cessar, neste lugar, perante os vossos olhos, e em vossos dias, a voz de gozo e a voz de alegria, a voz do esposo e a voz da esp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08Z</dcterms:created>
  <dc:creator>Admin</dc:creator>
  <dc:description/>
  <dc:language>en-US</dc:language>
  <cp:lastModifiedBy>Admin</cp:lastModifiedBy>
  <dcterms:modified xsi:type="dcterms:W3CDTF">2008-07-30T23:58:08Z</dcterms:modified>
  <cp:revision>1</cp:revision>
  <dc:subject/>
  <dc:title>Slide 1</dc:title>
</cp:coreProperties>
</file>