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FE5-A189-428A-B81D-52A68C60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DE7-2D87-4946-929D-4EDD1AB1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BCB-14DF-4BFF-AA18-E00CDE37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1DB-7499-4C8A-A84D-B0CFB98B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1B4-310F-4649-9438-C1F9F160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F72-C092-45A9-A474-D9489AC4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DCE-A754-4440-A126-8996C55D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B1E-B94F-4EE9-8001-0DC8FA2F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183-B30A-4658-90D5-143346B2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22E-6F81-4425-8C33-F39B2102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C7E-F788-4A1D-91FA-6DF4E0E9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173-912E-4C1D-975B-78AAB9F9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8203-1CDE-4FC1-9E61-EEF312E1595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no mesmo ano, no princípio do reinado de Zedequias, rei de Judá, no ano quarto, no mês quinto, que Hananias, filho de Azur, o profeta que era de Gibeom, me falou na casa do SENHOR, na presença dos sacerdotes e de todo o pov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Hananias, o profeta, tomou o jugo do pescoço do profeta Jeremias, e o queb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Hananias na presença de todo o povo, dizendo: Assim diz o SENHOR: Assim, passados dois anos completos, quebrarei o jugo de Nabucodonosor, rei de Babilônia, de sobre o pescoço de todas as nações. E Jeremias, o profeta, seguiu o s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eio a palavra do SENHOR a Jeremias, depois que Hananias, o profeta, quebrou o jugo de sobre o pescoço de Jeremias, o profeta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e fala a Hananias, dizendo: Assim diz o SENHOR: Jugos de madeira quebraste, mas em vez deles farás jugos de fe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os Exércitos, o Deus de Israel: Jugo de ferro pus sobre o pescoço de todas estas nações, para servirem a Nabucodonosor, rei de Babilônia, e servi-lo-ão, e até os animais do campo lhe d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profeta Jeremias ao profeta Hananias: Ouve agora, Hananias: Não te enviou o SENHOR, mas tu fizeste que este povo confiasse em ment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: Eis que te lançarei de sobre a face da terra; este ano morrerás, porque falaste em rebeldia contra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Hananias, o profeta, no mesmo ano, no sétimo m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la o SENHOR dos Exércitos, o Deus de Israel, dizendo: Eu quebrei o jugo do rei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 passados dois anos completos, eu tornarei a trazer a este lugar todos os utensílios da casa do SENHOR, que deste lugar tomou Nabucodonosor, rei de Babilônia, levando-os 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Jeconias, filho de Jeoiaquim, rei de Judá, e a todos os do cativeiro de Judá, que entraram em Babilônia, eu tornarei a trazer a este lugar, diz o SENHOR; porque quebrarei o jugo do rei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o profeta Jeremias ao profeta Hananias, na presença dos sacerdotes, e na presença de todo o povo que estava n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Jeremias, o profeta: Amém! Assim faça o SENHOR; confirme o SENHOR as tuas palavras, que profetizaste, e torne ele a trazer os utensílios da casa do SENHOR, e todos os do cativeiro de Babilônia a est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uve agora esta palavra, que eu falo aos teus ouvidos e aos ouvidos de todo o pov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rofetas que houve antes de mim e antes de ti, desde a antiguidade, profetizaram contra muitas terras, e contra grandes reinos, acerca de guerra, e de mal, e de p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ofeta que profetizar de paz, quando se cumprir a palavra desse profeta, será conhecido como aquele a quem o SENHOR na verdad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45Z</dcterms:created>
  <dc:creator>Admin</dc:creator>
  <dc:description/>
  <dc:language>en-US</dc:language>
  <cp:lastModifiedBy>Admin</cp:lastModifiedBy>
  <dcterms:modified xsi:type="dcterms:W3CDTF">2008-07-30T23:58:45Z</dcterms:modified>
  <cp:revision>1</cp:revision>
  <dc:subject/>
  <dc:title>Slide 1</dc:title>
</cp:coreProperties>
</file>