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A8D-3734-47E6-8945-7D918F0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D79-058D-4DBD-AF18-42924110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841-DF16-481B-8FFF-07461BED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52F-4C2F-4870-AD59-1214C3B1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0D5-96B7-4476-867F-9119D20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A6C-EAA8-4368-B12A-1D9BCF8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F86-9024-413E-B144-C6ADD76F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DB1-26D9-486F-910B-0E996126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6DD-9256-402E-9CFC-1232D23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580-D82E-4C0D-AB27-B004CB6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852-20E2-42BA-8A0E-9161521A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C06-538A-4B80-8E8B-9D42136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3AD9-6E73-4B69-BC6F-77B7C1AAE2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nunciado a Davi, dizendo: Eis que os filisteus pelejam contra Queila, e saqueiam as 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: Ó SENHOR, Deus de Israel, teu servo tem ouvido que Saul procura vir a Queila, para destruir a cidade por caus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gar-me-ão os cidadãos de Queila na sua mão? Descerá Saul, como o teu servo tem ouvido? Ah! SENHOR Deus de Israel! Faze-o saber ao teu servo. E disse o SENHOR: Des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Davi: Entregar-me-ão os cidadãos de Queila, a mim e aos meus homens, nas mãos de Saul? E disse o SENHOR: Entre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se levantou com os seus homens, uns seiscentos, e saíram de Queila, e foram-se aonde puderam; e sendo anunciado a Saul, que Davi escapara de Queila, cessou de sair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permaneceu no deserto, nos lugares fortes, e ficou em um monte no deserto de Zife; e Saul o buscava todos os dias, porém Deus não o entregou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Davi, que Saul saíra à busca da sua vida, permaneceu no deserto de Zife, num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Jônatas, filho de Saul, e foi para Davi no bosque, e confortou a sua mão em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Não temas, que não te achará a mão de Saul, meu pai; porém tu reinarás sobre Israel, e eu serei contigo o segundo; o que também Saul, meu pai, bem s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bos fizeram aliança perante o SENHOR; Davi ficou no bosque, e Jônatas voltou par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ram os zifeus a Saul, a Gibeá, dizendo: Não se escondeu Davi entre nós, nos lugares fortes no bosque, no outeiro de Haquilá, que está à mão direita de Jesim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ultou Davi ao SENHOR, dizendo: Irei eu, e ferirei a estes filisteus? E disse o SENHOR a Davi: Vai, e ferirás aos filisteus, e livrarás a Que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rei, apressadamente desce conforme a todo o desejo da tua alma; a nós cumpre entregá-lo nas mã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Bendito sejais vós do SENHOR, porque vos compadecestes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pois, e diligenciai ainda mais, e sabei e notai o lugar que freqüenta, e quem o tenha visto ali; porque me foi dito que é astu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tentai bem, e informai-vos acerca de todos os esconderijos, em que ele se esconde; e então voltai para mim com toda a certeza, e ir-me-ei convosco; e há de ser que, se estiver naquela terra, o buscarei entre todos os milhar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 eles e se foram a Zife, adiante de Saul; Davi, porém, e os seus homens estavam no deserto de Maom, na campina, à direita de Jesi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e os seus homens se foram em busca dele; o que anunciaram a Davi, que desceu para aquela penha, e ficou no deserto de Maom; o que ouvindo Saul, seguiu a Davi para o deserto de Ma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ia deste lado do monte, e Davi e os seus homens do outro lado do monte; e, temeroso, Davi se apressou a escapar de Saul; Saul, porém, e os seus homens cercaram a Davi e aos seus homens, para lançar m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um mensageiro a Saul, dizendo: Apressa-te, e vem, porque os filisteus com ímpeto entraram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ul voltou de perseguir a Davi, e foi ao encontro dos filisteus; por esta razão aquele lugar se chamou Rochedo das Div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Davi dali, e ficou nos lugares fortes de En-Ged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homens de Davi lhe disseram: Eis que tememos aqui em Judá, quanto mais indo a Queila contra os esquadrões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tornou a consultar ao SENHOR, e o SENHOR lhe respondeu, e disse: Levanta-te, desce a Queila, porque te dou os filisteus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partiu com os seus homens a Queila, e pelejou contra os filisteus, e levou os gados, e fez grande estrago entre eles; e Davi livrou os moradores de Que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quando Abiatar, filho de Aimeleque, fugiu para Davi, a Queila, desceu com o éfode n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nunciado a Saul que Davi tinha ido a Queila, e disse Saul: Deus o entregou nas minhas mãos, pois está encerrado, entrando numa cidade de portas e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mandou chamar a todo o povo à peleja, para que descessem a Queila, para cercar a Davi e os seu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, pois, Davi, que Saul maquinava este mal contra ele, disse a Abiatar, sacerdote: Traze aqui o éf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38Z</dcterms:created>
  <dc:creator>Admin</dc:creator>
  <dc:description/>
  <dc:language>en-US</dc:language>
  <cp:lastModifiedBy>Admin</cp:lastModifiedBy>
  <dcterms:modified xsi:type="dcterms:W3CDTF">2008-07-30T23:47:38Z</dcterms:modified>
  <cp:revision>1</cp:revision>
  <dc:subject/>
  <dc:title>Slide 1</dc:title>
</cp:coreProperties>
</file>