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A31B-B7FB-4565-B6EE-676D4C49D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2F81-4715-4A64-A6E7-70D7821A7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9BD1-2897-45FC-A45A-498363999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F1C0-5FFD-417B-B0BC-8696CA8F9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939F-13DD-453C-B2F3-148AB95EA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DB96-AD9C-49F7-9438-CB4DA2193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9089-CFB8-48F9-93A3-CE68A579C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A12D-207B-4DCD-A3A3-959839B75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83DA-882B-4F20-8D73-6676918B9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6A78-EEBE-46BC-891E-B26C50C3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7119-DD87-4515-BB5D-BA1AC742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1B51-6263-4DF5-89EF-CD16ED81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1A84B-C056-4239-BD20-14EE8DA2B762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0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PALAVRA que veio a Jeremias da parte do SENHOR, depois que Nebuzaradã, capitão da guarda, o deixara ir de Ramá, quando o tomou, estando ele atado com cadeias no meio de todos os do cativeiro de Jerusalém e de Judá, que foram levados cativos para Babil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0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to a mim, eis que habito em Mizpá, para estar às ordens dos caldeus que vierem a nós; e vós recolhei o vinho, e as frutas de verão, e o azeite, e colocai-os nos vossos vasos, e habitai nas vossas cidades, que tomas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0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o mesmo modo todos os judeus que estavam em Moabe, e entre os filhos de Amom, e em Edom, e os que havia em todas aquelas terras, ouviram que o rei de Babilônia havia deixado alguns em Judá, e que havia posto sobre eles a Gedalias, filho de Aicão, filh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0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voltaram todos os judeus de todos os lugares, para onde foram lançados, e vieram à terra de Judá, a Gedalias, a Mizpá; e recolheram vinho e frutas do verão com muita abundânc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0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oanã, filho de Careá, e todos os capitães dos exércitos, que estavam no campo, vieram a Gedalias, a Mizp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0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ram-lhe: Bem sabes que Baalis, rei dos filhos de Amom, enviou a Ismael, filho de Netanias, para tirar-te a vida. Mas, Gedalias, filho de Aicão, não lhes deu créd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0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via Joanã, filho de Careá, falou a Gedalias em segredo, em Mizpá, dizendo: Irei agora, e ferirei a Ismael, filho de Netanias, sem que ninguém o saiba; por que razão te tiraria ele a vida, de modo que todos os judeus, que se têm congregado a ti, fos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0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disse Gedalias, filho de Aicão, a Joanã, filho de Careá: Não faças tal coisa; porque falas falsamente contra Ism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0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mou o capitão da guarda a Jeremias, e disse-lhe: O SENHOR teu Deus pronunciou este mal, contra este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0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 o trouxe, e fez como havia falado; porque pecastes contra o SENHOR, e não obedecestes à sua voz, portanto vos sucedeu 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0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eis que te soltei hoje das cadeias que estavam sobre as tuas mãos. Se te apraz vir comigo para Babilônia, vem, e eu cuidarei de ti, mas se não te apraz vir comigo para Babilônia, deixa de vir. Olha, toda a terra está diante de ti; para ond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0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como ele ainda não tinha voltado, disse-lhe: Volta a Gedalias, filho de Aicão, filho de Safã, a quem o rei de Babilônia pôs sobre as cidades de Judá, e habita com ele no meio do povo; ou se para qualquer outra parte te aprouver ir, vai. E deu-lhe 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0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veio Jeremias a Gedalias, filho de Aicão, a Mizpá; e habitou com ele no meio do povo que havia ficado n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0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indo, pois, todos os capitães dos exércitos, que estavam no campo, eles e os seus homens, que o rei de Babilônia tinha nomeado a Gedalias, filho de Aicão, governador da terra, e que lhe havia confiado os homens, e as mulheres, e os meninos, e os mai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0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eram ter com Gedalias, a Mizpá; a saber: Ismael, filho de Netanias, e Joanã e Jônatas, filhos de Careá, e Seraías, filho de Tanumete, e os filhos de Efai, o netofatita, e Jezanias, filho de um maacatita, eles e os seus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0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urou Gedalias, filho de Aicão, filho de Safã, a eles e aos seus homens, dizendo: Não temais servir aos caldeus; ficai na terra, e servi o rei de Babilônia, e bem vos i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9:29Z</dcterms:created>
  <dc:creator>Admin</dc:creator>
  <dc:description/>
  <dc:language>en-US</dc:language>
  <cp:lastModifiedBy>Admin</cp:lastModifiedBy>
  <dcterms:modified xsi:type="dcterms:W3CDTF">2008-07-30T23:59:29Z</dcterms:modified>
  <cp:revision>1</cp:revision>
  <dc:subject/>
  <dc:title>Slide 1</dc:title>
</cp:coreProperties>
</file>