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555-29D7-41B2-A470-3E7F4BC7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D9A-8EE8-4716-B04F-006D85A2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531-C5D1-4612-9935-F5C6BBF8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0E2-E19E-4A6C-8361-BCD90153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AC2-70DD-409A-93AB-2A002504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965-339B-42CE-A5AE-7A77FDE9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123-186B-45CE-87DE-6480B18C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120-EEED-47FA-9DEF-73EC43A2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2C3-1434-411A-A722-B7BE3126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E3B-C312-4589-ADEE-EDF5039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309-4C5B-4D82-BC5C-B598BB56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2FA-1543-47E8-86DB-57E8C9CB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75A5-73A8-4D96-9859-93C97CCB2C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-ME dada uma cana semelhante a uma vara; e chegou o anjo, e disse: Levanta-te, e mede o templo de Deus, e o altar, e os que nele ado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habitam na terra se regozijarão sobre eles, e se alegrarão, e mandarão presentes uns aos outros; porquanto estes dois profetas tinham atormentado os que habitam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aqueles três dias e meio o espírito de vida, vindo de Deus, entrou neles; e puseram-se sobre seus pés, e caiu grande temor sobre os que os 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ram uma grande voz do céu, que lhes dizia: Subi para aqui. E subiram ao céu em uma nuvem; e os seus inimigos os 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a mesma hora houve um grande terremoto, e caiu a décima parte da cidade, e no terremoto foram mortos sete mil homens; e os demais ficaram muito atemorizados, e deram glória ao Deu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passado o segundo ai; eis que o terceiro ai cedo 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étimo anjo tocou a sua trombeta, e houve no céu grandes vozes, que diziam: Os reinos do mundo vieram a ser de nosso SENHOR e do seu Cristo, e ele reinará para todo o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vinte e quatro anciãos, que estão assentados em seus tronos diante de Deus, prostraram-se sobre seus rostos e adoraram a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Graças te damos, Senhor Deus Todo-Poderoso, que és, e que eras, e que hás de vir, que tomaste o teu grande poder, e rein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raram-se as nações, e veio a tua ira, e o tempo dos mortos, para que sejam julgados, e o tempo de dares o galardão aos profetas, teus servos, e aos santos, e aos que temem o teu nome, a pequenos e a grandes, e o tempo de destruíres os que destroem a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iu-se no céu o templo de Deus, e a arca da sua aliança foi vista no seu templo; e houve relâmpagos, e vozes, e trovões, e terremotos e grande sara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xa o átrio que está fora do templo, e não o meças; porque foi dado às nações, e pisarão a cidade santa por quarenta e dois me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rei poder às minhas duas testemunhas, e profetizarão por mil duzentos e sessenta dias, vestidas de sa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duas oliveiras e os dois castiçais que estão diante do Deu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ém lhes quiser fazer mal, fogo sairá da sua boca, e devorará os seus inimigos; e, se alguém lhes quiser fazer mal, importa que assim seja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têm poder para fechar o céu, para que não chova, nos dias da sua profecia; e têm poder sobre as águas para convertê-las em sangue, e para ferir a terra com toda a sorte de pragas, todas quantas vezes quise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cabarem o seu testemunho, a besta que sobe do abismo lhes fará guerra, e os vencerá, e os ma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zerão os seus corpos mortos na praça da grande cidade que espiritualmente se chama Sodoma e Egito, onde o seu Senhor também foi cruc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mens de vários povos, e tribos, e línguas, e nações verão seus corpos mortos por três dias e meio, e não permitirão que os seus corpos mortos sejam postos em sepulc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31Z</dcterms:created>
  <dc:creator>Admin</dc:creator>
  <dc:description/>
  <dc:language>en-US</dc:language>
  <cp:lastModifiedBy>Admin</cp:lastModifiedBy>
  <dcterms:modified xsi:type="dcterms:W3CDTF">2008-07-30T23:22:31Z</dcterms:modified>
  <cp:revision>1</cp:revision>
  <dc:subject/>
  <dc:title>Slide 1</dc:title>
</cp:coreProperties>
</file>