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CF1-8C33-4832-99F1-377783C1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D49-2788-4ECE-A0B0-669540B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300-42A7-493C-A425-B2800F62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875-69A5-4370-A85A-FC507F79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75B-CA55-4D8F-ACBB-01350500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2B1-EAAC-4A36-B9C1-AB79E15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80E-99B5-4ED4-9372-67C1B857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6E6-2805-4678-89D9-6A80D600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9E7-F0AC-4A92-96E3-898476EA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612-64FB-4223-B99A-56A5567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E47-6EA6-443B-8C43-AABDC3D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ED4-D0EE-4A98-95CB-E381A5A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5720-577C-46F1-AF59-68082C8253D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estas coisas, que alguém disse a José: Eis que teu pai está enfermo. Então tomou consigo os seus dois filhos, Manassés e Efr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olhos de Israel, porém, estavam carregados de velhice, já não podia ver; e fê-los chegar a ele, e beijou-os, e abraçou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disse a José: Eu não cuidara ver o teu rosto; e eis que Deus me fez ver também 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os tirou dos joelhos de seu pai, e inclinou-se à terra diante d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José a ambos, a Efraim na sua mão direita, à esquerda de Israel, e Manassés na sua mão esquerda, à direita de Israel, e fê-los chegar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Israel estendeu a sua mão direita e a pôs sobre a cabeça de Efraim, que era o menor, e a sua esquerda sobre a cabeça de Manassés, dirigindo as suas mãos propositadamente, não obstante Manassés ser o primogên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ou a José, e disse: O Deus, em cuja presença andaram os meus pais Abraão e Isaque, o Deus que me sustentou, desde que eu nasci até este 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anjo que me livrou de todo o mal, abençoe estes rapazes, e seja chamado neles o meu nome, e o nome de meus pais Abraão e Isaque, e multipliquem-se como peixes, em multidão, no mei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José que seu pai punha a sua mão direita sobre a cabeça de Efraim, foi mau aos seus olhos; e tomou a mão de seu pai, para a transpor de sobre a cabeça de Efraim à cabeça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disse a seu pai: Não assim, meu pai, porque este é o primogênito; põe a tua mão direita sobre a su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u pai recusou, e disse: Eu o sei, meu filho, eu o sei; também ele será um povo, e também ele será grande; contudo o seu irmão menor será maior que ele, e a sua descendência será uma multidão de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ém participou a Jacó, e disse: Eis que José teu filho vem a ti. E esforçou-se Israel, e assentou-se sobre 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abençoou naquele dia, dizendo: Em ti abençoará Israel, dizendo: Deus te faça como a Efraim e como a Manassés. E pôs a Efraim diante de Manassé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Israel a José: Eis que eu morro, mas Deus será convosco, e vos fará tornar à terra de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tenho dado a ti um pedaço da terra a mais do que a teus irmãos, que tomei com a minha espada e com o meu arco, da mão dos amorr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isse a José: O Deus Todo-Poderoso me apareceu em Luz, na terra de Canaã, e me aben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 disse: Eis que te farei frutificar e multiplicar, e tornar-te-ei uma multidão de povos e darei esta terra à tua descendência depois de ti, em possessão perpé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s teus dois filhos, que te nasceram na terra do Egito, antes que eu viesse a ti no Egito, são meus: Efraim e Manassés serão meus, como Rúben e Sime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tua geração, que gerarás depois deles, será tua; segundo o nome de seus irmãos serão chamados na sua h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eu de Padã, morreu-me Raquel no caminho, na terra de Canaã, havendo ainda pequena distância para chegar a Efrata; e eu a sepultei ali, no caminho de Efrata, que é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viu os filhos de José, e disse: Quem são 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disse a seu pai: Eles são meus filhos, que Deus me tem dado aqui. E ele disse: Peço-te, traze-mos aqui, para que os abenço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15Z</dcterms:created>
  <dc:creator>Admin</dc:creator>
  <dc:description/>
  <dc:language>en-US</dc:language>
  <cp:lastModifiedBy>Admin</cp:lastModifiedBy>
  <dcterms:modified xsi:type="dcterms:W3CDTF">2008-07-30T23:40:15Z</dcterms:modified>
  <cp:revision>1</cp:revision>
  <dc:subject/>
  <dc:title>Slide 1</dc:title>
</cp:coreProperties>
</file>