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58E-9E91-4D06-B805-99E8F330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46D-80FB-43AA-882F-E0966B37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D48-7BA5-418E-8E28-90B511E2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E07-A51C-400E-8AE4-00E431FE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C04-D1BA-406E-82EB-6B5ED164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64C-2EDD-4BD3-A69A-E9111FE9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0F0-4BFA-4CD3-979A-1E9D1BD9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D4C-34F9-469C-B095-B83B4D71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2AE-3BEA-4EE3-8008-AE9E9967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533-0DDC-42D1-B4B8-839E69B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103-648A-4CF7-9869-7386888F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658-AC30-4D48-8A9E-DB9C6C6A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82D-C5A7-47BC-8FAE-794EFE7E0ED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, irmãos, vos fazemos conhecer a graça de Deus dada às igrejas da Macedôn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sto dou o meu parecer; pois isto convém a vós que, desde o ano passado, começastes; e não foi só praticar, mas também quer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rém, completai também o já começado, para que, assim como houve a prontidão de vontade, haja também o cumprimento, segundo o que te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há prontidão de vontade, será aceita segundo o que qualquer tem, e não segundo o que não 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ão digo isto para que os outros tenham alívio, e vós opres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a igualdade; neste tempo presente, a vossa abundância supra a falta dos outros, para que também a sua abundância supra a vossa falta, e haja igual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escrito: O que muito colheu não teve de mais; e o que pouco, não teve de me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graças a Deus, que pôs a mesma solicitude por vós no coração de T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ceitou a exortação, e muito diligente partiu voluntariamente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ele enviamos aquele irmão cujo louvor no evangelho está espalhado em todas as igre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ó isto, mas foi também escolhido pelas igrejas para companheiro da nossa viagem, nesta graça que por nós é ministrada para glória do mesmo SENHOR, e prontidão do vosso ân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no meio de muita prova de tribulação, manifestaram abundância de alegria, e a profunda pobreza deles superabundou em grande riqueza da sua genero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vitando isto, que alguém nos vitupere por esta abundância, que por nós é ministr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zelamos do que é honesto, não só diante do Senhor, mas também diante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es enviamos também outro nosso irmão, o qual muitas vezes, e em muitas coisas, já experimentamos ser diligente, e agora muito mais diligente ainda pela muita confiança que em vós 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Tito, é meu companheiro, e cooperador para convosco; quanto a nossos irmãos, são embaixadores das igrejas e glória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mostrai para com eles, e perante a face das igrejas, a prova do vosso amor, e da nossa glória acerca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gundo o seu poder (o que eu mesmo testifico) e ainda acima do seu poder, deram voluntari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indo-nos com muitos rogos que aceitássemos a graça e a comunicação deste serviço, que se fazia para com 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omente fizeram como nós esperávamos, mas a si mesmos se deram primeiramente ao SENHOR, e depois a nós, pela vontad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exortamos a Tito que, assim como antes tinha começado, assim também acabasse esta graça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como em tudo abundais em fé, e em palavra, e em ciência, e em toda a diligência, e em vosso amor para conosco, assim também abundeis nesta g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go isto como quem manda, mas para provar, pela diligência dos outros, a sinceridade de voss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sabeis a graça de nosso Senhor Jesus Cristo que, sendo rico, por amor de vós se fez pobre; para que pela sua pobreza enriquecêss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47Z</dcterms:created>
  <dc:creator>Admin</dc:creator>
  <dc:description/>
  <dc:language>en-US</dc:language>
  <cp:lastModifiedBy>Admin</cp:lastModifiedBy>
  <dcterms:modified xsi:type="dcterms:W3CDTF">2008-07-30T23:48:47Z</dcterms:modified>
  <cp:revision>1</cp:revision>
  <dc:subject/>
  <dc:title>Slide 1</dc:title>
</cp:coreProperties>
</file>