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C197-A2EF-4B60-817B-0787E74C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3C3B-06F9-4EA4-B6CF-A8E21CCB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BBFB-79F6-4B9C-B07F-CCE279A3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44BF-DDE6-4E73-B567-F6538059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7525-A45A-4D3E-A510-D6D2D422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253A-F5D2-4946-9990-AFAF4DAF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DD57-7C17-4D2E-9DCA-DC686996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379E-7450-4072-9018-3AB51A1D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C7F0-D3EB-4182-867A-43AC4920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DF24-26B3-4448-BC9E-804EA81A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B1C3-6894-4A20-8291-A6DFDA22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7F0C-0C7C-4138-872C-CD8BAC19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EF14-87A0-42A7-B98B-62FDBF7DAF8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ABEDORIA já edificou a sua casa, já lavrou as suas sete colu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mor do SENHOR é o princípio da sabedoria, e o conhecimento do Santo a prud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or meu intermédio se multiplicam os teus dias, e anos de vida se te aument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fores sábio, para ti serás sábio; e, se fores escarnecedor, só tu o suport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ulher louca é alvoroçadora; é simples e nada sa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enta-se à porta da sua casa numa cadeira, nas alturas da cida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õe-se a chamar aos que vão pelo caminho, e que passam reto pelas vereda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é simples, volte-se para cá. E aos faltos de entendimento ela diz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águas roubadas são doces, e o pão tomado às escondidas é agradáv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ão sabem que ali estão os mortos; os seus convidados estão nas profundezas do infer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abateu os seus animais e misturou o seu vinho, e já preparou a sua me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ordenou às suas criadas, e está convidando desde as alturas da cidade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é simples, volte-se para cá. Aos faltos de senso diz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e, comei do meu pão, e bebei do vinho que tenho mistu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ixai os insensatos e vivei; e andai pelo caminho do entend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repreende o escarnecedor, toma afronta para si; e o que censura o ímpio recebe a sua manc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repreendas o escarnecedor, para que não te odeie; repreende o sábio, e ele te am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á instrução ao sábio, e ele se fará mais sábio; ensina o justo e ele aumentará em doutr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1:26Z</dcterms:created>
  <dc:creator>Admin</dc:creator>
  <dc:description/>
  <dc:language>en-US</dc:language>
  <cp:lastModifiedBy>Admin</cp:lastModifiedBy>
  <dcterms:modified xsi:type="dcterms:W3CDTF">2008-07-31T00:21:26Z</dcterms:modified>
  <cp:revision>1</cp:revision>
  <dc:subject/>
  <dc:title>Slide 1</dc:title>
</cp:coreProperties>
</file>