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123-394E-4A09-8885-41907D68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41F-966B-486B-A28B-DF982155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52C-B700-4543-BDE6-EAF122E5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21B-905B-4248-B080-50589397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351-0AB4-48D1-B00D-2DD8B5B8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3BF-559A-48EA-BCE3-62D3815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2F0-361A-4FF8-BBD9-FF3765B2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C0C-DDB5-48A3-8D60-CD7201CD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0D0-E36C-4040-8FD7-BF6D2D5A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D2E-B18D-47D0-B155-FB595543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4D3-EE05-44BC-9CF3-47C5DC47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BEB-94BA-4ABF-A21E-EFE94DD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2C4D-160F-498B-8B1B-A5EE8CFE809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Elifaz, o temanit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é que estás cercado de laços, e te perturba um pavor repentin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trevas em que nada vês, e a abundância de águas que t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Deus não está na altura dos céus? Olha para a altura das estrelas; quão elevadas es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s: que sabe Deus? Porventura julgará ele através da escurid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nuvens são esconderijo para ele, para que não veja; e passeia pelo circuit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queres guardar a vereda antiga, que pisaram os homens iníqu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foram arrebatados antes do seu tempo; sobre o seu fundamento um dilúvio se derra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m a Deus: Retira-te de nós. E: Que foi que o Todo-Poderoso nos fe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ele encheu de bens as suas casas; mas o conselho dos ímpios esteja long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ustos o vêem, e se alegram, e o inocente escarnec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será o homem de algum proveito a Deus? Antes a si mesmo o prudente será proveit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nosso adversário não foi destruído, mas o fogo consumiu o que restou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ega-te, pois, a ele, e tem paz, e assim te sobrevirá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eita, peço-te, a lei da sua boca, e põe as suas palavras no t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e voltares ao Todo-Poderoso, serás edificado; se afastares a iniqüidade da tua ten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tares o teu tesouro no pó, e o ouro de Ofir nas pedras dos ribeir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Todo-Poderoso será o teu tesouro, e a tua prata acumul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ntão te deleitarás no Todo-Poderoso, e levantarás o teu rosto pa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rás a ele, e ele te ouvirá, e pagarás os teus v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terminarás tu algum negócio, e ser-te-á firme, e a luz brilhará em t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 abaterem, então tu dirás: Haja exaltação! E Deus salvará ao humil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tem o Todo-Poderoso prazer em que tu sejas justo, ou algum lucro em que tu faças perfeitos os teus camin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vrará até ao que não é inocente; porque será libertado pela pureza de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te repreende, pelo temor que tem de ti, ou entra contigo em juíz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é grande a tua malícia, e sem termo as tuas iniqüidad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m causa penhoraste a teus irmãos, e aos nus despojaste 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ste ao cansado água a beber, e ao faminto retiveste o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a o poderoso era a terra, e o homem tido em respeito habitava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iúvas despediste vazias, e os braços dos órfãos foram queb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28Z</dcterms:created>
  <dc:creator>Admin</dc:creator>
  <dc:description/>
  <dc:language>en-US</dc:language>
  <cp:lastModifiedBy>Admin</cp:lastModifiedBy>
  <dcterms:modified xsi:type="dcterms:W3CDTF">2008-07-31T00:01:29Z</dcterms:modified>
  <cp:revision>1</cp:revision>
  <dc:subject/>
  <dc:title>Slide 1</dc:title>
</cp:coreProperties>
</file>