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9BF-C3BA-48D3-8CD7-DDE3ED15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938-B40C-4648-8D44-CAD917E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050-770B-4983-BC99-56C26119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A02-108C-4F15-BE44-8F02A8DD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A43-0C88-4CDD-95CD-CEC0390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B9F-D734-4A87-8458-4486C7E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887-2911-4A20-8DB6-C2B27942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0B0-208C-4497-A3AC-C7E66D9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BB4-79E3-407D-80B2-82EA6A6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91A-8969-445F-89AD-0163354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B36-F8A4-4A2D-BFB1-F23AA76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C28-EFB5-4F65-A7AF-B323E409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C5B-53C7-4D42-AA5A-C15196C885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crê que Jesus é o Cristo, é nascido de Deus; e todo aquele que ama ao que o gerou também ama ao que dele é nas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rê no Filho de Deus, em si mesmo tem o testemunho; quem a Deus não crê mentiroso o fez, porquanto não creu no testemunho que Deus de seu Filho 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stemunho é este: que Deus nos deu a vida eterna; e esta vida está em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 Filho tem a vida; quem não tem o Filho de Deus não tem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vos escrevi a vós, os que credes no nome do Filho de Deus, para que saibais que tendes a vida eterna, e para que creiais no nome d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confiança que temos nele, que, se pedirmos alguma coisa, segundo a sua vontade, ele nos 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abemos que nos ouve em tudo o que pedimos, sabemos que alcançamos as petições que lhe fiz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vir pecar seu irmão, pecado que não é para morte, orará, e Deus dará a vida àqueles que não pecarem para morte. Há pecado para morte, e por esse não digo que o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iniqüidade é pecado, e há pecado que não é par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mos que todo aquele que é nascido de Deus não peca; mas o que de Deus é gerado conserva-se a si mesmo, e o maligno não lhe t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mos que somos de Deus, e que todo o mundo está n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conhecemos que amamos os filhos de Deus, quando amamos a Deus e guardamos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mos que já o Filho de Deus é vindo, e nos deu entendimento para conhecermos o que é verdadeiro; e no que é verdadeiro estamos, isto é, em seu Filho Jesus Cristo. Este é o verdadeiro Deus e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guardai-vos dos ídolo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é o amor de Deus: que guardemos os seus mandamentos; e os seus mandamentos não são pes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o que é nascido de Deus vence o mundo; e esta é a vitória que vence o mundo, a noss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que vence o mundo, senão aquele que crê que Jesus é o Filh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aquele que veio por água e sangue, isto é, Jesus Cristo; não só por água, mas por água e por sangue. E o Espírito é o que testifica, porque o Espírito é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rês são os que testificam no céu: o Pai, a Palavra, e o Espírito Santo; e estes três são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ês são os que testificam na terra: o Espírito, e a água e o sangue; e estes três concordam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recebemos o testemunho dos homens, o testemunho de Deus é maior; porque o testemunho de Deus é este, que de seu Filho test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14Z</dcterms:created>
  <dc:creator>Admin</dc:creator>
  <dc:description/>
  <dc:language>en-US</dc:language>
  <cp:lastModifiedBy>Admin</cp:lastModifiedBy>
  <dcterms:modified xsi:type="dcterms:W3CDTF">2008-07-30T23:44:14Z</dcterms:modified>
  <cp:revision>1</cp:revision>
  <dc:subject/>
  <dc:title>Slide 1</dc:title>
</cp:coreProperties>
</file>