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1BA-E475-434C-A5A3-91184A4B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E1A-BAE6-438C-8E8E-09BE6D0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C30-3A40-4892-BF48-CF14A61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202-32C8-41BB-9DDC-3183C432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F4E-2AC6-429B-BA99-2E360E77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FD0-DF60-434E-B364-8A30A01E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E92-294D-4FFB-B684-393686C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E5E-D832-4FEA-BF1B-BAEA1912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FE6-2FF7-4C42-A265-BF9B4199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472-FC43-4A69-B413-EB9077F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C59-48ED-458F-A175-A5EE018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334-29B5-4E1C-BD8A-74AD8C5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106-A346-40D9-954A-73B2689991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ajuntaram as suas forças para a guerra e congregaram-se em Socó, que está em Judá, e acamparam-se entre Socó e Azeca, em Efes-D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filisteu: Hoje desafio as companhias de Israel, dizendo: Dai-me um homem, para que ambos pelej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então Saul e todo o Israel estas palavras do filisteu, espantaram-se, e temeram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ra filho de um homem efrateu, de Belém de Judá, cujo nome era Jessé, que tinha oito filhos; e nos dias de Saul era este homem já velho e adiantado em idade 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-se os três filhos mais velhos de Jessé, e seguiram a Saul à guerra; e eram os nomes de seus três filhos, que se foram à guerra, Eliabe, o primogênito, e o segundo Abinadabe, e o terceiro S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ra o menor; e os três maiores seguiram a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, porém, ia e voltava de Saul, para apascentar as ovelhas de seu pai em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va-se, pois, o filisteu pela manhã e à tarde; e apresentou-se por quar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sé a Davi, seu filho: Toma, peço-te, para teus irmãos um efa deste grão tostado e estes dez pães, e corre a levá-los ao arraial, a t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es dez queijos de leite leva ao capitão de mil; e visitarás a teus irmãos, a ver se vão bem; e tomarás o seu p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Saul, e eles, e todos os homens de Israel no vale do carvalho, pelejando com 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ul e os homens de Israel se ajuntaram e acamparam no vale do carvalho, e ordenaram a batalha contra 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 então se levantou de madrugada, pela manhã, e deixou as ovelhas com um guarda, e carregou-se, e partiu, como Jessé lhe ordenara; e chegou ao lugar dos carros, quando já o exército saía em ordem de batalha, e a gritos chamavam à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israelitas e filisteus se puseram em ordem, fileira contra fil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eixou a carga que trouxera na mão do guarda da bagagem, e correu à batalha; e, chegando, perguntou a seus irmãos se estavam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falando com eles, eis que vinha subindo do exército dos filisteus o homem guerreiro, cujo nome era Golias, o filisteu de Gate; e falou conforme àquelas palavras, e Davi as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os os homens em Israel, vendo aquele homem, fugiram de diante dele, e temiam grand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os homens de Israel: Vistes aquele homem que subiu? Pois subiu para afrontar a Israel; há de ser, pois, que, o homem que o ferir, o rei o enriquecerá de grandes riquezas, e lhe dará a sua filha, e fará livre a casa de seu pai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Davi aos homens que estavam com ele, dizendo: Que farão àquele homem, que ferir a este filisteu, e tirar a afronta de sobre Israel? Quem é, pois, este incircunciso filisteu, para afrontar os exércitos do Deus v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lhe tornou a falar conforme àquela palavra dizendo: Assim farão ao homem que o fe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iabe, seu irmão mais velho, falar àqueles homens, acendeu-se a ira de Eliabe contra Davi, e disse: Por que desceste aqui? Com quem deixaste aquelas poucas ovelhas no deserto? Bem conheço a tua presunção, e a maldade do teu coração, que des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: Que fiz eu agora? Porventura não há razão para is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estavam num monte de um lado, e os israelitas estavam num monte do outro lado; e o vale estava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viou-se dele para outro, e falou conforme àquela palavra; e o povo lhe tornou a responder conforme às primeir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das as palavras que Davi havia falado, as anunciaram a Saul, que mandou cham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isse a Saul: Não desfaleça o coração de ninguém por causa dele; teu servo irá, e pelejará contra este filis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ul disse a Davi: Contra este filisteu não poderás ir para pelejar com ele; pois tu ainda és moço, e ele homem de guerra desde a s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Saul: Teu servo apascentava as ovelhas de seu pai; e quando vinha um leão e um urso, e tomava uma ovelha do reba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aía após ele e o feria, e livrava-a da sua boca; e, quando ele se levantava contra mim, lançava-lhe mão da barba, e o feria e o ma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ria o teu servo o leão, como o urso; assim será este incircunciso filisteu como um deles; porquanto afrontou os exércitos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Davi: O SENHOR me livrou das garras do leão, e das do urso; ele me livrará da mão deste filisteu. Então disse Saul a Davi: Vai, e o SENHOR sej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vestiu a Davi de suas vestes, e pôs-lhe sobre a cabeça um capacete de bronze; e o vestiu de uma cou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cingiu a espada sobre as suas vestes, e começou a andar; porém nunca o havia experimentado; então disse Davi a Saul: Não posso andar com isto, pois nunca o experimentei. E Davi tirou aquilo de sob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do arraial dos filisteus um homem guerreiro, cujo nome era Golias, de Gate, que tinha de altura seis côvados e um pal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 seu cajado na mão, e escolheu para si cinco seixos do ribeiro, e pô-los no alforje de pastor, que trazia, a saber, no surrão, e lançou mão da sua funda; e foi aproximando-se do filis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isteu também vinha se aproximando de Davi; e o que lhe levava o escudo ia a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o filisteu, e vendo a Davi, o desprezou, porquanto era moço, ruivo, e de gentil aspec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filisteu a Davi: Sou eu algum cão, para tu vires a mim com paus? E o filisteu pelos seus deuses amaldiçoou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filisteu a Davi: Vem a mim, e darei a tua carne às aves do céu e às besta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, porém, disse ao filisteu: Tu vens a mim com espada, e com lança, e com escudo; porém eu venho a ti em nome do SENHOR dos Exércitos, o Deus dos exércitos de Israel, a quem tens afr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 mesmo o SENHOR te entregará na minha mão, e ferir-te-ei, e tirar-te-ei a cabeça, e os corpos do arraial dos filisteus darei hoje mesmo às aves do céu e às feras da terra; e toda a terra saberá que há Deus em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á toda esta congregação que o SENHOR salva, não com espada, nem com lança; porque do SENHOR é a guerra, e ele vos entregará na noss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levantando-se o filisteu, e indo encontrar-se com Davi, apressou-se Davi, e correu ao combate, a encontrar-se com o filis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pôs a mão no alforje, e tomou dali uma pedra e com a funda lha atirou, e feriu o filisteu na testa, e a pedra se lhe encravou na testa, e caiu sobre o seu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ia na cabeça um capacete de bronze, e vestia uma couraça de escamas; e era o peso da couraça de cinco mil siclos de bron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avi prevaleceu contra o filisteu, com uma funda e com uma pedra, e feriu o filisteu, e o matou; sem que Davi tivesse uma espada n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correu Davi, e pôs-se em pé sobre o filisteu, e tomou a sua espada, e tirou-a da bainha, e o matou, e lhe cortou com ela a cabeça; vendo então os filisteus, que o seu herói era morto,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Israel e Judá se levantaram, e jubilaram, e seguiram os filisteus, até chegar ao vale, e até às portas de Ecrom; e caíram os feridos dos filisteus pelo caminho de Saaraim até Gate e até Ec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 os filhos de Israel de perseguirem os filisteus, e despojaram os seus arrai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mou a cabeça do filisteu, e a trouxe a Jerusalém; porém pôs as armas dele n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rém, Saul, sair Davi a encontrar-se com o filisteu, disse a Abner, o capitão do exército: De quem é filho este moço, Abner? E disse Abner: Vive a tua alma, ó rei, que o não s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o rei: Pergunta, pois, de quem é filho este m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, pois, Davi de ferir o filisteu, Abner o tomou consigo, e o trouxe à presença de Saul, trazendo ele na mão a cabeça do filis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Saul: De quem és filho, jovem? E disse Davi: Filho de teu servo Jessé, bele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 grevas de bronze por cima de seus pés, e um escudo de bronze entre os seu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haste da sua lança era como o eixo do tecelão, e a ponta da sua lança de seiscentos siclos de ferro, e diante dele ia o escu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ou, e clamou às companhias de Israel, e disse-lhes: Para que saireis a ordenar a batalha? Não sou eu filisteu e vós servos de Saul? Escolhei dentre vós um homem que desça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 puder pelejar comigo, e me ferir, a vós seremos por servos; porém, se eu o vencer, e o ferir, então a nós sereis por servos, e nos serv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16Z</dcterms:created>
  <dc:creator>Admin</dc:creator>
  <dc:description/>
  <dc:language>en-US</dc:language>
  <cp:lastModifiedBy>Admin</cp:lastModifiedBy>
  <dcterms:modified xsi:type="dcterms:W3CDTF">2008-07-30T23:47:16Z</dcterms:modified>
  <cp:revision>1</cp:revision>
  <dc:subject/>
  <dc:title>Slide 1</dc:title>
</cp:coreProperties>
</file>