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8CEC1-B0EE-417C-9122-7B406A97E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93122-5BB6-49F5-9A27-4B97BFA29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5DD61-2CE2-4FF3-8FB3-BCC51BD4D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28377-634E-4712-8592-73765029F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9752E-F122-49F6-A022-8AAC3006F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1C167-A7A1-4CD6-8B0B-57E70908C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AD03E-79F1-4B93-9847-C599D7943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AB67F-0941-4AA5-818A-E3086B5A2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09648-C1EC-4241-8469-9B67F2DF7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3B973-E366-495A-825F-3F225AA1F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13C6C-B1C7-482B-91C7-59A8FAFC2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7B543-8EB9-4FF1-8D37-6D39269C4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B4F01-0599-4C2F-9713-77614DC56656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1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o princípio criou Deus os céus e a terra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1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chamou Deus à porção seca Terra; e ao ajuntamento das águas chamou Mares; e viu Deus que era bo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1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 Deus: Produza a terra erva verde, erva que dê semente, árvore frutífera que dê fruto segundo a sua espécie, cuja semente está nela sobre a terra; e assim fo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1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 terra produziu erva, erva dando semente conforme a sua espécie, e a árvore frutífera, cuja semente está nela conforme a sua espécie; e viu Deus que era bo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1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oi a tarde e a manhã, o dia terceir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1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 Deus: Haja luminares na expansão dos céus, para haver separação entre o dia e a noite; e sejam eles para sinais e para tempos determinados e para dias e an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1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ejam para luminares na expansão dos céus, para iluminar a terra; e assim fo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1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ez Deus os dois grandes luminares: o luminar maior para governar o dia, e o luminar menor para governar a noite; e fez as estrel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1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eus os pôs na expansão dos céus para iluminar a terra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1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para governar o dia e a noite, e para fazer separação entre a luz e as trevas; e viu Deus que era bo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1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oi a tarde e a manhã, o dia quar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1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 terra era sem forma e vazia; e havia trevas sobre a face do abismo; e o Espírito de Deus se movia sobre a face das águ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1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 Deus: Produzam as águas abundantemente répteis de alma vivente; e voem as aves sobre a face da expansão dos cé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1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eus criou as grandes baleias, e todo o réptil de alma vivente que as águas abundantemente produziram conforme as suas espécies; e toda a ave de asas conforme a sua espécie; e viu Deus que era bo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1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eus os abençoou, dizendo: Frutificai e multiplicai-vos, e enchei as águas nos mares; e as aves se multipliquem na ter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1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oi a tarde e a manhã, o dia quin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1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 Deus: Produza a terra alma vivente conforme a sua espécie; gado, e répteis e feras da terra conforme a sua espécie; e assim fo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1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ez Deus as feras da terra conforme a sua espécie, e o gado conforme a sua espécie, e todo o réptil da terra conforme a sua espécie; e viu Deus que era bo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1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 Deus: Façamos o homem à nossa imagem, conforme a nossa semelhança; e domine sobre os peixes do mar, e sobre as aves dos céus, e sobre o gado, e sobre toda a terra, e sobre todo o réptil que se move sobre a ter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1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criou Deus o homem à sua imagem; à imagem de Deus o criou; homem e mulher os crio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1:2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eus os abençoou, e Deus lhes disse: Frutificai e multiplicai-vos, e enchei a terra, e sujeitai-a; e dominai sobre os peixes do mar e sobre as aves dos céus, e sobre todo o animal que se move sobre a ter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1:2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 Deus: Eis que vos tenho dado toda a erva que dê semente, que está sobre a face de toda a terra; e toda a árvore, em que há fruto que dê semente, ser-vos-á para mantimen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1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 Deus: Haja luz; e houve luz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1:3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 todo o animal da terra, e a toda a ave dos céus, e a todo o réptil da terra, em que há alma vivente, toda a erva verde será para mantimento; e assim fo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1:3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viu Deus tudo quanto tinha feito, e eis que era muito bom; e foi a tarde e a manhã, o dia sex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1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viu Deus que era boa a luz; e fez Deus separação entre a luz e as trev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1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eus chamou à luz Dia; e às trevas chamou Noite. E foi a tarde e a manhã, o dia primeir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1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 Deus: Haja uma expansão no meio das águas, e haja separação entre águas e águ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1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ez Deus a expansão, e fez separação entre as águas que estavam debaixo da expansão e as águas que estavam sobre a expansão; e assim fo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1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chamou Deus à expansão Céus, e foi a tarde e a manhã, o dia segun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ênesis 1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 Deus: Ajuntem-se as águas debaixo dos céus num lugar; e apareça a porção seca; e assim fo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37:12Z</dcterms:created>
  <dc:creator>Admin</dc:creator>
  <dc:description/>
  <dc:language>en-US</dc:language>
  <cp:lastModifiedBy>Admin</cp:lastModifiedBy>
  <dcterms:modified xsi:type="dcterms:W3CDTF">2008-07-30T23:37:12Z</dcterms:modified>
  <cp:revision>1</cp:revision>
  <dc:subject/>
  <dc:title>Slide 1</dc:title>
</cp:coreProperties>
</file>