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346-3C3B-456B-BB0D-630A2661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07D8-98A2-4D68-AADE-CED2CCE6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E6A-08B3-4562-87B9-222316CE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6E4B-E123-4BBD-8027-91627709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6B4-F8B5-4811-AF03-75D19B41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06E2-A83F-4A0C-A792-701FA924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7FB5-F8F5-4112-922F-C9432448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3E3-FE14-4104-BF62-8E2A0CAD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F634-A027-47E5-A6CF-5BC743ED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6DA-5406-47B5-9CC6-DEABDB45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FA4-46AA-4FE6-A8B4-64690C34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484-3CCF-47ED-9FC0-34622F86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8244-A000-4E19-B698-D2A385C16A4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LAVRAS do pregador, filho de Davi, rei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alguma coisa de que se possa dizer: Vê, isto é novo? Já foi nos séculos passados, que foram antes d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não há lembrança das coisas que precederam, e das coisas que hão de ser também delas não haverá lembrança, entre os que hão de vir dep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o pregador, fui rei sobre Israel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liquei o meu coração a esquadrinhar, e a informar-me com sabedoria de tudo quanto sucede debaixo do céu; esta enfadonha ocupação deu Deus aos filhos dos homens, para nela os exerci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entei para todas as obras que se fazem debaixo do sol, e eis que tudo era vaidade e aflição de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ilo que é torto não se pode endireitar; aquilo que falta não se pode calcu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ei eu com o meu coração, dizendo: Eis que eu me engrandeci, e sobrepujei em sabedoria a todos os que houve antes de mim em Jerusalém; e o meu coração contemplou abundantemente a sabedoria e o conhec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liquei o meu coração a conhecer a sabedoria e a conhecer os desvarios e as loucuras, e vim a saber que também isto era aflição de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a muita sabedoria há muito enfado; e o que aumenta em conhecimento, aumenta em 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dade de vaidades, diz o pregador, vaidade de vaidades! Tudo é va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proveito tem o homem, de todo o seu trabalho, que faz debaixo do so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geração vai, e outra geração vem; mas a terra para sempre permane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sce o sol, e o sol se põe, e apressa-se e volta ao seu lugar de onde nas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vento vai para o sul, e faz o seu giro para o norte; continuamente vai girando o vento, e volta fazendo os seus circu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rios vão para o mar, e contudo o mar não se enche; ao lugar para onde os rios vão, para ali tornam eles a corr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coisas são trabalhosas; o homem não o pode exprimir; os olhos não se fartam de ver, nem os ouvidos se enchem de ouv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Eclesiaste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foi, isso é o que há de ser; e o que se fez, isso se fará; de modo que nada há de novo debaixo do so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9:16Z</dcterms:created>
  <dc:creator>Admin</dc:creator>
  <dc:description/>
  <dc:language>en-US</dc:language>
  <cp:lastModifiedBy>Admin</cp:lastModifiedBy>
  <dcterms:modified xsi:type="dcterms:W3CDTF">2008-07-30T23:29:16Z</dcterms:modified>
  <cp:revision>1</cp:revision>
  <dc:subject/>
  <dc:title>Slide 1</dc:title>
</cp:coreProperties>
</file>