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965-F24B-4ECB-BF89-BDE58891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7E9-C3F2-4E20-93FD-4F0AF1A7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78C-5B75-4B07-92A2-6503B18F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D78-D892-41CC-BE76-C7F3FB61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9E4-B313-4515-9766-94428057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65B-950F-471F-9EE3-16D8672C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798-AE0D-4155-89B2-D1C4A0D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B87-2929-4F93-8B99-444F4B1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A1C-8202-434E-A18B-9E649DD2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955-FB90-42DC-B4EE-47B156E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8F9-ADF0-4B32-B853-032630B6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563-8AA7-4ADC-99AF-0DEA57C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B49F-E2FD-4997-A3CF-C4D31336B2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S de Agur, filho de Jaque, o masaíta, que proferiu este homem a Itiel, a Itiel e a Uca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cuses o servo diante de seu senhor, para que não te amaldiçoe e tu fiques o culp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a geração que amaldiçoa a seu pai, e que não bendiz 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a geração que é pura aos seus próprios olhos, mas que nunca foi lavada da sua imund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a geração cujos olhos são altivos, e as suas pálpebras são sempre levan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a geração cujos dentes são espadas, e cujas queixadas são facas, para consumirem da terra os aflitos, e os necessitados dentr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nguessuga tem duas filhas: Dá e Dá. Estas três coisas nunca se fartam; e com a quarta, nunca dizem: Bast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epultura; a madre estéril; a terra que não se farta de água; e o fogo; nunca dizem: Bast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que zombam do pai, ou desprezam a obediência à mãe, corvos do ribeiro os arrancarão e os filhotes da águia os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três coisas me maravilham; e quatro há que não conheç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a águia no ar; o caminho da cobra na penha; o caminho do navio no meio do mar; e o caminho do homem com uma vir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eu sou o mais bruto dos homens, nem mesmo tenho o conhecimento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a mulher adúltera é assim: ela come, depois limpa a sua boca e diz: Não fiz nada de ma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três coisas se alvoroça a terra; e por quatro que não pode suporta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servo, quando reina; e pelo tolo, quando vive na fartu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ulher odiosa, quando é casada; e pela serva, quando fica herdeira da sua sen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quatro coisas são das menores da terra, porém bem providas de sabedori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formigas não são um povo forte; todavia no verão preparam a sua comi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oelhos são um povo débil; e contudo, põem a sua casa na roc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gafanhotos não têm rei; e contudo todos saem, e em bandos se repart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ranha se pendura com as mãos, e está nos palácios do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rês têm um bom andar, e quatro passeiam airos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prendi a sabedoria, nem tenho o conhecimento d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eão, o mais forte entre os animais, que não foge de n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galo; o bode também; e o rei a quem não se pode resis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rocedeste loucamente, exaltando-te, e se planejaste o mal, leva a mão à bo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exer do leite produz manteiga, o espremer do nariz produz sangue; assim o forçar da ira produz con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ubiu ao céu e desceu? Quem encerrou os ventos nos seus punhos? Quem amarrou as águas numa roupa? Quem estabeleceu todas as extremidades da terra? Qual é o seu nome? E qual é o nome de seu filho, se é que o sab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Palavra de Deus é pura; escudo é para os que confi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acrescentes às suas palavras, para que não te repreenda e sejas achado menti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uas coisas te pedi; não mas negues, antes que morr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asta de mim a vaidade e a palavra mentirosa; não me dês nem a pobreza nem a riqueza; mantém-me do pão da minha porção de costu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porventura, estando farto não te negue, e venha a dizer: Quem é o SENHOR? ou que, empobrecendo, não venha a furtar, e tome o nome de Deus em 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56Z</dcterms:created>
  <dc:creator>Admin</dc:creator>
  <dc:description/>
  <dc:language>en-US</dc:language>
  <cp:lastModifiedBy>Admin</cp:lastModifiedBy>
  <dcterms:modified xsi:type="dcterms:W3CDTF">2008-07-31T00:22:56Z</dcterms:modified>
  <cp:revision>1</cp:revision>
  <dc:subject/>
  <dc:title>Slide 1</dc:title>
</cp:coreProperties>
</file>