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DB7-F40C-4982-A2F2-C8154011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15D-2142-4CB0-ACC8-6E6A250D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FB5-139F-4525-9744-98094729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9F3-2765-4C80-97EC-EA13045E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31A-7D88-4984-9AAD-721C0F3C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951-DA38-4598-BBB9-B34700C4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A12-0AE3-48FF-96FA-91466BB2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CFA-DD38-40F0-8665-12D4F8E2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C95-7323-4D4F-A48E-06D64634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220-5A26-4D45-B934-1525356D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DF1-79FF-46D4-BED1-35C345DD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1AC-6EA6-48E7-8A42-9045E68C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DA67-48EC-46B1-B73C-98937D2307D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na destra do que estava assentado sobre o trono um livro escrito por dentro e por fora, selado com sete se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ara o nosso Deus os fizeste reis e sacerdotes; e eles reinarão sobre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ei, e ouvi a voz de muitos anjos ao redor do trono, e dos animais, e dos anciãos; e era o número deles milhões de milhões, e milhares de milhar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com grande voz diziam: Digno é o Cordeiro, que foi morto, de receber o poder, e riquezas, e sabedoria, e força, e honra, e glória, e ações de graç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uvi toda a criatura que está no céu, e na terra, e debaixo da terra, e que está no mar, e a todas as coisas que neles há, dizer: Ao que está assentado sobre o trono, e ao Cordeiro, sejam dadas ações de graças, e honra, e glória, e poder para todo o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atro animais diziam: Amém. E os vinte e quatro anciãos prostraram-se, e adoraram ao que vive para todo o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 um anjo forte, bradando com grande voz: Quem é digno de abrir o livro e de desatar os seus sel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inguém no céu, nem na terra, nem debaixo da terra, podia abrir o livro, nem olhar pa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 chorava muito, porque ninguém fora achado digno de abrir o livro, nem de o ler, nem de olhar para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-me um dos anciãos: Não chores; eis aqui o Leão da tribo de Judá, a raiz de Davi, que venceu, para abrir o livro e desatar os seus sete sel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lhei, e eis que estava no meio do trono e dos quatro animais viventes e entre os anciãos um Cordeiro, como havendo sido morto, e tinha sete chifres e sete olhos, que são os sete espíritos de Deus enviados a toda 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, e tomou o livro da destra do que estava assentado no tr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havendo tomado o livro, os quatro animais e os vinte e quatro anciãos prostraram-se diante do Cordeiro, tendo todos eles harpas e salvas de ouro cheias de incenso, que são as orações dos san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antavam um novo cântico, dizendo: Digno és de tomar o livro, e de abrir os seus selos; porque foste morto, e com o teu sangue compraste para Deus homens de toda a tribo, e língua, e povo, e naçã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17Z</dcterms:created>
  <dc:creator>Admin</dc:creator>
  <dc:description/>
  <dc:language>en-US</dc:language>
  <cp:lastModifiedBy>Admin</cp:lastModifiedBy>
  <dcterms:modified xsi:type="dcterms:W3CDTF">2008-07-30T23:22:17Z</dcterms:modified>
  <cp:revision>1</cp:revision>
  <dc:subject/>
  <dc:title>Slide 1</dc:title>
</cp:coreProperties>
</file>