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BBE0-603B-494D-AF42-A757AC6FC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2130-762A-4C2B-9F04-F5C35128F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E017-5870-4DEB-BB78-EB1B6847D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E16F-CD78-403D-9767-13A54B435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57C2-7D7F-498F-8F6F-6DC8E301A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CBEF-C354-494C-8896-1FBE8F636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8AE7-F22A-4628-A0C0-32EF5C286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7E15-DE69-4CA6-A85E-A91F3CC68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B7F6-80D4-4B56-A72E-4FDE83726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E634-D4A7-4C91-8C72-C5255BA85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F87D-54AE-4815-8916-0B071B92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29F4-3B41-4EE2-94A3-C9DED37A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1540C-07CF-452C-BD42-6ADCB9C88BF9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6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HEGARAM os chefes dos pais da família de Gileade, filho de Maquir, filho de Manassés, das famílias dos filhos de José, e falaram diante de Moisés, e diante dos príncipes, chefes dos pais dos filhos de Israel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6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o SENHOR ordenara a Moisés, assim fizeram as filhas de Zelofe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6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Maalá, Tirza, Hogla, Milca e Noa, filhas de Zelofeade, se casaram com os filhos de seus t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6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as casaram-se nas famílias dos filhos de Manassés, filho de José; assim a sua herança ficou na tribo da família de seu p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6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s são os mandamentos e os juízos que mandou o SENHOR através de Moisés aos filhos de Israel nas campinas de Moabe, junto ao Jordão, na direção de Jericó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6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ram: O SENHOR mandou a meu senhor que, por sorte, desse esta terra em herança aos filhos de Israel; e a meu senhor foi ordenado pelo SENHOR, que a herança do nosso irmão Zelofeade se desse às suas filh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6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casando-se elas com alguns dos filhos das outras tribos dos filhos de Israel, então a sua herança será diminuída da herança de nossos pais, e acrescentada à herança da tribo a que vierem a pertencer; assim se tirará da sorte da nossa heran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6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ndo também o ano do jubileu dos filhos de Israel, a sua herança será acrescentada à herança da tribo daqueles com que se casarem; assim a sua herança será tirada da herança da tribo de nossos p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6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Moisés deu ordem aos filhos de Israel, segundo o mandado do SENHOR, dizendo: A tribo dos filhos de José fala o que é ju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6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Isto é o que o SENHOR mandou acerca das filhas de Zelofeade, dizendo: Sejam por mulheres a quem bem parecer aos seus olhos, contanto que se casem na família da tribo de seu p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6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a herança dos filhos de Israel não passará de tribo em tribo; pois os filhos de Israel se chegarão cada um à herança da tribo de seus p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6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alquer filha que herdar alguma herança das tribos dos filhos de Israel se casará com alguém da família da tribo de seu pai; para que os filhos de Israel possuam cada um a herança de seus p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6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a herança não passará de uma tribo a outra; pois as tribos dos filhos de Israel se chegarão cada uma à sua heran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0:28Z</dcterms:created>
  <dc:creator>Admin</dc:creator>
  <dc:description/>
  <dc:language>en-US</dc:language>
  <cp:lastModifiedBy>Admin</cp:lastModifiedBy>
  <dcterms:modified xsi:type="dcterms:W3CDTF">2008-07-31T00:20:28Z</dcterms:modified>
  <cp:revision>1</cp:revision>
  <dc:subject/>
  <dc:title>Slide 1</dc:title>
</cp:coreProperties>
</file>