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630D-D61B-4ACC-AC62-DBBF9770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C688-B16C-421B-9091-976DFDC4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08A9-2CAC-4AAB-AE96-F39A6285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623C-4FB5-4920-A959-19E94937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C5E-FF91-45E6-A3EA-CDFE2298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8E3C-7021-46E9-82BF-33384FC5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AA7C-DEE3-4D99-8292-1B281BAA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6E15-64E9-4D75-A366-6BCBE184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0647-6D07-437F-8B81-B08E4586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D90F-CEAC-4C67-9F4F-6F6207BC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3577-2B51-428F-B0D3-9EE90068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31B5-0F2B-43A8-84C6-517921E0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C599-C729-4FD6-923B-AA0AB096180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lquer homem da casa de Israel, ou dos estrangeiros que peregrinam entre eles, que comer algum sangue, contra aquela alma porei a minha face, e a extirparei d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vida da carne está no sangue; pelo que vo-lo tenho dado sobre o altar, para fazer expiação pelas vossas almas; porquanto é o sangue que fará expiação pel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tenho dito aos filhos de Israel: Nenhum dentre vós comerá sangue, nem o estrangeiro, que peregrine entre vós, comerá san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qualquer homem dos filhos de Israel, ou dos estrangeiros que peregrinam entre eles, que caçar animal ou ave que se come, derramará o seu sangue, e o cobrirá com pó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a vida de toda a carne é o seu sangue; por isso tenho dito aos filhos de Israel: Não comereis o sangue de nenhuma carne, porque a vida de toda a carne é o seu sangue; qualquer que o comer será extirp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homem entre os naturais, ou entre os estrangeiros, que comer corpo morto ou dilacerado, lavará as suas vestes, e se banhará com água, e será imundo até à tarde; depois será li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os não lavar, nem banhar a sua carne, levará sobre si a su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 Arão e aos seus filhos, e a todos os filhos de Israel, e dize-lhes: Esta é a palavra que o SENHOR ordenou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lquer homem da casa de Israel que degolar boi, ou cordeiro, ou cabra, no arraial, ou quem os degolar fora do arraia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os trouxer à porta da tenda da congregação, para oferecer oferta ao SENHOR diante do tabernáculo do SENHOR, a esse homem será imputado o sangue; derramou sangue; por isso será extirpado do seu pov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os filhos de Israel, trazendo os seus sacrifícios, que oferecem sobre a face do campo, os tragam ao SENHOR, à porta da tenda da congregação, ao sacerdote, e os ofereçam por sacrifícios pacíficos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espargirá o sangue sobre o altar do SENHOR, à porta da tenda da congregação, e queimará a gordura por cheiro suave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unca mais oferecerão os seus sacrifícios aos demônios, após os quais eles se prostituem; isto ser-lhes-á por estatuto perpétuo nas suas ge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-lhes pois: Qualquer homem da casa de Israel, ou dos estrangeiros que peregrinam entre vós, que oferecer holocausto ou sacrifíci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o trouxer à porta da tenda da congregação, para oferecê-lo ao SENHOR, esse homem será extirpado d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9:09Z</dcterms:created>
  <dc:creator>Admin</dc:creator>
  <dc:description/>
  <dc:language>en-US</dc:language>
  <cp:lastModifiedBy>Admin</cp:lastModifiedBy>
  <dcterms:modified xsi:type="dcterms:W3CDTF">2008-07-31T00:09:09Z</dcterms:modified>
  <cp:revision>1</cp:revision>
  <dc:subject/>
  <dc:title>Slide 1</dc:title>
</cp:coreProperties>
</file>