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AB0-BBDF-4A1F-8470-744E347A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6BB-E550-404B-BE34-2B6AE232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59A-9A6A-4EFF-BC5E-52756306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FF1-59C5-4E2D-8431-D5BF0AE1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22D-DFBA-4ACF-AB5F-C259925D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800-E0AE-486C-9F52-9C3A07A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665-E268-4BFB-86C0-42A97CA2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797-B4E6-4BBD-AD9A-B9640185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1C3-FAA2-4E2C-BE80-0E7FFF3B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59D-2F61-423B-97EF-1AC308CC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F27-C978-4347-B126-25CA60D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750-226F-405F-8582-FB6AEC0D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CDC2-07F9-4269-98CC-F4B44505FCC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U Sansão a Timnate; e, vendo em Timnate uma mulher das filhas dos filist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endo, pois, seu pai àquela mulher, fez Sansão ali um banquete; porque assim os moços costumavam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omo o vissem, trouxeram trinta companheiros para estare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Sansão: Eu vos darei um enigma para decifrar; e, se nos sete dias das bodas o decifrardes e descobrirdes, eu vos darei trinta lençóis e trinta mudas de rou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não puderdes decifrar, vós me dareis a mim trinta lençóis e as trinta mudas de roupas. E eles lhe disseram: Dá-nos o teu enigma a decifrar, para que o ouç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sse: Do comedor saiu comida, e do forte saiu doçura. E em três dias não puderam decifrar o enig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sétimo dia, disseram à mulher de Sansão: Persuade a teu marido que nos declare o enigma, para que porventura não queimemos a fogo a ti e à casa de teu pai; chamastes-nos aqui para vos apossardes do que é nosso, não é ass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de Sansão chorou diante dele, e disse: Tão-somente me desprezas, e não me amas; pois deste aos filhos do meu povo um enigma para decifrar, e ainda não o declaraste a mim. E ele lhe disse: Eis que nem a meu pai nem a minha mãe o declarei, e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orou diante dele os sete dias em que celebravam as bodas; sucedeu, pois, que ao sétimo dia lho declarou, porquanto o importunava; então ela declarou o enigma aos filhos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, pois, a Sansão os homens daquela cidade, ao sétimo dia, antes de se pôr o sol: Que coisa há mais doce do que o mel? E que coisa há mais forte do que o leão? E ele lhes disse: Se vós não lavrásseis com a minha novilha, nunca teríeis descoberto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pírito do SENHOR tão poderosamente se apossou dele, que desceu aos ascalonitas, e matou deles trinta homens, e tomou as suas roupas, e deu as mudas de roupas aos que declararam o enigma; porém acendeu-se a sua ira, e subiu à cas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, e declarou-o a seu pai e a sua mãe, e disse: Vi uma mulher em Timnate, das filhas dos filisteus; agora, pois, tomai-ma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de Sansão foi dada ao seu companheiro que antes o acompanh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u pai e sua mãe lhe disseram: Não há, porventura, mulher entre as filhas de teus irmãos, nem entre todo o meu povo, para que tu vás tomar mulher dos filisteus, daqueles incircuncisos? E disse Sansão a seu pai: Toma-me esta, porque ela agrada a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u pai e sua mãe não sabiam que isto vinha do SENHOR; pois buscava ocasião contra os filisteus; porquanto naquele tempo os filisteus dominavam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eu, pois, Sansão com seu pai e com sua mãe a Timnate; e, chegando às vinhas de Timnate eis que um filho de leão, rugindo, lhe saiu ao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pírito do SENHOR se apossou dele tão poderosamente que despedaçou o leão, como quem despedaça um cabrito, sem ter nada na sua mão; porém nem a seu pai nem a sua mãe deu a saber o que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u, e falou àquela mulher, e ela agradou aos olhos de San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 alguns dias voltou ele para tomá-la; e, apartando-se do caminho para ver o corpo do leão morto, eis que nele havia um enxame de abelhas com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o nas suas mãos, e foi andando e comendo dele; e foi a seu pai e a sua mãe, e deu-lhes do mel, e comeram; porém não lhes deu a saber que tomara o mel do corpo do l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13Z</dcterms:created>
  <dc:creator>Admin</dc:creator>
  <dc:description/>
  <dc:language>en-US</dc:language>
  <cp:lastModifiedBy>Admin</cp:lastModifiedBy>
  <dcterms:modified xsi:type="dcterms:W3CDTF">2008-07-31T00:07:13Z</dcterms:modified>
  <cp:revision>1</cp:revision>
  <dc:subject/>
  <dc:title>Slide 1</dc:title>
</cp:coreProperties>
</file>