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0EE-A8A9-475A-9DFA-A5EC4084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08F-20E3-4922-8006-2FA0ACE2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416-565B-4112-86C1-AF7056E9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4D7-94EA-406D-80E0-60467105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1A60-D03D-4A60-AD99-B50ED77A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157-6954-48DA-9923-8A73D1E9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CE4-37D9-4E26-8C23-7836DC50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FF6-C039-42F1-A298-5D3A4406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E53-7135-492F-BFD1-CADE70BF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748-1213-4995-8223-4F1090E0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372-EF4F-4018-827D-04D92044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89A-199F-46E1-86D0-6899625B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9416-F239-4127-937A-1BC26632BDC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a vida de Sara cento e vinte e sete anos; estes foram os anos da vida de S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Efrom habitava no meio dos filhos de Hete; e respondeu Efrom, heteu, a Abraão, aos ouvidos dos filhos de Hete, de todos os que entravam pela porta da sua cidade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, meu senhor, ouve-me: O campo te dou, também te dou a cova que nele está, diante dos olhos dos filhos do meu povo ta dou; sepulta a tua m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braão se inclinou diante da face do povo d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a Efrom, aos ouvidos do povo da terra, dizendo: Mas se tu estás por isto, ouve-me, peço-te. O preço do campo o darei; toma-o de mim e sepultarei ali a minha m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Efrom a Abraão, dizendo-lh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 senhor, ouve-me, a terra é de quatrocentos siclos de prata; que é isto entre mim e ti? Sepulta a tua m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raão deu ouvidos a Efrom, e Abraão pesou a Efrom a prata de que tinha falado aos ouvidos dos filhos de Hete, quatrocentos siclos de prata, corrente entre merc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campo de Efrom, que estava em Macpela, em frente de Manre, o campo e a cova que nele estava, e todo o arvoredo que no campo havia, que estava em todo o seu contorno ao red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confirmou a Abraão em possessão diante dos olhos dos filhos de Hete, de todos os que entravam pela porta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pois sepultou Abraão a Sara sua mulher na cova do campo de Macpela, em frente de Manre, que é Hebrom, na terra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Sara em Quiriate-Arba, que é Hebrom, na terra de Canaã; e veio Abraão lamentar Sara e chorar por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campo e a cova que nele estava foram confirmados a Abraão, pelos filhos de Hete, em possessão de sepu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se levantou Abraão de diante de sua morta, e falou aos filhos de Hete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rangeiro e peregrino sou entre vós; dai-me possessão de sepultura convosco, para que eu sepulte a minha morta de diante da minh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ram os filhos de Hete a Abraão, dizendo-lh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-nos, meu senhor; príncipe poderoso és no meio de nós; enterra a tua morta na mais escolhida de nossas sepulturas; nenhum de nós te vedará a sua sepultura, para enterrar a tua m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ou Abraão, inclinou-se diante do povo da terra, diante dos filhos de He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com eles, dizendo: Se é de vossa vontade que eu sepulte a minha morta de diante de minha face, ouvi-me e falai por mim a Efrom, filho de Zoa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ele me dê a cova de Macpela, que ele tem no fim do seu campo; que ma dê pelo devido preço em herança de sepulcro no meio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8:22Z</dcterms:created>
  <dc:creator>Admin</dc:creator>
  <dc:description/>
  <dc:language>en-US</dc:language>
  <cp:lastModifiedBy>Admin</cp:lastModifiedBy>
  <dcterms:modified xsi:type="dcterms:W3CDTF">2008-07-30T23:38:22Z</dcterms:modified>
  <cp:revision>1</cp:revision>
  <dc:subject/>
  <dc:title>Slide 1</dc:title>
</cp:coreProperties>
</file>