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331-8F4D-496B-92D9-F09F306F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E68-D663-46EA-8FE5-4E331F99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3E2-047F-4E57-968E-E3431C99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1C2-8410-4BF3-A8B8-240C0F4F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911-84A0-4B0B-A0B8-7A3B31A2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EC0-E2F3-4469-B88D-5A80EC92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6FA-616F-48DB-BE3D-17B1CEE2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B22-3D58-4D2E-B1D2-32220F0F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9AC-EA70-4105-9704-83F27FA5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4A9-1686-43B3-9BD9-A46D3DC2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20F-6FB5-41F7-95C1-FCA21C8F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21A-A385-4884-AEAB-61452C5C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034B-660D-4D03-BB46-87A82972FB9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isteus pelejaram com Israel; e os homens de Israel fugiram de diante dos filisteus, e caíram mortos nas montanhas de Gilb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 as suas armas na casa do seu deus, e a sua cabeça afixaram na casa de Dag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toda a Jabes de Gileade tudo quanto os filisteus fizeram a Sau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homens valorosos se levantaram, e tomaram o corpo de Saul, e os corpos de seus filhos, e os trouxeram a Jabes; e sepultaram os seus ossos debaixo de um carvalho em Jabes, e jejuaram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orreu Saul por causa da transgressão que cometeu contra o SENHOR, por causa da palavra do SENHOR, a qual não havia guardado; e também porque buscou a adivinhadora para a consu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buscou ao SENHOR, que por isso o matou, e transferiu o reino a Davi, filho de Jes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isteus perseguiram a Saul e aos seus filhos e mataram a Jônatas, a Abinadabe e a Malquisua, filhos de Sa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eleja se agravou contra Saul, e os flecheiros o alcançaram; e temeu muito aos flech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ul ao seu escudeiro: Arranca a tua espada, e atravessa-me com ela; para que porventura não venham estes incircuncisos e escarneçam de mim. Porém o seu escudeiro não quis, porque temia muito; então tomou Saul a espada, e se lançou sobre e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 seu escudeiro que Saul estava morto, também ele se lançou sobre a espada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orreram Saul e seus três filhos; e toda a sua casa morreu jun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todos os homens de Israel, que estavam no vale, que haviam fugido, e que Saul e seus filhos eram mortos, deixaram as suas cidades, e fugiram; então vieram os filisteus, e habitaram n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dia seguinte, vindo os filisteus a despojar os mortos, acharam a Saul e a seus filhos estirados nas montanhas de Gilb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despojaram, e tomaram a sua cabeça e as suas armas, e as enviaram pela terra dos filisteus em redor, para o anunciarem a seus ídolos e a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2:56Z</dcterms:created>
  <dc:creator>Admin</dc:creator>
  <dc:description/>
  <dc:language>en-US</dc:language>
  <cp:lastModifiedBy>Admin</cp:lastModifiedBy>
  <dcterms:modified xsi:type="dcterms:W3CDTF">2008-07-30T23:42:56Z</dcterms:modified>
  <cp:revision>1</cp:revision>
  <dc:subject/>
  <dc:title>Slide 1</dc:title>
</cp:coreProperties>
</file>