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DCE-5D01-4E61-A467-18B841C2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DC3-DAFD-4987-9B8B-D0DE724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DDB-CCB2-45AF-A1F3-59B16055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951-7AC5-4249-9207-6986D823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CDB-6323-47F3-AD55-113D735B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D72-9AD9-4803-8C78-9C7E889F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87-2D6C-4D34-899A-BEFB8EE3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0C1-71AB-4F01-B582-0EC594E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CD2-06A4-48CD-88F0-6F577CE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352-6358-4100-9231-0DD01E2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06E-3C3D-4FD9-A7AD-E12BD39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124-3994-45D5-AA37-666660B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5527-6B1F-43C6-83DC-7CE0A3332DE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outro dia, em que os filhos de Deus vieram apresentar-se perante o SENHOR, veio também Satanás entre eles, apresentar-se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 disse: Como fala qualquer doida, falas tu; receberemos o bem de Deus, e não receberíamos o mal? Em tudo isto não pecou Jó com os s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três amigos de Jó todo este mal que tinha vindo sobre ele, vieram cada um do seu lugar: Elifaz o temanita, e Bildade o suíta, e Zofar o naamatita; e combinaram condoer-se dele, para o consol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de longe os seus olhos, não o conheceram; e levantaram a sua voz e choraram, e rasgaram cada um o seu manto, e sobre as suas cabeças lançaram pó ao 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entaram-se com ele na terra, sete dias e sete noites; e nenhum lhe dizia palavra alguma, porque viam que a dor era muito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isse a Satanás: Donde vens? E respondeu Satanás ao SENHOR, e disse: De rodear a terra, e passear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tanás: Observaste o meu servo Jó? Porque ninguém há na terra semelhante a ele, homem íntegro e reto, temente a Deus e que se desvia do mal, e que ainda retém a sua sinceridade, havendo-me tu incitado contra ele, para o consumir sem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tanás respondeu ao SENHOR, e disse: Pele por pele, e tudo quanto o homem tem dará pel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ende a tua mão, e toca-lhe nos ossos, e na carne, e verás se não blasfema contra ti na tua fac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tanás: Eis que ele está na tua mão; porém guarda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Satanás da presença do SENHOR, e feriu a Jó de úlceras malignas, desde a planta do pé até ao alto d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ó tomou um caco para se raspar com ele; e estava assentado no meio da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a mulher lhe disse: Ainda reténs a tua sinceridade? Amaldiçoa a Deus, e mor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22Z</dcterms:created>
  <dc:creator>Admin</dc:creator>
  <dc:description/>
  <dc:language>en-US</dc:language>
  <cp:lastModifiedBy>Admin</cp:lastModifiedBy>
  <dcterms:modified xsi:type="dcterms:W3CDTF">2008-07-31T00:00:22Z</dcterms:modified>
  <cp:revision>1</cp:revision>
  <dc:subject/>
  <dc:title>Slide 1</dc:title>
</cp:coreProperties>
</file>