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97D9-3FBA-4B7F-8EDC-B5871634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96D1-4997-4B5D-A374-6E54320A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A415-F7E5-4FFB-824E-F3F0CD47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5C0C-C92B-4443-86C8-1F0834296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72E9-AECB-40A3-9B7F-0C4F68B4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385A-151A-4E71-9489-EEED0D76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A2EF-738F-4D3D-9B7E-E22128BE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723F-78AC-4FE3-BD63-DA8F6A82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73AB-831A-4389-B256-BEE1722B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CE00-334D-44D2-AEEB-F9E72BF7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3813-B618-46D5-8DA7-C6A61181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8B2B-C987-41E0-A263-81D20A5A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1922-4086-4C5E-978B-FAF3F53D661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vem o dia do SENHOR, em que teus despojos se repartirão no meio de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 a terra em redor se tornará em planície, desde Geba até Rimom, ao sul de Jerusalém, e ela será exaltada, e habitada no seu lugar, desde a porta de Benjamim até ao lugar da primeira porta, até à porta da esquina, e desde a torre de Hananeel até aos 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bitarão nela, e não haverá mais destruição, porque Jerusalém habitará seg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 será a praga com que o SENHOR ferirá a todos os povos que guerrearam contra Jerusalém: a sua carne apodrecerá, estando eles em pé, e lhes apodrecerão os olhos nas suas órbitas, e a língua lhes apodrecerá na su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dia também acontecerá que haverá da parte do SENHOR uma grande perturbação entre eles; porque cada um pegará na mão do seu próximo, e cada um levantará a mão contra o seu próxi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Judá pelejará em Jerusalém, e as riquezas de todos os gentios serão ajuntadas ao redor, ouro e prata e roupas em grande abundâ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será também a praga dos cavalos, dos mulos, dos camelos e dos jumentos e de todos os animais que estiverem naqueles arraiais, como foi esta prag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rá que, todos os que restarem de todas as nações que vieram contra Jerusalém, subirão de ano em ano para adorar o Rei, o SENHOR dos Exércitos, e para celebrarem a festa dos tabernácu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rá que, se alguma das famílias da terra não subir a Jerusalém, para adorar o Rei, o SENHOR dos Exércitos, não virá sobre ela a chu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a família dos egípcios não subir, nem vier, não virá sobre ela a chuva; virá sobre eles a praga com que o SENHOR ferirá os gentios que não subirem a celebrar a festa dos tabernácu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será o castigo do pecado dos egípcios e o castigo do pecado de todas as nações que não subirem a celebrar a festa dos tabernácu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 ajuntarei todas as nações para a peleja contra Jerusalém; e a cidade será tomada, e as casas serão saqueadas, e as mulheres forçadas; e metade da cidade sairá para o cativeiro, mas o restante do povo não será extirpado da 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dia será gravado sobre as campainhas dos cavalos: SANTIDADE AO SENHOR; e as panelas na casa do SENHOR serão como as bacias diante do 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das as panelas em Jerusalém e Judá serão consagradas ao SENHOR dos Exércitos, e todos os que sacrificarem virão, e delas tomarão, e nelas cozerão. E, naquele dia não haverá mais cananeu na casa do SENHOR do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sairá, e pelejará contra estas nações, como pelejou, sim, no dia da batal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quele dia estarão os seus pés sobre o monte das Oliveiras, que está defronte de Jerusalém para o oriente; e o monte das Oliveiras será fendido pelo meio, para o oriente e para o ocidente, e haverá um vale muito grande; e metade do monte se apartará 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ugireis pelo vale dos meus montes, pois o vale dos montes chegará até Azel; e fugireis assim como fugistes de diante do terremoto nos dias de Uzias, rei de Judá. Então virá o SENHOR meu Deus, e todos os santos cont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rá naquele dia, que não haverá preciosa luz, nem espessa escur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será um dia conhecido do SENHOR; nem dia nem noite será; mas acontecerá que ao cair da tarde haverá l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dia também acontecerá que sairão de Jerusalém águas vivas, metade delas para o mar oriental, e metade delas para o mar ocidental; no verão e no inverno sucederá 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será rei sobre toda a terra; naquele dia um será o SENHOR, e um será o s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9:44Z</dcterms:created>
  <dc:creator>Admin</dc:creator>
  <dc:description/>
  <dc:language>en-US</dc:language>
  <cp:lastModifiedBy>Admin</cp:lastModifiedBy>
  <dcterms:modified xsi:type="dcterms:W3CDTF">2008-07-31T00:29:44Z</dcterms:modified>
  <cp:revision>1</cp:revision>
  <dc:subject/>
  <dc:title>Slide 1</dc:title>
</cp:coreProperties>
</file>