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F9C6-CC91-435E-ADDB-E8B27F8D6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C661-8BB8-4FA1-8D39-9CBC0A25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7351-B3D0-4002-B871-25754906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9B0D-375A-4E24-9EA1-BEB26613F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93BD-B3A7-4CF0-AB18-0EA2BB0E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0CC7-0345-404A-8AED-27480430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2C2E-45B1-467F-AAE3-FF64193C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9804-525D-409F-85D7-03C0CF0F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AD25-668C-4F5A-832A-1DA402D5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E142-B655-4264-9C0E-AEF0D0F8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4587-1C24-44F7-930C-686901C2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5373-3D5E-4BD3-B2AB-F120ACF2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8738-4998-4C30-A8A3-84DF0BEE83E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admitirás falso boato, e não porás a tua mão com o ímpio, para seres testemunha fal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seis anos semearás tua terra, e recolherás os seus frut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o sétimo a dispensarás e deixarás descansar, para que possam comer os pobres do teu povo, e da sobra comam os animais do campo. Assim farás com a tua vinha e com o teu oliv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is dias farás os teus trabalhos mas ao sétimo dia descansarás; para que descanse o teu boi, e o teu jumento; e para que tome alento o filho da tua escrava, e o estrang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m tudo o que vos tenho dito, guardai-vos; e do nome de outros deuses nem vos lembreis, nem se ouça da vossa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rês vezes no ano me celebrareis fes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festa dos pães ázimos guardarás; sete dias comerás pães ázimos, como te tenho ordenado, ao tempo apontado no mês de Abibe; porque nele saíste do Egito; e ninguém apareça vazio perante mi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festa da sega dos primeiros frutos do teu trabalho, que houveres semeado no campo, e a festa da colheita, à saída do ano, quando tiveres colhido do campo o teu traba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rês vezes no ano todos os teus homens aparecerão diante d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oferecerás o sangue do meu sacrifício com pão levedado; nem ficará a gordura da minha festa de noite até pela manh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primícias dos primeiros frutos da tua terra trarás à casa do SENHOR teu Deus; não cozerás o cabrito no leite de sua mã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eguirás a multidão para fazeres o mal; nem numa demanda falarás, tomando parte com a maioria para torcer o dir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u envio um anjo diante de ti, para que te guarde pelo caminho, e te leve ao lugar que te tenho prepa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arda-te diante dele, e ouve a sua voz, e não o provoques à ira; porque não perdoará a vossa rebeldia; porque o meu nome está n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se diligentemente ouvires a sua voz, e fizeres tudo o que eu disser, então serei inimigo dos teus inimigos, e adversário dos teus adversár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meu anjo irá adiante de ti, e te levará aos amorreus, e aos heteus, e aos perizeus, e aos cananeus, heveus e jebuseus; e eu os destrui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 inclinarás diante dos seus deuses, nem os servirás, nem farás conforme às suas obras; antes os destruirás totalmente, e quebrarás de todo as suas estát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vireis ao SENHOR vosso Deus, e ele abençoará o vosso pão e a vossa água; e eu tirarei do meio de vós as enferm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haverá mulher que aborte, nem estéril na tua terra; o número dos teus dias cumpri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viarei o meu terror adiante de ti, destruindo a todo o povo aonde entrares, e farei que todos os teus inimigos te voltem as cos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3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enviarei vespões adiante de ti, que lancem fora os heveus, os cananeus, e os heteus de diante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3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os lançarei fora de diante de ti num só ano, para que a terra não se torne em deserto, e as feras do campo não se multipliquem contr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ao pobre favorecerás na sua dema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3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uco a pouco os lançarei de diante de ti, até que sejas multiplicado, e possuas a terra por h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3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ei os teus termos desde o Mar Vermelho até ao mar dos filisteus, e desde o deserto até ao rio; porque darei nas tuas mãos os moradores da terra, para que os lances fora de diante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3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farás aliança alguma com eles, ou com os seus deus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3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tua terra não habitarão, para que não te façam pecar contra mim; se servires aos seus deuses, certamente isso será um laço par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encontrares o boi do teu inimigo, ou o seu jumento, desgarrado, sem falta lho reconduzi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vires o jumento, daquele que te odeia, caído debaixo da sua carga, deixarás pois de ajudá-lo? Certamente o ajudarás a levantá-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perverterás o direito do teu pobre na sua dema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palavras de falsidade te afastarás, e não matarás o inocente e o justo; porque não justificarei o ímp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suborno não tomarás; porque o suborno cega os que têm vista, e perverte as palavras dos jus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não oprimirás o estrangeiro; pois vós conheceis o coração do estrangeiro, pois fostes estrangeiros n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2:26Z</dcterms:created>
  <dc:creator>Admin</dc:creator>
  <dc:description/>
  <dc:language>en-US</dc:language>
  <cp:lastModifiedBy>Admin</cp:lastModifiedBy>
  <dcterms:modified xsi:type="dcterms:W3CDTF">2008-07-30T23:32:26Z</dcterms:modified>
  <cp:revision>1</cp:revision>
  <dc:subject/>
  <dc:title>Slide 1</dc:title>
</cp:coreProperties>
</file>