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1915-6D0A-4D94-BBC0-3FB16697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8EC0-86CD-4050-8BA9-FDCB73D8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9BBE-0F10-4501-8253-CE4144AEE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15D8-CB36-44A4-8870-276C72CE9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FAE7-B34A-4BAA-B494-90904612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AAEB-92E9-409D-A946-86C3518B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D581-435F-4CF2-B2F9-06287C6A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FC9D-DCC5-46F1-8867-F19F9A04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23B6-C8D2-4D7B-BC4F-9472319F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19CA-5355-49B9-83BA-839FD7F2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6D27-A3B3-4985-A68F-C810629F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73C4-64D7-4AAE-BDCB-959FBB78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36F9-A27E-41A3-A094-BA6CB67DD3E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STO, pois, é o que os filhos de Israel tiveram em herança, na terra de Canaã, o que Eleazar, o sacerdote, e Josué, filho de Num, e os cabeças dos pais das tribos dos filhos de Israel lhes fizeram reparti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gora eis que o SENHOR me conservou em vida, como disse; quarenta e cinco anos são passados, desde que o SENHOR falou esta palavra a Moisés, andando Israel ainda no deserto; e agora eis que hoje tenho já oitenta e cinco an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inda hoje estou tão forte como no dia em que Moisés me enviou; qual era a minha força então, tal é agora a minha força, tanto para a guerra como para sair e entr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dá-me este monte de que o SENHOR falou aquele dia; pois naquele dia tu ouviste que estavam ali os anaquins, e grandes e fortes cidades. Porventura o SENHOR será comigo, para os expulsar, como o SENHOR di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sué o abençoou, e deu a Calebe, filho de Jefoné, a Hebrom em h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Hebrom ficou sendo herança de Calebe, filho de Jefoné o quenezeu, até ao dia de hoje, porquanto perseverara em seguir ao SENHOR Deu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ntes o nome de Hebrom era Quiriate-Arba, porque Arba foi o maior homem entre os anaquins. E a terra repousou da gu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sorte da sua herança, como o SENHOR ordenara, pelo ministério de Moisés, acerca das nove tribos e da meia trib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às duas tribos e à meia tribo já dera Moisés herança além do Jordão; mas aos levitas não tinha dado herança entre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filhos de José eram duas tribos, Manassés e Efraim, e aos levitas não se deu herança na terra, senão cidades em que habitassem, e os seus arrabaldes para seu gado e para seus b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o SENHOR ordenara a Moisés, assim fizeram os filhos de Israel, e repartiram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filhos de Judá chegaram a Josué em Gilgal; e Calebe, filho de Jefoné o quenezeu, lhe disse: Tu sabes o que o SENHOR falou a Moisés, homem de Deus, em Cades-Barnéia por causa de mim e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renta anos tinha eu, quando Moisés, servo do SENHOR, me enviou de Cades-Barnéia a espiar a terra; e eu lhe trouxe resposta, como sentia no meu coraç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meus irmãos, que subiram comigo, fizeram derreter o coração do povo; eu porém perseverei em seguir ao SENHOR m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oisés naquele dia jurou, dizendo: Certamente a terra que pisou o teu pé será tua, e de teus filhos, em herança perpetuamente; pois perseveraste em seguir ao SENHOR m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5:32Z</dcterms:created>
  <dc:creator>Admin</dc:creator>
  <dc:description/>
  <dc:language>en-US</dc:language>
  <cp:lastModifiedBy>Admin</cp:lastModifiedBy>
  <dcterms:modified xsi:type="dcterms:W3CDTF">2008-07-31T00:05:32Z</dcterms:modified>
  <cp:revision>1</cp:revision>
  <dc:subject/>
  <dc:title>Slide 1</dc:title>
</cp:coreProperties>
</file>