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9E7-D54C-48A7-8287-B7053685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3B0-D11D-4AE7-A088-BB16508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166-F547-4229-9106-28D009D8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BF0-69EA-4E02-B2EA-F26C8F7A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DB3-9077-4982-A940-7C0441ED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41E-C6DD-4E03-91F2-F667DD0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54F-B25F-43E4-B4A7-22BFC951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225-76E9-4060-B3BA-91B780AD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24B-0E75-45E6-AAA8-4AE56DC7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3E5-6654-457C-A0D3-A00DF06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5EE-231E-49FE-B512-F6C5116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A36-F871-49A5-8EBC-7C875292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1FE-D692-4FBB-B448-8A72571777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reuniu em Jerusalém todos os príncipes de Israel, os príncipes das tribos, e os capitães das turmas, que serviam o rei, e os capitães dos milhares, e os capitães das centenas, e os administradores de toda a fazenda e possessão do rei, e de s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, pois, agora, porque o SENHOR te escolheu para edificares uma casa para o santuário; esforça-te, e faze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Davi a Salomão, seu filho, a planta do alpendre com as suas casas, e as suas tesourarias, e os seus cenáculos, e as suas recâmaras interiores, como também da casa d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 planta de tudo quanto tinha em mente, a saber: dos átrios da casa do SENHOR, e de todas as câmaras ao redor, para os tesouros da casa de Deus, e para os tesouros das coisas sagra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as turmas dos sacerdotes, e para os levitas, e para toda a obra do ministério da casa do SENHOR, e para todos os utensílios do ministéri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ouro, segundo o peso do ouro, para todos os utensílios de cada ministério; também a prata, por peso, para todos os utensílios de prata, para todos os utensílios de cada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eso para os castiçais de ouro, e suas candeias de ouro segundo o peso de cada castiçal e as suas candeias; também para os castiçais de prata, segundo o peso do castiçal e as suas candeias, segundo o uso de cada castiç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u o ouro por peso para as mesas da proposição, para cada mesa; como também a prata para as mes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ro puro para os garfos, e para as bacias, e para os jarros, e para as taças de ouro, para cada taça seu peso; como também para as taças de prata, para cada taça seu p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o altar do incenso, ouro purificado, por seu peso; como também o ouro para o modelo do carro, a saber, dos querubins, que haviam de estender as asas, e cobrir a arca da alianç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, disse Davi, fez-me entender o SENHOR, por escrito da sua mão, a saber, todas as obras desta pl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-se o rei Davi em pé, e disse: Ouvi-me, irmãos meus, e povo meu; em meu coração propus eu edificar uma casa de repouso para a arca da aliança do SENHOR e para o estrado dos pés do nosso Deus, e eu tinha feito o preparo para a ed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Salomão seu filho: Esforça-te e tem bom ânimo, e faze a obra; não temas, nem te apavores; porque o SENHOR Deus, meu Deus, há de ser contigo; não te deixará, nem te desamparará, até que acabes toda a obra do serviç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í tens as turmas dos sacerdotes e dos levitas para todo o ministério da casa de Deus; estão também contigo, para toda a obra, voluntários com sabedoria de toda a espécie para todo o ministério; como também todos os príncipes, e todo o povo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eus me disse: Não edificarás casa ao meu nome, porque és homem de guerra, e derramaste muit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s de Israel escolheu-me de toda a casa de meu pai, para que eternamente fosse rei sobre Israel; porque a Judá escolheu por soberano, e a casa de meu pai na casa de Judá; e entre os filhos de meu pai se agradou de mim para me fazer reinar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 todos os meus filhos (porque muitos filhos me deu o SENHOR), escolheu ele o meu filho Salomão para se assentar no trono do reino do SENHOR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isse: Teu filho Salomão, ele edificará a minha casa e os meus átrios; porque o escolhi para filho, e eu lhe serei por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belecerei o seu reino para sempre, se perseverar em cumprir os meus mandamentos e os meus juízos, como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erante os olhos de todo o Israel, a congregação do SENHOR, e perante os ouvidos de nosso Deus, guardai e buscai todos os mandamentos do SENHOR vosso Deus, para que possuais esta boa terra, e a façais herdar a vossos filhos depois de vós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meu filho Salomão, conhece o Deus de teu pai, e serve-o com um coração perfeito e com uma alma voluntária; porque esquadrinha o SENHOR todos os corações, e entende todas as imaginações dos pensamentos; se o buscares, será achado de ti; porém, se 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57Z</dcterms:created>
  <dc:creator>Admin</dc:creator>
  <dc:description/>
  <dc:language>en-US</dc:language>
  <cp:lastModifiedBy>Admin</cp:lastModifiedBy>
  <dcterms:modified xsi:type="dcterms:W3CDTF">2008-07-30T23:43:57Z</dcterms:modified>
  <cp:revision>1</cp:revision>
  <dc:subject/>
  <dc:title>Slide 1</dc:title>
</cp:coreProperties>
</file>