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DE88-3E7A-41F2-9DE9-A3301C2C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463-C3F4-4499-BA6C-C6E36877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B2F-85CE-49CE-AC8B-C9A367DC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41C-348A-4242-8F89-4803B3D8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BF5-DBA3-489C-A83F-D9FDCDAD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EA1-4C6E-4084-B2AC-70B082FE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423-6024-4D33-A228-32E5D1ED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C16-E28B-49D0-B7EC-1325BAB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5F7-87E0-4BF2-A7DE-7CDB703A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C4C-5543-4715-93E4-41731BC7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84E-CB8E-4FEE-849B-161D2920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220-A682-4072-8736-CDCF7CA7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F3AA-1499-4956-99FB-D2FE95205E2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irmãos santos, participantes da vocação celestial, considerai a Jesus Cristo, apóstolo e sumo sacerdote da nossa confiss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me indignei contra esta geração, E disse: Estes sempre erram em seu coração, E não conheceram os m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jurei na minha ira Que não entrarão no meu repou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, irmãos, que nunca haja em qualquer de vós um coração mau e infiel, para se apartar do Deus vi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, exortai-vos uns aos outros todos os dias, durante o tempo que se chama Hoje, para que nenhum de vós se endureça pelo engano do pec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os tornamos participantes de Cristo, se retivermos firmemente o princípio da nossa confiança até a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quanto se diz: Hoje, se ouvirdes a sua voz, Não endureçais os vossos corações, como na provo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havendo-a alguns ouvido, o provocaram; mas não todos os que saíram do Egito por meio de Moi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om quem se indignou por quarenta anos? Não foi porventura com os que pecaram, cujos corpos caíram no deser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quem jurou que não entrariam no seu repouso, senão aos que foram desobedien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mos que não puderam entrar por causa da sua incredul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 fiel ao que o constituiu, como também o foi Moisés em toda a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 é tido por digno de tanto maior glória do que Moisés, quanto maior honra do que a casa tem aquele que a edific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 a casa é edificada por alguém, mas o que edificou todas as coisas é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 verdade, Moisés foi fiel em toda a sua casa, como servo, para testemunho das coisas que se haviam de anunci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risto, como Filho, sobre a sua própria casa; a qual casa somos nós, se tão somente conservarmos firme a confiança e a glória da esperança até a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como diz o Espírito Santo: Se ouvirdes hoje a sua voz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ndureçais os vossos corações, Como na provocação, no dia da tentação n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de vossos pais me tentaram, me provaram, E viram por quarenta anos as minh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36Z</dcterms:created>
  <dc:creator>Admin</dc:creator>
  <dc:description/>
  <dc:language>en-US</dc:language>
  <cp:lastModifiedBy>Admin</cp:lastModifiedBy>
  <dcterms:modified xsi:type="dcterms:W3CDTF">2008-07-30T23:40:36Z</dcterms:modified>
  <cp:revision>1</cp:revision>
  <dc:subject/>
  <dc:title>Slide 1</dc:title>
</cp:coreProperties>
</file>