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630-EB07-4C23-BEFB-989F2935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4CE-29F0-4110-AAA6-7B322094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E29-ED0E-450A-9F7F-07BBBE21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BF7-3A5F-474E-A1B8-495D87DC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4B6-676A-43B5-903C-FAFD6BB6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A81-5A8E-4118-8136-878C9A85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E93-1188-4593-9758-1A829796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749-2382-479F-BD94-A568C310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9A3-F609-46F9-B66B-DE797230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07A-DBCF-41E1-A7B6-8222E6E8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067-580F-4BE4-8683-E79A0B7B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49C-E780-4CB3-B861-C2B105F2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27D4-0FA9-4326-90D1-6B005E89B81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princípio era o Verbo, e o Verbo estava com Deus, e o Verbo er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 no mundo, e o mundo foi feito por ele, e o mundo não o conh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 para o que era seu, e os seus não o receb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a todos quantos o receberam, deu-lhes o poder de serem feitos filhos de Deus, aos que crêem no seu nom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não nasceram do sangue, nem da vontade da carne, nem da vontade do homem, ma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Verbo se fez carne, e habitou entre nós, e vimos a sua glória, como a glória do unigênito do Pai, cheio de graça e de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ão testificou dele, e clamou, dizendo: Este era aquele de quem eu dizia: O que vem após mim é antes de mim, porque foi primeiro do que 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nós recebemos também da sua plenitude, e graça por gr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lei foi dada por Moisés; a graça e a verdade vieram por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nunca foi visto por alguém. O Filho unigênito, que está no seio do Pai, esse o revel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é o testemunho de João, quando os judeus mandaram de Jerusalém sacerdotes e levitas para que lhe perguntassem: Quem és t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estava no princípio com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fessou, e não negou; confessou: Eu não sou o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guntaram-lhe: Então quê? És tu Elias? E disse: Não sou. És tu profeta? E respondeu: N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 pois: Quem és? para que demos resposta àqueles que nos enviaram; que dizes de ti mesm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: Eu sou a voz do que clama no deserto: Endireitai o caminho do Senhor, como disse o profeta Isaí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tinham sido enviados eram dos faris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guntaram-lhe, e disseram-lhe: Por que batizas, pois, se tu não és o Cristo, nem Elias, nem o profe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ão respondeu-lhes, dizendo: Eu batizo com água; mas no meio de vós está um a quem vós não conhec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aquele que vem após mim, que é antes de mim, do qual eu não sou digno de desatar a correia da alpar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coisas aconteceram em Betânia, do outro lado do Jordão, onde João estava batiz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ia seguinte João viu a Jesus, que vinha para ele, e disse: Eis o Cordeiro de Deus, que tira o pecado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coisas foram feitas por ele, e sem ele nada do que foi feito se f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aquele do qual eu disse: Após mim vem um homem que é antes de mim, porque foi primeiro do que 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não o conhecia; mas, para que ele fosse manifestado a Israel, vim eu, por isso, batizando com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ão testificou, dizendo: Eu vi o Espírito descer do céu como pomba, e repousar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não o conhecia, mas o que me mandou a batizar com água, esse me disse: Sobre aquele que vires descer o Espírito, e sobre ele repousar, esse é o que batiza com o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vi, e tenho testificado que este é o Filh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ia seguinte João estava outra vez ali, e dois dos seus discípul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passar a Jesus, disse: Eis aqui o Cordeir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ois discípulos ouviram-no dizer isto, e seguiram a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voltando-se e vendo que eles o seguiam, disse-lhes: Que buscais? E eles disseram: Rabi (que, traduzido, quer dizer Mestre), onde mo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lhes disse: Vinde, e vede. Foram, e viram onde morava, e ficaram com ele aquele dia; e era já quase a hora déc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le estava a vida, e a vida era a luz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 André, irmão de Simão Pedro, um dos dois que ouviram aquilo de João, e o haviam segu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achou primeiro a seu irmão Simão, e disse-lhe: Achamos o Messias (que, traduzido, é o Cristo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ou-o a Jesus. E, olhando Jesus para ele, disse: Tu és Simão, filho de Jonas; tu serás chamado Cefas (que quer dizer Pedro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ia seguinte quis Jesus ir à Galiléia, e achou a Filipe, e disse-lhe: Segue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lipe era de Betsaida, cidade de André e de Ped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ipe achou Natanael, e disse-lhe: Havemos achado aquele de quem Moisés escreveu na lei, e os profetas: Jesus de Nazaré, filho de Jos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Natanael: Pode vir alguma coisa boa de Nazaré? Disse-lhe Filipe: Vem, e v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viu Natanael vir ter com ele, e disse dele: Eis aqui um verdadeiro israelita, em quem não há do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Natanael: De onde me conheces tu? Jesus respondeu, e disse-lhe: Antes que Filipe te chamasse, te vi eu, estando tu debaixo da figu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tanael respondeu, e disse-lhe: Rabi, tu és o Filho de Deus; tu és o Rei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luz resplandece nas trevas, e as trevas não a compreend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respondeu, e disse-lhe: Porque te disse: Vi-te debaixo da figueira, crês? Coisas maiores do que estas v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: Na verdade, na verdade vos digo que daqui em diante vereis o céu aberto, e os anjos de Deus subindo e descendo sobre o Filho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uve um homem enviado de Deus, cujo nome era J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veio para testemunho, para que testificasse da luz, para que todos cressem por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ra ele a luz, mas para que testificasse d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estava a luz verdadeira, que ilumina a todo o homem que vem a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2:41Z</dcterms:created>
  <dc:creator>Admin</dc:creator>
  <dc:description/>
  <dc:language>en-US</dc:language>
  <cp:lastModifiedBy>Admin</cp:lastModifiedBy>
  <dcterms:modified xsi:type="dcterms:W3CDTF">2008-07-31T00:02:41Z</dcterms:modified>
  <cp:revision>1</cp:revision>
  <dc:subject/>
  <dc:title>Slide 1</dc:title>
</cp:coreProperties>
</file>