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9AF1-5FA0-48BF-90BA-867DEB2FA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7426-D02C-4D01-8282-D8DCA349D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2013-B94F-4CAC-873A-C1EBB2D06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C097-38C6-4C3B-9667-1A8C01508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68CB-95C0-4AE7-957E-EBD37DEB9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D388-DA76-475F-875E-12833AFC2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EAB5-219F-4C13-BC75-DF5DC01FD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9667-8FCE-4341-9B2C-F7DAE89E2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83EF-19B8-4E67-AC5A-4F18E0797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09C3-6AA0-4FC5-92C2-24C89A344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B9BF-3FDB-4969-8F6F-51FE5B293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BF40-7519-4D1D-96A1-D022D3705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9698C-5CE2-4113-B48C-96B24F880201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0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disto Ezequias enviou mensageiros por todo o Israel e Judá, e escreveu também cartas a Efraim e a Manassés para que viessem à casa do SENHOR em Jerusalém, para celebrarem a páscoa ao SENHOR Deu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0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correios foram passando de cidade em cidade, pela terra de Efraim e Manassés até Zebulom; porém riram-se e zombaram d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0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avia alguns de Aser, e de Manassés, e de Zebulom, se humilharam, e vieram a Jerusa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0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mão de Deus esteve com Judá, dando-lhes um só coração, para fazerem o mandado do rei e dos príncipes, conforme a palavra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0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juntou-se em Jerusalém muito povo, para celebrar a festa dos pães ázimos, no segundo mês; uma congregação mui gran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0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evantaram-se, e tiraram os altares que havia em Jerusalém; também tiraram todos os altares de incenso, e os lançaram no ribeiro de Cedro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0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sacrificaram a páscoa no dia décimo quarto do segundo mês; e os sacerdotes e levitas se envergonharam e se santificaram e trouxeram holocaustos à casa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0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useram-se no seu posto, segundo o seu costume, conforme a lei de Moisés, o homem de Deus; e os sacerdotes espargiam o sangue, tomando-o da mão dos levi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0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havia muitos na congregação que não se tinham santificado; pelo que os levitas tinham o encargo de matarem os cordeiros da páscoa por todo aquele que não estava limpo, para o santificarem a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0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uma multidão do povo, muitos de Efraim e Manassés, Issacar e Zebulom, não se tinham purificado, e contudo comeram a páscoa, não como está escrito; porém Ezequias orou por eles, dizendo: O SENHOR, que é bom, perdoa todo aquel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0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tem preparado o seu coração para buscar ao SENHOR Deus, o Deus de seus pais, ainda que não esteja purificado segundo a purificação do santuár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0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 rei tivera conselho com os seus príncipes, e com toda a congregação em Jerusalém, para celebrarem a páscoa no segundo mê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0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uviu o SENHOR a Ezequias, e sarou o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0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ilhos de Israel, que se acharam em Jerusalém, celebraram a festa dos pães ázimos sete dias com grande alegria; e os levitas e os sacerdotes louvaram ao SENHOR de dia em dia, com estrondosos instrumentos a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0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zequias falou benignamente a todos os levitas, que tinham bom entendimento no conhecimento do SENHOR; e comeram as ofertas da solenidade por sete dias, oferecendo ofertas pacíficas, e louvando ao SENHOR Deus de seus p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0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tendo toda a congregação conselho para celebrarem outros sete dias, celebraram ainda sete dias com aleg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0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zequias, rei de Judá, ofereceu à congregação mil novilhos e sete mil ovelhas; e os príncipes ofereceram à congregação mil novilhos e dez mil ovelhas; e os sacerdotes se santificaram em grande núme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0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legraram-se, toda a congregação de Judá, e os sacerdotes, e os levitas, toda a congregação de todos os que vieram de Israel, como também os estrangeiros que vieram da terra de Israel e os que habitavam em Jud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0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houve grande alegria em Jerusalém; porque desde os dias de Salomão, filho de Davi, rei de Israel, tal não houve em Jerusa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0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s sacerdotes e os levitas se levantaram e abençoaram o povo; e a sua voz foi ouvida; porque a sua oração chegou até à santa habitação de Deus, até aos cé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0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anto não a puderam celebrar no tempo próprio, porque não se tinham santificado sacerdotes em número suficiente, e o povo não se tinha ajuntado em Jerusa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0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isto pareceu bem aos olhos do rei, e de toda a congreg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0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rdenaram que se fizesse passar pregão por todo o Israel, desde Berseba até Dã, para que viessem a celebrar a páscoa ao SENHOR Deus de Israel, em Jerusalém; porque muitos não a tinham celebrado como estava escr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0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oram, pois, os correios com as cartas, do rei e dos seus príncipes, por todo o Israel e Judá, segundo o mandado do rei, dizendo: Filhos de Israel, convertei-vos ao SENHOR Deus de Abraão, de Isaque e de Israel; para que ele se volte para o restante de v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0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ão sejais como vossos pais e como vossos irmãos, que transgrediram contra o SENHOR Deus de seus pais, pelo que os entregou à desolação como ve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0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endureçais agora a vossa cerviz, como vossos pais; dai a mão ao SENHOR, e vinde ao seu santuário que ele santificou para sempre, e servi ao SENHOR vosso Deus, para que o ardor da sua ira se desvie de v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30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, em vos convertendo ao SENHOR, vossos irmãos e vossos filhos acharão misericórdia perante os que os levaram cativos, e tornarão a esta terra; porque o SENHOR vosso Deus é misericordioso e compassivo, e não desviará de vós o seu rosto, se vos con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0:27Z</dcterms:created>
  <dc:creator>Admin</dc:creator>
  <dc:description/>
  <dc:language>en-US</dc:language>
  <cp:lastModifiedBy>Admin</cp:lastModifiedBy>
  <dcterms:modified xsi:type="dcterms:W3CDTF">2008-07-30T23:50:27Z</dcterms:modified>
  <cp:revision>1</cp:revision>
  <dc:subject/>
  <dc:title>Slide 1</dc:title>
</cp:coreProperties>
</file>