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252-A2D8-493D-AA0F-56BDF01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903-5D5B-4E60-A014-2A33851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811-AF9D-4DD6-832C-FB217E89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CA4-2E87-4092-AC8F-29A68E4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BAF-BBC5-44EA-AEB2-51E6A46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6F0-7A29-4644-B2E2-B70E38F8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D69-0518-41E5-8DD2-0A3EBE4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B58-BF59-4F73-803D-169DB340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565-743B-4376-87E5-64687E8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247-C9E9-4E96-A840-C353E56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E4D-E868-4673-B6D5-274B3EC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2B3-43EB-4C2F-BD29-3D6458D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3FD9-3416-4160-8CE5-7E7038462AA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ão que eu sou o SENHOR, e que não disse debalde que lhes faria est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Bate com a mão, e bate com o teu pé, e dize: Ah! Por todas as grandes abominações da casa de Israel! Porque cairão à espada, e de fome, e de p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stiver longe morrerá de peste, e o que está perto cairá à espada; e o que restar e ficar cercado morrerá de fome; assim cumprirei o meu furor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bereis que eu sou o SENHOR, quando os seus mortos estiverem no meio dos seus ídolos, em redor dos seus altares, em todo o outeiro alto, em todos os cumes dos montes, e debaixo de toda a árvore verde, e debaixo de todo o carvalho frondoso, no lu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ei a minha mão sobre eles, e farei a terra desolada, e mais devastada do que o deserto do lado de Dibla, em todas as suas habitações; e saberão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, dirige o teu rosto para os montes de Israel, e profetiza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: Montes de Israel, ouvi a palavra do Senhor DEUS: Assim diz o Senhor DEUS aos montes, aos outeiros, aos ribeiros e aos vales: Eis que eu, sim eu, trarei a espada sobre vós, e destruirei os vossos lugare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assolados os vossos altares, e quebradas as vossas imagens do sol e derrubarei os vossos mortos, diante dos vosso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os cadáveres dos filhos de Israel diante dos seus ídolos; e espalharei os vossos ossos em redor dos vossos alt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os os vossos lugares habitáveis, as cidades serão destruídas, e os lugares altos assolados; para que os vossos altares sejam destruídos e assolados, e os vossos ídolos se quebrem e se acabem, e as vossas imagens sejam cortadas, e desfeitas as vo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rtos cairão no meio de vós, para que saibai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eixarei um remanescente, para que tenhais entre as nações alguns que escaparem da espada, quando fordes espalhados p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que dentre vós escaparem se lembrarão de mim entre as nações para onde foram levados em cativeiro; porquanto me quebrantei por causa do seu coração corrompido, que se desviou de mim, e por causa dos seus olhos, que andaram se corrompendo após 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56Z</dcterms:created>
  <dc:creator>Admin</dc:creator>
  <dc:description/>
  <dc:language>en-US</dc:language>
  <cp:lastModifiedBy>Admin</cp:lastModifiedBy>
  <dcterms:modified xsi:type="dcterms:W3CDTF">2008-07-30T23:33:56Z</dcterms:modified>
  <cp:revision>1</cp:revision>
  <dc:subject/>
  <dc:title>Slide 1</dc:title>
</cp:coreProperties>
</file>