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4BC-B668-4505-B3DF-9F973CE3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001-4DC8-4437-B8CB-7DFA4574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79F-3B28-4B6A-9816-8DBCF598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5A7-8ED8-4A4E-A490-C2211D48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4B4-592A-4B83-8D1F-24359D82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13E-D000-4CC6-ADB8-56E33E53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AFA-FB07-4A25-A68A-5C209618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EAB-8DAA-4E28-9E06-E9889993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F06-966F-4B39-841A-54702022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EC7-7122-44BF-9452-B2AA72CB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65D-EB1D-4473-8D01-0DA59BA1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3EA-C599-4AD1-8A3C-B63C6F02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ABDF-E647-4DC6-9063-FDD220A36AB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Salomão: O SENHOR disse que habitaria n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nfirmou o SENHOR a sua palavra, que falou; porque eu me levantei em lugar de Davi meu pai, e me assentei sobre o trono de Israel, como o SENHOR disse, e edifiquei a casa ao nome d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 nela a arca, em que está a aliança que o SENHOR fez com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-se em pé, perante o altar do SENHOR, na presença de toda a congregação de Israel, e estendeu 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alomão tinha feito uma plataforma de metal, de cinco côvados de comprimento, de cinco côvados de largura e de três côvados de altura, e a tinha posto no meio do pátio, e pôs-se em pé sobre ela, e ajoelhou-se em presença de toda a congregação de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Ó SENHOR Deus de Israel, não há Deus semelhante a ti, nem nos céus nem na terra; que guardas a aliança e a beneficência aos teus servos que caminham perante ti de todo 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guardaste ao teu servo Davi, meu pai, o que lhe falaste; porque tu pela tua boca o disseste, e pela tua mão o cumpriste, como se vê nest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ENHOR Deus de Israel, guarda ao teu servo Davi, meu pai, o que falaste, dizendo: Nunca homem algum será cortado de diante de mim, que se assente sobre o trono de Israel; tão-somente que teus filhos guardem seu caminho, andando na minha lei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, SENHOR Deus de Israel, cumpra-se a tua palavra, que disseste ao teu servo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na verdade, habitará Deus com os homens na terra? Eis que os céus, e o céu dos céus, não te podem conter, quanto menos esta casa que tenho edific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de, pois, à oração do teu servo, e à sua súplica, ó SENHOR meu Deus; para ouvires o clamor, e a oração, que o teu servo faz perant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te tenho edificado uma casa para morada, e um lugar para a tua eterna habi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os teus olhos estejam dia e noite abertos sobre este lugar, de que disseste que ali porias o teu nome; para ouvires a oração que o teu servo orar n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pois, as súplicas do teu servo, e do teu povo Israel, que fizerem neste lugar; e ouve tu do lugar da tua habitação, desde os céus; ouve pois, e perd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lguém pecar contra o seu próximo, e lhe impuser juramento de maldição, fazendo-o jurar, e o juramento de maldição vier perante o teu altar, nesta ca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 tu, então, desde os céus, e age e julga a teus servos, condenando ao ímpio, retribuindo o seu proceder sobre a sua cabeça; e justificando ao justo, dando-lhe segundo a su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ambém o teu povo Israel for ferido diante do inimigo, por ter pecado contra ti, e eles se converterem, e confessarem o teu nome, e orarem e suplicarem perante ti nesta ca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ouve tu desde os céus, e perdoa os pecados do teu povo Israel; e torna a levá-los à terra que lhes tens dado e a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s céus se fecharem, e não houver chuva, por terem pecado contra ti, e orarem neste lugar, e confessarem teu nome, e se converterem dos seus pecados, quando tu os afligir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ouve tu desde os céus, e perdoa o pecado de teus servos, e do teu povo Israel, ensinando-lhes o bom caminho, em que andem; e dá chuva sobre a tua terra, que deste ao teu povo em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houver fome na terra, quando houver peste, quando houver queima de seara, ou ferrugem, gafanhotos, ou lagarta, cercando-a algum dos seus inimigos nas terras das suas portas, ou quando houver qualquer praga, ou qualquer enfermi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oração, e toda a súplica, que qualquer homem fizer, ou todo o teu povo Israel, conhecendo cada um a sua praga, e a sua dor, e estendendo as suas mãos para esta ca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virou o seu rosto, e abençoou a toda a congregação de Israel, e toda a congregação de Israel estava em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ouve tu desde os céus, do assento da tua habitação, e perdoa, e dá a cada um conforme a todos os seus caminhos, segundo conheces o seu coração (pois só tu conheces o coração dos filhos dos homens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im de que te temam, para andarem nos teus caminhos, todos os dias que viverem na terra que deste a n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ao estrangeiro, que não for do teu povo Israel, quando vier de terras remotas por amor do teu grande nome, e da tua poderosa mão, e do teu braço estendido, vindo eles e orando nesta ca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ouve tu desde os céus, do assento da tua habitação, e faze conforme a tudo o que o estrangeiro te suplicar; a fim de que todos os povos da terra conheçam o teu nome, e te temam, como o teu povo Israel; e a fim de saberem que pelo teu nome é cham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teu povo sair à guerra contra os seus inimigos, pelo caminho que os enviares, e orarem a ti para o lado desta cidade que escolheste, e desta casa, que edifiquei ao teu nom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então, desde os céus a sua oração, e a sua súplica, e faze-lhes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pecarem contra ti (pois não há homem que não peque), e tu te indignares contra eles, e os entregares diante do inimigo, para que os que os cativarem os levem em cativeiro para alguma terra, remota ou vizinh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terra, para onde forem levados em cativeiro, caírem em si, e se converterem, e na terra do seu cativeiro, a ti suplicarem, dizendo: Pecamos, perversamente procedemos e impiamente agi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converterem a ti com todo o seu coração e com toda a sua alma, na terra do seu cativeiro, a que os levaram presos, e orarem para o lado da sua terra, que deste a seus pais, e para esta cidade que escolheste, e para esta casa que edifiquei ao teu n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então, desde os céus, do assento da tua habitação, a sua oração e as suas súplicas, e executa o seu direito; e perdoa ao teu povo que houver pecado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Bendito seja o SENHOR Deus de Israel, que falou pela sua boca a Davi meu pai; e pelas suas mãos o cumpri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meu Deus, estejam os teus olhos abertos, e os teus ouvidos atentos à oração d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pois, agora, SENHOR Deus, para o teu repouso, tu e a arca da tua fortaleza; os teus sacerdotes, ó SENHOR Deus, sejam vestidos de salvação, e os teus santos se alegrem d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 Deus, não faças virar o rosto do teu ungido; lembra-te das misericórdias de Davi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dia em que tirei a meu povo da terra do Egito, não escolhi cidade alguma de todas as tribos de Israel, para edificar nela uma casa em que estivesse o meu nome; nem escolhi homem algum para ser líder do meu povo,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scolhi a Jerusalém para que ali estivesse o meu nome; e escolhi a Davi, para que estivesse sobre o meu pov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avi meu pai teve no seu coração o edificar uma casa ao nome d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disse a Davi, meu pai: Porquanto tiveste no teu coração o edificar uma casa ao meu nome, bem fizeste de ter isto no t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tu não edificarás a casa, mas teu filho, que há de proceder de teus lombos, esse edificará a casa a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17Z</dcterms:created>
  <dc:creator>Admin</dc:creator>
  <dc:description/>
  <dc:language>en-US</dc:language>
  <cp:lastModifiedBy>Admin</cp:lastModifiedBy>
  <dcterms:modified xsi:type="dcterms:W3CDTF">2008-07-30T23:49:17Z</dcterms:modified>
  <cp:revision>1</cp:revision>
  <dc:subject/>
  <dc:title>Slide 1</dc:title>
</cp:coreProperties>
</file>