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64D-CC55-46BA-8B6B-A9F4368C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65B-2396-4475-B63B-8BB0C7F7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1AF-C98E-41D4-91D0-842F1476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183-6678-4021-80DE-DB8A85E3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089-02AE-44C8-93CD-6C42A59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8FD-8147-4A34-B0AC-CC6C0613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6EB-AEA4-4449-B90A-CAC19AF3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3DA-9075-49FC-8480-471B6354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000-E2F0-4B04-91C5-2081C08D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975-CCEF-412B-8DE6-4B32C98B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BC0-87B1-45A8-9C2E-CFB32F1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CC6-FD41-490A-9F30-8D7C2BD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AD2F-8CDC-4E23-BF6E-1350D4E482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houverdes entrado na terra, que vos hei de dar, e fizerdes a sua colheita, então trareis um molho das primícias da vossa sega ao sacerd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overá o molho perante o SENHOR, para que sejais aceitos; no dia seguinte ao sábado o sacerdote o mo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em que moverdes o molho, preparareis um cordeiro sem defeito, de um ano, em holocausto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de alimentos, será de duas dízimas de flor de farinha, amassada com azeite, para oferta queimada em cheiro suave ao SENHOR, e a sua libação será de vinho, um quarto de h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omereis pão, nem trigo tostado, nem espigas verdes, até aquele mesmo dia em que trouxerdes a oferta do vosso Deus; estatuto perpétuo é por vossas gerações, em todas as vossas habi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ara vós contareis desde o dia seguinte ao sábado, desde o dia em que trouxerdes o molho da oferta movida; sete semanas inteiras s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o dia seguinte ao sétimo sábado, contareis cinqüenta dias; então oferecereis nova oferta de alimento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vossas habitações trareis dois pães de movimento; de duas dízimas de farinha serão, levedados se cozerão; primícias sã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m o pão oferecereis sete cordeiros sem defeito, de um ano, e um novilho, e dois carneiros; holocausto serão ao SENHOR, com a sua oferta de alimentos, e as suas libações, por oferta queimada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ferecereis um bode para expiação do pecado, e dois cordeiros de um ano por sacrifício pacíf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As solenidades do SENHOR, que convocareis, serão santas convocações; estas são as minhas solenidad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os moverá com o pão das primícias por oferta movida perante o SENHOR, com os dois cordeiros; santos serão ao SENHOR para uso d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mesmo dia apregoareis que tereis santa convocação; nenhum trabalho servil fareis; estatuto perpétuo é em todas as vossas habitações pelas voss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fizerdes a colheita da vossa terra, não acabarás de segar os cantos do teu campo, nem colherás as espigas caídas da tua sega; para o pobre e para o estrangeiro as deixarás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No mês sétimo, ao primeiro do mês, tereis descanso, memorial com sonido de trombetas, santa convo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trabalho servil fareis, mas oferecereis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s dez dias desse sétimo mês será o dia da expiação; tereis santa convocação, e afligireis as vossas almas; e oferecereis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mesmo dia nenhum trabalho fareis, porque é o dia da expiação, para fazer expiação por vós perante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alma, que naquele mesmo dia se não afligir, será extirpada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trabalho se fará, mas o sétimo dia será o sábado do descanso, santa convocação; nenhum trabalho fareis; sábado do SENHOR é em todas as vossas habi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 a alma, que naquele mesmo dia fizer algum trabalho, eu a destruirei do mei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trabalho fareis; estatuto perpétuo é pelas vossas gerações em todas as vossas habi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ábado de descanso vos será; então afligireis as vossas almas; aos nove do mês à tarde, de uma tarde a outra tarde, celebrareis o voss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Aos quinze dias deste mês sétimo será a festa dos tabernáculos ao SENHOR por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primeiro dia haverá santa convocação; nenhum trabalho servil f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dias oferecereis ofertas queimadas ao SENHOR; ao oitavo dia tereis santa convocação, e oferecereis ofertas queimadas ao SENHOR; dia de proibição é, nenhum trabalho servil f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solenidades do SENHOR, que apregoareis para santas convocações, para oferecer ao SENHOR oferta queimada, holocausto e oferta de alimentos, sacrifício e libações, cada qual em seu dia próp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os sábados do SENHOR, e além dos vossos dons, e além de todos os vossos votos, e além de todas as vossas ofertas voluntárias, que darei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os quinze dias do mês sétimo, quando tiverdes recolhido do fruto da terra, celebrareis a festa do SENHOR por sete dias; no primeiro dia haverá descanso, e no oitavo dia haverá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solenidades do SENHOR, as santas convocações, que convocareis ao seu tempo determina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primeiro dia tomareis para vós ramos de formosas árvores, ramos de palmeiras, ramos de árvores frondosas, e salgueiros de ribeiras; e vos alegrareis perante o SENHOR vosso Deus por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lebrareis esta festa ao SENHOR por sete dias cada ano; estatuto perpétuo é pelas vossas gerações; no mês sétimo a celebr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 dias habitareis em tendas; todos os naturais em Israel habitarão em ten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aibam as vossas gerações que eu fiz habitar os filhos de Israel em tendas, quando os tirei da terra do Egito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ronunciou Moisés as solenidades do SENHOR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ês primeiro, aos catorze do mês, pela tarde, é a pásco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quinze dias deste mês é a festa dos pães ázimos do SENHOR; sete dias comereis pães áz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dia tereis santa convocação; nenhum trabalho servil fa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te dias oferecereis oferta queimada ao SENHOR; ao sétimo dia haverá santa convocação; nenhum trabalho servil f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36Z</dcterms:created>
  <dc:creator>Admin</dc:creator>
  <dc:description/>
  <dc:language>en-US</dc:language>
  <cp:lastModifiedBy>Admin</cp:lastModifiedBy>
  <dcterms:modified xsi:type="dcterms:W3CDTF">2008-07-31T00:09:36Z</dcterms:modified>
  <cp:revision>1</cp:revision>
  <dc:subject/>
  <dc:title>Slide 1</dc:title>
</cp:coreProperties>
</file>