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F4B-3638-45A2-8080-0F5341A9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E98-31A1-4217-9135-D86298B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EA5-D38A-4DBB-B629-4E1CAD6C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B80-CBF4-4A28-87CE-3BB5D3E3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D9D-652D-4F4A-9FDE-EEAEDD3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165-ACAD-4CC6-A1BF-9BBBE4D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74A-8745-405F-8C8B-7BBDFE9A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DC4-DFA1-4934-AF8A-A0AA33DF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197-BEE9-4CAE-A9C5-F8FDA69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A06-54B5-4E37-B5E3-AEFB133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85B-5EEB-419C-80F7-CEEDD80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258-878C-4494-9E56-B9061E0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B4E-A986-4600-B378-39791FA40B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filhos, a instrução do pai, e estai atentos para conhecerdes a pru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filho meu, e aceita as minhas palavras, e se multiplicarão os anos da t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aminho da sabedoria te ensinei, e por veredas de retidão te fiz an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las andando, não se embaraçarão os teus passos; e se correres não tropeç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ega-te à instrução e não a largues; guarda-a, porque ela é a t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tres pela vereda dos ímpios, nem andes no caminho dos m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vita-o; não passes por ele; desvia-te dele e passa de l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dormem, se não fizerem mal, e foge deles o sono se não fizerem alguém tropeç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em o pão da impiedade, e bebem o vinho da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vereda dos justos é como a luz da aurora, que vai brilhando mais e mais até ser dia per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os ímpios é como a escuridão; nem sabem em que tropeç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ou-vos boa doutrina; não deixeis a minh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atenta para as minhas palavras; às minhas razões inclina o teu ou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s deixes apartar-se dos teus olhos; guarda-as no íntimo d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ão vida para os que as acham, e saúde para todo o s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tudo o que se deve guardar, guarda o teu coração, porque dele procedem as fontes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 de ti a falsidade da boca, e afasta de ti a perversidade do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olhos olhem para a frente, e as tuas pálpebras olhem direto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ndera a vereda de teus pés, e todos os teus caminhos sejam bem ordenad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clines nem para a direita nem para a esquerda; retira o teu pé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era filho tenro na companhia de meu pai, e único diante de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ensinava e me dizia: Retenha o teu coração as minhas palavras; guarda os meus mandamentos, e v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quire sabedoria, adquire inteligência, e não te esqueças nem te apartes das palavras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 abandones e ela te guardará; ama-a, e ela te proteg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doria é a coisa principal; adquire pois a sabedoria, emprega tudo o que possuis na aquisição de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-a, e ela te exaltará; e, abraçando-a tu, ela te hon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á à tua cabeça um diadema de graça e uma coroa de glória te entre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09Z</dcterms:created>
  <dc:creator>Admin</dc:creator>
  <dc:description/>
  <dc:language>en-US</dc:language>
  <cp:lastModifiedBy>Admin</cp:lastModifiedBy>
  <dcterms:modified xsi:type="dcterms:W3CDTF">2008-07-31T00:21:09Z</dcterms:modified>
  <cp:revision>1</cp:revision>
  <dc:subject/>
  <dc:title>Slide 1</dc:title>
</cp:coreProperties>
</file>