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D15-7BF8-4FD2-A046-C6747D62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516-55EC-4302-9E75-5AB8F7EF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867-2B5B-42F9-B62C-BC185F9D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2D4-90F0-4F97-BDAE-9D9968AB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C06-529C-4F30-B689-DF61FE62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3CF-8807-4AEF-B11B-834ABF53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8F3-C13F-4FFA-8F07-4FC8A8BB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236-F1F4-4FFB-986F-8621FB30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0CB-6343-444F-A590-A59E0651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2C1-A02F-49B6-B90F-C2FE7F5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5CD-538B-4922-85B7-87136B33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8A0-0DB7-4402-AFB7-88CB2F46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FE7B-9F74-4082-B090-8BC2745B68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descem ao Egito a buscar socorro, e se estribam em cavalos; e têm confiança em carros, porque são muitos; e nos cavaleiros, porque são poderosíssimos; e não atentam para o Santo de Israel, e não busca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também ele é sábio, e fará vir o mal, e não retirará as suas palavras; e levantar-se-á contra a casa dos malfeitores, e contra a ajuda dos que praticam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egípcios são homens, e não Deus; e os seus cavalos, carne, e não espírito; e quando o SENHOR estender a sua mão, tanto tropeçará o auxiliador, como cairá o ajudado, e todos juntamente serão consum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me disse o SENHOR: Como o leão e o leãozinho rugem sobre a sua presa, ainda que se convoque contra ele uma multidão de pastores, não se espantam das suas vozes, nem se abatem pela sua multidão, assim o SENHOR dos Exércitos descerá, para p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s aves voam, assim o SENHOR dos Exércitos amparará a Jerusalém; ele a amparará, a livrará e, passando, a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ei-vos, pois, àquele contra quem os filhos de Israel se rebelaram tão profund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quele dia cada um lançará fora os seus ídolos de prata, e os seus ídolos de ouro, que vos fabricaram as vossas mãos para pecar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ssíria cairá pela espada, não de poderoso homem; e a espada, não de homem desprezível, a consumirá; e fugirá perante a espada e os seus jovens serão tribut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medo passará a sua rocha, e os seus príncipes terão pavor da bandeira, diz o SENHOR, cujo fogo está em Sião e a sua fornalha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41Z</dcterms:created>
  <dc:creator>Admin</dc:creator>
  <dc:description/>
  <dc:language>en-US</dc:language>
  <cp:lastModifiedBy>Admin</cp:lastModifiedBy>
  <dcterms:modified xsi:type="dcterms:W3CDTF">2008-07-30T23:55:41Z</dcterms:modified>
  <cp:revision>1</cp:revision>
  <dc:subject/>
  <dc:title>Slide 1</dc:title>
</cp:coreProperties>
</file>