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B1B6F-ACF7-47D8-939B-28C69B807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D560D-244A-4739-B96C-200C54DE7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8A459-E9B5-4EE9-9BA2-DFF6C5A51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C68B5-6A0B-4B43-837F-8C06B60C3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A31BC-09D8-4BB0-BF23-829D5E942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18139-E0BC-4996-96D9-2824377E9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8B25F-4988-41AE-A909-CC092AF1C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28947-AD3D-4713-AA73-C3D0BD5DC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4D4EF-6F0D-41B6-AF68-0D5024744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0474-91FF-4522-A2FB-AF25D3754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EEF1C-596C-4065-BEC8-3E3E41508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F1617-5650-4AD9-B9FE-709FBF4E4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C38B-8D5C-4357-B34E-B2865F8B287A}"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1</a:t>
            </a:r>
            <a:endParaRPr b="0" lang="en-US" sz="5000" spc="-1" strike="noStrike">
              <a:solidFill>
                <a:srgbClr val="000000"/>
              </a:solidFill>
              <a:latin typeface="Arial"/>
            </a:endParaRPr>
          </a:p>
        </p:txBody>
      </p:sp>
      <p:sp>
        <p:nvSpPr>
          <p:cNvPr id="4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veio Davi a Nobe, ao sacerdote Aimeleque; e Aimeleque, tremendo, saiu ao encontro de Davi, e disse-lhe: Por que vens só, e ninguém contig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10</a:t>
            </a:r>
            <a:endParaRPr b="0" lang="en-US" sz="5000" spc="-1" strike="noStrike">
              <a:solidFill>
                <a:srgbClr val="000000"/>
              </a:solidFill>
              <a:latin typeface="Arial"/>
            </a:endParaRPr>
          </a:p>
        </p:txBody>
      </p:sp>
      <p:sp>
        <p:nvSpPr>
          <p:cNvPr id="6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avi levantou-se, e fugiu aquele dia de diante de Saul, e foi a Aquis, rei de Ga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11</a:t>
            </a:r>
            <a:endParaRPr b="0" lang="en-US" sz="5000" spc="-1" strike="noStrike">
              <a:solidFill>
                <a:srgbClr val="000000"/>
              </a:solidFill>
              <a:latin typeface="Arial"/>
            </a:endParaRPr>
          </a:p>
        </p:txBody>
      </p:sp>
      <p:sp>
        <p:nvSpPr>
          <p:cNvPr id="6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os criados de Aquis lhe disseram: Não é este Davi, o rei da terra? Não se cantava deste nas danças, dizendo: Saul feriu os seus milhares, porém Davi os seus dez milhar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12</a:t>
            </a:r>
            <a:endParaRPr b="0" lang="en-US" sz="5000" spc="-1" strike="noStrike">
              <a:solidFill>
                <a:srgbClr val="000000"/>
              </a:solidFill>
              <a:latin typeface="Arial"/>
            </a:endParaRPr>
          </a:p>
        </p:txBody>
      </p:sp>
      <p:sp>
        <p:nvSpPr>
          <p:cNvPr id="6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avi considerou estas palavras no seu ânimo, e temeu muito diante de Aquis, rei de Ga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13</a:t>
            </a:r>
            <a:endParaRPr b="0" lang="en-US" sz="5000" spc="-1" strike="noStrike">
              <a:solidFill>
                <a:srgbClr val="000000"/>
              </a:solidFill>
              <a:latin typeface="Arial"/>
            </a:endParaRPr>
          </a:p>
        </p:txBody>
      </p:sp>
      <p:sp>
        <p:nvSpPr>
          <p:cNvPr id="6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isso se contrafez diante dos olhos deles, e fez-se como doido entre as suas mãos, e esgravatava nas portas de entrada, e deixava correr a saliva pela barb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14</a:t>
            </a:r>
            <a:endParaRPr b="0" lang="en-US" sz="5000" spc="-1" strike="noStrike">
              <a:solidFill>
                <a:srgbClr val="000000"/>
              </a:solidFill>
              <a:latin typeface="Arial"/>
            </a:endParaRPr>
          </a:p>
        </p:txBody>
      </p:sp>
      <p:sp>
        <p:nvSpPr>
          <p:cNvPr id="6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disse Aquis aos seus criados: Eis que bem vedes que este homem está louco; por que mo trouxestes a mi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15</a:t>
            </a:r>
            <a:endParaRPr b="0" lang="en-US" sz="5000" spc="-1" strike="noStrike">
              <a:solidFill>
                <a:srgbClr val="000000"/>
              </a:solidFill>
              <a:latin typeface="Arial"/>
            </a:endParaRPr>
          </a:p>
        </p:txBody>
      </p:sp>
      <p:sp>
        <p:nvSpPr>
          <p:cNvPr id="7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Faltam-me a mim doidos, para que trouxésseis a este para que fizesse doidices diante de mim? Há de entrar este na minha cas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2</a:t>
            </a:r>
            <a:endParaRPr b="0" lang="en-US" sz="5000" spc="-1" strike="noStrike">
              <a:solidFill>
                <a:srgbClr val="000000"/>
              </a:solidFill>
              <a:latin typeface="Arial"/>
            </a:endParaRPr>
          </a:p>
        </p:txBody>
      </p:sp>
      <p:sp>
        <p:nvSpPr>
          <p:cNvPr id="4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Davi ao sacerdote Aimeleque: O rei me encomendou um negócio, e me disse: Ninguém saiba deste negócio, pelo qual eu te enviei, e o qual te ordenei; quanto aos moços, apontei-lhes tal e tal lug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3</a:t>
            </a:r>
            <a:endParaRPr b="0" lang="en-US" sz="5000" spc="-1" strike="noStrike">
              <a:solidFill>
                <a:srgbClr val="000000"/>
              </a:solidFill>
              <a:latin typeface="Arial"/>
            </a:endParaRPr>
          </a:p>
        </p:txBody>
      </p:sp>
      <p:sp>
        <p:nvSpPr>
          <p:cNvPr id="4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gora, pois, que tens à mão? Dá-me cinco pães na minha mão, ou o que se ach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4</a:t>
            </a:r>
            <a:endParaRPr b="0" lang="en-US" sz="5000" spc="-1" strike="noStrike">
              <a:solidFill>
                <a:srgbClr val="000000"/>
              </a:solidFill>
              <a:latin typeface="Arial"/>
            </a:endParaRPr>
          </a:p>
        </p:txBody>
      </p:sp>
      <p:sp>
        <p:nvSpPr>
          <p:cNvPr id="4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respondendo o sacerdote a Davi, disse: Não tenho pão comum à mão; há, porém, pão sagrado, se ao menos os moços se abstiveram das mulher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5</a:t>
            </a:r>
            <a:endParaRPr b="0" lang="en-US" sz="5000" spc="-1" strike="noStrike">
              <a:solidFill>
                <a:srgbClr val="000000"/>
              </a:solidFill>
              <a:latin typeface="Arial"/>
            </a:endParaRPr>
          </a:p>
        </p:txBody>
      </p:sp>
      <p:sp>
        <p:nvSpPr>
          <p:cNvPr id="50"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respondeu Davi ao sacerdote, e lhe disse: As mulheres, na verdade, se nos vedaram desde ontem e anteontem; quando eu saí, os vasos dos moços eram santos; e de algum modo é pão comum, sendo que hoje santifica-se outro no vas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6</a:t>
            </a:r>
            <a:endParaRPr b="0" lang="en-US" sz="5000" spc="-1" strike="noStrike">
              <a:solidFill>
                <a:srgbClr val="000000"/>
              </a:solidFill>
              <a:latin typeface="Arial"/>
            </a:endParaRPr>
          </a:p>
        </p:txBody>
      </p:sp>
      <p:sp>
        <p:nvSpPr>
          <p:cNvPr id="5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o sacerdote lhe deu o pão sagrado, porquanto não havia ali outro pão senão os pães da proposição, que se tiraram de diante do SENHOR, para se pôr ali pão quente no dia em que aquele se tiras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7</a:t>
            </a:r>
            <a:endParaRPr b="0" lang="en-US" sz="5000" spc="-1" strike="noStrike">
              <a:solidFill>
                <a:srgbClr val="000000"/>
              </a:solidFill>
              <a:latin typeface="Arial"/>
            </a:endParaRPr>
          </a:p>
        </p:txBody>
      </p:sp>
      <p:sp>
        <p:nvSpPr>
          <p:cNvPr id="5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stava, porém, ali naquele dia um dos criados de Saul, detido perante o SENHOR, e era seu nome Doegue, edomeu, o mais poderoso dos pastores de Sau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8</a:t>
            </a:r>
            <a:endParaRPr b="0" lang="en-US" sz="5000" spc="-1" strike="noStrike">
              <a:solidFill>
                <a:srgbClr val="000000"/>
              </a:solidFill>
              <a:latin typeface="Arial"/>
            </a:endParaRPr>
          </a:p>
        </p:txBody>
      </p:sp>
      <p:sp>
        <p:nvSpPr>
          <p:cNvPr id="5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Davi a Aimeleque: Não tens aqui à mão lança ou espada alguma? Porque não trouxe à mão nem a minha espada nem as minhas armas, porque o negócio do rei era apress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21:9</a:t>
            </a:r>
            <a:endParaRPr b="0" lang="en-US" sz="5000" spc="-1" strike="noStrike">
              <a:solidFill>
                <a:srgbClr val="000000"/>
              </a:solidFill>
              <a:latin typeface="Arial"/>
            </a:endParaRPr>
          </a:p>
        </p:txBody>
      </p:sp>
      <p:sp>
        <p:nvSpPr>
          <p:cNvPr id="58"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o sacerdote: A espada de Golias, o filisteu, a quem tu feriste no vale do carvalho, eis que está aqui envolta num pano detrás do éfode. Se tu a queres tomar, toma-a, porque nenhuma outra há aqui, senão aquela. E disse Davi: Não há outra semelha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47:31Z</dcterms:created>
  <dc:creator>Admin</dc:creator>
  <dc:description/>
  <dc:language>en-US</dc:language>
  <cp:lastModifiedBy>Admin</cp:lastModifiedBy>
  <dcterms:modified xsi:type="dcterms:W3CDTF">2008-07-30T23:47:31Z</dcterms:modified>
  <cp:revision>1</cp:revision>
  <dc:subject/>
  <dc:title>Slide 1</dc:title>
</cp:coreProperties>
</file>