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AC3-E305-4761-B13A-85E01D1B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E24-DD90-4AF4-AA3E-819C126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A9F-C226-4474-851C-457AEF77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ED0-E2B0-4FA4-B7C0-E6ACAFEE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C24-5121-40FB-BE6C-DA528424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238-5027-4783-BF54-B7A55A3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CA6-9B95-4879-9675-A03BAFBF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DAA-C736-449C-B5B5-59BDABA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273-8AD1-4A81-ADCD-29ABB9A0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9F8-D0C4-4421-AC90-35EF86AE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10E-55E9-40CA-AB93-A30F0D2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297-980C-4AB8-BB88-72BD3A1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029A-8D3C-4BF8-8FAA-6051D209221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destas coisas, olhei, e eis que estava uma porta aberta no céu; e a primeira voz que, como de trombeta, ouvira falar comigo, disse: Sobe aqui, e mostrar-te-ei as coisas que depois destas devem aconte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vinte e quatro anciãos prostravam-se diante do que estava assentado sobre o trono, e adoravam o que vive para todo o sempre; e lançavam as suas coroas diante do tron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gno és, Senhor, de receber glória, e honra, e poder; porque tu criaste todas as coisas, e por tua vontade são e foram cria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logo fui arrebatado no Espírito, e eis que um trono estava posto no céu, e um assentado sobre o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estava assentado era, na aparência, semelhante à pedra jaspe e sardônica; e o arco celeste estava ao redor do trono, e parecia semelhante à esmeral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redor do trono havia vinte e quatro tronos; e vi assentados sobre os tronos vinte e quatro anciãos vestidos de vestes brancas; e tinham sobre suas cabeças coroas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o trono saíam relâmpagos, e trovões, e vozes; e diante do trono ardiam sete lâmpadas de fogo, as quais são os sete espíritos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havia diante do trono como que um mar de vidro, semelhante ao cristal. E no meio do trono, e ao redor do trono, quatro animais cheios de olhos, por diante e por detr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primeiro animal era semelhante a um leão, e o segundo animal semelhante a um bezerro, e tinha o terceiro animal o rosto como de homem, e o quarto animal era semelhante a uma águia voan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quatro animais tinham, cada um de per si, seis asas, e ao redor, e por dentro, estavam cheios de olhos; e não descansam nem de dia nem de noite, dizendo: Santo, Santo, Santo, é o Senhor Deus, o Todo-Poderoso, que era, e que é, e que há de v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quando os animais davam glória, e honra, e ações de graças ao que estava assentado sobre o trono, ao que vive para todo o sempr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15Z</dcterms:created>
  <dc:creator>Admin</dc:creator>
  <dc:description/>
  <dc:language>en-US</dc:language>
  <cp:lastModifiedBy>Admin</cp:lastModifiedBy>
  <dcterms:modified xsi:type="dcterms:W3CDTF">2008-07-30T23:22:15Z</dcterms:modified>
  <cp:revision>1</cp:revision>
  <dc:subject/>
  <dc:title>Slide 1</dc:title>
</cp:coreProperties>
</file>