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440A-50FC-4B4C-A3E2-2CEF0C999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867F-2E8F-4761-911B-78D6821B9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97DD-DE13-4890-8F94-A65C4FE40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7D51-46B1-4702-8FAA-0FC6FF29A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F6AA-B800-494D-BBF3-F37248466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A662-B085-493A-ABEF-018ED6937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0B4A-CE6D-4423-BE68-1A6EC5DD6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BCAD-86FA-4AC1-A17A-601FD6C52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03BF-E69C-4391-B737-D3F25A9ED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A740-0481-4C95-A798-379DD0246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092F-D9EF-473F-A24F-EBAB3A89E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3387-0775-46CD-9D1D-3FBF80CA9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4AB52-D2C2-4FD9-9F55-5081CD7190DC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1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HAVENDO Deus antigamente falado muitas vezes, e de muitas maneiras, aos pais, pelos profetas, a nós falou-nos nestes últimos dias pelo Filh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1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: Tu, Senhor, no princípio fundaste a terra, E os céus são obra de tuas mã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1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s perecerão, mas tu permanecerás; E todos eles, como roupa, envelhecerã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1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mo um manto os enrolarás, e serão mudados. Mas tu és o mesmo, E os teus anos não acaba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1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qual dos anjos disse jamais: Assenta-te à minha destra, Até que ponha a teus inimigos por escabelo de teus pé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1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são porventura todos eles espíritos ministradores, enviados para servir a favor daqueles que hão de herdar a salvaçã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1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quem constituiu herdeiro de tudo, por quem fez também o mun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1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al, sendo o resplendor da sua glória, e a expressa imagem da sua pessoa, e sustentando todas as coisas pela palavra do seu poder, havendo feito por si mesmo a purificação dos nossos pecados, assentou-se à destra da majestade nas altura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1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eito tanto mais excelente do que os anjos, quanto herdou mais excelente nome do que 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1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, a qual dos anjos disse jamais: Tu és meu Filho, Hoje te gerei? E outra vez: Eu lhe serei por Pai,  E ele me será por Filh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1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utra vez, quando introduz no mundo o primogênito, diz: E todos os anjos de Deus o ador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1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quanto aos anjos, diz: Faz dos seus anjos espíritos, E de seus ministros labareda de fo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1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do Filho, diz: Ó Deus, o teu trono subsiste pelos séculos dos séculos; Cetro de eqüidade é o cetro do teu rei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ebreus 1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maste a justiça e odiaste a iniqüidade; por isso Deus, o teu Deus, te ungiu Com óleo de alegria mais do que a teus companheir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0:31Z</dcterms:created>
  <dc:creator>Admin</dc:creator>
  <dc:description/>
  <dc:language>en-US</dc:language>
  <cp:lastModifiedBy>Admin</cp:lastModifiedBy>
  <dcterms:modified xsi:type="dcterms:W3CDTF">2008-07-30T23:40:31Z</dcterms:modified>
  <cp:revision>1</cp:revision>
  <dc:subject/>
  <dc:title>Slide 1</dc:title>
</cp:coreProperties>
</file>