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808-D646-4679-9608-93C43467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922-FBED-4F87-A452-D8A9D791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003-79AA-4AD5-A216-6A47649A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31B-5CA7-4F73-9B3C-A2FA4C80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975-5205-449F-A20B-CCCB055E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17B-0BA6-4369-B926-EFD4862E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03E-059F-4000-BE4A-9C6988EA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03E-9004-4E48-B4E9-42E301EE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F58-ED43-4C84-813E-95177766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53F-DF6E-4417-B3CD-5EE3D565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6CB-7284-40AF-86DE-3976D3A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EAC-7029-48D3-B578-5F330BF3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0007-0C2E-4CAC-894A-FC21957C9E2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, ao fim de vinte anos, nos quais Salomão edificou a casa do SENHOR, e a sua própria ca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es, pois, eram os chefes dos oficiais que o rei Salomão tinha, duzentos e cinqüenta, que presidiam sob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fez subir a filha de Faraó da cidade de Davi para a casa que lhe tinha edificado; porque disse: Minha mulher não morará na casa de Davi, rei de Israel, porquanto santos são os lugares nos quais entrou a arc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lomão ofereceu holocaustos ao SENHOR, sobre o altar do SENHOR, que tinha edificado diante do pórtic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segundo a ordem de cada dia, fazendo ofertas conforme o mandamento de Moisés, nos sábados e nas luas novas, e nas solenidades, três vezes no ano; na festa dos pães ázimos, na festa das semanas, e na festa das 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, conforme à ordem de Davi seu pai, designou as turmas dos sacerdotes para seus ministérios, como também as dos levitas acerca dos seus cargos, para louvarem e ministrarem diante dos sacerdotes, segundo o que estava ordenado para cada dia, e os p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e desviaram do mandado do rei aos sacerdotes e levitas, em negócio nenhum, nem acerca dos teso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preparou toda a obra de Salomão, desde o dia da fundação da casa do SENHOR, até se acabar; e assim se concluiu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Salomão a Eziom-Geber, e a Elote, à praia do mar, na terra de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-lhe Hirão, por meio de seus servos, navios, e servos práticos do mar, e foram com os servos de Salomão a Ofir, e tomaram de lá quatrocentos e cinqüenta talentos de ouro; e os trouxeram ao rei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Salomão edificou as cidades que Hirão lhe tinha dado; e fez habitar nelas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oi Salomão a Hamate-Zobá, e a to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dificou a Tadmor no deserto, e todas as cidades de provisões, que edificou em Ham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dificou também a alta Bete-Horom, e a baixa Bete-Horom; cidades fortes, com muros, portas e ferro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a Baalate, e todas as cidades de provisões, que Salomão tinha, e todas as cidades dos carros e as cidades dos cavaleiros; e tudo quanto, conforme ao seu desejo, Salomão quis edificar em Jerusalém, e no Líbano, e em toda a terra do seu domín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todo o povo, que tinha ficado dos heteus, amorreus, perizeus, heveus e jebuseus, que não eram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seus filhos, que ficaram depois deles na terra, os quais os filhos de Israel não destruíram, Salomão os fez tributários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dos filhos de Israel, Salomão não fez servos para sua obra (mas eram homens de guerra, chefes dos seus capitães, e capitães dos seus carros e cavaleiros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22Z</dcterms:created>
  <dc:creator>Admin</dc:creator>
  <dc:description/>
  <dc:language>en-US</dc:language>
  <cp:lastModifiedBy>Admin</cp:lastModifiedBy>
  <dcterms:modified xsi:type="dcterms:W3CDTF">2008-07-30T23:49:22Z</dcterms:modified>
  <cp:revision>1</cp:revision>
  <dc:subject/>
  <dc:title>Slide 1</dc:title>
</cp:coreProperties>
</file>