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84C-6AC1-45F5-A4ED-2A829402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0B1-BE66-4EFB-AAE5-BB7F756F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075-85E6-4145-BCC3-0B4E64A6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ED9-D6A5-482A-B54C-2D5A3FE7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521-DBEA-4BA1-878A-1C3D5240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F5D-6D32-40FC-88A7-D2096106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129-38DD-4828-8CA4-0AD65C59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013-4760-4AF1-8AED-BC43250F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D8F-EB90-4EE6-BD3F-C1752A0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F8F-8638-4CDA-9AB8-25B2A883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937-B953-4F37-9B59-0471C4E9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605-E492-41F6-A4D2-863412AE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F9DE-4D23-491E-B954-DA40AC41AF6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NDO a rainha de Sabá a fama de Salomão, veio a Jerusalém, para prová-lo com questões difíceis, com um grande séquito, e com camelos carregados de especiarias; ouro em abundância e pedras preciosas; e foi a Salomão, e falou com ele de tudo o que 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s servos de Hirão e os servos de Salomão, que de Ofir tinham trazido ouro, trouxeram madeira de algumins, e pedras preci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 madeira de algumins, o rei fez balaústres, para a casa do SENHOR, e para a casa do rei, como também harpas e saltérios para os cantores, quais nunca dantes se viram na terr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Salomão deu à rainha de Sabá tudo quanto ela desejou, e tudo quanto lhe pediu, mais do que ela mesma trouxera ao rei. Assim voltou e foi para a sua terra, ela e 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eso do ouro, que vinha em um ano a Salomão, era de seiscentos e sessenta e seis talentos de ou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ora o que os negociantes e mercadores traziam; também todos os reis da Arábia, e os governadores da mesma terra traziam a Salomão ouro 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o rei Salomão duzentos paveses de ouro batido; para cada pavês destinou seiscentos siclos de ouro ba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trezentos escudos de ouro batido; para cada escudo destinou trezentos siclos de ouro; e Salomão os pôs na casa do bosque d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mais o rei um grande trono de marfim, e o revestiu de our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rono tinha seis degraus, e um estrado de ouro, que eram ligados ao trono, e encostos de ambos os lados no lugar do assento; e dois leões estavam junto aos enco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ze leões estavam ali de ambos os lados, sobre os seis degraus; outro tal não se fez em nenhum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lhe respondeu a todas as suas questões; e não houve nada que não lhe pudesse esclar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as as taças do rei Salomão eram de ouro, e todos os vasos da casa do bosque do Líbano, de ouro puro; a prata reputava-se por nada nos dias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indo os navios do rei com os servos de Hirão, a Társis, voltavam os navios de Társis, uma vez em três anos, e traziam ouro e prata, marfim, bugios e pav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xcedeu o rei Salomão a todos os reis da terra, em riquezas e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reis da terra buscavam a presença de Salomão, para ouvirem a sabedoria que Deus tinha posto n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um trazia o seu presente, vasos de prata, e vasos de ouro, e roupas, armaduras, especiarias, cavalos e mulas; assim faziam de ano em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ve também Salomão quatro mil estrebarias para os cavalos de seus carros, e doze mil cavaleiros; e colocou-os nas cidades dos carros, e junto ao rei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minava sobre todos os reis, desde o rio até à terra dos filisteus, e até ao termo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rei fez que houvesse prata em Jerusalém como pedras, e cedros em tanta abundância como os sicômoros que há pelas camp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Egito e de todas aquelas terras traziam cavalos a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demais atos de Salomão, tanto os primeiros como os últimos, porventura não estão escritos no livro das crônicas de Natã, o profeta, e na profecia de Aías, o silonita, e nas visões de Ido, o vidente, acerca de Jeroboão, filho de Neba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 rainha de Sabá a sabedoria de Salomão, e a casa que edifica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inou Salomão em Jerusalém quarenta anos sobr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rmiu Salomão com seus pais, e o sepultaram na cidade de Davi seu pai; e Roboão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iguarias da sua mesa, o assentar dos seus servos, o estar dos seus criados, e as vestes deles; e os seus copeiros e as vestes deles; e a sua subida pela qual ele chegava à casa do SENHOR, ela ficou como fora d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o rei: Era verdade a palavra que ouvi na minha terra acerca dos teus feitos e da tu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cria naquelas palavras, até que vim, e meus olhos o viram, e eis que não me disseram a metade da grandeza da tua sabedoria; sobrepujaste a fama que ou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teus homens, e bem-aventurados estes teus servos, que estão sempre diante de ti, e ouvem a tua sabedori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 teu Deus, que se agradou de ti para te colocar no seu trono como rei para o SENHOR teu Deus; porque teu Deus ama a Israel, para estabelecê-lo perpetuamente; por isso te constituiu rei sobre eles para fazeres juízo e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ao rei cento e vinte talentos de ouro, e especiarias em grande abundância, e pedras preciosas; e nunca houve tais especiarias, quais a rainha de Sabá deu ao rei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26Z</dcterms:created>
  <dc:creator>Admin</dc:creator>
  <dc:description/>
  <dc:language>en-US</dc:language>
  <cp:lastModifiedBy>Admin</cp:lastModifiedBy>
  <dcterms:modified xsi:type="dcterms:W3CDTF">2008-07-30T23:49:26Z</dcterms:modified>
  <cp:revision>1</cp:revision>
  <dc:subject/>
  <dc:title>Slide 1</dc:title>
</cp:coreProperties>
</file>