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7FA-81DB-4573-A04F-C88AB387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96B-603C-4507-8E12-B65FA7F7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29D-A245-48DA-A3F1-1A6412DB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CAE-99FA-4704-9ED9-1E97BB92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444-D1C6-4611-BE70-2246E79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20D-B7E1-439E-BC6A-E9706DC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9EB-234F-48B5-A05F-CD931E4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488-173B-482C-AB64-2AC703F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BB0-D502-4A41-9A53-60935B2F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CD1-1053-4E33-8B93-01B2867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96B-E61D-4E11-ABEC-193D4AD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B02-D4EE-436A-97B4-4872519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CA4-F83A-47BA-8124-EEB30B411B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o meu coração não se elevou nem os meus olhos se levantaram; não me exercito em grandes matérias, nem em coisas muito elevadas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que me tenho portado e sossegado como uma criança desmamada de sua mãe; a minha alma está como uma criança desma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e Israel no SENHOR, desde agora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4Z</dcterms:created>
  <dc:creator>Admin</dc:creator>
  <dc:description/>
  <dc:language>en-US</dc:language>
  <cp:lastModifiedBy>Admin</cp:lastModifiedBy>
  <dcterms:modified xsi:type="dcterms:W3CDTF">2008-07-31T00:28:24Z</dcterms:modified>
  <cp:revision>1</cp:revision>
  <dc:subject/>
  <dc:title>Slide 1</dc:title>
</cp:coreProperties>
</file>