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3F6-8972-4DEF-A720-C08D12C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19E-5055-4B7E-A429-6FD8DE67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369-C166-445B-84BD-A7860853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FED-45A8-457D-A8B8-27D4A334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CB5-BE1E-46E8-9017-F3081F86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C40-884A-42F2-9CC1-FC3D3506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D5A-73CA-4400-A36B-77ACC0EA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796-41D5-48C3-9E34-BC6B9504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076-8EDB-459E-8281-55FA11D9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E53-F255-469A-B398-4468852E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C7D-5686-45E5-B49F-A6F8DBAF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443-AD2C-412C-BA0F-7C027AA2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CC3B-1FE6-4FC4-AEAD-9F08F82B0CE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que, tendo este ministério, assim como já alcançamos misericórdia, não desfalecemo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zendo sempre por toda a parte a mortificação do Senhor Jesus no nosso corpo, para que a vida de Jesus se manifeste também nos nossos corp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nós, que vivemos, estamos sempre entregues à morte por amor de Jesus, para que a vida de Jesus se manifeste também na nossa carne mor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em nós opera a morte, mas em vós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mos, portanto, o mesmo espírito de fé, como está escrito: Cri, por isso falei; nós cremos também, por isso também fal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que o que ressuscitou o Senhor Jesus nos ressuscitará também por Jesus, e nos apresentará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do isto é por amor de vós, para que a graça, multiplicada por meio de muitos, faça abundar a ação de graças para glóri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não desfalecemos; mas, ainda que o nosso homem exterior se corrompa, o interior, contudo, se renova de dia em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nossa leve e momentânea tribulação produz para nós um peso eterno de glória mui excel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tentando nós nas coisas que se vêem, mas nas que se não vêem; porque as que se vêem são temporais, e as que se não vêem são eter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contrário, rejeitamos as coisas ocultas, que são vergonhosas, não andando com astúcia, nem adulterando a palavra de Deus; mas, pela manifestação da verdade, nós nos recomendamos à consciência de todos os homens diante de De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inda o nosso evangelho está encoberto, é naqueles que se perdem que está encobert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quais o deus deste século cegou os entendimentos dos incrédulos, para que lhes não resplandeça a luz do evangelho da glória de Cristo, o qual é a imagem de De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nos pregamos a nós mesmos, mas a Cristo Jesus, o SENHOR; e nós mesmos somos vossos servos por amor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, que disse que das trevas resplandecesse a luz, é quem resplandeceu em nossos corações, para iluminação do conhecimento da glória de Deus, na face de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os, porém, este tesouro em vasos de barro, para que a excelência do poder seja de Deus, e não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udo somos atribulados, mas não angustiados; perplexos, mas não desanim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seguidos, mas não desamparados; abatidos, mas não destruí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37Z</dcterms:created>
  <dc:creator>Admin</dc:creator>
  <dc:description/>
  <dc:language>en-US</dc:language>
  <cp:lastModifiedBy>Admin</cp:lastModifiedBy>
  <dcterms:modified xsi:type="dcterms:W3CDTF">2008-07-30T23:48:37Z</dcterms:modified>
  <cp:revision>1</cp:revision>
  <dc:subject/>
  <dc:title>Slide 1</dc:title>
</cp:coreProperties>
</file>