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5CB-2C2F-4C37-BB61-BE111C7A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D5B-9723-444B-8CE5-82C16AE4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7BF-A7E6-4D58-A91D-D0B19AC8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4DB-C4F1-49BB-85B2-3744591A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AE9-DAF5-4DF0-85BB-45D5AEE4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DC8-34E1-434E-A23E-065A3D8A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B3B-F997-4628-909B-938442CC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8B9-8E24-478B-8624-3236ED1C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C14-CB72-4084-BB71-6E52873D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750-23B0-495B-A929-8031A59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264-1040-4420-A737-D6D0AF9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564-0734-4267-AC45-063F502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DAC8-B911-4E94-9EA1-2DE5D440860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SAFÁ, rei de Judá, voltou em paz à sua casa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 a diferença que vier a vós de vossos irmãos que habitam nas suas cidades, entre sangue e sangue, entre lei e mandamento, entre estatutos e juízos, admoestai-os, que não se façam culpados para com o SENHOR, e não venha grande ira sobre vós, e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marias, o sumo sacerdote, presidirá sobre vós em todo o negócio do SENHOR; e Zebadias, filho de Ismael, líder da casa de Judá, em todo o negócio do rei; também os oficiais, os levitas, estão perante vós; esforçai-vos, pois, e fazei-o; e o SE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ú, filho de Hanani, o vidente, saiu ao encontro do rei Jeosafá e lhe disse: Devias tu ajudar ao ímpio, e amar aqueles que odeiam ao SENHOR? Por isso virá sobre ti grande ira da par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as coisas contudo se acharam em ti; porque tiraste os bosques da terra, e preparaste o teu coração para buscar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bitou, pois, Jeosafá em Jerusalém; e tornou a passar pelo povo desde Berseba até as montanhas de Efraim, e fez com que tornassem ao SENHOR Deu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beleceu juízes na terra, em todas as cidades fortificadas, de cidade em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juízes: Vede o que fazeis; porque não julgais da parte do homem, senão da parte do SENHOR, e ele está convosco quando julga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ja o temor do SENHOR convosco; guardai-o, e fazei-o; porque não há no SENHOR nosso Deus iniqüidade nem acepção de pessoas, nem aceitação de subo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estabeleceu Jeosafá a alguns dos levitas e dos sacerdotes e dos chefes dos pais de Israel sobre o juízo do SENHOR, e sobre as causas judiciais; e voltaram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lhes ordem, dizendo: Assim fazei no temor do SENHOR, com fidelidade, e com coração ínteg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51Z</dcterms:created>
  <dc:creator>Admin</dc:creator>
  <dc:description/>
  <dc:language>en-US</dc:language>
  <cp:lastModifiedBy>Admin</cp:lastModifiedBy>
  <dcterms:modified xsi:type="dcterms:W3CDTF">2008-07-30T23:49:51Z</dcterms:modified>
  <cp:revision>1</cp:revision>
  <dc:subject/>
  <dc:title>Slide 1</dc:title>
</cp:coreProperties>
</file>