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BEB0-CCAD-4BEE-91E7-9EB2046B7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B113-A71D-4B41-BF0C-D19A0DD3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56E0-E0F8-48DE-9E15-6668DEC2C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E1C6-D06B-4780-9F2B-5D82F738B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26C0-2337-455F-AD21-74F69320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D0A3-A53B-4A49-8017-BD0E74AB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8193-0AC4-4781-BCDC-E98D01B8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29A3-58FF-4556-8015-EB357BDC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6584-FF36-4C4E-B9B6-1B691AA0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E661-8BA6-4959-B64E-E5045ECF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C636-BFFB-45CA-BCBA-5DCF5D43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9AD6-C004-4115-8A1F-BABDA70A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325E-B241-4793-9D6E-310FAE49380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no sétimo ano Joiada se animou, e tomou consigo em aliança os chefes de cem, a Azarias, filho de Jeroão, a Ismael, filho de Joanã, a Azarias, filho de Obede, a Maaséias, filho de Adaías, e a Elisafate, filho de Zicr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pôs todo o povo, a cada um com as suas armas na mão, desde o lado direito da casa até o lado esquerdo da casa, do lado do altar e da casa, em redor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iraram para fora ao filho do rei, e lhe puseram a coroa; deram-lhe o testemunho, e o fizeram rei; e Joiada e seus filhos o ungiram, e disseram: Viva o rei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ndo, pois, Atalia a voz do povo que concorria e louvava o rei, veio ao povo, à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lhou, e eis que o rei estava junto à coluna, à entrada, e os príncipes e as trombetas junto ao rei; e todo o povo da terra estava alegre e tocava as trombetas; e também os cantores tocavam instrumentos musicais, e dirigiam o cantar de louvores; ent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 sacerdote Joiada trouxe para fora os centuriões que estavam postos sobre o exército e disse-lhes: Tirai-a para fora das fileiras, e o que a seguir, morrerá à espada; porque dissera o sacerdote: Não a mateis na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ançaram mão dela; e ela foi pelo caminho da entrada da porta dos cavalos, à casa do rei, e ali a mat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iada fez aliança entre si e o povo e o rei, para que fossem o povo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todo o povo entrou na casa de Baal, e a derrubaram, e quebraram os seus altares, e as suas imagens, e a Matã, sacerdote de Baal, mataram diante dos alta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iada ordenou os ofícios na casa do SENHOR, sob a direção dos sacerdotes levitas a quem Davi designara na casa do SENHOR, para oferecerem os holocaustos do SENHOR, como está escrito na lei de Moisés, com alegria e com canto, conforme a instituição d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ôs porteiros às portas da casa do SENHOR, para que nela não entrasse ninguém imundo em coisa algu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percorreram a Judá e ajuntaram os levitas de todas as cidades de Judá e os chefes dos pais de Israel, e vieram para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ou os centuriões, os poderosos, os que tinham domínio entre o povo e todo o povo da terra, e conduziram o rei da casa do SENHOR, e entraram na casa do rei passando pela porta maior, e assentaram-no no trono re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 o povo da terra se alegrou, e a cidade ficou em paz, depois que mataram a Atalia à esp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a aquela congregação fez aliança com o rei na casa de Deus; e Joiada lhes disse: Eis que o filho do rei reinará, como o SENHOR falou a respeito dos filhos de Da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sto é o que haveis de fazer; uma terça parte de vós, ou seja, dos sacerdotes e dos levitas que entram no sábado, serão guardas das port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a terça parte estará na casa do rei; e a outra terça parte à porta do fundamento; e todo o povo estará nos pátios da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ninguém entre na casa do SENHOR, senão os sacerdotes e os levitas que ministram; estes entrarão, porque são santos; mas todo o povo fará a guarda diante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levitas cercarão o rei de todos os lados, cada um com as suas armas na mão; e qualquer que entrar na casa será morto; porém vós estareis com o rei, quando entrar e quando sa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izeram os levitas e todo o Judá conforme a tudo o que ordenara o sacerdote Joiada; e tomou cada um os seus homens, tanto os que entravam no sábado como os que saíam no sábado; porque o sacerdote Joiada não tinha despedido as turm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 sacerdote Joiada deu aos capitães de cem as lanças, os escudos e as rodelas que foram do rei Davi, os quais estavam na casa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0:03Z</dcterms:created>
  <dc:creator>Admin</dc:creator>
  <dc:description/>
  <dc:language>en-US</dc:language>
  <cp:lastModifiedBy>Admin</cp:lastModifiedBy>
  <dcterms:modified xsi:type="dcterms:W3CDTF">2008-07-30T23:50:03Z</dcterms:modified>
  <cp:revision>1</cp:revision>
  <dc:subject/>
  <dc:title>Slide 1</dc:title>
</cp:coreProperties>
</file>