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1768-ED9A-4C3F-B52A-2DB64F6B4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D0BE-6CB8-4736-82B0-C8FA6BF1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8ADE-5A21-406C-AEE5-0E95B085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D36A-6967-44C7-995F-C4315742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E97F-31AE-4182-99E7-C4F336B7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307B-34AD-4272-B4AB-C1C9BCC5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720B-29AE-47F3-BA0F-5CEC9E58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3800-F78C-4B61-BA72-5CA1A45C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8D79-A11F-492E-98A1-29B30427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EE8F-761A-4D5F-BFE2-C564E33F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B300-22B8-4C9F-83A7-6F7A2983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D614-4153-4507-8333-E9C3C18B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8462-0838-4238-9E8A-D6E0F11DE50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pareceu, no meio dos filhos de Israel o filho de uma mulher israelita, o qual era filho de um homem egípcio; e o filho da israelita e um homem israelita discutiram no arrai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filho da mulher israelita blasfemou o nome do SENHOR, e o amaldiçoou, por isso o trouxeram a Moisés; e o nome de sua mãe era Selomite, filha de Dibri, da tribo de D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o puseram na prisão, até que a vontade do SENHOR lhes pudesse ser declar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ra o que tem blasfemado para fora do arraial; e todos os que o ouviram porão as suas mãos sobre a sua cabeça; então toda a congregação o apedrej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s filhos de Israel falarás, dizendo: Qualquer que amaldiçoar o seu Deus, levará sobre si o seu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quele que blasfemar o nome do SENHOR, certamente morrerá; toda a congregação certamente o apedrejará; assim o estrangeiro como o natural, blasfemando o nome do SENHOR, será mo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m matar a alguém certamente morr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quem matar um animal, o restituirá, vida por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também alguém desfigurar o seu próximo, como ele fez, assim lhe será feit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dena aos filhos de Israel que te tragam azeite de oliveira, puro, batido, para a luminária, para manter as lâmpadas acesas continu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bradura por quebradura, olho por olho, dente por dente; como ele tiver desfigurado a algum homem, assim se lhe f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, pois, matar um animal, restituí-lo-á, mas quem matar um homem será mo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a mesma lei tereis; assim será para o estrangeiro como para o natural; pois eu sou o SENHOR v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Moisés, aos filhos de Israel que levassem o que tinha blasfemado para fora do arraial, e o apedrejassem; e fizeram os filhos de Israel como o SENHOR ordenara a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rão as porá em ordem perante o SENHOR continuamente, desde a tarde até à manhã, fora do véu do testemunho, na tenda da congregação; estatuto perpétuo é pelas vossas ger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bre o candelabro de ouro puro porá em ordem as lâmpadas perante o SENHOR continu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tomarás da flor de farinha, e dela cozerás doze pães; cada pão será de duas dízimas de um ef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porás em duas fileiras, seis em cada fileira, sobre a mesa pura, perant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obre cada fileira porás incenso puro, para que seja, para o pão, por oferta memorial; oferta queimada é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cada dia de sábado, isto se porá em ordem perante o SENHOR continuamente, pelos filhos de Israel, por aliança perpét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de Arão e de seus filhos, os quais o comerão no lugar santo, porque uma coisa santíssima é para eles, das ofertas queimadas ao SENHOR, por estatuto perpétu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9:39Z</dcterms:created>
  <dc:creator>Admin</dc:creator>
  <dc:description/>
  <dc:language>en-US</dc:language>
  <cp:lastModifiedBy>Admin</cp:lastModifiedBy>
  <dcterms:modified xsi:type="dcterms:W3CDTF">2008-07-31T00:09:39Z</dcterms:modified>
  <cp:revision>1</cp:revision>
  <dc:subject/>
  <dc:title>Slide 1</dc:title>
</cp:coreProperties>
</file>