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B49-DCD8-443C-BA6F-0F6487FF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E5C-6462-4326-AA0A-92BE2B9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66C-392E-4DBC-8A07-AA13C031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4CA-F5AE-4E86-867E-08A3572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01B-D43B-476E-B736-FF4C36B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95C-1ACE-4065-87AE-4442024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0FA-1B90-4932-B7CA-6F57446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797-A638-46BF-A543-F5C3EC4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70BF-EE8C-4F4C-A534-66465D5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147-4E25-4532-9E1A-32B8EE12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FD0-32FB-4AC7-B92B-9E247E5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0DD-ECE8-4924-8DB6-B809F32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35FC-8240-4224-ABEF-BEF5BACC46F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i, SENHOR, confio; nunca me deixes confundido. Livra-me pela t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inha vida está gasta de tristeza, e os meus anos de suspiros; a minha força descai por causa da minha iniqüidade, e os meus ossos se cons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ui opróbrio entre todos os meus inimigos, até entre os meus vizinhos, e horror para os meus conhecidos; os que me viam na rua fugiam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ou esquecido no coração deles, como um morto; sou como um vaso queb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uvi a murmuração de muitos, temor havia ao redor; enquanto juntamente consultavam contra mim, intentaram tirar-me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confiei em ti, SENHOR; e disse: Tu és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tempos estão nas tuas mãos; livra-me das mãos dos meus inimigos e dos que me persegu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resplandecer o teu rosto sobre o teu servo; salva-me por tuas misericór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deixes confundido, SENHOR, porque te tenho invocado. Deixa confundidos os ímpios, e emudeçam na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udeçam os lábios mentirosos que falam coisas más com soberba e desprezo contra o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quão grande é a tua bondade, que guardaste para os que te temem, a qual operaste para aqueles que em ti confiam na presença dos filhos dos homen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clina para mim os teus ouvidos, livra-me depressa; sê a minha firme rocha, uma casa fortíssima que me sal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esconderás, no secreto da tua presença, dos desaforos dos homens; encobri-los-ás em um pavilhão, da contenda das lín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, pois fez maravilhosa a sua misericórdia para comigo em cidade se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 dizia na minha pressa: Estou cortado de diante dos teus olhos; não obstante, tu ouviste a voz das minhas súplicas, quando eu a ti cla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i ao SENHOR, vós todos que sois seus santos; porque o SENHOR guarda os fiéis e retribui com abundância ao que usa de sober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forçai-vos, e ele fortalecerá o vosso coração, vós todos que esperais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és a minha rocha e a minha fortaleza; assim, por amor do teu nome, guia-me e encaminha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-me da rede que para mim esconderam, pois tu és a minh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s tuas mãos encomendo o meu espírito; tu me redimiste, SENHOR Deus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deio aqueles que se entregam a vaidades enganosas; eu, porém, confio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me alegrarei e regozijarei na tua benignidade, pois consideraste a minha aflição; conheceste a minha alma nas angús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me entregaste nas mãos do inimigo; puseste os meus pés num lugar espaç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ó SENHOR, porque estou angustiado. Consumidos estão de tristeza os meus olhos, a minha alma e o m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53Z</dcterms:created>
  <dc:creator>Admin</dc:creator>
  <dc:description/>
  <dc:language>en-US</dc:language>
  <cp:lastModifiedBy>Admin</cp:lastModifiedBy>
  <dcterms:modified xsi:type="dcterms:W3CDTF">2008-07-31T00:24:53Z</dcterms:modified>
  <cp:revision>1</cp:revision>
  <dc:subject/>
  <dc:title>Slide 1</dc:title>
</cp:coreProperties>
</file>