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11A-0F4F-495F-A5D0-F50EF109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E80-6D89-4C41-BB1E-365A842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D7A-F15D-4CF1-B8C7-55445069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79E-42AE-4AB1-8909-77860B86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F46-4837-44E5-835F-EED0F50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B9C-65CE-4B1C-BE39-0C61647E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836-56B5-4D1D-BCA9-ECC9717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52F-93C6-4EAC-A0D0-1FE4213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FC3-DD82-4163-AC4A-2336FCB5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FC4-AA96-49F0-8BC6-63486C6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34B-E682-4CE3-8713-FBF8EB5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391-D872-47FF-9966-EA14B5B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8E2-2CDE-4829-A8F4-8A2CDAB9E5A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estás ao longe, SENHOR? Por que te escondes nos tempos de angúst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olhe-se, abaixa-se, para que os pobres caiam em suas fortes ga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em seu coração: Deus esqueceu-se, cobriu o seu rosto, e nunca isto 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. Ó Deus, levanta a tua mão; não te esqueças dos humi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blasfema o ímpio de Deus? dizendo no seu coração: Tu não o esquadrinh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 viste, porque atentas para o trabalho e enfado, para o retribuir com tuas mãos; a ti o pobre se encomenda; tu és o auxílio do órf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 o braço do ímpio e malvado; busca a sua impiedade, até que nenhuma encont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Rei eterno; da sua terra perecerão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u ouviste os desejos dos mansos; confortarás os seus corações; os teus ouvidos estarão abertos para 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fazer justiça ao órfão e ao oprimido, a fim de que o homem da terra não prossiga mais em usar da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na sua arrogância perseguem furiosamente o pobre; sejam apanhados nas ciladas que maquin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ímpio gloria-se do desejo da sua alma; bendiz ao avarento, e renunci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altivez do seu rosto o ímpio não busca a Deus; todas as suas cogitações são que não há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aminhos atormentam sempre; os teus juízos estão longe da vista dele, em grande altura, e despreza a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 em seu coração: Não serei abalado, porque nunca me verei na advers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boca está cheia de imprecações, de enganos e de astúcia; debaixo da sua língua há malícia e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-se de emboscada nas aldeias; nos lugares ocultos mata o inocente; os seus olhos estão ocultamente fixos sobre o po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ma ciladas no esconderijo, como o leão no seu covil; arma ciladas para roubar o pobre; rouba-o, prendendo-o na sua 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9Z</dcterms:created>
  <dc:creator>Admin</dc:creator>
  <dc:description/>
  <dc:language>en-US</dc:language>
  <cp:lastModifiedBy>Admin</cp:lastModifiedBy>
  <dcterms:modified xsi:type="dcterms:W3CDTF">2008-07-31T00:24:19Z</dcterms:modified>
  <cp:revision>1</cp:revision>
  <dc:subject/>
  <dc:title>Slide 1</dc:title>
</cp:coreProperties>
</file>