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E6E-8A33-4C52-8CCA-1D917E9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33F-7F68-4EA3-A1D9-DCBFD691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1C7-DF2E-4740-8D38-A8F7FAA8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3C0-BB05-4D50-85A2-C9424F3E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D3D-2AF6-4582-88D3-965CB90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2BC-F73E-4EA3-ADB9-B368C34E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E19-2B1A-498C-9173-45267C6B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21E-321F-4343-B32C-9C27C219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2AA-F737-4489-8BDF-26096628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FEB-768E-4C25-9C69-DC070D2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5C6-A794-47E6-A0D2-0B2F8B7C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CEF-8096-4398-A90B-02A6AE7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60AB-1774-4F99-B75C-D24DDA8614B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aqueles dias, crescendo o número dos discípulos, houve uma murmuração dos gregos contra os hebreus, porque as suas viúvas eram desprezadas no ministério cotidi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odiam resistir à sabedoria, e ao Espírito com que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ornaram uns homens, para que dissessem: Ouvimos-lhe proferir palavras blasfemas contra Moisés e cont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citaram o povo, os anciãos e os escribas; e, investindo contra ele, o arrebataram e o levaram ao cons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esentaram falsas testemunhas, que diziam: Este homem não cessa de proferir palavras blasfemas contra este santo lugar e a l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 lhe ouvimos dizer que esse Jesus Nazareno há de destruir este lugar e mudar os costumes que Moisés nos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que estavam assentados no conselho, fixando os olhos nele, viram o seu rosto como o rosto de um an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oze, convocando a multidão dos discípulos, disseram: Não é razoável que nós deixemos a palavra de Deus e sirvamos às me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lhei, pois, irmãos, dentre vós, sete homens de boa reputação, cheios do Espírito Santo e de sabedoria, aos quais constituamos sobre este important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 perseveraremos na oração e no ministério d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parecer contentou a toda a multidão, e elegeram Estêvão, homem cheio de fé e do Espírito Santo, e Filipe, e Prócoro, e Nicanor, e Timão, e Parmenas e Nicolau, prosélito de Antioqu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presentaram ante os apóstolos, e estes, orando, lhes impuseram 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scia a palavra de Deus, e em Jerusalém se multiplicava muito o número dos discípulos, e grande parte dos sacerdotes obedecia à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êvão, cheio de fé e de poder, fazia prodígios e grandes sinais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alguns que eram da sinagoga chamada dos libertinos, e dos cireneus e dos alexandrinos, e dos que eram da Cilícia e da Ásia, e disputavam com Estê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32Z</dcterms:created>
  <dc:creator>Admin</dc:creator>
  <dc:description/>
  <dc:language>en-US</dc:language>
  <cp:lastModifiedBy>Admin</cp:lastModifiedBy>
  <dcterms:modified xsi:type="dcterms:W3CDTF">2008-07-30T23:23:32Z</dcterms:modified>
  <cp:revision>1</cp:revision>
  <dc:subject/>
  <dc:title>Slide 1</dc:title>
</cp:coreProperties>
</file>