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1DD2-7BAE-45E8-AC64-E7FC163AB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CBFD-CF37-4E77-8DCF-E2241E00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D16F-E8F5-48F4-AF30-600FCF9F4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DBB8-B601-4C12-8B49-5BBA57889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B738-ECAA-401C-8721-0329E78C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377B-EF6A-4244-A108-44E5ED63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441B-CA10-4F0E-BB34-E09FCD46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43D8-F145-4CFD-A75E-BD1B2A3B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42B3-0D75-42D9-A775-DC6537E3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2C6F-268C-48A6-9A9F-10D026CB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C0AB-DF07-4EB8-98AC-9C8A1C0B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E0FB-FF5C-405D-9255-39D8A91F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DE3E-F5BB-4FB1-888A-D40B65E6202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hegaram todos os capitães dos exércitos, e Joanã, filho de Careá, e Jezanias, filho de Hosaías, e todo o povo, desde o menor até ao maio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de boa mente ficardes nesta terra, então vos edificarei, e não vos derrubarei; e vos plantarei, e não vos arrancarei; porque estou arrependido do mal que vos tenho f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emais o rei de Babilônia, a quem vós temeis; não o temais, diz o SENHOR, porque eu sou convosco, para vos salvar e para vos livrar da su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os concederei misericórdia, para que ele tenha misericórdia de vós, e vos faça voltar à voss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se vós disserdes: Não ficaremos nesta terra, não obedecendo à voz do SENHOR vosso Deu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ndo: Não, antes iremos à terra do Egito, onde não veremos guerra, nem ouviremos som de trombeta, nem teremos fome de pão, e ali ficarem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sse caso ouvi a palavra do SENHOR, ó remanescente de Judá: Assim diz o SENHOR dos Exércitos, Deus de Israel: Se vós absolutamente propuserdes a entrar no Egito, e entrardes para lá habita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contecerá que a espada que vós temeis vos alcançará ali na terra do Egito, e a fome que vós receais vos seguirá de perto no Egito, e ali morre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será com todos os homens que puseram os seus rostos para entrarem no Egito, a fim de lá habitarem: morrerão à espada, e de fome, e de peste; e deles não haverá quem reste e escape do mal que eu farei vir sobre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diz o SENHOR dos Exércitos, Deus de Israel: Como se derramou a minha ira e a minha indignação sobre os habitantes de Jerusalém, assim se derramará a minha indignação sobre vós, quando entrardes no Egito; e sereis objeto de maldição, e de es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 o SENHOR acerca de vós, ó remanescente de Judá! Não entreis no Egito; tende por certo que hoje testifiquei contra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ram a Jeremias, o profeta: Aceita agora a nossa súplica diante de ti, e roga ao SENHOR teu Deus, por nós e por todo este remanescente; porque de muitos restamos uns poucos, como nos vêem os teus olh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vos enganastes a vós mesmos, pois me enviastes ao SENHOR vosso Deus, dizendo: Ora por nós ao SENHOR nosso Deus; e conforme tudo o que disser o SENHOR nosso Deus, declara-no-lo assim, e o fare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o-lo tenho declarado hoje; mas não destes ouvidos à voz do SENHOR vosso Deus, em coisa alguma pela qual ele me enviou a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sabei por certo que morrereis à espada, de fome e de peste no mesmo lugar onde desejais ir, para lá morar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o SENHOR teu Deus nos ensine o caminho por onde havemos de andar e aquilo que havemos de faz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 Jeremias, o profeta: Eu vos tenho ouvido; eis que orarei ao SENHOR vosso Deus conforme as vossas palavras; e seja o que for que o SENHOR vos responder eu vo-lo declararei; não vos ocultarei uma só palav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les disseram a Jeremias: Seja o SENHOR entre nós testemunha verdadeira e fiel, se não fizermos conforme toda a palavra com que te enviar a nós o SENHOR t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ja ela boa, ou seja má, à voz do SENHOR nosso Deus, a quem te enviamos, obedeceremos, para que nos suceda bem, obedecendo à voz do SENHOR n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 ao fim de dez dias veio a palavra do SENHOR a Jerem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hamou a Joanã, filho de Careá, e a todos os capitães dos exércitos, que havia com ele, e a todo o povo, desde o menor até ao maio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: Assim diz o SENHOR, Deus de Israel, a quem me enviastes, para apresentar a vossa súplica diante del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9:35Z</dcterms:created>
  <dc:creator>Admin</dc:creator>
  <dc:description/>
  <dc:language>en-US</dc:language>
  <cp:lastModifiedBy>Admin</cp:lastModifiedBy>
  <dcterms:modified xsi:type="dcterms:W3CDTF">2008-07-30T23:59:35Z</dcterms:modified>
  <cp:revision>1</cp:revision>
  <dc:subject/>
  <dc:title>Slide 1</dc:title>
</cp:coreProperties>
</file>