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861-9BE8-4087-8480-3BAF6274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AFC-A72C-42F9-8904-6463D116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FD1-8B78-4431-97C8-F2BA0E73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307-F062-4597-82F2-A615A412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B3E-DEE6-4E9B-BBE4-452F7E78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40E-EB3F-4247-B425-CB88817C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CC7-E84A-4A46-BD60-BF882E0A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AC9-6528-49FB-A761-45034668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55A-9036-498C-AC95-78181D14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66E-251D-448E-A5E5-5C8BE08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C4E-1E7E-493B-8CA7-56D4278A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5BA-C424-4030-AEEE-4E284185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629-F49B-4F6A-AFB6-549D1F1B23D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espera somente em Deus; dele vem 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fieis na opressão, nem vos ensoberbeçais na rapina; se as vossas riquezas aumentam, não ponhais nelas 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falou uma vez; duas vezes ouvi isto: que o poder pertenc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 também, Senhor, pertence a misericórdia; pois retribuirás a cada um segundo 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ó ele é a minha rocha e a minha salvação; é a minha defesa; não serei grandemente ab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maquinareis o mal contra um homem? Sereis mortos todos vós, sereis como uma parede encurvada e uma sebe prestes a c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somente consultam como o hão de derrubar da sua excelência; deleitam-se em mentiras; com a boca bendizem, mas nas suas entranhas maldizem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minha alma, espera somente em Deus, porque dele vem a minha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ó ele é a minha rocha e a minha salvação; é a minha defesa; não serei ab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us está a minha salvação e a minha glória; a rocha da minha fortaleza, e o meu refúgio estão e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ai nele, ó povo, em todos os tempos; derramai perante ele o vosso coração. Deus é o nosso refúgi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que os homens de classe baixa são vaidade, e os homens de ordem elevada são mentira; pesados em balanças, eles juntos são mais leves do que a va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50Z</dcterms:created>
  <dc:creator>Admin</dc:creator>
  <dc:description/>
  <dc:language>en-US</dc:language>
  <cp:lastModifiedBy>Admin</cp:lastModifiedBy>
  <dcterms:modified xsi:type="dcterms:W3CDTF">2008-07-31T00:25:50Z</dcterms:modified>
  <cp:revision>1</cp:revision>
  <dc:subject/>
  <dc:title>Slide 1</dc:title>
</cp:coreProperties>
</file>