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B63-89EF-4852-9982-72AAA101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6612-8DCC-4AAC-B2F8-908214FF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C0DE-5D10-4025-BD8A-3C0352E6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AC4-20A1-4921-8585-A327832E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5B8B-32AE-4CE3-BDF5-6C1BB83C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AA52-EF4F-4D7B-9B7D-CF5402A7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B05D-18A8-48A4-81F1-322661CF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386A-975F-4F16-A15E-CD35FE71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3C5E-3423-4B27-9390-D1DFEFCF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5283-1FF1-4F1F-9743-323D1C8F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A7B9-9BCC-4E78-A4C9-E44AF2A7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211F-72FD-41FD-9422-FD6DFE8E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B9DE-7234-4D6D-964B-7FD24DD15C0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demais, irmãos, rogai por nós, para que a palavra do Senhor tenha livre curso e seja glorificada, como também o é entre vó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ando ainda estávamos convosco, vos mandamos isto, que, se alguém não quiser trabalhar, não coma tamb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anto ouvimos que alguns entre vós andam desordenadamente, não trabalhando, antes fazendo coisas vã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sses tais, porém, mandamos, e exortamos por nosso Senhor Jesus Cristo, que, trabalhando com sossego, comam o seu próprio p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ós, irmãos, não vos canseis de fazer 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se alguém não obedecer à nossa palavra por esta carta, notai o tal, e não vos mistureis com ele, para que se envergonh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não o tenhais como inimigo, mas admoestai-o como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mesmo SENHOR da paz vos dê sempre paz de toda a maneira. O Senhor seja com todos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udação da minha própria mão, de mim, Paulo, que é o sinal em todas as epístolas; assim escre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graça de nosso Senhor Jesus Cristo seja com todos vós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que sejamos livres de homens dissolutos e maus; porque a fé não é de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fiel é o SENHOR, que vos confirmará, e guardará do malig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nfiamos quanto a vós no Senhor, que não só fazeis como fareis o que vos mand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 o Senhor encaminhe os vossos corações no amor de Deus, e na paciência de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ndamo-vos, porém, irmãos, em nome de nosso Senhor Jesus Cristo, que vos aparteis de todo o irmão que anda desordenadamente, e não segundo a tradição que de nós receb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vós mesmos sabeis como convém imitar-nos, pois que não nos houvemos desordenadamente entre vó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em de graça comemos o pão de homem algum, mas com trabalho e fadiga, trabalhando noite e dia, para não sermos pesados a nenhum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porque não tivéssemos autoridade, mas para vos dar em nós mesmos exemplo, para nos imitar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4:10Z</dcterms:created>
  <dc:creator>Admin</dc:creator>
  <dc:description/>
  <dc:language>en-US</dc:language>
  <cp:lastModifiedBy>Admin</cp:lastModifiedBy>
  <dcterms:modified xsi:type="dcterms:W3CDTF">2008-07-30T23:54:10Z</dcterms:modified>
  <cp:revision>1</cp:revision>
  <dc:subject/>
  <dc:title>Slide 1</dc:title>
</cp:coreProperties>
</file>