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EC4-6924-4BFC-946E-DEDFD258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480-2351-43F8-8F53-F5059254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DB1-A4B2-4AAA-87AA-F1369880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CD7-7D32-4B05-B4B5-9EC1F1D9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6D1-57FE-44D1-BAE5-A9FFDA05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BD4-3902-4BC3-BB36-53901530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FB1-4312-40C7-AB58-64436F96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3E1-8BBF-4635-B5EA-C966F461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B6E-FA31-43CC-A349-69E2A02E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F6B-A702-4FE8-9240-950E2444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34FA-4515-46B9-82D7-3928C00C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53F-3BB8-4CD1-9797-7436DE58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6627-3704-4D43-9364-7EAE08CF2BC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terceiro do reinado de Jeoiaquim, rei de Judá, veio Nabucodonosor, rei de Babilônia, a Jerusalém, e a sit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chefe dos eunucos a Daniel: Tenho medo do meu senhor, o rei, que determinou a vossa comida e a vossa bebida; pois por que veria ele os vossos rostos mais tristes do que os dos outros jovens da vossa idade? Assim porias em perigo a minha cabeç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aniel ao despenseiro a quem o chefe dos eunucos havia constituído sobre Daniel, Hananias, Misael e Azaria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perimenta, peço-te, os teus servos dez dias, e que se nos dêem legumes a comer, e água a b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examine diante de ti a nossa aparência, e a aparência dos jovens que comem a porção das iguarias do rei; e, conforme vires, procederás para com os t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consentiu isto, e os experimentou dez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o fim dos dez dias, apareceram os seus semblantes melhores, e eles estavam mais gordos de carne do que todos os jovens que comiam das iguaria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despenseiro tirou-lhes a porção das iguarias, e o vinho de que deviam beber, e lhes dava legu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estes quatro jovens, Deus lhes deu o conhecimento e a inteligência em todas as letras, e sabedoria; mas a Daniel deu entendimento em toda a visão e so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fim dos dias, em que o rei tinha falado que os trouxessem, o chefe dos eunucos os trouxe diante de Nabucodonos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falou com eles; e entre todos eles não foram achados outros tais como Daniel, Hananias, Misael e Azarias; portanto ficaram assistindo diante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entregou nas suas mãos a Jeoiaquim, rei de Judá, e uma parte dos utensílios da casa de Deus, e ele os levou para a terra de Sinar, para a casa do seu deus, e pôs os utensílios na casa do tesouro do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toda a matéria de sabedoria e de discernimento, sobre o que o rei lhes perguntou, os achou dez vezes mais doutos do que todos os magos astrólogos que havia em todo o seu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niel permaneceu até ao primeiro ano do rei C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 a Aspenaz, chefe dos seus eunucos, que trouxesse alguns dos filhos de Israel, e da linhagem real e dos príncip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vens em quem não houvesse defeito algum, de boa aparência, e instruídos em toda a sabedoria, e doutos em ciência, e entendidos no conhecimento, e que tivessem habilidade para assistirem no palácio do rei, e que lhes ensinassem as letras e a língua 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lhes determinou a porção diária, das iguarias do rei, e do vinho que ele bebia, e que assim fossem mantidos por três anos, para que no fim destes pudessem estar diante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 eles se achavam, dos filhos de Judá, Daniel, Hananias, Misael e Azar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hefe dos eunucos lhes pôs outros nomes, a saber: a Daniel pôs o de Beltessazar, e a Hananias o de Sadraque, e a Misael o de Mesaque, e a Azarias o de Abedne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niel propôs no seu coração não se contaminar com a porção das iguarias do rei, nem com o vinho que ele bebia; portanto pediu ao chefe dos eunucos que lhe permitisse não se contamin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Daniel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Deus fez com que Daniel achasse graça e misericórdia diante do chefe dos eunu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6:09Z</dcterms:created>
  <dc:creator>Admin</dc:creator>
  <dc:description/>
  <dc:language>en-US</dc:language>
  <cp:lastModifiedBy>Admin</cp:lastModifiedBy>
  <dcterms:modified xsi:type="dcterms:W3CDTF">2008-07-30T23:26:09Z</dcterms:modified>
  <cp:revision>1</cp:revision>
  <dc:subject/>
  <dc:title>Slide 1</dc:title>
</cp:coreProperties>
</file>