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6D5-717F-4512-9D0E-F7674ACF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EAE-8303-4AB3-979E-6C58A6B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22F-0469-4C4C-B7B6-2478471B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03F-6DCE-4B55-A0D4-923431C6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9C9-7ACD-4CE0-8511-F9F9C67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2B5-2F34-45D0-BFC0-F69249AA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439-8415-4D0F-9269-71B7BB3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26D-2F3A-4743-8006-3E950EE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702-EBBF-4BD2-9232-903FD84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747-9DB4-4FE6-B98C-8729DBA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7E4-2616-4EAE-81F0-3C9677A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750-B276-4071-81CF-CBF96F5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A83E-E8CE-4181-9AC5-05A61D5E382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s adversários de Judá e Benjamim que os que voltaram do cativeiro edificavam o templo ao SENHOR Deu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utros povos, que o grande e afamado Asnapar transportou, e que fez habitar na cidade de Samaria, e nas demais províncias dalém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é o teor da carta que mandaram ao rei Artaxerxes: Teus servos, os homens dalém do rio, em tal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ba o rei que os judeus, que subiram de ti, vieram a nós em Jerusalém, e reedificam aquela rebelde e malvada cidade, e vão restaurando os seus muros, e reparando os seus fu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aiba o rei que, se aquela cidade se reedificar, e os muros se restaurarem, eles não pagarão os direitos, os tributos e os pedágios; e assim se danificará a fazenda d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rquanto somos assalariados do palácio, e não nos convém ver a desonra do rei, por isso mandamos avisar ao r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busque no livro das crônicas de teus pais. E acharás no livro das crônicas, e saberás que aquela foi uma cidade rebelde, e danosa aos reis e províncias, e que nela houve rebelião em tempos antigos; por isso foi aquela cidade destruí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, pois, fazemos notório ao rei que, se aquela cidade se reedificar, e os seus muros se restaurarem, sucederá que não terás porção alguma deste lado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nviou esta resposta a Reum, o chanceler, e a Sinsai, o escrivão, e aos demais seus companheiros, que habitavam em Samaria; como também aos demais que estavam dalém do rio: Paz! em tal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rta que nos enviastes foi explicitamente lida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rdenando-o eu, buscaram e acharam, que de tempos antigos aquela cidade se levantou contra os reis, e nela se têm feito rebelião e se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am-se a Zorobabel e aos chefes dos pais, e disseram-lhes: Deixai-nos edificar convosco, porque, como vós, buscaremos a vosso Deus; como também já lhe sacrificamos desde os dias de Esar-Hadom, rei da Assíria, que nos fez subir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ouve reis poderosos sobre Jerusalém que dalém do rio dominaram em todo o lugar, e se lhes pagaram direitos, tributos e pedág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dai ordem para impedirdes aqueles homens, a fim de que não se edifique aquela cidade, até que eu dê uma o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i-vos de serdes remissos nisto; por que cresceria o dano para prejuízo dos r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depois que a cópia da carta do rei Artaxerxes foi lida perante Reum, e Sinsai, o escrivão, e seus companheiros, apressadamente foram eles a Jerusalém, aos judeus, e os impediram à força e com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essou a obra da casa de Deus, que estava em Jerusalém; e cessou até ao ano segundo do reinado de Dario, rei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Zorobabel, e Jesuá, e os outros chefes dos pais de Israel lhes disseram: Não convém que nós e vós edifiquemos casa a nosso Deus; mas nós sozinhos a edificaremos ao SENHOR Deus de Israel, como nos ordenou o rei Ciro, rei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povo da terra debilitava as mãos do povo de Judá, e inquietava-os no ed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ugaram contra eles conselheiros, para frustrarem o seu plano, todos os dias de Ciro, rei da Pérsia, até ao reinado de Dario, rei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reinado de Assuero, no princípio do seu reinado, escreveram uma acusação contra os habitantes de Judá e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dias de Artaxerxes escreveram Bislão, Mitredate, Tabeel, e os outros seus companheiros, a Artaxerxes, rei da Pérsia; e a carta estava escrita em caracteres siríacos, e na língua siría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ram, pois, Reum, o chanceler, e Sinsai, o escrivão, uma carta contra Jerusalém, ao rei Artaxerxes do teor segui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creveu Reum, o chanceler, e Sinsai, o escrivão, e os outros seus companheiros, os dinaítas, afarsaquitas, tarpelitas, afarsitas, arquevitas, babilônios, susanquitas, deavitas, elam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19Z</dcterms:created>
  <dc:creator>Admin</dc:creator>
  <dc:description/>
  <dc:language>en-US</dc:language>
  <cp:lastModifiedBy>Admin</cp:lastModifiedBy>
  <dcterms:modified xsi:type="dcterms:W3CDTF">2008-07-30T23:30:19Z</dcterms:modified>
  <cp:revision>1</cp:revision>
  <dc:subject/>
  <dc:title>Slide 1</dc:title>
</cp:coreProperties>
</file>