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4F7-B235-4322-B823-6CB1101D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DD5-73EA-4D07-AF81-45E582AA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F58-0D7E-47C2-B3EF-9FE20E83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D71-93A4-4EBE-B03C-83FC0CA7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AAF-EF60-46DE-99F6-487A6B36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93B-AAEC-44BB-AE17-2F96A68E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EB8-C662-4BD3-87B4-2FF1F57D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919-283A-4B12-BF69-58E5A6BE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023-3718-4B33-BB47-013F2BBD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D12-722D-45A2-B2FF-920B7F5A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C22-D573-4237-B0A7-5F1ABC9F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C73-FF19-4878-899E-8489C475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14A1-B627-44E3-A71A-7A817E91B14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, pois, o rei Davi já velho, e entrado em dias, cobriam-no de roupas, porém não se aque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Natã, o profeta, e a Benaia, e aos poderosos, e a Salomão, seu irmão, não convi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Natã a Bate-Seba, mãe de Salomão, dizendo: Não ouviste que Adonias, filho de Hagite, reina? E que nosso senhor Davi não o sab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, pois, agora, e deixa-me dar-te um conselho, para que salves a tua vida, e a de Salomão t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e chega ao rei Davi, e dize-lhe: Não juraste tu, rei senhor meu, à tua serva, dizendo: Certamente teu filho Salomão reinará depois de mim, e ele se assentará no meu trono? Por que, pois, reina Adoni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, estando tu ainda aí falando com o rei, eu também entrarei depois de ti, e confirmarei as t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Bate-Seba ao rei na sua câmara; e o rei era muito velho; e Abisague, a sunamita, servia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te-Seba inclinou a cabeça, e se prostrou perante o rei; e disse o rei: Que t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lhe disse: Senhor meu, tu juraste à tua serva pelo SENHOR teu Deus, dizendo: Salomão, teu filho, reinará depois de mim, e ele se assentará no meu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eis que Adonias reina; e tu, ó rei meu senhor, não o sab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ou vacas, e animais cevados, e ovelhas em abundância, e convidou a todos os filhos do rei, e a Abiatar, o sacerdote, e a Joabe, capitão do exército, mas a teu servo Salomão não convi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-lhe os seus servos: Busquem para o rei meu senhor uma moça virgem, que esteja perante o rei, e tenha cuidado dele; e durma no seu seio, para que o rei meu senhor se aqu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ó rei meu senhor, os olhos de todo o Israel estão sobre ti, para que lhe declares quem se assentará sobre o trono do rei meu senhor, depoi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outro modo sucederá que, quando o rei meu senhor dormir com seus pais, eu e Salomão meu filho seremos os culp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a ainda falando com o rei, eis que entra o profeta Nat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zeram saber ao rei, dizendo: Eis aí está o profeta Natã. E entrou à presença do rei, e prostrou-se diante dele com o rosto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Natã: Ó rei meu senhor, disseste tu: Adonias reinará depois de mim, e ele se assentará sobre o meu tron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oje desceu, e matou vacas, e animais cevados, e ovelhas em abundância, e convidou a todos os filhos do rei e aos capitães do exército, e a Abiatar, o sacerdote, e eis que estão comendo e bebendo perante ele; e dizem: Viva o rei Adon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mim, sendo eu teu servo, e a Zadoque, o sacerdote, e a Benaia, filho de Joiada, e a Salomão, teu servo, não convi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 feito isto da parte do rei meu senhor? E não fizeste saber a teu servo quem se assentaria no trono do rei meu senhor depois d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o rei Davi, e disse: Chamai-me a Bate-Seba. E ela entrou à presença do rei; e ficou em pé diant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urou o rei e disse: Vive o SENHOR, o qual remiu a minha alma de toda a angúst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uscaram por todos os termos de Israel uma moça formosa, e acharam a Abisague, sunamita; e a trouxeram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, como te jurei pelo SENHOR Deus de Israel, dizendo: Certamente teu filho Salomão reinará depois de mim, e ele se assentará no meu trono, em meu lugar, assim o farei n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te-Seba se inclinou com o rosto em terra e se prostrou diante do rei, e disse: Viva o rei Davi meu senhor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Davi: Chamai-me a Zadoque, o sacerdote, e a Natã, o profeta, e a Benaia, filho de Joiada. E eles entraram à presenç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lhes disse: Tomai convosco os servos de vosso senhor, e fazei subir a meu filho Salomão na mula que é minha; e levai-o a Gi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doque, o sacerdote, com Natã, o profeta, ali o ungirão rei sobre Israel; então tocareis a trombeta, e direis: Viva o rei Salom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bireis após ele, e virá e se assentará no meu trono, e ele reinará em meu lugar; porque tenho ordenado que ele seja guia sobre Israel e sobr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enaia, filho de Joiada, respondeu ao rei, e disse: Amém; assim o diga o SENHOR Deus do rei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SENHOR foi com o rei meu senhor, assim o seja com Salomão, e faça que o seu trono seja maior do que o trono do rei Davi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ceu Zadoque, o sacerdote, e Natã, o profeta, e Benaia, filho de Joiada, e os quereteus, e os peleteus, e fizeram montar a Salomão na mula do rei Davi, e o levaram a Gi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doque, o sacerdote, tomou o chifre de azeite do tabernáculo, e ungiu a Salomão; e tocaram a trombeta, e todo o povo disse: Viva o rei Salom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 moça sobremaneira formosa; e tinha cuidado do rei, e o servia; porém o rei não a conh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subiu após ele, e o povo tocava gaitas, e alegrava-se com grande alegria; de maneira que com o seu clamor a terra retin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ouviu Adonias, e todos os convidados que estavam com ele, que tinham acabado de comer; também Joabe ouviu o sonido das trombetas, e disse: Por que há tal ruído de cidade alvoroça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le ainda falando, eis que vem Jônatas, filho de Abiatar, o sacerdote, e disse Adonias: Entra, porque és homem valente, e trarás boas no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Jônatas, e disse a Adonias: Certamente nosso senhor, rei Davi, constituiu rei a Salo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enviou com ele a Zadoque, o sacerdote, e a Natã, o profeta, e a Benaia, filho de Joiada, e aos quereteus e aos peleteus; e o fizeram montar na mul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doque, o sacerdote, e Natã, o profeta, o ungiram rei em Giom, e dali subiram alegres, e a cidade está alvoroçada; este é o clamor que ouv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Salomão está assentado no trono do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s servos do rei vieram abençoar a nosso senhor, o rei Davi, dizendo: Faça teu Deus que o nome de Salomão seja melhor do que o teu nome; e faça que o seu trono seja maior do que o teu trono. E o rei se inclinou no l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disse o rei assim: Bendito o SENHOR Deus de Israel, que hoje tem dado quem se assente no meu trono, e que os meus olhos o vi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remeceram e se levantaram todos os convidados que estavam com Adonias; e cada um se foi a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donias, filho de Hagite, se levantou, dizendo: Eu reinarei. E preparou carros, e cavaleiros, e cinqüenta homens, que corressem a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donias temeu a Salomão; e levantou-se, e foi, e apegou-se às pontas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-se saber a Salomão, dizendo: Eis que Adonias teme ao rei Salomão; porque eis que apegou-se às pontas do altar, dizendo: Jure-me hoje o rei Salomão que não matará o seu servo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Salomão: Se for homem de bem, nem um de seus cabelos cairá em terra; se, porém, se achar nele maldade,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o rei Salomão, e o fizeram descer do altar; e veio, e prostrou-se perante o rei Salomão, e Salomão lhe disse: Vai par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unca seu pai o tinha contrariado, dizendo: Por que fizeste assim? E era ele também muito formoso de parecer; e Hagite o tivera depois de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entendimento com Joabe, filho de Zeruia, e com Abiatar o sacerdote; os quais o ajudavam, seguindo a Adon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Zadoque, o sacerdote, e Benaia, filho de Joiada, e Natã, o profeta, e Simei, e Rei, e os poderosos que Davi tinha, não estavam com Adon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Rei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ou Adonias ovelhas, e vacas, e animais cevados, junto à pedra de Zoelete, que está perto da fonte de Rogel; e convidou a todos os seus irmãos, os filhos do rei, e a todos os homens de Judá, servo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34Z</dcterms:created>
  <dc:creator>Admin</dc:creator>
  <dc:description/>
  <dc:language>en-US</dc:language>
  <cp:lastModifiedBy>Admin</cp:lastModifiedBy>
  <dcterms:modified xsi:type="dcterms:W3CDTF">2008-07-30T23:44:34Z</dcterms:modified>
  <cp:revision>1</cp:revision>
  <dc:subject/>
  <dc:title>Slide 1</dc:title>
</cp:coreProperties>
</file>