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9A21-2914-4566-884E-447CC773B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697B-CAB6-403A-8741-62BEE9FF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46F8-2F58-4A0D-9C82-0797D2D76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0EE2-D3D7-484F-96EF-B13C59E4A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43E9-89D4-4DA6-86B3-F9A86E85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07AB-28A4-4578-B266-C58BA826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ED48-4CC1-4571-98CE-6E94596F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0BD5-B508-4B99-A29A-89EE1776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29BC-81BC-4F9E-B54C-75C73F28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04E8-2D70-417C-B256-D06A880F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5B87-C982-4E55-8585-BAD65228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6FF2-8C98-467E-A672-C7DD7B3F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DE62-D360-4FA4-A33F-5F037DCB930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HOR, como se têm multiplicado os meus adversários! São muitos os que se levantam contr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uitos dizem da minha alma: Não há salvação para ele em Deus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tu, SENHOR, és um escudo para mim, a minha glória, e o que exalta a minha cabe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a minha voz clamei ao SENHOR, e ouviu-me desde o seu santo monte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me deitei e dormi; acordei, porque o SENHOR me sustent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merei dez milhares de pessoas que se puseram contra mim e me cerc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-te, SENHOR; salva-me, Deus meu; pois feriste a todos os meus inimigos nos queixos; quebraste os dentes aos ímp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alvação vem do SENHOR; sobre o teu povo seja a tua bênção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4:08Z</dcterms:created>
  <dc:creator>Admin</dc:creator>
  <dc:description/>
  <dc:language>en-US</dc:language>
  <cp:lastModifiedBy>Admin</cp:lastModifiedBy>
  <dcterms:modified xsi:type="dcterms:W3CDTF">2008-07-31T00:24:08Z</dcterms:modified>
  <cp:revision>1</cp:revision>
  <dc:subject/>
  <dc:title>Slide 1</dc:title>
</cp:coreProperties>
</file>