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EED-F9F6-424F-BB59-BA852590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43BD-6EDF-4A07-ACE8-3C12AB82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476-9DF5-46C4-8214-91A0A630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CD9-1B51-49DF-8C8B-C4BFA676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B8A-5C2F-41E2-A87B-151EB1B6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341-5796-4B15-97D4-22764DC4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D18-0B2D-4786-B43C-923B8A43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E2CF-90C5-4C41-99F3-DF49393C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F96-B3C0-4237-97DF-876C645E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39F7-A591-4648-A0B7-1DCB152A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6DE3-9820-4C82-854D-9A03A3C5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03C-E756-4BDB-8A50-71309D47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C58E-6C6B-465C-8E0E-949DAE46D6E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O fim do sábado, quando já despontava o primeiro dia da semana, Maria Madalena e a outra Maria foram ver o sepulc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sus disse-lhes: Não temais; ide dizer a meus irmãos que vão à Galiléia, e lá me v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iam, eis que alguns da guarda, chegando à cidade, anunciaram aos príncipes dos sacerdotes todas as coisas que haviam aconte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ngregados eles com os anciãos, e tomando conselho entre si, deram muito dinheiro aos soldad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Dizei: Vieram de noite os seus discípulos e, dormindo nós, o furt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isto chegar a ser ouvido pelo presidente, nós o persuadiremos, e vos poremos em segu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, recebendo o dinheiro, fizeram como estavam instruídos. E foi divulgado este dito entre os judeus,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onze discípulos partiram para a Galiléia, para o monte que Jesus lhes tinha desig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 viram, o adoraram; mas alguns duvid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-se Jesus, falou-lhes, dizendo: É-me dado todo o poder no céu e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ide, fazei discípulos de todas as nações, batizando-os em nome do Pai, e do Filho, e do Espírito Sa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houvera um grande terremoto, porque um anjo do Senhor, descendo do céu, chegou, removendo a pedra da porta, e sentou-se sobre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sinando-os a guardar todas as coisas que eu vos tenho mandado; e eis que eu estou convosco todos os dias, até a consumação dos séculos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aspecto era como um relâmpago, e as suas vestes brancas como ne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guardas, com medo dele, ficaram muito assombrados, e como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anjo, respondendo, disse às mulheres: Não tenhais medo; pois eu sei que buscais a Jesus, que foi cruc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não está aqui, porque já ressuscitou, como havia dito. Vinde, vede o lugar onde o Senhor jaz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de pois, imediatamente, e dizei aos seus discípulos que já ressuscitou dentre os mortos. E eis que ele vai adiante de vós para a Galiléia; ali o vereis. Eis que eu vo-lo tenho d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elas pressurosamente do sepulcro, com temor e grande alegria, correram a anunciá-lo aos seus discíp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ndo elas a dar as novas aos seus discípulos, eis que Jesus lhes sai ao encontro, dizendo: Eu vos saúdo. E elas, chegando, abraçaram os seus pés, e o ador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6:20Z</dcterms:created>
  <dc:creator>Admin</dc:creator>
  <dc:description/>
  <dc:language>en-US</dc:language>
  <cp:lastModifiedBy>Admin</cp:lastModifiedBy>
  <dcterms:modified xsi:type="dcterms:W3CDTF">2008-07-31T00:16:20Z</dcterms:modified>
  <cp:revision>1</cp:revision>
  <dc:subject/>
  <dc:title>Slide 1</dc:title>
</cp:coreProperties>
</file>