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41CB-5311-4B15-9375-5B88EE30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A795-3B0C-4B73-9BF7-E7A85EF0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B203-CBBE-4B87-B1A0-2C71FB953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BC70-031D-4219-95B3-A4E61C5C5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A988-FF4B-4D48-AE2D-191F1377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2C9D-B4E1-4445-91F5-813654B9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292F-FF69-4FC2-93EC-E0FEFA3D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4BE2-A08D-4602-A7A9-2834A683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855B-C8A8-47D4-9982-5600D433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49B3-EDBC-492C-B45A-E02D0B2C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0AFE-7CB4-4232-9D6D-6634DC77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F1BF-2DB7-4229-877D-ED022BB3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A857-D791-45AE-BD00-1675E2036B4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ano dezessete de Peca, filho de Remalias, começou a reinar Acaz, filho de Jotão, rei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Acaz foi a Damasco, a encontrar-se com Tiglate-Pileser, rei da Assíria; e, vendo um altar que estava em Damasco, o rei Acaz enviou ao sacerdote Urias o desenho e o modelo do altar, conforme toda a sua feit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rias, o sacerdote, edificou um altar conforme tudo o que o rei Acaz lhe tinha enviado de Damasco; assim o fez o sacerdote Urias, antes que o rei Acaz viesse de Dama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ndo, pois, o rei de Damasco, viu o altar; e o rei se chegou ao altar, e sacrificou n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imou o seu holocausto, e a sua oferta de alimentos, e derramou a sua libação, e espargiu o sangue dos seus sacrifícios pacíficos sobre o a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altar de cobre, que estava perante o SENHOR, ele tirou de diante da casa, de entre o seu altar e a casa do SENHOR, e pô-lo ao lado do altar, do lado do n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Acaz ordenou a Urias, o sacerdote, dizendo: Queima no grande altar o holocausto da manhã, como também a oferta de alimentos da noite, o holocausto do rei e a sua oferta de alimentos, e o holocausto de todo o povo da terra, a sua oferta de ali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Urias, o sacerdote, conforme tudo quanto o rei Acaz lhe ordena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Acaz cortou as cintas das bases, e de cima delas tomou a pia, e tirou o mar de sobre os bois de cobre, que estavam debaixo dele, e pô-lo sobre um pavimento de ped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a coberta que, para o sábado, edificaram na casa, e a entrada real externa, retirou da casa do SENHOR, por causa do rei da Assí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o mais dos atos de Acaz e o que fez, porventura não está escrito no livro das crônicas dos reis de Judá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nha Acaz vinte anos de idade quando começou a reinar, e reinou dezesseis anos em Jerusalém, e não fez o que era reto aos olhos do SENHOR seu Deus, como Davi,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rmiu Acaz com seus pais, e foi sepultado junto a seus pais, na cidade de Davi; e Ezequias, seu filho,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ndou no caminho dos reis de Israel, e até a seu filho fez passar pelo fogo, segundo as abominações dos gentios que o SENHOR lançara fora de diante d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sacrificou, e queimou incenso nos altos e nos outeiros, como também debaixo de todo o arvore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ubiu Rezim, rei da Síria, com Peca, filho de Remalias, rei de Israel, a Jerusalém, para pelejar; e cercaram a Acaz, porém não o puderam venc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mesmo tempo Rezim, rei da Síria, restituiu Elate à Síria, e lançou fora de Elate os judeus; e os sírios vieram a Elate, e habitaram ali até ao dia de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az enviou mensageiros a Tiglate-Pileser, rei da Assíria, dizendo: Eu sou teu servo e teu filho; sobe, e livra-me das mãos do rei da Síria, e das mãos do rei de Israel, que se levantam contr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ou Acaz a prata e o ouro que se achou na casa do SENHOR, e nos tesouros da casa do rei, e mandou um presente ao rei da Assí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da Assíria lhe deu ouvidos; pois o rei da Assíria subiu contra Damasco, e tomou-a e levou cativo o povo para Quir, e matou a Rez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1:57Z</dcterms:created>
  <dc:creator>Admin</dc:creator>
  <dc:description/>
  <dc:language>en-US</dc:language>
  <cp:lastModifiedBy>Admin</cp:lastModifiedBy>
  <dcterms:modified xsi:type="dcterms:W3CDTF">2008-07-30T23:51:57Z</dcterms:modified>
  <cp:revision>1</cp:revision>
  <dc:subject/>
  <dc:title>Slide 1</dc:title>
</cp:coreProperties>
</file>