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F67-25F4-4B36-A728-4E5F2DD7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1A8-690F-4FCF-A754-F9EBB7F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CFB-EA6C-4C3C-AAB4-7214ABA6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B48-7228-48AF-AC03-6FF941EF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D2C-B28A-46F8-B3F3-619ECF50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EDE-F189-4926-B3E0-3D24D4F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4F6-5CF4-4B6E-8C2C-F209DAB2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A67-EE6A-4921-AD96-C77BB787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EF4-2B19-4866-BA10-80FE4EC9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AB8-E82D-4F14-B69F-47F6127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7D4-F9D1-4C71-B108-813B15C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415-14E0-4FEB-ABC7-8A197D1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9F5-ADF9-47C9-AF3B-903E71A1E0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Belsazar deu um grande banquete a mil dos seus senhores, e bebeu vinho na presença dos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ainha, por causa das palavras do rei e dos seus senhores, entrou na casa do banquete, e respondeu, dizendo: Ó rei, vive para sempre! Não te perturbem os teus pensamentos, nem se mude o teu sembl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no teu reino um homem, no qual há o espírito dos deuses santos; e nos dias de teu pai se achou nele luz, e inteligência, e sabedoria, como a sabedoria dos deuses; e teu pai, o rei Nabucodonosor, sim, teu pai, o rei, o constituiu mestre dos magos, 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se achou neste Daniel um espírito excelente, e conhecimento, e entendimento, interpretando sonhos e explicando enigmas, e resolvendo dúvidas, ao qual o rei pôs o nome de Beltessazar. Chame-se, pois, agora Daniel, e ele dará 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niel foi introduzido à presença do rei. Falou o rei, dizendo a Daniel: És tu aquele Daniel, um dos filhos dos cativos de Judá, que o rei, meu pai, trouxe de Jud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ouvido dizer a teu respeito que o espírito dos deuses está em ti, e que em ti se acham a luz, e o entendimento e a excelente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mesmo foram introduzidos à minha presença os sábios e os astrólogos, para lerem este escrito, e me fazerem saber a sua interpretação; mas não puderam dar a interpretação d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tenho ouvido dizer de ti que podes dar interpretação e resolver dúvidas. Agora, se puderes ler este escrito, e fazer-me saber a sua interpretação, serás vestido de púrpura, e terás cadeia de ouro ao pescoço e no reino serás o terceiro gover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Daniel, e disse na presença do rei: As tuas dádivas fiquem contigo, e dá os teus prêmios a outro; contudo lerei ao rei o escrito, e far-lhe-ei saber 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rei! Deus, o Altíssimo, deu a Nabucodonosor, teu pai, o reino, e a grandeza, e a glória, e a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causa da grandeza, que lhe deu, todos os povos, nações e línguas tremiam e temiam diante dele; a quem queria matava, e a quem queria conservava em vida; e a quem queria engrandecia, e a quem queria aba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 Belsazar provado o vinho, mandou trazer os vasos de ouro e de prata, que Nabucodonosor, seu pai, tinha tirado do templo que estava em Jerusalém, para que bebessem neles o rei, os seus príncipes, as suas mulheres e concub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do o seu coração se exaltou, e o seu espírito se endureceu em soberba, foi derrubado do seu trono real, e passou dele 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irado dentre os filhos dos homens, e o seu coração foi feito semelhante ao dos animais, e a sua morada foi com os jumentos monteses; fizeram-no comer a erva como os bois, e do orvalho do céu foi molhado o seu corpo, até que conheceu que Deus, o 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Belsazar, que és seu filho, não humilhaste o teu coração, ainda que soubeste tud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levantaste contra o Senhor do céu, pois foram trazidos à tua presença os vasos da casa dele, e tu, os teus senhores, as tuas mulheres e as tuas concubinas, bebestes vinho neles; além disso, deste louvores aos deuses de prata, de ouro, de bronze,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le foi enviada aquela parte da mão, que escreveu este esc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, pois, é o escrito que se escreveu: MENE, MENE, TEQUEL, UFAR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interpretação daquilo: MENE: Contou Deus o teu reino, e o acab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QUEL: Pesado foste na balança, e foste achado em f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ES: Dividido foi o teu reino, e dado aos medos e aos per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Belsazar que vestissem a Daniel de púrpura, e que lhe pusessem uma cadeia de ouro ao pescoço, e proclamassem a respeito dele que havia de ser o terceiro no governo do s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ouxeram os vasos de ouro, que foram tirados do templo da casa de Deus, que estava em Jerusalém, e beberam neles o rei, os seus príncipes, as suas mulheres e concub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a noite foi morto Belsazar, rei d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io, o medo, ocupou o reino, sendo da idade de sessenta e dois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beram o vinho, e deram louvores aos deuses de ouro, de prata, de bronze, de ferro, de madeira, e de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mesma hora apareceram uns dedos de mão de homem, e escreviam, defronte do castiçal, na caiadura da parede do palácio real; e o rei via a parte da mão que estava escrev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dou-se então o semblante do rei, e os seus pensamentos o turbaram; as juntas dos seus lombos se relaxaram, e os seus joelhos batiam um n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ritou o rei com força, que se introduzissem os astrólogos, os caldeus e os adivinhadores; e falou o rei, dizendo aos sábios de Babilônia: Qualquer que ler este escrito, e me declarar a sua interpretação, será vestido de púrpura, e trará uma cadeia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aram todos os sábios do rei; mas não puderam ler o escrito, nem fazer saber ao rei a su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Belsazar perturbou-se muito, e mudou-se-lhe o semblante; e os seus senhores estavam sobressal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31Z</dcterms:created>
  <dc:creator>Admin</dc:creator>
  <dc:description/>
  <dc:language>en-US</dc:language>
  <cp:lastModifiedBy>Admin</cp:lastModifiedBy>
  <dcterms:modified xsi:type="dcterms:W3CDTF">2008-07-30T23:26:31Z</dcterms:modified>
  <cp:revision>1</cp:revision>
  <dc:subject/>
  <dc:title>Slide 1</dc:title>
</cp:coreProperties>
</file>