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2F7-99F3-4595-B073-DEE95B1D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885-313D-483F-BCD2-9EA18FDF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B01-661B-4E7A-8984-C8097D7B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01B-8FC0-4A84-9F64-8D0CDBEB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902-93DF-44B4-BA20-5D85F2C7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BAA-833C-40D9-8F6B-9D48C9F8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63B-B788-4F65-9920-C114CFB5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129-529B-47F6-BDC3-224778E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784-7012-41D4-A5E5-F3AE819C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0C8-A8AD-421B-9E08-EA0C8F24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5E1-28B0-407D-8E1B-0CF48F24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59A-1AD7-4BA5-97F0-9DD441A7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595F-8031-4B10-A17E-C08C4BEAAC8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, porém, J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sabe o meu caminho; provando-me ele, sairei como o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suas pisadas os meus pés se afirmaram; guardei o seu caminho, e não me desviei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preceito de seus lábios nunca me apartei, e as palavras da sua boca guardei mais do que a minha por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ele resolveu alguma coisa, quem então o desviará? O que a sua alma quiser, isso 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umprirá o que está ordenado a meu respeito, e muitas coisas como estas ainda tem cons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me perturbo perante ele, e quando isto considero, temo-m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macerou o meu coração, e o Todo-Poderoso me perturb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fui desarraigado por causa das trevas, e nem encobriu o meu rosto com a escur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hoje a minha queixa está em amargura; a minha mão pesa sobre meu gem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, se eu soubesse onde o poderia achar! Então me chegaria ao seu tribu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poria ante ele a minha causa, e a minha boca encheria de argu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ria as palavras com que ele me responderia, e entenderia o que me diss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segundo a grandeza de seu poder contenderia comigo? Não: ele antes me atende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o reto pleitearia com ele, e eu me livraria para sempre do meu Ju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se me adianto, ali não está; se torno para trás, não o perce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pera à esquerda, não o vejo; se se encobre à direita, não o divi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31Z</dcterms:created>
  <dc:creator>Admin</dc:creator>
  <dc:description/>
  <dc:language>en-US</dc:language>
  <cp:lastModifiedBy>Admin</cp:lastModifiedBy>
  <dcterms:modified xsi:type="dcterms:W3CDTF">2008-07-31T00:01:31Z</dcterms:modified>
  <cp:revision>1</cp:revision>
  <dc:subject/>
  <dc:title>Slide 1</dc:title>
</cp:coreProperties>
</file>