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EFF-148E-47CF-953D-CBC2A9D5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676-611E-4FDC-A0FA-62E9943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91A-A9DB-4409-A7C7-B1258642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93D-0171-4354-88E2-06C315D4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4F6-45F7-4972-B9F1-BC0175DE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D44-9340-4E86-BAB4-52BF228D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082-33BF-4237-9469-CC0751D6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3EA-6807-44E4-80F8-C3068EDA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584-7A90-4D0C-8168-F39B04B5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D0E-C881-4264-85BB-D6DAD190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A3E-1294-461D-A454-1D77C2D0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C37-35B8-41FD-9FB9-B94CD70A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AB53-29CC-49C2-900E-A119BF3A20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I ao SENHOR chuva no tempo da chuva serôdia, sim, ao SENHOR que faz relâmpagos; e lhes dará chuvas abundantes, e a cada um erva no ca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os farei voltar da terra do Egito, e os congregarei da Assíria; e trá-los-ei à terra de Gileade e do Líbano, e não se achará lugar bastante para 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passará pelo mar da angústia, e ferirá as ondas no mar, e todas as profundezas do Nilo se secarão; então será derrubada a soberba da Assíria, e o cetro do Egito se retir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os fortalecerei no SENHOR, e andarão no seu nome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ídolos têm falado vaidade, e os adivinhos têm visto mentira, e contam sonhos falsos; com vaidade consolam, por isso seguem o seu caminho como ovelhas; estão aflitos, porque não há past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ra os pastores se acendeu a minha ira, e castigarei os bodes; mas o SENHOR dos Exércitos visitará o seu rebanho, a casa de Judá, e os fará como o seu majestoso cavalo na pel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e sairá a pedra de esquina, dele a estaca, dele o arco de guerra, dele juntamente sairá todo o opress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ão como poderosos que na batalha esmagam ao inimigo no lodo das ruas; porque o SENHOR estará com eles; e confundirão os que andam montados em cava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talecerei a casa de Judá, e salvarei a casa de José, e fá-los-ei voltar, porque me compadeci deles; e serão como se eu não os tivera rejeitado, porque eu sou o SENHOR seu Deus, e os ouv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de Efraim serão como um poderoso, e o seu coração se alegrará como pelo vinho; e seus filhos o verão, e se alegrarão; o seu coração se regozijará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lhes assobiarei, e os ajuntarei, porque eu os tenho remido; e multiplicar-se-ão como antes se tinham multipl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0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os espalhei por entre os povos, eles se lembrarão de mim em lugares remotos; e viverão com seus filhos, e volt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36Z</dcterms:created>
  <dc:creator>Admin</dc:creator>
  <dc:description/>
  <dc:language>en-US</dc:language>
  <cp:lastModifiedBy>Admin</cp:lastModifiedBy>
  <dcterms:modified xsi:type="dcterms:W3CDTF">2008-07-31T00:29:36Z</dcterms:modified>
  <cp:revision>1</cp:revision>
  <dc:subject/>
  <dc:title>Slide 1</dc:title>
</cp:coreProperties>
</file>