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BC1-B235-4432-90AD-B5DEF59B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AC4-ED53-4D45-A087-941919C2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C0B-A169-45F6-8D13-C4497CA6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9AF-C1AC-4772-8DEB-400F4DFC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810-8633-481C-81AE-E93F66AA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193A-D6A3-485B-A610-D0E9554F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12B-4DAB-41AD-808B-AB4507EC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976-A766-4DB1-9B71-EF0B614B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D89-5DD9-46F2-AFDB-99BCAF18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8C7-8669-4C93-8971-73301690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C08-9A84-4388-857C-3CC7F376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16C-EA57-4972-AB26-3AF593BF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F110-3DFC-4BE3-8063-1A248882826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S profundezas a ti clamo, ó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escuta a minha voz; sejam os teus ouvidos atentos à voz das minhas súpli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u, SENHOR, observares as iniqüidades, Senhor, quem subsisti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ontigo está o perdão, para que sejas tem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uardo ao SENHOR; a minha alma o aguarda, e espero na s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anseia pelo Senhor, mais do que os guardas pela manhã, mais do que aqueles que guardam pela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ere Israel no SENHOR, porque no SENHOR há misericórdia, e nele há abundante reden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remirá a Israel de todas as suas iniqü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24Z</dcterms:created>
  <dc:creator>Admin</dc:creator>
  <dc:description/>
  <dc:language>en-US</dc:language>
  <cp:lastModifiedBy>Admin</cp:lastModifiedBy>
  <dcterms:modified xsi:type="dcterms:W3CDTF">2008-07-31T00:28:24Z</dcterms:modified>
  <cp:revision>1</cp:revision>
  <dc:subject/>
  <dc:title>Slide 1</dc:title>
</cp:coreProperties>
</file>