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53F-3D99-4F02-9A2D-CE238925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0C47-5601-4C8F-A3F3-D4A24DC2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B492-F904-4B0A-9880-8D1E68CB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324-79B2-4308-A06C-677CCBDF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C01-DACC-4E3F-9D7E-1D8B2DC0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720-1C6C-46FD-9C12-35BA4B71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C5C1-C453-4DBE-9433-822FA924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4A18-D506-4B93-A561-E734F23E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7D5-5CBD-467A-9B80-E3FB15F4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E36-EF60-44E2-9E0E-D0F58CA6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EE6-FFAF-4550-B59B-D5C8847F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2D16-405A-416A-B36D-A02326A9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B607-6D72-42F6-853F-0D7893DCF16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Jesus dito isto, saiu com os seus discípulos para além do ribeiro de Cedrom, onde havia um horto, no qual ele entrou e seus discíp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imão Pedro, que tinha espada, desembainhou-a, e feriu o servo do sumo sacerdote, cortando-lhe a orelha direita. E o nome do servo era Mal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esus disse a Pedro: Põe a tua espada na bainha; não beberei eu o cálice que o Pai me de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coorte, e o tribuno, e os servos dos judeus prenderam a Jesus e o maniat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duziram-no primeiramente a Anás, por ser sogro de Caifás, que era o sumo sacerdote daquele 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Caifás era quem tinha aconselhado aos judeus que convinha que um homem morresse pel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imão Pedro e outro discípulo seguiam a Jesus. E este discípulo era conhecido do sumo sacerdote, e entrou com Jesus na sala do sumo sacerd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dro estava da parte de fora, à porta. Saiu então o outro discípulo que era conhecido do sumo sacerdote, e falou à porteira, levando Pedro para den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porteira disse a Pedro: Não és tu também dos discípulos deste homem? Disse ele: Não s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estavam ali os servos e os servidores, que tinham feito brasas, e se aquentavam, porque fazia frio; e com eles estava Pedro, aquentando-se tamb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umo sacerdote interrogou Jesus acerca dos seus discípulos e da sua doutr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das, que o traía, também conhecia aquele lugar, porque Jesus muitas vezes se ajuntava ali com os seus discíp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lhe respondeu: Eu falei abertamente ao mundo; eu sempre ensinei na sinagoga e no templo, onde os judeus sempre se ajuntam, e nada disse em ocul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me perguntas a mim? Pergunta aos que ouviram o que é que lhes ensinei; eis que eles sabem o que eu lhes tenho d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dito isto, um dos servidores que ali estavam, deu uma bofetada em Jesus, dizendo: Assim respondes ao sumo sacerdo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-lhe Jesus: Se falei mal, dá testemunho do mal; e, se bem, por que me fe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ás mandou-o, maniatado, ao sumo sacerdote Caif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imão Pedro estava ali, e aquentava-se. Disseram-lhe, pois: Não és também tu um dos seus discípulos? Ele negou, e disse: Não s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dos servos do sumo sacerdote, parente daquele a quem Pedro cortara a orelha, disse: Não te vi eu no horto com e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dro negou outra vez, e logo o galo can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levaram Jesus da casa de Caifás para a audiência. E era pela manhã cedo. E não entraram na audiência, para não se contaminarem, mas poderem comer a pásc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ilatos saiu fora e disse-lhes: Que acusação trazeis contra este hom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, pois, Judas recebido a coorte e oficiais dos principais sacerdotes e fariseus, veio para ali com lanternas, e archotes e ar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ram, e disseram-lhe: Se este não fosse malfeitor, não to entregarí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, pois, Pilatos: Levai-o vós, e julgai-o segundo a vossa lei. Disseram-lhe então os judeus: A nós não nos é lícito matar pessoa alg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Para que se cumprisse a palavra que Jesus tinha dito, significando de que morte havia de morrer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ou, pois, a entrar Pilatos na audiência, e chamou a Jesus, e disse-lhe: Tu és o Rei dos Ju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-lhe Jesus: Tu dizes isso de ti mesmo, ou disseram-to outros de mi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ilatos respondeu: Porventura sou eu judeu? A tua nação e os principais dos sacerdotes entregaram-te a mim. Que fizes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 Jesus: O meu reino não é deste mundo; se o meu reino fosse deste mundo, pelejariam os meus servos, para que eu não fosse entregue aos judeus; mas agora o meu reino não é d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, pois, Pilatos: Logo tu és rei? Jesus respondeu: Tu dizes que eu sou rei. Eu para isso nasci, e para isso vim ao mundo, a fim de dar testemunho da verdade. Todo aquele que é da verdade ouve a minha vo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Pilatos: Que é a verdade? E, dizendo isto, tornou a ir ter com os judeus, e disse-lhes: Não acho nele crime alg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ós tendes por costume que eu vos solte alguém pela páscoa. Quereis, pois, que vos solte o Rei dos Ju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ndo, pois, Jesus todas as coisas que sobre ele haviam de vir, adiantou-se, e disse-lhes: A quem busc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s tornaram a clamar, dizendo: Este não, mas Barrabás. E Barrabás era um salte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ram-lhe: A Jesus Nazareno. Disse-lhes Jesus: Sou eu. E Judas, que o traía, estava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, pois, lhes disse: Sou eu, recuaram, e caíram por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ou-lhes, pois, a perguntar: A quem buscais? E eles disseram: A Jesus Nazare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respondeu: Já vos disse que sou eu; se, pois, me buscais a mim, deixai ir es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se cumprisse a palavra que tinha dito: Dos que me deste nenhum deles perd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4:17Z</dcterms:created>
  <dc:creator>Admin</dc:creator>
  <dc:description/>
  <dc:language>en-US</dc:language>
  <cp:lastModifiedBy>Admin</cp:lastModifiedBy>
  <dcterms:modified xsi:type="dcterms:W3CDTF">2008-07-31T00:04:17Z</dcterms:modified>
  <cp:revision>1</cp:revision>
  <dc:subject/>
  <dc:title>Slide 1</dc:title>
</cp:coreProperties>
</file>