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7C60-00AA-4BD5-9983-FE3809C16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D661-ADA1-4424-9797-7DF06A6A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9BD6-D7AE-4E69-B751-870B74AE7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252C-37E7-4D90-B0FD-69D266AAE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1947-723B-42FF-B9FE-7E00943F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C458-B08D-49D7-8E99-6C11DD1A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6CE1-A3C4-4C03-B949-616AAFCD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3A81-37A2-499A-816A-9795EC8D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2BC0-539B-423F-B8A4-D4DBCB3D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9522-51BD-4C14-A1B9-CC7073A0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5C44-E566-4F48-B7A3-03E3AFF4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0F29-AF15-4941-98C8-F4B7EF33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A9FE-0AD4-41E0-B813-1D2670898D4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eio José e anunciou a Faraó, e disse: Meu pai e os meus irmãos e as suas ovelhas, e as suas vacas, com tudo o que têm, são vindos da terra de Canaã, e eis que estão na terra de Góse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acó abençoou a Faraó, e saiu da sua prese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sé fez habitar a seu pai e seus irmãos e deu-lhes possessão na terra do Egito, no melhor da terra, na terra de Ramessés, como Faraó ordena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sé sustentou de pão a seu pai, seus irmãos e toda a casa de seu pai, segundo as suas famíl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havia pão em toda a terra, porque a fome era muito grave; de modo que a terra do Egito e a terra de Canaã desfaleciam por causa da f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osé recolheu todo o dinheiro que se achou na terra do Egito, e na terra de Canaã, pelo trigo que compravam; e José trouxe o dinheiro à casa de Fara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abando-se, pois, o dinheiro da terra do Egito, e da terra de Canaã, vieram todos os egípcios a José, dizendo: Dá-nos pão; por que morreremos em tua presença? porquanto o dinheiro nos fal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sé disse: Dai o vosso gado, e eu vo-lo darei por vosso gado, se falta o dinh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rouxeram o seu gado a José; e José deu-lhes pão em troca de cavalos, e das ovelhas, e das vacas e dos jumentos; e os sustentou de pão aquele ano por todo o seu g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abado aquele ano, vieram a ele no segundo ano e disseram-lhe: Não ocultaremos ao meu senhor que o dinheiro acabou; e meu senhor possui os animais, e nenhuma outra coisa nos ficou diante de meu senhor, senão o nosso corpo e a nossa ter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morreremos diante dos teus olhos, tanto nós como a nossa terra? Compra-nos a nós e a nossa terra por pão, e nós e a nossa terra seremos servos de Faraó; e dá-nos semente, para que vivamos, e não morramos, e a terra não se deso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ou uma parte de seus irmãos, a saber, cinco homens, e os pôs diante de Fara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José comprou toda a terra do Egito para Faraó, porque os egípcios venderam cada um o seu campo, porquanto a fome prevaleceu sobre eles; e a terra ficou sendo de Fara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to ao povo, fê-lo passar às cidades, desde uma extremidade da terra do Egito até a outra extrem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mente a terra dos sacerdotes não a comprou, porquanto os sacerdotes tinham porção de Faraó, e eles comiam a sua porção que Faraó lhes tinha dado; por isso não venderam a su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José ao povo: Eis que hoje tenho comprado a vós e a vossa terra para Faraó; eis aí tendes semente para vós, para que semeeis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á de ser, porém, que das colheitas dareis o quinto a Faraó, e as quatro partes serão vossas, para semente do campo, e para o vosso mantimento, e dos que estão nas vossas casas, e para que comam vossos fi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7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m: A vida nos tens dado; achemos graça aos olhos de meu senhor, e seremos servos de Fara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7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osé, pois, estabeleceu isto por estatuto, até ao dia de hoje, sobre a terra do Egito, que Faraó tirasse o quinto; só a terra dos sacerdotes não ficou sendo de Fara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7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habitou Israel na terra do Egito, na terra de Gósen, e nela tomaram possessão, e frutificaram, e multiplicaram-se mu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7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acó viveu na terra do Egito dezessete anos, de sorte que os dias de Jacó, os anos da sua vida, foram cento e quarenta e sete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7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egando-se, pois, o tempo da morte de Israel, chamou a José, seu filho, e disse-lhe: Se agora tenho achado graça em teus olhos, rogo-te que ponhas a tua mão debaixo da minha coxa, e usa comigo de beneficência e verdade; rogo-te que não me enterres no E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Faraó a seus irmãos: Qual é o vosso negócio? E eles disseram a Faraó: Teus servos são pastores de ovelhas, tanto nós como nosso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7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que eu jaza com os meus pais; por isso me levarás do Egito e me enterrarás na sepultura deles. E ele disse: Farei conforme a tua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7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, lhe disse Jacó: Jura-me. E ele jurou-lhe; e Israel se inclinou sobre a cabeceira da ca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ram mais a Faraó: Viemos para peregrinar nesta terra; porque não há pasto para as ovelhas de teus servos, porquanto a fome é grave na terra de Canaã; agora, pois, rogamos-te que teus servos habitem na terra de Góse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alou Faraó a José, dizendo: Teu pai e teus irmãos vieram a t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erra do Egito está diante de ti; no melhor da terra faze habitar teu pai e teus irmãos; habitem na terra de Gósen, e se sabes que entre eles há homens valentes, os porás por maiorais do gado, sobre o que eu te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rouxe José a Jacó, seu pai, e o apresentou a Faraó; e Jacó abençoou a Fara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aó disse a Jacó: Quantos são os dias dos anos da tua vid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acó disse a Faraó: Os dias dos anos das minhas peregrinações são cento e trinta anos, poucos e maus foram os dias dos anos da minha vida, e não chegaram aos dias dos anos da vida de meus pais nos dias das suas peregrin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0:12Z</dcterms:created>
  <dc:creator>Admin</dc:creator>
  <dc:description/>
  <dc:language>en-US</dc:language>
  <cp:lastModifiedBy>Admin</cp:lastModifiedBy>
  <dcterms:modified xsi:type="dcterms:W3CDTF">2008-07-30T23:40:12Z</dcterms:modified>
  <cp:revision>1</cp:revision>
  <dc:subject/>
  <dc:title>Slide 1</dc:title>
</cp:coreProperties>
</file>