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79C-E4CF-4541-9D04-7F625DCE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FB4-F759-48F4-99F3-B065D8C2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F48-3ADA-40A5-B15B-BA2F624F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1DA-194A-4A62-B8FD-0D1F4E72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5B8-6B40-40A6-8833-B1A2BE13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2BF-C481-4F50-A93B-618FA7C4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ECC-ECED-4FA7-B743-EBBD273C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BF4-FF72-498D-887F-5567FE5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3F2-1E6A-4B80-AE69-8393760E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3A1-5055-4013-9AED-A19958F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A20-B8D6-4ACF-81C2-DDB086E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2E3-93AA-4407-B066-3A3644E9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D1FE-826C-49EB-B32C-C45E48E7D9D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JOVEM Samuel servia ao SENHOR perante Eli; e a palavra do SENHOR era de muita valia naqueles dias; não havia visão mani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o SENHOR, e pôs-se ali, e chamou como das outras vezes: Samuel, Samuel. E disse Samuel: Fala, porque o teu servo 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Samuel: Eis que vou fazer uma coisa em Israel, a qual todo o que ouvir lhe tinirão ambos 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dia suscitarei contra Eli tudo quanto tenho falado contra a sua casa, começarei e acab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já lhe fiz saber que julgarei a sua casa para sempre, pela iniqüidade que ele bem conhecia, porque, fazendo-se os seus filhos execráveis, não os repree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jurei à casa de Eli que nunca jamais será expiada a sua iniqüidade, nem com sacrifício, nem com oferta de ali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muel ficou deitado até pela manhã, e então abriu as portas da casa do SENHOR; porém temia Samuel relatar esta visão a E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Eli a Samuel, e disse: Samuel, meu filho. E disse el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Qual é a palavra que te falou? Peço-te que não ma encubras; assim Deus te faça, e outro tanto, se me encobrires alguma palavra de todas as que te fa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muel lhe contou todas aquelas palavras, e nada lhe encobriu. E disse ele: Ele é o SENHOR; faça o que bem parecer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scia Samuel, e o SENHOR era com ele, e nenhuma de todas as suas palavras deixou cair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naquele dia, que, estando Eli deitado no seu lugar (e os seus olhos começavam a escurecer, pois não podia ver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Israel, desde Dã até Berseba, conheceu que Samuel estava confirmado por profet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inuou o SENHOR a aparecer em Siló; porquanto o SENHOR se manifestava a Samuel em Siló pel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ndo também Samuel já deitado, antes que a lâmpada de Deus se apagasse no templo do SENHOR, onde estava a arca de Deu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chamou a Samuel, e disse el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reu a Eli, e disse: Eis-me aqui, porque tu me chamaste. Mas ele disse: Não te chamei eu, torna a deitar-te. E foi e se de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ornou a chamar outra vez a Samuel, e Samuel se levantou, e foi a Eli, e disse: Eis-me aqui, porque tu me chamaste. Mas ele disse: Não te chamei eu, filho meu, torna a deit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muel ainda não conhecia ao SENHOR, e ainda não lhe tinha sido manifestada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is, tornou a chamar a Samuel terceira vez, e ele se levantou, e foi a Eli, e disse: Eis-me aqui, porque tu me chamaste. Então entendeu Eli que o SENHOR chamava o jo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li disse a Samuel: Vai deitar-te e há de ser que, se te chamar, dirás: Fala, SENHOR, porque o teu servo ouve. Então Samuel foi e se deitou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27Z</dcterms:created>
  <dc:creator>Admin</dc:creator>
  <dc:description/>
  <dc:language>en-US</dc:language>
  <cp:lastModifiedBy>Admin</cp:lastModifiedBy>
  <dcterms:modified xsi:type="dcterms:W3CDTF">2008-07-30T23:46:27Z</dcterms:modified>
  <cp:revision>1</cp:revision>
  <dc:subject/>
  <dc:title>Slide 1</dc:title>
</cp:coreProperties>
</file>