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2C8A-6294-4FC9-8F06-DFEAD9DC8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D121-8CF3-42A6-9E3C-8FBBC77D5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EF6E-AAC2-4E13-AF77-663607948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902F-1B7E-4411-8B5C-36037D805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1970-5E79-4BB6-A48D-61E61C36C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4739-19C9-48E3-9C9B-3EB912D46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C4B3-A95E-4B5D-BC02-422793BDC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91E0-CBFF-47D5-A073-AFDC6AD9A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3EF6-4F1C-43DB-8427-3722EFEBC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70A1-C9CB-4EAD-8FB6-EDBFA553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EC08-5D37-48AC-857C-8AFAB878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65D1-53A5-4701-A8ED-A259365D2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705DC-6C66-424C-AAFE-4BBF9241CE5F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8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NHOR Deus da minha salvação, diante de ti tenho clamado de dia e de noi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8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ostrarás, tu, maravilhas aos mortos, ou os mortos se levantarão e te louvarão? (Selá.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8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rá anunciada a tua benignidade na sepultura, ou a tua fidelidade na perdiçã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8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ber-se-ão as tuas maravilhas nas trevas, e a tua justiça na terra do esqueciment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8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, porém, SENHOR, tenho clamado a ti, e de madrugada te esperará a minha o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8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NHOR, porque rejeitas a minha alma? Por que escondes de mim a tua fac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8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ou aflito, e prestes tenho estado a morrer desde a minha mocidade; enquanto sofro os teus terrores, estou perturb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8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tua ardente indignação sobre mim vai passando; os teus terrores me têm retalh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8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s me rodeiam todo o dia como água; eles juntos me siti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8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sviaste para longe de mim amigos e companheiros, e os meus conhecidos estão em trev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8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hegue a minha oração perante a tua face, inclina os teus ouvidos ao meu clamo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8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 minha alma está cheia de angústia, e a minha vida se aproxima da sepultu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8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ou contado com aqueles que descem ao abismo; estou como homem sem força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8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ivre entre os mortos, como os feridos de morte que jazem na sepultura, dos quais te não lembras mais, e estão cortados da tua 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8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useste-me no abismo mais profundo, em trevas e nas profundez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8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obre mim pesa o teu furor; tu me afligiste com todas as tuas ondas. (Selá.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8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longaste de mim os meus conhecidos, puseste-me em extrema abominação para com eles. Estou fechado, e não posso sai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8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minha vista desmaia por causa da aflição. SENHOR, tenho clamado a ti todo o dia, tenho estendido para ti as minhas mã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6:48Z</dcterms:created>
  <dc:creator>Admin</dc:creator>
  <dc:description/>
  <dc:language>en-US</dc:language>
  <cp:lastModifiedBy>Admin</cp:lastModifiedBy>
  <dcterms:modified xsi:type="dcterms:W3CDTF">2008-07-31T00:26:48Z</dcterms:modified>
  <cp:revision>1</cp:revision>
  <dc:subject/>
  <dc:title>Slide 1</dc:title>
</cp:coreProperties>
</file>