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256-469F-4AC0-A14A-19F05453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E1E-FD49-4332-9946-4DE84694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E81-13DC-49CB-974C-B892A20A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31E-8B55-42F7-8661-13B11C1A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729-2D3C-417A-9E3E-912E1447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9E4-9670-422B-94F5-DF72F8DC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34D-81C0-4D22-8B02-A975B3E1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CCD-BA31-4E34-B6BB-4A641C4A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A76-2214-43A2-8BB1-FB7E0D17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ACF-8EFF-4802-A9B6-D0BC8EA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5C2-0E75-4985-B01E-04C77819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E60-8E64-4026-8666-8F1F11CC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3127-CD32-4574-AF1A-ED51D78291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L reinou um ano; e no segundo ano do seu reinado sobr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ele de oferecer o holocausto, eis que Samuel chegou; e Saul lhe saiu ao encontro, para o sau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muel: Que fizeste? Disse Saul: Porquanto via que o povo se espalhava de mim, e tu não vinhas nos dias aprazados, e os filisteus já se tinham ajuntado em Micmá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sse: Agora descerão os filisteus sobre mim a Gilgal, e ainda à face do SENHOR não orei; e constrangi-me, e ofereci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muel a Saul: Procedeste nesciamente, e não guardaste o mandamento que o SENHOR teu Deus te ordenou; porque agora o SENHOR teria confirmado o teu reino sobre Israel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gora não subsistirá o teu reino; já tem buscado o SENHOR para si um homem segundo o seu coração, e já lhe tem ordenado o SENHOR, que seja capitão sobre o seu povo, porquanto não guardaste o que o SENHOR te orde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Samuel, e subiu de Gilgal a Gibeá de Benjamim; e Saul contou o povo que se achava com ele, uns seiscent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e Jônatas, seu filho, e o povo que se achou com eles, ficaram em Gibeá de Benjamim; porém os filisteus se acamparam em Micm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aqueadores saíram do campo dos filisteus em três companhias; uma das companhias foi pelo caminho de Ofra à terra de Su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a companhia seguiu pelo caminho de Bete-Horom, e a outra companhia foi pelo caminho do termo que dá para o vale Zeboim na direção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 a terra de Israel nem um ferreiro se achava, porque os filisteus tinham dito: Para que os hebreus não façam espada nem l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l escolheu para si três mil homens de Israel; e estavam com Saul dois mil em Micmás e na montanha de Betel, e mil estavam com Jônatas em Gibeá de Benjamim; e o resto do povo despediu, cada um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odo o Israel tinha que descer aos filisteus para amolar cada um a sua relha, e a sua enxada, e o seu machado, e o seu sac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m porém limas para os seus sachos, e para as suas enxadas, e para as forquilhas de três dentes, e para os machados, e para consertar as aguilh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dia da peleja, não se achou nem espada nem lança na mão de todo o povo que estava com Saul e com Jônatas; porém acharam-se com Saul e com Jônatas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 guarnição dos filisteus ao desfiladeiro de Micm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ônatas feriu a guarnição dos filisteus, que estava em Gibeá, o que os filisteus ouviram; pelo que Saul tocou a trombeta por toda a terra, dizendo: Ouçam os hebr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Israel ouviu dizer: Saul feriu a guarnição dos filisteus, e também Israel se fez abominável aos filisteus. Então o povo foi convocado para junto de Saul em Gilg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se ajuntaram para pelejar contra Israel, trinta mil carros, e seis mil cavaleiros, e povo em multidão como a areia que está à beira do mar; e subiram, e se acamparam em Micmás, ao oriente de Bete-Áv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homens de Israel que estavam em apuros (porque o povo estava angustiado), o povo se escondeu pelas cavernas, e pelos espinhais, e pelos penhascos, e pelas fortificações, e pelas c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hebreus passaram o Jordão para a terra de Gade e Gileade; e, estando Saul ainda em Gilgal, todo o povo ia atrás dele trem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erou Saul sete dias, até ao tempo que Samuel determinara; não vindo, porém, Samuel a Gilgal, o povo se dispersava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: Trazei-me aqui um holocausto, e ofertas pacíficas. E ofereceu o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54Z</dcterms:created>
  <dc:creator>Admin</dc:creator>
  <dc:description/>
  <dc:language>en-US</dc:language>
  <cp:lastModifiedBy>Admin</cp:lastModifiedBy>
  <dcterms:modified xsi:type="dcterms:W3CDTF">2008-07-30T23:46:54Z</dcterms:modified>
  <cp:revision>1</cp:revision>
  <dc:subject/>
  <dc:title>Slide 1</dc:title>
</cp:coreProperties>
</file>