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CD91-0889-480C-90B1-94A23AAC3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4EE8-8018-4963-83A1-3AA88F8C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25E6-E1C4-450A-A9D0-57A037A86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DEA9-24BD-4726-A706-1CEAA8702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08F7-B54C-4525-9BF3-ED1B9B5B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D779-12D5-440C-8B5F-F25A5324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D8AE-19E5-485B-A1C9-071318CE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0886-088C-4337-812F-30A62DD5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2512-724C-4E2D-B58D-C2527A6D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BA12-40ED-4A6C-8A24-05A38167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D311-0491-4092-9452-7154C89B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83B4-1549-4137-88FE-017154E1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6678-EA7F-4A82-88C0-FC92F3B3A57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SO de Tiro. Uivai, navios de Társis, porque está assolada, a ponto de não haver nela casa nenhuma, e de ninguém mais entrar nela; desde a terra de Quitim lhes foi isto revel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ssa como o Nilo pela tua terra, ó filha de Társis; já não há quem te restrinj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estendeu a sua mão sobre o mar, e turbou os reinos; o SENHOR deu ordens contra Canaã, para que se destruíssem as suas fortalez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Nunca mais exultarás de alegria, ó oprimida virgem, filha de Sidom; levanta-te, passa a Quitim, e ainda ali não terás descan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de a terra dos caldeus, ainda este povo não era povo; a Assíria a fundou para os que moravam no deserto; levantaram as suas fortalezas, e edificaram os seus palácios; porém converteu-a em ruí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ivai, navios de Társis, porque está destruída a vossa fortale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dia Tiro será posta em esquecimento por setenta anos, conforme os dias de um rei; porém no fim de setenta anos Tiro cantará como uma prostitu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 a harpa, rodeia a cidade, ó prostituta entregue ao esquecimento; faça doces melodias, canta muitas canções, para que haja memória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erá no fim de setenta anos que o SENHOR visitará a Tiro, e ela tornará à sua ganância de prostituta, e prostituir-se-á com todos os reinos que há sobre a face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u comércio e a sua ganância de prostituta serão consagrados ao SENHOR; não se entesourará, nem se fechará; mas o seu comércio será para os que habitam perante o SENHOR, para que comam até se saciarem, e tenham vestimenta duráv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lai-vos, moradores da ilha, vós a quem encheram os mercadores de Sidom, navegando pelo 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sua provisão era a semente de Sior, que vinha com as muitas águas, a ceifa do Nilo, e ela era a feira das n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vergonha-te, ó Sidom, porque o mar, a fortaleza do mar, fala, dizendo: Eu não tive dores de parto, nem dei à luz, nem ainda criei jovens, nem eduquei virg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quando se ouviram as novas do Egito, assim haverá dores quando se ouvirem as de T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ssai a Társis; clamai, moradores da il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É esta, porventura, a vossa cidade exultante, cuja origem é dos dias antigos, cujos pés a levaram para longe a peregrina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formou este desígnio contra Tiro, distribuidora de coroas, cujos mercadores são príncipes e cujos negociantes são os mais nobres da ter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dos Exércitos formou este desígnio para denegrir a soberba de toda a glória, e envilecer os mais nobre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5:20Z</dcterms:created>
  <dc:creator>Admin</dc:creator>
  <dc:description/>
  <dc:language>en-US</dc:language>
  <cp:lastModifiedBy>Admin</cp:lastModifiedBy>
  <dcterms:modified xsi:type="dcterms:W3CDTF">2008-07-30T23:55:20Z</dcterms:modified>
  <cp:revision>1</cp:revision>
  <dc:subject/>
  <dc:title>Slide 1</dc:title>
</cp:coreProperties>
</file>