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E72-A400-4D32-8BA9-37AD3B5B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D92-1AAD-4CB0-AA67-CAA9E035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0C2-C0FF-4F63-925F-C823B72B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E92-F7C0-42DB-94F3-F9BE2D11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385-B3BC-4DCE-B85C-B54B3215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D29-4728-4938-834C-314DB1BB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DEC-FF21-47DE-BFA5-56F47A07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605-2B6C-4C64-B8F1-FDD54A5A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8AF-EA0D-467D-9779-6F99E7E4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509-430E-4142-8690-F3E1EBF0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3EE-E012-4527-BDF7-C674CF5E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4E4-ED1F-4ABC-B983-0E8C80B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AF4B-D840-4078-BB2F-924A4BBEB84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stas coisas veio a palavra do SENHOR a Abrão em visão, dizendo: Não temas, Abrão, eu sou o teu escudo, o teu grandíssimo gala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ouxe-lhe todos estes, e partiu-os pelo meio, e pôs cada parte deles em frente da outra; mas as aves não part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aves desciam sobre os cadáveres; Abrão, porém, as enxota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ndo-se o sol, um profundo sono caiu sobre Abrão; e eis que grande espanto e grande escuridão caiu sobre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 Abrão: Sabes, de certo, que peregrina será a tua descendência em terra alheia, e será reduzida à escravidão, e será afligida por quatrocentos an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ambém eu julgarei a nação, à qual ela tem de servir, e depois sairá com grande riqu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u irás a teus pais em paz; em boa velhice serás sepul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quarta geração tornará para cá; porque a medida da injustiça dos amorreus não está ainda ch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u que, posto o sol, houve escuridão, e eis um forno de fumaça, e uma tocha de fogo, que passou por aquelas met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mesmo dia fez o SENHOR uma aliança com Abrão, dizendo: À tua descendência tenho dado esta terra, desde o rio do Egito até ao grande rio Eufrat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neu, e o quenezeu, e o cadmone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brão: Senhor DEUS, que me hás de dar, pois ando sem filhos, e o mordomo da minha casa é o damasceno Eliéz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heteu, e o perizeu, e os refai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morreu, e o cananeu, e o girgaseu, e o jebu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 mais Abrão: Eis que não me tens dado filhos, e eis que um nascido na minha casa será o meu he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veio a palavra do SENHOR a ele dizendo: Este não será o teu herdeiro; mas aquele que de tuas entranhas sair, este será o teu herd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levou fora, e disse: Olha agora para os céus, e conta as estrelas, se as podes contar. E disse-lhe: Assim será a tua descend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eu ele no SENHOR, e imputou-lhe isto por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-lhe mais: Eu sou o SENHOR, que te tirei de Ur dos caldeus, para dar-te a ti esta terra, para herdá-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le: Senhor DEUS, como saberei que hei de herdá-l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Toma-me uma bezerra de três anos, e uma cabra de três anos, e um carneiro de três anos, uma rola e um pomb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56Z</dcterms:created>
  <dc:creator>Admin</dc:creator>
  <dc:description/>
  <dc:language>en-US</dc:language>
  <cp:lastModifiedBy>Admin</cp:lastModifiedBy>
  <dcterms:modified xsi:type="dcterms:W3CDTF">2008-07-30T23:37:56Z</dcterms:modified>
  <cp:revision>1</cp:revision>
  <dc:subject/>
  <dc:title>Slide 1</dc:title>
</cp:coreProperties>
</file>