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5B9-0898-4483-BBDB-EBC7C001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962F-8CDA-459A-AD8B-C6539E26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DBF1-9C4D-4A02-A007-4F8281AA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F45B-5A4F-460A-8124-245433EA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6749-AFEB-42E6-99D6-CB356BA6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169D-6CBB-4DBF-AF85-C6EEB383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5308-1783-4B9F-893D-9D3D932E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12F6-8616-432C-B880-495DBDD7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D971-602B-489F-A67B-BBB2F57C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825B-427E-4F49-A170-D0E3012D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8E5E-D21C-4B56-BD01-C228141A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74CB-002A-430B-AE1A-5EF827C4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A36D-D8EF-4FE5-8A2D-CCD69DE7FCD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 outro grande e admirável sinal no céu: sete anjos, que tinham as sete últimas pragas; porque nelas é consumada a ir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 um como mar de vidro misturado com fogo; e também os que saíram vitoriosos da besta, e da sua imagem, e do seu sinal, e do número do seu nome, que estavam junto ao mar de vidro, e tinham as harpas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ntavam o cântico de Moisés, servo de Deus, e o cântico do Cordeiro, dizendo: Grandes e maravilhosas são as tuas obras, Senhor Deus Todo-Poderoso! Justos e verdadeiros são os teus caminhos, ó Rei dos sa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te não temerá, ó Senhor, e não magnificará o teu nome? Porque só tu és santo; por isso todas as nações virão, e se prostrarão diante de ti, porque os teus juízos são manifes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isto olhei, e eis que o templo do tabernáculo do testemunho se abriu n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te anjos que tinham as sete pragas saíram do templo, vestidos de linho puro e resplandecente, e cingidos com cintos de ouro pelos pe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dos quatro animais deu aos sete anjos sete taças de ouro, cheias da ira de Deus, que vive para todo o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templo encheu-se com a fumaça da glória de Deus e do seu poder; e ninguém podia entrar no templo, até que se consumassem as sete pragas dos sete anj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2:40Z</dcterms:created>
  <dc:creator>Admin</dc:creator>
  <dc:description/>
  <dc:language>en-US</dc:language>
  <cp:lastModifiedBy>Admin</cp:lastModifiedBy>
  <dcterms:modified xsi:type="dcterms:W3CDTF">2008-07-30T23:22:40Z</dcterms:modified>
  <cp:revision>1</cp:revision>
  <dc:subject/>
  <dc:title>Slide 1</dc:title>
</cp:coreProperties>
</file>