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FC8-C7A9-4091-AB67-08329AB7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07B-F3C7-436F-97FE-1C35F887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2B5-3A6A-4515-B877-B56B64FF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299-3B12-4BFC-9B88-75025B6F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91C-FC5B-4BFA-9659-D9D2740A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08C-52FA-4A42-9607-18036FC1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B5D-8D4A-4DAE-AEC3-9ACE20B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AFE-A3D4-4843-B1E6-E001ABA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BA2-A20B-45AE-9188-210991CC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18D-874C-4E05-B075-34734A3B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4BB-C0B0-4E86-90B9-7643A83F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205-68B1-4EEE-AC74-61B4E3CA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581F-4090-4A53-8C74-BB73DE68C2D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furtar boi ou ovelha, e o degolar ou vender, por um boi pagará cinco bois, e pela ovelha quatro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der a seu próximo a guardar um jumento, ou boi, ou ovelha, ou outro animal, e este morrer, ou for dilacerado, ou arrebatado, ninguém o ve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averá juramento do SENHOR entre ambos, de que não pôs a sua mão nos bens do seu próximo; e seu dono o aceitará, e o outro não o restit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de fato lhe tiver sido furtado, pagá-lo-á ao seu d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lhe for dilacerado, trá-lo-á em testemunho disso, e não pagará o dilace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ém pedir emprestado a seu próximo algum animal, e for danificado ou morto, não estando presente o seu dono, certamente o 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seu dono estava presente, não o pagará; se foi alugado, será pelo seu alug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enganar alguma virgem, que não for desposada, e se deitar com ela, certamente a dotará e tomará por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eu pai inteiramente recusar dar-lha, pagará ele em dinheiro conforme ao dote das vir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eiticeira não deixarás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se deitar com animal,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ladrão for achado roubando, e for ferido, e morrer, o que o feriu não será culpado d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acrificar aos deuses, e não só ao SENHOR, será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trangeiro não afligirás, nem o oprimirás ; pois estrangeiros fostes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enhuma viúva nem órfão aflig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 algum modo os afligires, e eles clamarem a mim, eu certamente ouvirei o seu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nha ira se acenderá, e vos matarei à espada; e vossas mulheres ficarão viúvas, e vossos filhos órf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mprestares dinheiro ao meu povo, ao pobre que está contigo, não te haverás com ele como um usurário; não lhe imporeis u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omares em penhor a roupa do teu próximo, lho restituirás antes do pôr do so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a é a sua cobertura, e o vestido da sua pele; em que se deitaria? Será pois que, quando clamar a mim, eu o ouvirei, porque sou misericord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eus não amaldiçoarás, e o príncipe dentre o teu povo não mald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primícias, e os teus licores não retardarás; o primogênito de teus filhos me d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sol houver saído sobre ele, o agressor será culpado do sangue; o ladrão fará restituição total; e se não tiver com que pagar, será vendido por seu fu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rás dos teus bois e das tuas ovelhas: sete dias estarão com sua mãe, e ao oitavo dia mos d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-me-eis homens santos; portanto não comereis carne despedaçada no campo; aos cães a lanç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furto for achado vivo na sua mão, seja boi, ou jumento, ou ovelha, pagará o do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fizer pastar o seu animal num campo ou numa vinha, e largá-lo para comer no campo de outro, o melhor do seu próprio campo e o melhor da sua própria vinha restit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irromper um fogo, e pegar nos espinhos, e queimar a meda de trigo, ou a seara, ou o campo, aquele que acendeu o fogo totalmente pagará o quei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der ao seu próximo dinheiro, ou bens, a guardar, e isso for furtado da casa daquele homem, o ladrão, se for achado, pagará o do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ladrão não for achado, então o dono da casa será levado diante dos juízes, a ver se não pôs a sua mão nos bens do s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todo o negócio fraudulento, sobre boi, sobre jumento, sobre gado miúdo, sobre roupa, sobre toda a coisa perdida, de que alguém disser que é sua, a causa de ambos será levada perante os juízes; aquele a quem condenarem os juízes pagará em dobro ao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22Z</dcterms:created>
  <dc:creator>Admin</dc:creator>
  <dc:description/>
  <dc:language>en-US</dc:language>
  <cp:lastModifiedBy>Admin</cp:lastModifiedBy>
  <dcterms:modified xsi:type="dcterms:W3CDTF">2008-07-30T23:32:22Z</dcterms:modified>
  <cp:revision>1</cp:revision>
  <dc:subject/>
  <dc:title>Slide 1</dc:title>
</cp:coreProperties>
</file>