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DB5-6CE0-478A-AABD-D85C7046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B36-E55D-44BD-84C2-09DFCAEA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EB3-6980-49D5-8B09-9BB26EFA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587-4ABF-4475-AFAA-A2FE0BDA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AF3-8593-4512-B015-918D05A1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582-388A-47C0-A3C6-9EA5D6AD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A81-F4B8-48DD-A9C2-C94AB1D9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88B-3840-489F-8EF3-CE83B18F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2A5-CA48-4DE9-A2C4-4994A06C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B88-4FC2-4AFF-854A-1F013BB6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BA5-5C9A-473D-A61B-E67684D2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DE4-5193-4DBD-8EA8-4C93C5A1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B79B-99A4-4AEE-9B40-60365ED14F8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o rei com Hamã, para beber com a rainha Est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forcaram, pois, a Hamã na forca, que ele tinha preparado para Mardoqueu. Então o furor do rei se apla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utra vez o rei a Ester, no segundo dia, no banquete do vinho: Qual é a tua petição, rainha Ester? E se te dará. E qual é o teu desejo? Até metade do reino, se te d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a rainha Ester, e disse: Se, ó rei, achei graça aos teus olhos, e se bem parecer ao rei, dê-se-me a minha vida como minha petição, e o meu povo como meu dese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omos vendidos, eu e o meu povo, para nos destruírem, matarem, e aniquilarem de vez; se ainda por servos e por servas nos vendessem, calar-me-ia; ainda que o opressor não poderia ter compensado a perd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o rei Assuero, e disse à rainha Ester: Quem é esse e onde está esse, cujo coração o instigou a assim faz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ster: O homem, o opressor, e o inimigo, é este mau Hamã. Então Hamã se perturbou perante o rei e a ra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no seu furor se levantou do banquete do vinho e passou para o jardim do palácio; e Hamã se pôs em pé, para rogar à rainha Ester pela sua vida; porque viu que já o mal lhe estava determinado pel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ndo, pois, o rei do jardim do palácio à casa do banquete do vinho, Hamã tinha caído prostrado sobre o leito em que estava Ester. Então disse o rei: Porventura quereria ele também forçar a rainha perante mim nesta casa? Saindo esta palavra da boca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Harbona, um dos camareiros que serviam diante do rei: Eis que também a forca de cinqüenta côvados de altura que Hamã fizera para Mardoqueu, que falara em defesa do rei, está junto à casa de Hamã. Então disse o rei: Enforcai-o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56Z</dcterms:created>
  <dc:creator>Admin</dc:creator>
  <dc:description/>
  <dc:language>en-US</dc:language>
  <cp:lastModifiedBy>Admin</cp:lastModifiedBy>
  <dcterms:modified xsi:type="dcterms:W3CDTF">2008-07-30T23:30:56Z</dcterms:modified>
  <cp:revision>1</cp:revision>
  <dc:subject/>
  <dc:title>Slide 1</dc:title>
</cp:coreProperties>
</file>