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8ED-C511-45F9-A636-ED74468B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EA3-C6C6-44B9-8525-A9DE9E1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F19-4C6B-4346-8B71-E95B8DAB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55F-9D10-4397-B040-BF8DB10D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EA5-A10C-4428-B2AD-A1D4076F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302-340C-4BCE-9714-808F5A0E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8B4-9033-45BD-9255-27EED81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AB8-0274-47C6-A8DF-F4A45073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5F6-AA3C-422E-8CA2-7E7E86FF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4D9-8E27-42B8-A417-132C347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945-66F5-4A16-81C9-B60E4C7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89E-CA5D-4431-B422-A3E04B8A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6B41-D424-4570-90BC-0C588F69E5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o SENHOR a Moisés: Vai a Faraó e dize-lhe: Assim diz o SENHOR: Deixa ir o meu povo, para que me si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Amanhã. E Moisés disse: Seja conforme à tua palavra, para que saibas que ninguém há como 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rãs apartar-se-ão de ti, das tuas casas, dos teus servos, e do teu povo; somente ficarão n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íram Moisés e Arão da presença de Faraó; e Moisés clamou ao SENHOR por causa das rãs que tinha posto sobr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ez conforme a palavra de Moisés; e as rãs morreram nas casas, nos pátios, e nos ca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am-se em montões, e a terra cheiro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Faraó que havia descanso, endureceu o seu coração, e não os ouviu, como o SENHOR tinha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: Dize a Arão: Estende a tua vara, e fere o pó da terra, para que se torne em piolhos por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assim; e Arão estendeu a sua mão com a sua vara, e feriu o pó da terra, e havia muitos piolhos nos homens e no gado; todo o pó da terra se tornou em piolhos em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agos fizeram também assim com os seus encantamentos para produzir piolhos, mas não puderam; e havia piolhos nos homens e no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os magos a Faraó: Isto é o dedo de Deus. Porém o coração de Faraó se endureceu, e não os ouvia, como o SENHOR tinha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recusares deixá-lo ir, eis que ferirei com rãs todos os t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: Levanta-te pela manhã cedo e põe-te diante de Faraó; eis que ele sairá às águas; e dize-lhe: Assim diz o SENHOR: Deixa ir o meu povo, para que me si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não deixares ir o meu povo, eis que enviarei enxames de moscas sobre ti, e sobre os teus servos, e sobre o teu povo, e às tuas casas; e as casas dos egípcios se encherão destes enxames, e também a terra em que eles estiv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eu separarei a terra de Gósen, em que meu povo habita, que nela não haja enxames de moscas, para que saibas que eu sou o SENHOR no meio d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separação entre o meu povo e o teu povo; amanhã se fará este s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ez assim; e vieram grandes enxames de moscas à casa de Faraó e às casas dos seus servos, e sobre toda a terra do Egito; a terra foi corrompida destes enxa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Faraó a Moisés e a Arão, e disse: Ide, e sacrificai ao vosso Deus n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: Não convém que façamos assim, porque sacrificaríamos ao SENHOR nosso Deus a abominação dos egípcios; eis que se sacrificássemos a abominação dos egípcios perante os seus olhos, não nos apedrejariam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-nos ir caminho de três dias ao deserto, para que sacrifiquemos ao SENHOR nosso Deus, como ele nos dis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Faraó: Deixar-vos-ei ir, para que sacrifiqueis ao SENHOR vosso Deus no deserto; somente que, indo, não vades longe; orai também por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: Eis que saio de ti, e orarei ao SENHOR, que estes enxames de moscas se retirem amanhã de Faraó, dos seus servos, e do seu povo; somente que Faraó não mais me engane, não deixando ir a este povo para sacrifica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io criará rãs, que subirão e virão à tua casa, e ao teu dormitório, e sobre a tua cama, e as casas dos teus servos, e sobre o teu povo, e aos teus fornos, e às tuas amassad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Moisés da presença de Faraó, e oro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SENHOR conforme a palavra de Moisés, e os enxames de moscas se retiraram de Faraó, dos seus servos, e do seu povo; não ficou uma s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ndureceu Faraó ainda esta vez seu coração, e não deixou ir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rãs subirão sobre ti, e sobre o teu povo, e sobre todos os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: Dize a Arão: Estende a tua mão com tua vara sobre as correntes, e sobre os rios, e sobre os tanques, e faze subir rãs sobre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estendeu a sua mão sobre as águas do Egito, e subiram rãs, e cobriram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magos fizeram o mesmo com os seus encantamentos, e fizeram subir rãs sobre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chamou a Moisés e a Arão, e disse: Rogai ao SENHOR que tire as rãs de mim e do meu povo; depois deixarei ir o povo, para que sacrifique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 a Faraó: Digna-te dizer-me quando é que hei de rogar por ti, e pelos teus servos, e por teu povo, para tirar as rãs de ti, e das tuas casas, e fiquem somente no r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29Z</dcterms:created>
  <dc:creator>Admin</dc:creator>
  <dc:description/>
  <dc:language>en-US</dc:language>
  <cp:lastModifiedBy>Admin</cp:lastModifiedBy>
  <dcterms:modified xsi:type="dcterms:W3CDTF">2008-07-30T23:31:29Z</dcterms:modified>
  <cp:revision>1</cp:revision>
  <dc:subject/>
  <dc:title>Slide 1</dc:title>
</cp:coreProperties>
</file>