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8E45-AEC3-4C71-A084-6D0A6B1B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9102-9CA7-42BE-A49C-56654CCE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CBC6-E9B0-4E21-B378-B21EF1BB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D8E4-F69A-4B9C-A414-C8DE1F51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E1EA-99CB-42A0-AEA3-93157335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2544-26C9-4061-BBB6-2496479C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423A-3797-41E7-8962-D56D5AA2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2A10-B7C4-4D19-B66D-07A42F48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B30D-0C7D-43A4-A58B-3379A3CC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2891-5350-4C1D-B3A8-81942A33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0672-2A1D-48CA-AADC-DFE7A348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4ABB-014D-4FB0-97CC-CC113C73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DB4E-AAE8-4A5E-BFE0-DACBB65AA1D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no sábado segundo-primeiro, passou pelas searas, e os seus discípulos iam arrancando espigas e, esfregando-as com as mãos, as com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lhando para todos em redor, disse ao homem: Estende a tua mão. E ele assim o fez, e a mão lhe foi restituída sã como a out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icaram cheios de furor, e uns com os outros conferenciavam sobre o que fariam a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 naqueles dias subiu ao monte a orar, e passou a noite em oração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já era dia, chamou a si os seus discípulos, e escolheu doze deles, a quem também deu o nome de apóstolo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imão, ao qual também chamou Pedro, e André, seu irmão; Tiago e João; Filipe e Bartolomeu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teus e Tomé; Tiago, filho de Alfeu, e Simão, chamado Zelo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das, irmão de Tiago, e Judas Iscariotes, que foi o trai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scendo com eles, parou num lugar plano, e também um grande número de seus discípulos, e grande multidão de povo de toda a Judéia, e de Jerusalém, e da costa marítima de Tiro e de Sidom; os quais tinham vindo para o ouvir, e serem curados das suas 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os atormentados dos espíritos imundos; e eram cur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 a multidão procurava tocar-lhe, porque saía dele virtude, e curava a to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guns dos fariseus lhes disseram: Por que fazeis o que não é lícito fazer nos sábad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tando ele os olhos para os seus discípulos, dizia: Bem-aventurados vós, os pobres, porque vosso é o rein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s vós, que agora tendes fome, porque sereis fartos. Bem-aventurados vós, que agora chorais, porque haveis de r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s sereis quando os homens vos odiarem e quando vos separarem, e vos injuriarem, e rejeitarem o vosso nome como mau, por causa do Filho d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lgai nesse dia, exultai; porque eis que é grande o vosso galardão no céu, pois assim faziam os seus pais aos profe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i de vós, ricos! porque já tendes a vossa consol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e vós, os que estais fartos, porque tereis fome. Ai de vós, os que agora rides, porque vos lamentareis e chora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e vós quando todos os homens de vós disserem bem, porque assim faziam seus pais aos falsos profe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vós, que isto ouvis, digo: Amai a vossos inimigos, fazei bem aos que vos odeia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zei os que vos maldizem, e orai pelos que vos calun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que te ferir numa face, oferece-lhe também a outra; e ao que te houver tirado a capa, nem a túnica recus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respondendo-lhes, disse: Nunca lestes o que fez Davi quando teve fome, ele e os que com ele estava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á a qualquer que te pedir; e ao que tomar o que é teu, não lho tornes a ped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o vós quereis que os homens vos façam, da mesma maneira lhes fazei vós, tamb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amardes aos que vos amam, que recompensa tereis? Também os pecadores amam aos que os am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fizerdes bem aos que vos fazem bem, que recompensa tereis? Também os pecadores fazem o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emprestardes àqueles de quem esperais tornar a receber, que recompensa tereis? Também os pecadores emprestam aos pecadores, para tornarem a receber outro t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mai, pois, a vossos inimigos, e fazei bem, e emprestai, sem nada esperardes, e será grande o vosso galardão, e sereis filhos do Altíssimo; porque ele é benigno até para com os ingratos e ma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de, pois, misericordiosos, como também vosso Pai é misericordi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julgueis, e não sereis julgados; não condeneis, e não sereis condenados; soltai, e soltar-vos-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i, e ser-vos-á dado; boa medida, recalcada, sacudida e transbordando, vos deitarão no vosso regaço; porque com a mesma medida com que medirdes também vos medirão de n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ia-lhes uma parábola: Pode porventura o cego guiar o cego? Não cairão ambos na cov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entrou na casa de Deus, e tomou os pães da proposição, e os comeu, e deu também aos que estavam com ele, os quais não é lícito comer senão só aos sacerdot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discípulo não é superior a seu mestre, mas todo o que for perfeito será como o seu mest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que atentas tu no argueiro que está no olho de teu irmão, e não reparas na trave que está no teu próprio ol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como podes dizer a teu irmão: Irmão, deixa-me tirar o argueiro que está no teu olho, não atentando tu mesmo na trave que está no teu olho? Hipócrita, tira primeiro a trave do teu olho, e então verás bem para tirar o argueiro que está no olho de teu 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há boa árvore que dê mau fruto, nem má árvore que dê bom fru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cada árvore se conhece pelo seu próprio fruto; pois não se colhem figos dos espinheiros, nem se vindimam uvas dos abr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bom, do bom tesouro do seu coração tira o bem, e o homem mau, do mau tesouro do seu coração tira o mal, porque da abundância do seu coração fala 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que me chamais, SENHOR, Senhor, e não fazeis o que eu dig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lquer que vem a mim e ouve as minhas palavras, e as observa, eu vos mostrarei a quem é semelhant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 semelhante ao homem que edificou uma casa, e cavou, e abriu bem fundo, e pôs os alicerces sobre a rocha; e, vindo a enchente, bateu com ímpeto a corrente naquela casa, e não a pôde abalar, porque estava fundada sobre a roc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que ouve e não pratica é semelhante ao homem que edificou uma casa sobre terra, sem alicerces, na qual bateu com ímpeto a corrente, e logo caiu; e foi grande a ruína daquel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ia-lhes: O Filho do homem é Senhor até do sáb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também noutro sábado, que entrou na sinagoga, e estava ensinando; e havia ali um homem que tinha a mão direita mirr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escribas e fariseus observavam-no, se o curaria no sábado, para acharem de que o acus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 bem conhecia os seus pensamentos; e disse ao homem que tinha a mão mirrada: Levanta-te, e fica em pé no meio. E, levantando-se ele, ficou em p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esus lhes disse: Uma coisa vos hei de perguntar: É lícito nos sábados fazer bem, ou fazer mal? salvar a vida, ou mat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0:38Z</dcterms:created>
  <dc:creator>Admin</dc:creator>
  <dc:description/>
  <dc:language>en-US</dc:language>
  <cp:lastModifiedBy>Admin</cp:lastModifiedBy>
  <dcterms:modified xsi:type="dcterms:W3CDTF">2008-07-31T00:10:38Z</dcterms:modified>
  <cp:revision>1</cp:revision>
  <dc:subject/>
  <dc:title>Slide 1</dc:title>
</cp:coreProperties>
</file>