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5FC-86D6-455A-BF35-171BE222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F33-C4D8-42BD-AC6A-0138C94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98C-A326-4629-9C2C-81AF7C89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046-B6D9-458D-856F-6C3E52BD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F8E-DA06-4CFA-A96E-238A2649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18A-8CFC-4FBD-96EC-293CCF1B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E52-474E-4107-BCE6-5D94238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0EB-851F-4A53-AA94-7B7FB5B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C3B-BAFF-48FA-917E-0BC0D23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8A9-202B-4C7A-AD4E-3288C7B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ECB-E32C-48DF-8095-9D08E09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EB5-06AF-4EE4-A3DD-D363175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756C-5E28-431F-A56D-32EAECEE12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certo homem chamado Ananias, com Safira, sua mulher, vendeu uma proprie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caiu aos seus pés, e expirou. E, entrando os moços, acharam-na morta, e a sepultaram junto de s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um grande temor em toda a igreja, e em todos os que ouviram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sinais e prodígios eram feitos entre o povo pelas mãos dos apóstolos. E estavam todos unanimemente no alpendre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outros, porém, ninguém ousava ajuntar-se a eles; mas o povo tinha-os em grande est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dos que criam no Senhor, tanto homens como mulheres, crescia cada vez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transportavam os enfermos para as ruas, e os punham em leitos e em camilhas para que ao menos a sombra de Pedro, quando este passasse, cobrisse algun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das cidades circunvizinhas concorria muita gente a Jerusalém, conduzindo enfermos e atormentados de espíritos imundos; os quais eram todos cu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o sumo sacerdote, e todos os que estavam com ele (e eram eles da seita dos saduceus), encheram-se de inve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mão dos apóstolos, e os puseram na prisão públ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 noite um anjo do Senhor abriu as portas da prisão e, tirando-os para fora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eve parte do preço, sabendo-o também sua mulher; e, levando uma parte, a depositou aos pés d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 e apresentai-vos no templo, e dizei ao povo todas as palavras dest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isto, entraram de manhã cedo no templo, e ensinavam. Chegando, porém, o sumo sacerdote e os que estavam com ele, convocaram o conselho, e a todos os anciãos dos filhos de Israel, e enviaram ao cárcere, para que de lá os troux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tendo lá ido os servidores, não os acharam na prisão e, voltando, lho anunci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chamos realmente o cárcere fechado, com toda a segurança, e os guardas, que estavam fora, diante das portas; mas, quando abrimos, ninguém achamos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umo sacerdote, o capitão do templo e os chefes dos sacerdotes, ouvindo estas palavras, estavam perplexos acerca deles e do que viria a ser aqu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um, anunciou-lhes, dizendo: Eis que os homens que encerrastes na prisão estão no templo e ensinam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o capitão com os servidores, e os trouxe, não com violência (porque temiam ser apedrejados pelo pov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razendo-os, os apresentaram ao conselho. E o sumo sacerdote os interrog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Não vos admoestamos nós expressamente que não ensinásseis nesse nome? E eis que enchestes Jerusalém dessa vossa doutrina, e quereis lançar sobre nós o sangue dess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respondendo Pedro e os apóstolos, disseram: Mais importa obedecer a Deus do que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Pedro: Ananias, por que encheu Satanás o teu coração, para que mentisses ao Espírito Santo, e retivesses parte do preço da h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de nossos pais ressuscitou a Jesus, ao qual vós matastes, suspendendo-o no m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com a sua destra o elevou a Príncipe e Salvador, para dar a Israel o arrependimento e a remissão d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somos testemunhas acerca destas palavras, nós e também o Espírito Santo, que Deus deu àqueles que lhe obed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isto, se enfureciam, e deliberaram matá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levantando-se no conselho um certo fariseu, chamado Gamaliel, doutor da lei, venerado por todo o povo, mandou que por um pouco levassem para fora os apósto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Homens israelitas, acautelai-vos a respeito do que haveis de fazer a este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destes dias levantou-se Teudas, dizendo ser alguém; a este se ajuntou o número de uns quatrocentos homens; o qual foi morto, e todos os que lhe deram ouvidos foram dispersos e reduzidos a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e levantou-se Judas, o galileu, nos dias do alistamento, e levou muito povo após si; mas também este pereceu, e todos os que lhe deram ouvidos foram disp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igo-vos: Dai de mão a estes homens, e deixai-os, porque, se este conselho ou esta obra é de homens, se desfa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é de Deus, não podereis desfazê-la; para que não aconteça serdes também achados combatendo cont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ndo-a não ficava para ti? E, vendida, não estava em teu poder? Por que formaste este desígnio em teu coração? Não mentiste aos homens, ma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ordaram com ele. E, chamando os apóstolos, e tendo-os açoitado, mandaram que não falassem no nome de Jesus, e os deixaram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iraram-se, pois, da presença do conselho, regozijando-se de terem sido julgados dignos de padecer afronta pelo nom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dias, no templo e nas casas, não cessavam de ensinar, e de anunciar a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anias, ouvindo estas palavras, caiu e expirou. E um grande temor veio sobre todos os que isto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os moços, cobriram o morto e, transportando-o para fora, o sepul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um espaço quase de três horas, entrou também sua mulher, não sabendo o que havia acont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Pedro: Dize-me, vendestes por tanto aquela herdade? E ela disse: Sim, por t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dro lhe disse: Por que é que entre vós vos concertastes para tentar o Espírito do Senhor? Eis aí à porta os pés dos que sepultaram o teu marido, e também te levarã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30Z</dcterms:created>
  <dc:creator>Admin</dc:creator>
  <dc:description/>
  <dc:language>en-US</dc:language>
  <cp:lastModifiedBy>Admin</cp:lastModifiedBy>
  <dcterms:modified xsi:type="dcterms:W3CDTF">2008-07-30T23:23:30Z</dcterms:modified>
  <cp:revision>1</cp:revision>
  <dc:subject/>
  <dc:title>Slide 1</dc:title>
</cp:coreProperties>
</file>