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9E8-687F-4E1A-8AAF-CEAE0D23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B47-4300-43FC-8B06-D5575449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0B7-7D30-4F44-BF7F-556ABED6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B1C-5F07-4101-81DE-EE016FE7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B96-DCF4-4A7B-BAF7-F2115BF6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E91-A880-4B8F-9962-13319F7C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176-6D2B-46F3-9DA5-8CF76CD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AEA-8673-4A22-8EEB-ABA5ADEC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688-960D-4D6C-9B3F-7BA31BC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1AE-7203-4732-B2DE-A51CE399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70B-C138-4045-8461-65E8F461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A01-4B5F-4520-9116-D2B330C6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C4B3-9E78-4E0E-B48F-3FACDC3B3F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isteus, pois, tomaram a arca de Deus e a trouxeram de Ebenézer a Asdo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aram a arca de Deus a Ecrom. Sucedeu, porém, que, vindo a arca de Deus a Ecrom, os de Ecrom exclamaram, dizendo: Transportaram para nós a arca do Deus de Israel, para nos matarem, a nós e ao noss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am, e congregaram a todos os príncipes dos filisteus, e disseram: Enviai a arca do Deus de Israel, e torne para o seu lugar, para que não mate nem a nós nem ao nosso povo. Porque havia mortal vexame em toda a cidade, e a mão de Deus muito se ag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que não morriam eram tão atacados com hemorróidas que o clamor da cidade subia até 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 os filisteus a arca de Deus, e a colocaram na casa de Dagom, e a puseram junto a Dag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ndo-se, porém, de madrugada no dia seguinte, os de Asdode, eis que Dagom estava caído com o rosto em terra, diante da arca do SENHOR; e tomaram a Dagom, e tornaram a pô-lo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de madrugada, no dia seguinte, pela manhã, eis que Dagom jazia caído com o rosto em terra diante da arca do SENHOR; e a cabeça de Dagom e ambas as palmas das suas mãos estavam cortadas sobre o limiar; somente o tronco ficou a Dag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em os sacerdotes de Dagom, nem nenhum de todos os que entram na casa de Dagom pisam o limiar de Dagom em Asdode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mão do SENHOR se agravou sobre os de Asdode, e os assolou; e os feriu com hemorróidas, em Asdode e n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então os homens de Asdode que assim foi, disseram: Não fique conosco a arca do Deus de Israel; pois a sua mão é dura sobre nós, e sobre Dagom,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nviaram mensageiros e congregaram a si todos os príncipes dos filisteus, e disseram: Que faremos nós da arca do Deus de Israel? E responderam: A arca do Deus de Israel será levada até Gate. Assim levaram para lá a arca do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ssim que a levaram, a mão do SENHOR veio contra aquela cidade, com mui grande vexame; pois feriu aos homens daquela cidade, desde o pequeno até ao grande; e tinham hemorróidas nas partes ínti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31Z</dcterms:created>
  <dc:creator>Admin</dc:creator>
  <dc:description/>
  <dc:language>en-US</dc:language>
  <cp:lastModifiedBy>Admin</cp:lastModifiedBy>
  <dcterms:modified xsi:type="dcterms:W3CDTF">2008-07-30T23:46:31Z</dcterms:modified>
  <cp:revision>1</cp:revision>
  <dc:subject/>
  <dc:title>Slide 1</dc:title>
</cp:coreProperties>
</file>