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BD5-3C95-4B86-A531-A40386F6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03F-1172-4135-8B9E-736023A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1BD-ED32-4DE4-8C6F-C769E8B8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78F-D395-43EF-BC2C-3ABCEF79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1D3-8712-48D5-8E40-7667BF84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375-0B13-4D26-829A-1F0C52EE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71B-DA74-43D8-B314-36305DE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2DE-D583-43A1-8E76-EEBD1C0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0D3-728E-4E5A-8AC0-DD2CA17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42F-5EE8-47F9-B840-06743C4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9CD-DF4B-4438-8E58-4F42816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2FC-BD25-4C40-967B-D6820B0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C67-D637-4B9C-B23A-B44CF28C35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isto que morreu o rei dos filhos de Amom, e seu filho Hanum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o povo entregou na mão de Abisai seu irmão, o qual formou em linha contra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Se os sírios forem mais fortes do que eu, tu me virás em socorro; e, se os filhos de Amom forem mais fortes do que tu, irei a socorre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-te, pois, e esforcemo-nos pelo nosso povo, e pelas cidades de nosso Deus; e faça o SENHOR o que bem parecer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hegou Joabe, e o povo que estava com ele, à peleja contra os sírios; e fugiram de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os filhos de Amom que os sírios fugiam, também eles fugiram de diante de Abisai, e entraram na cidade; e voltou Joabe dos filhos de Amom, e veio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sírios que foram feridos diante de Israel, tornaram a refaze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Hadadezer, e fez sair os sírios que estavam do outro lado do rio, e vieram a Helã; e Sobaque, capitão do exército de Hadadezer, marchava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e informado Davi, ajuntou a todo o Israel, e passou o Jordão, e foi a Helã; e os sírios se puseram em ordem contra Davi, e pelejar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sírios fugiram de diante de Israel, e Davi feriu dentre os sírios aos homens de setecentos carros, e quarenta mil homens de cavalaria; feriu também a Sobaque, capitão do exército, que morre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todos os reis, servos de Hadadezer, que foram feridos diante de Israel, fizeram paz com Israel, e o serviram; e temeram os sírios de socorrer a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: Usarei de benevolência com Hanum, filho de Naás, como seu pai usou de benevolência comigo. E enviou Davi os seus servos para consolá-lo acerca de seu pai; e foram os servos de Davi à terra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príncipes dos filhos de Amom a seu SENHOR, Hanum: Porventura honra Davi a teu pai aos teus olhos, porque te enviou consoladores? Não te enviou antes Davi os seus servos para reconhecerem esta cidade, e para espiá-la, e para transtorná-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Hanum os servos de Davi, e lhes raspou metade da barba, e lhes cortou metade das vestes, até às nádegas, e os desped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isso foi informado a Davi, enviou ele mensageiros a encontrá-los, porque estavam aqueles homens sobremaneira envergonhados. Mandou o rei dizer-lhes: Deixai-vos estar em Jericó, até que vos torne a crescer a barba, e então volt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filhos de Amom que se tinham feito abomináveis para com Davi, enviaram os filhos de Amom, e alugaram dos sírios de Bete-Reobe e dos sírios de Zobá vinte mil homens de pé, e do rei de Maaca mil homens e dos homens de Tobe doze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ndo Davi, enviou a Joabe e a todo o exército do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os filhos de Amom, e ordenaram a batalha à entrada da porta; mas os sírios de Zobá e Reobe, e os homens de Tobe e Maaca estavam à parte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Joabe que a batalha estava preparada contra ele pela frente e pela retaguarda, escolheu dentre todos os homens de Israel, e formou-os em linha contra os s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04Z</dcterms:created>
  <dc:creator>Admin</dc:creator>
  <dc:description/>
  <dc:language>en-US</dc:language>
  <cp:lastModifiedBy>Admin</cp:lastModifiedBy>
  <dcterms:modified xsi:type="dcterms:W3CDTF">2008-07-30T23:53:04Z</dcterms:modified>
  <cp:revision>1</cp:revision>
  <dc:subject/>
  <dc:title>Slide 1</dc:title>
</cp:coreProperties>
</file>