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F54-766D-48D2-9145-4157EC4D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B99-ACC6-42D7-B657-394AB05A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8E8-9562-4856-91F1-F9B7B844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196-9321-4241-B397-0ED6752C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9F2-AB60-4A12-97EB-5FAA9DBC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8D3-5579-4A3F-B136-AF29C909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DF1-F635-4876-B2E4-16450769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9AC-37B6-431C-9E17-51FF802B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2D8-FAEC-49E3-879A-07212866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ACA-4B5B-463D-BCD6-0AB45D2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CB7-9E25-4308-8DE5-91F52881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00E-6F91-44F2-B742-9DC6EF7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3087-3D00-4D23-8CEB-DAD296E22B4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alomão amou muitas mulheres estrangeiras, além da filha de Faraó: moabitas, amonitas, edomitas, sidônias e heté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erca deste assunto lhe tinha dado ordem que não seguisse a outros deuses; porém não guardou o que o SENHOR lhe orden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sse o SENHOR a Salomão: Pois que houve isto em ti, que não guardaste a minha aliança e os meus estatutos que te mandei, certamente rasgarei de ti este reino, e o darei a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nos teus dias não o farei, por amor de Davi, teu pai; da mão de teu filho o rasga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odo o reino não rasgarei; uma tribo darei a teu filho, por amor de meu servo Davi, e por amor a Jerusalém, que tenho escolh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, pois, o SENHOR contra Salomão um adversário, Hadade, o edomeu; ele era da descendência do rei em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cedeu que, estando Davi em Edom, e subindo Joabe, o capitão do exército, a enterrar os mortos, feriu a todo o homem em Ed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Joabe ficou ali seis meses com todo o Israel, até que destruiu a todo o homem em Edom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dade, porém, fugiu, ele e alguns homens edomeus, dos servos de seu pai, com ele, para ir ao Egito; era, porém, Hadade muito jo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de Midiã, e foram a Parã, e tomaram consigo homens de Parã, e foram ao Egito ter com Faraó, rei do Egito, o qual lhe deu uma casa, e lhe prometeu sustento, e lhe deu um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 Hadade grande graça diante de Faraó, de maneira que lhe deu por mulher a irmã de sua mulher, a irmã de Tafnes, a ra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nações de que o SENHOR tinha falado aos filhos de Israel: Não chegareis a elas, e elas não chegarão a vós; de outra maneira perverterão o vosso coração para seguirdes os seus deuses. A estas se uniu Salomão com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irmã de Tafnes deu-lhe um filho, Genubate, o qual Tafnes criou na casa de Faraó; e Genubate estava na casa de Faraó, entre os filhos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Hadade, no Egito, que Davi adormecera com seus pais, e que Joabe, capitão do exército, era morto, disse Hadade a Faraó: Despede-me, para que vá à minh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Faraó lhe disse: Pois que te falta comigo, que procuras partir para a tua terra? E disse ele: Nada, mas todavia desped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us lhe levantou outro adversário, a Rezom, filho de Eliada, que tinha fugido de seu SENHOR Hadadezer, rei de Zob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quem também ajuntou homens, e foi capitão de um esquadrão, quando Davi os matou; e, indo-se para Damasco, habitaram ali, e reinaram em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dversário de Israel, por todos os dias de Salomão, e isto além do mal que Hadade fazia; porque detestava a Israel, e reinava sobre a 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Jeroboão, filho de Nebate, efrateu, de Zereda, servo de Salomão (cuja mãe era mulher viúva, por nome Zerua), também levantou a mão contra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foi a causa por que levantou a mão contra o rei: Salomão tinha edificado a Milo, e cerrou as aberturas da cidade de Dav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omem Jeroboão era forte e valente; e vendo Salomão a este jovem, que era laborioso, ele o pôs sobre todo o cargo da casa d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naquele tempo que, saindo Jeroboão de Jerusalém, o profeta Aías, o silonita, o encontrou no caminho, e ele estava vestido com uma roupa nova, e os dois estavam sós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setecentas mulheres, princesas, e trezentas concubinas; e suas mulheres lhe perverteram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ías pegou na roupa nova que tinha sobre si, e a rasgou em doze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Jeroboão: Toma para ti os dez pedaços, porque assim diz o SENHOR Deus de Israel: Eis que rasgarei o reino da mão de Salomão, e a ti darei as dez tri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terá uma tribo, por amor de Davi, meu servo, e por amor de Jerusalém, a cidade que escolhi de todas 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deixaram, e se encurvaram a Astarote, deusa dos sidônios, a Quemós, deus dos moabitas, e a Milcom, deus dos filhos de Amom; e não andaram pelos meus caminhos, para fazerem o que é reto aos meus olhos, a saber, os meus estatutos e os meus juíz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tomarei nada deste reino da sua mão; mas por príncipe o ponho por todos os dias da sua vida, por amor de Davi, meu servo, a quem escolhi, o qual guardou os meus mandamentos e os m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 mão de seu filho tomarei o reino, e darei a ti, as dez tribo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u filho darei uma tribo; para que Davi, meu servo, sempre tenha uma lâmpada diante de mim em Jerusalém, a cidade que escolhi para pôr ali 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tomarei, e reinarás sobre tudo o que desejar a tua alma; e serás rei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se ouvires tudo o que eu te mandar, e andares pelos meus caminhos, e fizeres o que é reto aos meus olhos, guardando os meus estatutos e os meus mandamentos, como fez Davi, meu servo, eu serei contigo, e te edificarei uma casa firme, 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afligirei a descendência de Davi; todavia nã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cedeu que, no tempo da velhice de Salomão, suas mulheres lhe perverteram o coração para seguir outros deuses; e o seu coração não era perfeito para com o SENHOR seu Deus, como o coração de Davi, seu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lomão procurou matar Jeroboão; porém Jeroboão se levantou, e fugiu para o Egito, a ter com Sisaque, rei do Egito; e esteve no Egito até que Salomão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Salomão, e a tudo quanto fez, e à sua sabedoria, porventura não está escrito no livro dos feitos de Salo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mpo que reinou Salomão, em Jerusalém, sobre todo o Israel foi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ormeceu Salomão com seus pais, e foi sepultado na cidade de Davi, seu pai; e Robo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lomão seguiu a Astarote, deusa dos sidônios, e Milcom, a abominação dos amo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z Salomão o que parecia mal aos olhos do SENHOR; e não perseverou em seguir ao SENHOR, como Dav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dificou Salomão um alto a Quemós, a abominação dos moabitas, sobre o monte que está diante de Jerusalém, e a Moloque, a abominação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fez para com todas as suas mulheres estrangeiras; as quais queimavam incenso e sacrificavam a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e o SENHOR se indignou contra Salomão; porquanto desviara o seu coração do SENHOR Deus de Israel, o qual duas vezes lhe aparec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25Z</dcterms:created>
  <dc:creator>Admin</dc:creator>
  <dc:description/>
  <dc:language>en-US</dc:language>
  <cp:lastModifiedBy>Admin</cp:lastModifiedBy>
  <dcterms:modified xsi:type="dcterms:W3CDTF">2008-07-30T23:45:25Z</dcterms:modified>
  <cp:revision>1</cp:revision>
  <dc:subject/>
  <dc:title>Slide 1</dc:title>
</cp:coreProperties>
</file>