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AEF-9F2C-47CA-839F-B56E5CE5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266-6AA6-4DB5-ACC2-7D2A749D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661-4157-4E97-B559-8E1D542F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8E3-ABCF-46E8-BA67-1FCE198E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98C-8C3A-4272-A2CC-5C7AAEA4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761-D93F-4B29-8677-54AA5A5D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F40-95FE-4E7B-A274-9C7DF8AD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E94-16CB-4EDB-8683-0732EAA5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639-64C1-421A-8677-12E9C104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E0B-58DD-48EC-BBE4-1A64E6C4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711-F7A0-4FF0-AD22-29A1FE57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92A-8A5E-4C92-99F7-30F0B40D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B905-5F91-4708-9818-CDF5B698E51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tem o homem guerra sobre a terra? E não são os seus dias como os dias do jornalei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mais tornará à sua casa, nem o seu lugar jamais o conh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não reprimirei a minha boca; falarei na angústia do meu espírito; queixar-me-ei na amargura d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u eu porventura o mar, ou a baleia, para que me ponhas uma guar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 eu: Consolar-me-á a minha cama; meu leito aliviará a minha âns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espantas com sonhos, e com visões me assombr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 minha alma escolheria antes a estrangulação; e antes a morte do que 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vida abomino, pois não viveria para sempre; retira-te de mim; pois vaidade são os meu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é o homem, para que tanto o engrandeças, e ponhas nele o teu cor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da manhã o visites, e cada momento o prov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não apartarás de mim, nem me largarás, até que engula a minha saliv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servo que suspira pela sombra, e como o jornaleiro que espera pela sua pag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pequei, que te farei, ó Guarda dos homens? Por que fizeste de mim um alvo para ti, para que a mim mesmo me seja pes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que não perdoas a minha transgressão, e não tiras a minha iniqüidade? Porque agora me deitarei no pó, e de madrugada me buscarás, e não existirei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e deram por herança meses de vaidade; e noites de trabalho me prepa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tando-me a dormir, então digo: Quando me levantarei? Mas comprida é a noite, e farto-me de me revolver na cama até à al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carne se tem vestido de vermes e de torrões de pó; a minha pele está gretada, e se fez abomin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dias são mais velozes do que a lançadeira do tecelão, e acabam-se, sem esp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e que a minha vida é como o vento; os meus olhos não tornarão a ver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lhos dos que agora me vêem não me verão mais; os teus olhos estarão sobre mim, porém não serei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a nuvem se desfaz e passa, assim aquele que desce à sepultura nunca tornará a sub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40Z</dcterms:created>
  <dc:creator>Admin</dc:creator>
  <dc:description/>
  <dc:language>en-US</dc:language>
  <cp:lastModifiedBy>Admin</cp:lastModifiedBy>
  <dcterms:modified xsi:type="dcterms:W3CDTF">2008-07-31T00:00:40Z</dcterms:modified>
  <cp:revision>1</cp:revision>
  <dc:subject/>
  <dc:title>Slide 1</dc:title>
</cp:coreProperties>
</file>