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0CAAF-A90A-4679-9A82-06B4DCB5E2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AF80D-091B-482B-8909-9E981CDE5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75843-762B-4CB1-AE15-55C5F1988F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5057D-3AD6-4D74-849E-0D882FCB5C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5453D-7CAA-4F99-A76E-07F253350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A8F3B-89BB-4335-84F6-5477F2901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E9AFF-90E6-4B4D-83EE-7CE2AD326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5B1AF-5230-46DB-8DDE-D89FA41C6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40B65-5B46-405C-A3C2-42B3B7613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00908-C2CD-4004-8364-3AD67C90A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5CEE9-B660-4290-A4B3-5AA9BADC3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1D574-B2BA-4D02-BA77-099DEB0E6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3DF2C-2251-413D-9C6D-A00B82356A16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36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SUCEDEU, pois, no ano quarto de Jeoiaquim, filho de Josias, rei de Judá, que veio esta palavra do SENHOR a Jeremias, dizendo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36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Leu, pois, Baruque naquele livro as palavras de Jeremias, na casa do SENHOR, na câmara de Gemarias, filho de Safã, o escriba, no átrio superior, à entrada da porta nova da casa do SENHOR, aos ouvidos de todo o pov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36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ouvindo Micaías, filho de Gemarias, filho de Safã, todas as palavras do SENHOR, daquele livro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36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esceu à casa do rei, à câmara do escriba. E eis que todos os príncipes estavam ali assentados, a saber: Elisama, o escriba, e Delaías, filho de Semaías, e Elnatã, filho de Acbor, e Gemarias, filho de Safã, e Zedequias, filho de Hananias, e todos os out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36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Micaías anunciou-lhes todas as palavras que ouvira, quando Baruque leu o livro, aos ouvidos do pov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36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todos os príncipes mandaram Jeudi, filho de Netanias, filho de Selemias, filho de Cusi, a Baruque, para lhe dizer: O rolo que leste aos ouvidos do povo, toma-o na tua mão, e vem. E Baruque, filho de Nerias, tomou o rolo na sua mão, e foi ter com 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36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isseram-lhe: Assenta-te agora, e lê-o aos nossos ouvidos. E leu Baruque aos ouvidos del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36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sucedeu que, ouvindo eles todas aquelas palavras, voltaram-se temerosos uns para os outros, e disseram a Baruque: Sem dúvida alguma anunciaremos ao rei todas estas palavr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36:1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perguntaram a Baruque, dizendo: Declara-nos agora como escreveste da sua boca todas estas palavr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36:1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isse-lhes Baruque: Da sua boca ele me ditava todas estas palavras, e eu com tinta as escrevia no livr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36:1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disseram os príncipes a Baruque: Vai, esconde-te, tu e Jeremias, e ninguém saiba onde estai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36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oma o rolo de um livro, e escreve nele todas as palavras que te tenho falado de Israel, e de Judá, e de todas as nações, desde o dia em que eu te falei, desde os dias de Josias até ao dia de hoj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36:2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foram ter com o rei ao átrio: mas depositaram o rolo na câmara de Elisama, o escriba, e anunciaram aos ouvidos do rei todas aquelas palavr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36:2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enviou o rei a Jeudi, para que tomasse o rolo; e Jeudi tomou-o da câmara de Elisama, o escriba, e leu-o aos ouvidos do rei e aos ouvidos de todos os príncipes que estavam em torno do rei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36:2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ra, o rei estava assentado na casa de inverno, pelo nono mês; e diante dele estava um braseiro aces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36:2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sucedeu que, tendo Jeudi lido três ou quatro folhas, cortou-as com um canivete de escrivão, e lançou-as no fogo que havia no braseiro, até que todo o rolo se consumiu no fogo que estava sobre o braseir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36:2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não temeram, nem rasgaram as suas vestes, nem o rei, nem nenhum dos seus servos que ouviram todas aquelas palavr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36:2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posto que Elnatã, e Delaías, e Gemarias tivessem rogado ao rei que não queimasse o rolo, ele não lhes deu ouvid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36:2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ntes deu ordem o rei a Jerameel, filho de Hamaleque, e a Seraías, filho de Azriel, e a Selemias, filho de Abdeel, que prendessem a Baruque, o escrivão, e a Jeremias, o profeta; mas o SENHOR os esconder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36:2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veio a Jeremias a palavra do SENHOR, depois que o rei queimara o rolo, com as palavras que Baruque escrevera da boca de Jeremias, dizendo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36:2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oma ainda outro rolo, e escreve nele todas aquelas palavras que estavam no primeiro rolo, que queimou Jeoiaquim, rei de Judá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36:2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 Jeoiaquim, rei de Judá, dirás: Assim diz o SENHOR: Tu queimaste este rolo, dizendo: Por que escreveste nele, dizendo: Certamente virá o rei de Babilônia, e destruirá esta terra e fará cessar nela homens e animais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36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ventura ouvirão os da casa de Judá todo o mal que eu intento fazer-lhes; para que cada qual se converta do seu mau caminho, e eu perdoe a sua maldade e o seu pecad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36:3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tanto assim diz o SENHOR, acerca de Jeoiaquim, rei de Judá: Não terá quem se assente sobre o trono de Davi, e será lançado o seu cadáver ao calor do dia, e à geada da noit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36:3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castigarei a sua iniqüidade nele, e na sua descendência, e nos seus servos; e trarei sobre ele e sobre os moradores de Jerusalém, e sobre os homens de Judá, todo aquele mal que lhes tenho falado, e não ouvira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36:3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omou, pois, Jeremias outro rolo, e deu-o a Baruque, filho de Nerias, o escrivão, o qual escreveu nele, da boca de Jeremias, todas as palavras do livro que Jeoiaquim, rei de Judá, tinha queimado no fogo; e ainda se lhes acrescentaram muitas palavras sem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36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Jeremias chamou a Baruque, filho de Nerias; e escreveu Baruque da boca de Jeremias no rolo de um livro todas as palavras do SENHOR, que ele lhe tinha falad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36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Jeremias deu ordem a Baruque, dizendo: Eu estou encarcerado; não posso entrar na casa do SENH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36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ra, pois, tu, e pelo rolo que escreveste da minha boca, lê as palavras do SENHOR aos ouvidos do povo, na casa do SENHOR, no dia de jejum; e também, aos ouvidos de todos os de Judá, que vêm das suas cidades, as lerá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36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de ser que caia a sua súplica diante do SENHOR, e se converta cada um do seu mau caminho; porque grande é a ira e o furor que o SENHOR tem expressado contra este pov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36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fez Baruque, filho de Nerias, conforme tudo quanto lhe havia ordenado Jeremias, o profeta, lendo naquele livro as palavras do SENHOR, na casa do SENH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36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conteceu, no quinto ano de Jeoiaquim, filho de Josias, rei de Judá, no mês nono, que apregoaram jejum diante do SENHOR a todo o povo em Jerusalém, como também a todo o povo que vinha das cidades de Judá a Jerusalé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0T23:59:18Z</dcterms:created>
  <dc:creator>Admin</dc:creator>
  <dc:description/>
  <dc:language>en-US</dc:language>
  <cp:lastModifiedBy>Admin</cp:lastModifiedBy>
  <dcterms:modified xsi:type="dcterms:W3CDTF">2008-07-30T23:59:18Z</dcterms:modified>
  <cp:revision>1</cp:revision>
  <dc:subject/>
  <dc:title>Slide 1</dc:title>
</cp:coreProperties>
</file>