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8FF-790D-4235-B9B7-4CCFFF28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330-DC86-42E6-AB9B-C580934A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5C0-FC9B-4A25-B1EF-DFAC8126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884B-9826-45BF-91B3-F7663AA1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EC8-E525-4076-A69F-E47FD2D0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622-D751-479B-BF5E-BCB18273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25F0-B533-4369-B53B-EBC1C014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B282-5E2B-4612-AB80-A82E2E2A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B66C-61C7-4D07-897A-FE6A18A7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C79E-CBEF-41F3-B14F-0AE75EEA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7A77-DD8C-4FA1-9FE3-51F12DE8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BBF5-FC74-4D75-9E15-C0D83AC1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8F9D-9971-4A05-9809-1F7F7B30274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servos que estão debaixo do jugo estimem a seus senhores por dignos de toda a honra, para que o nome de Deus e a doutrina não sejam blasfem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amor ao dinheiro é a raiz de toda a espécie de males; e nessa cobiça alguns se desviaram da fé, e se traspassaram a si mesmos com muitas 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u, ó homem de Deus, foge destas coisas, e segue a justiça, a piedade, a fé, o amor, a paciência, a mansid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ilita a boa milícia da fé, toma posse da vida eterna, para a qual também foste chamado, tendo já feito boa confissão diante de muitas testemun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o-te diante de Deus, que todas as coisas vivifica, e de Cristo Jesus, que diante de Pôncio Pilatos deu o testemunho de boa confiss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guardes este mandamento sem mácula e repreensão, até à aparição de nosso Senhor Jesus Cri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al a seu tempo mostrará o bem-aventurado, e único poderoso SENHOR, Rei dos reis e Senhor dos senhor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 que tem, ele só, a imortalidade, e habita na luz inacessível; a quem nenhum dos homens viu nem pode ver, ao qual seja honra e poder sempiterno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a aos ricos deste mundo que não sejam altivos, nem ponham a esperança na incerteza das riquezas, mas em Deus, que abundantemente nos dá todas as coisas para delas gozarm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6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façam bem, enriqueçam em boas obras, repartam de boa mente, e sejam comunicáve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6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entesourem para si mesmos um bom fundamento para o futuro, para que possam alcançar a vid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e têm SENHORes crentes não os desprezem, por serem irmãos; antes os sirvam melhor, porque eles, que participam do benefício, são crentes e amados. Isto ensina e ex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6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Timóteo, guarda o depósito que te foi confiado, tendo horror aos clamores vãos e profanos e às oposições da falsamente chamada ciênci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6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al, professando-a alguns, se desviaram da fé. A graça seja contigo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ensina alguma outra doutrina, e se não conforma com as sãs palavras de nosso Senhor Jesus Cristo, e com a doutrina que é segundo a piedad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soberbo, e nada sabe, mas delira acerca de questões e contendas de palavras, das quais nascem invejas, porfias, blasfêmias, ruins suspeit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tendas de homens corruptos de entendimento, e privados da verdade, cuidando que a piedade seja causa de ganho; aparta-te dos t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é grande ganho a piedade com contentame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ada trouxemos para este mundo, e manifesto é que nada podemos levar d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, porém, sustento, e com que nos cobrirmos, estejamos com isso conten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que querem ser ricos caem em tentação, e em laço, e em muitas concupiscências loucas e nocivas, que submergem os homens na perdição e ruí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8:27Z</dcterms:created>
  <dc:creator>Admin</dc:creator>
  <dc:description/>
  <dc:language>en-US</dc:language>
  <cp:lastModifiedBy>Admin</cp:lastModifiedBy>
  <dcterms:modified xsi:type="dcterms:W3CDTF">2008-07-30T23:48:27Z</dcterms:modified>
  <cp:revision>1</cp:revision>
  <dc:subject/>
  <dc:title>Slide 1</dc:title>
</cp:coreProperties>
</file>