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C07E-B7D7-418E-8761-ADDBD16E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5843-4888-4C9F-BF72-5AEA8743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3E6-F28D-47B4-A8C9-47F9B2C7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0C6-3D5D-4E4D-8B14-81B11DC7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519A-F3F1-45B9-B23D-905BFBA3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FDD6-3563-46FF-873B-BC1DB095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3AB-3A5E-48F9-BE8B-2DA86624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DB94-8046-4CCC-A0B0-66CEE4CA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AF49-410E-427B-AECE-8F785441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A0C-E533-457F-A9C2-23E28E89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E21-D81E-4B81-B098-2F6D63EA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B2F-B47A-440C-AFBC-BB61E1C0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7926-A314-4105-B8F4-1B17C38AF36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MELHOR um bocado seco, e com ele a tranqüilidade, do que a casa cheia de iguarias e com desave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repreensão penetra mais profundamente no prudente do que cem açoites no to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 o rebelde não busca senão o mal; afinal, um mensageiro cruel será enviado contr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contre-se o homem com a ursa roubada dos filhos, mas não com o louco na sua estultí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àquele que paga o bem com o mal, não se apartará o mal d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soltar das águas é o início da contenda, assim, antes que sejas envolvido afasta-te da quest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justifica o ímpio, e o que condena o justo, tanto um como o outro são abomináveis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que serviria o preço na mão do tolo para comprar sabedoria, visto que não tem entendimen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todo o tempo ama o amigo e para a hora da angústia nasce o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falto de entendimento compromete-se, ficando por fiador na presença do seu a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ama a transgressão ama a contenda; o que exalta a sua porta busca a ruí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rvo prudente dominará sobre o filho que faz envergonhar; e repartirá a herança entre o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erverso de coração jamais achará o bem; e o que tem a língua dobre vem a cair n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gera um tolo para a sua tristeza o faz; e o pai do insensato não tem aleg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ração alegre é como o bom remédio, mas o espírito abatido seca até os o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ímpio toma presentes em secreto para perverter as veredas d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rosto do entendido se vê a sabedoria, mas os olhos do tolo vagam pelas extremidade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filho insensato é tristeza para seu pai, e amargura para aquela que o deu à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não é bom punir o justo, nem tampouco ferir aos príncipes por e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possui o conhecimento guarda as suas palavras, e o homem de entendimento é de precioso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o tolo, quando se cala, é reputado por sábio; e o que cerra os seus lábios é tido por enten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risol é para a prata, e o forno para o ouro; mas o SENHOR é quem prova os co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ímpio atenta para o lábio iníquo, o mentiroso inclina os ouvidos à língua malig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escarnece do pobre insulta ao seu Criador, o que se alegra da calamidade não ficará impu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coroa dos velhos são os filhos dos filhos; e a glória dos filhos são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nvém ao tolo a fala excelente; quanto menos ao príncipe, o lábio mentir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esente é, aos olhos dos que o recebem, como pedra preciosa; para onde quer que se volte servirá de prov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encobre a transgressão busca a amizade, mas o que revolve o assunto separa os maiores a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2:03Z</dcterms:created>
  <dc:creator>Admin</dc:creator>
  <dc:description/>
  <dc:language>en-US</dc:language>
  <cp:lastModifiedBy>Admin</cp:lastModifiedBy>
  <dcterms:modified xsi:type="dcterms:W3CDTF">2008-07-31T00:22:03Z</dcterms:modified>
  <cp:revision>1</cp:revision>
  <dc:subject/>
  <dc:title>Slide 1</dc:title>
</cp:coreProperties>
</file>