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3F6-BCDA-49E7-A4B9-16ADB165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7AC-81AA-4B3D-9183-66594C0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6D8-514C-43A8-88CA-F987EACA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35B-C4A5-461B-821B-03234FF9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484-8997-4DCB-8A7A-0F32297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86B-AEBF-441F-A86C-38DE9BB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B8B-6DC6-4A5B-BA4D-D29B1041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B47-D589-48C6-818A-93759FBD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7E7-A308-4895-9AB9-37821F09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F2E-8A56-4787-8789-7957C0D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13D-DA80-4147-A271-FD6A28E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C7E-9DBC-4EEA-BE9E-1D7394E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35CA-BABB-4CCE-84BE-DEC126BE8E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o Cordeiro aberto um dos selos, olhei, e ouvi um dos quatro animais, que dizia como em voz de trovão: Vem, 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lamavam com grande voz, dizendo: Até quando, ó verdadeiro e santo Dominador, não julgas e vingas o nosso sangue dos que habitam sobre a ter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oram dadas a cada um compridas vestes brancas e foi-lhes dito que repousassem ainda um pouco de tempo, até que também se completasse o número de seus conservos e seus irmãos, que haviam de ser mortos como eles fo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sexto selo, olhei, e eis que houve um grande tremor de terra; e o sol tornou-se negro como saco de cilício, e a lua tornou-se como sang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s estrelas do céu caíram sobre a terra, como quando a figueira lança de si os seus figos verdes, abalada por um vento f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céu retirou-se como um livro que se enrola; e todos os montes e ilhas foram removidos dos seus luga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reis da terra, e os grandes, e os ricos, e os tribunos, e os poderosos, e todo o servo, e todo o livre, se esconderam nas cavernas e nas rochas das montanha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ziam aos montes e aos rochedos: Caí sobre nós, e escondei-nos do rosto daquele que está assentado sobre o trono, e da ira do Cordei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é vindo o grande dia da sua ira; e quem poderá subsist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um cavalo branco; e o que estava assentado sobre ele tinha um arco; e foi-lhe dada uma coroa, e saiu vitorioso, e para ven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segundo selo, ouvi o segundo animal, dizendo: Vem, 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u outro cavalo, vermelho; e ao que estava assentado sobre ele foi dado que tirasse a paz da terra, e que se matassem uns aos outros; e foi-lhe dada uma grande esp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terceiro selo, ouvi dizer ao terceiro animal: Vem, e vê. E olhei, e eis um cavalo preto e o que sobre ele estava assentado tinha uma balança n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uma voz no meio dos quatro animais, que dizia: Uma medida de trigo por um dinheiro, e três medidas de cevada por um dinheiro; e não danifiques o azeite e o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quarto selo, ouvi a voz do quarto animal, que dizia: Vem, e vê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um cavalo amarelo, e o que estava assentado sobre ele tinha por nome Morte; e o inferno o seguia; e foi-lhes dado poder para matar a quarta parte da terra, com espada, e com fome, e com peste, e com as feras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aberto o quinto selo, vi debaixo do altar as almas dos que foram mortos por amor da palavra de Deus e por amor do testemunho que der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19Z</dcterms:created>
  <dc:creator>Admin</dc:creator>
  <dc:description/>
  <dc:language>en-US</dc:language>
  <cp:lastModifiedBy>Admin</cp:lastModifiedBy>
  <dcterms:modified xsi:type="dcterms:W3CDTF">2008-07-30T23:22:19Z</dcterms:modified>
  <cp:revision>1</cp:revision>
  <dc:subject/>
  <dc:title>Slide 1</dc:title>
</cp:coreProperties>
</file>