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4E9-1C6D-449E-9465-019FACFA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C3C-4AF1-4BD0-9BB5-E5599DAE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9A4-53CC-4EEF-B923-C0FE17A0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F91-AAAE-4A4C-B3E2-8360AFC4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F80-EDDA-4EBF-B2E2-DC21C03C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447-BA9B-4B27-94AC-AFE830FC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F35-619A-4A64-874E-A4E87587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544-B5BA-4BA9-AA63-D7AB88C2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C36-82FF-47A8-B575-0448341D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4BC-D7B6-4F6A-A583-9F68C26B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9C7-FA08-4063-A331-D88FA52F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D3B-4110-4AEF-A804-53FF2DBF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F155-BF89-4EFF-909E-F3C10B67A66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ULO, apóstolo de Jesus Cristo, segundo o mandado de Deus, nosso Salvador, e do SENHOR Jesus Cristo, esperança nos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os devassos, para os sodomitas, para os roubadores de homens, para os mentirosos, para os perjuros, e para o que for contrário à sã doutrin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orme o evangelho da glória de Deus bem-aventurado, que me foi confi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u graças ao que me tem confortado, a Cristo Jesus SENHOR nosso, porque me teve por fiel, pondo-me no ministéri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mim, que dantes fui blasfemo, e perseguidor, e injurioso; mas alcancei misericórdia, porque o fiz ignorantemente, na incredul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graça de nosso Senhor superabundou com a fé e amor que há em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uma palavra fiel, e digna de toda a aceitação, que Cristo Jesus veio ao mundo, para salvar os pecadores, dos quais eu sou o princip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por isso alcancei misericórdia, para que em mim, que sou o principal, Jesus Cristo mostrasse toda a sua longanimidade, para exemplo dos que haviam de crer nele para a vida et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ao Rei dos séculos, imortal, invisível, ao único Deus sábio, seja honra e glória para todo o sempr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 mandamento te dou, meu filho Timóteo, que, segundo as profecias que houve acerca de ti, milites por elas boa milíc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ervando a fé, e a boa consciência, a qual alguns, rejeitando, fizeram naufrágio n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Timóteo meu verdadeiro filho na fé: Graça, misericórdia e paz da parte de Deus nosso Pai, e da de Cristo Jesus, noss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re esses foram Himeneu e Alexandre, os quais entreguei a Satanás, para que aprendam a não blasfem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te roguei, quando parti para a Macedônia, que ficasses em Éfeso, para advertires a alguns, que não ensinem outra doutrin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se dêem a fábulas ou a genealogias intermináveis, que mais produzem questões do que edificação de Deus, que consiste na fé; assim o faço ag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fim do mandamento é o amor de um coração puro, e de uma boa consciência, e de uma fé não fing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o que, desviando-se alguns, se entregaram a vãs contend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rendo ser mestres da lei, e não entendendo nem o que dizem nem o que afirm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mos, porém, que a lei é boa, se alguém dela usa legitimame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imóteo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 isto, que a lei não é feita para o justo, mas para os injustos e obstinados, para os ímpios e pecadores, para os profanos e irreligiosos, para os parricidas e matricidas, para os homicid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16Z</dcterms:created>
  <dc:creator>Admin</dc:creator>
  <dc:description/>
  <dc:language>en-US</dc:language>
  <cp:lastModifiedBy>Admin</cp:lastModifiedBy>
  <dcterms:modified xsi:type="dcterms:W3CDTF">2008-07-30T23:48:16Z</dcterms:modified>
  <cp:revision>1</cp:revision>
  <dc:subject/>
  <dc:title>Slide 1</dc:title>
</cp:coreProperties>
</file>