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DBD-2C3F-454F-9510-2E811192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7FB-789E-4CE2-BDA2-BB49E00D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953-9354-4AF5-927B-C261B12E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0E9-AEBE-4FC5-BD6A-61A0B4B7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DB4-72B5-4099-BB11-504AF0B9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9CF-7245-4D82-87B9-ADBB5260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242-6145-47B4-905B-4D6F72D2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491-76CE-4B37-BB89-01A649E4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C2D-4996-4AEF-9EE5-31D9B63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C18-4A77-4B72-B61B-DC1D07E2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7CD-BB92-4CA7-879A-BEEBDE0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2DC-F5A2-42A8-817C-27D9303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641E-6890-4558-9BE0-578C649D48F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VI também fez casa para si na cidade de Davi; e preparou um lugar para a arca de Deus, e armou-lhe um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Uziel: Aminadabe, o chefe, e de seus irmãos cento e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Davi os sacerdotes Zadoque e Abiatar, e os levitas, Uriel, Asaías, Joel, Semaías, Eliel, e Aminad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Vós sois os chefes dos pais entre os levitas; santificai-vos, vós e vossos irmãos, para que façais subir a arca do SENHOR Deus de Israel, ao lugar que lhe tenho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vós não a levastes na primeira vez, o SENHOR nosso Deus fez rotura em nós, porque não o buscamos segundo a orden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ntificaram-se, pois, os sacerdotes e os levitas, para fazerem subir a arca d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os levitas trouxeram a arca de Deus sobre os seus ombros, pelas varas que nela havia, como Moisés tinha ordenado conform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os chefes dos levitas que constituíssem, de seus irmãos, cantores, para que com instrumentos musicais, com alaúdes, harpas e címbalos, se fizessem ouvir, levantando a voz co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ignaram, pois, os levitas a Hemã, filho de Joel; e dos seus irmãos, Asafe, filho de Berequias; e dos filhos de Merari, seus irmãos, Etã, filho de Cus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les a seus irmãos da segunda ordem: a Zacarias, Bene, Jaaziel, Semiramote, Jeiel, Uni, Eliabe, Benaia, Maaséias, Matitias, Elifeleu, Micnéias, Obede-Edom, e Jeiel, os port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ntores, Hemã, Asafe e Etã, se faziam ouvir com címbalos de met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: Ninguém pode levar a arca de Deus, senão os levitas; porque o SENHOR os escolheu, para levar a arca de Deus, e para o servirem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carias, Aziel, Semiramote, Jeiel, Uni, Eliabe, Maaséias, e Benaia, com alaúdes, sobre Alamo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itias, Elifeleu, Micnéias, Obede-Edom, Jeiel, e Azazias, com harpas, sobre Seminite, para sobressaí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nanias, chefe dos levitas, tinha o encargo de dirigir o canto; ensinava-os a entoá-lo, porque era ente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requias e Elcana eram porteiros d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banias, Jeosafá, Netanel, Amasai, Zacarias, Benaia, e Eliezer, os sacerdotes, tocavam as trombetas perante a arca de Deus; e Obede-Edom e Jeías eram porteiros d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 Davi e os anciãos de Israel, e os capitães dos milhares, foram, com alegria, para fazer subir a arca da aliança do SENHOR, da casa de Obede-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judando Deus os levitas que levavam a arca da aliança do SENHOR, sacrificaram sete novilhos e sete carn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ia vestido de um manto de linho fino, como também todos os levitas que levavam a arca, e os cantores, e Quenanias, mestre dos cantores; também Davi levava sobre si um éfode de li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Israel fez subir a arca da aliança do SENHOR, com júbilo, e ao som de buzinas, e de trombetas, e de címbalos, fazendo ressoar alaúdes e har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hegando a arca da aliança do SENHOR à cidade de Davi, Mical, a filha de Saul, olhou de uma janela, e, vendo a Davi dançar e tocar, o desprezou n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convocou a todo o Israel em Jerusalém, para fazer subir a arca do SENHOR ao seu lugar, que lhe tinha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reuniu os filhos de Arão e os levit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Coate: Uriel, o chefe, e de seus irmãos cento e v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Merari: Asaías, o chefe, e de seus irmãos duzentos e v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Gérson: Joel, o chefe, e de seus irmãos cento e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Elizafã: Semaías, o chefe, e de seus irmãos du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Hebrom: Eliel, o chefe, e de seus irmãos oit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14Z</dcterms:created>
  <dc:creator>Admin</dc:creator>
  <dc:description/>
  <dc:language>en-US</dc:language>
  <cp:lastModifiedBy>Admin</cp:lastModifiedBy>
  <dcterms:modified xsi:type="dcterms:W3CDTF">2008-07-30T23:43:14Z</dcterms:modified>
  <cp:revision>1</cp:revision>
  <dc:subject/>
  <dc:title>Slide 1</dc:title>
</cp:coreProperties>
</file>