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35D-30A8-4BDA-893C-8B0A9B49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E70-7FAD-47CB-B63E-7EE21A1B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893-CBDE-4789-A6E2-7B4410CC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BBF-87D5-41A1-AD4D-4AFF3B29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59C-3F74-43AC-BEC7-80C487A0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3DA-5E53-41EF-B404-47002334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787-079B-460D-B071-93FA0EC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6F5-444C-4361-9A69-040158F8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E02-5B2C-4AEA-BB35-79E7668E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DFF-EB42-45A7-892D-68B1148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47B-D779-4AD8-A0E3-4BA9A03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49A-B8AD-4EDC-80D7-4442220B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6BEB-8D41-43E6-8E82-6D1EA8D7C66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depois destas coisas que, Nabote, o jizreelita, tinha uma vinha em Jizreel junto ao palácio de Acabe, rei de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nde defronte dele dois filhos de Belial, que testemunhem contra ele, dizendo: Blasfemaste contra Deus e contra o rei; e trazei-o fora, e apedrejai-o para qu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a sua cidade, os anciãos e os nobres que habitavam na sua cidade, fizeram como Jezabel lhes ordenara, conforme estava escrito nas cartas que lhes mand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goaram um jejum, e puseram a Nabote diante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dois homens, filhos de Belial, e puseram-se defronte dele; e os homens, filhos de Belial, testemunharam contra ele, contra Nabote, perante o povo, dizendo: Nabote blasfemou contra Deus e contra o rei. E o levaram para fora da cidade, e o 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aram dizer a Jezabel: Nabote foi apedrejado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Jezabel que já fora apedrejado Nabote, e morrera, disse a Acabe: Levanta-te, e possui a vinha de Nabote, o jizreelita, a qual te recusou dar por dinheiro; porque Nabote não vive, mas é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Acabe, que Nabote já era morto, levantou-se para descer para a vinha de Nabote, o jizreelita, para tomar posse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palavra do SENHOR a Elias, o tisbit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desce para encontrar-te com Acabe, rei de Israel, que está em Samaria; eis que está na vinha de Nabote, aonde tem descido para possuí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-lhe-ás, dizendo: Assim diz o SENHOR: Porventura não mataste e tomaste a herança? Falar-lhe-ás mais, dizendo: Assim diz o SENHOR: No lugar em que os cães lamberam o sangue de Nabote lamberão também o teu própri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cabe falou a Nabote, dizendo: Dá-me a tua vinha, para que me sirva de horta, pois está vizinha ao lado da minha casa; e te darei por ela outra vinha melhor: ou, se for do teu agrado, dar-te-ei o seu valor em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cabe a Elias: Já me achaste, inimigo meu? E ele disse: Achei-te; porquanto já te vendeste para fazeres o que é mau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rarei mal sobre ti, e arrancarei a tua posteridade, e arrancarei de Acabe a todo o homem, tanto o escravo como o livre em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a tua casa como a casa de Jeroboão, filho de Nebate, e como a casa de Baasa, filho de Aías; por causa da provocação, com que me provocaste e fizeste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cerca de Jezabel falou o SENHOR, dizendo: Os cães comerão a Jezabel junto ao antemuro de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morrer dos de Acabe, na cidade, os cães o comerão; e o que morrer no campo as aves do céu o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inguém fora como Acabe, que se vendera para fazer o que era mau aos olhos do SENHOR; porque Jezabel, sua mulher, o inci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grandes abominações, seguindo os ídolos, conforme a tudo o que fizeram os amorreus, os quais o SENHOR lançou fora da sua possessão, de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 Acabe, ouvindo estas palavras, rasgou as suas vestes, e cobriu a sua carne de saco, e jejuou; e jazia em saco, e andava man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palavra do SENHOR a Elias tisbit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iste que Acabe se humilha perante mim? Por isso, porquanto se humilha perante mim, não trarei este mal nos seus dias, mas nos dias de seu filho o trarei sobre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abote disse a Acabe: Guarde-me o SENHOR de que eu te dê a herança de m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cabe veio desgostoso e indignado à sua casa, por causa da palavra que Nabote, o jizreelita, lhe falara, quando disse: Não te darei a herança de meus pais. E deitou-se na sua cama, e voltou o rosto, e não comeu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vindo a ele Jezabel, sua mulher, lhe disse: Que há, que está tão desgostoso o teu espírito, e não comes p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Porque falei a Nabote, o jizreelita, e lhe disse: Dá-me a tua vinha por dinheiro; ou, se te apraz, te darei outra vinha em seu lugar. Porém ele disse: Não te darei a minh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zabel, sua mulher lhe disse: Governas tu agora no reino de Israel? Levanta-te, come pão, e alegre-se o teu coração; eu te darei a vinha de Nabote, o jizreel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creveu cartas em nome de Acabe, e as selou com o seu sinete; e mandou as cartas aos anciãos e aos nobres que havia na sua cidade e habitavam com Nab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reveu nas cartas, dizendo: Apregoai um jejum, e ponde Nabote diante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08Z</dcterms:created>
  <dc:creator>Admin</dc:creator>
  <dc:description/>
  <dc:language>en-US</dc:language>
  <cp:lastModifiedBy>Admin</cp:lastModifiedBy>
  <dcterms:modified xsi:type="dcterms:W3CDTF">2008-07-30T23:46:08Z</dcterms:modified>
  <cp:revision>1</cp:revision>
  <dc:subject/>
  <dc:title>Slide 1</dc:title>
</cp:coreProperties>
</file>