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A21-B204-4305-B175-1CF0F67A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987-4862-4CB4-818E-C9F3BDFC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463-0C60-4E95-8845-BB569671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B6D-B80C-4AE3-A88D-CB531FBA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741-4518-4F1E-A8F1-59D2666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6A0-D55C-4A4B-97A9-1F22500D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982-D167-4DCD-BA6B-10891B2B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E8D-7ED6-4341-BAC1-DDD8E970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168-887E-4A34-8ED3-58932608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AED-C10F-45C0-AD44-6C31679C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580-C6C7-4470-AA1E-8BFFF72A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A7E-1F8C-41B6-802B-38D64FFE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D88C-793D-43EF-8976-F67898B3EF9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veio a Jeremias acerca de todo o povo de Judá no quarto ano de Jeoiaquim, filho de Josias, rei de Judá (que é o primeiro ano de Nabucodonosor, rei de Babilônia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desaparecer dentre eles a voz de gozo, e a voz de alegria, a voz do esposo, e a voz da esposa, como também o som das mós, e a luz do cande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esta terra virá a ser um deserto e um espanto; e estas nações servirão ao rei de Babilônia set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rá, porém, que, quando se cumprirem os setenta anos, visitarei o rei de Babilônia, e esta nação, diz o SENHOR, castigando a sua iniqüidade, e a da terra dos caldeus; farei deles ruínas perpét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rei sobre aquela terra todas as minhas palavras, que disse contra ela, a saber, tudo quanto está escrito neste livro, que profetizou Jeremias contra todas est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deles se servirão muitas nações e grandes reis; assim lhes retribuirei segundo os seus feitos, e segundo as obras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me disse o SENHOR Deus de Israel: Toma da minha mão este copo do vinho do furor, e darás a beber dele a todas as nações, às quais eu te envi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bebam e tremam, e enlouqueçam, por causa da espada, que eu enviarei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ei o copo da mão do SENHOR, e dei a beber a todas as nações, às quais o SENHOR me envi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Jerusalém, e às cidades de Judá, e aos seus reis, e aos seus príncipes, para fazer deles uma desolação, um espanto, um assobio, e uma maldição, como hoje se vê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araó, rei do Egito, e a seus servos, e a seus príncipes, e a todo o seu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anunciou o profeta Jeremias a todo o povo de Judá, e a todos os habitantes de Jerusalé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a a mistura de povo, e a todos os reis da terra de Uz, e a todos os reis da terra dos filisteus, e a Ascalom, e a Gaza, e a Ecrom, e ao remanescente de Asdo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Edom, e a Moabe, e aos filhos de Am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s os reis de Tiro, e a todos os reis de Sidom; e aos reis das ilhas que estão além do m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edã, e a Tema, e a Buz e a todos os que estão nos lugares mais dist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s os reis da Arábia, e todos os reis do povo misto que habita no dese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s os reis de Zinri, e a todos os reis de Elão, e a todos os reis da Mé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s os reis do norte, os de perto, e os de longe, tanto um como o outro, e a todos os reinos do mundo, que estão sobre a face da terra, e o rei de Sesaque beberá depoi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lhes dirás: Assim diz o SENHOR dos Exércitos, o Deus de Israel: Bebei, e embebedai-vos, e vomitai, e caí, e não torneis a levantar-vos, por causa da espada que eu vos envi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se não quiserem tomar o copo da tua mão para beber, então lhes dirás: Assim diz o SENHOR dos Exércitos: Certamente beb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na cidade que se chama pelo meu nome começo a castigar; e ficareis vós totalmente impunes? Não ficareis impunes, porque eu chamo a espada sobre todos os moradores da terra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ano treze de Josias, filho de Amom, rei de Judá, até o dia de hoje, período de vinte e três anos, tem vindo a mim a palavra do SENHOR, e vo-la tenho anunciado, madrugando e falando; mas vós não escut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lhes profetizarás todas estas palavras, e lhes dirás: O SENHOR desde o alto bramirá, e fará ouvir a sua voz desde a morada da sua santidade; terrivelmente bramirá contra a sua habitação, com grito de alegria, como dos que pisam as uvas, cont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rá o estrondo até à extremidade da terra, porque o SENHOR tem contenda com as nações, entrará em juízo com toda a carne; os ímpios entregará à espad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Eis que o mal passa de nação para nação, e grande tormenta se levantará dos confin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ão os mortos do SENHOR, naquele dia, desde uma extremidade da terra até à outra; não serão pranteados, nem recolhidos, nem sepultados; mas serão por esterco sobre a fac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ivai, pastores, e clamai, e revolvei-vos na cinza, principais do rebanho, porque já se cumpriram os vossos dias para serdes mortos, e dispersos, e vós então caireis como um vaso preci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haverá refúgio para os pastores, nem salvamento para os principais do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z de grito dos pastores, e uivos dos principais do rebanho; porque o SENHOR está destruindo o past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suas malhadas pacíficas serão desarraigadas, por causa do furor da i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ou a sua tenda, como o filho de leão; porque a sua terra foi posta em desolação, por causa do furor do opressor, e por causa do furor d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os enviou o SENHOR todos os seus servos, os profetas, madrugando e enviando-os, mas vós não escutastes, nem inclinastes os vossos ouvidos para ouv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diziam: Convertei-vos agora cada um do seu mau caminho, e da maldade das suas ações, e habitai na terra que o SENHOR vos deu, e a vossos pais,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andeis após outros deuses para os servirdes, e para vos inclinardes diante deles, nem me provoqueis à ira com a obra de vossas mãos, para que não vos faça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me destes ouvidos, diz o SENHOR, mas me provocastes à ira com a obra de vossas mãos, para voss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os Exércitos: Visto que não escutastes as minhas palav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enviarei, e tomarei a todas as famílias do norte, diz o SENHOR, como também a Nabucodonosor, rei de Babilônia, meu servo, e os trarei sobre esta terra, e sobre os seus moradores, e sobre todas estas nações em redor, e os destruirei totalment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37Z</dcterms:created>
  <dc:creator>Admin</dc:creator>
  <dc:description/>
  <dc:language>en-US</dc:language>
  <cp:lastModifiedBy>Admin</cp:lastModifiedBy>
  <dcterms:modified xsi:type="dcterms:W3CDTF">2008-07-30T23:58:37Z</dcterms:modified>
  <cp:revision>1</cp:revision>
  <dc:subject/>
  <dc:title>Slide 1</dc:title>
</cp:coreProperties>
</file>