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F4D8-AB7A-4033-B056-445BDBF83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2F7C-95CF-4E26-BDCD-8B4BB8F0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C99A-8375-4575-B7FE-C831DA4E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D8FA-42FA-496F-B194-7F7D44A25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6CBE-D883-419D-84F7-D0CDD320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51BE-3F12-4AF6-99A5-83664763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43C6-92E7-4D1C-B925-A40290FA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59CF-1AF5-482E-9C1B-FD2683DD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6D8B-46C1-42DA-9BD3-2CBD29BF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31C0-0327-4B00-AA2F-F4750660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C97D-1253-4D3A-9043-19399607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9F1D-4F5D-4138-AA32-B739945B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A550-6699-405C-A643-867162D03D5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pois, Atalia, mãe de Acazias, que seu filho era morto, levantou-se, e destruiu toda a descendência re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acerdote deu aos centuriões as lanças e os escudos que haviam sido do rei Davi, que estavam n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da guarda se puseram, cada um com as armas na mão, desde o lado direito da casa até ao lado esquerdo da casa, do lado do altar, e do lado da casa, em redor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oiada fez sair o filho do rei, e lhe pôs a coroa, e lhe deu o testemunho; e o fizeram rei, e o ungiram, e bateram as palmas, e disseram: Viva o rei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talia, ouvindo a voz dos da guarda e do povo, foi ter com o povo, n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lhou, e eis que o rei estava junto à coluna, conforme o costume, e os príncipes e os trombeteiros junto ao rei, e todo o povo da terra estava alegre e tocava as trombetas; então Atalia rasgou as suas vestes, e clamou: Traição! Traição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sacerdote Joiada deu ordem aos centuriões que comandavam as tropas, dizendo-lhes: Tirai-a para fora das fileiras, e a quem a seguir matai-o à espada. Porque o sacerdote disse: Não a matem n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ançaram mão dela; e ela foi, pelo caminho da entrada dos cavalos, à casa do rei, e ali a mat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iada fez uma aliança entre o SENHOR e o rei e o povo, para que fosse o povo do SENHOR; como também entre o rei e 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do o povo da terra entrou na casa de Baal, e a derrubaram, como também os seus altares, e as suas imagens, totalmente quebraram, e a Matã, sacerdote de Baal, mataram diante dos altares; então o sacerdote pôs oficiais sobre 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ou os centuriões, e os capitães, e os da guarda, e todo o povo da terra; e conduziram da casa do SENHOR, o rei, e foram, pelo caminho da porta dos da guarda, à casa do rei, e ele se assentou no trono dos 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Jeoseba, filha do rei Jorão, irmã de Acazias, tomou a Joás, filho de Acazias, furtando-o dentre os filhos do rei, aos quais matavam, e o pôs, a ele e à sua ama na recâmara, e o escondeu de Atalia, e assim não o mat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 o povo da terra se alegrou, e a cidade repousou, depois que mataram a Atalia, à espada, junto à casa do re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ra Joás da idade de sete anos quando o fizeram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ve com ela escondido na casa do SENHOR seis anos; e Atalia reinava sobre o paí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sétimo ano enviou Joiada, e tomou os centuriões, com os capitães, e com os da guarda, e os colocou consigo na casa do SENHOR; e fez com eles uma aliança e ajuramentou-os na casa do SENHOR; e mostrou-lhes o filho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-lhes ordem, dizendo: Isto é o que haveis de fazer: Uma terça parte de vós, que entrais no sábado, fará a guarda da casa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tra terça parte estará à porta de Sur; e a outra terça parte à porta detrás dos da guarda; assim fareis a guarda desta casa, afastando a to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duas partes de vós, a saber, todos os que saem no sábado, farão a guarda da casa do SENHOR junto a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odeareis o rei, cada um com as suas armas na mão, e aquele que entrar entre as fileiras o matarão; e vós estareis com o rei quando sair e quando entr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zeram, pois, os centuriões conforme tudo quanto ordenara o sacerdote Joiada, tomando cada um os seus homens, tanto os que entravam no sábado como os que saíam no sábado; e foram ao sacerdote Joi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1:40Z</dcterms:created>
  <dc:creator>Admin</dc:creator>
  <dc:description/>
  <dc:language>en-US</dc:language>
  <cp:lastModifiedBy>Admin</cp:lastModifiedBy>
  <dcterms:modified xsi:type="dcterms:W3CDTF">2008-07-30T23:51:40Z</dcterms:modified>
  <cp:revision>1</cp:revision>
  <dc:subject/>
  <dc:title>Slide 1</dc:title>
</cp:coreProperties>
</file>