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619-B55A-454F-B648-3925DC80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824-502C-4EF1-A162-BA683195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5FB-FFFD-4E2F-84D9-B9F9B606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FF5-B738-4776-A537-AFB7E56A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321-0E66-41B0-830D-DABEEDF8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E96-DF12-4644-8721-71994317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E17-F9A7-42D8-905A-E3A72CD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896-AFAD-4743-8FE6-1F6E0351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D3B-492F-4488-8269-B1D3A47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E16-34FB-438C-B5DB-AC0915D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F5B-82ED-4958-B1D0-0F11E4C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506-D74A-40DD-BCDC-C9EEAA80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A2B-31AC-4708-B052-136A137BA7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 pois? Permaneceremos no pecado, para que a graça abun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anto a ter morrido, de uma vez morreu para o pecado; mas, quanto a viver, vive pa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 considerai-vos como mortos para o pecado, mas vivos para Deus em Cristo Jesus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ine, portanto, o pecado em vosso corpo mortal, para lhe obedecerdes em suas concupiscênc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apresenteis os vossos membros ao pecado por instrumentos de iniqüidade; mas apresentai-vos a Deus, como vivos dentre mortos, e os vossos membros a Deus, como instrumentos d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ecado não terá domínio sobre vós, pois não estais debaixo da lei, mas debaixo da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? Pecaremos porque não estamos debaixo da lei, mas debaixo da graça? De modo nenh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que a quem vos apresentardes por servos para lhe obedecer, sois servos daquele a quem obedeceis, ou do pecado para a morte, ou da obediência para a justi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graças a Deus que, tendo sido servos do pecado, obedecestes de coração à forma de doutrina a que fostes entreg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ibertados do pecado, fostes feitos servos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 como homem, pela fraqueza da vossa carne; pois que, assim como apresentastes os vossos membros para servirem à imundícia, e à maldade para maldade, assim apresentai agora os vossos membros para servirem à justiça para sant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odo nenhum. Nós, que estamos mortos para o pecado, como viveremos ainda n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éreis servos do pecado, estáveis livres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fruto tínheis então das coisas de que agora vos envergonhais? Porque o fim delas é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libertados do pecado, e feitos servos de Deus, tendes o vosso fruto para santificação, e por fim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alário do pecado é a morte, mas o dom gratuito de Deus é a vida eterna, por Cristo Jesus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sabeis que todos quantos fomos batizados em Jesus Cristo fomos batizados na sua mor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fomos sepultados com ele pelo batismo na morte; para que, como Cristo foi ressuscitado dentre os mortos, pela glória do Pai, assim andemos nós também em novidade de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fomos plantados juntamente com ele na semelhança da sua morte, também o seremos na da sua ressurre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isto, que o nosso homem velho foi com ele crucificado, para que o corpo do pecado seja desfeito, para que não sirvamos mais a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que está morto está justificad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já morremos com Cristo, cremos que também com ele vive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, tendo sido Cristo ressuscitado dentre os mortos, já não morre; a morte não mais tem domínio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20Z</dcterms:created>
  <dc:creator>Admin</dc:creator>
  <dc:description/>
  <dc:language>en-US</dc:language>
  <cp:lastModifiedBy>Admin</cp:lastModifiedBy>
  <dcterms:modified xsi:type="dcterms:W3CDTF">2008-07-31T00:23:20Z</dcterms:modified>
  <cp:revision>1</cp:revision>
  <dc:subject/>
  <dc:title>Slide 1</dc:title>
</cp:coreProperties>
</file>