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1FD6-CDEB-4F89-A3D5-963C5D665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D1F6-5831-4EB6-B0FF-AC84B427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AE7B-9FD8-4E1C-B80C-FB2B72F10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8248-0258-434F-8812-5A999085F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CBA4-9847-4BF0-8B36-98117E83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6732-CB62-44C6-B869-44123F04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CABB-F9BA-4EEF-8929-25513C2F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3CA7-D944-47F7-9AD8-BA8D6E1E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59C6-603E-4386-B518-936A15F2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C676-1D4E-4D00-BBC5-FDB3C51F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9F9C-2F2E-4FFC-BE93-9048C11B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F73F-2BF1-433D-A4F4-F60F1871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2E68-8C84-4C35-AE5D-7ADDAB3F861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RÉ, filho de Jizar, filho de Coate, filho de Levi, tomou consigo a Datã e a Abirão, filhos de Eliabe, e a Om, filho de Pelete, filhos de Rúbe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 fez chegar, e todos os teus irmãos, os filhos de Levi, contigo? ainda também procurais o sacerdóci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tu e todo o teu grupo estais contra o SENHOR; e Arão, quem é ele, que murmureis contra el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isés mandou chamar a Datã e a Abirão, filhos de Eliabe; porém eles disseram: Não subirem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pouco é que nos fizeste subir de uma terra que mana leite e mel, para nos matares neste deserto, senão que também queres fazer-te príncipe sobre nó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tampouco nos trouxeste a uma terra que mana leite e mel, nem nos deste campo e vinhas em herança; porventura arrancarás os olhos a estes homens? Não subire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oisés irou-se muito, e disse ao SENHOR: Não atentes para a sua oferta; nem um só jumento tomei deles, nem a nenhum deles fiz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Moisés a Coré: Tu e todo o teu grupo ponde-vos perante o SENHOR, tu e eles, e Arão, amanh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ai cada um o seu incensário, e neles ponde incenso; e trazei cada um o seu incensário perante o SENHOR, duzentos e cinqüenta incensários; também tu e Arão, cada um o seu incensá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ram, pois, cada um o seu incensário, e neles puseram fogo, e neles deitaram incenso, e se puseram perante a porta da tenda da congregação com Moisés e 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ré fez ajuntar contra eles todo o povo à porta da tenda da congregação; então a glória do SENHOR apareceu a toda a congreg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aram-se perante Moisés com duzentos e cinqüenta homens dos filhos de Israel, príncipes da congregação, chamados à assembléia, homens de posiç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o SENHOR a Moisés e a Arão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partai-vos do meio desta congregação, e os consumirei num mo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es se prostraram sobre os seus rostos, e disseram: Ó Deus, Deus dos espíritos de toda a carne, pecará um só homem, e indignar-te-ás tu contra toda esta congregaç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 a toda esta congregação, dizendo: Subi do derredor da habitação de Coré, Datã e Abi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6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oisés levantou-se, e foi a Datã e a Abirão; e após ele seguiram os anciã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6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à congregação, dizendo: Desviai-vos, peço-vos, das tendas destes homens ímpios, e não toqueis nada do que é seu para que porventura não pereçais em todos os seus pec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6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biram, pois, do derredor da habitação de Coré, Datã e Abirão. E Datã e Abirão saíram, e se puseram à porta das suas tendas, juntamente com as suas mulheres, e seus filhos, e suas crianç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6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Moisés: Nisto conhecereis que o SENHOR me enviou a fazer todos estes feitos, que de meu coração não proced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6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estes morrerem como morrem todos os homens, e se forem visitados como são visitados todos os homens, então o SENHOR não me envi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congregaram contra Moisés e contra Arão, e lhes disseram: Basta-vos, pois que toda a congregação é santa, todos são santos, e o SENHOR está no meio deles; por que, pois, vos elevais sobre a congregação do SENH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6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o SENHOR criar alguma coisa nova, e a terra abrir a sua boca e os tragar com tudo o que é seu, e vivos descerem ao abismo, então conhecereis que estes homens irritaram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6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acabando ele de falar todas estas palavras, a terra que estava debaixo deles se fend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6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terra abriu a sua boca, e os tragou com as suas casas, como também a todos os homens que pertenciam a Coré, e a todos os seus b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6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e tudo o que era seu desceram vivos ao abismo, e a terra os cobriu, e pereceram do meio da congreg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6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 o Israel, que estava ao redor deles, fugiu ao clamor deles; porque diziam: Para que não nos trague a terra também a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6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iu fogo do SENHOR, e consumiu os duzentos e cinqüenta homens que ofereciam o incen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6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6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 a Eleazar, filho de Arão, o sacerdote, que tome os incensários do meio do incêndio, e espalhe o fogo longe, porque santos s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6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os incensários daqueles que pecaram contra as suas almas, deles se façam folhas estendidas para cobertura do altar; porquanto os trouxeram perante o SENHOR; pelo que santos são; e serão por sinal a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6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azar, o sacerdote, tomou os incensários de metal, que trouxeram aqueles que foram queimados, e os estenderam em folhas para cobertura do alta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Moisés ouviu isso, caiu sobre o seu ro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6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memorial para os filhos de Israel, que nenhum estranho, que não for da descendência de Arão, se chegue para acender incenso perante o SENHOR; para que não seja como Coré e a sua congregação, como o SENHOR lhe tinha dito por intermédio de Moisé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6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o dia seguinte toda a congregação dos filhos de Israel murmurou contra Moisés e contra Arão, dizendo: Vós matastes o povo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6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ajuntando-se a congregação contra Moisés e Arão, e virando-se para a tenda da congregação, eis que a nuvem a cobriu, e a glória do SENHOR aparec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6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eram, pois, Moisés e Arão perante a tenda da congreg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6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alou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6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i-vos do meio desta congregação, e a consumirei num momento; então se prostraram sobre os seus rost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6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Moisés a Arão: Toma o teu incensário, e põe nele fogo do altar, e deita incenso sobre ele, e vai depressa à congregação, e faze expiação por eles; porque grande indignação saiu de diante do SENHOR; já começou a prag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6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ou-o Arão, como Moisés tinha falado, e correu ao meio da congregação; e eis que já a praga havia começado entre o povo; e deitou incenso nele, e fez expiação pel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6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va em pé entre os mortos e os vivos; e cessou a prag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6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e morreram daquela praga foram catorze mil e setecentos, fora os que morreram pela causa de Cor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a Coré e a toda a sua congregação, dizendo: Amanhã pela manhã o SENHOR fará saber quem é seu, e quem é o santo que ele fará chegar a si; e aquele a quem escolher fará chegar a s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6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oltou Arão a Moisés à porta da tenda da congregação; e cessou a prag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ei isto: Tomai vós incensários, Coré e todo seu grup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ondo fogo neles amanhã, sobre eles deitai incenso perante o SENHOR; e será que o homem a quem o SENHOR escolher, este será o santo; basta-vos, filhos de Le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Moisés a Coré: Ouvi agora, filhos de Levi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pouco para vós é que o Deus de Israel vos tenha separado da congregação de Israel, para vos fazer chegar a si, e administrar o ministério do tabernáculo do SENHOR e estar perante a congregação para ministrar-lh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8:58Z</dcterms:created>
  <dc:creator>Admin</dc:creator>
  <dc:description/>
  <dc:language>en-US</dc:language>
  <cp:lastModifiedBy>Admin</cp:lastModifiedBy>
  <dcterms:modified xsi:type="dcterms:W3CDTF">2008-07-31T00:18:58Z</dcterms:modified>
  <cp:revision>1</cp:revision>
  <dc:subject/>
  <dc:title>Slide 1</dc:title>
</cp:coreProperties>
</file>