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837-C904-42B9-BD19-564B4BA6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902-AFC5-4164-8D26-67970EAA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3F7-DFEB-4DA5-958A-F25F1C23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24A-D2F1-45B3-B2D2-414B552A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D81-007A-4030-A408-D183222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344-3698-44F2-B3A7-5324A4D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6AD-EF19-4FAC-B2D9-44BD2729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79D-174C-473B-9125-1429CBA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43A-AD8E-49FC-93EB-7537C1D1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6C6-D8CD-4E77-8905-B0B3206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A00-1F27-4865-8A80-DE3E5650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CF0-46D0-4C11-9931-644CFAC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3B25-FB09-4C3D-BC6D-85D23242550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s que nas suas camas intentam a iniqüidade, e maquinam o mal; à luz da alva o praticam, porque está no poder da sua m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, e ide-vos, porque este não é lugar de descanso; por causa da imundícia que traz destruição, sim, destruição enor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houver alguém que, andando com espírito de falsidade, mentir, dizendo: Eu te profetizarei sobre o vinho e a bebida forte; será esse tal o profeta deste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te ajuntarei todo, ó Jacó; certamente congregarei o restante de Israel; pô-los-ei todos juntos, como ovelhas de Bozra; como o rebanho no meio do seu pasto, farão estrondo por causa da multidã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rá diante deles o que abrirá o caminho; eles romperão, e entrarão pela porta, e sairão por ela; e o rei irá adiante deles, e o SENHOR à testa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biçam campos, e roubam-nos, cobiçam casas, e arrebatam-nas; assim fazem violência a um homem e à sua casa, a uma pessoa e à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: Eis que projeto um mal contra esta família, do qual não tirareis os vossos pescoços, e não andareis tão altivos, porque o tempo será m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se levantará sobre vós um provérbio, e se lamentará pranto lastimoso, dizendo: Nós estamos inteiramente desolados; a porção do meu povo ele a troca; como me despoja! Tira os nossos campos e os repar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ão terás tu na congregação do SENHOR quem lance o cordel pela s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rofetizeis aos que profetizam; eles não profetizarão para eles, pois não se apartará a sua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vós que sois chamados casa de Jacó, porventura encurtou-se o Espírito do SENHOR? São estas as suas obras? E não é assim que fazem bem as minhas palavras ao que anda retam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ntem, se levantou o meu povo como inimigo; de sobre a vestidura tirastes a capa daqueles que passavam seguros, como homens que voltavam d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stes fora as mulheres do meu povo, da casa das suas delícias; das suas crianças tirastes para sempre a minh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24Z</dcterms:created>
  <dc:creator>Admin</dc:creator>
  <dc:description/>
  <dc:language>en-US</dc:language>
  <cp:lastModifiedBy>Admin</cp:lastModifiedBy>
  <dcterms:modified xsi:type="dcterms:W3CDTF">2008-07-31T00:16:24Z</dcterms:modified>
  <cp:revision>1</cp:revision>
  <dc:subject/>
  <dc:title>Slide 1</dc:title>
</cp:coreProperties>
</file>