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936-595A-4705-9043-86BBD82F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7513-37DF-4265-9020-CF22A913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D690-6F90-48F5-8514-B23A5578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A522-551F-4DA9-A307-C0F9EA45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449-8E0E-46FA-B40E-8A633092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D58F-4EF4-4C75-8367-2AEDAB24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96D0-7275-4FF3-88B1-43B2AC47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C3B-8B66-4874-B70F-F000B48A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727-C33E-4980-AF1A-245A4926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13CC-E582-4AB4-9641-896D9A1D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BCA5-EF5B-4737-A9BC-B2D8389D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A86-2E8D-4CE6-870A-34CC9808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AD8C-33AA-44A1-9D81-58662AAC416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nos dias de Anrafel, rei de Sinar, Arioque, rei de Elasar, Quedorlaomer, rei de Elão, e Tidal, rei de Go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vale de Sidim estava cheio de poços de betume; e fugiram os reis de Sodoma e de Gomorra, e caíram ali; e os restantes fugiram para um mo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am todos os bens de Sodoma, e de Gomorra, e todo o seu mantimento e foram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tomaram a Ló, que habitava em Sodoma, filho do irmão de Abrão, e os seus bens, e foram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veio um, que escapara, e o contou a Abrão, o hebreu; ele habitava junto dos carvalhais de Manre, o amorreu, irmão de Escol, e irmão de Aner; eles eram confederados de Ab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ndo, pois, Abrão que o seu irmão estava preso, armou os seus criados, nascidos em sua casa, trezentos e dezoito, e os perseguiu até D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vidiu-se contra eles de noite, ele e os seus criados, e os feriu, e os perseguiu até Hobá, que fica à esquerda de Dama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ou a trazer todos os seus bens, e tornou a trazer também a Ló, seu irmão, e os seus bens, e também as mulheres, e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de Sodoma saiu-lhe ao encontro (depois que voltou de ferir a Quedorlaomer e aos reis que estavam com ele) até ao Vale de Savé, que é o vale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elquisedeque, rei de Salém, trouxe pão e vinho; e era este sacerdote do Deus Altíss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ençoou-o, e disse: Bendito seja Abrão pelo Deus Altíssimo, o Possuidor dos céus e d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estes fizeram guerra a Bera, rei de Sodoma, a Birsa, rei de Gomorra, a Sinabe, rei de Admá, e a Semeber, rei de Zeboim, e ao rei de Belá (esta é Zoar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ndito seja o Deus Altíssimo, que entregou os teus inimigos nas tuas mãos. E Abrão deu-lhe o dízimo de t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ei de Sodoma disse a Abrão: Dá-me a mim as pessoas, e os bens toma par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ão, porém, disse ao rei de Sodoma: Levantei minha mão ao SENHOR, o Deus Altíssimo, o Possuidor dos céus e da t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rando que desde um fio até à correia de um sapato, não tomarei coisa alguma de tudo o que é teu; para que não digas: Eu enriqueci a Abr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lvo tão-somente o que os jovens comeram, e a parte que toca aos homens que comigo foram, Aner, Escol e Manre; estes que tomem a sua pa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estes se ajuntaram no vale de Sidim (que é o Mar Salgado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ze anos haviam servido a Quedorlaomer, mas ao décimo terceiro ano rebelaram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décimo quarto ano veio Quedorlaomer, e os reis que estavam com ele, e feriram aos refains em Asterote-Carnaim, e aos zuzins em Hã, e aos emins em Savé-Quiriata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s horeus no seu monte Seir, até El-Parã que está junto a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tornaram e vieram a En-Mispate (que é Cades), e feriram toda a terra dos amalequitas, e também aos amorreus, que habitavam em Hazazom-Ta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u o rei de Sodoma, e o rei de Gomorra, e o rei de Admá, e o rei de Zeboim, e o rei de Belá (esta é Zoar), e ordenaram batalha contra eles no vale de Sid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ra Quedorlaomer, rei de Elão, e Tidal, rei de Goim, e Anrafel, rei de Sinar, e Arioque, rei de Elasar; quatro reis contra cin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7:53Z</dcterms:created>
  <dc:creator>Admin</dc:creator>
  <dc:description/>
  <dc:language>en-US</dc:language>
  <cp:lastModifiedBy>Admin</cp:lastModifiedBy>
  <dcterms:modified xsi:type="dcterms:W3CDTF">2008-07-30T23:37:53Z</dcterms:modified>
  <cp:revision>1</cp:revision>
  <dc:subject/>
  <dc:title>Slide 1</dc:title>
</cp:coreProperties>
</file>