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57F-D926-4400-B583-3BE00819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14B-46F0-428D-91FD-74F9D3B5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1D1-3E29-4DA5-8AE5-6F51DE12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87A-D191-4BA6-9338-B0499340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E47-6E65-4399-BC47-180A8A0F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83D-EF69-4BDE-969E-3A462CC4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541-47A7-4DE3-BF33-33863CB7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354-50B9-4D3A-B39E-375B979A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4D1-5CA5-4FE8-8E62-BB15328A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A10-94F4-4673-9260-38313A3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A4B-06DF-4FE0-BB62-91703376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C1C-8751-4839-B49B-46CE86B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CB1B-1C9E-48C4-9B86-95E6EB74A77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mais Eliú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inguém diz: Onde está Deus que me criou, que dá salmos durante a noi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os ensina mais do que aos animais da terra e nos faz mais sábios do que as aves dos cé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m, porém ele não responde, por causa da arrogância dos ma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o é que Deus não ouvirá a vaidade, nem atentará para ela o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o que disseste, que o não verás, juízo há perante ele; por isso espera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, porque a sua ira ainda não se exerce, nem grandemente considera a arrogân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 Jó em vão abre a sua boca, e sem ciência multiplica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s por direito dizeres: Maior é a minha justiça do que a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sseste: De que me serviria? Que proveito tiraria mais do que do meu pec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darei resposta, a ti e aos teus amigos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ta para os céus, e vê; e contempla as mais altas nuvens, que são mais altas do que t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ecares, que efetuarás contra ele? Se as tuas transgressões se multiplicarem, que lhe fa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ores justo, que lhe darás, ou que receberá ele da tua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impiedade faria mal a outro tal como tu; e a tua justiça aproveitaria a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s muitas opressões os homens clamam por causa do braço dos gra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09Z</dcterms:created>
  <dc:creator>Admin</dc:creator>
  <dc:description/>
  <dc:language>en-US</dc:language>
  <cp:lastModifiedBy>Admin</cp:lastModifiedBy>
  <dcterms:modified xsi:type="dcterms:W3CDTF">2008-07-31T00:02:09Z</dcterms:modified>
  <cp:revision>1</cp:revision>
  <dc:subject/>
  <dc:title>Slide 1</dc:title>
</cp:coreProperties>
</file>