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8F5-D593-4A0B-B686-DB8617F9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D91-5F40-46B6-8EF0-46287724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ABC-826D-427E-92A7-56861F11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1CF-BFED-424D-B765-FEFF7153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7BB-E3BD-4C10-ABED-0D47CB97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06D-77A6-4C3E-B8F7-E7361A19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CDA-FBE6-46BC-988F-0EE97ED8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C99-15EF-46DC-9BA6-D1683132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046-1A52-4A0E-8335-45827CE6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5F5-5D58-4248-8DC0-AD55DE1C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74C-A1BF-4162-B725-34C8DE37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890-024C-4AA0-A7BE-43C786DE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06EF-9B4F-49E9-B991-30236386392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NJAMIM gerou a Belá, seu primogênito, a Asbel o segundo, e a Aará o tercei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Jeuz, a Saquias e a Mirma; estes foram seus filhos, chefes d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Husim gerou a Abitude e a Elp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Elpaal: Éber, Misã e Semede; este edificou a Ono e a Lode e os lugares da sua juris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rias e Sema foram cabeças dos pais dos moradores de Aijalom; estes afugentaram os moradores de G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ô, Sasaque, Jerim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ebadias, Arade, Ed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cael, Ispa e Joa foram filhos de Be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ebadias, Mesulão, Hizque, Héb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merai, Izlias e Jobabe, filhos de Elp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quim, Zicri, Zabd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á o quarto, e a Rafa o qu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ienai, Ziletai, Eli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aías, Beraías e Sinrate, filhos de Sim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pã, Éber, Eli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dom, Zicri, Han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nanias, Elão, Antot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fdéias, e Penuel, filhos de Sasaq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nserai, e Searias, e Atal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aresias, e Elias e Zicri, filhos de Jer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foram cabeças dos pais, segundo as suas gerações, chefes, e habitaram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Gibeão habitou o pai de Gibeão; e era o nome de sua mulher Maa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lá teve estes filhos: Adar, Gera, Abiú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filho primogênito, Abdom; depois Zur, e Quis, Baal, e Nada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edor, Aiô, e Zequ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clote gerou a Siméia; e também estes, defronte de seus irmãos, habitaram em Jerusalém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r gerou a Quis, e Quis gerou a Saul; e Saul gerou a Jônatas, a Malquisua, a Abinadabe, e a Esba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lho de Jônatas foi Meribe-Baal; e Meribe-Baal gerou a M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ica foram: Pitom, Meleque, Tareá, e Ac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z gerou a Jeoada; e Jeoada gerou a Alemete, e a Azmavete, e a Zinri; e Zinri gerou a Moz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za gerou a Bineá, cujo filho foi Rafa, de quem foi filho Eleazá, cujo filho foi Az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Azel seis filhos, e estes foram os seus nomes: Azricão, Bocru, Ismael, Searias, Obadias, e Hanã; todos estes foram filhos de Az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Ezeque, seu irmão: Ulão, seu primogênito, Jeús o segundo e Elifelete o terc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isua, Naamã, Ao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Ulão homens heróis, valentes, e flecheiros destros; e tiveram muitos filhos, e filhos de filhos, cento e cinqüenta; todos estes foram dos filhos d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era, Sefufá e Hu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os filhos de Eúde; que foram chefes dos pais dos moradores de Geba, e os levaram cativos a Mana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amã, e Aías e Gera; este os transportou, e gerou a Uzá e a Ai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araim (depois de os enviar), na terra de Moabe, gerou filhos de Husim e Baara, suas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Hodes, sua mulher, gerou a Jobabe, a Zibia, a Mesa, a Malc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47Z</dcterms:created>
  <dc:creator>Admin</dc:creator>
  <dc:description/>
  <dc:language>en-US</dc:language>
  <cp:lastModifiedBy>Admin</cp:lastModifiedBy>
  <dcterms:modified xsi:type="dcterms:W3CDTF">2008-07-30T23:42:47Z</dcterms:modified>
  <cp:revision>1</cp:revision>
  <dc:subject/>
  <dc:title>Slide 1</dc:title>
</cp:coreProperties>
</file>