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5B-338B-4B3A-9705-9B7DE61A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F15-8E5A-4939-949F-CA72382A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F05-9E0D-477C-A918-74473BBF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54C-F2FC-4026-8391-18CB13A8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B1-20D0-4B92-B2EB-330FE83E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F5-380F-47E4-ACB5-04D7D30E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4F2-6D91-42DC-BE0E-9094F4E0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0A3-5D2F-4B66-9909-21EB638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B95-39CC-4DD3-98C4-46F47E01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265-EC0C-40C4-A586-E79A501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4F7-DB5E-46A7-AF4C-38744C16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8A5-36F5-467C-BD0B-0BB7593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1AC-B64C-4E4C-84B1-017ED5017D2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assim me fez ver: E eis aqui um cesto de frutos do v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ornarei as vossas festas em luto, e todos os vossos cânticos em lamentações; e porei pano de saco sobre todos os lombos, e calva sobre toda cabeça; e farei que isso seja como luto por um filho único, e o seu fim como dia de amargu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vêm dias, diz o Senhor DEUS, em que enviarei fome sobre a terra; não fome de pão, nem sede de água, mas de ouvir as palavras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irão errantes de um mar até outro mar, e do norte até ao oriente; correrão por toda a parte, buscando a palavra do SENHOR, mas não a acha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 as virgens formosas e os jovens desmaiarão de se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s que juram pela culpa de Samaria, dizendo: Vive o teu deus, ó Dã; e vive o caminho de Berseba; esses mesmos cairão, e não se levantarão ja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: Que vês, Amós? E eu disse: Um cesto de frutos do verão. Então o SENHOR me disse: Chegou o fim sobre o meu povo Israel; nunca mais passarei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cânticos do templo naquele dia serão gemidos, diz o Senhor DEUS; multiplicar-se-ão os cadáveres; em todos os lugares serão lançados fora em silênc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isto, vós que anelais o abatimento do necessitado; e destruís os miseráveis da terr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zendo: Quando passará a lua nova, para vendermos o grão, e o sábado, para abrirmos os celeiros de trigo, diminuindo o efa, e aumentando o siclo, e procedendo dolosamente com balanças enganos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a comprarmos os pobres por dinheiro, e os necessitados por um par de sapatos, e para vendermos o refugo do trig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 pela glória de Jacó: Eu não me esquecerei de todas as suas obras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causa disto não extremecerá a terra, e não chorará todo aquele que nela habita? Certamente levantar-se-á toda ela como o grande rio, e será agitada, e baixará como o rio do Eg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8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ucederá que, naquele dia, diz o Senhor DEUS, farei que o sol se ponha ao meio dia, e a terra se entenebreça no dia cla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01Z</dcterms:created>
  <dc:creator>Admin</dc:creator>
  <dc:description/>
  <dc:language>en-US</dc:language>
  <cp:lastModifiedBy>Admin</cp:lastModifiedBy>
  <dcterms:modified xsi:type="dcterms:W3CDTF">2008-07-30T23:22:01Z</dcterms:modified>
  <cp:revision>1</cp:revision>
  <dc:subject/>
  <dc:title>Slide 1</dc:title>
</cp:coreProperties>
</file>