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612-C450-443A-A2C7-A606210E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347-FEA9-4378-B1FA-706B506E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C4A-09AA-4006-AE0D-319F96B0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834-DC29-4715-96F0-D83A5C7D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EBE-2E7E-4E19-91AB-30389924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647-9807-46DD-B27F-792AB196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3B5-D6EB-4241-8734-324218F2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5A9-B1FF-4BBE-877A-8BEF457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AB4-174C-4447-AC24-6F9DAC2C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141-7CC5-4C3C-8B9B-0003931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D39-B522-42B3-BBD4-1390B75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B01-2307-407A-BF25-6F68BF8C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7760-75BE-4EA8-A5A7-D000E2E21B4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ano quinze do império de Tibério César, sendo Pôncio Pilatos presidente da Judéia, e Herodes tetrarca da Galiléia, e seu irmão Filipe tetrarca da Ituréia e da província de Traconites, e Lisânias tetrarca de Abilen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o interrogava, dizendo: Que faremos, po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ele, disse-lhes: Quem tiver duas túnicas, reparta com o que não tem, e quem tiver alimentos, faça da mesma man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ram também uns publicanos, para serem batizados, e disseram-lhe: Mestre, que devemos faz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Não peçais mais do que o que vos está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ns soldados o interrogaram também, dizendo: E nós que faremos? E ele lhes disse: A ninguém trateis mal nem defraudeis, e contentai-vos com o vosso sol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o povo em expectação, e pensando todos de João, em seus corações, se porventura seria o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João a todos, dizendo: Eu, na verdade, batizo-vos com água, mas eis que vem aquele que é mais poderoso do que eu, do qual não sou digno de desatar a correia das alparcas; esse vos batizará com o Espírito Santo e com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em a pá na sua mão; e limpará a sua eira, e ajuntará o trigo no seu celeiro, mas queimará a palha com fogo que nunca se apa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, admoestando-os, muitas outras coisas também anunciava a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, porém, o tetrarca Herodes repreendido por ele por causa de Herodias, mulher de seu irmão Filipe, e por todas as maldades que Herodes tinha fe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 Anás e Caifás sumos sacerdotes, veio no deserto a palavra de Deus a João, filho de Zac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rescentou a todas as outras ainda esta, a de encerrar João num cárce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todo o povo se batizava, sendo batizado também Jesus, orando ele, o céu se abri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írito Santo desceu sobre ele em forma corpórea, como pomba; e ouviu-se uma voz do céu, que dizia: Tu és o meu Filho amado, em ti me compra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smo Jesus começava a ser de quase trinta anos, sendo (como se cuidava) filho de José, e José de Hel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eli de Matã, e Matã de Levi, e Levi de Melqui, e Melqui de Janai, e Janai de José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de Matatias, e Matatias de Amós, e Amós de Naum, e Naum de Esli, e Esli de Nagaí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gaí de Máate, e Máate de Matatias, e Matatias de Semei, e Semei de José, e José de Jod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dá de Joanã, e Joanã de Resá, e Resá de Zorobabel, e Zorobabel de Salatiel, e Salatiel de Ner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ri de Melqui, e Melqui de Adi, e Adi de Cosã, e Cosã de Elmadã, e Elmadã de 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 de Josué, e Josué de Eliézer, e Eliézer de Jorim, e Jorim de Matã, e Matã de Lev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correu toda a terra ao redor do Jordão, pregando o batismo de arrependimento, para o perdão dos pec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i de Simeão, e Simeão de Judá, e Judá de José, e José de Jonã, e Jonã de Eliaqu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iaquim de Meleá, e Meleá de Mená, e Mená de Matatá, e Matatá de Natã, e Natã de Dav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vi de Jessé, e Jessé de Obede, e Obede de Boaz, e Boaz de Salá, e Salá de Naass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assom de Aminadabe, e Aminadabe de Arão, e Arão de Esrom, e Esrom de Perez, e Perez de Jud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dá de Jacó, e Jacó de Isaque, e Isaque de Abraão, e Abraão de Terá, e Terá de Nac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cor de Seruque, e Seruque de Ragaú, e Ragaú de Fáleque, e Fáleque de Éber, e Éber de Sal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á de Cainã, e Cainã de Arfaxade, e Arfaxade de Sem, e Sem de Noé, e Noé de Lame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meque de Matusalém, e Matusalém de Enoque, e Enoque de Jarete, e Jarete de Maleleel, e Maleleel de Cain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inã de Enos, e Enos de Sete, e Sete de Adão, e Adã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o que está escrito no livro das palavras do profeta Isaías, que diz: Voz do que clama no deserto: Preparai o caminho do Senhor; Endireitai as s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vale se encherá, E se abaixará todo o monte e outeiro; E o que é tortuoso se endireitará, E os caminhos escabrosos se aplana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carne verá a salvaçã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, pois, João à multidão que saía para ser batizada por ele: Raça de víboras, quem vos ensinou a fugir da ira que está para 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duzi, pois, frutos dignos de arrependimento, e não comeceis a dizer em vós mesmos: Temos Abraão por pai; porque eu vos digo que até destas pedras pode Deus suscitar filhos a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já está posto o machado à raiz das árvores; toda a árvore, pois, que não dá bom fruto, corta-se e lança-se n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0:22Z</dcterms:created>
  <dc:creator>Admin</dc:creator>
  <dc:description/>
  <dc:language>en-US</dc:language>
  <cp:lastModifiedBy>Admin</cp:lastModifiedBy>
  <dcterms:modified xsi:type="dcterms:W3CDTF">2008-07-31T00:10:22Z</dcterms:modified>
  <cp:revision>1</cp:revision>
  <dc:subject/>
  <dc:title>Slide 1</dc:title>
</cp:coreProperties>
</file>