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644-6DBD-4FF6-9B5E-8EA007B5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4DB-F3D0-4EE1-B02E-2541E72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25C-52BC-4523-B983-9165C1FF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79C-F554-4323-868F-EEA3B67E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419-CFE2-4E8B-B4DB-261845BB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C2A-CCE7-4984-835D-17871807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3E0-BD54-4CF6-809E-E80D6A43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903-1676-4156-8165-F8B7FF5D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1A9-0F10-49D5-BCDC-E848D4CA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450-DDF6-425D-BB4D-FED5D331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C51-D26E-4915-A2C2-188A34F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495-570E-4B32-ABD4-B5F5985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BA02-0A1F-49E2-8CE1-CD3B4299ACC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ano duodécimo, no duodécimo mês, ao primeiro do mês,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om que muitos povos fiquem pasmados de ti, e os seus reis tremam sobremaneira, quando eu brandir a minha espada ante os seus rostos; e estremecerão a cada momento, cada um pela sua vida, no dia da tua qu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A espada do rei de Babilônia virá sobr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 cair a tua multidão pelas espadas dos poderosos, que são todos os mais terríveis das nações; e destruirão a soberba do Egito, e toda a sua multidão será destruí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terminarei todos os seus animais sobre as muitas águas; nem as turbará mais pé de homem, nem as turbarão unhas de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rei assentar as suas águas, e farei correr os seus rios como o azeite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tornar a terra do Egito em desolação, e ela for despojada da sua plenitude, e quando ferir a todos os que habitam nela, então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amentação que se fará; que as filhas das nações farão; sobre o Egito e sobre toda a sua multidã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ano duodécimo, aos quinze do mês,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pranteia sobre a multidão do Egito, e faze-a descer, a ela e às filhas das nações magníficas, às partes mais baixas da terra, juntamente com os que descem à c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sobrepujas tu em formosura? Desce, e deita-te com os incircunci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levanta uma lamentação sobre Faraó, rei do Egito, e dize-lhe: Eras semelhante a um filho do leão entre as nações, mas tu és como uma baleia nos mares, e rompias os teus rios, e turbavas as águas com os teus pés, e pisavas os teus 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io daqueles que foram mortos à espada cairão; à espada ela está entregue; arrastai-a e a toda a su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ais poderosos dos fortes lhe falarão desde o meio do inferno, com os que a socorrem; desceram, jazeram com os incircuncisos mortos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está Assur com toda a sua multidão; em redor dele estão os seus sepulcros; todos eles mortos, abatidos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sepulcros foram postos nas extremidades da cova, e a sua multidão está em redor do seu sepulcro; todos eles mortos, abatidos à espada; os que tinham causado espanto na terra d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está Elão com toda a sua multidão em redor do seu sepulcro; todos eles mortos, abatidos à espada; desceram incircuncisos às partes mais baixas da terra, causaram terror na terra dos viventes e levaram a sua vergonha com os que desceram à c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io dos mortos lhe puseram uma cama, entre toda a sua multidão; ao redor dele estão os seus sepulcros; todos eles são incircuncisos, mortos à espada; porque causaram terror na terra dos viventes, e levaram a sua vergonha com os que desceram à cova;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estão Meseque, Tubal e toda a sua multidão; ao redor deles estão os seus sepulcros; todos eles são incircuncisos, e mortos à espada, porquanto causaram terror na terra d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jazerão com os poderosos que caíram dos incircuncisos, os quais desceram ao inferno com as suas armas de guerra e puseram as suas espadas debaixo das suas cabeças; e a sua iniqüidade está sobre os seus ossos, porquanto eram o terror dos for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u serás quebrado no meio dos incircuncisos, e jazerás com os que foram mortos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está Edom, os seus reis e todos os seus príncipes, que com o seu poder foram postos com os que foram mortos à espada; estes jazem com os incircuncisos e com os que desceram à c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Portanto, estenderei sobre ti a minha rede com reunião de muitos povos, e te farão subir na minha 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estão os príncipes do norte, todos eles, e todos os sidônios, que desceram com os mortos, envergonhados com o terror causado pelo seu poder; e jazem incircuncisos com os que foram mortos à espada, e levam a sua vergonha com os que desceram à c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aó os verá, e se consolará com toda a sua multidão; sim, o próprio Faraó, e todo o seu exército, mortos à espada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eu pus o meu espanto na terra dos viventes; por isso jazerá no meio dos incircuncisos, com os mortos à espada, Faraó e toda a sua multidã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 deixarei em terra; sobre a face do campo te lançarei, e farei pousar sobre ti todas as aves do céu, e fartarei de ti os animais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as tuas carnes sobre os montes, e encherei os vales da tua a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garei com o teu sangue a terra onde nadas, até aos montes; e os rios se encherã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agando-te eu, cobrirei os céus, e enegrecerei as suas estrelas; ao sol encobrirei com uma nuvem, e a lua não fará resplandecer a su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brilhantes luzes do céu enegrecerei sobre ti, e trarei trevas sobre a tua terra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fligirei os corações de muitos povos, quando eu levar a tua destruição entre as nações, às terras que não conhec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29Z</dcterms:created>
  <dc:creator>Admin</dc:creator>
  <dc:description/>
  <dc:language>en-US</dc:language>
  <cp:lastModifiedBy>Admin</cp:lastModifiedBy>
  <dcterms:modified xsi:type="dcterms:W3CDTF">2008-07-30T23:35:29Z</dcterms:modified>
  <cp:revision>1</cp:revision>
  <dc:subject/>
  <dc:title>Slide 1</dc:title>
</cp:coreProperties>
</file>