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D78F-C5E5-4CA2-8F68-194BDE21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545-4EF2-40A4-82B5-D0D83AA6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01FC-FAF8-4165-8D06-B5ADF57D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A1C-0847-46F1-968B-6559F8FE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A75-CCC0-4401-9174-86AFDC98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33C-8D04-4BFA-AED7-ADC2F65E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D6C2-8DF4-4330-9D26-3276DEFF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394-F8EF-43C0-890E-F4E23988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1F2A-B964-4895-A793-2DCF114F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F66-CCA5-4682-9FDC-E61BB816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06DF-15A2-4BE7-8B19-7485C8F8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EF3C-F682-46C2-A8FD-05AB85C9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61A7-360D-4075-AAF8-54BDB520156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céus declaram a glória de Deus e o firmamento anuncia a obra das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is desejáveis são do que o ouro, sim, do que muito ouro fino; e mais doces do que o mel e o licor dos fa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por eles é admoestado o teu servo; e em os guardar há grande recompen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pode entender os seus erros? Expurga-me tu dos que me são ocul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a soberba guarda o teu servo, para que se não assenhoreie de mim. Então serei sincero, e ficarei limpo de grande transgr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m agradáveis as palavras da minha boca e a meditação do meu coração perante a tua face, SENHOR, Rocha minha e Redentor meu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dia faz declaração a outro dia, e uma noite mostra sabedoria a outra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á linguagem nem fala onde não se ouça a sua vo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linha se estende por toda a terra, e as suas palavras até ao fim do mundo. Neles pôs uma tenda para o so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é como um noivo que sai do seu tálamo, e se alegra como um herói, a correr o seu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saída é desde uma extremidade dos céus, e o seu curso até à outra extremidade, e nada se esconde ao seu cal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lei do SENHOR é perfeita, e refrigera a alma; o testemunho do SENHOR é fiel, e dá sabedoria aos símplic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receitos do SENHOR são retos e alegram o coração; o mandamento do SENHOR é puro, e ilumina o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temor do SENHOR é limpo, e permanece eternamente; os juízos do SENHOR são verdadeiros e justos junt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34Z</dcterms:created>
  <dc:creator>Admin</dc:creator>
  <dc:description/>
  <dc:language>en-US</dc:language>
  <cp:lastModifiedBy>Admin</cp:lastModifiedBy>
  <dcterms:modified xsi:type="dcterms:W3CDTF">2008-07-31T00:24:34Z</dcterms:modified>
  <cp:revision>1</cp:revision>
  <dc:subject/>
  <dc:title>Slide 1</dc:title>
</cp:coreProperties>
</file>