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5EA-1D34-45F5-A12A-BDD2078D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F19-93E3-4D6E-ACCE-EA2A5677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ACB-670C-45C2-88C9-E443EB0A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30B-C5EC-4508-91BD-528A9600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AC75-9E0B-4EAF-B743-753F3FC5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049-608E-4A78-96FB-10601BF8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1B9-EFEC-4A28-971A-49BE1D1E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FC8-9892-42A2-909C-BFF410DF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6CA-4C58-44F9-B975-CC57B1FD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2E4-539D-4671-A08B-C669760C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EBD-C25E-4C8F-868A-69DC9482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465-50B4-4E86-9367-F70B1170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EA00-39BE-492B-9EFC-865D742EF33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TA, irmãos meus, que vos regozijeis no Senhor. Não me aborreço de escrever-vos as mesmas coisas, e é segurança pa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conhecê-lo, e à virtude da sua ressurreição, e à comunicação de suas aflições, sendo feito conforme à sua mor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ver se de alguma maneira posso chegar à ressurreição dentre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que já a tenha alcançado, ou que seja perfeito; mas prossigo para alcançar aquilo para o que fui também preso por Cristo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mãos, quanto a mim, não julgo que o haja alcançado; mas uma coisa faço, e é que, esquecendo-me das coisas que atrás ficam, e avançando para as que estão diante de m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ssigo para o alvo, pelo prêmio da soberana vocação de Deus em Cristo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odos quantos já somos perfeitos, sintamos isto mesmo; e, se sentis alguma coisa de outra maneira, também Deus vo-lo revel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naquilo a que já chegamos, andemos segundo a mesma regra, e sintamos o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de também meus imitadores, irmãos, e tende cuidado, segundo o exemplo que tendes em nós, pelos que assim and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uitos há, dos quais muitas vezes vos disse, e agora também digo, chorando, que são inimigos da cruz de Cr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ujo fim é a perdição; cujo Deus é o ventre, e cuja glória é para confusão deles, que só pensam nas coisas terre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i-vos dos cães, guardai-vos dos maus obreiros, guardai-vos da circuncis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nossa cidade está nos céus, de onde também esperamos o Salvador, o Senhor Jesus Cr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transformará o nosso corpo abatido, para ser conforme o seu corpo glorioso, segundo o seu eficaz poder de sujeitar também a si todas 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circuncisão somos nós, que servimos a Deus em espírito, e nos gloriamos em Jesus Cristo, e não confiamos n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também podia confiar na carne; se algum outro cuida que pode confiar na carne, ainda mais eu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ircuncidado ao oitavo dia, da linhagem de Israel, da tribo de Benjamim, hebreu de hebreus; segundo a lei, fui farise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o zelo, perseguidor da igreja, segundo a justiça que há na lei, irrepreensí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que para mim era ganho reputei-o perda por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 verdade, tenho também por perda todas as coisas, pela excelência do conhecimento de Cristo Jesus, meu Senhor; pelo qual sofri a perda de todas estas coisas, e as considero como escória, para que possa ganhar a Cr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ja achado nele, não tendo a minha justiça que vem da lei, mas a que vem pela fé em Cristo, a saber, a justiça que vem de Deus pela fé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6:44Z</dcterms:created>
  <dc:creator>Admin</dc:creator>
  <dc:description/>
  <dc:language>en-US</dc:language>
  <cp:lastModifiedBy>Admin</cp:lastModifiedBy>
  <dcterms:modified xsi:type="dcterms:W3CDTF">2008-07-30T23:36:44Z</dcterms:modified>
  <cp:revision>1</cp:revision>
  <dc:subject/>
  <dc:title>Slide 1</dc:title>
</cp:coreProperties>
</file>