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ACA9-FFB4-45DE-90BE-532FD8B0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D7D1-E2C4-4601-8E6A-EB734B17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4DDA-CFFC-48C1-AA34-0E1865EF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386-9DF8-4FFC-A787-6E163065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4048-3B11-4BA9-9868-10ABA889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8129-08C4-4B60-8B84-B8915EDF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3FCB-92AD-4D17-899D-6ABF737E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7BC3-A6D6-4193-8E5E-56132F60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47B-D085-4874-8BCA-AB381C9C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636-71A8-44AE-B79F-66390F8F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9A2E-D8FD-4C0F-9B5A-F89863F0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CBB-8AAC-486E-9788-1DFDDB61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FD14-5BC9-4EBE-83C0-384F8DEC1B6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ele gerar um filho ladrão, derramador de sangue, que fizer a seu irmão qualquer destas cois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cumprir todos aqueles deveres, mas antes comer sobre os montes, e contaminar a mulher de seu próxim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primir ao pobre e necessitado, praticar roubos, não tornar o penhor, e levantar os seus olhos para os ídolos, e cometer abomina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prestar com usura, e receber demais, porventura viverá? Não viverá. Todas estas abominações ele fez, certamente morrerá; o seu sangue será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também, se ele gerar um filho que veja todos os pecados que seu pai fez e, vendo-os, não cometer coisas semelhant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mer sobre os montes, e não levantar os seus olhos para os ídolos da casa de Israel, e não contaminar a mulher de seu próxim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oprimir a ninguém, e não retiver o penhor, e não roubar, der o seu pão ao faminto, e cobrir ao nu com roup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viar do pobre a sua mão, não receber usura e juros, cumprir os meus juízos, e andar nos meus estatutos, o tal não morrerá pela iniqüidade de seu pai; certamente viv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u pai, porque praticou a extorsão, roubou os bens do irmão, e fez o que não era bom no meio de seu povo, eis que ele morrerá pela su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izeis: Por que não levará o filho a iniqüidade do pai? Porque o filho procedeu com retidão e justiça, e guardou todos os meus estatutos, e os praticou, por isso certamente viv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pensais, vós, os que usais esta parábola sobre a terra de Israel, dizendo: Os pais comeram uvas verdes, e os dentes dos filhos se embotara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alma que pecar, essa morrerá; o filho não levará a iniqüidade do pai, nem o pai levará a iniqüidade do filho. A justiça do justo ficará sobre ele e a impiedade do ímpio cairá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 o ímpio se converter de todos os pecados que cometeu, e guardar todos os meus estatutos, e proceder com retidão e justiça, certamente viverá; não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todas as transgressões que cometeu não haverá lembrança contra ele; pela justiça que praticou viv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ejaria eu, de qualquer maneira, a morte do ímpio? diz o Senhor DEUS; Não desejo antes que se converta dos seus caminhos, e viv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desviando-se o justo da sua justiça, e cometendo a iniqüidade, fazendo conforme todas as abominações que faz o ímpio, porventura viverá? De todas as justiças que tiver feito não se fará memória; na sua transgressão com que transgrediu, e no seu pe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is, porém: O caminho do Senhor não é direito. Ouvi agora, ó casa de Israel: Porventura não é o meu caminho direito? Não são os vossos caminhos tortuos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viando-se o justo da sua justiça, e cometendo iniqüidade, morrerá por ela; na iniqüidade, que cometeu,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convertendo-se o ímpio da impiedade que cometeu, e procedendo com retidão e justiça, conservará este a sua alma em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que reconsidera, e se converte de todas as suas transgressões que cometeu; certamente viverá, não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, diz a casa de Israel: O caminho do Senhor não é direito. Porventura não são direitos os meus caminhos, ó casa de Israel? E não são tortuosos os vossos caminh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vo eu, diz o Senhor DEUS, que nunca mais direis esta parábola em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eu vos julgarei, cada um conforme os seus caminhos, ó casa de Israel, diz o Senhor DEUS. Tornai-vos, e convertei-vos de todas as vossas transgressões, e a iniqüidade não vos servirá de trope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nçai de vós todas as vossas transgressões com que transgredistes, e fazei-vos um coração novo e um espírito novo; pois, por que razão morreríeis, ó casa d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tenho prazer na morte do que morre, diz o Senhor DEUS; convertei-vos, pois, e viv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todas as almas são minhas; como o é a alma do pai, assim também a alma do filho é minha: a alma que pecar, essa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do, pois, o homem justo, e praticando juízo e justiç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mendo sobre os montes, nem levantando os seus olhos para os ídolos da casa de Israel, nem contaminando a mulher do seu próximo, nem se chegando à mulher na sua separa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oprimindo a ninguém, tornando ao devedor o seu penhor, não roubando, dando o seu pão ao faminto, e cobrindo ao nu com roup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ando o seu dinheiro à usura, e não recebendo demais, desviando a sua mão da injustiça, e fazendo verdadeiro juízo entre homem e hom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dando nos meus estatutos, e guardando os meus juízos, e procedendo segundo a verdade, o tal justo certamente viverá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4:36Z</dcterms:created>
  <dc:creator>Admin</dc:creator>
  <dc:description/>
  <dc:language>en-US</dc:language>
  <cp:lastModifiedBy>Admin</cp:lastModifiedBy>
  <dcterms:modified xsi:type="dcterms:W3CDTF">2008-07-30T23:34:36Z</dcterms:modified>
  <cp:revision>1</cp:revision>
  <dc:subject/>
  <dc:title>Slide 1</dc:title>
</cp:coreProperties>
</file>