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585-FD9D-40F9-8B79-B379F4F5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0B4-3984-4704-91CD-6479FE60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96A-ECA8-4323-B270-DAC7060E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613-7D2A-464F-BBD9-2EB4E234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70B-F1ED-4B07-B1BE-4AD1D388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859-F691-41FC-B185-3DDB3FC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252-6B58-440D-B513-8AD63F44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954-3941-444C-B6BF-68C1444F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931-25AB-4B38-813D-655CAD3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3D4-68CC-419A-9933-0C02099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238-D7FB-4259-9122-41458B7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41E-CF2F-446B-9BE8-F916024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BC3A-C8A9-4DB8-AEB6-51A9506E104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, pois, a vantagem do judeu? Ou qual a utilidade da circuncis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: Não há um justo, nem um se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ninguém que entenda; Não há ninguém que busqu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se extraviaram, e juntamente se fizeram inúteis. Não há quem faça o bem, não há nem um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garganta é um sepulcro aberto; Com as suas línguas tratam enganosamente; Peçonha de áspides está debaixo de seus láb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a boca está cheia de maldição e amar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és são ligeiros para derramar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eus caminhos há destruição e misé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onheceram o caminho d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temor de Deus diante de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ós sabemos que tudo o que a lei diz, aos que estão debaixo da lei o diz, para que toda a boca esteja fechada e todo o mundo seja condenável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, em toda a maneira, porque, primeiramente, as palavras de Deus lhe foram confi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enhuma carne será justificada diante dele pelas obras da lei, porque pela lei vem o conheciment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se manifestou sem a lei a justiça de Deus, tendo o testemunho da lei e dos profe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, a justiça de Deus pela fé em Jesus Cristo para todos e sobre todos os que crêem; porque não há difer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pecaram e destituídos estão da glóri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justificados gratuitamente pela sua graça, pela redenção que há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Deus propôs para propiciação pela fé no seu sangue, para demonstrar a sua justiça pela remissão dos pecados dantes cometidos, sob a paciênci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emonstração da sua justiça neste tempo presente, para que ele seja justo e justificador daquele que tem fé e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logo a jactância? É excluída. Por qual lei? Das obras? Não; mas pela lei d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cluímos, pois, que o homem é justificado pela fé sem as obras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porventura Deus somente dos judeus? E não o é também dos gentios? Também dos gentios, certam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ê? Se alguns foram incrédulos, a sua incredulidade aniquilará a fidelidade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Deus é um só, que justifica pela fé a circuncisão, e por meio da fé a incircun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lamos, pois, a lei pela fé? De maneira nenhuma, antes estabelecemos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nenhuma; sempre seja Deus verdadeiro, e todo o homem mentiroso; como está escrito: Para que sejas justificado em tuas palavras, E venças quando fores jul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nossa injustiça for causa da justiça de Deus, que diremos? Porventura será Deus injusto, trazendo ira sobre nós? (Falo como homem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nenhuma; de outro modo, como julgará Deus o mu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pela minha mentira abundou mais a verdade de Deus para glória sua, por que sou eu ainda julgado também como pecad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não dizemos (como somos blasfemados, e como alguns dizem que dizemos): Façamos males, para que venham bens? A condenação desses é ju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ê? Somos nós mais excelentes? De maneira nenhuma, pois já dantes demonstramos que, tanto judeus como gregos, todos estão debaix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11Z</dcterms:created>
  <dc:creator>Admin</dc:creator>
  <dc:description/>
  <dc:language>en-US</dc:language>
  <cp:lastModifiedBy>Admin</cp:lastModifiedBy>
  <dcterms:modified xsi:type="dcterms:W3CDTF">2008-07-31T00:23:11Z</dcterms:modified>
  <cp:revision>1</cp:revision>
  <dc:subject/>
  <dc:title>Slide 1</dc:title>
</cp:coreProperties>
</file>