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BA0-2934-4BFE-B625-94EF9C31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E5C-4C6B-4C10-86DC-AC137F8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676-31C5-47A7-B227-8F6ADE0A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E00-554C-4F48-B729-D14189B0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3C5-584A-4AB5-A4D2-158B9A1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673-2A4E-4263-97E8-7FADE865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D00-571E-4CC0-A961-1CDB664E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561-01D8-4234-8548-DC417704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9DC-D76F-44A3-983B-33A96020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241-08BB-4F04-A861-FA0CFE9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58F-AB58-4C21-A06E-885A812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4A9-3FB9-4D25-BF84-8810F1C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F7A-260C-4AE1-9DFC-8B386E0471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terra, que foi angustiada, não será entenebrecida; envileceu nos primeiros tempos, a terra de Zebulom, e a terra de Naftali; mas nos últimos tempos a enobreceu junto ao caminho do mar, além do Jordão, na Galiléia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ijolos caíram, mas com cantaria tornaremos a edificar; cortaram-se os sicômoros, mas em cedros as mud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SENHOR suscitará, contra ele, os adversários de Rezim, e juntará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rente virão os sírios, e por detrás os filisteus, e devorarão a Israel à boca escancarada; e nem com tudo isto cessou a sua ira, mas ainda está estendida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este povo não se voltou para quem o feria, nem buscou a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cortará de Israel a cabeça e a cauda, o ramo e o junco, num mesmo d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O ancião e o homem de respeito é a cabeça; e o profeta que ensina a falsidade é a caud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guias deste povo são enganadores, e os que por eles são guiados são destruí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Senhor não se regozija nos seus jovens, e não se compadecerá dos seus órfãos e das suas viúvas, porque todos eles são hipócritas e malfazejos, e toda a boca profere doidices; e nem com tudo isto cessou a sua ira, mas ainda está estendida a s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impiedade lavra como um fogo, ela devora as sarças e os espinheiros; e ela se ateará no emaranhado da floresta; e subirão em espessas nuvens de fum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ira do SENHOR dos Exércitos a terra se escurecerá, e será o povo como combustível para o fogo; ninguém poupará ao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vo que andava em trevas, viu uma grande luz, e sobre os que habitavam na região da sombra da morte resplandeceu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lher à direita, ainda terá fome, e se comer à esquerda, ainda não se fartará; cada um comerá a carne de seu br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assés a Efraim, e Efraim a Manassés, e ambos serão contra Judá. Com tudo isto não cessou a sua ira, mas ainda está estendida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multiplicaste a nação, a alegria lhe aumentaste; todos se alegrarão perante ti, como se alegram na ceifa, e como exultam quando se repartem os despo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quebraste o jugo da sua carga, e o bordão do seu ombro, e a vara do seu opressor, como no dia dos midi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calçado que levava o guerreiro no tumulto da batalha, e todo o manto revolvido em sangue, serão queimados, servindo de combustível a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menino nos nasceu, um filho se nos deu, e o principado está sobre os seus ombros, e se chamará o seu nome: Maravilhoso, Conselheiro, Deus Forte, Pai da Eternidade, Príncipe d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aumento deste principado e da paz não haverá fim, sobre o trono de Davi e no seu reino, para o firmar e o fortificar com juízo e com justiça, desde agora e para sempre; o zelo do SENHOR dos Exércitos fará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nviou uma palavra a Jacó, e ela caiu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este povo o saberá, Efraim e os moradores de Samaria, que em soberba e altivez de coração, dize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48Z</dcterms:created>
  <dc:creator>Admin</dc:creator>
  <dc:description/>
  <dc:language>en-US</dc:language>
  <cp:lastModifiedBy>Admin</cp:lastModifiedBy>
  <dcterms:modified xsi:type="dcterms:W3CDTF">2008-07-30T23:54:48Z</dcterms:modified>
  <cp:revision>1</cp:revision>
  <dc:subject/>
  <dc:title>Slide 1</dc:title>
</cp:coreProperties>
</file>