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7311-D8F9-4054-9C8B-4D9D70AD0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9C14-B584-45F5-AF4D-5895033F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583E-3725-413F-A40E-328C6CCC5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95A8-46A7-44C2-9015-55BDDF003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2A7A-26F1-468C-94FC-A6E9B958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1EA2-5826-4D70-822B-C9C09A8F8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8331-8FB6-4955-86A6-7C9E11E5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3E87-39BC-4229-AC7D-B5FBD09F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0C4A-015F-4DAF-A0B8-829A2456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13B8-290D-4871-9C9F-2CA10609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0929-E003-49AE-A3E1-525357F4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EA21-E5A2-41A6-9A0F-B2597F64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E721-51AF-4804-8AF6-A9D807C803D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: Desce à casa do rei de Judá, e anuncia ali esta palavr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choreis o morto, nem o lastimeis; chorai abundantemente aquele que sai, porque nunca mais tornará nem verá a terra onde nasc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sim diz o SENHOR acerca de Salum, filho de Josias, rei de Judá, que reinou em lugar de Josias, seu pai, e que saiu deste lugar: Nunca mais ali torn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no lugar para onde o levaram cativo ali morrerá, e nunca mais verá est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 daquele que edifica a sua casa com injustiça, e os seus aposentos sem direito, que se serve do serviço do seu próximo sem remunerá-lo, e não lhe dá o salário do seu traba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diz: Edificarei para mim uma casa espaçosa, e aposentos largos; e que lhe abre janelas, forrando-a de cedro, e pintando-a de vermelh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reinarás tu, porque te encerras em cedro? Acaso teu pai não comeu e bebeu, e não praticou o juízo e a justiça? Por isso lhe sucedeu b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ulgou a causa do aflito e necessitado; então lhe sucedeu bem; porventura não é isto conhecer-me?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s teus olhos e o teu coração não atentam senão para a tua avareza, e para derramar sangue inocente, e para praticar a opressão, e a violên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assim diz o SENHOR acerca de Jeoiaquim, filho de Josias, rei de Judá: Não o lamentarão, dizendo: Ai, meu irmão, ou ai, minha irmã! Nem o lamentarão, dizendo: Ai, senhor, ou, ai, sua glória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sepultura de jumento será sepultado, sendo arrastado e lançado para bem longe, fora das portas de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ze: Ouve a palavra do SENHOR, ó rei de Judá, que te assentas no trono de Davi, tu, e os teus servos, o teu povo, que entrais por estas por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obe ao Líbano, e clama, e levanta a tua voz em Basã, e clama desde Abarim; porque estão destruídos todos os teus namor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ei contigo na tua prosperidade, mas tu disseste: Não ouvirei. Este tem sido o teu caminho, desde a tua mocidade, pois nunca deste ouvidos à minha vo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vento apascentará a todos os teus pastores, e os teus namorados irão para o cativeiro; certamente então te confundirás, e te envergonharás por causa de toda a tua mal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Ó tu, que habitas no Líbano e fazes o teu ninho nos cedros, quão lastimada serás quando te vierem as dores e os ais como da que está de pa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2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vo eu, diz o SENHOR, que ainda que Conias, filho de Jeoiaquim, rei de Judá, fosse o anel do selo na minha mão direita, contudo dali te arranca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2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tregar-te-ei na mão dos que buscam a tua vida, e na mão daqueles diante de quem tu temes, a saber, na mão de Nabucodonosor, rei de Babilônia, e na mão dos cal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2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ançar-te-ei, a ti e à tua mãe que te deu à luz, para uma terra estranha, em que não nasceste, e ali morre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2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à terra, para a qual eles com toda a alma desejam voltar, para lá não volt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2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É, pois, este homem Conias um ídolo desprezado e quebrado, ou um vaso de que ninguém se agrada? Por que razão foram arremessados fora, ele e a sua geração, e arrojados para uma terra que não conhece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2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Ó terra, terra, terra! Ouve a palavr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: Exercei o juízo e a justiça, e livrai o espoliado da mão do opressor; e não oprimais ao estrangeiro, nem ao órfão, nem à viúva; não façais violência, nem derrameis sangue inocente neste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2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: Escrevei que este homem está privado de filhos, homem que não prosperará nos seus dias; porque nenhum da sua geração prosperará, para se assentar no trono de Davi, e reinar ainda em Ju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se deveras cumprirdes esta palavra, entrarão pelas portas desta casa os reis que se assentarão em lugar de Davi sobre o seu trono, andando em carros e montados em cavalos, eles, e os seus servos, e o seu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e não derdes ouvidos a estas palavras, por mim mesmo tenho jurado, diz o SENHOR, que esta casa se tornará em assol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sim diz o SENHOR acerca da casa do rei de Judá: Tu és para mim Gileade, e a cabeça do Líbano; mas por certo que farei de ti um deserto e cidades desabita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preparei contra ti destruidores, cada um com as suas armas; e cortarão os teus cedros escolhidos, e lançá-los-ão no fo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uitas nações passarão por esta cidade, e dirá cada um ao seu próximo: Por que procedeu o SENHOR assim com esta grande cidad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rão: Porque deixaram a aliança do SENHOR seu Deus, e se inclinaram diante de outros deuses, e os servi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8:25Z</dcterms:created>
  <dc:creator>Admin</dc:creator>
  <dc:description/>
  <dc:language>en-US</dc:language>
  <cp:lastModifiedBy>Admin</cp:lastModifiedBy>
  <dcterms:modified xsi:type="dcterms:W3CDTF">2008-07-30T23:58:25Z</dcterms:modified>
  <cp:revision>1</cp:revision>
  <dc:subject/>
  <dc:title>Slide 1</dc:title>
</cp:coreProperties>
</file>