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8C78-F1D6-4B34-AD83-EA91CF30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50BD-8B4A-4026-A974-F612560F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7C06-1805-49CD-A312-329C62D1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E008-099E-434D-8F39-35426081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DD9A-6B4C-4F98-9F11-692B14A5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8EEC-C8CD-4149-A1AA-D556444E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83A5-16C0-4B44-8DB1-F805C883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6572-3424-483E-8B25-058B2C95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D7D1-12EA-4F9A-BC4A-D9CDACFA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9A9B-E6F9-4966-9EA0-EB90C7B5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C64D-54BE-46A4-9450-544D02C5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F1D1-2360-4F9B-A8EF-7E6E6811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A3EB-D0E0-4189-9E44-58EFE426C44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BUCODONOSOR rei, a todos os povos, nações e línguas, que moram em toda a terra: Paz vos seja multiplic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, pois, as visões da minha cabeça, estando eu na minha cama: Eu estava assim olhando, e vi uma árvore no meio da terra, cuja altura era grand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rescia esta árvore, e se fazia forte, de maneira que a sua altura chegava até ao céu; e era vista até aos confin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ua folhagem era formosa, e o seu fruto abundante, e havia nela sustento para todos; debaixo dela os animais do campo achavam sombra, e as aves do céu faziam morada nos seus ramos, e toda a carne se mantinha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va vendo isso nas visões da minha cabeça, estando eu na minha cama; e eis que um vigia, um santo, descia do céu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lamando fortemente, e dizendo assim: Derrubai a árvore, e cortai-lhe os ramos, sacudi as suas folhas, espalhai o seu fruto; afugentem-se os animais de debaixo dela, e as aves dos seus ra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eixai na terra o tronco com as suas raízes, atada com cadeias de ferro e de bronze, na erva do campo; e seja molhado do orvalho do céu, e seja a sua porção com os animais na erva da ter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ja mudado o seu coração, para que não seja mais coração de homem, e lhe seja dado coração de animal; e passem sobre ele sete temp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sentença é por decreto dos vigias, e esta ordem por mandado dos santos, a fim de que conheçam os viventes que o Altíssimo tem domínio sobre o reino dos homens, e o dá a quem quer, e até ao mais humilde dos homens constitui sobre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sonho eu, rei Nabucodonosor vi. Tu, pois, Beltessazar, dize a interpretação, porque todos os sábios do meu reino não puderam fazer-me saber a sua interpretação, mas tu podes; pois há em ti o espírito dos deuses sa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aniel, cujo nome era Beltessazar, esteve atônito por uma hora, e os seus pensamentos o turbavam; falou, pois, o rei, dizendo: Beltessazar, não te espante o sonho, nem a sua interpretação. Respondeu Beltessazar, dizendo: SENHOR meu, seja o sonho 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eceu-me bem fazer conhecidos os sinais e maravilhas que Deus, o Altíssimo, tem feito para co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árvore que viste, que cresceu, e se fez forte, cuja altura chegava até ao céu, e que foi vista por toda a ter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ujas folhas eram formosas, e o seu fruto abundante, e em que para todos havia sustento, debaixo da qual moravam os animais do campo, e em cujos ramos habitavam as aves do céu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És tu, ó rei, que cresceste, e te fizeste forte; a tua grandeza cresceu, e chegou até ao céu, e o teu domínio até à extremidade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to ao que viu o rei, um vigia, um santo, que descia do céu, e dizia: Cortai a árvore, e destruí-a, mas o tronco com as suas raízes deixai na terra, e atada com cadeias de ferro e de bronze, na erva do campo; e seja molhado do orvalho do céu, e a s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é a interpretação, ó rei; e este é o decreto do Altíssimo, que virá sobre o rei, meu senhor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rás tirado dentre os homens, e a tua morada será com os animais do campo, e te farão comer erva como os bois, e serás molhado do orvalho do céu; e passar-se-ão sete tempos por cima de ti; até que conheças que o Altíssimo tem domínio sobre o reino dos 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to ao que foi falado, que deixassem o tronco com as raízes da árvore, o teu reino voltará para ti, depois que tiveres conhecido que o céu rei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ó rei, aceita o meu conselho, e põe fim aos teus pecados, praticando a justiça, e às tuas iniqüidades, usando de misericórdia com os pobres, pois, talvez se prolongue a tua tranqüil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4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s estas coisas vieram sobre o rei Nabucodonos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4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fim de doze meses, quando passeava no palácio real de Babilôni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ão grandes são os seus sinais, e quão poderosas as suas maravilhas! O seu reino é um reino sempiterno, e o seu domínio de geração em ge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4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o rei, dizendo: Não é esta a grande Babilônia que eu edifiquei para a casa real, com a força do meu poder, e para glória da minha magnificênci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4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estava a palavra na boca do rei, quando caiu uma voz do céu: A ti se diz, ó rei Nabucodonosor: Passou de ti o re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4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s tirado dentre os homens, e a tua morada será com os animais do campo; far-te-ão comer erva como os bois, e passar-se-ão sete tempos sobre ti, até que conheças que o Altíssimo domina sobre o reino dos homens, e o dá a quem qu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4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mesma hora se cumpriu a palavra sobre Nabucodonosor, e foi tirado dentre os homens, e comia erva como os bois, e o seu corpo foi molhado do orvalho do céu, até que lhe cresceu pêlo, como as penas da águia, e as suas unhas como as das av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4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o fim daqueles dias eu, Nabucodonosor, levantei os meus olhos ao céu, e tornou-me a vir o entendimento, e eu bendisse o Altíssimo, e louvei e glorifiquei ao que vive para sempre, cujo domínio é um domínio sempiterno, e cujo reino é de geração em 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4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moradores da terra são reputados em nada, e segundo a sua vontade ele opera com o exército do céu e os moradores da terra; não há quem possa estorvar a sua mão, e lhe diga: Que faz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4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mesmo tempo tornou a mim o meu entendimento, e para a dignidade do meu reino tornou-me a vir a minha majestade e o meu resplendor; e buscaram-me os meus conselheiros e os meus senhores; e fui restabelecido no meu reino, e a minha glória foi aumentad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4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eu, Nabucodonosor, louvo, exalço e glorifico ao Rei do céu; porque todas as suas obras são verdade, e os seus caminhos juízo, e pode humilhar aos que andam na soberb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, Nabucodonosor, estava sossegado em minha casa, e próspero no meu palác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ve um sonho, que me espantou; e estando eu na minha cama, as imaginações e as visões da minha cabeça me turb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expedi um decreto, para que fossem introduzidos à minha presença todos os sábios de Babilônia, para que me fizessem saber a interpretação do so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ntraram os magos, os astrólogos, os caldeus e os adivinhadores, e eu contei o sonho diante deles; mas não me fizeram saber a sua interpret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por fim entrou na minha presença Daniel, cujo nome é Beltessazar, segundo o nome do meu deus, e no qual há o espírito dos deuses santos; e eu lhe contei o sonho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ltessazar, mestre dos magos, pois eu sei que há em ti o espírito dos deuses santos, e nenhum mistério te é difícil, dize-me as visões do meu sonho que tive e a sua interpret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6:26Z</dcterms:created>
  <dc:creator>Admin</dc:creator>
  <dc:description/>
  <dc:language>en-US</dc:language>
  <cp:lastModifiedBy>Admin</cp:lastModifiedBy>
  <dcterms:modified xsi:type="dcterms:W3CDTF">2008-07-30T23:26:26Z</dcterms:modified>
  <cp:revision>1</cp:revision>
  <dc:subject/>
  <dc:title>Slide 1</dc:title>
</cp:coreProperties>
</file>