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3CC-21AB-4252-9B18-E8587648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8B9-0400-4F9E-923F-F1D88E9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D08-3C8D-490D-AF82-FC5BE576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899-6CBF-4E8A-961B-24B92B4D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AB8-8461-439B-BF8F-C6EBE9FE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B0B-DC93-4DDB-A172-A1DF047A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A9F-7646-4F78-B5CA-798E8E95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CF2-7E41-471E-B835-B21F87F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4A8-C0F2-4257-988A-384A8C02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776-7B3E-4BB3-BE84-DA93E75F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8D2-D45A-4C39-B2A7-6C07B0B7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507-8A65-46A4-BC77-F89B3BA2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E1E5-5F78-4E46-9FA8-04FACA8E506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mandamentos que hoje vos ordeno guardareis para os cumprir; para que vivais, e vos multipliqueis, e entreis, e possuais a terra que o SENHOR jurou 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tiveres comido, e fores farto, louvarás ao SENHOR teu Deus pela boa terra que te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 que não te esqueças do SENHOR teu Deus, deixando de guardar os seus mandamentos, e os seus juízos, e os seus estatutos que hoje te orde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não suceder que, havendo tu comido e fores farto, e havendo edificado boas casas, e habitando-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tiverem aumentado os teus gados e os teus rebanhos, e se acrescentar a prata e o ouro, e se multiplicar tudo quanto t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eve o teu coração e te esqueças do SENHOR teu Deus, que te tirou da terra do Egito, da casa da serv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e guiou por aquele grande e terrível deserto de serpentes ardentes, e de escorpiões, e de terra seca, em que não havia água; e tirou água para ti da rocha pedernei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o deserto te sustentou com maná, que teus pais não conheceram; para te humilhar, e para te provar, para no fim te fazer b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as no teu coração: A minha força, e a fortaleza da minha mão, me adquiriu este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te lembrarás do SENHOR teu Deus, que ele é o que te dá força para adquirires riqueza; para confirmar a sua aliança, que jurou a teus pais, como se vê nest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rém, que, se de qualquer modo te esqueceres do SENHOR teu Deus, e se ouvires outros deuses, e os servires, e te inclinares perante eles, hoje eu testifico contra vós que certamente per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lembrarás de todo o caminho, pelo qual o SENHOR teu Deus te guiou no deserto estes quarenta anos, para te humilhar, e te provar, para saber o que estava no teu coração, se guardarias os seus mandamentos, ou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s nações que o SENHOR destruiu diante de vós, assim vós perecereis, porquanto não queríeis obedecer à voz d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humilhou, e te deixou ter fome, e te sustentou com o maná, que tu não conheceste, nem teus pais o conheceram; para te dar a entender que o homem não viverá só de pão, mas de tudo o que sai da boca do SENHOR viverá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se envelheceu a tua roupa sobre ti, nem se inchou o teu pé nestes quar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s, pois, no teu coração que, como um homem castiga a seu filho, assim te castiga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arda os mandamentos do SENHOR teu Deus, para andares nos seus caminhos e para o tem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u Deus te põe numa boa terra, terra de ribeiros de águas, de fontes, e de mananciais, que saem dos vales e das montan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ra de trigo e cevada, e de vides e figueiras, e romeiras; terra de oliveiras, de az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ra em que comerás o pão sem escassez, e nada te faltará nela; terra cujas pedras são ferro, e de cujos montes tu cavarás o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36Z</dcterms:created>
  <dc:creator>Admin</dc:creator>
  <dc:description/>
  <dc:language>en-US</dc:language>
  <cp:lastModifiedBy>Admin</cp:lastModifiedBy>
  <dcterms:modified xsi:type="dcterms:W3CDTF">2008-07-30T23:27:36Z</dcterms:modified>
  <cp:revision>1</cp:revision>
  <dc:subject/>
  <dc:title>Slide 1</dc:title>
</cp:coreProperties>
</file>