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918-7E6D-42FB-8095-4CAC99D7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8BB-77E7-45FC-A4D2-DFEEA38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CD3-51FE-43E3-B949-BBCE199E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33F-F6B3-4971-B6C0-1B7619C3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2D5-6B97-4408-ABCC-50762DF6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41D-B1CD-4E21-8210-C94DF112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19D-ED0F-41E8-A345-23B3AECF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738-0C87-4759-A120-95084059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6BE-96CE-4259-AE11-3C81C19B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9A3-8596-4D64-A92C-147457CF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210-9EB4-4B96-8018-9D55642F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97D-4E45-4402-907D-33E3DF1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EE7-F0CE-40E0-9354-3AA5EAF796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no sétimo ano, no quinto mês, aos dez do mês, que vieram alguns dos anciãos de Israel, para consultarem o SENHOR; e assentaram-se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tirei da terra do Egito, e os levei a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-lhes os meus estatutos e lhes mostrei os meus juízos, os quais, cumprindo-os o homem, viverá por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lhes dei os meus sábados, para que servissem de sinal entre mim e eles; para que soubessem que eu sou o SENHOR que os santi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casa de Israel se rebelou contra mim no deserto, não andando nos meus estatutos, e rejeitando os meus juízos, os quais, cumprindo-os, o homem viverá por eles; e profanaram grandemente os meus sábados; e eu disse que derramaria sobre eles o meu f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iz, porém, foi por amor do meu nome, para que não fosse profanado diante dos olhos dos gentios perante a vista dos quais os fiz s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tudo, eu levantei a minha mão para eles no deserto, para não os deixar entrar na terra que lhes tinha dado, a qual mana leite e mel, e é a glória de todas as ter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rejeitaram os meus juízos, e não andaram nos meus estatutos, e profanaram os meus sábados; porque o seu coração andava após os seus íd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bstante o meu olho lhes perdoou, e eu não os destruí nem os consumi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sse eu a seus filhos no deserto: Não andeis nos estatutos de vossos pais, nem guardeis os seus juízos, nem vos contamineis com os seus íd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 vosso Deus; andai nos meus estatutos, e guardai os meus juízos, e executai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ntificai os meus sábados, e servirão de sinal entre mim e vós, para que saibais que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os filhos se rebelaram contra mim, e não andaram nos meus estatutos, nem guardaram os meus juízos para os fazer, os quais, cumprindo-os, o homem viverá por eles; eles profanaram os meus sábados; por isso eu disse que derramaria sobre eles o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tive a minha mão, e o fiz por amor do meu nome, para que não fosse profanado perante os olhos dos gentios, à vista dos quais os fiz s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evantei a minha mão para eles no deserto, para os espalhar entre os gentios, e os derramar pelas ter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executaram os meus juízos, e rejeitaram os meus estatutos, e profanaram os meus sábados, e os seus olhos iam após os ídolo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lhes dei estatutos que não eram bons, juízos pelos quais não haviam de viv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ontaminei em seus próprios dons, nos quais faziam passar pelo fogo tudo o que abre a madre; para assolá-los para que soubessem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fala à casa de Israel, ó filho do homem, e dize-lhe: Assim diz o Senhor DEUS: Ainda até nisto me blasfemaram vossos pais, e que procederam traiçoeiramente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havendo-os eu introduzido na terra sobre a qual eu levantara a minha mão, para lha dar, então olharam para todo o outeiro alto, e para toda a árvore frondosa, e ofereceram ali os seus sacrifícios e apresentaram ali a provocação das suas ofer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lhes disse: Que alto é este, aonde vós ides? E seu nome tem sido Bamá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fala aos anciãos de Israel, e dize-lhes: Assim diz o Senhor DEUS: Viestes consultar-me? Vivo eu, que não me deixarei ser consultado por vó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ze à casa de Israel: Assim diz o Senhor DEUS: Contaminai-vos a vós mesmos a maneira de vossos pais? E vos prostituístes com as suas abomin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fereceis os vossos dons, e fazeis passar os vossos filhos pelo fogo, não é certo que estais contaminados com todos os vossos ídolos, até este dia? E vós me consultaríeis, ó casa de Israel? Vivo eu, diz o Senhor DEUS, que vós não me consultar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veio à vossa mente de modo algum sucederá, quando dizeis: Seremos como os gentios, como as outras famílias da terra, servindo ao madeiro e à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o eu, diz o Senhor DEUS, que com mão forte, e com braço estendido, e com indignação derramada, hei de reinar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tirarei dentre os povos, e vos congregarei das terras nas quais andais espalhados, com mão forte, e com braço estendido, e com indignação derra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levarei ao deserto dos povos; e ali face a face entrarei em juízo convos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ntrei em juízo com vossos pais, no deserto da terra do Egito, assim entrarei em juízo convosc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os farei passar debaixo da vara, e vos farei entrar no vínculo d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pararei dentre vós os rebeldes, e os que transgrediram contra mim; da terra das suas peregrinações os tirarei, mas à terra de Israel não voltarão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vós, ó casa de Israel, assim diz o Senhor DEUS; Ide, sirva cada um os seus ídolos, pois que a mim não me quereis ouvir; mas não profaneis mais o meu santo nome com as vossas dádivas e com os vossos íd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tu os julgarias, julgarias tu, ó filho do homem? Notifica-lhes as abominações de s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 meu santo monte, no monte alto de Israel, diz o Senhor DEUS, ali me servirá toda a casa de Israel, toda ela naquela terra; ali me deleitarei neles, e ali requererei as vossas ofertas alçadas, e as primícias das vossas oblações, com todas as 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cheiro suave me deleitarei em vós, quando eu vos tirar dentre os povos e vos congregar das terras em que andais espalhados; e serei santificado em vós perante os olhos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eis que eu sou o SENHOR, quando eu vos introduzir na terra de Israel, terra pela qual levantei a minha mão para dá-la 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vos lembrareis de vossos caminhos, e de todos os vossos atos com que vos contaminastes, e tereis nojo de vós mesmos, por causa de todas as vossas maldades que tendes come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eis que eu sou o SENHOR, quando eu proceder para convosco por amor do meu nome; não conforme os vossos maus caminhos, nem conforme os vossos atos corruptos, ó casa de Israel, disse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rige o teu rosto para o caminho do sul, e derrama as tuas palavras contra o sul, e profetiza contra o bosque do campo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 ao bosque do sul: Ouve a palavra do SENHOR: Assim diz o Senhor DEUS: Eis que acenderei em ti um fogo que em ti consumirá toda a árvore verde e toda a árvore seca; não se apagará a chama flamejante, antes com ela se queimarão todos os rostos, des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rá toda a carne que eu, o SENHOR, o acendi; não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Ah! Senhor DEUS! Eles dizem de mim: Não é este um proferidor de parábo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-lhes: Assim diz o Senhor DEUS: No dia em que escolhi a Israel, levantei a minha mão para a descendência da casa de Jacó, e me dei a conhecer a eles na terra do Egito, e levantei a minha mão para eles, dizendo: Eu sou o SENHOR vosso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levantei a minha mão para eles, para os tirar da terra do Egito, para uma terra que já tinha previsto para eles, a qual mana leite e mel, e é a glória de todas 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sse: Cada um lance de si as abominações dos seus olhos, e não vos contamineis com os ídolos do Egito;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belaram-se contra mim, e não me quiseram ouvir; ninguém lançava de si as abominações dos seus olhos, nem deixava os ídolos do Egito; então eu disse que derramaria sobre eles o meu furor, para cumprir a minha ira contra eles no meio da terra do Eg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iz, porém, foi por amor do meu nome, para que não fosse profanado diante dos olhos dos gentios, no meio dos quais estavam, a cujos olhos eu me dei a conhecer a eles, para os tirar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45Z</dcterms:created>
  <dc:creator>Admin</dc:creator>
  <dc:description/>
  <dc:language>en-US</dc:language>
  <cp:lastModifiedBy>Admin</cp:lastModifiedBy>
  <dcterms:modified xsi:type="dcterms:W3CDTF">2008-07-30T23:34:45Z</dcterms:modified>
  <cp:revision>1</cp:revision>
  <dc:subject/>
  <dc:title>Slide 1</dc:title>
</cp:coreProperties>
</file>