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FC1-4C27-4E28-A29A-6407CD00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3C1-35D5-4754-93F9-1D060762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D3D-C56B-4616-91FD-8E060A31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400-177C-44B0-BE16-C307C3B9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FB6-D78B-442E-B8E4-154994F1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09D-268F-49D7-BE01-25B74580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DE7-9249-4D56-ACCD-612AB0CC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226-74E0-4B4E-BCC3-1EA35E32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BA3-69A7-403A-B82D-611A9A7D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DA1-1B3C-48BF-92AA-F3764378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B80-37DD-471A-B3F3-7A6196C8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8D9-3C4C-4AE6-BC92-C1EA1E2E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7A15-B5CA-4170-9390-10BE93BBC2C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homem que adulterar com a mulher de outro, havendo adulterado com a mulher do seu próximo, certamente morrerá o adúltero e a adúlt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homem que se deitar com a mulher de seu pai descobriu a nudez de seu pai; ambos certamente morrerão; o seu sangue será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, quando um homem se deitar com a sua nora, ambos certamente morrerão; fizeram confusão; o seu sangue será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ambém um homem se deitar com outro homem, como com mulher, ambos fizeram abominação; certamente morrerão; o seu sangue será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um homem tomar uma mulher e a sua mãe, maldade é; a ele e a elas queimarão com fogo, para que não haja maldade no meio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ambém um homem se deitar com um animal, certamente morrerá; e matareis o ani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mulher que se chegar a algum animal, para ajuntar-se com ele, aquela mulher matarás bem assim como o animal; certamente morrerão; o seu sangue será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um homem tomar a sua irmã, filha de seu pai, ou filha de sua mãe, e vir a nudez dela, e ela a sua, torpeza é; portanto serão extirpados aos olhos dos filhos do seu povo; descobriu a nudez de sua irmã, levará sobre si 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um homem se deitar com uma mulher no tempo da sua enfermidade, e descobrir a sua nudez, descobrindo a sua fonte, e ela descobrir a fonte do seu sangue, ambos serão extirpados do meio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nudez da irmã de tua mãe, ou da irmã de teu pai não descobrirás; porquanto descobriu a sua parenta, sobre si levarão 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irás aos filhos de Israel: Qualquer que, dos filhos de Israel, ou dos estrangeiros que peregrinam em Israel, der da sua descendência a Moloque, certamente morrerá; o povo da terra o apedrej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ambém um homem se deitar com a sua tia descobriu a nudez de seu tio; seu pecado sobre si levarão; sem filhos morr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um homem tomar a mulher de seu irmão, imundícia é; a nudez de seu irmão descobriu; sem filhos fic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, pois, todos os meus estatutos, e todos os meus juízos, e cumpri-os, para que não vos vomite a terra, para a qual eu vos levo para habitar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andeis nos costumes das nações que eu expulso de diante de vós, porque fizeram todas estas coisas; portanto fui enfadad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vós vos tenho dito: Em herança possuireis a sua terra, e eu a darei a vós, para a possuirdes, terra que mana leite e mel. Eu sou o SENHOR vosso Deus, que vos separei d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eis, pois, diferença entre os animais limpos e imundos, e entre as aves imundas e as limpas; e as vossas almas não fareis abomináveis por causa dos animais, ou das aves, ou de tudo o que se arrasta sobre a terra; as quais coisas apartei de vós, para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-me-eis santos, porque eu, o SENHOR, sou santo, e vos separei dos povos, para serdes m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algum homem ou mulher em si tiver um espírito de necromancia ou espírito de adivinhação, certamente morrerá; serão apedrejados; o seu sangue será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porei a minha face contra esse homem, e o extirparei do meio do seu povo, porquanto deu da sua descendência a Moloque, para contaminar o meu santuário e profanar o meu santo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o povo da terra de alguma maneira esconder os seus olhos daquele homem, quando der da sua descendência a Moloque, para não o mat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porei a minha face contra aquele homem, e contra a sua família, e o extirparei do meio do seu povo, bem como a todos que forem após ele, prostituindo-se com Molo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lguém se virar para os adivinhadores e encantadores, para se prostituir com eles, eu porei a minha face contra ele, e o extirparei do meio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santificai-vos, e sede santos, pois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uardai os meus estatutos, e cumpri-os. Eu sou o SENHOR que vos santif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um homem amaldiçoar a seu pai ou a sua mãe, certamente morrerá; amaldiçoou a seu pai ou a sua mãe; o seu sangue será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22Z</dcterms:created>
  <dc:creator>Admin</dc:creator>
  <dc:description/>
  <dc:language>en-US</dc:language>
  <cp:lastModifiedBy>Admin</cp:lastModifiedBy>
  <dcterms:modified xsi:type="dcterms:W3CDTF">2008-07-31T00:09:22Z</dcterms:modified>
  <cp:revision>1</cp:revision>
  <dc:subject/>
  <dc:title>Slide 1</dc:title>
</cp:coreProperties>
</file>