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79AF-2EC7-47F0-A913-F6875C23E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4DE7-402A-4ED0-B8D3-C977AAFB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DF04-0D55-40C1-9AB3-E07D2C216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D061-7747-48B9-8C60-88BE6526D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2673-C9E6-44CC-A16A-1AE0F025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55CF-2798-4F87-BD37-73B4DA75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3947-3BEC-4E36-83B3-3A92DD28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676D-537E-4EC8-A608-AEE213FA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FE9D-B692-4C60-8613-BB99A9B3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3591-3746-473D-88DB-9A99A178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2B6F-5AB9-4133-8505-CD54C69B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6221-F077-4F8B-A4CA-4751E873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FA35-85D6-4E7C-8A8A-09A917FEF58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M misericórdia de mim, ó Deus, tem misericórdia de mim, porque a minha alma confia em ti; e à sombra das tuas asas me abrigo, até que passem as calam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a tua misericórdia é grande até aos céus, e a tua verdade até às nuv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ê exaltado, ó Deus, sobre os céus; e seja a tua glória sobre toda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lamarei ao Deus altíssimo, ao Deus que por mim tudo execu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enviará desde os céus, e me salvará do desprezo daquele que procurava devorar-me. (Selá.) Deus enviará a sua misericórdia e a sua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inha alma está entre leões, e eu estou entre aqueles que estão abrasados, filhos dos homens, cujos dentes são lanças e flechas, e a sua língua espada afi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ê exaltado, ó Deus, sobre os céus; seja a tua glória sobre toda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rmaram uma rede aos meus passos; a minha alma está abatida. Cavaram uma cova diante de mim, porém eles mesmos caíram no meio dela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eparado está o meu coração, ó Deus, preparado está o meu coração; cantarei, e darei louv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perta, glória minha; despertai, saltério e harpa; eu mesmo despertarei ao romper da al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ar-te-ei, Senhor, entre os povos; eu te cantarei entre as n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5:43Z</dcterms:created>
  <dc:creator>Admin</dc:creator>
  <dc:description/>
  <dc:language>en-US</dc:language>
  <cp:lastModifiedBy>Admin</cp:lastModifiedBy>
  <dcterms:modified xsi:type="dcterms:W3CDTF">2008-07-31T00:25:43Z</dcterms:modified>
  <cp:revision>1</cp:revision>
  <dc:subject/>
  <dc:title>Slide 1</dc:title>
</cp:coreProperties>
</file>