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9374-CBD5-4D97-9ED4-1D4CE2D0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D5D8-0C6E-49F4-8BEA-276CED6A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6EA7-A699-4BC7-BCE1-39A7566E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1772-50D6-45B8-831E-684F33F8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ACAE-EC7E-4F65-A9E8-3815508A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481B-224C-454A-A75A-E1417A3B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8C6D-3043-4DD2-9C4B-989A8099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3254-7328-4F37-955A-3CAF21D6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6266-B237-463F-BA4F-69662E81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9161-0EED-4921-B8C9-C06F6A18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ED25-F656-458B-9808-2F12F4C2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C0F3-964A-4308-A51F-C3B2A5B0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CF11-5122-4697-99E2-F9DDE9DBB83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EGOU a Derbe e Listra. E eis que estava ali um certo discípulo por nome Timóteo, filho de uma judia que era crente, mas de pai greg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ogo depois desta visão, procuramos partir para a Macedônia, concluindo que o Senhor nos chamava para lhes anunciarmos o evange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avegando de Trôade, fomos correndo em caminho direito para a Samotrácia e, no dia seguinte, para Neápol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li para Filipos, que é a primeira cidade desta parte da Macedônia, e é uma colônia; e estivemos alguns dias nest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dia de sábado saímos fora das portas, para a beira do rio, onde se costumava fazer oração; e, assentando-nos, falamos às mulheres que ali se ajunt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a certa mulher, chamada Lídia, vendedora de púrpura, da cidade de Tiatira, e que servia a Deus, nos ouvia, e o SENHOR lhe abriu o coração para que estivesse atenta ao que Paulo diz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pois que foi batizada, ela e a sua casa, nos rogou, dizendo: Se haveis julgado que eu seja fiel ao SENHOR, entrai em minha casa, e ficai ali. E nos constrangeu a is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indo nós à oração, nos saiu ao encontro uma jovem, que tinha espírito de adivinhação, a qual, adivinhando, dava grande lucro aos seus senh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, seguindo a Paulo e a nós, clamava, dizendo: Estes homens, que nos anunciam o caminho da salvação, são servos do Deus Altíss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to fez ela por muitos dias. Mas Paulo, perturbado, voltou-se e disse ao espírito: Em nome de Jesus Cristo, te mando que saias dela. E na mesma hora sa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 seus senhores que a esperança do seu lucro estava perdida, prenderam Paulo e Silas, e os levaram à praça, à presença dos magistr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 qual davam bom testemunho os irmãos que estavam em Listra e em Icôn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presentando-os aos magistrados, disseram: Estes homens, sendo judeus, perturbaram a nossa cidad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s expõem costumes que não nos é lícito receber nem praticar, visto que somos rom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ultidão se levantou unida contra eles, e os magistrados, rasgando-lhes as vestes, mandaram açoitá-los com va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-lhes dado muitos açoites, os lançaram na prisão, mandando ao carcereiro que os guardasse com segu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, tendo recebido tal ordem, os lançou no cárcere interior, e lhes segurou os pés no tron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erto da meia-noite, Paulo e Silas oravam e cantavam hinos a Deus, e os outros presos os escut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repente sobreveio um tão grande terremoto, que os alicerces do cárcere se moveram, e logo se abriram todas as portas, e foram soltas as prisões de to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cordando o carcereiro, e vendo abertas as portas da prisão, tirou a espada, e quis matar-se, cuidando que os presos já tinham fug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Paulo clamou com grande voz, dizendo: Não te faças nenhum mal, que todos aqui est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edindo luz, saltou dentro e, todo trêmulo, se prostrou ante Paulo e Si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ulo quis que este fosse com ele; e tomando-o, o circuncidou, por causa dos judeus que estavam naqueles lugares; porque todos sabiam que seu pai era gre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irando-os para fora, disse: Senhores, que é necessário que eu faça para me salv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disseram: Crê no Senhor Jesus Cristo e serás salvo, tu e a t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he pregavam a palavra do Senhor, e a todos os que estavam em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omando-os ele consigo naquela mesma hora da noite, lavou-lhes os vergões; e logo foi batizado, ele e todos os s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do-os à sua casa, lhes pôs a mesa; e, na sua crença em Deus, alegrou-se com toda a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ndo já dia, os magistrados mandaram quadrilheiros, dizendo: Soltai aquele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carcereiro anunciou a Paulo estas palavras, dizendo: Os magistrados mandaram que vos soltasse; agora, pois, saí e ide em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Paulo replicou: Açoitaram-nos publicamente e, sem sermos condenados, sendo homens romanos, nos lançaram na prisão, e agora encobertamente nos lançam fora? Não será assim; mas venham eles mesmos e tirem-nos para f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adrilheiros foram dizer aos magistrados estas palavras; e eles temeram, ouvindo que eram rom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indo, lhes dirigiram súplicas; e, tirando-os para fora, lhes pediram que saíssem d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iam passando pelas cidades, lhes entregavam, para serem observados, os decretos que haviam sido estabelecidos pelos apóstolos e anciãos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aindo da prisão, entraram em casa de Lídia e, vendo os irmãos, os confortaram, e depois part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sorte que as igrejas eram confirmadas na fé, e cada dia cresciam em núme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assando pela Frígia e pela província da Galácia, foram impedidos pelo Espírito Santo de anunciar a palavra na Ás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chegaram a Mísia, intentavam ir para Bitínia, mas o Espírito não lho permit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passado por Mísia, desceram a Trô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ulo teve de noite uma visão, em que se apresentou um homem da Macedônia, e lhe rogou, dizendo: Passa à Macedônia, e ajuda-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4:40Z</dcterms:created>
  <dc:creator>Admin</dc:creator>
  <dc:description/>
  <dc:language>en-US</dc:language>
  <cp:lastModifiedBy>Admin</cp:lastModifiedBy>
  <dcterms:modified xsi:type="dcterms:W3CDTF">2008-07-30T23:24:40Z</dcterms:modified>
  <cp:revision>1</cp:revision>
  <dc:subject/>
  <dc:title>Slide 1</dc:title>
</cp:coreProperties>
</file>