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B80-990F-43AC-B550-9FC6770E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C08-DEE5-423C-8578-FDCA81E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283-C537-4B79-8365-9E467B51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A1C-EE2E-4246-9C1C-32E2698E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E87-A3C9-4CDC-8971-684002D8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0B1-EF89-4C27-9F6E-B1EC0654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368-413C-4279-9EFC-58C3E751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9AA-0713-47B6-BEA1-FF767014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BE9-6606-46DA-B08D-1B0B7FB3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ADA-460B-42F3-9DB9-7490BEA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F3B-CD78-4BEA-BF81-719BDF0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377-0790-4465-966A-ED13A0C4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B3A0-BED1-49C6-B56A-1B7A4500B28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pois são os nomes dos filhos de Israel, que entraram no Egito com Jacó; cada um entrou com sua cas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a, usemos de sabedoria para com eles, para que não se multipliquem, e aconteça que, vindo guerra, eles também se ajuntem com os nossos inimigos, e pelejem contra nós, e subam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sobre eles maiorais de tributos, para os afligirem com suas cargas. Porque edificaram a Faraó cidades-armazéns, Pitom e Rame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nto mais os afligiam, tanto mais se multiplicavam, e tanto mais cresciam; de maneira que se enfadavam por causa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gípcios faziam servir os filhos de Israel com durez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lhes fizeram amargar a vida com dura servidão, em barro e em tijolos, e com todo o trabalho no campo; com todo o seu serviço, em que os obrigavam com du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o Egito falou às parteiras das hebréias (das quais o nome de uma era Sifrá, e o da outra Puá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Quando ajudardes a dar à luz às hebréias, e as virdes sobre os assentos, se for filho, matai-o; mas se for filha, então v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rteiras, porém, temeram a Deus e não fizeram como o rei do Egito lhes dissera, antes conservavam os meninos co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o Egito chamou as parteiras e disse-lhes: Por que fizestes isto, deixando os meninos com vi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parteiras disseram a Faraó: É que as mulheres hebréias não são como as egípcias; porque são vivas, e já têm dado à luz antes que a parteira venha a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úben, Simeão, Levi, e Jud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eus fez bem às parteiras. E o povo se aumentou, e se fortaleceu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as parteiras temeram a Deus, ele estabeleceu-lhes c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rdenou Faraó a todo o seu povo, dizendo: A todos os filhos que nascerem lançareis no rio, mas a todas as filhas guardareis co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sacar, Zebulom, e Benja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ã e Naftali, Gade e A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almas, pois, que procederam dos lombos de Jacó, foram setenta almas; José, porém, estava n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eceu José, e todos os seus irmãos, e toda aquel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frutificaram, aumentaram muito, e multiplicaram-se, e foram fortalecidos grandemente; de maneira que a terra se encheu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um novo rei sobre o Egito, que não conhecera a Jos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Êxod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disse ao seu povo: Eis que o povo dos filhos de Israel é muito, e mais poderoso do qu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05Z</dcterms:created>
  <dc:creator>Admin</dc:creator>
  <dc:description/>
  <dc:language>en-US</dc:language>
  <cp:lastModifiedBy>Admin</cp:lastModifiedBy>
  <dcterms:modified xsi:type="dcterms:W3CDTF">2008-07-30T23:31:05Z</dcterms:modified>
  <cp:revision>1</cp:revision>
  <dc:subject/>
  <dc:title>Slide 1</dc:title>
</cp:coreProperties>
</file>