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D19-0A1E-41EC-B31F-2E5662B3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7C7-B748-40BB-9B7F-5C8A24FE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700-9F2D-4EC5-AEE8-BF4003EC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F8B-CD24-402B-AC38-9FAD7906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EFF-CE6D-49B7-83E3-535572A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F93-A105-47D5-A512-48590F7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58E-5356-45C0-B1BC-1AC89ED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11A-743F-4F06-8005-CB32F88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ABB-B1C4-4E0A-B752-A75C338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ED4-CC4F-406D-A576-31FB1DF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5C6-B2A3-4E9D-8DB3-9874661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7A5-001A-48A6-9148-039BCBE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2BFA-7FAD-4987-ACD7-AC7EB639103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 manhã, todos os príncipes dos sacerdotes, e os anciãos do povo, formavam juntamente conselho contra Jesus, para o matar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-nas pelo campo do oleiro, segundo o que o Senhor determin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Jesus apresentado ao presidente, e o presidente o interrogou, dizendo: És tu o Rei dos Judeus? E disse-lhe Jesus: Tu o di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acusado pelos príncipes dos sacerdotes e pelos anciãos, nada respo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então Pilatos: Não ouves quanto testificam cont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m uma palavra lhe respondeu, de sorte que o presidente estava muito maravi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r ocasião da festa, costumava o presidente soltar um preso, escolhendo o povo aquele que quis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m então um preso bem conhecido, chamado Barrab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stando eles reunidos, disse-lhes Pilatos: Qual quereis que vos solte? Barrabás, ou Jesus, chamado Cr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bia que por inveja o haviam entre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ssentado no tribunal, sua mulher mandou-lhe dizer: Não entres na questão desse justo, porque num sonho muito sofri por causa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iatando-o, o levaram e entregaram ao presidente Pôncio Pila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príncipes dos sacerdotes e os anciãos persuadiram à multidão que pedisse Barrabás e matass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o presidente, disse-lhes: Qual desses dois quereis vós que eu solte? E eles disseram: Barrab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Pilatos: Que farei então de Jesus, chamado Cristo? Disseram-lhe todos: Seja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esidente, porém, disse: Mas que mal fez ele? E eles mais clamavam, dizendo: Seja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ilatos, vendo que nada aproveitava, antes o tumulto crescia, tomando água, lavou as mãos diante da multidão, dizendo: Estou inocente do sangue deste justo. Considerai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todo o povo, disse: O seu sangue caia sobre nós e sobre n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oltou-lhes Barrabás, e, tendo mandado açoitar a Jesus, entregou-o para ser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s soldados do presidente, conduzindo Jesus à audiência, reuniram junto dele toda a co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pindo-o, o cobriram com uma capa de escarl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cendo uma coroa de espinhos, puseram-lha na cabeça, e em sua mão direita uma cana; e, ajoelhando diante dele, o escarneciam, dizendo: Salve,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das, o que o traíra, vendo que fora condenado, trouxe, arrependido, as trinta moedas de prata aos príncipes dos sacerdotes e aos anciã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uspindo nele, tiraram-lhe a cana, e batiam-lhe com ela n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pois de o haverem escarnecido, tiraram-lhe a capa, vestiram-lhe as suas vestes e o levaram para ser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aíam, encontraram um homem cireneu, chamado Simão, a quem constrangeram a levar a sua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o lugar chamado Gólgota, que se diz: Lugar da Cave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ram-lhe a beber vinagre misturado com fel; mas ele, provando-o, não quis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-o crucificado, repartiram as suas vestes, lançando sortes, para que se cumprisse o que foi dito pelo profeta: Repartiram entre si as minhas vestes, e sobre a minha túnica lançaram s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ssentados, o guardav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cima da sua cabeça puseram escrita a sua acusação: ESTE É JESUS, O REI DOS JU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crucificados com ele dois salteadores, um à direita, e outro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passavam blasfemavam dele, meneando as cabeç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equei, traindo o sangue inocente. Eles, porém, disseram: Que nos importa? Isso é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ndo: Tu, que destróis o templo, e em três dias o reedificas, salva-te a ti mesmo. Se és Filho de Deus, desce da cr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mesma maneira também os príncipes dos sacerdotes, com os escribas, e anciãos, e fariseus, escarnecendo, dizia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ou os outros, e a si mesmo não pode salvar-se. Se é o Rei de Israel, desça agora da cruz, e crê-lo-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ou em Deus; livre-o agora, se o ama; porque disse: Sou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smo lhe lançaram também em rosto os salteadores que com ele estavam cruc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a hora sexta houve trevas sobre toda a terra, até à hora no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to da hora nona exclamou Jesus em alta voz, dizendo: Eli, Eli, lamá sabactâni; isto é, Deus meu, Deus meu, por que me desampar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ns dos que ali estavam, ouvindo isto, diziam: Este chama por El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um deles, correndo, tomou uma esponja, e embebeu-a em vinagre, e, pondo-a numa cana, dava-lhe d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utros, porém, diziam: Deixa, vejamos se Elias vem livr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atirando para o templo as moedas de prata, retirou-se e foi-se enfor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lamando outra vez com grande voz, rendeu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 véu do templo se rasgou em dois, de alto a baixo; e tremeu a terra, e fenderam-se as ped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ram-se os sepulcros, e muitos corpos de santos que dormiam foram ressuscit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dos sepulcros, depois da ressurreição dele, entraram na cidade santa, e apareceram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enturião e os que com ele guardavam a Jesus, vendo o terremoto, e as coisas que haviam sucedido, tiveram grande temor, e disseram: Verdadeiramente este era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ali, olhando de longe, muitas mulheres que tinham seguido Jesus desde a Galiléia, para o serv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e as quais estavam Maria Madalena, e Maria, mãe de Tiago e de José, e a mãe dos filhos de Zebe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inda já a tarde, chegou um homem rico, de Arimatéia, por nome José, que também era discípulo de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foi ter com Pilatos, e pediu-lhe o corpo de Jesus. Então Pilatos mandou que o corpo lhe fosse 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, tomando o corpo, envolveu-o num fino e limpo lenço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íncipes dos sacerdotes, tomando as moedas de prata, disseram: Não é lícito colocá-las no cofre das ofertas, porque são preço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ôs no seu sepulcro novo, que havia aberto em rocha, e, rodando uma grande pedra para a porta do sepulcro, reti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m ali Maria Madalena e a outra Maria, assentadas defronte do sepulc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dia seguinte, que é o dia depois da Preparação, reuniram-se os príncipes dos sacerdotes e os fariseus em casa de Pila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Senhor, lembramo-nos de que aquele enganador, vivendo ainda, disse: Depois de três dias ressusci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, pois, que o sepulcro seja guardado com segurança até ao terceiro dia, não se dê o caso que os seus discípulos vão de noite, e o furtem, e digam ao povo: Ressuscitou dentre os mortos; e assim o último erro será pior do que 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Pilatos: Tendes a guarda; ide, guardai-o como entende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eles, seguraram o sepulcro com a guarda, selando a ped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eliberado em conselho, compraram com elas o campo de um oleiro, para sepultura dos estrang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foi chamado aquele campo, até ao dia de hoje, Campo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realizou o que vaticinara o profeta Jeremias: Tomaram as trinta moedas de prata, preço do que foi avaliado, que certos filhos de Israel avali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17Z</dcterms:created>
  <dc:creator>Admin</dc:creator>
  <dc:description/>
  <dc:language>en-US</dc:language>
  <cp:lastModifiedBy>Admin</cp:lastModifiedBy>
  <dcterms:modified xsi:type="dcterms:W3CDTF">2008-07-31T00:16:17Z</dcterms:modified>
  <cp:revision>1</cp:revision>
  <dc:subject/>
  <dc:title>Slide 1</dc:title>
</cp:coreProperties>
</file>