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0714-5051-4E24-9288-63E0AAB3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D6D0-EEC0-428F-8245-F84A7855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6F82-DD24-4ED9-B922-773A768A6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EF4A-5288-4A60-B127-8624C8AB0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84FA-15CF-46AF-92A1-D80A7713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D2A7-D771-44A5-8691-DB92764D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6961-6C87-41B8-9C55-FB0AAB37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1F41-CB1C-46DC-962D-30A3BEF1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EAB8-5BCC-42BD-B32C-9F5ECB1E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087C-F228-49CE-9598-932A51A2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4716-CB7F-42A6-90A0-0D58E503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74A2-2A80-484E-9846-B030C070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73D3-7713-42D3-B6C8-8A93859E1F9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SÉ foi levado ao Egito, e Potifar, oficial de Faraó, capitão da guarda, homem egípcio, comprou-o da mão dos ismaelitas que o tinham levado l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falando ela cada dia a José, e não lhe dando ele ouvidos, para deitar-se com ela, e estar com el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cedeu num certo dia que ele veio à casa para fazer seu serviço; e nenhum dos da casa estava al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a lhe pegou pela sua roupa, dizendo: Deita-te comigo. E ele deixou a sua roupa na mão dela, e fugiu, e saiu para f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vendo ela que deixara a sua roupa em sua mão, e fugira para fo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amou aos homens de sua casa, e falou-lhes, dizendo: Vede, meu marido trouxe-nos um homem hebreu para escarnecer de nós; veio a mim para deitar-se comigo, e eu gritei com grande voz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ouvindo ele que eu levantava a minha voz e gritava, deixou a sua roupa comigo, e fugiu, e saiu para f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a pôs a sua roupa perto de si, até que o seu SENHOR voltou à su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alou-lhe conforme as mesmas palavras, dizendo: Veio a mim o servo hebreu, que nos trouxeste, para escarnecer de mi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levantando eu a minha voz e gritando, ele deixou a sua roupa comigo, e fugiu para f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ouvindo o seu senhor as palavras de sua mulher, que lhe falava, dizendo: Conforme a estas mesmas palavras me fez teu servo, a sua ira se acend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estava com José, e foi homem próspero; e estava na casa de seu SENHOR egípc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de José o tomou, e o entregou na casa do cárcere, no lugar onde os presos do rei estavam encarcerados; assim esteve ali na casa do cárce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, porém, estava com José, e estendeu sobre ele a sua benignidade, e deu-lhe graça aos olhos do carcereiro-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carcereiro-mor entregou na mão de José todos os presos que estavam na casa do cárcere, e ele ordenava tudo o que se fazia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carcereiro-mor não teve cuidado de nenhuma coisa que estava na mão dele, porquanto o SENHOR estava com ele, e tudo o que fazia o SENHOR prosper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pois, o seu senhor que o SENHOR estava com ele, e tudo o que fazia o SENHOR prosperava em sua m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osé achou graça em seus olhos, e servia-o; e ele o pôs sobre a sua casa, e entregou na sua mão tudo o que ti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desde que o pusera sobre a sua casa e sobre tudo o que tinha, o SENHOR abençoou a casa do egípcio por amor de José; e a bênção do SENHOR foi sobre tudo o que tinha, na casa e no ca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ixou tudo o que tinha na mão de José, de maneira que nada sabia do que estava com ele, a não ser do pão que comia. E José era formoso de porte, e de sembla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depois destas coisas que a mulher do seu senhor pôs os seus olhos em José, e disse: Deita-te co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le recusou, e disse à mulher do seu SENHOR: Eis que o meu senhor não sabe do que há em casa comigo, e entregou em minha mão tudo o que te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nguém há maior do que eu nesta casa, e nenhuma coisa me vedou, senão a ti, porquanto tu és sua mulher; como pois faria eu tamanha maldade, e pecaria contra D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9:36Z</dcterms:created>
  <dc:creator>Admin</dc:creator>
  <dc:description/>
  <dc:language>en-US</dc:language>
  <cp:lastModifiedBy>Admin</cp:lastModifiedBy>
  <dcterms:modified xsi:type="dcterms:W3CDTF">2008-07-30T23:39:36Z</dcterms:modified>
  <cp:revision>1</cp:revision>
  <dc:subject/>
  <dc:title>Slide 1</dc:title>
</cp:coreProperties>
</file>