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285-4032-4FB3-8E8C-EC7B781E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9A9-201D-425D-86EC-B02D41E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9CA-ABB2-4DDE-8A4E-0547DD24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21D-C40D-4C43-916F-33D6EDF9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E05-6268-4819-9320-3378B55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469-757A-402F-B156-67A76D2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39B-3FD5-48A7-831C-E45D908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215-CA2B-4F79-885A-ABCFFA24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33C-A820-4A5A-B2F3-9AED057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8EA-B92C-4FDB-9DC0-EB15508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CCD-C4D8-4B07-AC42-0289BF0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47E-2076-4670-BEE7-424A598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D99-2A71-4048-A87F-A65C51E287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não estejas em silêncio; não te cales, nem te aquietes, ó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pereceram em Endor; tornaram-se como estrume par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aos seus nobres como a Orebe, e como a Zeebe; e a todos os seus príncipes, como a Zebá e como a Zalmu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sseram: Tomemos para nós as casas de Deus em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meu, faze-os como um tufão, como a aresta diante d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fogo que queima um bosque, e como a chama que incendeia as bren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persegue com a tua tempestade, e os assombra com o teu torvel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am-se de vergonha as suas faces, para que busquem o teu nome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undam-se e assombrem-se perpetuamente; envergonhem-se, e pereç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aibam que tu, a quem só pertence o nome de SENHOR, és o Altíssimo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teus inimigos fazem tumulto, e os que te odeiam levantaram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astuto conselho contra o teu povo, e consultaram contra os teus esco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: Vinde, e desarraiguemo-los para que não sejam nação, nem haja mais memória do nom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sultaram juntos e unânimes; eles se unem contra t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endas de Edom, e dos ismaelitas, de Moabe, e dos agare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Gebal, e de Amom, e de Amaleque, a Filístia, com os moradores de T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Assíria se ajuntou com eles; foram ajudar aos filhos de Ló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lhes como aos midianitas; como a Sísera, como a Jabim na ribeira de Quis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41Z</dcterms:created>
  <dc:creator>Admin</dc:creator>
  <dc:description/>
  <dc:language>en-US</dc:language>
  <cp:lastModifiedBy>Admin</cp:lastModifiedBy>
  <dcterms:modified xsi:type="dcterms:W3CDTF">2008-07-31T00:26:41Z</dcterms:modified>
  <cp:revision>1</cp:revision>
  <dc:subject/>
  <dc:title>Slide 1</dc:title>
</cp:coreProperties>
</file>