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755-667C-4C8E-AA54-430FE2DC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54C-F2FD-4FDF-A9F1-A5AC7E3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55B-6433-45B6-B91D-064A1868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326-C26F-48B9-A9A5-CCBDFB67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A59-7439-4A55-8854-C9154C07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FC8-6384-4032-80B8-AC94B9B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551-C139-43F2-BC17-E1936E9E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6CB-4E75-4740-9512-5A182EC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E9F-9EF4-40B6-9F29-349FF12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F12-9DF2-432C-9B91-7E2E664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D07-B49F-4268-9A36-8AF2BD8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250-9BF1-4450-841C-3713A9B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DB2-B44A-4C59-8C11-D33450DC659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minha voz clamei ao SENHOR; com a minha voz suplique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ei a minha queixa perante a sua face; expus-lhe a minh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meu espírito estava angustiado em mim, então conheceste a minha vereda. No caminho em que eu andava, esconderam-me um l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ei para a minha direita, e vi; mas não havia quem me conhecesse. Refúgio me faltou; ninguém cuidou d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ó SENHOR, clamei; eu disse: Tu és o meu refúgio, e a minha porção na terra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 ao meu clamor; porque estou muito abatido. Livra-me dos meus perseguidores; porque são mais fortes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a minha alma da prisão, para que louve o teu nome; os justos me rodearão, pois me fizeste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41Z</dcterms:created>
  <dc:creator>Admin</dc:creator>
  <dc:description/>
  <dc:language>en-US</dc:language>
  <cp:lastModifiedBy>Admin</cp:lastModifiedBy>
  <dcterms:modified xsi:type="dcterms:W3CDTF">2008-07-31T00:28:41Z</dcterms:modified>
  <cp:revision>1</cp:revision>
  <dc:subject/>
  <dc:title>Slide 1</dc:title>
</cp:coreProperties>
</file>