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4C1-9DB7-403D-B8CF-1328D763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C44-C7E9-4649-B401-A6D7665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5F8-FDAE-400D-A428-7F0F5F1D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5F1-93D9-4E44-A9EE-415C8B45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34F-F6FB-4D24-9E4E-690948E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EBB-B1FB-46BE-8E9D-83280C6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E53-F57F-4D8F-A1C7-810DF11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699-68AA-4D35-8018-4E48CF3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B98-A525-4FBE-99C1-00FDA71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0B0-9F8C-411E-BAAE-0F86B86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A02-BDFA-4B77-9BC4-E1424E0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459-78A7-420C-9211-882B735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1C3-E023-4CD7-B30C-331A5F0EEB1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morando Davi já em sua casa, disse ao profeta Natã: Eis que moro em casa de cedro, mas a arca da aliança do SENHOR está debaixo de cort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os dias em que ordenei juízes sobre o meu povo Israel. Assim abaterei a todos os teus inimigos; também te faço saber que o SENHOR te edificará um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quando forem cumpridos os teus dias, para ires a teus pais, suscitarei a tua descendência depois de ti, um dos teus filhos, e estabelecerei 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me edificará casa; e eu confirmarei o seu tron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lhe serei por pai, e ele me será por filho; e a minha benignidade não retirarei dele, como a tirei daquele, que foi antes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confirmarei na minha casa e no meu reino para sempre, e o seu trono será firm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todas estas palavras, e conforme toda esta visão, assim falou Natã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o rei Davi, e ficou perante o SENHOR; e disse: Quem sou eu, SENHOR Deus? e qual é a minha casa, para que me tenhas trazido até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isto, ó Deus, foi pouco aos teus olhos; pelo que falaste da casa de teu servo para tempos distantes; e trataste-me como a um homem ilustre, ó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mais te dirá Davi, acerca da honra feita a teu servo? Porém tu conheces bem a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por amor de teu servo, e segundo o teu coração, fizeste toda esta grandeza, para fazer notória todas estas grande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tã disse a Davi: Tudo quanto tens no teu coração faze, porque Deus é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ninguém há como tu, e não há Deus fora de ti, segundo tudo quanto ouvimos com os noss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há como o teu povo Israel, única gente na terra, a quem Deus foi resgatar para seu povo, fazendo-te nome com coisas grandes e temerosas, lançando as nações de diante do teu povo, que resgataste do Eg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irmaste o teu povo Israel para ser teu povo para sempre; e tu, SENHOR, lhe foste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NHOR, a palavra que falaste de teu servo, e acerca da sua casa, confirma-a para sempre; e faze como fal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rme-se e engrandeça-se o teu nome para sempre, e diga-se: O SENHOR dos Exércitos é o Deus de Israel, é Deus para Israel; e permaneça firme diante de ti a casa de Davi,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, Deus meu, revelaste ao ouvido de teu servo que lhe edificarias casa; pelo que o teu servo achou confiança para orar em t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NHOR, tu és o mesmo Deus, e falaste este bem acerca de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oste servido abençoar a casa de teu servo, para que permaneça para sempre diante de ti: porque tu, SENHOR, a abençoaste, e ficará abençoad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ucedeu, na mesma noite, que a palavra de Deus veio a Natã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dize a Davi meu servo: Assim diz o SENHOR: Tu não me edificarás uma casa para eu mor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casa nenhuma morei, desde o dia em que fiz subir a Israel até ao dia de hoje; mas fui de tenda em tenda, e de tabernáculo em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odas as partes por onde andei com todo o Israel, porventura falei alguma palavra a algum dos juízes de Israel, a quem ordenei que apascentasse o meu povo, dizendo: Por que não me edificais uma casa de ced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ssim dirás a meu servo Davi: Assim diz o SENHOR dos Exércitos: Eu te tirei do curral, de detrás das ovelhas, para que fosses chefe d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ive contigo por toda a parte, por onde foste, e de diante de ti exterminei todos os teus inimigos, e te fiz um nome como o nome dos grandes que estão n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arei um lugar para o meu povo Israel, e o plantarei, para que habite no seu lugar, e nunca mais seja removido de uma para outra parte; e nunca mais os filhos da perversidade o debilitarão como dan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22Z</dcterms:created>
  <dc:creator>Admin</dc:creator>
  <dc:description/>
  <dc:language>en-US</dc:language>
  <cp:lastModifiedBy>Admin</cp:lastModifiedBy>
  <dcterms:modified xsi:type="dcterms:W3CDTF">2008-07-30T23:43:22Z</dcterms:modified>
  <cp:revision>1</cp:revision>
  <dc:subject/>
  <dc:title>Slide 1</dc:title>
</cp:coreProperties>
</file>