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4E8-C0FB-48D4-AB52-E722E41B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1E7-76EC-4F6B-B508-5B289DD3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D73-FFA0-46EC-9D2D-F13432F6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AC3-5D75-4BD2-9421-010A853E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718-0452-4326-BED1-08F94A47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0D2-4202-4349-9FC4-67BFD19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5BF-1D02-4603-967E-15008A3E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2A7-8BC8-41A4-A2AF-69D7401C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495-B4B8-4F93-A3C4-2A2EF61D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631-CA55-4C23-860F-0147D81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71C-4A5D-4734-9629-A157DC4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4FB-03BD-4517-B9E5-0D530FFE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80AA-E659-45A3-975F-49530DAABF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meus amados e mui queridos irmãos, minha alegria e coroa, estai assim firmes no Senhor, am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muito me regozijei no Senhor por finalmente reviver a vossa lembrança de mim; pois já vos tínheis lembrado, mas não tínheis tido oportu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go isto como por necessidade, porque já aprendi a contentar-me com o que te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 estar abatido, e sei também ter abundância; em toda a maneira, e em todas as coisas estou instruído, tanto a ter fartura, como a ter fome; tanto a ter abundância, como a padecer neces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sso todas as coisas em Cristo que me fortal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fizestes bem em tomar parte na minha afl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m sabeis também, ó filipenses, que, no princípio do evangelho, quando parti da Macedônia, nenhuma igreja comunicou comigo com respeito a dar e a receber, senão vós som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uma e outra vez me mandastes o necessário a Tessalôn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que procure dádivas, mas procuro o fruto que cresça para a vossa co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bastante tenho recebido, e tenho abundância. Cheio estou, depois que recebi de Epafrodito o que da vossa parte me foi enviado, como cheiro de suavidade e sacrifício agradável e aprazível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Deus, segundo as suas riquezas, suprirá todas as vossas necessidades em glória, por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o a Evódia, e rogo a Síntique, que sintam o mesmo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 nosso Deus e Pai seja dada glória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todos os santos em Cristo Jesus. Os irmãos que estão comigo vos saú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santos vos saúdam, mas principalmente os que são da casa de Cé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de nosso Senhor Jesus Cristo seja com vós todo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ço-te também a ti, meu verdadeiro companheiro, que ajudes essas mulheres que trabalharam comigo no evangelho, e com Clemente, e com os outros cooperadores, cujos nomes estão no livro d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gozijai-vos sempre no Senhor; outra vez digo, regozijai-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a vossa eqüidade notória a todos os homens. Perto está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tejais inquietos por coisa alguma; antes as vossas petições sejam em tudo conhecidas diante de Deus pela oração e súplica, com ação de gr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z de Deus, que excede todo o entendimento, guardará os vossos corações e os vossos sentimentos em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, irmãos, tudo o que é verdadeiro, tudo o que é honesto, tudo o que é justo, tudo o que é puro, tudo o que é amável, tudo o que é de boa fama, se há alguma virtude, e se há algum louvor, nisso pens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também aprendestes, e recebestes, e ouvistes, e vistes em mim, isso fazei; e o Deus de paz será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47Z</dcterms:created>
  <dc:creator>Admin</dc:creator>
  <dc:description/>
  <dc:language>en-US</dc:language>
  <cp:lastModifiedBy>Admin</cp:lastModifiedBy>
  <dcterms:modified xsi:type="dcterms:W3CDTF">2008-07-30T23:36:47Z</dcterms:modified>
  <cp:revision>1</cp:revision>
  <dc:subject/>
  <dc:title>Slide 1</dc:title>
</cp:coreProperties>
</file>