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A5EF-E475-45F8-AE20-6185BAD0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B8BE-B815-4982-93CD-15E2866A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4EBE-BC91-47FC-A5D6-466AE4C8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0066-6AE1-41B9-BE8A-1D57DEB7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9547-BCAF-4386-8C82-D1A60938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206B-7886-4507-940C-38BD79A4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52F5-391D-47AB-BA83-5D978833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32E1-C043-4751-BF02-8C26BD6F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AB85-CFD2-4809-B402-1C4C1333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1F3A-4470-495D-856E-7E7EB12A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ACCE-E46A-4172-B7C7-4EB6880E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9A63-FAD6-41F6-9FF6-02D30004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3973-9E61-4845-910B-A8C2B82552A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ATEI palmas, todos os povos; aclamai a Deus com voz de triunf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Altíssimo é tremendo, e Rei grande sobre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nos subjugará os povos e as nações debaixo dos nosso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olherá para nós a nossa herança, a glória de Jacó, a quem amou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subiu com júbilo, o SENHOR subiu ao som de trombe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ntai louvores a Deus, cantai louvores; cantai louvores ao nosso Rei, cantai louv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Deus é o Rei de toda a terra, cantai louvores com intelig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reina sobre os gentios; Deus se assenta sobre o trono da sua sant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príncipes do povo se ajuntam, o povo do Deus de Abraão; porque os escudos da terra são de Deus. Ele está muito elevad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26Z</dcterms:created>
  <dc:creator>Admin</dc:creator>
  <dc:description/>
  <dc:language>en-US</dc:language>
  <cp:lastModifiedBy>Admin</cp:lastModifiedBy>
  <dcterms:modified xsi:type="dcterms:W3CDTF">2008-07-31T00:25:26Z</dcterms:modified>
  <cp:revision>1</cp:revision>
  <dc:subject/>
  <dc:title>Slide 1</dc:title>
</cp:coreProperties>
</file>