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156-5492-4B4D-BDA1-07F7F218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1B4-3E7F-468B-940C-3697AE93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C54-B37D-45C4-B3A0-8A630129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BBF-2372-4547-A35B-60C597CA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259-4319-4F37-A04F-5108BC48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D08-BD9C-458A-92E0-9DCBEB3F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DFB-5C16-4960-85E3-2559B300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542-CFF1-4566-8FDB-A0758359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679-2984-4473-8447-601173F7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369-ADEB-4F8A-B8E4-83AC11AD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131-AAD3-4E11-AF70-2192701E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448-1132-4366-864B-34BFE3F6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A024-22BC-4CF5-B0F8-F5701225AAF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guarda as minhas palavras, e esconde dentro de ti os m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uma mulher lhe saiu ao encontro com enfeites de prostituta, e astúcia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 alvoroçada e irriquieta; não paravam em sua casa os s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 para fora, depois pelas ruas, e ia espreitando por todos os ca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-se para ele e o beijou. Com face impudente lhe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crifícios pacíficos tenho comigo; hoje paguei os meus vo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to saí ao teu encontro a buscar diligentemente a tua face, e te ach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cobri a minha cama com cobertas de tapeçaria, com obras lavradas, com linho fino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perfumei o meu leito com mirra, aloés e ca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m, saciemo-nos de amores até à manhã; alegremo-nos com am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marido não está em casa; foi fazer uma longa viag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 os meus mandamentos e vive; e a minha lei, como a menina d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ou na sua mão um saquitel de dinheiro; voltará para casa só no dia mar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o seduziu com palavras muito suaves e o persuadiu com as lisonjas dos seu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ogo a segue, como o boi que vai para o matadouro, e como vai o insensato para o castigo das pris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a flecha lhe atravesse o fígado; ou como a ave que se apressa para o laço, e não sabe que está armado contra 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pois, filhos, dai-me ouvidos, e estai atentos às palavras da minh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desvie para os caminhos dela o teu coração, e não te deixes perder nas suas ve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muitos feridos derrubou; e são muitíssimos os que por causa dela foram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casa é caminho do inferno que desce para as câmaras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a-os aos teus dedos, escreve-os na tábua do t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 à sabedoria: Tu és minha irmã; e à prudência chama de tua paren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elas te guardem da mulher alheia, da estranha que lisonjeia com as su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a janela da minha casa, olhando eu por minhas fres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 entre os simples, descobri entre os moços, um moço falto de juíz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passava pela rua junto à sua esquina, e seguia o caminho da sua c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crepúsculo, à tarde do dia, na tenebrosa noite e na escur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19Z</dcterms:created>
  <dc:creator>Admin</dc:creator>
  <dc:description/>
  <dc:language>en-US</dc:language>
  <cp:lastModifiedBy>Admin</cp:lastModifiedBy>
  <dcterms:modified xsi:type="dcterms:W3CDTF">2008-07-31T00:21:19Z</dcterms:modified>
  <cp:revision>1</cp:revision>
  <dc:subject/>
  <dc:title>Slide 1</dc:title>
</cp:coreProperties>
</file>