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CFE-8ECC-4339-993D-06D8982F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D2A-31EF-489E-AD5D-FD188259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188-550E-4FA9-9034-B4AB9944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A9D-7E72-40AB-820D-0B3A01AD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336-1F61-4073-84C6-C3C086B5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6B23-9CE2-40A7-95B4-F319F261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B93E-FC6D-45BD-B80C-68D9D932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6BF7-E5D8-48C3-946F-DCBBE9D0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806-5B16-45E3-8B43-30858481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95C8-960C-4DE8-9F5E-917FA788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EC4-18EF-4ECF-84A8-CE1B7E77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AE9F-7E2C-40AE-996B-538FF516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2B47-0A7E-45E6-8851-C91A7EEEF1A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-lhes: Assim diz o Senhor DEUS: Esta carga refere-se ao príncipe em Jerusalém, e a toda a casa de Israel, que está no meio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: Eu sou o vosso sinal. Assim como eu fiz, assim se lhes fará a eles; irão para o exílio em cativ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ríncipe que está no meio deles levará aos ombros as mobílias, e às escuras sairá; farão uma abertura na parede para as tirarem por ela; o seu rosto cobrirá, para que com os seus olhos não vej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stenderei a minha rede sobre ele, e será apanhado no meu laço; e o levarei à Babilônia, à terra dos caldeus, e contudo não a verá, ainda que ali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odos os ventos espalharei os que estiverem ao redor dele para seu socorro, e a todas as suas tropas; e desembainharei a espada atrá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aberão que eu sou o SENHOR, quando eu os dispersar entre as nações e os espalhar pelas ter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les deixarei ficar alguns poucos, escapos da espada, da fome, e da peste, para que contem todas as suas abominações entre as nações para onde forem; e saberão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o teu pão comerás com tremor, e a tua água beberás com estremecimento e com rec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ás ao povo da terra: Assim diz o Senhor DEUS acerca dos habitantes de Jerusalém, na terra de Israel: O seu pão comerão com receio, e a sua água beberão com susto, pois a sua terra será despojada de sua abundância, por causa da violência de todos 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tu habitas no meio da casa rebelde, que tem olhos para ver e não vê, e tem ouvidos para ouvir e não ouve; porque eles são casa rebel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cidades habitadas serão devastadas, e a terra se tornará em desolação; e sabereis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inda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que provérbio é este que vós tendes na terra de Israel, dizendo: Prolongar-se-ão os dias, e perecerá toda a vis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dize-lhes: Assim diz o Senhor DEUS: Farei cessar este provérbio, e já não se servirão mais dele em Israel; mas dize-lhes: Os dias estão próximos e o cumprimento de toda a vi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haverá mais alguma visão vã, nem adivinhação lisonjeira, no meio da cas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, o SENHOR, falarei, e a palavra que eu falar se cumprirá; não será mais adiada; porque em vossos dias, ó casa rebelde, falarei uma palavra e a cumprirei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 mais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eis que os da casa de Israel dizem: A visão que este tem é para muitos dias, e ele profetiza de tempos que estão lo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dize-lhes: Assim diz o Senhor DEUS: Não será mais adiada nenhuma das minhas palavras; e a palavra que falei se cumprirá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ó filho do homem, prepara mobílias para mudares, e de dia muda aos olhos deles; e do teu lugar mudarás para outro lugar aos olhos deles; bem pode ser que reparem nisso, ainda que eles são casa rebel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olhos deles, pois, tirarás para fora, de dia, as tuas mobílias, como quem vai mudar; então tu sairás de tarde aos olhos deles, como quem sai mudando para o cativ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 para ti, à vista deles, uma abertura na parede, e tira-as para fora, por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olhos deles, nos seus ombros, às escuras as tirarás, e cobrirás o teu rosto, para que não vejas a terra; porque te dei por sinal à cas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z assim, como se me deu ordem; as minhas mobílias tirei para fora de dia, como mobílias do cativeiro; então à tarde fiz, com a mão, uma abertura na parede; às escuras as tirei para fora, e nos meus ombros as levei, aos olho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ela manhã,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porventura não te disse a casa de Israel, aquela casa rebelde: Que fazes t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4:13Z</dcterms:created>
  <dc:creator>Admin</dc:creator>
  <dc:description/>
  <dc:language>en-US</dc:language>
  <cp:lastModifiedBy>Admin</cp:lastModifiedBy>
  <dcterms:modified xsi:type="dcterms:W3CDTF">2008-07-30T23:34:13Z</dcterms:modified>
  <cp:revision>1</cp:revision>
  <dc:subject/>
  <dc:title>Slide 1</dc:title>
</cp:coreProperties>
</file>