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85EE-78BE-4EC6-9A16-AEB8FE151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7BEA-9719-4873-8307-C9FB2F7AC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1601-5691-4204-ABF0-C154004BC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F48A-FABC-4075-9E56-EE483F308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0092-D17A-4D2E-B607-A176CD860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7305-BD99-470B-A629-2EDECE3CD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A4B3-7416-4172-8C91-47A24C955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E6E4-6D11-48A0-8EBF-5874894FC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1546-B7BB-4197-8A52-DD9ED4529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06D2-BB9E-456E-8538-0366597C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9929-9761-4396-8D21-F2D4AAB3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93D3-CAA9-4F5F-B384-3CE7C211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7410B-6DEA-4F9F-AB27-670FD39BA9F3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EIO a mim a palavra do SENHOR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os do oriente, contra os filhos de Amom, o entregarei em possessão, para que não haja memória dos filhos de Amom entre as n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executarei juízos sobre Moabe, e saberão que eu sou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5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 DEUS: Porquanto Edom se houve vingativamente para com a casa de Judá, e se fez culpadíssimo, quando se vingou dele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5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assim diz o Senhor DEUS: Também estenderei a minha mão sobre Edom, e arrancarei dela homens e animais; e a tornarei em deserto, e desde Temã até Dedã cairão à esp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5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xercerei a minha vingança sobre Edom, pela mão do meu povo de Israel; e farão em Edom segundo a minha ira e segundo o meu furor; e conhecerão a minha vingança, diz o Senhor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5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 DEUS: Porquanto os filisteus se houveram vingativamente, e executaram vingança com desprezo de coração, para destruírem com perpétua inimizad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5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assim diz o Senhor DEUS: Eis que eu estendo a minha mão sobre os filisteus, e arrancarei os quereteus, e destruirei o restante da costa do m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5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xecutarei sobre eles grandes vinganças, com furiosos castigos, e saberão que eu sou o SENHOR, quando eu tiver exercido a minha vingança sobre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lho do homem, dirige o teu rosto contra os filhos de Amom, e profetiza contra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ze aos filhos de Amom: Ouvi a palavra do Senhor DEUS: Assim diz o Senhor DEUS: Porquanto tu disseste: Ah! contra o meu santuário, quando foi profanado; e contra a terra de Israel, quando foi assolada; e contra a casa de Judá, quando foi ao cativeiro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eis que te entregarei em possessão aos do oriente, e em ti estabelecerão os seus acampamentos, e porão em ti as suas moradas; eles comerão os teus frutos, e eles beberão o teu lei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rei de Rabá uma estrebaria de camelos, e dos filhos de Amom um curral de ovelhas; e sabereis que eu sou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ssim diz o Senhor DEUS: Porquanto bateste com as mãos, e pateaste com os pés, e com todo o desprezo do teu coração te alegraste contra a terra de Israel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eis que eu tenho estendido a minha mão sobre ti, e te darei por despojo aos gentios, e te arrancarei dentre os povos, e te destruirei dentre as terras, e acabarei de todo contigo; e saberás que eu sou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 DEUS: Porquanto dizem Moabe e Seir: Eis que a casa de Judá é como todos os genti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eis que eu abrirei o lado de Moabe desde as cidades, desde as suas cidades da fronteira, a glória da terra, Bete-Jesimote, Baal-Meom, e Quiriata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5:06Z</dcterms:created>
  <dc:creator>Admin</dc:creator>
  <dc:description/>
  <dc:language>en-US</dc:language>
  <cp:lastModifiedBy>Admin</cp:lastModifiedBy>
  <dcterms:modified xsi:type="dcterms:W3CDTF">2008-07-30T23:35:06Z</dcterms:modified>
  <cp:revision>1</cp:revision>
  <dc:subject/>
  <dc:title>Slide 1</dc:title>
</cp:coreProperties>
</file>