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6CB-6C04-4156-ADFF-FCAD6C79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457-2E41-4662-B715-0978D7D8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F16-B93A-4ACF-B78C-052104D4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DAF-ED62-4165-B26D-84CDE1AD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821-8FEE-4672-A0A0-337A060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B67-6ED4-4312-A77F-F9FA45F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639-D3D3-43AD-BA38-EBEC18F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084-AE45-4229-97E2-9988B8D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ED6-9A5E-4371-BFF1-C5254C6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070-B2FC-4507-AEDE-ADD689E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124-79DA-4433-805A-B49A2CB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385-ED53-4318-AECA-70A52A1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5E8-0414-4B6C-A1D5-778629DADF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Josué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Apartai para vós as cidades de refúgio, de que vos falei pelo ministério de Moi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fuja para ali o homicida, que matar alguma pessoa por engano, e não com intenção; para que vos sirvam de refúgio contra o vingador d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gindo para alguma daquelas cidades, pôr-se-á à porta dela e exporá a sua causa aos ouvidos dos anciãos da tal cidade; então o tomarão consigo na cidade; e lhe darão lugar, para que habite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o vingador do sangue o seguir, não entregarão na sua mão o homicida, porquanto não feriu a seu próximo com intenção, e não o odiou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á na mesma cidade, até que compareça em juízo perante a congregação, até que morra o sumo sacerdote que houver naqueles dias; então o homicida voltará, e virá à sua cidade e à sua casa, à cidade de onde fug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ignaram a Quedes na Galiléia, na montanha de Naftali, e a Siquém, na montanha de Efraim, e a Quiriate-Arba (esta é Hebrom), na montanh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lém do Jordão, na direção de Jericó para o oriente, designaram a Bezer, no deserto, na campina da tribo de Rúben, e a Ramote, em Gileade da tribo de Gade, e a Golã, em Basã da tribo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cidades que foram designadas para todos os filhos de Israel, e para o estrangeiro que habitasse entre eles, para que se acolhesse a elas todo aquele que por engano, matasse alguma pessoa, para que não morresse às mãos do vingador do sang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55Z</dcterms:created>
  <dc:creator>Admin</dc:creator>
  <dc:description/>
  <dc:language>en-US</dc:language>
  <cp:lastModifiedBy>Admin</cp:lastModifiedBy>
  <dcterms:modified xsi:type="dcterms:W3CDTF">2008-07-31T00:05:55Z</dcterms:modified>
  <cp:revision>1</cp:revision>
  <dc:subject/>
  <dc:title>Slide 1</dc:title>
</cp:coreProperties>
</file>