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3CA-991C-4D12-AA1A-07B5AA1A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67C-6630-45CD-AD5D-217CEC8C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0D7-9039-4D4A-8876-25222A8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D00-B587-477A-84DE-0767D238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547-333F-42C2-BC1E-CD529AB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A9E-238F-4A6D-A01F-5E932D4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436-4515-48A9-B63B-8102B6D9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797-A456-4CF4-8B22-E0BC1D88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6BE-CF91-4C83-A17C-D6C74D5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401-12D1-4BE5-BB03-36C76DF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7C8-4AC0-4B26-B870-E316D8A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FCD-955C-4B8C-BF0E-9926E791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3F1-1CDC-456C-9784-909875A62E8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oitavo mês do segundo ano de Dario veio a palavra do SENHOR ao profeta Zacarias, filho de Baraquias, filho de Id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o homem que estava entre as murtas, e disse: Estes são os que o SENHOR tem enviado para percorrerem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s responderam ao anjo do SENHOR, que estava entre as murtas, e disseram: Nós já percorremos a terra, e eis que toda a terra está tranqüila e qui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anjo do SENHOR respondeu, e disse: Ó SENHOR dos Exércitos, até quando não terás compaixão de Jerusalém, e das cidades de Judá, contra as quais estiveste irado estes setenta an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o SENHOR ao anjo, que falava comigo, com palavras boas, palavras consolado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anjo que falava comigo disse-me: Clama, dizendo: Assim diz o SENHOR dos Exércitos: Com grande zelo estou zelando por Jerusalém e por Si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grande indignação estou irado contra os gentios em descanso; porque eu estava pouco indignado, mas eles agravaram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: Voltei-me para Jerusalém com misericórdia; nela será edificada a minha casa, diz o SENHOR dos Exércitos, e o cordel será estendido sobre Jerusalém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ma outra vez, dizendo: Assim diz o SENHOR dos Exércitos: As minhas cidades ainda aumentarão e prosperarão; porque o SENHOR ainda consolará a Sião e ainda escolherá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evantei os meus olhos, e vi, e eis quatro chif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 ao anjo que falava comigo: Que são estes? E ele me disse: Estes são os chifres que dispersaram a Judá, a Israel e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 irou fortemente contra vosso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mostrou quatro carpintei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disse: Que vêm estes fazer? E ele falou, dizendo: Estes são os chifres que dispersaram a Judá, de maneira que ninguém pôde levantar a sua cabeça; estes, pois, vieram para os amedrontarem, para derrubarem os chifres dos gentios que levantaram o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dize-lhes: Assim diz o SENHOR dos Exércitos: Tornai-vos para mim, diz o SENHOR dos Exércitos, e eu me tornarei para vós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sejais como vossos pais, aos quais clamavam os primeiros profetas, dizendo: Assim diz o SENHOR dos Exércitos: Convertei-vos agora dos vossos maus caminhos e das vossas más obras; mas não ouviram, nem me escutara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ossos pais, onde estão? E os profetas, viverão eles para semp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udo as minhas palavras e os meus estatutos, que eu ordenei aos profetas, meus servos, não alcançaram a vossos pais? E eles voltaram, e disseram: Assim como o SENHOR dos Exércitos fez tenção de nos tratar, segundo os nossos caminhos, e segundo as n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vinte e quatro dias do mês undécimo (que é o mês de Sebate), no segundo ano de Dario, veio o palavra do SENHOR ao profeta Zacarias, filho de Baraquias, filho de Id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lhei de noite, e vi um homem montado num cavalo vermelho; e ele estava parado entre as murtas que estavam na baixada; e atrás dele estavam cavalos vermelhos, malhados e branc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Zacaria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disse: Senhor meu, quem são estes? E disse-me o anjo que falava comigo: Eu te mostrarei quem são 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21Z</dcterms:created>
  <dc:creator>Admin</dc:creator>
  <dc:description/>
  <dc:language>en-US</dc:language>
  <cp:lastModifiedBy>Admin</cp:lastModifiedBy>
  <dcterms:modified xsi:type="dcterms:W3CDTF">2008-07-31T00:29:21Z</dcterms:modified>
  <cp:revision>1</cp:revision>
  <dc:subject/>
  <dc:title>Slide 1</dc:title>
</cp:coreProperties>
</file>