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9AB-CE3E-4A9F-BC7C-9545836A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BDB-3C8F-4CBD-9468-E345A45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1CF-291A-4AC7-B0F9-28085FFC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7DA-B1C2-404C-8271-BDBDEB3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ECD-CB70-44E8-B30F-34EA754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519-8D84-465A-B90D-EB15DA45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BFA-6665-46D8-A529-3303490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832-6003-4094-B2BD-30096B1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F8E-2CBB-4C4C-8FC8-76FCEE0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8EF-CC6A-4C8A-A6C0-D088D56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A71-5077-426F-BBCE-E8017AD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0D9-25A8-425E-BF4C-97E6E87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2F7-F3F0-4BE6-9116-A0E5DD9584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o SENHOR a Moisés: Fala aos sacerdotes, filhos de Arão, e dize-lhes: O sacerdote não se contaminará por causa de um morto entre o seu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mo sacerdote entre seus irmãos, sobre cuja cabeça foi derramado o azeite da unção, e que for consagrado para vestir as vestes, não descobrirá a sua cabeça nem rasgará as suas ve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chegará a cadáver algum, nem por causa de seu pai nem por sua mãe se contamin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airá do santuário, para que não profane o santuário do seu Deus, pois a coroa do azeite da unção do seu Deus está sobre ele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tomará por esposa uma mulher na sua virgin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úva, ou repudiada ou desonrada ou prostituta, estas não tomará; mas virgem do seu povo tomará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profanará a sua descendência entre o seu povo; porque eu sou o SENHOR que o santi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, dizendo: Ninguém da tua descendência, nas suas gerações, em que houver algum defeito, se chegará a oferecer o pão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enhum homem em quem houver alguma deformidade se chegará; como homem cego, ou coxo, ou de nariz chato, ou de membros demasiadamente compri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homem que tiver quebrado o pé, ou a mão quebr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o por seu parente mais chegado: por sua mãe, e por seu pai, e por seu filho, e por sua filha, e por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rcunda, ou anão, ou que tiver defeito no olho, ou sarna, ou impigem, ou que tiver testículo muti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homem da descendência de Arão, o sacerdote, em quem houver alguma deformidade, se chegará para oferecer as ofertas queimadas do SENHOR; defeito nele há; não se chegará para oferecer o pão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omerá do pão do seu Deus, tanto do santíssimo como d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té ao véu não entrará, nem se chegará ao altar, porquanto defeito há nele, para que não profane os meus santuários; porque eu sou o SENHOR que os santi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alou isto a Arão e a seus filhos, e a todos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sua irmã virgem, chegada a ele, que ainda não teve marido; por ela também se contami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sendo principal entre o seu povo, não se contaminará, pois que se profan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ão calva na sua cabeça, e não raparão as extremidades da sua barba, nem darão golpes na su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ntos serão a seu Deus, e não profanarão o nome do seu Deus, porque oferecem as ofertas queimadas do SENHOR, e o pão do seu Deus; portanto serão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arão mulher prostituta ou desonrada, nem tomarão mulher repudiada de seu marido; pois santo é a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 santificarás, porquanto oferece o pão do teu Deus; santo será para ti, pois eu, o SENHOR que vos santifica, sou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a filha de um sacerdote começar a prostituir-se, profana a seu pai; com fogo será que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25Z</dcterms:created>
  <dc:creator>Admin</dc:creator>
  <dc:description/>
  <dc:language>en-US</dc:language>
  <cp:lastModifiedBy>Admin</cp:lastModifiedBy>
  <dcterms:modified xsi:type="dcterms:W3CDTF">2008-07-31T00:09:25Z</dcterms:modified>
  <cp:revision>1</cp:revision>
  <dc:subject/>
  <dc:title>Slide 1</dc:title>
</cp:coreProperties>
</file>