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37EB-A373-4A77-A9AC-4564ADFE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2FC2-3884-4601-8CFA-026C1D96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9A7-7F13-463D-9CB5-C95486F0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66B5-683E-4A54-BAF1-CE232390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F8A-C6A5-42B4-B431-D348E28E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BD8-29A2-4DA7-9634-7BC85053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91E-FD14-4CC1-A37F-BEF6CB9B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E2B9-0D3C-414D-8633-6CC96DFD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2524-0568-4C62-985B-590D72FC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128-F219-4187-AEB3-31976204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C3B2-0B20-435C-9098-100C3C47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29E-BCE2-4043-ADA5-7DE621EF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5283-03EB-415C-9B8A-E531A0B895D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, pois, são as nações que o SENHOR deixou ficar, para por elas provar a Israel, a saber, a todos os que não sabiam de todas as guerras de Cana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sobre ele o Espírito do SENHOR, e julgou a Israel, e saiu à peleja; e o SENHOR entregou na sua mão a Cusã-Risataim, rei da Síria; contra o qual prevaleceu 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terra sossegou quarenta anos; e Otniel, filho de Quenaz, fal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s filhos de Israel tornaram a fazer o que era mau aos olhos do SENHOR; então o SENHOR fortaleceu a Eglom, rei dos moabitas, contra Israel; porquanto fizeram o que era mau aos olho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uniu consigo os filhos de Amom e os amalequitas, e foi, e feriu a Israel, e tomaram a cidade das palme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Israel serviram a Eglom, rei dos moabitas, dezoito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filhos de Israel clamaram ao SENHOR, e o SENHOR lhes levantou um libertador, a Eúde, filho de Gera, filho de Jemim, homem canhoto. E os filhos de Israel enviaram pela sua mão um presente a Eglom, rei dos moab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úde fez para si uma espada de dois fios, do comprimento de um côvado; e cingiu-a por baixo das suas vestes, à sua coxa dire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ou aquele presente a Eglom, rei dos moabitas; e era Eglom homem muito gor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acabando de entregar o presente, despediu a gente que o troux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 mesmo voltou das imagens de escultura que estavam ao pé de Gilgal, e disse: Tenho uma palavra secreta para ti, ó rei. O qual disse: Cala-te. E todos os que lhe assistiam saíram de dia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ão-somente para que as gerações dos filhos de Israel delas soubessem (para lhes ensinar a guerra), pelo menos os que dantes não sabiam d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úde entrou numa sala de verão, que o rei tinha só para si, onde estava sentado, e disse: Tenho, para dizer-te, uma palavra de Deus. E levantou-se da cad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úde estendeu a sua mão esquerda, e tirou a espada de sobre sua coxa direita, e lha cravou no ventr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tal maneira que entrou até o cabo após a lâmina, e a gordura encerrou a lâmina (porque não tirou a espada do ventre); e saiu-lhe o excre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úde saiu ao pátio, e fechou as portas da sala e as tran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ele, vieram os servos do rei, e viram, e eis que as portas da sala estavam fechadas; e disseram: Sem dúvida está cobrindo seus pés na recâmara da sala de v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perando até se alarmarem, eis que ele não abria as portas da sala; então tomaram a chave, e abriram, e eis ali seu senhor estendido morto em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úde escapou, enquanto eles se demoravam; porque ele passou pelas imagens de escultura, e escapou para Se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chegando ele, tocou a buzina nas montanhas de Efraim, e os filhos de Israel desceram com ele das montanhas, e ele adiante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Segui-me, porque o SENHOR vos tem entregue vossos inimigos, os moabitas, nas vossas mãos; e desceram após ele, e tomaram os vaus do Jordão contra Moabe, e a ninguém deixaram pass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 tempo feriram dos moabitas uns dez mil homens, todos corpulentos, e todos homens valorosos; e não escapou nenh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inco príncipes dos filisteus, e todos os cananeus, e sidônios, e heveus que habitavam nas montanhas do Líbano desde o monte de Baal-Hermom, até à entrada de Ham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oi subjugado Moabe naquele dia debaixo da mão de Israel; e a terra sossegou oitenta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le foi Sangar, filho de Anate, que feriu a seiscentos homens dos filisteus com uma aguilhada de bois; e também ele libertou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, pois, ficaram, para por eles provar a Israel, para saber se dariam ouvido aos mandamentos do SENHOR, que ele tinha ordenado a seus pais, pelo ministério de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bitando, pois, os filhos de Israel no meio dos cananeus, dos heteus, e amorreus, e perizeus, e heveus, e jebus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ram de suas filhas para si por mulheres, e deram as suas filhas aos filhos deles; e serviram aos seus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Israel fizeram o que era mau aos olhos do SENHOR, e se esqueceram do SENHOR seu Deus; e serviram aos baalins e a Astar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ira do SENHOR se acendeu contra Israel, e ele os vendeu na mão de Cusã-Risataim, rei da Mesopotâmia; e os filhos de Israel serviram a Cusã-Risataim oito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Israel clamaram ao SENHOR, e o SENHOR levantou-lhes um libertador, que os libertou: Otniel, filho de Quenaz, irmão de Calebe, mais novo do qu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6:28Z</dcterms:created>
  <dc:creator>Admin</dc:creator>
  <dc:description/>
  <dc:language>en-US</dc:language>
  <cp:lastModifiedBy>Admin</cp:lastModifiedBy>
  <dcterms:modified xsi:type="dcterms:W3CDTF">2008-07-31T00:06:28Z</dcterms:modified>
  <cp:revision>1</cp:revision>
  <dc:subject/>
  <dc:title>Slide 1</dc:title>
</cp:coreProperties>
</file>