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746-0893-4879-BE24-FE680042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870-ECD8-4367-A713-CDBE5D71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565-462B-4533-8BDF-1686CE62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F0C-1209-447E-8272-405118C4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79F-7215-45AB-AC0D-9C55CA18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5A7-00D8-4C0E-86AB-D1AB9BF3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C98-3042-40AF-A3EB-B1D6A5BF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061-3098-48B4-A341-87D0F3B7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4B6-9A64-4D6F-8E6F-D54FD2E3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666-49C9-4E04-8382-2322093F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814-486F-413B-B43E-6521C58C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40D-D9CB-4600-9C92-914D640C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D534-576D-48E0-9B02-4B8C63DF6D7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PESO da palavra do SENHOR contra a terra de Hadraque, e Damasco, o seu repouso; porque o olhar do homem, e de todas as tribos de Israel, se volta para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Efraim destruirei os carros, e de Jerusalém os cavalos; e o arco de guerra será destruído, e ele anunciará paz aos gentios; e o seu domínio se estenderá de mar a mar, e desde o rio até às extremidade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anto a ti, por causa do sangue da tua aliança, libertei os teus presos da cova em que não havia águ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ltai à fortaleza, ó presos de esperança; também hoje vos anuncio que vos restaurarei em dob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urvei Judá para mim, enchi com Efraim o arco; suscitarei a teus filhos, ó Sião, contra os teus filhos, ó Grécia! E pôr-te-ei, ó Sião, como a espada de um 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será visto sobre eles, e as suas flechas sairão como o relâmpago; e o Senhor DEUS fará soar a trombeta, e irá com os redemoinhos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os Exércitos os amparará; eles devorarão, depois que os tiverem sujeitado, as pedras da funda; também beberão e farão barulho como excitados pelo vinho; e encher-se-ão como bacias de sacrifício, como os cantos do al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seu Deus naquele dia os salvará, como ao rebanho do seu povo: porque como pedras de uma coroa eles resplandecerão n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ão grande é a sua bondade! E quão grande é a sua formosura! O trigo fará florescer os jovens e o mosto as virg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Hamate que confina com ela, e Tiro e Sidom, ainda que sejam mais sáb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iro edificou para si fortalezas, e amontoou prata como o pó, e ouro fino como a lama das r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Senhor a despojará e ferirá no mar a sua força, e ela será consumida pelo fo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calom o verá e temerá; também Gaza, e terá grande dor; igualmente Ecrom; porque a sua esperança será confundida; e o rei de Gaza perecerá, e Ascalom não será habit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um bastardo habitará em Asdode, e exterminarei a soberba dos filist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sua boca tirarei o seu sangue, e dentre os seus dentes as suas abominações; e ele também ficará como um remanescente para o nosso Deus; e será como governador em Judá, e Ecrom como um jebu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ampar-me-ei ao redor da minha casa, contra o exército, para que ninguém passe, nem volte; para que não passe mais sobre eles o opressor; porque agora vi com os meus o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gra-te muito, ó filha de Sião; exulta, ó filha de Jerusalém; eis que o teu rei virá a ti, justo e salvo, pobre, e montado sobre um jumento, e sobre um jumentinho, filho de jum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35Z</dcterms:created>
  <dc:creator>Admin</dc:creator>
  <dc:description/>
  <dc:language>en-US</dc:language>
  <cp:lastModifiedBy>Admin</cp:lastModifiedBy>
  <dcterms:modified xsi:type="dcterms:W3CDTF">2008-07-31T00:29:35Z</dcterms:modified>
  <cp:revision>1</cp:revision>
  <dc:subject/>
  <dc:title>Slide 1</dc:title>
</cp:coreProperties>
</file>