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102-4FE4-4FFE-B394-497CFA63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43E-03EA-409F-8C19-12739EAC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E0D-3875-411B-BEA3-1C079EE4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B1B-E9C6-442D-9FA1-E5A678A5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C40-0FEB-43A2-BFD0-6D1F0B72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FF2-68C0-483F-BE97-A2E53904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500-9EEB-49DB-BE3E-7DED06CA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D76-FF88-4878-9643-D6516808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2E9-B062-4C66-A782-42F55445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B3E-39CC-4CE9-9E1C-C7197CAA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D0F-5D09-48B2-8F8D-B0A95FF6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2CBB-BA1C-4D9F-B9D2-0461D638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D0E5-606B-481E-9E3F-995080EDB84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Moisés aos cabeças das tribos dos filhos de Israel, dizendo: Esta é a palavra que o SENHOR tem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fez voto na casa de seu marido, ou ligou a sua alma com obrigação de juram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 marido o ouviu, e se calou para com ela, e não lho tolheu, todos os seus votos serão válidos, e toda a obrigação, com que ligou a sua alma, será vál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seu marido lhos anulou no dia em que os ouviu; tudo quanto saiu dos seus lábios, quer dos seus votos, quer da obrigação da sua alma, não será válido; seu marido lhos anulou, e o SENHOR lhe perdo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voto, e todo o juramento de obrigação, para humilhar a alma, seu marido o confirmará, ou anul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seu marido, de dia em dia, se calar inteiramente para com ela, então confirma todos os seus votos e todas as suas obrigações, que estiverem sobre ela; confirmado lhos tem, porquanto se calou para com ela no dia em que o ouv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de todo lhos anular depois que o ouviu, então ele levará a iniqüidade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estatutos que o SENHOR ordenou a Moisés entre o marido e sua mulher; entre o pai e sua filha, na sua mocidade, em casa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um homem fizer voto ao SENHOR, ou fizer juramento, ligando a sua alma com obrigação, não violará a sua palavra: segundo tudo o que saiu da sua boca, f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quando uma mulher, na sua mocidade, estando ainda na casa de seu pai, fizer voto ao SENHOR, e com obrigação se lig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 pai ouvir o seu voto e a sua obrigação, com que ligou a sua alma; e seu pai se calar para com ela, todos os seus votos serão válidos; e toda a obrigação com que ligou a sua alma, será vál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seu pai lhe tolher no dia que tal ouvir, todos os seus votos e as suas obrigações com que tiver ligado a sua alma, não serão válidos; mas o SENHOR lhe perdoará, porquanto seu pai lhos tolh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ela for casada, e for obrigada a alguns votos, ou à pronunciação dos seus lábios, com que tiver ligado a sua alm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 marido o ouvir, e se calar para com ela no dia em que o ouvir, os seus votos serão válidos; e as suas obrigações com que ligou a sua alma, serão vál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seu marido lhe tolher no dia em que o ouvir, e anular o seu voto a que estava obrigada, como também a pronunciação dos seus lábios, com que ligou a sua alma; o SENHOR lhe perdo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tocante ao voto da viúva, ou da repudiada, tudo com que ligar a sua alma, sobre ela será vál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9:55Z</dcterms:created>
  <dc:creator>Admin</dc:creator>
  <dc:description/>
  <dc:language>en-US</dc:language>
  <cp:lastModifiedBy>Admin</cp:lastModifiedBy>
  <dcterms:modified xsi:type="dcterms:W3CDTF">2008-07-31T00:19:55Z</dcterms:modified>
  <cp:revision>1</cp:revision>
  <dc:subject/>
  <dc:title>Slide 1</dc:title>
</cp:coreProperties>
</file>