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0150-2C01-4B13-84CE-7AA57D57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282-575B-4852-BE28-3F926578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7671-CEA7-40E5-A502-EFB21CB2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BEF-CA16-4ECD-B128-941D598B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B48-37C8-422B-9EB6-0D8EC5F3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98B1-9EF7-4E5C-9293-FCBC8F38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B40C-DA18-4D37-9F38-F03451D7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B189-22CB-47F5-9D70-4A656D31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6909-3BB6-4FE3-93D2-ED7843B9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1FFE-BE20-4029-A9D3-6C6B4A40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830A-31BD-461D-9963-A154FAC2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E9D5-DB93-4681-8BD4-E4C206FA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EC98-06B9-4246-A822-E2B883215BA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AMÃ, capitão do exército do rei da Síria, era um grande homem diante do seu senhor, e de muito respeito; porque por ele o SENHOR dera livramento aos sírios; e era este homem herói valoroso, porém lepr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iseu lhe mandou um mensageiro, dizendo: Vai, e lava-te sete vezes no Jordão, e a tua carne será curada e ficarás pur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Naamã muito se indignou, e se foi, dizendo: Eis que eu dizia comigo: Certamente ele sairá, pôr-se-á em pé, invocará o nome do SENHOR seu Deus, e passará a sua mão sobre o lugar, e restaurará o lepr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ão porventura Abana e Farpar, rios de Damasco, melhores do que todas as águas de Israel? Não me poderia eu lavar neles, e ficar purificado? E voltou-se, e se foi com indig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egaram-se a ele os seus servos, e lhe falaram, e disseram: Meu pai, se o profeta te dissesse alguma grande coisa, porventura não a farias? Quanto mais, dizendo-te ele: Lava-te, e ficarás pur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esceu, e mergulhou no Jordão sete vezes, conforme a palavra do homem de Deus; e a sua carne tornou-se como a carne de um menino, e ficou pur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oltou ao homem de Deus, ele e toda a sua comitiva, e chegando, pôs-se diante dele, e disse: Eis que agora sei que em toda a terra não há Deus senão em Israel; agora, pois, peço-te que aceites uma bênção do t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 disse: Vive o SENHOR, em cuja presença estou, que não a aceitarei. E instou com ele para que a aceitasse, mas ele recus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Naamã: Se não queres, dê-se a este teu servo uma carga de terra que baste para carregar duas mulas; porque nunca mais oferecerá este teu servo holocausto nem sacrifício a outros deuses, senão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sto perdoe o SENHOR a teu servo; quando meu senhor entrar na casa de Rimom para ali adorar, e ele se encostar na minha mão, e eu também tenha de me encurvar na casa de Rimom; quando assim me encurvar na casa de Rimom, nisto perdoe o SENHOR a teu serv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 disse: Vai em paz. E foi dele a uma pequena distâ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íram tropas da Síria, da terra de Israel, e levaram presa uma menina que ficou ao serviço da mulher de Naam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Geazi, servo de Eliseu, homem de Deus, disse: Eis que meu senhor poupou a este sírio Naamã, não recebendo da sua mão alguma coisa do que trazia; porém, vive o SENHOR que hei de correr atrás dele, e receber dele alguma coi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Geazi a alcançar Naamã; e Naamã, vendo que corria atrás dele, desceu do carro a encontrá-lo, e disse-lhe: Vai tudo b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Tudo vai bem; meu senhor me mandou dizer: Eis que agora mesmo vieram a mim dois jovens dos filhos dos profetas da montanha de Efraim; dá-lhes, pois, um talento de prata e duas mudas de roup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Naamã: Sê servido tomar dois talentos. E instou com ele, e amarrou dois talentos de prata em dois sacos, com duas mudas de roupas; e pô-los sobre dois dos seus servos, os quais os levaram dian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ele a certa altura, tomou-os das suas mãos, e os depositou na casa; e despediu aqueles homens, e foram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 entrou, e pôs-se diante de seu senhor. E disse-lhe Eliseu: Donde vens, Geazi? E disse: Teu servo não foi nem a uma nem a outra pa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 lhe disse: Porventura não foi contigo o meu coração, quando aquele homem voltou do seu carro a encontrar-te? Era a ocasião para receberes prata, e para tomares roupas, olivais e vinhas, ovelhas e bois, servos e serv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 lepra de Naamã se pegará a ti e à tua descendência para sempre. Então saiu de diante dele leproso, branco como a ne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sta à sua senhora: Antes o meu senhor estivesse diante do profeta que está em Samaria; ele o restauraria da sua lep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i Naamã e notificou ao seu senhor, dizendo: Assim e assim falou a menina que é da terr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rei da Síria: Vai, anda, e enviarei uma carta ao rei de Israel. E foi, e tomou na sua mão dez talentos de prata, seis mil siclos de ouro e dez mudas de roup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ou a carta ao rei de Israel, dizendo: Logo, em chegando a ti esta carta, saibas que eu te enviei Naamã, meu servo, para que o cures da sua lep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lendo o rei de Israel a carta, rasgou as suas vestes, e disse: Sou eu Deus, para matar e para vivificar, para que este envie a mim um homem, para que eu o cure da sua lepra? Pelo que deveras notai, peço-vos, e vede que busca ocasião cont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rém, que, ouvindo Eliseu, homem de Deus, que o rei de Israel rasgara as suas vestes, mandou dizer ao rei: Por que rasgaste as tuas vestes? Deixa-o vir a mim, e saberá que há profeta em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io, pois, Naamã com os seus cavalos, e com o seu carro, e parou à porta da casa de Elis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1:17Z</dcterms:created>
  <dc:creator>Admin</dc:creator>
  <dc:description/>
  <dc:language>en-US</dc:language>
  <cp:lastModifiedBy>Admin</cp:lastModifiedBy>
  <dcterms:modified xsi:type="dcterms:W3CDTF">2008-07-30T23:51:17Z</dcterms:modified>
  <cp:revision>1</cp:revision>
  <dc:subject/>
  <dc:title>Slide 1</dc:title>
</cp:coreProperties>
</file>