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4DC-BF1D-4C0D-AA73-8899A403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412-0B03-4C73-A0FE-4A1047F6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EC8-54E3-4025-A750-F7ACCDC7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0CC-C290-4579-8F22-A8D85A41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8FD-3E68-4768-AD4D-1FB31A82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4A2-60E4-4DEE-B7FE-F7F284DD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5FA-E9D3-42C5-B94F-6772CB81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AAE-702F-4461-A1AB-3620A3CA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7D9-0654-4A4E-9414-969E2A51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5C9-A2CA-473D-B8C9-77CA47EC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938-0D4E-402E-A62B-9D8EA9D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830-AE68-413D-836B-EF2F497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85D2-9C9A-4F54-B472-8BA8AAA5FB1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quão bom e quão suave é que os irmãos vivam em un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como o óleo precioso sobre a cabeça, que desce sobre a barba, a barba de Arão, e que desce à orla das su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orvalho de Hermom, e como o que desce sobre os montes de Sião, porque ali o SENHOR ordena a bênção e a vid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7Z</dcterms:created>
  <dc:creator>Admin</dc:creator>
  <dc:description/>
  <dc:language>en-US</dc:language>
  <cp:lastModifiedBy>Admin</cp:lastModifiedBy>
  <dcterms:modified xsi:type="dcterms:W3CDTF">2008-07-31T00:28:27Z</dcterms:modified>
  <cp:revision>1</cp:revision>
  <dc:subject/>
  <dc:title>Slide 1</dc:title>
</cp:coreProperties>
</file>