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9C8-38E7-4B92-BCB4-6306127F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B31-9841-4A7D-82D8-0CCA0A2F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8E5-2913-4F52-98B3-845B7C3D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6FD-C69A-4C5B-95ED-074A7383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6FA-0501-4032-8534-F4705C0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B98-92DF-4EE9-B659-CA5C3C2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67C-9E32-448B-8172-5F622D9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680-E35E-48E1-AC7F-1E1B29F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62F-4F3F-4A42-A3F7-DDC6EA03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E59-2961-409F-9726-E09AB00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FC7-EBB2-46B5-9024-2C112C2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172-C391-41D9-AB13-E84736B7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871-2866-43E0-9E39-077AA03A5F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CENDO, pois, Joabe, filho de Zeruia, que o coração do rei estava inclinado para Absal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Quem falar contra ti, traze-mo a mim; e nunca mais te to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Ora, lembre-se o rei do SENHOR seu Deus, para que os vingadores do sangue não prossigam na destruição, e não exterminem a meu filho. Então disse ele: Vive o SENHOR, que não há de cair no chão nem um dos cabelos de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 mulher: Peço-te que a tua serva fale uma palavra ao rei meu senhor. E disse ele: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mulher: Por que, pois, pensaste tu uma tal coisa contra o povo de Deus? Porque, falando o rei tal palavra, fica como culpado; visto que o rei não torna a trazer o seu dester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ertamente morreremos, e seremos como águas derramadas na terra que não se ajuntam mais; Deus, pois, lhe não tirará a vida, mas cogita meios, para que não fique banido dele o seu dester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u agora vim falar esta palavra ao rei, meu senhor, é porque o povo me atemorizou; dizia, pois, a tua serva: Falarei, pois, ao rei; porventura fará o rei segundo a palavra da s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ouvirá, para livrar a sua serva da mão do homem que intenta destruir juntamente a mim e a meu filho da heran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mais a tua serva: Seja agora a palavra do rei meu senhor para descanso; porque como um anjo de Deus, assim é o rei, meu SENHOR, para ouvir o bem e o mal; e o SENHOR teu Deus será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rei, e disse à mulher: Peço-te que não me encubras o que eu te perguntar. E disse a mulher: Ora fale o rei,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Não é verdade que a mão de Joabe anda contigo em tudo isto? E respondeu a mulher, e disse: Vive a tua alma, ó rei meu senhor, que ninguém se poderá desviar, nem para a direita nem para a esquerda, de tudo quanto o rei, meu senhor, tem f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Joabe a Tecoa, e tomou de lá uma mulher e disse-lhe: Ora, finge que estás de luto; veste roupas de luto, e não te unjas com óleo, e sê como uma mulher que há já muitos dias está de luto por algum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mudar o aspecto deste caso foi que o teu servo Joabe fez isto; porém sábio é meu senhor, conforme à sabedoria de um anjo de Deus, para entender tudo o que há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isse a Joabe: Eis que fiz isto; vai, pois, e torna a trazer o jovem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abe se prostrou sobre o seu rosto em terra, e se inclinou, e agradeceu ao rei; e disse Joabe: Hoje conhece o teu servo que achei graça aos teus olhos, ó rei meu senhor, porque o rei fez segundo a palavra do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-se, pois, Joabe, e foi a Gesur, e trouxe Absalão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Torne para a sua casa, e não veja a minha face. Tornou, pois, Absalão para sua casa, e não viu a fac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ia, porém, em todo o Israel homem tão belo e tão aprazível como Absalão; desde a planta do pé até à cabeça não havia nele defeit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osquiava a sua cabeça (e sucedia que no fim de cada ano a tosquiava, porquanto muito lhe pesava, e por isso a tosquiava), pesava o cabelo da sua cabeça duzentos siclos, segundo o peso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asceram a Absalão três filhos e uma filha, cujo nome era Tamar; e esta era mulher formosa à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cou Absalão dois anos inteiros em Jerusalém, e não viu a fac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, pois, Absalão chamar a Joabe, para o enviar ao rei; porém não quis vir a ele; e enviou ainda segunda vez e, contudo, não quis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ai ao rei, e fala-lhe conforme a esta palavra. E Joabe lhe pôs as palavras n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s seus servos: Vedes ali o pedaço de campo de Joabe pegado ao meu, e tem cevada nele; ide, e ponde-lhe fogo. E os servos de Absalão puseram fogo ao pedaço de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abe se levantou, e veio a Absalão, em casa, e disse-lhe: Por que puseram os teus servos fogo ao pedaço de campo que é m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salão a Joabe: Eis que enviei a ti, dizendo: Vem cá, para que te envie ao rei, a dizer-lhe: Para que vim de Gesur? Melhor me fora estar ainda lá. Agora, pois, veja eu a face do rei; e, se há ainda em mim alguma culpa, que me 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Joabe ao rei, e assim lho disse. Então chamou a Absalão, e ele se apresentou ao rei, e se inclinou sobre o seu rosto em terra diante do rei; e o rei beijou a Absa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tecoíta falou ao rei, e, deitando-se com o rosto em terra, se prostrou e disse: Salva-me, ó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rei: Que tens? E disse ela: Na verdade sou mulher viúva; morreu m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, pois, a tua serva dois filhos, e estes brigaram entre si no campo, e não houve quem os apartasse; assim um feriu ao outro, e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oda a linhagem se levantou contra a tua serva, e disseram: Dá-nos aquele que feriu a seu irmão, para que o matemos, por causa da vida de seu irmão, a quem matou, e para que destruamos também ao herdeiro. Assim apagarão a brasa que me ficou,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à mulher: Vai para tua casa; e eu mandarei ordem acerca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mulher tecoíta ao rei: A injustiça, rei meu SENHOR, venha sobre mim e sobre a casa de meu pai; e o rei e o seu trono fique inculp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21Z</dcterms:created>
  <dc:creator>Admin</dc:creator>
  <dc:description/>
  <dc:language>en-US</dc:language>
  <cp:lastModifiedBy>Admin</cp:lastModifiedBy>
  <dcterms:modified xsi:type="dcterms:W3CDTF">2008-07-30T23:53:21Z</dcterms:modified>
  <cp:revision>1</cp:revision>
  <dc:subject/>
  <dc:title>Slide 1</dc:title>
</cp:coreProperties>
</file>