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D44D0-6FB6-42C6-A36E-E843FA912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E29F4-0694-4524-BDE3-59D3DAE3D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415F2-BB83-40A5-9145-FFD1AE412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B56FB-8193-49DF-973A-B6759A0BC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F427C-A842-45AB-90DE-13C535DB4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42007-6A0E-4D15-A0CE-EF0AE857C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AF628-E560-4D73-BA49-3135DED7A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203D8-DA82-45EE-8686-9470406BF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14696-6316-4354-8278-302125336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1EFA4-62C8-4240-93EB-1EF42F463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BB215-4587-4528-97B8-ECCBDAFE7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861A6-E99F-47DA-B516-86FDD3C2F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14E5C-0E42-4A54-BA96-9C5AC5D86EE7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pocalipse 14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LHEI, e eis que estava o Cordeiro sobre o monte Sião, e com ele cento e quarenta e quatro mil, que em suas testas tinham escrito o nome de seu Pa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pocalipse 14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ambém este beberá do vinho da ira de Deus, que se deitou, não misturado, no cálice da sua ira; e será atormentado com fogo e enxofre diante dos santos anjos e diante do Cordeir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pocalipse 14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 fumaça do seu tormento sobe para todo o sempre; e não têm repouso nem de dia nem de noite os que adoram a besta e a sua imagem, e aquele que receber o sinal do seu nom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pocalipse 14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qui está a paciência dos santos; aqui estão os que guardam os mandamentos de Deus e a fé em Jes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pocalipse 14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uvi uma voz do céu, que me dizia: Escreve: Bem-aventurados os mortos que desde agora morrem no Senhor. Sim, diz o Espírito, para que descansem dos seus trabalhos, e as suas obras os segue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pocalipse 14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lhei, e eis uma nuvem branca, e assentado sobre a nuvem um semelhante ao Filho do homem, que tinha sobre a sua cabeça uma coroa de ouro, e na sua mão uma foice agud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pocalipse 14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utro anjo saiu do templo, clamando com grande voz ao que estava assentado sobre a nuvem: Lança a tua foice, e sega; a hora de segar te é vinda, porque já a seara da terra está madu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pocalipse 14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quele que estava assentado sobre a nuvem meteu a sua foice à terra, e a terra foi segad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pocalipse 14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aiu do templo, que está no céu, outro anjo, o qual também tinha uma foice agud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pocalipse 14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aiu do altar outro anjo, que tinha poder sobre o fogo, e clamou com grande voz ao que tinha a foice aguda, dizendo: Lança a tua foice aguda, e vindima os cachos da vinha da terra, porque já as suas uvas estão madur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pocalipse 14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anjo lançou a sua foice à terra e vindimou as uvas da vinha da terra, e atirou-as no grande lagar da ira de D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pocalipse 14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uvi uma voz do céu, como a voz de muitas águas, e como a voz de um grande trovão; e ouvi uma voz de harpistas, que tocavam com as suas harp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pocalipse 14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lagar foi pisado fora da cidade, e saiu sangue do lagar até aos freios dos cavalos, pelo espaço de mil e seiscentos estádi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pocalipse 14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cantavam um como cântico novo diante do trono, e diante dos quatro animais e dos anciãos; e ninguém podia aprender aquele cântico, senão os cento e quarenta e quatro mil que foram comprados da ter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pocalipse 14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stes são os que não estão contaminados com mulheres; porque são virgens. Estes são os que seguem o Cordeiro para onde quer que vá. Estes são os que dentre os homens foram comprados como primícias para Deus e para o Cordeir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pocalipse 14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na sua boca não se achou engano; porque são irrepreensíveis diante do trono de D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pocalipse 14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vi outro anjo voar pelo meio do céu, e tinha o evangelho eterno, para o proclamar aos que habitam sobre a terra, e a toda a nação, e tribo, e língua, e povo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pocalipse 14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izendo com grande voz: Temei a Deus, e dai-lhe glória; porque é vinda a hora do seu juízo. E adorai aquele que fez o céu, e a terra, e o mar, e as fontes das águ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pocalipse 14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utro anjo seguiu, dizendo: Caiu, caiu Babilônia, aquela grande cidade, que a todas as nações deu a beber do vinho da ira da sua prostituiç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pocalipse 14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eguiu-os o terceiro anjo, dizendo com grande voz: Se alguém adorar a besta, e a sua imagem, e receber o sinal na sua testa, ou na sua mão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22:39Z</dcterms:created>
  <dc:creator>Admin</dc:creator>
  <dc:description/>
  <dc:language>en-US</dc:language>
  <cp:lastModifiedBy>Admin</cp:lastModifiedBy>
  <dcterms:modified xsi:type="dcterms:W3CDTF">2008-07-30T23:22:39Z</dcterms:modified>
  <cp:revision>1</cp:revision>
  <dc:subject/>
  <dc:title>Slide 1</dc:title>
</cp:coreProperties>
</file>