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334-EA8B-4C31-9780-BE0E8FA5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F59-58F1-433B-A68C-BDBB1F3B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B00-74B3-47A9-9E6E-B05B52F4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1ED-BEBA-43BF-AEE8-306F4CA1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39E-9CAC-4A14-92CE-6387B804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FA9-17BC-4E5A-93B0-4036B00A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EAA-4F09-4CAC-9BB1-85E21A69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DEF-E735-4AD3-B22B-BD0CB80D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797-0AD4-4D3A-87B8-59523FAE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3E0-60B2-44D7-AD3B-F8BD425D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C8B-1056-45C8-85EA-26FDC9FE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5D4-169F-4A6A-BC82-0AA9BFE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521C-F513-496F-9CFE-C8730D329D3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endo o povo que Moisés tardava em descer do monte, acercou-se de Arão, e disse-lhe: Levanta-te, faze-nos deuses, que vão adiante de nós; porque quanto a este Moisés, o homem que nos tirou da terra do Egito, não sabemos o que lhe suce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deixa-me, para que o meu furor se acenda contra ele, e o consuma; e eu farei de ti uma grande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isés, porém, suplicou ao SENHOR seu Deus e disse: Ó SENHOR, por que se acende o teu furor contra o teu povo, que tiraste da terra do Egito com grande força e com forte 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hão de falar os egípcios, dizendo: Para mal os tirou, para matá-los nos montes, e para destruí-los da face da terra? Torna-te do furor da tua ira, e arrepende-te deste mal contra o t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e Abraão, de Isaque, e de Israel, os teus servos, aos quais por ti mesmo tens jurado, e lhes disseste: Multiplicarei a vossa descendência como as estrelas dos céus, e darei à vossa descendência toda esta terra, de que tenho falado, para que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arrependeu-se do mal que dissera que havia de fazer a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ou-se Moisés e desceu do monte com as duas tábuas do testemunho na mão, tábuas escritas de ambos os lados; de um e de outro lado estavam escr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as tábuas eram obra de Deus; também a escritura era a mesma escritura de Deus, esculpida nas táb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Josué a voz do povo que jubilava, disse a Moisés: Alarido de guerra há n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respondeu: Não é alarido dos vitoriosos, nem alarido dos vencidos, mas o alarido dos que cantam, eu ou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hegando Moisés ao arraial, e vendo o bezerro e as danças, acendeu-se-lhe o furor, e arremessou as tábuas das suas mãos, e quebrou-as ao pé do mo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lhes disse: Arrancai os pendentes de ouro, que estão nas orelhas de vossas mulheres, e de vossos filhos, e de vossas filhas, e trazei-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o bezerro que tinham feito, e queimou-o no fogo, moendo-o até que se tornou em pó; e o espargiu sobre as águas, e deu-o a beber a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perguntou a Arão: Que te tem feito este povo, que sobre ele trouxeste tamanho pec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Arão: Não se acenda a ira do meu senhor; tu sabes que este povo é inclinado ao m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me disseram: Faze-nos um deus que vá adiante de nós; porque não sabemos o que sucedeu a este Moisés, a este homem que nos tirou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lhes disse: Quem tem ouro, arranque-o; e deram-mo, e lancei-o no fogo, e saiu este bez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Moisés que o povo estava despido, porque Arão o havia deixado despir-se para vergonha entre os seus inimig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ôs-se em pé Moisés na porta do arraial e disse: Quem é do SENHOR, venha a mim. Então se ajuntaram a ele todos os filhos de L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Assim diz o SENHOR Deus de Israel: Cada um ponha a sua espada sobre a sua coxa; e passai e tornai pelo arraial de porta em porta, e mate cada um a seu irmão, e cada um a seu amigo, e cada um a seu viz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Levi fizeram conforme à palavra de Moisés; e caíram do povo aquele dia uns três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Moisés tinha dito: Consagrai hoje as vossas mãos ao SENHOR; porquanto cada um será contra o seu filho e contra o seu irmão; e isto, para que ele vos conceda hoje uma bê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 o povo arrancou os pendentes de ouro, que estavam nas suas orelhas, e os trouxeram a 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no dia seguinte Moisés disse ao povo: Vós cometestes grande pecado. Agora, porém, subirei ao SENHOR; porventura farei propiciação por voss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ornou-se Moisés ao SENHOR, e disse: Ora, este povo cometeu grande pecado fazendo para si deuses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perdoa o seu pecado, se não, risca-me, peço-te, do teu livro, que tens esc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Aquele que pecar contra mim, a este riscarei do meu liv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pois, agora, conduze este povo para onde te tenho dito; eis que o meu anjo irá adiante de ti; porém no dia da minha visitação visitarei neles o s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eriu o SENHOR o povo, por ter sido feito o bezerro que Arão tinha for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os tomou das suas mãos, e trabalhou o ouro com um buril, e fez dele um bezerro de fundição. Então disseram: Este é teu deus, ó Israel, que te tirou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, vendo isto, edificou um altar diante dele; e apregoou Arão, e disse: Amanhã será fest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seguinte madrugaram, e ofereceram holocaustos, e trouxeram ofertas pacíficas; e o povo assentou-se a comer e a beber; depois levantou-se a fol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Vai, desce; porque o teu povo, que fizeste subir do Egito, se tem corromp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ressa se tem desviado do caminho que eu lhe tinha ordenado; eles fizeram para si um bezerro de fundição, e perante ele se inclinaram, e ofereceram-lhe sacrifícios, e disseram: Este é o teu deus, ó Israel, que te tirou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a Moisés: Tenho visto a este povo, e eis que é povo de dura cerv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05Z</dcterms:created>
  <dc:creator>Admin</dc:creator>
  <dc:description/>
  <dc:language>en-US</dc:language>
  <cp:lastModifiedBy>Admin</cp:lastModifiedBy>
  <dcterms:modified xsi:type="dcterms:W3CDTF">2008-07-30T23:33:05Z</dcterms:modified>
  <cp:revision>1</cp:revision>
  <dc:subject/>
  <dc:title>Slide 1</dc:title>
</cp:coreProperties>
</file>