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A6B-2B04-4D1C-B82B-0ECAA0BA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3DC3-1912-42D0-A4F8-6C97844F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4C30-CC71-439B-83C1-9E954119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908A-4179-4938-9323-838C77FD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4E15-1AF4-4D5B-952C-8DAC28B7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F537-AF00-47AE-9150-5DC30BB4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9164-4A82-4A0E-829A-85F8374D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10AE-D834-4766-A069-641CCD31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1329-1A2E-4EC1-848C-B69F358F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6E1A-B19B-43A1-AE09-34AEF5F6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A23A-D92E-4491-AD5B-C770D434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5E29-B76E-4043-B3C3-0D308496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9891-ACBD-4897-872F-46002591C11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Nabucodonosor fez uma estátua de ouro, cuja altura era de sessenta côvados, e a sua largura de seis côvados; levantou-a no campo de Dura, na província de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ó rei, fizeste um decreto, pelo qual todo homem que ouvisse o som da buzina, da flauta, da harpa, da sambuca, do saltério, e da gaita de foles, e de toda a espécie de música, se prostrasse e adorasse a estátua de ou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lquer que não se prostrasse e adorasse, seria lançado dentro da fornalha de fogo ard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 uns homens judeus, os quais constituíste sobre os negócios da província de Babilônia: Sadraque, Mesaque e Abednego; estes homens, ó rei, não fizeram caso de ti; a teus deuses não servem, nem adoram a estátua de ouro que levant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Nabucodonosor, com ira e furor, mandou trazer a Sadraque, Mesaque e Abednego. E trouxeram a estes homens perante 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Nabucodonosor, e lhes disse: É de propósito, ó Sadraque, Mesaque e Abednego, que vós não servis a meus deuses nem adorais a estátua de ouro que levante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se estais prontos, quando ouvirdes o som da buzina, da flauta, da harpa, da sambuca, do saltério, da gaita de foles, e de toda a espécie de música, para vos prostrardes e adorardes a estátua que fiz, bom é; mas, se não a adorardes, sereis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ram Sadraque, Mesaque e Abednego, e disseram ao rei Nabucodonosor: Não necessitamos de te responder sobre este negó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 nosso Deus, a quem nós servimos, é que nos pode livrar; ele nos livrará da fornalha de fogo ardente, e da tua mão, ó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não, fica sabendo ó rei, que não serviremos a teus deuses nem adoraremos a estátua de ouro que levant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Nabucodonosor se encheu de furor, e mudou-se o aspecto do seu semblante contra Sadraque, Mesaque e Abednego; falou, e ordenou que a fornalha se aquecesse sete vezes mais do que se costumava aque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Nabucodonosor mandou reunir os príncipes, os prefeitos, os governadores, os conselheiros, os tesoureiros, os juízes, os capitães, e todos os oficiais das províncias, para que viessem à consagração da estátua que o rei Nabucodonosor tinha le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denou aos homens mais poderosos, que estavam no seu exército, que atassem a Sadraque, Mesaque e Abednego, para lançá-los na fornalha de fogo ard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stes homens foram atados, vestidos com as suas capas, suas túnicas, e seus chapéus, e demais roupas, e foram lançados dentro da fornalha de fogo ard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orque a palavra do rei era urgente, e a fornalha estava sobremaneira quente, a chama do fogo matou aqueles homens que carregaram a Sadraque, Mesaque, e Abedne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três homens, Sadraque, Mesaque e Abednego, caíram atados dentro da fornalha de fogo ard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Nabucodonosor se espantou, e se levantou depressa; falou, dizendo aos seus conselheiros: Não lançamos nós, dentro do fogo, três homens atados? Responderam e disseram ao rei: É verdade, ó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, dizendo: Eu, porém, vejo quatro homens soltos, que andam passeando dentro do fogo, sem sofrer nenhum dano; e o aspecto do quarto é semelhante ao Filh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egando-se Nabucodonosor à porta da fornalha de fogo ardente, falou, dizendo: Sadraque, Mesaque e Abednego, servos do Deus Altíssimo, saí e vinde! Então Sadraque, Mesaque e Abednego saíram do meio do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uniram-se os príncipes, os capitães, os governadores e os conselheiros do rei e, contemplando estes homens, viram que o fogo não tinha tido poder algum sobre os seus corpos; nem um só cabelo da sua cabeça se tinha queimado, nem as suas capas se m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Nabucodonosor, dizendo: Bendito seja o Deus de Sadraque, Mesaque e Abednego, que enviou o seu anjo, e livrou os seus servos, que confiaram nele, pois violaram a palavra do rei, preferindo entregar os seus corpos, para que não servissem nem adora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mim, pois, é feito um decreto, pelo qual todo o povo, e nação e língua que disser blasfêmia contra o Deus de Sadraque, Mesaque e Abednego, seja despedaçado, e as suas casas sejam feitas um monturo; porquanto não há outro Deus que possa livrar como 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reuniram os príncipes, os prefeitos e governadores, os capitães, os juízes, os tesoureiros, os conselheiros, e todos os oficiais das províncias, à consagração da estátua que o rei Nabucodonosor tinha levantado; e estavam em pé diante da imagem 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fez prosperar a Sadraque, Mesaque e Abednego, na província de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rauto apregoava em alta voz: Ordena-se a vós, ó povos, nações e língua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uvirdes o som da buzina, da flauta, da harpa, da sambuca, do saltério, da gaita de foles, e de toda a espécie de música, prostrar-vos-eis, e adorareis a estátua de ouro que o rei Nabucodonosor tem levan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lquer que não se prostrar e não a adorar, será na mesma hora lançado dentro da fornalha de fogo ard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no mesmo instante em que todos os povos ouviram o som da buzina, da flauta, da harpa, da sambuca, do saltério e de toda a espécie de música, prostraram-se todos os povos, nações e línguas, e adoraram a estátua de ouro que o rei Nabucodonosor 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no mesmo instante chegaram perto alguns caldeus, e acusaram os ju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ram, dizendo ao rei Nabucodonosor: Ó rei, vive eternament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6:21Z</dcterms:created>
  <dc:creator>Admin</dc:creator>
  <dc:description/>
  <dc:language>en-US</dc:language>
  <cp:lastModifiedBy>Admin</cp:lastModifiedBy>
  <dcterms:modified xsi:type="dcterms:W3CDTF">2008-07-30T23:26:21Z</dcterms:modified>
  <cp:revision>1</cp:revision>
  <dc:subject/>
  <dc:title>Slide 1</dc:title>
</cp:coreProperties>
</file>