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5AB-3AA7-40FA-BC4E-0236D89B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4E4-8A9E-4283-921D-3650BC8A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ECF-8DE5-4819-9233-D0AE7641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A3D-CF54-444C-AB61-F53F9D83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D25-EA77-4970-B5D2-C60DB01E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C09-1160-4AAD-8C15-1F1ED480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3D2-2790-46C6-9F95-4407739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9B2-B59C-4C28-9314-49407832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8D6-4DF1-4754-8BF7-CE62D588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830-EB20-404F-BF57-CB25B551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79C-F203-49E4-AEBE-FFF2E6A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6C3-23E9-4A69-A85E-46D2991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E1A-0F3B-4E8B-AC62-6FFD1126259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homem da montanha de Efraim, cujo nome era M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Mica: Fica comigo, e sê-me por pai e sacerdote; e cada ano te darei dez moedas de prata, e vestuário, e o sustento. E o levita ent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entiu o levita em ficar com aquele homem; e o moço lhe foi como um de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ca consagrou o levita, e aquele moço lhe foi por sacerdote; e esteve em casa de M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ica: Agora sei que o SENHOR me fará bem; porquanto tenho um levita por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disse à sua mãe: As mil e cem moedas de prata que te foram tiradas, por cuja causa lançaste maldições, e de que também me falaste, eis que esse dinheiro está comigo; eu o tomei. Então lhe disse sua mãe: Bendito do SENHOR seja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restituiu as mil e cem moedas de prata à sua mãe; porém sua mãe disse: Inteiramente tenho dedicado este dinheiro da minha mão ao SENHOR, para meu filho fazer uma imagem de escultura e uma de fundição; de sorte que agora to tornarei a 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restituiu aquele dinheiro à sua mãe; e sua mãe tomou duzentas moedas de prata, e as deu ao ourives, o qual fez delas uma imagem de escultura e uma de fundição, que ficaram em casa de M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este homem, Mica, uma casa de deuses; e fez um éfode e terafins, e consagrou um de seus filhos, para que lhe fosse por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não havia rei em Israel; cada um fazia o que parecia bem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moço de Belém de Judá, da tribo de Judá, que era levita, e peregrinava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homem partiu da cidade de Belém de Judá para peregrinar onde quer que achasse conveniente. Chegando ele, pois, à montanha de Efraim, até à casa de Mica, seguindo o seu cami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Mica: Donde vens? E ele lhe disse: Sou levita de Belém de Judá, e vou peregrinar onde quer que achar conven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22Z</dcterms:created>
  <dc:creator>Admin</dc:creator>
  <dc:description/>
  <dc:language>en-US</dc:language>
  <cp:lastModifiedBy>Admin</cp:lastModifiedBy>
  <dcterms:modified xsi:type="dcterms:W3CDTF">2008-07-31T00:07:22Z</dcterms:modified>
  <cp:revision>1</cp:revision>
  <dc:subject/>
  <dc:title>Slide 1</dc:title>
</cp:coreProperties>
</file>