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EAF-0704-4DBA-BC24-2A0D95F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5B0-A173-481B-9BA1-32BA1A1A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DBD-6AC9-4339-84A0-77E76E38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366-201B-424A-BAB6-BEBE8BD7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07B-0FB6-4048-A632-D2819886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7B0-F0C6-4714-90C5-F74D06A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A6C-3F04-4E0A-8231-863AF86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A0B-D683-428E-B123-A9041FA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8D9-CBF5-4B8E-8034-2B0713CF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E98-BBE5-4971-87CE-FFE74B0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A18-19A0-4FDF-B406-E313F3F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E00-CC7A-4123-A082-0B77292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684D-012E-459D-94C0-5B15E09424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udo isto viram os meus olhos, e os meus ouvidos o ouviram e ent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vos repreenderá, se em oculto fizerdes acepção de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vos espantará a sua alteza, e não cairá sobre vós o seu terr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memórias são como provérbios de cinza; as vossas defesas como defesas de l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lai-vos perante mim, e falarei eu, e venha sobre mim o que vi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tomarei eu a minha carne com os meus dentes, e porei a minha vida na minha 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le me mate, nele esperarei; contudo os meus caminhos defenderei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le será a minha salvação; porém o hipócrita não virá perant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com atenção as minhas palavras, e com os vossos ouvidos a minha decla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já tenho ordenado a minha causa, e sei que serei achad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o que contenderá comigo? Se eu agora me calasse, renderia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vós o sabeis, também eu o sei; não vos sou infer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uas coisas somente não faças para comigo; então não me esconderei do teu ro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 a tua mão para longe, de mim, e não me espante o teu ter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, pois, e eu responderei; ou eu falarei, e tu me respond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as culpas e pecados tenho eu? Notifica-me a minha transgressão e o m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condes o teu rosto, e me tens por teu ini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cossarás uma folha arrebatada pelo vento? E perseguirás o restolho se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creves contra mim coisas amargas e me fazes herdar as culpas da minha moc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ões os meus pés no tronco, e observas todos os meus caminhos, e marcas os sinais dos m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consome como a podridão, e como a roupa, à qual rói a t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falarei ao Todo-Poderoso, e quero defender-me perant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rém, sois inventores de mentiras, e vós todos médicos que não valem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que vos calásseis de todo, pois isso seria a voss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gora a minha defesa, e escutai os argumentos dos m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r Deus falareis perversidade e por ele falareis menti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s acepção da sua pessoa? Contendereis por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-vos-ia bom, se ele vos esquadrinhasse? Ou zombareis dele, como se zomba de algum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59Z</dcterms:created>
  <dc:creator>Admin</dc:creator>
  <dc:description/>
  <dc:language>en-US</dc:language>
  <cp:lastModifiedBy>Admin</cp:lastModifiedBy>
  <dcterms:modified xsi:type="dcterms:W3CDTF">2008-07-31T00:00:59Z</dcterms:modified>
  <cp:revision>1</cp:revision>
  <dc:subject/>
  <dc:title>Slide 1</dc:title>
</cp:coreProperties>
</file>