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461E-9BEB-437E-B861-2C94E439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D2CF-734F-48F5-9A32-7E86C728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3830-AC01-447B-BE51-490B59D03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020C-DD36-4098-80B9-CD690637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7FA5-8240-4B07-A958-71EE9F47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EBAA-0D85-487A-B4BF-A3650E11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1676-BF05-42B7-86ED-8B62F200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7FFB-1F5A-4893-8226-F749B153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AD0C-1628-4871-947C-3EBA939F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5A91-778D-41D9-AC77-4991010B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006F-7A6B-4C25-A46B-68629381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A68B-F239-42D0-BD16-D237CE66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83AE-A307-4003-8CB1-B8CE4477643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NTAREI a misericórdia e o juízo; a ti, SENHOR, cant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r-me-ei com inteligência no caminho reto. Quando virás a mim? Andarei em minha casa com um coração since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porei coisa má diante dos meus olhos. Odeio a obra daqueles que se desviam; não se me pegará 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coração perverso se apartará de mim; não conhecerei o homem ma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murmura do seu próximo às escondidas, eu o destruirei; aquele que tem olhar altivo e coração soberbo, não suport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eus olhos estarão sobre os fiéis da terra, para que se assentem comigo; o que anda num caminho reto, esse me serv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usa de engano não ficará dentro da minha casa; o que fala mentiras não estará firme perante os m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 manhã destruirei todos os ímpios da terra, para desarraigar da cidade do SENHOR todos os que praticam a iniqü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7:10Z</dcterms:created>
  <dc:creator>Admin</dc:creator>
  <dc:description/>
  <dc:language>en-US</dc:language>
  <cp:lastModifiedBy>Admin</cp:lastModifiedBy>
  <dcterms:modified xsi:type="dcterms:W3CDTF">2008-07-31T00:27:10Z</dcterms:modified>
  <cp:revision>1</cp:revision>
  <dc:subject/>
  <dc:title>Slide 1</dc:title>
</cp:coreProperties>
</file>