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1946-F3AE-4E27-A23E-4AE703950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3E1E-DEDC-4CB5-8407-2CF4C055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37CE-C2EE-4168-9E37-06F20A0E0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1D9E-4A98-4381-BE63-297E593E4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BCDA-A733-488A-BB2B-6D804297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16B2-F044-4572-AFF8-D675510D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7D35-EC5E-4061-A534-21CE8BE1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70CE-958C-42B8-A094-E728B9EF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6FC6-312F-47B4-B67C-43546DEA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24D4-DAC6-4120-99C3-B21991F4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7ADB-DAC3-4FAE-972C-0CDCAA46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39DC-23AB-42E0-8767-1485D4A6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37D2-3AC6-469C-B3D4-356B66D8F5B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os homens nos considerem como ministros de Cristo, e despenseiros dos mistérios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ós somos loucos por amor de Cristo, e vós sábios em Cristo; nós fracos, e vós fortes; vós ilustres, e nós v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esta presente hora sofremos fome, e sede, e estamos nus, e recebemos bofetadas, e não temos pousada cert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s afadigamos, trabalhando com nossas próprias mãos. Somos injuriados, e bendizemos; somos perseguidos, e sofrem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mos blasfemados, e rogamos; até ao presente temos chegado a ser como o lixo deste mundo, e como a escória de to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escrevo estas coisas para vos envergonhar; mas admoesto-vos como meus filhos am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inda que tivésseis dez mil aios em Cristo, não teríeis, contudo, muitos pais; porque eu pelo evangelho vos gerei em Jesus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dmoesto-vos, portanto, a que sejais meus imitad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esta causa vos mandei Timóteo, que é meu filho amado, e fiel no Senhor, o qual vos lembrará os meus caminhos em Cristo, como por toda a parte ensino em cada igrej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lguns andam ensoberbecidos, como se eu não houvesse de ir ter convo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m breve irei ter convosco, se o Senhor quiser, e então conhecerei, não as palavras dos que andam ensoberbecidos, mas o pod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ém disso, requer-se dos despenseiros que cada um se ache fi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reino de Deus não consiste em palavras, mas em pod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quereis? Irei ter convosco com vara ou com amor e espírito de mansid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, a mim mui pouco se me dá de ser julgado por vós, ou por algum juízo humano; nem eu tampouco a mim mesmo me jul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m nada me sinto culpado; mas nem por isso me considero justificado, pois quem me julga é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nada julgueis antes de tempo, até que o Senhor venha, o qual também trará à luz as coisas ocultas das trevas, e manifestará os desígnios dos corações; e então cada um receberá de Deus o louv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, irmãos, apliquei estas coisas, por semelhança, a mim e a Apolo, por amor de vós; para que em nós aprendais a não ir além do que está escrito, não vos ensoberbecendo a favor de um contra ou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quem te faz diferente? E que tens tu que não tenhas recebido? E, se o recebeste, por que te glorias, como se não o houveras recebi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á estais fartos! já estais ricos! sem nós reinais! e quisera reinásseis para que também nós viéssemos a reinar convosco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enho para mim, que Deus a nós, apóstolos, nos pôs por últimos, como condenados à morte; pois somos feitos espetáculo ao mundo, aos anjos, e a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1:19Z</dcterms:created>
  <dc:creator>Admin</dc:creator>
  <dc:description/>
  <dc:language>en-US</dc:language>
  <cp:lastModifiedBy>Admin</cp:lastModifiedBy>
  <dcterms:modified xsi:type="dcterms:W3CDTF">2008-07-30T23:41:19Z</dcterms:modified>
  <cp:revision>1</cp:revision>
  <dc:subject/>
  <dc:title>Slide 1</dc:title>
</cp:coreProperties>
</file>