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D81C-407C-4806-8A45-A57EAA320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FD29-C445-4E59-93E4-970EBE6B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32D0-2ECB-4338-943A-B1D614D0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D726-2220-4DB7-B74C-D257C391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F376-9BAF-42DA-9682-690FACB2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6EDC-FD37-43AF-8D54-9C561A50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BD81-18DC-4D42-962E-D7EF045E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CDBC-A92B-4B9F-9C6F-F24123BC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F267-A19F-425F-AF2C-C4392BAF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253D-431A-4C2B-8E7D-CAE7050C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E011-A4A6-4263-A806-69816BA6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024F-0592-4AA7-BFC3-F782ECB7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94F2-A97D-4B88-A27F-F0E52D68D7F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aquele mesmo tempo o rei Herodes estendeu as mãos sobre alguns da igreja, para os maltrata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passaram a primeira e segunda guardas, chegaram à porta de ferro, que dá para a cidade, a qual se lhes abriu por si mesma; e, tendo saído, percorreram uma rua, e logo o anjo se apartou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dro, tornando a si, disse: Agora sei verdadeiramente que o Senhor enviou o seu anjo, e me livrou da mão de Herodes, e de tudo o que o povo dos judeus esper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onsiderando ele nisto, foi à casa de Maria, mãe de João, que tinha por sobrenome Marcos, onde muitos estavam reunidos e ora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batendo Pedro à porta do pátio, uma menina chamada Rode saiu a escuta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onhecendo a voz de Pedro, de gozo não abriu a porta, mas, correndo para dentro, anunciou que Pedro estava à po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-lhe: Estás fora de ti. Mas ela afirmava que assim era. E diziam: É o seu anj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Pedro perseverava em bater e, quando abriram, viram-no, e se espant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enando-lhes ele com a mão para que se calassem, contou-lhes como o Senhor o tirara da prisão, e disse: Anunciai isto a Tiago e aos irmãos. E, saindo, partiu para outro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ndo já dia, houve não pouco alvoroço entre os soldados sobre o que seria feito de Ped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Herodes o procurou e o não achou, feita inquirição aos guardas, mandou-os justiçar. E, partindo da Judéia para Cesaréia, ficou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tou à espada Tiago, irmão de Jo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estava irritado com os de Tiro e de Sidom; mas estes, vindo de comum acordo ter com ele, e obtendo a amizade de Blasto, que era o camarista do rei, pediam paz; porquanto o seu país se abastecia do país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um dia designado, vestindo Herodes as vestes reais, estava assentado no tribunal e lhes fez uma práti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ovo exclamava: Voz de Deus, e não de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mesmo instante feriu-o o anjo do Senhor, porque não deu glória a Deus e, comido de bichos, expir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palavra de Deus crescia e se multiplic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arnabé e Saulo, havendo terminado aquele serviço, voltaram de Jerusalém, levando também consigo a João, que tinha por sobrenome Marc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endo que isso agradara aos judeus, continuou, mandando prender também a Pedro. E eram os dias dos ázi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havendo-o prendido, o encerrou na prisão, entregando-o a quatro quaternos de soldados, para que o guardassem, querendo apresentá-lo ao povo depois da pásco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dro, pois, era guardado na prisão; mas a igreja fazia contínua oração por ele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do Herodes estava para o fazer comparecer, nessa mesma noite estava Pedro dormindo entre dois soldados, ligado com duas cadeias, e os guardas diante da porta guardavam a pri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sobreveio o anjo do Senhor, e resplandeceu uma luz na prisão; e, tocando a Pedro na ilharga, o despertou, dizendo: Levanta-te depressa. E caíram-lhe das mãos as cade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o anjo: Cinge-te, e ata as tuas alparcas. E ele assim o fez. Disse-lhe mais: Lança às costas a tua capa, e segue-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aindo, o seguia. E não sabia que era real o que estava sendo feito pelo anjo, mas cuidava que via alguma vi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4:14Z</dcterms:created>
  <dc:creator>Admin</dc:creator>
  <dc:description/>
  <dc:language>en-US</dc:language>
  <cp:lastModifiedBy>Admin</cp:lastModifiedBy>
  <dcterms:modified xsi:type="dcterms:W3CDTF">2008-07-30T23:24:14Z</dcterms:modified>
  <cp:revision>1</cp:revision>
  <dc:subject/>
  <dc:title>Slide 1</dc:title>
</cp:coreProperties>
</file>