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87F-F328-450E-8649-DB04294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523-36A5-4AD4-B015-32C7EEEB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893-AD6F-4890-9F8E-6398EDBC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821-2A19-4313-92CD-828B16F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2B2-E832-40FC-975F-0CC5B14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B38-AA45-4A93-8169-2390838E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F64-A65E-4E7C-A776-6630DD3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F51-452E-4BC4-B4C0-32A3E11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1CD-EBBE-418B-AE23-54D3A1B9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278-F235-4414-B005-1BA4781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591-76C2-4E7A-B2E6-4A3D50D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5FD-52CF-4F69-8F05-CFF6247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8B5-150A-4E28-91B0-5A7148295C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naqueles dias, e naquele tempo, em que removerei o cativeiro de Judá e de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jai espadas das vossas enxadas, e lanças das vossas foices; diga o fraco: Eu sou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-vos, e vinde, todos os gentios em redor, e congregai-vos. Ó SENHOR, faze descer ali os teus for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citem-se os gentios, e subam ao vale de Jeosafá; pois ali me assentarei para julgar todos os gentios em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i a foice, porque já está madura a seara; vinde, descei, porque o lagar está cheio, e os vasos dos lagares transbordam, porque a sua malícia é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tidões, multidões no vale da decisão; porque o dia do SENHOR está perto, no vale da de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e a lua enegrecerão, e as estrelas retirarão o seu resplen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bramará de Sião, e de Jerusalém fará ouvir a sua voz; e os céus e a terra tremerão, mas o SENHOR será o refúgio do seu povo, e a fortaleza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sabereis que eu sou o SENHOR vosso Deus, que habito em Sião, o meu santo monte; e Jerusalém será santa; estranhos não passarão mais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naquele dia, os montes destilarão mosto, e os outeiros manarão leite, e todos os rios de Judá estarão cheios de águas; e sairá uma fonte, da casa do SENHOR, e regará o vale de Sit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gito se fará uma desolação, e Edom se fará um deserto assolado, por causa da violência que fizeram aos filhos de Judá, em cuja terra derramaram sangue inoc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gregarei todas as nações, e as farei descer ao vale de Jeosafá; e ali com elas entrarei em juízo, por causa do meu povo, e da minha herança, Israel, a quem elas espalharam entre as nações e repartiram a minh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udá será habitada para sempre, e Jerusalém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urificarei o sangue dos que eu não tinha purificado; porque o SENHOR habitará em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am sortes sobre o meu povo, e deram um menino por uma meretriz, e venderam uma menina por vinho, para bebe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que tendes vós comigo, Tiro e Sidom, e todas as regiões da Filístia? É tal o pago que vós me dais? Pois se me pagais assim, bem depressa vos farei tornar a vossa paga sobre a voss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como levastes a minha prata e o meu ouro, e as minhas coisas desejáveis e formosas pusestes nos vossos temp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estes os filhos de Judá e os filhos de Jerusalém aos filhos dos gregos, para os apartar para longe d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os suscitarei do lugar para onde os vendestes, e farei tornar a vossa paga sobre a vossa própri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erei vossos filhos e vossas filhas na mão dos filhos de Judá, que os venderão aos sabeus, a um povo distante, porque 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lamai isto entre os gentios; preparai a guerra, suscitai os fortes; cheguem-se, subam todos os homens de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39Z</dcterms:created>
  <dc:creator>Admin</dc:creator>
  <dc:description/>
  <dc:language>en-US</dc:language>
  <cp:lastModifiedBy>Admin</cp:lastModifiedBy>
  <dcterms:modified xsi:type="dcterms:W3CDTF">2008-07-31T00:04:39Z</dcterms:modified>
  <cp:revision>1</cp:revision>
  <dc:subject/>
  <dc:title>Slide 1</dc:title>
</cp:coreProperties>
</file>