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148B-1210-48B4-B004-6A3AF2DE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07F-7492-49B0-B664-A1EC55A9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A51-DB2B-425E-B34E-B5D80A46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FB6B-F3F4-48AD-8D7C-46A0176D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7789-475F-4225-A4A9-F29779F5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FD8-4B11-4F99-AC72-5A43F40C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AD0D-9084-4D4B-8165-64962FA0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BDB6-661C-4333-A09E-A16F2D17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2D6C-F01D-4C72-84ED-7D43ED55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005F-C958-4331-ADA8-5B57E213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A3C2-B9C3-492E-AA64-5BDA0197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91D-9CB7-420C-87F5-7E7B76FE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806A-0B73-434C-ACA9-C9DCD8E4570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confiam no SENHOR serão como o monte de Sião, que não se abala, mas permanece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omo estão os montes à roda de Jerusalém, assim o SENHOR está em volta do seu povo desde agora e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cetro da impiedade não permanecerá sobre a sorte dos justos, para que o justo não estenda as suas mãos para 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 bem, ó SENHOR, aos bons e aos que são retos de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àqueles que se desviam para os seus caminhos tortuosos, levá-los-á o SENHOR com os que praticam a maldade; paz haverá sobr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21Z</dcterms:created>
  <dc:creator>Admin</dc:creator>
  <dc:description/>
  <dc:language>en-US</dc:language>
  <cp:lastModifiedBy>Admin</cp:lastModifiedBy>
  <dcterms:modified xsi:type="dcterms:W3CDTF">2008-07-31T00:28:21Z</dcterms:modified>
  <cp:revision>1</cp:revision>
  <dc:subject/>
  <dc:title>Slide 1</dc:title>
</cp:coreProperties>
</file>