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067-7E3E-4D16-B325-F42B94A5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3CC-0385-4D47-85BB-DE8A7E5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4A8-B74B-485C-9DB0-F73317ED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7AB-B1BB-4506-9D65-099F1530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113-D69E-44C6-A40E-16CD5D3D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4FA-5813-4034-AED4-9991647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A2D-A67D-4E46-AEFA-B9705158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CB4-18E5-4447-A771-91591AD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01F-75B9-4F16-8E52-D587EBB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D45-7111-4E76-B18F-B7107D2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D87-7B90-4D08-8DA9-3715DD9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469-A7C8-4116-A06A-4F2A299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C6D2-401F-4DF9-9C42-BB81EC1C3D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, SENHOR, os teus ouvidos, e ouve-me, porque estou necessitado e afl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és grande e fazes maravilhas; só tu és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me, SENHOR, o teu caminho, e andarei na tua verdade; une o meu coração ao temor d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, Senhor Deus meu, com todo o meu coração, e glorificarei o teu nom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grande é a tua misericórdia para comigo; e livraste a minha alma do inferno mais prof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os soberbos se levantaram contra mim, e as assembléias dos tiranos procuraram a minha alma, e não te puseram perant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, Senhor, és um Deus cheio de compaixão, e piedoso, sofredor, e grande em benignidade e em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-te para mim, e tem misericórdia de mim; dá a tua fortaleza ao teu servo, e salva ao filho da t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-me um sinal para bem, para que o vejam aqueles que me odeiam, e se confundam; porque tu, SENHOR, me ajudaste e me consol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a minha alma, pois sou santo: ó Deus meu, salva o teu servo, que em ti conf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ó Senhor, pois a ti clamo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 a alma do teu servo, pois a ti, Senhor, levanto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Senhor, és bom, e pronto a perdoar, e abundante em benignidade para todos os que te invo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uvidos, SENHOR, à minha oração e atende à voz das minhas súpl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da minha angústia clamo a ti, porquanto me respo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os deuses não há semelhante a ti, Senhor, nem há obras como as t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nações que fizeste virão e se prostrarão perante a tua face, Senhor, e glorificarão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5Z</dcterms:created>
  <dc:creator>Admin</dc:creator>
  <dc:description/>
  <dc:language>en-US</dc:language>
  <cp:lastModifiedBy>Admin</cp:lastModifiedBy>
  <dcterms:modified xsi:type="dcterms:W3CDTF">2008-07-31T00:26:45Z</dcterms:modified>
  <cp:revision>1</cp:revision>
  <dc:subject/>
  <dc:title>Slide 1</dc:title>
</cp:coreProperties>
</file>