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D9B-0E37-4FA7-9BCD-567FE5DF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056-8A47-43FE-A9F0-BE2D7C05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3D7-CE63-4E60-935E-E2D8545A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03A-D5CC-4D97-8B06-E225F049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AD5-F826-4E5D-9A49-E0AD1C6E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3B1-365F-44F5-8FDB-619008F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6C2-1F55-410B-BC6C-904DAB4E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A35-C770-4E7B-8B2D-E9FA127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EFE-7519-4063-B13D-C60E32F8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B15-CD7F-4369-9F1C-9604913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44A-E012-4C9B-B054-0AFAB03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FA4-505C-4FE7-B18C-02C9124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4AE-D7F2-4FAE-BE21-5F72BC0A5E9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causa eu, Paulo, sou o prisioneiro de Jesus Cristo por vós, os gent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gora, pela igreja, a multiforme sabedoria de Deus seja conhecida dos principados e potestades nos cé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o eterno propósito que fez em Cristo Jesus noss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l temos ousadia e acesso com confiança, pela nossa fé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vos peço que não desfaleçais nas minhas tribulações por vós, que são a voss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isto me ponho de joelhos perante o Pai de nosso Senhor Jesus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al toda a família nos céus e na terra toma o no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segundo as riquezas da sua glória, vos conceda que sejais corroborados com poder pelo seu Espírito no homem interi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Cristo habite pela fé nos vossos corações; a fim de, estando arraigados e fundados em am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erdes perfeitamente compreender, com todos os santos, qual seja a largura, e o comprimento, e a altura, e a profund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r o amor de Cristo, que excede todo o entendimento, para que sejais cheios de toda a plenitud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é que tendes ouvido a dispensação da graça de Deus, que para convosco me foi d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àquele que é poderoso para fazer tudo muito mais abundantemente além daquilo que pedimos ou pensamos, segundo o poder que em nós ope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se glória na igreja, por Jesus Cristo, em todas as gerações,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me foi este mistério manifestado pela revelação, como antes um pouco vos escrev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quando ledes, podeis perceber a minha compreensão do mistério de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outros séculos não foi manifestado aos filhos dos homens, como agora tem sido revelado pelo Espírito aos seus santos apóstolos e profe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r, que os gentios são co-herdeiros, e de um mesmo corpo, e participantes da promessa em Cristo pelo evange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al fui feito ministro, pelo dom da graça de Deus, que me foi dado segundo a operação d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m, o mínimo de todos os santos, me foi dada esta graça de anunciar entre os gentios, por meio do evangelho, as riquezas incompreensíveis de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monstrar a todos qual seja a dispensação do mistério, que desde os séculos esteve oculto em Deus, que tudo criou por meio de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53Z</dcterms:created>
  <dc:creator>Admin</dc:creator>
  <dc:description/>
  <dc:language>en-US</dc:language>
  <cp:lastModifiedBy>Admin</cp:lastModifiedBy>
  <dcterms:modified xsi:type="dcterms:W3CDTF">2008-07-30T23:29:53Z</dcterms:modified>
  <cp:revision>1</cp:revision>
  <dc:subject/>
  <dc:title>Slide 1</dc:title>
</cp:coreProperties>
</file>