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B0E-40EC-4AC7-801B-7BD14FE3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FA6-AD53-45C2-A551-458AE14B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67F-88A2-4F52-ABB9-833EFD5E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B2B1-F29A-4B7F-BCA8-8DDE7EEF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677-66F2-4C83-BFBE-C358F72A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E8EE-DF70-40EA-9276-A4B55897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208-CA26-4FB8-9C6F-F9AF8974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00A-603C-4595-8728-CF65E238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803-0795-48A2-BA88-F6D62127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E3CD-D558-449B-9EA4-ABC3EE51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82E-6A32-4398-88A4-31698CF1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465-2B3F-4265-A099-605F730E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DE51-F7CC-412A-A9D3-F641348865B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 Jacó os seus olhos, e olhou, e eis que vinha Esaú, e quatrocentos homens com ele. Então repartiu os filhos entre Lia, e Raquel, e as duas ser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acó: Não, se agora tenho achado graça em teus olhos, peço-te que tomes o meu presente da minha mão; porquanto tenho visto o teu rosto, como se tivesse visto o rosto de Deus, e tomaste contentamento em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, peço-te, a minha bênção, que te foi trazida; porque Deus graciosamente ma tem dado; e porque tenho de tudo. E instou com ele, até que a to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Caminhemos, e andemos, e eu partirei adiante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ele lhe disse: Meu senhor sabe que estes filhos são tenros, e que tenho comigo ovelhas e vacas de leite; se as afadigarem somente um dia, todo o rebanho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 passe o meu senhor adiante de seu servo; e eu irei como guia pouco a pouco, conforme ao passo do gado que vai adiante de mim, e conforme ao passo dos meninos, até que chegue a meu senhor em Se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aú disse: Permite então que eu deixe contigo alguns da minha gente. E ele disse: Para que é isso? Basta que ache graça aos olhos de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voltou Esaú aquele dia pelo seu caminho a Se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acó, porém, partiu para Sucote e edificou para si uma casa; e fez cabanas para o seu gado; por isso chamou aquele lugar Suc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ou Jacó salvo à Salém, cidade de Siquém, que está na terra de Canaã, quando vinha de Padã-Arã; e armou a sua tenda diante 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prou uma parte do campo em que estendera a sua tenda, da mão dos filhos de Hamor, pai de Siquém, por cem peças de dinh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as servas e seus filhos na frente, e a Lia e seus filhos atrás; porém a Raquel e José os derrad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 ali um altar, e chamou-lhe: Deus, o Deus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mesmo passou adiante deles e inclinou-se à terra sete vezes, até que chegou a s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saú correu-lhe ao encontro, e abraçou-o, e lançou-se sobre o seu pescoço, e beijou-o; e chor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levantou os seus olhos, e viu as mulheres, e os meninos, e disse: Quem são estes contigo? E ele disse: Os filhos que Deus graciosamente tem dado a t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egaram as servas; elas e os seus filhos, e inclinaram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ou também Lia com seus filhos, e inclinaram-se; e depois chegou José e Raquel e inclinaram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saú: De que te serve todo este bando que tenho encontrado? E ele disse: Para achar graça aos olhos de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saú disse: Eu tenho bastante, meu irmão; seja para ti o que t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9:12Z</dcterms:created>
  <dc:creator>Admin</dc:creator>
  <dc:description/>
  <dc:language>en-US</dc:language>
  <cp:lastModifiedBy>Admin</cp:lastModifiedBy>
  <dcterms:modified xsi:type="dcterms:W3CDTF">2008-07-30T23:39:12Z</dcterms:modified>
  <cp:revision>1</cp:revision>
  <dc:subject/>
  <dc:title>Slide 1</dc:title>
</cp:coreProperties>
</file>