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729-B872-4A7A-99DD-F268F980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E64-1AB8-4AB5-B434-0BAD7C9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A64-1988-4F26-98E8-12BF5D44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EFF-AE31-4AC8-84B1-26B1F96A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13A-22EF-4FF2-BC3B-89BA1DA6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6D0-5A9B-40F3-B703-D7CFBF2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63-9C6F-429E-BC9A-2157196D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A40-C35E-474F-AB2B-6505226E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1AC-B139-4429-ACCC-12B81E5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418-EF48-4F05-83E3-F27A0AB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E51-3198-4765-88A6-7F0E83C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AE0-9275-4152-B042-BB0400A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4399-978A-4CFE-A5C1-355FC0849E9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Davi ao SENHOR as palavras deste cântico, no dia em que o SENHOR o livrou das mãos de todos os seus inimigos e das mãos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aixou os céus, e desceu; e uma escuridão havia debaixo de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sobre um querubim, e voou; e foi visto sobre as asas d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tendas pôs as trevas ao redor de si; ajuntamento de águas, nuvens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resplendor da sua presença brasas de fogo se ac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vejou desde os céus o SENHOR; e o Altíssimo fez soar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parou flechas, e os dissipou; raios, e os perturb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ram as profundezas do mar, e os fundamentos do mundo se descobriram; pela repreensão do SENHOR, pelo sopro do vento das suas nar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alto enviou, e me tomou; tirou-me das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ou-me do meu poderoso inimigo, e daqueles que me tinham ódio, porque eram mais fortes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ontraram-me no dia da minha calamidade; porém o SENHOR se fez o meu amp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ois: O SENHOR é o meu rochedo, e o meu lugar forte, e o meu libert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-me para um lugar espaçoso, e livrou-me, porque tinha prazer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mpensou-me o SENHOR conforme a minha justiça; conforme a pureza de minhas mãos me retrib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uardei os caminhos do SENHOR; e não me apartei impiamente d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seus juízos estavam diante de mim; e de seus estatutos não me desv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fui sincero perante ele; e guardei-me da minh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retribuiu o SENHOR conforme a minha justiça, conforme a minha pureza diante d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benigno, te mostras benigno; com o homem íntegro te mostras per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puro te mostras puro; mas com o perverso te mostras rí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aflito livras; mas teus olhos são contra os altivos, e tu os abat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, SENHOR, és a minha lâmpada; e o SENHOR ilumina as minh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o meu rochedo, nele confiarei; o meu escudo, e a força da minha salvação, o meu alto retiro, e o meu refúgio. Ó meu Salvador, da violência me sal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tigo passo pelo meio de um esquadrão; pelo meu Deus salto um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e Deus é perfeito, e a palavra do SENHOR refinada; e é o escudo de todos o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quem é Deus, senão o SENHOR? E quem é rochedo, senão o n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a minha fortaleza e a minha força, e ele perfeitamente desembaraça o m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ele os meus pés como os das cervas, e me põe sobre as minh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trui as minhas mãos para a peleja, de maneira que um arco de cobre se quebra pelos meus br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 deste o escudo da tua salvação, e pela tua brandura me vieste a engrand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argaste os meus passos debaixo de mim, e não vacilaram os meus art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egui os meus inimigos, e os derrotei, e nunca me tornei até que os consum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nsumi, e os atravessei, de modo que nunca mais se levantaram, mas caíram debaixo dos m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digno de louvor, invocarei, e de meus inimigos ficarei liv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cingiste de força para a peleja; fizeste abater-se debaixo de mim os que se levantaram contra 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e-me o pescoço de meus inimigos, daqueles que me tinham ódio, e os destru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ram, porém não houve libertador; sim, para o SENHOR, porém não lhes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moí como o pó da terra; como a lama das ruas os trilhei e dissip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 livraste das contendas do meu povo; guardaste-me para cabeça das nações; o povo que não conhecia me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stranhos se me sujeitaram; ouvindo a minha voz, me obed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stranhos desfaleceram; e, cingindo-se, saíram dos seus esconderi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e o SENHOR, e bendito seja o meu rochedo; e exaltado seja Deus, a rocha da minha salv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que me dá inteira vingança, e sujeita os povos debaix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me tira dentre os meus inimigos; e tu me exaltas sobre os que contra mim se levantam; do homem violento me li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cercaram as ondas de morte; as torrentes dos homens ímpios me assomb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ó SENHOR, te louvarei entre os gentios, e entoarei louvores a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a torre das salvações do seu rei, e usa de benignidade com o seu ungido, com Davi, e com a sua descendênci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das do inferno me cingiram; encontraram-me laços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m angústia, invoquei ao SENHOR, e a meu Deus clamei; do seu templo ouviu ele a minha voz, e o meu clamor chegou aos s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balou e tremeu a terra, os fundamentos dos céus se moveram e abalaram, porque ele se i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 fumaça de suas narinas, e da sua boca um fogo devorador; carvões se incende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57Z</dcterms:created>
  <dc:creator>Admin</dc:creator>
  <dc:description/>
  <dc:language>en-US</dc:language>
  <cp:lastModifiedBy>Admin</cp:lastModifiedBy>
  <dcterms:modified xsi:type="dcterms:W3CDTF">2008-07-30T23:53:57Z</dcterms:modified>
  <cp:revision>1</cp:revision>
  <dc:subject/>
  <dc:title>Slide 1</dc:title>
</cp:coreProperties>
</file>