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7BF-FE17-4920-B92A-68C34AB6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756-C7B3-484B-8A33-82F7E3C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6CC-6EE9-46AC-808E-FB123453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0C4-68C9-4599-938A-6B46AC3F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814-9E13-4D84-B022-6A56F839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B9B-C9E5-4D0B-B6C8-9D1AB77C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322-0E00-4E6A-96AC-7A32A90F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C60-748F-4A60-B1ED-F70438B3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416-99AE-4B5C-A7AB-442B2500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411-E2E1-452D-BF5F-DCA399E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E72-4C44-4FBE-ADBC-EC00C2E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F23-BCFB-47EF-BA89-F7AB1FC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E7CA-9924-493F-87DB-846C9F6A74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entrou na sinagoga, e estava ali um homem que tinha uma das mãos mir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nha curado a muitos, de tal maneira que todos quantos tinham algum mal se arrojavam sobre ele, para lhe toc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píritos imundos vendo-o, prostravam-se diante dele, e clamavam, dizendo: Tu és 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os ameaçava muito, para que não o manifest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ao monte, e chamou para si os que ele quis; e vieram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meou doze para que estivessem com ele e os mandasse a preg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que tivessem o poder de curar as enfermidades e expulsar os demôni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imão, a quem pôs o nome de Ped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iago, filho de Zebedeu, e a João, irmão de Tiago, aos quais pôs o nome de Boanerges, que significa: Filhos do trov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ndré, e a Filipe, e a Bartolomeu, e a Mateus, e a Tomé, e a Tiago, filho de Alfeu, e a Tadeu, e a Simão o Zel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Judas Iscariotes, o que o entreg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observando-o se curaria no sábado, para o acus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para uma casa. E afluiu outra vez a multidão, de tal maneira que nem sequer podiam comer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s seus ouviram isto, saíram para o prender; porque diziam: Está fora d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cribas, que tinham descido de Jerusalém, diziam: Tem Belzebu, e pelo príncipe dos demônios expulsa 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-os a si, disse-lhes por parábolas: Como pode Satanás expulsar Satan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um reino se dividir contra si mesmo, tal reino não pode subsisti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uma casa se dividir contra si mesma, tal casa não pode subsis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Satanás se levantar contra si mesmo, e for dividido, não pode subsistir; antes tem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pode roubar os bens do valente, entrando-lhe em sua casa, se primeiro não maniatar o valente; e então roubará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vos digo que todos os pecados serão perdoados aos filhos dos homens, e toda a sorte de blasfêmias, com que blasfemar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, porém, que blasfemar contra o Espírito Santo, nunca obterá perdão, mas será réu do eterno juíz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homem que tinha a mão mirrada: Levanta-te e vem para o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diziam: Tem espírito imund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ram, então, seus irmãos e sua mãe; e, estando fora, mandaram-no ch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estava assentada ao redor dele, e disseram-lhe: Eis que tua mãe e teus irmãos te procuram, e estão lá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respondeu, dizendo: Quem é minha mãe e meus ir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 em redor para os que estavam assentados junto dele, disse: Eis aqui minha mãe e m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qualquer que fizer a vontade de Deus, esse é meu irmão, e minha irmã, e minh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-lhes: É lícito no sábado fazer bem, ou fazer mal? salvar a vida, ou matar? E eles cala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 para eles em redor com indignação, condoendo-se da dureza do seu coração, disse ao homem: Estende a tua mão. E ele a estendeu, e foi-lhe restituída a sua mão, sã como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saído os fariseus, tomaram logo conselho com os herodianos contra ele, procurando ver como o matar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tirou-se Jesus com os seus discípulos para o mar, e seguia-o uma grande multidão da Galiléia e da Judé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Jerusalém, e da Iduméia, e de além do Jordão, e de perto de Tiro e de Sidom; uma grande multidão que, ouvindo quão grandes coisas fazia, vinha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 aos seus discípulos que lhe tivessem sempre pronto um barquinho junto dele, por causa da multidão, para que o não oprimiss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49Z</dcterms:created>
  <dc:creator>Admin</dc:creator>
  <dc:description/>
  <dc:language>en-US</dc:language>
  <cp:lastModifiedBy>Admin</cp:lastModifiedBy>
  <dcterms:modified xsi:type="dcterms:W3CDTF">2008-07-31T00:12:49Z</dcterms:modified>
  <cp:revision>1</cp:revision>
  <dc:subject/>
  <dc:title>Slide 1</dc:title>
</cp:coreProperties>
</file>