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789-1B57-4B07-BCD5-1B26D248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7EB-3641-43B0-AE52-AA8F275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344-A474-4B21-AF95-1DE5A369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FEE-BE7E-4966-80C2-B27D39CD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59E-3AD2-4A6A-BA09-F15A2412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0BA-4AFB-416B-A502-2EA17FE1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CB9-365C-4341-AD3D-ADF3926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875-70EF-4C7C-9E0F-87CAB346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D7C-C67F-4A3D-8E03-D904C613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384-AE78-4AEF-AF6F-4E0A3A0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654-AE91-486F-AA63-1C551E5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00D-4D0A-411E-AEC4-30FAFF5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6E4-D322-49B9-98D0-0C3F593FAC1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 Paulo os olhos no conselho, disse: Homens irmãos, até ao dia de hoje tenho andado diante de Deus com toda a boa cons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grande dissensão, o tribuno, temendo que Paulo fosse despedaçado por eles, mandou descer a soldadesca, para que o tirassem do meio deles, e o levassem para 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noite seguinte, apresentando-se-lhe o Senhor, disse: Paulo, tem ânimo; porque, como de mim testificaste em Jerusalém, assim importa que testifiques também em R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á era dia, alguns dos judeus fizeram uma conspiração, e juraram, dizendo que não comeriam nem beberiam enquanto não matassem 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mais de quarenta os que fizeram esta conju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ter com os principais dos sacerdotes e anciãos, e disseram: Conjuramo-nos, sob pena de maldição, a nada provarmos até que matemos 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vós, com o conselho, rogai ao tribuno que vo-lo traga amanhã, como que querendo saber mais alguma coisa de seus negócios, e, antes que chegue, estaremos prontos para o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a irmã de Paulo, tendo ouvido acerca desta cilada, foi, e entrou na fortaleza, e o anunciou 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, chamando a si um dos centuriões, disse: Leva este jovem ao tribuno, porque tem alguma coisa que lhe comun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-o ele, pois, o levou ao tribuno, e disse: O preso Paulo, chamando-me a si, rogou-me que trouxesse este jovem, que tem alguma coisa para dize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ribuno, tomando-o pela mão, e pondo-se à parte, perguntou-lhe em particular: Que tens que me con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umo sacerdote, Ananias, mandou aos que estavam junto dele que o ferissem n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Os judeus se concertaram rogar-te que amanhã leves Paulo ao conselho, como que tendo de inquirir dele mais alguma coisa ao c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não os creias; porque mais de quarenta homens de entre eles lhe andam armando ciladas; os quais se obrigaram, sob pena de maldição, a não comer nem beber até que o tenham morto; e já estão apercebidos, esperando de ti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tribuno despediu o jovem, mandando-lhe que a ninguém dissesse que lhe havia contado aqu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dois centuriões, lhes disse: Aprontai para as três horas da noite duzentos soldados, e setenta de cavalaria, e duzentos arqueiros para irem até Cesaré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lhai cavalgaduras, para que, pondo nelas a Paulo, o levem salvo ao presidente Félix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eu uma carta, que continha i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áudio Lísias, a Félix, potentíssimo presidente,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e homem foi preso pelos judeus; e, estando já a ponto de ser morto por eles, sobrevim eu com a soldadesca, e o livrei, informado de que era rom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erendo saber a causa por que o acusavam, o levei ao seu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ei que o acusavam de algumas questões da sua lei; mas que nenhum crime havia nele digno de morte ou de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ulo lhe disse: Deus te ferirá, parede branqueada; tu estás aqui assentado para julgar-me conforme a lei, e contra a lei me mandas fer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-me notificado que os judeus haviam de armar ciladas a esse homem, logo to enviei, mandando também aos acusadores que perante ti digam o que tiverem contra ele. Passa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, pois, os soldados a Paulo, como lhe fora mandado, o trouxeram de noite a Antipátr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deixando aos de cavalo irem com ele, tornaram à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logo que chegaram a Cesaréia, e entregaram a carta ao presidente, lhe apresentaram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esidente, lida a carta, perguntou de que província era; e, sabendo que era da Cilí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: Ouvir-te-ei, quando também aqui vierem os teus acusadores. E mandou que o guardassem no pretório de Her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ali estavam disseram: Injurias o sumo sacerdote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 disse: Não sabia, irmãos, que era o sumo sacerdote; porque está escrito: Não dirás mal do príncipe d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, sabendo que uma parte era de saduceus e outra de fariseus, clamou no conselho: Homens irmãos, eu sou fariseu, filho de fariseu; no tocante à esperança e ressurreição dos mortos sou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dito isto, houve dissensão entre os fariseus e saduceus; e a multidão se divid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aduceus dizem que não há ressurreição, nem anjo, nem espírito; mas os fariseus reconhecem uma e outr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iginou-se um grande clamor; e, levantando-se os escribas da parte dos fariseus, contendiam, dizendo: Nenhum mal achamos neste homem, e, se algum espírito ou anjo lhe falou, não lutemos cont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15Z</dcterms:created>
  <dc:creator>Admin</dc:creator>
  <dc:description/>
  <dc:language>en-US</dc:language>
  <cp:lastModifiedBy>Admin</cp:lastModifiedBy>
  <dcterms:modified xsi:type="dcterms:W3CDTF">2008-07-30T23:25:15Z</dcterms:modified>
  <cp:revision>1</cp:revision>
  <dc:subject/>
  <dc:title>Slide 1</dc:title>
</cp:coreProperties>
</file>