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6FF-8AAC-4803-ADF5-071D02BF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A89-B5D9-4A1B-967D-756E1F92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F1B-C893-4009-9520-062E926F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7C5-A61B-44C8-A8A1-22A572AE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B63-6F0C-4494-A766-B0F68388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120-585D-48C4-9A63-13608F21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5E3-5BA9-4C91-84BB-B094B322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071-F2EE-4E04-9BEF-1A73A4AF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5C7-4161-4A24-8F00-5BE1AA06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C22-4874-46DA-8D1E-D974AA3D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1E4-5265-4FCA-80F4-28312380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C65-5DCA-4A53-94DC-16667261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FAAD-476D-4995-BB71-082F6635BFA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iseu: Ouvi a palavra do SENHOR; assim diz o SENHOR: Amanhã, quase a este tempo, haverá uma medida de farinha por um siclo, e duas medidas de cevada por um siclo, à porta de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eram, pois, e bradaram aos porteiros da cidade, e lhes anunciaram, dizendo: Fomos ao arraial dos sírios e eis que lá não havia ninguém, nem voz de homem, porém só cavalos atados, jumentos atados, e as tendas como est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aram os porteiros, e o anunciaram dentro da cas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se levantou de noite, e disse a seus servos: Agora vos farei saber o que é que os sírios nos fizeram; bem sabem eles que esfaimados estamos, pelo que saíram do arraial, a esconder-se pelo campo, dizendo: Quando saírem da cidade, então os tomar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um dos seus servos respondeu e disse: Tomem-se, pois, cinco dos cavalos que restam aqui dentro (eis que são como toda a multidão dos israelitas que ficaram aqui; e eis que são como toda a multidão dos israelitas que já pereceram) e enviemo-los, e 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am, pois, dois cavalos de carro; e o rei os enviou com mensageiros após o exército dos sírios, dizendo: Ide, e v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após eles até ao Jordão, e eis que todo o caminho estava cheio de roupas e de aviamentos que os sírios, apressando-se, lançaram fora; e voltaram os mensageiros e o anunciaram a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o povo, e saqueou o arraial dos sírios; e havia uma medida de farinha por um siclo, e duas medidas de cevada por um siclo, conform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 o rei à porta o senhor em cuja mão se encostava; e o povo o atropelou na porta, e morreu, como falara o homem de Deus, o que falou quando o rei descera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sucedeu como o homem de Deus falara ao rei dizendo: Amanhã, quase a este tempo, haverá duas medidas de cevada por um siclo, e uma medida de farinha por um siclo, à porta de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senhor respondeu ao homem de Deus, e disse: Eis que ainda que o SENHOR fizesse janelas no céu poderia isso suceder? E ele disse: Eis que o verás com os teus olhos, porém dali não com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um senhor, em cuja mão o rei se encostava, respondeu ao homem de Deus e disse: Eis que ainda que o SENHOR fizesse janelas no céu, poder-se-ia fazer isso? E ele disse: Eis que o verás com os teus olhos, porém disso não com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lhe sucedeu, porque o povo o atropelou à porta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tro homens leprosos estavam à entrada da porta, os quais disseram uns aos outros: Para que estaremos nós aqui até morrer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issermos: Entremos na cidade, há fome na cidade, e morreremos aí; e se ficarmos aqui, também morreremos. Vamos nós, pois, agora, e passemos para o arraial dos sírios; se nos deixarem viver, viveremos, e se nos matarem, tão-somente morre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ao crepúsculo, para irem ao arraial dos sírios; e, chegando à entrada do arraial dos sírios, eis que não havia ali ning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fizera ouvir no arraial dos sírios ruído de carros e ruído de cavalos, como o ruído de um grande exército; de maneira que disseram uns aos outros: Eis que o rei de Israel alugou contra nós os reis dos heteus e os reis dos egípcios, para 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e levantaram, e fugiram no crepúsculo, e deixaram as suas tendas, os seus cavalos, os seus jumentos e o arraial como estava; e fugiram para salvarem 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, pois, estes leprosos à entrada do arraial, entraram numa tenda, e comeram, beberam e tomaram dali prata, ouro e roupas, e foram e os esconderam; então voltaram, e entraram em outra tenda, e dali também tomaram alguma coisa e a escon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uns para os outros: Não fazemos bem; este dia é dia de boas novas, e nos calamos; se esperarmos até à luz da manhã, algum mal nos sobrevirá; por isso agora vamos, e o anunciaremos à cas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24Z</dcterms:created>
  <dc:creator>Admin</dc:creator>
  <dc:description/>
  <dc:language>en-US</dc:language>
  <cp:lastModifiedBy>Admin</cp:lastModifiedBy>
  <dcterms:modified xsi:type="dcterms:W3CDTF">2008-07-30T23:51:24Z</dcterms:modified>
  <cp:revision>1</cp:revision>
  <dc:subject/>
  <dc:title>Slide 1</dc:title>
</cp:coreProperties>
</file>