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C64-C0AB-4BC1-8BAA-A402B092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5D0-8537-4B90-8762-B07EE443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3F2-C939-4863-A66F-FDF59B5F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8EF-E3B0-4903-AB3E-452DA115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E93-C653-4F60-B684-5FE38BF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C6B-D498-4D98-AF75-CFE3BD78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E9A-C1BD-41B7-8D47-7B951448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A29-D01B-40C5-9400-4C85BA3A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45E-0686-454B-8D65-EC8868C1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97E-74FB-4EBF-A87A-55292E4D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DE0-6127-4CBB-83C7-DF7506F2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5C5-5FDB-4705-9DE2-9611D61A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D9B2-A525-4366-A043-B61EAFC2F59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 o povo tomou a Uzias, que tinha dezesseis anos, e o fizeram rei em lugar de Amazias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dificou torres no deserto, e cavou muitos poços, porque tinha muito gado, tanto nos vales como nas campinas; tinha lavradores, e vinhateiros, nos montes e nos campos férteis; porque era amigo da agric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também Uzias um exército de homens destros na guerra, que saíam à guerra em tropas, segundo o número da resenha feita por mão de Jeiel, o escrivão, e Maaséias, oficial, sob a direção de Hananias, um dos capitãe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otal dos chefes dos pais, homens valentes, era de dois mil e seis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baixo das suas ordens havia um exército guerreiro de trezentos e sete mil e quinhentos homens, que faziam a guerra com força belicosa, para ajudar o rei contra o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parou Uzias, para todo o exército, escudos, lanças, capacetes, couraças e arcos, e até fundas para atirar ped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ez em Jerusalém máquinas da invenção de engenheiros, que estivessem nas torres e nos cantos, para atirarem flechas e grandes pedras; e propagou a sua fama até muito longe; porque foi maravilhosamente ajudado, até que se forti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havendo-se já fortificado, exaltou-se o seu coração até se corromper; e transgrediu contra o SENHOR seu Deus, porque entrou no templo do SENHOR para queimar incenso no altar do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acerdote Azarias entrou após ele, e com ele oitenta sacerdotes do SENHOR, homens val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istiram ao rei Uzias, e lhe disseram: A ti, Uzias, não compete queimar incenso perante o SENHOR, mas aos sacerdotes, filhos de Arão, que são consagrados para queimar incenso; sai do santuário, porque transgrediste; e não será isto para honra tua 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Uzias se indignou; e tinha o incensário na sua mão para queimar incenso. Indignando-se ele, pois, contra os sacerdotes, a lepra lhe saiu à testa perante os sacerdotes, na casa do SENHOR, junto ao altar do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edificou a Elote, e a restituiu a Judá, depois que o rei dormiu com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umo sacerdote Azarias olhou para ele, como também todos os sacerdotes, e eis que já estava leproso na sua testa, e apressuradamente o lançaram fora; e até ele mesmo se deu pressa a sair, visto que o SENHOR o fer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icou leproso o rei Uzias até ao dia da sua morte; e morou, por ser leproso, numa casa separada, porque foi excluído da casa do SENHOR. E Jotão, seu filho, tinha o encargo da casa do rei, julgando o pov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Uzias, tanto os primeiros como os últimos, o profeta Isaías, filho de Amós, o escrev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rmiu Uzias com seus pais, e o sepultaram com eles no campo do sepulcro que era dos reis; porque disseram: Leproso é. E Jotão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Uzias dezesseis anos quando começou a reinar, e cinqüenta e cinco anos reinou em Jerusalém; e era o nome de sua mãe Jecolia,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reto aos olhos do SENHOR; conforme a tudo o que fizera Amazias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-se a buscar a Deus nos dias de Zacarias, que era entendido nas visões de Deus; e nos dias em que buscou ao SENHOR, Deus o fez prospe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aiu e guerreou contra os filisteus, e quebrou o muro de Gate, o muro de Jabne, e o muro de Asdode; e edificou cidades em Asdode, e entre 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o ajudou contra os filisteus e contra os árabes que habitavam em Gur-Baal, e contra os meu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amonitas deram presentes a Uzias; e o seu nome foi espalhado até à entrada do Egito, porque se fortificou al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Uzias edificou torres em Jerusalém, à porta da esquina, e à porta do vale, e à porta do ângulo, e as forti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14Z</dcterms:created>
  <dc:creator>Admin</dc:creator>
  <dc:description/>
  <dc:language>en-US</dc:language>
  <cp:lastModifiedBy>Admin</cp:lastModifiedBy>
  <dcterms:modified xsi:type="dcterms:W3CDTF">2008-07-30T23:50:14Z</dcterms:modified>
  <cp:revision>1</cp:revision>
  <dc:subject/>
  <dc:title>Slide 1</dc:title>
</cp:coreProperties>
</file>