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7ED-ED26-407A-B4B4-C9640072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5FF-C999-450E-B2A6-086DDC1D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9708-108E-4E38-B040-9A163027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7CC-EBE1-48A2-A508-A410FB22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E85B-4972-4BBE-A8BE-26FE2B45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0CC-F8F5-43E7-9546-7AE5B5B3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1EE9-F83E-4034-8CBA-7E5AA3C1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4A6-EAD9-4FC4-9FF8-4394081C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98EE-0AC9-45E3-9723-4934C1F0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82FD-6189-42AC-BAB5-A121F430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772-AC95-4BEF-A63D-900B3A8A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CBB0-A0EA-4984-857A-D3C0400A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F108-7AC5-4A7C-BB78-32718465BF4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princípio do reinado de Jeoiaquim, filho de Josias, rei de Judá, veio esta palavra a Jeremias da parte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entiras vos profetizam, para vos mandarem para longe da vossa terra, e para que eu vos expulse dela, e pereç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nação que colocar o seu pescoço sob o jugo do rei de Babilônia, e o servir, eu a deixarei na sua terra, diz o SENHOR, e lavrá-la-á e habitará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ei com Zedequias, rei de Judá, conforme todas estas palavras, dizendo: Colocai os vossos pescoços no jugo do rei de Babilônia, e servi-o, a ele e ao seu povo, e viv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morrerias tu e o teu povo, à espada, e à fome, e de peste, como o SENHOR disse contra a nação que não servir ao rei de Babilôn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deis ouvidos às palavras dos profetas, que vos falam, dizendo: Não servireis ao rei de Babilônia; porque vos profetizam ment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os enviei, diz o SENHOR, e profetizam falsamente em meu nome; para que eu vos lance fora, e pereçais, vós e os profetas que vos profetiz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alei aos sacerdotes, e a todo este povo, dizendo: Assim diz o SENHOR: Não deis ouvidos às palavras dos vossos profetas, que vos profetizam, dizendo: Eis que os utensílios da casa do SENHOR cedo voltarão de Babilônia, porque vos profetizam menti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lhes deis ouvidos, servi ao rei de Babilônia, e vivereis; por que se tornaria esta cidade em desolaç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se são profetas, e se há palavras do SENHOR com eles, orem agora ao SENHOR dos Exércitos, para que os utensílios que ficaram na casa do SENHOR, e na casa do rei de Judá, e em Jerusalém, não vão para a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dos Exércitos acerca das colunas, e do mar, e das bases, e dos demais utensílios que ficaram na cid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me disse o SENHOR: Faze uns grilhões e jugos, e põe-nos ao teu pesco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Nabucodonosor, rei de Babilônia, não levou, quando transportou de Jerusalém para Babilônia a Jeconias, filho de Jeoiaquim, rei de Judá, como também a todos os nobres de Judá e de Jerusalé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pois, diz o SENHOR dos Exércitos, o Deus de Israel, acerca dos utensílios que ficaram na casa do SENHOR, e na casa do rei de Judá, e em Jerusalém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À Babilônia serão levados, e ali ficarão até o dia em que eu os visitarei, diz o SENHOR; então os farei subir, e os tornarei a trazer a este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a-os ao rei de Edom, e ao rei de Moabe, e ao rei dos filhos de Amom, e ao rei de Tiro, e ao rei de Sidom, pela mão dos mensageiros que vêm a Jerusalém a ter com Zedequias, rei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hes ordenarás, que digam aos seus senhores: Assim diz o SENHOR dos Exércitos, o Deus de Israel: Assim direis a vossos senhore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fiz a terra, o homem, e os animais que estão sobre a face da terra, com o meu grande poder, e com o meu braço estendido, e a dou a quem é reto aos m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 eu entreguei todas estas terras na mão de Nabucodonosor, rei de Babilônia, meu servo; e ainda até os animais do campo lhe dei, para que o sir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s as nações servirão a ele, e a seu filho, e ao filho de seu filho, até que também venha o tempo da sua própria terra, quando muitas nações e grandes reis se servirão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que, se alguma nação e reino não servirem o mesmo Nabucodonosor, rei de Babilônia, e não puserem o seu pescoço debaixo do jugo do rei de Babilônia, a essa nação castigarei com espada, e com fome, e com peste, diz o SENHOR, até que a consum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 não deis ouvidos aos vossos profetas, e aos vossos adivinhos, e aos vossos sonhos, e aos vossos agoureiros, e aos vossos encantadores, que vos falam, dizendo: Não servireis ao rei de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8:43Z</dcterms:created>
  <dc:creator>Admin</dc:creator>
  <dc:description/>
  <dc:language>en-US</dc:language>
  <cp:lastModifiedBy>Admin</cp:lastModifiedBy>
  <dcterms:modified xsi:type="dcterms:W3CDTF">2008-07-30T23:58:43Z</dcterms:modified>
  <cp:revision>1</cp:revision>
  <dc:subject/>
  <dc:title>Slide 1</dc:title>
</cp:coreProperties>
</file>