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14DE-B84C-4D49-91C0-E3CE8406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9BC-A122-4F18-8CE4-07469F9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D6F-8FA5-4446-8644-50D997BF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D22-9C38-46D1-A6AD-26E81F60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E97-65AA-478A-875E-DAE27AF9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CC9-66E5-40E5-AD36-8576CC15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414-F3A8-4893-BD7D-A2B888AD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030-3F6C-401C-BDEA-1D9999A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8D2-267B-4132-A0D2-2E2876D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F34-28A8-4F38-B736-535E6044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667-572F-45B9-98B1-D48C574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AD7-F27F-49A6-BF4A-5C40338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74A2-1FC8-42C1-B3E6-0A1CEBC306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separando-nos deles, navegamos e fomos correndo caminho direito, e chegamos a Cós, e no dia seguinte a Rodes, de onde passamos a Pát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morando-nos ali por muitos dias, chegou da Judéia um profeta, por nome Ágab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ter conosco, tomou a cinta de Paulo, e ligando-se os seus próprios pés e mãos, disse: Isto diz o Espírito Santo: Assim ligarão os judeus em Jerusalém o homem de quem é esta cinta, e o entregarão nas mãos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nós isto, rogamos-lhe, tanto nós como os que eram daquele lugar, que não subisse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ulo respondeu: Que fazeis vós, chorando e magoando-me o coração? Porque eu estou pronto não só a ser ligado, mas ainda a morrer em Jerusalém pelo nome d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não podíamos convencê-lo, nos aquietamos, dizendo: Faça-se a vontad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aqueles dias, havendo feito os nossos preparativos, subimos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ambém conosco alguns discípulos de Cesaréia, levando consigo um certo Mnasom, cíprio, discípulo antigo, com quem havíamos de hospedar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chegamos a Jerusalém, os irmãos nos receberam de muito bo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, Paulo entrou conosco em casa de Tiago, e todos os anciãos vie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s saudado, contou-lhes por miúdo o que por seu ministério Deus fizera 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hando um navio, que ia para a Fenícia, embarcamos nele, e part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-o eles, glorificaram ao Senhor, e disseram-lhe: Bem vês, irmão, quantos milhares de judeus há que crêem, e todos são zeladores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á acerca de ti foram informados de que ensinas todos os judeus que estão entre os gentios a apartarem-se de Moisés, dizendo que não devem circuncidar seus filhos, nem andar segundo o costume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remos pois? em todo o caso é necessário que a multidão se ajunte; porque terão ouvido que já és v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, pois, isto que te dizemos: Temos quatro homens que fizeram vo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estes contigo, e santifica-te com eles, e faze por eles os gastos para que rapem a cabeça, e todos ficarão sabendo que nada há daquilo de que foram informados acerca de ti, mas que também tu mesmo andas guardando 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quanto aos que crêem dos gentios, já nós havemos escrito, e achado por bem, que nada disto observem; mas que só se guardem do que se sacrifica aos ídolos, e do sangue, e do sufocado e da prostit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ulo, tomando consigo aqueles homens, entrou no dia seguinte no templo, já santificado com eles, anunciando serem já cumpridos os dias da purificação; e ficou ali até se oferecer por cada um deles a of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s sete dias estavam quase a terminar, os judeus da Ásia, vendo-o no templo, alvoroçaram todo o povo e lançaram mão d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ndo: Homens israelitas, acudi; este é o homem que por todas as partes ensina a todos contra o povo e contra a lei, e contra este lugar; e, demais disto, introduziu também no templo os gregos, e profanou este sant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nham visto com ele na cidade a Trófimo de Éfeso, o qual pensavam que Paulo introduzira n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já à vista de Chipre, deixando-a à esquerda, navegamos para a Síria e chegamos a Tiro; porque o navio havia de ser descarregado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voroçou-se toda a cidade, e houve grande concurso de povo; e, pegando Paulo, o arrastaram para fora do templo, e logo as portas se fe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rocurando eles matá-lo, chegou ao tribuno da coorte o aviso de que Jerusalém estava toda em confu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tomando logo consigo soldados e centuriões, correu para eles. E, quando viram o tribuno e os soldados, cessaram de ferir a P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aproximando-se o tribuno, o prendeu e o mandou atar com duas cadeias, e lhe perguntou quem era e o que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multidão uns clamavam de uma maneira, outros de outra; mas, como nada podia saber ao certo, por causa do alvoroço, mandou conduzi-lo para a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hegando às escadas, os soldados tiveram de lhe pegar por causa da violência d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ultidão do povo o seguia, clamando: Mata-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iam a introduzir Paulo na fortaleza, disse Paulo ao tribuno: É-me permitido dizer-te alguma coisa? E ele disse: Sabes o gre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s tu porventura aquele egípcio que antes destes dias fez uma sedição e levou ao deserto quatro mil salte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ulo lhe disse: Na verdade que sou um homem judeu, cidadão de Tarso, cidade não pouco célebre na Cilícia; rogo-te, porém, que me permitas falar a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hando discípulos, ficamos ali sete dias; e eles pelo Espírito diziam a Paulo que não subisse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lho permitido, Paulo, pondo-se em pé nas escadas, fez sinal com a mão ao povo; e, feito grande silêncio, falou-lhes em língua hebraic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passado ali aqueles dias, saímos, e seguimos nosso caminho, acompanhando-nos todos, com suas mulheres e filhos até fora da cidade; e, postos de joelhos na praia, o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pedindo-nos uns dos outros, subimos ao navio; e eles voltaram para suas c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, concluída a navegação de Tiro, viemos a Ptolemaida; e, havendo saudado os irmãos, ficamos com eles um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, partindo dali Paulo, e nós que com ele estávamos, chegamos a Cesaréia; e, entrando em casa de Filipe, o evangelista, que era um dos sete, ficamo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este quatro filhas virgens, que profetiz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05Z</dcterms:created>
  <dc:creator>Admin</dc:creator>
  <dc:description/>
  <dc:language>en-US</dc:language>
  <cp:lastModifiedBy>Admin</cp:lastModifiedBy>
  <dcterms:modified xsi:type="dcterms:W3CDTF">2008-07-30T23:25:05Z</dcterms:modified>
  <cp:revision>1</cp:revision>
  <dc:subject/>
  <dc:title>Slide 1</dc:title>
</cp:coreProperties>
</file>