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B72-E482-4E8B-8BB9-8697DE4A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CBE-27A3-4DAC-AC1E-38D37C0F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BFF-F79E-4A8A-8207-48A77B67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AA0-D0AE-4D93-B1EE-0AC7B54F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016-DF2B-4020-BAB2-251A3E7D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93F-D23C-4A27-A301-2047037A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504-A15B-4F71-A0BA-7B0B1E27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EBB-68B0-4BD0-8EB0-6E88EA5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9D4-3FA7-4011-A9FF-D4C40EC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9AE-9B6C-418E-B17F-98484BC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F6A-6B24-4C0D-B0B6-3FE51E3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60B-A9B9-48F5-B74B-D092536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94BC-C7F6-44A2-AAE4-05BE9AF0586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Jesus seis dias antes da páscoa a Betânia, onde estava Lázaro, o que falecera, e a quem ressuscitara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ncipais dos sacerdotes tomaram deliberação para matar também a Láza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dos judeus, por causa dele, iam e criam e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seguinte, ouvindo uma grande multidão, que viera à festa, que Jesus vinha a Jerusalé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 ramos de palmeiras, e saíram-lhe ao encontro, e clamavam: Hosana! Bendito o Rei de Israel que vem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 Jesus um jumentinho, e assentou-se sobre ele, como está escri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ó filha de Sião; eis que o teu Rei vem assentado sobre o filho de uma jum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discípulos, porém, não entenderam isto no princípio; mas, quando Jesus foi glorificado, então se lembraram de que isto estava escrito dele, e que isto lhe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tidão, pois, que estava com ele quando Lázaro foi chamado da sepultura, testificava que ele o ressuscitara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multidão lhe saiu ao encontro, porque tinham ouvido que ele fizera este si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is, os fariseus entre si: Vedes que nada aproveitais? Eis que toda a gente vai após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ram-lhe, pois, ali uma ceia, e Marta servia, e Lázaro era um dos que estavam à mes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havia alguns gregos, entre os que tinham subido a adorar no dia da fe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dirigiram-se a Filipe, que era de Betsaida da Galiléia, e rogaram-lhe, dizendo: Senhor, queríamos ver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lipe foi dizê-lo a André, e então André e Filipe o disseram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respondeu, dizendo: É chegada a hora em que o Filho do homem há de ser glor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a verdade vos digo que, se o grão de trigo, caindo na terra, não morrer, fica ele só; mas se morrer, dá muito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ama a sua vida perdê-la-á, e quem neste mundo odeia a sua vida, guardá-la-á pa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me serve, siga-me, e onde eu estiver, ali estará também o meu servo. E, se alguém me servir, meu Pai o hon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a minha alma está perturbada; e que direi eu? Pai, salva-me desta hora; mas para isto vim a esta 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i, glorifica o teu nome. Então veio uma voz do céu que dizia: Já o tenho glorificado, e outra vez o glorifi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multidão que ali estava, e que a ouvira, dizia que havia sido um trovão. Outros diziam: Um anjo lhe fal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ria, tomando um arrátel de ungüento de nardo puro, de muito preço, ungiu os pés de Jesus, e enxugou-lhe os pés com os seus cabelos; e encheu-se a casa do cheiro do ungü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 Jesus, e disse: Não veio esta voz por amor de mim, mas por amor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é o juízo deste mundo; agora será expulso o príncipe deste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quando for levantado da terra, todos atrairei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 isto, significando de que morte havia de mor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u-lhe a multidão: Nós temos ouvido da lei, que o Cristo permanece para sempre; e como dizes tu que convém que o Filho do homem seja levantado? Quem é esse Filho do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, pois, Jesus: A luz ainda está convosco por um pouco de tempo. Andai enquanto tendes luz, para que as trevas não vos apanhem; pois quem anda nas trevas não sabe para onde v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tendes luz, crede na luz, para que sejais filhos da luz. Estas coisas disse Jesus e, retirando-se, escondeu-s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inda que tinha feito tantos sinais diante deles, não criam n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a palavra do profeta Isaías, que diz: SENHOR, quem creu na nossa pregação? E a quem foi revelado o braço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não podiam crer, então Isaías disse outra ve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um dos seus discípulos, Judas Iscariotes, filho de Simão, o que havia de traí-lo, diss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gou-lhes os olhos, e endureceu-lhes o coração, A fim de que não vejam com os olhos, e compreendam no coração, E se convertam, E eu os c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aías disse isto quando viu a sua glória e falo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esar de tudo, até muitos dos principais creram nele; mas não o confessavam por causa dos fariseus, para não serem expulsos da sinago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mavam mais a glória dos homens do que a glóri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clamou, e disse: Quem crê em mim, crê, não em mim, mas n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me vê a mim, vê aquele que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a luz que vim ao mundo, para que todo aquele que crê em mim não permaneça n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ouvir as minhas palavras, e não crer, eu não o julgo; porque eu vim, não para julgar o mundo, mas para salvar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e rejeitar a mim, e não receber as minhas palavras, já tem quem o julgue; a palavra que tenho pregado, essa o há de julgar no úl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não tenho falado de mim mesmo; mas o Pai, que me enviou, ele me deu mandamento sobre o que hei de dizer e sobre o que hei de fa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não se vendeu este ungüento por trezentos dinheiros e não se deu aos pob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i que o seu mandamento é a vida eterna. Portanto, o que eu falo, falo-o como o Pai mo tem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le disse isto, não pelo cuidado que tivesse dos pobres, mas porque era ladrão e tinha a bolsa, e tirava o que ali se lanç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Jesus: Deixai-a; para o dia da minha sepultura guardou 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pobres sempre os tendes convosco, mas a mim nem sempre me ten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João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a gente dos judeus soube que ele estava ali; e foram, não só por causa de Jesus, mas também para ver a Lázaro, a quem ressuscitara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03:52Z</dcterms:created>
  <dc:creator>Admin</dc:creator>
  <dc:description/>
  <dc:language>en-US</dc:language>
  <cp:lastModifiedBy>Admin</cp:lastModifiedBy>
  <dcterms:modified xsi:type="dcterms:W3CDTF">2008-07-31T00:03:52Z</dcterms:modified>
  <cp:revision>1</cp:revision>
  <dc:subject/>
  <dc:title>Slide 1</dc:title>
</cp:coreProperties>
</file>