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726-1EEF-48DB-845D-EAB81D83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B7E-B7EC-4DAC-9FC0-003641A3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EE1-8FFF-469B-B8D4-76C5F68B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911-6FAA-418E-9A76-0284757C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EEF-48DB-4408-9E00-D14B2971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886-0141-4936-AE51-00143AE8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ED5-141F-409F-9BAE-AFE025FC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507A-89B2-4FA4-8EB8-6EEE2592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AE18-0B48-419E-80F5-147EC7AC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4FC-F604-468F-9871-78369BC9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F5D-40BC-4D54-AEDE-D06EA77C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095-2FAD-49A8-8FB7-C505E336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36D6-676E-4DD3-BF3D-466DA5B3A6C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 mais o SENHOR a Jó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na-te, pois, de excelência e alteza; e veste-te de majestade e de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rrama os furores da tua ira, e atenta para todo o soberbo, e abate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 para todo o soberbo, e humilha-o, e atropela os ímpios n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onde-os juntamente no pó; ata-lhes os rostos em ocul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ambém eu a ti confessarei que a tua mão direita te poderá salv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emplas agora o beemote, que eu fiz contigo, que come a erva como o bo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 sua força está nos seus lombos, e o seu poder nos músculos do seu ven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quer, move a sua cauda como cedro; os nervos das suas coxas estão entretec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ossos são como tubos de bronze; a sua ossada é como barras de fe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é obra-prima dos caminhos de Deus; o que o fez o proveu da sua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o contender contra o Todo-Poderoso é sabedoria? Quem argüi assim a Deus, responda por 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 os montes lhe produzem pastos, onde todos os animais do campo folg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ta-se debaixo das árvores sombrias, no esconderijo das canas e da l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árvores sombrias o cobrem, com sua sombra; os salgueiros do ribeiro o cerc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um rio transborda, e ele não se apressa, confiando ainda que o Jordão se levante até à s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dê-lo-iam porventura caçar à vista de seus olhos, ou com laços lhe furar o nariz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ó respondeu a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sou vil; que te responderia eu? A minha mão ponho à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vez tenho falado, e não replicarei; ou ainda duas vezes, porém não prossegu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respondeu a Jó de um redemoinh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inge agora os teus lombos como homem; eu te perguntarei, e tu me explic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também tornarás tu vão o meu juízo, ou tu me condenarás, para te justifica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tens braço como Deus, ou podes trovejar com voz como ele o faz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2:28Z</dcterms:created>
  <dc:creator>Admin</dc:creator>
  <dc:description/>
  <dc:language>en-US</dc:language>
  <cp:lastModifiedBy>Admin</cp:lastModifiedBy>
  <dcterms:modified xsi:type="dcterms:W3CDTF">2008-07-31T00:02:28Z</dcterms:modified>
  <cp:revision>1</cp:revision>
  <dc:subject/>
  <dc:title>Slide 1</dc:title>
</cp:coreProperties>
</file>