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4F2-1591-48BC-A957-931F4D85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7A7-503F-493C-B327-3F5F8AF9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44B-FE8A-4352-91D4-E91A8779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A1B-B8CA-4BBD-B537-E54E3008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BAB-09B2-4702-B726-40986885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BE4-4521-49CC-8C11-BE00627D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BEF-09A3-489D-8AA9-06DABFA7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1BF-504C-406D-9AAA-71C8FF38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EFB-A707-4F0D-A272-38400270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4FF-64A0-4EC7-84E0-0BFCD181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3F7-149E-4D33-B8C7-8C83C208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174-2882-4FBE-A2FD-EB8AD459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DFEC-B250-4CF3-B9D5-F009670326D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VÉRBIOS de Salomão, filho de Davi, rei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se os pecadores procuram te atrair com agrados, não acei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isserem: Vem conosco a tocaias de sangue; embosquemos o inocente sem moti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guemo-los vivos, como a sepultura; e inteiros, como os que descem à cov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haremos toda sorte de bens preciosos; encheremos as nossas casas de despoj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a a tua sorte conosco; teremos todos uma só bols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não te ponhas a caminho com eles; desvia o teu pé das suas vere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seus pés correm para o mal, e se apressam a derramar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é inútil estender-se a rede ante os olhos de qualquer a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entanto estes armam ciladas contra o seu próprio sangue; e espreitam suas próprias v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ão assim as veredas de todo aquele que usa de cobiça: ela põe a perder a alma dos que a possu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se conhecer a sabedoria e a instrução; para se entenderem, as palavras da pru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bedoria clama lá fora; pelas ruas levanta a su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esquinas movimentadas ela brada; nas entradas das portas e nas cidades profere as suas palavra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, ó simples, amareis a simplicidade? E vós escarnecedores, desejareis o escárnio? E vós insensatos, odiareis o conhecime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tai para a minha repreensão; pois eis que vos derramarei abundantemente do meu espírito e vos farei saber as minh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tanto, porque eu clamei e recusastes; e estendi a minha mão e não houve quem desse aten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rejeitastes todo o meu conselho, e não quisestes a minha repreens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 minha parte eu me rirei na vossa perdição e zombarei, em vindo o vosso te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 o vosso temor como a assolação, e vindo a vossa perdição como uma tormenta, sobrevirá a vós aperto e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lamarão a mim, mas eu não responderei; de madrugada me buscarão, porém não me ach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diaram o conhecimento; e não preferiram o temor do SENHO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se receber a instrução do entendimento, a justiça, o juízo e a eqü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ceitaram o meu conselho, e desprezaram toda a minha repreen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comerão do fruto do seu caminho, e fartar-se-ão dos seus próprios conse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erro dos simples os matará, e o desvario dos insensatos os destru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me der ouvidos habitará em segurança, e estará livre do temor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dar aos simples, prudência, e aos moços, conhecimento e bom si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ábio ouvirá e crescerá em conhecimento, e o entendido adquirirá sábios conse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entender os provérbios e sua interpretação; as palavras dos sábios e as suas proposi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mor do SENHOR é o princípio do conhecimento; os loucos desprezam a sabedoria e a instru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meu, ouve a instrução de teu pai, e não deixes o ensinamento de tua mã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Provérbio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rão como diadema gracioso em tua cabeça, e colares ao teu pesc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58Z</dcterms:created>
  <dc:creator>Admin</dc:creator>
  <dc:description/>
  <dc:language>en-US</dc:language>
  <cp:lastModifiedBy>Admin</cp:lastModifiedBy>
  <dcterms:modified xsi:type="dcterms:W3CDTF">2008-07-31T00:20:58Z</dcterms:modified>
  <cp:revision>1</cp:revision>
  <dc:subject/>
  <dc:title>Slide 1</dc:title>
</cp:coreProperties>
</file>