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619C-B173-4543-AB00-8B981516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778-CB19-46FE-AE19-FB38A66A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44AE-30AF-481D-987C-11BA64D8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8BBF-F57E-4234-84D3-33344782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F39A-9246-4BA1-90EC-EAADBA5B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AA37-270A-407E-9DD9-B6A1E858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0CB5-4AD8-42CB-890B-37982304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6E4D-4EE1-42B7-9ECC-0E8C0F76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2118-EEC8-48F5-A805-E82F76BA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4FCC-964E-42B8-98B4-B8283508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816C-4736-4796-B1B2-DB32D392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3CF9-8526-4A3E-BB80-A8EC4B7B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F2B3-8C41-40DB-9F7D-8348DF6D9E8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, sim, porquanto andam enganando o meu povo, dizendo: Paz, não havendo paz; e quando um edifica uma parede, eis que outros a cobrem com argamassa não temperad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 aos que a cobrem com argamassa não temperada que ela cairá. Haverá uma grande pancada de chuva, e vós, ó pedras grandes de saraiva, caireis, e um vento tempestuoso a fend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eis que, caindo a parede, não vos dirão: Onde está a argamassa com que a cobrist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 DEUS: Fendê-la-ei no meu furor com vento tempestuoso, e chuva de inundar haverá na minha ira, e grandes pedras de saraiva na minha indignação, para a consum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rrubarei a parede que cobristes com argamassa não temperada, e darei com ela por terra, e o seu fundamento se descobrirá; assim cairá, e perecereis no meio dela, e sabereis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cumprirei o meu furor contra a parede, e contra os que a cobriram com argamassa não temperada; e vos direi: Já não há parede, nem existem os que a cobrira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profetas de Israel, que profetizam acerca de Jerusalém, e vêem para ela visão de paz, não havendo paz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, ó filho do homem, dirige o teu rosto contra as filhas do teu povo, que profetizam de seu coração, e profetiza contra el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: Assim diz o Senhor DEUS: Ai das que cosem almofadas para todas as axilas, e que fazem véus para as cabeças de pessoas de toda a estatura, para caçarem as almas! Porventura caçareis as almas do meu povo, e as almas guardareis em vida para vó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ós me profanastes entre o meu povo, por punhados de cevada, e por pedaços de pão, para matardes as almas que não haviam de morrer, e para guardardes em vida as almas que não haviam de viver, mentindo assim ao meu povo que escuta a menti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profetiza contra os profetas de Israel que profetizam, e dize aos que só profetizam de seu coração: Ouvi a palavra do SENH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 DEUS: Eis aí vou eu contra as vossas almofadas, com que vós ali caçais as almas fazendo-as voar, e as arrancarei de vossos braços, e soltarei as almas, sim, as almas que vós caçais fazendo-as vo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asgarei os vossos véus, e livrarei o meu povo das vossas mãos, e nunca mais estará em vossas mãos para ser caçado; e sabereis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sto que entristecestes o coração do justo com falsidade, não o havendo eu entristecido; e fortalecestes as mãos do ímpio, para que não se desviasse do seu mau caminho, para conservá-lo em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não vereis mais vaidade, nem mais fareis adivinhações; mas livrarei o meu povo da vossa mão, e sabereis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: Ai dos profetas loucos, que seguem o seu próprio espírito e que nada viram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teus profetas, ó Israel, são como raposas nos dese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ubistes às brechas, nem reparastes o muro para a casa de Israel, para estardes firmes na peleja no di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ram vaidade e adivinhação mentirosa os que dizem: O SENHOR disse; quando o SENHOR não os enviou; e fazem que se espere o cumprimento d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tivestes visão de vaidade, e não falastes adivinhação mentirosa, quando dissestes: O SENHOR diz, sendo que eu tal não fale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 DEUS: Como tendes falado vaidade, e visto a mentira, portanto eis que eu sou contra vós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inha mão será contra os profetas que vêem vaidade e que adivinham mentira; não estarão na congregação do meu povo, nem nos registros da casa de Israel se escreverão, nem entrarão na terra de Israel; e sabereis que eu sou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4:16Z</dcterms:created>
  <dc:creator>Admin</dc:creator>
  <dc:description/>
  <dc:language>en-US</dc:language>
  <cp:lastModifiedBy>Admin</cp:lastModifiedBy>
  <dcterms:modified xsi:type="dcterms:W3CDTF">2008-07-30T23:34:16Z</dcterms:modified>
  <cp:revision>1</cp:revision>
  <dc:subject/>
  <dc:title>Slide 1</dc:title>
</cp:coreProperties>
</file>