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AB24-7E8A-48FA-BFCC-992F53A3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01B6-9D8F-47DC-980B-0C18C067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C5BC-1B0E-4FC5-924C-5D627A27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7757-C20F-4183-BCD4-95D282CE2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CC0D-995C-43CE-B92C-491DA17C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2E2B-DA3B-4226-9088-58FC0E8F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5846-1998-49F4-845A-5C7AE229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E033-FA82-4DE5-A4E6-46F39D00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D1C6-17EC-4C9C-9459-A71606A8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0B68-DD62-45EC-810E-75E66F86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8401-6457-4224-9D89-B3D03CB0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6FF3-FD36-465D-828C-ED5771E7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C107-ADC7-456A-9731-7BCD781158D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DESERTO e o lugar solitário se alegrarão disto; e o ermo exultará e florescerá como a ro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resgatados do SENHOR voltarão; e virão a Sião com júbilo, e alegria eterna haverá sobre as suas cabeças; gozo e alegria alcançarão, e deles fugirá a tristeza e o gem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undantemente florescerá, e também jubilará de alegria e cantará; a glória do Líbano se lhe deu, a excelência do Carmelo e Sarom; eles verão a glória do SENHOR, o esplendor do n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rtalecei as mãos fracas, e firmai os joelhos trem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i aos turbados de coração: Sede fortes, não temais; eis que o vosso Deus virá com vingança, com recompensa de Deus; ele virá, e vos salv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olhos dos cegos serão abertos, e os ouvidos dos surdos se abri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coxos saltarão como cervos, e a língua dos mudos cantará; porque águas arrebentarão no deserto e ribeiros no er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erra seca se tornará em lagos, e a terra sedenta em mananciais de águas; e nas habitações em que jaziam os chacais haverá erva com canas e junc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i haverá uma estrada, um caminho, que se chamará o caminho santo; o imundo não passará por ele, mas será para aqueles; os caminhantes, até mesmo os loucos, não err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i não haverá leão, nem animal feroz subirá a ele, nem se achará nele; porém só os remidos andarão por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5:51Z</dcterms:created>
  <dc:creator>Admin</dc:creator>
  <dc:description/>
  <dc:language>en-US</dc:language>
  <cp:lastModifiedBy>Admin</cp:lastModifiedBy>
  <dcterms:modified xsi:type="dcterms:W3CDTF">2008-07-30T23:55:51Z</dcterms:modified>
  <cp:revision>1</cp:revision>
  <dc:subject/>
  <dc:title>Slide 1</dc:title>
</cp:coreProperties>
</file>