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EFD-5F5B-4044-9951-13989B14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A54-6BB8-419F-A36D-CBDB797E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3E9-383A-4E3A-8BA6-E8B5BCE2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1EC-EB78-4462-A530-355A611A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F48-BAB5-4873-BB63-149739E9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822-5664-4922-925D-A6B91591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0C8-3F22-439A-9645-EBED95AD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73B-9FAF-489B-9F8D-1DE4C9DF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172-8A35-468F-B0DD-2F7B3D94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6C4-EBB6-4790-AC05-33B64478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661-5580-402C-B24B-61F6EE1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E01-FCAB-4A8C-97C4-A8CC88C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8BD6-3596-4DAD-8D01-9D6379B5AD0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ao SENHOR um cântico novo, cantai ao SENHOR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i entre os gentios que o SENHOR reina. O mundo também se firmará para que se não abale; julgará os povos com re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em-se os céus, e regozije-se a terra; brame o mar e a sua plenitu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e-se o campo com tudo o que há nele; então se regozijarão todas as árvores do bosq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 a face do SENHOR, porque vem, porque vem a julgar a terra; julgará o mundo com justiça e os povos com a su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ao SENHOR, bendizei o seu nome; anunciai a sua salvação de dia em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unciai entre as nações a sua glória; entre todos os povos as suas marav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grande é o SENHOR, e digno de louvor, mais temível do que todos 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os deuses dos povos são ídolos, mas o SENHOR fez 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lória e majestade estão ante a sua face, força e formosura no seu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i ao SENHOR, ó famílias dos povos, dai ao SENHOR glória e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i ao SENHOR a glória devida ao seu nome; trazei oferenda, e entrai nos seus át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dorai ao SENHOR na beleza da santidade; tremei diante del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06Z</dcterms:created>
  <dc:creator>Admin</dc:creator>
  <dc:description/>
  <dc:language>en-US</dc:language>
  <cp:lastModifiedBy>Admin</cp:lastModifiedBy>
  <dcterms:modified xsi:type="dcterms:W3CDTF">2008-07-31T00:27:06Z</dcterms:modified>
  <cp:revision>1</cp:revision>
  <dc:subject/>
  <dc:title>Slide 1</dc:title>
</cp:coreProperties>
</file>