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34B-EAD9-4DE6-BF74-240F33FC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E54-7699-446E-A063-94B61724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D06-2255-4655-854D-5F215FB7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E04-DAB0-4B6A-A6D8-E7D14FE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779-39CB-46A7-8C8C-0564C9CF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3A9-547E-40FF-9E67-5645969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2A-19BE-4501-857D-E82CC48B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C70-BB6C-4AB0-AD93-3E0E7A67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B47-2E74-46EB-9C44-3CD87E0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B1D-088A-4DCC-A37F-5B40FDB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B28-17BC-4EC4-8AE0-AACDA1C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C07-47D1-4F3E-8030-0C9C61D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090-BA11-4AB7-84A7-97A79841A2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e, ó Jacó, servo meu, e tu, ó Israel, a quem escolh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forma um deus, e funde uma imagem de escultura, que é de nenhum présti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s os seus companheiros ficarão confundidos, pois os mesmos artífices não passam de homens; ajuntem-se todos, e levantem-se; assombrar-se-ão, e serão juntamente con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erreiro, com a tenaz, trabalha nas brasas, e o forma com martelos, e o lavra com a força do seu braço; ele tem fome e a sua força enfraquece, e não bebe água, e desfal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rpinteiro estende a régua, desenha-o com uma linha, aplaina-o com a plaina, e traça-o com o compasso; e o faz à semelhança de um homem, segundo a forma de um homem, para ficar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orta para si cedros, toma, também, o cipreste e o carvalho; assim escolhe dentre as árvores do bosque; planta um olmeiro, e a chuva o faz cres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rve ao homem para queimar; e toma deles, e se aquenta, e os acende, e coze o pão; também faz um deus, e se prostra diante dele; também fabrica uma imagem de escultura, e ajoelha-se diante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tade dele queima no fogo, com a outra metade prepara a carne para comer, assa-a e farta-se dela; também se aquenta, e diz: Ora já me aquentei, já vi 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o resto faz um deus, uma imagem de escultura; ajoelha-se diante dela, e se inclina, e roga-lhe, e diz: Livra-me, porquanto tu és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sabem, nem entendem; porque tapou os olhos para que não vejam, e os seus corações para que não enten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deles cai em si, e já não têm conhecimento nem entendimento para dizer: Metade queimei no fogo, e cozi pão sobre as suas brasas, assei sobre elas carne, e a comi; e faria eu do resto uma abominação? Ajoelhar-me-ei ao que saiu de uma árvo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que te criou e te formou desde o ventre, e que te ajudará: Não temas, ó Jacó, servo meu, e tu, Jesurum, a quem escolh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scenta-se de cinza; o seu coração enganado o desviou, de maneira que já não pode livrar a sua alma, nem dizer: Porventura não há uma mentira na minha mão direi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stas coisas, ó Jacó, e Israel, porquanto és meu servo; eu te formei, meu servo és, ó Israel, não me esquecerei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guei as tuas transgressões como a névoa, e os teus pecados como a nuvem; torna-te para mim, porque eu te re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legres, vós, ó céus, porque o SENHOR o fez; exultai vós, as partes mais baixas da terra; vós, montes, retumbai com júbilo; também vós, bosques, e todas as suas árvores; porque o SENHOR remiu a Jacó, e glorificou-s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teu redentor, e que te formou desde o ventre: Eu sou o SENHOR que faço tudo, que sozinho estendo os céus, e espraio a terra por mim mes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sfaço os sinais dos inventores de mentiras, e enlouqueço os adivinhos; que faço tornar atrás os sábios, e converto em loucura o conhecimento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onfirmo a palavra do seu servo, e cumpro o conselho dos seus mensageiros; que digo a Jerusalém: Tu serás habitada, e às cidades de Judá: Sereis edificadas, e eu levantarei as suas ruí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go à profundeza: Seca-te, e eu secarei os teus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go de Ciro: É meu pastor, e cumprirá tudo o que me apraz, dizendo também a Jerusalém: Tu serás edificada; e ao templo: Tu serás fu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rramarei água sobre o sedento, e rios sobre a terra seca; derramarei o meu Espírito sobre a tua posteridade, e a minha bênção sobre os teus descen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rotarão como a erva, como salgueiros junto aos ribeiros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dirá: Eu sou do SENHOR; e aquele se chamará do nome de Jacó; e aquele outro escreverá com a sua mão ao SENHOR, e por sobrenome tomará o nom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Rei de Israel, e seu Redentor, o SENHOR dos Exércitos: Eu sou o primeiro, e eu sou o último, e fora de mim não há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proclamará como eu, e anunciará isto, e o porá em ordem perante mim, desde que ordenei um povo eterno? E anuncie-lhes as coisas vindouras, e as que ainda hão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assombreis, nem temais; porventura desde então não vo-lo fiz ouvir, e não vo-lo anunciei? Porque vós sois as minhas testemunhas. Porventura há outro Deus fora de mim? Não, não há outra Rocha que eu conh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artífices de imagens de escultura são vaidade, e as suas coisas mais desejáveis são de nenhum préstimo; e suas próprias testemunhas, nada vêem nem entendem para que sejam envergon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22Z</dcterms:created>
  <dc:creator>Admin</dc:creator>
  <dc:description/>
  <dc:language>en-US</dc:language>
  <cp:lastModifiedBy>Admin</cp:lastModifiedBy>
  <dcterms:modified xsi:type="dcterms:W3CDTF">2008-07-30T23:56:22Z</dcterms:modified>
  <cp:revision>1</cp:revision>
  <dc:subject/>
  <dc:title>Slide 1</dc:title>
</cp:coreProperties>
</file>