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888-3F02-4E95-8FBF-307BED54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8CC-43DC-4809-BFE9-89478C38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6FB-7137-4950-8B75-A0E9FFEC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31F-63EC-4349-86FA-D828960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4CC-800D-440A-8EA0-5152F70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374-6B5A-4C16-8331-EB8C3BF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D2B-C7F3-444C-A1D8-4D10EC4B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A52-CED5-44FB-8EDC-2F5EBA4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AA4-1495-4CCB-AA50-81A7768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7E3-808E-4568-8FDA-F73CE77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134-D0FD-408D-BEA8-41F2C07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085-3F09-4DBA-B13F-08F1878C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398-B6CD-47F4-B9AA-8897453E86A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eosafá dormiu com seus pais, e foi sepultado junto a eles na cidade de Davi; e Jeorão, seu filh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s edomitas se revoltaram contra o mando de Judá até ao dia de hoje; então no mesmo tempo Libna se revoltou contra o seu mando; porque deixara a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ambém fez altos nos montes de Judá; e fez com que se corrompessem os moradores de Jerusalém, e até a Judá impeliu a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veio um escrito da parte de Elias, o profeta, que dizia: Assim diz o SENHOR Deus de Davi teu pai: Porquanto não andaste nos caminhos de Jeosafá, teu pai, e nos caminhos de Asa, rei de Ju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ndaste no caminho dos reis de Israel, e fizeste prostituir a Judá e aos moradores de Jerusalém, segundo a prostituição da casa de Acabe, e também mataste a teus irmãos da casa de teu pai, melhores do que t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ferirá com um grande flagelo ao teu povo, aos teus filhos, às tuas mulheres e a todas as tuas faz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ambém terás grande enfermidade por causa de uma doença em tuas entranhas, até que elas saiam, de dia em dia, por caus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ou, pois, o SENHOR, contra Jeorão o espírito dos filisteus e dos árabes, que estavam do lado dos etío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ubiram a Judá, e deram sobre ela, e levaram todos os bens que se achou na casa do rei, como também a seus filhos e a suas mulheres; de modo que não lhe deixaram filho algum, senão a Joacaz, o mais moço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tudo isto o SENHOR o feriu nas suas entranhas com uma enfermidade incur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pois de muito tempo, ao fim de dois anos, saíram-lhe as entranhas por causa da doença; e morreu daquela grave enfermidade; e o seu povo não lhe queimou aroma como queimara a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irmãos, filhos de Jeosafá: Azarias, Jeiel, Zacarias, Asarias, Micael e Sefatias; todos estes foram filhos de Jeosafá,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 da idade de trinta e dois anos quando começou a reinar, e reinou oito anos em Jerusalém; e foi sem deixar de si saudades; e sepultaram-no na cidade de Davi, porém não nos sepulcros do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pai lhes deu muitos presentes de prata, de ouro e de coisas preciosíssimas, juntamente com cidades fortificadas em Judá; porém, o reino, deu a Jeorão, porquanto era o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Jeorão ao reino de seu pai, e havendo-se fortificado, matou a todos os seus irmãos à espada, como também a alguns dos príncip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e dois anos era Jeorão, quando começou a reinar; e reinou oito anos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no caminho dos reis de Israel, como fazia a casa de Acabe; porque tinha a filha de Acabe por mulher; e fazia o que era mau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SENHOR não quis destruir a casa de Davi, em atenção à aliança que tinha feito com Davi; e porque também tinha falado que lhe daria por todos os dias uma lâmpada, a ele e a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se revoltaram os edomitas contra o mando de Judá, e constituíram para si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Jeorão passou adiante com os seus príncipes, e todos os carros com ele; levantou-se de noite, e feriu aos edomeus, que o tinham cercado, como também aos capitães dos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59Z</dcterms:created>
  <dc:creator>Admin</dc:creator>
  <dc:description/>
  <dc:language>en-US</dc:language>
  <cp:lastModifiedBy>Admin</cp:lastModifiedBy>
  <dcterms:modified xsi:type="dcterms:W3CDTF">2008-07-30T23:49:59Z</dcterms:modified>
  <cp:revision>1</cp:revision>
  <dc:subject/>
  <dc:title>Slide 1</dc:title>
</cp:coreProperties>
</file>