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E30-7C00-4797-9326-386A4677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9F5-336E-4D5F-850B-C6E56BD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39D-4E96-44CA-97C9-BBC72006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979-732C-4BD4-9AA3-371F2C36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C90-267E-42D5-890A-86A79E7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89F-EFEC-43C8-A553-D9C7A86B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F56-3FA1-4042-812D-73B1E0E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475-7927-4575-845C-3333347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299-C9EE-4009-BB3C-64CE158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EA2-55E3-430A-AEC4-E6E0BDC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0B3-5DE7-4CDE-B2AC-C189031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695-71D0-49A7-9EDF-38EC959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983-D4A3-46A4-A03A-EBE7FC1DB3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e Nínive. Livro da visão de Naum, o elcos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eles se entrelacem como os espinhos, e se saturem de vinho como bêbados, serão inteiramente consumidos como palh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i saiu um que maquinou o mal contra o SENHOR, um conselheiro v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mais seguros que estejam, e por mais numerosos que sejam, ainda assim serão exterminados, e ele passará; eu te afligi, mas não te afligi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quebrarei o seu jugo de sobre ti, e romperei os teus l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ti, porém, o SENHOR deu ordem que não haja mais linhagem do teu nome; da casa dos teus deuses exterminarei as imagens de escultura e de fundição; ali farei o teu sepulcro, porque és v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sobre os montes os pés do que traz as boas novas, do que anuncia a paz! Celebra as tuas festas, ó Judá, cumpre os teus votos, porque o ímpio não tornará mais a passar por ti; ele é inteiramente extermi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Deus zeloso e vingador; o SENHOR é vingador e cheio de furor; o SENHOR toma vingança contra os seus adversários, e guarda a ira contra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tardio em irar-se, mas grande em poder, e ao culpado não tem por inocente; o SENHOR tem o seu caminho na tormenta e na tempestade, e as nuvens são o pó dos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repreende ao mar, e o faz secar, e esgota todos os rios; desfalecem Basã e o Carmelo, e a flor do Líbano murc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tremem perante ele, e os outeiros se derretem; e a terra se levanta na sua presença; e o mundo, e todos os que nele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parará diante do seu furor, e quem persistirá diante do ardor da sua ira? A sua cólera se derramou como um fogo, e as rochas foram por ele derrub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bom, ele serve de fortaleza no dia da angústia, e conhece os que confi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uma inundação transbordante acabará de uma vez com o seu lugar; e as trevas perseguirão os s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Naum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ensais vós contra o SENHOR? Ele mesmo vos consumirá de todo; não se levantará por duas vezes 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35Z</dcterms:created>
  <dc:creator>Admin</dc:creator>
  <dc:description/>
  <dc:language>en-US</dc:language>
  <cp:lastModifiedBy>Admin</cp:lastModifiedBy>
  <dcterms:modified xsi:type="dcterms:W3CDTF">2008-07-31T00:16:35Z</dcterms:modified>
  <cp:revision>1</cp:revision>
  <dc:subject/>
  <dc:title>Slide 1</dc:title>
</cp:coreProperties>
</file>