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F811-3B8B-4EA7-8696-08B668981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16FC-243D-4F68-9DDC-572B0F9C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C4BA-2AB9-4831-96F6-4CB812440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FA40-2FDC-4637-B03A-8DD945414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5E68-E480-40FB-B3CD-57051203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6409-173E-4CE2-83B8-E46E21C5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9EEF-007B-45F2-B99B-D8FE6DE0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677A-66EA-400A-85F7-7D6DEF9E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BC80-6EF5-4ECB-B614-FE8FCB27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1DD4-924E-42A6-8911-398F40D6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325B-5AF8-4AAF-BEE4-C26CD300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8948-E83E-4BB8-A903-753FE4D0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42E5-0C5F-4745-8492-E064036109D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isto manifestou-se Jesus outra vez aos discípulos junto do mar de Tiberíades; e manifestou-se assim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s Jesus: Trazei dos peixes que agora apanhas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imão Pedro subiu e puxou a rede para terra, cheia de cento e cinqüenta e três grandes peixes e, sendo tantos, não se rompeu a re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s Jesus: Vinde, comei. E nenhum dos discípulos ousava perguntar-lhe: Quem és tu? sabendo que era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egou, pois, Jesus, e tomou o pão, e deu-lhes e, semelhantemente o peix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á era a terceira vez que Jesus se manifestava aos seus discípulos, depois de ter ressuscitado dentre os mo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pois de terem jantado, disse Jesus a Simão Pedro: Simão, filho de Jonas, amas-me mais do que estes? E ele respondeu: Sim, Senhor, tu sabes que te amo. Disse-lhe: Apascenta os meus cordei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rnou a dizer-lhe segunda vez: Simão, filho de Jonas, amas-me? Disse-lhe: Sim, Senhor, tu sabes que te amo. Disse-lhe: Apascenta as minhas ove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terceira vez: Simão, filho de Jonas, amas-me? Simão entristeceu-se por lhe ter dito terceira vez: Amas-me? E disse-lhe: SENHOR, tu sabes tudo; tu sabes que eu te amo. Jesus disse-lhe: Apascenta as minhas ove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verdade, na verdade te digo que, quando eras mais moço, te cingias a ti mesmo, e andavas por onde querias; mas, quando já fores velho, estenderás as tuas mãos, e outro te cingirá, e te levará para onde tu não quei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isto, significando com que morte havia ele de glorificar a Deus. E, dito isto, disse-lhe: Segue-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vam juntos Simão Pedro, e Tomé, chamado Dídimo, e Natanael, que era de Caná da Galiléia, os filhos de Zebedeu, e outros dois dos seus discípu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dro, voltando-se, viu que o seguia aquele discípulo a quem Jesus amava, e que na ceia se recostara também sobre o seu peito, e que dissera: Senhor, quem é que te há de trai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 Pedro a este, disse a Jesus: Senhor, e deste que será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Jesus: Se eu quero que ele fique até que eu venha, que te importa a ti? Segue-me t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vulgou-se, pois, entre os irmãos este dito, que aquele discípulo não havia de morrer. Jesus, porém, não lhe disse que não morreria, mas: Se eu quero que ele fique até que eu venha, que te importa a t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é o discípulo que testifica destas coisas e as escreveu; e sabemos que o seu testemunho é verdad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á, porém, ainda muitas outras coisas que Jesus fez; e se cada uma das quais fosse escrita, cuido que nem ainda o mundo todo poderia conter os livros que se escrevessem.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s Simão Pedro: Vou pescar. Dizem-lhe eles: Também nós vamos contigo. Foram, e subiram logo para o barco, e naquela noite nada apanh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ndo já manhã, Jesus se apresentou na praia, mas os discípulos não conheceram que era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s, pois, Jesus: Filhos, tendes alguma coisa de comer? Responderam-lhe: N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s disse: Lançai a rede para o lado direito do barco, e achareis. Lançaram-na, pois, e já não a podiam tirar, pela multidão dos peix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quele discípulo, a quem Jesus amava, disse a Pedro: É o SENHOR. E, quando Simão Pedro ouviu que era o Senhor, cingiu-se com a túnica (porque estava nu) e lançou-se ao 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outros discípulos foram com o barco (porque não estavam distantes da terra senão quase duzentos côvados), levando a rede cheia de peix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go que desceram para terra, viram ali brasas, e um peixe posto em cima, e p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4:29Z</dcterms:created>
  <dc:creator>Admin</dc:creator>
  <dc:description/>
  <dc:language>en-US</dc:language>
  <cp:lastModifiedBy>Admin</cp:lastModifiedBy>
  <dcterms:modified xsi:type="dcterms:W3CDTF">2008-07-31T00:04:30Z</dcterms:modified>
  <cp:revision>1</cp:revision>
  <dc:subject/>
  <dc:title>Slide 1</dc:title>
</cp:coreProperties>
</file>