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CCB-C2D1-4265-AFE6-9BE49123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854-0ECA-4F50-BEBD-740B1908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8A0-1796-42D8-AF0C-8F99F41F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A32-ADC3-4CD0-ABE3-A85B5B30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C47-871D-4E3A-9FC8-F5B513F7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9F5-558F-4AA3-991C-C6744D64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C92-D1D6-4218-972E-F0DA43C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949-A2AB-47E6-834E-298B96E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C1D-4A04-4F1D-900A-C13FD1A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E91-35D0-4041-829E-F61ACB76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F00-1417-4BB3-8E12-14F8BF8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1C4-92D9-4C5C-9559-CD14CB9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0BFD-D7EE-47E3-810B-4D0081FCF9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Elifaz o temanita, e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ugido do leão, e a voz do leão feroz, e os dentes dos leõezinhos se queb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ece o leão velho, porque não tem presa; e os filhos da leoa andam dispe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isa me foi trazida em segredo; e os meus ouvidos perceberam um sussurr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pensamentos vindos de visões da noite, quando cai sobre os homens o sono profu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vieram-me o espanto e o tremor, e todos os meus ossos estrem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espírito passou por diante de mim; fez-me arrepiar os cabelos da minh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ou ele, porém não conheci a sua feição; um vulto estava diante dos meus olhos; houve silêncio, e ouvi uma voz que dizi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ia porventura o homem mais justo do que Deus? Seria porventura o homem mais puro do que o seu Criad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não confia nos seus servos e aos seus anjos atribui louc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enos àqueles que habitam em casas de lodo, cujo fundamento está no pó, e são esmagados como a traç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intentarmos falar-te, enfadar-te-ás? Mas quem poderia conter as palav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 manhã até à tarde são despedaçados; e eternamente perecem sem que disso se faça c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passa com eles a sua excelência? Morrem, mas sem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nsinaste a muitos, e tens fortalecido as mãos fra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palavras firmaram os que tropeçavam e os joelhos desfalecentes tens fortal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que se trata de ti, te enfadas; e tocando-te a ti, te perturb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é o teu temor de Deus a tua confiança, e a tua esperança a integridade dos teus camin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agora qual é o inocente que jamais pereceu? E onde foram os sinceros destruí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eu tenho visto, os que lavram iniqüidade, e semeiam mal, segam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hálito de Deus perecem; e com o sopro da sua ira se cons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28Z</dcterms:created>
  <dc:creator>Admin</dc:creator>
  <dc:description/>
  <dc:language>en-US</dc:language>
  <cp:lastModifiedBy>Admin</cp:lastModifiedBy>
  <dcterms:modified xsi:type="dcterms:W3CDTF">2008-07-31T00:00:29Z</dcterms:modified>
  <cp:revision>1</cp:revision>
  <dc:subject/>
  <dc:title>Slide 1</dc:title>
</cp:coreProperties>
</file>