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501-95E0-4CCE-9286-9A10D94B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21F-6AA5-4B3E-9669-B8878597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FEF-B8E3-499E-8518-209A3603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E59-3033-44E6-9EFE-22551560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1BA-F8A4-4E31-84D4-2C8149AA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583-358C-486B-A99A-DCE3112F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300-6584-43D7-8578-56CD2667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6B4-E52E-4E42-B8DB-0D95B910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972-7FCC-4702-8E51-A7DE20FF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1D7-6041-4F4D-A243-B1214A27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8B5-4338-41B0-8311-5D8E956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354-45B7-4BBD-9623-0089CE8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B76-5E56-4C50-AF6D-35732B1ECFD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 assentares a comer com um governador, atenta bem para o que é posto diante de t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movas os limites antigos nem entres nos campos dos órfã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u redentor é poderoso; e pleiteará a causa deles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lica o teu coração à instrução e os teus ouvidos às palavras do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tires a disciplina da criança; pois se a fustigares com a vara, nem por iss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a fustigarás com a vara, e livrarás a sua alma d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se o teu coração for sábio, alegrar-se-á o meu coração, sim, o meu próp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ultarão os meus rins, quando os teus lábios falarem coisas r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coração não inveje os pecadores; antes permanece no temor do SENHOR tod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ertamente acabará bem; não será malograda a tua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tu, filho meu, e sê sábio, e dirige no caminho o t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és homem de grande apetite, põe uma faca à tua garga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tejas entre os beberrões de vinho, nem entre os comilões de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beberrão e o comilão acabarão na pobreza; e a sonolência os faz vestir-se de tra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teu pai, que te gerou, e não desprezes tua mãe, quando vier a envelh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pra a verdade, e não a vendas; e também a sabedoria, a instrução e o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mente se regozijará o pai do justo, e o que gerar um sábio, se alegrará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em-se teu pai e tua mãe, e regozije-se a que te ge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me, filho meu, o teu coração, e os teus olhos observem os m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va profunda é a prostituta, e poço estreito a estr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la, como um salteador, se põe à espreita, e multiplica entre os homens os iníqu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m são os ais? Para quem os pesares? Para quem as pelejas? Para quem as queixas? Para quem as feridas sem causa? E para quem os olhos verme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bices as suas iguarias porque são comidas engan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s que se demoram perto do vinho, para os que andam buscando vinho mistu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lhes para o vinho quando se mostra vermelho, quando resplandece no copo e se escoa suav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fim, picará como a cobra, e como o basilisco mor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olhos olharão para as mulheres estranhas, e o teu coração falará pervers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s como o que se deita no meio do mar, e como o que jaz no topo do mas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: Espancaram-me e não me doeu; bateram-me e nem senti; quando despertarei? aí então beberei outra v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fatigues para enriqueceres; e não apliques nisso a tu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fixarás os teus olhos naquilo que não é nada? porque certamente criará asas e voará ao céu como a ág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as o pão daquele que tem o olhar maligno, nem cobices as suas iguarias gost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imaginou no seu coração, assim é ele. Come e bebe, te disse ele; porém o seu coração não está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mitarás o bocado que comeste, e perderás as tuas suave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les ao ouvido do tolo, porque desprezará a sabedoria das t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30Z</dcterms:created>
  <dc:creator>Admin</dc:creator>
  <dc:description/>
  <dc:language>en-US</dc:language>
  <cp:lastModifiedBy>Admin</cp:lastModifiedBy>
  <dcterms:modified xsi:type="dcterms:W3CDTF">2008-07-31T00:22:30Z</dcterms:modified>
  <cp:revision>1</cp:revision>
  <dc:subject/>
  <dc:title>Slide 1</dc:title>
</cp:coreProperties>
</file>