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395-3F38-484F-BD07-44536B82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EB8-A4B3-4985-A2D9-ED198C7D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1DD-77F6-459E-B5E6-B843B334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D38-47D4-4B98-B2B4-17C6BCAA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711-F931-4E68-B444-A2881DBB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435-49BF-48BD-A2B4-E177DD62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502-0C3A-47D3-ABD6-91E27BA6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744-D993-4872-9FA8-FFBA9BFD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6EF-B4D5-4D5C-B8DC-A2A43B41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96B-5215-47F3-861A-BCB1C247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CEE-30B5-4EB1-B309-0885B7B9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979-4A3B-4192-8D11-75490A44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9BE2-EECB-4E3D-AB90-4BD453ACB20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DERÁS tirar com anzol o leviatã, ou ligarás a sua língua com uma cor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há tão atrevido, que a despertá-lo se atreva; quem, pois, é aquele que ousa erguer-se diante de m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primeiro me deu, para que eu haja de retribuir-lhe? Pois o que está debaixo de todos os céus é m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calarei a respeito dos seus membros, nem da sua grande força, nem a graça da sua compos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descobrirá a face da sua roupa? Quem entrará na sua couraça dobra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abrirá as portas do seu rosto? Pois ao redor dos seus dentes está o ter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uas fortes escamas são o seu orgulho, cada uma fechada como com selo aper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à outra se chega tão perto, que nem o ar passa por entre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s às outras se ligam; tanto aderem entre si, que não se podem sepa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da um dos seus espirros faz resplandecer a luz, e os seus olhos são como as pálpebras da al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sua boca saem tochas; faíscas de fogo saltam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des pôr um anzol no seu nariz, ou com um gancho furar a sua queixa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s suas narinas procede fumaça, como de uma panela fervente, ou de uma grande cald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u hálito faz incender os carvões; e da sua boca sai ch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seu pescoço reside a força; diante dele até a tristeza salta de pr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úsculos da sua carne estão pegados entre si; cada um está firme nele, e nenhum se mo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u coração é firme como uma pedra e firme como a mó de baix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ndo-se ele, tremem os valentes; em razão dos seus abalos se purific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lhe tocar com a espada, essa não poderá penetrar, nem lança, dardo ou fle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considera o ferro como palha, e o cobre como pau pod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eta o não fará fugir; as pedras das fundas se lhe tornam em resto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edras atiradas são para ele como arestas, e ri-se do brandir da lan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multiplicará as súplicas para contigo, ou brandamente fala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baixo de si tem conchas pontiagudas; estende-se sobre coisas pontiagudas como na l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rofundezas faz ferver, como uma panela; torna o mar como uma vasilha de ungü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ós si deixa uma vereda luminosa; parece o abismo tornado em brancura de cã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terra não há coisa que se lhe possa comparar, pois foi feito para estar sem pa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vê tudo que é alto; é rei sobre todos os filhos da sober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 ele aliança contigo, ou o tomarás tu por servo para semp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rincarás com ele, como se fora um passarinho, ou o prenderás para tuas menin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companheiros farão dele um banquete, ou o repartirão entre os negocian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cherás a sua pele de ganchos, ou a sua cabeça com arpões de pescado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õe a tua mão sobre ele, lembra-te da peleja, e nunca mais tal intent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é vã a esperança de apanhá-lo; pois não será o homem derrubado só ao vê-l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2:32Z</dcterms:created>
  <dc:creator>Admin</dc:creator>
  <dc:description/>
  <dc:language>en-US</dc:language>
  <cp:lastModifiedBy>Admin</cp:lastModifiedBy>
  <dcterms:modified xsi:type="dcterms:W3CDTF">2008-07-31T00:02:32Z</dcterms:modified>
  <cp:revision>1</cp:revision>
  <dc:subject/>
  <dc:title>Slide 1</dc:title>
</cp:coreProperties>
</file>