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64C-D0E3-4EC6-97AF-A4E8C895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796-DA1A-41A1-B78F-8FEACBC1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946-E8BA-4F80-9E2E-C9D80DF5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5A2-4727-4F3B-9AA8-9F5B04EF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B7E-7B7B-4CD7-A407-B57E4CE8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F69-FD86-45AD-9E98-68979829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61B-EC9E-4994-929C-BF3F5F00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157-1B7A-4D4A-85BE-E719B8AD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631-2CF9-428C-B429-FE3632FA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3D7-7B73-490B-BFDB-DC8C86E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41E-5236-4797-A297-1AF02084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15E-E626-463E-977A-F6E7EAD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DCF-22B4-4438-95BD-1969DC6F033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oi Moisés, e falou estas palavras a todo o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-lhes Moisés, dizendo: Ao fim de cada sete anos, no tempo determinado do ano da remissão, na festa dos tabernácul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odo o Israel vier a comparecer perante o SENHOR teu Deus, no lugar que ele escolher, lerás esta lei diante de todo o Israel aos seus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 o povo, os homens e as mulheres, os meninos e os estrangeiros que estão dentro das tuas portas, para que ouçam e aprendam e temam ao SENHOR vosso Deus, e tenham cuidado de fazer todas as palavras desta l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seus filhos, que não a souberem, ouçam e aprendam a temer ao SENHOR vosso Deus, todos os dias que viverdes sobre a terra a qual ides, passando o Jordão, para a poss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Eis que os teus dias são chegados, para que morras; chama a Josué, e apresentai-vos na tenda da congregação, para que eu lhe dê ordens. Assim foram Moisés e Josué, e se apresentaram n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apareceu na tenda, na coluna de nuvem; e a coluna de nuvem estava sobre a porta d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Eis que dormirás com teus pais; e este povo se levantará, e prostituir-se-á indo após os deuses estranhos na terra, para cujo meio vai, e me deixará, e anulará a minha aliança que tenho feito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acenderá a minha ira naquele dia contra ele, e desampará-lo-ei, e esconderei o meu rosto dele, para que seja devorado; e tantos males e angústias o alcançarão, que dirá naquele dia: Não me alcançaram estes males, porque o meu Deus não está no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nderei, pois, totalmente o meu rosto naquele dia, por todo o mal que tiver feito, por se haverem tornado a outro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screvei-vos este cântico, e ensinai-o aos filhos de Israel; ponde-o na sua boca, para que este cântico me seja por testemunha contra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Da idade de cento e vinte anos sou eu hoje; já não poderei mais sair e entrar; além disto o SENHOR me disse: Não passarás 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ntroduzirei o meu povo na terra que jurei a seus pais, que mana leite e mel; e comerá, e se fartará, e se engordará; então se tornará a outros deuses, e os servirá, e me irritarão, e anularão a minh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o alcançarem muitos males e angústias, então este cântico responderá contra ele por testemunha, pois não será esquecido da boca de sua descendência; porquanto conheço a sua boa imaginação, o que ele faz hoje, antes que o introduza na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isés escreveu este cântico naquele dia, e o ensinou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 a Josué, filho de Num, e disse: Esforça-te e anima-te; porque tu introduzirás os filhos de Israel na terra que lhes jurei; e eu serei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cabando Moisés de escrever num livro, todas as palavras desta l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 ordem aos levitas, que levavam a arca da aliança do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este livro da lei, e ponde-o ao lado da arca da aliança do SENHOR vosso Deus, para que ali esteja por testemunha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nheço a tua rebelião e a tua dura cerviz; eis que, vivendo eu ainda hoje convosco, rebeldes fostes contra o SENHOR; e quanto mais depois da minha mor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i perante mim todos os anciãos das vossas tribos, e vossos oficiais, e aos seus ouvidos falarei estas palavras, e contra eles por testemunhas tomarei o céu 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ei que depois da minha morte certamente vos corrompereis, e vos desviareis do caminho que vos ordenei; então este mal vos alcançará nos últimos dias, quando fizerdes mal aos olhos do SENHOR, para o provocar à ira com a obra das voss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u Deus passará adiante de ti; ele destruirá estas nações de diante de ti, para que as possuas; Josué passará adiante de ti, como o SENHOR tem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falou as palavras deste cântico aos ouvidos de toda a congregação de Israel, até se acab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lhes fará como fez a Siom e a Ogue, reis dos amorreus, e à sua terra, os quais destr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o SENHOR vo-los der diante de vós, então com eles fareis conforme a todo o mandamento que vos tenho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ai-vos, e animai-vos; não temais, nem vos espanteis diante deles; porque o SENHOR teu Deus é o que vai contigo; não te deixará nem te desampa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Moisés a Josué, e lhe disse aos olhos de todo o Israel: Esforça-te e anima-te; porque com este povo entrarás na terra que o SENHOR jurou a teus pais lhes dar; e tu os farás herd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is, é aquele que vai adiante de ti; ele será contigo, não te deixará, nem te desamparará; não temas, nem te esp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screveu esta lei, e a deu aos sacerdotes, filhos de Levi, que levavam a arca da aliança do SENHOR, e a todos os anciã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9:01Z</dcterms:created>
  <dc:creator>Admin</dc:creator>
  <dc:description/>
  <dc:language>en-US</dc:language>
  <cp:lastModifiedBy>Admin</cp:lastModifiedBy>
  <dcterms:modified xsi:type="dcterms:W3CDTF">2008-07-30T23:29:01Z</dcterms:modified>
  <cp:revision>1</cp:revision>
  <dc:subject/>
  <dc:title>Slide 1</dc:title>
</cp:coreProperties>
</file>