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E6D-7A67-40CE-B6FF-F94FFCA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84C-5256-43F3-8D99-201903D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C6B-C264-4811-92CA-0C465867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142-AB53-4181-B908-6F00040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E4A-E0EB-4413-9DA5-2B6A26E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40B-0691-46E5-B1C1-6CF2340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AD4-55C3-4496-AB99-96FEF70F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382-743A-4893-8E8A-E2D105C5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8C5-0E44-49FD-9495-0DF114C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317-5F18-406E-B845-A2CE92FA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EC6-1B88-4B07-8CD5-1CA31F3F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8F2-FC57-4A70-9E0F-8966CE0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DE7-9DB4-40C3-B900-5E2940F740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quem me dera que foras como meu irmão, que mamou aos seios de minha mãe! Quando te encontrasse lá fora, beijar-te-ia, e não me desprezaria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um muro, e os meus seios são como as suas torres; então eu era aos seus olhos como aquela que ach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ve Salomão uma vinha em Baal-Hamom; entregou-a a uns guardas; e cada um lhe trazia pelo seu fruto mil peç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vinha, que me pertence, está diante de mim; as mil peças de prata são para ti, ó Salomão, e duzentas para os que guardam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u, que habitas nos jardins, os companheiros estão atentos para ouvir a tua voz; faze-me, pois, também ouvi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depressa, amado meu, e faze-te semelhante ao gamo ou ao filho dos veados sobre os montes dos aro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r-te-ia e te introduziria na casa de minha mãe, e tu me ensinarias; eu te daria a beber do vinho aromático e do mosto das minhas rom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mão esquerda esteja debaixo da minha cabeça, e a sua direita me abr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vos, ó filhas de Jerusalém, que não acordeis nem desperteis o meu amor, até que q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a que sobe do deserto, e vem encostada ao seu amado? Debaixo da macieira te despertei, ali esteve tua mãe com dores; ali esteve com dores aquela que te deu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-me como selo sobre o teu coração, como selo sobre o teu braço, porque o amor é forte como a morte, e duro como a sepultura o ciúme; as suas brasas são brasas de fogo, com veementes laba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uitas águas não podem apagar este amor, nem os rios afogá-lo; ainda que alguém desse todos os bens de sua casa pelo amor, certamente o despreza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s uma irmã pequena, que ainda não tem seios; que faremos a esta nossa irmã, no dia em que dela se fal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a for um muro, edificaremos sobre ela um palácio de prata; e, se ela for uma porta, cercá-la-emos com tábuas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53Z</dcterms:created>
  <dc:creator>Admin</dc:creator>
  <dc:description/>
  <dc:language>en-US</dc:language>
  <cp:lastModifiedBy>Admin</cp:lastModifiedBy>
  <dcterms:modified xsi:type="dcterms:W3CDTF">2008-07-30T23:25:53Z</dcterms:modified>
  <cp:revision>1</cp:revision>
  <dc:subject/>
  <dc:title>Slide 1</dc:title>
</cp:coreProperties>
</file>