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C2B-FD87-491A-BFD8-19A74B07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885-5BCD-49E7-83B9-E7241B62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EF0-A1C0-4E81-AB71-8A165389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CC2-A25D-469E-87C9-CB038834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358-979D-4EA8-B709-AC481117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98A-B75A-4026-86C5-BB516F16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B36-8C98-4DE8-8BE0-13C2D5E7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815-5284-4D36-87FB-64E34341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903-7008-47D7-967D-4C048294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464-46BB-4A96-A0CA-CDC8AED1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71A-8C2A-4627-B79D-E51738F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773-AC87-4525-BB4D-E7A8F907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A7FD-E99D-4756-ADAE-417DB1D469D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US poderoso, o SENHOR, falou e chamou a terra desde o nascimento do sol até ao seu oca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u é todo animal da selva, e o gado sobre milhares de monta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ço todas as aves dos montes; e minhas são todas as feras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u tivesse fome, não to diria, pois meu é o mundo e toda a sua plenitu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erei eu carne de touros? ou beberei sangue de bod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ferece a Deus sacrifício de louvor, e paga ao Altíssimo os teus vo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voca-me no dia da angústia; eu te livrarei, e tu me glorific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 ímpio diz Deus: Que fazes tu em recitar os meus estatutos, e em tomar a minha aliança na tua bo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odeias a correção, e lanças as minhas palavras para detrás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vês o ladrão, consentes com ele, e tens a tua parte com adúlte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ltas a tua boca para o mal, e a tua língua compõe o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Sião, a perfeição da formosura, resplandec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entas-te a falar contra teu irmão; falas mal contra o filho de t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coisas tens feito, e eu me calei; pensavas que era tal como tu, mas eu te argüirei, e as porei por ordem diante dos teus olh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pois isto, vós que vos esqueceis de Deus; para que eu vos não faça em pedaços, sem haver quem vos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oferece o sacrifício de louvor me glorificará; e àquele que bem ordena o seu caminho eu mostrarei a salvaçã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á o nosso Deus, e não se calará; um fogo se irá consumindo diante dele, e haverá grande tormenta ao redor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ará os céus lá do alto, e a terra, para julgar 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i-me os meus santos, aqueles que fizeram comigo uma aliança com sacrifí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éus anunciarão a sua justiça; pois Deus mesmo é o Juiz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povo meu, e eu falarei; ó Israel, e eu protestarei contra ti: Sou Deus, sou o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repreenderei pelos teus sacrifícios, ou holocaustos, que estão continuamente perant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ua casa não tirarei bezerro, nem bodes dos teus cur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33Z</dcterms:created>
  <dc:creator>Admin</dc:creator>
  <dc:description/>
  <dc:language>en-US</dc:language>
  <cp:lastModifiedBy>Admin</cp:lastModifiedBy>
  <dcterms:modified xsi:type="dcterms:W3CDTF">2008-07-31T00:25:33Z</dcterms:modified>
  <cp:revision>1</cp:revision>
  <dc:subject/>
  <dc:title>Slide 1</dc:title>
</cp:coreProperties>
</file>