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58F-3F58-4501-8C51-F2D0416D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151-D83D-42A2-BCE4-25FCD4EB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5B94-8050-44D3-8949-D13559D7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F7F7-9BDB-4B93-BBA7-955A3ACD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BD9-A1D2-4BE2-831C-E3E5DA85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097-DC40-4AEB-AC17-9E3351F4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1C6-CF38-49BE-AEAB-B97B604C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16B-C72B-41E1-807E-CA56D4E9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67A-77CB-43BB-958F-5822BB8B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D9C-C9D4-4F7F-B27E-A26DF5A9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4BD7-813F-4412-9920-772D8F09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FA7E-1D47-48CB-BC62-4E4362E7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A28F-E17D-4904-8549-85BCBB042F2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esta palavra, que levanto como uma lamentação sobre vós, ó cas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deiam na porta ao que os repreende, e abominam ao que fala sincerame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visto que pisais o pobre e dele exigis um tributo de trigo, edificastes casas de pedras lavradas, mas nelas não habitareis; vinhas desejáveis plantastes, mas não bebereis do seu vinh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sei que são muitas as vossas transgressões e graves os vossos pecados; afligis o justo, tomais resgate, e rejeitais os necessitados na por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o que for prudente guardará silêncio naquele tempo, porque o tempo será ma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uscai o bem, e não o mal, para que vivais; e assim o SENHOR, o Deus dos Exércitos, estará convosco, como diz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diai o mal, e amai o bem, e estabelecei na porta o juízo. Talvez o SENHOR Deus dos Exércitos tenha piedade do remanescente de Jos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diz o SENHOR, o Deus dos Exércitos, o Senhor: Em todas as ruas haverá pranto, e em todas as estradas dirão: Ai! Ai! E ao lavrador chamarão para choro, e para pranto os que souberem prante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m todas as vinhas haverá pranto; porque passarei pelo meio de ti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i daqueles que desejam o dia do SENHOR! Para que quereis vós este dia do SENHOR? Será de trevas e não de lu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É como se um homem fugisse de diante do leão, e se encontrasse com ele o urso; ou como se entrando numa casa, a sua mão encostasse à parede, e fosse mordido por uma cob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virgem de Israel caiu, e não mais tornará a levantar-se; desamparada está na sua terra, não há quem a lev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ão será, pois, o dia do SENHOR trevas e não luz, e escuridão, sem que haja resplend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deio, desprezo as vossas festas, e as vossas assembléias solenes não me exalarão bom chei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inda que me ofereçais holocaustos, ofertas de alimentos, não me agradarei delas; nem atentarei para as ofertas pacíficas de vossos animais gor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fasta de mim o estrépito dos teus cânticos; porque não ouvirei as melodias das tuas vio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rra, porém, o juízo como as águas, e a justiça como o ribeiro impetuos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ferecestes-me vós sacrifícios e oblações no deserto por quarenta anos, ó casa de Isra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2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levastes a tenda de vosso Moloque, e a estátua das vossas imagens, a estrela do vosso deus, que fizestes para vós mes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2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 vos levarei cativos, para além de Damasco, diz o SENHOR, cujo nome é o Deus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EUS: A cidade da qual saem mil conservará cem, e aquela da qual saem cem conservará dez, para a casa de Israe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à casa de Israel: Buscai-me, e viv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não busqueis a Betel, nem venhais a Gilgal, nem passeis a Berseba, porque Gilgal certamente será levada ao cativeiro, e Betel será desfeita em n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Buscai ao SENHOR, e vivei, para que ele não irrompa na casa de José como um fogo, e a consuma, e não haja em Betel quem o apa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ós que converteis o juízo em alosna, e deitais por terra a justiç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curai o que faz o Sete-estrelo e o Órion e torna a sombra da noite em manhã, e faz escurecer o dia como a noite, que chama as águas do mar, e as derrama sobre a terra; o SENHOR é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5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 que promove súbita destruição contra o forte; de modo que venha a destruição contra a fortalez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1:55Z</dcterms:created>
  <dc:creator>Admin</dc:creator>
  <dc:description/>
  <dc:language>en-US</dc:language>
  <cp:lastModifiedBy>Admin</cp:lastModifiedBy>
  <dcterms:modified xsi:type="dcterms:W3CDTF">2008-07-30T23:21:55Z</dcterms:modified>
  <cp:revision>1</cp:revision>
  <dc:subject/>
  <dc:title>Slide 1</dc:title>
</cp:coreProperties>
</file>