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3596-725E-4DB5-920E-48A45D5D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A6D-7143-4DCB-A25C-9D1BACA9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549-C597-4ACA-9534-935294F9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F693-4EEE-4426-A8D2-66BC296B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5C7A-44CC-4883-909D-CECE5CC8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6F88-673F-48B3-9E68-75488B05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EC1-ABA3-4A46-B861-1DFEC839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D8B3-20E4-4D15-B413-7F6775DD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A6B-7097-4DF5-BE7E-C443AF70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E61F-5468-414F-A108-E1C77699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4E8-6617-4267-AB08-812F4222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4999-8939-4A2B-BB30-352D3092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D2B3-362F-44AC-8591-2CE4C77CA0E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ONTECEU, pois, que, depois daquela praga, falou o SENHOR a Moisés, e a Eleazar, filho de Arão, o sacerdote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erra abriu a sua boca, e os tragou com Coré, quando morreu aquele grupo; quando o fogo consumiu duzentos e cinqüenta homens, os quais serviram de advert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filhos de Coré não morr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Simeão, segundo as suas famílias: de Nemuel, a família dos nemuelitas; de Jamim, a família dos jaminitas; de Jaquim, a família dos jaquinit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Zerá, a família dos zeraítas; de Saul, a família dos saul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famílias dos simeonitas, vinte e dois mil e duz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Gade, segundo as suas gerações; de Zefom, a família dos zefonitas; de Hagi, a família dos hagitas; de Suni, a família dos sunit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Ozni, a família dos oznitas; de Eri, a família dos erit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Arode, a família dos aroditas; de Areli, a família dos arel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famílias dos filhos de Gade, segundo os que foram deles contados, quarenta mil e quinh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Judá, Er e Onã; mas Er e Onã morreram na terra de Cana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i a soma de toda a congregação dos filhos de Israel, da idade de vinte anos para cima, segundo as casas de seus pais; todos os que em Israel podem sair à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s filhos de Judá foram segundo as suas famílias; de Selá, a família dos selanitas; de Perez, a família dos perezitas; de Zerá, a família dos zeraí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Perez foram: de Hezrom, a família dos hezronitas; de Hamul, a família dos hamul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famílias de Judá, segundo os que foram deles contados, setenta e seis mil e quinh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Issacar, segundo as suas famílias, foram: de Tola, a família dos tolaítas; de Puva, a família dos puvit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Jasube, a família dos jasubitas; de Sinrom, a família dos sinron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famílias de Issacar, segundo os que foram deles contados, sessenta e quatro mil e trez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Zebulom, segundo as suas famílias, foram: de Serede, a família dos sereditas; de Elom, a família dos elonitas; de Jaleel, a família dos jaleel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famílias dos zebulonitas, segundo os que foram deles contados, sessenta mil e quinh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José segundo as suas famílias, foram Manassés e Efr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Manassés foram; de Maquir, a família dos maquiritas; e Maquir gerou a Gileade; de Gileade, a família dos gilead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ram-lhes, pois, Moisés e Eleazar, o sacerdote, nas campinas de Moabe, junto ao Jordão na altura de Jericó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filhos de Gileade; de Jezer, a família dos jezeritas; de Heleque, a família dos helequit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Asriel, a família dos asrielitas; e de Siquém, a família dos siquemit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Semida, a família dos semidaítas; e de Hefer, a família dos hefer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Zelofeade, filho de Hefer, não tinha filhos, senão filhas; e os nomes das filhas de Zelofeade foram Maalá, Noa, Hogla, Milca e Tir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famílias de Manassés; e os que foram deles contados, foram cinqüenta e dois mil e sete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filhos de Efraim, segundo as suas famílias: de Sutela, a família dos sutelaítas; de Bequer, a família dos bequeritas; de Taã, a família dos taan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filhos de Sutela: de Erã, a família dos eran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famílias dos filhos de Efraim, segundo os que foram deles contados, trinta e dois mil e quinhentos; estes são os filhos de José, segundo as suas famí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Benjamim, segundo as suas famílias: de Belá, a família dos belaítas; de Asbel, a família dos asbelitas; de Airã, a família dos airamit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ufã, a família dos sufamitas; de Hufã, a família dos hufam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a o povo da idade de vinte anos para cima, como o SENHOR ordenara a Moisés e aos filhos de Israel, que saíram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Belá foram Arde e Naamã; de Arde, a família dos arditas; de Naamã, a família dos naaman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filhos de Benjamim, segundo as suas famílias; e os que foram deles contados, foram quarenta e cinco mil e seis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filhos de Dã, segundo as suas famílias; de Suã, a família dos suamitas. Estas são as famílias de Dã, segundo as suas famí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famílias dos suamitas, segundo os que foram deles contados, foram sessenta e quatro mil e quatro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Aser, segundo as suas famílias, foram: de Imna, a família dos imnaítas; de Isvi, a família dos isvitas; de Berias, a família dos berií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Berias, foram; de Héber, a família dos heberitas; de Malquiel, a família dos malquiel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nome da filha de Aser foi S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famílias dos filhos de Aser, segundo os que foram deles contados, cinqüenta e três mil e quatro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Naftali, segundo as suas famílias; de Jazeel, a família dos jazeelitas; de Guni, a família dos gunit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Jezer, a família dos jezeritas; de Silém, a família dos silem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úben, o primogênito de Israel; os filhos de Rúben: de Enoque, a família dos enoquitas; de Palu, a família dos paluít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famílias de Naftali, segundo as suas famílias; e os que foram deles contados, foram quarenta e cinco mil e quatro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que foram contados dos filhos de Israel, seiscentos e um mil e setecentos e tri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tes se repartirá a terra em herança, segundo o número dos nom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muitos aumentarás a sua herança, e aos poucos diminuirás a sua herança; a cada um se dará a sua herança, segundo os que foram deles cont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a terra se repartirá por sortes; segundo os nomes das tribos de seus pais a herd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gundo sair a sorte, se repartirá a herança deles entre as tribos de muitos e as de pou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que foram contados dos levitas, segundo as suas famílias: de Gérson, a família dos gersonitas; de Coate, a família dos coatitas; de Merari, a família dos merar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famílias de Levi: a família dos libnitas, a família dos hebronitas, a família dos malitas, a família dos musitas, a família dos coreítas. E Coate gerou a An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nome da mulher de Anrão era Joquebede, filha de Levi, a qual nasceu a Levi no Egito; e de Anrão ela teve Arão, e Moisés, e Miriã, irmã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Hezrom, a família dos hezronitas; de Carmi, a família dos carm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Arão nasceram Nadabe, Abiú, Eleazar, e Ita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6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adabe e Abiú morreram quando trouxeram fogo estranho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6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deles foram contados eram vinte e três mil, todo o homem da idade de um mês para cima; porque estes não foram contados entre os filhos de Israel, porquanto não lhes foi dada herança entre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que foram contados por Moisés e Eleazar, o sacerdote, que contaram os filhos de Israel nas campinas de Moabe, junto ao Jordão na direção de Jeri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6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e estes nenhum houve dos que foram contados por Moisés e Arão, o sacerdote, quando contaram aos filhos de Israel no deserto de Sin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6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dissera deles que certamente morreriam no deserto; e nenhum deles ficou senão Calebe, filho de Jefoné, e Josué, filho de N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famílias dos rubenitas; e os que foram deles contados foram quarenta e três mil e setecentos e tri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Palu, Eliab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Eliabe, Nemuel, e Datã, e Abirão: estes, Datã e Abirão, foram os do conselho da congregação, que contenderam contra Moisés e contra Arão no grupo de Coré, quando rebelaram contra 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9:40Z</dcterms:created>
  <dc:creator>Admin</dc:creator>
  <dc:description/>
  <dc:language>en-US</dc:language>
  <cp:lastModifiedBy>Admin</cp:lastModifiedBy>
  <dcterms:modified xsi:type="dcterms:W3CDTF">2008-07-31T00:19:40Z</dcterms:modified>
  <cp:revision>1</cp:revision>
  <dc:subject/>
  <dc:title>Slide 1</dc:title>
</cp:coreProperties>
</file>