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2FE-7855-482F-B393-D029773A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07F-8040-4DA9-B8E1-AD41CAD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8DF-6BD4-4A53-B5B9-9137D273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D7E-D0AD-4A7B-A0FA-679FC526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F97-8743-479E-90A2-863A2599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7AC-91EE-4B46-BBE0-A1BD1914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3F7-158C-4DB1-ADCE-EEA778E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407-080F-43C0-A717-84AE51F1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442-A422-4CAC-9E69-5C56502B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301-BCF1-4A51-A4E5-9FFBF2F0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F59-1DA2-43E7-AD6F-C50278D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8D4-EB08-4032-825C-5B26997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2CC-A733-43E1-AC75-3BAD8664B63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o SENHOR a Moisés: Vai a Faraó, porque tenho endurecido o seu coração, e o coração de seus servos, para fazer estes meus sinais no meio d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lhes disse: Seja o SENHOR assim convosco, como eu vos deixarei ir a vós e a vossos filhos; olhai que há mal diante da voss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rá assim; agora ide vós, homens, e servi ao SENHOR; pois isso é o que pedistes. E os expulsaram da presença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Estende a tua mão sobre a terra do Egito para que os gafanhotos venham sobre a terra do Egito, e comam toda a erva da terra, tudo o que deixou a sara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endeu Moisés sua vara sobre a terra do Egito, e o SENHOR trouxe sobre a terra um vento oriental todo aquele dia e toda aquela noite; e aconteceu que pela manhã o vento oriental trouxe os gafanh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os gafanhotos sobre toda a terra do Egito, e assentaram-se sobre todos os termos do Egito; tão numerosos foram que, antes destes nunca houve tantos, nem depois deles ha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briram a face de toda a terra, de modo que a terra se escureceu; e comeram toda a erva da terra, e todo o fruto das árvores, que deixara a saraiva; e não ficou verde algum nas árvores, nem na erva do campo, em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raó se apressou a chamar a Moisés e a Arão, e disse: Pequei contra o SENHOR vosso Deus, e cont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eço-vos que perdoeis o meu pecado somente desta vez, e que oreis ao SENHOR vosso Deus que tire de mim somente est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da presença de Faraó, e oro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trouxe um vento ocidental fortíssimo, o qual levantou os gafanhotos e os lançou no Mar Vermelho; não ficou um só gafanhoto em todos os termos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que contes aos ouvidos de teus filhos, e dos filhos de teus filhos, as coisas que fiz no Egito, e os meus sinais, que tenho feito entre eles; para que saiba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rém, endureceu o coração de Faraó, e este não deixou ir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Estende a tua mão para o céu, e virão trevas sobre a terra do Egito, trevas que se apalp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stendeu a sua mão para o céu, e houve trevas espessas em toda a terra do Egito por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iu um ao outro, e ninguém se levantou do seu lugar por três dias; mas todos os filhos de Israel tinham luz em suas habit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raó chamou a Moisés, e disse: Ide, servi ao SENHOR; somente fiquem vossas ovelhas e vossas vacas; vão também convosco as vossas cri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, porém, disse: Tu também darás em nossas mãos sacrifícios e holocaustos, que ofereçamos a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 nosso gado há de ir conosco, nem uma unha ficará; porque daquele havemos de tomar, para servir ao SENHOR nosso Deus; porque não sabemos com que havemos de servir ao SENHOR, até que cheguemos 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rém, endureceu o coração de Faraó, e este não os quis deixar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Faraó: Vai-te de mim, guarda-te que não mais vejas o meu rosto; porque no dia em que vires o meu rosto, morr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: Bem disseste; eu nunca mais verei o t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ram Moisés e Arão a Faraó, e disseram-lhe: Assim diz o SENHOR Deus dos hebreus: Até quando recusarás humilhar-te diante de mim? Deixa ir o meu povo para que me sir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ainda recusares deixar ir o meu povo, eis que trarei amanhã gafanhotos aos t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rirão a face da terra, de modo que não se poderá ver a terra; e eles comerão o restante que escapou, o que vos ficou da saraiva; também comerão toda a árvore que vos cresce no camp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cherão as tuas casas, e as casas de todos os teus servos e as casas de todos os egípcios, quais nunca viram teus pais, nem os pais de teus pais, desde o dia em que se acharam na terra até o dia de hoje. E virou-se, e saiu da presença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e Faraó disseram-lhe: Até quando este homem nos há de ser por laço? Deixa ir os homens, para que sirvam ao SENHOR seu Deus; ainda não sabes que o Egito está destruí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e Arão foram levados outra vez a Faraó, e ele disse-lhes: Ide, servi ao SENHOR vosso Deus. Quais são os que hão de 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: Havemos de ir com os nossos jovens, e com os nossos velhos; com os nossos filhos, e com as nossas filhas, com as nossas ovelhas, e com os nossos bois havemos de ir; porque temos de celebrar uma fest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38Z</dcterms:created>
  <dc:creator>Admin</dc:creator>
  <dc:description/>
  <dc:language>en-US</dc:language>
  <cp:lastModifiedBy>Admin</cp:lastModifiedBy>
  <dcterms:modified xsi:type="dcterms:W3CDTF">2008-07-30T23:31:38Z</dcterms:modified>
  <cp:revision>1</cp:revision>
  <dc:subject/>
  <dc:title>Slide 1</dc:title>
</cp:coreProperties>
</file>