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1BE-6584-46A9-8C66-ACAD95B1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064-3267-4617-A956-29485850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970-CEF3-4D3C-BED1-CA865F44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897-11BB-44F8-A0D0-1FCA5116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A4C-FD7E-4219-A554-9BA52C4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699-AAB4-47C1-A52D-8B07954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55D-048E-4C4A-AA61-C91664F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4D9-6F9F-4BAB-A099-B8FBEF7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A9E-9552-40D8-994F-B081A39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ACA-2127-4773-8254-4B0809A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F63-8BE6-40F1-94B7-E7629CE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FEB-9BBF-4A34-8525-C13F110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9AF-994A-48AB-A178-697DC8B6D5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irmãos, acerca dos tempos e das estações, não necessitais de que se vos escre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morreu por nós, para que, quer vigiemos, quer durmamos, vivamos juntamente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exortai-vos uns aos outros, e edificai-vos uns aos outros, como também o faz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ogamo-vos, irmãos, que reconheçais os que trabalham entre vós e que presidem sobre vós no Senhor, e vos admoestam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 os tenhais em grande estima e amor, por causa da sua obra. Tende paz entr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ogamo-vos, também, irmãos, que admoesteis os desordeiros, consoleis os de pouco ânimo, sustenteis os fracos, e sejais pacientes para co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de que ninguém dê a outrem mal por mal, mas segui sempre o bem, tanto uns para com os outros, como para com to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gozijai-vos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i sem cess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m tudo dai graças, porque esta é a vontade de Deus em Cristo Jesus para convos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extingais o Espír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mesmos sabeis muito bem que o dia do Senhor virá como o ladrão de noi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esprezeis as profe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aminai tudo. Retende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bstende-vos de toda a aparência d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esmo Deus de paz vos santifique em tudo; e todo o vosso espírito, e alma, e corpo, sejam plenamente conservados irrepreensíveis para a vinda de noss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el é o que vos chama, o qual também o f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rmãos, orai por n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udai a todos os irmãos com óscul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lo Senhor vos conjuro que esta epístola seja lida a todos os sant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raça de nosso Senhor Jesus Cristo seja convosco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que, quando disserem: Há paz e segurança, então lhes sobrevirá repentina destruição, como as dores de parto àquela que está grávida, e de modo nenhum escap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, irmãos, já não estais em trevas, para que aquele dia vos surpreenda como um ladr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odos vós sois filhos da luz e filhos do dia; nós não somos da noite nem das trev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durmamos, pois, como os demais, mas vigiemos, e sejamos sóbri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s que dormem, dormem de noite, e os que se embebedam, embebedam-se de no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ós, que somos do dia, sejamos sóbrios, vestindo-nos da couraça da fé e do amor, e tendo por capacete a esperança da salv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Deus não nos destinou para a ira, mas para a aquisição da salvação, por nosso Senhor Jesus Crist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13Z</dcterms:created>
  <dc:creator>Admin</dc:creator>
  <dc:description/>
  <dc:language>en-US</dc:language>
  <cp:lastModifiedBy>Admin</cp:lastModifiedBy>
  <dcterms:modified xsi:type="dcterms:W3CDTF">2008-07-30T23:48:13Z</dcterms:modified>
  <cp:revision>1</cp:revision>
  <dc:subject/>
  <dc:title>Slide 1</dc:title>
</cp:coreProperties>
</file>