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753-3A44-4532-9224-8A1E0FAE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AB4-FCBB-4817-B313-225E76B4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380-14D0-49E6-9BB1-95B66412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38F-F10D-4A10-885A-F7EA33CF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E89-2B8F-4B93-AC7A-E8A182E0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F86-61BF-4052-B66E-7A73A406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4F4-2D90-4EAA-AA46-FB114FFE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D03-61DC-4C58-B658-4F2F1C70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296-06B6-4C1F-A314-D8D0C386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E92-1239-4BB0-AB50-F3E8EE47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C5C-B4EA-4587-89BE-A1682D77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858-D278-4A73-91C4-44F9EEDE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A47C-47CC-4633-BA56-F9280844363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são as gerações de Arão e de Moisés, no dia em que o SENHOR falou com Moisés, no monte Sin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Arão e a seus filhos ordenarás que guardem o seu sacerdócio, e o estranho que se chegar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eis que tenho tomado os levitas do meio dos filhos de Israel, em lugar de todo o primogênito, que abre a madre, entre os filhos de Israel; e os levitas serão m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 o primogênito é meu; desde o dia em que tenho ferido a todo o primogênito na terra do Egito, santifiquei para mim todo o primogênito em Israel, desde o homem até ao animal: meus serão;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 no deserto de Sinai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a os filhos de Levi, segundo a casa de seus pais, pelas suas famílias; contarás a todo o homem da idade de um mês para c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os contou conforme ao mandado do SENHOR, como lhe foi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pois, foram os filhos de Levi pelos seus nomes: Gérson, e Coate e Mera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nomes dos filhos de Gérson pelas suas famílias: Libni e Sim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Coate pelas suas famílias: Amrão, e Jizar, Hebrom e Uz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nomes dos filhos de Arão: o primogênito Nadabe; depois Abiú, Eleazar e Ita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Merari pelas suas famílias: Maeli e Musi; estas são as famílias dos levitas, segundo a casa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Gérson é a família dos libnitas e a família dos simeítas; estas são as famílias dos gerson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deles foram contados pelo número de todo o homem da idade de um mês para cima, sim, os que deles foram contados eram sete mil e quinh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famílias dos gersonitas armarão as suas tendas atrás do tabernáculo, ao ocid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íncipe da casa paterna dos gersonitas será Eliasafe, filho de L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Gérson terão a seu cargo, na tenda da congregação, o tabernáculo, a tenda, a sua coberta, e o véu da porta da tenda da congreg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cortinas do pátio, e o pavilhão da porta do pátio, que estão junto ao tabernáculo e junto ao altar, em redor; como também as suas cordas para todo o seu servi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Coate é a família dos amramitas, e a família dos jizaritas, e a família dos hebronitas, e a família dos uzielitas; estas são as famílias dos coat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número contado de todo o homem da idade de um mês para cima, eram oito mil e seiscentos, que tinham cuidado da guarda d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famílias dos filhos de Coate armarão as suas tendas ao lado do tabernáculo, do lado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nomes dos filhos de Arão, dos sacerdotes ungidos, cujas mãos foram consagradas para administrar o sacerd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íncipe da casa paterna das famílias dos coatitas será Elisafã, filho de Uz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guarda será a arca, e a mesa, e o candelabro, e os altares, e os utensílios do santuário com que ministram, e o véu com todo o seu servi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íncipe dos príncipes de Levi será Eleazar, filho de Arão, o sacerdote; terá a superintendência sobre os que têm cuidado da guarda d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erari é a família dos malitas e a família dos musitas; estas são as famílias de Mera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deles foram contados pelo número de todo o homem de um mês para cima, foram seis mil e duz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íncipe da casa paterna das famílias de Merari será Zuriel, filho de Abiail; armarão as suas tendas ao lado do tabernáculo, do lado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Merari terão a seu cargo as tábuas do tabernáculo, os seus varais, as suas colunas, as suas bases, e todos os seus utensílios, com todo o seu servi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colunas do pátio em redor, e as suas bases, as suas estacas e as suas cor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armarão as suas tendas diante do tabernáculo, ao oriente, diante da tenda da congregação, para o nascente, serão Moisés e Arão, com seus filhos, tendo o cuidado da guarda do santuário, pela guarda dos filhos de Israel; e o estranho que se che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foram contados dos levitas, que contaram Moisés e Arão por mandado do SENHOR, segundo as suas famílias, todo o homem de um mês para cima, foram vinte e dois m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adabe e Abiú morreram perante o SENHOR, quando ofereceram fogo estranho perante o SENHOR no deserto de Sinai, e não tiveram filhos; porém Eleazar e Itamar administraram o sacerdócio diante de Arão,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Moisés: Conta todo o primogênito homem dos filhos de Israel, da idade de um mês para cima, e toma o número dos seus nom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mim tomarás os levitas (eu sou o SENHOR), em lugar de todo o primogênito dos filhos de Israel, e os animais dos levitas, em lugar de todo o primogênito entre os animais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ou Moisés, como o SENHOR lhe ordenara, todo o primogênito entre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primogênitos homens, pelo número dos nomes dos da idade de um mês para cima, segundo os que eram contados deles, foram vinte e dois mil e duzentos e setenta e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os levitas em lugar de todo o primogênito entre os filhos de Israel, e os animais dos levitas em lugar dos seus animais; porquanto os levitas serão meus: Eu sou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os duzentos e setenta e três, que se houverem de resgatar dos primogênitos dos filhos de Israel, que excedem ao número dos levi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rás, por cabeça, cinco siclos; conforme ao siclo do santuário os tomarás, a vinte geras o sic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rão e a seus filhos darás o dinheiro dos resgatados, dos que sobram ent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oisés tomou o dinheiro do resgate dos que excederam sobre os resgatados pel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primogênitos dos filhos de Israel recebeu o dinheiro, mil e trezentos e sessenta e cinco siclos, segundo o siclo d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isés deu o dinheiro dos resgatados a Arão e a seus filhos, segundo o mandado do SENHOR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 chegar a tribo de Levi, e põe-na diante de Arão, o sacerdote, para que o sirv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nham cuidado da sua guarda, e da guarda de toda a congregação, diante da tenda da congregação, para administrar o ministério do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nham cuidado de todos os utensílios da tenda da congregação, e da guarda dos filhos de Israel, para administrar o ministério do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rás, pois, os levitas a Arão e a seus filhos; dentre os filhos de Israel lhes são dados em dád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7:51Z</dcterms:created>
  <dc:creator>Admin</dc:creator>
  <dc:description/>
  <dc:language>en-US</dc:language>
  <cp:lastModifiedBy>Admin</cp:lastModifiedBy>
  <dcterms:modified xsi:type="dcterms:W3CDTF">2008-07-31T00:17:51Z</dcterms:modified>
  <cp:revision>1</cp:revision>
  <dc:subject/>
  <dc:title>Slide 1</dc:title>
</cp:coreProperties>
</file>