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1A34-7FA1-4B7A-AA50-C8B223E89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E0C8-48D8-45AC-BC45-02214DCBF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F96F-253B-405C-80EF-B492529AC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5EBD-1ABD-4F02-920E-67A243D4F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65CA-3409-4EB6-9DCF-EDAA2E74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EED9-00C4-4DD5-AF3E-5AFCB6B7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5660-6E9E-4B65-A517-2AFC457E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667E-D6D2-4004-AD9B-74A09D02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55B3-C696-4FF6-BACB-65231304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458E-63A6-4EBE-ADC8-04544C48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EE65-9B2C-423F-A57F-820AEEE5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3540-4FE9-448F-8B26-78528FA0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FA57-82D9-40B3-B3C5-B197DE9FDA5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isto havia uma festa entre os judeus, e Jesus subiu a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judeus disseram àquele que tinha sido curado: É sábado, não te é lícito levar o le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respondeu-lhes: Aquele que me curou, ele próprio disse: Toma o teu leito, e an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rguntaram-lhe, pois: Quem é o homem que te disse: Toma o teu leito, e and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que fora curado não sabia quem era; porque Jesus se havia retirado, em razão de naquele lugar haver grande multi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Jesus encontrou-o no templo, e disse-lhe: Eis que já estás são; não peques mais, para que não te suceda alguma coisa pi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quele homem foi, e anunciou aos judeus que Jesus era o que o cura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 esta causa os judeus perseguiram a Jesus, e procuravam matá-lo, porque fazia estas coisas no sáb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 lhes respondeu: Meu Pai trabalha até agora, e eu trabalho tamb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, pois, os judeus ainda mais procuravam matá-lo, porque não só quebrantava o sábado, mas também dizia que Deus era seu próprio Pai, fazendo-se igual a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Jesus respondeu, e disse-lhes: Na verdade, na verdade vos digo que o Filho por si mesmo não pode fazer coisa alguma, se o não vir fazer o Pai; porque tudo quanto ele faz, o Filho o faz igual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em Jerusalém há, próximo à porta das ovelhas, um tanque, chamado em hebreu Betesda, o qual tem cinco alpend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Pai ama o Filho, e mostra-lhe tudo o que faz; e ele lhe mostrará maiores obras do que estas, para que vos maravilh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, assim como o Pai ressuscita os mortos, e os vivifica, assim também o Filho vivifica aqueles que qu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5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ambém o Pai a ninguém julga, mas deu ao Filho todo o juíz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5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todos honrem o Filho, como honram o Pai. Quem não honra o Filho, não honra o Pai que o envi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5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verdade, na verdade vos digo que quem ouve a minha palavra, e crê naquele que me enviou, tem a vida eterna, e não entrará em condenação, mas passou da morte para a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5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verdade, em verdade vos digo que vem a hora, e agora é, em que os mortos ouvirão a voz do Filho de Deus, e os que a ouvirem vive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5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como o Pai tem a vida em si mesmo, assim deu também ao Filho ter a vida em si mesm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5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u-lhe o poder de exercer o juízo, porque é o Filho do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5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vos maravilheis disto; porque vem a hora em que todos os que estão nos sepulcros ouvirão a sua vo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5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que fizeram o bem sairão para a ressurreição da vida; e os que fizeram o mal para a ressurreição da conden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stes jazia grande multidão de enfermos, cegos, mancos e ressicados, esperando o movimento da ág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5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não posso de mim mesmo fazer coisa alguma. Como ouço, assim julgo; e o meu juízo é justo, porque não busco a minha vontade, mas a vontade do Pai que me envi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5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eu testifico de mim mesmo, o meu testemunho não é verdad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5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á outro que testifica de mim, e sei que o testemunho que ele dá de mim é verdad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5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ós mandastes mensageiros a João, e ele deu testemunho da ver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5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, porém, não recebo testemunho de homem; mas digo isto, para que vos salv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5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era a candeia que ardia e alumiava, e vós quisestes alegrar-vos por um pouco de tempo com a sua lu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5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u tenho maior testemunho do que o de João; porque as obras que o Pai me deu para realizar, as mesmas obras que eu faço, testificam de mim, que o Pai me envi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5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Pai, que me enviou, ele mesmo testificou de mim. Vós nunca ouvistes a sua voz, nem vistes o seu parec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5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sua palavra não permanece em vós, porque naquele que ele enviou não credes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5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xaminais as Escrituras, porque vós cuidais ter nelas a vida eterna, e são elas que de mim testifica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um anjo descia em certo tempo ao tanque, e agitava a água; e o primeiro que ali descia, depois do movimento da água, sarava de qualquer enfermidade que tives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5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quereis vir a mim para terdes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5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não recebo glória dos homen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5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bem vos conheço, que não tendes em vós o amor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5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vim em nome de meu Pai, e não me aceitais; se outro vier em seu próprio nome, a esse aceita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5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podeis vós crer, recebendo honra uns dos outros, e não buscando a honra que vem só de Deu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5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cuideis que eu vos hei de acusar para com o Pai. Há um que vos acusa, Moisés, em quem vós esper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5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se vós crêsseis em Moisés, creríeis em mim; porque de mim escreveu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5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 não credes nos seus escritos, como crereis nas minhas palavr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va ali um homem que, havia trinta e oito anos, se achava enfer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, vendo este deitado, e sabendo que estava neste estado havia muito tempo, disse-lhe: Queres ficar sã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enfermo respondeu-lhe: Senhor, não tenho homem algum que, quando a água é agitada, me ponha no tanque; mas, enquanto eu vou, desce outro antes d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sus disse-lhe: Levanta-te, toma o teu leito, e an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go aquele homem ficou são; e tomou o seu leito, e andava. E aquele dia era sáb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3:02Z</dcterms:created>
  <dc:creator>Admin</dc:creator>
  <dc:description/>
  <dc:language>en-US</dc:language>
  <cp:lastModifiedBy>Admin</cp:lastModifiedBy>
  <dcterms:modified xsi:type="dcterms:W3CDTF">2008-07-31T00:03:02Z</dcterms:modified>
  <cp:revision>1</cp:revision>
  <dc:subject/>
  <dc:title>Slide 1</dc:title>
</cp:coreProperties>
</file>