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F8A-C8A3-4C35-A346-3AB1134A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BEF-004B-4623-A7B3-5271C692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53F-CF51-4292-8585-1074C3E6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359-1371-44CF-9011-054041D9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A99-3E79-4B49-90D1-743EBE2C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E74-2B25-4185-B880-9AB41D83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8B1-5F04-430C-8561-53B825C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ADF-BF18-4A4E-9C2F-F667A2BA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3B8-2314-49A3-AC24-AAC402E7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A96-2F5A-4B22-970B-69309B9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F49-2704-45DF-8E7B-CEFE3F66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CDB-8727-4107-BE50-8F137B7A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F39D-1F22-4926-B7ED-D9D0D9C25C8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S vezes me angustiaram desde a minha mocidade, diga agora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s vezes me angustiaram desde a minha mocidade; todavia não prevalecer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avradores araram sobre as minhas costas; compridos fizeram os seus sul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justo; cortou as cordas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confundidos, e voltem para trás todos os que odeiam a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como a erva dos telhados que se seca antes que a arranqu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qual o segador não enche a sua mão, nem o que ata os feixes enche o seu bra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os que passam dizem: A bênção do SENHOR seja sobre vós; nós vos abençoamos em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3Z</dcterms:created>
  <dc:creator>Admin</dc:creator>
  <dc:description/>
  <dc:language>en-US</dc:language>
  <cp:lastModifiedBy>Admin</cp:lastModifiedBy>
  <dcterms:modified xsi:type="dcterms:W3CDTF">2008-07-31T00:28:23Z</dcterms:modified>
  <cp:revision>1</cp:revision>
  <dc:subject/>
  <dc:title>Slide 1</dc:title>
</cp:coreProperties>
</file>