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AC3-9A5B-485A-9B43-6DC4ACF6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366-16B3-4C4D-99B1-516A3D1A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F80-3934-45A9-8C0D-FD55F30D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B0A-03D7-4B43-904B-42908695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74D-4C98-4D62-912D-C0AD3B6B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2E2-6DE0-4F91-95F7-00202CEA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E40-44FD-4507-9BA8-828CC18D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236-08C2-4AE1-89A1-5AEAED30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664-5F17-4C8D-BF69-CB661B1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09D-C147-4F87-A361-E60D4AB7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ACA-D8E0-41A5-8AF8-CF6B7F5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0FB-0D2C-463E-A53D-FE9EED12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AEB-D642-48E1-8F68-5EA11B95F94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LE mais ter um bom nome do que muitas riquezas; e o ser estimado é melhor do que a riqueza e o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 fora o escarnecedor, e se irá a contenda; e acabará a questão e a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ma a pureza de coração, e é amável de lábios, será amig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do SENHOR conservam o conhecimento, mas as palavras do iníquo ele transtorn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 o preguiçoso: Um leão está lá fora; serei morto no meio d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va profunda é a boca das mulheres estranhas; aquele contra quem o SENHOR se irar, cairá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ultícia está ligada ao coração da criança, mas a vara da correção a afugentará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oprime ao pobre para se engrandecer a si mesmo, ou o que dá ao rico, certamente empob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 o teu ouvido e ouve as palavras dos sábios, e aplica o teu coração ao meu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 será agradável se as guardares no teu íntimo, se aplicares todas elas aos t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tua confiança esteja no SENHOR, faço-te sabê-las hoje, a t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ico e o pobre se encontram; a todos o SENHOR os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te escrevi excelentes coisas, acerca de todo conselho e conhecime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-te saber a certeza das palavras da verdade, e assim possas responder palavras de verdade aos que te consultar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oubes ao pobre, porque é pobre, nem atropeles na porta o afl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efenderá a sua causa em juízo, e aos que os roubam ele lhes tirará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s companheiro do homem briguento nem andes com o coléric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aprendas as suas veredas, e tomes um laço para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tejas entre os que se comprometem, e entre os que ficam por fiadores de dívid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se não tens com que pagar, deixarias que te tirassem até a tua cama de debaixo de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movas os antigos limites que teus pais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e o homem diligente na sua obra? Perante reis será posto; não permanecerá entre os de posição inf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udente prevê o mal, e esconde-se; mas os simples passam e acabam pag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galardão da humildade e o temor do SENHOR são riquezas, honra e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inhos e laços há no caminho do perverso; o que guarda a sua alma retira-se para long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uca a criança no caminho em que deve andar; e até quando envelhecer não se desviará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ico domina sobre os pobres e o que toma emprestado é servo do que empr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semear a perversidade segará males; e com a vara da sua própria indignação será ext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ê com bons olhos será abençoado, porque dá do seu pão ao p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25Z</dcterms:created>
  <dc:creator>Admin</dc:creator>
  <dc:description/>
  <dc:language>en-US</dc:language>
  <cp:lastModifiedBy>Admin</cp:lastModifiedBy>
  <dcterms:modified xsi:type="dcterms:W3CDTF">2008-07-31T00:22:25Z</dcterms:modified>
  <cp:revision>1</cp:revision>
  <dc:subject/>
  <dc:title>Slide 1</dc:title>
</cp:coreProperties>
</file>