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2E42-A620-4046-ABBC-7B6701628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EF5A-4B8A-448C-B93B-C0458540A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55CB-1D08-4B71-974C-0EF53DBAE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9A2C-2C19-489C-8465-D4799B94A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B8B8-2DA5-4CDE-BA87-A6C69FB47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489F-1B81-4829-B3C5-F81EBC193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05F2-7202-4981-B7F5-46D130816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F8B1-9DB2-4681-9D2C-48F7625AA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7C22-27C8-4FF1-8D0A-4FEE5BCBC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8CEA-9141-4167-8D7E-1A3EBDF5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711C-4CE9-4EC2-BFEA-FFEA7570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C904-1DAE-4349-8303-3B1742A3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C0EC9-006B-4B92-BE5C-C37419B3615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TERMINOU Salomão edificar uma casa ao nome do SENHOR, como também uma casa para o seu rei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is que a teus servos, os cortadores, que cortarem a madeira, darei vinte mil coros de trigo malhado, vinte mil coros de cevada, vinte mil batos de vinho e vinte mil batos de azei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irão, rei de Tiro, respondeu por escrito que enviou a Salomão, dizendo: Porque o SENHOR tem amado o seu povo, te constituiu sobre ele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mais Hirão: Bendito seja o SENHOR Deus de Israel, que fez os céus e a terra; o que deu ao rei Davi um filho sábio, de grande prudência e entendimento, que edifique casa ao SENHOR, e para o seu rei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envio um homem sábio de grande entendimento, a saber, Hirão meu pai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lho de uma mulher das filhas de Dã, e cujo pai foi homem de Tiro; este sabe trabalhar em ouro, em prata, em bronze, em ferro, em pedras e em madeira, em púrpura, em azul, e em linho fino, e em carmesim, e é hábil para toda a obra do buril, e para tod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meu senhor, mande para os seus servos o trigo, a cevada, o azeite e o vinho, de que falou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ós cortaremos tanta madeira no Líbano, quanta houveres mister, e ta traremos em jangadas pelo mar até Jope, e tu a farás subir a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lomão contou todos os homens estrangeiros, que havia na terra de Israel, conforme o censo com que os contara Davi seu pai; e acharam-se cento e cinqüenta e três mil e seisc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signou deles setenta mil carregadores, e oitenta mil cortadores na montanha; como também três mil e seiscentos inspetores, para fazerem trabalhar o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signou Salomão setenta mil homens de carga, e oitenta mil, que talhavam pedras na montanha e três mil e seiscentos inspetores sobre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lomão mandou dizer a Hirão, rei de Tiro: Como fizeste com Davi meu pai, mandando-lhe cedros, para edificar uma casa em que morasse, assim também faze comi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estou para edificar uma casa ao nome do SENHOR meu Deus, para lhe consagrar, para queimar perante ele incenso aromático, e para a apresentação contínua do pão da proposição, para os holocaustos da manhã e da tarde, nos sábados e nas luas novas, 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casa que estou para edificar há de ser grande; porque o nosso Deus é maior do que todos os deus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, quem seria capaz de lhe edificar uma casa, visto que os céus e até os céus dos céus o não podem conter? E quem sou eu, que lhe edificasse casa, salvo para queimar incenso perante el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nda-me, pois, agora um homem hábil para trabalhar em ouro, em prata, em bronze, em ferro, em púrpura, em carmesim e em azul; e que saiba lavrar ao buril, juntamente com os peritos que estão comigo em Judá e em Jerusalém, os quais Davi, meu pai, prepa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nda-me também madeiras de cedro, de cipreste, e algumins do Líbano; porque bem sei eu que os teus servos sabem cortar madeira no Líbano; e eis que os meus servos estarão com os teus serv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isso para prepararem muita madeira; porque a casa que estou para fazer há de ser grande e maravilho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9:04Z</dcterms:created>
  <dc:creator>Admin</dc:creator>
  <dc:description/>
  <dc:language>en-US</dc:language>
  <cp:lastModifiedBy>Admin</cp:lastModifiedBy>
  <dcterms:modified xsi:type="dcterms:W3CDTF">2008-07-30T23:49:04Z</dcterms:modified>
  <cp:revision>1</cp:revision>
  <dc:subject/>
  <dc:title>Slide 1</dc:title>
</cp:coreProperties>
</file>