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E43-11EA-4387-B694-38DB48EA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4C1-6DAA-4E98-8F64-D6C44CA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179-5399-42A7-A718-24639535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673-090C-4863-A360-653CC108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1B6-F385-4A9D-9C45-4609352B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0B9-2ED0-4CDF-BB5E-85D94B3F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BBB-A7AE-4FC5-98E1-2725F49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22-0767-44B1-A042-221343A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42A-D03F-4CE7-B557-134FEA2F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050-DEB5-4707-8143-C528A90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50F-C9D9-4BBC-AC0E-B0D9C0E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8AD-99AA-4EFC-9CDD-80FD7FF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D922-E161-4E41-A804-33F925A7E7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se retirou dali, e escapou para a caverna de Adulão; e ouviram-no seus irmãos e toda a casa de seu pai, e desceram ali para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consultou por ele ao SENHOR, e lhe deu mantimento, e lhe deu também a espada de Golias, o filis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andou chamar a Aimeleque, sacerdote, filho de Aitube, e a toda a casa de seu pai, os sacerdotes que estavam em Nobe; e todos eles vieram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ul: Ouve, peço-te, filho de Aitube. E ele disse: Eis-me aqui, senhor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Saul: Por que conspirastes contra mim, tu e o filho de Jessé? Pois deste-lhe pão e espada, e consultaste por ele a Deus, para que se levantasse contra mim a armar-me ciladas, como se vê neste d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Aimeleque ao rei e disse: E quem, entre todos os teus criados, há tão fiel como Davi, o genro do rei, pronto na sua obediência, e honrado na tu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cei, porventura, hoje a consultar por ele a Deus? Longe de mim tal! Não impute o rei coisa nenhuma a seu servo, nem a toda a casa de meu pai, pois o teu servo não soube nada de tudo isso, nem muito nem pou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disse: Aimeleque, morrerás certamente, tu e toda a casa de teu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os da sua guarda que estavam com ele: Virai-vos, e matai os sacerdotes do SENHOR, porque também a sua mão é com Davi, e porque souberam que fugiu e não mo fizeram saber. Porém os criados do rei não quiseram estender as suas mãos para ar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a Doegue: Vira-te, e arremete contra os sacerdotes. Então se virou Doegue, o edomeu, e arremeteu contra os sacerdotes, e matou naquele dia oitenta e cinco homens que vestiam éfode de l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Nobe, cidade destes sacerdotes, passou a fio de espada, desde o homem até à mulher, desde os meninos até aos de peito, e até os bois, jumentos e ovelhas passou a fio de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-se a ele todo o homem que se achava em aperto, e todo o homem endividado, e todo o homem de espírito desgostoso, e ele se fez capitão deles; e eram com ele uns quatrocent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capou um dos filhos de Aimeleque, filho de Aitube, cujo nome era Abiatar, o qual fugiu par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atar anunciou a Davi que Saul tinha matado os sacerdote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isse a Abiatar: Bem sabia eu naquele dia que, estando ali Doegue, o edomeu, não deixaria de o denunciar a Saul; eu dei ocasião contra todas as almas da casa de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 comigo, não temas, porque quem procurar a minha morte também procurará a tua, pois estarás salvo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Davi dali a Mizpá dos moabitas, e disse ao rei dos moabitas: Deixa estar meu pai e minha mãe convosco, até que saiba o que Deus há de fazer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-os perante o rei dos moabitas, e ficaram com ele todos os dias que Davi esteve no lugar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rofeta Gade disse a Davi: Não fiques naquele lugar forte; vai, e entra na terra de Judá. Então Davi saiu, e foi para o bosque de Her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Saul que já se sabia de Davi e dos homens que estavam com ele; e estava Saul em Gibeá, debaixo de um arvoredo, em Ramá, e tinha na mão a sua lança, e todos os seus criados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 todos os seus criados que estavam com ele: Ouvi, peço-vos, filhos de Benjamim, dar-vos-á também o filho de Jessé, a todos vós, terras e vinhas, e far-vos-á a todos capitães de milhares e capitães de centen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vós tenhais conspirado contra mim, e ninguém há que me dê aviso de que meu filho tem feito aliança com o filho de Jessé, e nenhum dentre vós há que se doa de mim, e mo participe, pois meu filho tem contra mim sublevado a meu servo, para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Doegue, o edomeu, que também estava com os criados de Saul, e disse: Vi o filho de Jessé chegar a Nobe, a Aimeleque, filho de Ait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34Z</dcterms:created>
  <dc:creator>Admin</dc:creator>
  <dc:description/>
  <dc:language>en-US</dc:language>
  <cp:lastModifiedBy>Admin</cp:lastModifiedBy>
  <dcterms:modified xsi:type="dcterms:W3CDTF">2008-07-30T23:47:34Z</dcterms:modified>
  <cp:revision>1</cp:revision>
  <dc:subject/>
  <dc:title>Slide 1</dc:title>
</cp:coreProperties>
</file>