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4188-CCEE-44FD-B7E8-F0C63CA8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C9AC-F02B-4FEC-845E-0FC3E334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1881-568A-4E80-912D-F224AE2C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8488-E7C9-42FB-8670-E7884C0A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583B-3F54-4E1C-A604-0DB54B71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489D-16F5-4A51-B157-1F799BB8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7403-29EC-489C-A68C-E052571B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97A5-CC0F-4609-8FE5-795CAEC7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05AC-104F-49C5-B2C3-FC2CEC4E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0883-5A51-47AE-91BB-D13A443F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C1B0-4F36-4042-8B9D-9243942C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3C46-F374-43CA-8CF8-39DB0B68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3BDA-CDDB-46CB-A8B8-25D9F13380A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NHA Noemi um parente de seu marido, homem valente e poderoso, da família de Elimeleque; e era o seu nome Bo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a caiu sobre o seu rosto, e se inclinou à terra; e disse-lhe: Por que achei graça em teus olhos, para que faças caso de mim, sendo eu uma estrangei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pondeu Boaz, e disse-lhe: Bem se me contou quanto fizeste à tua sogra, depois da morte de teu marido; e deixaste a teu pai e a tua mãe, e a terra onde nasceste, e vieste para um povo que antes não conhec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retribua o teu feito; e te seja concedido pleno galardão da parte do SENHOR Deus de Israel, sob cujas asas te vieste abri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la: Ache eu graça em teus olhos, SENHOR meu, pois me consolaste, e falaste ao coração da tua serva, não sendo eu ainda como uma das tuas cri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ndo já hora de comer, disse-lhe Boaz: Achega-te aqui, e come do pão, e molha o teu bocado no vinagre. E ela se assentou ao lado dos segadores, e ele lhe deu do trigo tostado, e comeu, e se fartou, e ainda lhe sobej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tando-se ela a colher, Boaz deu ordem aos seus moços, dizendo: Até entre as gavelas deixai-a colher, e não a censu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ixai cair alguns punhados, e deixai-os ficar, para que os colha, e não a repreend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ve ela apanhando naquele campo até à tarde; e debulhou o que apanhou, e foi quase um efa de cev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-a, e veio à cidade; e viu sua sogra o que tinha apanhado; também tirou, e deu-lhe o que sobejara depois de fartar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-lhe sua sogra: Onde colheste hoje, e onde trabalhaste? Bendito seja aquele que te reconheceu. E relatou à sua sogra com quem tinha trabalhado, e disse: O nome do homem com quem hoje trabalhei é Bo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ute, a moabita, disse a Noemi: Deixa-me ir ao campo, e apanharei espigas atrás daquele em cujos olhos eu achar graça. E ela disse: Vai, minha fi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Noemi disse à sua nora: Bendito seja ele do SENHOR, que ainda não tem deixado a sua beneficência nem para com os vivos nem para com os mortos. Disse-lhe mais Noemi: Este homem é nosso parente chegado, e um dentre os nossos remi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Rute, a moabita: Também ainda me disse: Com os moços que tenho te ajuntarás, até que acabem toda a sega que te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Noemi a sua nora: Melhor é, filha minha, que saias com as suas moças, para que noutro campo não te encont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ajuntou-se com as moças de Boaz, para colher até que a sega das cevadas e dos trigos se acabou; e ficou com a sua sog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i, pois, e chegou, e apanhava espigas no campo após os segadores; e caiu-lhe em sorte uma parte do campo de Boaz, que era da família de Elimele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Boaz veio de Belém, e disse aos segadores: O SENHOR seja convosco. E disseram-lhe eles: O SENHOR te abenço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se Boaz a seu moço, que estava posto sobre os segadores: De quem é esta moç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pondeu o moço, que estava posto sobre os segadores, e disse: Esta é a moça moabita que voltou com Noemi dos campos de Moa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me ela: Deixa-me colher espigas, e ajuntá-las entre as gavelas após os segadores. Assim ela veio, e desde pela manhã está aqui até agora, a não ser um pouco que esteve sentada em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Boaz a Rute: Ouves, filha minha; não vás colher em outro campo, nem tampouco passes daqui; porém aqui ficarás com as minhas mo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teus olhos estarão atentos no campo que segarem, e irás após elas; não dei ordem aos moços, que não te molestem? Tendo tu sede, vai aos vasos, e bebe do que os moços tira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00Z</dcterms:created>
  <dc:creator>Admin</dc:creator>
  <dc:description/>
  <dc:language>en-US</dc:language>
  <cp:lastModifiedBy>Admin</cp:lastModifiedBy>
  <dcterms:modified xsi:type="dcterms:W3CDTF">2008-07-31T00:24:00Z</dcterms:modified>
  <cp:revision>1</cp:revision>
  <dc:subject/>
  <dc:title>Slide 1</dc:title>
</cp:coreProperties>
</file>