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F07-BD5C-4684-BA20-3A80FACE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13D-1C80-44DF-AAF7-FDE4E171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19B-97E1-41ED-AC3F-0E552CD4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BD0-44CE-4F85-87E5-97942DF0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9B3-921B-4588-B1C7-8AB7D270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267-33AA-4AE1-AEA0-847D07EB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817-2423-4755-AB10-AC7C6EAC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6FA-51A4-4C38-B2A4-EF89EFCE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533-8DBD-4565-AFEE-E54E87D0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D7A-E182-4111-9B17-CD1B8FEA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003-A881-4F9F-825C-3EAAD72E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066-AF57-4457-8547-EAA12A1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3CD-8A22-4884-9114-66628D2BAED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os filhos de Amom. Assim diz o SENHOR: Acaso Israel não tem filhos, nem tem herdeiro? Por que, pois, herdou Malcã a Gade e o seu povo habitou nas suas cidad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despi a Esaú, descobri os seus esconderijos, e não se poderá esconder; foi destruída a sua descendência, como também seus irmãos e seus vizinhos, e ele já não ex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 os teus órfãos, eu os guardarei em vida; e as tuas viúvas confiem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Eis que os que não estavam condenados a beber do copo, totalmente o beberão; e tu ficarias inteiramente impune? Não ficarás impune, mas certamente o beb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mim mesmo jurei, diz o SENHOR, que Bozra servirá de espanto, de opróbrio, de assolação, e de maldição; e todas as suas cidades se tornarão em desolações perpét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novas vindas do SENHOR, que um embaixador é enviado aos gentios, para lhes dizer: Ajuntai-vos, e vinde contra ela, e levantai-vos para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te fiz pequeno entre os gentios, desprezado entre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 tua terribilidade, enganou-te a arrogância do teu coração, tu que habitas nas cavernas das rochas, que ocupas as alturas dos outeiros; ainda que eleves o teu ninho como a águia, de lá te derrubarei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virá Edom de desolação; todo aquele que passar por ela se espantará, e assobiará por causa de todas as suas pra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como a destruição de Sodoma e Gomorra, e dos seus vizinhos, diz o SENHOR; não habitará ninguém ali, nem morará nela filho 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 como leão subirá da enchente do Jordão contra a morada do forte; porque num momento o farei correr dali; e quem é o escolhido que porei sobre ela? Pois quem é semelhante a mim? e quem me fixará o tempo? e quem é o pastor que subsistirá pe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vêm dias, diz o SENHOR, em que farei ouvir em Rabá dos filhos de Amom o alarido de guerra, e tornar-se-á num montão de ruínas, e os lugares da sua jurisdição serão queimados a fogo; e Israel herdará aos que o herdara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uvi o conselho do SENHOR, que ele decretou contra Edom, e os seus desígnios que ele intentou entre os moradores de Temã: Certamente os menores do rebanho serão arrastados; certamente ele assolará as suas moradas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estremeceu com o estrondo da sua queda; e do seu grito, até ao Mar Vermelho se ouviu o s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 como águia subirá, e voará, e estenderá as suas asas contra Bozra; e o coração dos valentes de Edom naquele dia será como o coração da mulher que está com dores de p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rca de Damasco. Envergonhou-se Hamate e Arpade, porquanto ouviram más novas, desmaiaram; no mar há angústia, não se pode sosse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fraquecida está Damasco; virou as costas para fugir, e o tremor a tomou; angústia e dores a tomaram como da que está de p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abandonada a cidade do louvor, a cidade da minha alegri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cairão os seus jovens nas suas ruas; e todos os homens de guerra serão consumidos naquele dia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enderei fogo no muro de Damasco, e consumirá os palácios de Bene-Ha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rca de Quedar, e dos reinos de Hazor, que Nabucodonosor, rei de Babilônia, feriu. Assim diz o SENHOR: Levantai-vos, subi contra Quedar, e destruí os filhos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ão as suas tendas, os seus gados, as suas cortinas e todos os seus utensílios, e os seus camelos levarão para si; e lhes clamarão: Há medo por todos os 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menta, ó Hesbom, porque é destruída Ai; clamai, ó filhas de Rabá, cingi-vos de sacos, lamentai, e dai voltas pelos valados; porque Malcã irá em cativeiro, juntamente com seus sacerdotes e os seus prínci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gi, desviai-vos para muito longe, buscai profundezas para habitar, ó moradores de Hazor, diz o SENHOR; porque Nabucodonosor, rei de Babilônia, tomou conselho contra vós, e formou um desígnio cont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-vos, subi contra uma nação tranqüila, que habita confiadamente, diz o SENHOR, que não tem portas, nem ferrolhos; habitam s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camelos serão para presa, e a multidão dos seus gados para despojo; e os espalharei a todo o vento, àqueles que estão nos lugares mais distantes, e de todos os seus lados lhes trarei a sua ruín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zor se tornará em morada de chacais, em assolação para sempre; ninguém habitará ali, nem morará nela filho 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do SENHOR, que veio a Jeremias, o profeta, contra Elão, no princípio do reinado de Zedequias, rei de Judá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Eis que eu quebrarei o arco de Elão, o principal do s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rei sobre Elão os quatro ventos dos quatro cantos dos céus, e os espalharei na direção de todos estes ventos; e não haverá nação aonde não cheguem os fugitivos de E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que Elão tema diante de seus inimigos e diante dos que procuram a sua morte; e farei vir sobre eles o mal, o furor da minha ira, diz o SENHOR; e enviarei após eles a espada, até que venha a consumi-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o meu trono em Elão; e destruirei dali o rei e os príncipe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rá, porém, nos últimos dias, que farei voltar os cativos de Elã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te glorias nos vales, teus luxuriantes vales, ó filha rebelde, que confias nos teus tesouros, dizendo: Quem virá contra 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trarei temor sobre ti, diz o Senhor DEUS dos Exércitos, de todos os que estão ao redor de ti; e sereis lançados fora cada um diante de si, e ninguém recolherá o desgar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pois disto farei voltar os cativos dos filhos de Amo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rca de Edom. Assim diz o SENHOR dos Exércitos: Acaso não há mais sabedoria em Temã? Pereceu o conselho dos entendidos? Corrompeu-se a sua sabedo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gi, voltai-vos, buscai profundezas para habitar, ó moradores de Dedã, porque eu trarei sobre ele a ruína de Esaú, no tempo em que o castigu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indimadores viessem a ti, não deixariam rabiscos? Se ladrões de noite viessem, não te danificariam quanto lhes bastas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58Z</dcterms:created>
  <dc:creator>Admin</dc:creator>
  <dc:description/>
  <dc:language>en-US</dc:language>
  <cp:lastModifiedBy>Admin</cp:lastModifiedBy>
  <dcterms:modified xsi:type="dcterms:W3CDTF">2008-07-30T23:59:58Z</dcterms:modified>
  <cp:revision>1</cp:revision>
  <dc:subject/>
  <dc:title>Slide 1</dc:title>
</cp:coreProperties>
</file>