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4B0-891F-4C86-9E8F-31B4676D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DBC-4E3C-43EF-805C-3ACFABD7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9F2-F1CF-439E-A759-23E7AE52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285-7127-47E8-BFE9-2D94B3AB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A53-C760-46E6-B13F-5702086E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AA2-25CD-4CFC-8F92-0A33BDCF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A60-3A72-477C-9B83-A14ACABB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71A-CC1F-4F53-92BC-063AD585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4D5-B9AB-4868-8AD0-D0B0EBFF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BC3-1CA3-4593-A0CB-4BE872FE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727-4979-49E8-A393-C99DF881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CF8-B39E-48C2-B543-7C20E3D9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4521-A7B4-46E4-9259-99FA36F32E9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LAVRA do SENHOR, que veio a Miquéias, morastita, nos dias de Jotão, Acaz e Ezequias, reis de Judá, a qual ele viu sobre Samaria 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 anuncieis em Gate, nem choreis muito; revolve-te no pó, na casa de Af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, ó moradora de Safir, em vergonhosa nudez; a moradora de Zaanã não saiu; o pranto de Bete-Ezel tirará de vós a sua pos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moradora de Marote sofre pelo bem; porque desceu do SENHOR o mal até à porta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a os animais ligeiros ao carro, ó moradora de Laquis; esta foi o princípio do pecado para a filha de Sião, porque em ti se acharam as transgressõe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darás presentes a Moresete-Gate; as casas de Aczibe se tornarão em engano para os rei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trarei a ti, ó moradora de Maressa, aquele que te possuirá; chegará até Adulão a glóri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-te calva, e tosquia-te, por causa dos filhos das tuas delícias; alarga a tua calva como a águia, porque de ti foram levados cati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, todos os povos, presta atenção, ó terra, e tudo o que nela há; e seja o Senhor DEUS testemunha contra vós, o Senhor, desde o seu santo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o SENHOR está para sair do seu lugar, e descerá, e andará sobre as altura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montes debaixo dele se derreterão, e os vales se fenderão, como a cera diante do fogo, como as águas que se precipitam num abi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isto por causa da transgressão de Jacó, e dos pecados da casa de Israel. Qual é a transgressão de Jacó? Não é Samaria? E quais os altos de Judá? Não é Jerusalé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farei de Samaria um montão de pedras do campo, uma terra de plantar vinhas, e farei rolar as suas pedras no vale, e descobrirei os seus fu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suas imagens de escultura serão despedaçadas, e todas as suas ofertas serão queimadas pelo fogo, e de todos os seus ídolos eu farei uma assolação; porque pela paga de prostituta os ajuntou, e para a paga de prostituta volt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lamentarei, e gemerei, andarei despojado e nu; farei lamentação como de chacais, e pranto como de avestru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iquéia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sua chaga é incurável, porque chegou até Judá; estendeu-se até à porta do meu povo, até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22Z</dcterms:created>
  <dc:creator>Admin</dc:creator>
  <dc:description/>
  <dc:language>en-US</dc:language>
  <cp:lastModifiedBy>Admin</cp:lastModifiedBy>
  <dcterms:modified xsi:type="dcterms:W3CDTF">2008-07-31T00:16:22Z</dcterms:modified>
  <cp:revision>1</cp:revision>
  <dc:subject/>
  <dc:title>Slide 1</dc:title>
</cp:coreProperties>
</file>