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04B8-FB34-4910-81E5-C9F57A401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E919-01C6-4328-9B3F-C08904181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5C290-8221-469B-969D-53B9D3B51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CEFD2-8803-4F7F-8262-CEB74F6E6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C322B-E96A-4061-BFAF-4398A540D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90ADC-F2DE-4388-84EA-28874286B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B75A4-8EBB-494E-B284-EDD97E8C7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C7580-4DD3-4FE7-AFBD-77887EE65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4EF7-82A3-48E8-927C-AB932A987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3657-06EF-42B6-88A9-22E1ABF98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C1359-B87C-44C4-ABB7-20EAA0626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EEF15-6ACE-46A3-9F4F-7638174E8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4FF54-69F3-4348-900B-9C431BFC463F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3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LES dizem: Se um homem despedir sua mulher, e ela o deixar, e se ajuntar a outro homem, porventura tornará ele outra vez para ela? Não se poluirá de todo aquela terra? Ora, tu te prostituíste com muitos amantes; mas ainda assim, torna para mim, diz o 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3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contudo, apesar de tudo isso a sua aleivosa irmã Judá não voltou para mim de todo o seu coração, mas falsamente, diz 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3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SENHOR me disse: Já a rebelde Israel mostrou-se mais justa do que a aleivosa Jud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3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ai, pois, e apregoa estas palavras para o lado norte, e dize: Volta, ó rebelde Israel, diz o SENHOR, e não farei cair a minha ira sobre ti; porque misericordioso sou, diz o SENHOR, e não conservarei para sempre a minha i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3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omente reconhece a tua iniqüidade, que transgrediste contra o SENHOR teu Deus; e estendeste os teus caminhos aos estranhos, debaixo de toda a árvore verde, e não deste ouvidos à minha voz, diz 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3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nvertei-vos, ó filhos rebeldes, diz o SENHOR; pois eu vos desposei; e vos tomarei, a um de uma cidade, e a dois de uma família; e vos levarei a Si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3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ar-vos-ei pastores segundo o meu coração, os quais vos apascentarão com ciência e com inteligênc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3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ucederá que, quando vos multiplicardes e frutificardes na terra, naqueles dias, diz o SENHOR, nunca mais se dirá: A arca da aliança do SENHOR, nem lhes virá ao coração; nem dela se lembrarão, nem a visitarão; nem se fará out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3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aquele tempo chamarão a Jerusalém o trono do SENHOR, e todas as nações se ajuntarão a ela, em nome do SENHOR, em Jerusalém; e nunca mais andarão segundo o propósito do seu coração malign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3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aqueles dias andará a casa de Judá com a casa de Israel; e virão juntas da terra do norte, para a terra que dei em herança a vossos pa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3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eu dizia: Como te porei entre os filhos, e te darei a terra desejável, a excelente herança dos exércitos das nações? Mas eu disse: Tu me chamarás meu pai, e de mim não te desviará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3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Levanta os teus olhos aos altos, e vê: onde não te prostituíste? Nos caminhos te assentavas para eles, como o árabe no deserto; assim poluíste a terra com as tuas fornicações e com a tua malíc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3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veras, como a mulher se aparta aleivosamente do seu marido, assim aleivosamente te houveste comigo, ó casa de Israel, diz 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3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os lugares altos se ouviu uma voz, pranto e súplicas dos filhos de Israel; porquanto perverteram o seu caminho, e se esqueceram do SENHOR seu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3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oltai, ó filhos rebeldes, eu curarei as vossas rebeliões. Eis-nos aqui, vimos a ti; porque tu és o SENHOR nosso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3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ertamente em vão se confia nos outeiros e na multidão das montanhas; deveras no SENHOR nosso Deus está a salvação de Isra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3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a confusão devorou o trabalho de nossos pais desde a nossa mocidade; as suas ovelhas e o seu gado, os seus filhos e as suas filh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3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itemo-nos em nossa vergonha; e cubra-nos a nossa confusão, porque pecamos contra o SENHOR nosso Deus, nós e nossos pais, desde a nossa mocidade até o dia de hoje; e não demos ouvidos à voz do SENHOR nosso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3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isso foram retiradas as chuvas, e não houve chuva serôdia; mas tu tens a fronte de uma prostituta, e não queres ter vergonh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3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o menos desde agora não chamarás por mim, dizendo: Pai meu, tu és o guia da minha mocidade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3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nservará ele para sempre a sua ira? Ou a guardará continuamente? Eis que tens falado e feito quantas maldades pudes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3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sse mais o SENHOR nos dias do rei Josias: Viste o que fez a rebelde Israel? Ela foi a todo o monte alto, e debaixo de toda a árvore verde, e ali andou prostituindo-s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3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u disse: Depois que fizer tudo isto, voltará para mim; mas não voltou; e viu isto a sua aleivosa irmã Jud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3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vi que, por causa de tudo isto, por ter cometido adultério a rebelde Israel, a despedi, e lhe dei a sua carta de divórcio, que a aleivosa Judá, sua irmã, não temeu; mas se foi e também ela mesma se prostitui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3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ucedeu que pela fama da sua prostituição, contaminou a terra; porque adulterou com a pedra e com a madei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57:23Z</dcterms:created>
  <dc:creator>Admin</dc:creator>
  <dc:description/>
  <dc:language>en-US</dc:language>
  <cp:lastModifiedBy>Admin</cp:lastModifiedBy>
  <dcterms:modified xsi:type="dcterms:W3CDTF">2008-07-30T23:57:23Z</dcterms:modified>
  <cp:revision>1</cp:revision>
  <dc:subject/>
  <dc:title>Slide 1</dc:title>
</cp:coreProperties>
</file>