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5DF7-E5EB-4F5D-BA53-905542BE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6893-BC8D-4280-81F4-88FDC819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505E-CD72-4605-8C6A-162AAA0E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56D1-7023-4F55-897A-9E9E699C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6F3F-CFAE-46D6-A163-A28D1F50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E93A-BA5F-48DE-9C88-BC6E294A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5CBF-3F5C-4F62-BFDA-2102303F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6693-0A17-4A0C-A9AD-303DC611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C29B-38C0-407B-BA34-FB514BDC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0DA5-E50A-49B8-BC7F-4AC02623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9785-CF3A-415F-AF48-D7498CD2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86A1-435E-4AE9-A960-D45F92E0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A119-BE93-4354-A6DA-F8F6B40B3EA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minha angústia clamei ao SENHOR, e me ouv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, livra a minha alma dos lábios mentirosos e da língua enganad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te será dado, ou que te será acrescentado, língua enganado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lechas agudas do poderoso, com brasas vivas de zimb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e mim, que peregrino em Meseque, e habito nas tendas de Qued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alma bastante tempo habitou com os que detestam a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cífico sou, mas quando eu falo já eles procuram a gu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17Z</dcterms:created>
  <dc:creator>Admin</dc:creator>
  <dc:description/>
  <dc:language>en-US</dc:language>
  <cp:lastModifiedBy>Admin</cp:lastModifiedBy>
  <dcterms:modified xsi:type="dcterms:W3CDTF">2008-07-31T00:28:17Z</dcterms:modified>
  <cp:revision>1</cp:revision>
  <dc:subject/>
  <dc:title>Slide 1</dc:title>
</cp:coreProperties>
</file>