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E1B-AB75-4BFE-A3DC-1E87A7BC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F95-0BDE-4F68-817B-767E2DD7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177-2AB0-449A-93B3-9BEE0DB1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6DC-EFD1-4470-851A-47ED7A8B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C10-DC81-45DC-BCE3-0929AE9C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436-86AE-45A8-847D-CAC9046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675-DD9A-460C-83CA-14E608D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152-B19C-476F-A74B-D2FC2E86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BB3-1320-46D6-8625-EBB0DB63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470-D60F-4954-BFC6-50E8211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EFB-6EDF-4CFE-ADF6-8FF1124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7FB-AFA1-40AE-98E4-8C11279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FCD-760A-4614-A518-8070A615D5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apóstolo de Jesus Cristo, pela vontade de Deus, e o irmão Timóte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possais andar dignamente diante do Senhor, agradando-lhe em tudo, frutificando em toda a boa obra, e crescendo no conhecimento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oborados em toda a fortaleza, segundo a força da sua glória, em toda a paciência, e longanimidade com goz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ndo graças ao Pai que nos fez idôneos para participar da herança dos santos na lu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os tirou da potestade das trevas, e nos transportou para o reino do Filho do seu am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quem temos a redenção pelo seu sangue, a saber, a remissão dos pec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é imagem do Deus invisível, o primogênito de toda a cri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le foram criadas todas as coisas que há nos céus e na terra, visíveis e invisíveis, sejam tronos, sejam dominações, sejam principados, sejam potestades. Tudo foi criado por ele e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é antes de todas as coisas, e todas as coisas subsistem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é a cabeça do corpo, da igreja; é o princípio e o primogênito dentre os mortos, para que em tudo tenha a preemin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i do agrado do Pai que toda a plenitude nele habitas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santos e irmãos fiéis em Cristo, que estão em Colossos: Graça a vós, e paz da parte de Deus nosso Pai e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, havendo por ele feito a paz pelo sangue da sua cruz, por meio dele reconciliasse consigo mesmo todas as coisas, tanto as que estão na terra, como as que estão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ós também, que noutro tempo éreis estranhos, e inimigos no entendimento pelas vossas obras más, agora contudo vos reconcili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orpo da sua carne, pela morte, para perante ele vos apresentar santos, e irrepreensíveis, e inculpáve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na verdade, permanecerdes fundados e firmes na fé, e não vos moverdes da esperança do evangelho que tendes ouvido, o qual foi pregado a toda criatura que há debaixo do céu, e do qual eu, Paulo, estou feito minis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o-me agora no que padeço por vós, e na minha carne cumpro o resto das aflições de Cristo, pelo seu corpo, que é a igrej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qual eu estou feito ministro segundo a dispensação de Deus, que me foi concedida para convosco, para cumprir a palavr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istério que esteve oculto desde todos os séculos, e em todas as gerações, e que agora foi manifesto aos seus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 Deus quis fazer conhecer quais são as riquezas da glória deste mistério entre os gentios, que é Cristo em vós, esperança da gló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anunciamos, admoestando a todo o homem, e ensinando a todo o homem em toda a sabedoria; para que apresentemos todo o homem perfeito em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isto também trabalho, combatendo segundo a sua eficácia, que opera em mim podero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s damos a Deus, Pai de nosso Senhor Jesus Cristo, orando sempre por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uvimos da vossa fé em Cristo Jesus, e do amor que tendes para com todos os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esperança que vos está reservada nos céus, da qual já antes ouvistes pela palavra da verdade do evange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já chegou a vós, como também está em todo o mundo; e já vai frutificando, como também entre vós, desde o dia em que ouvistes e conhecestes a graça de Deus em ver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prendestes de Epafras, nosso amado conservo, que para vós é um fiel ministro de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os declarou também o vosso amor n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olossense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razão, nós também, desde o dia em que o ouvimos, não cessamos de orar por vós, e de pedir que sejais cheios do conhecimento da sua vontade, em toda a sabedoria e inteligência espiritu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57Z</dcterms:created>
  <dc:creator>Admin</dc:creator>
  <dc:description/>
  <dc:language>en-US</dc:language>
  <cp:lastModifiedBy>Admin</cp:lastModifiedBy>
  <dcterms:modified xsi:type="dcterms:W3CDTF">2008-07-30T23:25:57Z</dcterms:modified>
  <cp:revision>1</cp:revision>
  <dc:subject/>
  <dc:title>Slide 1</dc:title>
</cp:coreProperties>
</file>