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52F9-BA33-43FD-B76B-0DF61E3F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290E-E889-4581-8612-8A1D705E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0096-5FE1-41B1-B659-19E72D5E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C129-EB5F-4D46-A61F-34611629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721E-4128-4DA9-A255-5C5C63FC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4C2D-2350-405D-B692-1E5CBEAF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3CD-7C43-48AC-AFF6-B9E63060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3B3C-5175-4B6A-825F-A45C1CCA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BDE8-55F7-4D2D-8B5F-B6900579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23D3-66E8-43D9-B891-44C24053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BAC-4348-445D-B96C-4DC92D33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F42A-EA46-4FA9-8007-ECBD8AA4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489A-515A-4D0E-8D9F-6FA34CBFC3E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EÇOU Salomão a edificar a casa do SENHOR em Jerusalém, no monte Moriá, onde o SENHOR aparecera a Davi seu pai, no lugar que Davi tinha preparado na eira de Ornã, o jebus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ez na casa do lugar santíssimo dois querubins de obra móvel, e cobriu-os de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to às asas dos querubins, o seu comprimento era de vinte côvados; a asa de um deles, de cinco côvados, e tocava na parede da casa; e a outra asa de cinco côvados, e tocava na asa do outro querub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 asa do outro querubim era de cinco côvados, e tocava na parede da casa; era também a outra asa de cinco côvados, que tocava na asa do outro querub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asas destes querubins se estendiam vinte côvados; e estavam postos em pé, e os seus rostos virados para 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ez o véu de azul, púrpura, carmesim e linho fino; e pôs sobre ele querubin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também, diante da casa, duas colunas de trinta e cinco côvados de altura; e o capitel, que estava sobre cada uma, era de cinco cô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ez cadeias no oráculo, e as pôs sobre as cabeças das colunas; fez também cem romãs, as quais pôs entre as ca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ou as colunas diante do templo, uma à direita, e outra à esquerda; e chamou o nome da que estava à direita Jaquim, e o nome da que estava à esquerda Bo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eçou a edificar no segundo mês, no segundo dia, no ano quarto do seu rei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foram os fundamentos que Salomão pôs para edificar a casa de Deus: o comprimento em côvados, segundo a primeira medida, era de sessenta côvados, e a largura de vinte cô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átio, que estava na frente, tinha vinte côvados de comprimento, segundo a largura da casa, e a altura era de cento e vinte; e por dentro o revestiu com ouro p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casa grande forrou com madeira de faia; e então a revestiu com ouro fino; e fez sobre ela palmas e ca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 casa adornou de pedras preciosas, para ornamento; e o ouro era ouro de Parva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na casa revestiu, com ouro, as traves, os umbrais, as suas paredes e as suas portas; e lavrou querubins nas pare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mais a casa do lugar santíssimo, cujo comprimento, segundo a largura da casa, era de vinte côvados, e também a largura de vinte côvados; e revestiu-a de ouro fino, do peso de seiscentos tal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eso dos pregos era de cinqüenta siclos de ouro; e as câmaras cobriu de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9:06Z</dcterms:created>
  <dc:creator>Admin</dc:creator>
  <dc:description/>
  <dc:language>en-US</dc:language>
  <cp:lastModifiedBy>Admin</cp:lastModifiedBy>
  <dcterms:modified xsi:type="dcterms:W3CDTF">2008-07-30T23:49:06Z</dcterms:modified>
  <cp:revision>1</cp:revision>
  <dc:subject/>
  <dc:title>Slide 1</dc:title>
</cp:coreProperties>
</file>