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1DD-8F34-4C08-8648-4D374D54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6AB-B328-4F4D-A16E-956703E0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762-4FC7-4ABF-8588-29D2AD5E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9DD-1684-42C4-8B78-777B127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99E-7B79-44F2-9FC6-CAF05E5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204-F9F4-471E-82C0-F236AC0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697-8AD0-4AF8-89FC-AFA7586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BC8-3515-4997-89CF-180491C0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F4A-C145-43AE-86F2-FCD873CB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B92-7E1C-4A21-B18F-03CB469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960-1380-436B-93F2-D261FBD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1F6-2E2E-4907-BD11-D9605E7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BF6-432A-4C58-A731-C4AE864BA4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escapado, então souberam que a ilha se chamava M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nos distinguiram também com muitas honras; e, havendo de navegar, nos proveram das coisas necessá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ês meses depois partimos num navio de Alexandria que invernara na ilha, o qual tinha por insígnia Castor e Pólux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Siracusa, ficamos ali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nde, indo costeando, viemos a Régio; e soprando, um dia depois, um vento do sul, chegamos no segundo dia a Potéo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, achando alguns irmãos, nos rogaram que por sete dias ficássemos com eles; e depois nos dirigimos a R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lá, ouvindo os irmãos novas de nós, nos saíram ao encontro à Praça de Ápio e às Três Vendas, e Paulo, vendo-os, deu graças a Deus e tomou ân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chegamos a Roma, o centurião entregou os presos ao capitão da guarda; mas a Paulo se lhe permitiu morar por sua conta à parte, com o soldado que o guard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rês dias depois, Paulo convocou os principais dos judeus e, juntos eles, lhes disse: Homens irmãos, não havendo eu feito nada contra o povo, ou contra os ritos paternos, vim contudo preso desde Jerusalém, entregue nas mãos dos roma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havendo-me examinado, queriam soltar-me, por não haver em mim crime algum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opondo-se os judeus, foi-me forçoso apelar para César, não tendo, contudo, de que acusar a minh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bárbaros usaram conosco de não pouca humanidade; porque, acendendo uma grande fogueira, nos recolheram a todos por causa da chuva que caía, e por causa do f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causa vos chamei, para vos ver e falar; porque pela esperança de Israel estou com esta ca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lhe disseram: Nós não recebemos acerca de ti carta alguma da Judéia, nem veio aqui algum dos irmãos, que nos anunciasse ou dissesse de ti mal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entanto bem quiséramos ouvir de ti o que sentes; porque, quanto a esta seita, notório nos é que em toda a parte se fala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 eles assinalado um dia, muitos foram ter com ele à pousada, aos quais declarava com bom testemunho o reino de Deus, e procurava persuadi-los à fé em Jesus, tanto pela lei de Moisés como pelos profetas, desde a manhã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criam no que se dizia; mas outros não c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ficaram entre si discordes, despediram-se, dizendo Paulo esta palavra: Bem falou o Espírito Santo a nossos pais pelo profeta Is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Vai a este povo, e dize: De ouvido ouvireis, e de maneira nenhuma entendereis; E, vendo vereis, e de maneira nenhuma perceb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coração deste povo está endurecido, E com os ouvidos ouviram pesadamente, E fecharam os olhos, Para que nunca com os olhos vejam, Nem com os ouvidos ouçam, Nem do coração entendam, E se convertam, E eu os c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-vos, pois, notório que esta salvação de Deus é enviada aos gentios, e eles a ouv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ele dito estas palavras, partiram os judeus, tendo entre si grande con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Paulo ajuntado uma quantidade de vides, e pondo-as no fogo, uma víbora, fugindo do calor, lhe acometeu 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 ficou dois anos inteiros na sua própria habitação que alugara, e recebia todos quantos vinham vê-l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gando o reino de Deus, e ensinando com toda a liberdade as coisas pertencentes ao Senhor Jesus Cristo, sem impediment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bárbaros, vendo-lhe a víbora pendurada na mão, diziam uns aos outros: Certamente este homem é homicida, visto como, escapando do mar, a justiça não o deixa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acudindo ele a víbora no fogo, não sofreu nenhu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esperavam que viesse a inchar ou a cair morto de repente; mas tendo esperado já muito, e vendo que nenhum incômodo lhe sobrevinha, mudando de parecer, diziam que era u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, próximo daquele lugar, havia umas herdades que pertenciam ao principal da ilha, por nome Públio, o qual nos recebeu e hospedou benignamente por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estar de cama enfermo de febre e disenteria o pai de Públio, que Paulo foi ver, e, havendo orado, pôs as mãos sobre ele, e o cu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ito, pois, isto, vieram também ter com ele os demais que na ilha tinham enfermidades, e sa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38Z</dcterms:created>
  <dc:creator>Admin</dc:creator>
  <dc:description/>
  <dc:language>en-US</dc:language>
  <cp:lastModifiedBy>Admin</cp:lastModifiedBy>
  <dcterms:modified xsi:type="dcterms:W3CDTF">2008-07-30T23:25:38Z</dcterms:modified>
  <cp:revision>1</cp:revision>
  <dc:subject/>
  <dc:title>Slide 1</dc:title>
</cp:coreProperties>
</file>