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022-201B-47FF-84A9-1FA015CA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F81-01A3-4EBC-8E08-F8F65A55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858-DB20-4C81-951F-104F6009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0D6-30B8-421F-8EC2-DF00EF59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3AB-DE4B-49C6-AF37-650BA796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82F-1201-4007-89BE-0CDCCB15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A140-6807-4070-BBC7-F13D462F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D44-346B-4794-8F68-07232498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248E-7097-4786-9079-AD8A33DE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446-C9A7-406F-BBE5-A46C518E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6B2-16D6-4622-87C9-00A03162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ED2-2234-4A98-BA3C-9839CDD1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D8C5-F71C-434C-BE8F-B03CDFF2446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ERTE-TE, ó Israel, ao SENHOR teu Deus; porque pelos teus pecados tens caí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i convosco palavras, e convertei-vos ao SENHOR; dizei-lhe: Tira toda a iniqüidade, e aceita o que é bom; e ofereceremos como novilhos os sacrifícios dos nossos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nos salvará a Assíria, não iremos montados em cavalos, e à obra das nossas mãos já não diremos mais: Tu és o nosso deus; porque por ti o órfão alcança misericó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ararei a sua infidelidade, eu voluntariamente os amarei; porque a minha ira se apartou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erei para Israel como o orvalho. Ele florescerá como o lírio e lançará as suas raízes como o Líb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nder-se-ão os seus galhos, e a sua glória será como a da oliveira, e sua fragrância como a do Líb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rão os que habitam debaixo da sua sombra; serão vivificados como o trigo, e florescerão como a vide; a sua memória será como o vinho do Líb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fraim dirá: Que mais tenho eu com os ídolos? Eu o tenho ouvido, e cuidarei dele; eu sou como a faia verde; de mim é achado o teu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sábio, para que entenda estas coisas? Quem é prudente, para que as saiba? Porque os caminhos do SENHOR são retos, e os justos andarão neles, mas os transgressores neles ca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54Z</dcterms:created>
  <dc:creator>Admin</dc:creator>
  <dc:description/>
  <dc:language>en-US</dc:language>
  <cp:lastModifiedBy>Admin</cp:lastModifiedBy>
  <dcterms:modified xsi:type="dcterms:W3CDTF">2008-07-31T00:20:54Z</dcterms:modified>
  <cp:revision>1</cp:revision>
  <dc:subject/>
  <dc:title>Slide 1</dc:title>
</cp:coreProperties>
</file>