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7A1-6AB7-4C2B-852B-7F97A68E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F09-4953-49C5-B078-0008F361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79B-1E6E-4FAF-BE3A-3D283780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484-D5D9-4540-82AC-1F234D3B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BD8-E1F7-429A-9D87-FE45616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70C-DBFF-4D29-8BA5-609D69CD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EE6-6F73-4EB5-BA70-DFFC4F09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B7E-7671-4B30-B88C-4F9EA906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ABF-5A79-44D2-BD9A-6E157FC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F31-5EA9-4B63-9316-16586CFE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39E-3094-4951-BBA0-4E853AA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F1E-9601-4C1F-9290-F5DF60EA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9B49-7E93-4968-905A-D65D3073D26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se aproximaram de Jerusalém, de Betfagé e de Betânia, junto do Monte das Oliveiras, enviou dois dos seus discípul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o reino do nosso pai Davi, que vem em nome do Senhor. Hosana n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entrou em Jerusalém, no templo, e, tendo visto tudo em redor, como fosse já tarde, saiu para Betânia com os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dia seguinte, quando saíram de Betânia, teve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de longe uma figueira que tinha folhas, foi ver se nela acharia alguma coisa; e, chegando a ela, não achou senão folhas, porque não era tempo de f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falando, disse à figueira: Nunca mais coma alguém fruto de ti. E os seus discípulos ouviram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a Jerusalém; e Jesus, entrando no templo, começou a expulsar os que vendiam e compravam no templo; e derrubou as mesas dos cambiadores e as cadeiras dos que vendiam pom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onsentia que alguém levasse algum vaso pel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nsinava, dizendo: Não está escrito: A minha casa será chamada, por todas as nações, casa de oração? Mas vós a tendes feito covil de ladr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cribas e príncipes dos sacerdotes, tendo ouvido isto, buscavam ocasião para o matar; pois eles o temiam, porque toda a multidão estava admirada acerca da sua doutr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á tarde, saiu para fora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Ide à aldeia que está defronte de vós; e, logo que ali entrardes, encontrareis preso um jumentinho, sobre o qual ainda não montou homem algum; soltai-o, e trazei-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passando pela manhã, viram que a figueira se tinha secado desde as raí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lembrando-se, disse-lhe: Mestre, eis que a figueira, que tu amaldiçoaste, se se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Tende fé em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verdade vos digo que qualquer que disser a este monte: Ergue-te e lança-te no mar, e não duvidar em seu coração, mas crer que se fará aquilo que diz, tudo o que disser lhe será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vos digo que todas as coisas que pedirdes, orando, crede receber, e tê-las-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stiverdes orando, perdoai, se tendes alguma coisa contra alguém, para que vosso Pai, que está nos céus, vos perdoe as vossas ofen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vós não perdoardes, também vosso Pai, que está nos céus, vos não perdoará as vossas ofen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am a Jerusalém, e, andando ele pelo templo, os principais dos sacerdotes, e os escribas, e os anciãos, se aproximar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disseram: Com que autoridade fazes tu estas coisas? ou quem te deu tal autoridade para fazer esta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, respondendo, disse-lhes: Também eu vos perguntarei uma coisa, e respondei-me; e então vos direi com que autoridade faço estas cois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vos disser: Por que fazeis isso? dizei-lhe que o Senhor precisa dele, e logo o deixará trazer para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batismo de João era do céu ou dos homens? respondei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arrazoavam entre si, dizendo: Se dissermos: Do céu, ele nos dirá: Então por que o não cr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rém, dissermos: Dos homens, tememos o povo. Porque todos sustentavam que João verdadeiramente era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, disseram a Jesus: Não sabemos. E Jesus lhes replicou: Também eu vos não direi com que autoridade faço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, e encontraram o jumentinho preso fora da porta, entre dois caminhos, e o sol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que ali estavam lhes disseram: Que fazeis, soltando o jument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rém, disseram-lhes como Jesus lhes tinha mandado; e deixaram-nos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ram o jumentinho a Jesus, e lançaram sobre ele as suas vestes, e assentou-se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estendiam as suas vestes pelo caminho, e outros cortavam ramos das árvores, e os espalhavam pel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que iam adiante, e os que seguiam, clamavam, dizendo: Hosana, bendito o que vem em nome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33Z</dcterms:created>
  <dc:creator>Admin</dc:creator>
  <dc:description/>
  <dc:language>en-US</dc:language>
  <cp:lastModifiedBy>Admin</cp:lastModifiedBy>
  <dcterms:modified xsi:type="dcterms:W3CDTF">2008-07-31T00:13:33Z</dcterms:modified>
  <cp:revision>1</cp:revision>
  <dc:subject/>
  <dc:title>Slide 1</dc:title>
</cp:coreProperties>
</file>