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A6B-ACB0-42FE-A829-0AAE007D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2CA-9239-4DA0-AC72-2749E97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CA9-528B-4BB6-914C-09C396E3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6A6-90AF-477E-AAEC-6F3D136E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C20-5CB9-474D-A440-BD7253A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BC8-4558-41C4-A14A-690FBCF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BEE-E45E-4A5E-AD4B-48CD1FB4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403-019E-4F21-9C96-122192F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055-D196-4B28-8056-023DBC1C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9E9-8666-4E9B-836D-58BE9AE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391-A432-4E92-8AFC-6E7FAAA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38C-1E24-440F-B6F9-E1A978A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25BC-C105-4C56-8994-2D97DED0B5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inham jurado os homens de Israel em Mizpá, dizendo: Nenhum de nós dará sua filha por mulher aos benja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assembléia enviou para lá doze mil homens dos mais valentes, e lhes ordenou, dizendo: Ide, e ao fio da espada feri aos moradores de Jabes-Gileade, e às mulheres e aos men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isto é o que haveis de fazer: A todo o homem e a toda a mulher que se houver deitado com um homem totalmente destru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entre os moradores de Jabes-Gileade quatrocentas moças virgens, que não tinham conhecido homem; e as trouxeram ao arraial, a Siló, que está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 a assembléia enviou, e falou aos filhos de Benjamim, que estavam na penha de Rimom, e lhes proclamou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mesmo tempo voltaram os benjamitas; e deram-lhes as mulheres que haviam guardado com vida, das mulheres de Jabes-Gileade; porém estas ainda não lhes bas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se arrependeu por causa de Benjamim; porquanto o SENHOR tinha feito brecha n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anciãos da assembléia: Que faremos acerca de mulheres para os que restaram, pois foram destruídas as mulheres de Benja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mais: Tenha Benjamim uma herança nos que restaram, e não seja destruída nenhuma trib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ós não lhes poderemos dar mulheres de nossas filhas, porque os filhos de Israel juraram, dizendo: Maldito aquele que der mulher aos benja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Eis que de ano em ano há solenidade do SENHOR em Siló, que se celebra para o norte de Betel do lado do nascente do sol, pelo caminho alto que sobe de Betel a Siquém, e para o sul de Leb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o povo a Betel, e ali ficou até à tarde diante de Deus; e todos levantaram a sua voz, e prantearam com grande pra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aram aos filhos de Benjamim, dizendo: Ide, e emboscai-vos nas vi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ai, e eis aí as filhas de Siló a dançar em rodas, saí vós das vinhas, e arrebatai cada um sua mulher das filhas de Siló, e ide-vos à terra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seus pais ou seus irmãos vierem a litigar conosco, nós lhes diremos: Por amor de nós, tende compaixão deles, pois nesta guerra não tomamos mulheres para cada um deles; por que não lhas destes vós, para que agora ficásseis culp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njamim o fizeram assim, e levaram mulheres conforme ao número deles, das que arrebataram das rodas que dançavam; e foram-se, e voltaram à sua herança, e reedificaram as cidades, e habitaram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hos de Israel partiram dali, cada um para a sua tribo e para a sua família; e saíram dali, cada um para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não havia rei em Israel; porém cada um fazia o que parecia reto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Ah! SENHOR Deus de Israel, por que sucedeu isto, que hoje falte uma tribo em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dia seguinte, o povo, pela manhã se levantou, e edificou ali um altar; e ofereceu holocaustos e ofertas pacíf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filhos de Israel: Quem de todas as tribos de Israel não subiu à assembléia do SENHOR? Porque se tinha feito um grande juramento acerca dos que não fossem ao SENHOR em Mizpá, dizendo: Morrerá cer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ependeram-se os filhos de Israel acerca de Benjamim, seu irmão, e disseram: Cortada é hoje de Israel uma tri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havemos de conseguir mulheres para os que restaram deles, pois nós temos jurado pelo SENHOR que nenhuma de nossas filhas lhes daríamos por mulh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Há algumas das tribos de Israel que não subiram ao SENHOR a Mizpá? E eis que ninguém de Jabes-Gileade viera ao arraial, à assemb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quando se contou o povo, eis que nenhum dos moradores de Jabes-Gileade se acho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40Z</dcterms:created>
  <dc:creator>Admin</dc:creator>
  <dc:description/>
  <dc:language>en-US</dc:language>
  <cp:lastModifiedBy>Admin</cp:lastModifiedBy>
  <dcterms:modified xsi:type="dcterms:W3CDTF">2008-07-31T00:07:40Z</dcterms:modified>
  <cp:revision>1</cp:revision>
  <dc:subject/>
  <dc:title>Slide 1</dc:title>
</cp:coreProperties>
</file>