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45E-D431-415A-BDA7-0630B85A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EA7-7177-4F67-9946-CB5D7F5A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2D6-88C3-4E0D-8F93-E949AF28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B86-DAED-42AE-8FD7-3E1F6B8F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A29-7315-4140-87C8-F2F6F1D4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F0E-EDF0-4AD5-A2C0-97E3D72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9F4-06B9-4DE9-B90D-47751412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2E2-3920-4B07-96E2-A4E48751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48E-D7BE-4F50-94DE-531631DF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9A1-54FC-4BA4-AE9C-55FA248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6B0-4F83-4C11-861D-DD5265F6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C1A-10EA-413A-A2B8-7D19BC8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6C48-0445-4606-ABF3-FAE649D5605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SO falais vós, deveras, ó congregação, a justiça? Julgais retamente, ó filhos dos home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justo se alegrará quando vir a vingança; lavará os seus pés no sangue do ímp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á o homem: Deveras há uma recompensa para o justo; deveras há um Deus que julga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no coração forjais iniqüidades; sobre a terra pesais a violência das voss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enam-se os ímpios desde a madre; andam errados desde que nasceram, falando ment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veneno é semelhante ao veneno da serpente; são como a víbora surda, que tapa os ouvi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não ouvir a voz dos encantadores, do encantador sábio em encant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quebra-lhes os dentes nas suas bocas; arranca, SENHOR, os queixais aos filhos dos le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rram como águas que correm constantemente. Quando ele armar as suas flechas, fiquem feitas em ped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 lesma se derrete, assim se vá cada um deles, como o aborto duma mulher, que nunca viu 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as vossas panelas sintam o calor dos espinhos, como por um redemoinho os arrebatará ele, vivo e em indig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44Z</dcterms:created>
  <dc:creator>Admin</dc:creator>
  <dc:description/>
  <dc:language>en-US</dc:language>
  <cp:lastModifiedBy>Admin</cp:lastModifiedBy>
  <dcterms:modified xsi:type="dcterms:W3CDTF">2008-07-31T00:25:44Z</dcterms:modified>
  <cp:revision>1</cp:revision>
  <dc:subject/>
  <dc:title>Slide 1</dc:title>
</cp:coreProperties>
</file>