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DBA-E2D9-43EA-BAA0-30DA5761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EAD-D4FE-4F3C-A544-BB2453F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3DE-3EEA-45BD-961C-16CBBB4B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972-17A0-4734-9D2D-FC07898B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E66-4796-4288-9FD8-43964060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1AB-C37C-4D02-B087-29D71674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7E7-162C-4F0D-8205-179132A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9E2-FD93-4BEF-B60F-7F368CB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5B5-5306-46D0-9F8D-DBA799A4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851-B77C-4659-9125-7A4DB567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5D8-E8D5-422D-8F40-6491B7FF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EAC-FA55-43AC-841A-BD86D2A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0571-4EAE-495A-8798-A1F7AB023A7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o Isaque envelheceu, e os seus olhos se escureceram, de maneira que não podia ver, chamou a Esaú, seu filho mais velho, e disse-lhe: Meu filho. E ele lhe disse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á-lo-ás a teu pai, para que o coma; para que te abençoe antes da su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acó a Rebeca, sua mãe: Eis que Esaú meu irmão é homem cabeludo, e eu homem lis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me apalpará o meu pai, e serei aos seus olhos como enganador; assim trarei eu sobre mim maldição, e não bê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sua mãe: Meu filho, sobre mim seja a tua maldição; somente obedece à minha voz, e vai, traze-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, e tomou-os, e trouxe-os a sua mãe; e sua mãe fez um guisado saboroso, como seu pai gos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mou Rebeca os vestidos de gala de Esaú, seu filho mais velho, que tinha consigo em casa, e vestiu a Jacó, seu filho men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as peles dos cabritos cobriu as suas mãos e a lisura do seu pescoç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o guisado saboroso e o pão que tinha preparado, na mão de Jacó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ele a seu pai, e disse: Meu pai! E ele disse: Eis-me aqui; quem és tu, meu fi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disse a seu pai: Eu sou Esaú, teu primogênito; tenho feito como me disseste; levanta-te agora, assenta-te e come da minha caça, para que a tua alma me abenço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Eis que já agora estou velho, e não sei o dia da minha mor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Isaque a seu filho: Como é isto, que tão cedo a achaste, filho meu? E ele disse: Porque o SENHOR teu Deus a mandou ao meu enco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Isaque a Jacó: Chega-te agora, para que te apalpe, meu filho, se és meu filho Esaú mesmo, ou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chegou Jacó a Isaque seu pai, que o apalpou, e disse: A voz é a voz de Jacó, porém as mãos são as mãos de Esa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o conheceu, porquanto as suas mãos estavam cabeludas, como as mãos de Esaú seu irmão; e abençoou-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És tu meu filho Esaú mesmo? E ele disse: Eu s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: Faze chegar isso perto de mim, para que coma da caça de meu filho; para que a minha alma te abençoe. E chegou-lhe, e comeu; trouxe-lhe também vinho, e beb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Isaque seu pai: Ora chega-te, e beija-me, filho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-se, e beijou-o; então sentindo o cheiro das suas vestes, abençoou-o, e disse: Eis que o cheiro do meu filho é como o cheiro do campo, que o SENHOR abenço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te dê Deus do orvalho dos céus, e das gorduras da terra, e abundância de trigo e de mo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rvam-te povos, e nações se encurvem a ti; sê senhor de teus irmãos, e os filhos da tua mãe se encurvem a ti; malditos sejam os que te amaldiçoarem, e benditos sejam os que te abenço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toma as tuas armas, a tua aljava e o teu arco, e sai ao campo, e apanha para mim alguma c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cabando Isaque de abençoar a Jacó, apenas Jacó acabava de sair da presença de Isaque seu pai, veio Esaú, seu irmão, da sua ca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também ele um guisado saboroso, e trouxe-o a seu pai; e disse a seu pai: Levanta-te, meu pai, e come da caça de teu filho, para que me abençoe a tua al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Isaque seu pai: Quem és tu? E ele disse: Eu sou teu filho, o teu primogênito Esa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tremeceu Isaque de um estremecimento muito grande, e disse: Quem, pois, é aquele que apanhou a caça, e ma trouxe? E comi de tudo, antes que tu viesses, e abençoei-o, e ele será bend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aú, ouvindo as palavras de seu pai, bradou com grande e mui amargo brado, e disse a seu pai: Abençoa-me também a mim,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Veio teu irmão com sutileza, e tomou a tua bê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le: Não é o seu nome justamente Jacó, tanto que já duas vezes me enganou? A minha primogenitura me tomou, e eis que agora me tomou a minha bênção. E perguntou: Não reservaste, pois, para mim nenhuma bênç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Isaque a Esaú dizendo: Eis que o tenho posto por senhor sobre ti, e todos os seus irmãos lhe tenho dado por servos; e de trigo e de mosto o tenho fortalecido; que te farei, pois, agora, meu fi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saú a seu pai: Tens uma só bênção, meu pai? Abençoa-me também a mim, meu pai. E levantou Esaú a sua voz, e ch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Isaque, seu pai, e disse-lhe: Eis que a tua habitação será nas gorduras da terra e no orvalho dos alt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ze-me um guisado saboroso, como eu gosto, e traze-mo, para que eu coma; para que minha alma te abençoe, antes que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la tua espada viverás, e ao teu irmão servirás. Acontecerá, porém, que quando te assenhoreares, então sacudirás o seu jugo do teu pesc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aú odiou a Jacó por causa daquela bênção, com que seu pai o tinha abençoado; e Esaú disse no seu coração: Chegar-se-ão os dias de luto de meu pai; e matarei a Jacó m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denunciadas a Rebeca estas palavras de Esaú, seu filho mais velho; e ela mandou chamar a Jacó, seu filho menor, e disse-lhe: Eis que Esaú teu irmão se consola a teu respeito, propondo matar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meu filho, ouve a minha voz, e levanta-te; acolhe-te a Labão meu irmão, em Har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a com ele alguns dias, até que passe o furor de teu irm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que se desvie de ti a ira de teu irmão, e se esqueça do que lhe fizeste; então mandarei trazer-te de lá; por que seria eu desfilhada também de vós ambos num mesmo d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Rebeca a Isaque: Enfadada estou da minha vida, por causa das filhas de Hete; se Jacó tomar mulher das filhas de Hete, como estas são, das filhas desta terra, para que me servirá a vi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beca escutou quando Isaque falava ao seu filho Esaú. E foi Esaú ao campo para apanhar a caça que havia de tr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Rebeca a Jacó seu filho, dizendo: Eis que tenho ouvido o teu pai que falava com Esaú teu irmã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ze-me caça, e faze-me um guisado saboroso, para que eu coma, e te abençoe diante da face do SENHOR, antes da minh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filho meu, ouve a minha voz naquilo que eu te ma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 agora ao rebanho, e traze-me de lá dois bons cabritos, e eu farei deles um guisado saboroso para teu pai, como ele gos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46Z</dcterms:created>
  <dc:creator>Admin</dc:creator>
  <dc:description/>
  <dc:language>en-US</dc:language>
  <cp:lastModifiedBy>Admin</cp:lastModifiedBy>
  <dcterms:modified xsi:type="dcterms:W3CDTF">2008-07-30T23:38:46Z</dcterms:modified>
  <cp:revision>1</cp:revision>
  <dc:subject/>
  <dc:title>Slide 1</dc:title>
</cp:coreProperties>
</file>