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D719-A4FF-4421-866D-D851BB6BC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B7DD-3B42-413F-B8B1-D0D67C3B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1734-2E2B-4CE9-9C1F-21FC3830D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B9EF-A3CF-4CA2-B5B7-2BBD8839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2F4E-2D9A-49D4-8939-0638CF3D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6E3D-E3F7-4145-8CEF-60444267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FF9C-5622-4D40-AFBB-D4302D60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BAB7-C410-42CF-AD41-8957D6C7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5C5C-F028-45BF-B67B-2A7BE581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9B0C-7FB9-48C0-97AF-90E2CC2B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A23E-D834-4612-AA6B-C6034B82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E605-3CDD-45EE-AB9D-E56D1082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8B1A-312A-4C0B-9E50-9CD197EBBA0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num daqueles dias que, estando ele ensinando o povo no templo, e anunciando o evangelho, sobrevieram os principais dos sacerdotes e os escribas com os anciã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tempo próprio mandou um servo aos lavradores, para que lhe dessem dos frutos da vinha; mas os lavradores, espancando-o, mandaram-no vaz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rnou ainda a mandar outro servo; mas eles, espancando também a este, e afrontando-o, mandaram-no vaz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rnou ainda a mandar um terceiro; mas eles, ferindo também a este, o expuls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senhor da vinha: Que farei? Mandarei o meu filho amado; talvez, vendo-o, seja respeit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vendo-o os lavradores, arrazoaram entre si, dizendo: Este é o herdeiro; vinde, matemo-lo, para que a herança seja nos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ançando-o fora da vinha, o mataram. Que lhes fará, pois, o SENHOR da vinh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rá, e destruirá estes lavradores, e dará a outros a vinha. E, ouvindo eles isto, disseram: Não seja assim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e, olhando para eles, disse: Que é isto, pois, que está escrito? A pedra, que os edificadores reprovaram, Essa foi feita cabeça da esqui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lquer que cair sobre aquela pedra ficará em pedaços, e aquele sobre quem ela cair será feito em p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principais dos sacerdotes e os escribas procuravam lançar mão dele naquela mesma hora; mas temeram o povo; porque entenderam que contra eles dissera esta parábo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aram-lhe, dizendo: Dize-nos, com que autoridade fazes estas coisas? Ou, quem é que te deu esta autoridad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bservando-o, mandaram espias, que se fingissem justos, para o apanharem nalguma palavra, e o entregarem à jurisdição e poder do presid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rguntaram-lhe, dizendo: Mestre, nós sabemos que falas e ensinas bem e retamente, e que não consideras a aparência da pessoa, mas ensinas com verdade o caminh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É-nos lícito dar tributo a César ou n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0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ntendendo ele a sua astúcia, disse-lhes: Por que me tenta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0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ostrai-me uma moeda. De quem tem a imagem e a inscrição? E, respondendo eles, disseram: De Cés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0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s então: Dai, pois, a César o que é de César, e a Deus o que é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0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puderam apanhá-lo em palavra alguma diante do povo; e, maravilhados da sua resposta, calaram-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0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ndo-se alguns dos saduceus, que dizem não haver ressurreição, perguntaram-lh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0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ndo: Mestre, Moisés nos deixou escrito que, se o irmão de algum falecer, tendo mulher, e não deixar filhos, o irmão dele tome a mulher, e suscite posteridade a seu ir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0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ouve, pois, sete irmãos, e o primeiro tomou mulher, e morreu sem filh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respondendo ele, disse-lhes: Também eu vos farei uma pergunta: Dizei-me poi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0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ou-a o segundo por mulher, e ele morreu sem fi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0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ou-a o terceiro, e igualmente também os sete; e morreram, e não deixaram fi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0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último, depois de todos, morreu também a mul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0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na ressurreição, de qual deles será a mulher, pois que os sete por mulher a tivera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0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respondendo Jesus, disse-lhes: Os filhos deste mundo casam-se, e dão-se em casamen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0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que forem havidos por dignos de alcançar o mundo vindouro, e a ressurreição dentre os mortos, nem hão de casar, nem ser dados em casamen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0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já não podem mais morrer; pois são iguais aos anjos, e são filhos de Deus, sendo filhos da ressurre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0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 os mortos hão de ressuscitar também o mostrou Moisés junto da sarça, quando chama ao Senhor Deus de Abraão, e Deus de Isaque, e Deus de Jac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0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Deus não é Deus de mortos, mas de vivos; porque para ele vivem to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0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respondendo alguns dos escribas, disseram: Mestre, disseste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batismo de João era do céu ou dos homen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0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ousavam perguntar-lhe mais coisa algu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0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s disse: Como dizem que o Cristo é filho de Dav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0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sto como o mesmo Davi diz no livro dos Salmos: Disse o SENHOR ao meu Senhor: Assenta-te à minha direit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0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que eu ponha os teus inimigos por escabelo de teus p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0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Davi lhe chama Senhor, como é ele seu filh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0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uvindo-o todo o povo, disse Jesus aos seus discípulo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0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uardai-vos dos escribas, que querem andar com vestes compridas; e amam as saudações nas praças, e as principais cadeiras nas sinagogas, e os primeiros lugares nos banquet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0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devoram as casas das viúvas, fazendo, por pretexto, longas orações. Estes receberão maior conden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arrazoavam entre si, dizendo: Se dissermos: Do céu, ele nos dirá: Então por que o não crest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dissermos: Dos homens; todo o povo nos apedrejará, pois têm por certo que João era profe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sponderam que não sabiam de onde e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 lhes disse: Tampouco vos direi com que autoridade faço 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eçou a dizer ao povo esta parábola: Certo homem plantou uma vinha, e arrendou-a a uns lavradores, e partiu para fora da terra por muito temp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2:01Z</dcterms:created>
  <dc:creator>Admin</dc:creator>
  <dc:description/>
  <dc:language>en-US</dc:language>
  <cp:lastModifiedBy>Admin</cp:lastModifiedBy>
  <dcterms:modified xsi:type="dcterms:W3CDTF">2008-07-31T00:12:01Z</dcterms:modified>
  <cp:revision>1</cp:revision>
  <dc:subject/>
  <dc:title>Slide 1</dc:title>
</cp:coreProperties>
</file>