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055-FEF9-4C73-92AE-D6FB4C5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B1D-0858-4B29-B11C-8BFB151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F2F-5E4C-4E26-9CF0-F56CE63D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08B-1ABC-42B1-906A-C97B5AFA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1D9-134C-4096-8B52-A6C31BA7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783-B10C-41E9-B965-4ACB5674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87B-1528-4F5D-BBB2-A422798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B82-C4D8-4405-A4BC-AE0D0A5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1FB-0CDE-4B96-AC1E-C7F141F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E7E-8110-4097-AF8F-20520C5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460-79B2-489B-8017-77C7205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DD8-4A6B-48C7-ABFF-DD364C1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951-64DE-4A20-AD00-8E0A6B10F0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ó Deus, o meu clamor; atende à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fim da terra clamarei a ti, quando o meu coração estiver desmaiado; leva-me para a rocha que é mais alta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ens sido um refúgio para mim, e uma torre forte contra 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arei no teu tabernáculo para sempre; abrigar-me-ei no esconderijo das tuas asa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ó Deus, ouviste os meus votos; deste-me a herança dos que temem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longarás os dias do rei; e os seus anos serão como muit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permanecerá diante de Deus para sempre; prepara-lhe misericórdia e verdade que o preser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antarei louvores ao teu nome perpetuamente, para pagar os meus votos de dia em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8Z</dcterms:created>
  <dc:creator>Admin</dc:creator>
  <dc:description/>
  <dc:language>en-US</dc:language>
  <cp:lastModifiedBy>Admin</cp:lastModifiedBy>
  <dcterms:modified xsi:type="dcterms:W3CDTF">2008-07-31T00:25:48Z</dcterms:modified>
  <cp:revision>1</cp:revision>
  <dc:subject/>
  <dc:title>Slide 1</dc:title>
</cp:coreProperties>
</file>