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DC18-26D2-40A8-85E9-F4DA531AC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6AD9-8998-4590-9C19-8008887EF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DB33-3B91-4BE2-8651-274854419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44E5-F9A3-4908-A080-938155B02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D18B-7CD0-4150-91CC-E59136069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9D2F-29F0-4047-A150-E93DDD904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B86C-8480-43B9-880A-6F1E4E010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D56B-D974-4CC3-A999-F7229C8D8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390E-5850-48B0-8527-33324B255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2C19-49B6-4FC5-8C89-ECA0B0954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866C-536A-4D18-A5D9-4FA2BB92D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6751-DF35-490B-B8FC-38712D0F2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DE331-8517-4F2B-8E05-65523B3CFC86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5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UTRA vez levantei os meus olhos, e vi, e eis um rolo vola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5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eu disse ao anjo que falava comigo: Para onde levam elas o ef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5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me disse: Para lhe edificarem uma casa na terra de Sinar; e, estando ela acabada, ele será posto ali na sua bas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5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me o anjo: Que vês? E eu disse: Vejo um rolo volante, que tem vinte côvados de comprido e dez côvados de lar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5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-me: Esta é a maldição que sairá pela face de toda a terra; porque qualquer que furtar, será desarraigado, conforme está estabelecido de um lado do rolo; como também qualquer que jurar falsamente, será desarraigado, conforme está estabelecid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5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a farei sair, disse o SENHOR dos Exércitos, e ela entrará na casa do ladrão, e na casa do que jurar falsamente pelo meu nome; e permanecerá no meio da sua casa, e a consumirá juntamente com a sua madeira e com as suas ped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5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aiu o anjo, que falava comigo, e disse-me: Levanta agora os teus olhos, e vê que é isto que s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5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u disse: Que é isto? E ele disse: Isto é um efa que sai. Disse ainda: Este é o aspecto deles em toda 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5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is que foi levantado um talento de chumbo, e uma mulher estava assentada no meio do ef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5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disse: Esta é a impiedade. E a lançou dentro do efa; e lançou sobre a boca deste o peso de chumb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5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evantei os meus olhos, e vi, e eis que saíram duas mulheres; e traziam vento nas suas asas, pois tinham asas como as da cegonha; e levantaram o efa entre a terra e o cé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9:26Z</dcterms:created>
  <dc:creator>Admin</dc:creator>
  <dc:description/>
  <dc:language>en-US</dc:language>
  <cp:lastModifiedBy>Admin</cp:lastModifiedBy>
  <dcterms:modified xsi:type="dcterms:W3CDTF">2008-07-31T00:29:26Z</dcterms:modified>
  <cp:revision>1</cp:revision>
  <dc:subject/>
  <dc:title>Slide 1</dc:title>
</cp:coreProperties>
</file>