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ECF-2F14-4A65-8A62-B0E6AC9A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3CD-59F7-4BF3-8432-ECE2CC9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487-5261-45E2-AA4F-B4F771CA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F95-65DA-4A04-8639-D7180F6F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501-5CC7-49AA-872C-24F66B7D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CAF-0757-47E4-AED6-20BF5F5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BC8-2409-4DDB-890C-0BF2613A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548-6C30-406D-AEAD-ADB05876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D74-BF5F-4DB1-91A4-A49E5B13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C4E-F3DA-414D-A40C-9CFB1C1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06C-4BAF-4A01-B431-EE8EAB4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C88-B1D4-47A4-BDCC-6949789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412-568D-4F84-AC2F-51B6DDF111D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SENHOR teu Deus desarraigar as nações cuja terra te dará o SENHOR teu Deus, e tu as possuíres, e morares nas suas cidades e nas suas ca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sangue inocente não se derrame no meio da tua terra, que o SENHOR teu Deus te dá por herança, e haja sangue sobr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havendo alguém que odeia a seu próximo, e lhe arma ciladas, e se levanta contra ele, e o fere mortalmente, e se acolhe a alguma destas cida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anciãos da sua cidade mandarão buscá-lo; e dali o tirarão, e o entregarão na mão do vingador do sangue, para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olho não o perdoará; antes tirarás o sangue inocente de Israel, para que bem te suc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udes o limite do teu próximo, que estabeleceram os antigos na tua herança, que receberás na terra que te dá o SENHOR teu Deus para a possuí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só testemunha contra alguém não se levantará por qualquer iniqüidade, ou por qualquer pecado, seja qual for o pecado que cometeu; pela boca de duas testemunhas, ou pela boca de três testemunhas, se estabelecerá o f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se levantar testemunha falsa contra alguém, para testificar contra ele acerca de transgres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dois homens, que tiverem a demanda, se apresentarão perante o SENHOR, diante dos sacerdotes e dos juízes que houver naquel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juízes inquirirão bem; e eis que, sendo a testemunha falsa, que testificou falsamente contra seu irm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-lhe-eis como cuidou fazer a seu irmão; e assim tirarás o mal d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ês cidades separarás, no meio da terra que te dará o SENHOR teu Deus para a possuí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s que ficarem o ouçam e temam, e nunca mais tornem a fazer tal mal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olho não perdoará; vida por vida, olho por olho, dente por dente, mão por mão, pé por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r-te-ás o caminho; e os termos da tua terra, que te fará possuir o SENHOR teu Deus, dividirás em três; e isto será para que todo o homicida se acolha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é o caso tocante ao homicida, que se acolher ali, para que viva; aquele que por engano ferir o seu próximo, a quem não odiava an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quele que entrar com o seu próximo no bosque, para cortar lenha, e, pondo força na sua mão com o machado para cortar a árvore, o ferro saltar do cabo e ferir o seu próximo e este morrer, aquele se acolherá a uma destas cidades, e vive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vingador do sangue não vá após o homicida, quando se enfurecer o seu coração, e o alcançar, por ser comprido o caminho, e lhe tire a vida; porque não é culpado de morte, pois o não odiava 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te dou ordem, dizendo: Três cidades sepa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SENHOR teu Deus dilatar os teus termos, como jurou a teus pais, e te der toda a terra que disse daria a teus pa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Quando guardares todos estes mandamentos, que hoje te ordeno, para cumprí-los, amando ao SENHOR teu Deus e andando nos seus caminhos todos os dias), então acrescentarás outras três cidades além desta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14Z</dcterms:created>
  <dc:creator>Admin</dc:creator>
  <dc:description/>
  <dc:language>en-US</dc:language>
  <cp:lastModifiedBy>Admin</cp:lastModifiedBy>
  <dcterms:modified xsi:type="dcterms:W3CDTF">2008-07-30T23:28:14Z</dcterms:modified>
  <cp:revision>1</cp:revision>
  <dc:subject/>
  <dc:title>Slide 1</dc:title>
</cp:coreProperties>
</file>