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4D8-A112-4463-9E32-10F15863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39C-3556-4F45-82AF-ACFFC6B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3EB-2440-411E-8C5E-1BA2A94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3EC-90D8-4015-91DA-19A13A3E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3DA-815A-4B6E-803D-BF245C28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E29-08B6-414A-A22F-21F81EEA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5CE-BD3E-49A0-A563-E691FD7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659-1BD1-4711-B107-336FF02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5DD-70FB-479B-8F8A-4CF6096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2BF-7005-49E7-BF22-811452F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F14-A25F-4CA4-9B92-9199810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306-5A60-4202-8BEB-5FCD40B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D77A-0D27-42DA-B532-4A79AB8058B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passados catorze anos, subi outra vez a Jerusalém com Barnabé, levando também comigo T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comendando-nos somente que nos lembrássemos dos pobres, o que também procurei fazer com dilig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hegando Pedro à Antioquia, lhe resisti na cara, porque era repreensív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ntes que alguns tivessem chegado da parte de Tiago, comia com os gentios; mas, depois que chegaram, se foi retirando, e se apartou deles, temendo os que eram da circunci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outros judeus também dissimulavam com ele, de maneira que até Barnabé se deixou levar pela sua dissimu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quando vi que não andavam bem e direitamente conforme a verdade do evangelho, disse a Pedro na presença de todos: Se tu, sendo judeu, vives como os gentios, e não como judeu, por que obrigas os gentios a viverem como jude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 somos judeus por natureza, e não pecadores dentre 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o homem não é justificado pelas obras da lei, mas pela fé em Jesus Cristo, temos também crido em Jesus Cristo, para sermos justificados pela fé em Cristo, e não pelas obras da lei; porquanto pelas obras da lei nenhuma carne será just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se nós, que procuramos ser justificados em Cristo, nós mesmos também somos achados pecadores, é porventura Cristo ministro do pecado? De maneira nenh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torno a edificar aquilo que destruí, constituo-me a mim mesmo transgres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, pela lei, estou morto para a lei, para viver par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bi por uma revelação, e lhes expus o evangelho, que prego entre os gentios, e particularmente aos que estavam em estima; para que de maneira alguma não corresse ou não tivesse corrido em v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á estou crucificado com Cristo; e vivo, não mais eu, mas Cristo vive em mim; e a vida que agora vivo na carne, vivo-a na fé do Filho de Deus, o qual me amou, e se entregou a si mesmo por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niquilo a graça de Deus; porque, se a justiça provém da lei, segue-se que Cristo morreu debal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m ainda Tito, que estava comigo, sendo grego, foi constrangido a circuncidar-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sto por causa dos falsos irmãos que se intrometeram, e secretamente entraram a espiar a nossa liberdade, que temos em Cristo Jesus, para nos porem em servid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nem ainda por uma hora cedemos com sujeição, para que a verdade do evangelho permanecesse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to àqueles que pareciam ser alguma coisa (quais tenham sido noutro tempo, não se me dá; Deus não aceita a aparência do homem), esses, digo, que pareciam ser alguma coisa, nada me comunicar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pelo contrário, quando viram que o evangelho da incircuncisão me estava confiado, como a Pedro o da circuncis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 aquele que operou eficazmente em Pedro para o apostolado da circuncisão, esse operou também em mim com eficácia para com os gentios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Gálat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hecendo Tiago, Cefas e João, que eram considerados como as colunas, a graça que me havia sido dada, deram-nos as destras, em comunhão comigo e com Barnabé, para que nós fôssemos aos gentios, e eles à circuncis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36:53Z</dcterms:created>
  <dc:creator>Admin</dc:creator>
  <dc:description/>
  <dc:language>en-US</dc:language>
  <cp:lastModifiedBy>Admin</cp:lastModifiedBy>
  <dcterms:modified xsi:type="dcterms:W3CDTF">2008-07-30T23:36:53Z</dcterms:modified>
  <cp:revision>1</cp:revision>
  <dc:subject/>
  <dc:title>Slide 1</dc:title>
</cp:coreProperties>
</file>