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D33-7A11-4EEE-97BD-A533C857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B96-AAB4-4E6F-A034-03FF366B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DB3-D62F-4B06-9118-1AEB8F19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F44-7780-431D-95A7-CDF26CF9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6DB-0F83-4F7A-9494-A32671D4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F44-3502-4656-A115-CF59AB53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DCD-A652-46BF-BC7D-BBE2D79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637-BDB9-484D-AB35-33A5F34B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090-D33E-45FA-B9FA-91A5046E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C4E-B30F-4466-B1AA-33EEC6D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5B6-CD63-4D86-8711-E4F35BA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D18-C293-439F-BF4C-5C165CC5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82FB-FAE0-4B07-A77D-3CD6BE6C0B7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O da geração de Jesus Cristo, filho de Davi, filho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 gerou a Manassés; e Manassés gerou a Amom; e Amom gerou a Jos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ias gerou a Jeconias e a seus irmãos na deportação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a deportação para a Babilônia, Jeconias gerou a Salatiel; e Salatiel gerou a Zorobab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orobabel gerou a Abiúde; e Abiúde gerou a Eliaquim; e Eliaquim gerou a Az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zor gerou a Sadoque; e Sadoque gerou a Aquim; e Aquim gerou a Eliú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úde gerou a Eleázar; e Eleázar gerou a Matã; e Matã gerou a Jacó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gerou a José, marido de Maria, da qual nasceu JESUS, que se chama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todas as gerações, desde Abraão até Davi, são catorze gerações; e desde Davi até a deportação para a Babilônia, catorze gerações; e desde a deportação para a Babilônia até Cristo, catorze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nascimento de Jesus Cristo foi assim: Estando Maria, sua mãe, desposada com José, antes de se ajuntarem, achou-se ter concebido d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, seu marido, como era justo, e a não queria infamar, intentou deixá-la secre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aão gerou a Isaque; e Isaque gerou a Jacó; e Jacó gerou a Judá e a seus ir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rojetando ele isto, eis que em sonho lhe apareceu um anjo do Senhor, dizendo: José, filho de Davi, não temas receber a Maria, tua mulher, porque o que nela está gerado é do Espírito Sa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á à luz um filho e chamarás o seu nome JESUS; porque ele salvará o seu povo d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aconteceu para que se cumprisse o que foi dito da parte do Senhor, pelo profeta, que di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virgem conceberá, e dará à luz um filho, E chamá-lo-ão pelo nome de EMANUEL, Que traduzido é: Deus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, despertando do sono, fez como o anjo do Senhor lhe ordenara, e recebeu a sua mulh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a conheceu até que deu à luz seu filho, o primogênito; e pôs-lhe por nom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á gerou, de Tamar, a Perez e a Zerá; e Perez gerou a Esrom; e Esrom gerou a A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gerou a Aminadabe; e Aminadabe gerou a Naassom; e Naassom gerou a Salm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mom gerou, de Raabe, a Boaz; e Boaz gerou de Rute a Obede; e Obede gerou a Jess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sé gerou ao rei Davi; e o rei Davi gerou a Salomão da que foi mulher de U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omão gerou a Roboão; e Roboão gerou a Abias; e Abias gerou a 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 gerou a Josafá; e Josafá gerou a Jorão; e Jorão gerou a Uz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zias gerou a Jotão; e Jotão gerou a Acaz; e Acaz gerou a Ezequ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05Z</dcterms:created>
  <dc:creator>Admin</dc:creator>
  <dc:description/>
  <dc:language>en-US</dc:language>
  <cp:lastModifiedBy>Admin</cp:lastModifiedBy>
  <dcterms:modified xsi:type="dcterms:W3CDTF">2008-07-31T00:14:05Z</dcterms:modified>
  <cp:revision>1</cp:revision>
  <dc:subject/>
  <dc:title>Slide 1</dc:title>
</cp:coreProperties>
</file>