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D04-05DE-40E8-8711-D016F723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21D-3C6C-4B96-9E90-D9CDE11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6C8-7282-464E-ACEB-12E96597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17-0C65-40FA-8D4B-0335D754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437-60B8-469F-8212-F32CABF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EC2-D052-467D-9F1B-1EF60D89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9BE-A6A3-4975-B313-352A34D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36F-2EC9-4519-9591-933FBB8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626-8B71-48C5-B1ED-17A81127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FDD-1AFA-4868-8644-83DC2A9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7E6-0CBC-4F05-B3F0-F89EA65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105-0F0B-4221-80BA-92BBC891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609-6E2B-4584-8025-7E3B944719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terceiro ano de Oséias, filho de Elá, rei de Israel, começou a reinar Ezequias, filho de Acaz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maram ao fim de três anos, no ano sexto de Ezequias, que era o ano nono de Oséias, rei de Israel, quando tomara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a Assíria transportou a Israel para a Assíria; e os fez levar a Hala e a Habor, junto ao rio de Gozã, e às cidades dos me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obedeceram à voz do SENHOR seu Deus, antes transgrediram a sua aliança; e tudo quanto Moisés, servo do SENHOR, tinha ordenado, nem o ouviram nem o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ano décimo quarto do rei Ezequias subiu Senaqueribe, rei da Assíria, contra todas as cidades fortificadas de Judá, e as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zequias, rei de Judá, enviou ao rei da Assíria, a Laquis, dizendo: Pequei; retira-te de mim; tudo o que me impuseres suportarei. Então o rei da Assíria impôs a Ezequias, rei de Judá, trezentos talentos de prata e trinta talento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 Ezequias toda a prata que se achou na casa do SENHOR e nos tesouros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cortou Ezequias o ouro das portas do templo do SENHOR, e das ombreiras, de que ele, rei de Judá, as cobrira, e o deu a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enviou o rei da Assíria a Tartã, e a Rabe-Saris, e a Rabsaqué, de Laquis, com grande exército ao rei Ezequias, a Jerusalém; subiram, e vieram a Jerusalém. E, subindo e vindo eles, pararam ao pé do aqueduto da piscina superior, que está junto ao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am o rei; e saíram a eles Eliaquim, filho de Hilquias, o mordomo, e Sebna, o escrivão, e Joá, filho de Asafe, o cron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bsaqué lhes disse: Ora, dizei a Ezequias: Assim diz o grande rei, o rei da Assíria: Que confiança é esta em que te estrib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vinte e cinco anos de idade quando começou a reinar, e vinte e nove anos reinou em Jerusalém; e era o nome de sua mãe Abi, filha de Zac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s tu (porém são palavras só de lábios): Há conselho e poder para a guerra. Em quem, pois, agora confias, que contra mim te rebe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gora tu confias naquele bordão de cana quebrada, no Egito, no qual, se alguém se encostar, entrar-lhe-á pela mão e a furará; assim é Faraó, rei do Egito, para com todos o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me disserdes: No SENHOR nosso Deus confiamos; porventura não é esse aquele cujos altos e cujos altares Ezequias tirou, dizendo a Judá e a Jerusalém: Perante este altar vos inclinareis em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dá agora reféns ao meu senhor, o rei da Assíria, e dar-te-ei dois mil cavalos, se tu puderes dar cavaleiros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farias virar o rosto de um só capitão dos menores servos de meu senhor, quando tu confias no Egito, por causa dos carros e cavalei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ubi eu porventura sem o SENHOR contra este lugar, para o destruir? O SENHOR me disse: Sobe contra esta terra, e destrói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iaquim, filho de Hilquias, e Sebna e Joá, a Rabsaqué: Rogamos-te que fales aos teus servos em siríaco; porque bem o entendemos; e não nos fales em judaico, aos ouvidos do povo que está em cima d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Rabsaqué lhes disse: Porventura mandou-me meu senhor somente a teu senhor e a ti, para falar estas palavras e não antes aos homens, que estão sentados em cima do muro, para que juntamente convosco comam o seu excremento e bebam a sua ur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absaqué, pois, se pôs em pé, e clamou em alta voz em judaico, e respondeu, dizendo: Ouvi a palavra do grande rei,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rei: Não vos engane Ezequias; porque não vos poderá livrar da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conforme tudo o que fizera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vos faça Ezequias confiar no SENHOR, dizendo: Certamente nos livrará o SENHOR, e esta cidade não será entregue na mão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s ouvidos a Ezequias; porque assim diz o rei da Assíria: Contratai comigo por presentes, e saí a mim, e coma cada um da sua vide e da sua figueira, e beba cada um a água da sua cister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eu venha, e vos leve para uma terra como a vossa, terra de trigo e de mosto, terra de pão e de vinhas, terra de oliveiras, de azeite e de mel; e assim vivereis, e não morrereis; e não deis ouvidos a Ezequias; porque vos incita, dizendo: O SEN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s deuses das nações puderam livrar, cada um a sua terra, das mãos do rei da Assí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feito dos deuses de Hamate e de Arpade? Que é feito dos deuses de Sefarvaim, Hena e Iva? Porventura livraram a Samaria d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is são eles, dentre todos os deuses das terras, que livraram a sua terra da minha mão, para que o SENHOR livrasse a Jerusalém d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calou-se o povo, e não lhe respondeu uma só palavra; porque mandado do rei havia, dizendo: Não lhe respond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quim, filho de Hilquias, o mordomo, e Sebna, o escrivão, e Joá, filho de Asafe, o cronista, vieram a Ezequias com as vestes rasgadas, e lhe fizeram saber as palavras de Rabsaq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irou os altos, quebrou as estátuas, deitou abaixo os bosques, e fez em pedaços a serpente de metal que Moisés fizera; porquanto até àquele dia os filhos de Israel lhe queimavam incenso, e lhe chamaram Neus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NHOR Deus de Israel confiou, de maneira que depois dele não houve quem lhe fosse semelhante entre todos os reis de Judá, nem entre os que foram ant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chegou ao SENHOR, não se apartou dele, e guardou os mandamentos que o SENHOR tinha dado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o SENHOR com ele; para onde quer que saía se conduzia com prudência; e se rebelou contra o rei da Assíria, e não o ser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eriu os filisteus até Gaza, como também os seus termos, desde a torre dos atalaias até à cidade fort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no quarto ano do rei Ezequias (que era o sétimo ano de Oséias, filho de Elá, rei de Israel), que Salmanasar, rei da Assíria, subiu contra Samaria, e a cer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08Z</dcterms:created>
  <dc:creator>Admin</dc:creator>
  <dc:description/>
  <dc:language>en-US</dc:language>
  <cp:lastModifiedBy>Admin</cp:lastModifiedBy>
  <dcterms:modified xsi:type="dcterms:W3CDTF">2008-07-30T23:52:08Z</dcterms:modified>
  <cp:revision>1</cp:revision>
  <dc:subject/>
  <dc:title>Slide 1</dc:title>
</cp:coreProperties>
</file>