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276-AA81-42D0-B70E-EC25427F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B72-068C-4A82-BFDC-EF83EE17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615-B308-44AF-A63D-310BE67D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4EA-280C-4F7F-9A53-7D3D1421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F2D-62DB-4EAE-9487-101E7D79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A4F-2C29-4A86-A289-8953D7D7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370-C7FB-47C8-B96E-D0859ED6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7AC-F2AF-4328-B991-1C22972E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6DB-15F2-4406-BD15-1824D221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17A-C9A6-43F1-89DD-AF67E65B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909-98EC-4394-883A-A40170B9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2FC-A975-4A7E-918E-A4D382BF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9060-B8DC-43C0-BAFF-9602231F557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 o cananeu, rei de Arade, que habitava para o lado sul, que Israel vinha pelo caminho dos espias, pelejou contra Israel, e dele levou alguns prision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ilhos de Israel partiram, e alojaram-se em Ob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partiram de Obote e alojaram-se nos outeiros de Ije-Abarim, no deserto que está defronte de Moabe, ao nascente do so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li partiram, e alojaram-se junto ao ribeiro de Zer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li partiram e alojaram-se no lado de Arnom, que está no deserto e sai dos termos dos amorreus; porque Arnom é o termo de Moabe, entre Moabe e os amorr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e diz no livro das guerras do SENHOR: O que fiz no Mar Vermelho e nos ribeiros de Arn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à corrente dos ribeiros, que descendo para a situação de Ar, se encosta aos termos de Mo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li partiram para Beer; este é o poço do qual o SENHOR disse a Moisés: Ajunta o povo e lhe darei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srael cantou este cântico: Brota, ó poço! Cantai del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ço, que cavaram os príncipes, que escavaram os nobres do povo, e o legislador com os seus bordões; e do deserto partiram para Matan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Mataná a Naaliel, e de Naaliel a Bam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srael fez um voto ao SENHOR, dizendo: Se de fato entregares este povo na minha mão, destruirei totalmente as su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Bamote ao vale que está no campo de Moabe, no cume de Pisga, e à vista d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srael mandou mensageiros a Siom, rei dos amorreu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-me passar pela tua terra; não nos desviaremos pelos campos nem pelas vinhas; as águas dos poços não beberemos; iremos pela estrada real até que passemos os t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iom não deixou passar a Israel pelos seus termos; antes Siom congregou todo o seu povo, e saiu ao encontro de Israel no deserto, e veio a Jaza, e pelejou contr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Israel o feriu ao fio da espada, e tomou a sua terra em possessão, desde Arnom até Jaboque, até aos filhos de Amom; porquanto o termo dos filhos de Amom era f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Israel tomou todas as cidades; e habitou em todas elas, em Hesbom e em todas as suas al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esbom era cidade de Siom, rei dos amorreus, que tinha pelejado contra o precedente rei dos moabitas, e tinha tomado da sua mão toda a sua terra até Arn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izem os que falam em provérbios: Vinde a Hesbom; edifique-se e estabeleça-se a cidade de Si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fogo saiu de Hesbom, e uma chama da cidade de Siom; e consumiu a Ar dos moabitas, e os senhores dos altos de Arn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ti, Moabe! perdido és, povo de Quemós! entregou seus filhos, que iam fugindo, e suas filhas, como cativas a Siom, rei dos amorr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, pois, ouviu a voz de Israel, e lhe entregou os cananeus; e os israelitas destruíram totalmente, a eles e às suas cidades; e o nome daquele lugar chamou Horm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ós os derribamos; Hesbom perdida é até Dibom, e os assolamos até Nofá, que se estende até Mede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Israel habitou na terra dos amorr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mandou Moisés espiar a Jazer, e tomaram as suas aldeias, e daquela possessão lançaram os amorreus que estavam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raram-se, e subiram o caminho de Basã; e Ogue, rei de Basã, saiu contra eles, ele e todo o seu povo, à peleja em Ed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Moisés: Não o temas, porque eu o tenho dado na tua mão, a ele, e a todo o seu povo, e a sua terra, e far-lhe-ás como fizeste a Siom, rei dos amorreus, que habitava em Hesb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tal maneira o feriram, a ele e a seus filhos, e a todo o seu povo, que nenhum deles escapou; e tomaram a sua terra em poss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artiram do monte Hor, pelo caminho do Mar Vermelho, a rodear a terra de Edom; porém a alma do povo angustiou-se naquele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falou contra Deus e contra Moisés: Por que nos fizestes subir do Egito para que morrêssemos neste deserto? Pois aqui nem pão nem água há; e a nossa alma tem fastio deste pão tão v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mandou entre o povo serpentes ardentes, que picaram o povo; e morreu muita gente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povo veio a Moisés, e disse: Havemos pecado porquanto temos falado contra o SENHOR e contra ti; ora ao SENHOR que tire de nós estas serpentes. Então Moisés orou pel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Moisés: Faze-te uma serpente ardente, e põe-na sobre uma haste; e será que viverá todo o que, tendo sido picado, olhar par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fez uma serpente de metal, e pô-la sobre uma haste; e sucedia que, picando alguma serpente a alguém, quando esse olhava para a serpente de metal, viv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9:16Z</dcterms:created>
  <dc:creator>Admin</dc:creator>
  <dc:description/>
  <dc:language>en-US</dc:language>
  <cp:lastModifiedBy>Admin</cp:lastModifiedBy>
  <dcterms:modified xsi:type="dcterms:W3CDTF">2008-07-31T00:19:16Z</dcterms:modified>
  <cp:revision>1</cp:revision>
  <dc:subject/>
  <dc:title>Slide 1</dc:title>
</cp:coreProperties>
</file>