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87C-C2C3-4C1A-AF1F-706AC186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196-7402-4B90-82ED-84D1485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56C-2B6F-4474-883D-9CC1E50B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5C3-2BF7-4BA9-94AE-487C0CB9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5BA-9186-4704-B406-F5CF17B8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0D5-A1D4-4006-835D-B356B33F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04C-3B55-4FB6-B040-363465CC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173-CD41-426B-8EA8-BFDF459C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EE3-8127-49AB-9402-AFD32A11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0A0-40C8-46EB-9EF6-8A888EDA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EF8-A490-4B22-B803-005DBF3C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58F-7762-43ED-8329-BDDC79B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8AEA-2347-4FBF-A9B1-893BB8FB7A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LGA-ME, SENHOR, pois tenho andado em minha sinceridade; tenho confiado também no SENHOR; não vacil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cujas mãos há malefício, e cuja mão direita está cheia de subor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ando na minha sinceridade; livra-me e tem piedad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pé está posto em caminho plano; nas congregações louvarei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mina-me, SENHOR, e prova-me; esquadrinha os meus rins e 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ua benignidade está diante dos meus olhos; e tenho andado na tu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tenho assentado com homens vãos, nem converso com os homens dissimu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odiado a congregação de malfeitores; nem me ajunto com os ímp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vo as minhas mãos na inocência; e assim andarei, SENHOR, ao redor do teu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publicar com voz de louvor, e contar todas as t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eu tenho amado a habitação da tua casa e o lugar onde permanece a t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panhes a minha alma com os pecadores, nem a minha vida com os homens sanguinole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45Z</dcterms:created>
  <dc:creator>Admin</dc:creator>
  <dc:description/>
  <dc:language>en-US</dc:language>
  <cp:lastModifiedBy>Admin</cp:lastModifiedBy>
  <dcterms:modified xsi:type="dcterms:W3CDTF">2008-07-31T00:24:45Z</dcterms:modified>
  <cp:revision>1</cp:revision>
  <dc:subject/>
  <dc:title>Slide 1</dc:title>
</cp:coreProperties>
</file>