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918-C22C-4F50-8922-16E10652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54D-3DE8-4AF9-A5D1-43436A3F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8C0-A230-4A9F-9BB9-6013F849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698-8905-4A4D-B9CA-ACBFF7B8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FDA-987E-4B4D-B037-6E6E1FEB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A72-CABB-436F-B9CC-E139639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22E-C7F8-4EE3-9476-0994A71F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BC9-ADE5-4DC3-99CA-2F21C3E8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6B2-EBB3-4355-9C6F-ED6ADDA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1FA-93C2-47ED-96D1-A1F3198E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49A-DC7C-4F24-9422-0B24378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8B2-DF2E-4643-906F-6C28066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A486-46CB-475B-981A-10E0CCF8D5E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Sambalate que edificávamos o muro, ardeu em ira, e se indignou muito; e escarneceu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udá: Já desfaleceram as forças dos carregadores, e o pó é muito, e nós não poderemos edificar o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, porém, os nossos inimigos: Nada saberão disto, nem verão, até que entremos no meio deles, e os matemos; assim faremos cessar 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vindo os judeus que habitavam entre eles, dez vezes nos disseram: De todos os lugares, tornarão contra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us guardas nos lugares baixos por detrás do muro e nos altos; e pus ao povo pelas suas famílias com as suas espadas, com as suas lanças, e com os seus ar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levantei-me, e disse aos nobres, aos magistrados, e ao restante do povo: Não os temais; lembrai-vos do grande e terrível Senhor, e pelejai pelos vossos irmãos, vossos filhos, vossas mulheres e vossas c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os nossos inimigos que já o sabíamos, e que Deus tinha dissipado o conselho deles, todos voltamos ao muro, cada um à su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esde aquele dia, metade dos meus servos trabalhava na obra, e metade deles tinha as lanças, os escudos, os arcos e as couraças; e os líderes estavam por detrás de toda a casa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edificavam o muro, os que traziam as cargas e os que carregavam, cada um com uma das mãos fazia a obra e na outra tinha as ar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edificadores cada um trazia a sua espada cingida aos lombos, e edificavam; e o que tocava a trombeta estava junto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u aos nobres, aos magistrados e ao restante do povo: Grande e extensa é a obra, e nós estamos apartados do muro, longe uns d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na presença de seus irmãos, e do exército de Samaria, e disse: Que fazem estes fracos judeus? Permitir-se-lhes-á isto? Sacrificarão? Acabá-lo-ão num só dia? Vivificarão dos montões do pó as pedras que foram queima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lugar onde ouvirdes o som da buzina, ali vos ajuntareis conosco; o nosso Deus pelejará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rabalhávamos na obra; e metade deles tinha as lanças desde a subida da alva até ao sair das estr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aquele tempo disse ao povo: Cada um com o seu servo fique em Jerusalém, para que à noite nos sirvam de guarda, e de dia n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m eu, nem meus irmãos, nem meus servos, nem os homens da guarda que me seguiam largávamos as nossas vestes; cada um tinha suas armas e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com ele Tobias, o amonita, e disse: Ainda que edifiquem, contudo, vindo uma raposa, derrubará facilmente o seu muro de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ó nosso Deus, que somos tão desprezados, e torna o seu opróbrio sobre a sua cabeça, e dá-los por presa, na terra do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cubras a sua iniqüidade, e não se risque de diante de ti o seu pecado, pois que te irritaram na presença dos edifi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dificamos o muro, e todo o muro se fechou até sua metade; porque o coração do povo se inclinava a trabal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ouvindo Sambalate e Tobias, e os árabes, os amonitas, e os asdoditas, que tanto ia crescendo a reparação dos muros de Jerusalém, que já as roturas se começavam a tapar, iraram-se sobremo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garam-se entre si todos, para virem guerrear contra Jerusalém, e para os desviarem do seu int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nós oramos ao nosso Deus e pusemos uma guarda contra eles, de dia e de noite, por caus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51Z</dcterms:created>
  <dc:creator>Admin</dc:creator>
  <dc:description/>
  <dc:language>en-US</dc:language>
  <cp:lastModifiedBy>Admin</cp:lastModifiedBy>
  <dcterms:modified xsi:type="dcterms:W3CDTF">2008-07-31T00:16:51Z</dcterms:modified>
  <cp:revision>1</cp:revision>
  <dc:subject/>
  <dc:title>Slide 1</dc:title>
</cp:coreProperties>
</file>