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4504-1482-4316-80F2-6F8048DB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910-45D6-41C5-8967-858D274E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3EA-0F9A-4DCC-B392-C785C8FA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7D3-73F2-4609-A339-260667AD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333-E49F-40BD-B66C-BCDBADA8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43E-4722-4F6E-9C2B-5AB6A373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A4F-5427-44BC-B775-23518EC4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784-F2EA-43C3-ACD0-351683DA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2C4-5591-4616-9D1E-1DE03EAD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D24D-45C3-4FCB-8263-EB64E4B5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66C-FC92-48B3-B448-7DE958AE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7D3-7537-4377-8BF7-F23C4C1B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EFC7-745B-4B7F-B492-10AB7A711D0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Acaz vinte anos de idade, quando começou a reinar, e dezesseis anos reinou em Jerusalém; e não fez o que era reto aos olhos do SENHOR, como Davi,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vós cuidais em sujeitar a vós os filhos de Judá e Jerusalém, como cativos e cativas; porventura não sois vós mesmos culpados contra o SENHOR vosso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ouvi-me, e tornai a enviar os prisioneiros que trouxestes cativos de vossos irmãos; porque o ardor da ira do SENHOR está sob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aram alguns homens dentre os cabeças dos filhos de Efraim, a saber, Azarias, filho de Joanã, Berequias, filho de Mesilemote, Jeizquias, filho de Salum, e Amasa, filho de Hadlai, contra os que voltavam da bata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s disseram: Não fareis entrar aqui estes cativos, porque, além da nossa culpa contra o SENHOR, vós intentais acrescentar mais a nossos pecados e a nossas culpas, sendo que já temos grande culpa, e já o ardor da ira está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homens armados deixaram os cativos e o despojo diante dos príncipes e de toda 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que foram apontados por seus nomes se levantaram, e tomaram os cativos, e vestiram do despojo a todos os que dentre eles estavam nus; e vestiram-nos, e calçaram-nos, e deram-lhes de comer e de beber, e os ungiram, e a todos os que estavam f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o rei Acaz mandou pedir aos reis da Assíria que o ajuda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utra vez os edomitas vieram, e feriram a Judá, e levaram presos em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filisteus deram sobre as cidades da campina e do sul de Judá, e tomaram a Bete-Semes, e a Aijalom, e a Gederote e a Socó, e os lugares da sua jurisdição, e a Timna, e os lugares da sua jurisdição, e a Ginzo, e os lugares da sua jurisdição; e 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humilhou a Judá por causa de Acaz, rei de Israel; porque este se houve desenfreadamente em Judá, havendo prevaricado grandemente contr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andou nos caminhos dos reis de Israel, e, além disso, fez imagens fundidas a Baal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ele Tiglate-Pileser, rei da Assíria; porém o pôs em aperto, e não o fortal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caz tomou despojos da casa do SENHOR, e da casa do rei, e dos príncipes, e os deu ao rei da Assíria; porém não o ajud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tempo em que este o apertou, então ainda mais transgrediu contra o SENHOR, tal era o rei Ac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acrificou aos deuses de Damasco, que o feriram e disse: Visto que os deuses dos reis da Síria os ajudam, eu lhes sacrificarei, para que me ajudem a mim. Porém eles foram a sua ruína, e de todo 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ou Acaz os utensílios da casa de Deus, e fez em pedaços os utensílios da casa de Deus, e fechou as portas da casa do SENHOR, e fez para si altares em todos os cantos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m cada cidade de Judá fez altos para queimar incenso a outros deuses; assim provocou à ira o SENHOR Deus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restante dos seus atos e de todos os seus caminhos, tanto os primeiros como os últimos, eis que estão escritos no livro dos reis de Judá e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rmiu Acaz com seus pais, e o sepultaram na cidade, em Jerusalém; porém não o puseram nos sepulcros dos reis de Israel; e Ezequias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queimou incenso no vale do filho de Hinom, e queimou a seus filhos no fogo, conforme as abominações dos gentios que o SENHOR tinha expulsado de diante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acrificou, e queimou incenso nos altos e nos outeiros, como também debaixo de toda a árvore ve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SENHOR seu Deus o entregou na mão do rei dos sírios, os quais o feriram, e levaram dele em cativeiro uma grande multidão de presos, que trouxeram a Damasco; também foi entregue na mão do rei de Israel, o qual lhe infligiu grande derro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eca, filho de Remalias, matou em Judá, num só dia, cento e vinte mil, todos homens valentes; porquanto deixaram ao SENHOR Deus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icri, homem valente de Efraim, matou a Maasias, filho do rei, e a Azricão, o mordomo, e a Elcana, o segundo depoi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levaram presos de seus irmãos duzentos mil, mulheres, filhos e filhas; e também saquearam deles grande despojo, que levaram para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tava ali um profeta do SENHOR, cujo nome era Obede, o qual saiu ao encontro do exército que vinha para Samaria, e lhe disse: Eis que, irando-se o SENHOR Deus de vossos pais contra Judá, os entregou na vossa mão, e vós os matastes com uma raiva ta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18Z</dcterms:created>
  <dc:creator>Admin</dc:creator>
  <dc:description/>
  <dc:language>en-US</dc:language>
  <cp:lastModifiedBy>Admin</cp:lastModifiedBy>
  <dcterms:modified xsi:type="dcterms:W3CDTF">2008-07-30T23:50:18Z</dcterms:modified>
  <cp:revision>1</cp:revision>
  <dc:subject/>
  <dc:title>Slide 1</dc:title>
</cp:coreProperties>
</file>