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AD0-911A-4997-872B-44749F3D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C2D-87F1-4754-84DE-0E6F126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740-D664-4210-AF80-2B51096E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518-7A6E-4C07-9268-DFE82C85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8C6-5A9E-44FB-AB1E-146297A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E35-CDC9-444D-BCD5-C00B3F3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EC1-CF39-4525-AE91-690A244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C2E-1690-41B0-A3BF-91264AF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A97-651D-4DBA-87CF-C6E3AE2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6AB-20A2-410E-9429-05BA815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6D7-0DC1-45E8-B863-24A6E65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D99-C94E-4E9E-9A55-6424699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BA6-590F-41F1-B868-7D1BD12ED8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muitos dias depois que o SENHOR dera repouso a Israel de todos os seus inimigos em redor, e sendo Josué já velho e entrado em d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só homem dentre vós perseguirá a mil; pois é o SENHOR vosso Deus que peleja por vós, como já vos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guardai diligentemente as vossas almas, para amardes a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de algum modo vos desviardes, e vos apegardes ao restante destas nações que ainda ficou entre vós, e com elas vos aparentardes, e vós a elas entrardes, e elas a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 certamente que o SENHOR vosso Deus não continuará a expulsar estas nações de diante de vós, mas elas vos serão por laço e rede, e açoite às vossas ilhargas, e espinhos aos vossos olhos; até que pereçais desta boa terra que vos deu o SENHOR vosso 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ou hoje pelo caminho de toda a terra; e vós bem sabeis, com todo o vosso coração, e com toda a vossa alma, que nem uma só palavra falhou de todas as boas coisas que falou de vós o SENHOR vosso Deus; todas vos sobrevieram, nenhuma delas falh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assim como sobre vós vieram todas estas boas coisas, que o SENHOR vosso Deus vos disse, assim trará o SENHOR sobre vós todas aquelas más coisas, até vos destruir de sobre a boa terra que vos de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ransgredirdes a aliança do SENHOR vosso Deus, que vos tem ordenado, e fordes e servirdes a outros deuses, e a eles vos inclinardes, então a ira do SENHOR sobre vós se acenderá, e logo perecereis de sobre a boa terra que vos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 Josué a todo o Israel, aos seus anciãos, e aos seus cabeças, e aos seus juízes, e aos seus oficiais, e disse-lhes: Eu já sou velho e entrado em d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já tendes visto tudo quanto o SENHOR vosso Deus fez a todas estas nações por causa de vós; porque o SENHOR vosso Deus é que tem pelejado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que vos reparti por sorte, em herança às vossas tribos, estas nações que restam, bem como as nações que tenho destruído, desde o Jordão até o grande mar para o pôr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osso Deus as impelirá, e as expelirá de diante de vós; e vós possuireis a sua terra, como o SENHOR vosso Deus vos tem prom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i-vos, pois, muito para guardardes e para fazerdes tudo quanto está escrito no livro da lei de Moisés; para que dele não vos aparteis, nem para a direita nem para a esquer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ão entreis no meio destas nações que ainda ficam convosco; e dos nomes de seus deuses não façais menção, nem por eles façais jurar, nem os sirvais, nem a eles vos incline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SENHOR vosso Deus vos apegareis, como fizestes até o dia de hoj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expulsou de diante de vós grandes e fortes nações; e, quanto a vós, ninguém vos tem podido resistir,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08Z</dcterms:created>
  <dc:creator>Admin</dc:creator>
  <dc:description/>
  <dc:language>en-US</dc:language>
  <cp:lastModifiedBy>Admin</cp:lastModifiedBy>
  <dcterms:modified xsi:type="dcterms:W3CDTF">2008-07-31T00:06:08Z</dcterms:modified>
  <cp:revision>1</cp:revision>
  <dc:subject/>
  <dc:title>Slide 1</dc:title>
</cp:coreProperties>
</file>