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C66-3730-4382-BFC6-2A0522E9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E6A-25EA-4DB2-9C2C-9855FBAC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53C-504A-4D80-A65B-B5A94192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3A2-D069-4EBD-8B0B-0F92C165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9C7-1181-4668-B002-F3421ED9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6C6-6F99-4F5E-BEEF-6070DC28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16D-A92E-4917-B9F0-6603EB6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E28-A918-4113-B527-01A11F89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986-83B1-4411-92F2-4F2E0AF5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DA7-C86A-4651-8C04-7724E33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BC9-9AC3-419A-9663-5DC2855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937-2C0A-4327-AFF4-19EE320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8D0D-455E-4AAD-99F8-139B641F7C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 terra que ensombreia com as suas asas, que está além dos rios da Etióp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nvia embaixadores por mar em navios de junco sobre as águas, dizendo: Ide, mensageiros velozes, a um povo de elevada estatura e de pele lisa; a um povo terrível desde o seu princípio; a uma nação forte e esmagadora, cuja terra os rios divi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todos os habitantes do mundo, e vós os moradores da terra, quando se arvorar a bandeira nos montes, o vereis; e quando se tocar a trombeta, o ouv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me disse o SENHOR: Estarei quieto, olhando desde a minha morada, como o ardor do sol resplandecente depois da chuva, como a nuvem do orvalho no calor da se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ntes da sega, quando já o fruto está perfeito e, passada a flor, as uvas verdes amadurecerem, então, com foice podará os sarmentos e tirará os ramos e os lançará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ão deixados juntos às aves dos montes e aos animais da terra; e sobre eles veranearão as aves de rapina, e todos os animais da terra invernarão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trará um presente ao SENHOR dos Exércitos um povo de elevada estatura e de pele lisa, e um povo terrível desde o seu princípio; uma nação forte e esmagadora, cuja terra os rios dividem; ao lugar do nome do SENHOR dos Exércitos, ao monte Si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08Z</dcterms:created>
  <dc:creator>Admin</dc:creator>
  <dc:description/>
  <dc:language>en-US</dc:language>
  <cp:lastModifiedBy>Admin</cp:lastModifiedBy>
  <dcterms:modified xsi:type="dcterms:W3CDTF">2008-07-30T23:55:08Z</dcterms:modified>
  <cp:revision>1</cp:revision>
  <dc:subject/>
  <dc:title>Slide 1</dc:title>
</cp:coreProperties>
</file>