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F4D-7E98-4F1D-8328-C1E0467E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210-4929-4A21-BB8F-48F8E559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CD6-08EE-4F00-B784-D619B375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B4A-4EB8-4F53-8CCE-F0E84FBC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EB3-3689-4626-BF7F-D331FE0A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972-7F85-4AD2-96A3-4EC88E8F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CC5-B115-4B26-BAA7-7DB01DBA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D40-2DEB-4980-BF39-46195620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76F-EA7E-4241-BB76-1D5E44B1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D9E-1EA6-4209-A474-E94DDB4C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A86-B2B2-4D72-9077-3DF3FDE8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627-CB0B-41BD-BCDF-CC781ED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17DB-6FD1-4201-96C4-5D0E3B59DE5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amáveis são os teus tabernáculos, SENHOR dos Exércit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ale mais um dia nos teus átrios do que mil. Preferiria estar à porta da casa do meu Deus, a habitar nas tendas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eus é um sol e escudo; o SENHOR dará graça e glória; não retirará bem algum aos que andam na re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dos Exércitos, bem-aventurado o homem que em ti põe a sua conf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está desejosa, e desfalece pelos átrios do SENHOR; o meu coração e a minha carne clamam pel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 pardal encontrou casa, e a andorinha ninho para si, onde ponha seus filhos, até mesmo nos teus altares, SENHOR dos Exércitos, Rei meu e Deus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que habitam em tua casa; louvar-te-ão continuament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cuja força está em ti, em cujo coração estão os caminhos aplan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, passando pelo vale de Baca, faz dele uma fonte; a chuva também enche os tanqu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ão indo de força em força; cada um deles em Sião aparece perant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Deus dos Exércitos, escuta a minha oração; inclina os ouvidos, ó Deus de Jacó!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, ó Deus, escudo nosso, e contempla o rosto do t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42Z</dcterms:created>
  <dc:creator>Admin</dc:creator>
  <dc:description/>
  <dc:language>en-US</dc:language>
  <cp:lastModifiedBy>Admin</cp:lastModifiedBy>
  <dcterms:modified xsi:type="dcterms:W3CDTF">2008-07-31T00:26:42Z</dcterms:modified>
  <cp:revision>1</cp:revision>
  <dc:subject/>
  <dc:title>Slide 1</dc:title>
</cp:coreProperties>
</file>