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28B-676B-467E-931C-6475C71D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04E-A875-489B-A2EE-E1D9FFC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C24-1063-4222-88F8-8E741164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265-8828-44BE-971F-4CC2F52B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513-CF05-49EC-88BF-D2C4EED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4F0-160A-4083-A1D7-E753CB65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557-68B6-48ED-8181-932C2470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A28-8C3B-4836-869A-E20EF70A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E9C-B93D-4BD8-9AAA-54BD2E20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CF5-73FA-44BC-9F6D-E1CCDE4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0D9-2A04-4002-A28C-9C40DA0C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E79-7A21-466E-B5F5-DD8F1599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D6C4-58B7-46F7-9460-FBF9F6659CC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RANSGRESSÃO do ímpio diz no íntimo do meu coração: Não há temor de Deus perante 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e a tua benignidade sobre os que te conhecem, e a tua justiça sobre os retos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enha sobre mim o pé dos soberbos, e não me mova a mão d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caem os que praticam a iniqüidade; cairão, e não se poderão levan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seus olhos se lisonjeia, até que a sua iniqüidade se descubra ser detest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lavras da sua boca são malícia e engano; deixou de entender e de fazer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a a malícia na sua cama; põe-se no caminho que não é bom; não aborrece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misericórdia, SENHOR, está nos céus, e a tua fidelidade chega até às mais excelsas nuv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justiça é como as grandes montanhas; os teus juízos são um grande abismo. SENHOR, tu conservas os homens e o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ão preciosa é, ó Deus, a tua benignidade, pelo que os filhos dos homens se abrigam à sombra das tuas 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se fartarão da gordura da tua casa, e os farás beber da corrente das tuas delíc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ti está o manancial da vida; na tua luz veremos 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04Z</dcterms:created>
  <dc:creator>Admin</dc:creator>
  <dc:description/>
  <dc:language>en-US</dc:language>
  <cp:lastModifiedBy>Admin</cp:lastModifiedBy>
  <dcterms:modified xsi:type="dcterms:W3CDTF">2008-07-31T00:25:04Z</dcterms:modified>
  <cp:revision>1</cp:revision>
  <dc:subject/>
  <dc:title>Slide 1</dc:title>
</cp:coreProperties>
</file>