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3EB-76A8-41F5-AFED-A385975E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CD3-30EC-468A-BB33-9472A431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33B-C6E7-44A3-B12E-8C0B333A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8B6D-0911-4A6A-B5CD-C42E9101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8F7-DEDE-405A-957B-FECE528F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6C7-0A54-4622-BF10-60255D30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AC7-EEF9-4237-AA60-94E9C872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FAC-1E55-440E-94D6-71786661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58AF-3CDB-46D1-997E-55C96FDA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4CA-8C98-4CA2-8BC8-0784D620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1B4-A89F-4FAA-93A6-3C638467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032-C307-4984-AD1D-177BBDC5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B48C-6038-4C86-8280-2AC06157A1D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ma a instrução ama o conhecimento, mas o que odeia a repreensão é estúp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justo tem consideração pela vida dos seus animais, mas as afeições dos ímpios são crué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lavra a sua terra se fartará de pão; mas o que segue os ociosos é falto de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ímpio deseja a rede dos maus, mas a raiz dos justos produz o seu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ímpio se enlaça na transgressão dos lábios, mas o justo sairá da angú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da um se fartará do fruto da sua boca, e da obra das suas mãos o homem receberá a recompen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minho do insensato é reto aos seus próprios olhos, mas o que dá ouvidos ao conselho é sáb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ira do insensato se conhece no mesmo dia, mas o prudente encobre a afro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diz a verdade manifesta a justiça, mas a falsa testemunha diz eng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alguns que falam como que espada penetrante, mas a língua dos sábios é saú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lábio da verdade permanece para sempre, mas a língua da falsidade, dura por um só mo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de bem alcançará o favor do SENHOR, mas ao homem de intenções perversas ele conden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coração dos que maquinam o mal há engano, mas os que aconselham a paz têm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 agravo sobrevirá ao justo, mas os ímpios ficam cheios de proble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lábios mentirosos são abomináveis ao SENHOR, mas os que agem fielmente são o seu del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prudente encobre o conhecimento, mas o coração dos tolos proclama a estult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ão dos diligentes dominará, mas os negligentes serão tributá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ansiedade no coração deixa o homem abatido, mas uma boa palavra o aleg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justo é mais excelente do que o seu próximo, mas o caminho dos ímpios faz er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eguiçoso deixa de assar a sua caça, mas ser diligente é o precioso bem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eda da justiça está a vida, e no caminho da sua carreira não há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não se estabelecerá pela impiedade, mas a raiz dos justos não será remo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ulher virtuosa é a coroa do seu marido, mas a que o envergonha é como podridão nos seus o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ensamentos dos justos são retos, mas os conselhos dos ímpios, eng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alavras dos ímpios são ciladas para derramar sangue, mas a boca dos retos os liv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ímpios serão transtornados e não subsistirão, mas a casa dos justos perman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da qual será louvado segundo o seu entendimento, mas o perverso de coração estará em despre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o que se estima em pouco, e tem servos, do que o que se vangloria e tem falta de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1:39Z</dcterms:created>
  <dc:creator>Admin</dc:creator>
  <dc:description/>
  <dc:language>en-US</dc:language>
  <cp:lastModifiedBy>Admin</cp:lastModifiedBy>
  <dcterms:modified xsi:type="dcterms:W3CDTF">2008-07-31T00:21:39Z</dcterms:modified>
  <cp:revision>1</cp:revision>
  <dc:subject/>
  <dc:title>Slide 1</dc:title>
</cp:coreProperties>
</file>