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252-1E8A-4183-80B6-7300E5A4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71E-1619-428B-ADB3-554AEAEE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43C-2A91-41C3-8A86-C437017B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67B-29D8-4E82-A652-6D562A87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C17-4FD0-49C3-9418-63ACFB5F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FA4-0CFC-46B1-A04D-C65E37D9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A04-468D-4610-BEA3-C59B4729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928-0FCA-4C5B-AEEB-F1BF2405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AAF-99A6-42B1-A898-609A0E3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506-028C-4B35-9035-836F54D6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0C6-2FDF-4451-BFE4-9D4BC46F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5E7-553D-424A-8294-34141815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56F1-A499-46E5-A61B-808BB6C3C5C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mim! porque estou feito como as colheitas de frutas do verão, como os rabiscos da vindima; não há cacho de uvas para comer, nem figos temporãos que a minha alma des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inha inimiga verá isso, e cobri-la-á a vergonha, que me diz: Onde está o SENHOR teu Deus? Os meus olhos a contemplarão; agora será ela pisada como a lama d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ia em que reedificar os teus muros, nesse dia estará longe e dilatado o estat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virá a ti, desde a Assíria e das cidades fortificadas, e das cidades fortificadas até ao rio, e do mar até ao mar, e da montanha até à mont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a terra será posta em desolação, por causa dos seus moradores, por causa do fruto d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scenta o teu povo com a tua vara, o rebanho da tua herança, que habita a sós, no bosque, no meio do Carmelo; apascentem-se em Basã e Gileade, como nos dias do pass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lhes mostrarei maravilhas, como nos dias da tua saída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nações o verão, e envergonhar-se-ão, por causa de todo o seu poder; porão a mão sobre a boca, e os seus ouvidos ficarão sur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mberão o pó como serpente, como vermes da terra, tremendo, sairão dos seus esconderijos; com pavor virão ao SENHOR nosso Deus, e terão med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 Deus semelhante a ti, que perdoa a iniqüidade, e que passa por cima da rebelião do restante da sua herança? Ele não retém a sua ira para sempre, porque tem prazer na sua benig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ará a apiedar-se de nós; sujeitará as nossas iniqüidades, e tu lançarás todos os seus pecados nas profundezas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pereceu da terra o homem piedoso, e não há entre os homens um que seja justo; todos armam ciladas para sangue; cada um caça a seu irmão com a re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ás a Jacó a fidelidade, e a Abraão a benignidade, que juraste a nossos pais desde os dias ant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mãos fazem diligentemente o mal; assim demanda o príncipe, e o juiz julga pela recompensa, e o grande fala da corrupção da sua alma, e assim todos eles tecem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lhor deles é como um espinho; o mais reto é pior do que a sebe de espinhos; veio o dia dos teus vigias, veio o dia da tua punição; agora será a sua confu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reiais no amigo, nem confieis no vosso guia; daquela que repousa no teu seio, guarda as portas da t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ilho despreza ao pai, a filha se levanta contra sua mãe, a nora contra sua sogra, os inimigos do homem são os da sua própri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olharei para o SENHOR; esperarei no Deus da minha salvação; o meu Deus me ou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inimiga minha, não te alegres a meu respeito; ainda que eu tenha caído, levantar-me-ei; se morar nas trevas, o SENHOR será a minh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frerei a ira do SENHOR, porque pequei contra ele, até que julgue a minha causa, e execute o meu direito; ele me tirará para a luz, e eu verei a su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33Z</dcterms:created>
  <dc:creator>Admin</dc:creator>
  <dc:description/>
  <dc:language>en-US</dc:language>
  <cp:lastModifiedBy>Admin</cp:lastModifiedBy>
  <dcterms:modified xsi:type="dcterms:W3CDTF">2008-07-31T00:16:33Z</dcterms:modified>
  <cp:revision>1</cp:revision>
  <dc:subject/>
  <dc:title>Slide 1</dc:title>
</cp:coreProperties>
</file>