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726-3161-449C-95DD-4726DFB8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FD2-EB61-4600-AC41-CBE3D35A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201-0C28-4124-A274-5A4981E4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5A8-D6FF-4724-BA93-031D38F8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34B-3FAC-4B52-AEFE-71BC3A09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65F-021B-4D10-91D1-73B45166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0D2-8859-4A4F-86A4-29C19E72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0F4-2B19-4C33-B357-CF39373B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97F-D52C-4B8D-AD79-10E6C3E0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8D2-863C-4753-AC58-73D68127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368-2DAC-4DC9-AB89-BAF7786F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657-4A7D-4151-A042-BA6724A2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2CE0-A724-41AA-A637-92D171BD2EC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enviou Merodaque-Baladã, filho de Baladã, rei de Babilônia, cartas e um presente a Ezequias, porque tinha ouvido dizer que havia estado doente e que já tinha convales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zequias se alegrou com eles, e lhes mostrou a casa do seu tesouro, a prata, e o ouro, e as especiarias, e os melhores ungüentos, e toda a sua casa de armas, e tudo quanto se achava nos seus tesouros; coisa nenhuma houve, nem em sua casa, nem em todo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rofeta Isaías veio ao rei Ezequias, e lhe disse: Que foi que aqueles homens disseram, e de onde vieram a ti? E disse Ezequias: De uma terra remota vieram a mim,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Que foi que viram em tua casa? E disse Ezequias: Viram tudo quanto há em minha casa; coisa nenhuma há nos meus tesouros que eu deixasse de lhes most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Isaías a Ezequias: Ouve a palavra do SENHOR dos Exércit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irão dias em que tudo quanto houver em tua casa, e o que entesouraram teus pais até ao dia de hoje, será levado para Babilônia; não ficará coisa alguma, diss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de teus filhos, que procederem de ti, e tu gerares, tomarão, para que sejam eunucos no palácio do rei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zequias a Isaías: Boa é a palavra do SENHOR que disseste. Disse mais: Pois haverá paz e verdade em m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03Z</dcterms:created>
  <dc:creator>Admin</dc:creator>
  <dc:description/>
  <dc:language>en-US</dc:language>
  <cp:lastModifiedBy>Admin</cp:lastModifiedBy>
  <dcterms:modified xsi:type="dcterms:W3CDTF">2008-07-30T23:56:03Z</dcterms:modified>
  <cp:revision>1</cp:revision>
  <dc:subject/>
  <dc:title>Slide 1</dc:title>
</cp:coreProperties>
</file>