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E27-7C21-4F79-A78B-37455422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BA1-4A24-43CA-8C21-24BC4A6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060-EA8C-4E7E-A135-0186E1FE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06D-502F-4478-A546-93003E8D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FE9-ED1F-4554-8E6B-87F8730C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ACA-F591-40F3-BD29-415D53DB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434-ACF8-42B0-96BC-6D0C5AF2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7F2-6603-42D3-A816-6F10692D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222-3A02-490E-A8FB-E89A9503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C6F-14D7-46B4-8F11-592BBD7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38A-B681-47BC-8421-7C8BB521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4AE-127D-411E-9130-97D233F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D5F8-DD80-40C3-AC25-10FBC53943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do SENHOR veio a Jeremias, nos dias de Jeoiaquim, filho de Josias, rei de Judá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habitamos em tendas, e assim obedecemos e fazemos conforme tudo quanto nos ordenou Jonadabe, noss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subindo Nabucodonosor, rei de Babilônia, a esta terra, dissemos: Vinde, e vamo-nos a Jerusalém, por causa do exército dos caldeus, e por causa do exército dos sírios; e assim ficamos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: Vai, e dize aos homens de Judá e aos moradores de Jerusalém: Porventura nunca aceitareis instrução, para ouvirdes as minhas palavras?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e Jonadabe, filho de Recabe, que ordenou a seus filhos que não bebessem vinho, foram guardadas; pois não beberam até este dia, antes obedeceram o mandamento de seu pai; a mim, porém, que vos tenho falado, madrugando e falando, não me ouvi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tenho enviado todos os meus servos, os profetas, madrugando, e insistindo, e dizendo: Convertei-vos, agora, cada um do seu mau caminho, e fazei boas as vossas ações, e não sigais a outros deuses para servi-los; e assim ficareis na terra que vos d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os filhos de Jonadabe, filho de Recabe, guardaram o mandamento de seu pai que ele lhes ordenou, mas este povo não me obedece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ssim diz o SENHOR Deus dos Exércitos, o Deus de Israel: Eis que trarei sobre Judá, e sobre todos os moradores de Jerusalém, todo o mal que falei contra eles; pois lhes tenho falado, e não ouviram; e clamei a eles, e não respo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casa dos recabitas disse Jeremias: Assim diz o SENHOR dos Exércitos, o Deus de Israel: Pois que obedecestes ao mandamento de Jonadabe, vosso pai, e guardastes todos os seus mandamentos, e fizestes conforme tudo quanto vos orden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os Exércitos, Deus de Israel: Nunca faltará homem a Jonadabe, filho de Recabe, que esteja na minha presença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 à casa dos recabitas, e fala com eles, e leva-os à casa do SENHOR, a uma das câmaras e dá-lhes vinho a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ei a Jazanias, filho de Jeremias, filho de Habazinias, e a seus irmãos, e a todos os seus filhos, e a toda a casa dos recab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ei à casa do SENHOR, à câmara dos filhos de Hanã, filho de Jigdalias, homem de Deus, que estava junto à câmara dos príncipes, que ficava sobre a câmara de Maaséias, filho de Salum, guarda do vestíbul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 diante dos filhos da casa dos recabitas taças cheias de vinho, e copos, e disse-lhes: Bebei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s disseram: Não beberemos vinho, porque Jonadabe, filho de Recabe, nosso pai, nos ordenou, dizendo: Nunca jamais bebereis vinho, nem vós nem vosso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dificareis casa, nem semeareis semente, nem plantareis vinha, nem a possuireis; mas habitareis em tendas todos os vossos dias, para que vivais muitos dias sobre a face da terra, em que vós andais peregrin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bedecemos, pois, à voz de Jonadabe, filho de Recabe, nosso pai, em tudo quanto nos ordenou; de maneira que não bebemos vinho em todos os nossos dias, nem nós, nem nossas mulheres, nem nossos filhos, nem nossas fil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edificamos casas para nossa habitação; nem temos vinha, nem campo, nem s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14Z</dcterms:created>
  <dc:creator>Admin</dc:creator>
  <dc:description/>
  <dc:language>en-US</dc:language>
  <cp:lastModifiedBy>Admin</cp:lastModifiedBy>
  <dcterms:modified xsi:type="dcterms:W3CDTF">2008-07-30T23:59:14Z</dcterms:modified>
  <cp:revision>1</cp:revision>
  <dc:subject/>
  <dc:title>Slide 1</dc:title>
</cp:coreProperties>
</file>