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BB9-5115-4E5D-8DCE-6C9DD03F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F12-1002-4CAF-8CDF-0FCFE56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0F-8757-430F-93F2-B84EEE3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C5E-0846-4336-8C3C-334F663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34D-3B3F-41B0-97D1-205B9C72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95F-C6B4-4D13-8903-0F629E7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257-48FF-4D8E-9E10-ECD2FE6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D6E-F8CA-4F8E-91BC-0498BBE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405-3B32-418D-84BE-9F80728A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ED7-67B0-443E-B00A-7E66937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AD6-E120-4985-91DE-2F001CF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A57-C79A-49A3-BC96-4C1A5F5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B59C-0576-458B-BF45-D7FE346C0E3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Onde está a carta de divórcio de vossa mãe, pela qual eu a repudiei? Ou quem é o meu credor a quem eu vos tenha vendido? Eis que por vossas maldades fostes vendidos, e por vossas transgressões vossa mãe foi repudi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há entre vós que tema ao SENHOR e ouça a voz do seu servo? Quando andar em trevas, e não tiver luz nenhuma, confie no nome do SENHOR, e firme-se sobre 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s vós, que acendeis fogo, e vos cingis com faíscas, andai entre as labaredas do vosso fogo, e entre as faíscas, que acendestes. Isto vos sobrevirá da minha mão, e em tormentos jaz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vim eu, e ninguém apareceu? Chamei, e ninguém respondeu? Porventura tanto se encolheu a minha mão, que já não possa remir? Ou não há mais força em mim para livrar? Eis que com a minha repreensão faço secar o mar, torno os rios em deserto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isto os céus de negridão, pôr-lhes-ei um saco para a sua cober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me deu uma língua erudita, para que eu saiba dizer a seu tempo uma boa palavra ao que está cansado. Ele desperta-me todas as manhãs, desperta-me o ouvido para que ouça, como aqueles que apre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me abriu os ouvidos, e eu não fui rebelde; não me retirei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costas ofereci aos que me feriam, e a minha face aos que me arrancavam os cabelos; não escondi a minha face dos que me afrontavam e me cusp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EUS me ajuda, assim não me confundo; por isso pus o meu rosto como um seixo, porque sei que não serei envergo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to está o que me justifica; quem contenderá comigo? Compareçamos juntamente; quem é meu adversário? Chegue-se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DEUS me ajuda; quem há que me condene? Eis que todos eles como roupas se envelhecerão, e a traça os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37Z</dcterms:created>
  <dc:creator>Admin</dc:creator>
  <dc:description/>
  <dc:language>en-US</dc:language>
  <cp:lastModifiedBy>Admin</cp:lastModifiedBy>
  <dcterms:modified xsi:type="dcterms:W3CDTF">2008-07-30T23:56:37Z</dcterms:modified>
  <cp:revision>1</cp:revision>
  <dc:subject/>
  <dc:title>Slide 1</dc:title>
</cp:coreProperties>
</file>