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843-55A1-4C54-A522-7671960D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594-0A20-4B39-8A1C-A8B73A42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D2A-812F-441E-9288-7B69E39F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C05-B7C1-4A93-B027-C8FCFAE2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8D0-FEB1-45CC-9774-00FB276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CF7-563A-488C-B70B-9D00C3D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62E-B664-4E2C-A1C3-ADAEF636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712-4BB0-4F4C-805E-A88A475D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8E2-199C-43C2-BFC8-77281A6A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702-3079-4500-A0A0-E55A65AC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12B-FBA0-45FB-8115-52903D20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66A-AF8A-4C18-8767-1B70A74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D841-3B94-48D9-9DCA-F4AC31A0F3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a mim alguns homens dos anciãos de Israel, e se assentaram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rão sobre si o castigo da sua iniqüidade; o castigo do profeta será como o castigo de quem o consu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casa de Israel não se desvie mais de mim, nem mais se contamine com todas as suas transgressões; então eles serão o meu povo, e eu lhes serei o seu Deu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ainda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quando uma terra pecar contra mim, se rebelando gravemente, então estenderei a minha mão contra ela, e lhe quebrarei o sustento do pão, e enviarei contra ela fome, e cortarei dela homens e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stivessem no meio dela estes três homens, Noé, Daniel e Jó, eles pela sua justiça livrariam apenas as suas alma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fizer passar pela terra as feras selvagens, e elas a desfilharem de modo que fique desolada, e ninguém possa passar por ela por causa das fe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três homens estivessem no meio dela, vivo eu, diz o Senhor DEUS, que nem a filhos nem a filhas livrariam; eles só ficariam livres, e a terra seria assol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se eu trouxer a espada sobre aquela terra, e disser: Espada, passa pela terra; e eu cortar dela homens e anim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aqueles três homens estivessem nela, vivo eu, diz o Senhor DEUS, que nem filhos nem filhas livrariam, mas somente eles ficariam liv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se eu enviar a peste sobre aquela terra, e derramar o meu furor sobre ela com sangue, para cortar dela homens e anima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Noé, Daniel e Jó estivessem no meio dela, vivo eu, diz o Senhor DEUS, que nem um filho nem uma filha eles livrariam, mas somente eles livrariam as suas próprias almas pela s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Quanto mais, se eu enviar os meus quatro maus juízos, a espada, a fome, as feras, e a peste, contra Jerusalém, para cortar dela homens e fe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is que alguns fugitivos restarão nela, que serão levados para fora, assim filhos e filhas; eis que eles virão a vós, e vereis o seu caminho e os seus feitos; e ficareis consolados do mal que eu trouxe sobre Jerusalém, e de tudo o que trouxe sobre 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eis consolados, quando virdes o seu caminho e os seus feitos; e sabereis que não fiz sem razão tudo quanto nela tenho feit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estes homens levantaram os seus ídolos nos seus corações, e o tropeço da sua maldade puseram diante da sua face; devo eu de alguma maneira ser interrogado por e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fala com eles, e dize-lhes: Assim diz o Senhor DEUS: Qualquer homem da casa de Israel, que levantar os seus ídolos no seu coração, e puser o tropeço da sua maldade diante da sua face, e vier ao profeta, eu, o SENHOR, vindo ele, lhe responderei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u possa apanhar a casa de Israel no seu coração, porquanto todos se apartaram de mim para seguirem os seus íd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ize à casa de Israel: Assim diz o Senhor DEUS: Convertei-vos, e tornai-vos dos vossos ídolos; e desviai os vossos rostos de todas as vossas abomin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alquer homem da casa de Israel, e dos estrangeiros que peregrinam em Israel, que se alienar de mim, e levantar os seus ídolos no seu coração, e puser o tropeço da sua maldade diante do seu rosto, e vier ao profeta, para me consultar por meio 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o meu rosto contra o tal homem, e o assolarei para que sirva de sinal e provérbio, e arrancá-lo-ei do meio do meu povo;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o profeta for enganado, e falar alguma coisa, eu, o SENHOR, terei enganado esse profeta; e estenderei a minha mão contra ele, e destruí-lo-ei do meio do m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19Z</dcterms:created>
  <dc:creator>Admin</dc:creator>
  <dc:description/>
  <dc:language>en-US</dc:language>
  <cp:lastModifiedBy>Admin</cp:lastModifiedBy>
  <dcterms:modified xsi:type="dcterms:W3CDTF">2008-07-30T23:34:19Z</dcterms:modified>
  <cp:revision>1</cp:revision>
  <dc:subject/>
  <dc:title>Slide 1</dc:title>
</cp:coreProperties>
</file>