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4FB-ABCF-4CD3-8D43-503DD8EA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964-8EBF-4B48-91E4-DD5CA12F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6A0-DA4B-4F6C-A9D6-76D64110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755-75E1-41CC-A87D-FD565625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795-C373-470D-955C-1A069BFE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F8A-2F5F-4FB3-B90A-8C0D2363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C9B-4712-4351-A89E-4BFCD13F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91E-3F0B-455F-AB9F-D41606CE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B3D-8851-4C93-979D-A6C94060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959-7B5C-4701-8033-DA053E2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083-5609-458C-9456-B7DE740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4CC-FE20-4C74-8A35-4538C33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601D-461D-4DFD-B8BF-854E8C244A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DO o sábado, Maria Madalena, e Maria, mãe de Tiago, e Salomé, compraram aromas para irem ungi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ela, anunciou-o àqueles que tinham estado com ele, os quais estavam tristes, e chor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es que vivia, e que tinha sido visto por ela, não o c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manifestou-se de outra forma a dois deles, que iam de caminho para 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stes, anunciaram-no aos outros, mas nem ainda estes c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nalmente apareceu aos onze, estando eles assentados à mesa, e lançou-lhes em rosto a sua incredulidade e dureza de coração, por não haverem crido nos que o tinham visto já ressusci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Ide por todo o mundo, pregai o evangelho a toda cria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rer e for batizado será salvo; mas quem não crer será con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inais seguirão aos que crerem: Em meu nome expulsarão os demônios; falarão novas língu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garão nas serpentes; e, se beberem alguma coisa mortífera, não lhes fará dano algum; e porão as mãos sobre os enfermos, e os cu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Senhor, depois de lhes ter falado, foi recebido no céu, e assentou-se à direit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primeiro dia da semana, foram ao sepulcro, de manhã cedo, ao nascer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tendo partido, pregaram por todas as partes, cooperando com eles o Senhor, e confirmando a palavra com os sinais que se seguiram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m umas às outras: Quem nos revolverá a pedra da porta do sepulc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lhando, viram que já a pedra estava revolvida; e era ela muito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no sepulcro, viram um jovem assentado à direita, vestido de uma roupa comprida, branca; e ficaram espan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disse-lhes: Não vos assusteis; buscais a Jesus Nazareno, que foi crucificado; já ressuscitou, não está aqui; eis aqui o lugar onde o pus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de, dizei a seus discípulos, e a Pedro, que ele vai adiante de vós para a Galiléia; ali o vereis, como ele vos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as apressadamente, fugiram do sepulcro, porque estavam possuídas de temor e assombro; e nada diziam a ninguém porque tem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tendo ressuscitado na manhã do primeiro dia da semana, apareceu primeiramente a Maria Madalena, da qual tinha expulsado sete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4:02Z</dcterms:created>
  <dc:creator>Admin</dc:creator>
  <dc:description/>
  <dc:language>en-US</dc:language>
  <cp:lastModifiedBy>Admin</cp:lastModifiedBy>
  <dcterms:modified xsi:type="dcterms:W3CDTF">2008-07-31T00:14:02Z</dcterms:modified>
  <cp:revision>1</cp:revision>
  <dc:subject/>
  <dc:title>Slide 1</dc:title>
</cp:coreProperties>
</file>