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A71-32CF-462F-B500-9102C1C0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869-B2CE-44B1-B855-DB1D554E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70D-C73D-416C-BA1B-E82CC7B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4F4-870E-4228-9FD2-27D65E4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9B7-565F-4521-BB55-4CF02BE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65C-41A2-454B-8A3B-19B924C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6C9-CAA7-48B8-993E-71B1C418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D0D-509B-4DF7-8918-1DFEEF8A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A78-A088-4BA0-8EA9-BDDC4E1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A3A-48CC-4EED-A1BC-53B6CAE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191-211E-42E7-95E8-6AA6766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427-AA7B-4517-9C48-7DD827D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4F1A-85B8-4409-B7E8-250C64393B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prisioneiro de Jesus Cristo, e o irmão Timóteo, ao amado Filemom, nosso coopera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ço-te por meu filho Onésimo, que gerei nas minhas pris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utro tempo te foi inútil, mas agora a ti e a mim muito útil; eu to tornei a env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torna a recebê-lo como às minhas entra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bem o quisera conservar comigo, para que por ti me servisse nas prisões do evang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ada quis fazer sem o teu parecer, para que o teu benefício não fosse como por força, mas, volunt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pode ser que ele se tenha separado de ti por algum tempo, para que o retivesses para semp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já como servo, antes, mais do que servo, como irmão amado, particularmente de mim, e quanto mais de ti, assim na carne como n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se me tens por companheiro, recebe-o como a mim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te fez algum dano, ou te deve alguma coisa, põe isso à minha c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aulo, de minha própria mão o escrevi; eu o pagarei, para te não dizer que ainda mesmo a ti próprio a mim te de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nossa amada Áfia, e a Arquipo, nosso camarada, e à igreja que está em tua cas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irmão, eu me regozijarei de ti no Senhor; recreia as minhas entranhas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i-te confiado na tua obediência, sabendo que ainda farás mais do que d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amente prepara-me também pousada, porque espero que pelas vossas orações vos hei de ser con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m-te Epafras, meu companheiro de prisão por Cristo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cos, Aristarco, Demas e Lucas, meus coope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m o vosso espírit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a vós e paz da parte de Deus nosso Pai, e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s dou ao meu Deus, lembrando-me sempre de ti nas minhas o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do teu amor e da fé que tens para com o Senhor Jesus Cristo, e para com todos o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comunicação da tua fé seja eficaz no conhecimento de todo o bem que em vós há por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ve grande gozo e consolação do teu amor, porque por ti, ó irmão, as entranhas dos santos foram recre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ainda que tenha em Cristo grande confiança para te mandar o que te conv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Filemom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peço-te antes por amor, sendo eu tal como sou, Paulo o velho, e também agora prisioneir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33Z</dcterms:created>
  <dc:creator>Admin</dc:creator>
  <dc:description/>
  <dc:language>en-US</dc:language>
  <cp:lastModifiedBy>Admin</cp:lastModifiedBy>
  <dcterms:modified xsi:type="dcterms:W3CDTF">2008-07-30T23:36:33Z</dcterms:modified>
  <cp:revision>1</cp:revision>
  <dc:subject/>
  <dc:title>Slide 1</dc:title>
</cp:coreProperties>
</file>