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17A-BA84-4B06-958C-CE68978F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A4A-8559-414C-AB9A-4D236C4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6B5-33C7-4CDD-9EEC-9068D477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196-FCBB-4985-A015-386A3458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EB0-4342-4BB7-A519-A8CED0D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C9D-5516-4401-8D01-6C3BC343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347-F9B5-4986-A0DF-2C4E701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56E-3BD9-4E45-8FF7-65B708D7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DCD-E51F-46C8-91EA-D371E0CC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D3C-27AF-452C-BADF-4E3092E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2E2-E304-4371-A9B8-EF30B8F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490-612B-4F15-B574-DC8A9A9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9BC5-3E84-4683-9E51-2B3B82ECF65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céus, a terra e todo o seu exército foram acab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ía um rio do Éden para regar o jardim; e dali se dividia e se tornava em quatro braç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nome do primeiro é Pisom; este é o que rodeia toda a terra de Havilá, onde há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ouro dessa terra é bom; ali há o bdélio, e a pedra sardôn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o segundo rio é Giom; este é o que rodeia toda a terra de Cux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nome do terceiro rio é Tigre; este é o que vai para o lado oriental da Assíria; e o quarto rio é o Eufra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ou o SENHOR Deus o homem, e o pôs no jardim do Éden para o lavrar e o guard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denou o SENHOR Deus ao homem, dizendo: De toda a árvore do jardim comerás livrem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 árvore do conhecimento do bem e do mal, dela não comerás; porque no dia em que dela comeres, certamente morre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o SENHOR Deus: Não é bom que o homem esteja só; far-lhe-ei uma ajudadora idônea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avendo, pois, o SENHOR Deus formado da terra todo o animal do campo, e toda a ave dos céus, os trouxe a Adão, para este ver como lhes chamaria; e tudo o que Adão chamou a toda a alma vivente, isso foi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endo Deus acabado no dia sétimo a obra que fizera, descansou no sétimo dia de toda a sua obra, que tinha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ão pôs os nomes a todo o gado, e às aves dos céus, e a todo o animal do campo; mas para o homem não se achava ajudadora idône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Deus fez cair um sono pesado sobre Adão, e este adormeceu; e tomou uma das suas costelas, e cerrou a carne em seu lug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costela que o SENHOR Deus tomou do homem, formou uma mulher, e trouxe-a a A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dão: Esta é agora osso dos meus ossos, e carne da minha carne; esta será chamada mulher, porquanto do homem foi to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eixará o homem o seu pai e a sua mãe, e apegar-se-á à sua mulher, e serão ambos um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mbos estavam nus, o homem e a sua mulher; e não se envergonhav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bençoou Deus o dia sétimo, e o santificou; porque nele descansou de toda a sua obra que Deus criara e fiz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origens dos céus e da terra, quando foram criados; no dia em que o SENHOR Deus fez a terra e os cé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 a planta do campo que ainda não estava na terra, e toda a erva do campo que ainda não brotava; porque ainda o SENHOR Deus não tinha feito chover sobre a terra, e não havia homem para lavrar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vapor, porém, subia da terra, e regava toda a fac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mou o SENHOR Deus o homem do pó da terra, e soprou em suas narinas o fôlego da vida; e o homem foi feito alma viv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lantou o SENHOR Deus um jardim no Éden, do lado oriental; e pôs ali o homem que tinha form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eus fez brotar da terra toda a árvore agradável à vista, e boa para comida; e a árvore da vida no meio do jardim, e a árvore do conhecimento do bem e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16Z</dcterms:created>
  <dc:creator>Admin</dc:creator>
  <dc:description/>
  <dc:language>en-US</dc:language>
  <cp:lastModifiedBy>Admin</cp:lastModifiedBy>
  <dcterms:modified xsi:type="dcterms:W3CDTF">2008-07-30T23:37:16Z</dcterms:modified>
  <cp:revision>1</cp:revision>
  <dc:subject/>
  <dc:title>Slide 1</dc:title>
</cp:coreProperties>
</file>