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D88-0BD8-4022-82CF-4F133327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DC2-A710-474F-B92E-44A25F0A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8A6-3A05-4897-A420-7EABF4E8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50C-3D43-4B78-9967-7590E011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79C-04EE-4886-8986-C1A70243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49B-416C-47DB-9F90-A6B0E52A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F74-2434-4323-AB26-6FB11EC9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90F-6810-48D4-AC30-A78D6FED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296-59CA-41EE-B812-B32B85D4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08C-05B6-4CD5-9C14-B4026580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C17-F30A-475D-9A71-363DDA57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394-F52C-4E0F-829F-28801EFF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B43A-AA45-4CD8-A964-D561F66ED76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ERAM os dois anjos a Sodoma à tarde, e estava Ló assentado à porta de Sodoma; e vendo-os Ló, levantou-se ao seu encontro e inclinou-se com o rosto à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s homens porém estenderam as suas mãos e fizeram entrar a Ló consigo na casa, e fecharam a por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ram de cegueira os homens que estavam à porta da casa, desde o menor até ao maior, de maneira que se cansaram para achar 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ram aqueles homens a Ló: Tens alguém mais aqui? Teu genro, e teus filhos, e tuas filhas, e todos quantos tens nesta cidade, tira-os fora deste lug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ós vamos destruir este lugar, porque o seu clamor tem aumentado diante da face do SENHOR, e o SENHOR nos enviou a destruí-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Ló, e falou a seus genros, aos que haviam de tomar as suas filhas, e disse: Levantai-vos, saí deste lugar, porque o SENHOR há de destruir a cidade. Foi tido porém por zombador aos olhos de seus gen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amanhecer os anjos apertaram com Ló, dizendo: Levanta-te, toma tua mulher e tuas duas filhas que aqui estão, para que não pereças na injustiça dest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, porém, demorava-se, e aqueles homens lhe pegaram pela mão, e pela mão de sua mulher e de suas duas filhas, sendo-lhe o SENHOR misericordioso, e tiraram-no, e puseram-no fora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tirando-os fora, disse: Escapa-te por tua vida; não olhes para trás de ti, e não pares em toda esta campina; escapa lá para o monte, para que não pere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ó disse-lhe: Ora, não, meu Senho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gora o teu servo tem achado graça aos teus olhos, e engrandeceste a tua misericórdia que a mim me fizeste, para guardar a minha alma em vida; mas eu não posso escapar no monte, para que porventura não me apanhe este mal, e eu mo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is agora, meus senhores, entrai, peço-vos, em casa de vosso servo, e passai nela a noite, e lavai os vossos pés; e de madrugada vos levantareis e ireis vosso caminho. E eles disseram: Não, antes na rua passaremos a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gora aquela cidade está perto, para fugir para lá, e é pequena; ora, deixe-me escapar para lá (não é pequena?), para que minha alma v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Eis aqui, tenho-te aceitado também neste negócio, para não destruir aquela cidade, de que falas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pressa-te, escapa-te para ali; porque nada poderei fazer, enquanto não tiveres ali chegado. Por isso se chamou o nome da cidade Zo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u o sol sobre a terra, quando Ló entrou em Zo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fez chover enxofre e fogo, do SENHOR desde os céus, sobre Sodoma e Gomo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ruiu aquelas cidades e toda aquela campina, e todos os moradores daquelas cidades, e o que nascia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ulher de Ló olhou para trás e ficou convertida numa estátua de s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aão levantou-se aquela mesma manhã, de madrugada, e foi para aquele lugar onde estivera diante da face d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ou para Sodoma e Gomorra e para toda a terra da campina; e viu, que a fumaça da terra subia, como a de uma forn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destruindo Deus as cidades da campina, lembrou-se Deus de Abraão, e tirou a Ló do meio da destruição, derrubando aquelas cidades em que Ló habit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fiou com eles muito, e vieram com ele, e entraram em sua casa; e fez-lhes banquete, e cozeu bolos sem levedura, e com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u Ló de Zoar, e habitou no monte, e as suas duas filhas com ele; porque temia habitar em Zoar; e habitou numa caverna, ele e as suas duas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primogênita disse à menor: Nosso pai já é velho, e não há homem na terra que entre a nós, segundo o costume de toda 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m, demos de beber vinho a nosso pai, e deitemo-nos com ele, para que em vida conservemos a descendência de noss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 de beber vinho a seu pai naquela noite; e veio a primogênita e deitou-se com seu pai, e não sentiu ele quando ela se deitou, nem quando se levan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3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, no outro dia, que a primogênita disse à menor: Vês aqui, eu já ontem à noite me deitei com meu pai; demos-lhe de beber vinho também esta noite, e então entra tu, deita-te com ele, para que em vida conservemos a descendência de noss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3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ram de beber vinho a seu pai também naquela noite; e levantou-se a menor, e deitou-se com ele; e não sentiu ele quando ela se deitou, nem quando se levan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3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ceberam as duas filhas de Ló de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3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rimogênita deu à luz um filho, e chamou-lhe Moabe; este é o pai dos moabitas até a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3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menor também deu à luz um filho, e chamou-lhe Ben-Ami; este é o pai dos filhos de Amom até o dia de ho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tes que se deitassem, cercaram a casa, os homens daquela cidade, os homens de Sodoma, desde o moço até ao velho; todo o povo de todos os bair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aram a Ló, e disseram-lhe: Onde estão os homens que a ti vieram nesta noite? Traze-os fora a nós, para que os conheç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Ló a eles à porta, e fechou a porta atrás de s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Meus irmãos, rogo-vos que não façais m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aqui, duas filhas tenho, que ainda não conheceram homens; fora vo-las trarei, e fareis delas como bom for aos vossos olhos; somente nada façais a estes homens, porque por isso vieram à sombra do meu telh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, porém, disseram: Sai daí. Disseram mais: Como estrangeiro este indivíduo veio aqui habitar, e quereria ser juiz em tudo? Agora te faremos mais mal a ti do que a eles. E arremessaram-se sobre o homem, sobre Ló, e aproximaram-se para arrombar a po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10Z</dcterms:created>
  <dc:creator>Admin</dc:creator>
  <dc:description/>
  <dc:language>en-US</dc:language>
  <cp:lastModifiedBy>Admin</cp:lastModifiedBy>
  <dcterms:modified xsi:type="dcterms:W3CDTF">2008-07-30T23:38:10Z</dcterms:modified>
  <cp:revision>1</cp:revision>
  <dc:subject/>
  <dc:title>Slide 1</dc:title>
</cp:coreProperties>
</file>