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E1-A10B-4946-B684-DF6CA8D9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951-CFF5-41F1-B34C-1FD9E27C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36E-8314-47FF-BE73-DAFDA410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9EC-E887-493A-8DB8-FF05CF06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DE1-3404-4A3C-887F-32CAF737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9EB-5A01-4711-B98F-19CD145B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228-EB78-460D-A85B-0724FADC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2C7-D3EA-4634-8FF0-A02A9F4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C9B-1445-4990-841D-756B33C5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DFA-9725-4A0F-B294-5165720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506-56C8-4F6B-82D6-76A4C70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4D1-EF2C-4B19-A9FE-E2D4849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284-0F05-4AC9-BA84-CEBDE3295A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ao amanhecer, os principais dos sacerdotes, com os anciãos, e os escribas, e todo o Sinédrio, tiveram conselho; e, ligando Jesus, o levaram e entregaram a Pil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bem sabia que por inveja os principais dos sacerdotes o tinham entr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principais dos sacerdotes incitaram a multidão para que fosse solto antes Barrab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, respondendo, lhes disse outra vez: Que quereis, pois, que faça daquele a quem chamais Rei dos Ju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tornaram a clamar: Crucific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ilatos lhes disse: Mas que mal fez? E eles cada vez clamavam mais: Crucific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, querendo satisfazer a multidão, soltou-lhe Barrabás e, açoitado Jesus, o entregou para ser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oldados o levaram dentro à sala, que é a da audiência, e convocaram toda a co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stiram-no de púrpura, e tecendo uma coroa de espinhos, lha puseram n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am a saudá-lo, dizendo: Salve, Rei dos Ju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am-no na cabeça com uma cana, e cuspiram nele e, postos de joelhos, o ad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lhe perguntou: Tu és o Rei dos Judeus? E ele, respondendo, disse-lhe: Tu o di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escarnecido, despiram-lhe a púrpura, e o vestiram com as suas próprias vestes; e o levaram para fora a fim de o crucific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trangeram um certo Simão, cireneu, pai de Alexandre e de Rufo, que por ali passava, vindo do campo, a que levasse a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-no ao lugar do Gólgota, que se traduz por lugar da Cav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lhe a beber vinho com mirra, mas ele não o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crucificado, repartiram as suas vestes, lançando sobre elas sortes, para saber o que cada um lev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hora terceira, e o crucifi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ima dele estava escrita a sua acusação: O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ucificaram com ele dois salteadores, um à sua direita, e outro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mprindo-se a escritura que diz: E com os malfeitores foi c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passavam blasfemavam dele, meneando as suas cabeças, e dizendo: Ah! tu que derrubas o templo, e em três dias o edific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os sacerdotes o acusavam de muitas coisas; porém ele nada respon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te a ti mesmo, e desce da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sma maneira também os principais dos sacerdotes, com os escribas, diziam uns para os outros, zombando: Salvou os outros, e não pode salvar-se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risto, o Rei de Israel, desça agora da cruz, para que o vejamos e acreditemos. Também os que com ele foram crucificados o injuri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hora sexta, houve trevas sobre toda a terra até a hora n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à hora nona, Jesus exclamou com grande voz, dizendo: Eloí, Eloí, lamá sabactâni? que, traduzido, é: Deus meu, Deus meu, por que me desampar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que ali estavam, ouvindo isto, diziam: Eis que chama por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eles correu a embeber uma esponja em vinagre e, pondo-a numa cana, deu-lho a beber, dizendo: Deixai, vejamos se virá Elias tir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dando um grande brado, expi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éu do templo se rasgou em dois, de alto a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nturião, que estava defronte dele, vendo que assim clamando expirara, disse: Verdadeiramente este homem era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o interrogou outra vez, dizendo: Nada respondes? Vê quantas coisas testifica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li estavam algumas mulheres, olhando de longe, entre as quais também Maria Madalena, e Maria, mãe de Tiago, o menor, e de José, e Salom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quais também o seguiam, e o serviam, quando estava na Galiléia; e muitas outras, que tinham subido com el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tarde, porquanto era o dia da preparação, isto é, a véspera do sáb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ou José de Arimatéia, senador honrado, que também esperava o reino de Deus, e ousadamente foi a Pilatos, e pediu o corpo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se maravilhou de que já estivesse morto. E, chamando o centurião, perguntou-lhe se já havia muito que tinha mor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-se certificado pelo centurião, deu o corpo a Jos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comprara um lençol fino, e, tirando-o da cruz, o envolveu nele, e o depositou num sepulcro lavrado numa rocha; e revolveu uma pedra para a porta d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ia Madalena e Maria, mãe de José, observavam onde o pun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nada mais respondeu, de maneira que Pilatos se maravilh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o dia da festa costumava soltar-lhes um preso qualquer que eles pedi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chamado Barrabás, que, preso com outros amotinadores, tinha num motim cometido um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, dando gritos, começou a pedir que fizesse como sempre lhes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lhes respondeu, dizendo: Quereis que vos solte o Rei dos Ju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59Z</dcterms:created>
  <dc:creator>Admin</dc:creator>
  <dc:description/>
  <dc:language>en-US</dc:language>
  <cp:lastModifiedBy>Admin</cp:lastModifiedBy>
  <dcterms:modified xsi:type="dcterms:W3CDTF">2008-07-31T00:13:59Z</dcterms:modified>
  <cp:revision>1</cp:revision>
  <dc:subject/>
  <dc:title>Slide 1</dc:title>
</cp:coreProperties>
</file>