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2A1-D2DC-41BF-BD0B-9DAEB999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41E-2E2B-4766-8B4F-E88E0DAC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75E-4F49-45FB-83A7-3C5FB436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1408-7C87-4C92-BCD8-C5BE1C7B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FA8-7D7F-42C9-AD33-2AEFF7EC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97E-5384-4AAA-92E6-38D9E8F7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20B-F250-4F66-939F-5AE8E125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7F0-3AA3-4141-820E-D6865E33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5EF-F438-4F56-B246-7816A88E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3E0-B65A-4D74-B312-9C781A46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C37A-7B1B-49BB-84A2-EC1E963E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6ED-6525-476A-80C8-C3DF6198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BD67-04A8-4A17-83B9-25D068EA028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outra vez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vesti com roupas bordadas, e te calcei com pele de texugo, e te cingi com linho fino, e te cobri de se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enfeitei com adornos, e te pus braceletes nas mãos e um colar ao redor do teu pesc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pus um pendente na testa, e brincos nas orelhas, e uma coroa de glória n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foste ornada de ouro e prata, e o teu vestido foi de linho fino, e de seda e de bordados; nutriste-te de flor de farinha, e mel e azeite; e foste formosa em extremo, e foste próspera, até chegares a real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rreu de ti a tua fama entre os gentios, por causa da tua formosura, pois era perfeita, por causa da minha glória que eu pusera em ti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onfiaste na tua formosura, e te corrompeste por causa da tua fama, e prostituías-te a todo o que passava, para sere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ste dos teus vestidos, e fizeste lugares altos pintados de diversas cores, e te prostituíste sobre eles, como nunca sucedera, nem suced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ste as tuas jóias de enfeite, que eu te dei do meu ouro e da minha prata, e fizeste imagens de homens, e te prostituíste com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ste os teus vestidos bordados, e as cobriste; e o meu azeite e o meu perfume puseste diante d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eu pão que te dei, a flor de farinha, e o azeite e o mel com que eu te sustentava, também puseste diante delas em cheiro suave; e assim foi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faze conhecer a Jerusalém as suas abomi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isto, tomaste a teus filhos e tuas filhas, que me tinhas gerado, e os sacrificaste a elas, para serem consumidos; acaso é pequena a tua prostitui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taste a meus filhos, e os entregaste a elas para os fazerem passar pel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todas as tuas abominações, e nas tuas prostituições, não te lembraste dos dias da tua mocidade, quando tu estavas nua e descoberta, e revolvida no teu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, depois de toda a tua maldade (ai, ai de ti! diz o Senhor DEUS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edificaste uma abóbada, e fizeste lugares altos em cada r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ada canto do caminho edificaste o teu lugar alto, e fizeste abominável a tua formosura, e alargaste os teus pés a todo o que passava, e multiplicaste as tuas prostitui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e prostituíste com os filhos do Egito, teus vizinhos grandes de carne, e multiplicaste a tua prostituição para me provocares à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stendi a minha mão sobre ti, e diminuí a tua porção; e te entreguei à vontade das que te odeiam, das filhas dos filisteus, as quais se envergonhavam do teu caminho deprav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e prostituíste com os filhos da Assíria, porquanto eras insaciável; e prostituindo-te com eles, nem ainda assim ficaste fa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multiplicaste as tuas prostituições na terra de Canaã até Caldéia, e nem ainda com isso te fart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: Assim diz o Senhor DEUS a Jerusalém: A tua origem e o teu nascimento procedem da terra dos cananeus. Teu pai era amorreu, e tua mãe het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ão fraco é o teu coração, diz o Senhor DEUS, fazendo tu todas estas coisas, obras de uma meretriz imperios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dificando tu a tua abóbada ao canto de cada caminho, e fazendo o teu lugar alto em cada rua! Nem foste como a meretriz, pois desprezaste a pag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ste como a mulher adúltera que, em lugar de seu marido, recebe os estra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odas as meretrizes dão paga, mas tu dás os teus presentes a todos os teus amantes; e lhes dás presentes, para que venham a ti de todas as partes, pelas tuas prostitui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 contigo sucede o contrário das outras mulheres nas tuas prostituições, pois ninguém te procura para prostituição; porque, dando tu a paga, e a ti não sendo dada a paga, fazes o contr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ó meretriz, ouve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Porquanto se derramou o teu dinheiro, e se descobriu a tua nudez nas tuas prostituições com os teus amantes, como também com todos os ídolos das tuas abominações, e do sangue de teus filhos que lhes des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ajuntarei a todos os teus amantes, com os quais te deleitaste, como também a todos os que amaste, com todos os que odiaste, e ajuntá-los-ei contra ti em redor, e descobrirei a tua nudez diante deles, para que vejam toda a tua nud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lgar-te-ei como são julgadas as adúlteras e as que derramam sangue; e entregar-te-ei ao sangue de furor e de ciú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gar-te-ei nas mãos deles; e eles derrubarão a tua abóbada, e transtornarão os teus altos lugares, e te despirão os teus vestidos, e tomarão as tuas jóias de enfeite, e te deixarão nua e descobe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o teu nascimento, no dia em que nasceste não te foi cortado o umbigo, nem foste lavada com água para te limpar; nem tampouco foste esfregada com sal, nem envolta em faix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rão subir contra ti uma multidão, e te apedrejarão, e te traspassarão com as suas esp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imarão as tuas casas a fogo, e executarão juízos contra ti aos olhos de muitas mulheres; e te farei cessar de ser meretriz, e paga não darás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atisfarei em ti o meu furor, e os meus ciúmes se desviarão de ti, e me aquietarei, e nunca mais me indign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não te lembraste dos dias da tua mocidade, e me provocaste à ira com tudo isto, eis que também eu farei recair o teu caminho sobre a tua cabeça, diz o Senhor DEUS, e não mais farás tal perversidade sobre todas as tuas abomi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odo o que usa de provérbios usará contra ti este provérbio, dizendo: Tal mãe, tal fi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és filha de tua mãe, que tinha nojo de seu marido e de seus filhos; e tu és irmã de tuas irmãs, que tinham nojo de seus maridos e de seus filhos; vossa mãe foi hetéia, e vosso pai a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a irmã, a maior, é Samaria, ela e suas filhas, a qual habita à tua esquerda; e a tua irmã menor, que habita à tua mão direita, é Sodoma e suas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não andaste nos seus caminhos, nem fizeste conforme as suas abominações; mas como se isto fora mui pouco, ainda te corrompeste mais do que elas, em todos os t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vo eu, diz o Senhor DEUS, que não fez Sodoma, tua irmã, nem ela, nem suas filhas, como fizeste tu e tuas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sta foi a iniqüidade de Sodoma, tua irmã: Soberba, fartura de pão, e abundância de ociosidade teve ela e suas filhas; mas nunca fortaleceu a mão do pobre e do necessi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apiedou de ti olho algum, para te fazer alguma coisa disto, compadecendo-se de ti; antes foste lançada em pleno campo, pelo nojo da tua pessoa, no dia em que nasc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ensoberbeceram, e fizeram abominações diante de mim; portanto, vendo eu isto as tirei d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amaria não cometeu a metade de teus pecados; e multiplicaste as tuas abominações mais do que elas, e justificaste a tuas irmãs, com todas as tuas abominações que fiz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também, que julgaste a tuas irmãs, leva a tua vergonha pelos pecados, que cometeste, mais abomináveis do que elas; mais justas são do que tu; envergonha-te logo também, e leva a tua vergonha, pois justificaste a tuas irmã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is, farei voltar os cativos delas; os cativos de Sodoma e suas filhas, e os cativos de Samaria e suas filhas, e os cativos do teu cativeiro dentre el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leves a tua vergonha, e sejas envergonhada por tudo o que fizeste, dando-lhes tu con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uas irmãs, Sodoma e suas filhas, tornarem ao seu primeiro estado, e também Samaria e suas filhas tornarem ao seu primeiro estado, também tu e tuas filhas tornareis ao vosso primeiro es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mesmo Sodoma, tua irmã, foi mencionada pela tua boca, no dia da tua soberb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que se descobrisse a tua maldade, como no tempo do desprezo das filhas da Síria, e de todos os que estavam ao redor dela, as filhas dos filisteus, que te desprezavam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perversidade e as tuas abominações tu levará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EUS: Eu te farei como fizeste, que desprezaste o juramento, quebrando 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ssando eu junto de ti, vi-te a revolver-te no teu sangue, e disse-te: Ainda que estejas no teu sangue, vive; sim, disse-te: Ainda que estejas no teu sangue, vi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eu me lembrarei da minha aliança, que fiz contigo nos dias da tua mocidade; e estabelecerei contigo uma alianç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e lembrarás dos teus caminhos, e te confundirás, quando receberes tuas irmãs maiores do que tu, com as menores do que tu, porque tas darei por filhas, mas não pela tu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estabelecerei a minha aliança contigo, e saberás que eu sou 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e lembres disso, e te envergonhes, e nunca mais abras a tua boca, por causa da tua vergonha, quando eu te expiar de tudo quanto fizeste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te fiz multiplicar como o renovo do campo, e cresceste, e te engrandeceste, e chegaste à grande formosura; avultaram os seios, e cresceu o teu cabelo; mas estavas nua e descobe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ssando eu junto de ti, vi-te, e eis que o teu tempo era tempo de amores; e estendi sobre ti a aba do meu manto, e cobri a tua nudez; e dei-te juramento, e entrei em aliança contigo, diz o Senhor DEUS, e tu ficaste sendo m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e lavei com água, e te enxuguei do teu sangue, e te ungi com óle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4:29Z</dcterms:created>
  <dc:creator>Admin</dc:creator>
  <dc:description/>
  <dc:language>en-US</dc:language>
  <cp:lastModifiedBy>Admin</cp:lastModifiedBy>
  <dcterms:modified xsi:type="dcterms:W3CDTF">2008-07-30T23:34:29Z</dcterms:modified>
  <cp:revision>1</cp:revision>
  <dc:subject/>
  <dc:title>Slide 1</dc:title>
</cp:coreProperties>
</file>