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86E3-306D-4FB3-931F-1B54E731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0EF4-2E6B-4B94-996C-F95546A5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69F2-E33F-4C42-99E2-0E215C5E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F276-4893-41B0-A3A6-4DB95BC4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3BE1-ABEF-4F94-B9F5-773444AF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77B6-8855-43A0-8492-8CE1E383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F8FF-CDE9-4951-A716-4FEA80F5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7B2C-3326-446A-8D01-2C1671E7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15D2-B975-472D-8A64-C8FE6F28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DC30-B02F-47C5-BE9F-E0B630A6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A0E4-C69B-44A6-9DC8-42266BF7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A2F2-DF21-4EA0-BC63-F8D7C601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8D18-354D-4AF3-9C38-0D04B72C40C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 é a lei da expiação da culpa; coisa santíssima 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oda a oferta amassada com azeite, ou seca, será de todos os filhos de Arão, assim de um como de ou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 é a lei do sacrifício pacífico que se oferecerá ao SENHOR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o oferecer por oferta de ação de graças, com o sacrifício de ação de graças, oferecerá bolos ázimos amassados com azeite; e coscorões ázimos amassados com azeite; e os bolos amassados com azeite serão fritos, de flor de fari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os bolos oferecerá por sua oferta pão levedado, com o sacrifício de ação de graças da sua oferta pacíf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toda a oferta oferecerá uma parte por oferta alçada ao SENHOR, que será do sacerdote que espargir o sangue da oferta pacíf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carne do sacrifício de ação de graças da sua oferta pacífica se comerá no dia do seu oferecimento; nada se deixará dela até à manh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o sacrifício da sua oferta for voto, ou oferta voluntária, no dia em que oferecer o seu sacrifício se comerá; e o que dele ficar também se comerá no dia seguin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e ainda ficar da carne do sacrifício ao terceiro dia será queimado no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da carne do seu sacrifício pacífico se comer ao terceiro dia, aquele que a ofereceu não será aceito, nem lhe será imputado; coisa abominável será, e a pessoa que dela comer levará a sua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carne que tocar alguma coisa imunda não se comerá; com fogo será queimada; mas da outra carne, qualquer que estiver limpo, comerá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lugar onde degolam o holocausto, degolarão a oferta pela expiação da culpa, e o seu sangue se espargirá sobre o altar em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se alguma pessoa comer a carne do sacrifício pacífico, que é do SENHOR, tendo ela sobre si a sua imundícia, aquela pessoa será extirpada d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uma pessoa tocar alguma coisa imunda, como imundícia de homem, ou gado imundo, ou qualquer abominação imunda, e comer da carne do sacrifício pacífico, que é do SENHOR, aquela pessoa será extirpada d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os filhos de Israel, dizendo: Nenhuma gordura de boi, nem de carneiro, nem de cabra comere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pode-se usar da gordura de corpo morto, e da gordura do dilacerado por feras, para toda a obra, mas de nenhuma maneira a comere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qualquer que comer a gordura do animal, do qual se oferecer ao SENHOR oferta queimada, a pessoa que a comer será extirpada d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enhum sangue comereis em qualquer das vossas habitações, quer de aves quer de g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 a pessoa que comer algum sangue, aquela pessoa será extirpada d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os filhos de Israel, dizendo: Quem oferecer ao SENHOR o seu sacrifício pacífico, trará a sua oferta ao SENHOR do seu sacrifício pacífi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la se oferecerá toda a sua gordura; a cauda, e a gordura que cobre a fress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suas próprias mãos trarão as ofertas queimadas do SENHOR; a gordura do peito com o peito trará para movê-lo por oferta movida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queimará a gordura sobre o altar, porém o peito será de Arão e de seu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 espádua direita dareis ao sacerdote por oferta alçada dos vossos sacrifícios pacífic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dos filhos de Arão que oferecer o sangue do sacrifício pacífico, e a gordura, esse terá a espádua direita para a sua por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peito movido e a espádua alçada tomei dos filhos de Israel dos seus sacrifícios pacíficos, e os dei a Arão, o sacerdote, e a seus filhos, por estatuto perpétuo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porção de Arão e a porção de seus filhos das ofertas queimadas do SENHOR, desde o dia em que ele os apresentou para administrar o sacerdócio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o SENHOR ordenou que se lhes desse dentre os filhos de Israel no dia em que os ungiu; estatuto perpétuo é pelas suas ge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lei do holocausto, da oferta de alimentos, e da expiação do pecado, e da expiação da culpa, e da oferta das consagrações, e do sacrifício pacífic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o SENHOR ordenou a Moisés no monte Sinai, no dia em que ordenou aos filhos de Israel que oferecessem as suas ofertas ao SENHOR, no deserto de Sin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mbos os rins, e a gordura que neles há, que está junto aos lombos, e o redenho sobre o fígado, com os rins se tirará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os queimará sobre o altar em oferta queimada ao SENHOR; expiação da culpa 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o varão entre os sacerdotes a comerá; no lugar santo se comerá; coisa santíssima 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a expiação pelo pecado, assim será a expiação da culpa; uma mesma lei haverá para elas; será do sacerdote que houver feito propiciação com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sacerdote, que oferecer o holocausto de alguém, terá para si o couro do holocausto que oferec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toda a oferta que se cozer no forno, com tudo que se preparar na frigideira e na caçoula, será do sacerdote que a oferec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8:24Z</dcterms:created>
  <dc:creator>Admin</dc:creator>
  <dc:description/>
  <dc:language>en-US</dc:language>
  <cp:lastModifiedBy>Admin</cp:lastModifiedBy>
  <dcterms:modified xsi:type="dcterms:W3CDTF">2008-07-31T00:08:24Z</dcterms:modified>
  <cp:revision>1</cp:revision>
  <dc:subject/>
  <dc:title>Slide 1</dc:title>
</cp:coreProperties>
</file>