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355-D94C-4FF3-B0FB-CB2111DA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8FD-638D-48D6-93A0-EF15C28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0E9-5002-49F4-A6B2-D2D464C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673-FA1A-4E92-8131-8706C5AD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A31-88B1-4D74-9AA9-9894E0D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C25-A2AD-4A9A-8C8B-E597F116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7E8-688C-4DFC-9D96-342E3A54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787-2791-4C48-8A41-4FF257D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244-ECF5-404A-BF75-EC9EB39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CA9-2A18-4DD5-A10B-D41BE78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46F-A85B-41A8-88BE-31AE4B7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ABF-5126-46B0-85EE-A260AEE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488-F3A0-4444-9405-E5B44E79E8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fora o SENHOR, que esteve ao nosso lado, ora diga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fora o SENHOR, que esteve ao nosso lado, quando os homens se levantaram contra n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então nos teriam engulido vivos, quando a sua ira se acendeu cont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 águas teriam transbordado sobre nós, e a corrente teria passado sobre a nossa al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 águas altivas teriam passado sobre a nossa al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que não nos deu por presa aos seus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alma escapou, como um pássaro do laço dos passarinheiros; o laço quebrou-se, e nós escap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sso socorro está no nome do SENHOR, que fez o céu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20Z</dcterms:created>
  <dc:creator>Admin</dc:creator>
  <dc:description/>
  <dc:language>en-US</dc:language>
  <cp:lastModifiedBy>Admin</cp:lastModifiedBy>
  <dcterms:modified xsi:type="dcterms:W3CDTF">2008-07-31T00:28:20Z</dcterms:modified>
  <cp:revision>1</cp:revision>
  <dc:subject/>
  <dc:title>Slide 1</dc:title>
</cp:coreProperties>
</file>