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9A2-C322-46CC-BBC8-50852D76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D0F-8EB1-4A4D-8721-753F967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A11-2A42-44EC-8D06-46C18DE3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6E2-1206-42A2-B4CA-3D67AC5F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E17-C3BA-4955-A7F9-619C59E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467-DDDA-4B06-A5CD-DC47FE5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576-F5D3-43B2-A55C-30CFB31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C79-7B7B-4AD6-B5C1-EDE7D81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45E-4536-4537-8640-BD285A7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7FD-2223-4240-A384-7A82716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043-8E1B-464A-BC6E-EA70E378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286-3C20-4DE6-9730-421412E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CCE7-4AB4-4F15-BE7F-97209353B66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L está abatido, Nebo se encurvou, os seus ídolos são postos sobre os animais e sobre as feras; as cargas dos vossos fardos são canseiras para as feras já cans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nuncio o fim desde o princípio, e desde a antiguidade as coisas que ainda não sucederam; que digo: O meu conselho será firme, e farei toda a minh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hamo a ave de rapina desde o oriente, e de uma terra remota o homem do meu conselho; porque assim o disse, e assim o farei vir; eu o formei, e também o f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-me, ó duros de coração, os que estais longe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ço chegar a minha justiça, e não estará ao longe, e a minha salvação não tardará; mas estabelecerei em Sião a salvação, e em Israel a minh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mente se encurvaram e se abateram; não puderam livrar-se da carga, mas a sua alma entrou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-me, ó casa de Jacó, e todo o restante da casa de Israel; vós a quem trouxe nos braços desde o ventre, e sois levados desde a mad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à velhice eu serei o mesmo, e ainda até às cãs eu vos carregarei; eu vos fiz, e eu vos levarei, e eu vos trarei, e vos liv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me assemelhareis, e com quem me igualareis, e me comparareis, para que sejamos semelha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astam o ouro da bolsa, e pesam a prata nas balanças; assalariam o ourives, e ele faz um deus, e diante dele se prostram e se inclin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s ombros o tomam, o levam, e o põem no seu lugar; ali fica em pé, do seu lugar não se move; e, se alguém clama a ele, resposta nenhuma dá, nem livra alguém da sua tribu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isto, e considerai; trazei-o à memória, ó prevari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as coisas passadas desde a antiguidade; que eu sou Deus, e não há outro Deus, não há outro semelhante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27Z</dcterms:created>
  <dc:creator>Admin</dc:creator>
  <dc:description/>
  <dc:language>en-US</dc:language>
  <cp:lastModifiedBy>Admin</cp:lastModifiedBy>
  <dcterms:modified xsi:type="dcterms:W3CDTF">2008-07-30T23:56:27Z</dcterms:modified>
  <cp:revision>1</cp:revision>
  <dc:subject/>
  <dc:title>Slide 1</dc:title>
</cp:coreProperties>
</file>