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7DF-34EB-4F05-9D06-EC991E7B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BC9-C4C8-431E-AFE0-5E62F76D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2D6-A470-468E-936D-1F6295FB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BB1-CFF2-405E-AFE2-2528AA94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4EA-A0B6-41CE-9564-2AB57234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083-6295-4097-B56E-FF6DF2CD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81D-8221-4655-8EBE-45A7A4E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F5F-79A8-47BF-AD2E-D8C8D309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A54-C7F1-437E-BEA4-2065B59D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9EE-3AFD-4655-8797-5B4DF60E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1E1-B6A2-4CEF-8559-36BB909F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688-9836-4643-8390-7B795C7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6982-54A9-42F9-9692-99C05131C8A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, pois, Jeosafá riquezas e glória em abundância, e aparentou-se com Ac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edequias, filho de Quenaaná, fez para si uns chifres de ferro, e disse: Assim diz o SENHOR: Com estes ferirás aos sírios, até de todo os consumi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profetas profetizavam o mesmo, dizendo: Sobe a Ramote de Gileade, e triunfarás; porque o SENHOR a dará na mã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nsageiro, que foi chamar a Micaías, falou-lhe, dizendo: Eis que as palavras dos profetas, a uma voz, predizem coisas boas para o rei; seja, pois, também a tua palavra como a de um deles, e fala o que é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Micaías disse: Vive o SENHOR, que o que meu Deus me disser, isso fal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ele ao rei, este lhe disse: Micaías, iremos a Ramote de Gileade à guerra, ou deixaremos de ir? E ele disse: Subi, e triunfarás; e serão dados na voss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lhe disse: Até quantas vezes, te conjurarei, para que não me fales senão a verdade em nome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Vi a todo o Israel disperso pelos montes, como ovelhas que não têm pastor; e disse o SENHOR: Estes não têm senhor; torne cada um em paz par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e Israel disse a Jeosafá: Não te disse eu, que ele não profetizaria de mim o que é bom, porém sempre o m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Ouvi, pois, a palavra do SENHOR: Vi ao SENHOR assentado no seu trono, e todo o exército celestial em pé à sua mão direita, e à su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Quem persuadirá a Acabe rei de Israel, para que suba, e caia em Ramote de Gileade? Um dizia desta maneira, e outro de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 alguns anos desceu ele para Acabe em Samaria; e Acabe matou ovelhas e bois em abundância, para ele e para o povo que vinha com ele; e o persuadiu a subir com ele a Ramote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um espírito e se apresentou diante do SENHOR, e disse: Eu o persuadirei. E o SENHOR lhe disse: Com quê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Eu sairei, e serei um espírito de mentira na boca de todos os seus profetas. E disse o SENHOR: Tu o persuadirás, e ainda prevalecerás; sai, e faze-o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is que o SENHOR pôs um espírito de mentira na boca destes teus profetas; e o SENHOR falou o mal a teu resp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Zedequias, filho de Quenaaná, chegando-se, feriu a Micaías no queixo, e disse: Por que caminho passou de mim o Espírito do SENHOR para falar 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icaías: Eis que o verás naquele dia, quando andares de câmara em câmara, para te escond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rei de Israel: Tomai a Micaías, e tornai a levá-lo a Amom, o governador da cidade, e a Joás, filh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eis: Assim diz o rei: Colocai este homem na casa do cárcere; e sustentai-o com pão de angústia, e com água de angústia, até que eu volte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icaías: Se voltares em paz, o SENHOR não tem falado por mim. Disse mais: Ouvi, povos tod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ram, pois, o rei de Israel e Jeosafá, rei de Judá, a Ramote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rei de Israel a Jeosafá: Disfarçando-me eu, então entrarei na peleja; tu, porém, veste as tuas roupas reais. Disfarçou-se, pois, o rei de Israel, e entraram n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cabe, rei de Israel, disse a Jeosafá, rei de Judá: Irás tu comigo a Ramote de Gileade? E ele lhe disse: Como tu és, serei eu; e o meu povo, como o teu povo; iremos contigo à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 ordem, porém, o rei da Síria aos capitães dos carros que tinha, dizendo: Não pelejareis nem contra pequeno, nem contra grande; senão só contra o rei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vendo os capitães dos carros a Jeosafá, disseram: Este é o rei de Israel, e o cercaram para pelejar; porém Jeosafá clamou, e o SENHOR o ajudou. E Deus os desviou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cedeu que, vendo os capitães dos carros, que não era o rei de Israel, deixaram de segui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m homem armou o arco e atirou a esmo, e feriu o rei de Israel entre as junturas e a couraça; então disse ao carreteiro: Dá volta, e tira-me do exército, porque estou gravemente fe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dia cresceu a peleja, mas o rei de Israel susteve-se em pé no carro defronte dos sírios até à tarde; e morreu ao tempo do pôr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Jeosafá ao rei de Israel: Peço-te, consulta hoje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e Israel reuniu os profetas, quatrocentos homens, e disse-lhes: Iremos à guerra contra Ramote de Gileade, ou deixarei de ir? E eles disseram: Sobe; porque Deus a entregará na mã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rém, Jeosafá: Não há ainda aqui algum profeta do SENHOR, para que o consulte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e Israel disse a Jeosafá: Ainda há um homem por quem podemos consultar ao SENHOR; porém eu o odeio, porque nunca profetiza de mim o que é bom, senão sempre o mal; este é Micaías, filho de Inlá. E disse Jeosafá: Não fale o rei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de Israel chamou um oficial, e disse: Traze aqui depressa a Micaías, filho de In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 Israel, e Jeosafá, rei de Judá, estavam assentados cada um no seu trono, vestidos com suas roupas reais, e estavam assentados na praça à entrada da porta de Samaria; e todos os profetas profetizavam na sua pres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50Z</dcterms:created>
  <dc:creator>Admin</dc:creator>
  <dc:description/>
  <dc:language>en-US</dc:language>
  <cp:lastModifiedBy>Admin</cp:lastModifiedBy>
  <dcterms:modified xsi:type="dcterms:W3CDTF">2008-07-30T23:49:50Z</dcterms:modified>
  <cp:revision>1</cp:revision>
  <dc:subject/>
  <dc:title>Slide 1</dc:title>
</cp:coreProperties>
</file>