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5D8-2AC4-4645-A12C-E011B0DF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FA1-D0A6-47A0-B343-EEB92F1A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FD5-146D-4534-A852-6B72740C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73C-6BE7-4DAE-89C7-BE940A5D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45D-EDB6-4091-8F28-BA4E8E98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E23-FD54-48B8-97C3-E8F753B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92D-CA0D-4B85-9E66-11873937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C28-B4D6-4E83-86C6-759252C5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514-2310-44F3-A650-F1283D7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E49-9B76-4B1C-B32B-C97A3A2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B05-D32C-455E-A1B4-CFD9B95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5A2-87E4-4BF6-BF27-F2670AD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E34C-600D-4D33-9BEB-C88919EEC0D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 todas as nações, louvai-o todos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sua benignidade é grande para conosco, e a verdade do SENHOR dura para sempre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51Z</dcterms:created>
  <dc:creator>Admin</dc:creator>
  <dc:description/>
  <dc:language>en-US</dc:language>
  <cp:lastModifiedBy>Admin</cp:lastModifiedBy>
  <dcterms:modified xsi:type="dcterms:W3CDTF">2008-07-31T00:27:51Z</dcterms:modified>
  <cp:revision>1</cp:revision>
  <dc:subject/>
  <dc:title>Slide 1</dc:title>
</cp:coreProperties>
</file>