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5B33-5F2A-47E9-A2AB-4751394A4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4944-B6B7-4F9B-BCCE-032112978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5EAF-E97F-423F-90A3-68203BB5B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2D77-CBBF-430D-8850-C58FFA240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164A-0EE6-4917-B31C-88B01C231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FC06-B510-4961-B70A-37D5666C6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7996-7BEB-4D1A-B66E-14DC31FC3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686C-FB3E-4CD0-A6ED-A617DEA6F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FA62-AD21-462D-87CD-6790B2BD5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17EE-7B23-4A55-9243-CA7D7BCF9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6529-2F79-4D46-8175-751474762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C2D2-FD7A-4E76-947D-B579E7C5C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42F40-2F59-4C68-8F88-FB0169901EB8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4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ESPONDEU mais Eliú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4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 vós, homens de entendimento, escutai-me: Longe de Deus esteja o praticar a maldade e do Todo-Poderoso o cometer a perversidade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4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, segundo a obra do homem, ele lhe paga; e faz a cada um segundo o seu camin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4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, na verdade, Deus não procede impiamente; nem o Todo-Poderoso perverte o juíz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4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m lhe entregou o governo da terra? E quem fez todo o mund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4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ele pusesse o seu coração contra o homem, e recolhesse para si o seu espírito e o seu fôleg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4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a a carne juntamente expiraria, e o homem voltaria para o pó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4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, pois, há em ti entendimento, ouve isto; inclina os ouvidos ao som da minha palav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4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ventura o que odiasse o direito se firmaria? E tu condenarias aquele que é justo e poderos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4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 dir-se-á a um rei: Oh! vil? Ou aos príncipes: Oh! ímpio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4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to menos àquele, que não faz acepção das pessoas de príncipes, nem estima o rico mais do que o pobre; porque todos são obras de suas mã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4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vi, vós, sábios, as minhas razões; e vós, entendidos, inclinai os ouvidos para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4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s num momento morrem; e até à meia noite os povos são perturbados, e passam, e os poderosos serão tomados não por mão human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4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s seus olhos estão sobre os caminhos de cada um, e ele vê todos os seus pass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4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há trevas nem sombra de morte, onde se escondam os que praticam a iniqü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4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Deus não sobrecarrega o homem mais do que é justo, para o fazer ir a juízo diante d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4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branta aos fortes, sem que se possa inquirir, e põe outros em seu lug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4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 conhece, pois, as suas obras; de noite os transtorna, e ficam moí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4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 os bate como ímpios que são, à vista dos espectadore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4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anto se desviaram dele, e não compreenderam nenhum de seus caminho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4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sorte que o clamor do pobre subisse até ele, e que ouvisse o clamor dos afli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4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ele aquietar, quem então inquietará? Se encobrir o rosto, quem então o poderá contemplar? Seja isto para com um povo, seja para com um homem só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4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 ouvido prova as palavras, como o paladar experimenta a comi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4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 o homem hipócrita nunca mais reine, e não haja laços no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4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 verdade, quem a Deus disse: Suportei castigo, não ofenderei m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4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e não vejo, ensina-me tu; se fiz alguma maldade, nunca mais a hei de faze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4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irá de ti como há de ser a recompensa, para que tu a rejeites? Faze tu, pois, e não eu, a escolha; fala logo o que sab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4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homens de entendimento dirão comigo, e o homem sábio que me ouvir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4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ó falou sem conhecimento; e às suas palavras falta prudênc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4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i meu! Provado seja Jó até ao fim, pelas suas respostas próprias de homens malign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4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o seu pecado acrescenta a transgressão; entre nós bate palmas, e multiplica contra Deus as suas palav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4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e é direito escolhamos para nós; e conheçamos entre nós o que é bo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4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Jó disse: Sou justo, e Deus tirou o meu dire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4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pesar do meu direito sou considerado mentiroso; a minha ferida é incurável, embora eu esteja sem transgress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4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homem há como Jó, que bebe a zombaria como águ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4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aminha em companhia dos que praticam a iniqüidade, e anda com homens ímpio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4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disse: De nada aproveita ao homem o comprazer-se em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02:07Z</dcterms:created>
  <dc:creator>Admin</dc:creator>
  <dc:description/>
  <dc:language>en-US</dc:language>
  <cp:lastModifiedBy>Admin</cp:lastModifiedBy>
  <dcterms:modified xsi:type="dcterms:W3CDTF">2008-07-31T00:02:07Z</dcterms:modified>
  <cp:revision>1</cp:revision>
  <dc:subject/>
  <dc:title>Slide 1</dc:title>
</cp:coreProperties>
</file>