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E75-84EF-4FC3-BB86-66CC376E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E59-552A-4CBA-8797-394C420D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541-02BC-45C5-94BC-0E90D49D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C2B-FB0B-429F-8932-7636C266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8F8-F168-4BA5-9120-61B4C5C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D1A-691E-411B-943D-A30C0811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5B8-7BEE-4816-9E23-577442C0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D81-E209-4668-897F-BC88F20A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2BC-861A-4DF1-8580-9F0B1BA8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2EB-C4CD-47CD-8DF9-19D4927E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E38-F55B-45D7-ACC9-33A55F1C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95C-4754-4792-AF42-88240CA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2167-C9EF-4DCC-B59D-BC733F28FA5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S tu o tempo em que as cabras montesas têm filhos, ou observastes as cervas quando dão suas cri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om corda amarrarás, no arado, ao boi selvagem? Ou escavará ele os vales após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onfiarás nele, por ser grande a sua força, ou deixarás a seu cargo o teu traba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fiarás dele que te torne o que semeaste e o recolha na tua ei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avestruz bate alegremente as suas asas, porém, são benignas as suas asas e pen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 deixa os seus ovos na terra, e os aquenta no p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squece de que algum pé os pode pisar, ou que os animais do campo os podem cal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durece-se para com seus filhos, como se não fossem seus; debalde é seu trabalho, mas ela está sem tem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a privou de sabedoria, e não lhe deu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eu tempo se levanta ao alto; ri-se do cavalo, e do que vai montado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darás tu força ao cavalo, ou revestirás o seu pescoço com crin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arás os meses que cumprem, ou sabes o tempo do seu par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espantá-lo-ás, como ao gafanhoto? Terrível é o fogoso respirar das suas ve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arva a terra, e folga na sua força, e sai ao encontro dos arm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i-se do temor, e não se espanta, e não torna atrás por causa d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ele rangem a aljava, o ferro flamante da lança e do dar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itando-se e indignando-se, serve a terra, e não faz caso do som da buz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soar das buzinas diz: Eia! E cheira de longe a guerra, e o trovão dos capitães, e o al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voa o gavião pela tua inteligência, e estende as suas asas para o su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se remonta a águia ao teu mandado, e põe no alto o seu n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penhas mora e habita; no cume das penhas, e nos lugares seg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li descobre a presa; seus olhos a avistam de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se encurvam, produzem seus filhos, e lançam de si as suas 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filhos chupam o sangue, e onde há mortos, ali está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s filhos enrijam, crescem com o trigo; saem, e nunca mais tornam para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spediu livre o jumento montês, e quem soltou as prisões ao jumento bra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al dei o ermo por casa, e a terra salgada por mora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i-se do ruído da cidade; não ouve os muitos gritos do condu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região montanhosa é o seu pasto, e anda buscando tudo que está ve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querer-te-á servir o boi selvagem? Ou ficará no teu curr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25Z</dcterms:created>
  <dc:creator>Admin</dc:creator>
  <dc:description/>
  <dc:language>en-US</dc:language>
  <cp:lastModifiedBy>Admin</cp:lastModifiedBy>
  <dcterms:modified xsi:type="dcterms:W3CDTF">2008-07-31T00:02:25Z</dcterms:modified>
  <cp:revision>1</cp:revision>
  <dc:subject/>
  <dc:title>Slide 1</dc:title>
</cp:coreProperties>
</file>