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014-F6C9-4B85-B4E9-5C18083C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E13-0F8D-4678-AC4E-AD61CAA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7A2-B9C4-47A0-9D97-5C55AB40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087-1487-4909-B512-0CA3F466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546-A3E4-42CC-AC75-BE38630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E10-0A30-43FF-A92D-017A953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655-F54A-465D-B418-41DB499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D03-E002-4ED3-939D-32AA6B3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BFD-36A1-4B5B-B59B-64116F6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788-8200-42D2-A74F-2D76655E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F0D-519F-4CFB-8C58-2EFE350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643-2BDD-4D6C-BAF1-FF7DC2B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F14-059F-429D-83FE-62AD43D1BB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 novo céu, e uma nova terra. Porque já o primeiro céu e a primeira terra passaram, e o mar já não ex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me em espírito a um grande e alto monte, e mostrou-me a grande cidade, a santa Jerusalém, que de Deus descia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a glória de Deus; e a sua luz era semelhante a uma pedra preciosíssima, como a pedra de jaspe, como o cristal resplande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um grande e alto muro com doze portas, e nas portas doze anjos, e nomes escritos sobre elas, que são os nomes das doze trib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lado do levante tinha três portas, do lado do norte, três portas, do lado do sul, três portas, do lado do poente, trê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uro da cidade tinha doze fundamentos, e neles os nomes dos doze apóstolos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falava comigo tinha uma cana de ouro, para medir a cidade, e as suas portas, e o seu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idade estava situada em quadrado; e o seu comprimento era tanto como a sua largura. E mediu a cidade com a cana até doze mil estádios; e o seu comprimento, largura e altura eram igu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diu o seu muro, de cento e quarenta e quatro côvados, conforme a medida de homem, que é a de um an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nstrução do seu muro era de jaspe, e a cidade de ouro puro, semelhante a vid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undamentos do muro da cidade estavam adornados de toda a pedra preciosa. O primeiro fundamento era jaspe; o segundo, safira; o terceiro, calcedônia; o quarto, esmeral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João, vi a santa cidade, a nova Jerusalém, que de Deus descia do céu, adereçada como uma esposa ataviada para o s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into, sardônica; o sexto, sárdio; o sétimo, crisólito; o oitavo, berilo; o nono, topázio; o décimo, crisópraso; o undécimo, jacinto; o duodécimo, ame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doze portas eram doze pérolas; cada uma das portas era uma pérola; e a praça da cidade de ouro puro, como vidro transpa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a não vi templo, porque o seu templo é o Senhor Deus Todo-Poderoso, e 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idade não necessita de sol nem de lua, para que nela resplandeçam, porque a glória de Deus a tem iluminado, e o Cordeiro é a sua lâm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nações dos salvos andarão à sua luz; e os reis da terra trarão para ela a sua glória e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portas não se fecharão de dia, porque ali não haverá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la trarão a glória e honra d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trará nela coisa alguma que contamine, e cometa abominação e mentira; mas só os que estão inscritos no livro da vida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grande voz do céu, que dizia: Eis aqui o tabernáculo de Deus com os homens, pois com eles habitará, e eles serão o seu povo, e o mesmo Deus estará com eles, e será 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limpará de seus olhos toda a lágrima; e não haverá mais morte, nem pranto, nem clamor, nem dor; porque já as primeiras coisas são pass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estava assentado sobre o trono disse: Eis que faço novas todas as coisas. E disse-me: Escreve; porque estas palavras são verdadeiras e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mais: Está cumprido. Eu sou o Alfa e o Ômega, o princípio e o fim. A quem quer que tiver sede, de graça lhe darei da fonte da água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vencer, herdará todas as coisas; e eu serei seu Deus, e ele será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to aos tímidos, e aos incrédulos, e aos abomináveis, e aos homicidas, e aos fornicadores, e aos feiticeiros, e aos idólatras e a todos os mentirosos, a sua parte será no lago que arde com fogo e enxofre; o que é a segun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mim um dos sete anjos que tinham as sete taças cheias das últimas sete pragas, e falou comigo, dizendo: Vem, mostrar-te-ei a esposa, a mulher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58Z</dcterms:created>
  <dc:creator>Admin</dc:creator>
  <dc:description/>
  <dc:language>en-US</dc:language>
  <cp:lastModifiedBy>Admin</cp:lastModifiedBy>
  <dcterms:modified xsi:type="dcterms:W3CDTF">2008-07-30T23:22:58Z</dcterms:modified>
  <cp:revision>1</cp:revision>
  <dc:subject/>
  <dc:title>Slide 1</dc:title>
</cp:coreProperties>
</file>