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FC31-AD8F-4F0C-8826-6AEA4EE7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5C9D-6534-4399-AC59-A085C697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5FB6-E2E4-479E-A0A4-13B9EA37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2DAA-90DC-4837-9A34-73FBF736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2BE9-C5EB-47ED-8F47-FD8258F8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0D10-EE0A-4529-99EE-5C0CBA43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D5FB-BEE3-44AA-9C66-1DF9E938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D7C4-BECE-4521-B1B5-0CCC31DC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A88C-62CD-4271-B02C-6838D559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EF8A-F405-47C4-88F4-0B127ED2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1EC7-4DC9-4522-BCC6-1A12F6EF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9DCC-195A-4645-BA56-F9ACED65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F17A-DC85-4528-ACA8-723A664A6E7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S dias adoeceu Ezequias mortalmente; e o profeta Isaías, filho de Amós, veio a ele e lhe disse: Assim diz o SENHOR: Põe em ordem a tua casa, porque morrerás, e não vive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Ezequias: É fácil que a sombra decline dez graus; não seja assim, mas volte a sombra dez graus at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profeta Isaías clamou ao SENHOR; e fez voltar a sombra dez graus atrás, pelos graus que tinha declinado no relógio de sol de Ac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tempo enviou Berodaque-Baladã, filho de Baladã, rei de Babilônia, cartas e um presente a Ezequias; porque ouvira que Ezequias tinha estado do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zequias lhes deu ouvidos; e lhes mostrou toda a casa de seu tesouro, a prata, o ouro, as especiarias e os melhores ungüentos, e a sua casa de armas, e tudo quanto se achou nos seus tesouros; coisa nenhuma houve que não lhes mostrasse, nem em sua cas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profeta Isaías veio ao rei Ezequias, e lhe disse: Que disseram aqueles homens, e de onde vieram a ti? Disse Ezequias: Vieram de um país muito remoto, de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le: Que viram em tua casa? E disse Ezequias: Tudo quanto há em minha casa viram; coisa nenhuma há nos meus tesouros que eu não lhes mostra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Isaías a Ezequias: Ouve a palavr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vêm dias em que tudo quanto houver em tua casa, e o que entesouraram teus pais até ao dia de hoje, será levado a Babilônia; não ficará coisa alguma, diss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inda até de teus filhos, que procederem de ti, e que tu gerares, tomarão, para que sejam eunucos no paço do rei da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Ezequias a Isaías: Boa é a palavra do SENHOR que disseste. Disse mais: E não haverá, pois, em meus dias paz e verdad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irou o rosto para a parede, e orou a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 mais dos atos de Ezequias, e todo o seu poder, e como fez a piscina e o aqueduto, e como fez vir a água à cidade, porventura não está escrito no livro das crônicas dos reis de Jud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zequias dormiu com seus pais; e Manassés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h, SENHOR! Suplico-te lembrar de que andei diante de ti em verdade, com o coração perfeito, e fiz o que era bom aos teus olhos. E chorou Ezequias muitíss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is, que, não havendo Isaías ainda saído do meio do pátio, veio a ele a palavra do SENHOR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lta, e dize a Ezequias, capitão do meu povo: Assim diz o SENHOR, o Deus de Davi, teu pai: Ouvi a tua oração, e vi as tuas lágrimas; eis que eu te sararei; ao terceiro dia subirás à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rescentarei aos teus dias quinze anos, e das mãos do rei da Assíria te livrarei, a ti e a esta cidade; e ampararei esta cidade por amor de mim, e por amor de Davi, meu ser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Isaías: Tomai uma pasta de figos. E a tomaram, e a puseram sobre a chaga; e ele sa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zequias disse a Isaías: Qual é o sinal de que o SENHOR me sarará, e de que ao terceiro dia subirei à casa do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Isaías: Isto te será sinal, da parte do SENHOR, de que o SENHOR cumprirá a palavra que disse: Adiantar-se-á a sombra dez graus, ou voltará dez graus atrá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2:16Z</dcterms:created>
  <dc:creator>Admin</dc:creator>
  <dc:description/>
  <dc:language>en-US</dc:language>
  <cp:lastModifiedBy>Admin</cp:lastModifiedBy>
  <dcterms:modified xsi:type="dcterms:W3CDTF">2008-07-30T23:52:16Z</dcterms:modified>
  <cp:revision>1</cp:revision>
  <dc:subject/>
  <dc:title>Slide 1</dc:title>
</cp:coreProperties>
</file>