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33F-C2DB-47DC-9E25-892564A3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445-384B-4D7B-8CED-71CD8917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9CC-538A-421B-92D9-5391FFAA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AB3-C595-4075-B401-ED9574EB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849-B3F4-4463-B4F8-22AACAF8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18D-9719-481B-8985-1FE48042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13C-634E-40B8-843D-82A51584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A63-61CF-45DF-8230-15D3E90C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DDD-025E-4EB6-A0D1-7DA5CB83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22A-B4C9-4DA1-8D6B-570FAAC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391-8208-459D-8771-09342887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8B0-DD02-4A75-8719-89457F7B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606C-5247-49EB-8183-C6DFA9ABFC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, filho de Num, enviou secretamente, de Sitim, dois homens a espiar, dizendo: Ide reconhecer a terra e a Jericó. Foram, pois, e entraram na casa de uma mulher prostituta, cujo nome era Raabe, e dormi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mos ouvido que o SENHOR secou as águas do Mar Vermelho diante de vós, quando saíeis do Egito, e o que fizestes aos dois reis dos amorreus, a Siom e a Ogue, que estavam além do Jordão, os quais destruí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ouvindo, desfaleceu o nosso coração, e em ninguém mais há ânimo algum, por causa da vossa presença; porque o SENHOR vosso Deus é Deus em cima nos céus e em baixo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jurai-me, vos peço, pelo SENHOR, que, como usei de misericórdia convosco, vós também usareis de misericórdia para com a casa de meu pai, e dai-me um sinal segu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 conservareis com a vida a meu pai e a minha mãe, como também a meus irmãos e a minhas irmãs, com tudo o que têm e de que livrareis as nossas vidas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s homens responderam-lhe: A nossa vida responderá pela vossa até à morte, se não denunciardes este nosso negócio, e será, pois, que, dando-nos o SENHOR esta terra, usaremos contigo de misericórdia e de fide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 então os fez descer por uma corda pela janela, porquanto a sua casa estava sobre o muro da cidade, e ela morava sobre o m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Ide-vos ao monte, para que, porventura, não vos encontrem os perseguidores, e escondei-vos lá três dias, até que voltem os perseguidores, e depois ide pelo voss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sseram-lhe aqueles homens: Desobrigados seremos deste juramento que nos fizeste ju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, quando nós entrarmos na terra, atarás este cordão de fio de escarlata à janela por onde nos fizeste descer; e recolherás em casa contigo a teu pai, e a tua mãe, e a teus irmãos e a toda a família de t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is, que qualquer que sair fora da porta da tua casa, o seu sangue será sobre a sua cabeça, e nós seremos inocentes; mas qualquer que estiver contigo, em casa, o seu sangue seja sobre a nossa cabeça, se alguém nele puser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u-se notícia ao rei de Jericó, dizendo: Eis que esta noite vieram aqui uns homens dos filhos de Israel, para espiar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tu denunciares este nosso negócio, seremos desobrigados do juramento que nos fizeste ju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disse: Conforme as vossas palavras, assim seja. Então os despediu; e eles se foram; e ela atou o cordão de escarlata à ja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-se, pois, e chegaram ao monte, e ficaram ali três dias, até que voltaram os perseguidores, porque os perseguidores os buscaram por todo o caminho, porém não os ac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queles dois homens voltaram, e desceram do monte, e passaram, e chegaram a Josué, filho de Num, e contaram-lhe tudo quanto lhes acontece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a Josué: Certamente o SENHOR tem dado toda esta terra nas nossas mãos, pois até todos os moradores estão atemorizados diante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mandou o rei de Jericó dizer a Raabe: Tira fora os homens que vieram a ti e entraram na tua casa, porque vieram espiar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quela mulher tomou os dois homens, e os escondeu, e disse: É verdade que vieram homens a mim, porém eu não sabia de onde 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havendo-se de fechar a porta, sendo já escuro, aqueles homens saíram; não sei para onde aqueles homens se foram; ide após eles depressa, porque os alcanç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a os tinha feito subir ao eirado, e os tinha escondido entre as canas do linho, que pusera em ordem sobre o ei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-se aqueles homens após eles pelo caminho do Jordão, até aos vaus; e, havendo eles saído, fechou-se 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ntes que eles dormissem, ela subiu a eles no eir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homens: Bem sei que o SENHOR vos deu esta terra e que o pavor de vós caiu sobre nós, e que todos os moradores da terra estão desfalecidos diante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50Z</dcterms:created>
  <dc:creator>Admin</dc:creator>
  <dc:description/>
  <dc:language>en-US</dc:language>
  <cp:lastModifiedBy>Admin</cp:lastModifiedBy>
  <dcterms:modified xsi:type="dcterms:W3CDTF">2008-07-31T00:04:50Z</dcterms:modified>
  <cp:revision>1</cp:revision>
  <dc:subject/>
  <dc:title>Slide 1</dc:title>
</cp:coreProperties>
</file>