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BA0-A4A4-4A1F-987A-44D6E95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3A6-0E1D-4C25-AE8A-046483E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58A-1F5D-4F23-8815-D6800E09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DEB-E4AB-4960-9D93-CFBB08F8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98E-998C-4651-9B52-D4B8080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BB9-F14E-4231-BCC8-179B760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22D-097B-4350-943B-CE1472B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8E0-9D67-44B2-A794-CC0C818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153-F2E0-4046-B540-D76A2BE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183-2554-49AE-A66F-FC87A15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996-A368-4C85-881F-7B96AA3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90F-05ED-46F1-9F07-0E70B4F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EAB-C21E-4FB2-98C2-D477535516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reinará um rei com justiça, e dominarão os príncipes segundo 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m ano e dias vireis a ser turbadas, ó mulheres que estais tão seguras; porque a vindima se acabará, e a colheita não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emei, mulheres que estais sossegadas, e turbai-vos vós, que estais tão seguras; despi-vos, e ponde-vos nuas, e cingi com saco os vossos lo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terão nos peitos, pelos campos desejáveis, e pelas vinhas frutífe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 terra do meu povo virão espinheiros e sarças, como também sobre todas as casas onde há alegria, na cidade jubil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palácios serão abandonados, a multidão da cidade cessará; e as fortificações e as torres servirão de cavernas para sempre, para alegria dos jumentos monteses, e para pasto dos reba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se derrame sobre nós o espírito lá do alto; então o deserto se tornará em campo fértil, e o campo fértil será reputado por um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uízo habitará no deserto, e a justiça morará no campo fér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feito da justiça será paz, e a operação da justiça, repouso e seguranç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povo habitará em morada de paz, e em moradas bem seguras, e em lugares quietos de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scendo ao bosque, cairá saraiva e a cidade será inteiramente aba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aquele homem como um esconderijo contra o vento, e um refúgio contra a tempestade, como ribeiros de águas em lugares secos, e como a sombra de uma grande rocha em terra sed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vós os que semeais junto a todas as águas; e deixais livres os pés do boi e do ju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lhos dos que vêem não olharão para trás; e os ouvidos dos que ouvem estarão at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ração dos imprudentes entenderá o conhecimento; e a língua dos gagos estará pronta para falar disti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vil nunca mais se chamará liberal; e do avarento nunca mais se dirá que é gen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vil fala obscenidade, e o seu coração pratica a iniqüidade, para usar hipocrisia, e para proferir mentiras contra o SENHOR, para deixar vazia a alma do faminto, e fazer com que o sedento venha a ter falta de beb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s as armas do avarento são más; ele maquina invenções malignas, para destruir os mansos com palavras falsas, mesmo quando o pobre chega a falar re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liberal projeta coisas liberais, e pela liberalidade está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mulheres, que estais sossegadas, e ouvi a minha voz; e vós, filhas, que estais tão seguras, inclinai os ouvidos à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44Z</dcterms:created>
  <dc:creator>Admin</dc:creator>
  <dc:description/>
  <dc:language>en-US</dc:language>
  <cp:lastModifiedBy>Admin</cp:lastModifiedBy>
  <dcterms:modified xsi:type="dcterms:W3CDTF">2008-07-30T23:55:44Z</dcterms:modified>
  <cp:revision>1</cp:revision>
  <dc:subject/>
  <dc:title>Slide 1</dc:title>
</cp:coreProperties>
</file>