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0EED-28D1-4D66-8621-B69A5DE95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B7F3-F6F7-4409-8EAE-D278B7D89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B4A9-569E-4507-8300-526672709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19D5-39FC-4028-805F-A559AB029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F93B-02D5-4574-B66D-FEEE10886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A3A0-473F-48B0-8556-776961B6B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2516-8872-4669-AF71-E7CE1CFDB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0622-86D7-4B61-A962-3AF64C85A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269C-2552-4002-909E-3FF89F0E4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04A8-7810-4931-AB31-382B6FD35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3971-1197-4EFD-9AC8-BE49F03BA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61AB-5056-4A72-AD24-0579EFB54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45315-760F-4855-A25E-F19C23645D74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ter 5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UCEDEU, pois, que ao terceiro dia Ester se vestiu com trajes reais, e se pôs no pátio interior da casa do rei, defronte do aposento do rei; e o rei estava assentado sobre o seu trono real, na casa real, defronte da porta do aposen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ter 5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Hamã, porém, se refreou, e foi para sua casa; e enviou, e mandou vir os seus amigos, e Zeres, sua mulh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ter 5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ontou-lhes Hamã a glória das suas riquezas, a multidão de seus filhos, e tudo em que o rei o tinha engrandecido, e como o tinha exaltado sobre os príncipes e servos do r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ter 5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 mais Hamã: Tampouco a rainha Ester a ninguém fez vir com o rei ao banquete que tinha preparado, senão a mim; e também para amanhã estou convidado por ela juntamente com o r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ter 5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tudo isto não me satisfaz, enquanto eu vir o judeu Mardoqueu assentado à porta do r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ter 5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lhe disseram Zeres, sua mulher, e todos os seus amigos: Faça-se uma forca de cinqüenta côvados de altura, e amanhã dize ao rei que nela seja enforcado Mardoqueu; e então entra alegre com o rei ao banquete. E este conselho bem pareceu a Hamã, que m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ter 5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ucedeu que, vendo o rei à rainha Ester, que estava no pátio, alcançou graça aos seus olhos; e o rei estendeu para Ester o cetro de ouro, que tinha na sua mão, e Ester chegou, e tocou a ponta do cet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ter 5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o rei lhe disse: Que é que queres, rainha Ester, ou qual é a tua petição? Até metade do reino se te da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ter 5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Ester: Se parecer bem ao rei, venha hoje com Hamã ao banquete que lhe tenho prepar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ter 5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sse o rei: Fazei apressar a Hamã, para que se atenda ao desejo de Ester. Vindo, pois, o rei e Hamã ao banquete, que Ester tinha preparad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ter 5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 o rei a Ester, no banquete do vinho: Qual é a tua petição? E ser-te-á concedida, e qual é o teu desejo? E se fará ainda até metade do rein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ter 5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respondeu Ester, e disse: Minha petição e desejo é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ter 5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 achei graça aos olhos do rei, e se bem parecer ao rei conceder-me a minha petição, e cumprir o meu desejo, venha o rei com Hamã ao banquete que lhes hei de preparar, e amanhã farei conforme a palavra do r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ter 5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saiu Hamã naquele dia alegre e de bom ânimo; porém, vendo Mardoqueu à porta do rei, e que ele não se levantara nem se movera diante dele, então Hamã se encheu de furor contra Mardoque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30:53Z</dcterms:created>
  <dc:creator>Admin</dc:creator>
  <dc:description/>
  <dc:language>en-US</dc:language>
  <cp:lastModifiedBy>Admin</cp:lastModifiedBy>
  <dcterms:modified xsi:type="dcterms:W3CDTF">2008-07-30T23:30:53Z</dcterms:modified>
  <cp:revision>1</cp:revision>
  <dc:subject/>
  <dc:title>Slide 1</dc:title>
</cp:coreProperties>
</file>