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5B1-BA03-454B-850E-64F25084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315-4241-481C-B607-DA93203C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D19-5C24-48AF-B364-D2BF2F5B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103-61D5-4085-904E-1F7C2529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2D7-C880-4A2B-9164-C37E1D4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CD4-FAB2-462D-A34A-8C4BFAF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68D-5960-4EE4-996B-445BB9F1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7F4-4F06-479F-8BEA-267A4AE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4DE-0F0C-47B8-9560-84FEF32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DA7-2442-4D66-8F1F-2E47E2A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9BB-C15F-47BA-952F-9365175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CA3-E9BA-4FD4-AE2C-5F20D2B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DCD-F751-47C2-AF61-BF47C4F9BD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da morte de Saul, voltando Davi da derrota dos amalequitas, ficou dois dias em Ziclag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emessei-me, pois, sobre ele, e o matei, porque bem sabia eu que não viveria depois da sua queda, e tomei a coroa que tinha na cabeça, e o bracelete que trazia no braço, e os trouxe aqui a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panhou Davi as suas vestes, e as rasgou; assim fizeram todos os homen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antearam, e choraram, e jejuaram até à tarde por Saul, e por Jônatas, seu filho, e pelo povo do SENHOR, e pela casa de Israel, porque tinham caído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Davi ao moço que lhe trouxera a nova: Donde és tu? E disse ele: Sou filho de um estrangeiro, amalequ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lhe disse: Como não temeste tu estender a mão para matares ao ungid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Davi a um dos moços, e disse: Chega, e lança-te sobre ele. E ele o feriu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avi lhe dissera: O teu sangue seja sobre a tua cabeça, porque a tua própria boca testificou contra ti, dizendo: Eu matei o ungid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mentou Davi a Saul e a Jônatas, seu filho, com esta lament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Dizendo ele que ensinassem aos filhos de Judá o uso do arco. Eis que está escrito no livro de Jasher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ornamento de Israel! Nos teus altos foi ferido, como caíram os poderos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erceiro dia um homem veio do arraial de Saul, com as vestes rotas e com terra sobre a cabeça; e, chegando ele a Davi, se lançou no chão, e se incl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 noticieis em Gate, não o publiqueis nas ruas de Ascalom, para que não se alegrem as filhas dos filisteus, para que não saltem de contentamento as filhas dos incircunci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montes de Gilboa, nem orvalho, nem chuva caia sobre vós, nem haja campos de ofertas alçadas, pois aí desprezivelmente foi arrojado o escudo dos poderosos, o escudo de Saul, como se não fora ungido com ól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sangue dos feridos, da gordura dos valentes, nunca se retirou para trás o arco de Jônatas, nem voltou vazia a espada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l e Jônatas, tão amados e queridos na sua vida, também na sua morte não se separaram; eram mais ligeiros do que as águias, mais fortes do que os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filhas de Israel, chorai por Saul, que vos vestia de escarlata em delícias, que vos fazia trazer ornamentos de ouro sobre as voss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íram os poderosos, no meio da peleja! Jônatas nos teus altos foi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gustiado estou por ti, meu irmão Jônatas; quão amabilíssimo me eras! Mais maravilhoso me era o teu amor do que o amor d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íram os poderosos, e pereceram as armas de gu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lhe disse: Donde vens? E ele lhe disse: Escapei do arraial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avi: Como foi lá isso? peço-te, dize-mo. E ele lhe respondeu: O povo fugiu da batalha, e muitos do povo caíram, e morreram; assim como também Saul e Jônatas, seu filho, fora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o moço que lhe trazia as novas: Como sabes tu que Saul e Jônatas, seu filho, foram mor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moço que lhe dava a notícia: Cheguei por acaso à montanha de Gilboa, e eis que Saul estava encostado sobre a sua lança, e eis que os carros e a cavalaria apertavam-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ele para trás de si, viu-me, e chamou-me; e eu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Quem és tu? E eu lhe disse: Sou amalequ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me disse: Peço-te, arremessa-te sobre mim, e mata-me, porque angústias me têm cercado, pois toda a minha vida está ainda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2:37Z</dcterms:created>
  <dc:creator>Admin</dc:creator>
  <dc:description/>
  <dc:language>en-US</dc:language>
  <cp:lastModifiedBy>Admin</cp:lastModifiedBy>
  <dcterms:modified xsi:type="dcterms:W3CDTF">2008-07-30T23:52:37Z</dcterms:modified>
  <cp:revision>1</cp:revision>
  <dc:subject/>
  <dc:title>Slide 1</dc:title>
</cp:coreProperties>
</file>