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072-2042-4B43-9147-F627B8A0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04D-E6DA-42BD-9870-8F29887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10E-32C1-4943-9F64-75A8E1C9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30F-4E37-41EA-BC7D-34E09339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6E4-47AD-4B6B-AE26-489E054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118-9892-4CB6-8205-FDAAF99D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2F2-117D-40C0-84E2-F359F06F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69D-8EB9-4AF8-925F-CABFCA6A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AFC-5C06-4573-8CCB-856AA8BB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82C-1BC8-4AC0-B1D7-E7F93A4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BE7-9503-42DF-B87C-25250F47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EA3-0DBA-4BDC-8FA6-4DDFEE3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B2C3-0B65-49B8-BFBF-2B9D835790F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GI para salvação vossa, filhos de Benjamim, do meio de Jerusalém; e tocai a buzina em Tecoa, e levantai um sinal de fogo sobre Bete-Haquerém; porque do lado norte surge um mal e uma grande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falarei e testemunharei, para que ouça? Eis que os seus ouvidos estão incircuncisos, e não podem ouvir; eis que a palavra do SENHOR é para eles coisa vergonhosa, e não gostam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stou cheio do furor do SENHOR; estou cansado de o conter; derramá-lo-ei sobre os meninos pelas ruas e na reunião de todos os jovens; porque até o marido com a mulher serão presos, e o velho com o que está cheio d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casas passarão a outros, como também as suas herdades e as suas mulheres juntamente; porque estenderei a minha mão contra os habitantes desta terr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sde o menor deles até ao maior, cada um se dá à avareza; e desde o profeta até ao sacerdote, cada um usa de fal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ram superficialmente a ferida da filha do meu povo, dizendo: Paz, paz; quando não há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envergonham-se de cometer abominação? Pelo contrário, de maneira nenhuma se envergonham, nem tampouco sabem que coisa é envergonhar-se; portanto cairão entre os que caem; no tempo em que eu os visitar, tropeçarã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nde-vos nos caminhos, e vede, e perguntai pelas veredas antigas, qual é o bom caminho, e andai por ele; e achareis descanso para as vossas almas; mas eles dizem: Não andaremos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us atalaias sobre vós, dizendo: Estai atentos ao som da trombeta; mas dizem: Não escuta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uvi, vós, nações; e informa-te tu, ó congregação, do que se faz entre el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tu, ó terra! Eis que eu trarei mal sobre este povo, o próprio fruto dos seus pensamentos; porque não estão atentos às minhas palavras, e rejeitam a minh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formosa e delicada assemelhei a filha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pois, me vem o incenso de Sabá e a melhor cana aromática de terras remotas? Vossos holocaustos não me agradam, nem me são suaves os vossos sacri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: Eis que armarei tropeços a este povo; e tropeçarão neles pais e filhos juntamente; o vizinho e o seu companheiro per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is que um povo vem da terra do norte, e uma grande nação se levantará das extremidad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co e lança trarão; são cruéis, e não usarão de misericórdia; a sua voz rugirá como o mar, e em cavalos virão montados, dispostos como homens de guerra contra ti, ó filha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mos a sua fama, afrouxaram-se as nossas mãos; angústia nos tomou, e dores como as de partu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iais ao campo, nem andeis pelo caminho; porque espada do inimigo e espanto há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filha do meu povo, cinge-te de saco, e revolve-te na cinza; pranteia como por um filho único, pranto de amargura; porque de repente virá o destruidor sobr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torre de guarda te pus entre o meu povo, por fortaleza, para que soubesses e examinasses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les são os mais rebeldes, andam murmurando; são duros como bronze e ferro; todos eles são corrupt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o fole se queimou, o chumbo se consumiu com o fogo; em vão fundiu o fundidor tão diligentemente, pois os maus não são arran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ntra ela virão pastores com os seus rebanhos; levantarão contra ela tendas em redor, e cada um apascentará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ata rejeitada lhes chamarão, porque o SENHOR os reje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i a guerra contra ela, levantai-vos, e subamos ao pino do meio dia. Ai de nós! Já declina o dia, já se vão estendendo as sombras da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-vos, e subamos de noite, e destruamos os seus palá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: Cortai árvores, e levantai trincheiras contra Jerusalém; esta é a cidade que há de ser castigada, só opressão há n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fonte produz as suas águas, assim ela produz a sua malícia; violência e estrago se ouvem nela; enfermidade e feridas há diante de mim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rige-te, ó Jerusalém, para que a minha alma não se aparte de ti, para que não te torne em assolação e terra não habit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Diligentemente respigarão os resíduos de Israel como uma vinha; torna a tua mão, como o vindimador, aos ce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36Z</dcterms:created>
  <dc:creator>Admin</dc:creator>
  <dc:description/>
  <dc:language>en-US</dc:language>
  <cp:lastModifiedBy>Admin</cp:lastModifiedBy>
  <dcterms:modified xsi:type="dcterms:W3CDTF">2008-07-30T23:57:36Z</dcterms:modified>
  <cp:revision>1</cp:revision>
  <dc:subject/>
  <dc:title>Slide 1</dc:title>
</cp:coreProperties>
</file>