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0628-E9C5-41D7-B4D0-599539544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008E-C41B-488C-A4F7-A5E1BCE79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E098-A8E5-4428-8EA8-111D60543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8612-889A-468D-8538-E97CCB6B8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E5C5-765C-48A1-A3F6-BD969B89A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FA1F-9377-43DC-90ED-890E70343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BA03-1B50-4ADE-83DC-74D93E056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2F06-0848-4283-AAE4-600EF0523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9832-63B6-4EC0-8A0E-952EF9533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BDA8-3714-4FBF-B4BC-1F69B624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CD9A-C059-40D3-A6D9-F055FF0FE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DC8A-BD01-4683-887E-2FCBD0AD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DB727-6323-4944-B46A-618B46D7A5F2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6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AVIA fome na terra, além da primeira fome, que foi nos dias de Abraão; por isso foi Isaque a Abimeleque, rei dos filisteus, em Ger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6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Abimeleque: Que é isto que nos fizeste? Facilmente se teria deitado alguém deste povo com a tua mulher, e tu terias trazido sobre nós um del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6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andou Abimeleque a todo o povo, dizendo: Qualquer que tocar neste homem ou em sua mulher, certamente morr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6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meou Isaque naquela mesma terra, e colheu naquele mesmo ano cem medidas, porque o SENHOR o abençoa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6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ngrandeceu-se o homem, e ia enriquecendo-se, até que se tornou mui poderos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6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inha possessão de ovelhas, e possessão de vacas, e muita gente de serviço, de maneira que os filisteus o invejav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6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os os poços, que os servos de seu pai tinham cavado nos dias de seu pai Abraão, os filisteus entulharam e encheram de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6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 também Abimeleque a Isaque: Aparta-te de nós; porque muito mais poderoso te tens feito do que n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6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Isaque partiu dali e fez o seu acampamento no vale de Gerar, e habitou l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6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rnou Isaque e cavou os poços de água que cavaram nos dias de Abraão seu pai, e que os filisteus entulharam depois da morte de Abraão, e chamou-os pelos nomes que os chamara seu p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6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avaram, pois, os servos de Isaque naquele vale, e acharam ali um poço de águas viv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6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pareceu-lhe o SENHOR, e disse: Não desças ao Egito; habita na terra que eu te disse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6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pastores de Gerar porfiaram com os pastores de Isaque, dizendo: Esta água é nossa. Por isso chamou aquele poço Eseque, porque contenderam com e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6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cavaram outro poço, e também porfiaram sobre ele; por isso chamou-o Sitn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6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artiu dali, e cavou outro poço, e não porfiaram sobre ele; por isso chamou-o Reobote, e disse: Porque agora nos alargou o SENHOR, e crescemos nest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6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subiu dali a Berseb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6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pareceu-lhe o SENHOR naquela mesma noite, e disse: Eu sou o Deus de Abraão teu pai; não temas, porque eu sou contigo, e abençoar-te-ei, e multiplicarei a tua descendência por amor de Abraão meu ser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6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edificou ali um altar, e invocou o nome do SENHOR, e armou ali a sua tenda; e os servos de Isaque cavaram ali um poç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6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bimeleque veio a ele de Gerar, com Auzate seu amigo, e Ficol, príncipe do seu exérc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6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s Isaque: Por que viestes a mim, pois que vós me odiais e me repelistes de vó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6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s disseram: Havemos visto, na verdade, que o SENHOR é contigo, por isso dissemos: Haja agora juramento entre nós, entre nós e ti; e façamos aliança conti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6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não nos faças mal, como nós te não temos tocado, e como te fizemos somente bem, e te deixamos ir em paz. Agora tu és o bendito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6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regrina nesta terra, e serei contigo, e te abençoarei; porque a ti e à tua descendência darei todas estas terras, e confirmarei o juramento que tenho jurado a Abraão teu pai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6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lhes fez um banquete, e comeram e beberam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6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evantaram-se de madrugada e juraram um ao outro; depois os despediu Isaque, e despediram-se dele em pa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6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, naquele mesmo dia, que vieram os servos de Isaque, e anunciaram-lhe acerca do negócio do poço, que tinham cavado; e disseram-lhe: Temos achado águ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6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hamou-o Seba; por isso é o nome daquela cidade Berseba até o dia de hoj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6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sendo Esaú da idade de quarenta anos, tomou por mulher a Judite, filha de Beeri, heteu, e a Basemate, filha de Elom, het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6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as foram para Isaque e Rebeca uma amargura de espír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6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ultiplicarei a tua descendência como as estrelas dos céus, e darei à tua descendência todas estas terras; e por meio dela serão benditas todas as nações da terr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6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anto Abraão obedeceu à minha voz, e guardou o meu mandado, os meus preceitos, os meus estatutos, e as minhas l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6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habitou Isaque em Ger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6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erguntando-lhe os homens daquele lugar acerca de sua mulher, disse: É minha irmã; porque temia dizer: É minha mulher; para que porventura (dizia ele) não me matem os homens daquele lugar por amor de Rebeca; porque era formosa à vis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6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que, como ele esteve ali muito tempo, Abimeleque, rei dos filisteus, olhou por uma janela, e viu, e eis que Isaque estava brincando com Rebeca sua mulh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6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chamou Abimeleque a Isaque, e disse: Eis que na verdade é tua mulher; como pois disseste: É minha irmã? E disse-lhe Isaque: Porque eu dizia: Para que eu porventura não morra por causa d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8:40Z</dcterms:created>
  <dc:creator>Admin</dc:creator>
  <dc:description/>
  <dc:language>en-US</dc:language>
  <cp:lastModifiedBy>Admin</cp:lastModifiedBy>
  <dcterms:modified xsi:type="dcterms:W3CDTF">2008-07-30T23:38:40Z</dcterms:modified>
  <cp:revision>1</cp:revision>
  <dc:subject/>
  <dc:title>Slide 1</dc:title>
</cp:coreProperties>
</file>