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A3E-DD30-4143-BEFE-991A01BB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FD9-C956-4CF3-AE76-59A447EA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91E-C7EF-492A-9265-25B3462A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E68-F1D3-48F6-8965-4A84923F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D8E-A006-42FC-B0D2-0AF86BB3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0393-E1E4-4BB3-B142-421F036E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276-A553-4859-B8EF-FBCCD34F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12D-6DA2-4699-966E-0032BE30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009-FD13-4F8B-98D0-33EC1967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65A-68E5-481D-A97B-1368AD8C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D62-6ACD-4E93-970B-721614E0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F99-92D2-4E0F-9074-41D0D08B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C3F2-9687-4B12-B78C-0007B4C971F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muel a todo o Israel: Eis que ouvi a vossa voz em tudo quanto me dissestes, e constituí sobre vós um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lamaram ao SENHOR, e disseram: Pecamos, pois deixamos ao SENHOR, e servimos aos baalins e astarotes; agora, pois, livra-nos da mão de nossos inimigos, e te servir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enviou a Jerubaal, e a Baraque, e a Jefté, e a Samuel; e livrou-vos da mão de vossos inimigos em redor, e habitastes segu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ndo vós que Naás, rei dos filhos de Amom, vinha contra vós, me dissestes: Não, mas reinará sobre nós um rei; sendo, porém, o SENHOR vosso Deus, o voss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vedes aí o rei que elegestes e que pedistes; e eis que o SENHOR tem posto sobre vós um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temerdes ao SENHOR, e o servirdes, e derdes ouvidos à sua voz, e não fordes rebeldes ao mandado do SENHOR, assim vós, como o rei que reina sobre vós, seguireis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não derdes ouvidos à voz do SENHOR, e antes fordes rebeldes ao mandado do SENHOR, a mão do SENHOR será contra vós, como o era contra voss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nde-vos também agora aqui, e vede esta grande coisa que o SENHOR vai fazer diante dos vosso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 hoje a sega do trigo? Clamarei, pois, ao SENHOR, e dará trovões e chuva; e sabereis e vereis que é grande a vossa maldade, que tendes feito perante o SENHOR, pedindo para vós um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invocou Samuel ao SENHOR, e o SENHOR deu trovões e chuva naquele dia; por isso todo o povo temeu sobremaneira ao SENHOR e a Samu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povo disse a Samuel: Roga pelos teus servos ao SENHOR teu Deus, para que não venhamos a morrer; porque a todos os nossos pecados temos acrescentado este mal, de pedirmos para nós um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eis que o rei vai adiante de vós. Eu já envelheci e encaneci, e eis que meus filhos estão convosco, e tenho andado diante de vós desde a minha mocidade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muel ao povo: Não temais; vós tendes cometido todo este mal; porém não vos desvieis de seguir ao SENHOR, mas servi ao SENHOR com todo o voss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vos desvieis; pois seguiríeis as vaidades, que nada aproveitam, e tampouco vos livrarão, porque vaidades 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o SENHOR, por causa do seu grande nome, não desamparará o seu povo; porque aprouve ao SENHOR fazer-vos 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a mim, longe de mim que eu peque contra o SENHOR, deixando de orar por vós; antes vos ensinarei o caminho bom e dir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ão-somente temei ao SENHOR, e servi-o fielmente com todo o vosso coração; porque vede quão grandiosas coisas vos f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se perseverardes em fazer mal, perecereis, assim vós como o voss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-me aqui; testificai contra mim perante o SENHOR, e perante o seu ungido, a quem o boi tomei, a quem o jumento tomei, e a quem defraudei, a quem tenho oprimido, e de cuja mão tenho recebido suborno e com ele encobri os meus olhos, e vo-lo restituire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: Em nada nos defraudaste, nem nos oprimiste, nem recebeste coisa alguma da mão de ningu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O SENHOR seja testemunha contra vós, e o seu ungido seja hoje testemunha, que nada tendes achado na minha mão. E disse o povo: Ele é testemu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muel ao povo: O SENHOR é o que escolheu a Moisés e a Arão, e tirou a vossos pais d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ponde-vos aqui em pé, e pleitearei convosco perante o SENHOR, sobre todos os atos de justiça do SENHOR, que fez a vós e a voss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endo entrado Jacó no Egito, vossos pais clamaram ao SENHOR, e o SENHOR enviou a Moisés e a Arão que tiraram a vossos pais do Egito, e os fizeram habitar neste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squeceram-se do SENHOR seu Deus; então os vendeu à mão de Sísera, capitão do exército de Hazor, e na mão dos filisteus, e na mão do rei dos moabitas, que pelejaram cont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6:51Z</dcterms:created>
  <dc:creator>Admin</dc:creator>
  <dc:description/>
  <dc:language>en-US</dc:language>
  <cp:lastModifiedBy>Admin</cp:lastModifiedBy>
  <dcterms:modified xsi:type="dcterms:W3CDTF">2008-07-30T23:46:51Z</dcterms:modified>
  <cp:revision>1</cp:revision>
  <dc:subject/>
  <dc:title>Slide 1</dc:title>
</cp:coreProperties>
</file>