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D1F-5C46-40AE-8BCA-EB7D5BE5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A4B-C70E-4C7D-B0A2-D8450C5E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32E-C314-46C9-B59D-635E7A74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EC5-0AA0-4DE2-AC06-197543FE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046-849C-42AA-9C5D-17C413A4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C19-8530-42EC-8AC4-495C2C0E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5D6-291B-427F-BAE2-6DB36FF8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79F-98E7-457C-B7C6-3F8842FE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968-3F28-47FE-B567-CF60C8CC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9D4-C0BA-4096-8254-D3FE5061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4AC-F29C-4ED1-8526-B89CF1A6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557-DD58-4AE2-A076-E612BC48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D923-C3A4-4DCB-9CD4-1E6C8852F9F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DO está o meu coração, ó Deus; cantarei e darei louvores até com a minh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me levará à cidade forte? Quem me guiará até Edo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serás tu, ó Deus, que nos rejeitaste? E não sairás, ó Deus, com os nossos exérci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-nos auxílio para sair da angústia, porque vão é o socorro da parte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Deus faremos proezas, pois ele calcará aos pés os nosso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rtai, saltério e harpa; eu mesmo despertarei ao romper da al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r-te-ei entre os povos, SENHOR, e a ti cantarei louvores entre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ua benignidade se estende até aos céus, e a tua verdade chega até às mais altas nuv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lta-te sobre os céus, ó Deus, e a tua glória sobr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jam livres os teus amados, salva-nos com a tua destra, e ouve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falou na sua santidade; eu me regozijarei; repartirei a Siquém, e medirei o vale de Suc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 é Gileade, meu é Manassés; e Efraim a força da minha cabeça, Judá o meu legisl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abe a minha bacia de lavar; sobre Edom lançarei o meu sapato, sobre a Filístia jubil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39Z</dcterms:created>
  <dc:creator>Admin</dc:creator>
  <dc:description/>
  <dc:language>en-US</dc:language>
  <cp:lastModifiedBy>Admin</cp:lastModifiedBy>
  <dcterms:modified xsi:type="dcterms:W3CDTF">2008-07-31T00:27:39Z</dcterms:modified>
  <cp:revision>1</cp:revision>
  <dc:subject/>
  <dc:title>Slide 1</dc:title>
</cp:coreProperties>
</file>