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6C2-D715-4E99-8BB2-EF6D3B1A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831-6B78-4B3F-B9DB-D3F152CB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35C-6C58-4DE9-9412-4EC8F083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F44-8FCE-4697-91D3-9332E9CA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E50-49A2-42B3-B501-548B8B37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42D-FA12-487D-84D9-D3DD342D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EE7-C931-4642-92C0-1BED9F67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28B-9E34-473B-9741-857AC972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B5D-A34D-4E9F-87FA-D64CFF9F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A20-DB32-4288-8321-07343FF4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91A-5A44-476B-8062-BCF7271B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BDB-6BB0-4194-9C70-DBA44B17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D8C3-9451-4C27-BC6D-0865E58F44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os filhos dos profetas a Eliseu: Eis que o lugar em que habitamos diante da tua face, nos é estr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rei de Israel enviou àquele lugar, de que o homem de Deus lhe dissera, e de que o tinha avisado, e se guardou ali, não uma nem duas ve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turbou com este incidente o coração do rei da Síria, chamou os seus servos, e lhes disse: Não me fareis saber quem dos nossos é pelo rei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um dos servos: Não, ó rei meu senhor; mas o profeta Eliseu, que está em Israel, faz saber ao rei de Israel as palavras que tu falas no teu quarto de dorm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Vai, e vê onde ele está, para que envie, e mande trazê-lo. E fizeram-lhe saber, dizendo: Eis que está em Dot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viou para lá cavalos, e carros, e um grande exército, os quais chegaram de noite, e cercaram 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rvo do homem de Deus se levantou muito cedo e saiu, e eis que um exército tinha cercado a cidade com cavalos e carros; então o seu servo lhe disse: Ai, meu senhor! Que fare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Não temas; porque mais são os que estão conosco do que os que estão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ou Eliseu, e disse: SENHOR, peço-te que lhe abras os olhos, para que veja. E o SENHOR abriu os olhos do moço, e viu; e eis que o monte estava cheio de cavalos e carros de fogo, em redor de Eli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desceram a ele, Eliseu orou ao SENHOR e disse: Fere, peço-te, esta gente de cegueira. E feriu-a de cegueira, conforme a palavra de Eli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iseu lhes disse: Não é este o caminho, nem é esta a cidade; segui-me, e guiar-vos-ei ao homem que buscais. E os guiou a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mos, pois, até ao Jordão e tomemos de lá, cada um de nós, uma viga, e façamo-nos ali um lugar para habitar. E disse ele: I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chegando eles a Samaria, disse Eliseu: Ó SENHOR, abre a estes os olhos para que vejam. O SENHOR lhes abriu os olhos, para que vissem, e eis que estavam no meio de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 rei de Israel os viu, disse a Eliseu: Feri-los-ei, feri-los-ei, meu pa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disse: Não os ferirás; feririas tu os que tomasses prisioneiros com a tua espada e com o teu arco? Põe-lhes diante pão e água, para que comam e bebam, e se vão para s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resentou-lhes um grande banquete, e comeram e beberam; e os despediu e foram para seu senhor; e não entraram mais tropas de sírios na terr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, depois disto, que Ben-Hadade, rei da Síria, ajuntou todo o seu exército; e subiu e cercou a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grande fome em Samaria, porque eis que a cercaram, até que se vendeu uma cabeça de um jumento por oitenta peças de prata, e a quarta parte de um cabo de esterco de pombas por cinco peça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passando o rei pelo muro, uma mulher lhe bradou, dizendo: Acode-me, ó rei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Se o SENHOR te não acode, donde te acudirei eu? Da eira ou do lag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mais o rei: Que tens? E disse ela: Esta mulher me disse: Dá cá o teu filho, para que hoje o comamos, e amanhã comeremos o m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zemos, pois, o meu filho, e o comemos; mas dizendo-lhe eu ao outro dia: Dá cá o teu filho, para que o comamos; escondeu o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um: Serve-te de ires com os teus servos. E disse: Eu 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o rei as palavras desta mulher, rasgou as suas vestes, e ia passando pelo muro; e o povo viu que o rei trazia cilício por dentro, sobre a sua carn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Assim me faça Deus, e outro tanto, se a cabeça de Eliseu, filho de Safate, hoje ficar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 então Eliseu assentado em sua casa, e também os anciãos estavam assentados com ele. E enviou o rei um homem adiante de si; mas, antes que o mensageiro viesse a ele, disse ele aos anciãos: Vistes como o filho do homicida mandou tirar-me a cabeça?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e ainda falando com eles, eis que o mensageiro descia a ele; e disse: Eis que este mal vem do SENHOR, que mais, pois, esperaria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com eles; e, chegando eles ao Jordão, cortaram mad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derrubando um deles uma viga, o ferro caiu na água; e clamou, e disse: Ai, meu senhor! ele era empres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homem de Deus: Onde caiu? E mostrando-lhe ele o lugar, cortou um pau, e o lançou ali, e fez flutuar o f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Levanta-o. Então ele estendeu a sua mão e o to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a Síria fazia guerra a Israel; e consultou com os seus servos, dizendo: Em tal e tal lugar estará o meu acamp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homem de Deus enviou ao rei de Israel, dizendo: Guarda-te de passares por tal lugar; porque os sírios descer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21Z</dcterms:created>
  <dc:creator>Admin</dc:creator>
  <dc:description/>
  <dc:language>en-US</dc:language>
  <cp:lastModifiedBy>Admin</cp:lastModifiedBy>
  <dcterms:modified xsi:type="dcterms:W3CDTF">2008-07-30T23:51:21Z</dcterms:modified>
  <cp:revision>1</cp:revision>
  <dc:subject/>
  <dc:title>Slide 1</dc:title>
</cp:coreProperties>
</file>