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8AAF6-51BF-424D-983D-68E48EE5C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4CCEC-34C9-4057-8D74-551B15684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8A6A8-CD8A-4356-9C37-18B8D7AF6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42946-07FB-4A50-BF92-82DEBF6E4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16E7B-B151-46CE-A9AC-CF55D5E96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BED17-803C-4BA7-ABE0-741C7ADB5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3F65E-A151-4098-91AA-BDF7FB962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F70D9-29EF-4161-9E88-AE97B881A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E90DC-52F2-4B57-ACCC-D76DC3274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2024E-A1F1-44BE-A606-4E916A9C9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1A405-5D12-4CC3-A53B-33F800AC5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8B46C-0A10-46D3-9991-6D1E80925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65D4C-745B-463A-838D-1AA44CCD9CA6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5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EPOIS foram Moisés e Arão e disseram a Faraó: Assim diz o SENHOR Deus de Israel: Deixa ir o meu povo, para que me celebre uma festa no deser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5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saíram os exatores do povo, e seus oficiais, e falaram ao povo, dizendo: Assim diz Faraó: Eu não vos darei palha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5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Ide vós mesmos, e tomai vós palha onde a achardes; porque nada se diminuirá de vosso serviç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5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o povo se espalhou por toda a terra do Egito, a colher restolho em lugar de palh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5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s exatores os apertavam, dizendo: Acabai vossa obra, a tarefa de cada dia, como quando havia palh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5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foram açoitados os oficiais dos filhos de Israel, que os exatores de Faraó tinham posto sobre eles, dizendo estes: Por que não acabastes vossa tarefa, fazendo tijolos como antes, assim também ontem e hoje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5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 isso, os oficiais dos filhos de Israel, foram e clamaram a Faraó, dizendo: Por que fazes assim a teus servo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5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alha não se dá a teus servos, e nos dizem: Fazei tijolos; e eis que teus servos são açoitados; porém o teu povo tem a culp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5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ele disse: Vós sois ociosos; vós sois ociosos; por isso dizeis: Vamos, sacrifiquemos a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5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Ide, pois, agora, trabalhai; palha porém não se vos dará; contudo, dareis a conta dos tijol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5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os oficiais dos filhos de Israel viram-se em aflição, porquanto se dizia: Nada diminuireis de vossos tijolos, da tarefa do dia no seu d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5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Faraó disse: Quem é o SENHOR, cuja voz eu ouvirei, para deixar ir Israel? Não conheço o SENHOR, nem tampouco deixarei ir Israe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5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ncontraram a Moisés e a Arão, que estavam defronte deles, quando saíram de Faraó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5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ram-lhes: O SENHOR atente sobre vós, e julgue isso, porquanto fizestes o nosso caso repelente diante de Faraó, e diante de seus servos, dando-lhes a espada nas mãos, para nos mata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5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, tornando-se Moisés ao SENHOR, disse: Senhor! por que fizeste mal a este povo? por que me enviaste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5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desde que me apresentei a Faraó para falar em teu nome, ele maltratou a este povo; e de nenhuma sorte livraste o teu pov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5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les disseram: O Deus dos hebreus nos encontrou; portanto deixa-nos agora ir caminho de três dias ao deserto, para que ofereçamos sacrifícios ao SENHOR nosso Deus, e ele não venha sobre nós com pestilência ou com espad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5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disse-lhes o rei do Egito: Moisés e Arão, por que fazeis cessar o povo das suas obras? Ide às vossas carg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5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 também Faraó: Eis que o povo da terra já é muito, e vós os fazeis abandonar as suas carg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5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tanto deu ordem Faraó, naquele mesmo dia, aos exatores do povo, e aos seus oficiais, dizendo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5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aqui em diante não torneis a dar palha ao povo, para fazer tijolos, como fizestes antes: vão eles mesmos, e colham palha para s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5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lhes imporeis a conta dos tijolos que fizeram antes; nada diminuireis dela, porque eles estão ociosos; por isso clamam, dizendo: Vamos, sacrifiquemos ao nosso D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5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grave-se o serviço sobre estes homens, para que se ocupem nele e não confiem em palavras mentiros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31:18Z</dcterms:created>
  <dc:creator>Admin</dc:creator>
  <dc:description/>
  <dc:language>en-US</dc:language>
  <cp:lastModifiedBy>Admin</cp:lastModifiedBy>
  <dcterms:modified xsi:type="dcterms:W3CDTF">2008-07-30T23:31:18Z</dcterms:modified>
  <cp:revision>1</cp:revision>
  <dc:subject/>
  <dc:title>Slide 1</dc:title>
</cp:coreProperties>
</file>