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3D3-BE7C-4643-A008-38F76A65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890-575F-4342-8F95-99192B58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5A9-9C79-48FC-9298-93766088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136-0FB6-4D8C-AE61-9AF319B2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59A-EF4F-453C-8F54-D65B41CC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26A-0C81-42D6-BEF5-4DEEDF51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532-7E4F-4E17-A3B9-8D89591D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935-39CD-44ED-AB05-F1CD37CB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BE4-0728-4A23-AD16-245F2BE8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18E-944C-49FF-9E0D-A72312DC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A0E-D6A4-4FC1-8C08-9AF8CB2C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CBB-0EDC-431E-A862-F0C1F83B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BB13-9C73-4767-B659-C00DF2F6C50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no tocante às coisas sacrificadas aos ídolos, sabemos que todos temos ciência. A ciência incha, mas o amor edif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alguém te vir a ti, que tens ciência, sentado à mesa no templo dos ídolos, não será a consciência do que é fraco induzida a comer das coisas sacrificadas aos ídol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la tua ciência perecerá o irmão fraco, pelo qual Cristo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ecando assim contra os irmãos, e ferindo a sua fraca consciência, pecais contra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se a comida escandalizar a meu irmão, nunca mais comerei carne, para que meu irmão não se escandali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guém cuida saber alguma coisa, ainda não sabe como convém sa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lguém ama a Deus, esse é conhecido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, quanto ao comer das coisas sacrificadas aos ídolos, sabemos que o ídolo nada é no mundo, e que não há outro Deus, senão um s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ainda que haja também alguns que se chamem deuses, quer no céu quer na terra (como há muitos deuses e muitos senhores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para nós há um só Deus, o Pai, de quem é tudo e para quem nós vivemos; e um só Senhor, Jesus Cristo, pelo qual são todas as coisas, e nós por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em em todos há conhecimento; porque alguns até agora comem, no seu costume para com o ídolo, coisas sacrificadas ao ídolo; e a sua consciência, sendo fraca, fica contami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a comida não nos faz agradáveis a Deus, porque, se comemos, nada temos de mais e, se não comemos, nada nos fal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ede que essa liberdade não seja de alguma maneira escândalo para os fra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30Z</dcterms:created>
  <dc:creator>Admin</dc:creator>
  <dc:description/>
  <dc:language>en-US</dc:language>
  <cp:lastModifiedBy>Admin</cp:lastModifiedBy>
  <dcterms:modified xsi:type="dcterms:W3CDTF">2008-07-30T23:41:30Z</dcterms:modified>
  <cp:revision>1</cp:revision>
  <dc:subject/>
  <dc:title>Slide 1</dc:title>
</cp:coreProperties>
</file>