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772E-9404-4A75-B6EA-DABEECD51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CFBC-4BC2-4A94-9CED-2231D504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CB9C-DA57-40A7-92FB-8F8C5135C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8B78-4DC2-4ECC-A916-64AD53C18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B12E-DBFA-460B-9088-8C193B68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B1DB-7427-4EA1-890A-B2A8340F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5BB5-ED0A-4404-8B4A-E9DDAC3E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4AAD-6C5D-41E4-9FEE-854A912D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A0F2-A12A-45FD-866B-74EB29F1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AADF-967D-4166-99B6-F0CF93F9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ABDE-8E1B-4576-B01B-B87E7E7A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753F-76F1-4E12-82B5-227F44A8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71CC-1894-46B4-B1BE-9D8DCBED8B5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-TE, resplandece, porque vem a tua luz, e a glória do SENHOR vai nascendo sobre t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os estrangeiros edificarão os teus muros, e os seus reis te servirão; porque no meu furor te feri, mas na minha benignidade tive misericórdia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tuas portas estarão abertas de contínuo, nem de dia nem de noite se fecharão; para que tragam a ti as riquezas dos gentios, e, conduzidos com elas, os seus 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nação e o reino que não te servirem perecerão; sim, essas nações serão de todo assol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glória do Líbano virá a ti; a faia, o pinheiro, e o álamo conjuntamente, para ornarem o lugar do meu santuário, e glorificarei o lugar dos meus p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virão a ti, inclinando-se, os filhos dos que te oprimiram; e prostrar-se-ão às plantas dos teus pés todos os que te desprezaram; e chamar-te-ão a cidade do SENHOR, a Sião do Santo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lugar de seres deixada, e odiada, de modo que ninguém passava por ti, far-te-ei uma excelência perpétua, um gozo de geração em ge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marás o leite dos gentios, e alimentar-te-ás ao peito dos reis; e saberás que eu sou o SENHOR, o teu Salvador, e o teu Redentor, o Poderoso de Jac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cobre trarei ouro, e por ferro trarei prata, e por madeira, bronze, e por pedras, ferro; e farei pacíficos os teus oficiais e justos os teus exat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unca mais se ouvirá de violência na tua terra, desolação nem destruição nos teus termos; mas aos teus muros chamarás Salvação, e às tuas portas Louv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unca mais te servirá o sol para luz do dia nem com o seu resplendor a lua te iluminará; mas o SENHOR será a tua luz perpétua, e o teu Deus a tua gló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is que as trevas cobriram a terra, e a escuridão os povos; mas sobre ti o SENHOR virá surgindo, e a sua glória se verá sobr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unca mais se porá o teu sol, nem a tua lua minguará; porque o SENHOR será a tua luz perpétua, e os dias do teu luto find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os do teu povo serão justos, para sempre herdarão a terra; serão renovos por mim plantados, obra das minhas mãos, para que eu seja glorifi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menor virá a ser mil, e o mínimo uma nação forte; eu, o SENHOR, ao seu tempo o farei pront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gentios caminharão à tua luz, e os reis ao resplendor que te nasc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 em redor os teus olhos, e vê; todos estes já se ajuntaram, e vêm a ti; teus filhos virão de longe, e tuas filhas serão criadas ao teu l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verás, e serás iluminado, e o teu coração estremecerá e se alargará; porque a abundância do mar se tornará a ti, e as riquezas dos gentios virão a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ultidão de camelos te cobrirá, os dromedários de Midiã e Efá; todos virão de Sabá; ouro e incenso trarão, e publicarão os louvores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s as ovelhas de Quedar se congregarão a ti; os carneiros de Nebaiote te servirão; com agrado subirão ao meu altar, e eu glorificarei a casa da minha gló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são estes que vêm voando como nuvens, e como pombas às suas janel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ertamente as ilhas me aguardarão, e primeiro os navios de Társis, para trazer teus filhos de longe, e com eles a sua prata e o seu ouro, para o nome do SENHOR teu Deus, e para o Santo de Israel, porquanto ele te glorific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6:59Z</dcterms:created>
  <dc:creator>Admin</dc:creator>
  <dc:description/>
  <dc:language>en-US</dc:language>
  <cp:lastModifiedBy>Admin</cp:lastModifiedBy>
  <dcterms:modified xsi:type="dcterms:W3CDTF">2008-07-30T23:56:59Z</dcterms:modified>
  <cp:revision>1</cp:revision>
  <dc:subject/>
  <dc:title>Slide 1</dc:title>
</cp:coreProperties>
</file>