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D25-B443-4795-BF80-82883D05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D34-13BF-43FB-821C-542384E1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9D6-8FA6-43AB-A2B7-45FD5BD7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CAE-0E19-4BD8-8B33-76D14DF9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331-D10F-4CE0-99E2-0F800CD6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A42-098A-434F-998B-E10A26DE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922-8A83-440D-A10B-72C43D66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5D5-C0CD-4C81-B818-3FE8BC4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2E3-31C4-48DE-ABAF-5043916D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1C8-96E6-4317-9FBB-D341FD2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A42-B91F-4911-BECE-D132CC4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4E2-6B6B-4EF4-BD0E-CC9336F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7C7A-5635-4876-9F48-46B8499D47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A porta do átrio interior que dá para o oriente, estará fechada durante os seis dias que são de trabalho; mas no dia de sábado ela se abrirá; também no dia da lua nova se abr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entrará no meio deles; quando eles entrarem e, saindo eles, sairão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 festas e nas solenidades a oferta de alimentos será um efa para o bezerro, e um efa para o carneiro, mas para os cordeiros o que puder dar; e de azeite um him para um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príncipe fizer oferta voluntária de holocaustos, ou de sacrifícios pacíficos, uma oferta voluntária ao SENHOR, então lhe abrirão a porta que dá para o oriente, e fará o seu holocausto e os seus sacrifícios pacíficos, como houver feito no d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pararás um cordeiro de um ano sem mancha, em holocausto ao SENHOR, cada dia; todas as manhãs o prepa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juntamente com ele prepararás uma oferta de alimentos, todas as manhãs, a sexta parte de um efa, e de azeite a terça parte de um him, para misturar com a flor de farinha; por oferta de alimentos para o SENHOR, em estatutos perpétuos e contínu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repararão o cordeiro, e a oferta de alimentos, e o azeite, todas as manhãs, em holocausto contín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Quando o príncipe der um presente a algum de seus filhos, é sua herança, pertencerá a seus filhos; será possessão deles por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ando ele um presente da sua herança a algum dos seus servos, será deste até ao ano da liberdade; então tornará para o príncipe, porque herança dele é; seus filhos a herd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não tomará nada da herança do povo por opressão, defraudando-os da sua possessão; da sua própria possessão deixará herança a seus filhos, para que o meu povo não seja separado, cada um da s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me trouxe pela entrada que estava ao lado da porta, às câmaras santas dos sacerdotes, que olhavam para o norte; e eis que ali havia um lugar nos fundos extremos, para o lado d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entrará pelo caminho do vestíbulo da porta, por fora, e permanecerá junto da ombreira da porta; e os sacerdotes prepararão o holocausto, e os sacrifícios pacíficos dele; e ele adorará junto ao umbral da porta, e sairá; mas a porta não se f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disse: Este é o lugar onde os sacerdotes cozerão a oferta pela culpa, e a oferta pelo pecado, e onde cozerão a oferta de alimentos, para que não as tragam ao átrio exterior para santificarem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vou para fora, para o átrio exterior, e me fez passar pelos quatro cantos do átrio; e eis que em cada canto do átrio havia outro át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quatro cantos do átrio havia outros átrios juntos, de quarenta côvados de comprimento e de trinta de largura; estes quatro cantos tinham uma mesm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a fileira construída ao redor deles, ao redor dos quatro; e havia cozinhas feitas por baixo das fileira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disse: Estas são as cozinhas, onde os ministros da casa cozerão o sacrifíci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da terra adorará à entrada da mesma porta, nos sábados e nas luas novas,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olocausto, que o príncipe oferecer ao SENHOR, será, no dia de sábado, seis cordeiros sem mancha e um carneiro sem man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oferta de alimentos será um efa para o carneiro; e para o cordeiro, a oferta de alimentos será o que puder dar; e de azeite um him para cada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dia da lua nova será um bezerro sem mancha, e seis cordeiros e um carneiro; eles serão sem man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parará por oferta de manjares um efa para o bezerro e um efa para o carneiro, mas para os cordeiros, o que a sua mão puder dar; e um him de azeite para um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ntrar o príncipe, entrará pelo caminho do vestíbulo da porta, e sairá pelo mesm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ier o povo da terra perante a face do SENHOR nas solenidades, aquele que entrar pelo caminho da porta do norte, para adorar, sairá pelo caminho da porta do sul; e aquele que entrar pelo caminho da porta do sul sairá pelo caminho da porta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23Z</dcterms:created>
  <dc:creator>Admin</dc:creator>
  <dc:description/>
  <dc:language>en-US</dc:language>
  <cp:lastModifiedBy>Admin</cp:lastModifiedBy>
  <dcterms:modified xsi:type="dcterms:W3CDTF">2008-07-30T23:36:23Z</dcterms:modified>
  <cp:revision>1</cp:revision>
  <dc:subject/>
  <dc:title>Slide 1</dc:title>
</cp:coreProperties>
</file>