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05A-7808-4812-B345-D95D063A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CEB-1E10-40B4-B1D8-1E469AEC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3E5-089B-465D-84C4-0717E3BB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9CA-4853-41D6-935A-D238E45D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12B-4BEE-41C6-AE45-973A8ACA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317-E763-4D44-AD7F-484AECE7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1D4D-E9B8-4169-99EF-00359A34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DEB-A786-4E17-8566-E75B03AC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102-75F2-4796-A142-3419D7FA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206-FD0B-4FDD-96E1-494C7E4B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0AF6-D42D-4CA8-BB61-38905E9E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308-3132-42D7-90C2-F5DAC6D0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6246-ECDB-45AA-8DCE-826173FB5B5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em que morreu o rei Uzias, eu vi também ao Senhor assentado sobre um alto e sublime trono; e o seu séquito enchia o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gorda o coração deste povo, e faze-lhe pesados os ouvidos, e fecha-lhe os olhos; para que ele não veja com os seus olhos, e não ouça com os seus ouvidos, nem entenda com o seu coração, nem se converta e seja sa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u: Até quando Senhor? E respondeu: Até que sejam desoladas as cidades e fiquem sem habitantes, e as casas sem moradores, e a terra seja de todo assol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afaste dela os homens, e no meio da terra seja grande o desampa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inda a décima parte ficará nela, e tornará a ser pastada; e como o carvalho, e como a azinheira, que depois de se desfolharem, ainda ficam firmes, assim a santa semente será a firmeza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afins estavam por cima dele; cada um tinha seis asas; com duas cobriam os seus rostos, e com duas cobriam os seus pés, e com duas vo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lamavam uns aos outros, dizendo: Santo, Santo, Santo é o SENHOR dos Exércitos; toda a terra está cheia da s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umbrais das portas se moveram à voz do que clamava, e a casa se encheu de fum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u: Ai de mim! Pois estou perdido; porque sou um homem de lábios impuros, e habito no meio de um povo de impuros lábios; os meus olhos viram o Rei,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um dos serafins voou para mim, trazendo na sua mão uma brasa viva, que tirara do altar com uma tena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a brasa tocou a minha boca, e disse: Eis que isto tocou os teus lábios; e a tua iniqüidade foi tirada, e expiado o teu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ouvi a voz do Senhor, que dizia: A quem enviarei, e quem há de ir por nós? Então disse eu: Eis-me aqui, envia-me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e: Vai, e dize a este povo: Ouvis, de fato, e não entendeis, e vedes, em verdade, mas não perceb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39Z</dcterms:created>
  <dc:creator>Admin</dc:creator>
  <dc:description/>
  <dc:language>en-US</dc:language>
  <cp:lastModifiedBy>Admin</cp:lastModifiedBy>
  <dcterms:modified xsi:type="dcterms:W3CDTF">2008-07-30T23:54:39Z</dcterms:modified>
  <cp:revision>1</cp:revision>
  <dc:subject/>
  <dc:title>Slide 1</dc:title>
</cp:coreProperties>
</file>