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2188-1555-46CD-B9FB-AAAA75BC9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9D10-7456-4E1F-8833-E7DD07F8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0504-0032-4C69-A180-D5497E4A2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B59E-D68F-48D6-B936-7FB365A08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C8E2-48F6-468A-BA54-F0C16427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E686-77BE-43BB-8350-7EE927C6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1C1D-FC4E-4995-B06D-D47B87CE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BF3C-3A67-4691-A17F-B778F149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6132-24DD-40BB-95F6-F072CF38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D07B-DD8B-4B1F-B700-4CFA72C9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6572-C77F-419F-99CF-EF15FCF0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0208-D95B-4495-8EF9-94AA9DD8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829A-EF1C-4D6B-882D-62141B36E72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PALAVRA que falou o SENHOR contra a Babilônia, contra a terra dos caldeus, por intermédio de Jeremias, o profe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Caldéia servirá de presa; todos os que a saquearam serão fartos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vos alegrastes, e vos regozijastes, ó saqueadores da minha herança, porquanto vos engordastes como novilha no pasto, e mugistes como tou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rá mui confundida vossa mãe, ficará envergonhada a que vos deu à luz; eis que ela será a última das nações, um deserto, uma terra seca e uma soli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causa do furor do SENHOR não será habitada, antes se tornará em total assolação; qualquer que passar por Babilônia se espantará, assobiará por todas as suas prag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denai-vos contra Babilônia ao redor, todos os que armais arcos; atirai-lhe, não poupeis as flechas, porque pecou contra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ritai contra ela ao redor, ela já se submeteu; caíram seus fundamentos, estão derrubados os seus muros; porque esta é a vingança do SENHOR; vingai-vos dela; como ela fez, assim lhe faz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rrancai de Babilônia o que semeia, e o que leva a foice no tempo da sega; por causa da espada aflitiva virar-se-á cada um para o seu povo, e fugirá cada um para a su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rdeiro desgarrado é Israel; os leões o afugentaram; o primeiro a devorá-lo foi o rei da Assíria; e, por último Nabucodonosor, rei de Babilônia, lhe quebrou os os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assim diz o SENHOR dos Exércitos, Deus de Israel: Eis que castigarei o rei de Babilônia, e a sua terra, como castiguei o rei da Assí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rei tornar Israel para a sua morada, e ele pastará no Carmelo e em Basã; e fartar-se-á a sua alma no monte de Efraim e em Gile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unciai entre as nações; e fazei ouvir, e arvorai um estandarte, fazei ouvir, não encubrais; dizei: Tomada está Babilônia, confundido está Bel, espatifado está Merodaque, confundidos estão os seus ídolos, e quebradas estão as suas imag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0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s dias, e naquele tempo, diz o SENHOR, buscar-se-á a maldade de Israel, e não será achada; e os pecados de Judá, mas não se acharão; porque perdoarei os remanescentes que eu deix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0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be contra a terra de Merataim, sim, contra ela, e contra os moradores de Pecode; assola e inteiramente destrói tudo após eles, diz o SENHOR, e faze conforme tudo o que te mand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0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rondo de batalha há na terra, e de grande destrui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0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foi cortado e quebrado o martelo de toda a terra! Como se tornou Babilônia objeto de espanto entre as nações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0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aços te armei, e também foste presa, ó Babilônia, e tu não o soubeste; foste achada, e também apanhada; porque contra o SENHOR te entremete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0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abriu o seu depósito, e tirou os instrumentos da sua indignação; porque o Senhor DEUS dos Exércitos, tem uma obra a realizar na terra dos cal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0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nde contra ela dos confins da terra, abri os seus celeiros; fazei dela montões de ruínas, e destruí-a de todo; nada lhe fique de sob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0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tai a todos os seus novilhos, desçam a matança. Ai deles, porque veio o seu dia, o tempo do seu castigo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0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a voz dos que fugiram e escaparam da terra de Babilônia, para anunciarem em Sião a vingança do SENHOR nosso Deus, a vingança do seu temp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0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vocai contra Babilônia os flecheiros, a todos os que armam arcos; acampai-vos contra ela em redor, ninguém escape dela; pagai-lhe conforme a sua obra, conforme tudo o que fez, fazei-lhe; porque se houve arrogantemente contra o SENHOR, contra o Santo 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ubiu contra ela uma nação do norte, que fará da sua terra uma solidão, e não haverá quem nela habite; tanto os homens como os animais fugiram, e se fo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0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cairão os seus jovens nas suas ruas; e todos os seus homens de guerra serão desarraigados naquele dia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0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eu sou contra ti, ó soberbo, diz o Senhor DEUS dos Exércitos; porque veio o teu dia, o tempo em que te hei de casti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0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ropeçará o soberbo, e cairá, e ninguém haverá que o levante; e porei fogo nas suas cidades, o qual consumirá todos os seus arred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0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os Exércitos: Os filhos de Israel e os filhos de Judá foram oprimidos juntamente; e todos os que os levaram cativos os retiveram, não os quiseram sol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0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seu Redentor é forte, o SENHOR dos Exércitos é o seu nome; certamente pleiteará a causa deles, para dar descanso à terra, e inquietar os moradores de Babilôn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0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espada virá sobre os caldeus, diz o SENHOR, e sobre os moradores de Babilônia, e sobre os seus príncipes, e sobre os seus sáb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0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espada virá sobre os mentirosos, e ficarão insensatos; a espada virá sobre os seus poderosos, e desfalece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0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espada virá sobre os seus cavalos, e sobre os seus carros, e sobre toda a mistura de povos, que está no meio dela; e tornar-se-ão como mulheres; a espada virá sobre os seus tesouros, e serão saque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0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irá a seca sobre as suas águas, e secarão; porque é uma terra de imagens esculpidas, e pelos seus ídolos andam enfurec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0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habitarão nela as feras do deserto, com os animais selvagens das ilhas; também habitarão nela as avestruzes; e nunca mais será povoada, nem será habitada de geração em ge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s dias, e naquele tempo, diz o SENHOR, os filhos de Israel virão, eles e os filhos de Judá juntamente; andando e chorando virão, e buscarão ao SENHOR s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0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quando Deus subverteu a Sodoma e a Gomorra, e as suas cidades vizinhas, diz o SENHOR, assim ninguém habitará ali, nem morará nela filho de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0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um povo vem do norte; uma grande nação e muitos reis se levantarão dos extremos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0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rmam-se de arco e lança; eles são cruéis, e não têm piedade; a sua voz bramará como o mar, e sobre cavalos cavalgarão, todos postos em ordem como um homem para a batalha, contra ti, ó filha de Babilôn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0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rei de Babilônia ouviu a sua fama, e desfaleceram as suas mãos; a angústia se apoderou dele, como da que está de pa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0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ele como leão subirá da enchente do Jordão, contra a morada forte, porque num momento o farei correr dali; e quem é o escolhido que porei sobre ela? porque quem é semelhante a mim, e quem me fixará o tempo? E quem é o pastor que poderá permane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0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ouvi o conselho do SENHOR, que ele decretou contra Babilônia, e os seus desígnios que intentou contra a terra dos caldeus: certamente os pequenos do rebanho serão arrastados; certamente ele assolará as suas moradas sobre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0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estrondo da tomada de Babilônia estremeceu a terra; e o grito se ouviu entre as n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o caminho de Sião perguntarão, para ali voltarão os seus rostos, dizendo: Vinde, e unamo-nos ao SENHOR, numa aliança eterna que nunca será esquec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velhas perdidas têm sido o meu povo, os seus pastores as fizeram errar, para os montes as desviaram; de monte para outeiro andaram, esqueceram-se do lugar do seu repou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os que as achavam as devoravam, e os seus adversários diziam: Culpa nenhuma teremos; porque pecaram contra o SENHOR, a morada da justiça, sim, o SENHOR, a esperança de seu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ugi do meio de Babilônia, e saí da terra dos caldeus, e sede como os bodes diante do reba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is que eu suscitarei e farei subir contra a Babilônia uma congregação de grandes nações da terra do norte, e se prepararão contra ela; dali será tomada; as suas flechas serão como as de valente herói, nenhuma tornará sem efe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0:04Z</dcterms:created>
  <dc:creator>Admin</dc:creator>
  <dc:description/>
  <dc:language>en-US</dc:language>
  <cp:lastModifiedBy>Admin</cp:lastModifiedBy>
  <dcterms:modified xsi:type="dcterms:W3CDTF">2008-07-31T00:00:04Z</dcterms:modified>
  <cp:revision>1</cp:revision>
  <dc:subject/>
  <dc:title>Slide 1</dc:title>
</cp:coreProperties>
</file>