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998-3F0A-4158-8585-5F6D2758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3DB-1737-4AB0-8DC7-C8BCE48F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AB0-7B2E-4524-97BE-7CC7F369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4AB-3D7C-4B6F-9BFC-50CD9311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E10-1F92-4511-8CBB-479540AF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FE3-264F-470A-9DF6-CF7F3019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775-4EBE-4478-8127-C15BF588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AE1-40B6-4538-9469-D2283AC9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FF9-9E00-47DE-BBE5-B95D0206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327-DCCE-4C70-9217-988B22FC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2D5-7C1E-454C-9B9D-0BC3720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63C-B55A-4815-B796-63AA9B6E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D50B-EC71-403A-8676-BA5D1943E8D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I os ouvidos, ó céus, e falarei; e ouça a terra as palavras da minh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hou-o numa terra deserta, e num ermo solitário cheio de uivos; cercou-o, instruiu-o, e guardou-o como a menina do seu o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 águia desperta a sua ninhada, move-se sobre os seus filhos, estende as suas asas, toma-os, e os leva sobre as suas as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ó o SENHOR o guiou; e não havia com ele deus estr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o fez cavalgar sobre as alturas da terra, e comer os frutos do campo, e o fez chupar mel da rocha e azeite da dura pedern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teiga de vacas, e leite de ovelhas, com a gordura dos cordeiros e dos carneiros que pastam em Basã, e dos bodes, com o mais escolhido trigo; e bebeste o sangue das uvas, o vinho p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gordando-se Jesurum, deu coices (engordaste-te, engrossaste-te, e de gordura te cobriste) e deixou a Deus, que o fez, e desprezou a Rocha da su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deuses estranhos o provocaram a zelos; com abominações o irri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crifícios ofereceram aos demônios, não a Deus; aos deuses que não conheceram, novos deuses que vieram há pouco, aos quais não temeram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queceste-te da Rocha que te gerou; e em esquecimento puseste o Deus que te formo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vendo o SENHOR, os desprezou, por ter sido provocado à ira contra seus filhos e suas filh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oteje a minha doutrina como a chuva, destile a minha palavra como o orvalho, como chuvisco sobre a erva e como gotas de água sobre a rel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Esconderei o meu rosto deles, verei qual será o seu fim; porque são geração perversa, filhos em quem não há lea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zelos me provocaram com aquilo que não é Deus; com as suas vaidades me provocaram à ira: portanto eu os provocarei a zelos com o que não é povo; com nação louca os despertarei à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um fogo se acendeu na minha ira, e arderá até ao mais profundo do inferno, e consumirá a terra com a sua colheita, e abrasará os fundamentos dos mo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es amontoarei sobre eles; as minhas setas esgotarei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umidos serão de fome, comidos pela febre ardente e de peste amarga; e contra eles enviarei dentes de feras, com ardente veneno de serpentes do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fora devastará a espada, e por dentro o pavor; ao jovem, juntamente com a virgem, assim à criança de peito como ao homem encan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isse: Por todos os cantos os espalharei; farei cessar a sua memória dentre os homen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não receasse a ira do inimigo, para que os seus adversários não se iludam, e para que não digam: A nossa mão está exaltada; o SENHOR não fez tudo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ão gente falta de conselhos, e neles não há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era eles fossem sábios! Que isto entendessem, e atentassem para o seu fi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pregoarei o nome do SENHOR; engrandecei a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poderia ser que um só perseguisse mil, e dois fizessem fugir dez mil, se a sua Rocha os não vendera, e o SENHOR os não entrega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sua rocha não é como a nossa Rocha, sendo até os nossos inimigos juízes d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sua vinha é a vinha de Sodoma e dos campos de Gomorra; as suas uvas são uvas venenosas, cachos amargos tê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vinho é ardente veneno de serpentes, e peçonha cruel de víbo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tá isto guardado comigo? Selado nos meus tesour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nha é a vingança e a recompensa, ao tempo que resvalar o seu pé; porque o dia da sua ruína está próximo, e as coisas que lhes hão de suceder, se apressam a che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fará justiça ao seu povo, e se compadecerá de seus servos; quando vir que o poder deles se foi, e não há preso nem desamp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rá: Onde estão os seus deuses? A rocha em quem confiav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cujos sacrifícios comiam a gordura, e de cujas libações bebiam o vinho? Levantem-se, e vos ajudem, para que haja para vós esconderi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 agora que eu, eu o sou, e mais nenhum deus há além de mim; eu mato, e eu faço viver; eu firo, e eu saro, e ninguém há que escape da minh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a Rocha, cuja obra é perfeita, porque todos os seus caminhos justos são; Deus é a verdade, e não há nele injustiça; justo e reto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levantarei a minha mão aos céus, e direi: Eu vivo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afiar a minha espada reluzente, e se a minha mão travar o juízo, retribuirei a vingança sobre os meus adversários, e recompensarei aos que me ode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briagarei as minhas setas de sangue, e a minha espada comerá carne; do sangue dos mortos e dos prisioneiros, desde a cabeça, haverá vinganças do ini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bilai, ó nações, o seu povo, porque ele vingará o sangue dos seus servos, e sobre os seus adversários retribuirá a vingança, e terá misericórdia da sua terra e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Moisés, e falou todas as palavras deste cântico aos ouvidos do povo, ele e Josué, filho de N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abando Moisés de falar todas estas palavras a todo o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: Aplicai o vosso coração a todas as palavras que hoje testifico entre vós, para que as recomendeis a vossos filhos, para que tenham cuidado de cumprir todas as palavras dest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a palavra não vos é vã, antes é a vossa vida; e por esta mesma palavra prolongareis os dias na terra a qual, passando o Jordão, ides a poss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alou o SENHOR a Moisés, naquele mesmo di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e ao monte de Abarim, ao monte Nebo, que está na terra de Moabe, defronte de Jericó, e vê a terra de Canaã, que darei aos filhos de Israel por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romperam-se contra ele; não são seus filhos, mas a sua mancha; geração perversa e distorcida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 no monte ao qual subirás; e recolhe-te ao teu povo, como Arão teu irmão morreu no monte Hor, e se recolheu a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transgredistes contra mim no meio dos filhos de Israel, às águas de Meribá de Cades, no deserto de Zim; pois não me santificastes no meio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que verás a terra diante de ti, porém não entrarás nela, na terra que darei a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ompensais assim ao SENHOR, povo louco e ignorante? Não é ele teu pai que te adquiriu, te fez e te estabelec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os dias da antiguidade, atenta para os anos de muitas gerações: pergunta a teu pai, e ele te informará; aos teus anciãos, e eles te d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Altíssimo distribuía as heranças às nações, quando dividia os filhos de Adão uns dos outros, estabeleceu os termos dos povos, conforme o número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porção do SENHOR é o seu povo; Jacó é a parte da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08Z</dcterms:created>
  <dc:creator>Admin</dc:creator>
  <dc:description/>
  <dc:language>en-US</dc:language>
  <cp:lastModifiedBy>Admin</cp:lastModifiedBy>
  <dcterms:modified xsi:type="dcterms:W3CDTF">2008-07-30T23:29:08Z</dcterms:modified>
  <cp:revision>1</cp:revision>
  <dc:subject/>
  <dc:title>Slide 1</dc:title>
</cp:coreProperties>
</file>