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E3F-1808-45DE-8F9D-C037F7CA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150-7798-42D9-B6A9-140F0FC0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C1D-CCE4-4FD7-AC3A-2752DBED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F92-784C-4142-BCAA-06D3A85A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ECC-C9AF-4B74-AFA1-D472CF89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C04-91A5-4E73-AC4B-C930CC27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D4A-E235-43D9-8865-3365928D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838-7670-4630-AF79-00DC14F1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95D-857E-47E3-85C5-CE1BAA3C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262-013C-4583-86DA-2F16B0B6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1C9-1BAD-4463-A2B2-31557318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8EE-A15F-46BE-B6DA-6FD5AD99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01F5-0823-406F-803B-D684DF56DD2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ó Israel, hoje passarás o Jordão, para entrares a possuir nações maiores e mais fortes do que tu; cidades grandes, e muradas até aos cé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me deu as duas tábuas de pedra, escritas com o dedo de Deus; e nelas estava escrito conforme a todas aquelas palavras que o SENHOR tinha falado convosco no monte, do meio do fogo, no dia da assemb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 ao fim dos quarenta dias e quarenta noites, o SENHOR me deu as duas tábuas de pedra, as tábuas d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me disse: Levanta-te, desce depressa daqui, porque o teu povo, que tiraste do Egito, já se tem corrompido; cedo se desviaram do caminho que eu lhes tinha ordenado; fizeram para si uma imagem de fun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-me ainda o SENHOR, dizendo: Atentei para este povo, e eis que ele é povo obstin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-me que os destrua, e apague o seu nome de debaixo dos céus; e te faça a ti nação mais poderosa e mais numerosa do que 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rei-me, e desci do monte; o qual ardia em fogo e as duas tábuas da aliança estavam em ambas as minh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eis que havíeis pecado contra o SENHOR vosso Deus; vós tínheis feito um bezerro de fundição; cedo vos desviastes do caminho que o SENHOR vos orden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guei das duas tábuas, e as arrojei das minhas mãos, e as quebrei diante dos voss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lancei perante o SENHOR, como antes, quarenta dias, e quarenta noites; não comi pão e não bebi água, por causa de todo o vosso pecado que havíeis cometido, fazendo mal aos olhos do SENHOR, para o provocar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mi por causa da ira e do furor, com que o SENHOR tanto estava irado contra vós para vos destruir; porém ainda por esta vez o SENHOR me ou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povo grande e alto, filhos de gigantes, que tu conheces, e de que já ouviste. Quem resistiria diante dos filhos dos gigan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ENHOR se irou muito contra Arão para o destruir; mas também orei por Arão ao mesm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u tomei o vosso pecado, o bezerro que tínheis feito, e o queimei a fogo, e o pisei, moendo-o bem, até que se desfez em pó; e o seu pó lancei no ribeiro que descia d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m Taberá, e em Massá, e em Quibrote-Hataavá provocastes muito a i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o SENHOR vos enviou de Cades-Barnéia, dizendo: Subi, e possuí a terra, que vos tenho dado: rebeldes fostes ao mandado do SENHOR vosso Deus, e não o crestes, e não obedecestes à s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beldes fostes contra o SENHOR desde o dia em que vos conhec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strei-me perante o SENHOR; aqueles quarenta dias e quarenta noites estive prostrado, porquanto o SENHOR dissera que vos queria destr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ei ao SENHOR, dizendo: Senhor DEUS, não destruas o teu povo e a tua herança, que resgataste com a tua grandeza, que tiraste do Egito com mão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os teus servos, Abraão, Isaque, e Jacó. Não atentes para a dureza deste povo, nem para a sua impiedade, nem para o seu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povo da terra donde nos tiraste não diga: Porquanto o SENHOR não os pôde introduzir na terra de que lhes tinha falado, e porque os odiava, os tirou para matá-los no dese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são eles o teu povo e a tua herança, que tiraste com a tua grande força e com o teu braço este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, pois, hoje que o SENHOR teu Deus, que passa adiante de ti, é um fogo consumidor, que os destruirá, e os derrubará de diante de ti; e tu os lançarás fora, e cedo os desfarás, como o SENHOR te tem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o SENHOR teu Deus os lançar fora de diante de ti, não fales no teu coração, dizendo: Por causa da minha justiça é que o SENHOR me trouxe a esta terra para a possuir; porque pela impiedade destas nações é que o SENHOR as lança fora de di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por causa da tua justiça, nem pela retidão do teu coração que entras a possuir a sua terra, mas pela impiedade destas nações o SENHOR teu Deus as lança fora, de diante de ti, e para confirmar a palavra que o SENHOR jurou a teus pais, Abraão, Isa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, pois, que não é por causa da tua justiça que o SENHOR teu Deus te dá esta boa terra para possuí-la, pois tu és povo obst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, e não te esqueças, de que muito provocaste à ira ao SENHOR teu Deus no deserto; desde o dia em que saístes do Egito, até que chegastes a esse lugar, rebeldes fostes contra 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m Horebe provocastes à ira o SENHOR, tanto que o SENHOR se indignou contra vós para vos destr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ndo eu ao monte a receber as tábuas de pedra, as tábuas da aliança que o SENHOR fizera convosco, então fiquei no monte quarenta dias e quarenta noites; pão não comi, e água não beb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40Z</dcterms:created>
  <dc:creator>Admin</dc:creator>
  <dc:description/>
  <dc:language>en-US</dc:language>
  <cp:lastModifiedBy>Admin</cp:lastModifiedBy>
  <dcterms:modified xsi:type="dcterms:W3CDTF">2008-07-30T23:27:40Z</dcterms:modified>
  <cp:revision>1</cp:revision>
  <dc:subject/>
  <dc:title>Slide 1</dc:title>
</cp:coreProperties>
</file>