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305B-8B2A-4FFB-B59D-9D0780C21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39F8-1790-46A8-A77B-7C896EF6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9EFB-5DA7-4E44-9C0E-4722BA1BA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0869-9F95-465F-AD5E-AC3BA3FB1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B252-ACA4-4E63-9C1F-901E423A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7F34-4EBA-43BF-B818-D11B50A4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EBFE-5FF2-43F6-B48A-AD19A300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0F3F-4C07-48F7-A9B4-FE68488F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85B6-C05E-49B3-A7BD-059110D5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A3EF-8972-4867-9AE1-7EEA1734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6B23-7339-4A9F-97B6-7EEE2D16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C8E3-714F-4A3A-9D24-91D4ED5A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1610-1DEC-4186-9D9F-2CD1698F081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vendo a multidão, subiu a um monte, e, assentando-se, aproximaram-se dele os seus discípul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-aventurados os que sofrem perseguição por causa da justiça, porque deles é o reino dos cé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-aventurados sois vós, quando vos injuriarem e perseguirem e, mentindo, disserem todo o mal contra vós por minha cau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xultai e alegrai-vos, porque é grande o vosso galardão nos céus; porque assim perseguiram os profetas que foram antes d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 sois o sal da terra; e se o sal for insípido, com que se há de salgar? Para nada mais presta senão para se lançar fora, e ser pisado pel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 sois a luz do mundo; não se pode esconder uma cidade edificada sobre um mon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se acende a candeia e se coloca debaixo do alqueire, mas no velador, e dá luz a todos que estão n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resplandeça a vossa luz diante dos homens, para que vejam as vossas boas obras e glorifiquem a vosso Pai, que está nos cé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cuideis que vim destruir a lei ou os profetas: não vim ab-rogar, mas cumpr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m verdade vos digo que, até que o céu e a terra passem, nem um jota ou um til se omitirá da lei, sem que tudo seja cumpr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lquer, pois, que violar um destes mandamentos, por menor que seja, e assim ensinar aos homens, será chamado o menor no reino dos céus; aquele, porém, que os cumprir e ensinar será chamado grande no reino dos cé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brindo a sua boca, os ensinava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vos digo que, se a vossa justiça não exceder a dos escribas e fariseus, de modo nenhum entrareis no reino dos cé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stes que foi dito aos antigos: Não matarás; mas qualquer que matar será réu de juíz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, porém, vos digo que qualquer que, sem motivo, se encolerizar contra seu irmão, será réu de juízo; e qualquer que disser a seu irmão: Raca, será réu do sinédrio; e qualquer que lhe disser: Louco, será réu do fogo do infer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se trouxeres a tua oferta ao altar, e aí te lembrares de que teu irmão tem alguma coisa contra t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ixa ali diante do altar a tua oferta, e vai reconciliar-te primeiro com teu irmão e, depois, vem e apresenta a tua ofer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cilia-te depressa com o teu adversário, enquanto estás no caminho com ele, para que não aconteça que o adversário te entregue ao juiz, e o juiz te entregue ao oficial, e te encerrem na pri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5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verdade te digo que de maneira nenhuma sairás dali enquanto não pagares o último ceiti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5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stes que foi dito aos antigos: Não cometerás adulté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5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, porém, vos digo, que qualquer que atentar numa mulher para a cobiçar, já em seu coração cometeu adultério com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5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se o teu olho direito te escandalizar, arranca-o e atira-o para longe de ti; pois te é melhor que se perca um dos teus membros do que seja todo o teu corpo lançado no infer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-aventurados os pobres de espírito, porque deles é o reino dos cé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5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a tua mão direita te escandalizar, corta-a e atira-a para longe de ti, porque te é melhor que um dos teus membros se perca do que seja todo o teu corpo lançado no infer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5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foi dito: Qualquer que deixar sua mulher, dê-lhe carta de desqu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5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, porém, vos digo que qualquer que repudiar sua mulher, a não ser por causa de prostituição, faz que ela cometa adultério, e qualquer que casar com a repudiada comete adulté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5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trossim, ouvistes que foi dito aos antigos: Não perjurarás, mas cumprirás os teus juramentos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5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, porém, vos digo que de maneira nenhuma jureis; nem pelo céu, porque é o trono de De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5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pela terra, porque é o escabelo de seus pés; nem por Jerusalém, porque é a cidade do grande Re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5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jurarás pela tua cabeça, porque não podes tornar um cabelo branco ou pre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5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ja, porém, o vosso falar: Sim, sim; Não, não; porque o que passa disto é de procedência malig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5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stes que foi dito: Olho por olho, e dente por d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5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, porém, vos digo que não resistais ao mal; mas, se qualquer te bater na face direita, oferece-lhe também a out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-aventurados os que choram, porque eles serão consolad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5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o que quiser pleitear contigo, e tirar-te a túnica, larga-lhe também a cap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5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qualquer te obrigar a caminhar uma milha, vai com ele d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5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á a quem te pedir, e não te desvies daquele que quiser que lhe empres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5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stes que foi dito: Amarás o teu próximo, e odiarás o teu inim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5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, porém, vos digo: Amai a vossos inimigos, bendizei os que vos maldizem, fazei bem aos que vos odeiam, e orai pelos que vos maltratam e vos perseguem; para que sejais filhos do vosso Pai que está nos cé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5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faz que o seu sol se levante sobre maus e bons, e a chuva desça sobre justos e injus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5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, se amardes os que vos amam, que galardão tereis? Não fazem os publicanos também o mesm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5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saudardes unicamente os vossos irmãos, que fazeis de mais? Não fazem os publicanos também assi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5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de vós pois perfeitos, como é perfeito o vosso Pai que está nos cé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-aventurados os mansos, porque eles herdarão a ter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-aventurados os que têm fome e sede de justiça, porque eles serão fart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-aventurados os misericordiosos, porque eles alcançarão misericórdi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-aventurados os limpos de coração, porque eles verão a De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-aventurados os pacificadores, porque eles serão chamados filhos de De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4:19Z</dcterms:created>
  <dc:creator>Admin</dc:creator>
  <dc:description/>
  <dc:language>en-US</dc:language>
  <cp:lastModifiedBy>Admin</cp:lastModifiedBy>
  <dcterms:modified xsi:type="dcterms:W3CDTF">2008-07-31T00:14:19Z</dcterms:modified>
  <cp:revision>1</cp:revision>
  <dc:subject/>
  <dc:title>Slide 1</dc:title>
</cp:coreProperties>
</file>