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048-3AE7-44FC-A78A-363FAF27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F60-53C0-4B6D-9B44-A877283E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5CB-43E0-47D2-95D7-8AB26E6F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1DC-BEE0-4A0E-AF80-BB70272A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A8A0-26CF-44D0-8367-7A36ACB7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47D-82EC-44BA-8F41-6B7C6B0E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472-33EC-4442-8ECC-711E3E7B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0319-5AE1-4DFB-8453-736B7BB3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0E7-7069-4C72-BF3C-715C7E23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96F-1019-4473-9008-9C67D0B4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42A6-3CC7-4784-A834-EAF06F5E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028-39D8-49F9-B3A9-2F4358BD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4CB9-2D56-4794-84B8-0B015E0E37E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aquele homem que viu a aflição pela vara do seu fur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-se-me como urso de emboscada, um leão em esconderij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viou os meus caminhos, e fez-me em pedaços; deixou-me asso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mou o seu arco, e me pôs como alvo à flec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entrar nos meus rins as flechas da sua alj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ui feito um objeto de escárnio para todo o meu povo, e a sua canção todo 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tou-me de amarguras, embriagou-me de absi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brou com cascalho os meus dentes, abaixou-me na cin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fastaste da paz a minha alma; esqueci-me d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u: Já pereceu a minha força, como também a minha esperança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 da minha aflição e do meu pranto, do absinto e do f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me guiou e me fez andar em trevas e não n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inha alma certamente disto se lembra, e se abate dentro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o me recordarei na minha mente; por isso esper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misericórdias do SENHOR são a causa de não sermos consumidos, porque as suas misericórdias não têm f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vas são cada manhã; grande é a tua fidel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porção é o SENHOR, diz a minha alma; portanto esperarei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om é o SENHOR para os que esperam por ele, para a alma que o bus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om é ter esperança, e aguardar em silêncio a salvaçã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om é para o homem suportar o jugo na sua mo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ente-se solitário e fique em silêncio; porquanto Deus o pôs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nha a sua boca no pó; talvez ainda haja esp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veras fez virar e revirar a sua mão contra mim o dia to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ê a sua face ao que o fere; farte-se de afro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o Senhor não rejeitará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ainda que entristeça a alguém, usará de compaixão, segundo a grandeza das suas misericór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aflige nem entristece de bom grado aos filh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isar debaixo dos seus pés a todos os presos da t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verter o direito do homem perante a face do Altíssim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verter ao homem no seu pleito, não o veria 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aquele que diz, e assim acontece, quando o Senhor o não man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da boca do Altíssimo não sai tanto o mal como o b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que se queixa, pois, o homem vivente? Queixe-se cada um dos seu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envelhecer a minha carne e a minha pele, quebrou os meus o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quadrinhemos os nossos caminhos, e provemo-los, e voltemos para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emos os nossos corações com as mãos para Deus nos céu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ós transgredimos, e fomos rebeldes; por isso tu não perdo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briste-te de ira, e nos perseguiste; mataste, não perdo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briste-te de nuvens, para que não passe a nossa 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escória e refugo nos puseste no meio d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nossos inimigos abriram contra nós a s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or e laço vieram sobre nós, assolação e destr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rentes de água derramaram os meus olhos, por causa da destruição da filha do m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olhos choram, e não cessam, porque não há descans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dificou contra mim, e me cercou de fel e traba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e o SENHOR atente e veja desde 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olhos entristecem a minha alma, por causa de todas as filhas da minh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ve me caçam os que, sem causa, são m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rtaram-me a vida na masmorra, e lançaram pedras sobr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Águas correram sobre a minha cabeça; eu disse: Estou cor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voquei o teu nome, SENHOR, desde a mais profunda masmo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ste a minha voz; não escondas o teu ouvido ao meu suspiro, ao meu cl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te aproximaste no dia em que te invoquei; disseste: Não te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leiteaste, Senhor, as causas da minha alma, remiste a minh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e, SENHOR, a injustiça que me fizeram; julga a minha cau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entou-me em lugares tenebrosos, como os que estavam mortos há mu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e toda a sua vingança, todos os seus pensamentos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ste a sua afronta, SENHOR, todos os seus pensamentos contra m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lábios dos que se levantam contra mim e os seus desígnios me são contrários todo 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bserva-os ao assentarem-se e ao levantarem-se; eu sou a sua mús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6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lhes darás recompensa, SENHOR, conforme a obra das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6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lhes darás ânsia de coração, maldição tua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6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tua ira os perseguirás, e os destruirás de debaixo dos céu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cou-me de uma sebe, e não posso sair; agravou os meus grilh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ando clamo e grito, ele exclui a minha 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chou os meus caminhos com pedras lavradas, fez tortuosas as minhas vere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7:56Z</dcterms:created>
  <dc:creator>Admin</dc:creator>
  <dc:description/>
  <dc:language>en-US</dc:language>
  <cp:lastModifiedBy>Admin</cp:lastModifiedBy>
  <dcterms:modified xsi:type="dcterms:W3CDTF">2008-07-31T00:07:56Z</dcterms:modified>
  <cp:revision>1</cp:revision>
  <dc:subject/>
  <dc:title>Slide 1</dc:title>
</cp:coreProperties>
</file>