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6C2-9497-44A4-9F80-322213F1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8E0-EF58-4779-B6F3-D5931880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C99-6188-4957-949D-D032E843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294-A5AE-4651-A58B-FEA5BEF5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E30-F482-4112-9499-8462B717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75B-0D82-4F76-8554-DDCC5643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558-4DE0-4D15-A902-633D6B09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F39-6D3E-4322-A800-2C2612DD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FF0-54AD-43E5-B24D-AEBE8AC1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536-9097-4021-8638-FDE0906C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7CE-A078-4087-B474-88193A0B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687-ADFB-4DF3-9127-E3FC1EDF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4D58-CF04-4F65-8B1F-9D6C3754F3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ouve a minha oração, inclina os ouvidos às minhas súplicas; escuta-me segundo a tua verdade, e segundo a t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-me a fazer a tua vontade, pois és o meu Deus. O teu Espírito é bom; guie-me por terra pl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ifica-me, ó SENHOR, por amor do teu nome; por amor da tua justiça, tira a minha alma d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tua misericórdia desarraiga os meus inimigos, e destrói a todos os que angustiam a minha alma; pois sou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ntres em juízo com o teu servo, porque à tua vista não se achará justo nenhum viv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inimigo perseguiu a minha alma; atropelou-me até ao chão; fez-me habitar na escuridão, como aqueles que morreram há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 o meu espírito se angustia em mim; e o meu coração em mim está deso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o-me dos dias antigos; considero todos os teus feitos; medito na obra d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o para ti as minhas mãos; a minha alma tem sede de ti, como terra sedent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-me depressa, ó SENHOR; o meu espírito desmaia. Não escondas de mim a tua face, para que não seja semelhante aos que descem à c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me ouvir a tua benignidade pela manhã, pois em ti confio; faze-me saber o caminho que devo seguir, porque a ti levanto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, ó SENHOR, dos meus inimigos; fujo para ti, para me escon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42Z</dcterms:created>
  <dc:creator>Admin</dc:creator>
  <dc:description/>
  <dc:language>en-US</dc:language>
  <cp:lastModifiedBy>Admin</cp:lastModifiedBy>
  <dcterms:modified xsi:type="dcterms:W3CDTF">2008-07-31T00:28:42Z</dcterms:modified>
  <cp:revision>1</cp:revision>
  <dc:subject/>
  <dc:title>Slide 1</dc:title>
</cp:coreProperties>
</file>