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892-1B8D-4D23-AAE0-C6765E2A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682-F921-4231-A0BB-5F654B9A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8D5-8954-4EEA-BAC8-4188009F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075-AE34-4F1B-9D33-1C28DBB3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545-633B-4FF2-B71E-7DD33CF4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761-5B6C-48C3-920A-9E105278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610-CED8-4A8E-B748-85E1A831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8A5-354A-4874-BA9E-503DA9FA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710-E3A7-4BC9-805F-76FE108D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CE7-F37D-403A-936D-3961DB03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FDA-6759-41FE-9540-A669BC85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3FE-96F0-48FA-AB80-4C4EE3FE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5DD9-1B55-44C0-81FA-FD90969DDA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VAM-SE a ele todos os publicanos e pecadores para o ou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os digo que há alegria diante dos anjos de Deus por um pecador que se arrepe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Um certo homem tinha doi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ais moço deles disse ao pai: Pai, dá-me a parte dos bens que me pertence. E ele repartiu por eles a faz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ucos dias depois, o filho mais novo, ajuntando tudo, partiu para uma terra longínqua, e ali desperdiçou os seus bens, vivendo dissolu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ele gastado tudo, houve naquela terra uma grande fome, e começou a padecer necess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, e chegou-se a um dos cidadãos daquela terra, o qual o mandou para os seus campos, a apascentar por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ejava encher o seu estômago com as bolotas que os porcos comiam, e ninguém lhe dava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rnando em si, disse: Quantos jornaleiros de meu pai têm abundância de pão, e eu aqui pereço de fom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r-me-ei, e irei ter com meu pai, e dir-lhe-ei: Pai, pequei contra o céu e perante t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não sou digno de ser chamado teu filho; faze-me como um dos teus jornal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ariseus e os escribas murmuravam, dizendo: Este recebe pecadores, e come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, foi para seu pai; e, quando ainda estava longe, viu-o seu pai, e se moveu de íntima compaixão e, correndo, lançou-se-lhe ao pescoço e o beij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lho lhe disse: Pai, pequei contra o céu e perante ti, e já não sou digno de ser chamado t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pai disse aos seus servos: Trazei depressa a melhor roupa; e vesti-lho, e ponde-lhe um anel na mão, e alparcas nos pé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zei o bezerro cevado, e matai-o; e comamos, e alegremo-n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e meu filho estava morto, e reviveu, tinha-se perdido, e foi achado. E começaram a alegra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filho mais velho estava no campo; e quando veio, e chegou perto de casa, ouviu a música e as da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 um dos servos, perguntou-lhe que era aqu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Veio teu irmão; e teu pai matou o bezerro cevado, porque o recebeu são e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se indignou, e não queria en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ndo o pai, instava com ele. Mas, respondendo ele, disse ao pai: Eis que te sirvo há tantos anos, sem nunca transgredir o teu mandamento, e nunca me deste um cabrito para alegrar-me com os meus amig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propôs esta parábol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rém, este teu filho, que desperdiçou os teus bens com as meretrizes, mataste-lhe o bezerro cev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Filho, tu sempre estás comigo, e todas as minhas coisas são tu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ra justo alegrarmo-nos e folgarmos, porque este teu irmão estava morto, e reviveu; e tinha-se perdido, e ach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homem dentre vós, tendo cem ovelhas, e perdendo uma delas, não deixa no deserto as noventa e nove, e não vai após a perdida até que venha a achá-l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ndo-a, a põe sobre os seus ombros, gosto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a casa, convoca os amigos e vizinhos, dizendo-lhes: Alegrai-vos comigo, porque já achei a minha ovelha per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-vos que assim haverá alegria no céu por um pecador que se arrepende, mais do que por noventa e nove justos que não necessitam de arrep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qual a mulher que, tendo dez dracmas, se perder uma dracma, não acende a candeia, e varre a casa, e busca com diligência até a ach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ndo-a, convoca as amigas e vizinhas, dizendo: Alegrai-vos comigo, porque já achei a dracma per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1:33Z</dcterms:created>
  <dc:creator>Admin</dc:creator>
  <dc:description/>
  <dc:language>en-US</dc:language>
  <cp:lastModifiedBy>Admin</cp:lastModifiedBy>
  <dcterms:modified xsi:type="dcterms:W3CDTF">2008-07-31T00:11:33Z</dcterms:modified>
  <cp:revision>1</cp:revision>
  <dc:subject/>
  <dc:title>Slide 1</dc:title>
</cp:coreProperties>
</file>