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755-BBCA-4CB4-991E-2725EEA3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6F6-BEB2-4BAF-9955-F962EEB0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0DB-EE0D-49D1-87F6-E3D1650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3C4-5D01-42AC-AFE5-81CD8D63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4A4-5EDE-4183-B1E9-77F913F7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361-3257-4ADC-87AE-0B3A994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F07-C3A7-4323-B19C-CD4A2281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689-C3CF-4079-AC8F-6C96FA7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23A-95C9-4B90-A8C3-67395F1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FA9-B8BE-4954-A9DE-C8485C61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811-E6A1-4F39-9208-0DFD043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7F7-8692-4F27-858F-717A785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3118-BF75-4599-A68E-F012F7BA6F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Deus, espera o louvor em Sião, e a ti se pagará o v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es de água os seus sulcos; tu lhe aplanas as leivas; tu a amoleces com a muita chuva; abençoas as suas nov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oas o ano com a tua bondade, e as tuas veredas destilam gor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ilam sobre os pastos do deserto, e os outeiros os cingem 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mpos se vestem de rebanhos, e os vales se cobrem de trigo; eles se regozijam e can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tu que ouves as orações, a ti virá toda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valecem as iniqüidades contra mim; porém tu limpas as nossas transgres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a quem tu escolhes, e fazes chegar a ti, para que habite em teus átrios; nós seremos fartos da bondade da tua casa e do teu sant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coisas tremendas em justiça nos responderás, ó Deus da nossa salvação; tu és a esperança de todas as extremidades da terra, e daqueles que estão longe sobre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pela sua força consolida os montes, cingido de fortale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aplaca o ruído dos mares, o ruído das suas ondas, e o tumulto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habitam nos fins da terra temem os teus sinais; tu fazes alegres as saídas da manhã e da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visitas a terra, e a refrescas; tu a enriqueces grandemente com o rio de Deus, que está cheio de água; tu lhe preparas o trigo, quando assim a tens prepa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53Z</dcterms:created>
  <dc:creator>Admin</dc:creator>
  <dc:description/>
  <dc:language>en-US</dc:language>
  <cp:lastModifiedBy>Admin</cp:lastModifiedBy>
  <dcterms:modified xsi:type="dcterms:W3CDTF">2008-07-31T00:25:54Z</dcterms:modified>
  <cp:revision>1</cp:revision>
  <dc:subject/>
  <dc:title>Slide 1</dc:title>
</cp:coreProperties>
</file>