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E9B-5355-466C-BFEC-421F51DF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61E-9660-4BFC-B1B5-083954C7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9CD-9516-4D71-88C8-052B4112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AF7-9372-4FEA-A95A-135C9415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6CD-E048-44E6-9FC8-C3CEB275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06F-9687-4D21-917F-AA9ED830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DA9-F8AC-4DE0-8604-C0E5D4FA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455-FC9E-442C-B075-51A88656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82C-A770-4DF5-A920-4E0F036B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E2B-D6CB-497F-8C36-CD063047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0F8-6E4D-4A14-B163-BA7121D2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EFA-438B-417F-BAB2-3DA7AE18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F27B-7992-4944-839B-303CB095D37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quando o SENHOR estava para elevar a Elias num redemoinho ao céu, Elias partiu de Gilgal com Eli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Coisa difícil pediste; se me vires quando for tomado de ti, assim se te fará, porém, se não, não se f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indo eles andando e falando, eis que um carro de fogo, com cavalos de fogo, os separou um do outro; e Elias subiu ao céu num redemo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vendo Eliseu, clamou: Meu pai, meu pai, carros de Israel, e seus cavaleiros! E nunca mais o viu; e, pegando as suas vestes, rasgou-as em duas par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evantou a capa de Elias, que dele caíra; e, voltando-se, parou à margem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a capa de Elias, que dele caíra, e feriu as águas, e disse: Onde está o SENHOR Deus de Elias? Quando feriu as águas elas se dividiram de um ao outro lado; e Eliseu pas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-o, pois, os filhos dos profetas que estavam defronte em Jericó, disseram: O espírito de Elias repousa sobre Eliseu. E vieram-lhe ao encontro, e se prostraram diante dele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Eis que agora entre os teus servos há cinqüenta homens valentes; ora deixa-os ir para buscar a teu senhor; pode ser que o elevasse o Espírito do SENHOR e o lançasse em algum dos montes, ou em algum dos vales. Porém ele disse: Não os en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insistiram com ele, até que, constrangido, disse-lhes: Enviai. E enviaram cinqüenta homens, que o buscaram três dias, porém não o ach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oltaram para ele, pois ficara em Jericó; e disse-lhes: Eu não vos disse que não fosse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da cidade disseram a Eliseu: Eis que é boa a situação desta cidade, como o meu senhor vê; porém as águas são más, e a terra é estér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ias a Eliseu: Fica-te aqui, porque o SENHOR me enviou a Betel. Porém Eliseu disse: Vive o SENHOR, e vive a tua alma, que não te deixarei. E assim foram a Bet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Trazei-me um prato novo, e ponde nele sal. E lho troux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ele ao manancial das águas, e deitou sal nele; e disse: Assim diz o SENHOR: Sararei a estas águas; e não haverá mais nelas morte nem esteril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caram, pois, sãs aquelas águas, até ao dia de hoje, conforme a palavra que Eliseu tinha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ubiu dali a Betel; e, subindo ele pelo caminho, uns meninos saíram da cidade, e zombavam dele, e diziam-lhe: Sobe, calvo; sobe, calv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rando-se ele para trás, os viu, e os amaldiçoou no nome do SENHOR; então duas ursas saíram do bosque, e despedaçaram quarenta e dois daqueles meni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foi para o monte Carmelo de onde voltou para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os profetas que estavam em Betel saíram ao encontro de Eliseu, e lhe disseram: Sabes que o SENHOR hoje tomará o teu senhor por sobre a tua cabeça? E ele disse: Também eu bem o sei; calai-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as lhe disse: Eliseu, fica-te aqui, porque o SENHOR me enviou a Jericó. Porém ele disse: Vive o SENHOR, e vive a tua alma, que não te deixarei. E assim foram a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os profetas que estavam em Jericó se chegaram a Eliseu, e lhe disseram: Sabes que o SENHOR hoje tomará o teu SENHOR por sobre a tua cabeça? E ele disse: Também eu bem o sei; calai-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as disse: Fica-te aqui, porque o SENHOR me enviou ao Jordão. Mas ele disse: Vive o SENHOR, e vive a tua alma, que não te deixarei. E assim ambos foram ju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cinqüenta homens dos filhos dos profetas, e pararam defronte deles, de longe: e assim ambos pararam junto a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ias tomou a sua capa e a dobrou, e feriu as águas, as quais se dividiram para os dois lados; e passaram ambos em se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havendo eles passado, Elias disse a Eliseu: Pede-me o que queres que te faça, antes que seja tomado de ti. E disse Eliseu: Peço-te que haja porção dobrada de teu espírito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04Z</dcterms:created>
  <dc:creator>Admin</dc:creator>
  <dc:description/>
  <dc:language>en-US</dc:language>
  <cp:lastModifiedBy>Admin</cp:lastModifiedBy>
  <dcterms:modified xsi:type="dcterms:W3CDTF">2008-07-30T23:51:04Z</dcterms:modified>
  <cp:revision>1</cp:revision>
  <dc:subject/>
  <dc:title>Slide 1</dc:title>
</cp:coreProperties>
</file>