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529-1CF4-4AA0-B6C1-9A10F847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065-50F3-42E1-BFF8-0334E81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746-4870-4F21-A9A5-0A475F60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BC8-A35F-43FB-AE51-69E790DF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FA8-5184-4337-A057-F6509A2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6F4-A4FC-4C60-96C2-FD82E229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4B1-04A8-45CE-8916-6A20B3A3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31C-F500-4F92-95D7-074BD0C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88A-4FF9-4665-8C6B-2072691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1B8-88B4-4CEF-A482-1EAB13D5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6D6-1368-429B-903F-23EAA62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647-F17F-41B5-B023-21A7626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BC8-3C57-4B4A-B71D-F99440A96B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S do rei Lemuel, a profecia que lhe ensinou 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lher virtuosa quem a achará? O seu valor muito excede ao de rub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 seu marido está nela confiado; assim ele não necessitará de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 só lhe faz bem, e não mal,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 lã e linho, e trabalha de boa vontade com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navio mercante, ela traz de longe o seu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se, mesmo à noite, para dar de comer aos da casa, e distribuir a tarefa das ser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mina uma propriedade e adquire-a; planta uma vinha com o fruto de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ge os seus lombos de força, e fortalece os seus br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ê que é boa a sua mercadoria; e a sua lâmpada não se apaga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 as suas mãos ao fuso, e suas mãos pegam na r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filho meu? e como, filho do meu ventre? e como, filho dos meus vo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 a sua mão ao pobre, e estende as suas mãos ao necess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e a neve na sua casa, porque toda a sua família está vestida de escarl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para si cobertas de tapeçaria; seu vestido é de seda e de púrp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marido é conhecido nas portas, e assenta-se entre os anciã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panos de linho fino e vende-os, e entrega cintos aos mer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orça e a honra são seu vestido, e se alegrará com o dia fut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 a sua boca com sabedoria, e a lei da beneficência está na su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atenta ao andamento da casa, e não come o pão da pregu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m-se seus filhos e chamam-na bem-aventurada; seu marido também, e ele a lou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s filhas têm procedido virtuosamente, mas tu és, de todas, a mais excelen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ês às mulheres a tua força, nem os teus caminhos ao que destrói o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ganosa é a beleza e vã a formosura, mas a mulher que teme ao SENHOR, essa sim será louv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-lhe do fruto das suas mãos, e deixe o seu próprio trabalho louvá-la n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próprio dos reis, ó Lemuel, não é próprio dos reis beber vinho, nem dos príncipes o desejar bebida f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bebendo, se esqueçam da lei, e pervertam o direito de todos os afl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bebida forte ao que está prestes a perecer, e o vinho aos amargurados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beba, e esqueça da sua pobreza, e da sua miséria não se lembre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 a tua boca a favor do mudo, pela causa de todos que são designados à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 a tua boca; julga retamente; e faze justiça aos pobres e aos necessi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59Z</dcterms:created>
  <dc:creator>Admin</dc:creator>
  <dc:description/>
  <dc:language>en-US</dc:language>
  <cp:lastModifiedBy>Admin</cp:lastModifiedBy>
  <dcterms:modified xsi:type="dcterms:W3CDTF">2008-07-31T00:22:59Z</dcterms:modified>
  <cp:revision>1</cp:revision>
  <dc:subject/>
  <dc:title>Slide 1</dc:title>
</cp:coreProperties>
</file>