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15BB-8937-44D3-A33D-79DB80D26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5371-FF02-4EA4-81A1-66AFB9AF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1A88-2F2C-435F-8027-3FF06B202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2A56-AA4E-4D34-961C-65DA94DBD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EB41-8D03-4FEF-9ADA-695156F2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37CF-EBC9-41B2-8D8A-2E8C30BC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B90A-F93D-404A-BF9A-7672C341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FD1C-C2A1-4DCC-AD6E-8DCF57E4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7181-02FE-4846-8BFB-80608ACB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56B8-1F3E-4BEF-9C6E-6A6B38BD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DC36-16C7-48C9-B092-74544353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32B8-71A0-4EB1-9EB0-F0951760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AD97-F801-43A4-9B26-09F49C4E179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concluindo Jesus estes discursos, saiu da Galiléia, e dirigiu-se aos confins da Judéia, além do Jord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ram-lhe seus discípulos: Se assim é a condição do homem relativamente à mulher, não convém cas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, porém, lhes disse: Nem todos podem receber esta palavra, mas só aqueles a quem foi conced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há eunucos que assim nasceram do ventre da mãe; e há eunucos que foram castrados pelos homens; e há eunucos que se castraram a si mesmos, por causa do reino dos céus. Quem pode receber isto, receba-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rouxeram-lhe, então, alguns meninos, para que sobre eles pusesse as mãos, e orasse; mas os discípulos os repreendi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, porém, disse: Deixai os meninos, e não os estorveis de vir a mim; porque dos tais é o reino dos cé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endo-lhes imposto as mãos, partiu da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, aproximando-se dele um jovem, disse-lhe: Bom Mestre, que bem farei para conseguir a vida etern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disse-lhe: Por que me chamas bom? Não há bom senão um só, que é Deus. Se queres, porém, entrar na vida, guarda os mandam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 ele: Quais? E Jesus disse: Não matarás, não cometerás adultério, não furtarás, não dirás falso testemunh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onra teu pai e tua mãe, e amarás o teu próximo como a ti mes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guiram-no grandes multidões, e curou-as a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 o jovem: Tudo isso tenho guardado desde a minha mocidade; que me falta aind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 Jesus: Se queres ser perfeito, vai, vende tudo o que tens e dá-o aos pobres, e terás um tesouro no céu; e vem, e segue-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9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jovem, ouvindo esta palavra, retirou-se triste, porque possuía muitas proprie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9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então Jesus aos seus discípulos: Em verdade vos digo que é difícil entrar um rico no reino dos cé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9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outra vez vos digo que é mais fácil passar um camelo pelo fundo de uma agulha do que entrar um rico no rein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9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seus discípulos, ouvindo isto, admiraram-se muito, dizendo: Quem poderá pois salvar-s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9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, olhando para eles, disse-lhes: Aos homens é isso impossível, mas a Deus tudo é possív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9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Pedro, tomando a palavra, disse-lhe: Eis que nós deixamos tudo, e te seguimos; que receberem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9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 disse-lhes: Em verdade vos digo que vós, que me seguistes, quando, na regeneração, o Filho do homem se assentar no trono da sua glória, também vos assentareis sobre doze tronos, para julgar as doze trib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9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 aquele que tiver deixado casas, ou irmãos, ou irmãs, ou pai, ou mãe, ou mulher, ou filhos, ou terras, por amor de meu nome, receberá cem vezes tanto, e herdará a vida eter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hegaram ao pé dele os fariseus, tentando-o, e dizendo-lhe: É lícito ao homem repudiar sua mulher por qualquer motiv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9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muitos primeiros serão os derradeiros, e muitos derradeiros serão os primei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, porém, respondendo, disse-lhes: Não tendes lido que aquele que os fez no princípio macho e fêmea os fez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Portanto, deixará o homem pai e mãe, e se unirá a sua mulher, e serão dois numa só carn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não são mais dois, mas uma só carne. Portanto, o que Deus ajuntou não o separe o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ram-lhe eles: Então, por que mandou Moisés dar-lhe carta de divórcio, e repudiá-l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s ele: Moisés, por causa da dureza dos vossos corações, vos permitiu repudiar vossas mulheres; mas ao princípio não foi ass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vos digo, porém, que qualquer que repudiar sua mulher, não sendo por causa de fornicação, e casar com outra, comete adultério; e o que casar com a repudiada também comete adulté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5:25Z</dcterms:created>
  <dc:creator>Admin</dc:creator>
  <dc:description/>
  <dc:language>en-US</dc:language>
  <cp:lastModifiedBy>Admin</cp:lastModifiedBy>
  <dcterms:modified xsi:type="dcterms:W3CDTF">2008-07-31T00:15:25Z</dcterms:modified>
  <cp:revision>1</cp:revision>
  <dc:subject/>
  <dc:title>Slide 1</dc:title>
</cp:coreProperties>
</file>