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C4A-835E-4413-B9CE-BD768E8E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D55-E2CB-4AEB-879C-93B4DE44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ADBD-55FD-4BE6-992D-DB5F1C75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A447-4968-4616-94C5-A80F365D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F6A-38F7-46FB-9B1E-BBD2FAD8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0B1A-0CAC-4073-81BF-D74800BD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31C-B7E1-48C2-A6BF-8B78178C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2643-E37C-433D-8AF7-C3723883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BE8-FEB1-404D-8A54-AA19A7B3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F1D-1D30-46E6-BBFA-7FFDE41A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2880-41C6-4798-B717-BE102D25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0D20-E7BE-455C-9B50-A26E292F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58CF-D275-404E-85A1-AFE7F514AC7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quem habitará no teu tabernáculo? Quem morará no teu santo mon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anda sinceramente, e pratica a justiça, e fala a verdade no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não difama com a sua língua, nem faz mal ao seu próximo, nem aceita nenhum opróbrio contra o seu próxim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ujos olhos o réprobo é desprezado; mas honra os que temem ao SENHOR; aquele que jura com dano seu, e contudo não mu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não dá o seu dinheiro com usura, nem recebe peitas contra o inocente. Quem faz isto nunca será ab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23Z</dcterms:created>
  <dc:creator>Admin</dc:creator>
  <dc:description/>
  <dc:language>en-US</dc:language>
  <cp:lastModifiedBy>Admin</cp:lastModifiedBy>
  <dcterms:modified xsi:type="dcterms:W3CDTF">2008-07-31T00:24:23Z</dcterms:modified>
  <cp:revision>1</cp:revision>
  <dc:subject/>
  <dc:title>Slide 1</dc:title>
</cp:coreProperties>
</file>