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85A-EAD7-4373-A375-7475C61A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6BF-8A42-40A6-BBA0-1ACEBEDD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204-4A87-4969-B361-0C593BC1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044-8C91-47E7-B52A-317AFD0E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85D-B3C4-4998-9A2A-B73545FE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D04-A75E-4B55-8A22-BC2CBA1F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25E-2B79-4639-997E-8CAD3FE9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114-1338-4E86-89E9-22FA84AE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679-3618-4AEC-AB2D-D7CC9BB5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755-2C8A-4DED-8412-6C385613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D70-C9B1-4DCB-9598-2F521C64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48C-DB63-46B8-9580-AC695C0F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A23D-A423-4432-B2B7-58BF2AA0A04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vez começou a ensinar junto do mar, e ajuntou-se a ele grande multidão, de sorte que ele entrou e assentou-se num barco, sobre o mar; e toda a multidão estava em terra junto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se achou só, os que estavam junto dele com os doze interrogaram-no acerca da parábo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-lhes: A vós vos é dado saber os mistérios do reino de Deus, mas aos que estão de fora todas estas coisas se dizem por parábol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, vendo, vejam, e não percebam; e, ouvindo, ouçam, e não entendam; para que não se convertam, e lhes sejam perdoados 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Não percebeis esta parábola? Como, pois, entendereis todas as parábol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semeia, semeia a palav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s que estão junto do caminho são aqueles em quem a palavra é semeada; mas, tendo-a eles ouvido, vem logo Satanás e tira a palavra que foi semeada nos seus c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mesma forma os que recebem a semente sobre pedregais; os quais, ouvindo a palavra, logo com prazer a receb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têm raiz em si mesmos, antes são temporãos; depois, sobrevindo tribulação ou perseguição, por causa da palavra, logo se escandaliz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os são os que recebem a semente entre espinhos, os quais ouvem a palav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cuidados deste mundo, e os enganos das riquezas e as ambições de outras coisas, entrando, sufocam a palavra, e fica infrutíf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sinava-lhes muitas coisas por parábolas, e lhes dizia na sua doutrin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recebem a semente em boa terra são os que ouvem a palavra e a recebem, e dão fruto, um a trinta, outro a sessenta, outro a cem, por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Vem porventura a candeia para se meter debaixo do alqueire, ou debaixo da cama? não vem antes para se colocar no velad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ada há encoberto que não haja de ser manifesto; e nada se faz para ficar oculto, mas para ser descob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tem ouvidos para ouvir, ou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Atendei ao que ides ouvir. Com a medida com que medirdes vos medirão a vós, e ser-vos-á ainda acrescentada a vós que ouv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o que tem, ser-lhe-á dado; e, ao que não tem, até o que tem lhe será ti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: O reino de Deus é assim como se um homem lançasse semente à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rmisse, e se levantasse de noite ou de dia, e a semente brotasse e crescesse, não sabendo ele co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terra por si mesma frutifica, primeiro a erva, depois a espiga, por último o grão cheio na espi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já o fruto se mostra, mete-se-lhe logo a foice, porque está chegada a ceif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: Eis que saiu o semeador a seme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: A que assemelharemos o reino de Deus? ou com que parábola o representare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como um grão de mostarda, que, quando se semeia na terra, é a menor de todas as sementes que há n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tendo sido semeado, cresce; e faz-se a maior de todas as hortaliças, e cria grandes ramos, de tal maneira que as aves do céu podem aninhar-se debaixo da sua som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muitas parábolas tais lhes dirigia a palavra, segundo o que podiam compreen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m parábolas nunca lhes falava; porém, tudo declarava em particular aos seu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quele dia, sendo já tarde, disse-lhes: Passemos para o outro 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, deixando a multidão, o levaram consigo, assim como estava, no barco; e havia também com ele outros barqu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grande temporal de vento, e subiam as ondas por cima do barco, de maneira que já se ench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estava na popa, dormindo sobre uma almofada, e despertaram-no, dizendo-lhe: Mestre, não se te dá que pereça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despertando, repreendeu o vento, e disse ao mar: Cala-te, aquieta-te. E o vento se aquietou, e houve grande bon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semeando ele, uma parte da semente caiu junto do caminho, e vieram as aves do céu, e a comer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Por que sois tão tímidos? Ainda não tendes fé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ntiram um grande temor, e diziam uns aos outros: Mas quem é este, que até o vento e o mar lhe obedec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caiu sobre pedregais, onde não havia muita terra, e nasceu logo, porque não tinha terra profun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aindo o sol, queimou-se; e, porque não tinha raiz, sec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caiu entre espinhos e, crescendo os espinhos, a sufocaram e não deu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caiu em boa terra e deu fruto, que vingou e cresceu; e um produziu trinta, outro sessenta, e outro c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Quem tem ouvidos para ouvir, ou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2:54Z</dcterms:created>
  <dc:creator>Admin</dc:creator>
  <dc:description/>
  <dc:language>en-US</dc:language>
  <cp:lastModifiedBy>Admin</cp:lastModifiedBy>
  <dcterms:modified xsi:type="dcterms:W3CDTF">2008-07-31T00:12:54Z</dcterms:modified>
  <cp:revision>1</cp:revision>
  <dc:subject/>
  <dc:title>Slide 1</dc:title>
</cp:coreProperties>
</file>