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F73-9111-4C86-A693-699BC6B9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B27-6135-46A4-8063-1EBFCE6E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36B-7E95-4115-B4D7-A5705737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0A8-5244-4693-9539-79A89DF2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029-4A6F-4A0F-BD08-D36101DA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A4C-1A09-46CC-A7A2-3A0BCAA4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027-5E2E-4091-8758-C7D9C01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D50-7142-413D-A516-ADAFF938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950-20DC-4088-B99B-079816E8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78F-ECDC-4836-82BD-22D02001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524-8D1C-48AA-8434-7DA9825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B7D-5C02-4FDB-BC90-712CEF4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94E4-C0E2-48B0-B32D-7BCD9A8C42A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 satisfazer seu próprio desejo aquele que se isola; ele se insurge contra tod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re forte é o nome do SENHOR; a ela correrá o justo, e estará em alto refúg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bens do rico são a sua cidade forte, e como uma muralha na sua imag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o homem se exalta antes de ser abatido e diante da honra vai a humi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responde antes de ouvir comete estultícia que é para vergonha s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írito do homem susterá a sua enfermidade, mas ao espírito abatido, quem o suport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o entendido adquire o conhecimento, e o ouvido dos sábios busca 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presentes o homem alarga o seu caminho e o eleva diante dos gra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pleiteia por algo, a princípio parece justo, porém vem o seu próximo e o exam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orte faz cessar os pleitos, e faz separação entre os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irmão ofendido é mais difícil de conquistar do que uma cidade forte; e as contendas são como os ferrolhos de um palá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olo não tem prazer na sabedoria, mas só em que se manifeste aquilo que agrada 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fruto da boca de cada um se fartará o seu ventre; dos renovos dos seus lábios ficará satis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orte e a vida estão no poder da língua; e aquele que a ama comerá d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encontra uma esposa, acha o bem, e alcança a benevolênci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bre fala com rogos, mas o rico responde com du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de muitos amigos deve mostrar-se amigável, mas há um amigo mais chegado do que um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 o ímpio, vem também o desprezo, e com a ignomínia a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Águas profundas são as palavras da boca do homem, e ribeiro transbordante é a fonte d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bom favorecer o ímpio, e com isso, fazer o justo perder a ques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ábios do tolo entram na contenda, e a sua boca brada por aço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oca do tolo é a sua própria destruição, e os seus lábios um laço para a s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o mexeriqueiro são como doces bocados; elas descem ao íntimo do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é negligente na sua obra é também irmão do desperdiç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07Z</dcterms:created>
  <dc:creator>Admin</dc:creator>
  <dc:description/>
  <dc:language>en-US</dc:language>
  <cp:lastModifiedBy>Admin</cp:lastModifiedBy>
  <dcterms:modified xsi:type="dcterms:W3CDTF">2008-07-31T00:22:07Z</dcterms:modified>
  <cp:revision>1</cp:revision>
  <dc:subject/>
  <dc:title>Slide 1</dc:title>
</cp:coreProperties>
</file>