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4F7-A948-4930-989F-02F40015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87D-30EE-4D81-8B22-A185D409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C53-3DCE-43F6-A904-EAD13F1E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36C-E477-4172-BEFD-A419B0B3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ABB-260F-4BA8-8737-F80B1A42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0E2-61C5-4A16-A428-8CDD672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5E8-BC6B-44FB-8CB0-80D4C20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E0E-1BE4-45F1-84BF-AC8773BF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EBE-3C43-47E5-9AF4-72F199AD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552-D619-49E2-8440-1CFE30C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911-2D20-413B-A120-EC5D467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660-F6BC-41CF-A590-AB9830C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546-045E-46CF-AC96-86C391533EA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Joás sete anos de idade quando começou a reinar, e quarenta anos reinou em Jerusalém; e era o nome da sua mãe Zibia, de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príncipes e todo o povo se alegraram, e o trouxeram e o lançaram no cofre, até que ficou ch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ia que, quando levavam o cofre pelas mãos dos levitas, segundo o mandado do rei, e vendo-se que já havia muito dinheiro, vinha o escrivão do rei, e o oficial do sumo sacerdote, e esvaziavam o cofre, e tomavam-no e levavam-no de novo ao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o rei e Joiada davam aos que tinham o encargo da obra do serviço da casa do SENHOR; e contrataram pedreiros e carpinteiros, para renovarem a casa do SENHOR; como também ferreiros e serralheiros, para repararem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tinham o encargo da obra faziam com que o trabalho de reparação fosse crescendo pelas suas mãos; e restauraram a casa de Deus no seu estado, e a fortal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 acabarem, trouxeram ao rei e a Joiada o resto do dinheiro, e dele fizeram utensílios para a casa do SENHOR, objetos para ministrar e oferecer, colheres, vasos de ouro e de prata. E continuamente sacrificaram holocaustos na casa do SENHOR, 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elheceu Joiada, e morreu farto de dias; era da idade de cento e trinta anos quando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pultaram na cidade de Davi com os reis; porque tinha feito bem em Israel, e para com Deus e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depois da morte de Joiada vieram os príncipes de Judá e prostraram-se perante o rei; e o rei os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aram a casa do SENHOR Deus de seus pais, e serviram às imagens do bosque e aos ídolos. Então, por causa desta sua culpa, veio grande ira sobre Judá 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nviou profetas entre eles, para os reconduzir ao SENHOR, os quais protestaram contra eles; mas eles não deram ouv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Joás o que era reto aos olhos do SENHOR, todos os dias do sacerdote Joi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e Deus revestiu a Zacarias, filho do sacerdote Joiada, o qual se pôs em pé acima do povo, e lhes disse: Assim diz Deus: Por que transgredis os mandamentos do SENHOR, de modo que não possais prosperar? Porque deixastes ao SENHOR, também 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conspiraram contra ele, e o apedrejaram por mandado do rei, no páti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rei Joás não se lembrou da beneficência que Joiada, pai de Zacarias, lhe fizera; porém matou-lhe o filho, o qual, morrendo, disse: O SENHOR o verá, e o reque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corrido um ano, o exército da Síria subiu contra ele; e vieram a Judá e a Jerusalém, e destruíram dentre o povo a todos os seus príncipes; e enviaram todo o seu despojo ao rei de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o exército dos sírios viera com poucos homens, contudo o SENHOR entregou na sua mão um exército mui numeroso, porquanto deixaram ao SENHOR Deus de seus pais. Assim executaram juízos contra Jo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sírios se retiraram, deixaram-no gravemente ferido; então seus servos conspiraram contra ele por causa do sangue do filho do sacerdote Joiada, e o feriram na sua cama, e morreu; e o sepultaram na cidade de Davi, porém não nos sepulcros dos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foram os que conspiraram contra ele; Zabade, filho de Simeate, a amonita, e Jeozabade, filho de Sinrite, a moab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 seus filhos, e à grandeza do cargo que se lhe impôs, e à restauração da casa de Deus, eis que estão escritos no livro da história dos reis; e Amazias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lhe Joiada duas mulhere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isto, Joás resolveu renovar 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uniu, pois, os sacerdotes e os levitas, e disse-lhes: Saí pelas cidades de Judá, e levantai dinheiro de todo o Israel para reparar a casa do vosso Deus de ano em ano; e vós, apressai este negócio. Porém os levitas não se apres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chamou a Joiada, o chefe, e disse-lhe: Por que não requereste dos levitas, que trouxessem de Judá e de Jerusalém o tributo que Moisés, servo do SENHOR, ordenou à congregação de Israel, para a tenda do testemu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ndo Atalia ímpia, seus filhos arruinaram a casa de Deus, e até todas as coisas sagradas da casa do SENHOR empregaram em Baal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, pois, deu ordem e fizeram um cofre, e o puseram fora, à porta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blicou-se em Judá e em Jerusalém que trouxessem ao SENHOR o tributo de Moisés, o servo de Deus, ordenado a Israel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07Z</dcterms:created>
  <dc:creator>Admin</dc:creator>
  <dc:description/>
  <dc:language>en-US</dc:language>
  <cp:lastModifiedBy>Admin</cp:lastModifiedBy>
  <dcterms:modified xsi:type="dcterms:W3CDTF">2008-07-30T23:50:07Z</dcterms:modified>
  <cp:revision>1</cp:revision>
  <dc:subject/>
  <dc:title>Slide 1</dc:title>
</cp:coreProperties>
</file>