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C7C9-EB6D-495C-A6FF-52CD7002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18D-F2B9-443E-912A-073C3189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51C-C103-416F-A1FE-509AA298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8023-86C2-411C-A866-EB002CE3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D4C-BB71-4065-8B7C-F9032DFF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4F12-6AAF-44C4-BE38-FC904F81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60D-B88D-4251-B308-0ABA71A4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DE1F-70CB-4400-B34E-C63C4B12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D52-202A-4ABB-9456-CDDFF2CD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497-3B3B-4232-B183-BE5284C7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CAC-1122-452A-A7A0-BC15E905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DADC-3FCC-457D-842F-4A5A3546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C075-8045-406F-8BB2-FCB0B0D5E7F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isto também treme o meu coração, e salta d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sopro de Deus se dá a geada, e as largas águas se congel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e umidade carrega as grossas nuvens, e esparge as nuvens com a su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as, segundo o seu prudente conselho, se espalham em redor, para que façam tudo quanto lhes ordena sobre a superfície do mundo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 que por vara, ou para a sua terra, ou por misericórdia as faz 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isto, ó Jó, inclina os teus ouvidos; para, e considera as maravilha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sabes tu como Deus as opera, e faz resplandecer a luz da sua nuv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s tu notícia do equilíbrio das grossas nuvens e das maravilhas daquele que é perfeito nos conheciment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de como as tuas roupas aquecem, quando do sul há calma sobre a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estendeste com ele os céus, que estão firmes como espelho fundi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sina-nos o que lhe diremos: porque nós nada poderemos pôr em boa ordem, por causa das tre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entamente ouvi a indignação da sua voz, e o sonido que sai da su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ar-lhe-ia alguém o que tenho falado? Ou desejaria um homem que ele fosse devor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não se pode olhar para o sol, que resplandece nas nuvens, quando o vento, tendo passado, o deixa li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splendor de ouro vem do norte; pois, em Deus há uma tremenda majest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Todo-Poderoso não podemos alcançar; grande é em poder; porém a ninguém oprime em juízo e grandeza de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 temem os homens; ele não respeita os que se julgam sábios de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o envia por debaixo de todos os céus, e a sua luz até aos confin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 ruge uma voz; ele troveja com a sua voz majestosa; e ele não os detém quando a sua voz é ou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a sua voz troveja Deus maravilhosamente; faz grandes coisas, que nós não podemos compreen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à neve diz: Cai sobre a terra; como também à garoa e à sua forte chu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sela as mãos de todo o homem, para que conheçam todos os homens a su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feras entram nos seus esconderijos e ficam nas suas caver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recâmara do sul sai o tufão, e do norte o f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2:16Z</dcterms:created>
  <dc:creator>Admin</dc:creator>
  <dc:description/>
  <dc:language>en-US</dc:language>
  <cp:lastModifiedBy>Admin</cp:lastModifiedBy>
  <dcterms:modified xsi:type="dcterms:W3CDTF">2008-07-31T00:02:16Z</dcterms:modified>
  <cp:revision>1</cp:revision>
  <dc:subject/>
  <dc:title>Slide 1</dc:title>
</cp:coreProperties>
</file>