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7E0-800D-4FE4-81BE-3168D245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C53-E4E0-42B2-AE43-3C057F46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803-1F75-4D87-995B-68823193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0E4-3CCC-4309-B188-73E26A6A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E9C-824D-4A07-B3F6-D6878019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F609-86AE-4BBF-AA23-DD69478C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17A-7546-4F16-BD04-2FACC862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6B0-DE53-4F87-8B41-54132265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D60-101E-4004-A482-1F22A08A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A48-FD97-4538-8221-A40D3969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0D8-5214-4D6A-A1E7-648C9151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FDB-5895-4272-B32C-3AD7DF06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361A-ACED-41EF-A8C9-E9702FB69E1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o pobre que anda na sua integridade do que o perverso de lábios e to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tolo não é certo gozar de deleites; quanto menos ao servo dominar sobre os príncipe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rudência do homem faz reter a sua ira, e é glória sua o passar por cima da transgr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rugido do leão jovem é a indignação do rei, mas como o orvalho sobre a relva é a sua benevol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ilho insensato é uma desgraça para o pai, e um gotejar contínuo as contendas d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asa e os bens são herança dos pais; porém do SENHOR vem a esposa pru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reguiça faz cair em profundo sono, e a alma indolente padecerá f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guardar o mandamento guardará a sua alma; porém o que desprezar os seus caminhos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SENHOR empresta o que se compadece do pobre, ele lhe pagará o seu benefí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stiga o teu filho enquanto há esperança, mas não deixes que o teu ânimo se exalte até o ma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de grande indignação deve sofrer o dano; porque se tu o livrares ainda terás de tornar a fazê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não é bom ficar a alma sem conhecimento, peca aquele que se apressa com s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 o conselho, e recebe a correção, para que no fim sejas sáb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s propósitos há no coração do homem, porém o conselho do SENHOR perman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o homem mais deseja é o que lhe faz bem; porém é melhor ser pobre do que menti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mor do SENHOR encaminha para a vida; aquele que o tem ficará satisfeito, e não o visitará mal nenh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eguiçoso esconde a sua mão ao seio; e não tem disposição nem de torná-la à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çoita o escarnecedor, e o simples tomará aviso; repreende ao entendido, e aprenderá conhe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flige o seu pai, ou manda embora sua mãe, é filho que traz vergonha e deson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meu, ouvindo a instrução, cessa de te desviares das palavras do conhe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ímpio escarnece do juízo, e a boca dos perversos devora 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parados estão os juízos para os escarnecedores, e os açoites para as costas dos t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tultícia do homem perverterá o seu caminho, e o seu coração se irará contr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riquezas granjeiam muitos amigos, mas ao pobre, o seu próprio amigo o deix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alsa testemunha não ficará impune e o que respira mentiras não escap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s se deixam acomodar pelos favores do príncipe, e cada um é amigo daquele que dá pres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irmãos do pobre o odeiam; quanto mais se afastarão dele os seus amigos! Corre após eles com palavras, que não servem de 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dquire entendimento ama a sua alma; o que cultiva a inteligência achará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alsa testemunha não ficará impune; e o que profere mentiras pe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2:11Z</dcterms:created>
  <dc:creator>Admin</dc:creator>
  <dc:description/>
  <dc:language>en-US</dc:language>
  <cp:lastModifiedBy>Admin</cp:lastModifiedBy>
  <dcterms:modified xsi:type="dcterms:W3CDTF">2008-07-31T00:22:11Z</dcterms:modified>
  <cp:revision>1</cp:revision>
  <dc:subject/>
  <dc:title>Slide 1</dc:title>
</cp:coreProperties>
</file>