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479-63D2-4A76-99BD-41EC9F93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5AC-77F0-4DDB-9B04-93449E8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290-E59C-4283-A747-EF374FFF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839-7F91-4FDB-AA9F-E12E8262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90A-74C7-4A7D-B8ED-68CCBFD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B64-F741-4A58-A2B3-FE0FF21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72D-0785-49DC-AA9F-EDDE4AC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62C-69EA-49B5-BD40-B360814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8D1-AA95-4069-8897-C561D809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308-EB71-4297-A095-DEEBCDD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7CE-D8EB-4CF7-9AF9-95CA351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D30-E883-4EF0-8FCE-8FB36F2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DCC3-9371-4F3A-8BD3-AF8B6F7E1E9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são os reis da terra, aos quais os filhos de Israel feriram e cujas terras possuíram além do Jordão para o nascente do sol, desde o ribeiro de Arnom, até ao monte de Hermom, e toda a planície do ori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Jerusalém, outro; o rei de Hebrom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Jarmute, outro; o rei de Laquis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Eglom, outro; o rei de Geser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Debir, outro; o rei de Geder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Hormá, outro; o rei de Harade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Libna, outro; o rei de Adulão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Maquedá, outro; o rei de Betel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Tapua, outro; o rei de Hefer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Afeque, outro; o rei de Lassarom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Madom, outro; o rei de Hazor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om, rei dos amorreus, que habitava em Hesbom e que dominava desde Aroer, que está à beira do ribeiro de Arnom, e desde o meio do ribeiro, e a metade de Gileade, e até ao ribeiro de Jaboque, o termo d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Sinrom-Meron, outro; o rei de Acsafe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Taanaque, outro; o rei de Megido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Quedes, outro; o rei de Jocneão do Carmelo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Dor no outeiro de Dor, outro; o rei de Goiim em Gilgal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Tirza, outro; trinta e um reis ao to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a campina até ao mar de Quinerete para o oriente, e até ao mar da campina, o Mar Salgado para o oriente, pelo caminho de Bete-Jesimote; e desde o sul, abaixo de Asdote-Pis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o termo de Ogue, rei de Basã que era do restante dos gigantes e que habitava em Astarote e em Edre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minava no monte Hermom, e em Salcá, e em toda a Basã, até ao termo dos gesureus e dos maacateus, e metade de Gileade, termo de Siom, rei de Hes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s Moisés, servo do SENHOR, e os filhos de Israel, feriram; e Moisés, servo do SENHOR, deu esta terra em possessão aos rubenitas, e aos gaditas, e à meia tribo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reis da terra aos quais Josué e os filhos de Israel feriram aquém do Jordão para o ocidente, desde Baal-Gade, no vale do Líbano, até ao monte Halaque, que sobe a Seir; e Josué a deu às tribos de Israel em possessão, segundo as suas divisõ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havia nas montanhas, e nas planícies, e nas campinas, e nas descidas das águas, e no deserto, e para o sul: o heteu, o amorreu, e o cananeu, o perizeu, o heveu, e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de Jericó, um; o rei de Ai, que está ao lado de Betel,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26Z</dcterms:created>
  <dc:creator>Admin</dc:creator>
  <dc:description/>
  <dc:language>en-US</dc:language>
  <cp:lastModifiedBy>Admin</cp:lastModifiedBy>
  <dcterms:modified xsi:type="dcterms:W3CDTF">2008-07-31T00:05:26Z</dcterms:modified>
  <cp:revision>1</cp:revision>
  <dc:subject/>
  <dc:title>Slide 1</dc:title>
</cp:coreProperties>
</file>