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2F4-6C61-4603-A7E3-E06AF9DA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012-4C36-41E2-8A66-EC29C067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D63-5D0D-463C-831E-42B6E899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0D4-3EDD-4BF8-B720-E04BAEAD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7D7-66E1-4AE3-AC0F-01D1379E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22F-E49F-46E6-B19C-9544C75E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85A-98A3-43F1-B1D4-F1E851CC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B93-1B7B-4C5B-B4A5-02F48A64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624-B96C-444E-9EED-E32E3F75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A09-68AF-4F8A-8AF6-945600C2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FAE-B60F-4409-AEC5-3DE6D7B8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7BE-A389-4036-83C5-C69EEDC7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6A36-9679-4946-9637-D07BB8EE20C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Levi foram: Gérson, Coate e Merar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anã gerou a Azarias; e este é o que exerceu o sacerdócio na casa que Salomão tinha edificado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zarias gerou a Amarias, e Amarias gerou a Aitu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tube gerou a Zadoque, e Zadoque gerou a Salu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um gerou a Hilquias, e Hilquias gerou a Azar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zarias gerou a Seraías, e Seraías gerou a Jeozada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zadaque foi levado cativo quando o SENHOR levou presos a Judá e a Jerusalém pela mão de Nabucodonos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Levi foram, pois, Gérson, Coate, e Mera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nomes dos filhos de Gérson: Libni e Sim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Coate: Anrão, Izar, Hebrom, e Uz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Merari: Mali e Musi; estas são as famílias dos levitas, segundo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Coate: Anrão, e Izar, e Hebrom, e Uz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Gérson: Libni, seu filho; Jaate, seu filho; Zima, seu fi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á, seu filho; Ido, seu filho; Zerá, seu filho; Jeatarai,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Coate foram: Aminadabe, seu filho; Coré, seu filho; Assir, seu fi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cana, seu filho; Ebiasafe, seu filho; Assir, seu fi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ate, seu filho; Uriel, seu filho; Uzias, seu filho; e Saul,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Elcana: Amasai e Aim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Elcana: os filhos de Elcana foram Zofai, seu filho; e seu filho Na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 filho Eliabe, seu filho Jeroão, seu filho Elca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Samuel: Joel, seu primogênito, e o segundo Ab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Merari: Mali, seu filho Libni, seu filho Simei, seu filho Uz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Anrão: Arão, Moisés, e Miriã; e os filhos de Arão: Nadabe, Abiú, Eleazar, e It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 filho Siméia, seu filho Hagias, seu filho Asaí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, pois, os que Davi constituiu para o ofício do canto na casa do SENHOR, depois que a arca teve repou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inistravam diante do tabernáculo da tenda da congregação com cantares, até que Salomão edificou a casa do SENHOR em Jerusalém; e estiveram, segundo o seu costume, no seu minis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, pois, os que ali estavam com seus filhos: dos filhos dos coatitas, Hemã, o cantor, filho de Joel, filho de Samu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Elcana, filho de Jeroão, filho de Eliel, filho de To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Zufe, filho de Elcana, filho de Maate, filho de Amas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Elcana, filho de Joel, filho de Azarias, filho de Sofon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Taate, filho de Assir, filho de Ebiasafe, filho de Coré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Isar, filho de Coate, filho de Levi, filh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 irmão Asafe estava à sua direita; e era Asafe filho de Berequias, filho de Simé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azar gerou a Finéias, e Finéias gerou a Abisu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Micael, filho de Baaséias, filho de Malqu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Etni, filho de Zerá, filho de Adaí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Etã, filho de Zima, filho de Sim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Jaate, filho de Gérson, filho de L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, os filhos de Merari, estavam à esquerda; a saber: Etã, filho de Quisi, filho de Abdi, filho de Malu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Hasabias, filho de Amazias, filho de Hilqu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Anzi, filho de Bani, filho de Sem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 de Mali, filho de Musi, filho de Merari, filho de L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, os levitas, foram postos para todo o ministério do tabernáculo d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e seus filhos ofereceram sobre o altar do holocausto e sobre o altar do incenso, por todo o serviço do lugar santíssimo, e para fazer expiação por Israel, conforme tudo quanto Moisés, servo de Deus, tinha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sua gerou a Buqui, e Buqui gerou a Uz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foram os filhos de Arão: seu filho Eleazar, seu filho Finéias, seu filho Abis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 filho Buqui, seu filho Uzi, seu filho Seraí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 filho Meraiote, seu filho Amarias, seu filho Aitu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 filho Zadoque, seu filho Aima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foram as suas habitações, segundo os seus acampamentos, nos seus termos, a saber: dos filhos de Arão, da família dos coatitas, porque a eles caiu a s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am-lhes, pois, a Hebrom, na terra de Judá, e os arrabaldes que a rod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território da cidade e as suas aldeias deram a Calebe, filho de Jefon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filhos de Arão deram as cidades de refúgio: Hebrom e Libna e os seus arrabaldes, e Jatir e Estemoa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ilém, e os seus arrabaldes, Debir e os seus arrabal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ã e os seus arrabaldes, e Bete-Semes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zi gerou a Zeraías, e Zeraías gerou a Merai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Benjamim, Geba e os seus arrabaldes, Alemete e os seus arrabaldes, e Anatote e os seus arrabaldes; todas as suas cidades, pelas suas famílias, foram tre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filhos de Coate, que restaram da sua família, tiveram, por sorte, dez cidades da meia tribo de Mana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Gérson, segundo as suas famílias, tiveram treze cidades da tribo de Issacar, e da tribo de Aser, e da tribo de Naftali e da tribo de Manassés, em Ba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Merari, segundo as suas famílias, tiveram, por sorte, doze cidades da tribo de Rúben, e da tribo de Gade, e da tribo de Zebul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filhos de Israel deram aos levitas estas cidades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-lhes por sorte estas cidades, da tribo dos filhos de Judá, da tribo dos filhos de Simeão, e da tribo dos filhos de Benjamim, às quais deram os seus no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o mais das famílias dos filhos de Coate, se lhes deram, da tribo de Efraim as cidades d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lhes deram as cidades de refúgio, Siquém e os seus arrabaldes, nas montanhas de Efraim, como também Gezer e os seus arrabal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cmeão e os seus arrabaldes, Bete-Horom e os seus arrabal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jalom e os seus arrabaldes, Gate-Rimom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raiote gerou a Amarias, e Amarias gerou a Aitu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meia tribo de Manassés, Aner e os seus arrabaldes, e Bileã e os seus arrabaldes; estas cidades tiveram os que ficaram da família dos filhos de Co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7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Gérson tiveram, da família da meia tribo de Manassés, Golã, em Basã, e os seus arrabaldes, e Astarote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7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Issacar, Quedes e os seus arrabaldes, e Daberate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amote e os seus arrabaldes, e Aném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7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Aser, Masal e os seus arrabaldes, e Abdom e os seus arrabal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7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ucoque e os seus arrabaldes, e Reobe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7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Naftali, Quedes, em Galiléia, e os seus arrabaldes, Hamom e os seus arrabaldes e Quiriataim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7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ficaram dos filhos de Merari tiveram, da tribo de Zebulom, a Rimom e os seus arrabaldes, a Tabor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7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ém do Jordão, na altura de Jericó, ao oriente do Jordão, da tribo de Rúben, a Bezer, no deserto, e os seus arrabaldes, e a Jaza e os seus arrabal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7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Quedemote e os seus arrabaldes, e a Mefaate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tube gerou a Zadoque, e Zadoque gerou a Aimaá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8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Gade, a Ramote, em Gileade, e os seus arrabaldes, e Maanaim e os seus arrabal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8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Hesbom e os seus arrabaldes, e a Jazer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maás gerou a Azarias, e Azarias gerou a Joan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2:37Z</dcterms:created>
  <dc:creator>Admin</dc:creator>
  <dc:description/>
  <dc:language>en-US</dc:language>
  <cp:lastModifiedBy>Admin</cp:lastModifiedBy>
  <dcterms:modified xsi:type="dcterms:W3CDTF">2008-07-30T23:42:37Z</dcterms:modified>
  <cp:revision>1</cp:revision>
  <dc:subject/>
  <dc:title>Slide 1</dc:title>
</cp:coreProperties>
</file>