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158-952C-46C8-95A0-90069993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97F-0E47-4C7B-A819-C189B2BD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A53-1900-4F93-BEB3-F4910ED0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182-D14D-44A5-A2D9-257C8880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C08-4F18-4C24-BBA6-8018D6C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DD9-C981-4EE1-8827-BFBCFEB9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5E5-D389-46ED-9A45-491C4EC1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384-2C30-4709-9C77-1478808C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AF6-34D3-4128-8D54-19A036E8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2B4-C82E-497F-91E5-D0D78CD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883-592C-4851-B23E-4211EE7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091-6264-4904-9FA7-DE4AFA5B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EEC1-74BD-4736-9D5E-87E824BC35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SENHOR não edificar a casa, em vão trabalham os que a edificam; se o SENHOR não guardar a cidade, em vão vigia a senti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útil vos será levantar de madrugada, repousar tarde, comer o pão de dores, pois assim dá ele aos seus amados 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filhos são herança do SENHOR, e o fruto do ventre o seu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lechas na mão de um homem poderoso, assim são os filhos d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enche deles a sua aljava; não serão confundidos, mas falarão com os seus inimigos à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2Z</dcterms:created>
  <dc:creator>Admin</dc:creator>
  <dc:description/>
  <dc:language>en-US</dc:language>
  <cp:lastModifiedBy>Admin</cp:lastModifiedBy>
  <dcterms:modified xsi:type="dcterms:W3CDTF">2008-07-31T00:28:22Z</dcterms:modified>
  <cp:revision>1</cp:revision>
  <dc:subject/>
  <dc:title>Slide 1</dc:title>
</cp:coreProperties>
</file>