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4B6-C0FB-415E-99B9-70346FE0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015-9571-43D6-92BA-85DE5D05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466-EB7B-4122-89A1-E09DA12C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FC8-B630-4408-892D-6FAF6F5A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F9E-EE49-49CE-A980-51B8700A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9A1-ED6C-48B6-9B89-729BAE09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9A5-CFF7-406B-875F-79ED295D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38F-93DF-4566-BE3F-55288D77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0D0-95F1-4881-A5F8-CF26FE4E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33B-0856-46F8-972A-1D4162FC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0FE-BCAD-4F3D-8A84-7B3CE434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452-4C98-43EE-A915-4B65FD67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2454-D2EA-4459-92C4-06CF001DFC1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eixou-se o povo falando o que era mal aos ouvidos do SENHOR; e ouvindo o SENHOR a sua ira se acendeu; e o fogo do SENHOR ardeu entre eles e consumiu os que estavam na última parte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ouviu chorar o povo pelas suas famílias, cada qual à porta da sua tenda; e a ira do SENHOR grandemente se acendeu, e pareceu mal aos olhos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 ao SENHOR: Por que fizeste mal a teu servo, e por que não achei graça aos teus olhos, visto que puseste sobre mim o cargo de todo este po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cebi eu porventura todo este povo? Dei-o eu à luz? para que me dissesses: leva-o ao teu colo, como a ama leva a criança que mama, à terra que juraste a seus p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onde teria eu carne para dar a todo este povo? Porquanto contra mim choram, dizendo: Dá-nos carne a com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ó não posso levar a todo este povo, porque muito pesado é pa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ssim fazes comigo, mata-me, peço-te, se tenho achado graça aos teus olhos, e não me deixes ver o meu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Ajunta-me setenta homens dos anciãos de Israel, que sabes serem anciãos do povo e seus oficiais; e os trarás perante a tenda da congregação, e ali estejam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descerei e ali falarei contigo, e tirarei do espírito que está sobre ti, e o porei sobre eles; e contigo levarão a carga do povo, para que tu não a leves soz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ás ao povo: Santificai-vos para amanhã, e comereis carne; porquanto chorastes aos ouvidos do SENHOR, dizendo: Quem nos dará carne a comer? Pois íamos bem no Egito; por isso o SENHOR vos dará carne, e comer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ereis um dia, nem dois dias, nem cinco dias, nem dez dias, nem vinte d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ovo clamou a Moisés, e Moisés orou ao SENHOR, e o fogo se apag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um mês inteiro, até vos sair pelas narinas, até que vos enfastieis dela; porquanto rejeitastes ao SENHOR, que está no meio de vós, e chorastes diante dele, dizendo: Por que saímos do Eg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oisés: Seiscentos mil homens de pé é este povo, no meio do qual estou; e tu tens dito: Dar-lhes-ei carne, e comerão um mês int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golar-se-ão para eles ovelhas e vacas que lhes bastem? Ou ajuntar-se-ão para eles todos os peixes do mar, que lhes bast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o SENHOR disse a Moisés: Teria sido encurtada a mão do SENHOR? Agora verás se a minha palavra se há de cumprir ou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Moisés, e falou as palavras do SENHOR ao povo, e ajuntou setenta homens dos anciãos do povo e os pôs ao redor d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esceu na nuvem, e lhe falou; e, tirando do espírito, que estava sobre ele, o pôs sobre aqueles setenta anciãos; e aconteceu que, quando o espírito repousou sobre eles, profetizaram; mas depois nunca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o arraial ficaram dois homens; o nome de um era Eldade, e do outro Medade; e repousou sobre eles o espírito (porquanto estavam entre os inscritos, ainda que não saíram à tenda), e profetizavam n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rreu um moço e anunciou a Moisés e disse: Eldade e Medade profetizam n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ué, filho de Num, servidor de Moisés, um dos seus jovens escolhidos, respondeu e disse: Moisés, meu senhor, proíbe-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Moisés lhe disse: Tens tu ciúmes por mim? Quem dera que todo o povo do SENHOR fosse profeta, e que o SENHOR pusesse o seu espírito sobre e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que chamou aquele lugar Taberá, porquanto o fogo do SENHOR se acendera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Moisés se recolheu ao arraial, ele e os anciã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oprou um vento do SENHOR e trouxe codornizes do mar, e as espalhou pelo arraial quase caminho de um dia, de um lado e de outro lado, ao redor do arraial; quase dois côvados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povo se levantou todo aquele dia e toda aquela noite, e todo o dia seguinte, e colheram as codornizes; o que menos tinha, colhera dez ômeres; e as estenderam para si ao redor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a carne estava entre os seus dentes, antes que fosse mastigada, se acendeu a ira do SENHOR contra o povo, e feriu o SENHOR o povo com uma praga mui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nome daquele lugar se chamou Quibrote-Ataavá, porquanto ali enterraram o povo que teve o dese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ibrote-Ataavá caminhou o povo para Hazerote, e pararam em Hazer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vulgo, que estava no meio deles, veio a ter grande desejo; pelo que os filhos de Israel tornaram a chorar, e disseram: Quem nos dará carne a co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mo-nos dos peixes que no Egito comíamos de graça; e dos pepinos, e dos melões, e dos porros, e das cebolas, e dos a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a nossa alma se seca; coisa nenhuma há senão este maná diante dos nosso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o maná como semente de coentro, e a sua cor como a cor de bdél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alhava-se o povo e o colhia, e em moinhos o moía, ou num gral o pisava, e em panelas o cozia, e dele fazia bolos; e o seu sabor era como o sabor de azeite fre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orvalho descia de noite sobre o arraial, o maná descia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34Z</dcterms:created>
  <dc:creator>Admin</dc:creator>
  <dc:description/>
  <dc:language>en-US</dc:language>
  <cp:lastModifiedBy>Admin</cp:lastModifiedBy>
  <dcterms:modified xsi:type="dcterms:W3CDTF">2008-07-31T00:18:34Z</dcterms:modified>
  <cp:revision>1</cp:revision>
  <dc:subject/>
  <dc:title>Slide 1</dc:title>
</cp:coreProperties>
</file>