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8EB-4698-40FF-A33D-C3EB1F3C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BF5-2B2E-4381-907C-73D6D31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A60-7C01-4625-944F-DA5B849C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7AE-C166-4EFF-93F4-BA029BFE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4DB-DB36-4232-B5E3-A0BF956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4C5-FD78-4E05-9107-ED6D6428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D81-E9D3-49A7-ABB2-21199CF3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827-1F8A-4C05-8CEE-C0D51F7B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227-DD9D-4833-B69D-F9899EA7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24B-A81E-47A9-A9A7-80AFF65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ED4-733E-4C8F-BBA6-5C91987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30C-1237-456B-AA6A-B2AE227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B245-BFB4-4F48-A9AA-A0C30E7ECDA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alguma pessoa oferecer oferta de alimentos ao SENHOR, a sua oferta será de flor de farinha, e nela deitará azeite, e porá o incenso sobre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 que sobejar da oferta de alimentos, será de Arão e de seus filhos; coisa santíssima é, das ofertas queimada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a oferta de alimentos, que oferecerdes ao SENHOR, se fará com fermento; porque de nenhum fermento, nem de mel algum, oferecereis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es oferecereis ao SENHOR por oferta das primícias; porém sobre o altar não subirão por cheiro sua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tuas ofertas dos teus alimentos temperarás com sal; e não deixarás faltar à tua oferta de alimentos o sal da aliança do teu Deus; em todas as tuas ofertas oferecerás s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izeres ao SENHOR oferta de alimentos das primícias, oferecerás como oferta de alimentos das tuas primícias de espigas verdes, tostadas ao fogo; isto é, do grão trilhado de espigas verdes ch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ela deitarás azeite, e porás sobre ela incenso; oferta é de ali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acerdote queimará o seu memorial do seu grão trilhado, e do seu azeite, com todo o seu incenso; oferta queimada é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rará aos filhos de Arão, os sacerdotes, um dos quais tomará dela um punhado da flor de farinha, e do seu azeite com todo o seu incenso; e o sacerdote a queimará como memorial sobre o altar; oferta queimada é,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sobejar da oferta de alimentos, será de Arão e de seus filhos; coisa santíssima é, das ofertas queimada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fereceres oferta de alimentos, cozida no forno, será de bolos ázimos de flor de farinha, amassados com azeite, e coscorões ázimos untados com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tua oferta for oferta de alimentos cozida na caçoula, será da flor de farinha sem fermento, amassada com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pedaços a partirás, e sobre ela deitarás azeite; oferta é de ali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tua oferta for oferta de alimentos de frigideira, far-se-á da flor de farinha com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arás a oferta de alimentos, que se fará daquilo, ao SENHOR; e se apresentará ao sacerdote, o qual a levará a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daquela oferta de alimentos como memorial, e a queimará sobre o altar; oferta queimada é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06Z</dcterms:created>
  <dc:creator>Admin</dc:creator>
  <dc:description/>
  <dc:language>en-US</dc:language>
  <cp:lastModifiedBy>Admin</cp:lastModifiedBy>
  <dcterms:modified xsi:type="dcterms:W3CDTF">2008-07-31T00:08:06Z</dcterms:modified>
  <cp:revision>1</cp:revision>
  <dc:subject/>
  <dc:title>Slide 1</dc:title>
</cp:coreProperties>
</file>