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625-25F6-47C4-8D22-76AD1BF8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F19-014D-43E3-BD97-0B3F9916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1FA-40A0-4D1A-9B7C-DBE98E52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4D3-4006-42CA-9609-25C0CA34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F6A-BF8C-49A8-8FB8-2787C062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B4F-8A6A-4438-A01B-FCCF6C9E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ACC-39C8-4019-B45F-2B475597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3B2-D815-4461-A758-C066DDB5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18A-1D83-4674-9F3B-5D318047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255-518D-4692-A0A9-E6DC59DC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E47-3EE9-4879-B6DA-38511910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134-61C3-4394-A21A-A3DECC20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3255-95C5-4065-A510-255B694D8C1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. Louvai o nome do SENHOR; louvai-o, serv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eriu muitas nações, e matou poderosos rei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iom, rei dos amorreus, e a Ogue, rei de Basã, e a todos os reinos de Cana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a sua terra em herança, em herança a Israel,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nome, ó SENHOR, dura perpetuamente, e a tua memória, ó SENHOR,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SENHOR julgará o seu povo, e se arrependerá com respeito aos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ídolos dos gentios são prata e ouro, obra das mã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êm boca, mas não falam; têm olhos, e não vê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êm ouvidos, mas não ouvem, nem há respiro algum nas suas bo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s a eles se tornem os que os fazem, e todos os que confiam n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sa de Israel, bendizei ao SENHOR; casa de Arão, bendizei a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que assistis na casa do SENHOR, nos átrios da casa do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sa de Levi, bendizei ao SENHOR; vós os que temeis ao SENHOR, louv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 desde Sião, que habita em Jerusalém. Louv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, porque o SENHOR é bom; cantai louvores ao seu nome, porque é agradá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escolheu para si a Jacó, e a Israel para seu próprio tes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conheço que o SENHOR é grande e que o nosso Senhor está acima de todos o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o que o SENHOR quis, fez, nos céus e na terra, nos mares e em todos os abis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 subir os vapores das extremidades da terra; faz os relâmpagos para a chuva; tira os ventos dos seus teso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eriu os primogênitos do Egito, desde os homens até os anim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enviou sinais e prodígios no meio de ti, ó Egito, contra Faraó e contra os seus serv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30Z</dcterms:created>
  <dc:creator>Admin</dc:creator>
  <dc:description/>
  <dc:language>en-US</dc:language>
  <cp:lastModifiedBy>Admin</cp:lastModifiedBy>
  <dcterms:modified xsi:type="dcterms:W3CDTF">2008-07-31T00:28:30Z</dcterms:modified>
  <cp:revision>1</cp:revision>
  <dc:subject/>
  <dc:title>Slide 1</dc:title>
</cp:coreProperties>
</file>