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D4C-DEB2-46C8-BEF5-ACB225EE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9B8-996C-4EB8-B691-531BA84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15C-AA52-4D2A-82FD-38D3593A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943-1E6F-4D9C-872D-1CFD58EB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AA1-26B4-4767-B75B-104CFC55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F07-DBD9-4BDC-B363-D01A26C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2C8-8A40-445B-9060-5832D6D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0A4-00BF-4852-960F-0FF2B36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A93-66C6-4401-BF95-FE650B04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D4B-88F1-4615-9575-855927F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9B6-5AA2-42D3-A411-3F2F87A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4DD-1B9C-4BA4-8D8F-67D6886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5D6-847B-4DDD-9211-3A9EB825EF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oisas santificadas de cada um serão suas; o que alguém der ao sacerdote será 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os filhos de Israel, e dize-lhes: Quando a mulher de alguém se desviar, e transgredir contra 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algum homem se tenha deitado com ela, e for oculto aos olhos de seu marido, e ela o tiver ocultado, havendo-se ela contaminado, e contra ela não houver testemunha, e no feito não for apanha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spírito de ciúmes vier sobre ele, e de sua mulher tiver ciúmes, por ela se haver contaminado, ou sobre ele vier o espírito de ciúmes, e de sua mulher tiver ciúmes, não se havendo ela contamin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 homem trará a sua mulher perante o sacerdote, e juntamente trará a sua oferta por ela; uma décima de efa de farinha de cevada, sobre a qual não deitará azeite, nem sobre ela porá incenso, porquanto é oferta de alimentos por ciúmes, oferta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a fará chegar, e a porá perante a fac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água santa num vaso de barro; também tomará o sacerdote do pó que houver no chão do tabernáculo, e o deitará n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apresentará a mulher perante o SENHOR, e descobrirá a cabeça da mulher; e a oferta memorativa, que é a oferta por ciúmes, porá sobre as suas mãos, e a água amarga, que traz consigo a maldição, estará na mão d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a fará jurar, e dirá àquela mulher: Se ninguém contigo se deitou, e se não te apartaste de teu marido pela imundícia, destas águas amargas, amaldiçoantes, serás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dena aos filhos de Israel que lancem fora do arraial a todo o leproso, e a todo o que padece fluxo, e a todos os imundos por causa de contato com algum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e apartaste de teu marido, e te contaminaste, e algum homem, fora de teu marido, se deitou conti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acerdote fará jurar à mulher com o juramento da maldição; e o sacerdote dirá à mulher: O SENHOR te ponha por maldição e por praga no meio do teu povo, fazendo-te o SENHOR consumir a tua coxa e inchar o t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água amaldiçoante entre nas tuas entranhas, para te fazer inchar o ventre, e te fazer consumir a coxa. Então a mulher dirá: Amém,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 sacerdote escreverá estas mesmas maldições num livro, e com a água amarga as apa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água amarga, amaldiçoante, dará a beber à mulher, e a água amaldiçoante entrará nela para amarg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acerdote tomará a oferta por ciúmes da mão da mulher, e moverá a oferta perante o SENHOR; e a oferecerá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sacerdote tomará um punhado da oferta memorativa, e sobre o altar a queimará; e depois dará a beber a água à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lhe dado a beber aquela água, será que, se ela se tiver contaminado, e contra seu marido tiver transgredido, a água amaldiçoante entrará nela para amargura, e o seu ventre se inchará, e consumirá a sua coxa; e aquela mulher será por maldiçã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mulher se não tiver contaminado, mas estiver limpa, então será livre, e conceberá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lei dos ciúmes, quando a mulher, em poder de seu marido, se desviar e for contamina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o homem até a mulher os lançareis; fora do arraial os lançareis; para que não contaminem os seus arraiais, no meio dos quais eu hab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ando sobre o homem vier o espírito de ciúmes, e tiver ciúmes de sua mulher, apresente a mulher perante o SENHOR, e o sacerdote nela execute toda est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será livre da iniqüidade, porém a mulher levará a su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assim, e os lançaram fora do arraial; como o SENHOR falara a Moisés, assim fizeram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 aos filhos de Israel: Quando homem ou mulher fizer algum de todos os pecados humanos, transgredindo contra o SENHOR, tal alma culpada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essará o seu pecado que cometeu; pela sua culpa, fará plena restituição, segundo a soma total, e lhe acrescentará a sua quinta parte, e a dará àquele contra quem se fez culp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quele homem não tiver resgatador, a quem se restitua a culpa, então a culpa que se restituir ao SENHOR será do sacerdote, além do carneiro da expiação pelo qual por ele se fará exp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toda a oferta de todas as coisas santificadas dos filhos de Israel, que trouxerem ao sacerdote, será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8:02Z</dcterms:created>
  <dc:creator>Admin</dc:creator>
  <dc:description/>
  <dc:language>en-US</dc:language>
  <cp:lastModifiedBy>Admin</cp:lastModifiedBy>
  <dcterms:modified xsi:type="dcterms:W3CDTF">2008-07-31T00:18:02Z</dcterms:modified>
  <cp:revision>1</cp:revision>
  <dc:subject/>
  <dc:title>Slide 1</dc:title>
</cp:coreProperties>
</file>