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F55-F72A-4472-BEDC-3562739B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1C5-7443-4380-9623-1114C507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BC9-9887-40F2-B99F-5B810017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45A-4990-4AB7-A22D-67AC6A59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CD5-BDB2-4564-8CCA-F3536C3F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F86-864C-4391-BD92-D74F233D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E30-BA3B-4E78-AF13-2546F235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79E-98DF-4BDA-8AD1-01ED8C13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F2A-E6B5-4C49-9BE3-BDF39E1E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C89-A88E-45FA-80CD-9B30433C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537-16CB-487E-A862-0866165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0FE-A1CD-4926-9A38-5E31AC1E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2060-7FF0-429B-A75A-100869390C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, pois, muitos empreendido pôr em ordem a narração dos fatos que entre nós se cumprir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multidão do povo estava fora, orando, à hora d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anjo do Senhor lhe apareceu, posto em pé, à direita do altar d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carias, vendo-o, turbou-se, e caiu temor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anjo lhe disse: Zacarias, não temas, porque a tua oração foi ouvida, e Isabel, tua mulher, dará à luz um filho, e lhe porás o nome de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rás prazer e alegria, e muitos se alegrarão no seu nascime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á grande diante do Senhor, e não beberá vinho, nem bebida forte, e será cheio do Espírito Santo, já desde o ventre de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verterá muitos dos filhos de Israel ao SENHOR seu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rá adiante dele no espírito e virtude de Elias, para converter os corações dos pais aos filhos, e os rebeldes à prudência dos justos, com o fim de preparar ao Senhor um povo bem disp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Zacarias ao anjo: Como saberei isto? pois eu já sou velho, e minha mulher avançada em 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o anjo, disse-lhe: Eu sou Gabriel, que assisto diante de Deus, e fui enviado a falar-te e dar-te estas alegres no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nos transmitiram os mesmos que os presenciaram desde o princípio, e foram ministros da palav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ficarás mudo, e não poderás falar até ao dia em que estas coisas aconteçam; porquanto não creste nas minhas palavras, que a seu tempo se hão de cump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estava esperando a Zacarias, e maravilhava-se de que tanto se demorasse n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e, não lhes podia falar; e entenderam que tinha tido uma visão no templo. E falava por acenos, e ficou m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terminados os dias de seu ministério, voltou par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aqueles dias, Isabel, sua mulher, concebeu, e por cinco meses se oculto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e fez o Senhor, nos dias em que atentou em mim, para destruir o meu opróbrio entre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sexto mês, foi o anjo Gabriel enviado por Deus a uma cidade da Galiléia, chamada Nazaré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uma virgem desposada com um homem, cujo nome era José, da casa de Davi; e o nome da virgem era 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o anjo aonde ela estava, disse: Salve, agraciada; o Senhor é contigo; bendita és tu entre as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-o ela, turbou-se muito com aquelas palavras, e considerava que saudação seria 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eceu-me também a mim conveniente descrevê-los a ti, ó excelente Teófilo, por sua ordem, havendo-me já informado minuciosamente de tudo desde o princíp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, então, o anjo: Maria, não temas, porque achaste graça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em teu ventre conceberás e darás à luz um filho, e pôr-lhe-ás o nome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será grande, e será chamado filho do Altíssimo; e o Senhor Deus lhe dará o trono de Davi, seu p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inará eternamente na casa de Jacó, e o seu reino não terá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aria ao anjo: Como se fará isto, visto que não conheço homem algu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o anjo, disse-lhe: Descerá sobre ti o Espírito Santo, e a virtude do Altíssimo te cobrirá com a sua sombra; por isso também o Santo, que de ti há de nascer, será chamad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também Isabel, tua prima, concebeu um filho em sua velhice; e é este o sexto mês para aquela que era chamada estéri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a Deus nada é imposs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Maria: Eis aqui a serva do Senhor; cumpra-se em mim segundo a tua palavra. E o anjo ausentou-se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queles dias, levantando-se Maria, foi apressada às montanhas, a uma cidade de Jud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conheças a certeza das coisas de que já estás infor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ou em casa de Zacarias, e saudou a Isab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o ouvir Isabel a saudação de Maria, a criancinha saltou no seu ventre; e Isabel foi cheia d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clamou com grande voz, e disse: Bendita és tu entre as mulheres, e bendito o fruto do teu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onde me provém isto a mim, que venha visitar-me a mãe do meu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is que, ao chegar aos meus ouvidos a voz da tua saudação, a criancinha saltou de alegria no meu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a a que creu, pois hão de cumprir-se as coisas que da parte do Senhor lhe foram d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Maria: A minha alma engrandece a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u espírito se alegra em Deus meu Salvad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tentou na baixeza de sua serva; Pois eis que desde agora todas as gerações me chamarão bem-aventur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fez grandes coisas o Poderoso; E santo é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istiu, no tempo de Herodes, rei da Judéia, um sacerdote chamado Zacarias, da ordem de Abias, e cuja mulher era das filhas de Arão; e o seu nome era Isab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misericórdia é de geração em geração Sobre os que o te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seu braço agiu valorosamente; Dissipou os soberbos no pensamento de seu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ôs dos tronos os poderosos, E elevou os humi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heu de bens os famintos, E despediu vazios os ri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uxiliou a Israel seu servo, Recordando-se da sua misericór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alou a nossos pais, Para com Abraão e a sua posteridade,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ria ficou com ela quase três meses, e depois voltou par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pletou-se para Isabel o tempo de dar à luz, e teve um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vizinhos e parentes ouviram que tinha Deus usado para com ela de grande misericórdia, e alegraram-se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o oitavo dia, vieram circuncidar o menino, e lhe chamavam Zacarias, o nome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m ambos justos perante Deus, andando sem repreensão em todos os mandamentos e preceit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sua mãe, disse: Não, porém será chamado J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Ninguém há na tua parentela que se chame por este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aram por acenos ao pai como queria que lhe chama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dindo ele uma tabuinha de escrever, escreveu, dizendo: O seu nome é João. E todos se maravil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a boca se lhe abriu, e a língua se lhe soltou; e falava, louvand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temor sobre todos os seus vizinhos, e em todas as montanhas da Judéia foram divulgadas todas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que as ouviam as conservavam em seus corações, dizendo: Quem será, pois, este menino? E a mão do Senhor estav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carias, seu pai, foi cheio do Espírito Santo, e profetizo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o Senhor Deus de Israel, Porque visitou e remiu o seu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levantou uma salvação poderosa Na casa de Davi s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inham filhos, porque Isabel era estéril, e ambos eram avançados em 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alou pela boca dos seus santos profetas, desde o princípio do 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nos livrar dos nossos inimigos e da mão de todos os que nos odei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manifestar misericórdia a nossos pais, E lembrar-se da sua santa alia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juramento que jurou a Abraão nosso p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conceder-nos que, Libertados da mão de nossos inimigos, o serviríamos sem tem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santidade e justiça perante ele, todos os dias da noss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ó menino, serás chamado profeta do Altíssimo, Porque hás de ir ante a face do Senhor, a preparar os seus camin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dar ao seu povo conhecimento da salvação, Na remissão dos seus pec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s entranhas da misericórdia do nosso Deus, Com que o oriente do alto nos visit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7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iluminar aos que estão assentados em trevas e na sombra da morte; A fim de dirigir os nossos pés pelo caminho d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xercendo ele o sacerdócio diante de Deus, na ordem da sua tur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8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nino crescia, e se robustecia em espírito. E esteve nos desertos até ao dia em que havia de mostrar-se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uc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o costume sacerdotal, coube-lhe em sorte entrar no templo do Senhor para oferecer 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0:09Z</dcterms:created>
  <dc:creator>Admin</dc:creator>
  <dc:description/>
  <dc:language>en-US</dc:language>
  <cp:lastModifiedBy>Admin</cp:lastModifiedBy>
  <dcterms:modified xsi:type="dcterms:W3CDTF">2008-07-31T00:10:09Z</dcterms:modified>
  <cp:revision>1</cp:revision>
  <dc:subject/>
  <dc:title>Slide 1</dc:title>
</cp:coreProperties>
</file>