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153-1510-4541-92B7-A3D5B6C5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082-1995-457E-AB1C-108A44E1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0BD-4B43-419E-93D4-2C0BB4AE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D1F-F9B3-4219-99ED-2E8E725B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4C1-41A4-403C-959C-3C1D0264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6C5-FD55-4222-9FAD-DC52E49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7C0-3CD3-403C-BB8A-255516C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C10-96DA-4991-8248-23FB66D2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FC6-4DAE-47FB-841E-3FFD0007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253-1B5E-4D33-9CE6-99BDE4C2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C8C-1D71-4080-929E-57CE7E1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4E8-3A4D-45E5-977C-C8BFFA47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65DE-D257-4DBA-9505-5D73AE283C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hos de Israel tornaram a fazer o que era mau aos olhos do SENHOR, depois de falecer E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raque convocou a Zebulom e a Naftali em Quedes, e subiu com dez mil homens após ele; e Débora subiu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éber, queneu, se tinha apartado dos queneus, dos filhos de Hobabe, sogro de Moisés; e tinha estendido as suas tendas até ao carvalho de Zaanaim, que está junto a Que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unciaram a Sísera que Baraque, filho de Abinoão, tinha subido ao monte Tab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ísera convocou todos os seus carros, novecentos carros de ferro, e todo o povo que estava com ele, desde Harosete dos gentios até ao ribeiro de Quis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ébora a Baraque: Levanta-te, porque este é o dia em que o SENHOR tem dado a Sísera na tua mão; porventura o SENHOR não saiu adiante de ti? Baraque, pois, desceu do monte Tabor, e dez mil homens após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rrotou a Sísera, e a todos os seus carros, e a todo o seu exército ao fio da espada, diante de Baraque; e Sísera desceu do carro, e fugiu a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raque perseguiu os carros, e o exército, até Harosete dos gentios; e todo o exército de Sísera caiu ao fio da espada, até não ficar um s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ísera fugiu a pé à tenda de Jael, mulher de Héber, queneu; porquanto havia paz entre Jabim, rei de Hazor, e a casa de Héber, quen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el saiu ao encontro de Sísera, e disse-lhe: Entra, senhor meu, entra aqui, não temas. Ele entrou na sua tenda, e ela o cobriu com uma cob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lhe disse: Dá-me, peço-te, de beber um pouco de água, porque tenho sede. Então ela abriu um odre de leite, e deu-lhe de beber, e o cobr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eu-os o SENHOR na mão de Jabim, rei de Canaã, que reinava em Hazor; e Sísera era o capitão do seu exército, o qual então habitava em Harosete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Põe-te à porta da tenda; e há de ser que se alguém vier e te perguntar: Há aqui alguém? Responderás então: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ael, mulher de Héber, tomou uma estaca da tenda, e lançou mão de um martelo, e chegou-se mansamente a ele, e lhe cravou a estaca na fonte, de sorte que penetrou na terra, estando ele, porém, num profundo sono, e já muito cansado; e assim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, seguindo Baraque a Sísera, Jael lhe saiu ao encontro, e disse-lhe: Vem, e mostrar-te-ei o homem que buscas. E foi a ela, e eis que Sísera jazia morto, com a estaca na f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us naquele dia sujeitou a Jabim, rei de Canaã,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inuou a mão dos filhos de Israel a pesar e a endurecer-se sobre Jabim, rei de Canaã; até que exterminaram a Jabim, rei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Israel clamaram ao SENHOR, porquanto ele tinha novecentos carros de ferro, e por vinte anos oprimia violentamente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ébora, mulher profetisa, mulher de Lapidote, julgava a Israel naquele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 assentava-se debaixo das palmeiras de Débora, entre Ramá e Betel, nas montanhas de Efraim; e os filhos de Israel subiam a ela a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chamar a Baraque, filho de Abinoão de Quedes de Naftali, e disse-lhe: Porventura o SENHOR Deus de Israel não deu ordem, dizendo: Vai, e atrai gente ao monte Tabor, e toma contigo dez mil homens dos filhos de Naftali e dos filhos de Zebul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rairei a ti para o ribeiro de Quisom, a Sísera, capitão do exército de Jabim, com os seus carros, e com a sua multidão; e o darei n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Baraque: Se fores comigo, irei; porém, se não fores comigo, não 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a: Certamente irei contigo, porém não será tua a honra da jornada que empreenderes; pois à mão de uma mulher o SENHOR venderá a Sísera. E Débora se levantou, e partiu com Baraque para Que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31Z</dcterms:created>
  <dc:creator>Admin</dc:creator>
  <dc:description/>
  <dc:language>en-US</dc:language>
  <cp:lastModifiedBy>Admin</cp:lastModifiedBy>
  <dcterms:modified xsi:type="dcterms:W3CDTF">2008-07-31T00:06:31Z</dcterms:modified>
  <cp:revision>1</cp:revision>
  <dc:subject/>
  <dc:title>Slide 1</dc:title>
</cp:coreProperties>
</file>