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9FC3-2AE4-456D-A3CB-216C32D23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5E6E-BEC8-4E46-9CAF-979FADCC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8995-9139-4D70-B50A-6E5824289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4A2E-50A5-4B63-B2FC-BA3A1D3AC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F36C-9C25-4E5C-92DF-D538BED5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AB4C-42D6-4D4E-8F2D-9CAB29C7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17B0-7A91-40B1-974B-E280D865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E9C1-88AD-40F3-BFF5-44AB761F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60AD-E977-445B-8779-773CD644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B2E6-0FA3-4494-90DA-A605EABA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DC61-C1C6-497E-9D71-1D46C581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BFFE-A803-49E1-AF6D-86F7CF08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0F9C-2182-45A4-9240-282FF8A2FB3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, depois da morte de Josué, que os filhos de Israel perguntaram ao SENHOR, dizendo: Quem dentre nós primeiro subirá aos cananeus, para pelejar contra el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u Judá contra os cananeus que habitavam em Hebrom (era porém outrora o nome de Hebrom, Quiriate-Arba), e feriram a Sesai, e a Aimã e Talm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li partiu contra os moradores de Debir; e era outrora o nome de Debir, Quiriate-Sef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Calebe: Quem ferir a Quiriate-Sefer, e a tomar, lhe darei a minha filha Acsa por mul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ou-a Otniel, filho de Quenaz, o irmão de Calebe, mais novo do que ele; e Calebe lhe deu a sua filha Acsa por mul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indo ela a ele, a persuadiu que pedisse um campo a seu pai; e ela desceu do jumento, e Calebe lhe disse: Que é que ten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a lhe disse: Dá-me uma bênção; pois me deste uma terra seca, dá-me também fontes de águas. E Calebe lhe deu as fontes superiores e as fontes inferi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s filhos do queneu, sogro de Moisés, subiram da cidade das palmeiras com os filhos de Judá ao deserto de Judá, que está ao sul de Arade, e foram, e habitaram com 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Judá com Simeão, seu irmão, e feriram aos cananeus que habitavam em Zefate; e totalmente a destruíram, e chamou-se o nome desta cidade Horm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ou mais Judá a Gaza com o seu termo, e a Ascalom com o seu termo, e a Ecrom com o seu ter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va o SENHOR com Judá, e despovoou as montanhas; porém não expulsou aos moradores do vale, porquanto tinham carros de fer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: Judá subirá; eis que entreguei esta terra na s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ram Hebrom a Calebe, como Moisés o dissera; e dali expulsou os três filhos de Ana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s filhos de Benjamim não expulsaram os jebuseus que habitavam em Jerusalém; antes os jebuseus ficaram habitando com os filhos de Benjamim em Jerusalém, até ao dia de hoj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biu também a casa de José contra Betel, e foi o SENHOR com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casa de José mandou espias a Betel, e foi antes o nome desta cidade L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ram os espias a um homem, que saía da cidade, e lhe disseram: Ora, mostra-nos a entrada da cidade, e usaremos contigo de misericór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mostrando-lhes ele a entrada da cidade, feriram-na ao fio da espada; porém àquele homem e a toda a sua família deixaram 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quele homem se foi à terra dos heteus, e edificou uma cidade, e chamou o seu nome Luz; este é o seu nome até ao dia de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nassés não expulsou os habitantes de Bete-Seã, nem mesmo dos lugares da sua jurisdição; nem a Taanaque, com os lugares da sua jurisdição; nem os moradores de Dor, com os lugares da sua jurisdição; nem os moradores de Ibleão, com os lugares da sua ju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quando Israel cobrou mais forças, fez dos cananeus tributários; porém não os expulsou de to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pouco expulsou Efraim os cananeus que habitavam em Gezer; antes os cananeus ficaram habitando com ele, em Ge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Judá a Simeão, seu irmão: Sobe comigo à minha herança. E pelejemos contra os cananeus, e também eu contigo subirei à tua herança. E Simeão partiu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pouco expulsou Zebulom os moradores de Quitrom, nem os moradores de Naalol; porém os cananeus ficaram habitando com ele, e foram tributár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pouco Aser expulsou os moradores de Aco, nem os moradores de Sidom; como nem de Alabe, nem de Aczibe, nem de Helba, nem de Afeque, nem de Reob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s aseritas habitaram no meio dos cananeus que habitavam na terra; porquanto não os expuls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pouco Naftali expulsou os moradores de Bete-Semes, nem os moradores de Bete-Anate; mas habitou no meio dos cananeus que habitavam na terra; porém lhes foram tributários os moradores de Bete-Semes e Bete-Ana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amorreus impeliram os filhos de Dã até às montanhas; porque nem os deixavam descer ao va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s amorreus quiseram habitar nas montanhas de Heres, em Aijalom e em Saalbim; porém prevaleceu a mão da casa de José, e ficaram tributár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o termo dos amorreus desde a subida de Acrabim, desde a penha, e dali para ci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biu Judá, e o SENHOR lhe entregou na sua mão os cananeus e os perizeus; e feriram deles, em Bezeque, a dez mil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haram Adoni-Bezeque em Bezeque, e pelejaram contra ele; e feriram aos cananeus e aos periz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doni-Bezeque fugiu, mas o seguiram, e prenderam-no e cortaram-lhe os dedos polegares das mãos e dos p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Adoni-Bezeque: Setenta reis, com os dedos polegares das mãos e dos pés cortados, apanhavam as migalhas debaixo da minha mesa; assim como eu fiz, assim Deus me pagou. E levaram-no a Jerusalém, e morreu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Judá pelejaram contra Jerusalém, e tomando-a, feriram-na ao fio da espada; e puseram fogo n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ízes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os filhos de Judá desceram a pelejar contra os cananeus, que habitavam nas montanhas, e no sul, e nas planíci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6:20Z</dcterms:created>
  <dc:creator>Admin</dc:creator>
  <dc:description/>
  <dc:language>en-US</dc:language>
  <cp:lastModifiedBy>Admin</cp:lastModifiedBy>
  <dcterms:modified xsi:type="dcterms:W3CDTF">2008-07-31T00:06:20Z</dcterms:modified>
  <cp:revision>1</cp:revision>
  <dc:subject/>
  <dc:title>Slide 1</dc:title>
</cp:coreProperties>
</file>