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8B2-14F1-447A-A536-E987A56F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B73-787E-4CAA-81A3-0170223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3F6-1BAC-4B37-979A-FD8D02D7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324-CE26-4F4D-B06B-504AB33C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3E6-B75D-431C-B89A-5A50A9C4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E2A-7768-4084-9BB4-C56B1D7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C24-DC96-44EA-A07F-4DB35E8E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7A4-29D2-42C7-8678-6736A35C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79F-A0D7-4BAC-B913-3599655F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B73-777A-42B0-A4D2-7BA6EA3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B30-1C3D-426C-9228-5B4C224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92B-0ECB-4D5A-B52C-2C5BFD0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1E7-D4D4-4E64-BDE8-FE4ECA62C9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ambém a primeira tinha ordenanças de culto divino, e um santuário terre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stindo somente em comidas, e bebidas, e várias abluções e justificações da carne, impostas até ao tempo da corre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indo Cristo, o sumo sacerdote dos bens futuros, por um maior e mais perfeito tabernáculo, não feito por mãos, isto é, não desta cri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por sangue de bodes e bezerros, mas por seu próprio sangue, entrou uma vez no santuário, havendo efetuado uma eterna rede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o sangue dos touros e bodes, e a cinza de uma novilha esparzida sobre os imundos, os santifica, quanto à purificação da carn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mais o sangue de Cristo, que pelo Espírito eterno se ofereceu a si mesmo imaculado a Deus, purificará as vossas consciências das obras mortas, para servirdes ao Deus viv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é Mediador de um novo testamento, para que, intervindo a morte para remissão das transgressões que havia debaixo do primeiro testamento, os chamados recebam a promessa da heranç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nde há testamento, é necessário que intervenha a morte do test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testamento tem força onde houve morte; ou terá ele algum valor enquanto o testador v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o primeiro não foi consagrado sem sang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havendo Moisés anunciado a todo o povo todos os mandamentos segundo a lei, tomou o sangue dos bezerros e dos bodes, com água, lã purpúrea e hissope, e aspergiu tanto o mesmo livro como todo o pov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um tabernáculo estava preparado, o primeiro, em que havia o candelabro, e a mesa, e os pães da proposição; ao que se chama o santu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Este é o sangue do testamento que Deus vos tem m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elhantemente aspergiu com sangue o tabernáculo e todos os vasos do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se todas as coisas, segundo a lei, se purificam com sangue; e sem derramamento de sangue não há remi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era bem necessário que as figuras das coisas que estão no céu assim se purificassem; mas as próprias coisas celestiais com sacrifícios melhores do que 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risto não entrou num santuário feito por mãos, figura do verdadeiro, porém no mesmo céu, para agora comparecer por nós perante a face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também para a si mesmo se oferecer muitas vezes, como o sumo sacerdote cada ano entra no santuário com sangue alhe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utra maneira, necessário lhe fora padecer muitas vezes desde a fundação do mundo. Mas agora na consumação dos séculos uma vez se manifestou, para aniquilar o pecado pelo sacrifício de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aos homens está ordenado morrerem uma vez, vindo depois disso o juíz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Cristo, oferecendo-se uma vez para tirar os pecados de muitos, aparecerá segunda vez, sem pecado, aos que o esperam par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pois do segundo véu estava o tabernáculo que se chama o santo dos san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tinha o incensário de ouro, e a arca da aliança, coberta de ouro toda em redor; em que estava um vaso de ouro, que continha o maná, e a vara de Arão, que tinha florescido, e as tábuas da ali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bre a arca os querubins da glória, que faziam sombra no propiciatório; das quais coisas não falaremos agora particular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stando estas coisas assim preparadas, a todo o tempo entravam os sacerdotes no primeiro tabernáculo, cumprindo os serviç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no segundo, só o sumo sacerdote, uma vez no ano, não sem sangue, que oferecia por si mesmo e pelas culpas do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ndo nisto a entender o Espírito Santo que ainda o caminho do santuário não estava descoberto enquanto se conservava em pé o primeiro tabernácu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é uma alegoria para o tempo presente, em que se oferecem dons e sacrifícios que, quanto à consciência, não podem aperfeiçoar aquele que faz o serviç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51Z</dcterms:created>
  <dc:creator>Admin</dc:creator>
  <dc:description/>
  <dc:language>en-US</dc:language>
  <cp:lastModifiedBy>Admin</cp:lastModifiedBy>
  <dcterms:modified xsi:type="dcterms:W3CDTF">2008-07-30T23:40:51Z</dcterms:modified>
  <cp:revision>1</cp:revision>
  <dc:subject/>
  <dc:title>Slide 1</dc:title>
</cp:coreProperties>
</file>