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7732-510C-4E46-B540-6A502263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30E9-8A9D-469A-8BF0-0B73F45E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459D-AD41-49B1-8A06-EA2BFCC0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495-9375-4B07-BE6B-49932750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93F-CFD9-4B98-AE28-16A1B606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2FB-19E9-47D8-923C-08969018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CE77-6D9A-442A-A85A-B3C711ED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8A75-07A7-4712-A3CB-D6274695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29E2-4579-4828-9849-9E42494C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4BC5-A890-4E88-BCA8-7F3AEDB7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D39C-C3A7-4016-8442-75DD7CED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CDD-0774-49DF-81AB-DE8A7626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506C-31C3-4704-8676-48FF4616008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aquele que teme ao SENHOR e anda nos seus c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comerás do trabalho das tuas mãos; feliz serás, e te irá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ua mulher será como a videira frutífera aos lados da tua casa; os teus filhos como plantas de oliveira à roda da tua me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assim será abençoado o homem que teme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te abençoará desde Sião, e tu verás o bem de Jerusalém em todos os dias da t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rás os filhos de teus filhos, e a paz sobr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22Z</dcterms:created>
  <dc:creator>Admin</dc:creator>
  <dc:description/>
  <dc:language>en-US</dc:language>
  <cp:lastModifiedBy>Admin</cp:lastModifiedBy>
  <dcterms:modified xsi:type="dcterms:W3CDTF">2008-07-31T00:28:22Z</dcterms:modified>
  <cp:revision>1</cp:revision>
  <dc:subject/>
  <dc:title>Slide 1</dc:title>
</cp:coreProperties>
</file>