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FB53-9CC1-4B11-9E01-678AFC08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AE7F-2EBA-4315-B0BB-7CE01603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7897-98AA-4F2A-BE36-D653A9C4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999D-9287-43E3-AFC5-4D5749C8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92E-79AA-4E0B-9D4D-96977731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127-B2C1-4C82-A020-7AE1542D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7D0-2A9A-4597-AD7F-F2B6B378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884A-E704-4765-A81E-B48C1358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C54B-E359-496E-9B37-8AF9454C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601F-2F9B-4F0F-A828-CDB27CB7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24E-C0B0-465C-87CB-92F6AC07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3FDD-BE2F-4BCC-844A-B8AD6C52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5A90-6E92-4C70-80E4-AC2C013C9FC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LOMÃO se aparentou com Faraó, rei do Egito; e tomou a filha de Faraó, e a trouxe à cidade de Davi, até que acabasse de edificar a sua casa, e a casa do SENHOR, e a muralha de Jerusalém em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 palavra pareceu boa aos olhos do Senhor, de que Salomão pedisse i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Deus: Porquanto pediste isso, e não pediste para ti muitos dias, nem pediste para ti riquezas, nem pediste a vida de teus inimigos; mas pediste para ti entendimento, para discernires o que é ju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fiz segundo as tuas palavras; eis que te dei um coração tão sábio e entendido, que antes de ti igual não houve, e depois de ti igual não se levant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até o que não pediste te dei, assim riquezas como glória; de modo que não haverá um igual entre os reis, por todos os teu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ndares nos meus caminhos, guardando os meus estatutos, e os meus mandamentos, como andou Davi teu pai, também prolongarei os teu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rdou Salomão, e eis que era sonho. E indo a Jerusalém, pôs-se perante a arca da aliança do SENHOR, e sacrificou holocausto, e preparou sacrifícios pacíficos, e fez um banquete a todos os s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ieram duas mulheres prostitutas ao rei, e se puseram perant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uma das mulheres: Ah! senhor meu, eu e esta mulher moramos numa casa; e tive um filho, estando com ela naquel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ao terceiro dia, depois do meu parto, teve um filho também esta mulher; estávamos juntas; nenhum estranho estava conosco na casa; somente nós duas naquel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noite morreu o filho desta mulher, porquanto se deitara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etanto, o povo sacrificava sobre os altos; porque até àqueles dias ainda não se havia edificado casa ao nom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-se à meia noite, e tirou o meu filho do meu lado, enquanto dormia a tua serva, e o deitou no seu seio; e a seu filho morto deitou no meu s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me eu pela manhã, para dar de mamar a meu filho, eis que estava morto; mas, atentando pela manhã para ele, eis que não era meu filho, que eu havia t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à outra mulher: Não, mas o vivo é meu filho, e teu filho o morto. Porém esta disse: Não, por certo, o morto é teu filho, e meu filho o vivo. Assim falaram perante 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rei: Esta diz: Este que vive é meu filho, e teu filho o morto; e esta outra diz: Não, por certo, o morto é teu filho e meu filho o vi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o rei: Trazei-me uma espada. E trouxeram uma espada diante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rei: Dividi em duas partes o menino vivo; e dai metade a uma, e metade a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mulher, cujo filho era o vivo, falou ao rei (porque as suas entranhas se lhe enterneceram por seu filho), e disse: Ah! senhor meu, dai-lhe o menino vivo, e de modo nenhum o mateis. Porém a outra dizia: Nem teu nem meu seja; dividi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o rei, e disse: Dai a esta o menino vivo, e de maneira nenhuma o mateis, porque esta é s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Israel ouviu o juízo que havia dado o rei, e temeu ao rei; porque viram que havia nele a sabedoria de Deus, para fazer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lomão amava ao SENHOR, andando nos estatutos de Davi seu pai; somente que nos altos sacrificava, e queimava ince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o rei a Gibeom para lá sacrificar, porque aquele era o alto maior; mil holocaustos sacrificou Salomão naquele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Gibeom apareceu o SENHOR a Salomão de noite em sonhos; e disse-lhe Deus: Pede o que queres que eu te dê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Salomão: De grande beneficência usaste tu com teu servo Davi, meu pai, como também ele andou contigo em verdade, e em justiça, e em retidão de coração, perante a tua face; e guardaste-lhe esta grande beneficência, e lhe deste um filho que se a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ó SENHOR meu Deus, tu fizeste reinar a teu servo em lugar de Davi meu pai; e sou apenas um menino pequeno; não sei como sair, nem como ent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u servo está no meio do teu povo que elegeste; povo grande, que nem se pode contar, nem numerar, pela sua mul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eu servo, pois, dá um coração entendido para julgar a teu povo, para que prudentemente discirna entre o bem e o mal; porque quem poderia julgar a este teu tão grande pov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4:44Z</dcterms:created>
  <dc:creator>Admin</dc:creator>
  <dc:description/>
  <dc:language>en-US</dc:language>
  <cp:lastModifiedBy>Admin</cp:lastModifiedBy>
  <dcterms:modified xsi:type="dcterms:W3CDTF">2008-07-30T23:44:44Z</dcterms:modified>
  <cp:revision>1</cp:revision>
  <dc:subject/>
  <dc:title>Slide 1</dc:title>
</cp:coreProperties>
</file>