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A6C-7B1A-4E36-87AB-C973240D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057-A9EF-4EEB-AC6E-D3022C03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477-313C-434C-B860-7271505E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742-FE6B-4F03-8BB0-4BA9E364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37A-1E49-4ADD-A642-D59C1CE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281-A37E-4349-B17D-75572E2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049-1CCF-4AB0-9EC8-595A7E1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021-C5BD-4A4A-B0C8-E267099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ACE-78DA-43F4-B1B1-CBB6B7E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747-7456-4132-A2F9-A67EE5F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493-C179-4CD4-A06B-CA4F4FB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E30-86EB-493B-8431-538D843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1C2-6CEF-4C2E-9394-C576207CDF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SO que viu o profeta Habacu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carnecerão dos reis, e dos príncipes farão zombaria; eles se rirão de todas as fortalezas, porque amontoarão terra, e as tom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uda a sua mente, e seguirá, e se fará culpado, atribuindo este seu poder a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s tu desde a eternidade, ó SENHOR meu Deus, meu Santo? Nós não morreremos. Ó SENHOR, para juízo o puseste, e tu, ó Rocha, o fundaste para casti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és tão puro de olhos, que não podes ver o mal, e a opressão não podes contemplar. Por que olhas para os que procedem aleivosamente, e te calas quando o ímpio devora aquele que é mais justo do que e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que farias os homens como os peixes do mar, como os répteis, que não têm quem os gove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 todos levantará com o anzol, apanhá-los-á com a sua rede, e os ajuntará na sua rede varredoura; por isso ele se alegrará e se regozij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acrificará à sua rede, e queimará incenso à sua varredoura; porque com elas engordou a sua porção, e engrossou a sua com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por isso esvaziará a sua rede e não terá piedade de matar as nações continuame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ando, SENHOR, clamarei eu, e tu não me escutarás? Gritar-te-ei: Violência! e não salvar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razão me mostras a iniqüidade, e me fazes ver a opressão? Pois que a destruição e a violência estão diante de mim, havendo também quem suscite a contenda e o litíg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causa a lei se afrouxa, e a justiça nunca se manifesta; porque o ímpio cerca o justo, e a justiça se manifesta distorc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entre os gentios e olhai, e maravilhai-vos, e admirai-vos; porque realizarei em vossos dias uma obra que vós não crereis, quando for con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suscito os caldeus, nação amarga e impetuosa, que marcha sobre a largura da terra, para apoderar-se de moradas que não são s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rrível e terrível é; dela mesma sairá o seu juízo e a sua dign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cavalos são mais ligeiros do que os leopardos, e mais espertos do que os lobos à tarde; os seus cavaleiros espalham-se por toda parte; os seus cavaleiros virão de longe; voarão como águias que se apressam a devo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Habacuque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todos virão para fazer violência; os seus rostos buscarão o vento oriental, e reunirão os cativos como ar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25Z</dcterms:created>
  <dc:creator>Admin</dc:creator>
  <dc:description/>
  <dc:language>en-US</dc:language>
  <cp:lastModifiedBy>Admin</cp:lastModifiedBy>
  <dcterms:modified xsi:type="dcterms:W3CDTF">2008-07-30T23:40:25Z</dcterms:modified>
  <cp:revision>1</cp:revision>
  <dc:subject/>
  <dc:title>Slide 1</dc:title>
</cp:coreProperties>
</file>