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5EC-AAB8-4792-B588-D90EE112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147-2141-48CB-A2ED-C24182D1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057-23C0-4E14-BE89-AA38C6B7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F4E-CB1D-4596-BD1E-6226601D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5C7-245D-44DC-9603-E0C99B77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380-F39B-4041-B3C8-1EAB16E5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CD8-9026-4F6E-BF1D-E4A15485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55D-D93D-4153-8C7E-ACDA7312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B79-662B-431B-906D-A18C9EBE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874-1F8C-4AEB-9343-118E36DC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6AD-EE2C-485E-ADD8-D74D9634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5A29-74CB-47FC-ADE9-7BF16705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B995-C24F-4DBB-9F08-2C78B4E007F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queles três homens cessaram de responder a Jó; porque era justo aos seus própri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go: Dai-me ouvidos, e também eu declararei a minha opin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guardei as vossas palavras, e dei ouvidos às vossas considerações, até que buscásseis raz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ntando, pois, para vós, eis que nenhum de vós há que possa convencer a Jó, nem que responda às suas raz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ão digais: Achamos a sabedoria; Deus o derrubou, e não homem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ele não dirigiu contra mim palavra alguma, nem lhe responderei com as voss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ão pasmados, não respondem mais, faltam-lhes 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erei, pois, mas não falam; porque já pararam, e não respondem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u responderei pela minha parte; também eu declararei a minha opin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ou cheio de palavras; o meu espírito me constra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dentro de mim sou como o mosto, sem respiradouro, prestes a arrebentar, como odres n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endeu-se a ira de Eliú, filho de Baraquel, o buzita, da família de Rão; contra Jó se acendeu a sua ira, porque se justificava a si mesmo, mais do que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rei, para que ache alívio; abrirei os meus lábios, e responde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não faça eu acepção de pessoas, nem use de palavras lisonjeiras com o homem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sei usar de lisonjas; em breve me levaria o meu Cri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sua ira se acendeu contra os seus três amigos, porque, não achando que responder, todavia condenavam a J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iú, porém, esperou para falar a Jó, porquanto tinham mais idade do qu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Eliú que já não havia resposta na boca daqueles três homens, a sua ira se acen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Eliú, filho de Baraquel, o buzita, dizendo: Eu sou de menos idade, e vós sois idosos; receei-me e temi de vos declarar a minha opin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ia eu: Falem os dias, e a multidão dos anos ensine a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há um espírito no homem, e a inspiração do Todo-Poderoso o faz ente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grandes não são os sábios, nem os velhos entendem o que é dir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59Z</dcterms:created>
  <dc:creator>Admin</dc:creator>
  <dc:description/>
  <dc:language>en-US</dc:language>
  <cp:lastModifiedBy>Admin</cp:lastModifiedBy>
  <dcterms:modified xsi:type="dcterms:W3CDTF">2008-07-31T00:01:59Z</dcterms:modified>
  <cp:revision>1</cp:revision>
  <dc:subject/>
  <dc:title>Slide 1</dc:title>
</cp:coreProperties>
</file>