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6B6E-5766-4D10-BC38-FF28FB38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D8A-BB87-400E-9F82-7CD75980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F257-D75C-4A76-84A3-33B71864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8B1-C17E-4D8F-84D1-C81B196E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1D5-85C3-4734-A3ED-2A699211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003-5293-4897-A3E8-B5B8362F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EB2-FF2E-4B91-8D37-7DB05790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ADFF-4CBD-4EA7-A005-019B7615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7D35-F9AC-41B1-AC2A-31C68639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C656-482F-44B8-9D5D-161BB2D3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7D2-1CC8-4D67-8CCD-838EC224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216-B658-4427-BFEF-7AB8D703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EB1B-434B-4D92-998D-0622856EF5D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ndo Bildade o suíta, diss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te ensinarão eles, e não te falarão, e do seu coração não tirarão palavr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cresce o junco sem lodo? Ou cresce a espadana sem águ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 ainda no seu verdor, ainda que não cortada, todavia antes de qualquer outra erva se se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ão as veredas de todos quantos se esquecem de Deus; e a esperança do hipócrita per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uja esperança fica frustrada; e a sua confiança será como a teia de ara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costar-se-á à sua casa, mas ela não subsistirá; apegar-se-á a ela, mas não ficará em p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é viçoso perante o sol, e os seus renovos saem sobre o seu jardi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suas raízes se entrelaçam, junto à fonte; para o pedregal at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Deus o consumir do seu lugar, negá-lo-á este, dizendo: Nunca te vi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ste é a alegria do seu caminho, e outros brotarão do p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ando falarás tais coisas, e as palavras da tua boca serão como um vento impetuos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Deus não rejeitará ao reto; nem toma pela mão aos malfeitor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e de riso te encha a boca, e os teus lábios de júbi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te odeiam se vestirão de confusão, e a tenda dos ímpios não existirá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perverteria Deus o direito? E perverteria o Todo-Poderoso a justiç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teus filhos pecaram contra ele, também ele os lançou na mão da sua transgr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tu de madrugada buscares a Deus, e ao Todo-Poderoso pedires misericórd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fores puro e reto, certamente logo despertará por ti, e restaurará a morada da tu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u princípio, na verdade, terá sido pequeno, porém o teu último estado crescerá em extre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eu te peço, pergunta agora às gerações passadas; e prepara-te para a inquirição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ós somos de ontem, e nada sabemos; porquanto nossos dias sobre a terra são como a som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0:43Z</dcterms:created>
  <dc:creator>Admin</dc:creator>
  <dc:description/>
  <dc:language>en-US</dc:language>
  <cp:lastModifiedBy>Admin</cp:lastModifiedBy>
  <dcterms:modified xsi:type="dcterms:W3CDTF">2008-07-31T00:00:43Z</dcterms:modified>
  <cp:revision>1</cp:revision>
  <dc:subject/>
  <dc:title>Slide 1</dc:title>
</cp:coreProperties>
</file>