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C72-219A-4F39-8551-3A25EAA9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EE6-950E-4387-8F2C-C7385FAA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E15-35DF-4903-82C0-76A4CB95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F3D-EF1B-4DFD-AEDE-75FB98F5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36F-9F53-4D61-91DA-880210F8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B59-6055-40A2-BE48-DB0580B8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2F1-C92D-451F-ADB9-68617DCC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ED8-A657-4E93-A7EB-CB2F8873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592-828C-4A4D-A6AF-DBFC4AFF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DB7-35F3-4A35-A7BD-BA7F2DB7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21B-BE74-4FAF-8D09-5232B4B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520-14E2-43B7-8A41-011C9C1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F86-F40D-4AF7-A108-5D6BF6A0510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vinte e três de Joás, filho de Acazias, rei de Judá, começou a reinar Jeoacaz, filho de Jeú, sobre Israel, em Samaria, e reinou dezes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trinta e sete de Joás, rei de Judá, começou a reinar Jeoás, filho de Jeoacaz, sobre Israel, em Samaria, e reinou dezesse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não se apartou de nenhum dos pecados de Jeroboão, filho de Nebate, com que fez Israel pecar, porém andou n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eoás, e tudo quanto fez, e o seu poder, com que pelejou contra Amazias, rei de Judá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ás dormiu com seus pais, e Jeroboão se assentou no seu trono; e Jeoás foi sepultado em Samaria, junto a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seu estava doente da enfermidade de que morreu, e Jeoás, rei de Israel, desceu a ele, e chorou sobre o seu rosto, e disse: Meu pai, meu pai, o carro de Israel, e seus cavaleir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seu lhe disse: Toma um arco e flechas. E tomou um arco e flec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o rei de Israel: Põe a tua mão sobre o arco. E pôs sobre ele a sua mão; e Eliseu pôs as suas mãos sobre a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bre a janela para o oriente. E abriu-a. Então disse Eliseu: Atira. E atirou; e disse: A flecha do livramento do SENHOR é a flecha do livramento contra os sírios; porque ferirás os sírios; em Afeque, até os consu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Toma as flechas. E tomou-as. Então disse ao rei de Israel: Fere a terra. E feriu-a três vezes, e ces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homem de Deus se indignou muito contra ele, e disse: Cinco ou seis vezes a deverias ter ferido; então feririas os sírios até os consumir; porém agora só três vezes ferirás os s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porque seguiu os pecados de Jeroboão, filho de Nebate, que fez pecar a Israel; não se apartou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orreu Eliseu, e o sepultaram. Ora, as tropas dos moabitas invadiram a terra à entrada do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nterrando eles um homem, eis que viram uma tropa, e lançaram o homem na sepultura de Eliseu; e, caindo nela o homem, e tocando os ossos de Eliseu, reviveu, e se levantou sobre os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zael, rei da Síria, oprimiu a Israel todos os dias de Jeoac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teve misericórdia deles, e se compadeceu deles, e tornou-se para eles por amor da sua aliança com Abraão, Isaque e Jacó, e não os quis destruir, e não os lançou ainda da s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Hazael, rei da Síria e Ben-Hadade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ás, filho de Jeoacaz, tornou a tomar as cidades das mãos de Ben-Hadade, que ele tinha tomado das mãos de Jeoacaz, seu pai, na guerra; três vezes Jeoás o feriu, e recuperou as cidad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ira do SENHOR se acendeu contra Israel; e entregou-os na mão de Hazael, rei da Síria, e na mão de Ben-Hadade, filho de Hazael, todos aquel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eoacaz suplicou diante da face do SENHOR; e o SENHOR ouviu; porque viu a opressão de Israel, pois o rei da Síria os oprim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 um salvador a Israel, e saíram de sob as mãos dos sírios; e os filhos de Israel habitaram nas suas tendas, como no pass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Contudo não se apartaram dos pecados da casa de Jeroboão, com que fez Israel pecar; porém ele andou neles e também o bosque ficou em pé em Samaria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deixou a Jeoacaz, do povo, senão só cinqüenta cavaleiros, dez carros e dez mil homens de pé, porquanto o rei da Síria os tinha destruído e os tinha feito como o pó, trilhando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eoacaz, e tudo quanto fez, e o seu poder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acaz dormiu com seus pais, e o sepultaram em Samaria; e Jeoá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46Z</dcterms:created>
  <dc:creator>Admin</dc:creator>
  <dc:description/>
  <dc:language>en-US</dc:language>
  <cp:lastModifiedBy>Admin</cp:lastModifiedBy>
  <dcterms:modified xsi:type="dcterms:W3CDTF">2008-07-30T23:51:46Z</dcterms:modified>
  <cp:revision>1</cp:revision>
  <dc:subject/>
  <dc:title>Slide 1</dc:title>
</cp:coreProperties>
</file>