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8BF-A14F-495E-90AC-BE2744A1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1C9-0FAB-42AB-96C7-025732E1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2B2-B4FC-480C-A83B-7253BA12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05E-1B09-44AF-9AC7-B95E14EA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28C-C96A-426B-9BC4-1281BF1E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33E-AC6F-4809-AD47-AC22251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35F-B1A6-4226-82E8-0E4B6FE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F05-A97F-4354-B529-CF0F6592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E7E-114B-4855-97B9-715B2F5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125-2CC2-47FC-A123-9F8ACC7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6B1-51DD-491C-A01B-0AD7255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AAA-7887-4326-B508-A3FE2B7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F2E-DE66-4D2E-AE12-B6B98D1386A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oitavo dia trará duas rolas, ou dois pombinhos, ao sacerdote, à porta da tenda da congreg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ferecerá, um para expiação do pecado, e o outro para holocausto; e fará expiação por ele, do que pecou relativamente ao morto; assim naquele mesmo dia santificará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parará os dias do seu nazireado ao SENHOR, e para expiação da transgressão trará um cordeiro de um ano; e os dias antecedentes serão perdidos, porquanto o seu nazireado foi conta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é a lei do nazireu: no dia em que se cumprirem os dias do seu nazireado, trá-lo-ão à porta da tenda da congreg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oferecerá a sua oferta ao SENHOR, um cordeiro sem defeito de um ano em holocausto, e uma cordeira sem defeito de um ano para expiação do pecado, e um carneiro sem defeito por oferta pacífi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cesto de pães ázimos, bolos de flor de farinha com azeite, amassados, e coscorões ázimos untados com azeite, como também a sua oferta de alimentos, e as suas lib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s trará perante o SENHOR, e sacrificará a sua expiação do pecado, e o seu holocau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crificará o carneiro em sacrifício pacífico ao SENHOR, com o cesto dos pães ázimos; e o sacerdote oferecerá a sua oferta de alimentos, e a sua lib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nazireu à porta da tenda da congregação rapará a cabeça do seu nazireado, e tomará o cabelo da cabeça do seu nazireado, e o porá sobre o fogo que está debaixo do sacrifício pacíf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tomará a espádua cozida do carneiro, e um pão ázimo do cesto, e um coscorão ázimo, e os porá nas mãos do nazireu, depois de haver rapado a cabeça do seu nazire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um homem ou mulher se tiver separado, fazendo voto de nazireu, para se separar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os oferecerá em oferta de movimento perante o SENHOR: Isto é santo para o sacerdote, juntamente com o peito da oferta de movimento, e com a espádua da oferta alçada; e depois o nazireu poderá beber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o nazireu, que fizer voto da sua oferta ao SENHOR pelo seu nazireado, além do que suas posses lhe permitirem; segundo o seu voto, que fizer, assim fará conforme à lei do seu nazire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Arão, e a seus filhos dizendo: Assim abençoareis os filhos de Israel, dizendo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 abençoe e te guar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faça resplandecer o seu rosto sobre ti, e tenha misericórdia d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obre ti levante o seu rosto e te dê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orão o meu nome sobre os filhos de Israel, e eu os abenço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vinho e de bebida forte se apartará; vinagre de vinho, nem vinagre de bebida forte não beberá; nem beberá alguma beberagem de uvas; nem uvas frescas nem secas com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do seu nazireado não comerá de coisa alguma, que se faz da vinha, desde os caroços até às cas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do voto do seu nazireado sobre a sua cabeça não passará navalha; até que se cumpram os dias, que se separou ao SENHOR, santo será, deixando crescer livremente o cabelo d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que se separar para o SENHOR não se aproximará do corpo de um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seu pai, ou por sua mãe, por seu irmão, ou por sua irmã, por eles se não contaminará quando forem mortos; porquanto o nazireado do seu Deus está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dias do seu nazireado santo será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vier a morrer junto a ele por acaso, subitamente, que contamine a cabeça do seu nazireado, então no dia da sua purificação rapará a sua cabeça, ao sétimo dia a r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06Z</dcterms:created>
  <dc:creator>Admin</dc:creator>
  <dc:description/>
  <dc:language>en-US</dc:language>
  <cp:lastModifiedBy>Admin</cp:lastModifiedBy>
  <dcterms:modified xsi:type="dcterms:W3CDTF">2008-07-31T00:18:06Z</dcterms:modified>
  <cp:revision>1</cp:revision>
  <dc:subject/>
  <dc:title>Slide 1</dc:title>
</cp:coreProperties>
</file>