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765-B35B-4D0C-8A89-9A6CAD9C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2EF-74F3-4AAA-AFAA-0C8EF58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A4E-5EBF-475A-ADCD-8949444F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8EE-123A-41D9-9AED-657E1EB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105-FEED-49D8-9F84-00251B6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0D2-EF99-4DAA-9076-10C2A463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9A7-D2FA-4BDF-AF7C-C3A6B00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9F0-9817-41ED-9D74-3BEC459A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DB1-052C-4BE2-B1BF-16801A3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E59-08BF-4A15-B4CB-EA353BA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450-AE2C-4269-BF18-F7A46A7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856-F526-45C9-BEC8-2B76480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C0F-69DD-4885-9451-EC3AC404340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que está em Sardes escreve: Isto diz o que tem os sete espíritos de Deus, e as sete estrelas: Conheço as tuas obras, que tens nome de que vives, e estás mo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guardaste a palavra da minha paciência, também eu te guardarei da hora da tentação que há de vir sobre todo o mundo, para tentar os que habitam n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nho sem demora; guarda o que tens, para que ninguém tome a tua coro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quem vencer, eu o farei coluna no templo do meu Deus, e dele nunca sairá; e escreverei sobre ele o nome do meu Deus, e o nome da cidade do meu Deus, a nova Jerusalém, que desce do céu, do meu Deus, e também o meu nov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que está em Laodicéia escreve: Isto diz o Amém, a testemunha fiel e verdadeira, o princípio da criação de De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as tuas obras, que nem és frio nem quente; quem dera foras frio ou quent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, porque és morno, e não és frio nem quente, vomitar-te-ei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mo dizes: Rico sou, e estou enriquecido, e de nada tenho falta; e não sabes que és um desgraçado, e miserável, e pobre, e cego, e nu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conselho-te que de mim compres ouro provado no fogo, para que te enriqueças; e roupas brancas, para que te vistas, e não apareça a vergonha da tua nudez; e que unjas os teus olhos com colírio, para que v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repreendo e castigo a todos quantos amo; sê pois zeloso, e arrepende-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ê vigilante, e confirma os restantes, que estavam para morrer; porque não achei as tuas obras perfeitas diante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stou à porta, e bato; se alguém ouvir a minha voz, e abrir a porta, entrarei em sua casa, e com ele cearei, e ele com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que vencer lhe concederei que se assente comigo no meu trono; assim como eu venci, e me assentei com meu Pai no seu tro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pois, do que tens recebido e ouvido, e guarda-o, e arrepende-te. E, se não vigiares, virei sobre ti como um ladrão, e não saberás a que hora sobre ti vi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ambém tens em Sardes algumas pessoas que não contaminaram suas vestes, e comigo andarão de branco; porquanto são dignas dis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vencer será vestido de vestes brancas, e de maneira nenhuma riscarei o seu nome do livro da vida; e confessarei o seu nome diante de meu Pai e diante dos seus anj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que está em Filadélfia escreve: Isto diz o que é santo, o que é verdadeiro, o que tem a chave de Davi; o que abre, e ninguém fecha; e fecha, e ninguém abr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as tuas obras; eis que diante de ti pus uma porta aberta, e ninguém a pode fechar; tendo pouca força, guardaste a minha palavra, e não negaste o m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farei aos da sinagoga de Satanás, aos que se dizem judeus, e não são, mas mentem: eis que eu farei que venham, e adorem prostrados a teus pés, e saibam que eu te a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14Z</dcterms:created>
  <dc:creator>Admin</dc:creator>
  <dc:description/>
  <dc:language>en-US</dc:language>
  <cp:lastModifiedBy>Admin</cp:lastModifiedBy>
  <dcterms:modified xsi:type="dcterms:W3CDTF">2008-07-30T23:22:14Z</dcterms:modified>
  <cp:revision>1</cp:revision>
  <dc:subject/>
  <dc:title>Slide 1</dc:title>
</cp:coreProperties>
</file>