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38F-D1B1-4BA0-9B07-D4786D24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E24-BC08-4BD4-A82F-5D643AF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A40-ABE2-4845-B3F6-5183220F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C09-A7D4-4FE5-9211-43D46E72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70F-3944-4BBB-A83F-EBCC8844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563-7396-4C0B-918B-9FA2F51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3BD-6953-40FD-8042-61A7D080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7F4-6781-4C80-B876-00461099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29D-3DE8-4AF5-9361-AB6652E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5ED-CF7C-45F0-8E34-7F434288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BD1-3FCC-4732-A4D6-3F7644A9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E45-1234-4F45-9F8E-EBBCE11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2160-7278-4FB0-9240-100C097CFBA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eis para vós ídolos, nem vos levantareis imagem de escultura, nem estátua, nem poreis pedra figurada na vossa terra, para inclinar-vos a ela; porque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eis da colheita velha, há muito tempo guardada, e tirareis fora a velha por causa da n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o meu tabernáculo no meio de vós, e a minha alma de vós não se enfad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rei no meio de vós, e eu vos serei por Deus, e vós me sereis por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 vosso Deus, que vos tirei da terra dos egípcios, para que não fôsseis seus escravos; e quebrei os timões do vosso jugo, e vos fiz andar ere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me ouvirdes, e não cumprirdes todos estes mandame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rejeitardes os meus estatutos, e a vossa alma se enfadar dos meus juízos, não cumprindo todos os meus mandamentos, para invalidar a minha ali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também vos farei isto: porei sobre vós terror, a tísica e a febre ardente, que consumam os olhos e atormentem a alma; e semeareis em vão a vossa semente, pois os vossos inimigos a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a minha face contra vós, e sereis feridos diante de vossos inimigos; e os que vos odeiam, de vós se assenhorearão, e fugireis, sem ninguém vos perseg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inda com estas coisas não me ouvirdes, então eu prosseguirei a castigar-vos sete vezes mais, por causa dos voss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brarei a soberba da vossa força; e farei que os vossos céus sejam como ferro e a vossa terra como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reis os meus sábados, e reverenciareis o meu santuário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vão se gastará a vossa força; a vossa terra não dará a sua colheita, e as árvores da terra não darão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ndardes contrariamente para comigo, e não me quiserdes ouvir, trar-vos-ei pragas sete vezes mais, conforme os voss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viarei entre vós as feras do campo, as quais vos desfilharão, e desfarão o vosso gado, e vos diminuirão; e os vossos caminhos serão des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inda com estas coisas não vos corrigirdes voltando para mim, mas ainda andardes contrariamente para comi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ambém andarei contrariamente para convosco, e eu, eu mesmo, vos ferirei sete vezes mais por causa dos voss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rarei sobre vós a espada, que executará a vingança da aliança; e ajuntados sereis nas vossas cidades; então enviarei a peste entre vós, e sereis entregues na mão d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vos quebrar o sustento do pão, então dez mulheres cozerão o vosso pão num só forno, e devolver-vos-ão o vosso pão por peso; e comereis, mas não vos fart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com isto não me ouvirdes, mas ainda andardes contrariamente para comi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para convosco andarei contrariamente em furor; e vos castigarei sete vezes mais por causa dos voss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ereis a carne de vossos filhos, e a carne de voss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ndardes nos meus estatutos, e guardardes os meus mandamentos, e os cumprir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ruirei os vossos altos, e desfarei as vossas imagens, e lançarei os vossos cadáveres sobre os cadáveres dos vossos deuses; a minha alma se enfadará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duzirei as vossas cidades a deserto, e assolarei os vossos santuários, e não cheirarei o vosso cheiro sua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olarei a terra e se espantarão disso os vossos inimigos que nela mor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alhar-vos-ei entre as nações, e desembainharei a espada atrás de vós; e a vossa terra será assolada, e as vossas cidades serão dese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terra folgará nos seus sábados, todos os dias da sua assolação, e vós estareis na terra dos vossos inimigos; então a terra descansará, e folgará nos seus sá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da assolação descansará, porque não descansou nos vossos sábados, quando habitáveis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s que de vós ficarem, eu porei tal pavor nos seus corações, nas terras dos seus inimigos, que o ruído de uma folha movida os perseguirá; e fugirão como quem foge da espada; e cairão sem ninguém os perseg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irão uns sobre os outros como diante da espada, sem ninguém os perseguir; e não podereis resistir diante dos v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ecereis entre as nações, e a terra dos vossos inimigos vos consum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que entre vós ficarem se consumirão pela sua iniqüidade nas terras dos vossos inimigos, e pela iniqüidade de seus pais com eles se consum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vos darei as chuvas a seu tempo; e a terra dará a sua colheita, e a árvore do campo dará o seu fru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fessarão a sua iniqüidade, e a iniqüidade de seus pais, com as suas transgressões, com que transgrediram contra mim; como também eles andaram contrariamente para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ambém andei para com eles contrariamente, e os fiz entrar na terra dos seus inimigos; se então o seu coração incircunciso se humilhar, e então tomarem por bem o castigo da sua iniqü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me lembrarei da minha aliança com Jacó, e também da minha aliança com Isaque, e também da minha aliança com Abraão me lembrarei, e da terra me lemb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será abandonada por eles, e folgará nos seus sábados, sendo assolada por causa deles; e tomarão por bem o castigo da sua iniqüidade, em razão mesmo de que rejeitaram os meus juízos e a sua alma se enfastiou dos m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mais disto também, estando eles na terra dos seus inimigos, não os rejeitarei nem me enfadarei deles, para consumi-los e invalidar a minha aliança com eles, porque eu sou 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por amor deles me lembrarei da aliança com os seus antepassados, que tirei da terra do Egito perante os olhos dos gentios, para lhes ser por Deu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estatutos, e os juízos, e as leis que deu o SENHOR entre si e os filhos de Israel, no monte Sinai, pela mã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ebulha se vos chegará à vindima, e a vindima se chegará à sementeira; e comereis o vosso pão a fartar, e habitareis seguros na voss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rei paz na terra, e dormireis seguros, e não haverá quem vos espante; e farei cessar os animais nocivos da terra, e pela vossa terra não passará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seguireis os vossos inimigos, e cairão à espada diant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co de vós perseguirão a um cento deles, e cem de vós perseguirão a dez mil; e os vossos inimigos cairão à espada diant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vós olharei, e vos farei frutificar, e vos multiplicarei, e confirmarei a minha alianç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52Z</dcterms:created>
  <dc:creator>Admin</dc:creator>
  <dc:description/>
  <dc:language>en-US</dc:language>
  <cp:lastModifiedBy>Admin</cp:lastModifiedBy>
  <dcterms:modified xsi:type="dcterms:W3CDTF">2008-07-31T00:09:53Z</dcterms:modified>
  <cp:revision>1</cp:revision>
  <dc:subject/>
  <dc:title>Slide 1</dc:title>
</cp:coreProperties>
</file>