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B30-7C1A-4E5E-9004-2B5A4235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EFF-9DFF-4030-BAF3-B4992A5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CB0-E418-44F4-BE58-E1011B6E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0EC-AC15-47C9-8FCD-A0C03F13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A26-7A71-491F-9599-4BCDF2FF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D7A-032D-4338-8E33-CDD8F07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0B3-13DB-4DB4-BCEA-D1D4DC4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BDA-D81D-4787-92D2-9B0A62FF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B8B-3796-4B4E-98C8-7DB9F212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ABB-CBB7-4155-B778-A325862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AC5-9A13-4B15-8C4D-C38929C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772-9E9E-45CC-B046-AFF61B0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8D80-2CE8-4E26-9657-FD0C0F10B9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um altar para queimar o incenso; de madeira de acácia o f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vez no ano Arão fará expiação sobre as suas pontas com o sangue do sacrifício das expiações; uma vez no ano fará expiação sobre ele pelas vossas gerações; santíssimo é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izeres a contagem dos filhos de Israel, conforme a sua soma, cada um deles dará ao SENHOR o resgate da sua alma, quando os contares; para que não haja entre eles praga alguma, quando os cont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passar pelo arrolamento dará isto: a metade de um siclo, segundo o siclo do santuário (este siclo é de vinte geras); a metade de um siclo é a ofert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passar pelo arrolamento, de vinte anos para cima, dará a oferta alç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ico não dará mais, e o pobre não dará menos da metade do siclo, quando derem a oferta alçada ao SENHOR, para fazer expiação por voss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s o dinheiro das expiações dos filhos de Israel, e o darás ao serviço da tenda da congregação; e será para memória aos filhos de Israel diante do SENHOR, para fazer expiação por voss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uma pia de cobre com a sua base de cobre, para lavar; e a porás entre a tenda da congregação e o altar; e nela deitarás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e seus filhos nela lavarão as suas mãos e os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comprimento será de um côvado, e a sua largura de um côvado; será quadrado, e dois côvados a sua altura; dele mesmo serão as suas po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arem na tenda da congregação, lavar-se-ão com água, para que não morram, ou quando se chegarem ao altar para ministrar, para acender a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varão, pois, as suas mãos e os seus pés, para que não morram; e isto lhes será por estatuto perpétuo a ele e à sua descendência n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toma para ti das principais especiarias, da mais pura mirra quinhentos siclos, e de canela aromática a metade, a saber, duzentos e cinqüenta siclos, e de cálamo aromático duzentos e cinqüenta sicl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cássia quinhentos siclos, segundo o siclo do santuário, e de azeite de oliveiras um h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to farás o azeite da santa unção, o perfume composto segundo a obra do perfumista: este será o azeite da santa u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le ungirás a tenda da congregação, e a arca do testemu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esa com todos os seus utensílios, e o candelabro com os seus utensílios, e o altar d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ltar do holocausto com todos os seus utensílios, e a pia com a sua ba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ntificarás estas coisas, para que sejam santíssimas; tudo o que tocar nelas será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ouro puro o forrarás, o seu teto, e as suas paredes ao redor, e as suas pontas; e lhe farás uma coroa de ouro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ungirás a Arão e seus filhos, e os santificarás para me administrarem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ás aos filhos de Israel, dizendo: Este me será o azeite da santa unção nas voss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ungirá com ele a carne do homem, nem fareis outro de semelhante composição; santo é, e será santo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compuser um perfume como este, ou dele puser sobre um estranho, será extirpad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Toma especiarias aromáticas, estoraque, e onicha, e galbano; estas especiarias aromáticas e o incenso puro, em igual propor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to farás incenso, um perfume segundo a arte do perfumista, temperado, puro e sa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parte dele moerás, e porás diante do testemunho, na tenda da congregação, onde eu virei a ti; coisa santíssima vos s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incenso que fareis conforme essa composição, não o fareis para vós mesmos; santo será pa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fizer tal como este para cheirar, será extirpad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 farás duas argolas de ouro debaixo da sua coroa; nos dois cantos as farás, de ambos os lados; e serão para lugares dos varais, com que será lev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arais farás de madeira de acácia, e os forrarás com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rás diante do véu que está diante da arca do testemunho, diante do propiciatório, que está sobre o testemunho, onde me ajuntarei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sobre ele queimará o incenso das especiarias; cada manhã, quando puser em ordem as lâmpadas, o quei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endendo Arão as lâmpadas à tarde, o queimará; este será incenso contínuo perante o SENHOR pelas voss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ferecereis sobre ele incenso estranho, nem holocausto, nem oferta; nem tampouco derramareis sobre ele lib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58Z</dcterms:created>
  <dc:creator>Admin</dc:creator>
  <dc:description/>
  <dc:language>en-US</dc:language>
  <cp:lastModifiedBy>Admin</cp:lastModifiedBy>
  <dcterms:modified xsi:type="dcterms:W3CDTF">2008-07-30T23:32:58Z</dcterms:modified>
  <cp:revision>1</cp:revision>
  <dc:subject/>
  <dc:title>Slide 1</dc:title>
</cp:coreProperties>
</file>