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029-A846-4979-8666-651C64B6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101-8BA5-4A98-93D6-08E0D616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1F3-1DAD-47D8-B0C2-B882E5D9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189-A7F1-45AB-AC55-25B187D0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769-D36F-4C3C-BB6A-7227E856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29C-D8A8-47E7-B118-BBA1EDBA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BFF-1A1E-4DDD-98E2-9325E3DC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A8F-F23A-4AB2-AB4C-4E2FBA27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551F-815B-4C24-B902-BCF0094B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227-DA8C-48EF-8BDF-DB59C5BD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B60-050B-40B5-94F5-20AA9432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7BC0-59A0-41CF-ADF9-04A977D9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F8D8-623D-4C75-82B5-FB5B8117F44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 suma do que temos dito é que temos um sumo sacerdote tal, que está assentado nos céus à destra do trono da majest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a é a aliança que depois daqueles dias Farei com a casa de Israel, diz o Senhor; Porei as minhas leis no seu entendimento, E em seu coração as escreverei; E eu lhes serei por Deus, E eles me serão por pov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ensinará cada um a seu próximo, Nem cada um ao seu irmão, dizendo: Conhece o Senhor; Porque todos me conhecerão, Desde o menor deles até ao ma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rei misericordioso para com suas iniqüidades, E de seus pecados e de suas prevaricações não me lembrarei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 Nova aliança, envelheceu a primeira. Ora, o que foi tornado velho, e se envelhece, perto está de acab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nistro do santuário, e do verdadeiro tabernáculo, o qual o Senhor fundou, e não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 o sumo sacerdote é constituído para oferecer dons e sacrifícios; por isso era necessário que este também tivesse alguma coisa que ofer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se ele estivesse na terra, nem tampouco sacerdote seria, havendo ainda sacerdotes que oferecem dons segundo a le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servem de exemplo e sombra das coisas celestiais, como Moisés divinamente foi avisado, estando já para acabar o tabernáculo; porque foi dito: Olha, faze tudo conforme o modelo que no monte se te most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alcançou ele ministério tanto mais excelente, quanto é mediador de uma melhor aliança que está confirmada em melhores promes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aquela primeira fora irrepreensível, nunca se teria buscado lugar para a seg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repreendendo-os, lhes diz: Eis que virão dias, diz o Senhor, Em que com a casa de Israel e com a casa de Judá estabelecerei uma nova alian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gundo a aliança que fiz com seus pais No dia em que os tomei pela mão, para os tirar da terra do Egito; Como não permaneceram naquela minha aliança, Eu para eles não atentei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47Z</dcterms:created>
  <dc:creator>Admin</dc:creator>
  <dc:description/>
  <dc:language>en-US</dc:language>
  <cp:lastModifiedBy>Admin</cp:lastModifiedBy>
  <dcterms:modified xsi:type="dcterms:W3CDTF">2008-07-30T23:40:47Z</dcterms:modified>
  <cp:revision>1</cp:revision>
  <dc:subject/>
  <dc:title>Slide 1</dc:title>
</cp:coreProperties>
</file>