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79F-C8A4-4E6E-9A2D-CC3C3BB2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D27-A10B-4E18-80E4-1B40F415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3B9-A3D1-4BE5-A7AC-CAA672F3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DAD-A57B-4D33-8738-EB79B2CF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F26-EAF3-458F-BC24-F23988BC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1FA-9789-4FE6-9445-C0B929B2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F82-607C-413E-96D8-AE77E077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885-9818-478A-9EDF-BCB54A58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0C3-0611-4C94-BC92-3C5D27C9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5DA-53FA-402E-9779-0490F6F3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468-A18A-4452-B572-7331536B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E49-AC96-4B24-81D9-7CA134BB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967F-94E1-4DF2-B7CF-C2C54381F12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 não rabiscarás a tua vinha, nem colherás os bagos caídos da tua vinha; deixá-los-ás ao pobre e ao estrangeiro.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urtareis, nem mentireis, nem usareis de falsidade cada um com o seu próxi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jurareis falso pelo meu nome, pois profanarás o nome do teu Deus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primirás o teu próximo, nem o roubarás; a paga do diarista não ficará contigo até pel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maldiçoarás ao surdo, nem porás tropeço diante do cego; mas temerás o teu Deus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rás injustiça no juízo; não respeitarás o pobre, nem honrarás o poderoso; com justiça julgarás o teu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ndarás como mexeriqueiro entre o teu povo; não te porás contra o sangue do teu próximo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diarás a teu irmão no teu coração; não deixarás de repreender o teu próximo, e por causa dele não sofrerás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vingarás nem guardarás ira contra os filhos do teu povo; mas amarás o teu próximo como a ti mesmo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rás os meus estatutos; não permitirás que se ajuntem misturadamente os teus animais de diferentes espécies; no teu campo não semearás sementes diversas, e não vestirás roupa de diversos estofos mistu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 toda a congregação dos filhos de Israel, e dize-lhes: Santos sereis, porque eu, o SENHOR vosso Deus, sou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um homem se deitar com uma mulher que for serva desposada com outro homem, e não for resgatada nem se lhe houver dado liberdade, então serão açoitados; não morrerão, pois ela não foi libert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r expiação da sua culpa, trará ao SENHOR, à porta da tenda da congregação, um carneiro da expi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 o carneiro da expiação da culpa, o sacerdote fará propiciação por ele perante o SENHOR, pelo pecado que cometeu; e este lhe será perdo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tiverdes entrado na terra, e plantardes toda a árvore de comer, ser-vos-á incircunciso o seu fruto; três anos vos será incircunciso; dele não se com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o quarto ano todo o seu fruto será santo para dar louvore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quinto ano comereis o seu fruto, para que vos faça aumentar a sua produção.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mereis coisa alguma com o sangue; não agourareis nem adivinh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rtareis o cabelo, arredondando os cantos da vossa cabeça, nem danificareis as extremidades da tua bar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s mortos não dareis golpes na vossa carne; nem fareis marca alguma sobre vós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taminarás a tua filha, fazendo-a prostituir-se; para que a terra não se prostitua, nem se encha de ma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um temerá a sua mãe e a seu pai, e guardará os meus sábados.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reis os meus sábados, e o meu santuário reverenciareis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virareis para os adivinhadores e encantadores; não os busqueis, contaminando-vos com eles.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ante das cãs te levantarás, e honrarás a face do ancião; e temerás o teu Deus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o estrangeiro peregrinar convosco na vossa terra, não o oprimi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um natural entre vós será o estrangeiro que peregrina convosco; amá-lo-ás como a ti mesmo, pois estrangeiros fostes na terra do Egito.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metereis injustiça no juízo, nem na vara, nem no peso, nem na me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alanças justas, pesos justos, efa justo, e justo him tereis. Eu sou o SENHOR vosso Deus, que vos tirei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guardareis todos os meus estatutos, e todos os meus juízos, e os cumprireis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virareis para os ídolos nem vos fareis deuses de fundição.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ferecerdes sacrifício pacífico ao SENHOR, da vossa própria vontade o oferec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em que o sacrificardes, e no dia seguinte, se comerá; mas o que sobejar ao terceiro dia, será queimado com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lguma coisa dele for comida ao terceiro dia, coisa abominável é; não será ac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que o comer levará a sua iniqüidade, porquanto profanou a santidade do SENHOR; por isso tal alma será extirpada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ambém fizerdes a colheita da vossa terra, o canto do teu campo não segarás totalmente, nem as espigas caídas colherás da tua se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9:18Z</dcterms:created>
  <dc:creator>Admin</dc:creator>
  <dc:description/>
  <dc:language>en-US</dc:language>
  <cp:lastModifiedBy>Admin</cp:lastModifiedBy>
  <dcterms:modified xsi:type="dcterms:W3CDTF">2008-07-31T00:09:18Z</dcterms:modified>
  <cp:revision>1</cp:revision>
  <dc:subject/>
  <dc:title>Slide 1</dc:title>
</cp:coreProperties>
</file>