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64A-6559-4987-8296-CAFE0875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028-3188-4556-AB18-948C5EAF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C8A-393C-405B-A0FF-51FFA681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7CA-25B9-491E-8E64-75F96D13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301-E27A-4368-BF01-201B2B82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A91-C937-4AD6-BFE1-2DB50C9F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FD4-FDCB-4486-B511-3CAC88F8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A1E-FA40-4C89-9877-B07ADA67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125-F880-4F1D-ABF2-ECF51BAE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619-2543-47AE-B91E-75DADFF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562-BE52-433D-BA0D-87CB2F57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5B7-19E6-4E1E-8A8C-0B238F6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7074-6A43-4994-BCC9-EB2ACEF47E1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isseste: As duas nações e as duas terras serão minhas, e as possuiremos, sendo que o SENHOR se achava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vivo eu, diz o Senhor DEUS, que procederei conforme a tua ira, e conforme a tua inveja, de que usaste, no teu ódio contra eles; e me farei conhecer entre eles, quando te jul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ás que eu, o SENHOR, ouvi todas as tuas blasfêmias, que proferiste contra os montes de Israel, dizendo: Já estão assolados, a nós nos são entregues por pa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s engrandecestes contra mim com a vossa boca, e multiplicastes as vossas palavras contra mim. Eu o ou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Quando toda a terra se alegrar eu te porei em de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e alegraste da herança da casa de Israel, porque foi assolada, assim te farei a ti; assolado serás, ó monte Seir, e todo o Edom, sim, todo ele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rige o teu rosto contra o monte Seir, e profetiza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-lhe: Assim diz o Senhor DEUS: Eis que eu estou contra ti, ó monte Seir, e estenderei a minha mão contra ti, e te farei maior de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cidades farei desertas, e tu serás desolado; e saberá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guardaste inimizade perpétua, e espalhaste os filhos de Israel pelo poder da espada no tempo da sua calamidade e no tempo da iniqüidade f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vivo eu, diz o Senhor DEUS, que te preparei para sangue, e o sangue te perseguirá; visto que não odiaste o sangue, o sangue te perseg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do monte Seir uma extrema desolação, e exterminarei dele o que por ele passar, e o que por ele v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cherei os seus montes dos seus mortos; nos teus outeiros, e nos teus vales, e em todos os teus rios cairão os mortos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solações perpétuas te porei, e as tuas cidades nunca mais serão habitadas; assim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40Z</dcterms:created>
  <dc:creator>Admin</dc:creator>
  <dc:description/>
  <dc:language>en-US</dc:language>
  <cp:lastModifiedBy>Admin</cp:lastModifiedBy>
  <dcterms:modified xsi:type="dcterms:W3CDTF">2008-07-30T23:35:40Z</dcterms:modified>
  <cp:revision>1</cp:revision>
  <dc:subject/>
  <dc:title>Slide 1</dc:title>
</cp:coreProperties>
</file>