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D46-0DD4-4E0D-8167-C08F7353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D1F-199C-4273-A6F2-3488AB4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3A4-DFE0-4A5F-BF7A-54045FEE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CC1-6866-46F1-BBA0-B756F7FC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31B-9864-4A59-9F8B-FC3587B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C1E-77AA-446F-97E4-DAD3F73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83D-150B-429F-8028-142B44E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99C-0EA4-4D99-BF22-928E941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6C4-8B40-45F6-BC46-566E486E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B25-3323-4E05-8210-09C7AA5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BF4-E01C-4AC2-9675-BF9CD5C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964-74B9-46C9-BBD2-89EF644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E0AD-F47C-490D-A022-6BD8E58DDC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i, SENHOR, confio; nunca seja eu confu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eus inimigos falam contra mim, e os que espiam a minha alma consultam ju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Deus o desamparou; persegui-o e tomai-o, pois não há quem o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não te alongues de mim; meu Deus, apressa-te em ajud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confundidos e consumidos os que são adversários da minha alma; cubram-se de opróbrio e de confusão aqueles que procuram o m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esperarei continuamente, e te louvarei cada vez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boca manifestará a tua justiça e a tua salvação todo o dia, pois não conheço o número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rei na força do Senhor DEUS, farei menção da tua justiça, e só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ste-me, ó Deus, desde a minha mocidade; e até aqui tenho anunciado as t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também, quando estou velho e de cabelos brancos, não me desampares, ó Deus, até que tenha anunciado a tua força a esta geração, e o teu poder a todos os vindo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 tua justiça, ó Deus, está muito alta, pois fizeste grandes coisas. Ó Deus, quem é semelhante 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 na tua justiça, e faze-me escapar; inclina os teus ouvidos para mim, e salva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que me tens feito ver muitos males e angústias, me darás ainda a vida, e me tirarás dos abism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umentarás a minha grandeza, e de novo me consol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 te louvarei com o saltério, bem como à tua verdade, ó meu Deus; cantarei com harpa a ti, ó Sant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lábios exultarão quando eu te cantar, assim como a minha alma, que tu rem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língua falará da tua justiça todo o dia; pois estão confundidos e envergonhados aqueles que procuram o m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 tu a minha habitação forte, à qual possa recorrer continuamente. Deste um mandamento que me salva, pois tu és a minha rocha e a minh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meu Deus, das mãos do ímpio, das mãos do homem injusto e cr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 és a minha esperança, Senhor DEUS; tu és a minha confiança desde a minh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i tenho sido sustentado desde o ventre; tu és aquele que me tiraste das entranhas de minha mãe; o meu louvor será para ti const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u como um prodígio para muitos, mas tu és o meu refúgi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a-se a minha boca do teu louvor e da tua glória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rejeites no tempo da velhice; não me desampares, quando se for acabando a minh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09Z</dcterms:created>
  <dc:creator>Admin</dc:creator>
  <dc:description/>
  <dc:language>en-US</dc:language>
  <cp:lastModifiedBy>Admin</cp:lastModifiedBy>
  <dcterms:modified xsi:type="dcterms:W3CDTF">2008-07-31T00:26:09Z</dcterms:modified>
  <cp:revision>1</cp:revision>
  <dc:subject/>
  <dc:title>Slide 1</dc:title>
</cp:coreProperties>
</file>