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19D-D229-49D3-AF88-F9421E5D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983-E3ED-48E5-AE03-09F777A3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FDB-971E-48A0-9394-07801502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A7D8-7CFD-4154-9D3A-62EEC4CB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BA5-DC59-4A25-BCAF-14A01607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4E9-7AD6-4E94-9169-B15B6D9B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A97-604B-4899-933D-552A8BB4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ABC-CF51-42C3-833D-DAF474D8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241-C22C-4085-AA98-5D47973A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E177-0609-4430-BCB4-9D595648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4CE-3F72-4DE2-9BED-07B2902D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D70-D604-47AD-8406-F794F257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413C-5D96-456B-BF1C-7219B3F0B08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SO da palavra do SENHOR sobre Israel: Fala o SENHOR, o que estende o céu, e que funda a terra, e que forma o espírito do homem dentro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sobre a casa de Davi, e sobre os habitantes de Jerusalém, derramarei o Espírito de graça e de súplicas; e olharão para mim, a quem traspassaram; e pranteá-lo-ão sobre ele, como quem pranteia pelo filho unigênito; e chorarão amargamente por ele, com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será grande o pranto em Jerusalém, como o pranto de Hadade-Rimom no vale de Meg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terra pranteará, cada família à parte: a família da casa de Davi à parte, e suas mulheres à parte; e a família da casa de Natã à parte, e suas mulheres à par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família da casa de Levi à parte, e suas mulheres à parte; a família de Simei à parte, e suas mulheres à pa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mais famílias remanescentes, cada família à parte, e suas mulheres à pa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farei de Jerusalém um copo de tremor para todos os povos em redor, e também para Judá, durante o cerco contr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naquele dia que farei de Jerusalém uma pedra pesada para todos os povos; todos os que a carregarem certamente serão despedaçados; e ajuntar-se-ão contra ela todo o povo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, diz o SENHOR, ferirei de espanto a todos os cavalos, e de loucura os que montam neles; mas sobre a casa de Judá abrirei os meus olhos, e ferirei de cegueira a todos os cavalos do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s governadores de Judá dirão no seu coração: Os habitantes de Jerusalém são a minha força no SENHOR dos Exércitos,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porei os governadores de Judá como um braseiro ardente no meio da lenha, e como um facho de fogo entre gavelas; e à direita e à esquerda consumirão a todos os povos em redor, e Jerusalém será habitada outra vez no seu lugar, em Jerusalé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salvará primeiramente as tendas de Judá, para que a glória da casa de Davi e a glória dos habitantes de Jerusalém não seja exaltada sobre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o SENHOR protegerá os habitantes de Jerusalém; e o mais fraco dentre eles naquele dia será como Davi, e a casa de Davi será como Deus, como o anjo do SENHOR diante d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naquele dia, que procurarei destruir todas as nações que vierem contra Jerusalé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40Z</dcterms:created>
  <dc:creator>Admin</dc:creator>
  <dc:description/>
  <dc:language>en-US</dc:language>
  <cp:lastModifiedBy>Admin</cp:lastModifiedBy>
  <dcterms:modified xsi:type="dcterms:W3CDTF">2008-07-31T00:29:40Z</dcterms:modified>
  <cp:revision>1</cp:revision>
  <dc:subject/>
  <dc:title>Slide 1</dc:title>
</cp:coreProperties>
</file>