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86B-0218-449C-93EE-F93AE58E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DD7-2D42-40C5-B53D-BD6E97D9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971-4762-41C4-A8BA-0A14B537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DFF-9655-4346-B3B1-FAB940A5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BFB-B275-4F2B-8B30-739549E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F02-8C60-4C95-B890-22FBF07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F6E-AF1D-47CB-84DC-025159B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A38-C34A-46B3-B29F-64E73CC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8F1-B86F-4E27-9A66-1A87E2E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14B-8D7C-494F-9F71-B1AB71A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A5D-6761-48EF-A65F-EF4E4FE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205-BA4D-42E0-BD7A-D3A8945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0BA4-96ED-49EF-8C70-B68464C517B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U que, no decurso de um ano, no tempo em que os reis costumam sair para a guerra, Joabe levou o exército, e destruiu a terra dos filhos de Amom, e veio, e cercou a Rabá; porém Davi ficou em Jerusalém; e Joabe feriu a Rabá, e a destr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irou a coroa da cabeça do rei deles, e achou nela o peso de um talento de ouro, e havia nela pedras preciosas; e foi posta sobre a cabeça de Davi; e levou da cidade mui gran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evou o povo que estava nela, e os fez trabalhar com a serra, e com talhadeiras de ferro e com machados; e assim fez Davi com todas as cidades dos filhos de Amom; então voltou Davi, com todo o povo,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isto, aconteceu que, levantando-se guerra em Gezer, com os filisteus, então Sibecai, o husatita, feriu a Sipai, dos filhos do gigante; e ficaram subju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haver guerra com os filisteus; e El-Hanã, filho de Jair, feriu a Lami, irmão de Golias, o giteu, cuja haste da lança era como órgão de tece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ainda outra guerra em Gate; onde havia um homem de grande estatura, e tinha vinte e quatro dedos, seis em cada mão, e seis em cada pé, e que também era filho do gig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juriou a Israel; porém Jônatas, filho de Simei, irmão de Davi, o feri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nasceram ao gigante em Gate; e caíram pela mão de Davi e pela mão d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28Z</dcterms:created>
  <dc:creator>Admin</dc:creator>
  <dc:description/>
  <dc:language>en-US</dc:language>
  <cp:lastModifiedBy>Admin</cp:lastModifiedBy>
  <dcterms:modified xsi:type="dcterms:W3CDTF">2008-07-30T23:43:28Z</dcterms:modified>
  <cp:revision>1</cp:revision>
  <dc:subject/>
  <dc:title>Slide 1</dc:title>
</cp:coreProperties>
</file>