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F48C-FAE1-4973-8E79-45F5A716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1D8A-3150-4889-9404-0E37AEC8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3E45-90C1-4F40-8EAE-15813A42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0C2E-5C33-491A-9933-53131D1B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2CA1-118D-4455-AB9F-5A5971AC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6A6C-0701-46F2-8CCC-FFB3795C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CE01-82CF-416D-87C5-D399B394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7F9A-17FC-44F5-90C4-78B24BDE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5C38-BAFF-4E55-992E-D011D79B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815C-1FA2-4D5A-8085-6454E300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2197-74AC-4211-9FFA-F5F59989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AAC4-D411-4A83-BE4E-8B7E0D5E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E07C-B397-43D3-BE68-3B823A5CCC1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liberei isto comigo mesmo: não ir mais ter convosco em trist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quem perdoardes alguma coisa, também eu; porque, o que eu também perdoei, se é que tenho perdoado, por amor de vós o fiz na presença de Cristo; para que não sejamos vencidos por Sataná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ignoramos os seus ard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quando cheguei a Trôade para pregar o evangelho de Cristo, e abrindo-se-me uma porta no SENH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ive descanso no meu espírito, porque não achei ali meu irmão Tito; mas, despedindo-me deles, parti para a Maced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graças a Deus, que sempre nos faz triunfar em Cristo, e por meio de nós manifesta em todo o lugar a fragrância do seu conhec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ara Deus somos o bom perfume de Cristo, nos que se salvam e nos que se perd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estes certamente cheiro de morte para morte; mas para aqueles cheiro de vida para vida. E para estas coisas quem é idône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ós não somos, como muitos, falsificadores da palavra de Deus, antes falamos de Cristo com sinceridade, como de Deus na presenç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eu vos entristeço, quem é que me alegrará, senão aquele que por mim foi contrista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crevi-vos isto mesmo, para que, quando lá for, não tenha tristeza da parte dos que deveriam alegrar-me; confiando em vós todos, que a minha alegria é a de todos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m muita tribulação e angústia do coração vos escrevi, com muitas lágrimas, não para que vos entristecêsseis, mas para que conhecêsseis o amor que abundantemente vos te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alguém me contristou, não me contristou a mim senão em parte, para vos não sobrecarregar a vós to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asta-lhe ao tal esta repreensão feita por mu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aneira que pelo contrário deveis antes perdoar-lhe e consolá-lo, para que o tal não seja de modo algum devorado de demasiada trist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vos rogo que confirmeis para com ele o vosso 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isso vos escrevi também, para por esta prova saber se sois obedientes em tu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8:33Z</dcterms:created>
  <dc:creator>Admin</dc:creator>
  <dc:description/>
  <dc:language>en-US</dc:language>
  <cp:lastModifiedBy>Admin</cp:lastModifiedBy>
  <dcterms:modified xsi:type="dcterms:W3CDTF">2008-07-30T23:48:33Z</dcterms:modified>
  <cp:revision>1</cp:revision>
  <dc:subject/>
  <dc:title>Slide 1</dc:title>
</cp:coreProperties>
</file>