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AE9-7294-452E-A86F-08D87DA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DFD-D0DE-4C8A-9BAE-9F67000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222-DA2A-45A4-BFA3-85E37C4D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9C9-865E-4B08-A52C-43166BAB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13C-7DA8-4779-923E-91E25B56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1FB-6CED-474B-87F0-048B23BA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44B-1DA7-4799-8C49-0969BC8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F0D-28ED-49BC-ADB9-92D8B02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DAE-3CB6-4FCE-8F2E-4F75066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C39-1C9C-414A-B027-6A1D4B7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D9B-6D03-4ACF-A22F-412816C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7E3-7BAC-48A0-9E20-BBAF4E8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4745-0C8A-49E1-B4E6-C4E0FED39C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tão vinte e cinco anos de idade, quando começou a reinar, e reinou dezesseis anos em Jerusalém; e era o nome de sua mãe Jerusa, filha de Zad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conforme a tudo o que fizera Uzias, seu pai, exceto que não entrou no templo do SENHOR. E o povo ainda se corromp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dificou a porta superior da casa do SENHOR, e também edificou muitas obras sobre o muro de O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cidades nas montanhas de Judá, e castelos e torres nos bosq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ambém guerreou contra o rei dos filhos de Amom, e prevaleceu sobre eles, de modo que os filhos de Amom naquele ano lhe deram cem talentos de prata, e dez mil coros de trigo, e dez mil de cevada; isto lhe trouxeram os filhos de Amom também no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fortificou Jotão, porque dirigiu os seus caminhos na presença d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restante dos atos de Jotão, e todas as suas guerras e os seus caminhos, eis que estão escritos no livro dos reis de Israel 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vinte e cinco anos de idade, quando começou a reinar, e reinou dezesseis anos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Jotão com seus pais, e sepultaram-no na cidade de Davi; e Acaz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15Z</dcterms:created>
  <dc:creator>Admin</dc:creator>
  <dc:description/>
  <dc:language>en-US</dc:language>
  <cp:lastModifiedBy>Admin</cp:lastModifiedBy>
  <dcterms:modified xsi:type="dcterms:W3CDTF">2008-07-30T23:50:15Z</dcterms:modified>
  <cp:revision>1</cp:revision>
  <dc:subject/>
  <dc:title>Slide 1</dc:title>
</cp:coreProperties>
</file>