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0FE-95A1-4A97-9740-DDC561CD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99C-47AC-454A-B689-2FE8379A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532-B77A-4257-9A6B-6CF05856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392-9D13-40C4-9414-3C36005B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04E-2BAB-4059-B6CD-B90AA66B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DB7-003B-406F-ACF9-7B90C49A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082-488B-4B4C-8A64-B8A2B422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DAE-066C-46BF-ADB1-5241090C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CE05-6052-46B5-B2C0-E0E733A4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1E9-9789-410C-9857-877C6272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94E-CD83-4A0F-BCEE-EAE83A6A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FBD-A45D-4B44-86D6-05157A81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BFC3-BBB7-4F4C-BCA9-A909FC7A42E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ó responde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sua mão está a alma de tudo quanto vive, e o espírito de toda a carne huma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o ouvido não provará as palavras, como o paladar prova as comid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s idosos está a sabedoria, e na longevidade o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ele está a sabedoria e a força; conselho e entendimento t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le derruba, e ninguém há que edifique; prende um homem, e ninguém há que o sol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le retém as águas, e elas secam; e solta-as, e elas transtornam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ele está a força e a sabedoria; seu é o que erra e o que o faz er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conselheiros leva despojados, e aos juízes faz desvai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lta a autoridade dos reis, e ata o cinto aos seus lom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sacerdotes leva despojados, aos poderosos transto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vós sois o povo, e convosco morrerá a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acreditados tira a fala, e tira o entendimento aos anci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rama desprezo sobre os príncipes, e afrouxa o cinto dos for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s trevas descobre coisas profundas, e traz à luz a sombra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ltiplica as nações e as faz perecer; dispersa as nações, e de novo as recond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a o entendimento aos chefes dos povos da terra, e os faz vaguear pelos desertos, sem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 trevas andam às apalpadelas, sem terem luz, e os faz desatinar como éb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u tenho entendimento como vós, e não vos sou inferior; e quem não sabe tais coisas como ess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motivo de riso para os meus amigos; eu, que invoco a Deus, e ele me responde; o justo e perfeito serve de zomb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cha desprezível é, na opinião do que está descansado, aquele que está pronto a vacilar com o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tendas dos assoladores têm descanso, e os que provocam a Deus estão seguros; nas suas mãos Deus lhes põe t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pergunta agora às alimárias, e cada uma delas te ensinará; e às aves dos céus, e elas te farão sab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fala com a terra, e ela te ensinará; até os peixes do mar te cont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não entende, por todas estas coisas, que a mão do SENHOR fez i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0:55Z</dcterms:created>
  <dc:creator>Admin</dc:creator>
  <dc:description/>
  <dc:language>en-US</dc:language>
  <cp:lastModifiedBy>Admin</cp:lastModifiedBy>
  <dcterms:modified xsi:type="dcterms:W3CDTF">2008-07-31T00:00:55Z</dcterms:modified>
  <cp:revision>1</cp:revision>
  <dc:subject/>
  <dc:title>Slide 1</dc:title>
</cp:coreProperties>
</file>