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CF0-78E5-470D-9E37-2DAC9E71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C6B-B41A-4E2D-80D8-332CB156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D35-6B0C-4FBA-AA52-7A36BCFF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513-6E15-4066-93B5-0DA0577A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F0B-A00D-41FE-9888-8960A6E5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4D1-8511-435A-BF67-DD73E0D3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855-3019-41F3-A288-19D2F688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833-272E-494A-8F0F-88A79266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E76-5163-45FF-BC9F-44E7F6DF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1E1-8E6E-4D0B-8473-5563F29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C35-6DE9-47A7-915C-2522B0B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3FE-8EB1-4116-A5B6-2C9E86C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A516-38E9-4013-BA77-45274DD7E55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TE mulheres naquele dia lançarão mão de um homem, dizendo: Nós comeremos do nosso pão, e nos vestiremos do que é nosso; tão-somente queremos ser chamadas pelo teu nome; tira o nosso oprób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o renovo do SENHOR será cheio de beleza e de glória; e o fruto da terra excelente e formoso para os que escaparem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aquele que for deixado em Sião, e ficar em Jerusalém, será chamado santo; todo aquele que estiver inscrito entre os viventes em Jerusa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Senhor lavar a imundícia das filhas de Sião, e limpar o sangue de Jerusalém, do meio dela, com o espírito de justiça, e com o espírito de ar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iará o SENHOR sobre todo o lugar do monte de Sião, e sobre as suas assembléias, uma nuvem de dia e uma fumaça, e um resplendor de fogo flamejante de noite; porque sobre toda a glória haverá prote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rá um tabernáculo para sombra contra o calor do dia; e para refúgio e esconderijo contra a tempestade e a chu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33Z</dcterms:created>
  <dc:creator>Admin</dc:creator>
  <dc:description/>
  <dc:language>en-US</dc:language>
  <cp:lastModifiedBy>Admin</cp:lastModifiedBy>
  <dcterms:modified xsi:type="dcterms:W3CDTF">2008-07-30T23:54:33Z</dcterms:modified>
  <cp:revision>1</cp:revision>
  <dc:subject/>
  <dc:title>Slide 1</dc:title>
</cp:coreProperties>
</file>