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9B9-EFF2-4E67-8244-F4F303E6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6C6-E873-4426-9B74-9683C86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7FC-7935-4F60-B03E-D8007963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249-B07F-47B7-96F9-64E941B5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8B6-70BB-4F3C-9348-2B64487F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023-E997-4C58-99AD-C2784C9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B5F-AC19-4CE6-B988-8BF4ACA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503-3575-4D27-88EE-A42F7C1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77B-D78D-406B-A84F-7E51FF3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1B0-93DB-4B83-BFE4-9ACC46A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9D5-2D47-40C8-9369-5049C66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7C0-E496-46E5-AB6B-D0866F3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16C-8229-41C5-B9AB-A7B1C8AD3E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s dias em que os juízes julgavam, houve uma fome na terra; por isso um homem de Belém de Judá saiu a peregrinar nos campos de Moabe, ele e sua mulher, e seus doi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Certamente voltaremos contigo a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emi disse: Voltai, minhas filhas. Por que iríeis comigo? Tenho eu ainda no meu ventre mais filhos, para que vos sejam por mari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i, filhas minhas, ide-vos embora, que já mui velha sou para ter marido; ainda quando eu dissesse: Tenho esperança, ou ainda que esta noite tivesse marido e ainda tivesse fil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á-los-íeis até que viessem a ser grandes? Deter-vos-íeis por eles, sem tomardes marido? Não, filhas minhas, que mais amargo me é a mim do que a vós mesmas; porquanto a mão do SENHOR se descarregou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ntaram a sua voz, e tornaram a chorar; e Orfa beijou a sua sogra, porém Rute se apegou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Noemi: Eis que voltou tua cunhada ao seu povo e aos seus deuses; volta tu também após tua cunh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Rute: Não me instes para que te abandone, e deixe de seguir-te; porque aonde quer que tu fores irei eu, e onde quer que pousares, ali pousarei eu; o teu povo é o meu povo, o teu Deus é o m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quer que morreres morrerei eu, e ali serei sepultada. Faça-me assim o SENHOR, e outro tanto, se outra coisa que não seja a morte me separa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Noemi, que de todo estava resolvida a ir com ela, deixou de lhe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foram-se ambas, até que chegaram a Belém; e sucedeu que, entrando elas em Belém, toda a cidade se comoveu por causa delas, e diziam: Não é esta Noem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nome deste homem Elimeleque, e o de sua mulher Noemi, e os de seus dois filhos Malom e Quiliom, efrateus, de Belém de Judá; e chegaram aos campos de Moabe, e fic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a lhes dizia: Não me chameis Noemi; chamai-me Mara; porque grande amargura me tem dado 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ia parti, porém vazia o SENHOR me fez tornar; por que pois me chamareis Noemi? O SENHOR testifica contra mim, e o Todo-Poderoso me tem feit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oemi voltou, e com ela Rute a moabita, sua nora, que veio dos campos de Moabe; e chegaram a Belém no princípio da colheita das cev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Elimeleque, marido de Noemi; e ficou ela com os seus dois fil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tomaram para si mulheres moabitas; e era o nome de uma Orfa, e o da outra Rute; e ficaram ali quase dez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ram também ambos, Malom e Quiliom, ficando assim a mulher desamparada dos seus dois filhos e de s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ela com as suas noras, e voltou dos campos de Moabe, porquanto na terra de Moabe ouviu que o SENHOR tinha visitado o seu povo, dando-lh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iu do lugar onde estivera, e as suas noras com ela. E, indo elas caminhando, para voltarem para a terra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Noemi às suas noras: Ide, voltai cada uma à casa de sua mãe; e o SENHOR use convosco de benevolência, como vós usastes com os falecidos 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ute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os dê que acheis descanso cada uma em casa de seu marido. E, beijando-as ela, levantaram a sua voz e ch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57Z</dcterms:created>
  <dc:creator>Admin</dc:creator>
  <dc:description/>
  <dc:language>en-US</dc:language>
  <cp:lastModifiedBy>Admin</cp:lastModifiedBy>
  <dcterms:modified xsi:type="dcterms:W3CDTF">2008-07-31T00:23:57Z</dcterms:modified>
  <cp:revision>1</cp:revision>
  <dc:subject/>
  <dc:title>Slide 1</dc:title>
</cp:coreProperties>
</file>