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E95E-489F-45BF-84A2-E085B2FC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239-5CF7-4454-AFC2-27E8FCD0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12BB-D047-4319-8B34-0B66A714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6CC1-15BB-49B9-B58A-EED812A3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749E-56CB-4568-81F2-D6138C2C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E27B-4395-4B4A-AC7F-49484C75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9948-28BA-4E44-A523-59312CAC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0133-469C-482C-A920-8E36923C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2735-6FAB-417B-976B-C6EA9B5D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4F6E-2442-4B4E-B82D-C219D9C6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B6DD-11DC-4821-ABF0-6B9BE7E6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DC44-DB7A-4A01-9F38-277DC797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B34F-43F3-4791-B897-5AB95514864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ERAM os zifeus a Saul, a Gibeá, dizendo: Não está Davi escondido no outeiro de Haquilá, defronte de Jesimo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Davi: Vive o SENHOR que o SENHOR o ferirá, ou o seu dia chegará em que morra, ou descerá para a batalha e per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me guarde, de que eu estenda a mão contra o ungido do SENHOR; agora, porém, toma a lança que está à sua cabeceira e a bilha de água, e vamo-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ou, pois, Davi a lança e a bilha de água, da cabeceira de Saul, e foram-se; e ninguém houve que o visse, nem que o advertisse, nem que acordasse; porque todos estavam dormindo, porque da parte do SENHOR havia caído sobre eles um profundo so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, passando ao outro lado, pôs-se no cume do monte ao longe, de maneira que entre eles havia grande distâ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bradou ao povo, e a Abner, filho de Ner, dizendo: Não responderás, Abner? Então Abner respondeu e disse: Quem és tu, que bradas ao re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Davi a Abner: Porventura não és homem? E quem há em Israel como tu? Por que, pois, não guardaste o rei, teu senhor? Porque um do povo veio para destruir o rei, t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é bom isso, que fizeste; vive o SENHOR, que sois dignos de morte, vós que não guardastes a vosso senhor, o ungido do SENHOR; vede, pois, agora onde está a lança do rei, e a bilha de água, que tinha à sua cabec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onheceu Saul a voz de Davi, e disse: Não é esta a tua voz, meu filho Davi? E disse Davi: É minha voz, ó rei m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: Por que persegue o meu SENHOR tanto o seu servo? Que fiz eu? E que maldade se acha nas minhas mã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, pois, agora, te rogo, rei meu SENHOR, as palavras de teu servo: Se o SENHOR te incita contra mim, receba ele a oferta de alimentos; se, porém, são os filhos dos homens, malditos sejam perante o SENHOR; pois eles me têm expulsado hoje para que eu n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ul se levantou e desceu ao deserto de Zife, e com ele três mil homens escolhidos de Israel, a buscar a Davi no deserto de Zif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não se derrame o meu sangue na terra diante do SENHOR; pois saiu o rei de Israel em busca de uma pulga, como quem persegue uma perdiz nos mo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Saul: Pequei; volta, meu filho Davi, porque não tornarei a fazer-te mal; porque foi hoje preciosa a minha vida aos teus olhos; eis que procedi loucamente, e errei grandissim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vi então respondeu, e disse: Eis aqui a lança do rei; venha cá um dos moços, e leve-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, porém, pague a cada um a sua justiça e a sua lealdade; pois o SENHOR te entregou hoje na minha mão, porém não quis estender a minha mão contra o ungid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, assim como foi a tua vida hoje de tanta estima aos meus olhos, assim seja a minha vida de muita estima aos olhos do SENHOR, e ele me livre de toda a tribul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ul disse a Davi: Bendito sejas tu, meu filho Davi; pois grandes coisas farás e também prevalecerás. Então Davi se foi pelo seu caminho e Saul voltou para o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ampou-se Saul no outeiro de Haquilá, que está defronte de Jesimom, junto ao caminho; porém Davi ficou no deserto, e viu que Saul vinha seguindo-o n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Davi enviou espias, e soube que Saul tinha vi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se levantou, e foi ao lugar onde Saul se tinha acampado; viu Davi o lugar onde se tinha deitado Saul, e Abner, filho de Ner, capitão do seu exército; e Saul estava deitado dentro do lugar dos carros, e o povo estava acampado ao redor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rigindo-se Davi a Aimeleque, o heteu, e a Abisai, filho de Zeruia, irmão de Joabe, disse: Quem descerá comigo a Saul ao arraial? E respondeu Abisai: Eu descerei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am, pois, Davi e Abisai de noite ao povo, e eis que Saul estava deitado dormindo dentro do lugar dos carros, e a sua lança estava fincada na terra à sua cabeceira; e Abner e o povo deitavam-se ao redor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Abisai a Davi: Deus te entregou hoje nas mãos o teu inimigo; deixa-me, pois, agora encravá-lo com a lança de uma vez na terra, e não o ferirei segunda v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avi a Abisai: Nenhum dano lhe faças; porque quem estendeu a sua mão contra o ungido do SENHOR, e ficou inocen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7:50Z</dcterms:created>
  <dc:creator>Admin</dc:creator>
  <dc:description/>
  <dc:language>en-US</dc:language>
  <cp:lastModifiedBy>Admin</cp:lastModifiedBy>
  <dcterms:modified xsi:type="dcterms:W3CDTF">2008-07-30T23:47:50Z</dcterms:modified>
  <cp:revision>1</cp:revision>
  <dc:subject/>
  <dc:title>Slide 1</dc:title>
</cp:coreProperties>
</file>