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EEA1-745B-4C7D-B609-00E2C845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915A-24C2-447C-9ED8-7F6A4F59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506C-0DFB-4414-B47B-B08E7A15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19A1-00D2-4270-9C95-03D956CD1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53D1-FD4C-4C13-B0EC-8A9424C5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4CA5-54CA-47A7-AB69-9C4F390C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54B6-0E4B-4234-A233-8FE2FAF0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D487-C417-4F85-9921-924AE444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60B4-D27E-419A-B6BA-A626BE86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1F20-08A0-4D3E-801C-CFB278C5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A672-BDAC-4EB6-8B1D-9C2B0E43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5EB6-70B9-4664-B796-84BED784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B0DF-CBC9-4B31-87E0-074BE3174FF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ECADO de Judá está escrito com um ponteiro de ferro, com ponta de diamante, gravado na tábua do seu coração e nas pontas dos vossos altar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o SENHOR, esquadrinho o coração e provo os rins; e isto para dar a cada um segundo os seus caminhos e segundo o fruto das suas 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a perdiz, que choca ovos que não pôs, assim é aquele que ajunta riquezas, mas não retamente; no meio de seus dias as deixará, e no seu fim será um insensa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trono de glória, posto bem alto desde o princípio, é o lugar do nosso santuá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SENHOR, esperança de Israel, todos aqueles que te deixam serão envergonhados; os que se apartam de mim serão escritos sobre a terra; porque abandonam o SENHOR, a fonte das águas vi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ura-me, SENHOR, e sararei; salva-me, e serei salvo; porque tu és o meu louv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les me dizem: Onde está a palavra do SENHOR? Venha ag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u não me apressei em ser o pastor seguindo-te; nem tampouco desejei o dia da aflição, tu o sabes; o que saiu dos meus lábios está diante de tua fa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me sejas por espanto; meu refúgio és tu no dia d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vergonhem-se os que me perseguem, e não me envergonhe eu; assombrem-se eles, e não me assombre eu; traze sobre eles o dia do mal, e destrói-os com dobrada destru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me disse o SENHOR: Vai, e põe-te à porta dos filhos do povo, pela qual entram os reis de Judá, e pela qual saem; como também em todas as portas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seus filhos se lembram dos seus altares, e dos seus bosques, junto às árvores frondosas, sobre os altos out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e-lhes: Ouvi a palavra do SENHOR, vós, reis de Judá e todo o Judá, e todos os moradores de Jerusalém que entrais por estas por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Guardai as vossas almas, e não tragais cargas no dia de sábado, nem as introduzais pelas portas de Jerusalé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tireis cargas de vossas casas no dia de sábado, nem façais obra alguma; antes santificai o dia de sábado, como eu ordenei a vosso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ão escutaram, nem inclinaram os seus ouvidos; antes endureceram a sua cerviz, para não ouvirem, e para não receberem corre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e vós diligentemente me ouvirdes, diz o SENHOR, não introduzindo cargas pelas portas desta cidade no dia de sábado, e santificardes o dia de sábado, não fazendo nele obra algum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ntrarão pelas portas desta cidade reis e príncipes, que se assentem sobre o trono de Davi, andando em carros e em cavalos; e eles e seus príncipes, os homens de Judá, e os moradores de Jerusalém; e esta cidade será habitada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rão das cidades de Judá, e dos arredores de Jerusalém, e da terra de Benjamim, e das planícies, e das montanhas, e do sul, trazendo holocaustos, e sacrifícios, e ofertas de alimentos, e incenso, trazendo também sacrifícios de louvores à casa do SEN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não me ouvirdes, para santificardes o dia de sábado, e para não trazerdes carga alguma, quando entrardes pelas portas de Jerusalém no dia de sábado, então acenderei fogo nas suas portas, o qual consumirá os palácios de Jerusalém, e não se apagar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meu monte no campo! a tua riqueza e todos os teus tesouros darei por presa, como também os teus altos, por causa do pecado, em todos os teus ter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por ti mesmo te privarás da tua herança que te dei, e far-te-ei servir os teus inimigos, na terra que não conheces; porque o fogo que acendeste na minha ira arderá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Maldito o homem que confia no homem, e faz da carne o seu braço, e aparta o seu coração do SENHOR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erá como a tamargueira no deserto, e não verá quando vem o bem; antes morará nos lugares secos do deserto, na terra salgada e inabitáv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to o homem que confia no SENHOR, e cuja confiança é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erá como a árvore plantada junto às águas, que estende as suas raízes para o ribeiro, e não receia quando vem o calor, mas a sua folha fica verde; e no ano de sequidão não se afadiga, nem deixa de dar fru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ganoso é o coração, mais do que todas as coisas, e perverso; quem o conhecer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8:12Z</dcterms:created>
  <dc:creator>Admin</dc:creator>
  <dc:description/>
  <dc:language>en-US</dc:language>
  <cp:lastModifiedBy>Admin</cp:lastModifiedBy>
  <dcterms:modified xsi:type="dcterms:W3CDTF">2008-07-30T23:58:12Z</dcterms:modified>
  <cp:revision>1</cp:revision>
  <dc:subject/>
  <dc:title>Slide 1</dc:title>
</cp:coreProperties>
</file>