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918-BE8F-4C9C-A639-D839A8A3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004-270D-4B62-A4DB-4F85091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2DE-9789-44CE-BEB1-06A5CDB4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A7E-0BB3-48F9-9EE9-47EC8738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277-9CEA-457C-A530-F5563F9E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212-0CA7-40FE-900C-45CE8DF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163-C7BD-4101-86F3-C65A921F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7B4-AF66-462C-AEB1-08E0E98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3F6-9D41-4626-BB26-8A12C71C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92D-63D7-431B-B7B7-8656773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08F-FBD3-41F4-88CD-9ED375F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E69-E532-4583-8BF8-15D1D8EA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6A8-24BD-4A1F-8FEE-7058DA9C77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, havendo uma grande multidão, e não tendo quê comer, Jesus chamou a si os seus discípulos, e disse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logo no barco, com os seus discípulos, foi para as partes de Dalman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os fariseus, e começaram a disputar com ele, pedindo-lhe, para o tentarem, um sinal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spirando profundamente em seu espírito, disse: Por que pede esta geração um sinal? Em verdade vos digo que a esta geração não se dará sinal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ixando-os, tornou a entrar no barco, e foi para o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se esqueceram de levar pão e, no barco, não tinham consigo senão um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, dizendo: Olhai, guardai-vos do fermento dos fariseus e do fermento de Her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azoavam entre si, dizendo: É porque não temos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onhecendo isto, disse-lhes: Para que arrazoais, que não tendes pão? não considerastes, nem compreendestes ainda? tendes ainda o vosso coração endurec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olhos, não vedes? e tendo ouvidos, não ouvis? e não vos lembr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arti os cinco pães entre os cinco mil, quantas alcofas cheias de pedaços levantastes? Disseram-lhe: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compaixão da multidão, porque há já três dias que estão comigo, e não têm quê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parti os sete entre os quatro mil, quantos cestos cheios de pedaços levantastes? E disseram-lhe: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Como não entendeis ai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Betsaida; e trouxeram-lhe um cego, e rogaram-lhe que o toc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 cego pela mão, levou-o para fora da aldeia; e, cuspindo-lhe nos olhos, e impondo-lhe as mãos, perguntou-lhe se via algu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ele os olhos, disse: Vejo os homens; pois os vejo como árvores que an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, tornou a pôr-lhe as mãos sobre os olhos, e fez olhar para cima: e ele ficou restaurado, e viu cada homem cla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-o para sua casa, dizendo: Nem entres na aldeia, nem o digas a ninguém na al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Jesus, e os seus discípulos, para as aldeias de Cesaréia de Filipe; e no caminho perguntou aos seus discípulos, dizendo: Quem dizem os homens que eu s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responderam: João o Batista; e outros: Elias; mas outros: Um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Mas vós, quem dizeis que eu sou? E, respondendo Pedro, lhe disse: Tu és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s deixar ir em jejum, para suas casas, desfalecerão no caminho, porque alguns deles vieram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moestou-os, para que a ninguém dissessem aquil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a ensinar-lhes que importava que o Filho do homem padecesse muito, e que fosse rejeitado pelos anciãos e príncipes dos sacerdotes, e pelos escribas, e que fosse morto, mas que depois de três dias ressuscit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abertamente estas palavras. E Pedro o tomou à parte, e começou a repreend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virando-se, e olhando para os seus discípulos, repreendeu a Pedro, dizendo: Retira-te de diante de mim, Satanás; porque não compreendes as coisas que são de Deus, mas as que s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ndo a si a multidão, com os seus discípulos, disse-lhes: Se alguém quiser vir após mim, negue-se a si mesmo, e tome a sua cruz, e siga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que quiser salvar a sua vida, perdê-la-á, mas, qualquer que perder a sua vida por amor de mim e do evangelho, esse a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e aproveitaria ao homem ganhar todo o mundo e perder a su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que daria o homem pelo resgate da su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qualquer que, entre esta geração adúltera e pecadora, se envergonhar de mim e das minhas palavras, também o Filho do homem se envergonhará dele, quando vier na glória de seu Pai, com os santos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responderam-lhe: De onde poderá alguém satisfazê-los de pão aqui no dese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-lhes: Quantos pães tendes? E disseram-lhe: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à multidão que se assentasse no chão. E, tomando os sete pães, e tendo dado graças, partiu-os, e deu-os aos seus discípulos, para que os pusessem diante deles, e puseram-nos diante d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m também alguns peixinhos; e, tendo dado graças, ordenou que também lhos pusessem di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, e saciaram-se; e dos pedaços que sobejaram levantaram sete c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omeram eram quase quatro mil; e despediu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17Z</dcterms:created>
  <dc:creator>Admin</dc:creator>
  <dc:description/>
  <dc:language>en-US</dc:language>
  <cp:lastModifiedBy>Admin</cp:lastModifiedBy>
  <dcterms:modified xsi:type="dcterms:W3CDTF">2008-07-31T00:13:17Z</dcterms:modified>
  <cp:revision>1</cp:revision>
  <dc:subject/>
  <dc:title>Slide 1</dc:title>
</cp:coreProperties>
</file>