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9A79-0CC3-4679-867B-BA4444A1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D0CA-1D08-4618-888D-65358A56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3CD-9902-4043-8780-A32FB44D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5F1B-8C72-4A8C-A5A9-7C5C9CA9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6BB5-42AF-4FA5-A05C-AF8F38B5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5626-F81A-4080-8FA4-C5DFBCD6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854E-DFE8-4276-B831-0A240B31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52DF-CFE6-483C-B44B-2A61D0A0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B139-D66C-48E6-85E8-75A40D60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E374-EC0B-44C8-AA55-68F2CFC3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AC7A-35C7-4AAB-A214-E64FF23A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B6E5-1503-410A-843D-998DA747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518B-FC70-4801-8156-94B0981C9A7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no sétimo de Jeú começou a reinar Joás, e quarenta anos reinou em Jerusalém; e era o nome de sua mãe Zíbia, de Berseb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 que, vendo eles que já havia muito dinheiro no cofre, o escrivão do rei subia com o sumo sacerdote, e contavam e ensacavam o dinheiro que se achava n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dinheiro, depois de pesado, davam nas mãos dos que faziam a obra, que tinham a seu cargo a casa do SENHOR e eles o distribuíam aos carpinteiros e aos edificadores que reparavam 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aos pedreiros e aos cabouqueiros; e para se comprar madeira e pedras de cantaria para repararem as fendas da casa do SENHOR, e para tudo quanto era necessário para reparar 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, do dinheiro que se trazia à casa do SENHOR não se faziam nem taças de prata, nem garfos, nem bacias, nem trombetas, nem vaso algum de ouro ou vaso de prata para 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davam aos que faziam a obra, e reparavam com ele 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não pediam contas aos homens em cujas mãos entregavam aquele dinheiro, para o dar aos que faziam a obra, porque procediam com fidel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dinheiro do sacrifício por delitos, e o dinheiro por sacrifício de pecados, não se trazia à casa do SENHOR; porque era para os sacerdo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ubiu Hazael, rei da Síria, e pelejou contra Gate, e a tomou; depois Hazael resolveu marchar contr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Joás, rei de Judá, tomou todas as coisas santas que Jeosafá, Jorão e Acazias, seus pais, reis de Judá, consagraram, como também todo o ouro que se achou nos tesouros da casa do SENHOR e na casa do rei e o mandou a Hazael, rei da Síria; e então se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mais dos atos de Joás, e tudo quanto fez, porventura não está escrito no livro das crônicas dos reis de Jud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Joás o que era reto aos olhos do SENHOR todos os dias em que o sacerdote Joiada o dirig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aram-se os servos de Joás, e conspiraram contra ele ferindo-o na casa de Milo, no caminho que desce para Si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Jozacar, filho de Simeate, e Jozabade, filho de Somer, seus servos, o feriram, e morreu, e o sepultaram com seus pais na cidade de Davi. E Amazias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ão-somente os altos não foram tirados; porque ainda o povo sacrificava e queimava incenso nos al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Joás aos sacerdotes: Todo o dinheiro das coisas santas que se trouxer à casa do SENHOR, a saber, o dinheiro daquele que passa o arrolamento, o dinheiro de cada uma das pessoas, segundo a sua avaliação, e todo o dinheiro que trouxer cada um volu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acerdotes o recebam, cada um dos seus conhecidos; e eles mesmos reparem as fendas da casa, toda a fenda que se achar n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rém, que, no ano vinte e três do rei Joás, os sacerdotes ainda não tinham reparado as fendas d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Joás chamou o sacerdote Joiada e os mais sacerdotes, e lhes disse: Por que não reparais as fendas da casa? Agora, pois, não tomeis mais dinheiro de vossos conhecidos, mas entregai-o para o reparo das fendas d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sentiram os sacerdotes em não tomarem mais dinheiro do povo, e em não repararem as fendas d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sacerdote Joiada tomou um cofre e fez um buraco na tampa; e a pôs ao pé do altar, à mão direita dos que entravam na casa do SENHOR; e os sacerdotes que guardavam a entrada da porta punham ali todo o dinheiro que se trazia à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1:43Z</dcterms:created>
  <dc:creator>Admin</dc:creator>
  <dc:description/>
  <dc:language>en-US</dc:language>
  <cp:lastModifiedBy>Admin</cp:lastModifiedBy>
  <dcterms:modified xsi:type="dcterms:W3CDTF">2008-07-30T23:51:43Z</dcterms:modified>
  <cp:revision>1</cp:revision>
  <dc:subject/>
  <dc:title>Slide 1</dc:title>
</cp:coreProperties>
</file>