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726-4CC9-42B9-B340-9666C3CC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099-5F51-476D-831C-4FA35A97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2CE-BA67-4FB7-98F9-227BBF83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76D-D9B9-4EEF-B9DB-D901CFD1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F9E-84B6-4EB0-A5DE-2B8CD22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079-9471-45CB-9AFE-C4DE0C35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77E-F440-4AAF-BA10-34B2F05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94D-1BAF-41FF-9817-0767D2B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0E9-0DF6-4B06-8F9A-6BDEE90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B3A-8470-405B-B230-4ED976F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F35-2AAA-42D6-B225-F2579AF0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6CF-2228-4945-AD2C-D66A4FA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86D-6A35-46A0-86D1-E47B2710487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braão já velho e adiantado em idade, e o SENHOR havia abençoado a Abraão em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rvo tomou dez camelos, dos camelos do seu senhor, e partiu, pois que todos os bens de seu senhor estavam em sua mão, e levantou-se e partiu para Mesopotâmia, para a cidade de Na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ajoelhar os camelos fora da cidade, junto a um poço de água, pela tarde, ao tempo que as moças saíam a tirar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Ó SENHOR, Deus de meu senhor Abraão, dá-me hoje bom encontro, e faze beneficência ao meu senhor Abraã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estou em pé junto à fonte de água e as filhas dos homens desta cidade saem para tirar águ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ja, pois, que a donzela, a quem eu disser: Abaixa agora o teu cântaro para que eu beba; e ela disser: Bebe, e também darei de beber aos teus camelos; esta seja a quem designaste ao teu servo Isaque, e que eu conheça nisso que usaste de benevolência 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antes que ele acabasse de falar, eis que Rebeca, que havia nascido a Betuel, filho de Milca, mulher de Naor, irmão de Abraão, saía com o seu cântaro sobre o seu om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onzela era mui formosa à vista, virgem, a quem homem não havia conhecido; e desceu à fonte, e encheu o seu cântaro e sub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rvo correu-lhe ao encontro, e disse: Peço-te, deixa-me beber um pouco de água do teu cânt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disse: Bebe, meu SENHOR. E apressou-se e abaixou o seu cântaro sobre a sua mão e deu-lhe d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cabando ela de lhe dar de beber, disse: Tirarei também água para os teus camelos, até que acabem d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 ao seu servo, o mais velho da casa, que tinha o governo sobre tudo o que possuía: Põe agora a tua mão debaixo da minha cox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ressou-se, e despejou o seu cântaro no bebedouro, e correu outra vez ao poço para tirar água, e tirou para todos os seus cam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estava admirado de vê-la, calando-se, para saber se o SENHOR havia prosperado a sua jornada ou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cabando os camelos de beber, tomou o homem um pendente de ouro de meio siclo de peso, e duas pulseiras para as suas mãos, do peso de dez siclos de 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De quem és filha? Faze-mo saber, peço-te. Há também em casa de teu pai lugar para nós pousarm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lhe disse: Eu sou a filha de Betuel, filho de Milca, o qual ela deu a Na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is: Também temos palha e muito pasto, e lugar para passar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inclinou-se aquele homem e adorou a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Bendito seja o SENHOR Deus de meu senhor Abraão, que não retirou a sua benevolência e a sua verdade de meu senhor; quanto a mim, o SENHOR me guiou no caminho à casa dos irmãos de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donzela correu, e fez saber estas coisas na casa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beca tinha um irmão cujo nome era Labão, o qual correu ao encontro daquele homem até a f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u te faça jurar pelo SENHOR Deus dos céus e Deus da terra, que não tomarás para meu filho mulher das filhas dos cananeus, no meio dos quais eu hab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quando ele viu o pendente, e as pulseiras sobre as mãos de sua irmã, e quando ouviu as palavras de sua irmã Rebeca, que dizia: Assim me falou aquele homem; foi ter com o homem, que estava em pé junto aos camelos, à fo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ntra, bendito do SENHOR; por que estás fora? pois eu já preparei a casa, e o lugar para os cam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aquele homem à casa, e desataram os camelos, e deram palha e pasto aos camelos, e água para lavar os pés dele, e os pés dos homens que estavam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puseram comida diante dele. Ele, porém, disse: Não comerei, até que tenha dito as minhas palavras. E ele disse: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Eu sou o servo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abençoou muito o meu senhor, de maneira que foi engrandecido, e deu-lhe ovelhas e vacas, e prata e ouro, e servos e servas, e camelos e jume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ra, a mulher do meu senhor, deu à luz um filho a meu senhor depois da sua velhice, e ele deu-lhe tudo quanto t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u senhor me fez jurar, dizendo: Não tomarás mulher para meu filho das filhas dos cananeus, em cuja terra habi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ás, porém, à casa de meu pai, e à minha família, e tomarás mulher par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3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eu ao meu senhor: Porventura não me seguirá 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irás à minha terra e à minha parentela, e dali tomarás mulher para meu filho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O SENHOR, em cuja presença tenho andado, enviará o seu anjo contigo, e prosperará o teu caminho, para que tomes mulher para meu filho da minha família e da casa de meu p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rás livre do meu juramento, quando fores à minha família; e se não te derem, livre serás do meu jur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je cheguei à fonte, e disse: Ó SENHOR, Deus de meu senhor Abraão, se tu agora prosperas o meu caminho, no qual eu a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ou junto à fonte de água; seja, pois, que a donzela que sair para tirar água e à qual eu disser: Peço-te, dá-me um pouco de água do teu cânta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me disser: Bebe tu e também tirarei água para os teus camelos; esta seja a mulher que o SENHOR designou ao filho de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tes que eu acabasse de falar no meu coração, eis que Rebeca saía com o seu cântaro sobre o seu ombro, desceu à fonte e tirou água; e eu lhe disse: Peço-te, dá-me de be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se apressou, e abaixou o seu cântaro de sobre si, e disse: Bebe, e também darei de beber aos teus camelos; e bebi, e ela deu também de beber aos cam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perguntei, e disse: De quem és filha? E ela disse: Filha de Betuel, filho de Naor, que lhe deu Milca. Então eu pus o pendente no seu rosto, e as pulseiras sobre as suas 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nclinando-me adorei ao SENHOR, e bendisse ao SENHOR, Deus do meu senhor Abraão, que me havia encaminhado pelo caminho da verdade, para tomar a filha do irmão de meu senhor para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4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se vós haveis de fazer benevolência e verdade a meu senhor, fazei-mo saber; e se não, também mo fazei saber, para que eu vá à direita, ou à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o servo: Se porventura não quiser seguir-me a mulher a esta terra, farei, pois, tornar o teu filho à terra donde saís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ram Labão e Betuel, e disseram: Do SENHOR procedeu este negócio; não podemos falar-te mal ou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Rebeca está diante da tua face; toma-a, e vai-te; seja a mulher do filho de teu senhor, como tem dito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o servo de Abraão, ouvindo as suas palavras, inclinou-se à terra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u o servo jóias de prata e jóias de ouro, e vestidos, e deu-os a Rebeca; também deu coisas preciosas a seu irmão e à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omeram e beberam, ele e os homens que com ele estavam, e passaram a noite. E levantaram-se pela manhã, e disse: Deixai-me ir a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seu irmão e sua mãe: Fique a donzela conosco alguns dias, ou pelo menos dez dias, depois i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lhes disse: Não me detenhais, pois o SENHOR tem prosperado o meu caminho; deixai-me partir, para que eu volte a meu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Chamemos a donzela, e perguntemos-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am a Rebeca, e disseram-lhe: Irás tu com este homem? Ela respondeu: 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5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pediram a Rebeca, sua irmã, e sua ama, e o servo de Abraão, e seu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lhe disse: Guarda-te, que não faças lá tornar o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aram a Rebeca, e disseram-lhe: Ó nossa irmã, sê tu a mãe de milhares de milhares, e que a tua descendência possua a porta de seus aborrecedore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beca se levantou com as suas moças, e subiram sobre os camelos, e seguiram o homem; e tomou aquele servo a Rebeca, e par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Isaque vinha de onde se vem do poço de Beer-Laai-Rói; porque habitava na terra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saíra a orar no campo, à tarde; e levantou os seus olhos, e olhou, e eis que os camelos vinh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beca também levantou seus olhos, e viu a Isaque, e desceu do ca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o servo: Quem é aquele homem que vem pelo campo ao nosso encontro? E o servo disse: Este é meu SENHOR. Então tomou ela o véu e cobri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rvo contou a Isaque todas as coisas que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6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aque trouxe-a para a tenda de sua mãe Sara, e tomou a Rebeca, e foi-lhe por mulher, e amou-a. Assim Isaque foi consolado depois da morte de sua mã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dos céus, que me tomou da casa de meu pai e da terra da minha parentela, e que me falou, e que me jurou, dizendo: À tua descendência darei esta terra; ele enviará o seu anjo adiante da tua face, para que tomes mulher de lá par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 mulher, porém, não quiser seguir-te, serás livre deste meu juramento; somente não faças lá tornar a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pôs o servo a sua mão debaixo da coxa de Abraão seu senhor, e jurou-lhe sobre este negó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31Z</dcterms:created>
  <dc:creator>Admin</dc:creator>
  <dc:description/>
  <dc:language>en-US</dc:language>
  <cp:lastModifiedBy>Admin</cp:lastModifiedBy>
  <dcterms:modified xsi:type="dcterms:W3CDTF">2008-07-30T23:38:31Z</dcterms:modified>
  <cp:revision>1</cp:revision>
  <dc:subject/>
  <dc:title>Slide 1</dc:title>
</cp:coreProperties>
</file>