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FAC-8EC6-499A-8CCC-7E2501CF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A7D8-6E62-4448-9E42-D2F8F728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ADE-699C-4984-A108-4CD00F46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C5B8-F522-4649-B5BA-A1056B7F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ECA-4803-4ED7-8DAA-F224A85E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438-A2BF-44DD-8FD3-C5F3E3CD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F91-9815-4EA5-8D52-4C60A45B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050-3678-41C4-AD57-14B66F13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005-3BA6-412D-AD72-0B3CD783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708-C5F1-4016-8C97-A9271866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6318-B80D-4D44-A8B9-31B3988A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5514-9BEF-4332-88F0-1609CD36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AC95-7EDB-4E08-863B-C2BB1E167A4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que muitas vezes repreendido endurece a cerviz, de repente será destruído sem que haja reméd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homens sanguinários odeiam ao sincero, mas os justos procuram o seu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olo revela todo o seu pensamento, mas o sábio o guarda até o f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governador que dá atenção às palavras mentirosas, achará que todos os seus servos são ímp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obre e o usurário se encontram; o SENHOR ilumina os olhos de amb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que julga os pobres conforme a verdade firmará o seu trono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ara e a repreensão dão sabedoria, mas a criança entregue a si mesma, envergonha a s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s ímpios se multiplicam, multiplicam-se as transgressões, mas os justos verão a sua que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stiga o teu filho, e te dará descanso; e dará delícias à tu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avendo profecia, o povo perece; porém o que guarda a lei, esse é bem-aventu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rvo não se emendará com palavras, porque, ainda que entenda, todavia não atend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s justos se engrandecem, o povo se alegra, mas quando o ímpio domina, o povo ge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s visto um homem precipitado no falar? Maior esperança há para um tolo do que par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alguém cria o seu servo com mimos desde a meninice, por fim ele tornar-se-á s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irascível levanta contendas; e o furioso multiplica as transgress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oberba do homem o abaterá, mas a honra sustentará o humilde de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tem parte com o ladrão odeia a sua própria alma; ouve maldições, e não o denu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mor do homem armará laços, mas o que confia no SENHOR será posto em alto ret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os buscam o favor do poderoso, mas o juízo de cada um vem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ominação é, para os justos, o homem iníquo; mas abominação é para o iníquo o de retos c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que ama a sabedoria alegra a seu pai, mas o companheiro de prostitutas desperdiça os b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com juízo sustém a terra, mas o amigo de peitas a transto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que lisonjeia o seu próximo arma uma rede aos seus pa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transgressão do homem mau há laço, mas o justo jubila e se aleg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justo se informa da causa dos pobres, mas o ímpio nem sequer toma conhec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homens escarnecedores alvoroçam a cidade, mas os sábios desviam a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sábio que pleiteia com o tolo, quer se zangue, quer se ria, não terá desca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2:52Z</dcterms:created>
  <dc:creator>Admin</dc:creator>
  <dc:description/>
  <dc:language>en-US</dc:language>
  <cp:lastModifiedBy>Admin</cp:lastModifiedBy>
  <dcterms:modified xsi:type="dcterms:W3CDTF">2008-07-31T00:22:52Z</dcterms:modified>
  <cp:revision>1</cp:revision>
  <dc:subject/>
  <dc:title>Slide 1</dc:title>
</cp:coreProperties>
</file>