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756-F229-45F3-AC21-658BD66F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98E-826B-48F8-A42C-65CA2F19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218-DCC8-46FA-B6E3-CAD677F0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27D-9872-435C-BD1E-E3183A81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ED4-8F43-45FE-9337-7E092E86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D19-ED4F-4E6A-BE90-BEB1F4EF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F4B-A482-4EE0-9470-6F7AD19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1A8-D69B-4D48-9BA0-DD531CE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644-8E4A-460E-95BE-45521456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D81-1309-4696-BFF9-88EA4497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F60-01D7-4931-B9CC-FD7750A3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95C-7747-4BA2-99A3-3A1CA4C0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F26D-3838-4235-833E-EE5D72119D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Bildade, o suíta,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escondida debaixo da terra uma corda, e uma armadilha na ver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ssombros o espantarão de todos os lados, e o perseguirão a cada pa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faminto o seu vigor, e a destruição está pronta ao seu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ão devorados os membros do seu corpo; sim, o primogênito da morte devorará os seus me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confiança será arrancada da sua tenda, onde está confiado, e isto o fará caminhar para o rei dos terr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ará na sua mesma tenda, o que não lhe pertence; espalhar-se-á enxofre sobre a sua hab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baixo se secarão as suas raízes e por cima serão cortados os seus 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memória perecerá da terra, e pelas praças não terá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luz o lançarão nas trevas, e afugentá-lo-ão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rá filho nem neto entre o seu povo, e nem quem lhe suceda nas suas mor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poreis fim às palavras? Considerai bem, e então fal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seu dia se espantarão os do ocidente, assim como se espantam os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is são, na verdade, as moradas do perverso, e este é o lugar do que não conhec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somos tratados como animais, e como imundos aos vossos o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 tu, que despedaças a tua alma na tua ira, será a terra deixada por tua causa? Remover-se-ão as rochas do seu lug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a luz dos ímpios se apagará, e a chama do seu fogo não respland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uz se escurecerá nas suas tendas, e a sua lâmpada sobre ele se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passos firmes se estreitarão, e o seu próprio conselho o derrub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seus próprios pés é lançado na rede, e andará nos fios enred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aço o apanhará pelo calcanhar, e a armadilha o prend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13Z</dcterms:created>
  <dc:creator>Admin</dc:creator>
  <dc:description/>
  <dc:language>en-US</dc:language>
  <cp:lastModifiedBy>Admin</cp:lastModifiedBy>
  <dcterms:modified xsi:type="dcterms:W3CDTF">2008-07-31T00:01:13Z</dcterms:modified>
  <cp:revision>1</cp:revision>
  <dc:subject/>
  <dc:title>Slide 1</dc:title>
</cp:coreProperties>
</file>