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716-4BCA-4923-A41F-10C563C9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824-E029-4B36-B293-8FEE4859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355-ACD8-4FA1-8839-96DB0CA1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703-590B-4CB5-871C-6D848BF0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338-AD52-4DB7-9217-206B575D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05C-90A4-4DCD-927F-4779AAAF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022-A5DE-4A5A-AA49-EE36627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85C-F271-44B3-8270-974FF6E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C6E-727C-4E36-AD4C-0DD54166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271-9532-4841-AB79-82D1AB9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9E1-463C-408A-B675-D9C6FA42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908-C9CF-49AC-B3D6-4ED94B06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5B8D-8BC5-499E-B261-4925DE33159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Moabe, assim diz o SENHOR dos Exércitos, Deus de Israel: Ai de Nebo, porque foi destruída; envergonhada está Quiriataim, já está tomada; Misgabe está envergonhada e desani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fizer a obra do SENHOR fraudulosamente; e maldito aquele que retém a sua espada d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abe esteve descansado desde a sua mocidade, e repousou nas suas fezes, e não foi mudado de vasilha para vasilha, nem foi para o cativeiro; por isso conservou o seu sabor, e o seu cheiro não se alte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dias vêm, diz o SENHOR, em que lhe enviarei derramadores que o derramarão; e despejarão as suas vasilhas, e romperão os seus od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abe terá vergonha de Quemós como a casa de Israel se envergonhou de Betel, sua conf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ireis: Somos valentes e homens fortes para a gu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abe está destruído, e subiu das suas cidades, e os seus jovens escolhidos desceram à matança, diz o Rei, cujo nome é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prestes a vir a calamidade de Moabe; e apressa-se muito a su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doei-vos dele todos os que estais ao seu redor, e todos os que sabeis o seu nome; dizei: Como se quebrou a vara forte, o cajado formo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 da tua glória, e assenta-te em terra seca, ó moradora, filha de Dibom; porque o destruidor de Moabe subiu contra ti, e desfez as tuas fortal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-te no caminho, e espia, ó moradora de Aroer; pergunta ao que vai fugindo; e à que escapou dize: Que suced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lória de Moabe já não existe mais; em Hesbom tramaram mal contra ela, dizendo: Vinde, e exterminemo-la, para que não seja mais nação; também tu, ó Madmém, serás silenciada; a espada te perseg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abe está envergonhado, porque foi quebrantado; lamentai e gritai; anunciai em Arnom que Moabe está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julgamento veio sobre a terra da campina; sobre Holom, sobre Jaza, sobre Mefaa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Dibom, sobre Nebo, sobre Bete-Diblata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Quiriataim, sobre Bete-Gamul, sobre Bete-Me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Queriote, e sobre Bozra; e até sobre todas as cidades da terra de Moabe, as de longe e as de 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é cortado o poder de Moabe, e é quebrantado o seu braç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briagai-o, porque contra o SENHOR se engrandeceu; e Moabe se revolverá no seu vômito, e ele também se tornará objeto de escár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foi também Israel objeto de escárnio? Porventura foi achado entre ladrões, para que sempre que fales dele, saltes de aleg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 as cidades, e habitai no rochedo, ó moradores de Moabe; e sede como a pomba que se aninha nos lados da boca da cav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mos da soberba de Moabe, que é soberbíssimo, como também da sua arrogância, e da sua vaidade, e da sua altivez e do seu orgulhos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z de clamor de Horonaim; ruína e grande destruiç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onheço, diz o SENHOR, a sua indignação, mas isso nada é; as suas mentiras nada f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gemerei por Moabe, sim, gritarei por todo o Moabe; pelos homens de Quir-Heres lamenta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choro de Jazer chorar-te-ei, ó vide de Sibma; os teus ramos passaram o mar, chegaram até ao mar de Jazer; porém o destruidor caiu sobre os teus frutos do verão, e sobre a tua vind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ou-se, pois, o folguedo e a alegria do campo fértil e da terra de Moabe; porque fiz cessar o vinho nos lagares; já não pisarão uvas com júbilo; o júbilo não será júb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 grito de Hesbom até Eleale e até Jaaz, se ouviu a sua voz desde Zoar até Horonaim, como bezerra de três anos; porque até as águas do Ninrim se tornarão em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essar em Moabe, diz o SENHOR, quem sacrifique nos altos, e queime incenso a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ressoará como flauta o meu coração por Moabe, também ressoará como flauta o meu coração pelos homens de Quir-Heres; porquanto a abundância que ajuntou se per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cabeça será tosquiada, e toda a barba será diminuída; sobre todas as mãos haverá sarjaduras, e sobre os lombos, sa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todos os telhados de Moabe e nas suas ruas haverá um pranto geral; porque quebrei a Moabe, como a um vaso que não agrad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quebrantado! Como gritam! Como virou Moabe a cerviz envergonhado! Assim será Moabe objeto de escárnio e de desmaio, para todos que estão em red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destruída Moabe; seus filhinhos fizeram ouvir um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Eis que voará como a águia, e estenderá as suas asas sobr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tomadas as cidades, e ocupadas as fortalezas; e naquele dia será o coração dos valentes de Moabe como o coração da mulher que está com dores de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abe será destruído, para que não seja povo; porque se engrandeceu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r, e cova, e laço, vêm sobre ti, ó morador de Moab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ugir do temor cairá na cova, e o que subir da cova ficará preso no laço; porque trarei sobre ele, sobre Moabe, o ano do seu castig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fugiam sem força pararam à sombra de Hesbom; pois saiu fogo de Hesbom, e a labareda do meio de Siom, e devorou o canto de Moabe e o alto da cabeça dos turbul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ti, Moabe! Pereceu o povo de Quemós; porque teus filhos ficaram cativos, e tuas filhas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s últimos dias farei voltar os cativos de Moabe, diz o SENHOR. Até aqui o juízo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la subida de Luíte eles irão com choro contínuo; porque na descida de Horonaim os adversários de Moabe ouviram as angústias do grito d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, salvai a vossa vida; sede como a tamargueira no des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or causa da tua confiança nas tuas obras, e nos teus tesouros, também tu serás tomada; e Quemós sairá para o cativeiro, os seus sacerdotes e os seus príncipes ju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rá o destruidor sobre cada uma das cidades, e nenhuma cidade escapará, e perecerá o vale, e destruir-se-á a campina; porque 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asas a Moabe; porque voando sairá, e as suas cidades se tornarão em desolação, e ninguém morará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53Z</dcterms:created>
  <dc:creator>Admin</dc:creator>
  <dc:description/>
  <dc:language>en-US</dc:language>
  <cp:lastModifiedBy>Admin</cp:lastModifiedBy>
  <dcterms:modified xsi:type="dcterms:W3CDTF">2008-07-30T23:59:53Z</dcterms:modified>
  <cp:revision>1</cp:revision>
  <dc:subject/>
  <dc:title>Slide 1</dc:title>
</cp:coreProperties>
</file>