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42D-DAAC-489C-9672-004403F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43B-A123-48C3-A113-B80DBFAC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D2B-9D8E-482D-860E-E42BD7FA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373-B010-41A1-B68F-E167D470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991-162A-4F81-AB08-725F76E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6C9-E4F8-43C4-AD1D-75C95047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79A-9922-48B7-91DE-D103B6DF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E69-CE9A-496B-BA0E-3B27894A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9DF-339C-4717-B6DD-6BFE6D2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88C-457F-461B-A08D-CA47AE1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451-0DD9-4650-85A0-AE59103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A77-24DF-4DBB-B529-FA23A4D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ED1E-1BF1-4975-8930-E364BDFB3EB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se algum homem chegar a ser surpreendido nalguma ofensa, vós, que sois espirituais, encaminhai o tal com espírito de mansidão; olhando por ti mesmo, para que não sejas também ten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enquanto temos tempo, façamos bem a todos, mas principalmente aos domésticos d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com que grandes letras vos escrevi por minh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que querem mostrar boa aparência na carne, esses vos obrigam a circuncidar-vos, somente para não serem perseguidos por causa da cruz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em ainda esses mesmos que se circuncidam guardam a lei, mas querem que vos circuncideis, para se gloriarem na voss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longe esteja de mim gloriar-me, a não ser na cruz de nosso Senhor Jesus Cristo, pela qual o mundo está crucificado para mim e eu para 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Cristo Jesus nem a circuncisão, nem a incircuncisão tem virtude alguma, mas sim o ser uma nova cria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odos quantos andarem conforme esta regra, paz e misericórdia sobre eles e sobre o Israel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gora ninguém me inquiete; porque trago no meu corpo as marcas d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, irmãos, com o vosso espírito!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i as cargas uns dos outros, e assim cumprireis a lei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lguém cuida ser alguma coisa, não sendo nada, engana-se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rove cada um a sua própria obra, e terá glória só em si mesmo, e não nou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ada qual levará a sua própria car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é instruído na palavra reparta de todos os seus bens com aquele que o instr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rreis: Deus não se deixa escarnecer; porque tudo o que o homem semear, isso também cei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que semeia na sua carne, da carne ceifará a corrupção; mas o que semeia no Espírito, do Espírito ceifará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nos cansemos de fazer bem, porque a seu tempo ceifaremos, se não houvermos desfalec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07Z</dcterms:created>
  <dc:creator>Admin</dc:creator>
  <dc:description/>
  <dc:language>en-US</dc:language>
  <cp:lastModifiedBy>Admin</cp:lastModifiedBy>
  <dcterms:modified xsi:type="dcterms:W3CDTF">2008-07-30T23:37:07Z</dcterms:modified>
  <cp:revision>1</cp:revision>
  <dc:subject/>
  <dc:title>Slide 1</dc:title>
</cp:coreProperties>
</file>