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AC02-7378-4BDF-A676-8E46B151C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FB3D-4346-4F9A-A1D5-1D7B1964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4317-0F6E-43BE-A87D-0F7C0AC4E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6019-59C5-4738-838F-E573255B1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8056-31B4-4BA8-93CC-EED575A9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272A-B559-4317-9E2F-B9E06E17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5D65-E21D-4D3C-B6DF-31ECC43E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0183-1E61-4890-935C-34E8DE5A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43B5-31AE-4B2F-B1B0-9CC5A5C8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6AF8-0C2F-4FA6-AE64-AF426EE6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D8BA-8F45-45A1-967C-708F7CBB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8CE3-B637-4431-9974-D0412BB1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FDF8-DDF4-45AA-9996-6F515BB60DB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LAMA em alta voz, não te detenhas, levanta a tua voz como a trombeta e anuncia ao meu povo a sua transgressão, e à casa de Jacó os seus pe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abrires a tua alma ao faminto, e fartares a alma aflita; então a tua luz nascerá nas trevas, e a tua escuridão será como o meio-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te guiará continuamente, e fartará a tua alma em lugares áridos, e fortificará os teus ossos; e serás como um jardim regado, e como um manancial, cujas águas nunca falt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de ti procederem edificarão as antigas ruínas; e levantarás os fundamentos de geração em geração; e chamar-te-ão reparador das roturas, e restaurador de veredas para mor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desviares o teu pé do sábado, de fazeres a tua vontade no meu santo dia, e chamares ao sábado deleitoso, e o santo dia do SENHOR, digno de honra, e o honrares não seguindo os teus caminhos, nem pretendendo fazer a tua própria vontade, nem falares as 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e deleitarás no SENHOR, e te farei cavalgar sobre as alturas da terra, e te sustentarei com a herança de teu pai Jacó; porque a boca do SENHOR o di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me procuram cada dia, tomam prazer em saber os meus caminhos, como um povo que pratica justiça, e não deixa o direito do seu Deus; perguntam-me pelos direitos da justiça, e têm prazer em se chegarem a De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: Por que jejuamos nós, e tu não atentas para isso? Por que afligimos as nossas almas, e tu não o sabes? Eis que no dia em que jejuais achais o vosso próprio contentamento, e requereis todo o vosso traba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para contendas e debates jejuais, e para ferirdes com punho iníquo; não jejueis como hoje, para fazer ouvir a vossa voz no al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ria este o jejum que eu escolheria, que o homem um dia aflija a sua alma, que incline a sua cabeça como o junco, e estenda debaixo de si saco e cinza? Chamarias tu a isto jejum e dia aprazível ao SENH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é este o jejum que escolhi, que soltes as ligaduras da impiedade, que desfaças as ataduras do jugo e que deixes livres os oprimidos, e despedaces todo o jug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é também que repartas o teu pão com o faminto, e recolhas em casa os pobres abandonados; e, quando vires o nu, o cubras, e não te escondas da tua carn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omperá a tua luz como a alva, e a tua cura apressadamente brotará, e a tua justiça irá adiante de ti, e a glória do SENHOR será a tua retaguar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lamarás, e o SENHOR te responderá; gritarás, e ele dirá: Eis-me aqui. Se tirares do meio de ti o jugo, o estender do dedo, e o falar iniquamen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6:53Z</dcterms:created>
  <dc:creator>Admin</dc:creator>
  <dc:description/>
  <dc:language>en-US</dc:language>
  <cp:lastModifiedBy>Admin</cp:lastModifiedBy>
  <dcterms:modified xsi:type="dcterms:W3CDTF">2008-07-30T23:56:53Z</dcterms:modified>
  <cp:revision>1</cp:revision>
  <dc:subject/>
  <dc:title>Slide 1</dc:title>
</cp:coreProperties>
</file>