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62C-FD70-4431-85A2-289F487B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A6F-7E60-4F07-8ACB-815E03CB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757-89AC-4B09-8CE2-1B0C72BB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5C4-374E-4AA2-A107-A9D129DE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2FB-4210-4772-A2B1-B30DED3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FE2-B1F2-44BF-8921-2EC0BA24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AC6-44D4-47DC-B7DC-D89F7375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C8B-A683-4FBF-9E4F-645CE42A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ACA-D6DE-41CC-B49C-33DF8560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779-AC29-4E8A-8DA8-48452707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10B-C197-4AFA-8C02-7BE3349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F2D-0667-474C-86DC-29ECF789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97E3-2FB8-4EA1-BBDE-479233DBD7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as tribos: desde o extremo norte, ao longo do caminho de Hetlom, indo para Hamate, até Hazar-Enom, termo de Damasco para o norte, ao pé de Hamate, terá Dã uma parte, desde o lado oriental até o ociden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será a oferta santa para os sacerdotes, medindo para o norte vinte e cinco mil canas de comprimento, e para o ocidente dez mil de largura, e para o oriente dez mil de largura, e para o sul vinte e cinco mil de comprimento; e o santuário do SENHOR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para os sacerdotes santificados dentre os filhos de Zadoque, que guardaram a minha ordenança, que não se desviaram, quando os filhos de Israel se extraviaram, como se extraviaram os outr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terão uma oferta, da oferta da terra, lugar santíssimo, junto ao limite d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 terão, consoante ao termo dos sacerdotes, vinte e cinco mil canas de comprimento, e de largura dez mil; todo o comprimento será vinte e cinco mil, e a largura dez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venderão disto, nem trocarão, nem transferirão as primícias da terra, porque é santidad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 cinco mil canas, as que restaram da largura, diante das vinte e cinco mil, ficarão para uso comum, para a cidade, para habitação e para arrabaldes; e a cidade estará no meio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erão as suas medidas: o lado do norte de quatro mil e quinhentas canas, o lado do sul de quatro mil e quinhentas, o lado oriental de quatro mil e quinhentas e o lado ocidental de quatro mil e quinhe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rrabaldes da cidade serão para o norte de duzentas e cinqüenta canas, para o sul de duzentas e cinqüenta, para o oriente de duzentas e cinqüenta e para o ocidente de duzentas e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 que restou do comprimento, consoante com a santa oferta, será dez mil para o oriente, e dez mil para o ocidente; e corresponderá à santa oferta; e a sua novidade será para sustento daqueles que servem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servem à cidade, servi-la-ão dentre todas 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Dã, desde o lado oriental até o ocidental, Aser terá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oferta será de vinte e cinco mil canas com mais vinte e cinco mil; em quadrado oferecereis a oferta santa, com a possessão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restou será para o príncipe; deste e do outro lado da oferta santa, e da possessão da cidade, diante das vinte e cinco mil canas da oferta, até ao termo do oriente e do ocidente, diante das vinte e cinco mil, até ao termo do ocidente, correspo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de a possessão dos levitas, e desde a possessão da cidade, no meio do que pertencer ao príncipe, entre o termo de Judá, e o termo de Benjamim, será isso para o príncip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 restante das tribos, desde o lado oriental até o lado ocidental, Benjamim terá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Benjamim, desde o lado oriental até o lado ocidental, Simeão terá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Simeão, desde o lado oriental até o lado ocidental, Issacar terá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Issacar, desde o lado oriental até o lado ocidental, Zebulom terá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Zebulom, desde o lado oriental até o lado ocidental, Gade terá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Gade, ao sul, do lado sul, será o termo desde Tamar até às águas da contenda de Cades, junto ao rio até ao mar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terra que sorteareis em herança às tribos de Israel; e estas são as suas porçõe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Aser, desde o lado oriental até o ocidental, Naftali,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ão as saídas da cidade, desde o lado norte: quatro mil e quinhentas canas por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portas da cidade serão conforme os nomes das tribos de Israel; três portas para o norte: a porta de Rúben uma, a porta de Judá outra, a porta de Levi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lado oriental quatro mil e quinhentas canas, e três portas, a saber: a porta de José uma, a porta de Benjamim outra, a porta de Dã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lado sul quatro mil e quinhentas canas por medida, e três portas: a porta de Simeão uma, a porta de Issacar outra, a porta de Zebulom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lado ocidental quatro mil e quinhentas canas, e as suas três portas: a porta de Gade uma, a porta de Aser outra, a porta de Naftali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zoito mil canas por medida terá ao redor; e o nome da cidade desde aquele dia será: O SENHOR ESTÁ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Naftali, desde o lado oriental até o lado ocidental, Manassés,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Manassés, desde o lado oriental até o lado ocidental, Efraim,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Efraim, desde o lado oriental até o lado ocidental, Rúben,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Rúben, desde o lado oriental até o lado ocidental, Judá, um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termo de Judá, desde o lado oriental até o lado ocidental, será a oferta que haveis de fazer de vinte e cinco mil canas de largura, e de comprimento de cada uma das porções, desde o lado oriental até o lado ocidental; e o santuário estará no 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oferta que haveis de oferecer ao SENHOR será do comprimento de vinte e cinco mil canas, e da largura de dez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30Z</dcterms:created>
  <dc:creator>Admin</dc:creator>
  <dc:description/>
  <dc:language>en-US</dc:language>
  <cp:lastModifiedBy>Admin</cp:lastModifiedBy>
  <dcterms:modified xsi:type="dcterms:W3CDTF">2008-07-30T23:36:30Z</dcterms:modified>
  <cp:revision>1</cp:revision>
  <dc:subject/>
  <dc:title>Slide 1</dc:title>
</cp:coreProperties>
</file>