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D7A-AB5F-43E8-9152-4149F5EE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CA5-EF4C-415B-B8DB-DF4D4B48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85A-CF33-4E3C-9646-FB3E860E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D37-F1B8-4F7C-895A-348CBF20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ECA-B4ED-4E88-860D-11D55E2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85B-CC67-418C-B12D-95AAE746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279-A5AD-45B2-9802-24657C7E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5CB-C085-4574-8131-ED7B89F7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470-644B-4040-B780-C4222990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3B2-03E8-416D-ACB9-A82C66E2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221-F7D3-43FD-BEAD-6087242C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BEF-BA1A-4787-97AA-1185FF20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2D7-9900-472D-A5D0-AA88880A737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sentada solitária aquela cidade, antes tão populosa! Tornou-se como viúva, a que era grande entre as nações! A que era princesa entre as províncias, tornou-se tributári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u o adversário a sua mão a todas as coisas mais preciosas dela; pois ela viu entrar no seu santuário os gentios, acerca dos quais mandaste que não entrassem na tu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seu povo anda suspirando, buscando o pão; deram as suas coisas mais preciosas a troco de mantimento para restaurarem a alma; vê, SENHOR, e contempla, que sou desprez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comove isto a todos vós que passais pelo caminho? Atendei, e vede, se há dor como a minha dor, que veio sobre mim, com que o SENHOR me afligiu, no dia do furor d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alto enviou fogo a meus ossos, o qual se assenhoreou deles; estendeu uma rede aos meus pés, fez-me voltar para trás, fez-me assolada e enferma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go das minhas transgressões está atado pela sua mão; elas estão entretecidas, subiram sobre o meu pescoço, e ele abateu a minha força; entregou-me o Senhor nas mãos daqueles a quem não posso resis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atropelou todos os meus poderosos no meio de mim; convocou contra mim uma assembléia, para esmagar os meus jovens; o Senhor pisou como num lagar a virgem filh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s coisas eu ando chorando; os meus olhos, os meus olhos se desfazem em águas; porque se afastou de mim o consolador que devia restaurar a minha alma; os meus filhos estão assolados, porque prevaleceu 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 Sião as suas mãos, não há quem a console; mandou o SENHOR acerca de Jacó que lhe fossem inimigos os que estão em redor dele; Jerusalém é entre eles como uma mulher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sto é o SENHOR, pois me rebelei contra o seu mandamento; ouvi, pois, todos os povos, e vede a minha dor; as minhas virgens e os meus jovens foram levados para o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ei os meus amantes, mas eles me enganaram; os meus sacerdotes e os meus anciãos expiraram na cidade; enquanto buscavam para si mantimento, para restaurarem a s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ora amargamente de noite, e as suas lágrimas lhe correm pelas faces; não tem quem a console entre todos os seus amantes; todos os seus amigos se houveram aleivosamente com ela, tornaram-se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, SENHOR, porque estou angustiada; turbadas estão as minhas entranhas; o meu coração está transtornado dentro de mim, porque gravemente me rebelei; fora me desfilhou a espada, em casa está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ram que eu suspiro, mas não tenho quem me console; todos os meus inimigos que souberam do meu mal folgam, porque tu o fizeste; mas, em trazendo tu o dia que apregoaste, serão como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ha toda a sua maldade diante de ti, e faze-lhes como me fizeste a mim por causa de todas as minhas transgressões; porque os meus suspiros são muitos, e o meu coração está desfal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dá passou em cativeiro por causa da aflição, e por causa da grande servidão; ela habita entre os gentios, não acha descanso; todos os seus perseguidores a alcançam entre as suas dificul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minhos de Sião pranteiam, porque não há quem venha à festa solene; todas as suas portas estão desoladas; os seus sacerdotes suspiram; as suas virgens estão tristes, e ela mesma tem amar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adversários têm sido feitos chefes, os seus inimigos prosperam; porque o SENHOR a afligiu, por causa da multidão das suas transgressões; os seus filhinhos foram para o cativeiro na frente do advers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filha de Sião já se foi toda a sua formosura; os seus príncipes ficaram sendo como corços que não acham pasto e caminham sem força adiante do persegu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se Jerusalém, nos dias da sua aflição e dos seus exílios, de todas as suas mais queridas coisas, que tivera desde os tempos antigos; quando caía o seu povo na mão do adversário, e não havia quem a socorresse; os adversários a viram, e fizeram esc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rusalém gravemente pecou, por isso se fez errante; todos os que a honravam, a desprezaram, porque viram a sua nudez; ela também suspira e volta para 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Lamentaçõe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imundícia está nas suas saias; nunca se lembrou do seu fim; por isso foi pasmosamente abatida, não tem consolador; vê, SENHOR, a minha aflição, porque o inimigo se tem engrand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44Z</dcterms:created>
  <dc:creator>Admin</dc:creator>
  <dc:description/>
  <dc:language>en-US</dc:language>
  <cp:lastModifiedBy>Admin</cp:lastModifiedBy>
  <dcterms:modified xsi:type="dcterms:W3CDTF">2008-07-31T00:07:44Z</dcterms:modified>
  <cp:revision>1</cp:revision>
  <dc:subject/>
  <dc:title>Slide 1</dc:title>
</cp:coreProperties>
</file>