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32E-BC75-4EBF-8264-7E2F7549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A43-00AF-4A77-BD12-D7BA37FE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220-8555-487F-9A37-A1CAAC5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B04-51F6-49AB-9D5F-47FE5440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8EC-ADD5-4A0D-9550-CF99AEA4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083-BF8A-4B71-AEEC-DEFA019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08E-D294-424F-AAC2-DBBCB9C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D06-7F6F-4B50-A275-C4E951C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386-EBD3-4F6A-8802-5CF608B0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878-E27D-4D46-89E5-14DC1F9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C33-7853-4966-A4C2-8F05B84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3F8-08D5-44EA-A390-8FB428B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D3C6-8EB6-4B89-8B12-701E160E5CD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 palavras de Amós, que estava entre os pastores de Tecoa, as quais viu a respeito de Israel, nos dias de Uzias, rei de Judá, e nos dias de Jeroboão, filho de Joás, rei de Israel, dois anos antes do terremo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orei fogo ao muro de Tiro, e ele consumirá os seus palá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e Edom, e por quatro, não retirarei o castigo, porque perseguiu a seu irmão à espada, e aniquilou as suas misericórdias; e a sua ira despedaçou eternamente, e conservou a sua indignação para semp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orei fogo a Temã, e ele consumirá os palácios de Boz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os filhos de Amom, e por quatro, não retirarei o castigo, porque fenderam o ventre às grávidas de Gileade, para dilatarem os seus term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orei fogo ao muro de Rabá, e ele consumirá os seus palácios, com alarido no dia da batalha, com tempestade no dia da tormen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u rei irá para o cativeiro, ele e os seus príncipes juntamente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le disse: O SENHOR bramará de Sião, e de Jerusalém fará ouvir a sua voz; os prados dos pastores prantearão, e secar-se-á o cume do Carmel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e Damasco, e por quatro, não retirarei o castigo, porque trilharam a Gileade com trilhos de fer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orei fogo à casa de Hazael, e ele consumirá os palácios de Ben-Had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quebrarei o ferrolho de Damasco, e exterminarei o morador do vale de Áven, e ao que tem o cetro de Bete-Éden; e o povo da Síria será levado em cativeiro a Quir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e Gaza, e por quatro, não retirarei o castigo, porque levaram em cativeiro todos os cativos para os entregarem a Edo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porei fogo ao muro de Gaza, e ele consumirá os seus paláci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exterminarei o morador de Asdode, e o que tem o cetro de Ascalom, e tornarei a minha mão contra Ecrom; e o restante dos filisteus perecerá, diz o Senhor DEU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mós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: Por três transgressões de Tiro, e por quatro, não retirarei o castigo, porque entregaram todos os cativos a Edom, e não se lembraram da aliança dos ir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45Z</dcterms:created>
  <dc:creator>Admin</dc:creator>
  <dc:description/>
  <dc:language>en-US</dc:language>
  <cp:lastModifiedBy>Admin</cp:lastModifiedBy>
  <dcterms:modified xsi:type="dcterms:W3CDTF">2008-07-30T23:21:45Z</dcterms:modified>
  <cp:revision>1</cp:revision>
  <dc:subject/>
  <dc:title>Slide 1</dc:title>
</cp:coreProperties>
</file>