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C7E-EC8C-4354-BDFE-2EA5D5FE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F4B-FE28-41CC-80CC-A0271ABD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490-CBE5-4FA3-B5DE-1FC6B337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7A6-4403-40A1-AB06-3EEAAA1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E6C-0EBC-43A6-94F2-2D84C95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8C5-FD43-4C19-812A-92F8E91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4B9-8D42-4302-B436-18D08720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601-7976-4CD5-8C15-C1B2DDBF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C42-3ACE-45E8-854E-08BF16F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9F7-6163-4006-ABDE-219CCA4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DD3-B650-4CA9-A888-B02AD6B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A5C-0B6E-4512-B1A4-88F42F8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28D-7089-4730-9A69-4D82B3D160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ao seu ungido, a Ciro, a quem tomo pela mão direita, para abater as nações diante de sua face, e descingir os lombos dos reis, para abrir diante dele as portas, e as portas não se fe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diz ao pai: Que é o que geras? E à mulher: Que dás tu à lu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Santo de Israel, aquele que o formou: Perguntai-me as coisas futuras; demandai-me acerca de meus filhos, e acerca da obra d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iz a terra, e criei nela o homem; eu o fiz; as minhas mãos estenderam os céus, e a todos os seus exércitos dei as minhas ord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 despertei em justiça, e todos os seus caminhos endireitarei; ele edificará a minha cidade, e soltará os meus cativos, não por preço nem por presente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O trabalho do Egito, e o comércio dos etíopes e dos sabeus, homens de alta estatura, passarão para ti, e serão teus; irão atrás de ti, virão em grilhões, e diante de ti se prostrarão; far-te-ão as suas súplicas, dizendo: Deveras D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iramente tu és o Deus que te ocultas, o Deus de Israel, o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ar-se-ão, e também se confundirão todos; cairão juntamente na afronta os que fabricam im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Israel é salvo pelo SENHOR, com uma eterna salvação; por isso não sereis envergonhados nem confundidos em toda a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que tem criado os céus, o Deus que formou a terra, e a fez; ele a confirmou, não a criou vazia, mas a formou para que fosse habitada: Eu sou o SENHOR e não há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lei em segredo, nem em lugar algum escuro da terra; não disse à descendência de Jacó: Buscai-me em vão; eu sou o SENHOR, que falo a justiça, e anuncio coisas r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irei adiante de ti, e endireitarei os caminhos tortuosos; quebrarei as portas de bronze, e despedaçarei os ferrolh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gregai-vos, e vinde; chegai-vos juntos, os que escapastes das nações; nada sabem os que conduzem em procissão as suas imagens de escultura, feitas de madeira, e rogam a um deus que não pode sal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, e chegai-vos, e tomai conselho todos juntos; quem fez ouvir isto desde a antiguidade? Quem desde então o anunciou? Porventura não sou eu, o SENHOR? Pois não há outro Deus senão eu; Deus justo e Salvador não há alé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ara mim, e sereis salvos, vós, todos os termos da terra; porque eu sou Deus, e não há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im mesmo tenho jurado, já saiu da minha boca a palavra de justiça, e não tornará atrás; que diante de mim se dobrará todo o joelho, e por mim jurará toda 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im se dirá: Deveras no SENHOR há justiça e força; até ele virão, mas serão envergonhados todos os que se indignarem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SENHOR será justificada, e se gloriará toda a descendênci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-te-ei os tesouros escondidos, e as riquezas encobertas, para que saibas que eu sou o SENHOR, o Deus de Israel, que te chama pel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e meu servo Jacó, e de Israel, meu eleito, eu te chamei pelo teu nome, pus o teu sobrenome, ainda que não me conheces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, e não há outro; fora de mim não há Deus; eu te cingirei, ainda que tu não me conheç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saiba desde o nascente do sol, e desde o poente, que fora de mim não há outro; eu sou o SENHOR, e não há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ormo a luz, e crio as trevas; eu faço a paz, e crio o mal; eu, o SENHOR, faço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ilai, ó céus, dessas alturas, e as nuvens chovam justiça; abra-se a terra, e produza a salvação, e ao mesmo tempo frutifique a justiça; eu, o SENHOR, as cr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contende com o seu Criador! o caco entre outros cacos de barro! Porventura dirá o barro ao que o formou: Que fazes? ou a tua obra: Não ten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25Z</dcterms:created>
  <dc:creator>Admin</dc:creator>
  <dc:description/>
  <dc:language>en-US</dc:language>
  <cp:lastModifiedBy>Admin</cp:lastModifiedBy>
  <dcterms:modified xsi:type="dcterms:W3CDTF">2008-07-30T23:56:25Z</dcterms:modified>
  <cp:revision>1</cp:revision>
  <dc:subject/>
  <dc:title>Slide 1</dc:title>
</cp:coreProperties>
</file>