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B63-2B34-4D7B-A024-906763B9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73B-BBAD-4196-A79B-5E2BAF90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D03-FD46-40CE-9498-8F2C513C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419-2798-4B32-B829-25E9FA29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8298-CAC0-4AA4-B46A-A031E985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430-7371-4D6F-ACB7-A57FBCD8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2CD-7384-4F1A-8E44-CFC56A6A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E66-C6BB-4C9D-90A1-C56C7694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719-0405-4759-9C0C-C3F97B78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5A1-C144-44E1-9AB0-CF23A1C1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B93-73DF-4D2C-B102-66A0DA02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E80-3F68-4849-A804-DF34ED90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95B0-5DA6-405A-81C2-37C8041DD59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! se a minha cabeça se tornasse em águas, e os meus olhos numa fonte de lágrimas! Então choraria de dia e de noite os mortos da filha do m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s montes levantarei choro e pranto, e pelas pastagens do deserto lamentação; porque já estão queimadas, e ninguém passa por elas; nem se ouve mugido de gado; desde as aves dos céus, até os animais, andaram vagueando, e fug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de Jerusalém montões de pedras, morada de chacais, e das cidades de Judá farei assolação, de sorte que não haja habit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o homem sábio, que entenda isto? e a quem falou a boca do SENHOR, para que o possa anunciar? Por que razão pereceu a terra, e se queimou como deserto, sem que ninguém passa por el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: Porque deixaram a minha lei, que pus perante eles, e não deram ouvidos à minha voz, nem andaram nel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andaram após o propósito do seu próprio coração, e após os baalins, como lhes ensinaram os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os Exércitos, Deus de Israel: Eis que darei de comer losna a este povo, e lhe darei a beber água de f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spalharei entre gentios, que não conheceram, nem eles nem seus pais, e mandarei a espada após eles, até que venha a consumi-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Considerai, e chamai carpideiras que venham; e mandai procurar mulheres hábeis, para que venh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pressem, e levantem o seu lamento sobre nós; e desfaçam-se em lágrimas os nossos olhos, e as nossas pálpebras destilem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uma voz de pranto se ouviu de Sião: Como estamos arruinados! Estamos mui envergonhados, porque deixamos a terra, e por terem eles lançado fora as nossas mor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! se tivesse no deserto uma estalagem de caminhantes! Então deixaria o meu povo, e me apartaria dele, porque todos eles são adúlteros, um bando de aleiv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, pois, vós, mulheres, a palavra do SENHOR, e os vossos ouvidos recebam a palavra da sua boca; e ensinai o pranto a vossas filhas, e cada uma à sua vizinha a lament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morte subiu pelas nossas janelas, e entrou em nossos palácios, para exterminar as crianças das ruas e os jovens das pra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: Assim diz o SENHOR: Até os cadáveres dos homens jazerão como esterco sobre a face do campo, e como gavela atrás do segador, e não há quem a reco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Não se glorie o sábio na sua sabedoria, nem se glorie o forte na sua força; não se glorie o rico nas suas riquez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que se gloriar, glorie-se nisto: em me entender e me conhecer, que eu sou o SENHOR, que faço beneficência, juízo e justiça na terra; porque destas coisas me agrad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êm dias, diz o SENHOR, em que castigarei a todo o circuncidado com o incircunci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Egito, e a Judá, e a Edom, e aos filhos de Amom, e a Moabe, e a todos os que cortam os cantos do seu cabelo, que habitam no deserto; porque todas as nações são incircuncisas, e toda a casa de Israel é incircuncisa de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curvam a língua como se fosse o seu arco, para a mentira; fortalecem-se na terra, mas não para a verdade; porque avançam de malícia em malícia, e a mim não me conhecem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i-vos cada um do seu próximo, e de irmão nenhum vos fieis; porque todo o irmão não faz mais do que enganar, e todo o próximo anda caluni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ombará cada um do seu próximo, e não falam a verdade; ensinam a sua língua a falar a mentira, andam-se cansando em proceder pervers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habitação está no meio do engano; pelo engano recusam conhecer-me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os Exércitos: Eis que eu os fundirei e os provarei; pois, de que outra maneira procederia com a filha do meu po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flecha mortífera é a língua deles; fala engano; com a sua boca fala cada um de paz com o seu próximo mas no seu coração arma-lhe cil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por estas coisas não os castigaria? diz o SENHOR; ou não se vingaria a minha alma de nação tal como es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47Z</dcterms:created>
  <dc:creator>Admin</dc:creator>
  <dc:description/>
  <dc:language>en-US</dc:language>
  <cp:lastModifiedBy>Admin</cp:lastModifiedBy>
  <dcterms:modified xsi:type="dcterms:W3CDTF">2008-07-30T23:57:47Z</dcterms:modified>
  <cp:revision>1</cp:revision>
  <dc:subject/>
  <dc:title>Slide 1</dc:title>
</cp:coreProperties>
</file>