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531-1BE8-42C3-AC00-22802586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653-823F-4B0A-BA9A-412BAB2A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6AC-5A81-42AE-95C1-F15B5F52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CDF-0D1F-4B7C-9E98-F10B3134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559-CD06-4719-81DB-0750892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21C-D9FD-4ED3-A0BF-978045FF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A1C-F028-48C0-9D3A-5E4FE191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240-6371-49BE-9731-7FF4271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030-22D6-4996-B5F0-AC4E09CF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C8C-9E30-4212-A439-623E568B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BF9-F5B5-4000-BF0C-41532CF9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9F7-3620-49BA-BED8-05BC257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9ADC-3878-4F88-8B1B-B3252B9BF14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os últimos dias acontecerá que o monte da casa do SENHOR será estabelecido no cume dos montes, e se elevará sobre os outeiros, e a ele afluirão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fre dores, e trabalha, para dar à luz, ó filha de Sião, como a que está de parto, porque agora sairás da cidade, e morarás no campo, e virás até Babilônia; ali, porém, serás livrada; ali te remirá o SENHOR da mão de t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se congregaram muitas nações contra ti, que dizem: Seja profanada, e vejam os nossos olhos o seu desejo sobre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sabem os pensamentos do SENHOR, nem entendem o seu conselho; porque as ajuntou como gavelas numa 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 e trilha, ó filha de Sião; porque eu farei de ferro o teu chifre, e de bronze as tuas unhas; e esmiuçarás a muitos povos, e o seu ganho será consagrado ao SENHOR, e os seus bens ao Senhor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ão muitas nações, e dirão: Vinde, e subamos ao monte do SENHOR, e à casa do Deus de Jacó, para que nos ensine os seus caminhos, e andemos pelas suas veredas; porque de Sião sairá a lei, e de Jerusalém 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lgará entre muitos povos, e castigará nações poderosas e longínquas, e converterão as suas espadas em pás, e as suas lanças em foices; uma nação não levantará a espada contra outra nação, nem aprenderão mais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sentar-se-á cada um debaixo da sua videira, e debaixo da sua figueira, e não haverá quem os espante, porque a boca do SENHOR dos Exércitos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os povos andam, cada um em nome do seu deus; mas nós andaremos em nome do SENHOR nosso Deus,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, diz o SENHOR, congregarei a que coxeava, e recolherei a que tinha sido expulsa, e a que eu tinha maltra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que coxeava farei um remanescente, e da que tinha sido arrojada para longe, uma nação poderosa; e o SENHOR reinará sobre eles no monte Sião, desde agora 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i, ó torre do rebanho, fortaleza da filha de Sião, a ti virá; sim, a ti virá o primeiro domínio, o reino da filha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, por que fazes tão grande pranto? Não há em ti rei? Pereceu o teu conselheiro? Apoderou-se de ti a dor, como da que está de par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27Z</dcterms:created>
  <dc:creator>Admin</dc:creator>
  <dc:description/>
  <dc:language>en-US</dc:language>
  <cp:lastModifiedBy>Admin</cp:lastModifiedBy>
  <dcterms:modified xsi:type="dcterms:W3CDTF">2008-07-31T00:16:27Z</dcterms:modified>
  <cp:revision>1</cp:revision>
  <dc:subject/>
  <dc:title>Slide 1</dc:title>
</cp:coreProperties>
</file>