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E07-A167-4B60-BE8B-4668B190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EE4-AD1A-4051-B4D1-41852A2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04C-10F9-447B-976D-FAE565DA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E33-F0E1-4250-B30D-4A4546D7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818-1E9F-42D4-92DA-A8BC900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833-771A-4D34-9686-906D869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1C1-23BE-4862-A675-0C9DA33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8C1-E1CD-4F55-8C7F-6F1B869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0F8-30A1-4EA4-A77A-4B82BB6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53D-AE13-45F6-85C6-CF0041D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F6C-2E6F-4BA8-BC9D-9818F08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386-2297-4A87-90DF-4727FDB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311-0029-46F2-B6F1-E6E203B0ECE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que não convém gloriar-me; mas passarei às visões e revelaçõe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into prazer nas fraquezas, nas injúrias, nas necessidades, nas perseguições, nas angústias por amor de Cristo. Porque quando estou fraco então sou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i néscio em gloriar-me; vós me constrangestes. Eu devia ter sido louvado por vós, visto que em nada fui inferior aos mais excelentes apóstolos, ainda que nada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inais do meu apostolado foram manifestados entre vós com toda a paciência, por sinais, prodígios e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em que tendes vós sido inferiores às outras igrejas, a não ser que eu mesmo vos não fui pesado? Perdoai-me este agra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estou pronto para pela terceira vez ir ter convosco, e não vos serei pesado, pois que não busco o que é vosso, mas sim a vós: porque não devem os filhos entesourar para os pais, mas os pais para 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e muito boa vontade gastarei, e me deixarei gastar pelas vossas almas, ainda que, amando-vos cada vez mais, seja menos 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ja assim; eu não vos fui pesado mas, sendo astuto, vos tomei com d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proveitei-me de vós por algum daqueles que vos envi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uei a Tito, e enviei com ele um irmão. Porventura Tito se aproveitou de vós? Não andamos porventura no mesmo espírito, sobre as mesmas pisa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idais que ainda nos desculpamos convosco? Falamos em Cristo perante Deus, e tudo isto, ó amados, para vossa ed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um homem em Cristo que há catorze anos (se no corpo, não sei, se fora do corpo, não sei; Deus o sabe) foi arrebatado ao terceir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eceio que, quando chegar, não vos ache como eu quereria, e eu seja achado de vós como não quereríeis; que de alguma maneira haja pendências, invejas, iras, porfias, detrações, mexericos, orgulhos, tumul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quando for outra vez, o meu Deus me humilhe para convosco, e chore por muitos daqueles que dantes pecaram, e não se arrependeram da imundícia, e prostituição, e desonestidade que comet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i que o tal homem (se no corpo, se fora do corpo, não sei; Deus o sab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arrebatado ao paraíso; e ouviu palavras inefáveis, que ao homem não é lícito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alguém assim me gloriarei eu, mas de mim mesmo não me gloriarei, senão nas minhas fra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quiser gloriar-me, não serei néscio, porque direi a verdade; mas deixo isto, para que ninguém cuide de mim mais do que em mim vê ou de mim 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a que não me exaltasse pela excelência das revelações, foi-me dado um espinho na carne, a saber, um mensageiro de Satanás para me esbofetear, a fim de não me ex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o qual três vezes orei ao Senhor para que se desviass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A minha graça te basta, porque o meu poder se aperfeiçoa na fraqueza. De boa vontade, pois, me gloriarei nas minhas fraquezas, para que em mim habite o poder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58Z</dcterms:created>
  <dc:creator>Admin</dc:creator>
  <dc:description/>
  <dc:language>en-US</dc:language>
  <cp:lastModifiedBy>Admin</cp:lastModifiedBy>
  <dcterms:modified xsi:type="dcterms:W3CDTF">2008-07-30T23:48:58Z</dcterms:modified>
  <cp:revision>1</cp:revision>
  <dc:subject/>
  <dc:title>Slide 1</dc:title>
</cp:coreProperties>
</file>