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F38-8036-42C2-95B5-417F6CEA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35F-6233-4637-BF7D-83C8413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909-3037-41D9-B9EC-ADB58591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8E1-41A5-4DA4-945D-47BEDF5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C66-4EBF-46BD-8855-A181D42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692-7468-43FB-98D6-5893FE5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3D4-F0BB-4EE4-AADF-18DC0C31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63F-C58D-49E2-8CBF-D0898FA6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6C8-9842-4597-A37A-E3B241E2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4AC-EFFE-4BE9-BBF5-E32B5CC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A71-BD58-4265-A336-6519E29F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5B9-5CCE-4F35-88C2-3659A8D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2CE-5FE3-439B-BC89-7B3B00A5B5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 um homem de Ramataim-Zofim, da montanha de Efraim, cujo nome era Elcana, filho de Jeroão, filho de Eliú, filho de Toú, filho de Zufe, efra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, pois, com amargura de alma, orou ao SENHOR, e chorou abund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12536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fez um voto, dizendo: SENHOR dos Exércitos! Se benignamente atentares para a aflição da tua serva, e de mim te lembrares, e da tua serva não te esqueceres, mas à tua serva deres um filho homem, ao SENHOR o darei todos os dias da sua vida, e sobre a sua cabeça não passará naval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erseverando ela em orar perante o SENHOR, Eli observou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na no seu coração falava; só se moviam os seus lábios, porém não se ouvia a sua voz; pelo que Eli a teve por embriag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Eli: Até quando estarás tu embriagada? Aparta de ti o teu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na respondeu: Não, senhor meu, eu sou uma mulher atribulada de espírito; nem vinho nem bebida forte tenho bebido; porém tenho derramado a minha alm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has, pois, a tua serva por filha de Belial; porque da multidão dos meus cuidados e do meu desgosto tenho falado até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Eli: Vai em paz; e o Deus de Israel te conceda a petição que lhe fiz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Ache a tua serva graça aos teus olhos. Assim a mulher foi o seu caminho, e comeu, e o seu semblante já não era tr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de madrugada, e adoraram perante o SENHOR, e voltaram, e chegaram à sua casa, em Ramá, e Elcana conheceu a Ana sua mulher, e o SENHOR se lembrou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tinha duas mulheres: o nome de uma era Ana, e o da outra Penina. E Penina tinha filhos, porém Ana não os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assado algum tempo, Ana concebeu, e deu à luz um filho, ao qual chamou Samuel; porque, dizia ela, o tenho pedid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aquele homem Elcana com toda a sua casa, a oferecer ao SENHOR o sacrifício anual e a cumprir o seu v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na não subiu; mas disse a seu marido: Quando o menino for desmamado, então o levarei, para que apareça perante o SENHOR, e lá fiqu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cana, seu marido, lhe disse: Faze o que bem te parecer aos teus olhos; fica até que o desmames; então somente confirme o SENHOR a sua palavra. Assim ficou a mulher, e deu leite a seu filho, até que o desm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desmamado, tomou-o consigo, com três bezerros, e um efa de farinha, e um odre de vinho, e levou-o à casa do SENHOR, em Siló, e era o menino ainda muito cr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golaram um bezerro, e trouxeram o menino a 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Ah, meu senhor, viva a tua alma, meu SENHOR; eu sou aquela mulher que aqui esteve contigo, para or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e menino orava eu; e o SENHOR atendeu à minha petição, que eu lh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ao SENHOR eu o entreguei, por todos os dias que viver, pois ao SENHOR foi pedido. E adorou al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a, pois, este homem, da sua cidade, de ano em ano, a adorar e a sacrificar ao SENHOR dos Exércitos em Siló; e estavam ali os sacerdotes do SENHOR, Hofni e Finéias, os dois filhos de 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no dia em que Elcana sacrificava, dava ele porções a Penina, sua mulher, e a todos os seus filhos, e a todas as s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Ana dava uma parte excelente; porque amava a Ana, embora o SENHOR lhe tivesse cerrado a ma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rival excessivamente a provocava, para a irritar; porque o SENHOR lhe tinha cerrado a ma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azia ele de ano em ano. Sempre que Ana subia à casa do SENHOR, a outra a irritava; por isso chorava, e não co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cana, seu marido, lhe disse: Ana, por que choras? E por que não comes? E por que está mal o teu coração? Não te sou eu melhor do que dez fi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Samuel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na se levantou, depois que comeram e beberam em Siló; e Eli, sacerdote, estava assentado numa cadeira, junto a um pilar do templ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6:19Z</dcterms:created>
  <dc:creator>Admin</dc:creator>
  <dc:description/>
  <dc:language>en-US</dc:language>
  <cp:lastModifiedBy>Jadson</cp:lastModifiedBy>
  <dcterms:modified xsi:type="dcterms:W3CDTF">2010-01-10T21:25:11Z</dcterms:modified>
  <cp:revision>2</cp:revision>
  <dc:subject/>
  <dc:title>Slide 1</dc:title>
</cp:coreProperties>
</file>