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F9C-033C-44CA-A42B-A149DB4A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027-392E-4EF7-B308-99822DF4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FC4-9DCE-49E6-8D49-5998AC51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7C9-A48E-4322-B7AC-5D4BB6B4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8AA-CD95-4EBC-9139-3A5FB420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A30-B3AE-4787-B45D-F70886A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B6E-6DA5-4C71-A89F-81C3789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982-5561-4F4B-8920-539F0CCF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FB9-0EF1-495A-8734-7475DF9C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C08-894F-4745-9A00-9406015E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F42-EF13-4F54-8C94-493BE1E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D4A-ABA6-4C7B-B4EB-88628C3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D971-EFFD-4FE2-871B-80780CCE445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depois disto que Davi feriu os filisteus, e os sujeitou; e Davi tomou a Metegue-Ama das mãos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 Toí, seu filho Jorão, ao rei Davi, para lhe perguntar como estava, e para lhe dar os parabéns por haver pelejado contra Hadadezer, e por o haver ferido (porque Hadadezer de contínuo fazia guerra a Toí); e na sua mão trazia vasos de prata, e vas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também o rei Davi consagrou ao SENHOR, juntamente com a prata e ouro que já havia consagrado de todas as nações que sujeit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Síria, e de Moabe, e dos filhos de Amom, e dos filisteus, e de Amaleque, e dos despojos de Hadadezer, filho de Reobe, rei de Zo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vi ganhou nome, voltando ele de ferir os sírios no vale do Sal, a saber, a dezoit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guarnições, em Edom, em todo o Edom pôs guarnições, e todos os edomeus ficaram por servos de Davi; e o SENHOR ajudava a Davi por onde quer que 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inou, pois, Davi sobre todo o Israel; e Davi fazia direito e justiça a todo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be, filho de Zeruia, era sobre o exército; e Jeosafá, filho de Ailude, era cron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doque, filho de Aitube, e Aimeleque, filho de Abiatar, eram sacerdotes, e Seraías escri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Benaia, filho de Jeoiada, estava sobre os quereteus e peleteus; porém os filhos de Davi eram minis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rrotou os moabitas, e os mediu com cordel, fazendo-os deitar por terra; e os mediu com dois cordéis para os matar, e com um cordel inteiro para os deixar com vida. Ficaram assim os moabitas por servos de Davi, pagando-lhe trib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u também Davi a Hadadezer, filho de Reobe, rei de Zobá, quando ele ia recuperar o seu domínio sobre o rio Eufr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lhe Davi mil carros e setecentos cavaleiros e vinte mil homens de pé; e Davi jarretou a todos os cavalos dos carros, e reservou deles cem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os sírios de Damasco a socorrer a Hadadezer, rei de Zobá; porém Davi feriu dos sírios vinte e dois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pôs guarnições na Síria de Damasco, e os sírios ficaram por servos de Davi, pagando-lhe tributos; e o SENHOR guardou a Davi por onde quer que 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tomou os escudos de ouro que havia com os servos de Hadadezer, e os trouxe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mais o rei Davi uma quantidade muito grande de bronze de Betá e de Berotai, cidades de Hadade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uvindo Toí, rei de Hamate, que Davi ferira a todo o exército de Hadadez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3:00Z</dcterms:created>
  <dc:creator>Admin</dc:creator>
  <dc:description/>
  <dc:language>en-US</dc:language>
  <cp:lastModifiedBy>Admin</cp:lastModifiedBy>
  <dcterms:modified xsi:type="dcterms:W3CDTF">2008-07-30T23:53:00Z</dcterms:modified>
  <cp:revision>1</cp:revision>
  <dc:subject/>
  <dc:title>Slide 1</dc:title>
</cp:coreProperties>
</file>