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52A-E68B-48AD-8F1B-F7659C4A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676-7826-49DE-9D5C-212BF9CC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B51-9896-49A5-994B-E668FF43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BFE-8EB7-4A63-A85C-E1DB78EC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0B7-FBC7-401E-B52C-853D0A91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E55-164F-43AE-A19C-8565F0B8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11F-5966-4B74-879A-1E69FD1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477-DABD-4C03-8C43-CB85B28D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4F7-9E15-4199-8A89-670DC9E0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F0A-EB54-48DA-AEC4-79C7C6C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B21-A6FC-4A0E-9AE2-AE08205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C8F-B2B7-4C9B-B91A-A2ED573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C540-1CF8-4830-97AC-9D16F87BE07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TECEU, no quarto ano do rei Dario, que a palavra do SENHOR veio a Zacarias, no quarto dia do nono mês, que é Quisl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oprimais a viúva, nem o órfão, nem o estrangeiro, nem o pobre, nem intente cada um, em seu coração, o mal contra o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s, porém, não quiseram escutar, e deram-me o ombro rebelde, e ensurdeceram os seus ouvidos, para que não ouvi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im, fizeram os seus corações como pedra de diamante, para que não ouvissem a lei, nem as palavras que o SENHOR dos Exércitos enviara pelo seu Espírito por intermédio dos primeiros profetas; daí veio a grande ira d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assim como ele clamou e eles não ouviram, também eles clamaram, e eu não ouvi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os espalhei com um turbilhão por entre todas as nações, que eles não conheceram, e a terra foi assolada atrás deles, de sorte que ninguém passava por ela, nem se voltava; porque fizeram da terra desejada uma desol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povo enviou Sarezer e Régen-Meleque, e os seus homens, à casa de Deus, para suplicarem o favor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dizerem aos sacerdotes, que estavam na casa do SENHOR dos Exércitos, e aos profetas: Chorarei eu no quinto mês, fazendo abstinência, como tenho feito por tantos an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 palavra do SENHOR dos Exércitos veio a mi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todo o povo desta terra, e aos sacerdotes, dizendo: Quando jejuastes, e pranteastes, no quinto e no sétimo mês, durante estes setenta anos, porventura, foi mesmo para mim que jejua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quando comestes, e quando bebestes, não foi para vós mesmos que comestes e bebest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foram estas as palavras que o SENHOR pregou pelo ministério dos primeiros profetas, quando Jerusalém estava habitada e em paz, com as suas cidades ao redor dela, e o sul e a campina eram habitad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o SENHOR veio a Zacaria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ou o SENHOR dos Exércitos, dizendo: Executai juízo verdadeiro, mostrai piedade e misericórdia cada um para com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9Z</dcterms:created>
  <dc:creator>Admin</dc:creator>
  <dc:description/>
  <dc:language>en-US</dc:language>
  <cp:lastModifiedBy>Admin</cp:lastModifiedBy>
  <dcterms:modified xsi:type="dcterms:W3CDTF">2008-07-31T00:29:29Z</dcterms:modified>
  <cp:revision>1</cp:revision>
  <dc:subject/>
  <dc:title>Slide 1</dc:title>
</cp:coreProperties>
</file>