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602A-D253-4E28-848E-91A323AD1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84F3-118E-4738-931F-E60E8755F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2979-8A51-4A09-84CF-376E66072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A3CE-18C1-428D-90C0-67BF548B5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A8A4-A801-404E-A3AE-4A88A3AAD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A86C-6E48-4E7F-9A0B-D06232BCC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C70A-710D-4AD6-8BA0-6F42AA50F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BEA0-D0EC-4797-8925-4652E7BE8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38C0-70AE-4CC1-B9C3-6622955E2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E8C1-CE8A-49FF-AD56-0668C936F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2517-F7D8-4688-B189-4637972E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6718-75A4-449B-833F-7E07F847D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97382-AAB6-4F58-BC43-CA6264C0FB89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8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HEGADO o sétimo mês, e estando os filhos de Israel nas suas cidades, todo o povo se ajuntou como um só homem, na praça, diante da porta das águas; e disseram a Esdras, o escriba, que trouxesse o livro da lei de Moisés, que o SENHOR tinha ordenado a 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8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-lhes mais: Ide, comei as gorduras, e bebei as doçuras, e enviai porções aos que não têm nada preparado para si; porque este dia é consagrado ao nosso Senhor; portanto não vos entristeçais; porque a alegria do SENHOR é a vossa for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8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levitas fizeram calar a todo o povo, dizendo: Calai-vos; porque este dia é santo; por isso não vos entristeç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8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todo o povo se foi a comer, a beber, a enviar porções e a fazer grande regozijo; porque entenderam as palavras que lhes fizeram sab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8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o dia seguinte ajuntaram-se os chefes dos pais de todo o povo, os sacerdotes e os levitas, a Esdras, o escriba; e isto para atentarem nas palavras da l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8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haram escrito na lei que o SENHOR ordenara, pelo ministério de Moisés, que os filhos de Israel habitassem em cabanas, na solenidade da festa, no sétimo mê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8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publicaram, e fizeram passar pregão por todas as suas cidades, e em Jerusalém, dizendo: Saí ao monte, e trazei ramos de oliveiras, e ramos de zambujeiros, e ramos de murtas, e ramos de palmeiras, e ramos de árvores espessas, para fazer cabanas, c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8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iu, pois, o povo, e os trouxeram, e fizeram para si cabanas, cada um no seu terraço, nos seus pátios, e nos átrios da casa de Deus, na praça da porta das águas, e na praça da porta de Efra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8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a a congregação dos que voltaram do cativeiro fizeram cabanas, e habitaram nas cabanas, porque nunca fizeram assim os filhos de Israel, desde os dias de Josué, filho de Num, até àquele dia; e houve mui grande aleg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8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de dia em dia, Esdras leu no livro da lei de Deus, desde o primeiro dia até ao derradeiro; e celebraram a solenidade da festa sete dias, e no oitavo dia, houve uma assembléia solene, segundo o r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8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dras, o sacerdote, trouxe a lei perante a congregação, tanto de homens como de mulheres, e todos os que podiam ouvir com entendimento, no primeiro dia do sétimo mê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8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eu no livro diante da praça, que está diante da porta das águas, desde a alva até ao meio dia, perante homens e mulheres, e os que podiam entender; e os ouvidos de todo o povo estavam atentos ao livro da l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8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dras, o escriba, estava sobre um púlpito de madeira, que fizeram para aquele fim; e estava em pé junto a ele, à sua mão direita, Matitias, Sema, Anaías, Urias, Hilquias e Maaséias; e à sua mão esquerda, Pedaías, Misael, Melquias, Hasum, Hasbadana, 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8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dras abriu o livro perante à vista de todo o povo; porque estava acima de todo o povo; e, abrindo-o ele, todo o povo se pôs em pé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8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dras louvou ao SENHOR, o grande Deus; e todo o povo respondeu: Amém, Amém! levantando as suas mãos; e inclinaram suas cabeças, e adoraram ao SENHOR, com os rostos em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8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esuá, Bani, Serebias, Jamim, Acube, Sabetai, Hodias, Maaséias, Quelita, Azarias, Jozabade, Hanã, Pelaías, e os levitas ensinavam o povo na lei; e o povo estava no seu lu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8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eram no livro, na lei de Deus; e declarando, e explicando o sentido, faziam que, lendo, se entendess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8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eemias, que era o governador, e o sacerdote Esdras, o escriba, e os levitas que ensinavam ao povo, disseram a todo o povo: Este dia é consagrado ao SENHOR vosso Deus, então não vos lamenteis, nem choreis. Porque todo o povo chorava, ouvindo as palav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17:09Z</dcterms:created>
  <dc:creator>Admin</dc:creator>
  <dc:description/>
  <dc:language>en-US</dc:language>
  <cp:lastModifiedBy>Admin</cp:lastModifiedBy>
  <dcterms:modified xsi:type="dcterms:W3CDTF">2008-07-31T00:17:09Z</dcterms:modified>
  <cp:revision>1</cp:revision>
  <dc:subject/>
  <dc:title>Slide 1</dc:title>
</cp:coreProperties>
</file>