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E03-3B5D-4527-BBA4-73304EE9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2F1-26AE-40D8-9AD2-754ECD0C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FC5-6D62-4625-A606-AE14FF2F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A82-A668-4743-9563-BD3921A9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0612-7681-42F1-97EE-41B48FD6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B81-02B7-4ED8-AEAA-82E0DB4E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524-FBCD-4B8B-83FB-A5D3E508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53C-DD6E-498F-BDBA-8093D27D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798-AEE6-4A7A-8F6B-45E66002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BA2-E20B-4A64-BC00-4AFD808F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A999-2995-427F-B377-7229636A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60B-0B2E-4A2B-AE4F-806FBD12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4658-51B9-4100-9DF8-90560B767C2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RAÃO tomou outra mulher; e o seu nome era Quetu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mpo que Abraão comprara aos filhos de Hete. Ali está sepultado Abraão e Sara, su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depois da morte de Abraão, que Deus abençoou a Isaque seu filho; e habitava Isaque junto ao poço Beer-Laai-Ró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, porém, são as gerações de Ismael filho de Abraão, que a serva de Sara, Agar, egípcia, deu a Abra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nomes dos filhos de Ismael, pelos seus nomes, segundo as suas gerações: O primogênito de Ismael era Nebaiote, depois Quedar, Adbeel e Mibs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sma, Dumá, Mass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dade, Tema, Jetur, Nafis e Quedem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e Ismael, e estes são os seus nomes pelas suas vilas e pelos seus castelos; doze príncipes segundo as suas famíl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s são os anos da vida de Ismael, cento e trinta e sete anos, e ele expirou e, morrendo, foi congregado ao seu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bitaram desde Havilá até Sur, que está em frente do Egito, como quem vai para a Assíria; e fez o seu assento diante da face de todos os seu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s são as gerações de Isaque, filho de Abraão: Abraão gerou a Isaqu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-lhe à luz Zinrã, Jocsã, Medã, Midiã, Jisbaque e Su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Isaque da idade de quarenta anos, quando tomou por mulher a Rebeca, filha de Betuel, arameu de Padã-Arã, irmã de Labão, aram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aque orou insistentemente ao SENHOR por sua mulher, porquanto era estéril; e o SENHOR ouviu as suas orações, e Rebeca sua mulher conceb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lutavam dentro dela; então disse: Se assim é, por que sou eu assim? E foi perguntar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lhe disse: Duas nações há no teu ventre, e dois povos se dividirão das tuas entranhas, e um povo será mais forte do que o outro povo, e o maior servirá ao men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umprindo-se os seus dias para dar à luz, eis gêmeos no seu vent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o primeiro ruivo e todo como um vestido de pêlo; por isso chamaram o seu nome Esa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saiu o seu irmão, agarrada sua mão ao calcanhar de Esaú; por isso se chamou o seu nome Jacó. E era Isaque da idade de sessenta anos quando os ge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resceram os meninos, e Esaú foi homem perito na caça, homem do campo; mas Jacó era homem simples, habitando em te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mava Isaque a Esaú, porque a caça era de seu gosto, mas Rebeca amava a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cozera um guisado; e veio Esaú do campo, e estava ele cans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csã gerou Seba e Dedã; e os filhos de Dedã foram Assurim, Letusim e Leu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saú a Jacó: Deixa-me, peço-te, comer desse guisado vermelho, porque estou cansado. Por isso se chamou E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acó: Vende-me hoje a tua primogeni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saú: Eis que estou a ponto de morrer; para que me servirá a primogenitu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acó: Jura-me hoje. E jurou-lhe e vendeu a sua primogenitura a Jac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acó deu pão a Esaú e o guisado de lentilhas; e ele comeu, e bebeu, e levantou-se, e saiu. Assim desprezou Esaú a sua primogeni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Midiã foram Efá, Efer, Enoque, Abida e Elda. Estes todos foram filhos de Que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braão deu tudo o que tinha a Isaqu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os filhos das concubinas que Abraão tinha, deu Abraão presentes e, vivendo ele ainda, despediu-os do seu filho Isaque, enviando-os ao oriente, para a terra orient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, pois, são os dias dos anos da vida de Abraão, que viveu cento e setenta e cinco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raão expirou, morrendo em boa velhice, velho e farto de dias; e foi congregado ao seu pov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aque e Ismael, seus filhos, sepultaram-no na cova de Macpela, no campo de Efrom, filho de Zoar, heteu, que estava em frente de Manr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8:36Z</dcterms:created>
  <dc:creator>Admin</dc:creator>
  <dc:description/>
  <dc:language>en-US</dc:language>
  <cp:lastModifiedBy>Admin</cp:lastModifiedBy>
  <dcterms:modified xsi:type="dcterms:W3CDTF">2008-07-30T23:38:36Z</dcterms:modified>
  <cp:revision>1</cp:revision>
  <dc:subject/>
  <dc:title>Slide 1</dc:title>
</cp:coreProperties>
</file>