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241-0176-4147-B486-AAB94411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CA9-02B4-482E-9224-AA645140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08C-C070-4DC3-AE00-9225EF8E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9D5-3AC8-40AC-A5AA-1E028DF3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6DA-A9BC-4334-AE6B-C7DFFABA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DD9-F5FF-441D-9CC9-20D2DCE4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31C-573C-4137-AE1C-A7785E18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C33-E219-4B06-8FF1-ACE18A55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2C5-AD65-4264-BB57-76DAE491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D7E-B7AA-422D-9F8A-FD9A613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73B-3F64-449C-B7C9-251847D5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BEB-54BD-45ED-86EE-95F3E489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B0C6-42D9-4B36-BEE1-9DFE33393AB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aberto o sétimo selo, fez-se silêncio no céu quase por meia h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rceiro anjo tocou a sua trombeta, e caiu do céu uma grande estrela ardendo como uma tocha, e caiu sobre a terça parte dos rios, e sobre as fontes d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a estrela era Absinto, e a terça parte das águas tornou-se em absinto, e muitos homens morreram das águas, porque se tornaram amar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arto anjo tocou a sua trombeta, e foi ferida a terça parte do sol, e a terça parte da lua, e a terça parte das estrelas; para que a terça parte deles se escurecesse, e a terça parte do dia não brilhasse, e semelhantemente 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ouvi um anjo voar pelo meio do céu, dizendo com grande voz: Ai! ai! ai! dos que habitam sobre a terra! por causa das outras vozes das trombetas dos três anjos que hão de ainda to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os sete anjos, que estavam diante de Deus, e foram-lhes dadas sete tromb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outro anjo, e pôs-se junto ao altar, tendo um incensário de ouro; e foi-lhe dado muito incenso, para o pôr com as orações de todos os santos sobre o altar de ouro, que está diante do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umaça do incenso subiu com as orações dos santos desde a mão do anjo até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tomou o incensário, e o encheu do fogo do altar, e o lançou sobre a terra; e houve depois vozes, e trovões, e relâmpagos e terrem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te anjos, que tinham as sete trombetas, prepararam-se para tocá-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imeiro anjo tocou a sua trombeta, e houve saraiva e fogo misturado com sangue, e foram lançados na terra, que foi queimada na sua terça parte; queimou-se a terça parte das árvores, e toda a erva verde foi quei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gundo anjo tocou a trombeta; e foi lançada no mar uma coisa como um grande monte ardendo em fogo, e tornou-se em sangue a terça parte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a terça parte das criaturas que tinham vida no mar; e perdeu-se a terça parte das n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24Z</dcterms:created>
  <dc:creator>Admin</dc:creator>
  <dc:description/>
  <dc:language>en-US</dc:language>
  <cp:lastModifiedBy>Admin</cp:lastModifiedBy>
  <dcterms:modified xsi:type="dcterms:W3CDTF">2008-07-30T23:22:24Z</dcterms:modified>
  <cp:revision>1</cp:revision>
  <dc:subject/>
  <dc:title>Slide 1</dc:title>
</cp:coreProperties>
</file>