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4EC5-93AF-41D0-A612-A66E9E552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66AB-17AF-473E-AAE6-4BE30658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F49B-48CA-46DA-8362-4D6EECA6F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50D0-BCA7-4B73-8C67-254553348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53AC-AA5C-4B15-B48D-F6F4D97F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8439-8FCE-4BCF-938F-16FF4369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D1F9-D318-4A55-B954-62D0DC74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E574-B60D-4F8F-A542-857ECD4A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4ADC-F805-46B7-8DB7-F303B2EE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AAB6-FFA1-41BC-957D-B95DDC53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EDAD-F74D-4F50-A690-D6FE1E0B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5925-AF52-4689-A79A-EF1EF13C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919C-1B1F-4F6A-934F-E394B3E0203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 mais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oisés tomou o azeite da unção, e ungiu o tabernáculo, e tudo o que havia nele, e o santificou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le espargiu sete vezes sobre o altar, e ungiu o altar e todos os seus utensílios, como também a pia e a sua base, para santificá-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erramou do azeite da unção sobre a cabeça de Arão, e ungiu-o, para santificá-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Moisés fez chegar os filhos de Arão, e vestiu-lhes as túnicas, e cingiu-os com o cinto, e apertou-lhes as tiaras, como o SENHOR ordenara a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ez chegar o novilho da expiação do pecado; e Arão e seus filhos puseram as suas mãos sobre a cabeça do novilho da expiação do peca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degolou; e Moisés tomou o sangue, e pôs dele com o seu dedo sobre as pontas do altar em redor, e purificou o altar; depois derramou o restante do sangue à base do altar, e o santificou, para fazer expiação por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tomou toda a gordura que está na fressura, e o redenho do fígado, e os dois rins e a sua gordura; e Moisés queimou-os sobre o al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novilho com o seu couro, e a sua carne, e o seu esterco, queimou com fogo fora do arraial, como o SENHOR ordenara a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fez chegar o carneiro do holocausto; e Arão e seus filhos puseram as suas mãos sobre a cabeça do carneir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golou-o; e Moisés espargiu o sangue sobre o altar em re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a a Arão e a seus filhos com ele, e as vestes, e o azeite da unção, como também o novilho da expiação do pecado, e os dois carneiros, e o cesto dos pães ázim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tiu também o carneiro nos seus pedaços; e Moisés queimou a cabeça, e os pedaços e a gord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a fressura e as pernas lavou com água; e Moisés queimou todo o carneiro sobre o altar; holocausto de cheiro suave, uma oferta queimada ao SENHOR, como o SENHOR ordenou a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fez chegar o outro carneiro, o carneiro da consagração; e Arão com seus filhos puseram as suas mãos sobre a cabeça do carn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8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golou-o; e Moisés tomou do seu sangue, e o pôs sobre a ponta da orelha direita de Arão, e sobre o polegar da sua mão direita, e sobre o polegar do seu pé dir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8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oisés também fez chegar os filhos de Arão, e pôs daquele sangue sobre a ponta da orelha direita deles, e sobre o polegar da sua mão direita, e sobre o polegar do seu pé direito; e Moisés espargiu o restante do sangue sobre o altar em re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8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ou a gordura, e a cauda, e toda a gordura que está na fressura, e o redenho do fígado, e ambos os rins, e a sua gordura e a espádua direi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8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do cesto dos pães ázimos, que estava diante do SENHOR, tomou um bolo ázimo, e um bolo de pão azeitado, e um coscorão, e os pôs sobre a gordura e sobre a espádua direi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8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udo isto pôs nas mãos de Arão e nas mãos de seus filhos; e os ofereceu por oferta movida perante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8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Moisés tomou-os das suas mãos, e os queimou no altar sobre o holocausto; estes foram uma consagração, por cheiro suave, oferta queimada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8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ou Moisés o peito, e ofereceu-o por oferta movida perante o SENHOR. Aquela foi a porção de Moisés do carneiro da consagração, como o SENHOR ordenara a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úne toda a congregação à porta da tenda da congreg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8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ou Moisés também do azeite da unção, e do sangue que estava sobre o altar, e o espargiu sobre Arão e sobre as suas vestes, e sobre os seus filhos, e sobre as vestes de seus filhos com ele; e santificou a Arão e as suas vestes, e seus filhos, e as v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8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isés disse a Arão, e a seus filhos: Cozei a carne diante da porta da tenda da congregação, e ali a comereis com o pão que está no cesto da consagração, como tenho ordenado, dizendo: Arão e seus filhos a come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8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que sobejar da carne e do pão, queimareis com fo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8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da porta da tenda da congregação não saireis por sete dias, até ao dia em que se cumprirem os dias da vossa consagração; porquanto por sete dias ele vos consagr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8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se fez neste dia, assim o SENHOR ordenou se fizesse, para fazer expiação por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8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careis, pois, à porta da tenda da congregação dia e noite por sete dias, e guardareis as ordenanças do SENHOR, para que não morrais; porque assim me foi orden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8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rão e seus filhos fizeram todas as coisas que o SENHOR ordenara pela mão de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z, pois, Moisés como o SENHOR lhe ordenara, e a congregação reuniu-se à porta da tenda da congreg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Moisés à congregação: Isto é o que o SENHOR ordenou que se fizes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isés fez chegar a Arão e a seus filhos, e os lavou com ág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stiu-lhe a túnica, e cingiu-o com o cinto, e pôs sobre ele o manto; também pôs sobre ele o éfode, e cingiu-o com o cinto de obra esmerada do éfode e o apertou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pôs-lhe o peitoral, pondo no peitoral o Urim e o Tumi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ôs a mitra sobre a sua cabeça; e sobre esta, na parte dianteira, pôs a lâmina de ouro, a coroa da santidade, como o SENHOR ordenara a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8:28Z</dcterms:created>
  <dc:creator>Admin</dc:creator>
  <dc:description/>
  <dc:language>en-US</dc:language>
  <cp:lastModifiedBy>Admin</cp:lastModifiedBy>
  <dcterms:modified xsi:type="dcterms:W3CDTF">2008-07-31T00:08:28Z</dcterms:modified>
  <cp:revision>1</cp:revision>
  <dc:subject/>
  <dc:title>Slide 1</dc:title>
</cp:coreProperties>
</file>