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801D-D4FE-49E7-92D3-D0FF4393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0D06-86B9-4C96-8B4D-8977AF78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C52B-F141-4913-853B-0945FA0D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8323-50B4-47F1-821C-5EC98B80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C825-F5C3-4D08-A5B5-9043C39A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6939-F9DD-44EE-B789-51DC8BB8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0868-D5A2-4046-9E5B-08751EE6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6E5-1729-4465-9852-579074F2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9D96-3EEE-424F-8DE4-B6A9A294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343F-7344-4833-839A-671AD63E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7940-B5DB-40D2-AAF6-C3033754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96C3-B311-4A72-BA92-5235D584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C05E-B322-432F-84D1-952946C643C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RAM ordem, Moisés e os anciãos, ao povo de Israel, dizendo: Guardai todos estes mandamentos que hoje vos orden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obedecerás à voz do SENHOR teu Deus, e cumprirás os seus mandamentos e os seus estatutos que hoje te orde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deu ordem naquele dia ao pov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houverdes passado o Jordão, estes estarão sobre o monte Gerizim, para abençoarem o povo: Simeão, e Levi, e Judá, e Issacar, e José, e Benjami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estarão sobre o monte Ebal para amaldiçoar: Rúben, Gade, e Aser, e Zebulom, Dã e Naft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levitas testificarão a todo o povo de Israel em alta voz, e dirã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ldito o homem que fizer imagem de escultura, ou de fundição, abominação ao SENHOR, obra da mão do artífice, e a puser em um lugar escondido. E todo o povo, respondendo, dirá: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ldito aquele que desprezar a seu pai ou a sua mãe. E todo o povo dirá: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ldito aquele que remover os limites do seu próximo. E todo o povo dirá: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ldito aquele que fizer que o cego erre de caminho. E todo o povo dirá: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ldito aquele que perverter o direito do estrangeiro, do órfão e da viúva. E todo o povo dirá: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á, pois, que, no dia em que passares o Jordão à terra que te der o SENHOR teu Deus, levantar-te-ás umas pedras grandes, e as cai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ldito aquele que se deitar com a mulher de seu pai, porquanto descobriu a nudez de seu pai. E todo o povo dirá: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ldito aquele que se deitar com algum animal. E todo o povo dirá: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ldito aquele que se deitar com sua irmã, filha de seu pai, ou filha de sua mãe. E todo o povo dirá: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ldito aquele que se deitar com sua sogra. E todo o povo dirá: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ldito aquele que ferir ao seu próximo em oculto. E todo o povo dirá: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ldito aquele que aceitar suborno para ferir uma pessoa inocente. E todo o povo dirá: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ldito aquele que não confirmar as palavras desta lei, não as cumprindo. E todo o povo dirá: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-o passado, escreverás nelas todas as palavras desta lei, para entrares na terra que te der o SENHOR teu Deus, terra que mana leite e mel, como te falou o SENHOR Deus de t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á, pois, que, quando houveres passado o Jordão, levantareis estas pedras, que hoje vos ordeno, no monte Ebal, e as cai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i edificarás um altar ao SENHOR teu Deus, um altar de pedras; não alçarás instrumento de ferro sobre 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pedras brutas edificarás o altar do SENHOR teu Deus; e sobre ele oferecerás holocaustos ao SENHOR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sacrificarás ofertas pacíficas, e ali comerás perante o SENHOR teu Deus, e te alegr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as pedras escreverás todas as palavras desta lei, exprimindo-as nitid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Moisés, juntamente com os sacerdotes levitas, a todo o Israel, dizendo: Guarda silêncio e ouve, ó Israel! Hoje vieste a ser povo do SENHOR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8:40Z</dcterms:created>
  <dc:creator>Admin</dc:creator>
  <dc:description/>
  <dc:language>en-US</dc:language>
  <cp:lastModifiedBy>Admin</cp:lastModifiedBy>
  <dcterms:modified xsi:type="dcterms:W3CDTF">2008-07-30T23:28:40Z</dcterms:modified>
  <cp:revision>1</cp:revision>
  <dc:subject/>
  <dc:title>Slide 1</dc:title>
</cp:coreProperties>
</file>