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9B4-4A14-4145-B925-E8356D4A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E0B-72C0-4AE7-9ADC-4A4768C9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FAB-023D-4E57-9DA6-A88B1698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C30-7350-4F64-B4CF-E2979D72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21F-652D-436A-A454-D98A7D9F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D535-DFDA-47AB-A1DB-ADCDF8B4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A6D-0AF4-44FF-8910-4C7DFE7C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128-8012-4782-93EA-3D354DF8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F8C-C55B-48A4-BC54-F9802A02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6C7-4B42-466D-8B24-BF96A41A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5F5-8784-4657-BA60-C703AA59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969-1DB5-48E6-928A-48C0F359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2A97-B078-4159-9141-838459C27E0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NTOU Débora e Baraque, filho de Abinoão, naquele mesmo dia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os que cavalgais sobre jumentas brancas, que vos assentais em juízo, que andais pelo caminho, falai d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nde se ouve o estrondo dos flecheiros, entre os lugares onde se tiram águas, ali falai das justiças do SENHOR, das justiças que fez às suas aldeias em Israel; então o povo do SENHOR descia à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perta, desperta, Débora, desperta, desperta, entoa um cântico; levanta-te, Baraque, e leva presos os teus cativos, tu, filho de Abin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ez dominar sobre os nobres entre o povo, aos que restaram; fez-me o SENHOR dominar sobre os poder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Efraim saiu a sua raiz contra Amaleque; e depois de ti vinha Benjamim dentre os teus povos; de Maquir desceram os legisladores, e de Zebulom os que levaram a cana do escri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principais de Issacar foram com Débora; e como Issacar, assim também Baraque, foi enviado a pé para o vale; nas divisões de Rúben foram grandes as resoluções d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ficaste tu entre os currais para ouvires os balidos dos rebanhos? Nas divisões de Rúben tiveram grandes esquadrinhações d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ileade ficou além do Jordão, e Dã por que se deteve nos navios? Aser se assentou na beira dos mares, e ficou junto às suas baí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Zebulom é um povo que expôs a sua vida à morte, como também Naftali, nas alturas d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eram reis, pelejaram; então pelejaram os reis de Canaã em Taanaque, junto às águas de Megido; não tomaram despojo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 pela vingança de Israel, quando o povo se ofereceu voluntari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s céus pelejaram; até as estrelas desde os lugares dos seus cursos pelejaram contra Sís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ibeiro de Quisom os arrastou, aquele antigo ribeiro, o ribeiro de Quisom. Pisaste, ó minha alma, à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cascos dos cavalos se despedaçaram; pelo galopar, o galopar dos seus val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ldiçoai a Meroz, diz o anjo do SENHOR, acremente amaldiçoai aos seus moradores; porquanto não vieram ao socorro do SENHOR, ao socorro do SENHOR com os valor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a seja entre as mulheres, Jael, mulher de Héber, o queneu; bendita seja entre as mulheres nas t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Água pediu ele, leite lhe deu ela; em prato de nobres lhe ofereceu mantei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 estaca estendeu a sua mão esquerda, e ao martelo dos trabalhadores a sua direita; e matou a Sísera, e rachou-lhe a cabeça, quando lhe pregou e atravessou as fo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 os seus pés se encurvou, caiu, ficou estirado; entre os seus pés se encurvou, caiu; onde se encurvou, ali ficou abat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ãe de Sísera olhava pela janela, e exclamava pela grade: Por que tarda em vir o seu carro? Por que se demoram os ruídos dos seus carr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ais sábias das suas damas responderam; e até ela respondia a si mesm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, reis; dai ouvidos, príncipes; eu, eu cantarei ao SENHOR; salmodiarei a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achariam e repartiriam despojos? Uma ou duas moças a cada homem? Para Sísera despojos de estofos coloridos, despojos de estofos coloridos bordados; de estofos coloridos bordados de ambos os lados como despojo para os pescoç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ó SENHOR, pereçam todos os teus inimigos! Porém os que te amam sejam como o sol quando sai na su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ssegou a terra quarenta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, saindo tu de Seir, caminhando tu desde o campo de Edom, a terra estremeceu; até os céus gotejaram; até as nuvens gotejaram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ontes se derreteram diante do SENHOR, e até Sinai diante d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dias de Sangar, filho de Anate, nos dias de Jael cessaram os caminhos; e os que andavam por veredas iam por caminhos torc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ssaram as aldeias em Israel, cessaram; até que eu, Débora, me levantei, por mãe em Israel me levant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escolhia deuses novos, logo a guerra estava às portas; via-se por isso escudo ou lança entre quarenta mil em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 coração é para os legisladores de Israel, que voluntariamente se ofereceram entre o povo; bendize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6:35Z</dcterms:created>
  <dc:creator>Admin</dc:creator>
  <dc:description/>
  <dc:language>en-US</dc:language>
  <cp:lastModifiedBy>Admin</cp:lastModifiedBy>
  <dcterms:modified xsi:type="dcterms:W3CDTF">2008-07-31T00:06:35Z</dcterms:modified>
  <cp:revision>1</cp:revision>
  <dc:subject/>
  <dc:title>Slide 1</dc:title>
</cp:coreProperties>
</file>