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102-3652-45E1-A579-AF1BA240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67E-2503-4A07-9D75-97121417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AC5-9B2C-487A-8C64-593A35EC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F7D-F01D-446D-BAC1-442CAC29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6C1-D9FC-483A-9756-6E089212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A12-44AA-4AF3-B8F2-0001D857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5D9-09C3-4CE2-B947-DC79ECA7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65A4-C86F-4510-90A9-ED339B76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420-E94B-45F4-8E33-FDD632FF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02F-9FA4-42C6-9F0C-48B0E184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38E-837E-4A95-9A5C-12D9891D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135-8CE2-469C-8284-F14481BE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59AB-768E-44A3-A3C2-EA06AFE0E9C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isto todos os reis, que estavam aquém do Jordão, nas montanhas, e nas campinas, em toda a costa do grande mar, em frente do Líbano, os heteus, e os amorreus, os cananeus, os perizeus, os heveus, e os jebus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do quanto fez aos dois reis dos amorreus, que estavam além do Jordão, a Siom rei de Hesbom, e a Ogue, rei de Basã, que estava em Astar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nossos anciãos e todos os moradores da nossa terra nos falaram, dizendo: Tomai em vossas mãos provisão para o caminho, e ide-lhes ao encontro e dizei-lhes: Nós somos vossos servos; fazei, pois, agora acordo con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nosso pão tomamos quente das nossas casas para nossa provisão, no dia em que saímos para vir a vós; e ei-lo aqui agora já seco e bolor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odres, que enchemos de vinho, eram novos, e ei-los aqui já rotos; e estas nossas roupas e nossos sapatos já se têm envelhecido, por causa do mui long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homens de Israel tomaram da provisão deles e não pediram conselho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ué fez paz com eles, e fez um acordo com eles, que lhes daria a vida; e os príncipes da congregação lhes prestaram jur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o fim de três dias, depois de fazerem acordo com eles, ouviram que eram seus vizinhos, e que moravam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partindo os filhos de Israel, chegaram às cidades deles ao terceiro dia; e suas cidades eram Gibeom e Cefira, e Beerote, e Quiriate-Jear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não os feriram; porquanto os príncipes da congregação lhes juraram pelo SENHOR Deus de Israel; por isso toda a congregação murmurava contra os príncip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os príncipes disseram a toda a congregação: Nós juramos-lhes pelo SENHOR Deus de Israel, pelo que não lhes podemos to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juntaram eles de comum acordo, para pelejar contra Josué e contr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, porém, lhes faremos: conservar-lhes-emos a vida, para que não haja grande ira sobre nós, por causa do juramento que já lhes fiz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s, pois, os príncipes: Vivam, e sejam rachadores de lenha e tiradores de água para toda a congregação, como os príncipes lhes diss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ué os chamou, e falou-lhes dizendo: Por que nos enganastes dizendo: Mui longe de vós habitamos, morando vós no meio de n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reis malditos; e dentre vós não deixará de haver servos, nem rachadores de lenha, nem tiradores de água, para a casa do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ram a Josué, e disseram: Porquanto com certeza foi anunciado aos teus servos que o SENHOR teu Deus ordenou a Moisés, seu servo, que a vós daria toda esta terra, e destruiria todos os moradores da terra diante de vós, tememos muito por no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agora estamos na tua mão; faze-nos aquilo que te pareça bom e re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ois lhes fez, e livrou-os das mãos dos filhos de Israel, e não os ma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dia, Josué os fez rachadores de lenha e tiradores de água para a congregação e para o altar do SENHOR, até ao dia de hoje, no lugar que ele escolh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oradores de Gibeom ouvindo o que Josué fizera com Jericó e com 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saram de astúcia, e foram e se fingiram embaixadores, e levando sacos velhos sobre os seus jumentos, e odres de vinho, velhos, e rotos, e remend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seus pés sapatos velhos e remendados, e roupas velhas sobre si; e todo o pão que traziam para o caminho era seco e bolor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a Josué, ao arraial, a Gilgal, e disseram a ele e aos homens de Israel: Viemos de uma terra distante; fazei, pois, agora, acordo con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de Israel responderam aos heveus: Talvez habitais no meio de nós; como pois faremos acordo convosc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a Josué: Nós somos teus servos. E disse-lhes Josué: Quem sois vós, e de onde vind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he responderam: Teus servos vieram de uma terra mui distante, por causa do nome do SENHOR teu Deus, porquanto ouvimos a sua fama, e tudo quanto fez no Eg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14Z</dcterms:created>
  <dc:creator>Admin</dc:creator>
  <dc:description/>
  <dc:language>en-US</dc:language>
  <cp:lastModifiedBy>Admin</cp:lastModifiedBy>
  <dcterms:modified xsi:type="dcterms:W3CDTF">2008-07-31T00:05:14Z</dcterms:modified>
  <cp:revision>1</cp:revision>
  <dc:subject/>
  <dc:title>Slide 1</dc:title>
</cp:coreProperties>
</file>