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62E-28E7-42E7-926B-A54545ED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3D6-1A81-486E-9309-550F21CD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84D-014A-4214-944E-E4A1896A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B4B-DD04-448E-B3C7-3F132F6E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112-78B1-476D-9794-61ADF71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382-333C-4697-914B-E03AE495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750-0402-48FC-A8B8-C7C3964E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A51-D0FC-4EC0-AE28-1C0528C3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52D-D78C-4BED-A150-966E658A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77E-C280-4AF4-8EB9-0FD69C5C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C3D-B7C3-433D-BCD0-D9FC923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AB5-70BD-44FD-A92E-AED36E7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D211-E39D-42B4-BB36-A37A0C89029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Zebulom, Gadiel, filho de Sod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José, pela tribo de Manassés, Gadi filho de Sus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Dã, Amiel, filho de Gemal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Aser, Setur, filho de Mic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Naftali, Nabi, filho de Vofs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Gade, Geuel, filho de M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nomes dos homens que Moisés enviou a espiar aquela terra; e a Oséias, filho de Num, Moisés chamou Josu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ou-os, pois, Moisés a espiar a terra de Canaã; e disse-lhes: Subi por aqui para o lado do sul, e subi à montanh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de que terra é, e o povo que nela habita; se é forte ou fraco; se pouco ou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é a terra em que habita, se boa ou má; e quais são as cidades em que eles habitam; se em arraiais, ou em fortalez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 homens que espiem a terra de Canaã, que eu hei de dar aos filhos de Israel; de cada tribo de seus pais enviareis um homem, sendo cada um príncipe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como é a terra, se fértil ou estéril; se nela há árvores, ou não; e esforçai-vos, e tomai do fruto da terra. E eram aqueles dias os dias das primícias das u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ubiram e espiaram a terra desde o deserto de Zim, até Reobe, à entrada de Ha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para o lado do sul, e vieram até Hebrom; e estavam ali Aimã, Sesai e Talmai, filhos de Enaque (Hebrom foi edificada sete anos antes de Zoã no Egit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foram até ao vale de Escol, e dali cortaram um ramo de vide com um cacho de uvas, o qual trouxeram dois homens, sobre uma vara; como também das romãs e dos f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ram àquele lugar o vale de Escol, por causa do cacho que dali cortaram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voltaram de espiar a terra, ao fim de quar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minharam, e vieram a Moisés e a Arão, e a toda a congregação dos filhos de Israel no deserto de Parã, em Cades; e deram-lhes notícias, a eles, e a toda a congregação, e mostraram-lhes o frut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aram-lhe, e disseram: Fomos à terra a que nos enviaste; e verdadeiramente mana leite e mel, e este é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ovo, porém, que habita nessa terra é poderoso, e as cidades fortificadas e mui grandes; e também ali vimos os filhos de En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amalequitas habitam na terra do sul; e os heteus, e os jebuseus, e os amorreus habitam na montanha; e os cananeus habitam junto do mar, e pela marge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-os Moisés do deserto de Parã, segundo a ordem do SENHOR; todos aqueles homens eram cabeça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lebe fez calar o povo perante Moisés, e disse: Certamente subiremos e a possuiremos em herança; porque seguramente prevaleceremos contr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os homens que com ele subiram disseram: Não poderemos subir contra aquele povo, porque é mais forte do qu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famaram a terra que tinham espiado, dizendo aos filhos de Israel: A terra, pela qual passamos a espiá-la, é terra que consome os seus moradores; e todo o povo que vimos nela são homens de grande esta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imos ali gigantes, filhos de Enaque, descendentes dos gigantes; e éramos aos nossos olhos como gafanhotos, e assim também éramos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seus nomes: Da tribo de Rúben, Samua, filho de Zac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Simeão, Safate, filho de Hor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Judá, Calebe, filho de Jefon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Issacar, Jigeal, filho de Jos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Efraim, Oséias, filho de Nu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tribo de Benjamim, Palti, filho de Raf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40Z</dcterms:created>
  <dc:creator>Admin</dc:creator>
  <dc:description/>
  <dc:language>en-US</dc:language>
  <cp:lastModifiedBy>Admin</cp:lastModifiedBy>
  <dcterms:modified xsi:type="dcterms:W3CDTF">2008-07-31T00:18:40Z</dcterms:modified>
  <cp:revision>1</cp:revision>
  <dc:subject/>
  <dc:title>Slide 1</dc:title>
</cp:coreProperties>
</file>