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A5-031B-4A36-A3DB-7AD84E7D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B76-D0C2-41CE-82B1-7BFC63B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F45-CFF9-403E-A4CE-3A188A99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4CD-FA48-4937-BF06-C0614021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35B-BE3E-417D-9623-3805FAD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0F-C9BC-4D55-9B86-405DD558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A10-2CC0-4B28-B794-2927FAC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0DE-A7DC-430A-BFBE-CC376AA2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727-EF60-47AA-890D-BE76DE73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926-8408-4209-B325-A07C613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3DF-78D9-4499-9B89-EE7F17A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8EC-0CB8-46A0-8B0A-695741B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100-F516-4C9F-BAA1-665295701C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segunda vez a Jon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viu as obras deles, como se converteram do seu mau caminho; e Deus se arrependeu do mal que tinha anunciado lhes faria, e não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e vai à grande cidade de Nínive, e prega contra ela a mensagem que eu te d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Jonas, e foi a Nínive, segundo a palavra do SENHOR. Ora, Nínive era uma cidade muito grande, de três dias de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Jonas a entrar pela cidade caminho de um dia, e pregava, dizendo: Ainda quarenta dias, e Nínive será subver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de Nínive creram em Deus; e proclamaram um jejum, e vestiram-se de saco, desde o maior até ao men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palavra chegou também ao rei de Nínive; e ele levantou-se do seu trono, e tirou de si as suas vestes, e cobriu-se de saco, e sentou-se sobre a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uma proclamação que se divulgou em Nínive, pelo decreto do rei e dos seus grandes, dizendo: Nem homens, nem animais, nem bois, nem ovelhas provem coisa alguma, nem se lhes dê alimentos, nem bebam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homens e os animais sejam cobertos de sacos, e clamem fortemente a Deus, e convertam-se, cada um do seu mau caminho, e da violência que há n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abe se se voltará Deus, e se arrependerá, e se apartará do furor da sua ira, de sorte que não pereça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43Z</dcterms:created>
  <dc:creator>Admin</dc:creator>
  <dc:description/>
  <dc:language>en-US</dc:language>
  <cp:lastModifiedBy>Admin</cp:lastModifiedBy>
  <dcterms:modified xsi:type="dcterms:W3CDTF">2008-07-31T00:04:43Z</dcterms:modified>
  <cp:revision>1</cp:revision>
  <dc:subject/>
  <dc:title>Slide 1</dc:title>
</cp:coreProperties>
</file>