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48B-7E5A-4C97-95B6-737A391D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5AE-A183-474E-830E-EFFCB1E9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5D2-1FF0-48A6-BED6-65B5DEC0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90B-F740-4F62-8C32-A7255A6F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0FC-4D54-4A8C-BEB6-F0EAEF1E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9D3-8827-46E7-81AD-F11A6B7F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511-A921-4D07-BC40-C581398A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D3A-02A5-432A-8CBB-745A3781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003-40DF-4762-9D04-3841521B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42B-C7A3-4EC3-8AE6-A652DD20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B69-85AB-40DA-85D7-33C6D022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C41-CD67-487B-A12E-0B4EA2B4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A3E9-B5CC-47AF-90EB-FF90AAF4448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Guardai o juízo, e fazei justiça, porque a minha salvação está prestes a vir, e a minha justiça, para se manifes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seus atalaias são cegos, nada sabem; todos são cães mudos, não podem ladrar; andam adormecidos, estão deitados, e gostam do s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cães são gulosos, não se podem fartar; e eles são pastores que nada compreendem; todos eles se tornam para o seu caminho, cada um para a sua ganância, cada um por sua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, dizem, trarei vinho, e beberemos bebida forte; e o dia de amanhã será como este, e ainda muito mais abund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homem que fizer isto, e o filho do homem que lançar mão disto; que se guarda de profanar o sábado, e guarda a sua mão de fazer algum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fale o filho do estrangeiro, que se houver unido ao SENHOR, dizendo: Certamente o SENHOR me separará do seu povo; nem tampouco diga o eunuco: Eis que sou uma árvore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a respeito dos eunucos, que guardam os meus sábados, e escolhem aquilo em que eu me agrado, e abraçam a minha alianç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hes darei na minha casa e dentro dos meus muros um lugar e um nome, melhor do que o de filhos e filhas; um nome eterno darei a cada um deles, que nunca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filhos dos estrangeiros, que se unirem ao SENHOR, para o servirem, e para amarem o nome do SENHOR, e para serem seus servos, todos os que guardarem o sábado, não o profanando, e os que abraçarem a minha alian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levarei ao meu santo monte, e os alegrarei na minha casa de oração; os seus holocaustos e os seus sacrifícios serão aceitos no meu altar; porque a minha casa será chamada casa de oração para todos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, que congrega os dispersos de Israel: Ainda ajuntarei outros aos que já se lhe ajun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todos os animais do campo, todos os animais dos bosques, vinde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49Z</dcterms:created>
  <dc:creator>Admin</dc:creator>
  <dc:description/>
  <dc:language>en-US</dc:language>
  <cp:lastModifiedBy>Admin</cp:lastModifiedBy>
  <dcterms:modified xsi:type="dcterms:W3CDTF">2008-07-30T23:56:49Z</dcterms:modified>
  <cp:revision>1</cp:revision>
  <dc:subject/>
  <dc:title>Slide 1</dc:title>
</cp:coreProperties>
</file>