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D70-B565-45E8-96DD-02638E50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90A-F6CB-4BBB-BB94-058BB9D5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EFC-9B97-47F6-8D5C-B6CE3287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B96-A58A-4A8E-9573-6DC3A05D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0FA-1B21-4BDA-AABC-D2D8F31C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9A5-DEFD-4E04-A35E-9D68872D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091-60F6-4BAA-8CF9-FA64E932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B68-BCAE-4517-8E15-81413576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FA9-F1DC-4E2C-8977-CF87BCB3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A2C-6B6F-4CFB-A2D7-2CD6FF3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709-E213-40C4-BB0E-F0FF73F9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5F4-7D89-4946-9817-20CA5B0F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B9D9-987F-4BB5-A3DC-97699EA2C99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te esquecerás de mim, SENHOR? Para sempre? Até quando esconderás de mim o teu ro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consultarei com a minha alma, tendo tristeza no meu coração cada dia? Até quando se exaltará sobre mim o meu inim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de-me, ouve-me, ó SENHOR meu Deus; ilumina os meus olhos para que eu não adormeça na mo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meu inimigo não diga: Prevaleci contra ele; e os meus adversários não se alegrem, vindo eu a vac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confio na tua benignidade; na tua salvação se alegrará o m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rei ao SENHOR, porquanto me tem feito muit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21Z</dcterms:created>
  <dc:creator>Admin</dc:creator>
  <dc:description/>
  <dc:language>en-US</dc:language>
  <cp:lastModifiedBy>Admin</cp:lastModifiedBy>
  <dcterms:modified xsi:type="dcterms:W3CDTF">2008-07-31T00:24:21Z</dcterms:modified>
  <cp:revision>1</cp:revision>
  <dc:subject/>
  <dc:title>Slide 1</dc:title>
</cp:coreProperties>
</file>