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BAC-C1A4-4B45-9CE9-D0BB9289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6AA-A720-48FB-86C1-D757FD3B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6BF-6EC6-4501-907F-FEBA8225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B04-4BEA-42DE-BD1C-9B6F5998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CE4-0814-4880-939F-6DD30817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4C4-355C-49A0-A399-24E11B70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D13-BBB2-4D8A-AE43-ED2472F8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4FE-81F2-4BC6-84E2-CD512A19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561-0538-4A93-864C-8174C8EA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863-2CB4-465A-AD59-632D42A3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4A8-841F-40BE-8FC8-616EB3B3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109-AA90-4A36-AD79-96CF44F8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BB7C-2E2A-4D05-B59B-BEBAF941EFF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a província, que subiram do cativeiro, dentre os exilados, que Nabucodonosor, rei de Babilônia, tinha transportado a Babilônia, e tornaram a Jerusalém e a Judá, cada um para a sua c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ani, seiscentos e quar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ebai, seiscentos e vinte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zgade, mil duzentos e vinte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donicão, seiscentos e sessenta e s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igvai, dois mil e cinqüenta e s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dim, quatrocentos e cinqüenta e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ter, de Ezequias, noventa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ezai, trezentos e vinte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ora, cento e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Hasum, duzentos e vinte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vieram com Zorobabel, Jesuá, Neemias, Seraías, Reelaías, Mardoqueu, Bilsã, Mizpar, Bigvai, Reum e Baaná. O número dos homens do povo de Israel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Gibar, nov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elém, cento e vinte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Netofá, cinqüenta e s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Anatote, cento e vinte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zmavete, quar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Quiriate-Arim, Quefira e Beerote, setecentos e quarenta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Ramá, e de Geba, seiscentos e vinte e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Micmás, cento e vinte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Betel e de Ai, duzentos e vinte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Nebo, cinqü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Parós, dois mil cento e set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Magbis, cento e cinqüenta e s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o outro Elão, mil duzentos e cinqüenta e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Harim, trezentos e v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Lode, de Hadide e de Ono, setecentos e vinte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ericó, trezentos e quar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enaá, três mil seiscentos e tri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acerdotes: os filhos de Jedaías, da casa de Jesuá, novecentos e setenta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Imer, mil e cinqü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Pasur, mil duzentos e quarenta e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Harim, mil e dezes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efatias, trezentos e set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evitas: os filhos de Jesuá e Cadmiel, dos filhos de Hodavias, setenta e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antores: os filhos de Asafe, cento e vinte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os porteiros: os filhos de Salum, os filhos de Ater, os filhos de Talmom, os filhos de Acube, os filhos de Hatita, os filhos de Sobai; ao todo, cento e trinta e no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netinins: os filhos de Zia, os filhos de Hasufa, os filhos de Taba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Querós, os filhos de Siá, os filhos de Pad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Lebaná, os filhos de Hagaba, os filhos de Acu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Hagabe, os filhos de Sanlai, os filhos de Han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Gidel, os filhos de Gaar, os filhos de Reaí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Rezim, os filhos de Necoda, os filhos de Gaz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Uzá, os filhos de Paseá, os filhos de Bes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rá, setecentos e set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sna, os filhos dos meunitas, os filhos dos nefus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acbuque, os filhos de Hacufa, os filhos de Haru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azlute, os filhos de Meída, os filhos de Har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arcos, os filhos de Sísera, os filhos de T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Neziá, os filhos de Hatif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os servos de Salomão; os filhos de Sotai, os filhos de Soferete, os filhos de Peru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aalá, os filhos de Darcom, os filhos de Gid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efatias, os filhos de Hatil, os filhos de Poquerete-Hazebaim, os filhos de Am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netinins, e os filhos dos servos de Salomão, trezentos e nov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s subiram de Tel-Melá e Tel-Harsa, Querube, Adã e Imer; porém não puderam provar que as suas famílias e a sua linhagem eram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Paate-Moabe, dos filhos de Jesuá-Joabe, dois mil oitocentos e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Delaías, os filhos de Tobias, os filhos de Necoda, seiscentos e cinqü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os sacerdotes: os filhos de Habaías, os filhos de Coz, os filhos de Barzilai, que tomou mulher das filhas de Barzilai, o gileadita, e que foi chamado d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procuraram o seu registro entre os que estavam arrolados nas genealogias, mas não se acharam nelas; assim, por imundos, foram excluídos d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governador lhes disse que não comessem das coisas consagradas, até que houvesse sacerdote com Urim e com Tu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esta congregação junta foi de quarenta e dois mil trezentos e sessen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ora os seus servos e as suas servas, que foram sete mil trezentos e trinta e sete; também tinha duzentos cantores e canto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cavalos, setecentos e trinta e seis; os seus mulos, duzentos e quarenta e cinc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camelos, quatrocentos e trinta e cinco; os jumentos, seis mil setecentos e v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chefes dos pais, vindo à casa do SENHOR, que habita em Jerusalém, deram ofertas voluntárias para a casa de Deus, para a estabelecerem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s suas posses, deram para o tesouro da obra, em ouro, sessenta e uma mil dracmas, e em prata cinco mil libras, e cem vestes sacerdot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Elão, mil duzentos e cinqüenta e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am os sacerdotes e os levitas, e alguns do povo, tanto os cantores, como os porteiros, e os netinins, nas suas cidades; como também todo o Israel nas s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Zatu, novecentos e quar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Zacai, setecentos e sess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14Z</dcterms:created>
  <dc:creator>Admin</dc:creator>
  <dc:description/>
  <dc:language>en-US</dc:language>
  <cp:lastModifiedBy>Admin</cp:lastModifiedBy>
  <dcterms:modified xsi:type="dcterms:W3CDTF">2008-07-30T23:30:14Z</dcterms:modified>
  <cp:revision>1</cp:revision>
  <dc:subject/>
  <dc:title>Slide 1</dc:title>
</cp:coreProperties>
</file>