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3C5-F33B-49C3-9D77-2D41589A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60F-E0D8-4587-9FF7-6F7D1EA1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F0F-67B1-4883-90ED-15ECA3F9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8A2-020A-4312-83EA-D8C89C51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F8F-1AD5-44B2-AAE8-A45E8982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312-BC64-4192-BC0E-490F0E25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738-8492-43C5-A241-063DB9B4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6CC-EC48-4B0D-ABE4-3C5DF77E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82F-E3BF-4C4D-B0AF-B844D32A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A31-586D-40AF-BE8D-6DBC190E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CED-093A-4F54-905A-BCFC7F77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20B-A449-461F-BAE9-F966D545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CFAD-A5DE-4378-B17C-E8B2F51EB9C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te louvarei, SENHOR, com todo o meu coração; contarei todas as tuas marav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ti confiarão os que conhecem o teu nome; porque tu, SENHOR, nunca desamparaste os que te busc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i louvores ao SENHOR, que habita em Sião; anunciai entre os povos os seus f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ando inquire do derramamento de sangue, lembra-se deles: não se esquece do clamor dos afl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 misericórdia de mim, SENHOR, olha para a minha aflição, causada por aqueles que me odeiam; tu que me levantas das portas da mor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eu conte todos os teus louvores nas portas da filha de Sião, e me alegre na tu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gentios enterraram-se na cova que fizeram; na rede que ocultaram ficou preso o seu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conhecido pelo juízo que fez; enlaçado foi o ímpio nas obras de suas mãos. (Higaiom; 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ímpios serão lançados no inferno, e todas as nações que se esquecem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necessitado não será esquecido para sempre, nem a expectação dos pobres perecerá perpet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SENHOR; não prevaleça o homem; sejam julgados os gentios diante da t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ti me alegrarei e saltarei de prazer; cantarei louvores ao teu nome, ó Alt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õe-os em medo, SENHOR, para que saibam as nações que são formadas por meros homens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s meus inimigos retornaram, caíram e pereceram diante da t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u tens sustentado o meu direito e a minha causa; tu te assentaste no tribunal, julgando justame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preendeste as nações, destruíste os ímpios; apagaste o seu nome para sempre e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h! inimigo! acabaram-se para sempre as assolações; e tu arrasaste as cidades, e a sua memória pereceu com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ENHOR está assentado perpetuamente; já preparou o seu tribunal para jul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mesmo julgará o mundo com justiça; exercerá juízo sobre povos com re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será também um alto refúgio para o oprimido; um alto refúgio em tempos de angú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17Z</dcterms:created>
  <dc:creator>Admin</dc:creator>
  <dc:description/>
  <dc:language>en-US</dc:language>
  <cp:lastModifiedBy>Admin</cp:lastModifiedBy>
  <dcterms:modified xsi:type="dcterms:W3CDTF">2008-07-31T00:24:17Z</dcterms:modified>
  <cp:revision>1</cp:revision>
  <dc:subject/>
  <dc:title>Slide 1</dc:title>
</cp:coreProperties>
</file>