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A69-A1CE-4A06-A44E-5A344222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1D9-EF1A-4A8A-80A7-7FA2501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6FC-5095-4B3C-9E16-098F5A33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528-1853-4E37-B5BC-767E9412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CD4-E723-4303-8274-2017444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E50-D694-4435-940D-7AE8233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4A6-94A2-472D-9D37-9AA6F20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C53-5A6A-4116-9984-7535B06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BBF-B912-4968-A9DE-27E049BD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B1B-73A7-49F4-81FE-9C8F3544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064-5D59-4EE9-8525-D147686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C99-4F37-4560-8CF1-A602CD51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D08-9A59-483B-9199-D91E9EA5000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INCO dias depois, o sumo sacerdote Ananias desceu com os anciãos, e um certo Tértulo, orador, os quais compareceram perante o presidente contra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porém, fazendo-lhe o presidente sinal que falasse, respondeu: Porque sei que já vai para muitos anos que desta nação és juiz, com tanto melhor ânimo respondo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bem podes saber que não há mais de doze dias que subi a Jerusalém a ador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me acharam no templo falando com alguém, nem amotinando o povo nas sinagogas, nem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podem provar as coisas de que agora me acus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fesso-te isto que, conforme aquele caminho que chamam seita, assim sirvo ao Deus de nossos pais, crendo tudo quanto está escrito na lei e n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esperança em Deus, como estes mesmos também esperam, de que há de haver ressurreição de mortos, assim dos justos como dos in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procuro sempre ter uma consciência sem ofensa, tanto para com Deus como para com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muitos anos depois, vim trazer à minha nação esmolas e ofe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me acharam já santificado no templo, não em ajuntamentos, nem com alvoroços, uns certos judeus da Ás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convinha que estivessem presentes perante ti, e me acusassem, se alguma coisa contra mim tive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chamado, Tértulo começou a acusá-lo, dizendo: Visto como por ti temos tanta paz e por tua prudência se fazem a este povo muitos e louváveis serviç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igam estes mesmos, se acharam em mim alguma iniqüidade, quando compareci perante o conse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ão ser estas palavras que, estando entre eles, clamei: Hoje sou julgado por vós acerca da ressurreição d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élix, havendo ouvido estas coisas, lhes pôs dilação, dizendo: Havendo-me informado melhor deste Caminho, quando o tribuno Lísias tiver descido, então tomarei inteiro conhecimento dos vossos negó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ao centurião que o guardasse em prisão, tratando-o com brandura, e que a ninguém dos seus proibisse servi-lo ou vir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ias depois, vindo Félix com sua mulher Drusila, que era judia, mandou chamar a Paulo, e ouviu-o acerca da fé em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ratando ele da justiça, e da temperança, e do juízo vindouro, Félix, espavorido, respondeu: Por agora vai-te, e em tendo oportunidade te cham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ando ao mesmo tempo que Paulo lhe desse dinheiro, para que o soltasse; pelo que também muitas vezes o mandava chamar, e falav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assados dois anos, Félix teve por sucessor a Pórcio Festo; e, querendo Félix comprazer aos judeus, deixou a Paulo pr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pre e em todo o lugar, ó potentíssimo Félix, com todo o agradecimento o queremos reconh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ara que não te detenha muito, rogo-te que, conforme a tua eqüidade, nos ouças por pouc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s achado que este homem é uma peste, e promotor de sedições entre todos os judeus, por todo o mundo; e o principal defensor da seita dos nazare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intentou também profanar o templo; e nós o prendemos, e conforme a nossa lei o quisemos jul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obrevindo o tribuno Lísias, no-lo tirou de entre as mãos com grande viol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ndo aos seus acusadores que viessem a ti; e dele tu mesmo, examinando-o, poderás entender tudo o de que o acus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s judeus o acusavam, dizendo serem estas coisas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19Z</dcterms:created>
  <dc:creator>Admin</dc:creator>
  <dc:description/>
  <dc:language>en-US</dc:language>
  <cp:lastModifiedBy>Admin</cp:lastModifiedBy>
  <dcterms:modified xsi:type="dcterms:W3CDTF">2008-07-30T23:25:19Z</dcterms:modified>
  <cp:revision>1</cp:revision>
  <dc:subject/>
  <dc:title>Slide 1</dc:title>
</cp:coreProperties>
</file>