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994-8920-48B3-8DAF-AEB58007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682-5D15-44EC-81F6-4D5CBB9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9B4-95D5-4299-8A9E-3A1AABDB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A33-5A80-4778-89CD-DB128949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EEF-3336-4593-BB17-EC035079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451-9EBB-47C5-A09C-1E11B35A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711-47DD-4792-BA65-11FCDD9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D5F-A299-442D-91DB-F1049AF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CCB-6980-4E51-8B21-C6866539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AD6-310C-4379-B18F-3477BAD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5BC-A35B-42AE-8415-7EC61611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6D5-7518-45FC-97B5-8408064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2BBB-281F-473C-B883-37865CFF6B3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depois destas coisas, que provou Deus a Abraão, e disse-lhe: Abraão! E ele diss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ndeu Abraão a sua mão, e tomou o cutelo para imolar o seu fi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anjo do SENHOR lhe bradou desde os céus, e disse: Abraão, Abraão! E ele disse: Eis-me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: Não estendas a tua mão sobre o moço, e não lhe faças nada; porquanto agora sei que temes a Deus, e não me negaste o teu filho, o teu único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evantou Abraão os seus olhos e olhou; e eis um carneiro detrás dele, travado pelos seus chifres, num mato; e foi Abraão, e tomou o carneiro, e ofereceu-o em holocausto, em lugar de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Abraão o nome daquele lugar: O SENHOR PROVERÁ; donde se diz até ao dia de hoje: No monte do SENHOR se pro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bradou a Abraão pela segunda vez desde os cé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Por mim mesmo jurei, diz o SENHOR: Porquanto fizeste esta ação, e não me negaste o teu filho, o teu único fi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everas te abençoarei, e grandissimamente multiplicarei a tua descendência como as estrelas dos céus, e como a areia que está na praia do mar; e a tua descendência possuirá a porta dos seus inimig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ua descendência serão benditas todas as nações da terra; porquanto obedeceste à minha v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braão tornou aos seus moços, e levantaram-se, e foram juntos para Berseba; e Abraão habitou em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Toma agora o teu filho, o teu único filho, Isaque, a quem amas, e vai-te à terra de Moriá, e oferece-o ali em holocausto sobre uma das montanhas, que eu te d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depois destas coisas, que anunciaram a Abraão, dizendo: Eis que também Milca deu filhos a Naor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z o seu primogênito, e Buz seu irmão, e Quemuel, pai de Arã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ésede, e Hazo, e Pildas, e Jidlafe, e Betu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tuel gerou Rebeca. Estes oito deu à luz Milca a Naor, irmão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concubina, cujo nome era Reumá, ela lhe deu também a Tebá, Gaã, Taás e Maa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Abraão pela manhã de madrugada, e albardou o seu jumento, e tomou consigo dois de seus moços e Isaque seu filho; e cortou lenha para o holocausto, e levantou-se, e foi ao lugar que Deus lhe diss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terceiro dia levantou Abraão os seus olhos, e viu o lugar de lo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aão a seus moços: Ficai-vos aqui com o jumento, e eu e o moço iremos até ali; e havendo adorado, tornaremos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braão a lenha do holocausto, e pô-la sobre Isaque seu filho; e ele tomou o fogo e o cutelo na sua mão, e foram ambos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Isaque a Abraão seu pai, e disse: Meu pai! E ele disse: Eis-me aqui, meu filho! E ele disse: Eis aqui o fogo e a lenha, mas onde está o cordeiro para o holocau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aão: Deus proverá para si o cordeiro para o holocausto, meu filho. Assim caminharam ambos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aram ao lugar que Deus lhe dissera, e edificou Abraão ali um altar e pôs em ordem a lenha, e amarrou a Isaque seu filho, e deitou-o sobre o altar em cima da l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20Z</dcterms:created>
  <dc:creator>Admin</dc:creator>
  <dc:description/>
  <dc:language>en-US</dc:language>
  <cp:lastModifiedBy>Admin</cp:lastModifiedBy>
  <dcterms:modified xsi:type="dcterms:W3CDTF">2008-07-30T23:38:20Z</dcterms:modified>
  <cp:revision>1</cp:revision>
  <dc:subject/>
  <dc:title>Slide 1</dc:title>
</cp:coreProperties>
</file>