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A32AD-BB98-4D2C-9488-6F78C7ABC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F3449-E571-4BFE-9A02-9EBDC157B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E10C7-6D90-44CF-A45F-5F56D54B7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789B7-B001-4829-BBB9-639B3699D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8F2CF-8691-423E-9031-BBFBB6581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31334-FBBE-4B32-90B5-36C089ABE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83F57-5544-41DD-AE90-E5A9FAEAC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ECB1F-1526-49BE-99D5-688076E93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AB17E-D97D-4AC0-8F4A-1E07EC319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A3514-8F72-41CA-AC1B-6E301C34B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35B7B-16AD-49E8-8F54-7D4EAD3CF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8EC14-BD39-41D1-88F4-0813DFA1C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2E3DB-4BB8-4199-B91F-299BBF6C4BA6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26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ERÁ que, quando entrares na terra que o SENHOR teu Deus te der por herança, e a possuíres, e nela habitares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26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is que agora eu trouxe as primícias dos frutos da terra que tu, ó SENHOR, me deste. Então as porás perante o SENHOR teu Deus, e te inclinarás perante o SENHOR teu Deus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26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te alegrarás por todo o bem que o SENHOR teu Deus te tem dado a ti e à tua casa, tu e o levita, e o estrangeiro que está no meio de t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26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ando acabares de separar todos os dízimos da tua colheita no ano terceiro, que é o ano dos dízimos, então os darás ao levita, ao estrangeiro, ao órfão e à viúva, para que comam dentro das tuas portas, e se fartem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26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rás perante o SENHOR teu Deus: Tirei da minha casa as coisas consagradas e as dei também ao levita, e ao estrangeiro, e ao órfão e à viúva, conforme a todos os teus mandamentos que me tens ordenado; não transgredi os teus mandamentos, nem deles me 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26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las não comi no meu luto, nem delas nada tirei quando imundo, nem delas dei para os mortos; obedeci à voz do SENHOR meu Deus; conforme a tudo o que me ordenaste, tenho fei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26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lha desde a tua santa habitação, desde o céu, e abençoa o teu povo, a Israel, e a terra que nos deste, como juraste a nossos pais, terra que mana leite e me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26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este dia, o SENHOR teu Deus te manda cumprir estes estatutos e juízos; guarda-os pois, e cumpre-os com todo o teu coração e com toda a tua alm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26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Hoje declaraste ao SENHOR que ele te será por Deus, e que andarás nos seus caminhos, e guardarás os seus estatutos, e os seus mandamentos, e os seus juízos, e darás ouvidos à sua voz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26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SENHOR hoje te declarou que tu lhe serás por seu próprio povo, como te tem dito, e que guardarás todos os seus mandament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26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ara assim te exaltar sobre todas as nações que criou, para louvor, e para fama, e para glória, e para que sejas um povo santo ao SENHOR teu Deus, como tem fala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26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tomarás das primícias de todos os frutos do solo, que recolheres da terra, que te dá o SENHOR teu Deus, e as porás num cesto, e irás ao lugar que escolher o SENHOR teu Deus, para ali fazer habitar o seu nom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26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irás ao sacerdote, que houver naqueles dias, e dir-lhe-ás: Hoje declaro perante o SENHOR teu Deus que entrei na terra que o SENHOR jurou a nossos pais dar-n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26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sacerdote tomará o cesto da tua mão, e o porá diante do altar do SENHOR teu D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26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testificarás perante o SENHOR teu Deus, e dirás: Arameu, prestes a perecer, foi meu pai, e desceu ao Egito, e ali peregrinou com pouca gente, porém ali cresceu até vir a ser nação grande, poderosa, e numeros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26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os egípcios nos maltrataram e nos afligiram, e sobre nós impuseram uma dura servid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26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clamamos ao SENHOR Deus de nossos pais; e o SENHOR ouviu a nossa voz, e atentou para a nossa miséria, e para o nosso trabalho, e para a nossa opress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26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SENHOR nos tirou do Egito com mão forte, e com braço estendido, e com grande espanto, e com sinais, e com milagres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26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nos trouxe a este lugar, e nos deu esta terra, terra que mana leite e me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28:36Z</dcterms:created>
  <dc:creator>Admin</dc:creator>
  <dc:description/>
  <dc:language>en-US</dc:language>
  <cp:lastModifiedBy>Admin</cp:lastModifiedBy>
  <dcterms:modified xsi:type="dcterms:W3CDTF">2008-07-30T23:28:36Z</dcterms:modified>
  <cp:revision>1</cp:revision>
  <dc:subject/>
  <dc:title>Slide 1</dc:title>
</cp:coreProperties>
</file>