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35B-75F5-459B-913C-A9B19044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1FB-A171-45B3-9497-CD8C76D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2A9-ED22-466B-A3C0-6254D3AD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D5F-8D27-4332-A135-2D19B2E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162-11CD-4023-A7AD-F4B8FC0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384-EA61-4310-A897-7C6A65F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205-F6D9-489B-A2DC-FC5D4BC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E0D-F528-49D5-B6BC-DE40F3D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CFF-D7C5-4C75-AB3C-EF0C9A41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AFD-7C42-4FB4-B25C-C27CD60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AB9-1E52-4230-902F-1F3CC4CB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1B2-5B28-45E0-B516-A4E2F9E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DF3-12D9-4159-9E4D-F7921E2795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os filhos de Israel, toda a congregação, ao deserto de Zim, no mês primeiro, o povo ficou em Cades; e Miriã morreu ali, e ali foi sepul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e Arão reuniram a congregação diante da rocha, e Moisés disse-lhes: Ouvi agora, rebeldes, porventura tiraremos água desta rocha para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levantou a sua mão, e feriu a rocha duas vezes com a sua vara, e saiu muita água; e bebeu a congregação e os seu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 a Moisés e a Arão: Porquanto não crestes em mim, para me santificardes diante dos filhos de Israel, por isso não introduzireis esta congregação na terra que lhes tenho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águas de Meribá, porque os filhos de Israel contenderam com o SENHOR; e se santificou n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oisés, de Cades, mandou mensageiros ao rei de Edom, dizendo: Assim diz teu irmão Israel: Sabes todo o trabalho que nos sobreve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ossos pais desceram ao Egito, e nós no Egito habitamos muitos dias; e como os egípcios nos maltrataram, a nós e a nosso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mos ao SENHOR, e ele ouviu a nossa voz, e mandou um anjo, e nos tirou do Egito; e eis que estamos em Cades, cidade na extremidade d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-nos, pois, passar pela tua terra; não passaremos pelo campo, nem pelas vinhas, nem beberemos a água dos poços; iremos pela estrada real; não nos desviaremos para a direita nem para a esquerda, até que passemos pelos t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dom lhe disse: Não passarás por mim, para que eu não saia com a espada ao teu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filhos de Israel lhe disseram: Subiremos pelo caminho aplanado, e se eu e o meu gado bebermos das tuas águas, darei o preço delas; não desejo alguma outra coisa, senão passar a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avia água para a congregação; então se reuniram contra Moisés e contra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disse: Não passarás. E saiu-lhe Edom ao encontro com muita gente, e com mã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recusou Edom deixar passar a Israel pelo seu termo; por isso Israel se desvio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ram de Cades; e os filhos de Israel, toda a congregação, chegaram ao monte 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 no monte Hor, nos termos da terra de Edo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ão será recolhido a seu povo, porque não entrará na terra que tenho dado aos filhos de Israel, porquanto rebeldes fostes à minha ordem, nas águas de Meri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 Arão e a Eleazar, seu filho, e faze-os subir ao monte 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e a Arão as suas vestes, e veste-as em Eleazar, seu filho, porque Arão será recolhido, e morrerá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z, pois, Moisés como o SENHOR lhe ordenara; e subiram ao monte Hor perante os olhos de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espiu a Arão de suas vestes, e as vestiu em Eleazar, seu filho; e morreu Arão ali sobre o cume do monte; e desceram Moisés e Eleazar do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toda a congregação que Arão era morto, choraram a Arão trinta dias, toda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contendeu com Moisés, dizendo: Quem dera tivéssemos perecido quando pereceram nossos irmãos perante o SENH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trouxestes a congregação do SENHOR a este deserto, para que morramos aqui, nós e os nossos anim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nos fizestes subir do Egito, para nos trazer a este lugar mau? lugar onde não há semente, nem de figos, nem de vides, nem de romãs, nem tem água para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 Arão se foram de diante do povo à porta da tenda da congregação, e se lançaram sobre os seus rostos; e a glória do SENHOR lhes 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falou a Moisés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a vara, e ajunta a congregação, tu e Arão, teu irmão, e falai à rocha, perante os seus olhos, e dará a sua água; assim lhes tirarás água da rocha, e darás a beber à congregação e aos seus ani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tomou a vara de diante do SENHOR, como lhe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12Z</dcterms:created>
  <dc:creator>Admin</dc:creator>
  <dc:description/>
  <dc:language>en-US</dc:language>
  <cp:lastModifiedBy>Admin</cp:lastModifiedBy>
  <dcterms:modified xsi:type="dcterms:W3CDTF">2008-07-31T00:19:12Z</dcterms:modified>
  <cp:revision>1</cp:revision>
  <dc:subject/>
  <dc:title>Slide 1</dc:title>
</cp:coreProperties>
</file>