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F0A4-7389-44C4-8853-FC0D1409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812-B5DF-4190-9A75-D1BAFDE6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09C-1CA5-43C7-862C-59887AFC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4F5C-8194-436A-B46E-13D9E401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2767-9EB0-4B93-B349-8C44792F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282-31E5-4D5A-9AC6-5646D755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C25-F21F-4271-9B0A-4F429383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4B7-4E26-428C-A972-599AB313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D1C-A6BD-4D86-A317-09158806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5E8-81FB-4588-ADCB-E7EAFFD4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79F-0CBB-4313-A7DD-7175110D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5DA-48B7-4064-9CCB-B302A48D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8AFB-BE48-4671-9821-1D323B860B2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, porém, Jó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brou-me de todos os lados, e eu me vou; e arrancou a minha esperança, como a uma árvo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inflamar contra mim a sua ira, e me reputou para consigo, como a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ntas vieram as suas tropas, e prepararam contra mim o seu caminho, e se acamparam ao redor da minh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ôs longe de mim a meus irmãos, e os que me conhecem, como estranhos se apartaram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parentes me deixaram, e os meus conhecidos se esqueceram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domésticos e as minhas servas me reputaram como um estranho, e vim a ser um estrangeiro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amei a meu criado, e ele não me respondeu; cheguei a suplicar-lhe com a minha própri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hálito se fez estranho à minha mulher; tanto que supliquei o interesse dos filhos do meu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os pequeninos me desprezam, e, levantando-me eu, falam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homens da minha confidência me abominam, e até os que eu amava se tornaram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 afligireis a minha alma, e me quebrantareis com palav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ossos se apegaram à minha pele e à minha carne, e escapei só com a pele dos meus d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padecei-vos de mim, amigos meus, compadecei-vos de mim, porque a mão de Deus me to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me perseguis assim como Deus, e da minha carne não vos fart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me dera agora, que as minhas palavras fossem escritas! Quem me dera, fossem gravadas num livr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, com pena de ferro, e com chumbo, para sempre fossem esculpidas na ro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sei que o meu Redentor vive, e que por fim se levantará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 consumida a minha pele, contudo ainda em minha carne verei a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ê-lo-ei, por mim mesmo, e os meus olhos, e não outros o contemplarão; e por isso os meus rins se consomem no meu inter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que devíeis dizer: Por que o perseguimos? Pois a raiz da acusação se acha em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ei vós mesmos a espada; porque o furor traz os castigos da espada, para saberdes que há um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dez vezes me vituperastes; não tendes vergonha de injuriar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bora haja eu, na verdade, errado, comigo ficará o meu 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everas vos quereis engrandecer contra mim, e argüir-me pelo meu opróbri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i agora que Deus é o que me transtornou, e com a sua rede me cer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clamo: Violência! Porém não sou ouvido. Grito: Socorro! Porém não há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caminho ele entrincheirou, e já não posso passar, e nas minhas veredas pô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minha honra me despojou; e tirou-me a coroa da minh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17Z</dcterms:created>
  <dc:creator>Admin</dc:creator>
  <dc:description/>
  <dc:language>en-US</dc:language>
  <cp:lastModifiedBy>Admin</cp:lastModifiedBy>
  <dcterms:modified xsi:type="dcterms:W3CDTF">2008-07-31T00:01:17Z</dcterms:modified>
  <cp:revision>1</cp:revision>
  <dc:subject/>
  <dc:title>Slide 1</dc:title>
</cp:coreProperties>
</file>