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10F-DE4D-4367-8D54-26D310C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49-FADB-4605-933A-3929A43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A68-0C06-4EE8-86D5-699749B6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6AD-E764-465B-ABE9-9E333BE5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9C4-49E5-40BC-B75A-85930548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9F9-E2F9-4D85-8A10-5E44F4B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AE2-5B87-4267-AF2D-B3A099E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07A-9D92-40F5-A01E-A784B72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094-6BA2-4270-81DD-22E9955B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742-781B-40AF-B936-4B847AD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59F-A8AC-4E73-B417-806D94D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C3-80CF-4687-9644-EB752BB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98E9-77B3-41FE-BE05-61CB693294E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falasse as línguas dos homens e dos anjos, e não tivesse amor, seria como o metal que soa ou como o sino que ti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er o que é perfeito, então o que o é em parte será aniqui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era menino, falava como menino, sentia como menino, discorria como menino, mas, logo que cheguei a ser homem, acabei com as coisas de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gora vemos por espelho em enigma, mas então veremos face a face; agora conheço em parte, mas então conhecerei como também sou conh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ermanecem a fé, a esperança e o amor, estes três, mas o maior destes é 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que tivesse o dom de profecia, e conhecesse todos os mistérios e toda a ciência, e ainda que tivesse toda a fé, de maneira tal que transportasse os montes, e não tivesse amor, nada s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que distribuísse toda a minha fortuna para sustento dos pobres, e ainda que entregasse o meu corpo para ser queimado, e não tivesse amor, nada disso me aproveit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é sofredor, é benigno; o amor não é invejoso; o amor não trata com leviandade, não se ensoberb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porta com indecência, não busca os seus interesses, não se irrita, não suspeita m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olga com a injustiça, mas folga com a ver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sofre, tudo crê, tudo espera, tudo su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mor nunca falha; mas havendo profecias, serão aniquiladas; havendo línguas, cessarão; havendo ciência, desaparece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m parte, conhecemos, e em parte profetiza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48Z</dcterms:created>
  <dc:creator>Admin</dc:creator>
  <dc:description/>
  <dc:language>en-US</dc:language>
  <cp:lastModifiedBy>Admin</cp:lastModifiedBy>
  <dcterms:modified xsi:type="dcterms:W3CDTF">2008-07-30T23:41:48Z</dcterms:modified>
  <cp:revision>1</cp:revision>
  <dc:subject/>
  <dc:title>Slide 1</dc:title>
</cp:coreProperties>
</file>