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9892-4211-48EB-B932-1741C861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C170-CC96-44D7-B59E-D3488EE8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DCDD-831A-4082-A089-85D2C69D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9041-5122-4D0F-AEBD-53E4FC05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FF3D-7D18-4B74-8E87-C9550109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A2BC-2EFE-4C93-9CBC-38DAA49E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E05E-C96F-490D-AD4F-C32183A7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BE53-1B2A-49AC-BD75-358AACC5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9399-EBF8-47A4-87D4-7EE49E91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487E-2392-4253-88E5-0E3BA5F4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412F-3D49-454E-A971-987E1E17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19A2-FCE9-4C1A-A1A6-A26C7F05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A63C-A298-41DB-B78C-82DCAB813B4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IVRA-ME, ó Deus, pois as águas entraram até à minh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chorei, e castiguei com jejum a minha alma, isto se me tornou em afron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us por vestido um saco, e me fiz um provérbio par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s que se assentam à porta falam contra mim; e fui o cântico dos bebedores de bebida f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porém, faço a minha oração a ti, SENHOR, num tempo aceitável; ó Deus, ouve-me segundo a grandeza da tua misericórdia, segundo a verdade da tua sal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ra-me do lamaçal, e não me deixes atolar; seja eu livre dos que me odeiam, e das profundezas das á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me leve a corrente das águas, e não me absorva ao profundo, nem o poço cerre a sua boca sobr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-me, SENHOR, pois boa é a tua misericórdia. Olha para mim segundo a tua muitíssima pie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escondas o teu rosto do teu servo, porque estou angustiado; ouve-me depres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roxima-te da minha alma, e resgata-a; livra-me por causa dos meu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 tens conhecido a minha afronta, e a minha vergonha, e a minha confusão; diante de ti estão todos os meus adversá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olei-me em profundo lamaçal, onde se não pode estar em pé; entrei na profundeza das águas, onde a corrente me le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frontas me quebrantaram o coração, e estou fraquíssimo; esperei por alguém que tivesse compaixão, mas não houve nenhum; e por consoladores, mas não os ach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ram-me fel por mantimento, e na minha sede me deram a beber vinag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rne-se-lhes a sua mesa diante deles em laço, e a prosperidade em armadi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ureçam-se-lhes os seus olhos, para que não vejam, e faze com que os seus lombos tremam constante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rrama sobre eles a tua indignação, e prenda-os o ardor da tua 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que desolado o seu palácio; e não haja quem habite nas suas ten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perseguem àquele a quem feriste, e conversam sobre a dor daqueles a quem chag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rescenta iniqüidade à iniqüidade deles, e não entrem na tua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m riscados do livro dos vivos, e não sejam inscritos com os jus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porém, sou pobre e estou triste; ponha-me a tua salvação, ó Deus, num alto ret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ou cansado de clamar; a minha garganta se secou; os meus olhos desfalecem esperando o m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rei o nome de Deus com um cântico, e engrandecê-lo-ei com ação de gra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to será mais agradável ao SENHOR do que boi, ou bezerro que tem chifres e un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ansos verão isto, e se agradarão; o vosso coração viverá, pois que buscais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ouve os necessitados, e não despreza os seus cati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em-no os céus e a terra, os mares e tudo quanto neles se mo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us salvará a Sião, e edificará as cidades de Judá; para que habitem ali e a possu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erdá-la-á a semente de seus servos, e os que amam o seu nome habitarão n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s que me odeiam sem causa são mais do que os cabelos da minha cabeça; aqueles que procuram destruir-me, sendo injustamente meus inimigos, são poderosos; então restituí o que não furt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ó Deus, bem conheces a minha estultice; e os meus pecados não te são encobe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jam envergonhados por minha causa aqueles que esperam em ti, ó Senhor, DEUS dos Exércitos; não sejam confundidos por minha causa aqueles que te buscam, ó Deu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or amor de ti tenho suportado afrontas; a confusão cobriu o meu ro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ho-me tornado um estranho para com meus irmãos, e um desconhecido para com os filhos de minh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o zelo da tua casa me devorou, e as afrontas dos que te afrontam caíram sobr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6:06Z</dcterms:created>
  <dc:creator>Admin</dc:creator>
  <dc:description/>
  <dc:language>en-US</dc:language>
  <cp:lastModifiedBy>Admin</cp:lastModifiedBy>
  <dcterms:modified xsi:type="dcterms:W3CDTF">2008-07-31T00:26:06Z</dcterms:modified>
  <cp:revision>1</cp:revision>
  <dc:subject/>
  <dc:title>Slide 1</dc:title>
</cp:coreProperties>
</file>