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F1B-D62D-47DA-8337-326A01A7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915-4A61-4F6E-81A3-4054806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389-92BC-438D-8306-2847A97D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5F0-C109-4AC5-8021-66D4E8AD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CA1-0132-46D8-BF63-FF52FD0A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B87-8C3D-43B1-BE58-3A5F7F5A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3A9-E6EF-439C-BA29-D902E4E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45B-7B91-4263-89C2-7B0806B0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B78-8506-4000-A6B1-B5203065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627-23BB-41FF-8C49-79669FBE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B61-B10B-4614-9C1F-98AF490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EBF-F968-4E39-B646-495F24D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5A96-E604-4853-A5CB-BADC2441F5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da a congregação dos filhos de Israel partiu do deserto de Sim pelas suas jornadas, segundo o mandamento do SENHOR, e acampou em Refidim; e não havia ali água para o povo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osué como Moisés lhe dissera, pelejando contra Amaleque; mas Moisés, Arão, e Hur subiram ao cume do ou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ia que, quando Moisés levantava a sua mão, Israel prevalecia; mas quando ele abaixava a sua mão, Amaleque preval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s mãos de Moisés eram pesadas, por isso tomaram uma pedra, e a puseram debaixo dele, para assentar-se sobre ela; e Arão e Hur sustentaram as suas mãos, um de um lado e o outro do outro; assim ficaram as suas mãos firmes até que o sol se pô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Josué desfez a Amaleque e a seu povo, ao fio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screve isto para memória num livro, e relata-o aos ouvidos de Josué; que eu totalmente hei de riscar a memória de Amaleque de debaix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dificou um altar, ao qual chamou: O SENHOR É MINHA BAN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Porquanto jurou o SENHOR, haverá guerra do SENHOR contra Amaleque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tendeu o povo com Moisés, e disse: Dá-nos água para beber. E Moisés lhes disse: Por que contendeis comigo? Por que tentais a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pois ali o povo sede de água, o povo murmurou contra Moisés, e disse: Por que nos fizeste subir do Egito, para nos matares de sede, a nós e aos nossos filhos, e ao nosso g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 Moisés ao SENHOR, dizendo: Que farei a este povo? Daqui a pouco me apedre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Passa diante do povo, e toma contigo alguns dos anciãos de Israel; e toma na tua mão a tua vara, com que feriste o rio, e v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starei ali diante de ti sobre a rocha, em Horebe, e tu ferirás a rocha, e dela sairão águas e o povo beberá. E Moisés assim o fez, diante dos olhos d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quele lugar Massá e Meribá, por causa da contenda dos filhos de Israel, e porque tentaram ao SENHOR, dizendo: Está o SENHOR no meio de nós, ou n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maleque, e pelejou contra Israel em Refid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Moisés a Josué: Escolhe-nos homens, e sai, peleja contra Amaleque; amanhã eu estarei sobre o cume do outeiro, e a vara de Deus estará n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03Z</dcterms:created>
  <dc:creator>Admin</dc:creator>
  <dc:description/>
  <dc:language>en-US</dc:language>
  <cp:lastModifiedBy>Admin</cp:lastModifiedBy>
  <dcterms:modified xsi:type="dcterms:W3CDTF">2008-07-30T23:32:03Z</dcterms:modified>
  <cp:revision>1</cp:revision>
  <dc:subject/>
  <dc:title>Slide 1</dc:title>
</cp:coreProperties>
</file>