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A7A-6B88-4103-B178-CCC3D3D1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26B-AE83-4BE9-A877-DD2BCF5E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6FF-1E88-4DF9-9211-9D73B3EC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F6C-3B41-4FD6-A3E8-70ECDB43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10E-5828-4CDC-AAFB-FF5B06D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995-AF80-4092-8235-7AD75CE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C19-78EA-4699-AC8C-11D9A1D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431-291D-4483-84E6-F824D26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0AB-1F64-4182-8B6D-E3EA414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03F-9345-43B3-B96F-461C22D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831-AA42-4FE3-9C10-7D009516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8B7-D534-42B9-A1F4-E4F8C7C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4B0B-EB09-4E7B-809B-79A0461578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oltei-me, e atentei para todas as opressões que se fazem debaixo do sol; e eis que vi as lágrimas dos que foram oprimidos e dos que não têm consolador, e a força estava do lado dos seus opressores; mas eles não tinham consol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um cair, o outro levanta o seu companheiro; mas ai do que estiver só; pois, caindo, não haverá outro que o lev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, se dois dormirem juntos, eles se aquentarão; mas um só, como se aquent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prevalecer contra um, os dois lhe resistirão; e o cordão de três dobras não se quebra tão dep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criança pobre e sábia do que o rei velho e insensato, que não se deixa mais admoes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sai do cárcere para reinar; enquanto outro, que nasceu em seu reino, torna-se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a todos os viventes andarem debaixo do sol com a criança, a sucessora, que ficará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 fim todo o povo que foi antes dele; tampouco os que lhe sucederem se alegrarão dele. Na verdade que também isto é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u louvei os que já morreram, mais do que os que vivem ai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lhor que uns e outros é aquele que ainda não é; que não viu as más obras que se fazem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i eu que todo o trabalho, e toda a destreza em obras, traz ao homem a inveja do seu próximo. Também isto é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lo cruza as suas mãos, e come a sua própri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a mão cheia com descanso do que ambas as mãos cheias com trabalho,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vez me voltei, e vi vaidade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que é só, e não tem ninguém, nem tampouco filho nem irmão; e contudo não cessa do seu trabalho, e também seus olhos não se satisfazem com riqueza; nem diz: Para quem trabalho eu, privando a minha alma do bem? Também isto é vaidade e enfadonha ocu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lhor é serem dois do que um, porque têm melhor paga do s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25Z</dcterms:created>
  <dc:creator>Admin</dc:creator>
  <dc:description/>
  <dc:language>en-US</dc:language>
  <cp:lastModifiedBy>Admin</cp:lastModifiedBy>
  <dcterms:modified xsi:type="dcterms:W3CDTF">2008-07-30T23:29:25Z</dcterms:modified>
  <cp:revision>1</cp:revision>
  <dc:subject/>
  <dc:title>Slide 1</dc:title>
</cp:coreProperties>
</file>