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082-B94F-416F-8DC1-E3D949C6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32D-AEAF-46B6-8009-9500BAB5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283-33F5-4212-8C60-2D97C2FB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565-063B-473A-9B3D-7DB581CC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FDC-A29C-4CE8-B2AB-0AC0272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C1A-0B91-42BA-8470-52062AA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5C3-BDAE-4F74-9860-0F275FAB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169-8261-492A-AE66-8B29D5C3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AC3-D6B3-4AF5-AD45-9C5A64EB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D24-3F5F-495E-B981-568C9BB1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E58-4147-4995-BB70-DFED872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888-6C11-4930-BCB3-A5528E8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7A5-5385-4CB6-A51E-E792069AF9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Israel era menino, eu o amei; e do Egito chamei a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rão após o SENHOR; ele rugirá como leão; rugindo, pois, ele, os filhos do ocidente tre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emendo virão como um passarinho, os do Egito, e como uma pomba, os da terra da Assíria, e os farei habitar em suas casa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me cercou com mentira, e a casa de Israel com engano; mas Judá ainda domina com Deus, e com os santos está f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os chamavam, assim se iam da sua face; sacrificavam a baalins, e queimavam incenso às imagens de esc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eu ensinei a andar a Efraim; tomando-os pelos seus braços, mas não entenderam que eu os cu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raí-os com cordas humanas, com laços de amor, e fui para eles como os que tiram o jugo de sobre as suas queixadas, e lhes dei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ltará para a terra do Egito, mas a Assíria será seu rei; porque recusam converte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rá a espada sobre as suas cidades, e consumirá os seus ramos, e os devorará, por causa dos seus próprios cons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eu povo é inclinado a desviar-se de mim; ainda que chamam ao Altíssimo, nenhum deles o ex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e deixaria, ó Efraim? Como te entregaria, ó Israel? Como te faria como Admá? Te poria como Zeboim? Está comovido em mim o meu coração, as minhas compaixões à uma se ace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xecutarei o furor da minha ira; não voltarei para destruir a Efraim, porque eu sou Deus e não homem, o Santo no meio de ti; eu não entrarei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50Z</dcterms:created>
  <dc:creator>Admin</dc:creator>
  <dc:description/>
  <dc:language>en-US</dc:language>
  <cp:lastModifiedBy>Admin</cp:lastModifiedBy>
  <dcterms:modified xsi:type="dcterms:W3CDTF">2008-07-31T00:20:50Z</dcterms:modified>
  <cp:revision>1</cp:revision>
  <dc:subject/>
  <dc:title>Slide 1</dc:title>
</cp:coreProperties>
</file>