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1F59-4F4B-41C6-9506-3192B8056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C617-AD1F-4F51-937D-0710E080D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5C24-CF3C-4281-8A60-1E407477F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F460-3E82-4083-BF77-CF595424A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428E-AD8F-4E69-94F9-0922BC04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B8CB-055C-4A5C-BDF0-ACB0C20B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0903-E314-4C2E-891E-EBB9BA522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B171-8E75-4DC2-8A40-DA3C67117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2AD0-1C62-401D-A71E-0C9B023F8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96FE-3842-4FF4-8822-A3057260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A6DA-3C81-4F43-BCDE-797A06EA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2E96-5237-4C9D-AE0B-69482E8C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F70AD-16EB-46FE-BC11-50005F22E1E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SENHOR confio; como dizeis à minha alma: Fugi para a vossa montanha como pássar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eis que os ímpios armam o arco, põem as flechas na corda, para com elas atirarem, às escuras, aos retos de co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forem destruídos os fundamentos, que poderá fazer o just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está no seu santo templo, o trono do SENHOR está nos céus; os seus olhos estão atentos, e as suas pálpebras provam os filhos dos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prova o justo; porém ao ímpio e ao que ama a violência odeia a sua al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obre os ímpios fará chover laços, fogo, enxofre e vento tempestuoso; isto será a porção do seu cop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SENHOR é justo, e ama a justiça; o seu rosto olha para os re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4:20Z</dcterms:created>
  <dc:creator>Admin</dc:creator>
  <dc:description/>
  <dc:language>en-US</dc:language>
  <cp:lastModifiedBy>Admin</cp:lastModifiedBy>
  <dcterms:modified xsi:type="dcterms:W3CDTF">2008-07-31T00:24:20Z</dcterms:modified>
  <cp:revision>1</cp:revision>
  <dc:subject/>
  <dc:title>Slide 1</dc:title>
</cp:coreProperties>
</file>