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085-0B43-4F54-BA07-49C8658C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DC8-3C44-4F70-BDAC-4D8BC3E3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7A2-D364-4C8D-8D9B-908F0D1C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0A8-2263-42CF-8731-0E21835E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368-51A8-4105-8742-5BDBE8B9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2F3-C995-47CF-8A4E-F9AE3BC1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4D3-86F8-4CE1-96C9-280AA26B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71C-A612-4E7E-878A-F8353876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595-D968-408D-B302-90425D2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43B-F24C-49EC-8F73-8473AF5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8ED-3EAD-45C3-9A67-0B666D19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854-7B81-4A79-9703-72A79FB9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9001-FEE0-49A7-B746-A0319585B5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pertando-o a multidão, para ouvir a palavra de Deus, estava ele junto ao lago de Genesar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 igual modo, também de Tiago e João, filhos de Zebedeu, que eram companheiros de Simão. E disse Jesus a Simão: Não temas; de agora em diante serás pescador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do os barcos para terra, deixaram tudo, e o segu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estava numa daquelas cidades, eis que um homem cheio de lepra, vendo a Jesus, prostrou-se sobre o rosto, e rogou-lhe, dizendo: Senhor, se quiseres, bem podes limpa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estendendo a mão, tocou-lhe, dizendo: Quero, sê limpo. E logo a lepra desapareceu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-lhe que a ninguém o dissesse. Mas vai, disse, mostra-te ao sacerdote, e oferece, pela tua purificação, o que Moisés determinou, para que lhes sirva de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fama, porém, se propagava ainda mais, e ajuntava-se muita gente para o ouvir e para ser por ele curada das suas enferm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tirava-se para os desertos, e ali o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num daqueles dias, estava ensinando, e estavam ali assentados fariseus e doutores da lei, que tinham vindo de todas as aldeias da Galiléia, e da Judéia, e de Jerusalém. E a virtude do Senhor estava com ele para cu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ns homens transportaram numa cama um homem que estava paralítico, e procuravam fazê-lo entrar e pô-lo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ão achando por onde o pudessem levar, por causa da multidão, subiram ao telhado, e por entre as telhas o baixaram com a cama, até ao meio, diante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estar dois barcos junto à praia do lago; e os pescadores, havendo descido deles, estavam lavando as re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ele a fé deles, disse-lhe: Homem, os teus pecados te são perdo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cribas e os fariseus começaram a arrazoar, dizendo: Quem é este que diz blasfêmias? Quem pode perdoar pecados, senão só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conhecendo os seus pensamentos, respondeu, e disse-lhes: Que arrazoais em vossos coraç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é mais fácil? dizer: Os teus pecados te são perdoados; ou dizer: Levanta-te, e a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ara que saibais que o Filho do homem tem sobre a terra poder de perdoar pecados (disse ao paralítico), a ti te digo: Levanta-te, toma a tua cama, e vai par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logo diante deles, e tomando a cama em que estava deitado, foi para sua casa, glorificand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ficaram maravilhados, e glorificaram a Deus; e ficaram cheios de temor, dizendo: Hoje vimos prodíg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isto, saiu, e viu um publicano, chamado Levi, assentado na recebedoria, e disse-lhe: Segu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deixando tudo, levantou-se e o seg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-lhe Levi um grande banquete em sua casa; e havia ali uma multidão de publicanos e outros que estavam com eles à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num dos barcos, que era o de Simão, pediu-lhe que o afastasse um pouco da terra; e, assentando-se, ensinava do barco 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scribas deles, e os fariseus, murmuravam contra os seus discípulos, dizendo: Por que comeis e bebeis com publicanos e pec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Não necessitam de médico os que estão sãos, mas, sim, os que estão enfer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não vim chamar os justos, mas, sim, os pecadores, ao arrep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então, eles: Por que jejuam os discípulos de João muitas vezes, e fazem orações, como também os dos fariseus, mas os teus comem e beb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Podeis vós fazer jejuar os filhos das bodas, enquanto o esposo está com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as virão, porém, em que o esposo lhes será tirado, e então, naqueles dias, jeju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também uma parábola: Ninguém tira um pedaço de uma roupa nova para a coser em roupa velha, pois romperá a nova e o remendo não condiz com a ve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deita vinho novo em odres velhos; de outra sorte o vinho novo romperá os odres, e entornar-se-á o vinho, e os odres se estraga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vinho novo deve deitar-se em odres novos, e ambos juntamente se conserv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tendo bebido o velho quer logo o novo, porque diz: Melhor é o v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cabou de falar, disse a Simão: Faze-te ao mar alto, e lançai as vossas redes para pes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Simão, disse-lhe: Mestre, havendo trabalhado toda a noite, nada apanhamos; mas, sobre a tua palavra, lançarei a 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zendo assim, colheram uma grande quantidade de peixes, e rompia-se-lhes a 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sinal aos companheiros que estavam no outro barco, para que os fossem ajudar. E foram, e encheram ambos os barcos, de maneira tal que quase iam a pi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isto Simão Pedro, prostrou-se aos pés de Jesus, dizendo: Senhor, ausenta-te de mim, que sou um homem pec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 o espanto se apoderara dele, e de todos os que com ele estavam, por causa da pesca de peixe que haviam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0:32Z</dcterms:created>
  <dc:creator>Admin</dc:creator>
  <dc:description/>
  <dc:language>en-US</dc:language>
  <cp:lastModifiedBy>Admin</cp:lastModifiedBy>
  <dcterms:modified xsi:type="dcterms:W3CDTF">2008-07-31T00:10:32Z</dcterms:modified>
  <cp:revision>1</cp:revision>
  <dc:subject/>
  <dc:title>Slide 1</dc:title>
</cp:coreProperties>
</file>