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59E-7F73-4284-97D1-51EA7D5D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8E0-8788-4CE8-8F78-2B9B2798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CC4-1450-4CF6-9478-B2F34557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3EB-A459-486C-8BD2-AC5548B1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F8F-2996-4B18-91C8-227C493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A0F-03CF-49E7-9357-26CCEE9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B55-8CCF-4B05-80AD-ABD37971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915-8C62-4394-AF03-7CEDA7D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E3F-F3FC-4CB8-BED0-75AE134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641-61FF-4118-80B0-A7F7E05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CF1-3AE3-4A6D-AAA6-EC5B36CC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A92-6051-4F29-BFE8-0F6B569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BD66-75A8-4587-BE08-0573925D11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DADEIRAMENTE bom é Deus para com Israel, para com os limp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povo dele volta aqui, e águas de copo cheio se lhes espr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zem: Como o sabe Deus? Há conhecimento no Altíssi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es são ímpios, e prosperam no mundo; aumentam em riqu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que em vão tenho purificado o meu coração; e lavei as minhas mãos na inoc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odo o dia tenho sido afligido, e castigado ca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dissesse: Falarei assim; eis que ofenderia a geração de t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ensava em entender isto, foi para mim muito doloro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entrei no santuário de Deus; então entendi eu o fim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tu os puseste em lugares escorregadios; tu os lanças em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caem na desolação, quase num momento! Ficam totalmente consumidos de terr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os meus pés quase que se desviaram; pouco faltou para que escorregassem os m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um sonho, quando se acorda, assim, ó Senhor, quando acordares, desprezarás a aparênci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meu coração se azedou, e sinto picadas nos meus r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embruteci, e nada sabia; fiquei como um animal perant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estou de contínuo contigo; tu me sustentaste pela minha mão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iar-me-ás com o teu conselho, e depois me receberás n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nho eu no céu senão a ti? e na terra não há quem eu deseje além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carne e o meu coração desfalecem; mas Deus é a fortaleza do meu coração, e a minha porçã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is que os que se alongam de ti, perecerão; tu tens destruído todos aqueles que se desviam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mim, bom é aproximar-me de Deus; pus a minha confiança no Senhor DEUS, para anunciar todas as t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 tinha inveja dos néscios, quando via a prosperidade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á apertos na sua morte, mas firme está 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acham em trabalhos como outros homens, nem são afligidos como outr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 soberba os cerca como um colar; vestem-se de violência como de ado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eles estão inchados de gordura; eles têm mais do que o coração podia desej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corrompidos e tratam maliciosamente de opressão; falam arrog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m as suas bocas contra os céus, e as suas línguas andam pel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15Z</dcterms:created>
  <dc:creator>Admin</dc:creator>
  <dc:description/>
  <dc:language>en-US</dc:language>
  <cp:lastModifiedBy>Admin</cp:lastModifiedBy>
  <dcterms:modified xsi:type="dcterms:W3CDTF">2008-07-31T00:26:15Z</dcterms:modified>
  <cp:revision>1</cp:revision>
  <dc:subject/>
  <dc:title>Slide 1</dc:title>
</cp:coreProperties>
</file>