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C685-78DD-48FF-8C45-03DD7844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E3B-DAA9-43C1-92A4-B283675A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ABAA-8065-4460-B332-4CBEA452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5341-879A-4E77-9CCC-6152147E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63DB-D966-438C-862D-8D0E231B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16F8-D87A-449B-A3AD-91E5A2B5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E393-FAFD-4B96-BB4E-4897A627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9BDB-EB1C-443E-9839-C032092B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B004-C7CC-4409-A616-FEB82713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E110-DF7D-481E-86F8-54A135FC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6CE7-585F-4D0C-8152-A2843235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F88F-5CB7-4278-9A16-67A5B5E8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9020-8387-49E0-AA98-D7548B2CDB3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U-SE um grande sinal no céu: uma mulher vestida do sol, tendo a lua debaixo dos seus pés, e uma coroa de doze estrelas sobre a su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 uma grande voz no céu, que dizia: Agora é chegada a salvação, e a força, e o reino do nosso Deus, e o poder do seu Cristo; porque já o acusador de nossos irmãos é derrubado, o qual diante do nosso Deus os acusava de dia e de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o venceram pelo sangue do Cordeiro e pela palavra do seu testemunho; e não amaram as suas vidas até à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alegrai-vos, ó céus, e vós que neles habitais. Ai dos que habitam na terra e no mar; porque o diabo desceu a vós, e tem grande ira, sabendo que já tem pouco te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o dragão viu que fora lançado na terra, perseguiu a mulher que dera à luz o filh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dadas à mulher duas asas de grande águia, para que voasse para o deserto, ao seu lugar, onde é sustentada por um tempo, e tempos, e metade de um tempo, fora da vista da serp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erpente lançou da sua boca, atrás da mulher, água como um rio, para que pela corrente a fizesse arreba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erra ajudou a mulher; e a terra abriu a sua boca, e tragou o rio que o dragão lançara da su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dragão irou-se contra a mulher, e foi fazer guerra ao remanescente da sua semente, os que guardam os mandamentos de Deus, e têm o testemunho de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dragão parou sobre a areia d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va grávida, e com dores de parto, e gritava com ânsias de dar à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u-se outro sinal no céu; e eis que era um grande dragão vermelho, que tinha sete cabeças e dez chifres, e sobre as suas cabeças sete diadem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ua cauda levou após si a terça parte das estrelas do céu, e lançou-as sobre a terra; e o dragão parou diante da mulher que havia de dar à luz, para que, dando ela à luz, lhe tragasse o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 à luz um filho homem que há de reger todas as nações com vara de ferro; e o seu filho foi arrebatado para Deus e para o seu tro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ulher fugiu para o deserto, onde já tinha lugar preparado por Deus, para que ali fosse alimentada durante mil duzentos e sessenta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ouve batalha no céu; Miguel e os seus anjos batalhavam contra o dragão, e batalhavam o dragão e os seus anj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ão prevaleceram, nem mais o seu lugar se achou n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precipitado o grande dragão, a antiga serpente, chamada o Diabo, e Satanás, que engana todo o mundo; ele foi precipitado na terra, e os seus anjos foram lançados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2:33Z</dcterms:created>
  <dc:creator>Admin</dc:creator>
  <dc:description/>
  <dc:language>en-US</dc:language>
  <cp:lastModifiedBy>Admin</cp:lastModifiedBy>
  <dcterms:modified xsi:type="dcterms:W3CDTF">2008-07-30T23:22:33Z</dcterms:modified>
  <cp:revision>1</cp:revision>
  <dc:subject/>
  <dc:title>Slide 1</dc:title>
</cp:coreProperties>
</file>