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CA1-FB18-4684-9270-A192B123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76B-2DE2-4C20-B7D7-385C160B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014-7F12-4F69-AFB0-7C020430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9DA-6124-439E-B2BB-75F2413C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6EA-F45C-41D3-9F4C-6C18918D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BDE-1ED6-46B5-ADAF-7ACF0F94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00C-2E75-47A9-B592-57434994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3CE-F4A6-4AB1-B54B-8A287247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9EE-5927-40AC-B1D8-0B5F6FFC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A91-DA04-4CEA-977C-4BC74FFE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B61-774D-4EE6-A454-E5549A12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0AE-452C-4BD6-A33F-8AC07D2E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26C5-D04C-493D-9FE1-08F52ADF832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-VOS de fazer a vossa esmola diante dos homens, para serdes vistos por eles; aliás, não tereis galardão junto de vosso Pai, que est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ha o teu reino, seja feita a tua vontade, assim na terra como no cé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ão nosso de cada dia nos dá hoj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doa-nos as nossas dívidas, assim como nós perdoamos aos nossos deved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nos induzas à tentação; mas livra-nos do mal; porque teu é o reino, e o poder, e a glória, para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perdoardes aos homens as suas ofensas, também vosso Pai celestial vos perdoará a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rém, não perdoardes aos homens as suas ofensas, também vosso Pai vos não perdoará as vossas ofen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jejuardes, não vos mostreis contristados como os hipócritas; porque desfiguram os seus rostos, para que aos homens pareça que jejuam. Em verdade vos digo que já receberam o seu gala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rém, quando jejuares, unge a tua cabeça, e lava o teu ro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não pareceres aos homens que jejuas, mas a teu Pai, que está em secreto; e teu Pai, que vê em secreto, te recompensará public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junteis tesouros na terra, onde a traça e a ferrugem tudo consomem, e onde os ladrões minam e roub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deres esmola, não faças tocar trombeta diante de ti, como fazem os hipócritas nas sinagogas e nas ruas, para serem glorificados pelos homens. Em verdade vos digo que já receberam o seu gala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juntai tesouros no céu, onde nem a traça nem a ferrugem consomem, e onde os ladrões não minam nem roub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nde estiver o vosso tesouro, aí estará também o voss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ndeia do corpo são os olhos; de sorte que, se os teus olhos forem bons, todo o teu corpo terá lu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rém, os teus olhos forem maus, o teu corpo será tenebroso. Se, portanto, a luz que em ti há são trevas, quão grandes serão tais trev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pode servir a dois senhores; porque ou há de odiar um e amar o outro, ou se dedicará a um e desprezará o outro. Não podeis servir a Deus e a M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vos digo: Não andeis cuidadosos quanto à vossa vida, pelo que haveis de comer ou pelo que haveis de beber; nem quanto ao vosso corpo, pelo que haveis de vestir. Não é a vida mais do que o mantimento, e o corpo mais do que o vestuár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 para as aves do céu, que nem semeiam, nem segam, nem ajuntam em celeiros; e vosso Pai celestial as alimenta. Não tendes vós muito mais valor do que el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 de vós poderá, com todos os seus cuidados, acrescentar um côvado à sua estatu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 vestuário, por que andais solícitos? Olhai para os lírios do campo, como eles crescem; não trabalham nem fi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vos digo que nem mesmo Salomão, em toda a sua glória, se vestiu como qualquer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tu deres esmola, não saiba a tua mão esquerda o que faz a tua dire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se Deus assim veste a erva do campo, que hoje existe, e amanhã é lançada no forno, não vos vestirá muito mais a vós, homens de pouca fé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ndeis, pois, inquietos, dizendo: Que comeremos, ou que beberemos, ou com que nos vestire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todas estas coisas os gentios procuram). De certo vosso Pai celestial bem sabe que necessitais de todas estas cois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buscai primeiro o reino de Deus, e a sua justiça, e todas estas coisas vos serão acrescen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inquieteis, pois, pelo dia de amanhã, porque o dia de amanhã cuidará de si mesmo. Basta a cada dia o seu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tua esmola seja dada em secreto; e teu Pai, que vê em secreto, ele mesmo te recompensará public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rares, não sejas como os hipócritas; pois se comprazem em orar em pé nas sinagogas, e às esquinas das ruas, para serem vistos pelos homens. Em verdade vos digo que já receberam o seu gala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quando orares, entra no teu aposento e, fechando a tua porta, ora a teu Pai que está em secreto; e teu Pai, que vê em secreto, te recompensará public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rando, não useis de vãs repetições, como os gentios, que pensam que por muito falarem serão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assemelheis, pois, a eles; porque vosso Pai sabe o que vos é necessário, antes de vós lho pedi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vós orareis assim: Pai nosso, que estás nos céus, santificado seja o teu no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24Z</dcterms:created>
  <dc:creator>Admin</dc:creator>
  <dc:description/>
  <dc:language>en-US</dc:language>
  <cp:lastModifiedBy>Admin</cp:lastModifiedBy>
  <dcterms:modified xsi:type="dcterms:W3CDTF">2008-07-31T00:14:24Z</dcterms:modified>
  <cp:revision>1</cp:revision>
  <dc:subject/>
  <dc:title>Slide 1</dc:title>
</cp:coreProperties>
</file>