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523E-B758-4EEB-88CA-C1ACB8F57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A345-68EF-46F5-8F0D-E91AE3A4A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13AC-2CB6-447F-93F3-C74F46261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87D6-2FB4-4C9E-A35A-D3E4669D5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B189-C718-45E2-9E30-BF05D1E27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24F6-2510-43A3-922A-01E25C274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4188-E952-4F2C-8D6F-19D0E9A1F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3521-42A6-41E8-8E93-C1B59568E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798D-7138-4B18-95BD-74559FFC6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0EC5-5E77-457F-B404-F1C26D9B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544F-63EC-41A1-9EA2-BE902179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9D65-69B0-4DB7-8B14-998DE391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93352-F48B-44D6-910B-FAC4FC1B15D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7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E, SENHOR, a justiça; atende ao meu clamor; dá ouvidos à minha oração, que não é feita com lábios enganos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7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 sua gordura se encerram, com a boca falam soberb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7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êm-nos cercado agora nossos passos; e baixaram os seus olhos para a terr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7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ecem-se com o leão que deseja arrebatar a sua presa, e com o leãozinho que se põe em esconderij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7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vanta-te, SENHOR, detém-no, derriba-o, livra a minha alma do ímpio, com a tua espad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7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os homens com a tua mão, SENHOR, dos homens do mundo, cuja porção está nesta vida, e cujo ventre enches do teu tesouro oculto. Estão fartos de filhos e dão os seus sobejos às suas crianç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7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to a mim, contemplarei a tua face na justiça; eu me satisfarei da tua semelhança quando acord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7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ia a minha sentença de diante do teu rosto; atendam os teus olhos à raz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7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rovaste o meu coração; visitaste-me de noite; examinaste-me, e nada achaste; propus que a minha boca não transgredi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7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to ao trato dos homens, pela palavra dos teus lábios me guardei das veredas do destrui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7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rige os meus passos nos teus caminhos, para que as minhas pegadas não vacil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7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te invoquei, ó Deus, pois me queres ouvir; inclina para mim os teus ouvidos, e escuta as minhas palav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7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ze maravilhosas as tuas beneficências, ó tu que livras aqueles que em ti confiam dos que se levantam contra a tua dest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7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Guarda-me como à menina do olho; esconde-me debaixo da sombra das tuas as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7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os ímpios que me oprimem, dos meus inimigos mortais que me andam cerca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4:26Z</dcterms:created>
  <dc:creator>Admin</dc:creator>
  <dc:description/>
  <dc:language>en-US</dc:language>
  <cp:lastModifiedBy>Admin</cp:lastModifiedBy>
  <dcterms:modified xsi:type="dcterms:W3CDTF">2008-07-31T00:24:26Z</dcterms:modified>
  <cp:revision>1</cp:revision>
  <dc:subject/>
  <dc:title>Slide 1</dc:title>
</cp:coreProperties>
</file>