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443-9E56-4CE6-AE5A-AE50747C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464-6038-4242-BF13-6E1C94B7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F03-539E-4DFF-AD89-983A7110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D4A-347A-43BE-9F92-E3732A9B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B91-E154-4A6F-BAB1-99425491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9B8-39A3-438E-BF93-A79A8BFC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328-A1CE-4386-A8A2-03E9B949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485-E4B4-4A00-B89B-B239E1E9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9BF-8110-4DF0-966C-C1CCD07C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F45-4DC5-4583-9630-79C74608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E52-ACF1-4961-B862-F0A0496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8E5-CE09-4412-A97F-B38E690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F2F2-A227-4DC8-9D59-59C92B0BC9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enviou Natã a Davi; e, apresentando-se ele a Davi, disse-lhe: Havia numa cidade dois homens, um rico e outro p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não se apartará a espada jamais da tua casa, porquanto me desprezaste, e tomaste a mulher de Urias, o heteu, para ser t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is que suscitarei da tua própria casa o mal sobre ti, e tomarei tuas mulheres perante os teus olhos, e as darei a teu próximo, o qual se deitará com tuas mulheres perante este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o fizeste em oculto, mas eu farei este negócio perante todo o Israel e perante 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 a Natã: Pequei contra o SENHOR. E disse Natã a Davi: Também o SENHOR perdoou o teu pecado; não morr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porquanto com este feito deste lugar sobremaneira a que os inimigos do SENHOR blasfemem, também o filho que te nasceu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Natã foi para sua casa; e o SENHOR feriu a criança que a mulher de Urias dera a Davi, e adoeceu grav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uscou Davi a Deus pela criança; e jejuou Davi, e entrou, e passou a noite prostrado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anciãos da sua casa se levantaram e foram a ele, para o levantar da terra; porém ele não quis, e não comeu pão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ao sétimo dia morreu a criança; e temiam os servos de Davi dizer-lhe que a criança estava morta, porque diziam: Eis que, sendo a criança ainda viva, lhe falávamos, porém não dava ouvidos à nossa voz; como, pois, lhe diremos que a criança 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u, porém, Davi que seus servos falavam baixo, e entendeu Davi que a criança estava morta, pelo que disse Davi a seus servos: Está morta a criança? E eles disseram: Está m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ico possuía muitíssimas ovelhas e va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se levantou da terra, e se lavou, e se ungiu, e mudou de roupas, e entrou na casa do SENHOR, e adorou. Então foi à sua casa, e pediu pão; e lhe puseram pão, e co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 seus servos: Que é isto que fizeste? Pela criança viva jejuaste e choraste; porém depois que morreu a criança te levantaste e comest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Vivendo ainda a criança, jejuei e chorei, porque dizia: Quem sabe se DEUS se compadecerá de mim, e viverá a crian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agora que está morta, porque jejuaria eu? Poderei eu fazê-la voltar? Eu irei a ela, porém ela não voltará pa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solou Davi a Bate-Seba, sua mulher, e entrou a ela, e se deitou com ela, e ela deu à luz um filho, e deu-lhe o nome de Salomão; e o SENHOR o a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pela mão do profeta Natã, dando-lhe o nome de Jedidias, por amo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pelejou Joabe contra Rabá, dos filhos de Amom, e tomou a cidade re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ou Joabe mensageiros a Davi, e disse: Pelejei contra Rabá, e também tomei a cidade d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, pois, agora o restante do povo, e cerca a cidade, e toma-a, para que tomando eu a cidade, não se aclame sobre ela 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juntou Davi a todo o povo, e marchou para Rabá, e pelejou contra ela, e a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pobre não tinha coisa nenhuma, senão uma pequena cordeira que comprara e criara; e ela tinha crescido com ele e com seus filhos; do seu bocado comia, e do seu copo bebia, e dormia em seu regaço, e a tinha como f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 a coroa da cabeça do seu rei, cujo peso era de um talento de ouro, e havia nela pedras preciosas, e foi posta sobre a cabeça de Davi; e da cidade levou mui grande despo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razendo o povo que havia nela, o pôs às serras, e às talhadeiras de ferro, e aos machados de ferro, e os fez passar por forno de tijolos; e assim fez a todas as cidades dos filhos de Amom; e voltou Davi e todo o povo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 um viajante ao homem rico, deixou este de tomar das suas ovelhas e das suas vacas para assar para o viajante que viera a ele; e tomou a cordeira do homem pobre, e a preparou para o homem que viera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furor de Davi se acendeu em grande maneira contra aquele homem, e disse a Natã: Vive o SENHOR, que digno de morte é o homem que fez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a cordeira tornará a dar o quadruplicado, porque fez tal coisa, e porque não se compad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Natã a Davi: Tu és este homem. Assim diz o SENHOR Deus de Israel: Eu te ungi rei sobre Israel, e eu te livrei das mãos de Sau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dei a casa de teu senhor, e as mulheres de teu senhor em teu seio, e também te dei a casa de Israel e de Judá, e, se isto é pouco, mais te acrescentaria tais e tai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pois, desprezaste a palavra do SENHOR, fazendo o mal diante de seus olhos? A Urias, o heteu, feriste à espada, e a sua mulher tomaste por tua mulher; e a ele mataste com a espada d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12Z</dcterms:created>
  <dc:creator>Admin</dc:creator>
  <dc:description/>
  <dc:language>en-US</dc:language>
  <cp:lastModifiedBy>Admin</cp:lastModifiedBy>
  <dcterms:modified xsi:type="dcterms:W3CDTF">2008-07-30T23:53:12Z</dcterms:modified>
  <cp:revision>1</cp:revision>
  <dc:subject/>
  <dc:title>Slide 1</dc:title>
</cp:coreProperties>
</file>