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7B3-DB07-4E05-A255-4E00405B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BD4-4B1E-4C2F-9316-E41F1D00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235-779C-4A26-AB46-43800B83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946-4979-47DE-B4D0-C23AC89E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8BF-1E61-4EF6-9B12-B6432057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A23-D3BE-40C1-89E0-6B31C6BB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653-954A-47D3-923A-C6A4B9F6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678-FB43-49CA-BE2D-1E0EEF04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894-1EC5-4375-BCC8-FB510870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A10-B39B-49BC-AACA-7EC8F6E0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16B-A21A-4A11-964E-EAD9C99E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6D2-9722-431E-A9D4-138E621F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ED79-31E7-4584-93CE-4357C2E5B75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levantou o Espírito, e me levou à porta oriental da casa do SENHOR, a qual olha para o oriente; e eis que estavam à entrada da porta vinte e cinco homens; e no meio deles vi a Jaazanias, filho de Azur, e a Pelatias, filho de Benaia, príncipes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ireis à espada, e nos confins de Israel vos julgarei; e sabere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cidade não vos servirá de caldeirão, nem vós servireis de carne no meio dela; nos confins de Israel vos julg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reis que eu sou o SENHOR, porque não andastes nos meus estatutos, nem cumpristes os meus juízos; antes fizestes conforme os juízos dos gentios que estão ao redor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profetizando eu, morreu Pelatias, filho de Benaia; então caí sobre o meu rosto, e clamei com grande voz, e disse: Ah! Senhor DEUS! Porventura darás tu fim ao remanescente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teus irmãos, sim, teus irmãos, os homens de teu parentesco, e toda a casa de Israel, todos eles são aqueles a quem os habitantes de Jerusalém disseram: Apartai-vos para longe do SENHOR; esta terra nos foi dada em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dize: Assim diz o Senhor DEUS: Ainda que os lancei para longe entre os gentios, e ainda que os espalhei pelas terras, todavia lhes serei como um pequeno santuário, nas terras para onde fo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dize: Assim diz o Senhor DEUS: Hei de ajuntar-vos do meio dos povos, e vos recolherei das terras para onde fostes lançados, e vos darei a terr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ão ali, e tirarão dela todas as suas coisas detestáveis e todas as suas abomi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s darei um só coração, e um espírito novo porei dentro deles; e tirarei da sua carne o coração de pedra, e lhes darei um coração de carn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Filho do homem, estes são os homens que maquinam perversidade, e dão mau conselho nest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ndem nos meus estatutos, e guardem os meus juízos, e os cumpram; e eles me serão por povo, e eu lhes serei p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to àqueles cujo coração andar conforme o coração das suas coisas detestáveis, e as suas abominações, farei recair nas suas cabeças o seu caminho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querubins elevaram as suas asas, e as rodas os acompanhavam; e a glória do Deus de Israel estava em cima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glória do SENHOR se alçou desde o meio da cidade; e se pôs sobre o monte que está ao oriente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 Espírito me levantou, e me levou à Caldéia, para os do cativeiro, em visão, pelo Espírito de Deus; e subiu de sobre mim a visão que eu tinha t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ei aos do cativeiro todas as coisas que o SENHOR me havia most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dizem: Não está próximo o tempo de edificar casas; esta cidade é o caldeirão, e nós 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profetiza contra eles; profetiza, ó filh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iu, pois, sobre mim o Espírito do SENHOR, e disse-me: Fala: Assim diz o SENHOR: Assim haveis falado, ó casa de Israel, porque, quanto às coisas que vos sobem ao espírito, eu as conhe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ltiplicastes os vossos mortos nesta cidade, e enchestes as suas ruas de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DEUS: Vossos mortos, que deitastes no meio dela, esses são a carne e ela é o caldeirão; a vós, porém, vos tirarei do mei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estes a espada, e a espada trarei sobre vós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farei sair do meio dela, e vos entregarei na mão de estrangeiros, e exercerei os meus juízos ent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09Z</dcterms:created>
  <dc:creator>Admin</dc:creator>
  <dc:description/>
  <dc:language>en-US</dc:language>
  <cp:lastModifiedBy>Admin</cp:lastModifiedBy>
  <dcterms:modified xsi:type="dcterms:W3CDTF">2008-07-30T23:34:09Z</dcterms:modified>
  <cp:revision>1</cp:revision>
  <dc:subject/>
  <dc:title>Slide 1</dc:title>
</cp:coreProperties>
</file>