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2C8-A872-475F-BA7F-8D0DF986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EC0-D6B7-414A-B602-C6827389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40B-464C-4232-870E-9E16001E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278-1542-455B-9652-8DE0B311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9F0-DD6C-4B38-8E22-391F66BC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361-0B36-43AA-891A-8394654F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D75-0DB3-439A-8241-D03C10EB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374-115A-4BE0-8772-48763BEB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CC2-27D0-419F-884D-29C5EBE7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D52-3311-44F3-9686-8DABF7C7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28A-B290-4E89-8296-02BDABD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57D-7E55-4BE4-92F8-2F7AF8E2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531C-F1F7-47CB-870E-F887FB61F65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do SENHOR, que veio a Jeremias, o profeta, contra os genti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e dia é o dia do Senhor DEUS dos Exércitos, dia de vingança para ele se vingar dos seus adversários; e a espada devorará, e fartar-se-á, e embriagar-se-á com o sangue deles; porque o Senhor DEUS dos Exércitos tem um sacrifício na terra do n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e a Gileade, e toma bálsamo, ó virgem filha do Egito; debalde multiplicas remédios, pois já não há cura pa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nações ouviram a tua vergonha, e a terra está cheia do teu clamor; porque o valente tropeçou com o valente e ambos caíram ju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falou o SENHOR a Jeremias, o profeta, acerca da vinda de Nabucodonosor, rei de Babilônia, para ferir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unciai no Egito, e fazei ouvir isto em Migdol; fazei também ouvi-lo em Nofe, e em Tafnes, dizei: Apresenta-te, e prepara-te; porque a espada já devorou o que está ao redor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foram derrubados os teus valentes? Não puderam manter-se firmes, porque o SENHOR os aba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ltiplicou os que tropeçavam; também caíram uns sobre os outros, e disseram: Levanta-te, e voltemos ao nosso povo, e à terra do nosso nascimento, por causa da espada que opri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ram ali: Faraó rei do Egito é apenas um barulho; deixou passar o tempo assin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o eu, diz o rei, cujo nome é o SENHOR dos Exércitos, que certamente como o Tabor entre os montes, e como o Carmelo junto ao mar, certamente assim ele 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 os utensílios para ires ao cativeiro, ó moradora, filha do Egito; porque Nofe será tornada em desolação, e será incendiada, até que ninguém mais aí mo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erca do Egito, contra o exército de Faraó-Neco, rei do Egito, que estava junto ao rio Eufrates em Carquemis, ao qual feriu Nabucodonosor, rei de Babilônia, no ano quarto de Jeoiaquim, filho de Josias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zerra mui formosa é o Egito; mas já vem a destruição, vem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os seus mercenários no meio dela são como bezerros cevados; mas também eles viraram as costas, fugiram juntos; não ficaram firmes; porque veio sobre eles o dia da sua ruína e o tempo do seu cas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voz irá como a da serpente; porque marcharão com um exército, e virão contra ela com machados, como cortadores de l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tarão o seu bosque, diz o SENHOR, embora seja impenetrável; porque se multiplicaram mais do que os gafanhotos; são inumerá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ilha do Egito será envergonhada; será entregue na mão do povo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 o SENHOR dos Exércitos, o Deus de Israel: Eis que eu castigarei a Amom de Nô, e a Faraó, e ao Egito, e aos seus deuses, e aos seus reis; ao próprio Faraó, e aos que nele conf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ntregarei na mão dos que procuram a sua morte, na mão de Nabucodonosor, rei de Babilônia, e na mão dos seus servos; mas depois será habitada, como nos dias antigo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temas tu, servo meu, Jacó, nem te espantes, ó Israel; porque eis que te livrarei mesmo de longe, como também a tua descendência da terra do seu cativeiro; e Jacó voltará, e descansará, e sossegará, e não haverá quem o atemori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não temas, servo meu, Jacó, diz o SENHOR, porque estou contigo; porque porei termo a todas as nações entre as quais te lancei; mas a ti não darei fim, mas castigar-te-ei com justiça, e não te darei de todo por inoc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i o escudo e o pavês, e chegai-vos para a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lai os cavalos e montai, cavaleiros, e apresentai-vos com elmos; limpai as lanças, vesti-vos de coura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razão vejo os medrosos voltando as costas? Os seus valentes estão abatidos, e vão fugindo, sem olharem para trás; terror há ao redor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uja o ligeiro, e não escape o valente; para o lado norte, junto à borda do rio Eufrates tropeçaram e caí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este que vem subindo como o Nilo, cujas águas se movem como os ri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gito vem subindo como o Nilo, e como rios cujas águas se movem; e disse: Subirei, cobrirei a terra, destruirei a cidade, e os que nela habi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, ó cavalos, e estrondeai, ó carros, e saiam os valentes; os etíopes, e os do Líbano, que manejam o escudo, e os lídios, que manejam e entesam o ar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45Z</dcterms:created>
  <dc:creator>Admin</dc:creator>
  <dc:description/>
  <dc:language>en-US</dc:language>
  <cp:lastModifiedBy>Admin</cp:lastModifiedBy>
  <dcterms:modified xsi:type="dcterms:W3CDTF">2008-07-30T23:59:45Z</dcterms:modified>
  <cp:revision>1</cp:revision>
  <dc:subject/>
  <dc:title>Slide 1</dc:title>
</cp:coreProperties>
</file>