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A7C-40CC-4E3A-9F4B-710259E8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B40-6DB6-4B67-B122-0D2105C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C90-0E60-4D56-BBCE-3CC988E7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7A6-5DEF-4008-94A4-917A66E3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EAD-4BDD-4676-8B5F-EE76999D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9DA-8309-4FA9-B960-030C472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CC3-E030-422F-8F00-83582F9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C62-3252-467B-B275-03FA975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815-3F3C-47FD-8E5A-D6E1BE6E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342-ECB5-423E-92FD-2218A14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6F5-EA9F-4224-8C1C-ABD227C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C71-1916-49E7-8BCC-51408A0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327-0B61-4659-AB71-70280BD737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está na congregação dos poderosos; julga no meio d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julgareis injustamente, e aceitareis as pessoas dos ímpios?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justiça ao pobre e ao órfão; justificai o aflito e o necess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i o pobre e o necessitado; tirai-os das mãos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não conhecem, nem entendem; andam em trevas; todos os fundamentos da terra vaci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: Vós sois deuses, e todos vós filhos do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morrereis como homens, e caireis como qualquer d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ó Deus, julga a terra, pois tu possuis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38Z</dcterms:created>
  <dc:creator>Admin</dc:creator>
  <dc:description/>
  <dc:language>en-US</dc:language>
  <cp:lastModifiedBy>Admin</cp:lastModifiedBy>
  <dcterms:modified xsi:type="dcterms:W3CDTF">2008-07-31T00:26:38Z</dcterms:modified>
  <cp:revision>1</cp:revision>
  <dc:subject/>
  <dc:title>Slide 1</dc:title>
</cp:coreProperties>
</file>