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E2-FCC4-4C83-A8E5-DBB5C799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84C-C6EA-4D05-B508-719F51F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63C-C5B6-4EC4-B2BB-22B4A0D7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AF9-66FC-44F9-88D6-9C55F92D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FC6-D1CE-4936-A363-1A7C766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A4D-38BD-48DD-B46C-8FDF700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17C-F9F7-4C64-B37C-DEA57CF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99C-81FE-4DD9-BBA9-814FC570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371-2F98-44A8-A59F-9185EB9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76B-3FAF-4995-A6F1-2C737A1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415-6C22-4CDB-9D05-E1E6DAF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0BF-8ABC-4580-A9D6-B519521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CBA9-9088-4F50-B189-F8C9E1F2301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os gentios vieram à tua herança; contaminaram o teu santo templo; reduziram Jerusalém a montões de ped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riam os gentios: Onde está o seu Deus? Seja ele conhecido entre os gentios, à nossa vista, pela vingança do sangue dos teus servos, que foi derr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 perante a tua face o gemido dos presos; segundo a grandeza do teu braço preserva aqueles que estão sentenciados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 aos nossos vizinhos, no seu regaço, sete vezes tanto da sua injúria com a qual te injuriaram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ós, teu povo e ovelhas de teu pasto, te louvaremos eternamente; de geração em geração cantaremos os teus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 os corpos mortos dos teus servos por comida às aves dos céus, e a carne dos teus santos às fer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ram o sangue deles como a água ao redor de Jerusalém, e não houve quem os enter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os feitos opróbrio para nossos vizinhos, escárnio e zombaria para os que estão à roda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, SENHOR? Acaso te indignarás para sempre? Arderá o teu zelo como f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o teu furor sobre os gentios que não te conhecem, e sobre os reinos que não invocam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voraram a Jacó, e assolaram as suas mo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lembres das nossas iniqüidades passadas; venham ao nosso encontro depressa as tuas misericórdias, pois já estamos muito abat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da-nos, ó Deus da nossa salvação, pela glória do teu nome; e livra-nos, e perdoa os nossos pecados por amor d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34Z</dcterms:created>
  <dc:creator>Admin</dc:creator>
  <dc:description/>
  <dc:language>en-US</dc:language>
  <cp:lastModifiedBy>Admin</cp:lastModifiedBy>
  <dcterms:modified xsi:type="dcterms:W3CDTF">2008-07-31T00:26:34Z</dcterms:modified>
  <cp:revision>1</cp:revision>
  <dc:subject/>
  <dc:title>Slide 1</dc:title>
</cp:coreProperties>
</file>