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7EC-D468-4D62-AF71-1EAAE85B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EBE-9571-4D5E-8635-E400FA5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657-9D1A-4069-8BCE-675DC444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C98-3F5D-4E06-A4F8-8D82DEAF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B3C-F6CE-4485-940F-15C6BA4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A4B-1C99-472B-9494-60C46E6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A9E-D424-4672-8F3D-059EC5C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329-7884-43DA-B138-D53F89EE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C77-6367-48ED-9468-833B1FA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C22-A9C9-4789-949A-91DFF31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F54-0499-4897-BA71-6EF0775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109-7A10-4D67-BF52-35DADBB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C4DF-146C-49B9-9EDC-EED0032DE6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impôs o rei Assuero tributo sobre a terra, e sobre as ilha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atos do seu poder e do seu valor, e o relato da grandeza de Mardoqueu, a quem o rei exaltou, porventura não estão escritos no livro das crônicas dos reis da Média e da Pérs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judeu Mardoqueu foi o segundo depois do rei Assuero, e grande entre os judeus, e estimado pela multidão de seus irmãos, procurando o bem do seu povo, e proclamando a prosperidade de toda a s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02Z</dcterms:created>
  <dc:creator>Admin</dc:creator>
  <dc:description/>
  <dc:language>en-US</dc:language>
  <cp:lastModifiedBy>Admin</cp:lastModifiedBy>
  <dcterms:modified xsi:type="dcterms:W3CDTF">2008-07-30T23:31:02Z</dcterms:modified>
  <cp:revision>1</cp:revision>
  <dc:subject/>
  <dc:title>Slide 1</dc:title>
</cp:coreProperties>
</file>