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E75-54D0-4730-9768-683D9F6C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D765-5A07-4DC5-BB31-3DA14641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B6FE-5B58-4E7A-AEFB-031733AC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C92-B875-4E60-81FE-1A9F65BB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AC4-0A21-43F4-9A6D-10CF70EE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6917-A462-4ED5-BBF9-ECE3DA5E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0FB-1123-47F6-B8DF-0B354F70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49B-B2E5-46EB-87B7-2EF74853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BD1-6024-4F32-BFB5-C33BAD7F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2A2-FB91-41CA-A4D5-A30E0102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1E3-7642-434B-8500-DD4AA07A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419-5B40-4602-ADB4-A377C9AA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6C86-8452-4F3D-A125-0B3A2BF9EDE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LI a dois dias era a páscoa, e a festa dos pães ázimos; e os principais dos sacerdotes e os escribas buscavam como o prenderiam com dolo, e o matar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das Iscariotes, um dos doze, foi ter com os principais dos sacerdotes para lho entre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, ouvindo-o, folgaram, e prometeram dar-lhe dinheiro; e buscava como o entregaria em ocasião oportu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primeiro dia dos pães ázimos, quando sacrificavam a páscoa, disseram-lhe os discípulos: Aonde queres que vamos fazer os preparativos para comer a pásco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 dois dos seus discípulos, e disse-lhes: Ide à cidade, e um homem, que leva um cântaro de água, vos encontrará; segui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nde quer que entrar, dizei ao senhor da casa: O Mestre diz: Onde está o aposento em que hei de comer a páscoa com os meus discípul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vos mostrará um grande cenáculo mobilado e preparado; preparai-a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os seus discípulos, foram à cidade, e acharam como lhes tinha dito, e prepararam a pásc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da a tarde, foi com os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estavam assentados a comer, disse Jesus: Em verdade vos digo que um de vós, que comigo come, há de trair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começaram a entristecer-se e a dizer-lhe um após outro: Sou eu? E outro disse: Sou 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diziam: Não na festa, para que porventura não se faça alvoroço entr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, respondendo, disse-lhes: É um dos doze, que põe comigo a mão no pra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o Filho do homem vai, como dele está escrito, mas ai daquele homem por quem o Filho do homem é traído! Bom seria para o tal homem não haver nas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endo eles, tomou Jesus pão e, abençoando-o, o partiu e deu-lho, e disse: Tomai, comei, isto é o meu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mando o cálice, e dando graças, deu-lho; e todos beberam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Isto é o meu sangue, o sangue do novo testamento, que por muitos é derra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vos digo que não beberei mais do fruto da vide, até àquele dia em que o beber, novo, n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cantado o hino, saíram para o Monte das Oliv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Jesus: Todos vós esta noite vos escandalizareis em mim; porque está escrito: Ferirei o pastor, e as ovelhas se dispers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depois que eu houver ressuscitado, irei adiante de vós para a Gali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Pedro: Ainda que todos se escandalizem, nunca, porém, 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ele em Betânia, assentado à mesa, em casa de Simão, o leproso, veio uma mulher, que trazia um vaso de alabastro, com ungüento de nardo puro, de muito preço, e quebrando o vaso, lho derramou sobre 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Jesus: Em verdade te digo que hoje, nesta noite, antes que o galo cante duas vezes, três vezes me neg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disse com mais veemência: Ainda que me seja necessário morrer contigo, de modo nenhum te negarei. E da mesma maneira diziam todos tamb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a um lugar chamado Getsêmani, e disse aos seus discípulos: Assentai-vos aqui, enquanto eu o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consigo a Pedro, e a Tiago, e a João, e começou a ter pavor, e a angustiar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A minha alma está profundamente triste até a morte; ficai aqui, e vigi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ido um pouco mais adiante, prostrou-se em terra; e orou para que, se fosse possível, passasse dele aquela h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Aba, Pai, todas as coisas te são possíveis; afasta de mim este cálice; não seja, porém, o que eu quero, mas o que tu qu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, achou-os dormindo; e disse a Pedro: Simão, dormes? não podes vigiar uma ho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giai e orai, para que não entreis em tentação; o espírito, na verdade, está pronto, mas a carne é fra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utra vez e orou, dizendo as mesm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houve que em si mesmos se indignaram, e disseram: Para que se fez este desperdício de ungüen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oltando, achou-os outra vez dormindo, porque os seus olhos estavam pesados, e não sabiam o que responder-lh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ltou terceira vez, e disse-lhes: Dormi agora, e descansai. Basta; é chegada a hora. Eis que o Filho do homem vai ser entregue nas mãos dos pec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i-vos, vamos; eis que está perto o que me tr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, falando ele ainda, veio Judas, que era um dos doze, da parte dos principais dos sacerdotes, e dos escribas e dos anciãos, e com ele uma grande multidão com espadas e varapa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que o traía, tinha-lhes dado um sinal, dizendo: Aquele que eu beijar, esse é; prendei-o, e levai-o com segu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ogo que chegou, aproximou-se dele, e disse-lhe: Rabi, Rabi. E beijou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aram-lhe as mãos, e o prend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dos que ali estavam presentes, puxando da espada, feriu o servo do sumo sacerdote, e cortou-lhe uma ore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Jesus, disse-lhes: Saístes com espadas e varapaus a prender-me, como a um saltead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dias estava convosco ensinando no templo, e não me prendestes; mas isto é para que as Escrituras se cump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odia vender-se por mais de trezentos dinheiros, e dá-lo aos pobres. E bramavam contr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deixando-o, todos fug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certo jovem o seguia, envolto em um lençol sobre o corpo nu. E lançaram-lhe 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, largando o lençol, fugiu n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ram Jesus ao sumo sacerdote, e ajuntaram-se todos os principais dos sacerdotes, e os anciãos e os escrib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o o seguiu de longe até dentro do pátio do sumo sacerdote, e estava assentado com os servidores, aquentando-se ao lu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rincipais dos sacerdotes e todo o concílio buscavam algum testemunho contra Jesus, para o matar, e não o ach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uitos testificavam falsamente contra ele, mas os testemunhos não eram coer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alguns, testificaram falsamente contra el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 ouvimos-lhe dizer: Eu derrubarei este templo, construído por mãos de homens, e em três dias edificarei outro, não feito por mãos de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m assim o seu testemunho era coer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disse: Deixai-a, por que a molestais? Ela fez-me bo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o sumo sacerdote no Sinédrio, perguntou a Jesus, dizendo: Nada respondes? Que testificam estes contra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calou-se, e nada respondeu. O sumo sacerdote lhe tornou a perguntar, e disse-lhe: És tu o Cristo, Filho do Deus Bendi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disse-lhe: Eu o sou, e vereis o Filho do homem assentado à direita do poder de Deus, e vindo sobre as nuvens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umo sacerdote, rasgando as suas vestes, disse: Para que necessitamos de mais testemunh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ouvistes a blasfêmia; que vos parece? E todos o consideraram culpado de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começaram a cuspir nele, e a cobrir-lhe o rosto, e a dar-lhe punhadas, e a dizer-lhe: Profetiza. E os servidores davam-lhe bofet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Pedro embaixo, no átrio, chegou uma das criadas do sumo sacerdo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6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a Pedro, que se estava aquentando, olhou para ele, e disse: Tu também estavas com Jesus Nazare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6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negou-o, dizendo: Não o conheço, nem sei o que dizes. E saiu fora ao alpendre, e o galo can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6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riada, vendo-o outra vez, começou a dizer aos que ali estavam: Este é um dos t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mpre tendes os pobres convosco, e podeis fazer-lhes bem, quando quiserdes; mas a mim nem sempre me ten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7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o negou outra vez. E pouco depois os que ali estavam disseram outra vez a Pedro: Verdadeiramente tu és um deles, porque és também galileu, e tua fala é semelh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7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começou a praguejar, e a jurar: Não conheço esse homem de quem fal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7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galo cantou segunda vez. E Pedro lembrou-se da palavra que Jesus lhe tinha dito: Antes que o galo cante duas vezes, três vezes me negarás. E, retirando-se dali, cho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fez o que podia; antecipou-se a ungir o meu corpo para a sep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vos digo que, em todas as partes do mundo onde este evangelho for pregado, também o que ela fez será contado para sua mem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3:53Z</dcterms:created>
  <dc:creator>Admin</dc:creator>
  <dc:description/>
  <dc:language>en-US</dc:language>
  <cp:lastModifiedBy>Admin</cp:lastModifiedBy>
  <dcterms:modified xsi:type="dcterms:W3CDTF">2008-07-31T00:13:53Z</dcterms:modified>
  <cp:revision>1</cp:revision>
  <dc:subject/>
  <dc:title>Slide 1</dc:title>
</cp:coreProperties>
</file>