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DBB-3B77-43A4-86EC-62782EBD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F30-2C07-4FEF-AD91-7E21A670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4EB8-EC14-4A77-9BC3-253E3FA6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D3B-97F5-4465-8696-FC8D712F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436-BDA5-4F1E-9B0D-5C31932E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9FA-0B06-412E-BF48-C51EFEDB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603-6943-49C3-8CC9-968E11A3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DB7-5802-41BE-928A-E337DA04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451-0750-425B-BFC3-06F6A1B1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605C-D0E2-4E49-A3FA-D85531B6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4CA-6590-423B-8085-D69FBCAB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4F61-F8D0-454E-AE85-4003F276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6A3A-C574-4018-AE65-E44CC96D47C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PERTA, desperta, veste-te da tua fortaleza, ó Sião; veste-te das tuas roupas formosas, ó Jerusalém, cidade santa, porque nunca mais entrará em ti nem incircunciso nem i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esnudou o seu santo braço perante os olhos de todas as nações; e todos os confins da terra verão a salvação do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tirai-vos, retirai-vos, saí daí, não toqueis coisa imunda; saí do meio dela, purificai-vos, os que levais os vaso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ós não saireis apressadamente, nem ireis fugindo; porque o SENHOR irá diante de vós, e o Deus de Israel será a vossa retagua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 meu servo procederá com prudência; será exaltado, e elevado, e mui subli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pasmaram muitos à vista dele, pois o seu parecer estava tão desfigurado, mais do que o de outro qualquer, e a sua figura mais do que a dos outros filh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borrifará muitas nações, e os reis fecharão as suas bocas por causa dele; porque aquilo que não lhes foi anunciado verão, e aquilo que eles não ouviram entend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code-te do pó, levanta-te, e assenta-te, ó Jerusalém: solta-te das cadeias de teu pescoço, ó cativa filha de 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: Por nada fostes vendidos; também sem dinheiro sereis resgat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EUS: O meu povo em tempos passados desceu ao Egito, para peregrinar lá, e a Assíria sem razão o oprim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, que tenho eu que fazer aqui, diz o SENHOR, pois o meu povo foi tomado sem nenhuma razão? Os que dominam sobre ele dão uivos, diz o SENHOR; e o meu nome é blasfemado incessantemente o dia to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o meu povo saberá o meu nome; pois, naquele dia, saberá que sou eu mesmo o que falo: Eis-me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ão formosos são, sobre os montes, os pés do que anuncia as boas novas, que faz ouvir a paz, do que anuncia o bem, que faz ouvir a salvação, do que diz a Sião: O teu Deus rein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a voz dos teus atalaias! Eles alçam a voz, juntamente exultam; porque olho a olho verão, quando o SENHOR fizer Sião vo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lamai cantando, exultai juntamente, desertos de Jerusalém; porque o SENHOR consolou o seu povo, remiu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42Z</dcterms:created>
  <dc:creator>Admin</dc:creator>
  <dc:description/>
  <dc:language>en-US</dc:language>
  <cp:lastModifiedBy>Admin</cp:lastModifiedBy>
  <dcterms:modified xsi:type="dcterms:W3CDTF">2008-07-30T23:56:42Z</dcterms:modified>
  <cp:revision>1</cp:revision>
  <dc:subject/>
  <dc:title>Slide 1</dc:title>
</cp:coreProperties>
</file>