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9DF-2FCF-46A2-A08B-56C444E6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DA0-E1B0-418A-9062-9C66A4FD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7B6-4DE1-49B4-9FEA-4644F77E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6D1-E692-4927-A203-BB910DBF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D5F-DB30-448D-A81E-72F9882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813-8367-46C8-90DD-1E81C65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183-D65F-4AFE-A975-81021AA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F5B-A143-4A4F-9946-1BEFDA9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9EA-DB91-41E4-BD0B-7DCE95B5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F70-D3DC-40D2-AB9D-642F7CA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3E0-91A9-4BF0-A8AD-900EDD1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0BB-461F-448A-9EEC-E60D54E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CA9-AEFA-4B9A-B483-93FBB4D387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Jesus de dar instruções aos seus doze discípulos, partiu dali a ensinar e a pregar nas cidade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este de quem está escrito: Eis que diante da tua face envio o meu anjo, Que preparará diante de ti o t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, entre os que de mulher têm nascido, não apareceu alguém maior do que João o Batista; mas aquele que é o menor no reino dos céus é maior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de os dias de João o Batista até agora, se faz violência ao reino dos céus, e pela força se apode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profetas e a lei profetizaram até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quereis dar crédito, é este o Elias que havia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 quem assemelharei esta geração? É semelhante aos meninos que se assentam nas praças, e clamam aos seus companh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m: Tocamo-vos flauta, e não dançastes; cantamo-vos lamentações, e não chor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veio João, não comendo nem bebendo, e dizem: Tem demô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o Filho do homem, comendo e bebendo, e dizem: Eis aí um homem comilão e beberrão, amigo dos publicanos e pecadores. Mas a sabedoria é justificada por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ão, ouvindo no cárcere falar dos feitos de Cristo, enviou dois dos seus discíp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çou ele a lançar em rosto às cidades onde se operou a maior parte dos seus prodígios o não se haverem arrependid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Corazim! ai de ti, Betsaida! porque, se em Tiro e em Sidom fossem feitos os prodígios que em vós se fizeram, há muito que se teriam arrependido, com saco e com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u vos digo que haverá menos rigor para Tiro e Sidom, no dia do juízo, do que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Cafarnaum, que te ergues até aos céus, serás abatida até aos infernos; porque, se em Sodoma tivessem sido feitos os prodígios que em ti se operaram, teria ela permanecido até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digo, porém, que haverá menos rigor para os de Sodoma, no dia do juízo, do que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, respondendo Jesus, disse: Graças te dou, ó Pai, Senhor do céu e da terra, que ocultaste estas coisas aos sábios e entendidos, e as revelaste aos pequen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ó Pai, porque assim te apr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me foram entregues por meu Pai, e ninguém conhece o Filho, senão o Pai; e ninguém conhece o Pai, senão o Filho, e aquele a quem o Filho o quiser reve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 a mim, todos os que estais cansados e oprimidos, e eu vos aliv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sobre vós o meu jugo, e aprendei de mim, que sou manso e humilde de coração; e encontrareis descanso para as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dizer-lhe: És tu aquele que havia de vir, ou esperamos ou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u jugo é suave e o meu fardo é l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Ide, e anunciai a João as coisas que ouvis e ved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egos vêem, e os coxos andam; os leprosos são limpos, e os surdos ouvem; os mortos são ressuscitados, e aos pobres é anunciado 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-aventurado é aquele que não se escandalizar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eles, começou Jesus a dizer às turbas, a respeito de João: Que fostes ver no deserto? uma cana agitada pelo v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que fostes ver? um homem ricamente vestido? Os que trajam ricamente estão nas casas d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então que fostes ver? um profeta? Sim, vos digo eu, e muito mais do que profe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46Z</dcterms:created>
  <dc:creator>Admin</dc:creator>
  <dc:description/>
  <dc:language>en-US</dc:language>
  <cp:lastModifiedBy>Admin</cp:lastModifiedBy>
  <dcterms:modified xsi:type="dcterms:W3CDTF">2008-07-31T00:14:46Z</dcterms:modified>
  <cp:revision>1</cp:revision>
  <dc:subject/>
  <dc:title>Slide 1</dc:title>
</cp:coreProperties>
</file>