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CA9-97B2-421F-B7EE-C782A4A6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E51-C4A8-4E32-9CE5-ABFBD4DD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956-A955-421B-91D0-C0FF1EEE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22C-A1BD-461A-8809-E7A28B12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1B3-CAF9-4FEF-A021-FDB9C37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140-6707-4CBA-8E1E-4083EAC9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07F-9B4A-4504-9317-8305F09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EE6-8AA6-410D-B758-75BBDDDA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677-687E-4BCF-9DAD-A85AFAF4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765-D690-48C7-BAA2-B3CC3BAE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BF5-49AA-4ECA-BA19-654BEDDA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6C4-9FDB-4949-9383-9272A0F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B41B-A058-4676-8DFE-FBE5E76ED6E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s as tribos de Israel vieram a Davi, em Hebrom, e falaram, dizendo: Eis-nos aqui, somos teus ossos e tu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ia, cada vez mais, aumentando e crescendo, porque o SENHOR Deus dos Exércitos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irão, rei de Tiro, enviou mensageiros a Davi, e madeira de cedro, e carpinteiros, e pedreiros que edificaram a Davi um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endeu Davi que o SENHOR o confirmara rei sobre Israel, e que exaltara o seu reino por amor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Davi mais concubinas e mulheres de Jerusalém, depois que viera de Hebrom; e nasceram a Davi mais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que lhe nasceram em Jerusalém: Samua, e Sobabe, e Natã, e Salo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bar, e Elisua, e Nefegue, e Jaf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sama, e Eliada, e Elifel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s filisteus que haviam ungido a Davi rei sobre Israel, todos os filisteus subiram em busca de Davi; o que ouvindo Davi, desceu à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vieram, e se estenderam pelo vale de Ref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consultou ao SENHOR, dizendo: Subirei contra os filisteus? Entregar-mos-ás nas minhas mãos? E disse o SENHOR a Davi: Sobe, porque certamente entregarei os filisteus n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utrora, sendo Saul ainda rei sobre nós, eras tu o que saías e entravas com Israel; e também o SENHOR te disse: Tu apascentarás o meu povo de Israel, e tu serás príncipe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Davi a Baal-Perazim; e feriu-os ali Davi, e disse: Rompeu o SENHOR a meus inimigos diante de mim, como quem rompe águas. Por isso chamou o nome daquele lugar Baal-Peraz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ram ali os seus ídolos; e Davi e os seus homens os to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tornaram a subir, e se estenderam pelo vale de Ref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consultou ao SENHOR, o qual disse: Não subirás; mas rodeia por detrás deles, e virás a eles por defronte das amor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ouvindo tu um estrondo de marcha pelas copas das amoreiras, então te apressarás; porque o SENHOR saiu então diante de ti, a ferir o arraial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avi assim como o SENHOR lhe tinha ordenado; e feriu os filisteus desde Gibeá, até chegar a Ge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todos os anciãos de Israel vieram ao rei, em Hebrom; e o rei Davi fez com eles acordo em Hebrom, perante o SENHOR; e ungiram a Davi rei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era Davi quando começou a reinar; quarenta anos re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Hebrom reinou sobre Judá sete anos e seis meses, e em Jerusalém reinou trinta e três anos sobre todo o Israel 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o rei com os seus homens a Jerusalém, contra os jebuseus que habitavam naquela terra; e falaram a Davi, dizendo: Não entrarás aqui, pois os cegos e os coxos te repelirão, querendo dizer: Não entrará Davi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avi tomou a fortaleza de Sião; esta é a cidade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avi disse naquele dia: Qualquer que ferir aos jebuseus, suba ao canal e fira aos coxos e aos cegos, a quem a alma de Davi odeia. Por isso se diz: Nem cego nem coxo entrará nest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habitou Davi na fortaleza, e a chamou a cidade de Davi; e Davi foi edificando em redor, desde Milo para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51Z</dcterms:created>
  <dc:creator>Admin</dc:creator>
  <dc:description/>
  <dc:language>en-US</dc:language>
  <cp:lastModifiedBy>Admin</cp:lastModifiedBy>
  <dcterms:modified xsi:type="dcterms:W3CDTF">2008-07-30T23:52:51Z</dcterms:modified>
  <cp:revision>1</cp:revision>
  <dc:subject/>
  <dc:title>Slide 1</dc:title>
</cp:coreProperties>
</file>