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A05-9953-46E6-B439-152C1B11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A9A-29B7-47BF-93E0-904CE571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F42-C263-41F9-860D-483C7745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B63-94DB-4D0A-A28C-7A1E052E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D0A-EEA0-4EB6-A3EC-994F316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8EA-EA2A-4008-A181-6E9AC87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A8D-CD23-4FBF-BE81-A1BDE1E2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263-6949-444B-8517-ADFF65B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ED8-B2D6-4C7A-92A2-195DAD5A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458-ECB4-4237-BC1C-94E7E1C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9A8-8FDD-43D0-9D06-3B0017D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984-8967-4A8A-9A54-1D330A2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BD90-06A7-47E4-BCB5-ED9B6CA488B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onde vêm as guerras e pelejas entre vós? Porventura não vêm disto, a saber, dos vossos deleites, que nos vossos membros guerrei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umilhai-vos perante o Senhor, e ele vos exalt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não faleis mal uns dos outros. Quem fala mal de um irmão, e julga a seu irmão, fala mal da lei, e julga a lei; e, se tu julgas a lei, já não és observador da lei, mas jui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Há só um legislador que pode salvar e destruir. Tu, porém, quem és, que julgas a out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a agora vós, que dizeis: Hoje, ou amanhã, iremos a tal cidade, e lá passaremos um ano, e contrataremos, e ganharem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o-vos que não sabeis o que acontecerá amanhã. Porque, que é a vossa vida? É um vapor que aparece por um pouco, e depois se desvan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lugar do que devíeis dizer: Se o Senhor quiser, e se vivermos, faremos isto ou aqu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gora vos gloriais em vossas presunções; toda a glória tal como esta é malig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is, que sabe fazer o bem e não o faz, comete pec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biçais, e nada tendes; matais, e sois invejosos, e nada podeis alcançar; combateis e guerreais, e nada tendes, porque não ped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dis, e não recebeis, porque pedis mal, para o gastardes em vossos delei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dúlteros e adúlteras, não sabeis vós que a amizade do mundo é inimizade contra Deus? Portanto, qualquer que quiser ser amigo do mundo constitui-se inimig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 cuidais vós que em vão diz a Escritura: O Espírito que em nós habita tem ciú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, ele dá maior graça. Portanto diz: Deus resiste aos soberbos, mas dá graça aos humil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jeitai-vos, pois, a Deus, resisti ao diabo, e ele fugirá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hegai-vos a Deus, e ele se chegará a vós. Alimpai as mãos, pecadores; e, vós de duplo ânimo, purificai 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nti as vossas misérias, e lamentai e chorai; converta-se o vosso riso em pranto, e o vosso gozo em trist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10Z</dcterms:created>
  <dc:creator>Admin</dc:creator>
  <dc:description/>
  <dc:language>en-US</dc:language>
  <cp:lastModifiedBy>Admin</cp:lastModifiedBy>
  <dcterms:modified xsi:type="dcterms:W3CDTF">2008-07-31T00:29:10Z</dcterms:modified>
  <cp:revision>1</cp:revision>
  <dc:subject/>
  <dc:title>Slide 1</dc:title>
</cp:coreProperties>
</file>