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56A-1E9E-47EA-A993-003851A0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580-192A-4398-81FE-8742DA5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AAA-B43C-4264-9F2B-149E56EC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CCB-8902-4156-97DA-AC9FA94C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8F7-4193-4EC7-BC0C-16C82298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6C9-CCD3-4615-A006-24D5295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5E0-DE02-4B75-B322-3A7EC93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A19-F3B0-443F-A955-51F3F10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C2B-C440-434C-9FB2-4EF809F6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76D-05F8-43D1-8C82-C43A5C6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300-C853-45D0-8A10-077CB6C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599-4F7B-496F-9C61-63813F3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02E0-C367-4497-9E95-634DA91CBA9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, e assenta-te no pó, ó virgem filha de Babilônia; assenta-te no chão; já não há trono, ó filha dos caldeus, porque nunca mais serás chamada a tenra nem a del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fiaste na tua maldade e disseste: Ninguém me pode ver; a tua sabedoria e o teu conhecimento, isso te fez desviar, e disseste no teu coração: Eu sou, e fora de mim não há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sobre ti virá o mal, sem que saibas a sua origem, e tal destruição cairá sobre ti, sem que a possas evitar; e virá sobre ti de repente desolação que não poderás conh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te estar com os teus encantamentos, e com a multidão das tuas feitiçarias, em que trabalhaste desde a tua mocidade, a ver se podes tirar proveito, ou se porventura te podes fortal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saste-te na multidão dos teus conselhos; levantem-se pois agora os agoureiros dos céus, os que contemplavam os astros, os prognosticadores das luas novas, e salvem-te do que há de vir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erão como a pragana, o fogo os queimará; não poderão salvar a sua vida do poder das chamas; não haverá brasas, para se aquentar, nem fogo para se assentar junt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ão para contigo aqueles com quem trabalhaste, os teus negociantes desde a tua mocidade; cada qual irá vagueando pelo seu caminho; ninguém te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 mó, e mói a farinha; remove o teu véu, descalça os pés, descobre as pernas e passa os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vergonha se descobrirá, e ver-se-á o teu opróbrio; tomarei vingança, e não pouparei a homem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sso redentor cujo nome é o SENHOR dos Exércitos, é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a-te calada, e entra nas trevas, ó filha dos caldeus, porque nunca mais serás chamada senhora de re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 me agastei contra o meu povo, profanei a minha herança, e os entreguei na tua mão; porém não usaste com eles de misericórdia, e até sobre os velhos fizeste muito pesado o teu ju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ste: Eu serei senhora para sempre; até agora não te importaste com estas coisas, nem te lembraste do fim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e isto, tu que és dada a prazeres, que habitas tão segura, que dizes no teu coração: Eu o sou, e fora de mim não há outra; não ficarei viúva, nem conhecerei a perda de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mbas estas coisas virão sobre ti num momento, no mesmo dia, perda de filhos e viuvez; em toda a sua plenitude virão sobre ti, por causa da multidão das tuas feitiçarias, e da grande abundância dos teus muitos encant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29Z</dcterms:created>
  <dc:creator>Admin</dc:creator>
  <dc:description/>
  <dc:language>en-US</dc:language>
  <cp:lastModifiedBy>Admin</cp:lastModifiedBy>
  <dcterms:modified xsi:type="dcterms:W3CDTF">2008-07-30T23:56:29Z</dcterms:modified>
  <cp:revision>1</cp:revision>
  <dc:subject/>
  <dc:title>Slide 1</dc:title>
</cp:coreProperties>
</file>