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FD3-AFFE-43A0-B6C1-074526BB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711-D9CC-4802-ABED-2BED9306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A25-3748-4D66-94F0-5989AA20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ED5-608B-48B6-8802-8B1D4470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550-125B-4F80-8847-89D1751E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CE0-872D-47BD-A42F-12331827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264-A42D-4C14-8441-6E1A13F6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5DF-84CA-41A6-905D-9BEAD306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A74-939B-47DA-A5CF-ACCA61DA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5BE-B3CD-45D4-8DEC-3BF4CA33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DAC-E8A7-4E7C-834E-9B76678E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146-5BB0-479B-902A-8646C7E1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E567-3A28-4D88-88FB-B38E5BD7953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ENÇOOU Deus a Noé e a seus filhos, e disse-lhes: Frutificai e multiplicai-vos e enchei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toda a alma vivente, que convosco está, de aves, de gado, e de todo o animal da terra convosco; com todos que saíram da arca, até todo o animal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convosco estabeleço a minha aliança, que não será mais destruída toda a carne pelas águas do dilúvio, e que não haverá mais dilúvio, para destruir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eus: Este é o sinal da aliança que ponho entre mim e vós, e entre toda a alma vivente, que está convosco, por gerações eter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eu arco tenho posto nas nuvens; este será por sinal da aliança entre mim 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que, quando eu trouxer nuvens sobre a terra, aparecerá o arco nas nuv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me lembrarei da minha aliança, que está entre mim e vós, e entre toda a alma vivente de toda a carne; e as águas não se tornarão mais em dilúvio para destruir toda 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rá o arco nas nuvens, e eu o verei, para me lembrar da aliança eterna entre Deus e toda a alma vivente de toda a carne, que está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eus a Noé: Este é o sinal da aliança que tenho estabelecido entre mim e entre toda a carne, que está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filhos de Noé, que da arca saíram, foram Sem, Cão e Jafé; e Cão é o pai de Cana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s três foram os filhos de Noé; e destes se povoou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temor de vós e o pavor de vós virão sobre todo o animal da terra, e sobre toda a ave dos céus; tudo o que se move sobre a terra, e todos os peixes do mar, nas vossas mãos são entregu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eçou Noé a ser lavrador da terra, e plantou uma vi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bebeu do vinho, e embebedou-se; e descobriu-se no meio de sua 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Cão, o pai de Canaã, a nudez do seu pai, e fê-lo saber a ambos seus irmãos no lado de f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tomaram Sem e Jafé uma capa, e puseram-na sobre ambos os seus ombros, e indo virados para trás, cobriram a nudez do seu pai, e os seus rostos estavam virados, de maneira que não viram a nudez do s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pertou Noé do seu vinho, e soube o que seu filho menor lhe fiz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Maldito seja Canaã; servo dos servos seja aos seu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Bendito seja o SENHOR Deus de Sem; e seja-lhe Canaã por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argue Deus a Jafé, e habite nas tendas de Sem; e seja-lhe Canaã por ser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Noé, depois do dilúvio, trezentos e cinqüenta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odos os dias de Noé novecentos e cinqüenta anos, 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quanto se move, que é vivente, será para vosso mantimento; tudo vos tenho dado como a erva ver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carne, porém, com sua vida, isto é, com seu sangue, não com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requererei o vosso sangue, o sangue das vossas vidas; da mão de todo o animal o requererei; como também da mão do homem, e da mão do irmão de cada um requererei a vida d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derramar o sangue do homem, pelo homem o seu sangue será derramado; porque Deus fez o homem conforme a sua imag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 frutificai e multiplicai-vos; povoai abundantemente a terra, e multiplicai-vos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Deus a Noé e a seus filhos com el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, eis que estabeleço a minha aliança convosco e com a vossa descendência depois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38Z</dcterms:created>
  <dc:creator>Admin</dc:creator>
  <dc:description/>
  <dc:language>en-US</dc:language>
  <cp:lastModifiedBy>Admin</cp:lastModifiedBy>
  <dcterms:modified xsi:type="dcterms:W3CDTF">2008-07-30T23:37:38Z</dcterms:modified>
  <cp:revision>1</cp:revision>
  <dc:subject/>
  <dc:title>Slide 1</dc:title>
</cp:coreProperties>
</file>