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559-4487-43FF-80F8-9CE6AD37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A6A-FA03-4732-A1C6-F06EFC15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F0D8-157F-4C4E-9249-52F3C4EB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CB3-33EE-45B1-A74A-61589B0C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7B6-9D24-4A70-AAB6-3635AE1E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86F-F676-4475-BBF6-37732D0E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DC9-2C8B-430B-B688-D5C906E7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878-2E45-4C37-9886-0DC40625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133-D29C-41F9-BA41-496A3BF1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767-0655-4117-A1D5-21218A84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3BF-A49A-4D93-B6CD-32B4DC09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CB2-112D-461F-AB5B-59111A57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E125-0D24-4CAA-8EE0-B4A37E2AADF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ZE, ó minha alma, ao SENHOR, e tudo o que há em mim bendiga o seu santo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nos tratou segundo os nossos pecados, nem nos recompensou segundo as nossas iniqü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assim como o céu está elevado acima da terra, assim é grande a sua misericórdia para com os que o te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está longe o oriente do ocidente, assim afasta de nós as nossas transgress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um pai se compadece de seus filhos, assim o SENHOR se compadece daqueles que o te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le conhece a nossa estrutura; lembra-se de que somos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homem, os seus dias são como a erva, como a flor do campo assim flores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ndo por ela o vento, logo se vai, e o seu lugar não será mais conh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misericórdia do SENHOR é desde a eternidade e até a eternidade sobre aqueles que o temem, e a sua justiça sobre os filhos dos fi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aqueles que guardam a sua aliança, e sobre os que se lembram dos seus mandamentos para os cumpr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m estabelecido o seu trono nos céus, e o seu reino domina sobre t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ze, ó minha alma, ao SENHOR, e não te esqueças de nenhum de seus benefí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zei ao SENHOR, todos os seus anjos, vós que excedeis em força, que guardais os seus mandamentos, obedecendo à voz da s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zei ao SENHOR, todos os seus exércitos, vós ministros seus, que executais o seu beneplác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zei ao SENHOR, todas as suas obras, em todos os lugares do seu domínio; bendize, ó minha alma,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é o que perdoa todas as tuas iniqüidades, que sara todas as tuas enfermida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redime a tua vida da perdição; que te coroa de benignidade e de misericórd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farta a tua boca de bens, de sorte que a tua mocidade se renova como a da águ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faz justiça e juízo a todos os oprim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conhecidos os seus caminhos a Moisés, e os seus feitos a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sericordioso e piedoso é o SENHOR; longânimo e grande em benign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reprovará perpetuamente, nem para sempre reterá a su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16Z</dcterms:created>
  <dc:creator>Admin</dc:creator>
  <dc:description/>
  <dc:language>en-US</dc:language>
  <cp:lastModifiedBy>Admin</cp:lastModifiedBy>
  <dcterms:modified xsi:type="dcterms:W3CDTF">2008-07-31T00:27:16Z</dcterms:modified>
  <cp:revision>1</cp:revision>
  <dc:subject/>
  <dc:title>Slide 1</dc:title>
</cp:coreProperties>
</file>