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C11-AD55-44A1-98C9-8449FE22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6EA-FD33-4463-910C-65608C8F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3C9-EB17-438E-9496-BEC4A89C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F37-C1F8-40DC-BF33-6A7EC0EF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DDD-821E-4DC2-B294-5C53602F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F05-5601-4C7B-8E6E-2771E0DB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242-71A9-4648-B21F-9CDC543D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5CF-A1A7-4F44-9FFE-82DE1EBE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56C-C60F-49CA-9409-9B2EDB0C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EF0-B6E7-45A7-965C-759FB7C3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7E9-FD8F-4F8D-AD8A-2A07FFB6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D45-A678-4222-BAE2-573781C9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AF32-E486-415B-BA2B-A39E19C37D7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sétimo mês, ao vigésimo primeiro dia do mês, veio a palavra do SENHOR por intermédio do profeta Age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vigésimo quarto dia do mês nono, no segundo ano de Dario, veio a palavra do SENHOR por intermédio do profeta Age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Pergunta agora aos sacerdotes, acerca da lei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 alguém leva carne santa na orla das suas vestes, e com ela tocar no pão, ou no guisado, ou no vinho, ou no azeite, ou em outro qualquer mantimento, porventura ficará isto santificado? E os sacerdotes responderam: N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disse Ageu: Se alguém que for contaminado pelo contato com o corpo morto, tocar nalguma destas coisas, ficará ela imunda? E os sacerdotes responderam, dizendo: Ficará imun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respondeu Ageu, dizendo: Assim é este povo, e assim é esta nação diante de mim, diz o SENHOR; e assim é toda a obra das suas mãos; e tudo o que ali oferecem imundo é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gora, pois, eu vos rogo, considerai isto, desde este dia em diante, antes que se lançasse pedra sobre pedra no templo do SENHO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1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tes que sucedessem estas coisas, vinha alguém a um montão de grão, de vinte medidas, e havia somente dez; quando vinha ao lagar para tirar cinqüenta, havia somente vi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1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ri-vos com queimadura, e com ferrugem, e com saraiva, em toda a obra das vossas mãos, e não houve entre vós quem voltasse para mim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1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nsiderai, pois, vos rogo, desde este dia em diante; desde o vigésimo quarto dia do mês nono, desde o dia em que se fundou o templo do SENHOR, considerai essas cois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1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há ainda semente no celeiro? Além disso a videira, a figueira, a romeira, a oliveira, não têm dado os seus frutos; mas desde este dia vos abençoare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gora a Zorobabel, filho de Sealtiel, governador de Judá, e a Josué, filho de Jozadaque, sumo sacerdote, e ao restante do povo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veio a palavra do SENHOR segunda vez a Ageu, aos vinte e quatro dias do mês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2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ala a Zorobabel, governador de Judá, dizendo: Farei tremer os céus e a terr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2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transtornarei o trono dos reinos, e destruirei a força dos reinos dos gentios; e transtornarei os carros e os que neles andam; e os cavalos e os seus cavaleiros cairão, cada um pela espada do seu irmã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aquele dia, diz o SENHOR dos Exércitos, tomar-te-ei, ó Zorobabel, servo meu, filho de Sealtiel, diz o SENHOR, e far-te-ei como um anel de selar; porque te escolhi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Quem há entre vós que tendo ficado, viu esta casa na sua primeira glória? E como a vedes agora? Não é esta como nada diante dos vossos olhos, comparada com aquel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ois, esforça-te, Zorobabel, diz o SENHOR, e esforça-te, Josué, filho de Jozadaque, sumo sacerdote, e esforça-te, todo o povo da terra, diz o SENHOR, e trabalhai; porque eu sou convosco, diz o SENHOR dos Exército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gundo a palavra da aliança que fiz convosco, quando saístes do Egito, o meu Espírito permanece no meio de vós; não tema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que assim diz o SENHOR dos Exércitos: Ainda uma vez, daqui a pouco, farei tremer os céus e a terra, o mar e a terra sec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farei tremer todas as nações, e virão coisas preciosas de todas as nações, e encherei esta casa de glória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inha é a prata, e meu é o ouro, disse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2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 glória desta última casa será maior do que a da primeira, diz o SENHOR dos Exércitos, e neste lugar darei a paz, diz o SENHOR dos Exérc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1:43Z</dcterms:created>
  <dc:creator>Admin</dc:creator>
  <dc:description/>
  <dc:language>en-US</dc:language>
  <cp:lastModifiedBy>Admin</cp:lastModifiedBy>
  <dcterms:modified xsi:type="dcterms:W3CDTF">2008-07-30T23:21:43Z</dcterms:modified>
  <cp:revision>1</cp:revision>
  <dc:subject/>
  <dc:title>Slide 1</dc:title>
</cp:coreProperties>
</file>