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FD05-6005-4698-AEFA-2EC8FFB6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332C-91B8-4711-B1BF-C0137946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1EC5-4887-4AD2-B2B3-01F1219C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FE4-D22D-478D-AD75-5481C1B0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8CA3-DCB5-4A68-A05F-894A1ECE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D182-8BCC-4AC7-9045-ED7D6F95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AF17-52C1-4A52-B871-03672CD8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6FCB-C89E-46C0-AE3C-E79A698B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35D-B887-46E0-A3C6-982C398D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74FB-3EA2-4272-B3D6-182B4CF7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68C5-5AFC-49D8-90DB-AE1EF1C7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DCF1-D1E6-45B4-8CBA-013D0576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767D-52D4-4B8C-8A17-C8CCD888412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Arão, Nadabe e Abiú, tomaram cada um o seu incensário e puseram neles fogo, e colocaram incenso sobre ele, e ofereceram fogo estranho perante o SENHOR, o que não lhes orden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fazer diferença entre o santo e o profano e entre o imundo e o limp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ensinar aos filhos de Israel todos os estatutos que o SENHOR lhes tem falado por meio de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Moisés a Arão, e a Eleazar e a Itamar, seus filhos, que lhe ficaram: Tomai a oferta de alimentos, restante das ofertas queimadas do SENHOR, e comei-a sem levedura junto ao altar, porquanto é coisa santíssi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 comereis no lugar santo; porque isto é a tua porção, e a porção de teus filhos, das ofertas queimadas do SENHOR; porque assim me foi orde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peito da oferta movida e a espádua da oferta alçada, comereis em lugar limpo, tu, e teus filhos e tuas filhas contigo; porque foram dados por tua porção, e por porção de teus filhos, dos sacrifícios pacíficos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espádua da oferta alçada e o peito da oferta movida trarão com as ofertas queimadas de gordura, para oferecer por oferta movida perante o SENHOR; o que será por estatuto perpétuo, para ti e para teus filhos contigo, como o SENHOR tem orde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diligentemente buscou o bode da expiação, e eis que já fora queimado; portanto indignou-se grandemente contra Eleazar e contra Itamar, os filhos de Arão que ficaram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não comestes a expiação do pecado no lugar santo, pois é coisa santíssima e Deus a deu a vós, para que levásseis a iniqüidade da congregação, para fazer expiação por eles diante do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não se trouxe o seu sangue para dentro do santuário; certamente devíeis ter comido no santuário, como tenho orde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Arão a Moisés: Eis que hoje ofereceram a sua expiação pelo pecado e o seu holocausto perante o SENHOR, e tais coisas me sucederam; se hoje tivesse comido da oferta da expiação pelo pecado, seria isso porventura aceito aos olhos do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iu fogo de diante do SENHOR e os consumiu; e morreram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, ouvindo isto, deu-se por satis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Moisés a Arão: Isto é o que o SENHOR falou, dizendo: Serei santificado naqueles que se chegarem a mim, e serei glorificado diante de todo o povo. Porém Arão calou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chamou a Misael e a Elzafã, filhos de Uziel, tio de Arão, e disse-lhes: Chegai, levai a vossos irmãos de diante do santuário, para fora do arrai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hegaram, e os levaram nas suas túnicas para fora do arraial, como Moisés lhes diss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disse a Arão, e a seus filhos Eleazar e Itamar: Não descobrireis as vossas cabeças, nem rasgareis vossas vestes, para que não morrais, nem venha grande indignação sobre toda a congregação; mas vossos irmãos, toda a casa de Israel, lamentem es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saireis da porta da tenda da congregação, para que não morrais; porque está sobre vós o azeite da unção do SENHOR. E fizeram conforme à palavra de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Arã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bebereis vinho nem bebida forte, nem tu nem teus filhos contigo, quando entrardes na tenda da congregação, para que não morrais; estatuto perpétuo será isso entre as vossas geraçõ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8:34Z</dcterms:created>
  <dc:creator>Admin</dc:creator>
  <dc:description/>
  <dc:language>en-US</dc:language>
  <cp:lastModifiedBy>Admin</cp:lastModifiedBy>
  <dcterms:modified xsi:type="dcterms:W3CDTF">2008-07-31T00:08:34Z</dcterms:modified>
  <cp:revision>1</cp:revision>
  <dc:subject/>
  <dc:title>Slide 1</dc:title>
</cp:coreProperties>
</file>