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68FB-9B65-4551-8994-FFB947B22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AB5C-E058-4B09-9EE4-F135C9B6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3C66-366D-4E18-95D0-91C79A76D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A07F-3203-4878-BFB2-D0A55B7CC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6AB0-200A-4B03-B250-66D0187F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8D7F-AB21-4C7D-B4E9-59F0BAD6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CF34-57EC-42FC-A0A9-FEE00ED4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9DE3-51E6-40E4-9B71-BED168C8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C870-DF38-49D7-A3E0-56023776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C9B6-AF15-4194-8F63-C4D27FCB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5B30-B405-4549-8AC3-9C24F28D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0780-33C9-487B-BB02-88BAC8BC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27CD-878A-400B-B2D0-74D5ABB244D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Á ouvidos às minhas palavras, ó SENHOR, atende à minha medit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clara-os culpados, ó Deus; caiam por seus próprios conselhos; lança-os fora por causa da multidão de suas transgressões, pois se rebelaram contr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legrem-se todos os que confiam em ti; exultem eternamente, porquanto tu os defendes; e em ti se gloriem os que amam o t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tu, SENHOR, abençoarás ao justo; circundá-lo-ás da tua benevolência como de um escu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ende à voz do meu clamor, Rei meu e Deus meu, pois a ti or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a manhã ouvirás a minha voz, ó SENHOR; pela manhã apresentarei a ti a minha oração, e vigi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u não és um Deus que tenha prazer na iniqüidade, nem contigo habitará o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loucos não pararão à tua vista; odeias a todos os que praticam a mal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truirás aqueles que falam a mentira; o SENHOR aborrecerá o homem sanguinário e fraudul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u entrarei em tua casa pela grandeza da tua benignidade; e em teu temor me inclinarei para o teu santo temp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HOR, guia-me na tua justiça, por causa dos meus inimigos; endireita diante de mim o teu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almos 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ão há retidão na boca deles; as suas entranhas são verdadeiras maldades, a sua garganta é um sepulcro aberto; lisonjeiam com a sua lín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4:10Z</dcterms:created>
  <dc:creator>Admin</dc:creator>
  <dc:description/>
  <dc:language>en-US</dc:language>
  <cp:lastModifiedBy>Admin</cp:lastModifiedBy>
  <dcterms:modified xsi:type="dcterms:W3CDTF">2008-07-31T00:24:10Z</dcterms:modified>
  <cp:revision>1</cp:revision>
  <dc:subject/>
  <dc:title>Slide 1</dc:title>
</cp:coreProperties>
</file>