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E0F-6C8A-4766-9ABC-3C437726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570-E3AC-4F7C-9BDA-24ED09F2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C2D-F4B6-49DD-8CE1-CBAA2487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51DD-FFEF-4834-82C4-25F41131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996-3E3A-46B3-8F84-84B0BFCB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7B6-A84E-472D-AF91-8337CE20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40B-74BF-488D-A808-EC6DEA53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752-C647-4EB1-82E0-8C78CB3C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927-8D16-4439-A87A-06357236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31F0-35D2-4587-91DE-8860C509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47B-5FF9-4317-8D2B-E75F711A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5746-3502-495A-8250-BBEB9104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631C-DC11-4829-9C3A-B8DC16DBAC4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Zofar, o naamatita, e diss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le passar, aprisionar, ou chamar a juízo, quem o impedi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 conhece aos homens vãos, e vê o vício; e não o terá em considera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homem vão é falto de entendimento; sim, o homem nasce como a cria do jumento mont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tu preparares o teu coração, e estenderes as tuas mãos para el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há iniqüidade na tua mão, lança-a para longe de ti e não deixes habitar a injustiça nas tuas te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ntão o teu rosto levantarás sem mácula; e estarás firme, e não tem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e esquecerás do cansaço, e lembrar-te-ás dele como das águas que já pass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ua vida mais clara se levantará do que o meio dia; ainda que haja trevas, será como a 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rás confiança, porque haverá esperança; olharás em volta e repousarás seg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itar-te-ás, e ninguém te espantará; muitos suplicarão o teu fa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se dará resposta à multidão de palavras? E o homem falador será justific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olhos dos ímpios desfalecerão, e perecerá o seu refúgio; e a sua esperança será o expirar d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s tuas mentiras se hão de calar os homens? E zombarás tu sem que ninguém te envergonh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dizes: A minha doutrina é pura, e limpo sou aos t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a verdade, quem dera que Deus falasse e abrisse os seus lábios contra ti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fizesse saber os segredos da sabedoria, que é multíplice em eficácia; sabe, pois, que Deus exige de ti menos do que merece a tu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alcançarás os caminhos de Deus, ou chegarás à perfeição do Todo-Poderos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s alturas dos céus é a sua sabedoria; que poderás tu fazer? É mais profunda do que o inferno, que poderás tu sab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is comprida é a sua medida do que a terra, e mais larga do que 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0:52Z</dcterms:created>
  <dc:creator>Admin</dc:creator>
  <dc:description/>
  <dc:language>en-US</dc:language>
  <cp:lastModifiedBy>Admin</cp:lastModifiedBy>
  <dcterms:modified xsi:type="dcterms:W3CDTF">2008-07-31T00:00:52Z</dcterms:modified>
  <cp:revision>1</cp:revision>
  <dc:subject/>
  <dc:title>Slide 1</dc:title>
</cp:coreProperties>
</file>