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58E-F15C-4D2D-BA6F-5634B9DE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9CB-D0DC-485A-8258-8A3A9D3C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747-F0BB-4111-9B4F-90DC3EBD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99C-ACC7-4639-94B6-931BD566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98D5-C6F8-4E06-A5C5-C7DB53EB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DFB-DEF1-4FE0-B0DF-7C291A7C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51B-5ED8-4B6F-93D8-696D5C3F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FCF-8164-4020-896F-97E5589F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89F-3828-499E-9C39-2424924F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025-81E9-456B-83D4-AB3B841B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1D5-ACDA-475D-B348-10B26149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164-BF3F-4D41-8997-877C9340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F1F0-0762-4F75-AA46-01156A0812B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viramo-nos, e caminhamos ao deserto, caminho do Mar Vermelho, como o SENHOR me tinha dito, e muitos dias rodeamos o monte Se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Os emins dantes habitaram nela; um povo grande e numeroso, e alto como os gig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stes foram considerados gigantes como os anaquins; e os moabitas os chamavam em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trora os horeus também habitaram em Seir; porém os filhos de Esaú os lançaram fora, e os destruíram de diante de si, e habitaram no seu lugar, assim como Israel fez à terra da sua herança, que o SENHOR lhes tinha dado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i-vos agora, e passai o ribeiro de Zerede. Assim passamos o ribeiro de Zer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ias que caminhamos, desde Cades-Barnéia até que passamos o ribeiro de Zerede, foram trinta e oito anos, até que toda aquela geração dos homens de guerra se consumiu do meio do arraial, como o SENHOR lhes jur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foi contra eles a mão do SENHOR, para os destruir do meio do arraial até os haver consum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sendo já consumidos todos os homens de guerra, pela morte, do meio do pov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me falo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je passarás a Ar, pelos termos de Moab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ando até defronte dos filhos de Amom, não os molestes, e com eles não contendas; porque da terra dos filhos de Amom não te darei herança, porquanto aos filhos de Ló a tenho dado por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me falo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Também essa foi considerada terra de gigantes; antes nela habitavam gigantes, e os amonitas os chamavam zamzumin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povo grande, e numeroso, e alto, como os gigantes; e o SENHOR os destruiu de diante dos amonitas, e estes os lançaram fora, e habitaram no seu lug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fez com os filhos de Esaú, que habitavam em Seir, de diante dos quais destruiu os horeus, e eles os lançaram fora, e habitaram no lugar deles até este d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caftorins, que saíram de Caftor, destruíram os aveus, que habitavam em Cazerim até Gaza, e habitaram no lugar deles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i-vos, parti e passai o ribeiro de Arnom; eis aqui na tua mão tenho dado a Siom, amorreu, rei de Hesbom, e a sua terra; começa a possuí-la, e contende com eles em pel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ste dia começarei a pôr um terror e um medo de ti diante dos povos que estão debaixo de todo o céu; os que ouvirem a tua fama tremerão diante de ti e se angusti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ndei mensageiros desde o deserto de Quedemote a Siom, rei de Hesbom, com palavras de paz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-me passar pela tua terra; somente pela estrada irei; não me desviarei para a direita nem para a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omida, para que eu coma, vender-me-ás por dinheiro, e dar-me-ás por dinheiro a água para que eu beba; tão-somente deixa-me passar a pé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fizeram comigo os filhos de Esaú, que habitam em Seir, e os moabitas que habitam em Ar; até que eu passe o Jordão, à terra que o SENHOR nosso Deus nos há de 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es rodeado bastante esta montanha; virai-vos para 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iom, rei de Hesbom, não nos quis deixar passar por sua terra, porquanto o SENHOR teu Deus endurecera o seu espírito, e fizera obstinado o seu coração para to dar na tua mão, como hoje se v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me disse: Eis aqui, tenho começado a dar-te Siom, e a sua terra; começa, pois, a possuí-la para que herdes 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iom saiu-nos ao encontro, ele e todo o seu povo, à peleja, em Jaz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nosso Deus no-lo entregou, e o ferimos a ele, e a seus filhos, e a todo 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tempo tomamos todas as suas cidades, e cada uma destruímos com os seus homens, mulheres e crianças; não deixamos a ningu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mente tomamos por presa o gado para nós, e o despojo das cidades que tínhamos to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Aroer, que está à margem do ribeiro de Arnom, e a cidade que está junto ao ribeiro, até Gileade, nenhuma cidade houve que de nós escapasse; tudo isto o SENHOR nosso Deus nos entreg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mente à terra dos filhos de Amom não chegastes; nem a toda a margem do ribeiro de Jaboque, nem às cidades da montanha, nem a coisa alguma que nos proibira o SENHOR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á ordem ao povo, dizendo: Passareis pelos termos de vossos irmãos, os filhos de Esaú, que habitam em Seir; e eles terão medo de vós; porém guardai-vos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envolvais com eles, porque não vos darei da sua terra nem ainda a pisada da planta de um pé; porquanto a Esaú tenho dado o monte Seir por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prareis deles, por dinheiro, comida para comerdes; e também água para beber deles comprareis por dinh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 SENHOR teu Deus te abençoou em toda a obra das tuas mãos; ele sabe que andas por este grande deserto; estes quarenta anos o SENHOR teu Deus esteve contigo, coisa nenhuma te fal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ndo, pois, por nossos irmãos, os filhos de Esaú, que habitavam em Seir, desde o caminho da planície de Elate e de Eziom-Geber, nos viramos e passamos o caminho do deserto de Mo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me disse: Não molestes aos de Moabe, e não contendas com eles em peleja, porque não te darei herança da sua terra; porquanto tenho dado a Ar por herança aos filhos de L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7:10Z</dcterms:created>
  <dc:creator>Admin</dc:creator>
  <dc:description/>
  <dc:language>en-US</dc:language>
  <cp:lastModifiedBy>Admin</cp:lastModifiedBy>
  <dcterms:modified xsi:type="dcterms:W3CDTF">2008-07-30T23:27:10Z</dcterms:modified>
  <cp:revision>1</cp:revision>
  <dc:subject/>
  <dc:title>Slide 1</dc:title>
</cp:coreProperties>
</file>