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BDB-CB56-443A-A095-5678BB9D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12B-4563-41C0-9577-610BA38D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F84-F33B-4671-94CA-FCAB96CA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63A-8483-4904-8DA3-B8DDBC92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472-E74C-4B12-9B13-D266DBB6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223-FD8B-4A4E-8F6C-193E151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24F-2343-4ED6-BE55-D9F0D47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E33-5F2C-4F77-A109-331171E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F0D-B51C-448B-8417-D1481D4C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4E8-954E-4B7C-A823-7C014C02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F89-B925-42BA-9B34-1C37F0E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6EF-4776-4B6D-8C16-BE62B40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ED6-8A21-49E4-AB7C-799045BE69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isto que, tendo Absalão, filho de Davi, uma irmã formosa, cujo nome era Tamar, Amnom, filho de Davi, amou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mnom a Tamar: Traze a comida ao quarto, e comerei da tua mão. E tomou Tamar os bolos que fizera, e levou-os a Amnom, seu irmão, no qu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ndo-lhos, para que comesse, pegou dela, e disse-lhe: Vem, deita-te comigo, minh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a lhe disse: Não, meu irmão, não me forces, porque não se faz assim em Israel; não faças tal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onde iria eu com a minha vergonha? E tu serias como um dos loucos de Israel. Agora, pois, peço-te que fales ao rei, porque não me negará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não quis dar ouvidos à sua voz; antes, sendo mais forte do que ela, a forçou, e se deitou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mnom sentiu grande aversão por ela, pois maior era o ódio que sentiu por ela do que o amor com que a amara. E disse-lhe Amnom: Levanta-te, e vai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lhe disse: Não há razão de me despedires assim; maior seria este mal do que o outro que já me tens feito. Porém não lhe quis dar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 seu moço que o servia, e disse: Ponha fora a esta, e fecha a porta após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ia ela uma roupa de muitas cores (porque assim se vestiam as filhas virgens dos reis); e seu servo a pôs para fora, e fechou a porta após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amar tomou cinza sobre a sua cabeça, e a roupa de muitas cores que trazia rasgou; e pôs as mãos sobre a cabeça, e foi andando e clam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gustiou-se Amnom, até adoecer, por Tamar, sua irmã, porque era virgem; e parecia aos olhos de Amnom dificultoso fazer-lhe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salão, seu irmão, lhe disse: Esteve Amnom, teu irmão, contigo? Ora, pois, minha irmã, cala-te; é teu irmão. Não se angustie o teu coração por isto. Assim ficou Tamar, e esteve solitária em casa de Absalão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o rei Davi todas estas coisas, muito se lhe acendeu 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bsalão não falou com Amnom, nem mal nem bem; porque Absalão odiava a Amnom, por ter forçado a Tamar su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ssados dois anos inteiros, Absalão tinha tosquiadores em Baal-Hazor, que está junto a Efraim; e convidou Absalão a todos os filh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bsalão ao rei, e disse: Eis que teu servo tem tosquiadores; peço que o rei e os seus servos venham com o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, porém, disse a Absalão: Não, filho meu, não vamos todos juntos, para não te sermos pesados. E instou com ele; porém não quis ir, mas o aben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salão: Quando não, deixa ir conosco Amnom, meu irmão. Porém o rei disse: Para que iria cont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stando Absalão com ele, deixou ir com ele a Amnom, e a todos os filh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salão deu ordem aos seus servos, dizendo: Tomai sentido; quando o coração de Amnom estiver alegre do vinho, e eu vos disser: Feri a Amnom, então o matareis; não temais: porque porventura não sou eu quem vo-lo ordenei? Esforçai-vos, e sede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e Absalão fizeram a Amnom como Absalão lho havia ordenado. Então todos os filhos do rei se levantaram, e montaram cada um no seu mulo, e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, porém, Amnom um amigo, cujo nome era Jonadabe, filho de Siméia, irmão de Davi; e era Jonadabe homem mui sag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eles ainda no caminho, chegou a nova a Davi, dizendo-se: Absalão feriu a todos os filhos do rei, e nenhum deles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se levantou, e rasgou as suas vestes, e se lançou por terra; da mesma maneira todos os seus servos estavam com vestes ro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onadabe, filho de Siméia, irmão de Davi, respondeu, e disse: Não diga o meu senhor que mataram a todos os moços filhos do rei, porque só morreu Amnom; porque assim tinha resolvido fazer Absalão, desde o dia em que forçou a Tamar su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lhe ponha, pois, agora no coração do rei meu senhor tal coisa, dizendo: Morreram todos os filhos do rei; porque só morreu Amn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salão fugiu; e o moço que estava de guarda, levantou os seus olhos, e olhou; e eis que muito povo vinha pelo caminho por detrás dele, pelo lado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nadabe ao rei: Eis aqui vêm os filhos do rei; conforme à palavra de teu servo, assim suce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acabou de falar, os filhos do rei vieram, e levantaram a sua voz, e choraram; e também o rei e todos os seus servos choraram amarg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bsalão fugiu, e foi a Talmai, filho de Amiur, rei de Gesur. E Davi pranteava por seu filho todos aquel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bsalão fugiu, e foi para Gesur; esteve ali trê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nha o rei Davi saudades de Absalão; porque já se tinha consolado acerca da morte de Amn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lhe disse: Por que tu de dia em dia tanto emagreces, sendo filho do rei? Não mo farás saber a mim? Então lhe disse Amnom: Amo a Tamar, irmã de Absalão, m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nadabe lhe disse: Deita-te na tua cama, e finge-te doente; e, quando teu pai te vier visitar, dize-lhe: Peço-te que minha irmã Tamar venha, e me dê de comer pão, e prepare a comida diante dos meus olhos, para que eu a veja e coma d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tou-se, pois, Amnom, e fingiu-se doente; e, vindo o rei visitá-lo, disse Amnom, ao rei: Peço-te que minha irmã Tamar venha, e prepare dois bolos diante dos meus olhos, para que eu coma de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então Davi à casa, a Tamar, dizendo: Vai à casa de Amnom, teu irmão, e faze-lhe alguma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amar à casa de Amnom, seu irmão (ele porém estava deitado), e tomou massa, e a amassou, e fez bolos diante dos seus olhos, e cozeu os b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 frigideira, e os tirou diante dele; porém ele recusou comer. E disse Amnom: Fazei retirar a todos da minha presença. E todos se retirar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17Z</dcterms:created>
  <dc:creator>Admin</dc:creator>
  <dc:description/>
  <dc:language>en-US</dc:language>
  <cp:lastModifiedBy>Admin</cp:lastModifiedBy>
  <dcterms:modified xsi:type="dcterms:W3CDTF">2008-07-30T23:53:17Z</dcterms:modified>
  <cp:revision>1</cp:revision>
  <dc:subject/>
  <dc:title>Slide 1</dc:title>
</cp:coreProperties>
</file>