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FC4-516C-495F-9FAB-F81A5544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6A9-DF86-4CF2-8B0A-A1B30B06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AEF-163E-43C3-A713-054E18EF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5A0-FB00-461F-A278-68E83026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3FB-8362-4C10-82EA-610C7E11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C22-1BBE-4B4F-839C-67129FE9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651-AB6E-4950-A4AC-E80AE238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ECB-24E8-46FA-9489-CBAA2A76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7ED-AF8C-45E2-9B37-B9A95C0F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8BA-7679-41D4-903C-930F54CF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B7B-A0A7-4205-84A3-6C2A400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4BB-05A2-46BB-A9C7-4234ED12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1EF4-8D02-49F9-9204-DB38680266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écimo oitavo ano do rei Jeroboão, filho de Nebate, Abias começou a reinar sobr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renta e um anos reinou em Jerusalém; e era o nome de sua mãe Maaca, filha de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a fez o que era reto aos olhos do SENHOR, como Davi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rou da terra os sodomitas, e removeu todos os ídolos que seus pais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a Maaca, sua mãe, removeu para que não fosse rainha, porquanto tinha feito um horrível ídolo a Asera; também Asa desfez o seu ídolo horrível, e o queimou junto ao ribeiro de Ced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ltos, porém, não foram tirados; todavia foi o coração de Asa reto para com o SENHOR todos os s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à casa do SENHOR trouxe as coisas consagradas por seu pai, e as coisas que ele mesmo consagrara; prata, ouro e va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guerra entre Asa e Baasa, rei de Israel, todos os s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Baasa, rei de Israel, subiu contra Judá, e edificou a Ramá, para que a ninguém fosse permitido sair, nem entrar a ter com Asa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sa tomou toda a prata e ouro que ficaram nos tesouros da casa do SENHOR, e os tesouros da casa do rei, e os entregou nas mãos de seus servos; e o rei Asa os enviou a Ben-Hadade, filho de Tabrimom, filho de Heziom, rei da Síria, que habitava em D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ja acordo entre mim e ti, como houve entre meu pai e teu pai; eis que te mando um presente, prata e ouro; vai, e anula o teu acordo com Baasa, rei de Israel, para que se retire de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inou três anos em Jerusalém; e era o nome de sua mãe Maaca, filha de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n-Hadade deu ouvidos ao rei Asa, e enviou os capitães dos seus exércitos contra as cidades de Israel; e feriu a Ijom, e a Dã, e a Abel-Bete-Maaca, e a toda a Quinerete, com toda a terra de Naft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-o Baasa, deixou de edificar a Ramá; e ficou em Tir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Asa fez apregoar por toda a Judá que todos, sem exceção, trouxessem as pedras de Ramá, e a sua madeira com que Baasa edificara; e com elas edificou o rei Asa a Geba de Benjamim e a Mizp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e todos os atos de Asa, e a todo o seu poder, e a tudo quanto fez, e as cidades que edificou, porventura não está escrito no livro das crônicas dos reis de Judá? Porém, no tempo da sua velhice, padeceu d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a dormiu com seus pais, e foi sepultado com seus pais na cidade de Davi, seu pai; e Jeosafá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dabe, filho de Jeroboão, começou a reinar sobre Israel no ano segundo de Asa, rei de Judá; e reinou sobre Israel doi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; e andou nos caminhos de seu pai, e no seu pecado com que seu pai fizera pec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pirou contra ele Baasa, filho de Aías, da casa de Issacar, e feriu-o Baasa em Gibetom, que era dos filisteus, quando Nadabe e todo o Israel cercavam a Gibet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tou-o, pois, Baasa no ano terceiro de Asa, rei de Judá, e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reinando ele, feriu a toda a casa de Jeroboão; nada de Jeroboão deixou que tivesse fôlego, até o destruir, conforme à palavra do SENHOR que dissera pelo ministério de seu servo Aías, o silon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ou em todos os pecados que seu pai tinha cometido antes dele; e seu coração não foi perfeito para com o SENHOR seu Deus como o coração de Davi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os pecados que Jeroboão cometera, e fez pecar a Israel, e por causa da provocação com que irritara a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Nadabe, e a tudo quanto fez, porventura não está escrito no livro das crônicas dos rei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guerra entre Asa e Baasa, rei de Israel, todos os s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terceiro de Asa, rei de Judá, Baasa, filho de Aías, começou a reinar sobre todo o Israel em Tirza, e reinou vinte e quatro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; e andou no caminho de Jeroboão, e no pecado com que ele tinha feito Israel pe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or amor de Davi o SENHOR seu Deus lhe deu uma lâmpada em Jerusalém, levantando a seu filho depois dele, e confirmando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Davi tinha feito o que era reto aos olhos do SENHOR, e não se tinha desviado de tudo quanto lhe ordenara em todos os dias da sua vida, senão só no negócio de Urias, o he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guerra entre Roboão e Jeroboão todos os dias d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Abias, e a tudo quanto fez, porventura não está escrito no livro das crônicas dos reis de Judá? Também houve guerra entre Abias e Jerob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as dormiu com seus pais, e o sepultaram na cidade de Davi; e Asa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vigésimo ano de Jeroboão, rei de Israel, começou Asa a reinar em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42Z</dcterms:created>
  <dc:creator>Admin</dc:creator>
  <dc:description/>
  <dc:language>en-US</dc:language>
  <cp:lastModifiedBy>Admin</cp:lastModifiedBy>
  <dcterms:modified xsi:type="dcterms:W3CDTF">2008-07-30T23:45:42Z</dcterms:modified>
  <cp:revision>1</cp:revision>
  <dc:subject/>
  <dc:title>Slide 1</dc:title>
</cp:coreProperties>
</file>