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DD2-CB61-4CFC-80F1-A31B4F26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AC1-1647-4F6F-936C-45E5018C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E91E-33BD-4BAD-B76F-3A2B5075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46E-FC89-4BDF-93C5-C4DB12B2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773-63C1-46D5-864E-326AAD30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1B8-958C-4850-AB3B-25C21728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AB59-4CC5-4F5D-8762-6C48C30D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ABBC-D1ED-40FB-A1E0-6FC79F96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97C-6207-46AD-B954-04639768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313-129B-49F3-BDC6-D09449E1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91A3-A9BD-43A6-A650-D9793549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034-9962-43A8-A764-A1E037A6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C53B-9E94-454C-82A9-EC216B8BB49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1: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 segundo ano do rei Dario, no sexto mês, no primeiro dia do mês, veio a palavra do SENHOR, por intermédio do profeta Ageu, a Zorobabel, filho de Sealtiel, governador de Judá, e a Josué, filho de Jozadaque, o sumo sacerdote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1: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 isso retém os céus sobre vós o orvalho, e a terra detém os seus fr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1: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7520" y="1523880"/>
            <a:ext cx="835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mandei vir a seca sobre a terra, e sobre os montes, e sobre o trigo, e sobre o mosto, e sobre o azeite, e sobre o que a terra produz; como também sobre os homens, e sobre o gado, e sobre todo o trabalho das mã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1: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Zorobabel, filho de Sealtiel, e Josué, filho de Jozadaque, sumo sacerdote, e todo o restante do povo obedeceram à voz do SENHOR seu Deus, e às palavras do profeta Ageu, assim como o SENHOR seu Deus o enviara; e temeu o povo diante d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1:1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 Ageu, o mensageiro do SENHOR, falou ao povo conforme a mensagem do SENHOR, dizendo: Eu sou convosco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1:1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1523880"/>
            <a:ext cx="835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 o SENHOR suscitou o espírito de Zorobabel, filho de Sealtiel, governador de Judá, e o espírito de Josué, filho de Jozadaque, sumo sacerdote, e o espírito de todo o restante do povo, e eles vieram, e fizeram a obra na casa do SENHOR dos Exércitos, seu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1: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1523880"/>
            <a:ext cx="835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o vigésimo quarto dia do sexto mês, no segundo ano do rei Dari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1: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23880"/>
            <a:ext cx="835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fala o SENHOR dos Exércitos, dizendo: Este povo diz: Não veio ainda o tempo, o tempo em que a casa do SENHOR deve ser edific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1: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Veio, pois, a palavra do SENHOR, por intermédio do profeta Ageu, dizend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1: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520" y="1523880"/>
            <a:ext cx="835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rventura é para vós tempo de habitardes nas vossas casas forradas, enquanto esta casa fica desert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1: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ra, pois, assim diz o SENHOR dos Exércitos: Considerai os vosso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1: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520" y="1523880"/>
            <a:ext cx="835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emeais muito, e recolheis pouco; comeis, porém não vos fartais; bebeis, porém não vos saciais; vesti-vos, porém ninguém se aquece; e o que recebe salário, recebe-o num saco fur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1: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ssim diz o SENHOR dos Exércitos: Considerai os vossos caminh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1: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520" y="1523880"/>
            <a:ext cx="835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i ao monte, e trazei madeira, e edificai a casa; e dela me agradarei, e serei glorificado, diz o SENH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7520" y="343080"/>
            <a:ext cx="863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 u="sng">
                <a:solidFill>
                  <a:srgbClr val="ffffff"/>
                </a:solidFill>
                <a:uFillTx/>
                <a:latin typeface="Arial"/>
              </a:rPr>
              <a:t>Ageu 1: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7520" y="1523880"/>
            <a:ext cx="8356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sperastes o muito, mas eis que veio a ser pouco; e esse pouco, quando o trouxestes para casa, eu dissipei com um sopro. Por que causa? disse o SENHOR dos Exércitos. Por causa da minha casa, que está deserta, enquanto cada um de vós corre à sua própria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3:21:39Z</dcterms:created>
  <dc:creator>Admin</dc:creator>
  <dc:description/>
  <dc:language>en-US</dc:language>
  <cp:lastModifiedBy>Admin</cp:lastModifiedBy>
  <dcterms:modified xsi:type="dcterms:W3CDTF">2008-07-30T23:21:39Z</dcterms:modified>
  <cp:revision>1</cp:revision>
  <dc:subject/>
  <dc:title>Slide 1</dc:title>
</cp:coreProperties>
</file>