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B28-5D9C-4847-8B3F-303E2C6F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E78-37F1-42A9-922F-E805EEB2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8A6-711A-4E23-A019-38DBFFDE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0B1-F032-4C07-9E97-A94B7B25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420-3DC2-4F40-BF90-7E5563EB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788-4154-4FFF-B0A8-43E3C73F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FE3-352F-42B0-873F-A94D7C80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E7E-0AAB-4345-9D86-C2CD2619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3B9-2004-4490-AD50-C5899918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F62-496F-4B4B-AEFC-DE04271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908-9082-4084-BA0C-38D82792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ECE-49EE-4A75-88D4-99486360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0686-99C6-46BD-9DEB-48F9FD2A763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entrei no meu jardim, minha irmã, minha esposa; colhi a minha mirra com a minha especiaria, comi o meu favo com o meu mel, bebi o meu vinho com o meu leite; comei, amigos, bebei abundantemente, ó am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amado é branco e rosado; ele é o primeiro entre dez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cabeça é como o ouro mais apurado, os seus cabelos são crespos, pretos como o co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olhos são como os das pombas junto às correntes das águas, lavados em leite, postos em eng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faces são como um canteiro de bálsamo, como flores perfumadas; os seus lábios são como lírios gotejando mirra com doce aro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mãos são como anéis de ouro engastados de berilo; o seu ventre como alvo marfim, coberto de saf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pernas como colunas de mármore colocadas sobre bases de ouro puro; o seu aspecto como o Líbano, excelente como os ced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boca é muitíssimo suave, sim, ele é totalmente desejável. Tal é o meu amado, e tal o meu amigo, ó filha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ormia, mas o meu coração velava; e eis a voz do meu amado que está batendo: abre-me, minha irmã, meu amor, pomba minha, imaculada minha, porque a minha cabeça está cheia de orvalho, os meus cabelos das gotas d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despi a minha roupa; como as tornarei a vestir? Já lavei os meus pés; como os tornarei a suj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amado pôs a sua mão pela fresta da porta, e as minhas entranhas estremeceram por amor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me levantei para abrir ao meu amado, e as minhas mãos gotejavam mirra, e os meus dedos mirra com doce aroma, sobre as aldravas da fechad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abri ao meu amado, mas já o meu amado tinha se retirado, e tinha ido; a minha alma desfaleceu quando ele falou; busquei-o e não o achei, chamei-o e não me respon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haram-me os guardas que rondavam pela cidade; espancaram-me, feriram-me, tiraram-me o manto os guardas dos m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juro-vos, ó filhas de Jerusalém, que, se achardes o meu amado, lhe digais que estou enferma de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é o teu amado mais do que outro amado, ó tu, a mais formosa entre as mulheres? Que é o teu amado mais do que outro amado, que tanto nos conju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48Z</dcterms:created>
  <dc:creator>Admin</dc:creator>
  <dc:description/>
  <dc:language>en-US</dc:language>
  <cp:lastModifiedBy>Admin</cp:lastModifiedBy>
  <dcterms:modified xsi:type="dcterms:W3CDTF">2008-07-30T23:25:48Z</dcterms:modified>
  <cp:revision>1</cp:revision>
  <dc:subject/>
  <dc:title>Slide 1</dc:title>
</cp:coreProperties>
</file>