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D83-DE3D-438B-97FE-440E09F3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26B-8F35-4735-9020-0F05AB99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2DA-6634-4D4C-B7A7-58AC4F9F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CF9-E256-46AA-8BAE-26F5B450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8B6-7375-4005-91B1-9E62BECE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C50-D50B-42D8-BD9F-030F0AC4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8A7-A639-4E5C-BCC2-9E6E5C7E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EFD-9885-4D90-B666-D266BD72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585-3DE0-482E-A433-CB97B7B3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ED9-D16D-4276-A069-394F5EA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F8A-2B68-4FB4-91EE-475B596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6D6-198D-489B-99B2-9BE8491E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1A96-2E93-49F3-8000-01F8305077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ndo Jesus concluiu todos estes discursos, disse aos seus discípul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conhecendo isto, disse-lhes: Por que afligis esta mulher? pois praticou uma boa ação para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sempre tendes convosco os pobres, mas a mim não me haveis de ter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derramando ela este ungüento sobre o meu corpo, fê-lo preparando-me para o meu sepult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, onde quer que este evangelho for pregado em todo o mundo, também será referido o que ela fez, para memória s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um dos doze, chamado Judas Iscariotes, foi ter com os príncipes dos sacerdo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Que me quereis dar, e eu vo-lo entregarei? E eles lhe pesaram trinta moedas de pra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de então buscava oportunidade para o entre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o primeiro dia da festa dos pães ázimos, chegaram os discípulos junto de Jesus, dizendo: Onde queres que façamos os preparativos para comeres a pásco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Ide à cidade, a um certo homem, e dizei-lhe: O Mestre diz: O meu tempo está próximo; em tua casa celebrarei a páscoa com os meus discíp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scípulos fizeram como Jesus lhes ordenara, e prepararam a pásc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sabeis que daqui a dois dias é a páscoa; e o Filho do homem será entregue para ser cruc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da a tarde, assentou-se à mesa com os do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endo eles, disse: Em verdade vos digo que um de vós me há de tr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entristecendo-se muito, começaram cada um a dizer-lhe: Porventura sou eu, SENH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respondendo, disse: O que põe comigo a mão no prato, esse me há de tr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o Filho do homem vai, como acerca dele está escrito, mas ai daquele homem por quem o Filho do homem é traído! Bom seria para esse homem se não houvera nas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Judas, o que o traía, disse: Porventura sou eu, Rabi? Ele disse: Tu o diss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omiam, Jesus tomou o pão, e abençoando-o, o partiu, e o deu aos discípulos, e disse: Tomai, comei, isto é o meu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o cálice, e dando graças, deu-lho, dizendo: Bebei dele to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sto é o meu sangue, o sangue do novo testamento, que é derramado por muitos, para remissão d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go-vos que, desde agora, não beberei deste fruto da vide, até aquele dia em que o beba novo convosco no reino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s príncipes dos sacerdotes, e os escribas, e os anciãos do povo reuniram-se na sala do sumo sacerdote, o qual se chamava Caif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cantado o hino, saíram para o Monte das Oliv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 lhes disse: Todos vós esta noite vos escandalizareis em mim; porque está escrito: Ferirei o pastor, e as ovelhas do rebanho se dispers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epois de eu ressuscitar, irei adiante de vós para 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edro, respondendo, disse-lhe: Ainda que todos se escandalizem em ti, eu nunca me escandaliz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Em verdade te digo que, nesta mesma noite, antes que o galo cante, três vezes me neg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Pedro: Ainda que me seja mister morrer contigo, não te negarei. E todos os discípulos disseram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ou Jesus com eles a um lugar chamado Getsêmani, e disse a seus discípulos: Assentai-vos aqui, enquanto vou além o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do consigo Pedro e os dois filhos de Zebedeu, começou a entristecer-se e a angustiar-se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sse: A minha alma está cheia de tristeza até a morte; ficai aqui, e velai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um pouco mais para diante, prostrou-se sobre o seu rosto, orando e dizendo: Meu Pai, se é possível, passe de mim este cálice; todavia, não seja como eu quero, mas como tu qu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ultaram-se mutuamente para prenderem Jesus com dolo e o mat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 para os seus discípulos, achou-os adormecidos; e disse a Pedro: Então nem uma hora pudeste velar comi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giai e orai, para que não entreis em tentação; na verdade, o espírito está pronto, mas a carne é fra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segunda vez, orou, dizendo: Pai meu, se este cálice não pode passar de mim sem eu o beber, faça-se a tu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oltando, achou-os outra vez adormecidos; porque os seus olhos estavam pes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ixando-os de novo, foi orar pela terceira vez, dizendo as mesm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ou junto dos seus discípulos, e disse-lhes: Dormi agora, e repousai; eis que é chegada a hora, e o Filho do homem será entregue nas mãos dos pe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i-vos, partamos; eis que é chegado o que me tr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ainda a falar, eis que chegou Judas, um dos doze, e com ele grande multidão com espadas e varapaus, enviada pelos príncipes dos sacerdotes e pelos ancião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o traía tinha-lhes dado um sinal, dizendo: O que eu beijar é esse; prendei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, aproximando-se de Jesus, disse: Eu te saúdo, Rabi; e beijou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ziam: Não durante a festa, para que não haja alvoroço ent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lhe disse: Amigo, a que vieste? Então, aproximando-se eles, lançaram mão de Jesus, e o pren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m dos que estavam com Jesus, estendendo a mão, puxou da espada e, ferindo o servo do sumo sacerdote, cortou-lhe uma ore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 disse-lhe: Embainha a tua espada; porque todos os que lançarem mão da espada, à espada morr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pensas tu que eu não poderia agora orar a meu Pai, e que ele não me daria mais de doze legiões de anj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, pois, se cumpririam as Escrituras, que dizem que assim convém que aconte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esus à multidão: Saístes, como para um salteador, com espadas e varapaus para me prender? Todos os dias me assentava junto de vós, ensinando no templo, e não me prend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do isto aconteceu para que se cumpram as escrituras dos profetas. Então, todos os discípulos, deixando-o, fug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prenderam a Jesus o conduziram à casa do sumo sacerdote Caifás, onde os escribas e os anciãos estavam reun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 o seguiu de longe, até ao pátio do sumo sacerdote e, entrando, assentou-se entre os criados, para ver 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s príncipes dos sacerdotes, e os anciãos, e todo o conselho, buscavam falso testemunho contra Jesus, para poderem dar-lhe a mo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Jesus em Betânia, em casa de Simão, o lepro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o achavam; apesar de se apresentarem muitas testemunhas falsas, não o achavam. Mas, por fim chegaram duas testemunhas fal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Este disse: Eu posso derrubar o templo de Deus, e reedificá-lo em trê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evantando-se o sumo sacerdote, disse-lhe: Não respondes coisa alguma ao que estes depõem contra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guardava silêncio. E, insistindo o sumo sacerdote, disse-lhe: Conjuro-te pelo Deus vivo que nos digas se tu és o Cristo, 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Tu o disseste; digo-vos, porém, que vereis em breve o Filho do homem assentado à direita do Poder, e vindo sobre as nuvens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umo sacerdote rasgou as suas vestes, dizendo: Blasfemou; para que precisamos ainda de testemunhas? Eis que bem ouvistes agora a sua blasfêm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vos parece? E eles, respondendo, disseram: É réu de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uspiram-lhe no rosto e lhe davam punhadas, e outros o esbofeteav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Profetiza-nos, Cristo, quem é o que te bat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6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edro estava assentado fora, no pátio; e, aproximando-se dele uma criada, disse: Tu também estavas com Jesus, o galil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oximou-se dele uma mulher com um vaso de alabastro, com ungüento de grande valor, e derramou-lho sobre a cabeça, quando ele estava assentado à m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7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negou diante de todos, dizendo: Não sei o que di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7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para o vestíbulo, outra criada o viu, e disse aos que ali estavam: Este também estava com Jesus, o Nazar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7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negou outra vez com juramento: Não conheço tal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7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aí a pouco, aproximando-se os que ali estavam, disseram a Pedro: Verdadeiramente também tu és deles, pois a tua fala te denu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7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meçou ele a praguejar e a jurar, dizendo: Não conheço esse homem. E imediatamente o galo ca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7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mbrou-se Pedro das palavras de Jesus, que lhe dissera: Antes que o galo cante, três vezes me negarás. E, saindo dali, chorou amarg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, vendo isto, indignaram-se, dizendo: Por que é este desperdíc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ste ungüento podia vender-se por grande preço, e dar-se o dinheiro aos pob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09Z</dcterms:created>
  <dc:creator>Admin</dc:creator>
  <dc:description/>
  <dc:language>en-US</dc:language>
  <cp:lastModifiedBy>Admin</cp:lastModifiedBy>
  <dcterms:modified xsi:type="dcterms:W3CDTF">2008-07-31T00:16:09Z</dcterms:modified>
  <cp:revision>1</cp:revision>
  <dc:subject/>
  <dc:title>Slide 1</dc:title>
</cp:coreProperties>
</file>