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7FE3-8912-415E-8B24-D82779652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B440-22E1-4952-8ADE-C5C0B276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7E9F-3E96-47F2-A39A-EECB51049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82F7-2DF7-469E-9230-6916767C6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0DB9-180E-4C61-B857-D6942996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A7E7-1A4C-454B-BEA6-1D74DCE9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4A61-3DCF-4BEB-A3D8-052DB08F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BF43-C528-4F1B-A862-7B0F6F25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5F4E-0577-4004-B7F0-6D35B74E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97F3-ABDC-45E0-A1D7-15477892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077F-C87A-4212-9095-DFA52626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00D8-681B-48E3-8D16-A8EE883B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DCB6-52C4-4A4C-B4EC-1A80C9AC5FC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SENHOR, não me repreendas na tua ira, nem me castigues no teu fur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meu coração dá voltas, a minha força me falta; quanto à luz dos meus olhos, ela me deix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meus amigos e os meus companheiros estão ao longe da minha chaga; e os meus parentes se põem à distâ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s que buscam a minha vida me armam laços e os que procuram o meu mal falam coisas que danificam, e imaginam astúcias todo o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u, como surdo, não ouvia, e era como mudo, que não abre a bo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eu sou como homem que não ouve, e em cuja boca não há reprov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m ti, SENHOR, espero; tu, Senhor meu Deus, me ouvi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izia eu: Ouve-me, para que não se alegrem de mim. Quando escorrega o meu pé, eles se engrandecem contra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stou prestes a coxear; a minha dor está constantemente perant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u declararei a minha iniqüidade; afligir-me-ei por causa do meu pe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s meus inimigos estão vivos e são fortes, e os que sem causa me odeiam se multiplic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 tuas flechas se cravaram em mim, e a tua mão sobre mim desc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e dão mal pelo bem são meus adversários, porquanto eu sigo o que é b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me desampares, SENHOR, meu Deus, não te alongues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pressa-te em meu auxílio, Senhor, minha salv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há coisa sã na minha carne, por causa da tua cólera; nem há paz em meus ossos, por causa do meu pe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já as minhas iniqüidades sobrepassam a minha cabeça; como carga pesada são demais para as minhas forç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minhas chagas cheiram mal e estão corruptas, por causa da minha louc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ou encurvado, estou muito abatido, ando lamentando todo o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 minhas ilhargas estão cheias de ardor, e não há coisa sã na minha carn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ou fraco e mui quebrantado; tenho rugido pela inquietação do meu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nhor, diante de ti está todo o meu desejo, e o meu gemido não te é ocul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5:12Z</dcterms:created>
  <dc:creator>Admin</dc:creator>
  <dc:description/>
  <dc:language>en-US</dc:language>
  <cp:lastModifiedBy>Admin</cp:lastModifiedBy>
  <dcterms:modified xsi:type="dcterms:W3CDTF">2008-07-31T00:25:12Z</dcterms:modified>
  <cp:revision>1</cp:revision>
  <dc:subject/>
  <dc:title>Slide 1</dc:title>
</cp:coreProperties>
</file>