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8006-81AE-4734-8BFE-28BE54C0F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4996-79F6-4A01-9A91-AFFDAD3B6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265B-B30E-405D-A876-5A3187A7B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DFB1-C5A5-47B7-A8CF-651DD3291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B0B1-AF3F-4532-B217-766670490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F5DC-FFC6-4D8B-9299-216BBDA3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85C0-6F06-4432-9B98-D191537E1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63AD-4FE9-4161-8192-65739221F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D790-CBC8-4F19-8C67-A4B4D22A6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3CEE-47CF-4F78-907D-A7BC132C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5EB6-16E2-47F5-896E-EA5F3504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99A0-8AAC-4ED5-9883-0E84D2F44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C9DFD-BFFB-4808-8633-DB1845712603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SPONDEU, porém, Jó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u touro gera, e não falha; pare a sua vaca, e não abor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zem sair as suas crianças, como a um rebanho, e seus filhos andam salta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vantam a voz, ao som do tamboril e da harpa, e alegram-se ao som do órg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 prosperidade gastam os seus dias, e num momento descem à sepultu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todavia, dizem a Deus: Retira-te de nós; porque não desejamos ter conhecimento dos teus camin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é o Todo-Poderoso, para que nós o sirvamos? E que nos aproveitará que lhe façamos oraçõ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de, porém, que a prosperidade não está nas mãos deles; esteja longe de mim o conselho dos ímpios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tas vezes sucede que se apaga a lâmpada dos ímpios, e lhes sobrevém a sua destruição? E Deus na sua ira lhes reparte dores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são como a palha diante do vento, e como a pragana, que arrebata o redemoi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1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us guarda a sua violência para seus filhos, e dá-lhe o pago, para que o conhe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i atentamente as minhas razões; e isto vos sirva de consol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1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us olhos verão a sua ruína, e ele beberá do furor do Todo-Podero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1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que, que prazer teria na sua casa, depois de morto, cortando-se-lhe o número dos seus mes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1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a Deus se ensinaria ciência, a ele que julga os excels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1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m morre na força da sua plenitude, estando inteiramente sossegado e tranqüi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1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 seus baldes cheios de leite, e a medula dos seus ossos umedec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1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utro, ao contrário, morre na amargura do seu coração, não havendo provado do b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1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untamente jazem no pó, e os vermes os cobr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1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conheço bem os vossos pensamentos; e os maus intentos com que injustamente me fazeis violên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1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direis: Onde está a casa do príncipe, e onde a tenda em que moravam os ímpi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1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não perguntastes aos que passam pelo caminho, e não conheceis os seus sinai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ofrei-me, e eu falarei; e havendo eu falado, zomb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1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o mau é preservado para o dia da destruição; e arrebatado no dia do furo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1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acusará diante dele o seu caminho, e quem lhe dará o pago do que faz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1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nalmente é levado à sepultura, e vigiam-lhe o túmu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1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torrões do vale lhe são doces, e o seguirão todos os homens; e adiante dele foram inumeráv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1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, pois, me consolais com vaidade? Pois nas vossas respostas ainda resta a transgress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eu me queixo de algum homem? Porém, ainda que assim fosse, por que não se angustiaria o meu espírit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lhai para mim, e pasmai; e ponde a mão sobre a bo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quando me lembro disto me perturbo, e a minha carne é sobressaltada de horr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que razão vivem os ímpios, envelhecem, e ainda se robustecem em pode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sua descendência se estabelece com eles perante a sua face; e os seus renovos perante os seus o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suas casas têm paz, sem temor; e a vara de Deus não está sobre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1:25Z</dcterms:created>
  <dc:creator>Admin</dc:creator>
  <dc:description/>
  <dc:language>en-US</dc:language>
  <cp:lastModifiedBy>Admin</cp:lastModifiedBy>
  <dcterms:modified xsi:type="dcterms:W3CDTF">2008-07-31T00:01:25Z</dcterms:modified>
  <cp:revision>1</cp:revision>
  <dc:subject/>
  <dc:title>Slide 1</dc:title>
</cp:coreProperties>
</file>