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489F-E3D9-4161-A77B-5029705B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E322-CC09-49AC-8997-3E35379D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9544-B63C-48EB-AA1C-2858A022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3E5-895F-452D-BD82-1A670EF0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CDFF-B8AB-4983-B44F-AD2817FC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3879-DFF7-44F8-8681-CF090C19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D54E-8913-49CE-9DD0-E837FA1D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7A8E-AD65-4B55-B905-E8F12F16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FBC1-13AA-488E-8E36-ABCD9919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2EFE-E8D2-4B9A-8A5D-27D21789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39AC-CA96-4340-837F-83506750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44AC-4936-46E0-9972-4DE19EA4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9E07-FE98-469E-88F0-31FB45A6A38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Rúben e os filhos de Gade tinham gado em grande quantidade; e viram a terra de Jazer, e a terra de Gileade, e eis que o lugar era lugar de g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ira do SENHOR se acendeu naquele mesmo dia, e jurou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os homens, que subiram do Egito, de vinte anos para cima, não verão a terra que jurei a Abraão, a Isaque, e a Jacó! porquanto não perseveraram em seguir-m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ceto Calebe, filho de Jefoné o quenezeu, e Josué, filho de Num, porquanto perseveraram em seguir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 acendeu a ira do SENHOR contra Israel, e fê-los andar errantes pelo deserto quarenta anos até que se consumiu toda aquela geração, que fizera mal aos olhos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vós, uma geração de homens pecadores, vos levantastes em lugar de vossos pais, para ainda mais acrescentar o furor da ira do SENHOR contr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vós vos virardes de segui-lo, também ele os deixará de novo no deserto, e destruireis a todo este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egaram-se a ele, e disseram: Edificaremos currais aqui para o nosso gado, e cidades para as nossas crianç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ós nos armaremos, apressando-nos adiante dos de Israel, até que os levemos ao seu lugar; e ficarão as nossas crianças nas cidades fortes por causa dos moradore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oltaremos para nossas casas, até que os filhos de Israel estejam de posse, cada um, da su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herdaremos com eles além do Jordão, nem mais adiante; porquanto nós já temos a nossa herança aquém do Jordão, ao ori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eram, pois, os filhos de Gade, e os filhos de Rúben e falaram a Moisés e a Eleazar, o sacerdote, e aos chefes da congregaçã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lhes disse: Se isto fizerdes assim, se vos armardes à guerra perante 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da um de vós, armado, passar o Jordão perante o SENHOR, até que haja lançado fora os seus inimigos de diante del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erra esteja subjugada perante o SENHOR; então voltareis e sereis inculpáveis perante o SENHOR e perante Israel; e esta terra vos será por possessão perante 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não fizerdes assim, eis que pecastes contra o SENHOR; e sabei que o vosso pecado vos há de ach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dificai cidades para as vossas crianças, e currais para as vossas ovelhas; e fazei o que saiu da voss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aram os filhos de Gade, e os filhos de Rúben a Moisés, dizendo: Como ordena meu senhor, assim farão teu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nossas crianças, as nossas mulheres, o nosso gado, e todos os nossos animais estarão aí nas cidades de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teus servos passarão, cada um armado para a guerra, a pelejar perante o SENHOR, como tem falado o m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deu ordem acerca deles a Eleazar, o sacerdote, e a Josué filho de Num, e aos cabeças das casas dos pais das tribos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 Moisés: Se os filhos de Gade e os filhos de Rúben passarem convosco o Jordão, armado cada um para a guerra, perante o SENHOR, e a terra estiver subjugada diante de vós, em possessão lhes dareis a terra de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arote, e Dibom, e Jazer, e Ninra, e Hesbom, e Eleale, e Sebã, e Nebo, e Beo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se não passarem armados convosco, terão possessões entre vós, na terra de Cana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ram os filhos de Gade e os filhos de Rúben, dizendo: O que o SENHOR falou a teus servos, isso far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ós passaremos, armados, perante o SENHOR, à terra de Canaã, e teremos a possessão de nossa herança aquém do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eu-lhes Moisés, aos filhos de Gade, e aos filhos de Rúben, e à meia tribo de Manassés, filho de José, o reino de Siom, rei dos amorreus, e o reino de Ogue, rei de Basã; a terra com as suas cidades nos seus termos, e as cidades ao seu r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Gade edificaram a Dibom, e Atarote, e Aro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tarote-Sofã, e Jazer, e Jogbe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te-Ninra, e Bete-Harã, cidades fortes; e currais de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Rúben edificaram a Hesbom, e Eleale, e Quiriatai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ebo, e Baal-Meom, mudando-lhes o nome, e Sibma; e os nomes das cidades que edificaram chamaram por outros nom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Maquir, filho de Manassés, foram-se para Gileade, e a tomaram; e daquela possessão expulsaram os amorreus que estavam 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erra que o SENHOR feriu diante da congregação de Israel, é terra para gado, e os teus servos têm g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Moisés deu Gileade a Maquir, filho de Manassés, o qual habitou 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Jair, filho de Manassés, e tomou as suas aldeias; e chamou-as Havote-Ja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Nobá, e tomou a Quenate com as suas aldeias; e chamou-a Nobá, segundo o seu próprio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 mais: Se achamos graça aos teus olhos, dê-se esta terra aos teus servos em possessão; e não nos faças passar o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Moisés disse aos filhos de Gade e aos filhos de Rúben: Irão vossos irmãos à peleja, e ficareis vós aqu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, pois, desencorajais o coração dos filhos de Israel, para que não passem à terra que o SENHOR lhes tem da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izeram vossos pais, quando os mandei de Cades-Barnéia, a ver est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ndo eles até ao vale de Escol, e vendo esta terra, desencorajaram o coração dos filhos de Israel, para que não entrassem na terra que o SENHOR lhes tinha 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0:08Z</dcterms:created>
  <dc:creator>Admin</dc:creator>
  <dc:description/>
  <dc:language>en-US</dc:language>
  <cp:lastModifiedBy>Admin</cp:lastModifiedBy>
  <dcterms:modified xsi:type="dcterms:W3CDTF">2008-07-31T00:20:08Z</dcterms:modified>
  <cp:revision>1</cp:revision>
  <dc:subject/>
  <dc:title>Slide 1</dc:title>
</cp:coreProperties>
</file>