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D33E-5662-4E97-A6C7-DE93017E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6B1A-29C1-46D4-AC68-D7515D49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4272-4136-47BA-8EE9-AF276406A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C8B0-ACF5-4E21-8020-5AD9629D8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C38B-29FD-41BB-941F-03D0998F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549C-0CC8-4A04-8022-CD08C764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FE02-C97E-4B28-B587-C0756E93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11C0-A7C4-4687-8095-F61AB8E6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A734-8819-4C4F-A408-305003BB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44C0-ECE7-4755-9020-0DA3163D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DC74-BD3D-4447-8C1F-01CE4A2E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EFCB-BB6F-4FCF-8474-55457D78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E715-D42C-4C49-9799-F2331056CA3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PALAVRA que veio a Jeremias, da parte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rnaram às maldades de seus primeiros pais, que não quiseram ouvir as minhas palavras; e eles andaram após outros deuses para os servir; a casa de Israel e a casa de Judá quebraram a minha aliança, que tinha feito com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ssim diz o SENHOR: Eis que trarei mal sobre eles, de que não poderão escapar; e clamarão a mim, mas eu não os ouvi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irão as cidades de Judá e os habitantes de Jerusalém e clamarão aos deuses a quem eles queimaram incenso; estes, porém, de nenhum modo os livrarão no tempo do seu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gundo o número das tuas cidades, são os teus deuses, ó Judá! E, segundo o número das ruas de Jerusalém, levantastes altares à impudência, altares para queimardes incenso a Ba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pois, não ores por este povo, nem levantes por ele clamor nem oração; porque não os ouvirei no tempo em que eles clamarem a mim, por causa do seu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direito tem a minha amada na minha casa, visto que com muitos tem cometido grande lascívia? Crês que os sacrifícios e as carnes santificadas poderão afastar de ti o mal? Então saltarias de pr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nominou-te o SENHOR oliveira verde, formosa por seus deliciosos frutos, mas agora à voz de um grande tumulto acendeu fogo ao redor dela e se quebraram os seus ra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dos Exércitos, que te plantou, pronunciou contra ti o mal, pela maldade da casa de Israel e da casa de Judá, que para si mesma fizeram, pois me provocaram à ira, queimando incenso a Ba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me fez saber, e assim o soube; então me fizeste ver as suas 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era como um cordeiro, como um boi que levam à matança; porque não sabia que maquinavam propósitos contra mim, dizendo: Destruamos a árvore com o seu fruto, e cortemo-lo da terra dos viventes, e não haja mais memória do s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 as palavras desta aliança, e falai aos homens de Judá, e aos habitantes d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ó SENHOR dos Exércitos, justo Juiz, que provas os rins e o coração, veja eu a tua vingança sobre eles; pois a ti descobri a minha cau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assim diz o SENHOR acerca dos homens de Anatote, que buscam a tua vida, dizendo: Não profetizes no nome do SENHOR, para que não morras às noss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assim diz o SENHOR dos Exércitos: Eis que eu os castigarei; os jovens morrerão à espada, os seus filhos e suas filhas morrerão de f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haverá deles um remanescente, porque farei vir o mal sobre os homens de Anatote, no ano da sua visit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-lhes pois: Assim diz o SENHOR Deus de Israel: Maldito o homem que não escutar as palavras desta alianç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ordenei a vossos pais no dia em que os tirei da terra do Egito, da fornalha de ferro, dizendo: Dai ouvidos à minha voz, e fazei conforme a tudo quanto vos mando; e vós sereis o meu povo, e eu serei o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confirme o juramento que fiz a vossos pais de dar-lhes uma terra que manasse leite e mel, como se vê neste dia. Então eu respondi, e disse: Amém, ó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me o SENHOR: Apregoa todas estas palavras nas cidades de Judá, e nas ruas de Jerusalém, dizendo: Ouvi as palavras desta aliança, e cumpri-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everas adverti a vossos pais, no dia em que os tirei da terra do Egito, até ao dia de hoje, madrugando, e protestando, e dizendo: Dai ouvidos à minha vo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ão ouviram, nem inclinaram os seus ouvidos, antes andaram cada um conforme o propósito do seu coração malvado; por isso trouxe sobre eles todas as palavras desta aliança que lhes mandei que cumprissem, porém não cumpri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me mais o SENHOR: Uma conspiração se achou entre os homens de Judá, entre os habitantes d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7:54Z</dcterms:created>
  <dc:creator>Admin</dc:creator>
  <dc:description/>
  <dc:language>en-US</dc:language>
  <cp:lastModifiedBy>Admin</cp:lastModifiedBy>
  <dcterms:modified xsi:type="dcterms:W3CDTF">2008-07-30T23:57:54Z</dcterms:modified>
  <cp:revision>1</cp:revision>
  <dc:subject/>
  <dc:title>Slide 1</dc:title>
</cp:coreProperties>
</file>