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72A-4078-4BF1-B37D-13F781AC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AF5-39CE-4597-A2CB-7F5CA90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50D-95C3-4381-976E-981DDE85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EE8-6BF0-4B72-801A-B0CE8983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D79-C9B9-44F0-A7D0-AE83871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E5F-A7B6-4B72-92CA-A0D937C6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758-4D02-404A-BCE4-B5163DE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253-39BB-4D78-B111-93DD5AB0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60C-D13C-4912-A907-FD75263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918-7F4D-48D5-B8DD-8CD4E56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81E-BEC1-4031-9463-890D26A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D14-2DB1-469C-95E5-504D274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A59E-5BFA-46F5-9650-7D502A121C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Eis que eu estou contra os pastores; das suas mãos demandarei as minhas ovelhas, e eles deixarão de apascentar as ovelhas; os pastores não se apascentarão mais a si mesmos; e livrarei as minhas ovelhas da sua boca, e não lhes 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Eis que eu, eu mesmo, procurarei pelas minhas ovelhas, e as bus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pastor busca o seu rebanho, no dia em que está no meio das suas ovelhas dispersas, assim buscarei as minhas ovelhas; e livrá-las-ei de todos os lugares por onde andam espalhadas, no dia nublado e de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á-las-ei dos povos, e as congregarei dos países, e as trarei à sua própria terra, e as apascentarei nos montes de Israel, junto aos rios, e em todas as habitaçõ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bons pastos as apascentarei, e nos altos montes de Israel será o seu aprisco; ali se deitarão num bom redil, e pastarão em pastos gordos nos mont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mesmo apascentarei as minhas ovelhas, e eu as farei repousar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erdida buscarei, e a desgarrada tornarei a trazer, e a quebrada ligarei, e a enferma fortalecerei; mas a gorda e a forte destruirei; apascentá-las-ei com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 vós, ó ovelhas minhas, assim diz o Senhor DEUS: Eis que eu julgarei entre ovelhas e ovelhas, entre carneiros e bo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não vos basta pastar os bons pastos, senão que pisais o resto de vossos pastos aos vossos pés? E não vos basta beber as águas claras, senão que sujais o resto com os vossos pé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às minhas ovelhas elas pastarão o que haveis pisado com os vossos pés, e beberão o que haveis sujado com os voss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profetiza contra os pastores de Israel; profetiza, e dize aos pastores: Assim diz o Senhor DEUS: Ai dos pastores de Israel que se apascentam a si mesmos! Não devem os pastores apascentar as ovel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Senhor DEUS assim lhes diz: Eis que eu, eu mesmo, julgarei entre a ovelha gorda e a ovelha mag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com o lado e com o ombro dais empurrões, e com os vossos chifres escorneais todas as fracas, até que as espalhais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livrarei as minhas ovelhas, para que não sirvam mais de rapina, e julgarei entre ovelhas e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scitarei sobre elas um só pastor, e ele as apascentará; o meu servo Davi é que as apascentará; ele lhes servirá de pas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o SENHOR, lhes serei por Deus, e o meu servo Davi será príncipe no meio delas; eu, o SENHOR,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om elas uma aliança de paz, e acabarei com as feras da terra, e habitarão em segurança no deserto, e dormirão nos bosqu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as e dos lugares ao redor do meu outeiro, farei uma bênção; e farei descer a chuva a seu tempo; chuvas de bênção s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árvores do campo darão o seu fruto, e a terra dará a sua novidade, e estarão seguras na sua terra; e saberão que eu sou o SENHOR, quando eu quebrar as ataduras do seu jugo e as livrar da mão dos que se serviam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rvirão mais de rapina aos gentios, as feras da terra nunca mais as devorarão; e habitarão seguramente, e ninguém haverá que as esp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levantarei uma plantação de renome, e nunca mais serão consumidas pela fome na terra, nem mais levarão sobre si o opróbrio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is a gordura, e vos vestis da lã; matais o cevado; mas não apascentais 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rão, porém, que eu, o SENHOR seu Deus, estou com elas, e que elas são o meu povo, a casa de Israel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is, ó ovelhas minhas, ovelhas do meu pasto; homens sois; porém eu sou o vosso Deu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fracas não fortalecestes, e a doente não curastes, e a quebrada não ligastes, e a desgarrada não tornastes a trazer, e a perdida não buscastes; mas dominais sobre elas com rigor e d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espalharam, por não haver pastor, e tornaram-se pasto para todas as feras do campo, porquanto se espal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ovelhas andaram desgarradas por todos os montes, e por todo o alto outeiro; sim, as minhas ovelhas andaram espalhadas por toda a face da terra, sem haver quem perguntasse por elas, nem quem as busc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ó pastores, ouvi a palavra do SENH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o eu, diz o Senhor DEUS, que, porquanto as minhas ovelhas foram entregues à rapina, e as minhas ovelhas vieram a servir de pasto a todas as feras do campo, por falta de pastor, e os meus pastores não procuraram as minhas ovelhas; e os pastores apasc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ó pastores, ouvi a palavra do SENH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38Z</dcterms:created>
  <dc:creator>Admin</dc:creator>
  <dc:description/>
  <dc:language>en-US</dc:language>
  <cp:lastModifiedBy>Admin</cp:lastModifiedBy>
  <dcterms:modified xsi:type="dcterms:W3CDTF">2008-07-30T23:35:38Z</dcterms:modified>
  <cp:revision>1</cp:revision>
  <dc:subject/>
  <dc:title>Slide 1</dc:title>
</cp:coreProperties>
</file>