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F991-6390-405A-8DD7-26FA58AF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A8B-5D8A-4A34-B576-BBB95709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06AE-68C3-4B43-8ED9-ED0BFFAB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E3E-41A0-43C0-95B3-A64F7514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5F1-35CA-4B15-932E-CD0C4C3C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90C-D544-4035-8676-AADE75F6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189-9D9D-4BCA-A3DC-E7F2112E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8E1-0632-46B3-91EA-0319B04B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8BA-EF85-468A-A6BB-0D3E78D5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DF2-B4B4-4325-A922-F3B3F485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1C78-9FF6-4148-9F9E-849A06FC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74C-5F4D-446D-B11B-3733DC0F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C632-CCED-49E5-84BE-D5592C7AB71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EGREI-ME quando me disseram: Vamos à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nossos pés estão dentro das tuas portas, ó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rusalém está edificada como uma cidade que é compac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sobem as tribos, as tribos do SENHOR, até ao testemunho de Israel, para darem graças ao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ali estão os tronos do juízo, os tronos da casa d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i pela paz de Jerusalém; prosperarão aqueles que te am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ja paz dentro de teus muros, e prosperidade dentro dos teus palá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os meus irmãos e amigos, direi: Paz esteja em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a casa do SENHOR nosso Deus, buscarei o teu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19Z</dcterms:created>
  <dc:creator>Admin</dc:creator>
  <dc:description/>
  <dc:language>en-US</dc:language>
  <cp:lastModifiedBy>Admin</cp:lastModifiedBy>
  <dcterms:modified xsi:type="dcterms:W3CDTF">2008-07-31T00:28:19Z</dcterms:modified>
  <cp:revision>1</cp:revision>
  <dc:subject/>
  <dc:title>Slide 1</dc:title>
</cp:coreProperties>
</file>