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303-05F7-422D-8898-0CB56213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779-4E0C-4D93-A7CB-16C578D1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0AF-BB2F-41C9-900D-5CA0229A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EEA-F2A7-424A-8FDA-CDF4B97D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9CB-12AF-4842-975E-6B43353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A07-050C-4397-AD01-4841179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4EF-E3A0-4D52-8CBB-7CD52500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C18-21E4-49B9-9CDD-F9C00B93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809-0A92-4D97-BF16-03D375C7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81C-D2CB-41DC-A98B-90ABF89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4F2-F503-4659-9DC0-66BC094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E63-05FC-45D6-BE81-AD701B1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A3E-D630-46F9-B90A-90D681308E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fez voltar para o caminho da porta exterior do santuário, que olha para o oriente, a qual estava fech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evitas que se apartaram para longe de mim, quando Israel andava errado; os quais andavam transviados, desviados de mim, para irem atrás dos seus ídolos, levarão sobre si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serão ministros no meu santuário, nos ofícios das portas da casa, e servirão à casa; eles matarão o holocausto, e o sacrifício para o povo, e estarão perante eles, para os ser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lhes ministraram diante dos seus ídolos, e fizeram a casa de Israel cair em iniqüidade; por isso eu levantei a minha mão contra eles, diz o Senhor DEUS, e levarão sobre si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chegarão a mim, para me servirem no sacerdócio, nem para se chegarem a alguma de todas as minhas coisas sagradas, às coisas que são santíssimas, mas levarão sobre si a sua vergonha e as suas abominações que comet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eu os constituirei guardas da ordenança da casa, em todo o seu serviço, e em tudo o que nela se fi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acerdotes levíticos, os filhos de Zadoque, que guardaram a ordenança do meu santuário quando os filhos de Israel se extraviaram de mim, eles se chegarão a mim, para me servirem, e estarão diante de mim, para me oferecerem a gordura e o sangue,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entrarão no meu santuário, e se chegarão à minha mesa, para me servirem, e guardarão a minha orden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entrarem pelas portas do átrio interior, se vestirão com vestes de linho; e não se porá lã sobre eles, quando servirem nas portas do átrio interior, e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orros de linho estarão sobre as suas cabeças, e calções de linho sobre os seus lombos; não se cingirão de modo que lhes venha su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s ao átrio exterior, ao átrio de fora, ao povo, despirão as suas vestiduras com que ministraram, e as porão nas santas câmaras, e se vestirão de outras vestes, para que não santifiquem o povo estando com as suas vesti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Esta porta permanecerá fechada, não se abrirá; ninguém entrará por ela, porque o SENHOR, o Deus de Israel entrou por ela; por isso permanecerá fech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raparão a sua cabeça, nem deixarão crescer o cabelo; antes, como convém, tosquiarão 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sacerdote beberá vinho quando entrar no átrio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não se casarão nem com viúva nem com repudiada, mas tomarão virgens da linhagem da casa de Israel, ou viúva que for viúva de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u povo ensinarão a distinguir entre o santo e o profano, e o farão discernir entre o impuro e 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houver disputa, eles assistirão a ela para a julgarem; pelos meus juízos as julgarão; e as minhas leis e os meus estatutos guardarão em todas as minhas solenidades, e santificarão os meu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não se aproximarão de nenhum homem morto, para se contaminarem; mas por pai, ou por mãe, ou por filho, ou por filha, ou por irmão, ou por irmã que não tiver marido, se poderão contami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a sua purificação, contar-se-lhe-ão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dia em que ele entrar no lugar santo, no átrio interior, para ministrar no lugar santo, oferecerá a sua expiação pelo pecad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terão uma herança: eu serei a sua herança. Não lhes dareis, portanto, possessão em Israel; eu sou a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comerão a oferta de alimentos, e a oferta pelo pecado e a oferta pela culpa; e toda a coisa consagrada em Israel será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príncipe, por ser príncipe, se assentará nela para sempre, para comer o pão diante do SENHOR; pelo caminho do vestíbulo da porta entrará e por esse mesmo caminho sa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rimícias de todos os primeiros frutos de tudo, e toda a oblação de tudo, de todas as vossas oblações, serão dos sacerdotes; também as primeiras das vossas massas dareis ao sacerdote, para que faça repousar a bênção sobre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coisa, que tenha morrido ou tenha sido despedaçada, de aves e de animais, comerão 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e levou pelo caminho da porta do norte, diante da casa; e olhei, e eis que a glória do SENHOR encheu a casa do SENHOR; então caí sobre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Filho do homem, pondera no teu coração, e vê com os teus olhos, e ouve com os teus ouvidos, tudo quanto eu te disser de todos os estatutos da casa do SENHOR, e de todas as suas leis; e considera no teu coração a entrada da casa, c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 ao rebelde, à casa de Israel: Assim diz o Senhor DEUS: Bastem-vos todas as vossas abominações, ó casa de Israe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ntroduzistes estrangeiros, incircuncisos de coração e incircuncisos de carne, para estarem no meu santuário, para o profanarem em minha casa, quando ofereceis o meu pão, a gordura, e o sangue; e eles invalidaram a minha aliança, por causa de t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guardastes a ordenança a respeito das minhas coisas sagradas; antes vos constituístes, a vós mesmos, guardas da minha ordenança no meu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Nenhum estrangeiro, incircunciso de coração ou incircunciso de carne, entrará no meu santuário, dentre os estrangeiros que se acharem no mei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16Z</dcterms:created>
  <dc:creator>Admin</dc:creator>
  <dc:description/>
  <dc:language>en-US</dc:language>
  <cp:lastModifiedBy>Admin</cp:lastModifiedBy>
  <dcterms:modified xsi:type="dcterms:W3CDTF">2008-07-30T23:36:16Z</dcterms:modified>
  <cp:revision>1</cp:revision>
  <dc:subject/>
  <dc:title>Slide 1</dc:title>
</cp:coreProperties>
</file>