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BBC5-BA26-4C0C-8E76-40D2AFE0F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3C50-272A-47AB-AE19-07416B49D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396A-7588-42C7-95B4-C7E19A230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B516-54C2-4D2D-80B3-876EC7AA3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DCFA-BF44-40B6-BF80-03CF25C75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8760-CA61-46C8-BA55-046156BE9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B2E8-D82B-4B30-830C-5D0FABF06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5ECE-0D99-4F74-9D24-9B2E77D57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EC9F-0DF3-41F5-9A97-4AF3810A7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B90D-36C0-4F08-A3A5-E921EFCEC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2F53-9739-4F9E-B81A-D05947B30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D1EB-48AA-4345-B082-A05D9248E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DE7F3-9757-4EA3-8183-3AFE96AE172E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8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PALAVRA do SENHOR, que veio a Jeremias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8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fizer o mal diante dos meus olhos, não dando ouvidos à minha voz, então me arrependerei do bem que tinha falado que lhe fa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8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, pois, fala agora aos homens de Judá, e aos moradores de Jerusalém, dizendo: Assim diz o SENHOR: Eis que estou forjando mal contra vós; e projeto um plano contra vós; convertei-vos, pois, agora cada um do seu mau caminho, e melhorai os vossos caminh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8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eles dizem: Não há esperança, porque andaremos segundo as nossas imaginações; e cada um fará segundo o propósito do seu mau cor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8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, assim diz o SENHOR: Perguntai agora entre os gentios quem ouviu tal coisa? Coisa mui horrenda fez a virgem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8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ventura a neve do Líbano deixará a rocha do campo ou esgotar-se-ão as águas frias que correm de terras estranha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8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ntudo o meu povo se tem esquecido de mim, queimando incenso à vaidade, que os fez tropeçar nos seus caminhos, e nas veredas antigas, para que andassem por veredas afastadas, não aplainada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8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fazerem da sua terra objeto de espanto e de perpétuos assobios; todo aquele que passar por ela se espantará, e meneará a sua cabeç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8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 vento oriental os espalharei diante do inimigo; mostrar-lhes-ei as costas e não o rosto, no dia da sua perdi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8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ram: Vinde, e maquinemos projetos contra Jeremias; porque não perecerá a lei do sacerdote, nem o conselho do sábio, nem a palavra do profeta; vinde e firamo-lo com a língua, e não atendamos a nenhuma das suas palav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8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lha para mim, SENHOR, e ouve a voz dos que contendem comi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8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evanta-te, e desce à casa do oleiro, e lá te farei ouvir as minhas palav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8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ventura pagar-se-á mal por bem? Pois cavaram uma cova para a minha alma. Lembra-te de que eu compareci à tua presença, para falar a favor deles, e para desviar deles a tua indignaçã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8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 entrega seus filhos à fome, e entrega-os ao poder da espada, e sejam suas mulheres roubadas dos filhos, e fiquem viúvas; e seus maridos sejam feridos de morte, e os seus jovens sejam feridos à espada na pelej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8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ça-se o clamor de suas casas, quando de repente trouxeres uma tropa sobre eles. Porquanto cavaram uma cova para prender-me e armaram laços aos meus pé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8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tu, ó SENHOR, sabes todo o seu conselho contra mim para matar-me; não perdoes a sua maldade, nem apagues o seu pecado de diante da tua face; mas tropecem diante de ti; trata-os assim no tempo da tua i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8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sci à casa do oleiro, e eis que ele estava fazendo a sua obra sobre as roda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8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o vaso, que ele fazia de barro, quebrou-se na mão do oleiro, tornou a fazer dele outro vaso, conforme o que pareceu bem aos olhos do oleiro faz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8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veio a mim a palavra do SENHOR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8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poderei eu fazer de vós como fez este oleiro, ó casa de Israel? diz o SENHOR. Eis que, como o barro na mão do oleiro, assim sois vós na minha mão, ó casa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8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 momento em que falar contra uma nação, e contra um reino para arrancar, e para derrubar, e para destruir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8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a tal nação, porém, contra a qual falar se converter da sua maldade, também eu me arrependerei do mal que pensava fazer-lh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8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 momento em que falar de uma nação e de um reino, para edificar e para plantar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8:15Z</dcterms:created>
  <dc:creator>Admin</dc:creator>
  <dc:description/>
  <dc:language>en-US</dc:language>
  <cp:lastModifiedBy>Admin</cp:lastModifiedBy>
  <dcterms:modified xsi:type="dcterms:W3CDTF">2008-07-30T23:58:15Z</dcterms:modified>
  <cp:revision>1</cp:revision>
  <dc:subject/>
  <dc:title>Slide 1</dc:title>
</cp:coreProperties>
</file>