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028-DB6E-403B-8852-7623067A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F54-6D1E-44AD-9CFC-92B4651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DC2-95D9-4BCC-A2BD-7AD350E5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1A2-7F8F-4D71-9326-C3B026C9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810-5F34-4358-B5B3-19539BC3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179-234A-496D-87A6-9325080B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B24-0B93-4AA4-8796-91D8693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458-00EF-4DAF-8633-A8DE866C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586-EEA4-47FD-8A28-CFD5A7AE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8F7-4B34-4E51-8A97-1F5936E2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0C3-7154-456B-BD9E-D9D0BFA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60B-1FAD-44AC-9F47-6AAB4417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DCA6-2623-48D2-B88E-7D2DA76243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vinte e cinco do nosso cativeiro, no princípio do ano, no décimo dia do mês, catorze anos depois que a cidade foi conquistada, naquele mesmo dia veio sobre mim a mão do SENHOR, e me levou para 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âmaras da porta para o lado do oriente eram três de um lado e três do outro; a mesma medida era a dos três; também os pilares de um lado e do outro tinham a mesma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diu mais a largura da entrada da porta, que era de dez côvados; e o comprimento da porta, treze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aço em frente das câmaras era de um côvado, e de um côvado o espaço do outro lado; e cada câmara tinha seis côvados de um lado e seis côvados d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diu a porta desde o telhado de uma câmara até ao telhado da outra, vinte e cinco côvados de largo, porta contr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os pilares, de sessenta côvados, cada pilar, do átrio, em redor d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de a face da porta da entrada até à face do vestíbulo da porta interior, havia cinqüenta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também janelas estreitas nas câmaras, e nos seus pilares, dentro da porta ao redor, e da mesma sorte nos vestíbulos; e as janelas estavam ao redor, na parte de dentro, e nos pilares havia palm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levou ao átrio exterior, e eis que havia nele câmaras, e um pavimento que estava feito no átrio em redor; trinta câmaras havia naquele pav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avimento do lado das portas era proporcional ao comprimento das portas; o pavimento estava mais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diu a largura desde a dianteira da porta inferior até a dianteira do átrio interior, por fora, cem côvados, do lado do oriente e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isões de Deus me levou à terra de Israel, e me pôs sobre um monte muito alto, sobre o qual havia como que um edifício de cidade para o la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à porta que olhava para o caminho do norte, no átrio exterior, ele mediu o seu comprimento e a sua lar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câmaras eram três de um lado, e três do outro, e os seus pilares e os seus arcos eram da medida da primeira porta: cinqüenta côvados era o seu comprimento, e a largura vinte e cinc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janelas, e os seus arcos, e as suas palmeiras, eram da medida da porta que olhava para o caminho do oriente; e subia-se para ela por sete degraus, e os seus arcos estavam diante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orta do átrio interior estava defronte da porta do norte bem como da do oriente; e mediu de porta a porta cem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me levou ao caminho do sul, e eis que havia ali uma porta que olhava para o caminho do sul, e mediu os seus pilares e os seus arcos conforme estas med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também janelas em redor dos seus arcos, como as outras janelas; cinqüenta côvados era o comprimento, e a largura vinte e cinc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sete degraus eram as suas subidas, e os seus arcos estavam diante delas; e tinha palmeiras, uma de um lado e outra do outro, nos seus pil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avia uma porta no átrio interior para o caminho do sul; e mediu de porta a porta, para o caminho do sul, cem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levou ao átrio interior pela porta do sul; e mediu a porta do sul, conforme estas med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câmaras, e os seus pilares, e os seus arcos eram conforme estas medidas; e tinham também janelas ao redor dos seus arcos; o comprimento era de cinqüenta côvados, e a largura de vinte e cinc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me levado ali, eis que um homem cuja aparência era como a do bronze, tendo um cordel de linho na sua mão e uma cana de medir, e estava em pé n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arcos em redor; o comprimento era de vinte e cinco côvados, e a largura de cinc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arcos estavam na direção do átrio exterior, e havia palmeiras nos seus pilares; e de oito degraus eram as suas sub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e levou ao átrio interior, para o caminho do oriente, e mediu a porta conforme estas medi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s suas câmaras, e os seus pilares, e os seus arcos, conforme estas medidas; e havia também janelas em redor dos seus arcos; o comprimento de cinqüenta côvados, e a largura de vinte e cinc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arcos estavam no átrio de fora; também havia palmeiras nos seus pilares de um e de outro lado; e eram as suas subidas de oito degr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levou à porta do norte, e mediu conforme estas medi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câmaras, os seus pilares, e os seus arcos; também tinha janelas em redor; o comprimento era de cinqüenta côvados, e a largura de vinte e cinc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pilares estavam no átrio exterior; também havia palmeiras nos seus pilares de um e de outro lado; e eram as suas subidas de oito degr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câmaras e as suas entradas estavam junto aos pilares das portas onde lavavam o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vestíbulo da porta havia duas mesas de um lado, e duas mesas do outro, para nelas se matar o holocausto e a oferta pelo pecado e pela cul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homem: Filho do homem, vê com os teus olhos, e ouve com os teus ouvidos, e põe no teu coração tudo quanto eu te fizer ver; porque para to mostrar foste tu aqui trazido; anuncia, pois, à casa de Israel tudo quanto vi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o lado de fora da subida para a entrada da porta do norte havia duas mesas; e do outro lado, que estava no vestíbulo da porta, havia duas me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tro mesas de um lado, e quatro mesas do outro; aos lados da porta oito mesas, sobre as quais imol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quatro mesas para o holocausto eram de pedras lavradas; o comprimento era de um côvado e meio, e a largura de um côvado e meio, e a altura de um côvado; e sobre elas se punham os instrumentos com que imolavam o holocausto e o sacrif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ganchos de um palmo de comprimento, estavam fixos por dentro em redor, e sobre as mesas estava a carne da of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 da porta interior estavam as câmaras dos cantores, no átrio de dentro, que estava ao lado da porta do norte e olhava para o caminho do sul; uma estava ao lado da porta do oriente, e olhava para o caminh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disse: Esta câmara que olha para o caminho do sul é para os sacerdotes que têm a guarda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câmara que olha para o caminho do norte é para os sacerdotes que têm a guarda do altar; são estes os filhos de Zadoque, que se chegam ao SENHOR, dentre os filhos de Levi, para o ser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diu o átrio; o comprimento de cem côvados e a largura de cem côvados, um quadrado; e o altar estava diante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levou ao vestíbulo da casa, e mediu a cada pilar do vestíbulo, cinco côvados de um lado, e cinco côvados do outro; e a largura da porta, três côvados de um lado, e três côvados d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mprimento do vestíbulo era de vinte côvados, e a largura de onze côvados, e era por degraus, que se subia a ele; e havia colunas junto aos pilares, uma de um lado e outra d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muro fora da casa, em seu redor, e na mão do homem uma cana de medir, de seis côvados, cada um dos quais tinha um côvado e um palmo; e ele mediu a largura do edifício, uma cana, e a altura, uma c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à porta que olhava para o caminho do oriente, e subiu pelos seus degraus; mediu o umbral da porta, uma cana de largo, e o outro umbral, uma cana de l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câmara tinha uma cana de comprido, e uma cana de largo, e o espaço entre os aposentos era de cinco côvados; e o umbral da porta, ao pé do vestíbulo da porta, por dentro, era de uma c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ediu o vestíbulo da porta, por dentro, uma c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diu o vestíbulo da porta, que tinha oito côvados, e os seus pilares, dois côvados, e este vestíbulo da porta, estava por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02Z</dcterms:created>
  <dc:creator>Admin</dc:creator>
  <dc:description/>
  <dc:language>en-US</dc:language>
  <cp:lastModifiedBy>Admin</cp:lastModifiedBy>
  <dcterms:modified xsi:type="dcterms:W3CDTF">2008-07-30T23:36:02Z</dcterms:modified>
  <cp:revision>1</cp:revision>
  <dc:subject/>
  <dc:title>Slide 1</dc:title>
</cp:coreProperties>
</file>