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2B8-96CB-4153-A81D-B9DA7DDE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4E2-56AA-482E-95CC-12BE26F2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B6C-DB64-44E4-83F3-6DE4DA6A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D09-F5B6-49C7-8517-7F7BE1D5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DE3-ABB7-4E60-9128-8073B9D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0E9-C58F-4F72-9A43-E3AFA1E6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189-7A27-4C32-80BA-E08609E9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35D-2EFD-4EA4-A911-2EB772A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BE3-B8A8-4FC5-A126-317D8929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3DF-6D81-4427-8A1A-CC527A38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A3C-521D-475A-B55E-9F84DD0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2FE-F55E-4741-9224-D7D2788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DF78-545D-4383-B167-8E935B5998C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OAZ subiu à porta, e assentou-se ali; e eis que o remidor de que Boaz tinha falado ia passando, e disse-lhe: Ó fulano, vem cá, assenta-te aqui. E desviou-se para ali, e assent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que também tomo por mulher a Rute, a moabita, que foi mulher de Malom, para suscitar o nome do falecido sobre a sua herança, para que o nome do falecido não seja desarraigado dentre seus irmãos e da porta do seu lugar; disto sois hoje testem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que estava na porta, e os anciãos, disseram: Somos testemunhas; o SENHOR faça a esta mulher, que entra na tua casa, como a Raquel e como a Lia, que ambas edificaram a casa de Israel; e porta-te valorosamente em Efrata, e faze-te nome afam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ja a tua casa como a casa de Perez (que Tamar deu à luz a Judá), pela descendência que o SENHOR te der desta mo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omou Boaz a Rute, e ela lhe foi por mulher; e ele a possuiu, e o SENHOR lhe fez conceber, e deu à luz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 mulheres disseram a Noemi: Bendito seja o SENHOR, que não deixou hoje de te dar remidor, e seja o seu nome afamado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e será por restaurador da alma, e nutrirá a tua velhice, pois tua nora, que te ama, o deu à luz, e ela te é melhor do que sete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emi tomou o filho, e o pôs no seu colo, e foi sua 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vizinhas lhe deram um nome, dizendo: A Noemi nasceu um filho. E deram-lhe o nome de Obede. Este é o pai de Jessé, pai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, pois, as gerações de Perez: Perez gerou a Esr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rom gerou a Rão, e Rão gerou a Aminada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dez homens dos anciãos da cidade, e disse: Assentai-vos aqui. E assenta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inadabe gerou a Naassom, e Naassom gerou a Salm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mom gerou a Boaz, e Boaz gerou a Obe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bede gerou a Jessé, e Jessé gerou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o remidor: Aquela parte da terra que foi de Elimeleque, nosso irmão, Noemi, que tornou da terra dos moabitas, está vend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resolvi informar-te disso e dizer-te: Compra-a diante dos habitantes, e diante dos anciãos do meu povo; se a hás de redimir, redime-a, e se não houver de redimir, declara-mo, para que o saiba, pois outro não há senão tu que a redima, e eu depoi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porém Boaz: No dia em que comprares a terra da mão de Noemi, também a comprarás da mão de Rute, a moabita, mulher do falecido, para suscitar o nome do falecido sobre 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midor: Para mim não a poderei redimir, para que não prejudique a minha herança; toma para ti o meu direito de remissão, porque eu não a poderei redi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, pois, já de muito tempo este costume em Israel, quanto a remissão e permuta, para confirmar todo o negócio; o homem descalçava o sapato e o dava ao seu próximo; e isto era por testemunho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o remidor a Boaz: Toma-a para ti. E descalçou o sap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oaz disse aos anciãos e a todo o povo: Sois hoje testemunhas de que tomei tudo quanto foi de Elimeleque, e de Quiliom, e de Malom, da mão de Noem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05Z</dcterms:created>
  <dc:creator>Admin</dc:creator>
  <dc:description/>
  <dc:language>en-US</dc:language>
  <cp:lastModifiedBy>Admin</cp:lastModifiedBy>
  <dcterms:modified xsi:type="dcterms:W3CDTF">2008-07-31T00:24:05Z</dcterms:modified>
  <cp:revision>1</cp:revision>
  <dc:subject/>
  <dc:title>Slide 1</dc:title>
</cp:coreProperties>
</file>