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165-A157-4A44-A5EB-C48D1FB2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AFA-CACA-4C53-98D9-7A51E9A2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CCC-6B11-4F20-BCA6-0D8A5600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A51-E1AF-42A0-9CAA-F789CCEC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888-CDB5-493C-9FCE-C2FD8451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3F7-647A-48C1-8855-257B33A4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A44-F2A6-493D-9567-741CFCCC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F2A-7A93-4175-B14D-9E96B431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53B-29E9-4E25-B5F1-0ACADEFD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FE2-2B95-4167-886F-779D5621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AB1-36FA-4EE9-9A4D-CCAFA48D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CAE-9BB6-4242-9DA8-876990EF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2639-9BDF-4DAA-9F70-A78A4161884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JURO-TE, pois, diante de Deus, e do Senhor Jesus Cristo, que há de julgar os vivos e os mortos, na sua vinda e no seu rein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mas me desamparou, amando o presente século, e foi para Tessalônica, Crescente para Galácia, Tito para Dalmá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ó Lucas está comigo. Toma Marcos, e traze-o contigo, porque me é muito útil para o minist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enviei Tíquico a Éfe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vieres, traze a capa que deixei em Trôade, em casa de Carpo, e os livros, principalmente os perg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exandre, o latoeiro, causou-me muitos males; o Senhor lhe pague segundo 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guarda-te também dele, porque resistiu muito às noss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me assistiu na minha primeira defesa, antes todos me desampararam. Que isto lhes não seja impu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enhor assistiu-me e fortaleceu-me, para que por mim fosse cumprida a pregação, e todos os gentios a ouvissem; e fiquei livre da boca do le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me livrará de toda a má obra, e guardar-me-á para o seu reino celestial; a quem seja glória para todo o sempr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úda a Prisca e a Áqüila, e à casa de Onesífo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pregues a palavra, instes a tempo e fora de tempo, redarguas, repreendas, exortes, com toda a longanimidade e doutr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rasto ficou em Corinto, e deixei Trófimo doente em Mile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cura vir antes do inverno. Êubulo, e Prudente, e Lino, e Cláudia, e todos os irmãos te saúd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Jesus Cristo seja com o teu espírito. A graça seja convosco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irá tempo em que não suportarão a sã doutrina; mas, tendo comichão nos ouvidos, amontoarão para si doutores conforme as suas próprias concupiscênc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sviarão os ouvidos da verdade, voltando às fábu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, sê sóbrio em tudo, sofre as aflições, faze a obra de um evangelista, cumpre o teu minist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u já estou sendo oferecido por aspersão de sacrifício, e o tempo da minha partida está próx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bati o bom combate, acabei a carreira, guardei 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de agora, a coroa da justiça me está guardada, a qual o Senhor, justo juiz, me dará naquele dia; e não somente a mim, mas também a todos os que amarem a sua vi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cura vir ter comigo depres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20Z</dcterms:created>
  <dc:creator>Admin</dc:creator>
  <dc:description/>
  <dc:language>en-US</dc:language>
  <cp:lastModifiedBy>Admin</cp:lastModifiedBy>
  <dcterms:modified xsi:type="dcterms:W3CDTF">2008-07-30T23:54:20Z</dcterms:modified>
  <cp:revision>1</cp:revision>
  <dc:subject/>
  <dc:title>Slide 1</dc:title>
</cp:coreProperties>
</file>