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32C-6386-4740-9FC9-1F3A1811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2FE-2658-4EE2-9559-F20298C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942-2D53-4F60-8E31-48AB9D2C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C0D-45EB-4337-808B-615275A7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36A-7BE3-4DA5-A4EE-5EA44DC5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9A1-C330-49B7-9FA4-6BAC2BC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3A1-C2C2-4B1D-BF79-078E535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86D-BB6D-4286-A097-596A313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AC7-0471-4B74-BB06-06E1ECB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1FA-9A2D-4454-A521-62B79BA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FCE-D835-495F-9F90-BDFC7E0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163-E601-4CDC-BFB6-EC2789A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4342-4F48-4678-A278-B8B9868F83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, pois, imitadores de Deus, como filhos am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vando o que é agradável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omuniqueis com as obras infrutuosas das trevas, mas antes condenai-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eles fazem em oculto até dizê-lo é tor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as estas coisas se manifestam, sendo condenadas pela luz, porque a luz tudo mani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z: Desperta, tu que dormes, e levanta-te dentre os mortos, e Cristo te escla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ede prudentemente como andais, não como néscios, mas como sáb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mindo o tempo; porquanto os dias são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sejais insensatos, mas entendei qual seja a vontad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os embriagueis com vinho, em que há contenda, mas enchei-vos do Espír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ndo entre vós em salmos, e hinos, e cânticos espirituais; cantando e salmodiando ao Senhor no vosso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i em amor, como também Cristo vos amou, e se entregou a si mesmo por nós, em oferta e sacrifício a Deus, em cheiro su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do sempre graças por tudo a nosso Deus e Pai, em nome de nosso Senh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jeitando-vos uns aos outros no tem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mulheres, sujeitai-vos a vossos maridos, como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arido é a cabeça da mulher, como também Cristo é a cabeça da igreja, sendo ele próprio o salvador d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assim como a igreja está sujeita a Cristo, assim também as mulheres sejam em tudo sujeitas a seus mar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maridos, amai vossas mulheres, como também Cristo amou a igreja, e a si mesmo se entregou por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 santificar, purificando-a com a lavagem da água, pela palav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 apresentar a si mesmo igreja gloriosa, sem mácula, nem ruga, nem coisa semelhante, mas santa e irrepreen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vem os maridos amar as suas próprias mulheres, como a seus próprios corpos. Quem ama a sua mulher, ama-se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ninguém odiou a sua própria carne; antes a alimenta e sustenta, como também o Senhor à igrej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prostituição, e toda a impureza ou avareza, nem ainda se nomeie entre vós, como convém a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omos membros do seu corpo, da sua carne, e dos s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ixará o homem seu pai e sua mãe, e se unirá a sua mulher; e serão dois num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é este mistério; digo-o, porém, a respeito de Cristo e d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cada um em particular, ame a sua própria mulher como a si mesmo, e a mulher reverencie 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orpezas, nem parvoíces, nem chocarrices, que não convêm; mas antes, ações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sabeis isto: que nenhum devasso, ou impuro, ou avarento, o qual é idólatra, tem herança no reino de Cristo 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vos engane com palavras vãs; porque por estas coisas vem a ira de Deus sobre os filhos da desobed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ão sejais seus compa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utro tempo éreis trevas, mas agora sois luz no SENHOR; andai como filhos da lu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o fruto do Espírito está em toda a bondade, e justiça e verdade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0:01Z</dcterms:created>
  <dc:creator>Admin</dc:creator>
  <dc:description/>
  <dc:language>en-US</dc:language>
  <cp:lastModifiedBy>Admin</cp:lastModifiedBy>
  <dcterms:modified xsi:type="dcterms:W3CDTF">2008-07-30T23:30:01Z</dcterms:modified>
  <cp:revision>1</cp:revision>
  <dc:subject/>
  <dc:title>Slide 1</dc:title>
</cp:coreProperties>
</file>