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3DD-4612-4432-829D-DD7E22A0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2E0-9B85-4046-8CC8-F2B4B9C1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01B-AB98-4784-AEE1-434E69E7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F38-31E7-4FEB-973B-AAD0BC53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A64-A744-4D52-930B-589CCCDD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086-E824-4082-BFB1-F281A3C2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651-FA58-4622-9298-14DE4D07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FC9-41C1-477F-BF2B-A0F85D80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71D-3F4D-4791-B4EB-950FFCEA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2F7-B865-4880-BFDF-BD7C5545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8D1-83D2-4ACF-9C30-DAD9E197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7F1-9573-42D5-B6D0-87B635E1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A4B0-0B75-455F-8D2E-74A0213E9F6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AI o cordeiro ao governador da terra, desde Sela, no deserto, até ao monte da filha de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ugiu a alegria e o regozijo do campo fértil, e nas vinhas não se canta, nem há júbilo algum; já não se pisarão as uvas nos lagares. Eu fiz cessar o júbi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meu íntimo vibra por Moabe como harpa, e o meu interior por Quir-H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quando virem Moabe cansado nos altos, então entrará no seu santuário a orar, porém não preval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palavra que o SENHOR falou contra Moabe desde aquele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gora falou o SENHOR, dizendo: Dentro de três anos (tais como os anos de jornaleiros), será envilecida a gloria de Moabe, com toda a sua grande multidão; e o restante será pouco, pequeno e impot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outro modo sucederá que serão as filhas de Moabe junto aos vaus de Arnom como o pássaro vagueante, lançado fora do n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 conselho, executa juízo, põe a tua sombra no pino do meio-dia como a noite; esconde os desterrados, e não descubras os fugiti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bitem contigo os meus desterrados, ó Moabe; serve-lhes de refúgio perante a face do destruidor; porque o homem violento terá fim; a destruição é desfeita, e os opressores são consumidos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trono se firmará em benignidade, e sobre ele no tabernáculo de Davi se assentará em verdade um que julgue, e busque o juízo, e se apresse a fazer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mos da soberba de Moabe, que é soberbíssimo; da sua altivez, da sua soberba, e do seu furor; porém, as suas mentiras não serão fir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Moabe clamará por Moabe; todos clamarão; gemereis pelos fundamentos de Quir-Haresete, pois certamente já estão abat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campos de Hesbom enfraqueceram, e a vinha de Sibma; os senhores dos gentios quebraram as suas melhores plantas que haviam chegado a Jazer e vagueiam no deserto; os seus rebentos se estenderam e passaram além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prantearei, com o pranto de Jazer, a vinha de Sibma; regar-te-ei com as minhas lágrimas, ó Hesbom e Eleale; porque o júbilo dos teus frutos de verão e da tua sega desapar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05Z</dcterms:created>
  <dc:creator>Admin</dc:creator>
  <dc:description/>
  <dc:language>en-US</dc:language>
  <cp:lastModifiedBy>Admin</cp:lastModifiedBy>
  <dcterms:modified xsi:type="dcterms:W3CDTF">2008-07-30T23:55:05Z</dcterms:modified>
  <cp:revision>1</cp:revision>
  <dc:subject/>
  <dc:title>Slide 1</dc:title>
</cp:coreProperties>
</file>