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151-004A-46BA-A108-764456D4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7F-36FA-4E7E-BE95-64B4327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90C-1744-4E5F-8CD4-37165AF9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BB7-91CC-477A-A13D-D5E564AE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424-7298-4A0A-BFDE-936322EF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0C-B206-4256-8226-6B15092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1D0-007D-4A73-9873-02380A6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84D-3229-4FC5-A7AB-DFE247C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22F-17F0-4CF0-9960-A8EEA3CA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4CC-C78E-4E92-A582-9248AC7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E3D-D5F3-4BB6-99EC-776B13A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31A-E1A1-4532-A8EE-120E316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C23F-8A23-4BE7-9AF7-65773B326A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i, servos do SENHOR, louvai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bendito o nome do SENHOR, desde ago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nascimento do sol até ao ocaso, seja louvado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do está o SENHOR acima de todas as nações, e a sua glória sobre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como o SENHOR nosso Deus, que habita nas altu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se inclina, para ver o que está nos céus e na t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o pobre do pó, e do monturo levanta o necessit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fazer assentar com os príncipes, mesmo com os príncipes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com que a mulher estéril habite em casa, e seja alegre mãe de filhos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6Z</dcterms:created>
  <dc:creator>Admin</dc:creator>
  <dc:description/>
  <dc:language>en-US</dc:language>
  <cp:lastModifiedBy>Admin</cp:lastModifiedBy>
  <dcterms:modified xsi:type="dcterms:W3CDTF">2008-07-31T00:27:46Z</dcterms:modified>
  <cp:revision>1</cp:revision>
  <dc:subject/>
  <dc:title>Slide 1</dc:title>
</cp:coreProperties>
</file>