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20A-A22A-4C5B-BEAF-0020340C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73A-0EFD-4C90-AB33-5DA67B43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E0A-EC85-40DE-94F1-80D8E4D0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5D9-F365-4C4D-A850-5C3DCB6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051-E29B-4286-8893-1F9026F8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4A9-B165-4459-BA18-8A67085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0AB-6F8B-4960-9679-233AA130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175-A46C-4ADA-8D76-3C733DC5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7EE-FDE0-4D28-B520-F4C9B28A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D91-E6C3-497D-AE2E-CE5EE44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4B5-319F-40FD-AF07-C18038F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C8C-2CD3-4A93-8816-6859AF5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EFB6-C1B0-464C-80FC-623708D3533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E-SE Deus, e sejam dissipados os seus inimigos; fugirão de diante dele os que o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la habitava o teu rebanho; tu, ó Deus, fizeste provisão da tua bondade para o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 a palavra; grande era o exército dos que anunciavam as boas no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is de exércitos fugiram à pressa; e aquela que ficava em casa repartia os despo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vos tenhais deitado entre redis, contudo sereis como as asas duma pomba, cobertas de prata, e as suas penas, de ouro amar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Onipotente ali espalhou os reis, foi como a neve em Salm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onte de Deus é como o monte de Basã, um monte elevado como o monte de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altais, ó montes elevados? Este é o monte que Deus desejou para a sua habitação, e o SENHOR habitará nel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rros de Deus são vinte milhares, milhares de milhares. O Senhor está entre eles, como em Sinai, no lugar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subiste ao alto, levaste cativo o cativeiro, recebeste dons para os homens, e até para os rebeldes, para que o SENHOR Deus habitasse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, que de dia em dia nos carrega de benefícios; o Deus que é a nossa salvaçã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e impele a fumaça, assim tu os impeles; assim como a cera se derrete diante do fogo, assim pereçam os ímpios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sso Deus é o Deus da salvação; e a DEUS, o Senhor, pertencem os livramentos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ferirá gravemente a cabeça de seus inimigos e o crânio cabeludo do que anda em suas cul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Senhor: Eu os farei voltar de Basã, farei voltar o meu povo das profundezas do m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teu pé mergulhe no sangue de teus inimigos, e no mesmo a língua dos teus cã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eles têm visto os teus caminhos; os caminhos do meu Deus, meu Rei, n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ntores iam adiante, os tocadores de instrumentos atrás; entre eles as donzelas tocando aduf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lebrai a Deus nas congregações; ao Senhor, desde a font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está o pequeno Benjamim, que domina sobre eles, os príncipes de Judá com o seu ajuntamento, os príncipes de Zebulom e os príncipes de Naft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Deus ordenou a tua força; fortalece, ó Deus, o que já fizeste par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o teu templo em Jerusalém, os reis te trarão pres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legrem-se os justos, e se regozijem na presença de Deus, e folguem de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preende asperamente as feras dos canaviais, a multidão dos touros, com os novilhos dos povos, até que cada um se submeta com peças de prata; dissipa os povos que desejam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íncipes virão do Egito; a Etiópia cedo estenderá para Deus 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inos da terra, cantai a Deus, cantai louvores ao Senhor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quele que vai montado sobre os céus dos céus, que existiam desde a antiguidade; eis que envia a sua voz, dá um brado ve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ribuí a Deus fortaleza; a sua excelência está sobre Israel e a sua fortaleza nas mais alta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tu és tremendo desde os teus santuários; o Deus de Israel é o que dá força e poder ao seu povo. Bendito seja Deu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 Deus, cantai louvores ao seu nome; louvai aquele que vai montado sobre os céus, pois o seu nome é SENHOR, e exultai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i de órfãos e juiz de viúvas é Deus, no seu lugar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faz que o solitário viva em família; liberta aqueles que estão presos em grilhões; mas os rebeldes habitam em terra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quando saías diante do teu povo, quando caminhavas pelo deserto,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abalava-se, e os céus destilavam perante a face de Deus; até o próprio Sinai foi comovido na presença de Deus, do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ó Deus, mandaste a chuva em abundância, confortaste a tua herança, quando estava cans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6:01Z</dcterms:created>
  <dc:creator>Admin</dc:creator>
  <dc:description/>
  <dc:language>en-US</dc:language>
  <cp:lastModifiedBy>Admin</cp:lastModifiedBy>
  <dcterms:modified xsi:type="dcterms:W3CDTF">2008-07-31T00:26:01Z</dcterms:modified>
  <cp:revision>1</cp:revision>
  <dc:subject/>
  <dc:title>Slide 1</dc:title>
</cp:coreProperties>
</file>