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B28-7BE6-49CE-95CC-7A53E20E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7B7-5E2E-4EA2-B694-09B0623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533-0DD8-4ADF-B2CE-ACC82BB3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917-4737-47E0-8E4B-4C94A31D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52F-6A95-429B-A268-76D6CA04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5B1-4311-46CF-8738-7FD2A21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19F-4E9B-4465-B97B-B9F60065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6E0-686D-4425-AD5C-503402F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DC7-A03A-45C7-92B7-FAE716D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065-7BFD-4A7F-BF61-41DF96EA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F63-C38E-48A2-B280-3B545B2A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EF7-32E2-4596-922C-1011E10F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7CE-621E-4160-8E0F-E3104CDE3C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, bendizei ao SENHOR todos vós, servos do SENHOR, que assistis na casa do SENHOR todas as no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 as vossas mãos no santuário, e bendize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que fez o céu e a terra te abençoe des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7Z</dcterms:created>
  <dc:creator>Admin</dc:creator>
  <dc:description/>
  <dc:language>en-US</dc:language>
  <cp:lastModifiedBy>Admin</cp:lastModifiedBy>
  <dcterms:modified xsi:type="dcterms:W3CDTF">2008-07-31T00:28:27Z</dcterms:modified>
  <cp:revision>1</cp:revision>
  <dc:subject/>
  <dc:title>Slide 1</dc:title>
</cp:coreProperties>
</file>