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8B26-3BF8-431B-91E4-9CBFF2E29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5842-F43A-4721-AB24-911EC67B5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719A-355E-4D75-9D99-FF8FAD5C9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01DF-069F-4E7B-B055-4B493D127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CF3D-923A-4A3B-85F0-2A77CADCD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F066-FBA6-43D8-BF98-C1740B260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3924-7F88-42C1-BC71-45D93328C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8B1A-17EE-4E34-8D7A-691973734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7482-650A-4EF8-979E-F8EF14C10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3027-146F-4B51-88FD-4A51BD73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785C-0C0D-48A9-8F9A-8FAD316C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75AB-9A5F-402D-8EF6-F0F55E35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831EC-B471-41A0-AA38-ABEEF4D086D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MBRA-TE, SENHOR, de Davi, e de todas as suas afli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amor de Davi, teu servo, não faças virar o rosto do teu ung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jurou com verdade a Davi, e não se apartará dela: Do fruto do teu ventre porei sobre o teu tro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os teus filhos guardarem a minha aliança, e os meus testemunhos, que eu lhes hei de ensinar, também os seus filhos se assentarão perpetuamente no teu tro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SENHOR escolheu a Sião; desejou-a para a sua habitação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 é o meu repouso para sempre; aqui habitarei, pois o desej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bençoarei abundantemente o seu mantimento; fartarei de pão os seus necessit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stirei os seus sacerdotes de salvação, e os seus santos saltarão de praz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li farei brotar a força de Davi; preparei uma lâmpada para o meu ung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2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stirei os seus inimigos de vergonha; mas sobre ele florescerá a sua coro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jurou ao SENHOR, e fez votos ao poderoso Deus de Jacó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ertamente que não entrarei na tenda de minha casa, nem subirei à minha cam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darei sono aos meus olhos, nem repouso às minhas pálpebr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quanto não achar lugar para o SENHOR, uma morada para o poderoso Deus de Jac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ouvimos falar dela em Efrata, e a achamos no campo do bosqu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raremos nos seus tabernáculos; prostrar-nos-emos ante o escabelo de seus p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vanta-te, SENHOR, ao teu repouso, tu e a arca da tua for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stam-se os teus sacerdotes de justiça, e alegrem-se os teus sa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8:27Z</dcterms:created>
  <dc:creator>Admin</dc:creator>
  <dc:description/>
  <dc:language>en-US</dc:language>
  <cp:lastModifiedBy>Admin</cp:lastModifiedBy>
  <dcterms:modified xsi:type="dcterms:W3CDTF">2008-07-31T00:28:27Z</dcterms:modified>
  <cp:revision>1</cp:revision>
  <dc:subject/>
  <dc:title>Slide 1</dc:title>
</cp:coreProperties>
</file>