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FFFB-6EC4-44C3-8150-BE430A1E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90C0-21B7-47F6-A773-D52190D1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AB2E-7424-4D24-A081-10D7F655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264E-23A9-4553-B00E-3BC602F0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7A2B-46C6-42E0-A43A-D880379F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908F-B0A2-42A6-BBDA-08A62C99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0C1C-3D38-42B7-846A-3C34E304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BCA9-838A-47E2-9295-35D8465E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4174-328D-47CA-A378-CD76F35C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A241-5955-4319-8B14-2E50D936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3DDA-E514-4893-97DE-98A9BFCA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F51B-0D77-438B-AE72-9C005814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4E4A-A2E3-41FF-B841-E7D34DF59FB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 turbe o vosso coração; credes em Deus, crede também em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rês tu que eu estou no Pai, e que o Pai está em mim? As palavras que eu vos digo não as digo de mim mesmo, mas o Pai, que está em mim, é quem faz a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rede-me que estou no Pai, e o Pai em mim; crede-me, ao menos, por causa das mesma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, na verdade vos digo que aquele que crê em mim também fará as obras que eu faço, e as fará maiores do que estas, porque eu vou para m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do quanto pedirdes em meu nome eu o farei, para que o Pai seja glorificado no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pedirdes alguma coisa em meu nome, eu o f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me amais, guardai os meus mand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rogarei ao Pai, e ele vos dará outro Consolador, para que fique convosco para sempr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Espírito de verdade, que o mundo não pode receber, porque não o vê nem o conhece; mas vós o conheceis, porque habita convosco, e estará em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os deixarei órfãos; voltarei para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um pouco, e o mundo não me verá mais, mas vós me vereis; porque eu vivo, e vós viv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casa de meu Pai há muitas moradas; se não fosse assim, eu vo-lo teria dito. Vou preparar-vos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conhecereis que estou em meu Pai, e vós em mim, e eu em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tem os meus mandamentos e os guarda esse é o que me ama; e aquele que me ama será amado de meu Pai, e eu o amarei, e me manifestarei 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Judas (não o Iscariotes): SENHOR, de onde vem que te hás de manifestar a nós, e não ao mun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respondeu, e disse-lhe: Se alguém me ama, guardará a minha palavra, e meu Pai o amará, e viremos para ele, e faremos nele mor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não me ama não guarda as minhas palavras; ora, a palavra que ouvistes não é minha, mas do Pai que me env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ho-vos dito isto, estando conv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quele Consolador, o Espírito Santo, que o Pai enviará em meu nome, esse vos ensinará todas as coisas, e vos fará lembrar de tudo quanto vos tenho d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ixo-vos a paz, a minha paz vos dou; não vo-la dou como o mundo a dá. Não se turbe o vosso coração, nem se atemori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stes que eu vos disse: Vou, e venho para vós. Se me amásseis, certamente exultaríeis porque eu disse: Vou para o Pai; porque meu Pai é maior do que 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vo-lo disse agora antes que aconteça, para que, quando acontecer, vós acredit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eu for, e vos preparar lugar, virei outra vez, e vos levarei para mim mesmo, para que onde eu estiver estejais vós tamb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não falarei muito convosco, porque se aproxima o príncipe deste mundo, e nada tem em mi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é para que o mundo saiba que eu amo o Pai, e que faço como o Pai me mandou. Levantai-vos, vamo-nos d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smo vós sabeis para onde vou, e conheceis o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Tomé: Senhor, nós não sabemos para onde vais; e como podemos saber o camin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Jesus: Eu sou o caminho, e a verdade e a vida; ninguém vem ao Pai, senão por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vós me conhecêsseis a mim, também conheceríeis a meu Pai; e já desde agora o conheceis, e o tendes v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Filipe: Senhor, mostra-nos o Pai, o que nos ba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Jesus: Estou há tanto tempo convosco, e não me tendes conhecido, Filipe? Quem me vê a mim vê o Pai; e como dizes tu: Mostra-nos o Pa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4:01Z</dcterms:created>
  <dc:creator>Admin</dc:creator>
  <dc:description/>
  <dc:language>en-US</dc:language>
  <cp:lastModifiedBy>Admin</cp:lastModifiedBy>
  <dcterms:modified xsi:type="dcterms:W3CDTF">2008-07-31T00:04:01Z</dcterms:modified>
  <cp:revision>1</cp:revision>
  <dc:subject/>
  <dc:title>Slide 1</dc:title>
</cp:coreProperties>
</file>