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4B9-CB8E-4FC2-9780-AF371E35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606-B4B1-463B-9FD2-C19CBD9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F7C-A952-4621-84A5-6F39F29C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2B5-0953-420E-93D3-CDCF7E6A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9D9-AD8D-46C8-8242-A1B0A20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5C3-6E43-4AE7-A708-2097B7D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B79-C6F4-45E6-AF04-59CA12AF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194-1F5F-4F8A-A82D-8352AFDB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460-8227-4B70-B3CE-E07295C4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301-E800-449F-A3D2-750DD9B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950-F4AF-472D-BC0A-523E037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DFD-6061-4B68-8F0F-E1840B6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1F6-C1D3-4A25-8BE9-43103D92D7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nvio o meu mensageiro, que preparará o caminho diante de mim; e de repente virá ao seu templo o Senhor, a quem vós buscais; e o mensageiro da aliança, a quem vós desejais, eis que ele vem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i todos os dízimos à casa do tesouro, para que haja mantimento na minha casa, e depois fazei prova de mim nisto, diz o SENHOR dos Exércitos, se eu não vos abrir as janelas do céu, e não derramar sobre vós uma bênção tal até que não haja lugar suf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ausa de vós repreenderei o devorador, e ele não destruirá os frutos da vossa terra; e a vossa vide no campo não será estéril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nações vos chamarão bem-aventurados; porque vós sereis uma terra deleitosa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palavras foram agressivas para mim, diz o SENHOR; mas vós dizeis: Que temos falado contr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tendes dito: Inútil é servir a Deus; que nos aproveita termos cuidado em guardar os seus preceitos, e em andar de luto diante do SENHOR dos Exérc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nós reputamos por bem-aventurados os soberbos; também os que cometem impiedade são edificados; sim, eles tentam a Deus, e escap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que temeram ao SENHOR falaram freqüentemente um ao outro; e o SENHOR atentou e ouviu; e um memorial foi escrito diante dele, para os que temeram o SENHOR, e para os que se lembraram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serão meus, diz o SENHOR dos Exércitos; naquele dia serão para mim jóias; poupá-los-ei, como um homem poupa a seu filho, que o ser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eis e vereis a diferença entre o justo e o ímpio; entre o que serve a Deus, e o que não o ser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m suportará o dia da sua vinda? E quem subsistirá, quando ele aparecer? Porque ele será como o fogo do ourives e como o sabão dos lavand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entar-se-á como fundidor e purificador de prata; e purificará os filhos de Levi, e os refinará como ouro e como prata; então ao SENHOR trarão oferta e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ferta de Judá e de Jerusalém será agradável ao SENHOR, como nos dias antigos, e como nos primeiro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-me-ei a vós para juízo; e serei uma testemunha veloz contra os feiticeiros, contra os adúlteros, contra os que juram falsamente, contra os que defraudam o diarista em seu salário, e a viúva, e o órfão, e que pervertem o direito do estrangeiro,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, o SENHOR, não mudo; por isso vós, ó filhos de Jacó, não sois consum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s dias de vossos pais vos desviastes dos meus estatutos, e não os guardastes; tornai-vos para mim, e eu me tornarei para vós, diz o SENHOR dos Exércitos; mas vós dizeis: Em que havemos de torn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ubará o homem a Deus? Todavia vós me roubais, e dizeis: Em que te roubamos? Nos dízimos e nas ofe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maldição sois amaldiçoados, porque a mim me roubais, sim, toda esta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34Z</dcterms:created>
  <dc:creator>Admin</dc:creator>
  <dc:description/>
  <dc:language>en-US</dc:language>
  <cp:lastModifiedBy>Admin</cp:lastModifiedBy>
  <dcterms:modified xsi:type="dcterms:W3CDTF">2008-07-31T00:12:34Z</dcterms:modified>
  <cp:revision>1</cp:revision>
  <dc:subject/>
  <dc:title>Slide 1</dc:title>
</cp:coreProperties>
</file>