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517-1818-494D-BF28-E580A2E3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AA4-3777-4149-AF7C-569D6299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D29-6999-451D-ADB6-F2240104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2DB-92A2-43F2-BCBA-63C0A3A6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873-87A8-40F5-94A3-FE47314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44E-4D50-490C-8BBF-3058568A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F49-47F8-4085-AE21-3058AC38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27F-BE09-4395-813D-F3A3950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A49-9C3D-454D-9DE3-17A929AB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555-DFD7-47EF-B618-8E404A5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CFC-916C-4F54-85A4-35F87CAD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274-4469-4796-A221-C9F8ECD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1D0-0ED0-463A-B672-4CFCA3C1AF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e Moabe. Certamente numa noite foi destruída Ar de Moabe, e foi desfeita; certamente numa noite foi destruída Quir de Moabe e foi desf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 subindo a Bajite, e a Dibom, aos lugares altos, para chorar; por Nebo e por Medeba clamará Moabe; todas as cabeças ficarão calvas, e toda a barba será ra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giram-se de sacos nas suas ruas; nos seus terraços e nas suas praças todos andam gritando, e choram abund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Hesbom como Eleale, andam gritando; até Jaaz se ouve a sua voz; por isso os armados de Moabe clamam; a sua alma lhes será pen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ação clama por causa de Moabe; os seus fugitivos foram até Zoar, como uma novilha de três anos; porque vão chorando pela subida de Luíte, porque no caminho de Horonaim levantam um lastimoso pr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águas de Ninrim serão pura assolação; porque já secou o feno, acabou a erva, e não há verdur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abundância que ajuntaram, e o que guardaram, ao ribeiro dos salgueiros o lev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ranto rodeará aos limites de Moabe; até Eglaim chegará o seu clamor, e ainda até Beer-Elim chegará o seu l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s águas de Dimom estão cheias de sangue, porque ainda acrescentarei mais a Dimom; leões contra aqueles que escaparem de Moabe e contra o restant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03Z</dcterms:created>
  <dc:creator>Admin</dc:creator>
  <dc:description/>
  <dc:language>en-US</dc:language>
  <cp:lastModifiedBy>Admin</cp:lastModifiedBy>
  <dcterms:modified xsi:type="dcterms:W3CDTF">2008-07-30T23:55:03Z</dcterms:modified>
  <cp:revision>1</cp:revision>
  <dc:subject/>
  <dc:title>Slide 1</dc:title>
</cp:coreProperties>
</file>