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5A3-0E91-468C-A38C-931C7777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E67-3F9D-44AE-93AF-5B4C6846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D50-D2BE-4BB7-9818-001E65F3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A77-B0E5-4A21-B31F-EB7D99BD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EB7-07B9-43FF-B596-93FC259A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573-640C-41C7-9026-E7DE324F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991-526F-434D-A1A0-3D49D1CC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371-F28C-4D7A-B413-C398A8EA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B62-9956-42F7-B981-5A5CB2C1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6D3-9176-4700-A78B-D7F521D0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EE2-ED65-4780-A166-1B176AD0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20C-DDF6-447B-9DC9-C668F7E1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4718-C533-40B8-A88C-30E24D36673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IA um homem na terra de Uz, cujo nome era Jó; e era este homem íntegro, reto e temente a Deus e desviava-se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tu não cercaste de sebe, a ele, e a sua casa, e a tudo quanto tem? A obra de suas mãos abençoaste e o seu gado se tem aumentado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ende a tua mão, e toca-lhe em tudo quanto tem, e verás se não blasfema contra ti na t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Satanás: Eis que tudo quanto ele tem está na tua mão; somente contra ele não estendas a tua mão. E Satanás saiu da presenç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um dia, em que seus filhos e suas filhas comiam, e bebiam vinho, na casa de seu irmão primogêni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veio um mensageiro a Jó, e lhe disse: Os bois lavravam, e as jumentas pastavam junto a e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 sobre eles os sabeus, e os tomaram, e aos servos feriram ao fio da espada; e só eu escapei para trazer-te a n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este ainda falando, veio outro e disse: Fogo de Deus caiu do céu, e queimou as ovelhas e os servos, e os consumiu, e só eu escapei para trazer-te a n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ainda este falando, veio outro, e disse: Ordenando os caldeus três tropas, deram sobre os camelos, e os tomaram, e aos servos feriram ao fio da espada; e só eu escapei para trazer-te a n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ainda este falando, veio outro, e disse: Estando teus filhos e tuas filhas comendo e bebendo vinho, em casa de seu irmão primogêni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um grande vento sobreveio dalém do deserto, e deu nos quatro cantos da casa, que caiu sobre os jovens, e morreram; e só eu escapei para trazer-te a n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sceram-lhe sete filhos e trê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ó se levantou, e rasgou o seu manto, e rapou a sua cabeça, e se lançou em terra, e ad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Nu saí do ventre de minha mãe e nu tornarei para lá; o SENHOR o deu, e o SENHOR o tomou: bendito seja o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udo isto Jó não pecou, nem atribuiu a Deus falt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gado era de sete mil ovelhas, três mil camelos, quinhentas juntas de bois e quinhentas jumentas; eram também muitíssimos os servos a seu serviço, de maneira que este homem era maior do que todos os d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am seus filhos à casa uns dos outros e faziam banquetes cada um por sua vez; e mandavam convidar as suas três irmãs a comerem e beberem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ia, pois, que, decorrido o turno de dias de seus banquetes, enviava Jó, e os santificava, e se levantava de madrugada, e oferecia holocaustos segundo o número de todos eles; porque dizia Jó: Talvez pecaram meus filhos, e amaldiçoaram a Deus no seu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um dia em que os filhos de Deus vieram apresentar-se perante o SENHOR, veio também Satanás ent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disse a Satanás: Donde vens? E Satanás respondeu ao SENHOR, e disse: De rodear a terra, e passear por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Satanás: Observaste tu a meu servo Jó? Porque ninguém há na terra semelhante a ele, homem íntegro e reto, temente a Deus, e que se desvia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ó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Satanás ao SENHOR, e disse: Porventura teme Jó a Deus debal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0:21Z</dcterms:created>
  <dc:creator>Admin</dc:creator>
  <dc:description/>
  <dc:language>en-US</dc:language>
  <cp:lastModifiedBy>Admin</cp:lastModifiedBy>
  <dcterms:modified xsi:type="dcterms:W3CDTF">2008-07-31T00:00:21Z</dcterms:modified>
  <cp:revision>1</cp:revision>
  <dc:subject/>
  <dc:title>Slide 1</dc:title>
</cp:coreProperties>
</file>