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715-E458-4F56-9A22-0C8F6CCB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084-4122-45D7-8835-25037FF4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CB1-9FB5-417C-BF31-3EC75550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E07-10E8-4007-983B-B0D1C6D0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EF7-E603-4D23-AFF6-1F4348BC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91F-DC76-4140-923F-7B207207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AE3-07B1-4E0B-AA7B-4C773E27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995-4A1D-4066-B235-2134C612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50F-37FC-4B2A-A3C8-1E03EAD7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CCB-51E8-4520-A49E-7DA3585B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F81-73DD-4588-9A74-CD436F61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A85-0504-4E2E-85E1-47D4BB49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A9E0-AE37-4758-B15B-EB4DC0F7ADA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tem o seu tempo determinado, e há tempo para todo o propósito debaixo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visto o trabalho que Deus deu aos filhos dos homens, para com ele os exerci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fez formoso em seu tempo; também pôs o mundo no coração do homem, sem que este possa descobrir a obra que Deus fez desde o princípio até a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tenho entendido que não há coisa melhor para eles do que alegrar-se e fazer bem na sua vi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que todo o homem coma e beba, e goze do bem de todo o seu trabalho; isto é um dom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ei que tudo quanto Deus faz durará eternamente; nada se lhe deve acrescentar, e nada se lhe deve tirar; e isto faz Deus para que haja temor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é, já foi; e o que há de ser, também já foi; e Deus pede conta do que pas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 mais debaixo do sol que no lugar do juízo havia impiedade, e no lugar da justiça havi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isse no meu coração: Deus julgará o justo e o ímpio; porque há um tempo para todo o propósito e para toda 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u no meu coração, quanto a condição dos filhos dos homens, que Deus os provaria, para que assim pudessem ver que são em si mesmos como o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que sucede aos filhos dos homens, isso mesmo também sucede aos animais, e lhes sucede a mesma coisa; como morre um, assim morre o outro; e todos têm o mesmo fôlego, e a vantagem dos homens sobre os animais não é nenhuma, porque todos são vaid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tempo de nascer, e tempo de morrer; tempo de plantar, e tempo de arrancar o que se plant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vão para um lugar; todos foram feitos do pó, e todos voltarão ao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sabe que o fôlego do homem vai para cima, e que o fôlego dos animais vai para baixo d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tenho visto que não há coisa melhor do que alegrar-se o homem nas suas obras, porque essa é a sua porção; pois quem o fará voltar para ver o que será depois d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po de matar, e tempo de curar; tempo de derrubar, e tempo de edific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po de chorar, e tempo de rir; tempo de prantear, e tempo de danç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po de espalhar pedras, e tempo de ajuntar pedras; tempo de abraçar, e tempo de afastar-se de abraç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po de buscar, e tempo de perder; tempo de guardar, e tempo de lançar fo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po de rasgar, e tempo de coser; tempo de estar calado, e tempo de fal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po de amar, e tempo de odiar; tempo de guerra, e tempo de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proveito tem o trabalhador naquilo em que trabalh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23Z</dcterms:created>
  <dc:creator>Admin</dc:creator>
  <dc:description/>
  <dc:language>en-US</dc:language>
  <cp:lastModifiedBy>Admin</cp:lastModifiedBy>
  <dcterms:modified xsi:type="dcterms:W3CDTF">2008-07-30T23:29:23Z</dcterms:modified>
  <cp:revision>1</cp:revision>
  <dc:subject/>
  <dc:title>Slide 1</dc:title>
</cp:coreProperties>
</file>