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61B-BA35-46B2-B95D-BD4BFCD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F16-86B3-4FDB-8C8E-80BE0CA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544-A2B8-440E-B5B2-9CB391ED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757-E87A-4EAB-9CBB-8F481EB0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07E-058D-4014-AF28-B2E2550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9E1-8AB4-4362-8E98-01FE58A1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6B0-C165-4EF8-B64B-037A184E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404-84BF-403F-8311-8593127D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10E-ED0D-44DB-8F0D-E2380ECE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B88-67AF-4DE1-ABF8-B2FC06A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C25-6BAE-47A2-B241-C36BD51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EFA-9423-4777-92B7-CFC48E9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3F0C-5557-45A0-9B22-B322333123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ÂNTICO dos cânticos, que é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mosas são as tuas faces entre os teus enfeites, o teu pescoço com os col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feites de ouro te faremos, com incrustaçõe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o rei está assentado à sua mesa, o meu nardo exala o seu perfu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mado é para mim como um ramalhete de mirra, posto entre os meus se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m ramalhete de hena nas vinhas de En-Gedi é para mim o meu 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és formosa, ó meu amor, eis que és formosa; os teus olhos são como os das pom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és formoso, ó amado meu, e também amável; o nosso leito é ve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raves da nossa casa são de cedro, as nossas varandas de cipr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ije-me ele com os beijos da sua boca; porque melhor é o teu amor do que o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ave é o aroma dos teus ungüentos; como o ungüento derramado é o teu nome; por isso as virgens te 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-me tu; correremos após ti. O rei me introduziu nas suas câmaras; em ti nos regozijaremos e nos alegraremos; do teu amor nos lembraremos, mais do que do vinho; os retos te 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morena, porém formosa, ó filhas de Jerusalém, como as tendas de Quedar, como as cortinas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lheis para o eu ser morena; porque o sol resplandeceu sobre mim; os filhos de minha mãe indignaram-se contra mim, puseram-me por guarda das vinhas; a minha vinha, porém, não guard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me, ó tu, a quem ama a minha alma: Onde apascentas o teu rebanho, onde o fazes descansar ao meio-dia; pois por que razão seria eu como a que anda errante junto aos rebanhos de teus companhei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u não o sabes, ó mais formosa entre as mulheres, sai-te pelas pisadas do rebanho, e apascenta as tuas cabras junto às moradas dos past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Cântic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s éguas dos carros de Faraó te comparo, ó meu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40Z</dcterms:created>
  <dc:creator>Admin</dc:creator>
  <dc:description/>
  <dc:language>en-US</dc:language>
  <cp:lastModifiedBy>Admin</cp:lastModifiedBy>
  <dcterms:modified xsi:type="dcterms:W3CDTF">2008-07-30T23:25:40Z</dcterms:modified>
  <cp:revision>1</cp:revision>
  <dc:subject/>
  <dc:title>Slide 1</dc:title>
</cp:coreProperties>
</file>