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F83-7DFA-4325-B07F-23172720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EAB-8986-4D27-8B47-FB37A829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5C3-4314-44E3-B9F4-F586D6EC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330-F403-4339-8696-3EFAB658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549-001F-4D6A-84B9-BB026B3D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A2E-5159-4BAE-B2E0-9F4B1DBB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15C-6E4C-4F2C-BDA7-4051D631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6F3-C5BE-4241-AC86-7C83DBEC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47C-0035-4409-B77A-FBF67108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0BD-B628-4635-8D3F-B52A753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DB8-596D-4767-8B5B-BB6AEF91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522-BECE-484F-956B-0A11D616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64D8-FCE0-4A72-BE7E-D984F2FFE89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veio a Jeremias da parte do SENHOR, no ano décimo de Zedequias, rei de Judá, o qual foi o décimo oitavo de Nabucodono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nei a escritura, e selei-a, e fiz confirmar por testemunhas; e pesei-lhe o dinheiro numa bal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ei a escritura da compra, selada segundo a lei e os estatutos, e a cópia ab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 a escritura da compra a Baruque, filho de Nerias, filho de Maaséias, na presença de Hanameel, filho de meu tio e na presença das testemunhas, que subscreveram a escritura da compra, e na presença de todos os judeus que se assentavam no pátio da 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 ordem a Baruque, na presença dele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: Toma estas escrituras, este auto de compra, tanto a selada, como a aberta, e coloca-as num vaso de barro, para que se possam conservar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, o Deus de Israel: Ainda se comprarão casas, e campos, e vinhas n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que dei a escritura da compra a Baruque, filho de Nerias, orei a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 Senhor DEUS! Eis que tu fizeste os céus e a terra com o teu grande poder, e com o teu braço estendido; nada há que te seja demasiado difíci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que usas de benignidade com milhares, e retribuis a maldade dos pais ao seio dos filhos depois deles; o grande, o poderoso Deus cujo nome é o SENHOR dos Exérci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 em conselho, e magnífico em obras; porque os teus olhos estão abertos sobre todos os caminhos dos filhos dos homens, para dar a cada um segundo os seus caminhos e segundo o fruto das suas ob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esse tempo o exército do rei de Babilônia cercava Jerusalém; e Jeremias, o profeta, estava encerrado no pátio da guarda que estava na casa do rei de Jud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puseste sinais e maravilhas na terra do Egito até ao dia de hoje, tanto em Israel, como entre os outros homens, e te fizeste um nome, o qual tu tens nest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ste o teu povo Israel da terra do Egito, com sinais e com maravilhas, e com mão forte, e com braço estendido, e com grande espa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deste esta terra, que juraste a seus pais que lhes havias de dar, terra que mana l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ram nela, e a possuíram, mas não obedeceram à tua voz, nem andaram na tua lei; tudo o que lhes mandaste que fizessem, eles não o fizeram; por isso ordenaste lhes sucedesse todo est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os valados; já vieram contra a cidade para tomá-la, e a cidade está entregue na mão dos caldeus, que pelejam contra ela, pela espada, pela fome e pela pestilência; e o que disseste se cumpriu, e eis aqui o estás presenci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tu me disseste, ó Senhor DEUS: Compra para ti o campo por dinheiro, e faze que o confirmem testemunhas, embora a cidade já esteja entregue na mão d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sou o SENHOR, o Deus de toda a carne; acaso haveria alguma coisa demasiado difícil para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: Eis que eu entrego esta cidade na mão dos caldeus, e na mão de Nabucodonosor, rei de Babilônia, e ele a to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ldeus, que pelejam contra esta cidade, entrarão nela, e pôr-lhe-ão fogo, e queimarão, as casas sobre cujos terraços queimaram incenso a Baal e ofereceram libações a outros deuses, para me provocarem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Zedequias, rei de Judá, o tinha encerrado, dizendo: Por que profetizas tu, dizendo: Assim diz o SENHOR: Eis que entrego esta cidade na mão do rei de Babilônia, e ele a toma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filhos de Israel e os filhos de Judá não fizeram senão mal aos meus olhos, desde a sua mocidade; porque os filhos de Israel nada fizeram senão provocar-me à ira com as obras das suas mã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a minha ira e para o meu furor me tem sido esta cidade, desde o dia em que a edificaram, e até ao dia de hoje, para que a tirasse da minha prese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e toda a maldade dos filhos de Israel, e dos filhos de Judá, que fizeram, para me provocarem à ira, eles e os seus reis, os seus príncipes, os seus sacerdotes, e os seus profetas, como também os homens de Judá e os moradore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ram-me as costas, e não o rosto; ainda que eu os ensinava, madrugando e ensinando-os, contudo eles não deram ouvidos, para receberem o ens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puseram as suas abominações na casa que se chama pelo meu nome, para a profan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aram os altos de Baal, que estão no Vale do Filho de Hinom, para fazerem passar seus filhos e suas filhas pelo fogo a Moloque; o que nunca lhes ordenei, nem veio ao meu coração, que fizessem tal abominação, para fazerem pecar a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agora assim diz o SENHOR, o Deus de Israel, acerca desta cidade, da qual vós dizeis: Já está dada na mão do rei de Babilônia, pela espada, pela fome, e pela pestilênci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os congregarei de todas as terras, para onde os tenho lançado na minha ira, e no meu furor, e na minha grande indignação; e os tornarei a trazer a este lugar, e farei que habitem nele segur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serão o meu povo, e eu lhes serei o seu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darei um mesmo coração, e um só caminho, para que me temam todos os dias, para seu bem, e o bem de seus filhos, depoi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edequias, rei de Judá, não escapará das mãos dos caldeus; mas certamente será entregue na mão do rei de Babilônia, e com ele falará boca a boca, e os seus olhos verão os d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om eles uma aliança eterna de não me desviar de fazer-lhes o bem; e porei o meu temor nos seus corações, para que nunca se aparte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egrar-me-ei deles, fazendo-lhes bem; e plantá-los-ei nesta terra firmemente, com todo o meu coração e com toda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Como eu trouxe sobre este povo todo este grande mal, assim eu trarei sobre ele todo o bem que lhes tenho decl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prar-se-ão campos nesta terra, da qual vós dizeis: Está desolada, sem homens, sem animais; está entregue na mão d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rarão campos por dinheiro, e assinarão as escrituras, e as selarão, e farão que confirmem testemunhas, na terra de Benjamim, e nos contornos de Jerusalém, e nas cidades de Judá, e nas cidades das montanhas, e nas cidades das planícies, e nas cida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evará Zedequias para Babilônia, e ali estará, até que eu o visite, diz o SENHOR e, ainda que pelejeis contra os caldeus, não ganhar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Jeremias: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Hanameel, filho de Salum, teu tio, virá a ti dizendo: Compra para ti a minha herdade que está em Anatote, pois tens o direito de resgate para compr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a mim Hanameel, filho de meu tio, segundo a palavra do SENHOR, ao pátio da guarda, e me disse: Compra agora a minha herdade que está em Anatote, na terra de Benjamim; porque teu é o direito de herança, e tens o resgate; compra-a para ti. Ent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rei, pois, a herdade de Hanameel, filho de meu tio, a qual está em Anatote; e pesei-lhe o dinheiro, dezessete siclo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9:04Z</dcterms:created>
  <dc:creator>Admin</dc:creator>
  <dc:description/>
  <dc:language>en-US</dc:language>
  <cp:lastModifiedBy>Admin</cp:lastModifiedBy>
  <dcterms:modified xsi:type="dcterms:W3CDTF">2008-07-30T23:59:04Z</dcterms:modified>
  <cp:revision>1</cp:revision>
  <dc:subject/>
  <dc:title>Slide 1</dc:title>
</cp:coreProperties>
</file>