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4FE-3AA3-4627-82D7-EC279D89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5A2-973A-468C-9F69-D2FF85F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09C-B014-44BE-827D-3C1B9D3A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FF2-F668-48AB-B6D3-0D503BC7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616-7498-4923-A772-49581AC8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C92-C881-47B3-A3C6-448BD2D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750-A9CF-49FD-8583-F250730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785-61B3-4F54-941C-839FE265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10C-2C8D-4706-9E7F-49349967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3B3-FF6B-458C-AF55-2F908AE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1B2-827B-48BD-AF55-B112DFE6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9DF-3FEF-410B-81F0-ECAA5DA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5E4-CEFE-4593-AD3D-24B2E4BB91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e invocai o seu nome; fazei conhecidas as suas obras entre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irmou o mesmo a Jacó por lei, e a Israel por aliança eter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A ti darei a terra de Canaã, a região da voss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ram poucos homens em número, sim, mui poucos, e estrangeiros n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ndavam de nação em nação e dum reino para outro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rmitiu a ninguém que os oprimisse, e por amor deles repreendeu a rei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queis os meus ungidos, e não maltrateis os meu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ou a fome sobre a terra, quebrantou todo o sustento do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 perante eles um homem, José, que foi vendido por escra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os pés apertaram com grilhões; foi posto em fer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o tempo em que chegou a sua palavra; a palavra do SENHOR o prov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-lhe, cantai-lhe salmos; falai de todas as s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 o rei, e o fez soltar; o governador dos povos, e o sol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ê-lo senhor da sua casa, e governador de toda a sua faze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sujeitar os seus príncipes a seu gosto, e instruir os seus anci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rael entrou no Egito, e Jacó peregrinou na terra de C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umentou o seu povo em grande maneira, e o fez mais poderoso do que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ou o coração deles para que odiassem o seu povo, para que tratassem astutamente a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 Moisés, seu servo, e Arão, a quem escolh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aram entre eles os seus sinais e prodígios, na terra de C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 trevas, e a fez escurecer; e não foram rebeldes à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u as suas águas em sangue, e matou os seus p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loriai-vos no seu santo nome; alegre-se o coração daqueles que busc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terra produziu rãs em abundância, até nas câmaras dos seu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ele, e vieram enxames de moscas e piolhos em todo o seu t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u as suas chuvas em saraiva, e fogo abrasador n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u as suas vinhas e os seus figueirais, e quebrou as árvores d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ele e vieram gafanhotos e pulgão sem núm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am toda a erva da sua terra, e devoraram o fruto dos seu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u também a todos os primogênitos da sua terra, as primícias de todas as suas for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-os para fora com prata e ouro, e entre as suas tribos não houve um só fra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gito se alegrou quando eles saíram, porque o seu temor caíra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u uma nuvem por coberta, e um fogo para iluminar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ao SENHOR e a sua força; buscai a sua face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ram, e ele fez vir codornizes, e os fartou de pão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u a penha, e dela correram águas; correram pelos lugares secos, como um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lembrou da sua santa palavra, e de Abraão,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dali o seu povo com alegria, e os seus escolhidos com regozi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lhes as terras dos gentios; e herdaram o trabalho dos po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guardassem os seus preceitos, e observassem as suas leis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as maravilhas que fez, dos seus prodígios e dos juízos da sua bo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semente de Abraão, seu servo, vós, filhos de Jacó, seu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SENHOR nosso Deus; os seus juízos estão em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ou-se da sua aliança para sempre, da palavra que mandou a milhares de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aliança fez com Abraão, e o seu juramento a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26Z</dcterms:created>
  <dc:creator>Admin</dc:creator>
  <dc:description/>
  <dc:language>en-US</dc:language>
  <cp:lastModifiedBy>Admin</cp:lastModifiedBy>
  <dcterms:modified xsi:type="dcterms:W3CDTF">2008-07-31T00:27:26Z</dcterms:modified>
  <cp:revision>1</cp:revision>
  <dc:subject/>
  <dc:title>Slide 1</dc:title>
</cp:coreProperties>
</file>