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249-63C7-409D-8669-52622D54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1A5-FA4B-4E8B-9124-1AB3CE66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5AF-8BF0-42E3-A23E-068A89DD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3AC-EE65-4F3B-B011-D11042CD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6E7-14D3-42FF-8360-8D7F6626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E15-253E-402D-A251-D94B33FB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ED2-9E23-48D0-81C7-122FA1B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35D-4401-4652-B7FF-D7A2C97D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1BD-3AF5-4F02-831A-573EA2CC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090-27C1-4D4C-A5F2-7D82606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7B4-D9F0-486D-A764-5A64DDDD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1E5-3485-4E63-AFF7-E1D91DE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E3B8-5202-4717-8B68-2992378A1DC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tem tédio da minha vida; darei livre curso à minha queixa, falarei na amargura d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me vazaste como leite, e como queijo não me coalha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pele e carne me vestiste, e de ossos e nervos me tec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da e misericórdia me concedeste; e o teu cuidado guardou o meu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tas coisas as ocultaste no teu coração; bem sei eu que isto esteve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pecar, tu me observas; e da minha iniqüidade não me escus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or ímpio, ai de mim! E se for justo, não levantarei a minha cabeça; farto estou da minha ignomínia; e vê qual é a minha afli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vai crescendo; tu me caças como a um leão feroz; tornas a fazer maravilhas para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renovas contra mim as tuas testemunhas, e multiplicas contra mim a tua ira; revezes e combate estão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, pois, me tiraste da madre? Ah! se então tivera expirado, e olho nenhum me viss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teria sido como se nunca fora; e desde o ventre seria levado à sepultu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ei a Deus: Não me condenes; faze-me saber por que contendes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são poucos os meus dias? Cessa, pois, e deixa-me, para que por um pouco eu tome al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eu vá para o lugar de que não voltarei, à terra da escuridão e da sombra da mo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rra escuríssima, como a própria escuridão, terra da sombra da morte e sem ordem alguma, e onde a luz é como a escur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ece-te bem que me oprimas, que rejeites o trabalho das tuas mãos e resplandeças sobre o conselho dos ímp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s tu porventura olhos de carne? Vês tu como vê o hom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ão os teus dias como os dias do homem? Ou são os teus anos como os anos de um hom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te informares da minha iniqüidade, e averiguares o meu pec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sabes tu que eu não sou iníquo; todavia ninguém há que me livre d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mãos me fizeram e me formaram completamente; contudo me conso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ço-te que te lembres de que como barro me formaste e me farás voltar a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50Z</dcterms:created>
  <dc:creator>Admin</dc:creator>
  <dc:description/>
  <dc:language>en-US</dc:language>
  <cp:lastModifiedBy>Admin</cp:lastModifiedBy>
  <dcterms:modified xsi:type="dcterms:W3CDTF">2008-07-31T00:00:50Z</dcterms:modified>
  <cp:revision>1</cp:revision>
  <dc:subject/>
  <dc:title>Slide 1</dc:title>
</cp:coreProperties>
</file>