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405-33E3-42C3-8518-F1403D9D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E7B-59F1-4E00-8DA0-759B33F4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AD6-5039-4F5E-98AA-A31A9E67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14A-1CC9-4E10-9CE1-80750162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FEE-DEAF-46C4-BE2D-62B842CA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C2F-31A8-44D3-9883-1E840E60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E45-6A83-4553-97DF-918172AF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868-95F4-4F85-B443-B5117C49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30D-6F29-4B5A-9DB2-A2C13204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359-6859-4FE5-B891-2EF7D2A3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800-A8D0-467D-ABB1-20CD5593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887-96E0-44C6-B966-FC5292D8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C419-BDDB-4B09-BAC7-E8FC326F267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se compadecerá de Jacó, e ainda escolherá a Israel e os porá na sua própria terra; e ajuntar-se-ão com eles os estrangeiros, e se achegarão à casa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todos responderão, e te dirão: Tu também adoeceste como nós, e foste semelhante a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foi derrubada na sepultura a tua soberba com o som das tuas violas; os vermes debaixo de ti se estenderão, e os bichos te cobr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caíste desde o céu, ó estrela da manhã, filha da alva! Como foste cortado por terra, tu que debilitavas as naçõe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 dizias no teu coração: Eu subirei ao céu, acima das estrelas de Deus exaltarei o meu trono, e no monte da congregação me assentarei, aos lados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rei sobre as alturas das nuvens, e serei semelhante ao Al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udo levado serás ao inferno, ao mais profundo do abi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te virem te contemplarão, considerar-te-ão, e dirão: É este o homem que fazia estremecer a terra e que fazia tremer os rein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punha o mundo como o deserto, e assolava as suas cidades? Que não abria a casa de seus cativ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reis das nações, todos eles, jazem com honra, cada um na sua mo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u és lançado da tua sepultura, como um renovo abominável, como as vestes dos que foram mortos atravessados à espada, como os que descem ao covil de pedras, como um cadáver pis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ovos os receberão, e os levarão aos seus lugares, e a casa de Israel os possuirá por servos, e por servas, na terra do SENHOR; e cativarão aqueles que os cativaram, e dominarão sobre os seus opress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eles não te reunirás na sepultura; porque destruíste a tua terra e mataste o teu povo; a descendência dos malignos não será jamais nome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ai a matança para os seus filhos por causa da maldade de seus pais, para que não se levantem, e nem possuam a terra, e encham a face do mundo de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 levantarei contra eles, diz o SENHOR dos Exércitos, e extirparei de Babilônia o nome, e os sobreviventes, o filho e o net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dela uma possessão de ouriços e a lagoas de águas; e varrê-la-ei com vassoura de perdição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os Exércitos jurou, dizendo: Como pensei, assim sucederá, e como determinei, assim se efetu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brantarei a Assíria na minha terra, e nas minhas montanhas a pisarei, para que o seu jugo se aparte deles e a sua carga se desvie dos seus omb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propósito que foi determinado sobre toda a terra; e esta é a mão que está estendida sobre todas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dos Exércitos o determinou; quem o invalidará? E a sua mão está estendida; quem pois a fará voltar atrá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em que morreu o rei Acaz, foi dada esta sent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alegres, tu, toda a Filístia, por estar quebrada a vara que te feria; porque da raiz da cobra sairá um basilisco, e o seu fruto será uma serpente ardente, voad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 no dia em que o SENHOR vier a dar-te descanso do teu sofrimento, e do teu pavor, e da dura servidão com que te fizeram servi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imogênitos dos pobres serão apascentados, e os necessitados se deitarão seguros; porém farei morrer de fome a tua raiz, e ele matará os teus sobreviv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 uivos, ó porta, grita, ó cidade; tu, ó Filístia, estás toda derretida; porque do norte vem uma fumaça, e não haverá quem fique sozinho nas suas convoc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se responderá, pois, aos mensageiros da nação? Que o SENHOR fundou a Sião, para que os opressos do seu povo nela encontrem refúg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roferirás este provérbio contra o rei de Babilônia, e dirás: Como já cessou o opressor, como já cessou a cidade dourad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quebrantou o SENHOR o bastão dos ímpios e o cetro dos domin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feria aos povos com furor, com golpes incessantes, e que com ira dominava sobre as nações agora é perseguido, sem que alguém o possa imped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descansa, já está sossegada toda a terra; rompem cant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as faias se alegram sobre ti, e os cedros do Líbano, dizendo: Desde que tu caíste ninguém sobe contra nós para nos cor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inferno desde o profundo se turbou por ti, para te sair ao encontro na tua vinda; despertou por ti os mortos, e todos os chefes da terra, e fez levantar dos seus tronos a todos os reis d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5:02Z</dcterms:created>
  <dc:creator>Admin</dc:creator>
  <dc:description/>
  <dc:language>en-US</dc:language>
  <cp:lastModifiedBy>Admin</cp:lastModifiedBy>
  <dcterms:modified xsi:type="dcterms:W3CDTF">2008-07-30T23:55:02Z</dcterms:modified>
  <cp:revision>1</cp:revision>
  <dc:subject/>
  <dc:title>Slide 1</dc:title>
</cp:coreProperties>
</file>