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38E-4A87-4196-B5AB-9A6E8679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F79-33C9-43B8-A8F5-97088B0D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D07-6B8F-4D76-B2BD-98EF788C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903-0DED-4A7A-858F-2CC2CE9C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B20-9E8A-4AD0-AF06-2468C72B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9C1-5A4A-4B41-A508-F4972B24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AEE-544D-46DA-8A51-D0B1E194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D95-B2A2-45F9-ABAC-9944D497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93D-84A5-4B6D-A7DD-28C1914B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42E-2D27-4E59-8087-757A7F06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345-5171-44EB-B15D-9F38D6DA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CFC-1644-4ACF-82EA-44928D53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B1EC-7E72-442C-BE4D-FC4675C3E8E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CENDO ele do monte, seguiu-o uma grande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ravilhou-se Jesus, ouvindo isto, e disse aos que o seguiam: Em verdade vos digo que nem mesmo em Israel encontrei tant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vos digo que muitos virão do oriente e do ocidente, e assentar-se-ão à mesa com Abraão, e Isaque, e Jacó, no reino dos cé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o reino serão lançados nas trevas exteriores; ali haverá pranto e ranger de d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esus ao centurião: Vai, e como creste te seja feito. E naquela mesma hora o seu criado sa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entrando em casa de Pedro, viu a sogra deste acamada, e com fe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cou-lhe na mão, e a febre a deixou; e levantou-se, e serviu-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da a tarde, trouxeram-lhe muitos endemoninhados, e ele com a sua palavra expulsou deles os espíritos, e curou todos os que estavam enfer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 cumprisse o que fora dito pelo profeta Isaías, que diz: Ele tomou sobre si as nossas enfermidades, e levou as nossas doen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vendo em torno de si uma grande multidão, ordenou que passassem para o outro l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proximando-se dele um escriba, disse-lhe: Mestre, aonde quer que fores, eu te segu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is que veio um leproso, e o adorou, dizendo: Senhor, se quiseres, podes tornar-me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esus: As raposas têm covis, e as aves do céu têm ninhos, mas o Filho do homem não tem onde reclinar 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o de seus discípulos lhe disse: Senhor, permite-me que primeiramente vá sepultar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disse-lhe: Segue-me, e deixa os mortos sepultar os seu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ele no barco, seus discípulos o seguir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no mar se levantou uma tempestade, tão grande que o barco era coberto pelas ondas; ele, porém, estava dormi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discípulos, aproximando-se, o despertaram, dizendo: SENHOR, salva-nos! que perec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-lhes: Por que temeis, homens de pouca fé? Então, levantando-se, repreendeu os ventos e o mar, e seguiu-se uma grande bon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s homens se maravilharam, dizendo: Que homem é este, que até os ventos e o mar lhe obedec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chegado ao outro lado, à província dos gadarenos, saíram-lhe ao encontro dois endemoninhados, vindos dos sepulcros; tão ferozes eram que ninguém podia passar por aquele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clamaram, dizendo: Que temos nós contigo, Jesus, Filho de Deus? Vieste aqui atormentar-nos antes do temp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estendendo a mão, tocou-o, dizendo: Quero; sê limpo. E logo ficou purificado da lep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ava pastando distante deles uma manada de muitos por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emônios rogaram-lhe, dizendo: Se nos expulsas, permite-nos que entremos naquela manada de por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Ide. E, saindo eles, se introduziram na manada dos porcos; e eis que toda aquela manada de porcos se precipitou no mar por um despenhadeiro, e morreram n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orqueiros fugiram e, chegando à cidade, divulgaram tudo o que acontecera aos endemoninh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toda aquela cidade saiu ao encontro de Jesus e, vendo-o, rogaram-lhe que se retirasse dos s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então Jesus: Olha, não o digas a alguém, mas vai, mostra-te ao sacerdote, e apresenta a oferta que Moisés determinou, para lhes servir de testemu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Jesus em Cafarnaum, chegou junto dele um centurião, rogando-l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ndo: Senhor, o meu criado jaz em casa, paralítico, e violentamente atorme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 disse: Eu irei, e lhe darei sa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enturião, respondendo, disse: Senhor, não sou digno de que entres debaixo do meu telhado, mas dize somente uma palavra, e o meu criado há de sa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ambém eu sou homem sob autoridade, e tenho soldados às minhas ordens; e digo a este: Vai, e ele vai; e a outro: Vem, e ele vem; e ao meu criado: Faze isto, e ele o f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4:32Z</dcterms:created>
  <dc:creator>Admin</dc:creator>
  <dc:description/>
  <dc:language>en-US</dc:language>
  <cp:lastModifiedBy>Admin</cp:lastModifiedBy>
  <dcterms:modified xsi:type="dcterms:W3CDTF">2008-07-31T00:14:32Z</dcterms:modified>
  <cp:revision>1</cp:revision>
  <dc:subject/>
  <dc:title>Slide 1</dc:title>
</cp:coreProperties>
</file>