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ED8-566B-4D67-9864-0DCFF4B6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419-8AF5-434B-8A78-DBB94059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D8E-9F0A-43D2-A0F9-B26F0BCD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F5B-FCC0-4C92-B5BF-5466EE67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554-B6DA-4BE9-A334-32FDAC97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934-78B1-4E15-86AB-A2C8B705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E6E-EC8D-4BA7-B84D-538F119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EB5-283B-4E17-9D79-FB71E14F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50A-0A55-4690-A808-AFCB44C1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96F-A0A1-4886-A18D-6663739A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278-851F-43AE-A224-A4E8378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1DD-F554-43D3-AC9E-01E0562D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9284-8662-4335-985C-D3DC924099E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REI os meus olhos para os montes, de onde vem o meu soco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socorro vem do SENHOR que fez o céu 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ixará vacilar o teu pé; aquele que te guarda não tosquenej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não tosquenejará nem dormirá o guard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quem te guarda; o SENHOR é a tua sombra à tua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ol não te molestará de dia nem a lua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guardará de todo o mal; guardará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guardará a tua entrada e a tua saída, desde agora 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18Z</dcterms:created>
  <dc:creator>Admin</dc:creator>
  <dc:description/>
  <dc:language>en-US</dc:language>
  <cp:lastModifiedBy>Admin</cp:lastModifiedBy>
  <dcterms:modified xsi:type="dcterms:W3CDTF">2008-07-31T00:28:18Z</dcterms:modified>
  <cp:revision>1</cp:revision>
  <dc:subject/>
  <dc:title>Slide 1</dc:title>
</cp:coreProperties>
</file>