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B79-6F40-4D69-B744-0E6BD41E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D58-A5FC-4D6C-BEF4-5E391A31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B7A-5053-4D0C-B853-60F0C8DA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0D3-96B1-487C-9501-63E33C60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8D9-ACD1-41CA-AC74-85B29952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4A5-CF10-44C0-BD69-AB5FEAA0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693-915F-4500-8A07-C9870CFD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5BC-4F9D-4BF3-9D72-13D0E4BB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6C4-F8C0-4FD2-A13A-0839BF5F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F444-0819-49A8-B1C4-ECC18623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EBE-B26C-4392-84A7-EC8A0880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B22-AC31-406F-BAAC-259744FD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4939-E0F3-44F9-8CF5-7E0647A6329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 nas campinas de Moabe, junto ao Jordão na direção de Jericó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e dize-lhes: Quando passardes o Jordão à terra de Canaã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i com que vos estejam à mão cidades que vos sirvam de cidades de refúgio, para que ali se acolha o homicida que ferir a alguma alma por eng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s cidades vos serão por refúgio do vingador do sangue; para que o homicida não morra, até que seja apresentado à congregação para julg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s cidades que derdes haverá seis cidades de refúgio pa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ês destas cidades dareis além do Jordão, e três destas cidades dareis na terra de Canaã; cidades de refúgio s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ão por refúgio estas seis cidades para os filhos de Israel, e para o estrangeiro, e para o que se hospedar no meio deles, para que ali se acolha aquele que matar a alguém por eng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se o ferir com instrumento de ferro e morrer, homicida é; certamente o homicida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, se lhe ferir com uma pedrada, de que possa morrer, e morrer, homicida é; certamente o homicida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, se o ferir com instrumento de pau que tiver na mão, de que possa morrer, e ele morrer, homicida é; certamente morrerá o homic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vingador do sangue matará o homicida; encontrando-o, matá-lo-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 ordem aos filhos de Israel que, da herança da sua possessão, dêem cidades aos levitas, em que habitem; e também aos levitas dareis arrabaldes ao redor d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também o empurrar com ódio, ou com mal intento lançar contra ele alguma coisa, e morr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por inimizade o ferir com a sua mão, e morrer, certamente morrerá aquele que o ferir; homicida é; o vingador do sangue, encontrando o homicida, o ma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se o empurrar subitamente, sem inimizade, ou contra ele lançar algum instrumento sem inten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, sobre ele deixar cair alguma pedra sem o ver, de que possa morrer, e ele morrer, sem que fosse seu inimigo nem procurasse o seu ma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congregação julgará entre aquele que feriu e o vingador do sangue, segundo estas l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ongregação livrará o homicida da mão do vingador do sangue, e a congregação o fará voltar à cidade do seu refúgio, onde se tinha acolhido; e ali ficará até à morte do sumo sacerdote, a quem ungiram com o santo óle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se de alguma maneira o homicida sair dos limites da cidade de refúgio, onde se tinha acolhi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vingador do sangue o achar fora dos limites da cidade de seu refúgio, e o matar, não será culpado do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 homicida deverá ficar na cidade do seu refúgio, até à morte do sumo sacerdote; mas, depois da morte do sumo sacerdote, o homicida voltará à terra da sua poss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s coisas vos serão por estatuto de direito às vossas gerações, em todas as vossas habit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rão estas cidades para habitá-las; porém os seus arrabaldes serão para o seu gado, e para os seus bens, e para todos os seus ani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aquele que matar alguma pessoa, conforme depoimento de testemunhas, será morto; mas uma só testemunha não testemunhará contra alguém, para que m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recebereis resgate pela vida do homicida que é culpado de morte; pois certamente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não tomareis resgate por aquele que se acolher à sua cidade de refúgio, para tornar a habitar na terra, até à morte do sumo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não profanareis a terra em que estais; porque o sangue faz profanar a terra; e nenhuma expiação se fará pela terra por causa do sangue que nela se derramar, senão com o sangue daquele que o derra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ntaminareis pois a terra na qual vós habitais, no meio da qual eu habito; pois eu, o SENHOR, habito no meio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arrabaldes das cidades, que dareis aos levitas, desde o muro da cidade para fora, serão de mil côvados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fora da cidade, do lado do oriente, medireis dois mil côvados, e do lado do sul, dois mil côvados, e do lado do ocidente dois mil côvados, e do lado do norte dois mil côvados, e a cidade no meio; isto terão por arrabaldes das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s cidades, pois, que dareis aos levitas, haverá seis cidades de refúgio, as quais dareis para que o homicida ali se acolha; e, além destas, lhes dareis quarenta e duas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cidades que dareis aos levitas serão quarenta e oito cidades, juntamente com os seus arraba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às cidades que derdes da herança dos filhos de Israel, do que tiver muito tomareis muito, e do que tiver pouco tomareis pouco; cada um dará das suas cidades aos levitas, segundo a herança que her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26Z</dcterms:created>
  <dc:creator>Admin</dc:creator>
  <dc:description/>
  <dc:language>en-US</dc:language>
  <cp:lastModifiedBy>Admin</cp:lastModifiedBy>
  <dcterms:modified xsi:type="dcterms:W3CDTF">2008-07-31T00:20:26Z</dcterms:modified>
  <cp:revision>1</cp:revision>
  <dc:subject/>
  <dc:title>Slide 1</dc:title>
</cp:coreProperties>
</file>