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35F-6AF2-4D33-99F2-52E80715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EFC-08EE-4672-AE48-CC73D13E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0C1-FD7E-421E-B160-D310B235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F59-E5AE-4716-9E72-B7328B9C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CCC-82E8-4200-BFF7-E5FCC23B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F0F-97E8-4A5B-93E1-870213C2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3FF-A9FD-47C6-9B0B-E5351DD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16A-A28E-455C-8EFE-D0860749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C37-E6DE-4571-8747-E0869CBA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A03-F598-4560-A071-4CD6158B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238-9B6C-41B5-8DF5-2EA89207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172-F32D-4844-8C9F-21929EB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D31E-2CFA-4965-A663-1F9E5521887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vinho para a libação oferecerás a metade de um him, oferta queimada em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 fará com cada boi, ou com cada carneiro, ou com cada um dos cordeiros ou cabr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o número que oferecerdes, assim o fareis com cada um, segundo o númer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natural assim fará estas coisas, oferecendo oferta queimada em cheiro suave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ambém peregrinar convosco algum estrangeiro, ou que estiver no meio de vós nas vossas gerações, e ele apresentar uma oferta queimada de cheiro suave ao SENHOR, como vós fizerdes, assim fará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mesmo estatuto haja para vós, ó congregação, e para o estrangeiro que entre vós peregrina, por estatuto perpétuo nas vossas gerações; como vós, assim será o peregrino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mesma lei e um mesmo direito haverá para vós e para o estrangeiro que peregrina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Quando entrardes na terra em que vos hei de introduzi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tecerá que, quando comerdes do pão da terra, então oferecereis ao SENHOR oferta alç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Quando entrardes na terra das vossas habitações, que eu vos hei de d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primícias da vossa massa oferecereis um bolo em oferta alçada; como a oferta da eira, assim o oferec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primícias das vossas massas dareis ao SENHOR oferta alçada nas voss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vierdes a errar, e não cumprirdes todos estes mandamentos, que o SENHOR falou a Moisé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quanto o SENHOR vos tem mandado por intermédio de Moisés, desde o dia que o SENHOR ordenou, e dali em diante, nas vossas geraç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que, quando se fizer alguma coisa por ignorância, e for encoberto aos olhos da congregação, toda a congregação oferecerá um novilho para holocausto em cheiro suave ao SENHOR, com a sua oferta de alimentos e libação conforme ao estatuto, e um bode 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fará expiação por toda a congregação dos filhos de Israel, e lhes será perdoado, porquanto foi por ignorância; e trouxeram a sua oferta, oferta queimada ao SENHOR, e a sua expiação do pecado perante o SENHOR, por causa da sua ignor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, pois, perdoado a toda a congregação dos filhos de Israel, e mais ao estrangeiro que peregrina no meio deles, porquanto por ignorância sobreveio a todo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ma alma pecar por ignorância, para expiação do pecado oferecerá uma cabra de um 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fará expiação pela pessoa que pecou, quando pecar por ignorância, perante o SENHOR, fazendo expiação por ela, e lhe será perdo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 natural dos filhos de Israel, e para o estrangeiro que no meio deles peregrina, uma mesma lei vos será, para aquele que pecar por ignor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SENHOR fizerdes oferta queimada, holocausto, ou sacrifício, para cumprir um voto, ou em oferta voluntária, ou nas vossas solenidades, para fazerdes ao SENHOR um cheiro suave de ovelhas ou ga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pessoa que fizer alguma coisa temerariamente, quer seja dos naturais quer dos estrangeiros, injuria ao SENHOR; tal pessoa será extirpada do meio d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desprezou a palavra do SENHOR, e anulou o seu mandamento; totalmente será extirpada aquela pessoa, a sua iniqüidade será sobre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, pois, os filhos de Israel no deserto, acharam um homem apanhando lenha no dia de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o acharam apanhando lenha o trouxeram a Moisés e a Arão, e a toda 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useram em guarda; porquanto ainda não estava declarado o que se lhe devia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o SENHOR a Moisés: Certamente morrerá aquele homem; toda a congregação o apedrejará fora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a a congregação o tirou para fora do arraial, e o apedrejaram, e morreu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Que nas bordas das suas vestes façam franjas pelas suas gerações; e nas franjas das bordas ponham um cordão de az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franjas vos serão para que, vendo-as, vos lembreis de todos os mandamentos do SENHOR, e os cumprais; e não seguireis o vosso coração, nem após os vossos olhos, pelos quais andais vos prostitui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 que apresentar a sua oferta ao SENHOR, por oferta de alimentos trará uma décima de flor de farinha misturada com a quarta parte de um him de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vos lembreis de todos os meus mandamentos, e os cumprais, e santos sejais a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SENHOR vosso Deus, que vos tirei da terra do Egito, para ser vosso Deus. Eu sou 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vinho para libação prepararás a quarta parte de um him, para holocausto, ou para sacrifício para cada cordei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cada carneiro prepararás uma oferta de alimentos de duas décimas de flor de farinha, misturada com a terça parte de um him de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vinho para a libação oferecerás a terça parte de um him ao SENHOR, em cheiro sua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preparares novilho para holocausto ou sacrifício, para cumprir um voto, ou um sacrifício pacífico a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o novilho apresentarás uma oferta de alimentos de três décimas de flor de farinha misturada com a metade de um him de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52Z</dcterms:created>
  <dc:creator>Admin</dc:creator>
  <dc:description/>
  <dc:language>en-US</dc:language>
  <cp:lastModifiedBy>Admin</cp:lastModifiedBy>
  <dcterms:modified xsi:type="dcterms:W3CDTF">2008-07-31T00:18:52Z</dcterms:modified>
  <cp:revision>1</cp:revision>
  <dc:subject/>
  <dc:title>Slide 1</dc:title>
</cp:coreProperties>
</file>