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21F-48A4-428A-8AFA-8E6275C4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145-F7F9-4AFC-B1AB-6C660ACB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D07-6B9A-4085-8142-4D9F189E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1ED-2852-4EBC-B34A-6CA942E7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6FC-15BB-4D53-8FAD-3B034DA7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3CD-BDBD-4FB9-B66D-D743789E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4B7-F1A7-4B1D-A382-A19E517F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1A1-2BFF-47C5-84D3-8E19357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490-5671-4234-9C78-B673A759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EFF-8328-49FB-B296-FF52200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833-BEAD-44BF-B317-CB05B29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7E0-918D-40E9-B887-186D93B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A431-8E3C-46B3-8D8D-FF51F17B731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ÇÃO do profeta Habacuque sobre Sigion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montes te viram, e tremeram; a inundação das águas passou; o abismo deu a sua voz, levantou ao alto as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ol e a lua pararam nas suas moradas; andaram à luz das tuas flechas, ao resplendor do relâmpago da tua l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indignação marchaste pela terra, com ira trilhast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saíste para salvação do teu povo, para salvação do teu ungido; tu feriste a cabeça da casa do ímpio, descobrindo o alicerce até ao pescoço. (Selá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traspassaste com as suas próprias lanças a cabeça das suas vilas; eles me acometeram tempestuosos para me espalharem; alegravam-se, como se estivessem para devorar o pobre em segre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com os teus cavalos marchaste pelo mar, pela massa de grande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-o eu, o meu ventre se comoveu, à sua voz tremeram os meus lábios; entrou a podridão nos meus ossos, e estremeci dentro de mim; no dia da angústia descansarei, quando subir contra o povo que invadirá com suas tro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inda que a figueira não floresça, nem haja fruto na vide; ainda que decepcione o produto da oliveira, e os campos não produzam mantimento; ainda que as ovelhas da malhada sejam arrebatadas, e nos currais não haja g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eu me alegrarei no SENHOR; exultarei no Deus da minha salv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é a minha força, e fará os meus pés como os das cervas, e me fará andar sobre as minhas alturas. (Para o cantor-mor sobre os meus instrumentos de corda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SENHOR, a tua palavra, e temi; aviva, ó SENHOR, a tua obra no meio dos anos, no meio dos anos faze-a conhecida; na tua ira lembra-te da misericór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 veio de Temã, e do monte de Parã o Santo (Selá). A sua glória cobriu os céus, e a terra encheu-se do seu louv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splendor se fez como a luz, raios brilhantes saíam da sua mão, e ali estava o esconderijo da sua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iante dele ia a peste, e brasas ardentes saíam dos seus pas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ou, e mediu a terra; olhou, e separou as nações; e os montes perpétuos foram esmiuçados; ou outeiros eternos se abateram, porque os caminhos eternos lhe perten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as tendas de Cusã em aflição; tremiam as cortinas da terra de Midi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so é contra os rios, SENHOR, que estás irado? É contra os ribeiros a tua ira, ou contra o mar o teu furor, visto que andas montado sobre os teus cavalos, e nos teus carros de salva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oberto se movimentou o teu arco; os juramentos feitos às tribos foram uma palavra segura. (Selá.) Tu fendeste a terra com r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30Z</dcterms:created>
  <dc:creator>Admin</dc:creator>
  <dc:description/>
  <dc:language>en-US</dc:language>
  <cp:lastModifiedBy>Admin</cp:lastModifiedBy>
  <dcterms:modified xsi:type="dcterms:W3CDTF">2008-07-30T23:40:30Z</dcterms:modified>
  <cp:revision>1</cp:revision>
  <dc:subject/>
  <dc:title>Slide 1</dc:title>
</cp:coreProperties>
</file>