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609-E007-43C5-92BD-D1C520AF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368-B8F9-4120-A463-4497015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9F2-984D-4693-BC39-8144AF3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ADB-5DC1-48C1-9946-6D3335CE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117-8E61-49D0-9CFB-445250B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514-B3E4-4F1C-8BD0-662E5BB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2BF-A099-41D1-A64F-EE5B1A1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559-8CE9-4413-806A-9F4E86E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E4D-887E-4683-BC33-E75D9F3D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4B2-E3CE-4F82-8C80-198C0C5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47E-6BA1-4B99-A84C-719F4DE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835-B1F0-4BB3-B94D-D90B021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6295-780B-4B6D-8DCE-0B36D256F7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habitou na terra das peregrinações de seu pai,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ando-o a seu pai e a seus irmãos, repreendeu-o seu pai, e disse-lhe: Que sonho é este que tiveste? Porventura viremos, eu e tua mãe, e teus irmãos, a inclinar-nos perante ti em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us irmãos, pois, o invejavam; seu pai porém guardava este negócio no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s irmãos foram apascentar o rebanho de seu pai, junto de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Israel a José: Não apascentam os teus irmãos junto de Siquém? Vem, e enviar-te-ei a eles. E ele respondeu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 disse: Ora vai, vê como estão teus irmãos, e como está o rebanho, e traze-me resposta. Assim o enviou do vale de Hebrom, e foi a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hou-o um homem, porque eis que andava errante pelo campo, e perguntou-lhe o homem, dizendo: Que procur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Procuro meus irmãos; dize-me, peço-te, onde eles apascent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quele homem: Foram-se daqui; porque ouvi-os dizer: Vamos a Dotã. José, pois, seguiu atrás de seus irmãos, e achou-os em Do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-no de longe e, antes que chegasse a eles, conspiraram contra ele para o mat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um ao outro: Eis lá vem o sonhador-m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gerações de Jacó. Sendo José de dezessete anos, apascentava as ovelhas com seus irmãos; sendo ainda jovem, andava com os filhos de Bila, e com os filhos de Zilpa, mulheres de seu pai; e José trazia más notícias deles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, pois, agora, e matemo-lo, e lancemo-lo numa destas covas, e diremos: Uma fera o comeu; e veremos que será dos seus so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ndo-o Rúben, livrou-o das suas mãos, e disse: Não lhe tiremos 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lhes disse Rúben: Não derrameis sangue; lançai-o nesta cova, que está no deserto, e não lanceis mãos nele; isto disse para livrá-lo das mãos deles e para torná-lo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José a seus irmãos, tiraram de José a sua túnica, a túnica de várias cores, que traz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-no, e lançaram-no na cova; porém a cova estava vazia, não havia água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ssentaram-se a comer pão; e levantaram os seus olhos, e olharam, e eis que uma companhia de ismaelitas vinha de Gileade; e seus camelos traziam especiarias e bálsamo e mirra, e iam levá-los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udá disse aos seus irmãos: Que proveito haverá que matemos a nosso irmão e escondamos o seu sang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 e vendamo-lo a estes ismaelitas, e não seja nossa mão sobre ele; porque ele é nosso irmão, nossa carne. E seus irmãos obedec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ndo, pois, os mercadores midianitas, tiraram e alçaram a José da cova, e venderam José por vinte moedas de prata, aos ismaelitas, os quais levaram José a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ndo, pois, Rúben à cova, eis que José não estava na cova; então rasgou as su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rael amava a José mais do que a todos os seus filhos, porque era filho da sua velhice; e fez-lhe uma túnica de várias c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oltou a seus irmãos e disse: O menino não está; e eu aonde ir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am a túnica de José, e mataram um cabrito, e tingiram a túnica no san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ram a túnica de várias cores, mandando levá-la a seu pai, e disseram: Temos achado esta túnica; conhece agora se esta será ou não a túnica de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u-a, e disse: É a túnica de meu filho; uma fera o comeu; certamente José foi despedaç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acó rasgou as suas vestes, pôs saco sobre os seus lombos e lamentou a seu filho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todos os seus filhos e todas as suas filhas, para o consolarem; recusou porém ser consolado, e disse: Porquanto com choro hei de descer ao meu filho até à sepultura. Assim o chorou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idianitas venderam-no no Egito a Potifar, oficial de Faraó, capitão da gua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seus irmãos que seu pai o amava mais do que a todos eles, odiaram-no, e não podiam falar com ele pacifi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ve José um sonho, que contou a seus irmãos; por isso o odiaram ainda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Ouvi, peço-vos, este sonho, que tenho sonha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ávamos atando molhos no meio do campo, e eis que o meu molho se levantava, e também ficava em pé, e eis que os vossos molhos o rodeavam, e se inclinavam ao meu m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ram seus irmãos: Tu, pois, deveras reinarás sobre nós? Tu deveras terás domínio sobre nós? Por isso ainda mais o odiavam por seus sonhos e por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ve José outro sonho, e o contou a seus irmãos, e disse: Eis que tive ainda outro sonho; e eis que o sol, e a lua, e onze estrelas se inclinavam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30Z</dcterms:created>
  <dc:creator>Admin</dc:creator>
  <dc:description/>
  <dc:language>en-US</dc:language>
  <cp:lastModifiedBy>Admin</cp:lastModifiedBy>
  <dcterms:modified xsi:type="dcterms:W3CDTF">2008-07-30T23:39:30Z</dcterms:modified>
  <cp:revision>1</cp:revision>
  <dc:subject/>
  <dc:title>Slide 1</dc:title>
</cp:coreProperties>
</file>