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3FE-EBE0-45A3-B3A7-069066ED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59-C1CB-4B5A-A0A5-6CAAF808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CA1-1533-450D-94F3-D17E1DAD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2E8-DD83-4B18-BE31-98B2036C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EAB-2FC1-4207-A2E8-D1FAA46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216-A6D0-4F49-9B31-EB13A0C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700-1740-4595-A3F2-873E5E7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D58-B78A-43DB-856C-F5859A2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410-0E6F-4452-8EF8-58FCA39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C0C-ABB7-43D1-93ED-C7FDCAC4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211-3A6F-417D-982C-8B96642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BB2-7CB7-4061-859F-8409363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7AF-1EA8-4322-A8B5-E9EEBCA78A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íderes do povo habitaram em Jerusalém, porém o restante do povo lançou sortes, para tirar um de dez, que habitasse na santa cidade de Jerusalém, e as nove partes nas outr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sacerdotes: Jedaías, filho de Joiaribe, Jaq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aías, filho de Hilquias, filho de Mesulão, filho de Zadoque, filho de Meraiote, filho de Aitube, líder da casa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que faziam a obra na casa, oitocentos e vinte e dois; e Adaías, filho de Jeroão, filho de Pelalias, filho de Anzi, filho de Zacarias, filho de Pasur, filho de Mal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, chefes dos pais, duzentos e quarenta e dois; e Amassai, filho de Azareel, filho de Azai, filho de Mesilemote, filho de Im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irmãos deles, homens valentes, cento e vinte e oito, e superintendente sobre eles Zabdiel, filho de Gedol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levitas: Semaías, filho de Hassube, filho de Azricão, filho de Hasabias, filho de Bun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betai, e Jozabade, dos chefes dos levitas, presidiam sobre a obra de fora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anias, filho de Mica, filho de Zabdi, filho de Asafe, o chefe, que iniciava as ações de graças na oração, e Bacbuquias, o segundo de seus irmãos; depois Abda, filho de Samua, filho de Galal, filho de Jedut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levitas na santa cidade, foram duzentos e oit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orteiros, Acube, Talmom, com seus irmãos, os guardas das portas, cento e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ovo bendisse a todos os homens que voluntariamente se ofereciam para habitar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e Israel, dos sacerdotes e levitas, habitou em todas as cidades de Judá, cada um n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idores do templo, habitaram em Ofel; e Zia e Gispa presidiam sobre os servidores d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uperintendente dos levitas em Jerusalém foi Uzi, filho de Bani, filho de Hasabias, filho de Matanias, filho de Mica; dos filhos de Asafe, os cantores, ao serviço da cas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ia um mandado do rei acerca deles, e uma certa regra para os cantores, cada qual no seu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taías, filho de Mesezabeel, dos filhos de Zera, filho de Judá, estava à mão do rei, em todos os negóci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às aldeias, com as suas terras, alguns dos filhos de Judá habitaram em Quiriate-Arba e nos lugares da sua jurisdição, e em Dibom, e nos lugares da sua jurisdição, e em Jecabzeel e nas suas alde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Jesuá, e em Molada, e em Bete-Pel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Hazar-Sual, e em Berseba e nos lugares da sua jurisd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Ziclague, em Mecona e nos lugares da sua jurisd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En-Rimom, em Zora e em Jarmu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chefes da província, que habitaram em Jerusalém; porém nas cidades de Judá habitou cada um na sua possessão, nas suas cidades, Israel, os sacerdotes, os levitas, os servidores do templo, e os filhos dos servos de Salo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Zanoa, Adulão e nas suas aldeias, em Laquis e nas suas terras, em Azaca e nos lugares da sua jurisdição. Acamparam-se desde Berseba até ao vale de Hin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njamim habitaram desde Geba, em Micmás, Aia, Betel e nos lugares da sua jurisd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Anatote, em Nobe, em Anan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Hazor, em Ramá, em Gita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Hadide, em Zeboim, em Nebala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ode e em Ono, no vale dos artífic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levitas habitaram nas divisões de Judá e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aram, pois, em Jerusalém alguns dos filhos de Judá e dos filhos de Benjamim. Dos filhos de Judá, Ataías, filho de Uzias, filho de Zacarias, filho de Amarias, filho de Sefatias, filho de Maalaleel, dos filhos de Pere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aséias, filho de Baruque, filho de Col-Hoze, filho de Hazaías, filho de Adaías, filho de Joiaribe, filho de Zacarias, filho de Silon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filhos de Perez, que habitaram em Jerusalém, foram quatrocentos e sessenta e oito homen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Benjamim: Salu, filho de Mesulão, filho de Joede, filho de Pedaías, filho de Colaías, filho de Maaséias, filho de Itiel, filho de Jesaí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Gabai e Salai, ao todo novecentos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el, filho de Zicri, superintendente sobre eles; e Judá, filho de Senua, o segundo sobre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23Z</dcterms:created>
  <dc:creator>Admin</dc:creator>
  <dc:description/>
  <dc:language>en-US</dc:language>
  <cp:lastModifiedBy>Admin</cp:lastModifiedBy>
  <dcterms:modified xsi:type="dcterms:W3CDTF">2008-07-31T00:17:23Z</dcterms:modified>
  <cp:revision>1</cp:revision>
  <dc:subject/>
  <dc:title>Slide 1</dc:title>
</cp:coreProperties>
</file>