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5B6-FAE8-4BE9-86DA-860E64C4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431-1732-4324-8157-2A4B3AD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DEA-543F-423D-B81E-BDBA69BE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6ED-60D2-42C2-91E0-3C733CE9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EE8-1C04-40EC-9730-54F35514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91E-9D6B-4A69-A851-87A9FD0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C28-3C40-47C1-90EB-DF463AC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E9E-EC23-4970-84EB-E907092A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C25-3F6D-4896-9A4E-758D15F9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071-A2DC-43AC-ACB6-48373755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727-2A9C-4205-911A-9D0648E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C96-1287-46D0-B481-AACD8A8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C054-EFFB-4612-9644-B95F3E7512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O, respirando ainda ameaças e mortes contra os discípulos do SENHOR, dirigiu-se ao sum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em Damasco um certo discípulo chamado Ananias; e disse-lhe o Senhor em visão: Ananias! E ele respondeu: Eis-me aqui,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nhor: Levantate, e vai à rua chamada Direita, e pergunta em casa de Judas por um homem de Tarso chamado Saulo; pois eis que ele está ora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ma visão ele viu que entrava um homem chamado Ananias, e punha sobre ele a mão, para que tornasse a 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Ananias: Senhor, a muitos ouvi acerca deste homem, quantos males tem feito aos teus santos em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i tem poder dos principais dos sacerdotes para prender a todos os que invocam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, porém, o Senhor: Vai, porque este é para mim um vaso escolhido, para levar o meu nome diante dos gentios, e dos reis 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lhe mostrarei quanto deve padecer pel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anias foi, e entrou na casa e, impondo-lhe as mãos, disse: Irmão Saulo, o SENHOR Jesus, que te apareceu no caminho por onde vinhas, me enviou, para que tornes a ver e sejas cheio d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lhe caíram dos olhos como que umas escamas, e recuperou a vista; e, levantando-se, foi batiz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comido, ficou confortado. E esteve Saulo alguns dias com os discípulos que estavam em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iu-lhe cartas para Damasco, para as sinagogas, a fim de que, se encontrasse alguns daquela seita, quer homens quer mulheres, os conduzisse presos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nas sinagogas pregava a Cristo, que este é 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o ouviam estavam atônitos, e diziam: Não é este o que em Jerusalém perseguia os que invocavam este nome, e para isso veio aqui, para os levar presos aos principais dos sacerdo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lo, porém, se esforçava muito mais, e confundia os judeus que habitavam em Damasco, provando que aquele era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passado muitos dias, os judeus tomaram conselho entre si para o m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suas ciladas vieram ao conhecimento de Saulo; e como eles guardavam as portas, tanto de dia como de noite, para poderem tirar-lhe a vi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ndo-o de noite os discípulos o desceram, dentro de um cesto, pelo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aulo chegou a Jerusalém, procurava ajuntar-se aos discípulos, mas todos o temiam, não crendo que fosse discíp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rnabé, tomando-o consigo, o trouxe aos apóstolos, e lhes contou como no caminho ele vira ao Senhor e lhe falara, e como em Damasco falara ousadamente no nome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va com eles em Jerusalém, entrando e sai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va ousadamente no nome do Senhor Jesus. Falava e disputava também contra os gregos, mas eles procuravam mat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no caminho, aconteceu que, chegando perto de Damasco, subitamente o cercou um resplendor de luz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-o, porém, os irmãos, o acompanharam até Cesaréia, e o enviaram a Tar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as igrejas em toda a Judéia, e Galiléia e Samaria tinham paz, e eram edificadas; e se multiplicavam, andando no temor do Senhor e consolação d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ssando Pedro por toda a parte, veio também aos santos que habitavam em L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 ali certo homem, chamado Enéias, jazendo numa cama havia oito anos, o qual era paralí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Pedro: Enéias, Jesus Cristo te dá saúde; levanta-te e faze a tua cama. E logo se leva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m-no todos os que habitavam em Lida e Sarona, os quais se converter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em Jope uma discípula chamada Tabita, que traduzido se diz Dorcas. Esta estava cheia de boas obras e esmolas que fa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aqueles dias que, enfermando ela, morreu; e, tendo-a lavado, a depositaram num quarto a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Lida era perto de Jope, ouvindo os discípulos que Pedro estava ali, lhe mandaram dois homens, rogando-lhe que não se demorasse em vir ter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Pedro, foi com eles; e quando chegou o levaram ao quarto alto, e todas as viúvas o rodearam, chorando e mostrando as túnicas e roupas que Dorcas fizera quando estava com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aindo em terra, ouviu uma voz que lhe dizia: Saulo, Saulo, por que me perseg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edro, fazendo sair a todos, pôs-se de joelhos e orou: e, voltando-se para o corpo, disse: Tabita, levanta-te. E ela abriu os olhos, e, vendo a Pedro, assent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dando-lhe a mão, a levantou e, chamando os santos e as viúvas, apresentou-lha v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isto notório por toda a Jope, e muitos creram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ou muitos dias em Jope, com um certo Simão curt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Quem és, Senhor? E disse o Senhor: Eu sou Jesus, a quem tu persegues. Duro é para ti recalcitrar contra os aguilh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tremendo e atônito, disse: Senhor, que queres que eu faça? E disse-lhe o Senhor: Levanta-te, e entra na cidade, e lá te será dito o que te convém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, que iam com ele, pararam espantados, ouvindo a voz, mas não vendo ning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o levantou-se da terra, e, abrindo os olhos, não via a ninguém. E, guiando-o pela mão, o conduziram a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ve três dias sem ver, e não comeu nem beb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57Z</dcterms:created>
  <dc:creator>Admin</dc:creator>
  <dc:description/>
  <dc:language>en-US</dc:language>
  <cp:lastModifiedBy>Admin</cp:lastModifiedBy>
  <dcterms:modified xsi:type="dcterms:W3CDTF">2008-07-30T23:23:57Z</dcterms:modified>
  <cp:revision>1</cp:revision>
  <dc:subject/>
  <dc:title>Slide 1</dc:title>
</cp:coreProperties>
</file>