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990-BE8C-4AEF-A9FA-5C68E71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AA0-C922-4CFC-ACB6-DFDE0BD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1F9-B3FE-4EF3-A2F9-62B30EA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0CE-E6C3-4087-808C-C9A73F27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8C9-00A4-4344-A9DC-8A39957F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E3A-C758-46D2-8B50-3511504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E73-5DF0-4A19-9358-ADF2F982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EBB-B201-42DD-A5B5-1A29E3D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DC5-DC84-4277-BEC7-4B0A08B0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54D-EEB3-4B3E-822F-54E7C56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A9B-C53E-4289-9195-19D8F2F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236-9010-4929-8316-EA7099A0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82E-3333-4E15-A28B-0A232EED265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abalharam Bezalel e Aoliabe, e todo o homem sábio de coração, a quem o SENHOR dera sabedoria e inteligência, para saber como haviam de fazer toda a obra para o serviço do santuário, conforme a tudo o que o SENHOR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gou cinco cortinas uma com a outra; e outras cinco cortinas também ligou uma com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laçadas de azul na borda de uma cortina, à extremidade, na juntura; assim também fez na borda, à extremidade da juntura da segunda cort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qüenta laçadas fez numa cortina, e cinqüenta laçadas fez numa extremidade da cortina, que se ligava com a segunda; estas laçadas eram contrapostas uma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cinqüenta colchetes de ouro, e com estes colchetes uniu as cortinas uma com a outra; e assim foi feito um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cortinas de pêlos de cabras para a tenda sobre o tabernáculo; fez onze cort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uma cortina era de trinta côvados, e a largura de quatro côvados; estas onze cortinas tinham uma mes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niu cinco cortinas à parte, e outras seis à par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cinqüenta laçadas na borda da última cortina, na juntura; também fez cinqüenta laçadas na borda da cortina, na outra jun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cinqüenta colchetes de metal, para ajuntar a tenda, para que fosse um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, para a tenda, uma coberta de peles de carneiros, tintas de vermelho; e por cima uma coberta de peles de texu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chamou a Bezalel e a Aoliabe, e a todo o homem sábio de coração, em cujo coração o SENHOR tinha dado sabedoria; a todo aquele a quem o seu coração moveu a se chegar à obra para fazê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, de madeira de acácia, tábuas levantadas para o tabernáculo, que foram colocadas vertic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cada tábua era de dez côvados, e a larg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tábua tinha duas cavilhas pregadas uma a outra; assim fez com todas as tábuas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fez as tábuas para o tabernáculo; vinte tábuas para o lado que dá para o su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quarenta bases de prata debaixo das vinte tábuas; duas bases debaixo de uma tábua, para as suas duas cavilhas, e duas debaixo de outra, para as suas duas c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vinte tábuas ao outro lado do tabernáculo, do lado nor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s suas quarenta bases de prata; duas bases debaixo de uma tábua, e duas bases debaixo de outra táb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lado do tabernáculo para o ocidente fez seis táb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duas tábuas para os cantos do tabernáculo nos dois l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ais por baixo estavam juntas, e também se ajuntavam por cima com uma argola; assim fez com ambas nos dois c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receberam de Moisés toda a oferta alçada, que trouxeram os filhos de Israel para a obra do serviço do santuário, para fazê-la, e ainda eles lhe traziam cada manhã ofertas voluntá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m oito tábuas com as suas bases de prata, a saber, dezesseis bases; duas bases debaixo de cada táb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travessas de madeira de acácia; cinco para as tábuas de um lado do tabernác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inco travessas para as tábuas do outro lado do tabernáculo; e outras cinco travessas para as tábuas do tabernáculo do lado ociden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que a travessa do meio passasse pelo meio das tábuas de uma extremidade até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u as tábuas de ouro, e as suas argolas (os lugares das travessas) fez de ouro; as travessas também cobriu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o véu de azul, e de púrpura, e de carmesim, e de linho fino torcido; de obra esmerada o fez com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 quatro colunas de madeira de acácia, e as cobriu de ouro; e seus colchetes fez de ouro, e fundiu-lhe quatro base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para a porta da tenda o véu de azul, e de púrpura, e de carmesim, e de linho fino torcido, da obra do borda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s suas cinco colunas e os seus colchetes; e as suas cabeças e as suas molduras cobriu de ouro; e as suas cinco bases eram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todos os sábios, que faziam toda a obra do santuário, cada um da obra que faz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 a Moisés, dizendo: O povo traz muito mais do que basta para o serviço da obra que o SENHOR ordenou se fiz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Moisés que proclamassem por todo o arraial, dizendo: Nenhum homem, nem mulher, faça mais obra alguma para a oferta alçada do santuário. Assim o povo foi proibido de trazer m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nham material bastante para toda a obra que havia de fazer-se, e ainda sobej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do o sábio de coração, entre os que faziam a obra, fez o tabernáculo de dez cortinas de linho fino torcido, e de azul, e de púrpura, e de carmesim, com querubins; da obra mais esmerada as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cada cortina era de vinte e oito côvados, e a largura de quatro côvados; todas as cortinas tinham uma mes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23Z</dcterms:created>
  <dc:creator>Admin</dc:creator>
  <dc:description/>
  <dc:language>en-US</dc:language>
  <cp:lastModifiedBy>Admin</cp:lastModifiedBy>
  <dcterms:modified xsi:type="dcterms:W3CDTF">2008-07-30T23:33:23Z</dcterms:modified>
  <cp:revision>1</cp:revision>
  <dc:subject/>
  <dc:title>Slide 1</dc:title>
</cp:coreProperties>
</file>