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809B-863B-4D9A-A03F-0AEADFF90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693A-7457-408A-BDEE-58544912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C26A-6F6F-4574-AC50-AB2DECA51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F219-C64E-48C6-8202-475C365BF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3EA2-35F1-4956-836B-FD088F2B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D9DF-877F-4D48-BB16-D1689E01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C2E4-0BDF-42D7-A97E-86FA8305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5F2B-171D-43FA-BDD5-78C11644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7C74-127A-4B65-94BF-97D3D362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FAFC-DB86-41F8-90DF-C01D3BC9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C1E8-58FA-4FF6-A751-4A9F0D99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45A7-5CB3-470C-A142-FC8A80A9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1FB5-AFC5-487F-A387-BEF4FD1D7BD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RA toda a terra de uma mesma língua e de uma mesma fa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 são as gerações de Sem: Sem era da idade de cem anos e gerou a Arfaxade, dois anos depois do dilúv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veu Sem, depois que gerou a Arfaxade, quinhentos anos, e gerou filhos e f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veu Arfaxade trinta e cinco anos, e gerou a Sel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veu Arfaxade depois que gerou a Selá, quatrocentos e três anos, e gerou filhos e f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veu Selá trinta anos, e gerou a Ébe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veu Selá, depois que gerou a Éber, quatrocentos e três anos, e gerou filhos e f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veu Éber trinta e quatro anos, e gerou a Peleg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veu Éber, depois que gerou a Pelegue, quatrocentos e trinta anos, e gerou filhos e f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veu Pelegue trinta anos, e gerou a Reú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veu Pelegue, depois que gerou a Reú, duzentos e nove anos, e gerou filhos e f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partindo eles do oriente, acharam um vale na terra de Sinar; e habitaram 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veu Reú trinta e dois anos, e gerou a Serug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veu Reú, depois que gerou a Serugue, duzentos e sete anos, e gerou filhos e f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veu Serugue trinta anos, e gerou a Na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veu Serugue, depois que gerou a Naor, duzentos anos, e gerou filhos e f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veu Naor vinte e nove anos, e gerou a T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veu Naor, depois que gerou a Terá, cento e dezenove anos, e gerou filhos e f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veu Terá setenta anos, e gerou a Abrão, a Naor, e a Har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s são as gerações de Terá: Terá gerou a Abrão, a Naor, e a Harã; e Harã gerou a L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orreu Harã estando seu pai Terá ainda vivo, na terra do seu nascimento, em Ur dos cal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aram Abrão e Naor mulheres para si: o nome da mulher de Abrão era Sarai, e o nome da mulher de Naor era Milca, filha de Harã, pai de Milca e pai de Isc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 uns aos outros: Eia, façamos tijolos e queimemo-los bem. E foi-lhes o tijolo por pedra, e o betume por c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1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rai foi estéril, não tinha fi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1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ou Terá a Abrão seu filho, e a Ló, filho de Harã, filho de seu filho, e a Sarai sua nora, mulher de seu filho Abrão, e saiu com eles de Ur dos caldeus, para ir à terra de Canaã; e vieram até Harã, e habitaram 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1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os dias de Terá duzentos e cinco anos, e morreu Terá em Har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ram: Eia, edifiquemos nós uma cidade e uma torre cujo cume toque nos céus, e façamo-nos um nome, para que não sejamos espalhados sobre a face de toda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esceu o SENHOR para ver a cidade e a torre que os filhos dos homens edificava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disse: Eis que o povo é um, e todos têm uma mesma língua; e isto é o que começam a fazer; e agora, não haverá restrição para tudo o que eles intentarem fa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a, desçamos e confundamos ali a sua língua, para que não entenda um a língua do ou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o SENHOR os espalhou dali sobre a face de toda a terra; e cessaram de edificar 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se chamou o seu nome Babel, porquanto ali confundiu o SENHOR a língua de toda a terra, e dali os espalhou o SENHOR sobre a face de toda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7:45Z</dcterms:created>
  <dc:creator>Admin</dc:creator>
  <dc:description/>
  <dc:language>en-US</dc:language>
  <cp:lastModifiedBy>Admin</cp:lastModifiedBy>
  <dcterms:modified xsi:type="dcterms:W3CDTF">2008-07-30T23:37:45Z</dcterms:modified>
  <cp:revision>1</cp:revision>
  <dc:subject/>
  <dc:title>Slide 1</dc:title>
</cp:coreProperties>
</file>