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DA4-EA78-4A9F-A52D-DF6AD1F6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F76-CFE0-41F6-8062-D50ECE1E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446-5CB9-4DF0-968D-5E1DC9B2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247-1255-41FA-A7FC-6B3C677D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57F-BE93-49EA-917F-CC02EB4B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7DB-C9D2-4D5A-852C-C450CAFB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7EA-291C-4B86-8315-C9D0E1B9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AE9-542F-4F6C-963D-67DF4C7C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C27-60C8-4E7D-82A4-2DC2BCD5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EF6A-5D1E-425A-94C3-0C17E209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29F-CA1E-44E4-B991-80DAA27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07D-48ED-425F-B1C8-058FACFE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3DC0-7C1F-4FE8-9D07-683536334C6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 Deus, a quem a vingança pertence, ó Deus, a quem a vingança pertence, mostra-te resplandec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argüi os gentios não castigará? E o que ensina ao homem o conhecimento, não sabe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conhece os pensamentos do homem, que são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é o homem a quem tu castigas, ó SENHOR, e a quem ensinas a tua l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lhe dares descanso dos dias maus, até que se abra a cova para o ímp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SENHOR não rejeitará o seu povo, nem desamparará 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juízo voltará à retidão, e segui-lo-ão todos os retos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será por mim contra os malfeitores? Quem se porá por mim contra os que praticam a iniqüi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SENHOR não tivera ido em meu auxílio, a minha alma quase que teria ficado no silên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disse: O meu pé vacila; a tua benignidade, SENHOR, me suste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multidão dos meus pensamentos dentro de mim, as tuas consolações recrearam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lta-te, tu, que és juiz da terra; dá a paga aos sober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o trono de iniqüidade te acompanha, o qual forja o mal por uma l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se ajuntam contra a alma do justo, e condenam o sangue inoc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é a minha defesa; e o meu Deus é a rocha do meu refúg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rá sobre eles a sua própria iniqüidade; e os destruirá na sua própria malícia; o SENHOR nosso Deus os destru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os ímpios, SENHOR, até quando os ímpios saltarão de praz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proferirão, e falarão coisas duras, e se gloriarão todos os que praticam a iniqüi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duzem a pedaços o teu povo, ó SENHOR, e afligem a t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tam a viúva e o estrangeiro, e ao órfão tiram 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dizem: O SENHOR não o verá; nem para isso atenderá o Deu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dei, ó brutais dentre o povo; e vós, loucos, quando sereis sábi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fez o ouvido não ouvirá? E o que formou o olho, não ve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03Z</dcterms:created>
  <dc:creator>Admin</dc:creator>
  <dc:description/>
  <dc:language>en-US</dc:language>
  <cp:lastModifiedBy>Admin</cp:lastModifiedBy>
  <dcterms:modified xsi:type="dcterms:W3CDTF">2008-07-31T00:27:03Z</dcterms:modified>
  <cp:revision>1</cp:revision>
  <dc:subject/>
  <dc:title>Slide 1</dc:title>
</cp:coreProperties>
</file>