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A5DB-CF08-4B08-89B6-581F15A0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B7C7-503E-49A8-9701-E0AAA7C7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0E7-FE98-40E2-84E0-C7CE5DBA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D852-824C-4E7E-9A26-3DDEB17B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E88-D1FE-4806-99E2-358DBCCF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9BCF-29AD-4A83-BB88-86243904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559B-DB5C-494D-997C-CBBD7278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1C5-6252-47CD-99F9-892C3050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D62B-5944-4BBB-938F-D29416EF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447-067C-454E-897C-FF9471C4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955-602B-447E-A602-CA57DAE4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A1AD-2803-4691-B50D-7F528176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8F56-7F8A-4C17-927B-B780D0D190C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is, filho do homem, dize à casa de Israel: Assim falais vós, dizendo: Visto que as nossas transgressões e os nossos pecados estão sobre nós, e nós desfalecemos neles, como viveremos ent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-lhes: Vivo eu, diz o Senhor DEUS, que não tenho prazer na morte do ímpio, mas em que o ímpio se converta do seu caminho, e viva. Convertei-vos, convertei-vos dos vossos maus caminhos; pois, por que razão morrereis, ó casa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is, filho do homem, dize aos filhos do teu povo: A justiça do justo não o livrará no dia da sua transgressão; e, quanto à impiedade do ímpio, não cairá por ela, no dia em que se converter da sua impiedade; nem o justo poderá viver pela sua justiç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u disser ao justo que certamente viverá, e ele, confiando na sua justiça, praticar a iniqüidade, não virão à memória todas as suas justiças, mas na sua iniqüidade, que pratica, ele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u também disser ao ímpio: Certamente morrerás; se ele se converter do seu pecado, e praticar juízo e justiç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tituindo esse ímpio o penhor, indenizando o que furtou, andando nos estatutos da vida, e não praticando iniqüidade, certamente viverá, não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todos os seus pecados que cometeu não se terá memória contra ele; juízo e justiça fez, certamente viv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os filhos do teu povo dizem: Não é justo o caminho do Senhor; mas o próprio caminho deles é que não é j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viando-se o justo da sua justiça, e praticando iniqüidade, morrerá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nvertendo-se o ímpio da sua impiedade, e praticando juízo e justiça, ele viverá por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fala aos filhos do teu povo, e dize-lhes: Quando eu fizer vir a espada sobre a terra, e o povo da terra tomar um homem dos seus termos, e o constituir por seu atala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, vós dizeis: Não é justo o caminho do Senhor; julgar-vos-ei a cada um conforme os seus caminhos, ó cas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no ano duodécimo do nosso cativeiro, no décimo mês, aos cinco do mês, veio a mim um que tinha escapado de Jerusalém, dizendo: A cidade está fer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a mão do SENHOR estivera sobre mim pela tarde, antes que viesse o que tinha escapado; e ele abrira a minha boca antes que esse homem viesse ter comigo pela manhã; e abriu-se a minha boca, e não fiquei mais c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os moradores destes lugares desertos da terra de Israel falam, dizendo: Abraão era um só, e possuiu esta terra; mas nós somos muitos, esta terra nos foi dada em poss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-lhes portanto: Assim diz o Senhor DEUS: Comeis a carne com o sangue, e levantais os vossos olhos para os vossos ídolos, e derramais o sangue! Porventura possuireis a t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vos estribais sobre a vossa espada, cometeis abominação, e cada um contamina a mulher do seu próximo! E possuireis a t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lhes dirás: Assim disse o Senhor DEUS: Vivo eu, que os que estiverem em lugares desertos, cairão à espada, e o que estiver em campo aberto o entregarei às feras, para que o devorem, e os que estiverem em lugares fortes e em cavernas morrerão de 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arei a terra em desolação e espanto e cessará a soberba do seu poder; e os montes de Israel ficarão tão desolados que ninguém passará por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berão que eu sou o SENHOR, quando eu tornar a terra em desolação e espanto, por causa de todas as abominações que comet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ele que a espada vem sobre a terra, tocar a trombeta e avisar o pov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ti, ó filho do homem, os filhos do teu povo falam de ti junto às paredes e nas portas das casas; e fala um com o outro, cada um a seu irmão, dizendo: Vinde, peço-vos, e ouvi qual seja a palavra que proced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vêm a ti, como o povo costumava vir, e se assentam diante de ti, como meu povo, e ouvem as tuas palavras, mas não as põem por obra; pois lisonjeiam com a sua boca, mas o seu coração segue a sua avar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tu és para eles como uma canção de amores, de quem tem voz suave, e que bem tange; porque ouvem as tuas palavras, mas não as põem por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quando vier isto (eis que está para vir), então saberão que houve no meio deles um prof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quele que ouvir o som da trombeta, não se der por avisado, e vier a espada, e o alcançar, o seu sangue será sobre a su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ouviu o som da trombeta, e não se deu por avisado, o seu sangue será sobre ele; mas o que se dá por avisado salvará a s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quando o atalaia vir que vem a espada, e não tocar a trombeta, e não for avisado o povo, e a espada vier, e levar uma vida dentre eles, este tal foi levado na sua iniqüidade, porém o seu sangue requererei da mão do atala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i, pois, ó filho do homem, te constituí por atalaia sobre a casa de Israel; tu, pois, ouvirás a palavra da minha boca, e lha anunciarás da minha pa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u disser ao ímpio: Ó ímpio, certamente morrerás; e tu não falares, para dissuadir ao ímpio do seu caminho, morrerá esse ímpio na sua iniqüidade, porém o seu sangue eu o requererei da t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advertires o ímpio do seu caminho, para que dele se converta, e ele não se converter do seu caminho, ele morrerá na sua iniqüidade; mas tu livraste a tu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5:34Z</dcterms:created>
  <dc:creator>Admin</dc:creator>
  <dc:description/>
  <dc:language>en-US</dc:language>
  <cp:lastModifiedBy>Admin</cp:lastModifiedBy>
  <dcterms:modified xsi:type="dcterms:W3CDTF">2008-07-30T23:35:34Z</dcterms:modified>
  <cp:revision>1</cp:revision>
  <dc:subject/>
  <dc:title>Slide 1</dc:title>
</cp:coreProperties>
</file>