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E35-998B-435B-B616-B16569DA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61B-ADCB-4BCF-939B-96026EA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1A8-55C7-4643-BD0C-94AFADEE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6F0-A9C1-444C-84CE-BF98134C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E33-32AA-4E53-A7FE-700D7DDC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24E-AF2D-417E-97A1-A4557AF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A1F-F242-494E-B707-E502747B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BB0-F791-4186-949F-4E4D1789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86C-838A-4242-B672-34DA277E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A4D-53A6-45B9-88E1-B3E494D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5A8-2D19-45B6-ACFA-F53D9A8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121-C112-4314-8B7F-F97CC449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6592-2F29-4A8E-A06C-D6DBEEAB038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o SENHOR a Moisés, e falou com ele da tenda da congregaç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 sua oferta for de gado miúdo, de ovelhas ou de cabras, para holocausto, oferecerá macho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degolará ao lado do altar que dá para o norte, perante o SENHOR; e os filhos de Arão, os sacerdotes, espargirão o seu sangue em redor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partirá nos seus pedaços, como também a sua cabeça e o seu redenho; e o sacerdote os porá em ordem sobre a lenha que está no fogo sobre 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fressura e as pernas lavar-se-ão com água; e o sacerdote tudo oferecerá, e o queimará sobre o altar; holocausto é, oferta queimada,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 sua oferta ao SENHOR for holocausto de aves, oferecerá a sua oferta de rolas ou de pombi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a oferecerá sobre o altar, e tirar-lhe-á a cabeça, e a queimará sobre o altar; e o seu sangue será espremido na parede d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papo com as suas penas tirará e o lançará junto ao altar, para o lado do oriente, no lugar da cin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ndê-la-á junto às suas asas, porém não a partirá; e o sacerdote a queimará em cima do altar sobre a lenha que está no fogo; holocausto é, oferta queimada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algum de vós oferecer oferta ao SENHOR, oferecerá a sua oferta de gado, isto é, de gado vacum e de ove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sua oferta for holocausto de gado, oferecerá macho sem defeito; à porta da tenda da congregação a oferecerá, de sua própria vontade,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 sua mão sobre a cabeça do holocausto, para que seja aceito a favor dele, para a sua exp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golará o bezerro perante o SENHOR; e os filhos de Arão, os sacerdotes, oferecerão o sangue, e espargirão o sangue em redor sobre o altar que está diante da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folará o holocausto, e o partirá nos seus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rão, o sacerdote, porão fogo sobre o altar, pondo em ordem a lenha sobre 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filhos de Arão, os sacerdotes, porão em ordem os pedaços, a cabeça e o redenho sobre a lenha que está no fogo em cima do al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evític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sua fressura e as suas pernas lavar-se-ão com água; e o sacerdote tudo isso queimará sobre o altar; holocausto é, oferta queimada,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04Z</dcterms:created>
  <dc:creator>Admin</dc:creator>
  <dc:description/>
  <dc:language>en-US</dc:language>
  <cp:lastModifiedBy>Admin</cp:lastModifiedBy>
  <dcterms:modified xsi:type="dcterms:W3CDTF">2008-07-31T00:08:04Z</dcterms:modified>
  <cp:revision>1</cp:revision>
  <dc:subject/>
  <dc:title>Slide 1</dc:title>
</cp:coreProperties>
</file>