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EB8-B714-4AD1-B539-6C2C8906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D95-1D6C-47CB-9435-A1F1C08F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BA5-F00B-4233-9ECA-0B0767C5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2FA-7C0A-4C2A-B437-247B188B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433-1A31-4F10-99E7-364F866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2D0-0816-4565-AA18-62BEACF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F73-8B86-46DD-AABE-F14521D4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DC9-4A01-49C2-9DD9-5AE9DBF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E54-831A-49C2-A9AF-C9BC85E0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28F-08CB-49E1-954C-3702666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C4E-83C8-4AC9-8E7B-F7E1EC6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815-E625-40BC-9846-CA8B231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FF3D-C6C1-42D4-8C47-52D41D675E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e amotinam os gentios, e os povos imaginam coisas vã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reis, sede prudentes; deixai-vos instruir, juíz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vi ao SENHOR com temor, e alegrai-vos com tr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ijai o Filho, para que se não ire, e pereçais no caminho, quando em breve se acender a sua ira; bem-aventurados todos aqueles que nele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is da terra se levantam e os governos consultam juntamente contra o SENHOR e contra o seu ungid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mpamos as suas ataduras, e sacudamos de nós as suas cor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habita nos céus se rirá; o Senhor zombará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falará na sua ira, e no seu furor os turb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ungi o meu Rei sobre o meu santo monte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lamarei o decreto: o SENHOR me disse: Tu és meu Filho, eu hoje te g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e-me, e eu te darei os gentios por herança, e os fins da terra por t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esmigalharás com uma vara de ferro; tu os despedaçarás como a um vaso de ol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7Z</dcterms:created>
  <dc:creator>Admin</dc:creator>
  <dc:description/>
  <dc:language>en-US</dc:language>
  <cp:lastModifiedBy>Admin</cp:lastModifiedBy>
  <dcterms:modified xsi:type="dcterms:W3CDTF">2008-07-31T00:24:07Z</dcterms:modified>
  <cp:revision>1</cp:revision>
  <dc:subject/>
  <dc:title>Slide 1</dc:title>
</cp:coreProperties>
</file>