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CC58-953F-4E90-B7CB-254C3711A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BADE-3C45-4323-AD49-09CD86211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9F51-3D05-4699-B8EE-B1F829C95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8C80-73E0-4941-BAD1-4A7116453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0737-8CA2-46E2-9643-D6C12A285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D3FE-A377-4A85-98BF-01ABC772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7D74-95E1-4146-A3D2-DA1749FC5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F577-A98F-4AAF-A082-4832D2AB4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39D0-6886-4981-B93A-3B72A9F75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0F19-5287-4C4E-B7B3-8B536B1F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F53C-D415-41D8-B471-2236DDF9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C896-F3FE-4403-BCEF-D50FA495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0557D-1FD9-44FE-BD2E-0E6A397313B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repreendas asperamente os anciãos, mas admoesta-os como a pais; aos moços como a irmã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ndo testemunho de boas obras: Se criou os filhos, se exercitou hospitalidade, se lavou os pés aos santos, se socorreu os aflitos, se praticou toda a boa ob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não admitas as viúvas mais novas, porque, quando se tornam levianas contra Cristo, querem casar-s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ndo já a sua condenação por haverem aniquilado a primeira fé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5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além disto, aprendem também a andar ociosas de casa em casa; e não só ociosas, mas também paroleiras e curiosas, falando o que não conv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5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ro, pois, que as que são moças se casem, gerem filhos, governem a casa, e não dêem ocasião ao adversário de maldize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5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já algumas se desviaram, indo após Satan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5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algum crente ou alguma crente tem viúvas, socorra-as, e não se sobrecarregue a igreja, para que se possam sustentar as que deveras são viúv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5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presbíteros que governam bem sejam estimados por dignos de duplicada honra, principalmente os que trabalham na palavra e na doutrin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5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diz a Escritura: Não ligarás a boca ao boi que debulha. E: Digno é o obreiro do seu salár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5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aceites acusação contra o presbítero, senão com duas ou três testemunh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mulheres idosas, como a mães, às moças, como a irmãs, em toda a purez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5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os que pecarem, repreende-os na presença de todos, para que também os outros tenham tem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5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juro-te diante de Deus, e do Senhor Jesus Cristo, e dos anjos eleitos, que sem prevenção guardes estas coisas, nada fazendo por parcial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5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ninguém imponhas precipitadamente as mãos, nem participes dos pecados alheios; conserva-te a ti mesmo pu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5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bebas mais água só, mas usa de um pouco de vinho, por causa do teu estômago e das tuas freqüentes enfermida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5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pecados de alguns homens são manifestos, precedendo o juízo; e em alguns manifestam-se depo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5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mesmo também as boas obras são manifestas, e as que são de outra maneira não podem ocultar-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onra as viúvas que verdadeiramente são viúv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se alguma viúva tiver filhos, ou netos, aprendam primeiro a exercer piedade para com a sua própria família, e a recompensar seus pais; porque isto é bom e agradável diante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a que é verdadeiramente viúva e desamparada espera em Deus, e persevera de noite e de dia em rogos e oraçõe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 que vive em deleites, vivendo está mor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nda, pois, estas coisas, para que elas sejam irrepreensív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se alguém não tem cuidado dos seus, e principalmente dos da sua família, negou a fé, e é pior do que o infi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unca seja inscrita viúva com menos de sessenta anos, e só a que tenha sido mulher de um só marid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8:25Z</dcterms:created>
  <dc:creator>Admin</dc:creator>
  <dc:description/>
  <dc:language>en-US</dc:language>
  <cp:lastModifiedBy>Admin</cp:lastModifiedBy>
  <dcterms:modified xsi:type="dcterms:W3CDTF">2008-07-30T23:48:25Z</dcterms:modified>
  <cp:revision>1</cp:revision>
  <dc:subject/>
  <dc:title>Slide 1</dc:title>
</cp:coreProperties>
</file>