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D179-C43B-490C-9F4A-E00EA569F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2DBB-BDD9-4994-9CD1-69D32568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1DDD-B09D-4280-9A09-120DA8685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1D31-26E2-4128-AF4B-C7D6568D7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40F8-92C4-485C-8329-84E7CBB3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2C89-02D0-4EA1-BD3C-A56AC55D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E393-B699-405C-9E0C-F92ACBC1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32A7-72E8-4608-A7B8-2EF348E2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43E1-F210-43F1-83CE-524CF2BA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056D-0E3A-4525-A90B-10B46D26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3997-26E4-4F9A-9887-649C1A57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CF70-6B97-4FBD-9AD1-C0D13634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6FD4-36CC-4223-BDB6-93F8EF811E0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VIA um homem de Benjamim, cujo nome era Quis, filho de Abiel, filho de Zeror, filho de Becorate, filho de Afia, filho de um homem de Benjamim; homem podero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Saul ao moço: Bem dizes; vem, pois, vamos. E foram-se à cidade onde estava o homem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ubindo eles à cidade, acharam umas moças que saíam a tirar água; e disseram-lhes: Está aqui o vident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as lhes responderam, e disseram: Sim, eis aí o tens diante de ti; apressa-te, pois, porque hoje veio à cidade; porquanto o povo tem hoje sacrifício no al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rando vós na cidade, logo o achareis, antes que suba ao alto para comer; porque o povo não comerá, até que ele venha; porque ele é o que abençoa o sacrifício, e depois comem os convidados; subi, pois, agora, que hoje o acha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biram, pois, à cidade; e, vindo eles no meio da cidade, eis que Samuel lhes saiu ao encontro, para subir ao al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SENHOR revelara isto aos ouvidos de Samuel, um dia antes que Saul viesse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manhã a estas horas te enviarei um homem da terra de Benjamim, o qual ungirás por capitão sobre o meu povo de Israel, e ele livrará o meu povo da mão dos filisteus; porque tenho olhado para o meu povo; porque o seu clamor chegou a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ndo Samuel viu a Saul, o SENHOR lhe respondeu: Eis aqui o homem de quem eu te falei. Este dominará sobre o m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ul se chegou a Samuel no meio da porta, e disse: Mostra-me, peço-te, onde está a casa do vid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muel respondeu a Saul, e disse: Eu sou o vidente; sobe diante de mim ao alto, e comei hoje comigo; e pela manhã te despedirei, e tudo quanto está no teu coração, to declar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 tinha um filho, cujo nome era Saul, moço, e tão belo que entre os filhos de Israel não havia outro homem mais belo do que ele; desde os ombros para cima sobressaía a todo 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nto às jumentas que há três dias se te perderam, não ocupes o teu coração com elas, porque já se acharam. E para quem é todo o desejo de Israel? Porventura não é para ti, e para toda a casa de teu pa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respondeu Saul, e disse: Porventura não sou eu filho de Benjamim, da menor das tribos de Israel? E a minha família a menor de todas as famílias da tribo de Benjamim? Por que, pois, me falas com semelhantes palavr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Samuel tomou a Saul e ao seu moço, e os levou à câmara; e deu-lhes lugar acima de todos os convidados, que eram uns trinta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Samuel ao cozinheiro: Dá aqui a porção que te dei, de que te disse: Põe-na à parte cont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9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ou, pois, o cozinheiro a espádua, com o que havia nela, e pô-la diante de Saul; e disse Samuel: Eis que o que foi reservado está diante de ti. Come; porque se guardou para ti para esta ocasião, dizendo eu: Tenho convidado o povo. Assim comeu Saul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9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esceram do alto para a cidade; e falou com Saul sobre o eir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9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levantaram de madrugada; e sucedeu que, quase ao subir da alva, chamou Samuel a Saul ao eirado, dizendo: Levanta-te, e despedir-te-ei. Levantou-se Saul, e saíram ambos para fora, ele e Samu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9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escendo eles para a extremidade da cidade, Samuel disse a Saul: Dize ao moço que passe adiante de nós (e passou); porém tu espera agora, e te farei ouvir a palavra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rderam-se as jumentas de Quis, pai de Saul; por isso disse Quis a Saul, seu filho: Toma agora contigo um dos moços, e levanta-te e vai procurar as jumen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ssaram, pois, pela montanha de Efraim, e dali passaram à terra de Salisa, porém não as acharam; depois passaram à terra de Saalim, porém tampouco estavam ali; também passaram à terra de Benjamim, porém tampouco as ach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ndo eles então à terra de Zufe, Saul disse para o seu moço, com quem ele ia: Vem, e voltemos; para que porventura meu pai não deixe de inquietar-se pelas jumentas e se aflija por causa de n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ele lhe disse: Eis que há nesta cidade um homem de Deus, e homem honrado é; tudo quanto diz, sucede assim infalivelmente; vamo-nos agora lá; porventura nos mostrará o caminho que devemos segu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aul disse ao seu moço: Eis, porém, se lá formos, que levaremos então àquele homem? Porque o pão de nossos alforjes se acabou, e presente nenhum temos para levar ao homem de Deus; que tem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moço tornou a responder a Saul, e disse: Eis que ainda se acha na minha mão um quarto de um siclo de prata, o qual darei ao homem de Deus, para que nos mostre o caminh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(Antigamente em Israel, indo alguém consultar a Deus, dizia assim: Vinde, e vamos ao vidente; porque ao profeta de hoje, antigamente se chamava vidente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6:42Z</dcterms:created>
  <dc:creator>Admin</dc:creator>
  <dc:description/>
  <dc:language>en-US</dc:language>
  <cp:lastModifiedBy>Admin</cp:lastModifiedBy>
  <dcterms:modified xsi:type="dcterms:W3CDTF">2008-07-30T23:46:42Z</dcterms:modified>
  <cp:revision>1</cp:revision>
  <dc:subject/>
  <dc:title>Slide 1</dc:title>
</cp:coreProperties>
</file>