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79E4-3782-4C46-88A3-3F1AF9BE3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11B0-3589-4118-AEE1-E1850A270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4CBB-92CD-40A5-9477-5D60EF42E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16F2-830F-47C7-8FBD-02492CA97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102B-D624-4AD7-91DA-2AFCB476D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4FDE-FB83-4F09-A974-6B17E6845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8E63-19B6-41C9-BA2E-7C5F758E0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D85E-0D47-4CC7-85ED-83C70E6C1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20C5-F20A-4039-B678-FC228D7CD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D79E-2C28-41E7-AACF-E143F22DD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0B4F-B1D0-4E09-9004-DCC079290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1936-1CAB-4154-88B3-71AC5FB5A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92C65-EB4E-4DFF-A811-A48D7B9E1C35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4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fez um altar de metal, de vinte côvados de comprimento, de vinte côvados de largura e de dez côvados de altu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4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ôs o mar ao lado direito, para o lado do oriente, na direção do su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4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Hirão fez as caldeiras, as pás e as bacias. Assim acabou Hirão de fazer a obra, que fazia para o rei Salomão, na casa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4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 duas colunas, os globos, e os dois capitéis sobre as cabeças das colunas; e as duas redes, para cobrir os dois globos dos capitéis, que estavam sobre a cabeça das colun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4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s quatrocentas romãs para as duas redes; duas carreiras de romãs para cada rede, para cobrirem os dois globos dos capitéis que estavam em cima das colun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4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fez as bases; e as pias pôs sobre as base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4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Um mar, e os doze bois debaixo del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4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melhantemente as caldeiras, as pás, os garfos e todos os seus utensílios, fez Hirão Abiú ao rei Salomão, para a casa do SENHOR, de cobre pol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4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 campina do Jordão os fundiu o rei, na terra argilosa, entre Sucote e Zered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4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ez Salomão todos estes objetos em grande abundância, que não se podia averiguar o peso do cob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4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ez também Salomão todos os objetos que eram para a casa de Deus, como também o altar de ouro, e as mesas, sobre as quais estavam os pães da proposi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4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ez também o mar de fundição, de dez côvados de uma borda até a outra, redondo, e de cinco côvados de altura; cingia-o ao redor um cordão de trinta côv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4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castiçais com as suas lâmpadas de ouro finíssimo, para as acenderem segundo o costume, perante o orácul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4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s flores, as lâmpadas e os espevitadores eram de ouro, do mais finíssimo ou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4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também os apagadores, as bacias, as colheres e os incensários de ouro finíssimo; e quanto à entrada da casa, as suas portas de dentro do lugar santíssimo, e as portas da casa do templo, eram de ou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4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or baixo dele havia figuras de bois, que cingiam o mar ao redor, dez em cada côvado, contornando-o; e tinha duas fileiras de bois, fundidos juntamente com o m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4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mar estava posto sobre doze bois; três que olhavam para o norte, três que olhavam para o ocidente, três que olhavam para o sul e três que olhavam para o oriente; e o mar estava posto sobre eles; e as suas partes posteriores estavam todas para o lad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4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inha um palmo de grossura, e a sua borda foi feita como a borda de um copo, ou como uma flor-de-lis, da capacidade de três mil ba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4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fez dez pias; e pôs cinco à direita e cinco à esquerda, para lavarem nelas; o que pertencia ao holocausto o lavavam nelas; porém o mar era para que os sacerdotes se lavassem n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4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ez também dez castiçais de ouro, segundo a sua forma, e pô-los no templo, cinco à direita, e cinco à esquer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4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fez dez mesas, e pô-las no templo, cinco à direita e cinco à esquerda; também fez cem bacias de ou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4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ez mais o pátio dos sacerdotes, e o grande átrio; como também as portas para o pátio, as quais revestiu de cob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9:09Z</dcterms:created>
  <dc:creator>Admin</dc:creator>
  <dc:description/>
  <dc:language>en-US</dc:language>
  <cp:lastModifiedBy>Admin</cp:lastModifiedBy>
  <dcterms:modified xsi:type="dcterms:W3CDTF">2008-07-30T23:49:09Z</dcterms:modified>
  <cp:revision>1</cp:revision>
  <dc:subject/>
  <dc:title>Slide 1</dc:title>
</cp:coreProperties>
</file>