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E22-A203-4934-AEF0-6D3C33F9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32E-B0C3-4F96-B8FC-BEA42DF1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C45-CF04-4C8F-979B-36104E37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0F5-9FC1-428E-91FA-C8D0F512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61F-DEF0-4575-9F75-D8E366E3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12C-2C56-4E8E-85D0-A794DC0C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E6E-6299-4E15-9FBD-255B642F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AD0-2DEE-4582-AED6-A9A01F77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77F-3361-4031-BE6E-1D533379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2F3-D6EB-4BAA-AA87-43C407D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900-17C9-4D28-B440-13DB2A8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12C-58C4-480D-9BCF-EAA379BB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B5CC-CD1B-4E99-98FF-B82DA1D224B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Ezequias adoeceu de uma enfermidade mortal; e veio a ele o profeta Isaías, filho de Amós, e lhe disse: Assim diz o SENHOR: Põe em ordem a tua casa, porque morrerás, e não viv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sse: No cessar de meus dias ir-me-ei às portas da sepultura; já estou privado do restante de meu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: Não verei ao SENHOR, o SENHOR na terra dos viventes; jamais verei o homem com os moradores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o tempo da minha vida se foi, e foi arrebatada de mim, como tenda de pastor; cortei a minha vida como tecelão; ele me cortará do tear; desde a manhã até à noite me acab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ei com paciência até à madrugada; como um leão quebrou todos os meus ossos; desde a manhã até à noite me acab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grou, ou a andorinha, assim eu chilreava, e gemia como a pomba; alçava os meus olhos ao alto; ó SENHOR, ando oprimido, fica por meu fi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rei? Como me prometeu, assim o fez; assim passarei mansamente por todos os meus anos, por causa da amargura d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por estas coisas se vive, e em todas elas está a vida do meu espírito, portanto cura-me e faze-me vi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oi para a minha paz que tive grande amargura, mas a ti agradou livrar a minha alma da cova da corrupção; porque lançaste para trás das tuas costas todos os m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te louvará a sepultura, nem a morte te glorificará; nem esperarão em tua verdade os que descem à c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ivente, o vivente, esse te louvará, como eu hoje o faço; o pai aos filhos fará notória a tu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rou Ezequias o seu rosto para a parede, e orou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veio salvar-me; por isso, tangendo em meus instrumentos, nós o louvaremos todos os dias de nossa vida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 Isaías: Tomem uma pasta de figos, e a ponham como emplastro sobre a chaga; e sa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issera Ezequias: Qual será o sinal de que hei de subir à casa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Ah! SENHOR, peço-te, lembra-te agora, de que andei diante de ti em verdade, e com coração perfeito, e fiz o que era reto aos teus olhos. E chorou Ezequias mui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palavra do SENHOR a Isaí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dize a Ezequias: Assim diz o SENHOR, o Deus de Davi teu pai: Ouvi a tua oração, e vi as tuas lágrimas; eis que acrescentarei aos teus dias quinz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vrar-te-ei das mãos do rei da Assíria, a ti, e a esta cidade, e defenderei est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te será da parte do SENHOR como sinal de que o SENHOR cumprirá esta palavra que fa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arei retroceder dez graus a sombra lançada pelo sol declinante no relógio de Acaz. Assim retrocedeu o sol os dez graus que já tinha decl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crito de Ezequias, rei de Judá, de quando adoeceu e sarou de sua enfermidad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6:02Z</dcterms:created>
  <dc:creator>Admin</dc:creator>
  <dc:description/>
  <dc:language>en-US</dc:language>
  <cp:lastModifiedBy>Admin</cp:lastModifiedBy>
  <dcterms:modified xsi:type="dcterms:W3CDTF">2008-07-30T23:56:02Z</dcterms:modified>
  <cp:revision>1</cp:revision>
  <dc:subject/>
  <dc:title>Slide 1</dc:title>
</cp:coreProperties>
</file>