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4D8-FD34-4600-A26D-AA27B2CB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A16-69B3-4A87-A8F3-D306F51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4E4-CC51-4FF5-9001-21F13A51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B89-6033-4A2F-8959-602B481D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BA2-A30D-481E-914E-0B52904F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479-80BC-45D5-8F41-6AA1AA5D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557-94CA-4021-8B9C-1A0011A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17C-5DC4-4F87-8AF5-89EB7F5F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5D7-CA7A-4D33-A1A6-30AA1576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621-9DA9-4215-BE8D-5B97204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B7C-2B53-433E-803E-C316BA6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1A0-243D-4406-BA91-74100B2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18D-4255-459A-855E-47033D3261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A-TE, ó Deus, em me livrar; SENHOR, apressa-te em ajud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quem envergonhados e confundidos os que procuram a minha alma; voltem para trás e confundam-se os que me deseja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em as costas como recompensa da sua vergonha os que dizem: Ah! Ah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uem e alegrem-se em ti todos os que te buscam; e aqueles que amam a tua salvação digam continuamente: Engrandecido sej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estou aflito e necessitado; apressa-te por mim, ó Deus. Tu és o meu auxílio e o meu libertador; SENHOR, não te dete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06Z</dcterms:created>
  <dc:creator>Admin</dc:creator>
  <dc:description/>
  <dc:language>en-US</dc:language>
  <cp:lastModifiedBy>Admin</cp:lastModifiedBy>
  <dcterms:modified xsi:type="dcterms:W3CDTF">2008-07-31T00:26:06Z</dcterms:modified>
  <cp:revision>1</cp:revision>
  <dc:subject/>
  <dc:title>Slide 1</dc:title>
</cp:coreProperties>
</file>