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DE1-90FB-439F-8BED-EF0F767A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BD3-CDF9-4087-A49F-261946E9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28E-AA15-4FF0-9DAC-F4DC47B6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0B5-6031-4B75-A534-44E0B4AD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1BB-3AAD-4BE0-ADE3-5AE405BF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4F2-8A32-4C78-B15D-1BE8DA28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255-4F59-4C39-98A6-D54DC78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26F-640F-4167-8BAC-35D72084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227-BC7C-4CBC-B158-1C3F2D40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88D-B31E-4377-BEFF-0177DB6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D21-0743-4E97-B076-6892B3A6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A11-6C45-4445-BF55-1B49EC4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2A3-87FD-47C4-BA9D-D9479693685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E tinha setenta filhos em Samaria. Jeú escreveu cartas, e as enviou a Samaria, aos chefes de Jizreel, aos anciãos e aos aios dos filhos de Acab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, pois, agora que, da palavra do SENHOR que o SENHOR falou contra a casa de Acabe, nada cairá em terra, porque o SENHOR tem feito o que falou pelo ministério de seu servo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Jeú feriu a todos os restantes da casa de Acabe em Jizreel, como também a todos os seus grandes, os seus conhecidos e seus sacerdotes, até não deixar nenhum rest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e partiu, e foi a Samaria. E, estando no caminho, em Bete-Equede dos pasto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ú achou os irmãos de Acazias, rei de Judá, e disse: Quem sois vós? E eles disseram: Os irmãos de Acazias somos; e descemos a saudar os filhos do rei e os filhos da ra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Apanhai-os vivos. E eles os apanharam vivos, e os mataram junto ao poço de Bete-Equede, quarenta e dois homens; e a nenhum deles deixou 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dali, encontrou a Jonadabe, filho de Recabe, que lhe vinha ao encontro, o qual saudou e lhe disse: Reto é o teu coração para comigo, como o meu o é para contigo? E disse Jonadabe: É. Então, se é, dá-me a mão. E deu-lhe a mão, e Jeú fê-lo su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Vai comigo, e verás o meu zelo para com o SENHOR. E o puseram no seu c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 Samaria, feriu a todos os que ficaram de Acabe em Samaria, até que os destruiu, conforme a palavra que o SENHOR dissera a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ou Jeú a todo o povo, e disse-lhe: Pouco serviu Acabe a Baal; Jeú, porém, muito o ser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chamai-me agora todos os profetas de Baal, todos os seus servos e todos os seus sacerdotes; não falte nenhum, porque tenho um grande sacrifício a Baal; todo aquele que faltar não viverá. Porém Jeú fazia isto com astúcia, para destruir os serv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, em chegando a vós esta carta, pois estão convosco os filhos de vosso senhor, como também os carros, os cavalos, a cidade fortalecida e as arm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Jeú: Consagrai a Baal uma assembléia solene. E a aprego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Jeú enviou por todo o Israel; e vieram todos os servos de Baal, e nenhum homem deles ficou que não viesse; e entraram na casa de Baal, e encheu-se a casa de Baal, de um lado a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o que tinha cargo das vestimentas: Tira as vestimentas para todos os servos de Baal. E ele lhes tirou para fora as vestim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ou Jeú com Jonadabe, filho de Recabe, na casa de Baal, e disse aos servos de Baal: Examinai, e vede bem, que porventura nenhum dos servos do SENHOR aqui haja convosco, senão somente os servos de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eles a fazerem sacrifícios e holocaustos, Jeú preparou da parte de fora oitenta homens, e disse-lhes: Se escapar algum dos homens que eu entregar em vossas mãos, a vossa vida será pela vid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de fazer o holocausto, disse Jeú aos da sua guarda e aos capitães: Entrai, feri-os, não escape nenhum. E os feriram ao fio da espada; e os da guarda e os capitães os lançaram fora, e entraram no mais interior da casa de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ram as estátuas da casa de Baal, e as quei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quebraram a estátua de Baal; e derrubaram a casa de Baal, e fizeram dela latrinas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Jeú destruiu a Baal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se apartou Jeú de seguir os pecados de Jeroboão, filho de Nebate, com que fez pecar a Israel, a saber: dos bezerros de ouro, que estavam em Betel e em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pelo melhor e mais reto dos filhos de vosso senhor, o qual ponde sobre o trono de seu pai, e pelejai pela casa de v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 o SENHOR a Jeú: Porquanto bem agiste em fazer o que é reto aos meus olhos e, conforme tudo quanto eu tinha no meu coração, fizeste à casa de Acabe, teus filhos, até à quarta geração, se assentarão no tron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ú não teve cuidado de andar com todo o seu coração na lei do SENHOR Deus de Israel, nem se apartou dos pecados de Jeroboão, com qu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começou o SENHOR a diminuir os termos de Israel; porque Hazael os feriu em todas as fronteira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Jordão até ao nascente do sol, a toda a terra de Gileade; os gaditas, os rubenitas e os manassitas, desde Aroer, que está junto ao ribeiro de Arnom, a saber, Gileade e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o mais dos atos de Jeú, tudo quanto fez e todo o seu poder, porventura não está escrito no livro das crônica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ú dormiu com seus pais, e o sepultaram em Samaria; e Jeoacaz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as que Jeú reinou sobre Israel, em Samaria, foram vinte e oito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s temeram muitíssimo, e disseram: Eis que dois reis não puderam resistir a ele; como, pois, poderemos nós resistir-lh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que tinha cargo da casa, e o que tinha cargo da cidade, os anciãos e os aios mandaram dizer a Jeú: Teus servos somos, e tudo quanto nos disseres faremos; a ninguém constituiremos rei; faze o que parecer bom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gunda vez lhes escreveu outra carta, dizendo: Se fordes meus, e ouvirdes a minha voz, tomai as cabeças dos homens, filhos de vosso senhor, e vinde a mim amanhã, a este tempo, a Jizreel (os filhos do rei, setenta homens, estavam com os grandes 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chegada a eles a carta, tomaram os filhos do rei, e os mataram, setenta homens e puseram as suas cabeças nuns cestos, e lhas mandaram a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mensageiro veio, e lhe anunciou dizendo: Trouxeram as cabeças dos filhos do rei. E ele disse: Ponde-as em dois montões à entrada da porta, até a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ela manhã, saindo ele, parou, e disse a todo o povo: Vós sois justos; eis que eu conspirei contra o meu SENHOR, e o matei; mas quem feriu a todos 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38Z</dcterms:created>
  <dc:creator>Admin</dc:creator>
  <dc:description/>
  <dc:language>en-US</dc:language>
  <cp:lastModifiedBy>Admin</cp:lastModifiedBy>
  <dcterms:modified xsi:type="dcterms:W3CDTF">2008-07-30T23:51:38Z</dcterms:modified>
  <cp:revision>1</cp:revision>
  <dc:subject/>
  <dc:title>Slide 1</dc:title>
</cp:coreProperties>
</file>