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D71-FAC2-4DEA-B3A7-40AFE6E1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DD8-7512-409F-861B-1275DD93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7D8-974E-4DCD-8794-7CE96D54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8EC-C78C-4852-A7C9-68176F8C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5BE-7CAB-4E31-9C4B-338B63DE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ECA-72ED-4F7A-83E4-56B1944C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3CA-0225-48C4-A4B1-2BAE0B39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BFA-85EA-4CAB-ADD2-8A23BDD0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6D4-6EC7-4B5D-8755-0B296EE4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173-0D95-408E-85D5-102FF2B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0FA-71C5-453C-B7B5-110FE81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490-828A-4290-831A-31033C2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E67B-C3DC-470C-8CBC-759853905A8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EI a Deus com a minha voz, a Deus levantei a minha voz, e ele inclinou para mim o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: Isto é enfermidade minha; mas eu me lembrarei dos anos da destra do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me lembrarei das obras do SENHOR; certamente que eu me lembrarei das tuas maravilhas da antigu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ditarei também em todas as tuas obras, e falarei dos teus f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caminho, ó Deus, está no santuário. Quem é Deus tão grande como o nosso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o Deus que fazes maravilhas; tu fizeste notória a tua força entre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teu braço remiste o teu povo, os filhos de Jacó e de José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águas te viram, ó Deus, as águas te viram, e tremeram; os abismos também se abal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nuvens lançaram água, os céus deram um som; as tuas flechas correram duma para outr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 teu trovão estava no céu; os relâmpagos iluminaram o mundo; a terra se abalou e tre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caminho é no mar, e as tuas veredas nas águas grandes, e os teus passos não são conhe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da minha angústia busquei ao Senhor; a minha mão se estendeu de noite, e não cessava; a minha alma recusava ser consol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iaste o teu povo, como a um rebanho, pela mão de Moisés e de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va-me de Deus, e me perturbei; queixava-me, e o meu espírito desfaleci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stentaste os meus olhos acordados; estou tão perturbado que não posso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va os dias da antiguidade, os anos dos tempos ant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noite chamei à lembrança o meu cântico; meditei em meu coração, e o meu espírito esquadrinh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jeitará o Senhor para sempre e não tornará a ser favoráv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ssou para sempre a sua benignidade? Acabou-se já a promessa de geração em ger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queceu-se Deus de ter misericórdia? Ou encerrou ele as suas misericórdias na sua ira?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24Z</dcterms:created>
  <dc:creator>Admin</dc:creator>
  <dc:description/>
  <dc:language>en-US</dc:language>
  <cp:lastModifiedBy>Admin</cp:lastModifiedBy>
  <dcterms:modified xsi:type="dcterms:W3CDTF">2008-07-31T00:26:24Z</dcterms:modified>
  <cp:revision>1</cp:revision>
  <dc:subject/>
  <dc:title>Slide 1</dc:title>
</cp:coreProperties>
</file>