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8E8E-D0A7-4780-B4EE-333D29D5E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656F-F45F-4371-A304-000B5335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FEB5-1632-46A5-8E71-B366B3F0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7CD8-998A-4B56-8884-BD288DB7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C2DB-54EB-48D5-BD55-FEBE9A91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E137-2690-48BF-86C6-D4DDD3E4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77DB-8018-43B1-BF7E-EDB32CA7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9A30-D0D7-46A3-9C24-A1BC20E1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AC35-9501-4616-A6A7-8ECC61E0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E0F1-0D02-4CE0-BAFD-A2FA1171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9594-AA16-49E1-9FC9-50256EDE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B337-D676-4B06-B4CB-0D38FC37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91F2-7AF1-4278-82FC-D67F896F808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, juntamente com os capitães do exército, separou para o ministério os filhos de Asafe, e de Hemã, e de Jedutum, para profetizarem com harpas, com címbalos, e com saltérios; e este foi o número dos homens aptos para a obra do seu ministéri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erceira a Zacur, seus filhos, e seus irmãos, doz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quarta a Izri, seus filhos, e seus irmãos, doz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quinta a Netanias, seus filhos, e seus irmãos, doz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exta a Buquias, seus filhos, e seus irmãos, doz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étima a Jesarela, seus filhos, e seus irmãos, doz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oitava a Jesaías, seus filhos, e seus irmãos, doz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nona a Matanias, seus filhos, e seus irmãos, doz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décima a Simei, seus filhos, e seus irmãos, doz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undécima a Azareel, seus filhos, e seus irmãos, doz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duodécima a Hasabias, seus filhos, e seus irmãos, doz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filhos de Asafe: Zacur, José, Netanias, e Asarela, filhos de Asafe; a cargo de Asafe, que profetizava debaixo das ordens do rei Da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décima terceira a Subael, seus filhos, e seus irmãos, doz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décima quarta a Matitias, seus filhos, e seus irmãos, doz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décima quinta a Jeremote, seus filhos, e seus irmãos, doz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décima sexta a Hananias, seus filhos, e seus irmãos, doz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décima sétima a Josbecasa, seus filhos, e seus irmãos, doz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décima oitava a Hanani, seus filhos, e seus irmãos, doz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décima nona a Maloti, seus filhos, e seus irmãos, doz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vigésima a Eliata, seus filhos, e seus irmãos, doz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5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vigésima primeira a Hotir, seus filhos, e seus irmãos, doz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5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vigésima segunda a Gidalti, seus filhos, e seus irmãos, doz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 Jedutum, os filhos: Gedalias, Zeri, Jesaías, Hasabias, e Matitias, seis, a cargo de seu pai, Jedutum, o qual profetizava com a harpa, louvando e dando graças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5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vigésima terceira a Maaziote, seus filhos, e seus irmãos, doz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5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vigésima quarta a Romanti-Ezer, seus filhos, e seus irmãos, doz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 Hemã, os filhos: Buquias, Matanias, Uziel, Sebuel, Jerimote, Hananias, Hanani, Eliata, Gidalti, Romanti-Ezer, Josbecasa, Maloti, Hotir, e Maazi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estes foram filhos de Hemã, o vidente do rei nas palavras de Deus, para exaltar o seu poder; porque Deus dera a Hemã catorze filhos e três f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estes estavam sob a direção de seu pai, para a música da casa do SENHOR, com saltérios, címbalos e harpas, para o ministério da casa de Deus; e Asafe, Jedutum, e Hemã, estavam sob as ordens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ra o número deles, juntamente com seus irmãos instruídos no canto ao SENHOR, todos eles mestres, duzentos e oitenta e o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itaram sortes acerca da guarda igualmente, assim o pequeno como o grande, o mestre juntamente com o discípu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iu, pois, a primeira sorte a Asafe, a saber a José; a segunda a Gedalias; e ele, e seus irmãos, e seus filhos, ao todo eram doz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3:46Z</dcterms:created>
  <dc:creator>Admin</dc:creator>
  <dc:description/>
  <dc:language>en-US</dc:language>
  <cp:lastModifiedBy>Admin</cp:lastModifiedBy>
  <dcterms:modified xsi:type="dcterms:W3CDTF">2008-07-30T23:43:46Z</dcterms:modified>
  <cp:revision>1</cp:revision>
  <dc:subject/>
  <dc:title>Slide 1</dc:title>
</cp:coreProperties>
</file>