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E54-BC4D-4E9B-9697-7178036D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DD3-25D3-4186-96C1-B98115B2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F4A-7BBE-4A3A-99FF-44BC318A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B72-D76D-4A08-9BB0-50697894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09A-09E2-4566-8A3A-5471B257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347-830B-478B-A0E2-9102BBD4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584-F74B-4850-9EEF-F15BBDE4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C5C-74C6-4579-B84A-DBEEF18D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6AF-A2FA-418D-8AFA-78E078B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DAF-EFA6-4270-8527-8C7D293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3B5-A20B-4FE1-A513-FDAE8B5C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3FC-2CE4-4A05-A3F8-8C1516B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594A-AED5-46A3-A296-A6B314F792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do SENHOR, que veio a Jeremias, o profeta, contra os filisteus, antes que Faraó ferisse a Ga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is que se levantam as águas do norte, e tornar-se-ão em torrente transbordante, e alagarão a terra e sua plenitude, a cidade, e os que nela habitam; e os homens clamarão, e todos os moradores da terra se lamenta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ruído estrepitoso dos cascos dos seus fortes cavalos, ao barulho de seus carros, ao estrondo das suas rodas; os pais não atendem aos filhos, por causa da fraqueza das m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 dia que vem, para destruir a todos os filisteus, para cortar de Tiro e de Sidom todo o restante que os socorra; porque o SENHOR destruirá os filisteus, o remanescente da ilha de Caf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lvície veio sobre Gaza, foi desarraigada Ascalom, com o restante do seu vale; até quando te retalha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; espada do SENHOR! Até quando deixarás de repousar? Volta para a tua bainha, descansa, e aquieta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mo te aquietarás? Pois o SENHOR deu ordem à espada contra Ascalom, e contra a praia do mar, para onde ele a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46Z</dcterms:created>
  <dc:creator>Admin</dc:creator>
  <dc:description/>
  <dc:language>en-US</dc:language>
  <cp:lastModifiedBy>Admin</cp:lastModifiedBy>
  <dcterms:modified xsi:type="dcterms:W3CDTF">2008-07-30T23:59:46Z</dcterms:modified>
  <cp:revision>1</cp:revision>
  <dc:subject/>
  <dc:title>Slide 1</dc:title>
</cp:coreProperties>
</file>