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0AE-CD43-4845-ADED-7D623DEF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937-9C5A-4A49-911D-F35C1F99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0A2-06E0-4467-8498-3A686DEC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B61-9D38-44F6-81B8-4384DCB3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294-25A5-471A-8AA0-69397971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F15-EEBA-42FA-9F0A-54884461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C9D-AB36-447A-8CA5-39B9BBF2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CADD-69E2-4385-AF1B-02301194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856-DBA9-486F-98A3-24D9CAFF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B97-B9FC-44FB-A2A5-800E8BF0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1A7E-9443-4A43-A886-AA5452C4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5CF-1B08-41A5-81FD-1C2123BB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D8A4-41C2-4087-8871-7D6A9ED545B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MÃOS, o bom desejo do meu coração e a oração a Deus por Israel é para su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que com o coração se crê para a justiça, e com a boca se faz confissão para 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Escritura diz: Todo aquele que nele crer não será confun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não há diferença entre judeu e grego; porque um mesmo é o Senhor de todos, rico para com todos os que o invoc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 aquele que invocar o nome do SENHOR será sal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, pois, invocarão aquele em quem não creram? e como crerão naquele de quem não ouviram? e como ouvirão, se não há quem pregu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o pregarão, se não forem enviados? como está escrito: Quão formosos os pés dos que anunciam o evangelho de paz; dos que trazem alegres novas de bo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em todos têm obedecido ao evangelho; pois Isaías diz: SENHOR, quem creu na nossa prega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a fé é pelo ouvir, e o ouvir pela palavr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igo: Porventura não ouviram? Sim, por certo, pois Por toda a terra saiu a voz deles, E as suas palavras até aos confins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igo: Porventura Israel não o soube? Primeiramente diz Moisés: Eu vos porei em ciúmes com aqueles que não são povo, Com gente insensata vos provocarei à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lhes dou testemunho de que têm zelo de Deus, mas não com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aías ousadamente diz: Fui achado pelos que não me buscavam, Fui manifestado aos que por mim não pergunt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ra Israel diz: Todo o dia estendi as minhas mãos a um povo rebelde e contradiz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, não conhecendo a justiça de Deus, e procurando estabelecer a sua própria justiça, não se sujeitaram à justiç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fim da lei é Cristo para justiça de todo aquele que cr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Moisés descreve a justiça que é pela lei, dizendo: O homem que fizer estas coisas viverá por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justiça que é pela fé diz assim: Não digas em teu coração: Quem subirá ao céu? (isto é, a trazer do alto a Cristo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: Quem descerá ao abismo? (isto é, a tornar a trazer dentre os mortos a Cristo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 diz? A palavra está junto de ti, na tua boca e no teu coração; esta é a palavra da fé, que pregam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aber: Se com a tua boca confessares ao Senhor Jesus, e em teu coração creres que Deus o ressuscitou dentre os mortos, serás sal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3:35Z</dcterms:created>
  <dc:creator>Admin</dc:creator>
  <dc:description/>
  <dc:language>en-US</dc:language>
  <cp:lastModifiedBy>Admin</cp:lastModifiedBy>
  <dcterms:modified xsi:type="dcterms:W3CDTF">2008-07-31T00:23:35Z</dcterms:modified>
  <cp:revision>1</cp:revision>
  <dc:subject/>
  <dc:title>Slide 1</dc:title>
</cp:coreProperties>
</file>