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EA4-9423-4EE8-8B7E-85D73BAE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BA3-90FE-4D52-8056-DDB2650C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780-B4AB-4548-810F-2D548F02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C18-5888-4089-BC16-D2046592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A1A-345D-4138-88EB-75A4D878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0C6-E00D-425B-B513-CDA56F90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EF8-E253-429D-B6C8-56874F0C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14E-C029-4F6C-B505-6760F719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951-B501-4942-B461-507C8442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41D-4D73-4241-81B2-50EA689F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3F0-3768-4346-A7A2-07D68272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15B-098D-4EC6-B15B-1A66B18D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F3A0-C528-4063-A595-0AC9C079AAA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como os homens começaram a multiplicar-se sobre a face da terra, e lhes nasceram filh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erou Noé três filhos: Sem, Cão e Ja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erra, porém, estava corrompida diante da face de Deus; e encheu-se a terra de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Deus a terra, e eis que estava corrompida; porque toda a carne havia corrompido o seu caminho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eus a Noé: O fim de toda a carne é vindo perante a minha face; porque a terra está cheia de violência; e eis que os desfarei com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 para ti uma arca da madeira de gofer; farás compartimentos na arca e a betumarás por dentro e por fora com betu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a maneira a farás: De trezentos côvados o comprimento da arca, e de cinqüenta côvados a sua largura, e de trinta côvados a sua al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rás na arca uma janela, e de um côvado a acabarás em cima; e a porta da arca porás ao seu lado; far-lhe-ás andares, baixo, segundo e terc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eu trago um dilúvio de águas sobre a terra, para desfazer toda a carne em que há espírito de vida debaixo dos céus; tudo o que há na terra expi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ontigo estabelecerei a minha aliança; e entrarás na arca, tu e os teus filhos, tua mulher e as mulheres de teus filhos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tudo o que vive, de toda a carne, dois de cada espécie, farás entrar na arca, para os conservar vivos contigo; macho e fêmea s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ram os filhos de Deus que as filhas dos homens eram formosas; e tomaram para si mulheres de todas as que escolh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s aves conforme a sua espécie, e dos animais conforme a sua espécie, de todo o réptil da terra conforme a sua espécie, dois de cada espécie virão a ti, para os conservar em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 contigo de toda a comida que se come e ajunta-a para ti; e te será para mantimento, a ti e 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ez Noé; conforme a tudo o que Deus lhe mandou, assim o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: Não contenderá o meu Espírito para sempre com o homem; porque ele também é carne; porém os seus dias serão cento e vint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ia naqueles dias gigantes na terra; e também depois, quando os filhos de Deus entraram às filhas dos homens e delas geraram filhos; estes eram os valentes que houve na antiguidade, os homens de fa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o SENHOR que a maldade do homem se multiplicara sobre a terra e que toda a imaginação dos pensamentos de seu coração era só má continu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rrependeu-se o SENHOR de haver feito o homem sobre a terra e pesou-lhe em seu co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: Destruirei o homem que criei de sobre a face da terra, desde o homem até ao animal, até ao réptil, e até à ave dos céus; porque me arrependo de os haver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é, porém, achou graça aos olho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gerações de Noé. Noé era homem justo e perfeito em suas gerações; Noé andava com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29Z</dcterms:created>
  <dc:creator>Admin</dc:creator>
  <dc:description/>
  <dc:language>en-US</dc:language>
  <cp:lastModifiedBy>Admin</cp:lastModifiedBy>
  <dcterms:modified xsi:type="dcterms:W3CDTF">2008-07-30T23:37:29Z</dcterms:modified>
  <cp:revision>1</cp:revision>
  <dc:subject/>
  <dc:title>Slide 1</dc:title>
</cp:coreProperties>
</file>