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1B2-2450-4F36-A727-CD36BF4E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DD85-07D5-45DA-A96F-A943C062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7A2F-F981-4473-B230-913E93CB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7C02-105D-4D6D-8930-9D2C28C7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5E10-AA13-4A85-A845-4674B73B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399F-6A1C-4A01-8AE9-4AFCDFBF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662B-285A-4C4B-83DA-FC926DC6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CCB2-C93C-4724-98AD-00F81528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1015-5860-472F-9BC2-E0A86627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59D3-D14D-47DA-A4CA-0B56A17B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AEFF-FBC3-43C1-8219-37D337DF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5B6-2286-4D8E-8735-FF669AC0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2DE9-AA63-449E-9756-7669E601C3D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endo a lei a sombra dos bens futuros, e não a imagem exata das coisas, nunca, pelos mesmos sacrifícios que continuamente se oferecem cada ano, pode aperfeiçoar os que a eles se cheg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qual vontade temos sido santificados pela oblação do corpo de Jesus Cristo, feita uma v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 todo o sacerdote aparece cada dia, ministrando e oferecendo muitas vezes os mesmos sacrifícios, que nunca podem tirar os peca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ste, havendo oferecido para sempre um único sacrifício pelos pecados, está assentado à destra de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qui em diante esperando até que os seus inimigos sejam postos por escabelo de seus p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om uma só oblação aperfeiçoou para sempre os que são santifi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o Espírito Santo no-lo testifica, porque depois de haver dit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aliança que farei com eles Depois daqueles dias, diz o Senhor: Porei as minhas leis em seus corações, E as escreverei em seus entendimentos; acrescenta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mais me lembrarei de seus pecados e de suas iniqü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nde há remissão destes, não há mais oblação pelo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, pois, irmãos, ousadia para entrar no santuário, pelo sangue de Jes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utra maneira, teriam deixado de se oferecer, porque, purificados uma vez os ministrantes, nunca mais teriam consciência de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novo e vivo caminho que ele nos consagrou, pelo véu, isto é, pela sua carn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ndo um grande sacerdote sobre a casa de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uemo-nos com verdadeiro coração, em inteira certeza de fé, tendo os corações purificados da má consciência, e o corpo lavado com água limp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tenhamos firmes a confissão da nossa esperança; porque fiel é o que promet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sideremo-nos uns aos outros, para nos estimularmos ao amor e às boas obr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eixando a nossa congregação, como é costume de alguns, antes admoestando-nos uns aos outros; e tanto mais, quanto vedes que se vai aproximando aquele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pecarmos voluntariamente, depois de termos recebido o conhecimento da verdade, já não resta mais sacrifício pelos pecad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uma certa expectação horrível de juízo, e ardor de fogo, que há de devorar os adversá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brantando alguém a lei de Moisés, morre sem misericórdia, só pela palavra de duas ou três testemun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quanto maior castigo cuidais vós será julgado merecedor aquele que pisar o Filho de Deus, e tiver por profano o sangue da aliança com que foi santificado, e fizer agravo ao Espírito da graç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sses sacrifícios, porém, cada ano se faz comemoração dos pecad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bem conhecemos aquele que disse: Minha é a vingança, eu darei a recompensa, diz o Senhor. E outra vez: O Senhor julgará 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rrenda coisa é cair nas mãos do Deus vi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i-vos, porém, dos dias passados, em que, depois de serdes iluminados, suportastes grande combate de afli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parte fostes feitos espetáculo com vitupérios e tribulações, e em parte fostes participantes com os que assim foram trat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ambém vos compadecestes das minhas prisões, e com alegria permitistes o roubo dos vossos bens, sabendo que em vós mesmos tendes nos céus uma possessão melhor e perman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rejeiteis, pois, a vossa confiança, que tem grande e avultado gala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ecessitais de paciência, para que, depois de haverdes feito a vontade de Deus, possais alcançar a prome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inda um pouquinho de tempo, E o que há de vir virá, e não tard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justo viverá da fé; E, se ele recuar, a minha alma não tem prazer n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ós, porém, não somos daqueles que se retiram para a perdição, mas daqueles que crêem para a conservação d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é impossível que o sangue dos touros e dos bodes tire o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entrando no mundo, diz: Sacrifício e oferta não quiseste, Mas corpo me preparas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locaustos e oblações pelo pecado não te agrad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: Eis aqui venho (No princípio do livro está escrito de mim), Para fazer, ó Deus, a tua vont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acima diz: Sacrifício e oferta, e holocaustos e oblações pelo pecado não quiseste, nem te agradaram (os quais se oferecem segundo a lei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: Eis aqui venho, para fazer, ó Deus, a tua vontade. Tira o primeiro, para estabelecer o seg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0:56Z</dcterms:created>
  <dc:creator>Admin</dc:creator>
  <dc:description/>
  <dc:language>en-US</dc:language>
  <cp:lastModifiedBy>Admin</cp:lastModifiedBy>
  <dcterms:modified xsi:type="dcterms:W3CDTF">2008-07-30T23:40:56Z</dcterms:modified>
  <cp:revision>1</cp:revision>
  <dc:subject/>
  <dc:title>Slide 1</dc:title>
</cp:coreProperties>
</file>