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1C3-1ED1-4781-AE90-F7349E9B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EDD-17F6-48CF-8C36-8DDD0178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E02-8FE3-4CA3-8214-6A3C3965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939-21B8-4A16-8B93-A831B013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255-9DE2-49CE-A0C4-F97DEE09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9C7-6FA4-4297-AED7-8E47467A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780-E202-4416-BC8A-678D1D39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001-13F8-4BFA-97A8-A39DBBA7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AA1-99ED-41F7-B525-3211BBE6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1EC-A534-4B61-A61E-469D1133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E1F-74D6-4DC1-A302-AB5C6DD3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74F-903A-450A-8A2A-BBC8431C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810C-A613-4D71-9265-08C336D3B56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, diz o SENHOR, serei o Deus de todas as famílias de Israel, e elas serão 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a palavra do SENHOR, ó nações, e anunciai-a nas ilhas longínquas, e dizei: Aquele que espalhou a Israel o congregará e o guardará, como o pastor ao seu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resgatou a Jacó, e o livrou da mão do que era mais forte do qu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virão, e exultarão no alto de Sião, e correrão aos bens do SENHOR, ao trigo, e ao mosto, e ao azeite, e aos cordeiros e bezerros; e a sua alma será como um jardim regado, e nunca mais andarão tri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virgem se alegrará na dança, como também os jovens e os velhos juntamente; e tornarei o seu pranto em alegria, e os consolarei, e lhes darei alegria em lugar de trist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ciarei a alma dos sacerdotes com gordura, e o meu povo se fartará dos meus ben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Uma voz se ouviu em Ramá, lamentação, choro amargo; Raquel chora seus filhos; não quer ser consolada quanto a seus filhos, porque já não exist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Reprime a tua voz de choro, e as lágrimas de teus olhos; porque há galardão para o teu trabalho, diz o SENHOR, pois eles voltarão da terra do ini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esperança quanto ao teu futuro, diz o SENHOR, porque teus filhos voltarão para os s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ouvi eu que Efraim se queixava, dizendo: Castigaste-me e fui castigado, como novilho ainda não domado; converte-me, e converter-me-ei, porque tu és o SENHOR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que, depois que me converti, tive arrependimento; e depois que fui instruído, bati na minha coxa; fiquei confuso, e também me envergonhei; porque suportei o opróbrio da minh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O povo dos que escaparam da espada achou graça no deserto. Israel mesmo, quando eu o fizer descan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Efraim para mim um filho precioso, criança das minhas delícias? Porque depois que falo contra ele, ainda me lembro dele solicitamente; por isso se comovem por ele as minhas entranhas; deveras me compadecerei dele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 para ti sinais, faze para ti altos marcos, aplica o teu coração à vereda, ao caminho por onde andaste; volta, pois, ó virgem de Israel, regressa a estas tu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andarás errante, ó filha rebelde? Porque o SENHOR criou uma coisa nova sobre a terra; uma mulher cercará a um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, o Deus de Israel: Ainda dirão esta palavra na terra de Judá, e nas suas cidades, quando eu vos restaurar do seu cativeiro: O SENHOR te abençoe, ó morada de justiça, ó monte de santidad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la habitarão Judá, e todas as suas cidades juntamente; como também os lavradores e os que pastoreiam o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atisfiz a alma cansada, e toda a alma entristecida saci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despertei, e olhei, e o meu sono foi doce pa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dias vêm, diz o SENHOR, em que semearei a casa de Israel, e a casa de Judá, com a semente de homens, e com a semente de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como velei sobre eles, para arrancar, e para derrubar, e para transtornar, e para destruir, e para afligir, assim velarei sobre eles, para edificar e para plantar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nunca mais dirão: Os pais comeram uvas verdes, e os dentes dos filhos se embo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muito que o SENHOR me apareceu, dizendo: Porquanto com amor eterno te amei, por isso com benignidade te atraí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ada um morrerá pela sua iniqüidade; de todo o homem que comer as uvas verdes os dentes se embo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dias vêm, diz o SENHOR, em que farei uma aliança nova com a casa de Israel e com a casa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forme a aliança que fiz com seus pais, no dia em que os tomei pela mão, para os tirar da terra do Egito; porque eles invalidaram a minha aliança apesar de eu os haver desposad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a é a aliança que farei com a casa de Israel depois daqueles dias, diz o SENHOR: Porei a minha lei no seu interior, e a escreverei no seu coração; e eu serei o seu Deus e eles serão 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ensinará mais cada um a seu próximo, nem cada um a seu irmão, dizendo: Conhecei ao SENHOR; porque todos me conhecerão, desde o menor até ao maior deles, diz o SENHOR; porque lhes perdoarei a sua maldade, e nunca mais me lembrarei dos s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que dá o sol para luz do dia, e as ordenanças da lua e das estrelas para luz da noite, que agita o mar, bramando as suas ondas; o SENHOR dos Exércitos é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falharem estas ordenanças de diante de mim, diz o SENHOR, deixará também a descendência de Israel de ser uma nação diante de mim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sse o SENHOR: Se puderem ser medidos os céus lá em cima, e sondados os fundamentos da terra cá em baixo, também eu rejeitarei toda a descendência de Israel, por tudo quanto fizeram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êm dias, diz o SENHOR, em que esta cidade será reedificada para o SENHOR, desde a torre de Hanameel até à porta da esqu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linha de medir estender-se-á para diante dela, até ao outeiro de Garebe, e virar-se-á para G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te edificarei, e serás edificada, ó virgem de Israel! Ainda serás adornada com os teus tamboris, e sairás nas danças dos que se aleg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vale dos cadáveres e da cinza, e todos os campos até ao ribeiro de Cedrom, até à esquina da porta dos cavalos para o oriente, serão consagrados ao SENHOR; não se arrancará nem se derrubará mais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plantarás vinhas nos montes de Samaria; os plantadores as plantarão e comerão como coisas comu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averá um dia em que gritarão os vigias sobre o monte de Efraim: Levantai-vos, e subamos a Sião, ao SENHOR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Cantai sobre Jacó com alegria, e exultai por causa do chefe das nações; proclamai, cantai louvores, e dizei: Salva, SENHOR, ao teu povo, o restante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s trarei da terra do norte, e os congregarei das extremidades da terra; entre os quais haverá cegos e aleijados, grávidas e as de parto juntamente; em grande congregação voltarão para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rão com choro, e com súplicas os levarei; guiá-los-ei aos ribeiros de águas, por caminho direito, no qual não tropeçarão, porque sou um pai para Israel, e Efraim é o meu primogên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58Z</dcterms:created>
  <dc:creator>Admin</dc:creator>
  <dc:description/>
  <dc:language>en-US</dc:language>
  <cp:lastModifiedBy>Admin</cp:lastModifiedBy>
  <dcterms:modified xsi:type="dcterms:W3CDTF">2008-07-30T23:58:58Z</dcterms:modified>
  <cp:revision>1</cp:revision>
  <dc:subject/>
  <dc:title>Slide 1</dc:title>
</cp:coreProperties>
</file>