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676F-BC7F-423F-9750-D15B9EF6A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6702-FDE8-4124-A16F-F61EBD69C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E7E6-1253-4DDF-AA41-C13EAA899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47E0-EB64-4AE7-B35A-D11AC7981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70F4-6B0E-4B0C-9918-1EEBD35EC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A2EC-3503-45CE-94AE-BA894DA6D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D7E0-7D58-4A7F-8701-C5CE39A02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A421-43C7-49D9-AC01-E0C0ADEC9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712C-201C-4F46-94AD-CABC2D334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FDB7-235B-42CB-82F8-50C620397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8143-2D4C-4898-BB43-769F58B3E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FAF4-3A51-4359-A48D-ACDB2C0AD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66ABC-D396-4359-82B0-53671F52E732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9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ALOU o SENHOR a Moisés no deserto de Sinai, no ano segundo da sua saída da terra do Egito, no primeiro mês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9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ala aos filhos de Israel, dizendo: Quando alguém entre vós, ou entre as vossas gerações, for imundo por tocar corpo morto, ou achar-se em jornada longe de vós, contudo ainda celebrará a páscoa a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9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o mês segundo, no dia catorze à tarde, a celebrarão; com pães ázimos e ervas amargas a comer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9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la nada deixarão até à manhã, e dela não quebrarão osso algum; segundo todo o estatuto da páscoa a celebrar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9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, quando um homem for limpo, e não estiver em viajem, e deixar de celebrar a páscoa, essa alma do seu povo será extirpada; porquanto não ofereceu a oferta do SENHOR a seu tempo determinado; esse homem levará o seu pec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9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quando um estrangeiro peregrinar entre vós, e também celebrar a páscoa ao SENHOR, segundo o estatuto da páscoa e segundo o seu rito assim a celebrará; um mesmo estatuto haverá para vós, assim para o estrangeiro, como para o natural d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9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o dia em que foi levantado o tabernáculo, a nuvem cobriu o tabernáculo sobre a tenda do testemunho; e à tarde estava sobre o tabernáculo com uma aparência de fogo até à manhã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9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era de contínuo: a nuvem o cobria, e de noite havia aparência de fog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9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sempre que a nuvem se alçava de sobre a tenda, os filhos de Israel partiam; e no lugar onde a nuvem parava, ali os filhos de Israel se acampav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9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gundo a ordem do SENHOR, os filhos de Israel partiam, e segundo a ordem do SENHOR se acampavam; todos os dias em que a nuvem parava sobre o tabernáculo, ficavam acampa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9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quando a nuvem se detinha muitos dias sobre o tabernáculo, então os filhos de Israel cumpriam a ordem do SENHOR, e não parti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9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elebrem os filhos de Israel a páscoa a seu tempo determin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9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quando a nuvem ficava poucos dias sobre o tabernáculo, segundo a ordem do SENHOR se alojavam, e segundo a ordem do SENHOR parti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9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, outras vezes a nuvem ficava desde a tarde até à manhã, e quando ela se alçava pela manhã, então partiam; quer de dia quer de noite alçando-se a nuvem, parti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9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u, quando a nuvem sobre o tabernáculo se detinha dois dias, ou um mês, ou um ano, ficando sobre ele, então os filhos de Israel se alojavam, e não partiam; e alçando-se ela, parti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9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gundo a ordem do SENHOR se alojavam, e segundo a ordem do SENHOR partiam; cumpriam o seu dever para com o SENHOR, segundo a ordem do SENHOR por intermédio de Moisé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9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o dia catorze deste mês, pela tarde, a seu tempo determinado a celebrareis; segundo todos os seus estatutos, e segundo todos os seus ritos, a celebrare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9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, pois, Moisés aos filhos de Israel que celebrassem a pásco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9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celebraram a páscoa no dia catorze do primeiro mês, pela tarde, no deserto de Sinai; conforme a tudo o que o SENHOR ordenara a Moisés, assim fizeram os filhos de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9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houve alguns que estavam imundos por terem tocado o corpo de um homem morto; e não podiam celebrar a páscoa naquele dia; por isso se chegaram perante Moisés e Arão naquele mesmo di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9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queles homens disseram-lhe: Imundos estamos nós pelo corpo de um homem morto; por que seríamos privados de oferecer a oferta do SENHOR a seu tempo determinado no meio dos filhos de Israel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9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-lhes Moisés: Esperai, e eu ouvirei o que o SENHOR vos ordena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9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falou o SENHOR a Moisés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18:25Z</dcterms:created>
  <dc:creator>Admin</dc:creator>
  <dc:description/>
  <dc:language>en-US</dc:language>
  <cp:lastModifiedBy>Admin</cp:lastModifiedBy>
  <dcterms:modified xsi:type="dcterms:W3CDTF">2008-07-31T00:18:25Z</dcterms:modified>
  <cp:revision>1</cp:revision>
  <dc:subject/>
  <dc:title>Slide 1</dc:title>
</cp:coreProperties>
</file>