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C626-FD6A-4572-8674-3B9E94E1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B688-0710-4B4C-BDED-CB6DD918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D3C4-C34B-47C4-94DB-DD736A55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0DDF-C588-4782-818E-F2194790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4CC8-ADCC-45AF-A8F4-CB561A30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FD77-ACE5-42D9-9918-214E2ED2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558-A64D-4267-95E6-6356EE2A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F426-32D3-42CA-833E-32E36DD3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7664-CABC-422A-8432-5ABD7663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18E4-A839-4DBA-9065-1C24AC36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256F-D9EB-4B22-A734-E1BD713C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999A-F64F-4A22-BB5B-E48D9DB9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798F-7560-4939-B2D2-D301FF244BE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JUNTANDO-SE entretanto muitos milhares de pessoas, de sorte que se atropelavam uns aos outros, começou a dizer aos seus discípulos: Acautelai-vos primeiramente do fermento dos fariseus, que é a hipocris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odo aquele que disser uma palavra contra o Filho do homem ser-lhe-á perdoada, mas ao que blasfemar contra o Espírito Santo não lhe será perdo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vos conduzirem às sinagogas, aos magistrados e potestades, não estejais solícitos de como ou do que haveis de responder, nem do que haveis de di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a mesma hora vos ensinará o Espírito Santo o que vos convenha fal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um da multidão: Mestre, dize a meu irmão que reparta comigo a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 lhe disse: Homem, quem me pôs a mim por juiz ou repartidor entre vó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Acautelai-vos e guardai-vos da avareza; porque a vida de qualquer não consiste na abundância do que poss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opôs-lhe uma parábola, dizendo: A herdade de um homem rico tinha produzido com abundânc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arrazoava consigo mesmo, dizendo: Que farei? Não tenho onde recolher os meus fr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Farei isto: Derrubarei os meus celeiros, e edificarei outros maiores, e ali recolherei todas as minhas novidades e os meus ben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rei a minha alma: Alma, tens em depósito muitos bens para muitos anos; descansa, come, bebe e folg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ada há encoberto que não haja de ser descoberto; nem oculto, que não haja de ser sab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us lhe disse: Louco! esta noite te pedirão a tua alma; e o que tens preparado, para quem ser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é aquele que para si ajunta tesouros, e não é rico para com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os seus discípulos: Portanto vos digo: Não estejais apreensivos pela vossa vida, sobre o que comereis, nem pelo corpo, sobre o que vesti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is é a vida do que o sustento, e o corpo mais do que as ve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siderai os corvos, que nem semeiam, nem segam, nem têm despensa nem celeiro, e Deus os alimenta; quanto mais valeis vós do que as av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l de vós, sendo solícito, pode acrescentar um côvado à sua estatu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, se nem ainda podeis as coisas mínimas, por que estais ansiosos pelas outr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siderai os lírios, como eles crescem; não trabalham, nem fiam; e digo-vos que nem ainda Salomão, em toda a sua glória, se vestiu como um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Deus assim veste a erva que hoje está no campo e amanhã é lançada no forno, quanto mais a vós, homens de pouca fé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pergunteis, pois, que haveis de comer, ou que haveis de beber, e não andeis inquie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tudo o que em trevas dissestes, à luz será ouvido; e o que falastes ao ouvido no gabinete, sobre os telhados será aprego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 nações do mundo buscam todas essas coisas; mas vosso Pai sabe que precisais d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uscai antes o reino de Deus, e todas estas coisas vos serão acrescent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mais, ó pequeno rebanho, porque a vosso Pai agradou dar-vos o re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ei o que tendes, e dai esmolas. Fazei para vós bolsas que não se envelheçam; tesouro nos céus que nunca acabe, aonde não chega ladrão e a traça não ró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onde estiver o vosso tesouro, ali estará também o vosso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jam cingidos os vossos lombos, e acesas as vossas can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de vós semelhantes aos homens que esperam o seu senhor, quando houver de voltar das bodas, para que, quando vier, e bater, logo possam abrir-lh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s aqueles servos, os quais, quando o Senhor vier, achar vigiando! Em verdade vos digo que se cingirá, e os fará assentar à mesa e, chegando-se, os serv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vier na segunda vigília, e se vier na terceira vigília, e os achar assim, bem-aventurados são os tais ser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i, porém, isto: que, se o pai de família soubesse a que hora havia de vir o ladrão, vigiaria, e não deixaria minar a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go-vos, amigos meus: Não temais os que matam o corpo e, depois, não têm mais que f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estai vós também apercebidos; porque virá o Filho do homem à hora que não imagin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Pedro: Senhor, dizes essa parábola a nós, ou também a tod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: Qual é, pois, o mordomo fiel e prudente, a quem o senhor pôs sobre os seus servos, para lhes dar a tempo a raç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 aquele servo a quem o seu senhor, quando vier, achar fazendo ass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verdade vos digo que sobre todos os seus bens o po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aquele servo disser em seu coração: O meu senhor tarda em vir; e começar a espancar os criados e criadas, e a comer, e a beber, e a embriagar-s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rá o senhor daquele servo no dia em que o não espera, e numa hora que ele não sabe, e separá-lo-á, e lhe dará a sua parte com os infié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rvo que soube a vontade do seu senhor, e não se aprontou, nem fez conforme a sua vontade, será castigado com muitos açoit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que a não soube, e fez coisas dignas de açoites, com poucos açoites será castigado. E, a qualquer que muito for dado, muito se lhe pedirá, e ao que muito se lhe confiou, muito mais se lhe ped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m lançar fogo na terra; e que mais quero, se já está aces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u vos mostrarei a quem deveis temer; temei aquele que, depois de matar, tem poder para lançar no inferno; sim, vos digo, a esse tem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mporta, porém, que seja batizado com um certo batismo; e como me angustio até que venha a cumprir-s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uidais vós que vim trazer paz à terra? Não, vos digo, mas antes dissens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aqui em diante estarão cinco divididos numa casa: três contra dois, e dois contra tr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ai estará dividido contra o filho, e o filho contra o pai; a mãe contra a filha, e a filha contra a mãe; a sogra contra sua nora, e a nora contra sua sog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ia também à multidão: Quando vedes a nuvem que vem do ocidente, logo dizeis: Lá vem chuva, e assim suce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assopra o sul, dizeis: Haverá calma; e assim suce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ipócritas, sabeis discernir a face da terra e do céu; como não sabeis então discernir este temp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5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que não julgais também por vós mesmos o que é jus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5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, pois, vais com o teu adversário ao magistrado, procura livrar-te dele no caminho; para que não suceda que te conduza ao juiz, e o juiz te entregue ao meirinho, e o meirinho te encerre na pri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5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go-te que não sairás dali enquanto não pagares o derradeiro ceit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 vendem cinco passarinhos por dois ceitis? E nenhum deles está esquecido diante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té os cabelos da vossa cabeça estão todos contados. Não temais pois; mais valeis vós do que muitos passar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go-vos que todo aquele que me confessar diante dos homens também o Filho do homem o confessará diante dos anjos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quem me negar diante dos homens será negado diante dos anjos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1:20Z</dcterms:created>
  <dc:creator>Admin</dc:creator>
  <dc:description/>
  <dc:language>en-US</dc:language>
  <cp:lastModifiedBy>Admin</cp:lastModifiedBy>
  <dcterms:modified xsi:type="dcterms:W3CDTF">2008-07-31T00:11:20Z</dcterms:modified>
  <cp:revision>1</cp:revision>
  <dc:subject/>
  <dc:title>Slide 1</dc:title>
</cp:coreProperties>
</file>