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B65-C04E-4A73-877E-AA48480B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6BC-D811-4556-A642-2C860488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C47F-A919-45C1-8420-2F01A04E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E47-0EF3-452A-BCB8-C4234212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E2C-FFA4-4D99-8C27-097BBE0F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B4C-2F12-48CC-B835-95E86960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220-E225-49CE-890E-360C0378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179-3C93-4E84-98A9-8549ABC0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77C-70D7-4355-A580-40451B95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A14-8109-4917-91DF-E00FC549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6DC-D7D8-42BC-9691-A52962BD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F70-3346-4511-A68A-87970481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72F1-6E81-4ED3-98D1-A9E6F87D537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contou o povo que tinha consigo, e pôs sobre eles capitães de mil e capitães de c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vendo um homem, fez saber a Joabe, e disse: Eis que vi a Absalão pendurado num carv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oabe ao homem que lho fizera saber: Pois que o viste, por que o não feriste logo ali em terra? E forçoso seria o eu dar-te dez moedas de prata e um ci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rém, aquele homem a Joabe: Ainda que eu pudesse pesar nas minhas mãos mil moedas de prata, não estenderia a minha mão contra o filho do rei, pois bem ouvimos que o rei te deu ordem a ti, e a Abisai, e a Itai, dizendo: Guardai-vos, cada um de vó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cometesse mentira a risco da minha vida, nem por isso coisa nenhuma se esconderia ao rei; e tu mesmo te opo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oabe: Não me demorarei assim contigo aqui. E tomou três dardos, e traspassou com eles o coração de Absalão, estando ele ainda vivo no meio do carv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ercavam dez moços, que levaram as armas de Joabe. E feriram a Absalão, e o ma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cou Joabe a buzina, e voltou o povo de perseguir a Israel, porque Joabe deteve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am a Absalão, e o lançaram no bosque, numa grande cova, e levantaram sobre ele um mui grande montão de pedras; e todo o Israel fugiu, cada um para a su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Absalão, quando ainda vivia, tinha tomado e levantado para si uma coluna, que está no vale do rei, porque dizia: Filho nenhum tenho para conservar a memória do meu nome. E chamou aquela coluna pelo seu próprio nome; por isso até ao dia de hoje se 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imaás, filho de Zadoque: Deixa-me correr, e denunciarei ao rei que já o SENHOR o vingou da mão de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enviou o povo, um terço sob o mando de Joabe, e outro terço sob o mando de Abisai, filho de Zeruia, irmão de Joabe, e outro terço sob o mando de Itai, o giteu; e disse o rei ao povo: Eu também sairei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oabe lhe disse: Tu não serás hoje o portador de novas, porém outro dia as levarás; mas hoje não darás a nova, porque é morto o filh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oabe a Cusi: Vai tu, e dize ao rei o que viste. E Cusi se inclinou a Joabe, e c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osseguiu Aimaás, filho de Zadoque, e disse a Joabe: Seja o que for deixa-me também correr após Cusi. E disse Joabe: Para que agora correrias tu, meu filho, pois não tens mensagem convenien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o que for, disse Aimaás, correrei. E Joabe lhe disse: Corre. E Aimaás correu pelo caminho da planície, e passou a Cu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estava assentado entre as duas portas; e a sentinela subiu ao terraço da porta junto ao muro; e levantou os olhos, e olhou, e eis que um homem corria s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itou, pois, a sentinela, e o disse ao rei: Se vem só, há novas em sua boca. E vinha andando e cheg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u a sentinela outro homem que corria, e a sentinela gritou ao porteiro, e disse: Eis que lá vem outro homem correndo só. Então disse o rei: Também traz este no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a sentinela: Vejo o correr do primeiro, que parece ser o correr de Aimaás, filho de Zadoque. Então disse o rei: Este é homem de bem, e virá com boas no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itou, pois, Aimaás, e disse ao rei: Paz. E inclinou-se ao rei com o rosto em terra, e disse: Bendito seja o SENHOR, que entregou os homens que levantaram a mão contra o rei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: Vai bem com o jovem, com Absalão? E disse Aimaás: Vi um grande alvoroço, quando Joabe mandou o servo do rei, e a mim teu servo; porém não sei o que 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povo disse: Não sairás, porque, se formos obrigados a fugir, não se importarão conosco; e, ainda que metade de nós morra, não farão caso de nós, porque ainda, tais como nós somos, ajuntarás dez mil; melhor será, pois, que da cidade nos sirvas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: Vira-te, e põe-te aqui. E virou-se, e pa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vinha Cusi; e disse Cusi: Anunciar-se-á ao rei meu SENHOR que hoje o SENHOR te vingou da mão de todos os que se levantaram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 a Cusi: Vai bem com o jovem, com Absalão? E disse Cusi: Sejam como aquele jovem os inimigos do rei meu senhor, e todos os que se levantam contra ti para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se perturbou, e subiu à sala que estava por cima da porta, e chorou; e andando, dizia assim: Meu filho Absalão, meu filho, meu filho, Absalão! Quem me dera que eu morrera por ti, Absalão, meu filho, meu filh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-lhe Davi: O que bem parecer aos vossos olhos, farei. E o rei se pôs do lado da porta, e todo o povo saiu em centenas e em milh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eu ordem a Joabe, e a Abisai, e a Itai, dizendo: Brandamente tratai, por amor de mim, ao jovem Absalão. E todo o povo ouviu quando o rei deu ordem a todos os capitães acerca de Absal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u, pois, o povo ao campo, a encontrar-se com Israel, e deu-se a batalha no bosque de Efr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 foi ferido o povo de Israel, diante dos servos de Davi; e naquele mesmo dia houve ali uma grande derrota de vinte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li se derramou a batalha sobre a face de toda aquela terra; e foram mais os do povo que o bosque consumiu do que os que a espada consumiu naquel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salão se encontrou com os servos de Davi; e Absalão ia montado num mulo; e, entrando o mulo debaixo dos espessos ramos de um grande carvalho, pegou-se-lhe a cabeça no carvalho, e ficou pendurado entre o céu e a terra; e o mulo, que estava debaixo 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3:38Z</dcterms:created>
  <dc:creator>Admin</dc:creator>
  <dc:description/>
  <dc:language>en-US</dc:language>
  <cp:lastModifiedBy>Admin</cp:lastModifiedBy>
  <dcterms:modified xsi:type="dcterms:W3CDTF">2008-07-30T23:53:38Z</dcterms:modified>
  <cp:revision>1</cp:revision>
  <dc:subject/>
  <dc:title>Slide 1</dc:title>
</cp:coreProperties>
</file>