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13A-ABD4-4F83-8655-903D7B2C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B01-450B-44B6-9CA9-FB9AB0CF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4AA-A389-42F3-AD44-E7FC99EC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376-E283-4562-BC7C-68723F6C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2E0-2907-4E62-B036-0953CC3E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1C7-F214-4FCD-93F6-7EB1A0D6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96C-82E0-4410-8086-43038523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6E8-647F-4BD9-B7B1-414D6795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843-4680-4C27-9CDE-DCDB3D2A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7AF-F87F-430F-A125-2DC07E1E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0BF-50D7-43CC-BBA6-C5CCB4A7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6E1-FB23-42C1-B8F2-C2E2D038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D726-F328-4042-94DD-CD9482E3710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dá ao rei os teus juízos, e a tua justiça ao filh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reis de Társis e das ilhas trarão presentes; os reis de Sabá e de Seba oferecerão d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reis se prostrarão perante ele; todas as nações o serv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livrará ao necessitado quando clamar, como também ao aflito e ao que não tem quem o aju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padecer-se-á do pobre e do aflito, e salvará as almas dos necessi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bertará as suas almas do engano e da violência, e precioso será o seu sangue aos olho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rá, e se lhe dará do ouro de Sabá; e continuamente se fará por ele oração; e todos os dias o bend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rá um punhado de trigo na terra sobre as cabeças dos montes; o seu fruto se moverá como o Líbano, e os da cidade florescerão como a erva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nome permanecerá eternamente; o seu nome se irá propagando de pais a filhos enquanto o sol durar, e os homens serão abençoados nele; todas as nações lhe chamarão bem-aventu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 Deus, o Deus de Israel, que só ele faz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ndito seja para sempre o seu nome glorioso; e encha-se toda a terra da sua glória. Amém e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julgará ao teu povo com justiça, e aos teus pobres com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i acabam as orações de Davi, filho de Jes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ntes trarão paz ao povo, e os outeiros,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lgará os aflitos do povo, salvará os filhos do necessitado, e quebrantará o opress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er-te-ão enquanto durarem o sol e a lua,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descerá como chuva sobre a erva ceifada, como os chuveiros que umedecem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s seus dias florescerá o justo, e abundância de paz haverá enquanto durar a l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minará de mar a mar, e desde o rio até às extremidad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s que habitam no deserto se inclinarão ante ele, e os seus inimigos lamberão o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12Z</dcterms:created>
  <dc:creator>Admin</dc:creator>
  <dc:description/>
  <dc:language>en-US</dc:language>
  <cp:lastModifiedBy>Admin</cp:lastModifiedBy>
  <dcterms:modified xsi:type="dcterms:W3CDTF">2008-07-31T00:26:12Z</dcterms:modified>
  <cp:revision>1</cp:revision>
  <dc:subject/>
  <dc:title>Slide 1</dc:title>
</cp:coreProperties>
</file>