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2C6-52E4-4DA6-9D7A-1101515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B37-C7FF-4116-AE1B-3ACDAE8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723-14AC-4C79-B735-4099B68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D30-D3B2-4FC8-BAD4-98717231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DDA-D0E4-4A02-8EC1-C1CB7A96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977-1C02-4AC0-867A-701F1D4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BCB-F954-4525-9013-7C38CC8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8F6-AD64-481D-A76B-497A8C01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339-93BF-4BB0-9762-7E11334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350-07A4-4369-B63B-517BF51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EB3-7489-4A58-96A4-325D4CC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9DA-E95E-4330-9795-A96A8FC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045-F53A-49EB-8C4B-AB9F0B2315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ele é bom,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l como a que se assenta nas trevas e sombra da morte, presa em aflição e em fer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 rebelaram contra as palavras de Deus, e desprezaram o conselho do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lhes abateu o coração com trabalho; tropeçaram, e não houve quem os ajud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am ao SENHOR na sua angústia, e os livrou das suas dificu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ou-os das trevas e sombra da morte; e quebrou as suas pr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ao SENHOR pela sua bondade, e pelas suas maravilhas para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brou as portas de bronze, e despedaçou os ferrolh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oucos, por causa da sua transgressão, e por causa das suas iniqüidades, são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alma aborreceu toda a comida, e chegaram até às porta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am ao SENHOR na sua angústia, e ele os livrou das suas dificu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am-no os remidos do SENHOR, os que remiu da mão do inimi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a sua palavra, e os sarou; e os livrou da su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ao SENHOR pela sua bondade, e pelas suas maravilhas para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çam os sacrifícios de louvor, e relatem as suas obras com regozi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scem ao mar em navios, mercando nas grande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es vêem as obras do SENHOR, e as suas maravilhas no prof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le manda, e se levanta o vento tempestuoso que eleva as suas o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m aos céus; descem aos abismos, e a sua alma se derrete em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m e cambaleiam como ébrios, e perderam todo o t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m ao SENHOR na sua angústia; e ele os livra das suas dificu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cessar a tormenta, e acalmam-se as suas o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ongregou das terras do oriente e do ocidente, do norte e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legram, porque se aquietaram; assim os leva ao seu porto desej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ao SENHOR pela sua bondade, e pelas suas maravilhas para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em-no na congregação do povo, e glorifiquem-no na assembléia dos anci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onverte os rios em um deserto, e as fontes em terra seden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frutífera em estéril, pela maldade dos que nela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 o deserto em lagoa, e a terra seca em f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 habitar ali os famintos, para que edifiquem cidade para habit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eiam os campos e plantam vinhas, que produzem fruto abund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abençoa, de modo que se multiplicam muito; e o seu gado não dimin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e diminuem e se abatem, pela opressão, e aflição 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ram desgarrados pelo deserto, por caminhos solitários; não acharam cidade para habi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o desprezo sobre os príncipes, e os faz andar desgarrados pelo deserto, onde não há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livra ao necessitado da opressão, em um lugar alto, e multiplica as famílias como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tos o verão, e se alegrarão, e toda a iniqüidade tapará 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sábio observará estas coisas, e eles compreenderão as benignidade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mintos e sedentos, a sua alma neles desfal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ram ao SENHOR na sua angústia, e os livrou das suas dificu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ou por caminho direito, para irem a uma cidade de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ao SENHOR pela sua bondade, e pelas suas maravilhas para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fartou a alma sedenta, e encheu de bens a alma fam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37Z</dcterms:created>
  <dc:creator>Admin</dc:creator>
  <dc:description/>
  <dc:language>en-US</dc:language>
  <cp:lastModifiedBy>Admin</cp:lastModifiedBy>
  <dcterms:modified xsi:type="dcterms:W3CDTF">2008-07-31T00:27:37Z</dcterms:modified>
  <cp:revision>1</cp:revision>
  <dc:subject/>
  <dc:title>Slide 1</dc:title>
</cp:coreProperties>
</file>