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4A0-38AA-4539-A7F4-F6A31595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05A-C645-4FCF-8C8F-92D1BC1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07C-6E82-4082-965B-D68FF739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43E-572F-4131-A4FC-7C652E54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6DD-BB3C-4516-8137-BBC454BC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75D-A0D2-4A54-98BC-146EB72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B50-1A02-4916-B652-8FA46EA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BC2-2E89-40E5-95FB-872B2F21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636-F3B5-484A-8152-06908E1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2FD-6361-4318-B210-BDD7915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61B-3B7E-40F0-9AE1-E806DC1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707-ECBE-41F6-AEA0-FF9A453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DFA-F925-4D37-9311-028441D94A9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Eliseu chamou um dos filhos dos profetas, e lhe disse: Cinge os teus lombos; e toma este vaso de azeite na tua mão, e vai a Ramote de Gile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ães comerão a Jezabel no pedaço de campo de Jizreel; não haverá quem a enterre. Então abriu a porta e fug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Jeú aos servos de seu SENHOR, disseram-lhe: Vai tudo bem? Por que veio a ti este louco? E ele lhes disse: Bem conheceis o homem e o seu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disseram: É mentira; agora faze-nos saber. E disse: Assim e assim me falou, a saber: Assim diz o SENHOR: Ungi-te rei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pressaram, tomando cada um a sua roupa puseram debaixo dele, no mais alto degrau; e tocaram a buzina e disseram: Jeú rein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eú, filho de Jeosafá, filho de Ninsi, conspirou contra Jorão. Tinha, porém, Jorão cercado a Ramote de Gileade, ele e todo o Israel, por causa de Hazael, rei d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Jorão voltou para se curar em Jizreel das feridas que os sírios lhe fizeram, quando pelejou contra Hazael, rei da Síria. E disse Jeú: Se é da vossa vontade, ninguém saia da cidade, nem escape, para ir denunciar isto em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ú subiu a um carro, e foi a Jizreel, porque Jorão estava deitado ali; e também Acazias, rei de Judá, descera para ver a Jo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talaia estava na torre de Jizreel, e viu a tropa de Jeú, que vinha, e disse: Vejo uma tropa. Então disse Jorão: Toma um cavaleiro, e envia-lho ao encontro; e diga: Há p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valeiro lhe foi ao encontro, e disse: Assim diz o rei: Há paz? E disse Jeú: Que tens tu que fazer com a paz? Passa-te para trás de mim. E o atalaia o fez saber, dizendo: Chegou a eles o mensageiro, porém não vo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outro cavaleiro; e, chegando este a eles, disse: Assim diz o rei: Há paz? E disse Jeú: Que tens tu que fazer com a paz? Passa-te para trás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lá, vê onde está Jeú, filho de Jeosafá, filho de Ninsi; entra, e faze que ele se levante do meio de seus irmãos, e leva-o à câmara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talaia o fez saber, dizendo: Também este chegou a eles, porém não volta; e o andar parece como o andar de Jeú, filho de Ninsi, porque anda furio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rão: Aparelha o carro. E aparelharam o seu carro. E saiu Jorão, rei de Israel, e Acazias, rei de Judá, cada um em seu carro, e saíram ao encontro de Jeú, e o acharam no pedaço de campo de Nabote, o jizre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 Jorão a Jeú, disse: Há paz, Jeú? E disse ele: Que paz, enquanto as prostituições da tua mãe Jezabel e as suas feitiçarias são tan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rão voltou as mãos e fugiu; e disse a Acazias: Traição há, Aca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ú entesou o seu arco com toda a força, e feriu a Jorão entre os braços, e a flecha lhe saiu pelo coração; e ele caiu no seu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ú disse a Bidcar, seu capitão: Toma-o, lança-o no pedaço do campo de Nabote, o jizreelita; porque, lembra-te de que, indo eu e tu juntos a cavalo após seu pai, Acabe, o SENHOR pôs sobre ele esta sentenç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erto vi ontem, à tarde, o sangue de Nabote e o sangue de seus filhos, diz o SENHOR; e neste mesmo campo te retribuirei, diz o SENHOR. Agora, pois, toma-o e lança-o neste campo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Acazias, rei de Judá, fugiu pelo caminho da casa do jardim; porém Jeú o perseguiu dizendo: Feri também a este; e o feriram no carro à subida de Gur, que está junto a Ibleão. E fugiu a Megido, e morre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servos o levaram num carro a Jerusalém, e o sepultaram na sua sepultura junto a seus pais, na cidade de Dav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 no ano undécimo de Jorão, filho de Acabe, começou Acazias a reinar sobre Judá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 o vaso de azeite, e derrama-o sobre a sua cabeça, e dize: Assim diz o SENHOR: Ungi-te rei sobre Israel. Então abre a porta, foge, e não te dete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eú veio a Jizreel, o que ouvindo Jezabel, pintou-se em volta dos olhos, enfeitou a sua cabeça, e olhou pela ja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Jeú pelas portas, disse ela: Teve paz Zinri, que matou a seu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ele o rosto para a janela e disse: Quem é comigo? quem? E dois ou três eunucos olharam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Lançai-a daí abaixo. E lançaram-na abaixo; e foram salpicados com o seu sangue a parede e os cavalos, e Jeú a atrope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ndo ele e havendo comido e bebido, disse: Olhai por aquela maldita, e sepultai-a, porque é filha de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para a sepultar; porém não acharam dela senão somente a caveira, os pés e as palmas d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, e lho fizeram saber; e ele disse: Esta é a palavra do SENHOR, a qual falou pelo ministério de Elias, o tisbita, seu servo, dizendo: No pedaço do campo de Jizreel os cães comerão a carne de Jez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dáver de Jezabel será como esterco sobre o campo, na herdade de Jizreel; de modo que não se possa dizer: Esta é Jez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o moço, o jovem profeta, a Ramote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le, eis que os capitães do exército estavam assentados ali; e disse: Capitão, tenho uma palavra que te dizer. E disse Jeú: A qual de todos nós? E disse: A ti, capit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, entrou na casa, e derramou o azeite sobre a sua cabeça, e disse: Assim diz o SENHOR Deus de Israel: Ungi-te rei sobre o povo do SENHOR,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ás a casa de Acabe, teu senhor, para que eu vingue o sangue de meus servos, os profetas, e o sangue de todos os servos do SENHOR, da mão de Jez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asa de Acabe perecerá; destruirei de Acabe todo o homem, tanto o encerrado como o absolvid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à casa de Acabe hei de fazer como à casa de Jeroboão, filho de Nebate, e como à casa de Baasa, filho de 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33Z</dcterms:created>
  <dc:creator>Admin</dc:creator>
  <dc:description/>
  <dc:language>en-US</dc:language>
  <cp:lastModifiedBy>Admin</cp:lastModifiedBy>
  <dcterms:modified xsi:type="dcterms:W3CDTF">2008-07-30T23:51:33Z</dcterms:modified>
  <cp:revision>1</cp:revision>
  <dc:subject/>
  <dc:title>Slide 1</dc:title>
</cp:coreProperties>
</file>