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AFD-A7D1-4D8C-B3CC-78BE92C8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FD3-37DA-45E4-B243-8D19CE8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B54-0AC4-4EE3-8883-493667E8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66A-B6D4-4015-99C8-0AD779B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4FC-786F-4523-8CA5-FBF5D962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E7C-777E-4263-939D-1DC8153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0A2-CDD6-4181-9995-8B6C9E7A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C62-9933-4BF8-B596-7818ACA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836-B85E-412A-9C75-48B81BE1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D3F-8C47-4373-B69F-602CADF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36A-EA43-4535-9F4E-CF0DF5B3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9B6-7A58-4AAE-9A41-505FF6A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AC1B-FB54-48CC-87AC-812BAB69EF4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moesta-os a que se sujeitem aos principados e potestades, que lhes obedeçam, e estejam preparados para toda a boa ob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homem herege, depois de uma e outra admoestação, evita-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esse tal está pervertido, e peca, estando já em si mesmo con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te enviar Ártemas, ou Tíquico, procura vir ter comigo a Nicópolis; porque deliberei invernar al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mpanha com muito cuidado Zenas, doutor da lei, e Apolo, para que nada lhes fal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nossos aprendam também a aplicar-se às boas obras, nas coisas necessárias, para que não sejam infrutu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m-te todos os que estão comigo. Saúda tu os que nos amam na fé. A graça seja com vós todo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 ninguém infamem, nem sejam contenciosos, mas modestos, mostrando toda a mansidão para com todos 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nós éramos noutro tempo insensatos, desobedientes, extraviados, servindo a várias concupiscências e deleites, vivendo em malícia e inveja, odiosos, odiando-nos uns a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quando apareceu a benignidade e amor de Deus, nosso Salvador, para com 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las obras de justiça que houvéssemos feito, mas segundo a sua misericórdia, nos salvou pela lavagem da regeneração e da renovação do Espírito San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bundantemente ele derramou sobre nós por Jesus Cristo nosso Salva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, sendo justificados pela sua graça, sejamos feitos herdeiros segundo a esperança d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el é a palavra, e isto quero que deveras afirmes, para que os que crêem em Deus procurem aplicar-se às boas obras; estas coisas são boas e proveitosas aos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entres em questões loucas, genealogias e contendas, e nos debates acerca da lei; porque são coisas inúteis e v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18Z</dcterms:created>
  <dc:creator>Admin</dc:creator>
  <dc:description/>
  <dc:language>en-US</dc:language>
  <cp:lastModifiedBy>Admin</cp:lastModifiedBy>
  <dcterms:modified xsi:type="dcterms:W3CDTF">2008-07-31T00:29:18Z</dcterms:modified>
  <cp:revision>1</cp:revision>
  <dc:subject/>
  <dc:title>Slide 1</dc:title>
</cp:coreProperties>
</file>