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6CE-2356-435A-A032-DD0AC2B4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614-4CAC-43F6-A83F-23A6A338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13B-7180-4619-9DDE-A923124F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40E-82EC-40D6-A891-6EA5C05E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EDD-494A-408E-931B-D7F12AAB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4A0-5236-4F5B-9D9A-F64DAF5F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C50-C0FB-4189-92C8-1CC8FE4C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B31F-B5F6-468D-B01E-02A00C21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335-4D51-4312-A1E5-9E9325D5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47D-C8F9-4708-96A4-7856D16B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BB2-3B0E-40D2-B921-91FC3B95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919-F758-4C7E-86F6-1116C8F2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57A0-39AA-417F-827C-2946040D4D3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ENÇOASTE, SENHOR, a tua terra; fizeste voltar o cativeiro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sericórdia e a verdade se encontraram; a justiça e a paz se beij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erdade brotará da terra, e a justiça olhará desde 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SENHOR dará o que é bom, e a nossa terra dará o seu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justiça irá adiante dele, e nos porá no caminho das suas pis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doaste a iniqüidade do teu povo; cobriste todos os seus pecados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ste cessar toda a tua indignação; desviaste-te do ardor da tu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a-nos a trazer, ó Deus da nossa salvação, e faze cessar a tua ira de sobr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aso estarás sempre irado contra nós? Estenderás a tua ira a todas as geraçõ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ornarás a vivificar-nos, para que o teu povo se alegre em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stra-nos, SENHOR, a tua misericórdia, e concede-nos a tu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utarei o que Deus, o SENHOR, falar; porque falará de paz ao seu povo, e aos santos, para que não voltem à louc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que a salvação está perto daqueles que o temem, para que a glória habite na noss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43Z</dcterms:created>
  <dc:creator>Admin</dc:creator>
  <dc:description/>
  <dc:language>en-US</dc:language>
  <cp:lastModifiedBy>Admin</cp:lastModifiedBy>
  <dcterms:modified xsi:type="dcterms:W3CDTF">2008-07-31T00:26:43Z</dcterms:modified>
  <cp:revision>1</cp:revision>
  <dc:subject/>
  <dc:title>Slide 1</dc:title>
</cp:coreProperties>
</file>