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33B2-53FD-4BE9-8005-37D8208A7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7E9A-59FC-4AEA-A143-F611103A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B9D0-5470-4BB1-BE9C-B1DF68625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64AF-8688-4A89-9F85-935F276FA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63E5-91EC-4F21-B6A9-D0FE64F0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8889-3FF7-4211-8918-BCE6B28E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6E3D-D9E4-48C2-849C-399179BA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88C6-E609-4902-9371-ED1DCC55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CD1B-25AF-46B1-92B8-8012BAB8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54BC-CF3B-47B7-A21C-592C081F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698D-7F57-4F7D-956F-FEC757A0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91BA-C91C-4F06-B118-0CE81123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B882-1859-42AA-A023-E6A95D61712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se acabou toda a obra que Salomão fez para a casa do SENHOR; então trouxe Salomão as coisas que seu pai Davi havia consagrado, a prata, o ouro e todos os objetos, e pô-los entre os tesouros da cas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arca não havia coisa alguma senão as duas tábuas, que Moisés tinha posto em Horebe, quando o SENHOR fez aliança com os filhos de Israel, saindo eles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saindo os sacerdotes do santuário (porque todos os sacerdotes, que ali se acharam, se santificaram, sem respeitarem as suas turm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levitas, que eram cantores, todos eles, de Asafe, de Hemã, de Jedutum, de seus filhos e de seus irmãos, vestidos de linho fino, com címbalos, com saltérios e com harpas, estavam em pé para o oriente do altar; e com eles até cento e vinte sacerdote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quando eles uniformemente tocavam as trombetas, e cantavam, para fazerem ouvir uma só voz, bendizendo e louvando ao SENHOR; e levantando eles a voz com trombetas, címbalos, e outros instrumentos musicais, e louvando ao SENHOR, dizendo: 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acerdotes não podiam permanecer em pé, para ministrar, por causa da nuvem; porque a glória do SENHOR encheu a cas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lomão congregou em Jerusalém os anciãos de Israel, e todos os chefes das tribos, os chefes dos pais entre os filhos de Israel, para fazerem subir a arca da aliança do SENHOR, da cidade de Davi, que é Si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homens de Israel se congregaram ao rei na ocasião da festa, que foi no sétimo mê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eram todos os anciãos de Israel; e os levitas levantaram a ar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izeram subir a arca, e a tenda da congregação, com todos os objetos sagrados, que estavam na tenda; os sacerdotes e os levitas os fizeram sub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Salomão e toda a congregação de Israel, que se tinha reunido com ele diante da arca, sacrificaram carneiros e bois, que não se podiam contar, nem numerar, por causa da sua abundâ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trouxeram os sacerdotes a arca da aliança do SENHOR ao seu lugar, ao oráculo da casa, ao lugar santíssimo, até debaixo das asas dos querubi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querubins estendiam ambas as asas sobre o lugar da arca, e os querubins cobriam, por cima, a arca e os seus var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varais sobressaíam para que as pontas dos varais da arca se vissem perante o oráculo, mas não se vissem de fora; e ali tem estado até ao dia de ho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9:11Z</dcterms:created>
  <dc:creator>Admin</dc:creator>
  <dc:description/>
  <dc:language>en-US</dc:language>
  <cp:lastModifiedBy>Admin</cp:lastModifiedBy>
  <dcterms:modified xsi:type="dcterms:W3CDTF">2008-07-30T23:49:11Z</dcterms:modified>
  <cp:revision>1</cp:revision>
  <dc:subject/>
  <dc:title>Slide 1</dc:title>
</cp:coreProperties>
</file>