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836-123B-40C2-965E-A3C1DAEE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801-E281-410C-9265-2BB14AB5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761-0F50-410C-B893-B2949C60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AEB-73AB-4E90-87B0-60FB1BCB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C3D-1177-412C-9E35-3D705FF4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561-A121-4FB1-B426-40F0D26D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76D-3C03-4CC2-87DD-505271C8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9EF-8B8A-417B-BDB3-759D64B6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DC4-1943-41E8-9665-6A634DBD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0F3-06D2-45E8-9CE8-0754ABE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1E3-E9CF-4277-BCE1-E270890D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3FD-A289-48D8-9BC2-24ECEDD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2D09-AA5C-4073-9986-3A80474AB83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outro anjo forte, que descia do céu, vestido de uma nuvem; e por cima da sua cabeça estava o arco celeste, e o seu rosto era como o sol, e os seus pés como colunas de fo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ei o livrinho da mão do anjo, e comi-o; e na minha boca era doce como mel; e, havendo-o comido, o meu ventre ficou am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me: Importa que profetizes outra vez a muitos povos, e nações, e línguas e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na sua mão um livrinho aberto. E pôs o seu pé direito sobre o mar, e o esquerdo sobre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ou com grande voz, como quando ruge um leão; e, havendo clamado, os sete trovões emitiram as suas vo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s sete trovões acabaram de emitir as suas vozes, eu ia escrever; mas ouvi uma voz do céu, que me dizia: Sela o que os sete trovões emitiram, e não o esc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que vi estar sobre o mar e sobre a terra levantou a sua mão ao cé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rou por aquele que vive para todo o sempre, o qual criou o céu e o que nele há, e a terra e o que nela há, e o mar e o que nele há, que não haveria mais demo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s dias da voz do sétimo anjo, quando tocar a sua trombeta, se cumprirá o segredo de Deus, como anunciou aos profetas,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voz que eu do céu tinha ouvido tornou a falar comigo, e disse: Vai, e toma o livrinho aberto da mão do anjo que está em pé sobre o mar e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i ao anjo, dizendo-lhe: Dá-me o livrinho. E ele disse-me: Toma-o, e come-o, e ele fará amargo o teu ventre, mas na tua boca será doce como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28Z</dcterms:created>
  <dc:creator>Admin</dc:creator>
  <dc:description/>
  <dc:language>en-US</dc:language>
  <cp:lastModifiedBy>Admin</cp:lastModifiedBy>
  <dcterms:modified xsi:type="dcterms:W3CDTF">2008-07-30T23:22:28Z</dcterms:modified>
  <cp:revision>1</cp:revision>
  <dc:subject/>
  <dc:title>Slide 1</dc:title>
</cp:coreProperties>
</file>