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E90-29BA-450D-8874-F8181344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954-EE0C-4563-8892-73EC3E6E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927-0807-4749-9621-68470831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567-D547-48A7-9011-03488201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CE7-ECBD-4E88-915A-39022AC1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3FC-4759-42EE-822C-9AB1A1B7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B0D-AA73-476B-8DDB-F43AA6B7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717-AC56-4027-A695-BF66AF0C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120-71BC-43C5-B46A-5E2C429D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B78-03DB-4C8E-81A9-1538FCB7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779-A3CF-4CD4-A79F-64CA6AE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3AB-227A-40A3-9383-6714CCDD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16CF-8EF5-4203-A0FA-1D3C908D608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ÃO de Obadias: Assim diz o Senhor DEUS a respeito de Edom: Temos ouvido a pregação do SENHOR, e foi enviado aos gentios um emissário, dizendo: Levantai-vos, e levantemo-nos contra ela para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violência feita a teu irmão Jacó, cobrir-te-á a confusão, e serás exterminad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em que o confrontaste, no dia em que estranhos levaram cativo o seu exército, e os estrangeiros entravam pelas suas portas, e lançaram sortes sobre Jerusalém, tu eras também como um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não devias olhar com prazer para o dia de teu irmão, no dia do seu infortúnio; nem alegrar-te sobre os filhos de Judá, no dia da sua ruína; nem alargar a tua boca, no dia da angúst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entrar pela porta do meu povo, no dia da sua calamidade; sim, tu não devias olhar satisfeito o seu mal, no dia da sua calamidade; nem lançar mão dos seus bens, no dia da sua calam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parar nas encruzilhadas, para exterminares os que escapassem; nem entregar os que lhe restassem, no dia d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dia do SENHOR está perto, sobre todos os gentios; como tu fizeste, assim se fará contigo; a tua recompensa voltará sobre a t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vós bebestes no meu santo monte, assim beberão também de contínuo todos os gentios; beberão, e sorverão, e serão como se nunca tivessem s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 monte Sião haverá livramento, e ele será santo; e os da casa de Jacó possuirão as suas her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asa de Jacó será fogo, e a casa de José uma chama, e a casa de Esaú palha; e se acenderão contra eles, e os consumirão; e ninguém mais restará da casa de Esaú, porque o SENHOR o fal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o sul possuirão o monte de Esaú, e os das planícies, os filisteus; possuirão também os campos de Efraim, e os campos de Samaria; e Benjamim possuirá a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e fiz pequeno entre os gentios; tu és muito desprez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tivos deste exército, dos filhos de Israel, possuirão os cananeus, até Zarefate; e os cativos de Jerusalém, que estão em Sefarade, possuirão as cidades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rão salvadores ao monte Sião, para julgarem o monte de Esaú; e o reino será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oberba do teu coração te enganou, como o que habita nas fendas das rochas, na sua alta morada, que diz no seu coração: Quem me derrubará em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e elevares como águia, e puseres o teu ninho entre as estrelas, dali te derrubarei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iessem a ti ladrões, ou assaltantes de noite (como estás destruído!), não furtariam o que lhes bastasse? Se a ti viessem os vindimadores, não deixariam algumas uv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foram rebuscados os bens de Esaú! Como foram investigados os seus tesouros escondid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teus confederados te levaram até a fronteira; os que gozam da tua paz te enganaram, prevaleceram contra ti; os que comem o teu pão puseram debaixo de ti uma armadilha; não há nele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acontecerá naquele dia, diz o SENHOR, que farei perecer os sábios de Edom, e o entendimento do monte de Esaú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Obadi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teus poderosos, ó Temã, estarão atemorizados, para que do monte de Esaú seja cada um exterminado pela mat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31Z</dcterms:created>
  <dc:creator>Admin</dc:creator>
  <dc:description/>
  <dc:language>en-US</dc:language>
  <cp:lastModifiedBy>Admin</cp:lastModifiedBy>
  <dcterms:modified xsi:type="dcterms:W3CDTF">2008-07-31T00:20:31Z</dcterms:modified>
  <cp:revision>1</cp:revision>
  <dc:subject/>
  <dc:title>Slide 1</dc:title>
</cp:coreProperties>
</file>