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758-FC25-420D-85B1-FAC8B3AD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545-895F-49E1-808E-BDB42CD4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678-3E82-496F-A8BA-6AC0BCFF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318-75D6-4E69-ACBC-A805272B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7D7-04AA-47FF-A4D6-3F256020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C4D-3B0E-480E-B542-A6D4375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90D-95BD-4BC0-80C4-D17EBA8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94F-7390-469D-88AE-D248BBB0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2D9-5211-4D1B-A047-071F792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B23-485C-42C4-BCA3-CD7C50C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C91-C874-442F-8B95-B3A99DE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256-6FD1-4EC0-9577-0C74FCE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5128-E3F1-4896-B4F4-EDCD96E915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VÓS, todos os que tendes sede, vinde às águas, e os que não tendes dinheiro, vinde, comprai, e comei; sim, vinde, comprai, sem dinheiro e sem preço, vinho e l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ssim como desce a chuva e a neve dos céus, e para lá não tornam, mas regam a terra, e a fazem produzir, e brotar, e dar semente ao semeador, e pão ao que c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a minha palavra, que sair da minha boca; ela não voltará para mim vazia, antes fará o que me apraz, e prosperará naquilo para que a env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alegria saireis, e em paz sereis guiados; os montes e os outeiros romperão em cântico diante de vós, e todas as árvores do campo baterão p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ugar do espinheiro crescerá a faia, e em lugar da sarça crescerá a murta; o que será para o SENHOR por nome, e por sinal eterno, que nunca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gastais o dinheiro naquilo que não é pão? E o produto do vosso trabalho naquilo que não pode satisfazer? Ouvi-me atentamente, e comei o que é bom, e a vossa alma se deleite com a go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i os vossos ouvidos, e vinde a mim; ouvi, e a vossa alma viverá; porque convosco farei uma aliança perpétua, dando-vos as firmes beneficência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o dei por testemunha aos povos, como líder e governador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chamarás a uma nação que não conheces, e uma nação que nunca te conheceu correrá para ti, por amor do SENHOR teu Deus, e do Santo de Israel; porque ele te glor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o SENHOR enquanto se pode achar, invocai-o enquanto está 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e o ímpio o seu caminho, e o homem maligno os seus pensamentos, e se converta ao SENHOR, que se compadecerá dele; torne para o nosso Deus, porque grandioso é em perd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eus pensamentos não são os vossos pensamentos, nem os vossos caminhos os meus caminh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como os céus são mais altos do que a terra, assim são os meus caminhos mais altos do que os vossos caminhos, e os meus pensamentos mais altos do que os vossos pens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7Z</dcterms:created>
  <dc:creator>Admin</dc:creator>
  <dc:description/>
  <dc:language>en-US</dc:language>
  <cp:lastModifiedBy>Admin</cp:lastModifiedBy>
  <dcterms:modified xsi:type="dcterms:W3CDTF">2008-07-30T23:56:47Z</dcterms:modified>
  <cp:revision>1</cp:revision>
  <dc:subject/>
  <dc:title>Slide 1</dc:title>
</cp:coreProperties>
</file>