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1CF-4DC0-4B3F-8580-66C130FE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B6B-4BEB-44E5-A030-8F4034F9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8E5-B750-42E4-874F-50C083EA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926-829A-4494-874F-86025029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FD2-1519-4E00-8515-8D479E9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F99-A0B6-4728-9BA2-80140B62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FF3-6BEF-4FDB-BC01-AA7A0E87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69F-9F21-463F-B747-1D58158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DE1-6646-4ACC-ACC2-3E7EA3B7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765-7FC8-4325-BA5D-A59949F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06E-9879-4E80-9A76-610162E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2A4-F632-4605-9D50-2554BA1B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9B2F-D89B-4BF5-84CB-23624492B7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aquele cuja transgressão é perdoada, e cujo pecado é cob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ímpio tem muitas dores, mas àquele que confia no SENHOR a misericórdia o cer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i-vos no SENHOR, e regozijai-vos, vós os justos; e cantai alegremente, todos vós que sois ret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a quem o SENHOR não imputa maldade, e em cujo espírito não há eng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u guardei silêncio, envelheceram os meus ossos pelo meu bramido em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 dia e de noite a tua mão pesava sobre mim; o meu humor se tornou em sequidão de esti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essei-te o meu pecado, e a minha maldade não encobri. Dizia eu: Confessarei ao SENHOR as minhas transgressões; e tu perdoaste a maldade do meu pecad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todo aquele que é santo orará a ti, a tempo de te poder achar; até no transbordar de muitas águas, estas não lhe cheg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o lugar em que me escondo; tu me preservas da angústia; tu me cinges de alegres cantos de livrament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struir-te-ei, e ensinar-te-ei o caminho que deves seguir; guiar-te-ei com 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is como o cavalo, nem como a mula, que não têm entendimento, cuja boca precisa de cabresto e freio para que não se cheguem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54Z</dcterms:created>
  <dc:creator>Admin</dc:creator>
  <dc:description/>
  <dc:language>en-US</dc:language>
  <cp:lastModifiedBy>Admin</cp:lastModifiedBy>
  <dcterms:modified xsi:type="dcterms:W3CDTF">2008-07-31T00:24:54Z</dcterms:modified>
  <cp:revision>1</cp:revision>
  <dc:subject/>
  <dc:title>Slide 1</dc:title>
</cp:coreProperties>
</file>