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07C-E9F7-4D82-B578-C2A7749F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81D-8896-4F9A-9D3D-38F04E5A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616A-EB20-4374-94FF-911757B7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166-C193-4A88-B9C0-9FEB8384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6BB-EA50-4334-B57C-83682949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DC3-AD73-4C4A-BC51-29DB014B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1B41-C6DF-4D65-8A2A-5827F4B0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EBC7-C0DD-49BB-AB03-46E1047B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4E01-BA1A-4936-B539-C2D0DAC8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7DE-B16A-4C35-A22E-8CCC2466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88B6-C3B3-4797-BD23-00524BFC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EDC-3B2B-4707-BFDC-0F966ABB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65FA-B66B-4883-B83E-F5B509DBD40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espírito se vai consumindo, os meus dias se vão apagando, e só tenho perante mim a sepu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na verdade, tornai todos vós e vinde; porque sábio nenhum acharei entr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us dias passaram, e malograram os meus propósitos, as aspirações do m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ocaram a noite em dia; a luz está perto do fim, por causa das tre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u esperar, a sepultura será a minha casa; nas trevas estenderei a minha c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À corrupção clamo: Tu és meu pai; e aos vermes: Vós sois minha mãe e minha irm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, pois, estaria agora a minha esperança? Sim, a minha esperança, quem a poderá v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barras da sepultura descerão quando juntamente no pó teremos desca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veras estou cercado de zombadores, e os meus olhos contemplam as suas provoc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mete agora, e dá-me um fiador para contigo; quem há que me dê a m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os seus corações encobriste o entendimento, por isso não os exalt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denuncia os seus amigos, a fim de serem despojados, também os olhos de seus filhos desfalec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mim me pôs por um provérbio dos povos, de modo que me tornei uma abominação pa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que já se escureceram de mágoa os meus olhos, e já todos os meus membros são como a som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retos pasmarão disto, e o inocente se levantará contra o hipócr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justo seguirá o seu caminho firmemente, e o puro de mãos irá crescendo em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1:10Z</dcterms:created>
  <dc:creator>Admin</dc:creator>
  <dc:description/>
  <dc:language>en-US</dc:language>
  <cp:lastModifiedBy>Admin</cp:lastModifiedBy>
  <dcterms:modified xsi:type="dcterms:W3CDTF">2008-07-31T00:01:10Z</dcterms:modified>
  <cp:revision>1</cp:revision>
  <dc:subject/>
  <dc:title>Slide 1</dc:title>
</cp:coreProperties>
</file>