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6E8-6736-4E24-8AEE-2D1D435E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E57-478B-4221-8A8B-69B4B4FD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842-52E4-4A8E-9CF4-30F157FF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63E-E694-415F-BCFE-19E1AFED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C9B-DD00-4C0E-86D4-D8F6E878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ADF-A147-4481-84FE-BB79CAD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AAC-7773-46DD-A5DA-050D541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B80-06EB-4506-A506-CFD4990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8BB-79D0-4803-9D94-6ED87CB3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C1E-6C73-4033-A9D3-C4FC266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C92-A2F3-4482-88C1-5AB968D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3A6-2088-4154-8206-7A6D671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B34C-5AE9-4FEC-B4F3-E3E5CAEFA3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, pois, no mês de Nisã, no ano vigésimo do rei Artaxerxes, que estava posto vinho diante dele, e eu peguei o vinho e o dei ao rei; porém eu nunca estivera triste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uvindo Sambalate, o horonita, e Tobias, o servo amonita, lhes desagradou extremamente que alguém viesse a procurar o bem d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uei a Jerusalém, e estive ali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oite me levantei, eu e poucos homens comigo, e não declarei a ninguém o que o meu Deus me pôs no coração para fazer em Jerusalém; e não havia comigo animal algum, senão aquele em que estava m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oite saí pela porta do vale, e para o lado da fonte do dragão, e para a porta do monturo, e contemplei os muros de Jerusalém, que estavam fendidos, e as suas portas, que tinham sido consumidas pel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ei à porta da fonte, e ao tanque do rei; e não havia lugar por onde pudesse passar o animal em que estava mo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, de noite subi pelo ribeiro e contemplei o muro; e, virando entrei pela porta do vale; assim volt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ouberam os magistrados aonde eu fora nem o que eu fazia; porque ainda nem aos judeus, nem aos sacerdotes, nem aos nobres, nem aos magistrados, nem aos mais que faziam a obra, até então tinha declarado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: Bem vedes vós a miséria em que estamos, que Jerusalém está assolada, e que as suas portas têm sido queimadas a fogo; vinde, pois, e reedifiquemos o muro de Jerusalém, e não sejamos mais um oprób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eclarei como a mão do meu Deus me fora favorável, como também as palavras do rei, que ele me tinha dito; então disseram: Levantemo-nos, e edifiquemos. E esforçaram as suas mãos para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ouvindo Sambalate, o horonita, e Tobias, o servo amonita, e Gesém, o árabe, zombaram de nós, e desprezaram-nos, e disseram: Que é isto que fazeis? Quereis rebelar-vos contra o 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me disse: Por que está triste o teu rosto, pois não estás doente? Não é isto senão tristeza de coração; então temi sobreman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respondi, e disse: O Deus dos céus é o que nos fará prosperar: e nós, seus servos, nos levantaremos e edificaremos; mas vós não tendes parte, nem justiça, nem memória em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rei: Viva o rei para sempre! Como não estaria triste o meu rosto, estando a cidade, o lugar dos sepulcros de meus pais, assolada, e tendo sido consumidas as suas portas a f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me disse: Que me pedes agora? Então orei ao Deus dos cé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rei: Se é do agrado do rei, e se o teu servo é aceito em tua presença, peço-te que me envies a Judá, à cidade dos sepulcros de meus pais, para que eu a reedifi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 me disse, estando a rainha assentada junto a ele: Quanto durará a tua viagem, e quando voltarás? E aprouve ao rei enviar-me, apontando-lhe eu um cert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o rei: Se ao rei parece bem, dêem-se-me cartas para os governadores dalém do rio, para que me permitam passar até que chegue a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uma carta para Asafe, guarda da floresta do rei, para que me dê madeira para cobrir as portas do paço da casa, para o muro da cidade e para a casa em que eu houver de entrar. E o rei mas deu, segundo a boa mão de Deus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eem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ui aos governadores dalém do rio, e dei-lhes as cartas do rei; e o rei tinha enviado comigo capitães do exército e caval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44Z</dcterms:created>
  <dc:creator>Admin</dc:creator>
  <dc:description/>
  <dc:language>en-US</dc:language>
  <cp:lastModifiedBy>Admin</cp:lastModifiedBy>
  <dcterms:modified xsi:type="dcterms:W3CDTF">2008-07-31T00:16:44Z</dcterms:modified>
  <cp:revision>1</cp:revision>
  <dc:subject/>
  <dc:title>Slide 1</dc:title>
</cp:coreProperties>
</file>