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8F1-E8D3-4B4C-B932-9546F0BE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146-DA46-4F4A-B8CE-C150787F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B7F-88E9-4F03-BC62-A1BC91ED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13B-2DE2-49B9-AB8F-887D7DAD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331-1A77-4D56-BA65-0B507635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3DC-3517-441E-BBB9-607ADE26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9E9-CD05-4260-BF33-247C6B60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E0B-2812-4F6A-BF5D-971D42C7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F0D-F938-4605-A9D0-37135C79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978-9660-4CCB-A0C5-8799F2AA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B4F-4A4F-4DF6-A427-8A1C892A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5B8-5F1A-42F9-88E9-FFC7A638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E88E-CC91-4447-955A-96A62C2B0C4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stes são provérbios de Salomão, os quais transcreveram os homens de Ezequias, rei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não te desonre o que o ouvir, e a tua infâmia não se apart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maçãs de ouro em salvas de prata, assim é a palavra dita a seu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pendentes de ouro e gargantilhas de ouro fino, assim é o sábio repreensor para o ouvido at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frio da neve no tempo da sega, assim é o mensageiro fiel para com os que o enviam; porque refresca a alma dos seus senh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nuvens e ventos que não trazem chuva, assim é o homem que se gaba falsamente de dádi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longanimidade se persuade o príncipe, e a língua branda amolece até os o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haste mel? come só o que te basta; para que porventura não te fartes dele, e o venhas a vomi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onhas muito os pés na casa do teu próximo; para que se não enfade de ti, e passe a te odi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rtelo, espada e flecha aguda é o homem que profere falso testemunho contra o seu próx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dente quebrado, e pé desconjuntado, é a confiança no desleal, no tempo da angús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glória de Deus está nas coisas encobertas; mas a honra dos reis, está em descobri-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canta canções para o coração aflito é como aquele que despe a roupa num dia de frio, ou como o vinagre sobre sali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teu inimigo tiver fome, dá-lhe pão para comer; e se tiver sede, dá-lhe água para beb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lhe amontoarás brasas sobre a cabeça; e o SENHOR to retribu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vento norte afugenta a chuva, e a face irada, a língua fing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morar só num canto de telhado do que com a mulher briguenta numa casa amp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água fresca para a alma cansada, tais são as boas novas vindas da terra dist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fonte turvada, e manancial poluído, assim é o justo que cede diante do ímp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er mel demais não é bom; assim, a busca da própria glória não é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 cidade derrubada, sem muro, assim é o homem que não pode conter o seu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éus, pela altura, e a terra, pela profundidade, assim o coração dos reis é insondá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ra da prata as escórias, e sairá vaso para o fundid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ra o ímpio da presença do rei, e o seu trono se firmará n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glories na presença do rei, nem te ponhas no lugar dos grand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elhor é que te digam: Sobe aqui; do que seres humilhado diante do príncipe que os teus olhos já v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precipites em litigar, para que depois, ao fim, fiques sem ação, quando teu próximo te puser em ap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leiteia a tua causa com o teu próximo, e não reveles o problema a outre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2:38Z</dcterms:created>
  <dc:creator>Admin</dc:creator>
  <dc:description/>
  <dc:language>en-US</dc:language>
  <cp:lastModifiedBy>Admin</cp:lastModifiedBy>
  <dcterms:modified xsi:type="dcterms:W3CDTF">2008-07-31T00:22:38Z</dcterms:modified>
  <cp:revision>1</cp:revision>
  <dc:subject/>
  <dc:title>Slide 1</dc:title>
</cp:coreProperties>
</file>