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378-DF06-4ABF-8CA7-93782FDC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3FC-D135-44DD-B347-E11C46E3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90E-2EDA-4A99-9439-AA27E56B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36B-9F25-480F-B887-223261C1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555-EF4B-4B3E-8A00-980FAB21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E64-A13E-4AA2-97AB-C377AE43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F6C-23CC-4703-8419-3EE6D63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993-9167-4DAE-BD1D-3E42B7A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372-A593-47AD-BE5F-B499EB51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4D8-2516-4BF5-8990-054E53A8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B86-0B63-49FE-94B5-05E25F8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B0E-80E3-4A29-853E-CD3D23C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A16E-5FDC-4E7B-86A0-614F80FD59D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o anjo do SENHOR de Gilgal a Boquim, e disse: Do Egito vos fiz subir, e vos trouxe à terra que a vossos pais tinha jurado e disse: Nunca invalidarei a minha alianç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ambém congregada toda aquela geração a seus pais, e outra geração após ela se levantou, que não conhecia ao SENHOR, nem tampouco a obra que ele fizera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izeram os filhos de Israel o que era mau aos olhos do SENHOR; e serviram aos baal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ram ao SENHOR Deus de seus pais, que os tirara da terra do Egito, e foram-se após outros deuses, dentre os deuses dos povos, que havia ao redor deles, e adoraram a eles; e provocaram o SENHOR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eixaram ao SENHOR, e serviram a Baal e a Astar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ira do SENHOR se acendeu contra Israel, e os entregou na mão dos espoliadores que os despojaram; e os entregou na mão dos seus inimigos ao redor; e não puderam mais resistir diante d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onde quer que saíam, a mão do SENHOR era contra eles para mal, como o SENHOR tinha falado, e como o SENHOR lhes tinha jurado; e estavam em grande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o SENHOR juízes, que os livraram da mão dos que os despoj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ampouco ouviram aos juízes, antes prostituíram-se após outros deuses, e adoraram a eles; depressa se desviaram do caminho, por onde andaram seus pais, obedecendo os mandamentos do SENHOR; mas eles assim não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SENHOR lhes levantava juízes, o SENHOR era com o juiz, e os livrava da mão dos seus inimigos, todos os dias daquele juiz; porquanto o SENHOR se compadecia deles pelo seu gemido, por causa dos que os oprimiam e aflig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ucedia que, falecendo o juiz, reincidiam e se corrompiam mais do que seus pais, andando após outros deuses, servindo-os, e adorando-os; nada deixavam das suas obras, nem do seu obstinad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 vós, não fareis acordo com os moradores desta terra, antes derrubareis os seus altares; mas vós não obedecestes à minha voz. Por que fizestes is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ira do SENHOR se acendeu contra Israel, e disse: Porquanto este povo transgrediu a minha aliança, que tinha ordenado a seus pais, e não deram ouvidos à minha vo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desapossarei mais de diante deles a nenhuma das nações, que Josué deixou, quando morre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por elas provar a Israel, se há de guardar, ou não, o caminho do SENHOR, como seus pais o guardaram, para nele an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ENHOR deixou ficar aquelas nações, e não as desterrou logo, nem as entregou na mão de Josu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eu disse: Não os expulsarei de diante de vós; antes estarão como espinhos nas vossas ilhargas, e os seus deuses vos serão por l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falando o anjo do SENHOR estas palavras a todos os filhos de Israel, o povo levantou a sua voz e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chamaram àquele lugar, Boquim; e sacrificaram al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ndo Josué despedido o povo foram-se os filhos de Israel, cada um à sua herança, para possuíre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u o povo ao SENHOR todos os dias de Josué, e todos os dias dos anciãos que ainda sobreviveram depois de Josué, e viram toda aquela grande obra do SENHOR, que fizera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eceu, porém, Josué, filho de Num, servo do SENHOR, com a idade de cento e dez an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pultaram-no no termo da sua herança, em Timnate-Heres, no monte de Efraim, para o norte do monte de Ga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23Z</dcterms:created>
  <dc:creator>Admin</dc:creator>
  <dc:description/>
  <dc:language>en-US</dc:language>
  <cp:lastModifiedBy>Admin</cp:lastModifiedBy>
  <dcterms:modified xsi:type="dcterms:W3CDTF">2008-07-31T00:06:23Z</dcterms:modified>
  <cp:revision>1</cp:revision>
  <dc:subject/>
  <dc:title>Slide 1</dc:title>
</cp:coreProperties>
</file>