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6AE-96F4-4DAC-B641-BAFD958B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2E7-B40B-417D-A9C5-FB31687C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14A-5C3B-4EC5-A1DE-EF3624F4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DDD-F813-4F5D-A7D2-4F1F7300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797-B6D1-43F6-B6BB-C069058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075-0230-44F6-A8C9-8777AEE7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243-461C-46EA-B244-3D2F9A9D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44D-8D08-4BE0-9026-5D1702FE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FE1-3EE0-4262-A2FC-45780227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9B2-6555-4133-89CB-A14704B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40A-C9C9-4B31-BF44-45AA1682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EEF-8BFE-4446-94B3-8D1867A4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CF57-4061-4161-9286-B508B80019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ÃO de Isaías, filho de Amós, que ele teve a respeito de Judá e Jerusalém, nos dias de Uzias, Jotão, Acaz, e Ezequias, reis d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a palavra do SENHOR, vós poderosos de Sodoma; dai ouvidos à lei do nosso Deus, ó povo de Go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e me serve a mim a multidão de vossos sacrifícios, diz o SENHOR? Já estou farto dos holocaustos de carneiros, e da gordura de animais cevados; nem me agrado de sangue de bezerros, nem de cordeiros, nem de bo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vindes para comparecer perante mim, quem requereu isto de vossas mãos, que viésseis a pisar os meus átri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continueis a trazer ofertas vãs; o incenso é para mim abominação, e as luas novas, e os sábados, e a convocação das assembléias; não posso suportar iniqüidade, nem mesmo a reunião sole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ossas luas novas, e as vossas solenidades, a minha alma as odeia; já me são pesadas; já estou cansado de as sofr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quando estendeis as vossas mãos, escondo de vós os meus olhos; e ainda que multipliqueis as vossas orações, não as ouvirei, porque as vossas mãos estão cheias de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avai-vos, purificai-vos, tirai a maldade de vossos atos de diante dos meus olhos; cessai de fazer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ndei a fazer bem; procurai o que é justo; ajudai o oprimido; fazei justiça ao órfão; tratai da causa das viú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 então, e argüi-me, diz o SENHOR: ainda que os vossos pecados sejam como a escarlata, eles se tornarão brancos como a neve; ainda que sejam vermelhos como o carmesim, se tornarão como a branca l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quiserdes, e obedecerdes, comereis o bem d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ó céus, e dá ouvidos, tu, ó terra; porque o SENHOR tem falado: Criei filhos, e engrandeci-os; mas eles se rebelaram contr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recusardes, e fordes rebeldes, sereis devorados à espada; porque a boca do SENHOR o di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se fez prostituta a cidade fiel! Ela que estava cheia de retidão! A justiça habitava nela, mas agora homic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prata tornou-se em escórias, o teu vinho se misturou com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teus príncipes são rebeldes, e companheiros de ladrões; cada um deles ama as peitas, e anda atrás das recompensas; não fazem justiça ao órfão, e não chega perante eles a causa da viú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z o Senhor, o SENHOR dos Exércitos, o Forte de Israel: Ah! tomarei satisfações dos meus adversários, e vingar-me-ei dos meus ini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arei contra ti a minha mão, e purificarei inteiramente as tuas escórias; e tirar-te-ei toda a impu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restituirei os teus juízes, como foram dantes; e os teus conselheiros, como antigamente; e então te chamarão cidade de justiça, cidade f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ão será remida com juízo, e os que voltam para ela co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transgressores e os pecadores serão juntamente destruídos; e os que deixarem o SENHOR serão consum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os envergonhareis pelos carvalhos que cobiçastes, e sereis confundidos pelos jardins que escolh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boi conhece o seu possuidor, e o jumento a manjedoura do seu dono; mas Israel não tem conhecimento, o meu povo não ente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eis como o carvalho, ao qual caem as folhas, e como o jardim que não tem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orte se tornará em estopa, e a sua obra em faísca; e ambos arderão juntamente, e não haverá quem os apa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, nação pecadora, povo carregado de iniqüidade, descendência de malfeitores, filhos corruptores; deixaram ao SENHOR, blasfemaram o Santo de Israel, voltaram para 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seríeis ainda castigados, se mais vos rebelaríeis? Toda a cabeça está enferma e todo o coração fra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 planta do pé até a cabeça não há nele coisa sã, senão feridas, e inchaços, e chagas podres não espremidas, nem ligadas, nem amolecidas com óle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ssa terra está assolada, as vossas cidades estão abrasadas pelo fogo; a vossa terra os estranhos a devoram em vossa presença; e está como devastada, numa subversão de estr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ilha de Sião é deixada como a cabana na vinha, como a choupana no pepinal, como uma cidade siti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saí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SENHOR dos Exércitos não nos tivesse deixado algum remanescente, já como Sodoma seríamos, e semelhantes a Go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26Z</dcterms:created>
  <dc:creator>Admin</dc:creator>
  <dc:description/>
  <dc:language>en-US</dc:language>
  <cp:lastModifiedBy>Admin</cp:lastModifiedBy>
  <dcterms:modified xsi:type="dcterms:W3CDTF">2008-07-30T23:54:26Z</dcterms:modified>
  <cp:revision>1</cp:revision>
  <dc:subject/>
  <dc:title>Slide 1</dc:title>
</cp:coreProperties>
</file>