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529E-F866-43DC-ABC9-40DA9BA70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E1F3-5E52-4904-9388-184215D5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5AE6-4963-4040-BF7C-1ED88665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A2F2-B3D3-4A68-BDFA-A7AFFA760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6F06-B844-4568-A954-FB446859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7EC3-0967-4AD1-B64C-312B85AB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0018-3341-42F1-8E82-16ADA788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2553-9C70-45FA-896D-DF09DA49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D1E0-47B6-4270-87E5-6DB22ED6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AD11-D2EB-46B1-A442-3447AA38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B5CA-7C86-4803-8A2D-0843FB17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6278-8522-4B82-9AA0-DE91440D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5103-694B-4FFA-ADA2-5AA8DF504EB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IVERAM quietos três anos, não havendo guerra entre a Síria 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de Israel e Jeosafá, rei de Judá, estavam assentados cada um no seu trono, vestidos de trajes reais, na praça, à entrada da porta de Samaria; e todos os profetas profetizavam na sua prese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Zedequias, filho de Quenaaná, fez para si uns chifres de ferro, e disse: Assim diz o SENHOR: Com estes ferirás aos sírios, até de todo os consum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profetas profetizaram assim, dizendo: Sobe a Ramote de Gileade, e triunfarás, porque o SENHOR a entregará na mão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mensageiro que foi chamar a Micaías falou-lhe, dizendo: Vês aqui que as palavras dos profetas a uma voz predizem coisas boas para o rei; seja, pois, a tua palavra como a palavra de um deles, e fala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Micaías disse: Vive o SENHOR que o que o SENHOR me disser isso fal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indo ele ao rei, o rei lhe disse: Micaías, iremos a Ramote de Gileade à peleja, ou deixaremos de ir? E ele lhe disse: Sobe, e serás bem sucedido; porque o SENHOR a entregará na mão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lhe disse: Até quantas vezes te conjurarei, que não me fales senão a verdade em nome do SENH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ele: Vi a todo o Israel disperso pelos montes, como ovelhas que não têm pastor; e disse o SENHOR: Estes não têm senhor; torne cada um em paz para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de Israel disse a Jeosafá: Não te disse eu, que nunca profetizará de mim o que é bom, senão só o que é ma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e disse: Ouve, pois, a palavra do SENHOR: Vi ao SENHOR assentado sobre o seu trono, e todo o exército do céu estava junto a ele, à sua mão direita e à sua esquer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no terceiro ano sucedeu que Jeosafá, rei de Judá, desceu para avistar-se com o rei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: Quem induzirá Acabe, para que suba, e caia em Ramote de Gileade? E um dizia desta maneira e outro de out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iu um espírito, e se apresentou diante do SENHOR, e disse: Eu o induzirei. E o SENHOR lhe disse: Com quê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ele: Eu sairei, e serei um espírito de mentira na boca de todos os seus profetas. E ele disse: Tu o induzirás, e ainda prevalecerás; sai e faze ass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eis que o SENHOR pôs o espírito de mentira na boca de todos estes teus profetas, e o SENHOR falou o mal contr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Zedequias, filho de Quenaaná, chegou, e feriu a Micaías no queixo, e disse: Por onde saiu de mim o Espírito do SENHOR para falar a t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Micaías: Eis que o verás naquele mesmo dia, quando entrares de câmara em câmara, para te esconde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rei de Israel: Tomai a Micaías, e tornai a levá-lo a Amom, o governador da cidade, e a Joás filho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reis: Assim diz o rei: Colocai este homem na casa do cárcere, e sustentai-o com o pão de angústia, e com água de amargura, até que eu venha em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Micaías: Se tu voltares em paz, o SENHOR não tem falado por mim. Disse mais: Ouvi, povos todo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o rei de Israel e Jeosafá, rei de Judá, subiram a Ramote de Gile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de Israel disse aos seus servos: Não sabeis vós que Ramote de Gileade é nossa, e nós estamos quietos, sem a tomar da mão do rei da Síri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rei de Israel a Jeosafá: Eu me disfarçarei, e entrarei na peleja; tu porém veste as tuas roupas. Disfarçou-se, pois, o rei de Israel, e entrou na pelej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da Síria dera ordem aos capitães dos carros, que eram trinta e dois, dizendo: Não pelejareis nem contra pequeno nem contra grande, mas só contra o rei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 que, vendo os capitães dos carros a Jeosafá, disseram eles: Certamente este é o rei de Israel. E chegaram-se a ele, para pelejar com ele; porém Jeosafá gri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vendo os capitães dos carros que não era o rei de Israel, deixaram de segui-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um homem armou o arco, e atirou a esmo, e feriu o rei de Israel por entre as fivelas e as couraças; então ele disse ao seu carreteiro: Dá volta, e tira-me do exército, porque estou gravemente fer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peleja foi crescendo naquele dia, e o rei foi sustentado no carro defronte dos sírios; porém ele morreu à tarde; e o sangue da ferida corria para o fundo do car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do sol posto passou um pregão pelo exército, dizendo: Cada um para a sua cidade, e cada um para a sua terra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rreu o rei, e o levaram a Samaria; e sepultaram o rei em Sama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avando-se o carro no tanque de Samaria, os cães lamberam o seu sangue (ora as prostitutas se lavavam ali), conforme à palavra que o SENHOR tinha fa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o mais dos atos de Acabe, e a tudo quanto fez, e à casa de marfim que edificou, e a todas as cidades que edificou, porventura não está escrito no livro das crônicas dos reis de Israe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erguntou a Jeosafá: Irás tu comigo à peleja a Ramote de Gileade? E disse Jeosafá ao rei de Israel: Serei como tu, e o meu povo como o teu povo, e os meus cavalos como os teus cava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ormiu Acabe com seus pais; e Acazias, seu filho,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osafá, filho de Asa, começou a reinar sobre Judá no quarto ano de Acabe, rei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ra Jeosafá da idade de trinta e cinco anos quando começou a reinar; e vinte e cinco anos reinou em Jerusalém; e era o nome de sua mãe Azuba, filha de Si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ndou em todos os caminhos de seu pai Asa, não se desviou deles, fazendo o que era reto aos olhos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os altos não se tiraram; ainda o povo sacrificava e queimava incenso nos al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osafá esteve em paz com o rei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o mais dos atos de Jeosafá, e ao poder que mostrou, e como guerreou, porventura não está escrito no livro das crônicas dos reis de Judá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xpulsou da terra o restante dos sodomitas, que ficaram nos dias de seu pai 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não havia rei em Edom, porém um vice-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Jeosafá navios de Társis, para irem a Ofir por causa do ouro; porém não foram, porque os navios se quebraram em Eziom-Geb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Jeosafá ao rei de Israel: Peço-te, consulta hoje a palavr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cazias, filho de Acabe, disse a Jeosafá: Vão os meus servos com os teus servos nos navios. Porém Jeosafá não qu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osafá dormiu com seus pais, e foi sepultado junto a eles, na cidade de Davi, seu pai; e Jeorão, seu filho,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azias, filho de Acabe, começou a reinar sobre Israel, em Samaria, no ano dezessete de Jeosafá, rei de Judá; e reinou dois anos sobr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o que era mau aos olhos do SENHOR; porque andou no caminho de seu pai, como também no caminho de sua mãe, e no caminho de Jeroboão, filho de Nebate, que fez pecar a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viu a Baal, e adorou-o, e provocou a ira do SENHOR Deus de Israel, conforme a tudo quanto fizera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de Israel reuniu os profetas até quase quatrocentos homens, e disse-lhes: Irei à peleja contra Ramote de Gileade, ou deixarei de ir? E eles disseram: Sobe, porque o SENHOR a entregará na mão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, porém, Jeosafá: Não há aqui ainda algum profeta do SENHOR, ao qual possamos consult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rei de Israel a Jeosafá: Ainda há um homem por quem podemos consultar ao SENHOR; porém eu o odeio, porque nunca profetiza de mim o que é bom, mas só o mal; este é Micaías, filho de Inlá. E disse Jeosafá: Não fale o rei ass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de Israel chamou um oficial, e disse: Traze-me depressa a Micaías, filho de Inl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6:16Z</dcterms:created>
  <dc:creator>Admin</dc:creator>
  <dc:description/>
  <dc:language>en-US</dc:language>
  <cp:lastModifiedBy>Admin</cp:lastModifiedBy>
  <dcterms:modified xsi:type="dcterms:W3CDTF">2008-07-30T23:46:16Z</dcterms:modified>
  <cp:revision>1</cp:revision>
  <dc:subject/>
  <dc:title>Slide 1</dc:title>
</cp:coreProperties>
</file>