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B0F-10B3-42A8-8626-AEEB6E00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6C2-931A-49E7-A433-F83A9188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431-EFFF-440B-88AF-EED2A308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B24-737B-43AF-AA37-CEC6F640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1EC-7D9C-4077-BB72-50888928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2F0-AE95-4516-B87E-C4E9678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D3C-3EC9-49D5-BF6C-280BF88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105-81F3-4E8A-9FF9-D9DA36B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650-58C9-4588-814E-D9768492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6CE-983E-45D8-B911-3DFC3EE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19E-24FA-4FF2-BD54-3473445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C68-797F-464A-A342-6BB6454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A2F6-30AE-48CC-85A2-5180F2B4A3F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apóstolo de Jesus Cristo, pela vontade de Deus, aos santos que estão em Éfeso, e fiéis em Cristo Jes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rnar a congregar em Cristo todas as coisas, na dispensação da plenitude dos tempos, tanto as que estão nos céus como as que estão n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le, digo, em quem também fomos feitos herança, havendo sido predestinados, conforme o propósito daquele que faz todas as coisas, segundo o conselho da sua vont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fim de sermos para louvor da sua glória, nós os que primeiro esperamos em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quem também vós estais, depois que ouvistes a palavra da verdade, o evangelho da vossa salvação; e, tendo nele também crido, fostes selados com o Espírito Santo da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é o penhor da nossa herança, para redenção da possessão adquirida, para louvor d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ouvindo eu também a fé que entre vós há no Senhor Jesus, e o vosso amor para com todos os sa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esso de dar graças a Deus por vós, lembrando-me de vós nas minhas oraçõ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Deus de nosso Senhor Jesus Cristo, o Pai da glória, vos dê em seu conhecimento o espírito de sabedoria e de revel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iluminados os olhos do vosso entendimento, para que saibais qual seja a esperança da sua vocação, e quais as riquezas da glória da sua herança nos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a sobreexcelente grandeza do seu poder sobre nós, os que cremos, segundo a operação da força do seu po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ós graça, e paz da parte de Deus nosso Pai e do Senhor Jesus Crist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manifestou em Cristo, ressuscitando-o dentre os mortos, e pondo-o à sua direita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ima de todo o principado, e poder, e potestade, e domínio, e de todo o nome que se nomeia, não só neste século, mas também no vind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jeitou todas as coisas a seus pés, e sobre todas as coisas o constituiu como cabeça da igre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o seu corpo, a plenitude daquele que cumpre tudo e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o Deus e Pai de nosso Senhor Jesus Cristo, o qual nos abençoou com todas as bênçãos espirituais nos lugares celestiais em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nos elegeu nele antes da fundação do mundo, para que fôssemos santos e irrepreensíveis diante dele em am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predestinou para filhos de adoção por Jesus Cristo, para si mesmo, segundo o beneplácito de sua vont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louvor e glória da sua graça, pela qual nos fez agradáveis a si no Am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quem temos a redenção pelo seu sangue, a remissão das ofensas, segundo as riquezas da sua gra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le fez abundar para conosco em toda a sabedoria e prud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fési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obrindo-nos o mistério da sua vontade, segundo o seu beneplácito, que propusera em si mes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47Z</dcterms:created>
  <dc:creator>Admin</dc:creator>
  <dc:description/>
  <dc:language>en-US</dc:language>
  <cp:lastModifiedBy>Admin</cp:lastModifiedBy>
  <dcterms:modified xsi:type="dcterms:W3CDTF">2008-07-30T23:29:47Z</dcterms:modified>
  <cp:revision>1</cp:revision>
  <dc:subject/>
  <dc:title>Slide 1</dc:title>
</cp:coreProperties>
</file>