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060-A8DA-4D67-AC40-F7D093F9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F69-BDE2-4F5C-8C3C-8D1EB1FB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159-D10B-4A6F-8628-45A9156B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36E-A372-4C57-B9E0-59301172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425-8EEA-430C-8923-AFD04CFD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CF6-7D1D-4F7D-841A-E254C288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508-A4C8-4F5D-BC02-5745988C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D55-2D10-402F-98CB-3743E381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961-C57F-4FE9-8DCF-2DB862E7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FDD-F253-4BAA-8D04-1A9621F5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A4B-0552-4D00-AFE8-7FBCF3FF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F2D-A7E0-4A16-9412-2FFED57C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A682-44E7-44CE-8F68-C80A327B4D1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RAEL deteve-se em Sitim e o povo começou a prostituir-se com as filhas dos moab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falou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néias, filho de Eleazar, o filho de Arão, sacerdote, desviou a minha ira de sobre os filhos de Israel, pois foi zeloso com o meu zelo no meio deles; de modo que, no meu zelo, não consumi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ize: Eis que lhe dou a minha aliança de pa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e a sua descendência depois dele, terá a aliança do sacerdócio perpétuo, porquanto teve zelo pelo seu Deus, e fez expiação pel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nome do israelita, que foi morto com a midianita, era Zimri, filho de Salu, príncipe da casa paterna dos simeo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nome da mulher midianita morta era Cosbi, filha de Zur, cabeça do povo da casa paterna entre os midia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fligireis os midianitas e os ferirei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s vos afligiram a vós com os seus enganos com que vos enganaram no caso de Peor, e no caso de Cosbi, filha do príncipe dos midianitas, irmã deles, que foi morta no dia da praga no caso de Pe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as convidaram o povo aos sacrifícios dos seus deuses; e o povo comeu, e inclinou-se aos seus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ntando-se, pois, Israel a Baal-Peor, a ira do SENHOR se acendeu contr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o SENHOR a Moisés: Toma todos os cabeças do povo, e enforca-os ao SENHOR diante do sol, e o ardor da ira do SENHOR se retirará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disse aos juízes de Israel: Cada um mate os seus homens que se juntaram a Baal-Pe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veio um homem dos filhos de Israel, e trouxe a seus irmãos uma midianita, à vista de Moisés, e à vista de toda a congregação dos filhos de Israel, chorando eles diante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isso Finéias, filho de Eleazar, o filho de Arão, sacerdote, se levantou do meio da congregação, e tomou uma lança na sua 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pós o homem israelita até à tenda, e os atravessou a ambos, ao homem israelita e à mulher, pelo ventre; então a praga cessou de sobre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morreram daquela praga foram vinte e quatro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9:32Z</dcterms:created>
  <dc:creator>Admin</dc:creator>
  <dc:description/>
  <dc:language>en-US</dc:language>
  <cp:lastModifiedBy>Admin</cp:lastModifiedBy>
  <dcterms:modified xsi:type="dcterms:W3CDTF">2008-07-31T00:19:32Z</dcterms:modified>
  <cp:revision>1</cp:revision>
  <dc:subject/>
  <dc:title>Slide 1</dc:title>
</cp:coreProperties>
</file>