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371-245F-4659-8DDD-96FE16B9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122-46DB-48E6-963A-46B76F5B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964-9DB7-4C0A-9FD6-3857DEB3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930-2A56-4209-B2B5-C2539EF9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2D4-2580-48B9-9A40-FDAD0ACF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D59-42C1-41EB-BA2F-B2D3193C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FE3-0B18-465B-BF7B-2253074E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574-5CA9-46BA-8197-963E3414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B29-84C5-468E-8526-019ECD9B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9D1-588C-4711-9588-A3D18E46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3A3-6F6E-428A-875E-3A6EF0D2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81C-FA18-4A2D-9361-C5F591CC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A513-C726-4150-AFD0-A33EDDCBDBC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U depois a sorte dos filhos de José, desde o Jordão, na direção de Jericó, junto às águas de Jericó, para o oriente, estendendo-se pelo deserto que sobe de Jericó pelas montanhas de Bet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expulsaram aos cananeus que habitavam em Gezer; e os cananeus habitam no meio dos efraimitas até ao dia de hoje; porém, sendo-lhes tributá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Betel vai para Luz, e passa ao termo dos arquitas, até Ataro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ce do lado do ocidente ao termo de Jafleti, até ao termo de Bete-Horom de baixo, e até Gezer, indo terminar n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alcançaram a sua herança os filhos de José, Manassés e Efr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termo dos filhos de Efraim, segundo as suas famílias, como se segue: o termo da sua herança para o oriente era Atarote-Adar até Bete-Horom de cim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 este termo para o ocidente junto a Micmetá, desde o norte, e torna este termo para o oriente até Taanate-Siló, e passa por ela desde o oriente a Jano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ce desde Janoa a Atarote e a Naarate e toca em Jericó, terminando n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apua vai este termo para o ocidente ao ribeiro de Caná, terminando no mar; esta é a herança da tribo dos filhos de Efraim, segundo as suas famíl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is as cidades que se separaram para os filhos de Efraim no meio da herança dos filhos de Manassés; todas aquelas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5:42Z</dcterms:created>
  <dc:creator>Admin</dc:creator>
  <dc:description/>
  <dc:language>en-US</dc:language>
  <cp:lastModifiedBy>Admin</cp:lastModifiedBy>
  <dcterms:modified xsi:type="dcterms:W3CDTF">2008-07-31T00:05:42Z</dcterms:modified>
  <cp:revision>1</cp:revision>
  <dc:subject/>
  <dc:title>Slide 1</dc:title>
</cp:coreProperties>
</file>