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9A3A-9FB3-4EF7-A920-644F6E350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C655-64BD-48E4-A371-75E296424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3644-E340-456A-A54B-285612CE8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5001-9853-4933-BEBC-E5EC36B8E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CD8F-FED8-446C-A5DB-6D936ECD9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F316-33CD-4A17-93DB-B7C1D4900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84E2-9736-4247-8BE9-2A9979BA9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C208-F1E6-4DCA-ADA0-194A5C74D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5F74-A9BF-40AB-8D7C-B5696970F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5CAB-81E9-4E79-B87C-FC62C6B5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FE17-C684-427F-A4E8-F81C62AF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EB01-8F3D-4397-856D-9A724DB3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D5A47-2EE5-4E19-AFDF-34D56111A543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 ajunta-te em tropas, ó filha de tropas; pôr-se-á cerco contra nós; ferirão com a vara na face ao juiz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rá naquele dia, diz o SENHOR, que eu exterminarei do meio de ti os teus cavalos, e destruirei os teus car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struirei as cidades da tua terra, e derrubarei todas as tuas fortalez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xterminarei as feitiçarias da tua mão; e não terás adivinhadore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5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struirei do meio de ti as tuas imagens de escultura e as tuas estátuas; e tu não te inclinarás mais diante da obra das tuas m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5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rrancarei os teus bosques do meio de ti; e destruirei as tuas cida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5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m ira e com furor farei vingança sobre os gentios que não ouv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u, Belém Efrata, posto que pequena entre os milhares de Judá, de ti me sairá o que governará em Israel, e cujas saídas são desde os tempos antigos, desde os dias da etern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os entregará até ao tempo em que a que está de parto tiver dado à luz; então o restante de seus irmãos voltará aos filho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permanecerá, e apascentará ao povo na força do SENHOR, na excelência do nome do SENHOR seu Deus; e eles permanecerão, porque agora será engrandecido até aos fins d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e será a nossa paz; quando a Assíria vier à nossa terra, e quando pisar em nossos palácios, levantaremos contra ela sete pastores e oito príncipes dentre os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ses consumirão a terra da Assíria à espada, e a terra de Ninrode nas suas entradas. Assim nos livrará da Assíria, quando vier à nossa terra, e quando calcar os nossos ter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remanescente de Jacó estará no meio de muitos povos, como orvalho da parte do SENHOR, como chuvisco sobre a erva, que não espera pelo homem, nem aguarda a filhos de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restante de Jacó estará entre os gentios, no meio de muitos povos, como um leão entre os animais do bosque, como um leãozinho entre os rebanhos de ovelhas, o qual, quando passar, pisará e despedaçará, sem que haja quem as liv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tua mão se exaltará sobre os teus adversários; e todos os teus inimigos serão extermin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6:29Z</dcterms:created>
  <dc:creator>Admin</dc:creator>
  <dc:description/>
  <dc:language>en-US</dc:language>
  <cp:lastModifiedBy>Admin</cp:lastModifiedBy>
  <dcterms:modified xsi:type="dcterms:W3CDTF">2008-07-31T00:16:29Z</dcterms:modified>
  <cp:revision>1</cp:revision>
  <dc:subject/>
  <dc:title>Slide 1</dc:title>
</cp:coreProperties>
</file>