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1033-4CDB-4C2C-AC07-693586C6F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D4C3-F2D4-485A-89AC-F7DBC1C9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242F-A516-4698-A7D9-2299322DE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9EDA-4E39-434A-B271-546B735BB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511B-8C78-447B-B40D-54D701D6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6175-BB12-44A7-BAD5-EB1462F6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4972-7761-4F40-BB32-DB67070F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6587-EB31-4A88-95B9-CAA23D99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F952-AD90-4397-A4DE-1C2FDE88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8AC1-E2EA-4BB5-8901-649BB8C3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377F-23A9-45BA-BC48-47E63BCA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184E-A1AA-49D1-932D-1FB8E5B1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76FB-4278-4A75-8B3D-7F157FD229C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VIA em Cesaréia um homem por nome Cornélio, centurião da coorte chamada italian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ndo fome, quis comer; e, enquanto lho preparavam, sobreveio-lhe um arrebatamento de sentid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u o céu aberto, e que descia um vaso, como se fosse um grande lençol atado pelas quatro pontas, e vindo para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qual havia de todos os animais quadrúpedes e répteis da terra, e aves do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-lhe dirigida uma voz: Levanta-te, Pedro, mata e c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Pedro disse: De modo nenhum, Senhor, porque nunca comi coisa alguma comum e imu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gunda vez lhe disse a voz: Não faças tu comum ao que Deus purific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isto por três vezes; e o vaso tornou a recolher-se ao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ndo Pedro duvidando entre si acerca do que seria aquela visão que tinha visto, eis que os homens que foram enviados por Cornélio pararam à porta, perguntando pela casa de Si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amando, perguntaram se Simão, que tinha por sobrenome Pedro, morava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ensando Pedro naquela visão, disse-lhe o Espírito: Eis que três homens te busc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iedoso e temente a Deus, com toda a sua casa, o qual fazia muitas esmolas ao povo, e de contínuo orava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-te pois, desce, e vai com eles, não duvidando; porque eu os envi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scendo Pedro para junto dos homens que lhe foram enviados por Cornélio, disse: Sou eu a quem procurais; qual é a causa por que estais aqu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disseram: Cornélio, o centurião, homem justo e temente a Deus, e que tem bom testemunho de toda a nação dos judeus, foi avisado por um santo anjo para que te chamasse a sua casa, e ouvisse as tuas pala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, chamando-os para dentro, os recebeu em casa. E no dia seguinte foi Pedro com eles, e foram com ele alguns irmãos de Jop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dia imediato chegaram a Cesaréia. E Cornélio os estava esperando, tendo já convidado os seus parentes e amigos mais ínti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entrando Pedro, saiu Cornélio a recebê-lo, e, prostrando-se a seus pés o ador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Pedro o levantou, dizendo: Levanta-te, que eu também sou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falando com ele, entrou, e achou muitos que ali se haviam ajun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: Vós bem sabeis que não é lícito a um homem judeu ajuntar-se ou chegar-se a estrangeiros; mas Deus mostrou-me que a nenhum homem chame comum ou i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, sendo chamado, vim sem contradizer. Pergunto, pois, por que razão mandastes chamar-m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, quase à hora nona do dia, viu claramente numa visão um anjo de Deus, que se dirigia para ele e dizia: Cornél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Cornélio: Há quatro dias estava eu em jejum até esta hora, orando em minha casa à hora no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diante de mim se apresentou um homem com vestes resplandecentes, e disse: Cornélio, a tua oração foi ouvida, e as tuas esmolas estão em memória diante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via, pois, a Jope, e manda chamar Simão, o que tem por sobrenome Pedro; este está em casa de Simão o curtidor, junto do mar, e ele, vindo, te fal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ogo mandei chamar-te, e bem fizeste em vir. Agora, pois, estamos todos presentes diante de Deus, para ouvir tudo quanto por Deus te é mand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brindo Pedro a boca, disse: Reconheço por verdade que Deus não faz acepção de pesso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que lhe é agradável aquele que, em qualquer nação, o teme e faz o que é ju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palavra que ele enviou aos filhos de Israel, anunciando a paz por Jesus Cristo (este é o SENHOR de todos)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palavra, vós bem sabeis, veio por toda a Judéia, começando pela Galiléia, depois do batismo que João pregou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Deus ungiu a Jesus de Nazaré com o Espírito Santo e com virtude; o qual andou fazendo bem, e curando a todos os oprimidos do diabo, porque Deus era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ós somos testemunhas de todas as coisas que fez, tanto na terra da Judéia como em Jerusalém; ao qual mataram, pendurando-o num mad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, fixando os olhos nele, e muito atemorizado, disse: Que é, Senhor? E disse-lhe: As tuas orações e as tuas esmolas têm subido para memória diante de D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este ressuscitou Deus ao terceiro dia, e fez que se manifestass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a todo o povo, mas às testemunhas que Deus antes ordenara; a nós, que comemos e bebemos juntamente com ele, depois que ressuscitou dentre os mo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s mandou pregar ao povo, e testificar que ele é o que por Deus foi constituído juiz dos vivos e dos mo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este dão testemunho todos os profetas, de que todos os que nele crêem receberão o perdão dos pecados pelo s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izendo Pedro ainda estas palavras, caiu o Espírito Santo sobre todos os que ouviam 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éis que eram da circuncisão, todos quantos tinham vindo com Pedro, maravilharam-se de que o dom do Espírito Santo se derramasse também sobre os gent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ouviam falar línguas, e magnificar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u, então, Pedro: Pode alguém porventura recusar a água, para que não sejam batizados estes, que também receberam como nós o Espírito San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ndou que fossem batizados em nome do SENHOR. Então rogaram-lhe que ficasse com eles por algun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envia homens a Jope, e manda chamar a Simão, que tem por sobrenome Ped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está com um certo Simão curtidor, que tem a sua casa junto do mar. Ele te dirá o que deves fa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retirando-se o anjo que lhe falava, chamou dois dos seus criados, e a um piedoso soldado dos que estavam ao seu serviç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havendo-lhes contado tudo, os enviou a Jop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dia seguinte, indo eles seu caminho, e estando já perto da cidade, subiu Pedro ao terraço para orar, quase à hora sex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4:05Z</dcterms:created>
  <dc:creator>Admin</dc:creator>
  <dc:description/>
  <dc:language>en-US</dc:language>
  <cp:lastModifiedBy>Admin</cp:lastModifiedBy>
  <dcterms:modified xsi:type="dcterms:W3CDTF">2008-07-30T23:24:05Z</dcterms:modified>
  <cp:revision>1</cp:revision>
  <dc:subject/>
  <dc:title>Slide 1</dc:title>
</cp:coreProperties>
</file>