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44F-41E7-44A0-BA33-F5536294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05C-FC60-4014-AE03-D64C2DE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FED-B6BB-4993-8CAD-C970918E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DEB-D7E0-46FD-B2A6-E15762E4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D45-B1EB-4B59-8ACC-BCFAE0C9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367-F2FB-423C-967F-C97C874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673-A4B0-4B59-A906-40D267CF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E4B-6B91-4C22-92DE-E116393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EB0-3D19-479D-8FD1-5EB208F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B85-A00D-4FF0-B10E-B238C49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C4A-9ED8-42C8-909B-BFD7EB9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A50-C9BC-4FEF-8B20-C9D10563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3905-AC12-4843-B3D1-98FFC51E29E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Manassés doze anos de idade quando começou a reinar, e cinqüenta e cinco anos reinou em Jerusalém; e era o nome de sua mãe Hefzi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falou pelo ministério de seus servos, os profet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Manassés, rei de Judá, fez estas abominações, fazendo pior do que tudo quanto fizeram os amorreus, que foram antes dele, e até também a Judá fez pecar com os seus ído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assim diz o SENHOR Deus de Israel: Eis que hei de trazer um mal sobre Jerusalém e Judá, que qualquer que ouvir, lhe ficarão retinindo ambos 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rei sobre Jerusalém o cordel de Samaria e o prumo da casa de Acabe; e limparei a Jerusalém, como quem limpa o prato, limpa-o e vira-o para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ampararei os restantes da minha herança, entregá-los-ei na mão de seus inimigos; e servirão de presa e despojo para todos os seus inimig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fizeram o que era mau aos meus olhos e me provocaram à ira, desde o dia em que seus pais saíram do Egito até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so, também Manassés derramou muitíssimo sangue inocente, até que encheu a Jerusalém de um ao outro extremo, afora o seu pecado, com que fez Judá pecar, fazendo o que era mau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feitos de Manassés, e a tudo quanto fez, e ao seu pecado, que praticou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assés dormiu com seus pais, e foi sepultado no jardim da sua casa, no jardim de Uzá; e Amom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Amom vinte e dois anos de idade quando começou a reinar, e dois anos reinou em Jerusalém; e era o nome de sua mãe Mesulemete, filha de Harus, de Jot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forme as abominações dos gentios que o SENHOR expulsara de suas possessões,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mo fizera Manassés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dou em todo o caminho em que andara seu pai; e serviu os ídolos, a que seu pai tinha servido, e se inclinou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ixou ao SENHOR Deus de seus pais, e não andou no caminh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e Amom conspiraram contra ele, e mataram o rei em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ovo da terra feriu a todos os que conspiraram contra o rei Amom; e o povo da terra pôs Josias, seu filho, rei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Amom, que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pultaram na sua sepultura, no jardim de Uzá; e Jos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rnou a edificar os altos que Ezequias, seu pai, tinha destruído, e levantou altares a Baal, e fez um bosque como o que fizera Acabe, rei de Israel, e se inclinou diante de todo o exército dos céus, e os ser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altares na casa do SENHOR, da qual o SENHOR tinha falado: Em Jerusalém porei 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dificou altares a todo o exército dos céus em ambos os átrios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fez passar a seu filho pelo fogo, adivinhava pelas nuvens, era agoureiro e ordenou adivinhos e feiticeiros; e prosseguiu em fazer o que era mau aos olhos do SENHOR, para o provocar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ôs uma imagem de escultura, do bosque que tinha feito, na casa de que o SENHOR dissera a Davi e a Salomão, seu filho: Nesta casa e em Jerusalém, que escolhi de todas as tribos de Israel, porei o meu nome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mais farei mover o pé de Israel desta terra que tenho dado a seus pais; contanto que somente tenham cuidado de fazer conforme tudo o que lhes tenho ordenado, e conforme toda a lei que Moisés, meu servo, lhes orde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ouviram; porque Manassés de tal modo os fez errar, que fizeram pior do que as nações, que o SENHOR tinha destruído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19Z</dcterms:created>
  <dc:creator>Admin</dc:creator>
  <dc:description/>
  <dc:language>en-US</dc:language>
  <cp:lastModifiedBy>Admin</cp:lastModifiedBy>
  <dcterms:modified xsi:type="dcterms:W3CDTF">2008-07-30T23:52:19Z</dcterms:modified>
  <cp:revision>1</cp:revision>
  <dc:subject/>
  <dc:title>Slide 1</dc:title>
</cp:coreProperties>
</file>