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DDA-2AC7-43D8-AEF3-558BF384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1BE-83D3-4CFC-B1A3-6C2F1AD3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803-32DC-4B61-8BE6-6847820A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93F-B029-472F-AA9C-35FBEF29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99C-0E3D-4E13-9F1E-0CBA6EA1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EC95-F394-4E2C-BE44-8776EA41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49B-67D8-49F9-805B-A0304257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EDB2-1FA7-4D3E-87F7-1C3E6B4D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4ED-27E9-4441-BB4C-DC75F825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A37-DE1A-4781-9750-5E2290AF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6DC1-9F02-47DC-A724-AD60F9B6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F5A3-8E0C-4818-AE82-64E9F493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5461-EB62-40DA-8447-164DA76F3A2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filhos, sede obedientes a vossos pais no Senhor, porque isto é j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emais, irmãos meus, fortalecei-vos no Senhor e na força do seu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vesti-vos de toda a armadura de Deus, para que possais estar firmes contra as astutas ciladas do diab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temos que lutar contra a carne e o sangue, mas, sim, contra os principados, contra as potestades, contra os príncipes das trevas deste século, contra as hostes espirituais da maldade, nos lugares celesti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tomai toda a armadura de Deus, para que possais resistir no dia mau e, havendo feito tudo, ficar firm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i, pois, firmes, tendo cingidos os vossos lombos com a verdade, e vestida a couraça da justi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lçados os pés na preparação do evangelho da paz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ndo sobretudo o escudo da fé, com o qual podereis apagar todos os dardos inflamados do malig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i também o capacete da salvação, e a espada do Espírito, que é a palavra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ndo em todo o tempo com toda a oração e súplica no Espírito, e vigiando nisto com toda a perseverança e súplica por todos os san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mim; para que me seja dada, no abrir da minha boca, a palavra com confiança, para fazer notório o mistério do evangelh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nra a teu pai e a tua mãe, que é o primeiro mandamento com promess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qual sou embaixador em cadeias; para que possa falar dele livremente, como me convém fa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para que vós também possais saber dos meus negócios, e o que eu faço, Tíquico, irmão amado, e fiel ministro do Senhor, vos informará de t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vos enviei para o mesmo fim, para que saibais do nosso estado, e ele console os vossos co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z seja com os irmãos, e amor com fé da parte de Deus Pai e da do Senhor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graça seja com todos os que amam a nosso Senhor Jesus Cristo em sinceridade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te vá bem, e vivas muito tempo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, pais, não provoqueis à ira a vossos filhos, mas criai-os na doutrina e admoestaçã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servos, obedecei a vossos senhores segundo a carne, com temor e tremor, na sinceridade de vosso coração, como a Cri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rvindo à vista, como para agradar aos homens, mas como servos de Cristo, fazendo de coração a vontade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vindo de boa vontade como ao Senhor, e não como a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 que cada um receberá do Senhor todo o bem que fizer, seja servo, seja liv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, senhores, fazei o mesmo para com eles, deixando as ameaças, sabendo também que o SENHOR deles e vosso está no céu, e que para com ele não há acepção de pesso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0:04Z</dcterms:created>
  <dc:creator>Admin</dc:creator>
  <dc:description/>
  <dc:language>en-US</dc:language>
  <cp:lastModifiedBy>Admin</cp:lastModifiedBy>
  <dcterms:modified xsi:type="dcterms:W3CDTF">2008-07-30T23:30:04Z</dcterms:modified>
  <cp:revision>1</cp:revision>
  <dc:subject/>
  <dc:title>Slide 1</dc:title>
</cp:coreProperties>
</file>