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645-B9DE-4770-887C-3BB491CE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1BF-41CB-492B-86B8-C62A6198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A1E-3E05-41BD-8768-8EF9D47A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609-BFC9-4C85-B0AC-011553E6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D33-C03F-4D56-946E-7F48A1A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E05-A41D-430C-B31A-B57C187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9BF-D36A-468E-A502-03D361AC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1C9-1E42-4099-B0A2-86ED50E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515-AD75-4AD6-917D-2D2E109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D75-7160-420C-8982-A1B54E5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06D-2CDB-47E1-A19D-91DDA56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021-1683-4332-82B3-9CC3A54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ADBC-C3B5-4D39-BF8D-5D9BEFFBC9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, porém, Josué já velho, entrado em dias; e disse-lhe o SENHOR: Já estás velho, entrado em dias; e ainda muitíssima terra ficou para possu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cidades de Siom, rei dos amorreus, que reinou em Hesbom, até ao termo dos filhos de Am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ileade, e o termo dos gesureus, e dos maacateus, e todo o monte Hermom, e toda a Basã até Salc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reino de Ogue em Basã, que reinou em Astarote e em Edrei; este ficou do restante dos gigantes que Moisés feriu e expul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filhos de Israel não expulsaram os gesureus, nem os maacateus; antes Gesur e Maacate ficaram habitando no meio de Israel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à tribo de Levi não deu herança; os sacrifícios queimados do SENHOR Deus de Israel são a sua herança, como já lhe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isés deu à tribo dos filhos de Rúben, conforme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seu limite desde Aroer, que está à beira do ribeiro de Arnom, e a cidade que está no meio do vale, e toda a campina até Medeb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esbom e todas as suas cidades, que estão na campina; Dibom, e Bamote-Baal, e Bete-Baal-Me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sa e Quedemote, e Mefa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iriataim e Sibma, e Zerete-Saar, no monte do va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que ainda fica é esta: Todos os termos dos filisteus e toda a Ges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te-Peor, e Asdote-Pisga, Bete-Jesimo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cidades da campina, e todo o reino de Siom, rei dos amorreus, que reinou em Hesbom, a quem Moisés feriu, como também aos príncipes de Midiã, Evi, e Requém, e Zur, e Hur, e Reba, príncipes de Siom, morador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filhos de Israel mataram à espada a Balaão, filho de Beor, o adivinho, com os outros que por eles foram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rmo dos filhos de Rúben ficou sendo o Jordão e os seus limites; esta foi a herança dos filhos de Rúben, segundo as suas famílias, as cidades,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Moisés à tribo de Gade, aos filhos de Gade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seu termo Jazer, e todas as cidades de Gileade, e metade da terra dos filhos de Amom, até Aroer, que está em frente de Ra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Hesbom até Ramate-Mizpá e Betonim, e desde Maanaim até ao termo de Deb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vale Bete-Arã, e Bete-Nimra, e Sucote, Zafom, que ficara do restante do reino de Siom, em Hesbom, o Jordão e o seu termo, até a extremidade do mar de Quinerete além do Jordão para 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herança dos filhos de Gade segundo as suas famílias, as cidades e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 também Moisés herança à meia tribo de Manassés; e deu à meia tribo dos filhos de Manassés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Sior, que está em frente ao Egito, até ao termo de Ecrom para o norte, que se diz ser dos cananeus; cinco príncipes dos filisteus; o gazeu, e o asdodeu, o asqueloneu, o giteu, e o ecroneu, e os av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o seu termo foi desde Maanaim, todo o Basã, todo o reino de Ogue, rei de Basã, e todas as aldeias de Jair, que estão em Basã, sessenta cida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tade de Gileade, e Astarote, e Edrei, cidades do reino de Ogue em Basã, deu aos filhos de Maquir, filho de Manassés, a saber, à metade dos filhos de Maquir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é o que Moisés repartiu em herança nas campinas de Moabe, além do Jordão para o oriente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à tribo de Levi, Moisés não deu herança; o SENHOR Deus de Israel é a sua herança, como já lhe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sul, toda a terra dos cananeus, e Meara, que é dos sidônios; até Afeca, até ao termo dos amorr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 terra dos gebalitas, e todo o Líbano, para o nascente do sol, desde Baal-Gade, ao pé do monte Hermom, até a entrada de Ham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habitam nas montanhas desde o Líbano até Misrefote-Maim, todos os sidônios; eu os lançarei de diante dos filhos de Israel; tão-somente reparte a terra em herança a Israel, como já te mand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arte, pois, agora esta terra por herança às nove tribos, e à meia tribo de Manass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 qual os rubenitas e os gaditas já receberam a sua herança, além do Jordão para o oriente, assim como já lhes tinha dado Moisés, serv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roer, que está à beira do ribeiro de Arnom, e a cidade que está no meio do vale, e toda a campina de Medeba até Dib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30Z</dcterms:created>
  <dc:creator>Admin</dc:creator>
  <dc:description/>
  <dc:language>en-US</dc:language>
  <cp:lastModifiedBy>Admin</cp:lastModifiedBy>
  <dcterms:modified xsi:type="dcterms:W3CDTF">2008-07-31T00:05:30Z</dcterms:modified>
  <cp:revision>1</cp:revision>
  <dc:subject/>
  <dc:title>Slide 1</dc:title>
</cp:coreProperties>
</file>