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FFC-5F98-4A5C-BC86-BA62DAA1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E3E-6AD0-4B65-BECC-055EB6B0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2036-518B-496E-9C9F-51BBA4FA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5B94-101B-4024-8351-C477A4C3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F9F4-FEB0-4CB4-AF7A-D97BECCB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C26-2D2D-4814-BA09-03A58A03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FC4-70CE-4C68-B7A1-C0233E9D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32A-A4C1-44D5-A611-1E6AFB0A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298-25D1-4F8D-A387-C0A6036D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B6D-977D-47F7-B38A-E89C0590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528D-459B-4F6A-92E8-A7B37A43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2D0A-9184-451F-9F0C-170B9760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5347-D806-4048-BFB6-2E46A49FE5F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U fundamento está nos montes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ama as portas de Sião, mais do que todas as habitações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isas gloriosas se dizem de ti, ó cidade de Deus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ei menção de Raabe e de Babilônia àqueles que me conhecem; eis que da Filístia, e de Tiro, e da Etiópia, se dirá: Este homem nasceu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Sião se dirá: Este e aquele homem nasceram ali; e o mesmo Altíssimo a estabel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contará na descrição dos povos que este homem nasceu ali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s cantores como os tocadores de instrumentos estarão lá; todas as minhas fontes estão em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46Z</dcterms:created>
  <dc:creator>Admin</dc:creator>
  <dc:description/>
  <dc:language>en-US</dc:language>
  <cp:lastModifiedBy>Admin</cp:lastModifiedBy>
  <dcterms:modified xsi:type="dcterms:W3CDTF">2008-07-31T00:26:46Z</dcterms:modified>
  <cp:revision>1</cp:revision>
  <dc:subject/>
  <dc:title>Slide 1</dc:title>
</cp:coreProperties>
</file>