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430A-4841-425C-91B3-D9CDA7F3B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2CCB-0771-436A-A0F7-4676849F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AB79-9C60-4942-B48F-32CDAD7AE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CDDA-82DB-4E33-910A-0A28B7537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BFDD-D358-4AC6-88AE-CA4A418B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FFF4-4211-4951-A9D9-C208D696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EF4B-5438-464F-8276-A1EC86E2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6AD6-5417-47CE-BADF-9090F447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4318-1417-41B4-87A1-8640B97F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53BE-8FEB-4F6A-95FB-E33E3820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9A2B-6D30-4DAA-97A8-883DE891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633D-13E8-48C3-8CB6-1DC5973A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19BA-80C6-48FA-952D-07D6A0DC345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ECEU Samuel, e todo o Israel se ajuntou, e o prantearam, e o sepultaram na sua casa, em Ramá. E Davi se levantou e desceu ao deserto de Par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bal respondeu aos criados de Davi, e disse: Quem é Davi, e quem é o filho de Jessé? Muitos servos há hoje, que fogem ao seu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ria eu, pois, o meu pão, e a minha água, e a carne das minhas reses que degolei para os meus tosquiadores, e o daria a homens que eu não sei donde vê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moços de Davi puseram-se a caminho e voltaram, e chegando, lhe anunciaram tudo conforme a todas est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disse Davi aos seus homens: Cada um cinja a sua espada. E cada um cingiu a sua espada, e cingiu também Davi a sua; e subiram após Davi uns quatrocentos homens, e duzentos ficaram com a bagag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um dentre os moços o anunciou a Abigail, mulher de Nabal, dizendo: Eis que Davi enviou mensageiros desde o deserto a saudar o nosso amo; porém ele os destra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, aqueles homens têm-nos sido muito bons, e nunca fomos agravados por eles, e nada nos faltou em todos os dias que convivemos com eles quando estavam no ca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muro em redor nos serviram, assim de dia como de noite, todos os dias que andamos com eles apascentando as ove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sidera, pois, agora, e vê o que hás de fazer, porque o mal já está de todo determinado contra o nosso amo e contra toda a sua casa, e ele é um homem vil, que não há quem lhe possa fal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bigail se apressou, e tomou duzentos pães, e dois odres de vinho, e cinco ovelhas guisadas, e cinco medidas de trigo tostado, e cem cachos de passas, e duzentas pastas de figos passados, e os pôs sobre ju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os seus moços: Ide adiante de mim, eis que vos seguirei de perto. O que, porém, não declarou a seu marido Nab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ia um homem em Maom, que tinha as suas possessões no Carmelo; e era este homem muito poderoso, e tinha três mil ovelhas e mil cabras; e estava tosquiando as suas ovelhas no Carme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andando ela montada num jumento, desceu pelo encoberto do monte, e eis que Davi e os seus homens lhe vinham ao encontro, e ela encontrou-se com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Davi: Na verdade que em vão tenho guardado tudo quanto este tem no deserto, e nada lhe faltou de tudo quanto tem, e ele me pagou mal por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aça Deus aos inimigos de Davi, e outro tanto, se eu deixar até amanhã de tudo o que tem, até mesmo um men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pois, Abigail a Davi, apressou-se, e desceu do jumento, e prostrou-se sobre o seu rosto diante de Davi, e se inclinou à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ançou-se a seus pés, e disse: Ah, senhor meu, minha seja a transgressão; deixa, pois, falar a tua serva aos teus ouvidos, e ouve as palavras da tua ser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u senhor, agora não faça este homem vil, a saber, Nabal, impressão no seu coração, porque tal é ele qual é o seu nome. Nabal é o seu nome, e a loucura está com ele, e eu, tua serva, não vi os moços de meu senhor, que envi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meu senhor, vive o SENHOR, e vive a tua alma, que o SENHOR te impediu de vires com sangue, e de que a tua mão te salvasse; e, agora, tais quais Nabal sejam os teus inimigos e os que procuram mal contra o meu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gora este é o presente que trouxe a tua serva a meu senhor; seja dado aos moços que seguem ao meu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5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rdoa, pois, à tua serva esta transgressão, porque certamente fará o SENHOR casa firme a meu senhor, porque meu senhor guerreia as guerras do SENHOR, e não se tem achado mal em ti por todos os teus di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5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evantando-se algum homem para te perseguir, e para procurar a tua morte, contudo a vida de meu senhor será atada no feixe dos que vivem com o SENHOR teu Deus; porém a vida de teus inimigos ele arrojará ao longe, como do meio do côncavo de uma fu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ra o nome deste homem Nabal, e o nome de sua mulher Abigail; e era a mulher de bom entendimento e formosa; porém o homem era duro, e maligno nas obras, e era da casa de Cale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5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á de ser que, usando o SENHOR com o meu senhor conforme a todo o bem que já tem falado de ti, e te houver estabelecido príncipe sobre Israe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5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, meu SENHOR, não te será por tropeço, nem por pesar no coração, o sangue que sem causa derramaste, nem tampouco por ter se vingado o meu SENHOR a si mesmo; e quando o SENHOR fizer bem a meu senhor, lembra-te então da tua ser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5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avi disse a Abigail: Bendito o SENHOR Deus de Israel, que hoje te enviou ao meu encon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5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endito o teu conselho, e bendita tu, que hoje me impediste de derramar sangue, e de vingar-me pela minha própri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5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na verdade, vive o SENHOR Deus de Israel, que me impediu de que te fizesse mal, que se tu não te apressaras, e não me vieras ao encontro, não ficaria a Nabal até a luz da manhã nem mesmo um men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5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avi tomou da sua mão o que tinha trazido, e lhe disse: Sobe em paz à tua casa; vês aqui que tenho dado ouvidos à tua voz, e tenho aceitado a tua fa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5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indo Abigail a Nabal, eis que tinha em sua casa um banquete, como banquete de rei; e o coração de Nabal estava alegre nele, e ele já muito embriagado, pelo que ela não lhe deu a entender coisa alguma, pequena nem grande, até à luz da manh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5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, pois, que pela manhã, estando Nabal já livre do vinho, sua mulher lhe deu a entender aquelas coisas; e se amorteceu o seu coração, e ficou ele como ped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5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passados quase dez dias, feriu o SENHOR a Nabal, e este morr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5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uvindo Davi que Nabal morrera, disse: Bendito seja o SENHOR, que julgou a causa de minha afronta recebida da mão de Nabal, e deteve a seu servo do mal, fazendo o SENHOR tornar o mal de Nabal sobre a sua cabeça. E mandou Davi falar a Abigail, para t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viu Davi no deserto que Nabal tosquiava as suas ovelh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5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ndo, pois, os criados de Davi a Abigail, no Carmelo, lhe falaram, dizendo: Davi nos tem mandado a ti, para te tomar por sua mul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5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a se levantou, e se inclinou com o rosto em terra, e disse: Eis que a tua serva servirá de criada para lavar os pés dos criados de meu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5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igail se apressou, e se levantou, e montou num jumento com as suas cinco moças que seguiam as suas pisadas; e ela seguiu os mensageiros de Davi, e foi sua mul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5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tomou Davi a Ainoã de Jizreel; e ambas foram suas mulhe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5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aul tinha dado sua filha Mical, mulher de Davi, a Palti, filho de Laís, o qual era de Gal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viou Davi dez moços, e disse aos moços: Subi ao Carmelo, e, indo a Nabal, perguntai-lhe, em meu nome, como est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sim direis àquele próspero: Paz tenhas, e que a tua casa tenha paz, e tudo o que tens tenha paz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tenho ouvido que tens tosquiadores. Ora, os pastores que tens estiveram conosco; agravo nenhum lhes fizemos, nem coisa alguma lhes faltou todos os dias que estiveram no Carme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rgunta-o aos teus moços, e eles to dirão. Estes moços, pois, achem graça em teus olhos, porque viemos em boa ocasião. Dá, pois, a teus servos e a Davi, teu filho, o que achares à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egando, pois, os moços de Davi, e falando a Nabal todas aquelas palavras em nome de Davi, se cal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7:47Z</dcterms:created>
  <dc:creator>Admin</dc:creator>
  <dc:description/>
  <dc:language>en-US</dc:language>
  <cp:lastModifiedBy>Admin</cp:lastModifiedBy>
  <dcterms:modified xsi:type="dcterms:W3CDTF">2008-07-30T23:47:47Z</dcterms:modified>
  <cp:revision>1</cp:revision>
  <dc:subject/>
  <dc:title>Slide 1</dc:title>
</cp:coreProperties>
</file>