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067-66FB-4F2E-819B-21F9F718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73A-02A0-4789-A856-9766A76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4CB-8794-4A18-BBBC-4A730275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0EF-C63E-43CE-8E1C-824236A3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C91-2800-4645-9A29-7B75C07C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EFF-55D7-4FB9-BFC3-E4BCB467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751-AABA-4E3B-92AD-5E8C4ADC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203-F7C0-4C51-80C5-721B938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FBD-C310-495F-BAE0-B35D3BDF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692-A4C6-42C4-9CB1-6178434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988-4324-43CB-89DE-904C8A68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B92-350A-410B-B749-1B3DEDAA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634A-EE74-48BB-A97E-E8F34E6680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nono de Zedequias, rei de Judá, no décimo mês, veio Nabucodonosor, rei de Babilônia, e todo o seu exército, contra Jerusalém, e a cerc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pobres dentre o povo, que não tinham nada, Nebuzaradã, capitão da guarda, deixou na terra de Judá; e deu-lhes vinhas e campos na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abucodonosor, rei de Babilônia, havia ordenado acerca de Jeremias, a Nebuzaradã, capitão da guard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-o, e põe sobre ele os teus olhos, e não lhe faças nenhum mal; antes como ele te disser, assim procederás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mandou Nebuzaradã, capitão da guarda, e Nebusazbã, Rabe-Saris, Nergal-Sarezer, Rabe-Mague, e todos os príncipes do rei de Babilôn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ram retirar a Jeremias do átrio da guarda, e o entregaram a Gedalias, filho de Aicão, filho de Safã, para que o levassem à casa; e ele habitou ent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tinha vindo a Jeremias a palavra do SENHOR, estando ele ainda encarcerado no átrio da guard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e fala a Ebede-Meleque, o etíope, dizendo: Assim diz o SENHOR dos Exércitos, Deus de Israel: Eis que eu trarei as minhas palavras sobre esta cidade para mal e não para bem; e cumprir-se-ão diante de ti na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porém, eu livrarei naquele dia, diz o SENHOR, e não serás entregue na mão dos homens, a quem te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ertamente te livrarei, e não cairás à espada; mas a tua alma terás por despojo, porquanto confiaste em mi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undécimo de Zedequias, no quarto mês, aos nove do mês, fez-se uma brecha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ram nela todos os príncipes do rei de Babilônia, e pararam na porta do meio, a saber: Nergal-Sarezer, Sangar-Nebo, Sarsequim, Rabe-Saris, Nergal-Sarezer, Rabe-Mague, e todos os outros príncipes do rei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endo-os Zedequias, rei de Judá, e todos os homens de guerra, fugiram, saindo de noite da cidade, pelo caminho do jardim do rei, pela porta que está entre os dois muros; e seguiram pelo caminho da camp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exército dos caldeus os perseguiu, e alcançou a Zedequias nas campinas de Jericó; e eles o prenderam, e fizeram-no subir a Nabucodonosor, rei de Babilônia, a Ribla, na terra de Hamate, e o rei o sentenc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 Babilônia matou em Ribla os filhos de Zedequias, diante dos seus olhos; também matou o rei de Babilônia a todos os nobre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egou os olhos de Zedequias, e o atou com duas cadeias de bronze, para levá-lo 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ldeus incendiaram a casa do rei e as casas do povo, e derrubaram os muro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ante do povo, que ficou na cidade, e os desertores que se tinham passado para ele, e o restante do povo que ficou, Nebuzaradã, capitão da guarda, levou cativo para 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27Z</dcterms:created>
  <dc:creator>Admin</dc:creator>
  <dc:description/>
  <dc:language>en-US</dc:language>
  <cp:lastModifiedBy>Admin</cp:lastModifiedBy>
  <dcterms:modified xsi:type="dcterms:W3CDTF">2008-07-30T23:59:27Z</dcterms:modified>
  <cp:revision>1</cp:revision>
  <dc:subject/>
  <dc:title>Slide 1</dc:title>
</cp:coreProperties>
</file>