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4F7B-A8F4-4BCE-922F-449898E5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5F1-4277-4D0D-BC35-06746F90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5A4-5338-45FA-A34B-8CE35466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65EA-6782-4542-ADF1-6BB11DB2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DDB8-768F-4E26-867D-90FD4B22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981-6B6D-48CA-933E-0031453A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67BB-8AF8-4A5A-BDA1-9B1E800D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477-84F8-4083-9465-D71DD82C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8CF9-9D8E-4845-9247-EA93DE34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8F39-05DB-469A-B7E9-632A5819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08A-D019-4DB2-B38D-6303FB9D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2A5-EF61-44B0-8B2E-E3A80AF4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19D5-7413-40AA-8290-0DDDDE9F0A8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te exaltarei, ó Deus, rei meu, e bendirei o teu nome pelos séculos dos séculos e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tuas obras te louvarão, ó SENHOR, e os teus santos te bendi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rão da glória do teu reino, e relatarão o teu pod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fazer saber aos filhos dos homens as tuas proezas e a glória da magnificência do teu re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u reino é um reino eterno; o teu domínio dura em todas as ge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sustenta a todos os que caem, e levanta a todos os abat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olhos de todos esperam em ti, e lhes dás o seu mantimento a seu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es a tua mão, e fartas os desejos de todos os viv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sto é o SENHOR em todos os seus caminhos, e santo em todas as su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to está o SENHOR de todos os que o invocam, de todos os que o invocam em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cumprirá o desejo dos que o temem; ouvirá o seu clamor, e os salv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da dia te bendirei, e louvarei o teu nome pelos séculos dos séculos e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guarda a todos os que o amam; mas todos os ímpios serão destruí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boca falará o louvor do SENHOR, e toda a carne louvará o seu santo nome pelos séculos dos séculos e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ande é o SENHOR, e muito digno de louvor, e a sua grandeza inexcrutá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geração louvará as tuas obras à outra geração, e anunciarão as tuas proez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rei da magnificência gloriosa da tua majestade e das tuas obras maravilho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falará da força dos teus feitos terríveis; e contarei a tua grand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ferirão abundantemente a memória da tua grande bondade, e cantarão a tu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iedoso e benigno é o SENHOR, sofredor e de grande misericór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é bom para todos, e as suas misericórdias são sobre todas as su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46Z</dcterms:created>
  <dc:creator>Admin</dc:creator>
  <dc:description/>
  <dc:language>en-US</dc:language>
  <cp:lastModifiedBy>Admin</cp:lastModifiedBy>
  <dcterms:modified xsi:type="dcterms:W3CDTF">2008-07-31T00:28:46Z</dcterms:modified>
  <cp:revision>1</cp:revision>
  <dc:subject/>
  <dc:title>Slide 1</dc:title>
</cp:coreProperties>
</file>