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F5F-E5DC-4A2E-9D5A-1E6B72DE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A29-0D2A-498B-8705-084A39BF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094-DFBB-4D4F-A124-4D25110B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677-B84B-4FCF-AFC6-3DA2DD6D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446-E52B-4076-8452-7D2C67EC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BAB-7120-47B1-9BC9-696A2806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13B-F506-4A69-94EC-5C9CBEB9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CFD-7705-4AB4-A03D-B8E05BCC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26E-C933-488C-A3B9-05FC6160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FE6-C040-4458-8B43-B6BB08F7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43D-A3CC-46C0-AC55-47292E8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2D0-A880-4885-9BDD-B2B9B03D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C8F5-7604-4C30-B532-6AB046B665E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o SENHOR castigará com a sua dura espada, grande e forte, o leviatã, serpente veloz, e o leviatã, a serpente tortuosa, e matará o dragão, que está n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cidade fortificada ficará solitária, será uma habitação rejeitada e abandonada como um deserto; ali pastarão os bezerros, e ali se deitarão, e devorarão os seus 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seus ramos se secarem, serão quebrados, e vindo as mulheres, os acenderão, porque este povo não é povo de entendimento, assim aquele que o fez não se compadecerá dele, e aquele que o formou não lhe mostrará nenhum fa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naquele dia que o SENHOR debulhará seus cereais desde as correntes do rio, até ao rio do Egito; e vós, ó filhos de Israel, sereis colhidos um a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naquele dia que se tocará uma grande trombeta, e os que andavam perdidos pela terra da Assíria, e os que foram desterrados para a terra do Egito, tornarão a vir, e adorarão ao SENHOR no monte santo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haverá uma vinha de vinho tinto; cantai-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o SENHOR, a guardo, e cada momento a regarei; para que ninguém lhe faça dano, de noite e de dia a guar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indignação em mim. Quem me poria sarças e espinheiros diante de mim na guerra? Eu iria contra eles e juntamente os quei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que se apodere da minha força, e faça paz comigo; sim, que faça paz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as virão em que Jacó lançará raízes, e florescerá e brotará Israel, e encherão de fruto a face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iu-o como feriu aos que o feriram? Ou matou-o, assim como matou aos que foram mortos por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medida contendeste com ela, quando a rejeitaste, quando a tirou com o seu vento forte, no tempo do vento l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 expiará a iniqüidade de Jacó, e este será todo o fruto de se haver tirado seu pecado; quando ele fizer a todas as pedras do altar como pedras de cal feitas em pedaços, então os bosques e as imagens não poderão ficar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28Z</dcterms:created>
  <dc:creator>Admin</dc:creator>
  <dc:description/>
  <dc:language>en-US</dc:language>
  <cp:lastModifiedBy>Admin</cp:lastModifiedBy>
  <dcterms:modified xsi:type="dcterms:W3CDTF">2008-07-30T23:55:28Z</dcterms:modified>
  <cp:revision>1</cp:revision>
  <dc:subject/>
  <dc:title>Slide 1</dc:title>
</cp:coreProperties>
</file>