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E3E7-0080-4B9A-BB06-36BCC0F4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4A2-DBAB-4094-A491-65933051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5EA-6897-4BD8-A61B-16984ADA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EA0-A769-4362-A171-4D373500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56F-C706-4CD8-B78E-F7A39134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A2F-B1AC-4C0D-84AF-5E27ED41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F35-5E37-48C0-A8E2-8DC7F401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56C-C6D1-4646-8641-6014FBF0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DE0-CEF2-4D2F-8629-0941D18C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148-B60A-47F2-9206-136FDEA6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E04-513D-4670-AE28-BECAA8A2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00E-B4C9-472D-B537-D3BAF420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A476-7EE5-4806-82FF-00362A0A837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A o teu pão sobre as águas, porque depois de muitos dias o ach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fasta, pois, a ira do teu coração, e remove da tua carne o mal, porque a adolescência e a juventude são va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parte com sete, e ainda até com oito, porque não sabes que mal haverá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as nuvens cheias, derramam a chuva sobre a terra, e caindo a árvore para o sul, ou para o norte, no lugar em que a árvore cair ali fic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observa o vento, nunca semeará, e o que olha para as nuvens nunca se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tu não sabes qual o caminho do vento, nem como se formam os ossos no ventre da mulher grávida, assim também não sabes as obras de Deus, que faz todas 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manhã semeia a tua semente, e à tarde não retires a tua mão, porque tu não sabes qual prosperará, se esta, se aquela, ou se ambas serão igualmente bo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suave é a luz, e agradável é aos olhos ver 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o homem viver muitos anos, e em todos eles se alegrar, também se deve lembrar dos dias das trevas, porque hão de ser muitos. Tudo quanto sucede é va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a-te, jovem, na tua mocidade, e recreie-se o teu coração nos dias da tua mocidade, e anda pelos caminhos do teu coração, e pela vista dos teus olhos; sabe, porém, que por todas estas coisas te trará Deus a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42Z</dcterms:created>
  <dc:creator>Admin</dc:creator>
  <dc:description/>
  <dc:language>en-US</dc:language>
  <cp:lastModifiedBy>Admin</cp:lastModifiedBy>
  <dcterms:modified xsi:type="dcterms:W3CDTF">2008-07-30T23:29:42Z</dcterms:modified>
  <cp:revision>1</cp:revision>
  <dc:subject/>
  <dc:title>Slide 1</dc:title>
</cp:coreProperties>
</file>