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2C5-C120-448A-80C7-C9F2DFD9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A700-6792-4410-8960-0A38BBF7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A9C2-DA1B-4893-96AC-D13DBBB8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7C03-C08A-4717-82EE-EFD3B3DF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7742-6B90-4E37-9861-6FDD50DA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68C4-4799-48FA-8A06-7178A25D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358-CEE8-4460-94A4-3BEE3148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6FD8-C019-4B15-80BD-A069AE74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4EED-E3E7-45F2-880D-EAC18D43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D61B-4C1B-4963-98AD-119B1A4E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98B5-9613-4EF6-B86B-A4FABF25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9F1-C3DF-4AC5-B36C-14B11A3D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038E-CFB6-4523-A014-FB0C450D33D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roximando Faraó, os filhos de Israel levantaram seus olhos, e eis que os egípcios vinham atrás deles, e temeram muito; então os filhos de Israel clamaram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 a Moisés: Não havia sepulcros no Egito, para nos tirar de lá, para que morramos neste deserto? Por que nos fizeste isto, fazendo-nos sair do Egi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é esta a palavra que te falamos no Egito, dizendo: Deixa-nos, que sirvamos aos egípcios? Pois que melhor nos fora servir aos egípcios, do que morrermos n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isés, porém, disse ao povo: Não temais; estai quietos, e vede o livramento do SENHOR, que hoje vos fará; porque aos egípcios, que hoje vistes, nunca mais os tornareis a v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pelejará por vós, e vós vos cal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Moisés: Por que clamas a mim? Dize aos filhos de Israel que march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, levanta a tua vara, e estende a tua mão sobre o mar, e fende-o, para que os filhos de Israel passem pelo meio do mar em se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endurecerei o coração dos egípcios, e estes entrarão atrás deles; e eu serei glorificado em Faraó e em todo o seu exército, nos seus carros e nos seus cavaleir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gípcios saberão que eu sou o SENHOR, quando for glorificado em Faraó, nos seus carros e nos seus caval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njo de Deus, que ia diante do exército de Israel, se retirou, e ia atrás deles; também a coluna de nuvem se retirou de diante deles, e se pôs atrás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os filhos de Israel que voltem, e que se acampem diante de Pi-Hairote, entre Migdol e o mar, diante de Baal-Zefom; em frente dele assentareis o campo junto a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a entre o campo dos egípcios e o campo de Israel; e a nuvem era trevas para aqueles, e para estes clareava a noite; de maneira que em toda a noite não se aproximou um do ou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estendeu a sua mão sobre o mar, e o SENHOR fez retirar o mar por um forte vento oriental toda aquela noite; e o mar tornou-se em seco, e as águas foram parti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Israel entraram pelo meio do mar em seco; e as águas foram-lhes como muro à sua direita e à sua esqu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gípcios os seguiram, e entraram atrás deles todos os cavalos de Faraó, os seus carros e os seus cavaleiros, até ao meio d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na vigília daquela manhã, o SENHOR, na coluna do fogo e da nuvem, viu o campo dos egípcios; e alvoroçou o campo dos egíp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rou-lhes as rodas dos seus carros, e dificultosamente os governavam. Então disseram os egípcios: Fujamos da face de Israel, porque o SENHOR por eles peleja contra os egíp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Moisés: Estende a tua mão sobre o mar, para que as águas tornem sobre os egípcios, sobre os seus carros e sobre os seus caval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estendeu a sua mão sobre o mar, e o mar retornou a sua força ao amanhecer, e os egípcios, ao fugirem, foram de encontro a ele, e o SENHOR derrubou os egípcios no meio do ma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 águas, tornando, cobriram os carros e os cavaleiros de todo o exército de Faraó, que os haviam seguido no mar; nenhum deles fi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filhos de Israel foram pelo meio do mar seco; e as águas foram-lhes como muro à sua mão direita e à sua esqu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raó dirá dos filhos de Israel: Estão embaraçados na terra, o deserto os encer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 SENHOR salvou Israel naquele dia da mão dos egípcios; e Israel viu os egípcios mortos na praia d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u Israel a grande mão que o SENHOR mostrara aos egípcios; e temeu o povo ao SENHOR, e creu no SENHOR e em Moisés, s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endurecerei o coração de Faraó, para que os persiga, e serei glorificado em Faraó e em todo o seu exército, e saberão os egípcios que eu sou o SENHOR. E eles fizeram as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do, pois, anunciado ao rei do Egito que o povo fugia, mudou-se o coração de Faraó e dos seus servos contra o povo, e disseram: Por que fizemos isso, havendo deixado ir a Israel, para que não nos sirv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rontou o seu carro, e tomou consigo o seu pov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seiscentos carros escolhidos, e todos os carros do Egito, e os capitães sobre eles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endureceu o coração de Faraó, rei do Egito, para que perseguisse aos filhos de Israel; porém os filhos de Israel saíram com alt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gípcios perseguiram-nos, todos os cavalos e carros de Faraó, e os seus cavaleiros e o seu exército, e alcançaram-nos acampados junto ao mar, perto de Pi-Hairote, diante de Baal-Zef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1:53Z</dcterms:created>
  <dc:creator>Admin</dc:creator>
  <dc:description/>
  <dc:language>en-US</dc:language>
  <cp:lastModifiedBy>Admin</cp:lastModifiedBy>
  <dcterms:modified xsi:type="dcterms:W3CDTF">2008-07-30T23:31:53Z</dcterms:modified>
  <cp:revision>1</cp:revision>
  <dc:subject/>
  <dc:title>Slide 1</dc:title>
</cp:coreProperties>
</file>