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269-25C5-4E20-9138-30ADE9BD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511-73EA-4ECF-BE32-BD53124B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240-23A3-4F21-BF89-5B6DA9AC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7A4-CE3B-4B78-B9C2-13FABF50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75C-CFCD-4E1E-8F23-4B82E622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340-B44C-412B-B3A5-88F88AB6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9E2-0556-4097-B6C0-30EC95DB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CEE-602C-4E00-A9A9-02B74A1F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528-E8EC-484B-A354-2C5A199E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5AB-1E82-4080-843E-A0BDF0A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B00-F67B-4384-A7E1-B70D503A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516-D9D1-4CAC-B60B-D7601D13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1F1A-F342-4E83-B8CD-01F62279155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irmãos, muitos de vós não sejam mestres, sabendo que receberemos mais dur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uma mesma boca procede bênção e maldição. Meus irmãos, não convém que isto se faça ass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deita alguma fonte de um mesmo manancial água doce e água amargo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irmãos, pode também a figueira produzir azeitonas, ou a videira figos? Assim tampouco pode uma fonte dar água salgada e do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dentre vós é sábio e entendido? Mostre pelo seu bom trato as suas obras em mansidão de sabedo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tendes amarga inveja, e sentimento faccioso em vosso coração, não vos glorieis, nem mintais contra a v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sa não é a sabedoria que vem do alto, mas é terrena, animal e diaból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nde há inveja e espírito faccioso aí há perturbação e toda a obra perver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 sabedoria que do alto vem é, primeiramente pura, depois pacífica, moderada, tratável, cheia de misericórdia e de bons frutos, sem parcialidade, e sem hipocris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fruto da justiça semeia-se na paz, para os que exercitam a pa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tropeçamos em muitas coisas. Se alguém não tropeça em palavra, o tal é perfeito, e poderoso para também refrear todo o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nós pomos freio nas bocas dos cavalos, para que nos obedeçam; e conseguimos dirigir todo o seu corp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também as naus que, sendo tão grandes, e levadas de impetuosos ventos, se viram com um bem pequeno leme para onde quer a vontade daquele que as gover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a língua é um pequeno membro, e gloria-se de grandes coisas. Vede quão grande bosque um pequeno fogo incende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língua também é um fogo; como mundo de iniqüidade, a língua está posta entre os nossos membros, e contamina todo o corpo, e inflama o curso da natureza, e é inflamada pel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a a natureza, tanto de bestas feras como de aves, tanto de répteis como de animais do mar, se amansa e foi domada pela natureza huma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enhum homem pode domar a língua. É um mal que não se pode refrear; está cheia de peçonha mort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 ela bendizemos a Deus e Pai, e com ela amaldiçoamos os homens, feitos à semelhan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08Z</dcterms:created>
  <dc:creator>Admin</dc:creator>
  <dc:description/>
  <dc:language>en-US</dc:language>
  <cp:lastModifiedBy>Admin</cp:lastModifiedBy>
  <dcterms:modified xsi:type="dcterms:W3CDTF">2008-07-31T00:29:08Z</dcterms:modified>
  <cp:revision>1</cp:revision>
  <dc:subject/>
  <dc:title>Slide 1</dc:title>
</cp:coreProperties>
</file>