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D82-CC66-439E-919A-3093910B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69BF-F104-4455-8D54-8C2ADE6A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1B3-2059-4549-90D1-89739C39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605-D0DE-4B58-965B-3C2CEB63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03F3-C7F7-4D47-9BE2-83C61F42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A9D-1766-4B0C-99F6-589E908D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1DE-C4BF-4DA9-9FAB-E68C3E35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216E-0541-48B8-ACE9-DAF931BC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E7F1-8FD2-47B5-BD41-DF77C73C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09B1-07D0-402F-9E2F-71726BDA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54DD-85FB-4418-8A78-2D70A80E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9298-E727-4623-A971-EC489B97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282A-777A-4C64-A307-299D047FDA7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 levou à porta, à porta que olha para o caminho do ori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is, ó filho do homem, mostra à casa de Israel esta casa, para que se envergonhe das suas maldades, e meça o mode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vergonhando-se eles de tudo quanto fizeram, faze-lhes saber a forma desta casa, e a sua figura, e as suas saídas, e as suas entradas, e todas as suas formas, e todos os seus estatutos, todas as suas formas, e todas as suas leis; e escreve isto aos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lei da casa: Sobre o cume do monte todo o seu contorno em redor será santíssimo; eis que esta é a lei d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s são as medidas do altar, em côvados (o côvado é um côvado e um palmo): e o fundo será de um côvado de altura, e um côvado de largura, e a sua borda em todo o seu contorno, de um palmo; e esta é a base d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 fundo, desde a terra até a armação inferior, dois côvados, e de largura um côvado, e desde a pequena armação até a grande, quatro côvados, e a largura de um côv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ltar, de quatro côvados; e desde o altar e para cima havia quatro pon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ltar terá doze côvados de comprimento, e doze de largura, quadrado nos quatro l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armação, catorze côvados de comprimento, e catorze de largura, nos seus quatro lados; e o contorno, ao redor dela, de meio côvado, e o fundo dela de um côvado, ao redor; e os seus degraus davam para o ori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: Filho do homem, assim diz o Senhor DEUS: Estes são os estatutos do altar, no dia em que o fizerem, para oferecerem sobre ele holocausto e para aspergirem sobre ele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sacerdotes levitas, que são da descendência de Zadoque, que se chegam a mim (diz o Senhor DEUS) para me servirem, darás um bezerro, para oferta pel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a glória do Deus de Israel vinha do caminho do oriente; e a sua voz era como a voz de muitas águas, e a terra resplandeceu por causa da su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ás do seu sangue, e o porás sobre as suas quatro pontas, e sobre os quatro cantos da armação, e no contorno ao redor; assim o purificarás e o expi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arás o bezerro da oferta pelo pecado, e o queimará no lugar da casa para isso designado, fora do santu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segundo dia oferecerás um bode, sem mancha, como oferta pelo pecado; e purificarão o altar, como o purificaram com o beze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cabando tu de purificá-lo, oferecerás um bezerro, sem mancha, e um carneiro do rebanho, sem manc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ferecê-los-ás perante a face do SENHOR; e os sacerdotes deitarão sal sobre eles, e oferecê-los-ão em holocausto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sete dias prepararás, cada dia um bode como oferta pelo pecado; também prepararão um bezerro, e um carneiro do rebanho, sem manc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sete dias expiarão o altar, e o purificarão; e assim consagrar-se-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umprindo eles estes dias, será que, ao oitavo dia, e dali em diante, os sacerdotes oferecerão sobre o altar os vossos holocaustos e as vossas ofertas pacíficas; e eu me deleitarei em vós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specto da visão que tive era como o da visão que eu tivera quando vim destruir a cidade; e eram as visões como as que tive junto ao rio Quebar; e caí sobre o meu ro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glória do SENHOR entrou na casa pelo caminho da porta, cuja face está para o lado do ori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-me o Espírito, e me levou ao átrio interior; e eis que a glória do SENHOR encheu 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 alguém que falava comigo de dentro da casa, e um homem se pôs em pé junto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: Filho do homem, este é o lugar do meu trono, e o lugar das plantas dos meus pés, onde habitarei no meio dos filhos de Israel para sempre; e os da casa de Israel não contaminarão mais o meu nome santo, nem eles nem os seus reis, com suas pr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ndo o seu limiar ao pé do meu limiar, e o seu umbral junto ao meu umbral, e havendo uma parede entre mim e eles; e contaminaram o meu santo nome com as suas abominações que cometiam; por isso eu os consumi na minha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lancem eles para longe de mim a sua prostituição, e os cadáveres dos seus reis, e habitarei no meio deles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6:12Z</dcterms:created>
  <dc:creator>Admin</dc:creator>
  <dc:description/>
  <dc:language>en-US</dc:language>
  <cp:lastModifiedBy>Admin</cp:lastModifiedBy>
  <dcterms:modified xsi:type="dcterms:W3CDTF">2008-07-30T23:36:12Z</dcterms:modified>
  <cp:revision>1</cp:revision>
  <dc:subject/>
  <dc:title>Slide 1</dc:title>
</cp:coreProperties>
</file>