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E96-7B2B-46EF-AE93-1BC043BA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0A3-E002-4D33-88DC-491015E1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7B8-6DD7-45DB-8643-6FDF64BA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053-A651-4AF0-A646-9DB1AC7B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27F-31C5-469F-AEB2-1D5A0CD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A14-083A-4FF1-8607-6801516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494-33FC-4CCE-8982-82F19402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497-4CFD-4920-ADDC-8D7A1896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D1F-159B-42A4-9164-80AA0E75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4B0-DC30-433B-A115-D07D738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8EC-CE5D-426A-9179-562F016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7CA-117B-4B6D-9072-35F2FDFB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2CDD-5058-4C62-99E3-A953076C837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palavra de Samuel a todo o Israel; e Israel saiu à peleja contra os filisteus e acampou-se junto a Ebenézer; e os filisteus se acamparam junto a Af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lejaram os filisteus, e Israel foi ferido, fugindo cada um para a sua tenda; e foi tão grande o estrago, que caíram de Israel trinta mil homens de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tomada a arca de Deus: e os dois filhos de Eli, Hofni e Finéias, mor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rreu, da batalha, um homem de Benjamim, e chegou no mesmo dia a Siló; e trazia as vestes rotas, e terra sobre 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ele, eis que Eli estava assentado numa cadeira, olhando para o caminho; porquanto o seu coração estava tremendo pela arca de Deus. Entrando, pois, aquele homem a anunciar isto na cidade, toda a cidade gr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, ouvindo os gritos, disse: Que alvoroço é esse? Então chegou aquele homem apressadamente, e veio, e o anunciou a E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Eli da idade de noventa e oito anos; e estavam os seus olhos tão escurecidos, que já não podia 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quele homem a Eli: Eu sou o que venho da batalha; porque eu fugi hoje da batalha. E disse ele: Que coisa sucedeu, filho m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o que trazia as notícias, e disse: Israel fugiu de diante dos filisteus, e houve também grande matança entre o povo; e, além disso, também teus dois filhos, Hofni e Finéias, morreram, e a arca de Deus foi to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fazendo ele menção da arca de Deus, Eli caiu da cadeira para trás, ao lado da porta, e quebrou-se-lhe o pescoço e morreu; porquanto o homem era velho e pesado; e tinha ele julgado Israel quar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sua nora, a mulher de Finéias, grávida, e próxima ao parto, e ouvindo estas notícias, de que a arca de Deus era tomada, e de que seu sogro e seu marido morreram, encurvou-se e deu à luz; porquanto as dores lhe sobrevi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 se dispuseram em ordem de batalha, para sair contra Israel; e, estendendo-se a peleja, Israel foi ferido diante dos filisteus, porque feriram na batalha, no campo, uns quatro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o tempo em que ia morrendo, disseram as mulheres que estavam com ela: Não temas, pois deste à luz um filho. Ela porém não respondeu, nem fez caso d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ao menino Icabode, dizendo: De Israel se foi a glória! Porque a arca de Deus foi tomada, e por causa de seu sogro e de seu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De Israel a glória é levada presa; pois é tomada a arc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ndo o povo ao arraial, disseram os anciãos de Israel: Por que nos feriu o SENHOR hoje diante dos filisteus? Tragamos de Siló a arca da aliança do SENHOR, e venha no meio de nós, para que nos livre da mão de noss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ou, pois, o povo a Siló, e trouxeram de lá a arca da aliança do SENHOR dos Exércitos, que habita entre os querubins; e os dois filhos de Eli, Hofni e Finéias, estavam ali com a arca da alian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indo a arca da aliança do SENHOR ao arraial, todo o Israel gritou com grande júbilo, até que a terra estrem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, ouvindo a voz de júbilo, disseram: Que voz de grande júbilo é esta no arraial dos hebreus? Então souberam que a arca do SENHOR era vinda a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filisteus se atemorizaram, porque diziam: Deus veio ao arraial. E diziam mais: Ai de nós! Tal nunca jamais sucedeu 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nós! Quem nos livrará da mão desses grandiosos deuses? Estes são os deuses que feriram aos egípcios com todas as pragas junto a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çai-vos, e sede homens, ó filisteus, para que porventura não venhais a servir aos hebreus, como eles serviram a vós; sede, pois, homens, e pelej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30Z</dcterms:created>
  <dc:creator>Admin</dc:creator>
  <dc:description/>
  <dc:language>en-US</dc:language>
  <cp:lastModifiedBy>Admin</cp:lastModifiedBy>
  <dcterms:modified xsi:type="dcterms:W3CDTF">2008-07-30T23:46:30Z</dcterms:modified>
  <cp:revision>1</cp:revision>
  <dc:subject/>
  <dc:title>Slide 1</dc:title>
</cp:coreProperties>
</file>