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5FB-90AC-4689-8DAD-1F1A1C5E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ADE-7FCD-4922-AC45-9017C4A2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5CB-8905-40FB-AC5B-484BB2F4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6EE-D579-4E59-984F-84DEEC77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404-9D5B-42F4-B4F1-30F59790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282-70CE-4063-82B0-316F0A7C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DD4-0007-4B07-9A6B-B04630A9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C7A-15A8-4386-BAD2-38D92F52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282-6BBA-443D-9EA6-2ECBFA9A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0AE-3568-430E-B50C-2489EF51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C21-CB55-4BBD-B2BA-6D2D3032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C6E-2060-4C8E-B6FE-EF471E92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0342-D725-4C74-B2FE-6261C2FE12E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NDO de Elim, toda a congregação dos filhos de Israel veio ao deserto de Sim, que está entre Elim e Sinai, aos quinze dias do mês segundo, depois de sua saída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ando falou Arão a toda a congregação dos filhos de Israel, e eles se viraram para o deserto, eis que a glória do SENHOR apareceu na nu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falou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ouvido as murmurações dos filhos de Israel. Fala-lhes, dizendo: Entre as duas tardes comereis carne, e pela manhã vos fartareis de pão; e sabereis que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à tarde subiram codornizes, e cobriram o arraial; e pela manhã jazia o orvalho ao redor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 orvalho se levantou, eis que sobre a face do deserto estava uma coisa miúda, redonda, miúda como a geada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-a os filhos de Israel, disseram uns aos outros: Que é isto? Porque não sabiam o que era. Disse-lhes pois Moisés: Este é o pão que o SENHOR vos deu para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palavra que o SENHOR tem mandado: Colhei dele cada um conforme ao que pode comer, um ômer por cabeça, segundo o número das vossas almas; cada um tomará para os que se acharem na su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fizeram assim; e colheram, uns mais e outros me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medindo-o com o ômer, não sobejava ao que colhera muito, nem faltava ao que colhera pouco; cada um colheu tanto quanto podia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Moisés: Ninguém deixe dele para a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congregação dos filhos de Israel murmurou contra Moisés e contra Arão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, porém, não deram ouvidos a Moisés, antes alguns deles deixaram dele para o dia seguinte; e criou bichos, e cheirava mal; por isso indignou-se Moisés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, pois, o colhiam cada manhã, cada um conforme ao que podia comer; porque, aquecendo o sol, derretia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ao sexto dia colheram pão em dobro, dois ômeres para cada um; e todos os príncipes da congregação vieram, e contaram-no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-lhes: Isto é o que o SENHOR tem dito: Amanhã é repouso, o santo sábado do SENHOR; o que quiserdes cozer no forno, cozei-o, e o que quiserdes cozer em água, cozei-o em água; e tudo o que sobejar, guardai para vós até a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uardaram-no até o dia seguinte, como Moisés tinha ordenado; e não cheirou mal nem nele houve algum bic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Moisés: Comei-o hoje, porquanto hoje é o sábado do SENHOR; hoje não o achareis n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dias o colhereis, mas o sétimo dia é o sábado; nele não ha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ao sétimo dia, que alguns do povo saíram para colher, mas não o ac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Até quando recusareis guardar os meus mandamentos e as minhas le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, porquanto o SENHOR vos deu o sábado, portanto ele no sexto dia vos dá pão para dois dias; cada um fique no seu lugar, ninguém saia do seu lugar no séti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disseram-lhes: Quem dera tivéssemos morrido por mão do SENHOR na terra do Egito, quando estávamos sentados junto às panelas de carne, quando comíamos pão até fartar! Porque nos tendes trazido a este deserto, para matardes de fome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repousou o povo no séti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a casa de Israel o seu nome maná; e era como semente de coentro branco, e o seu sabor como bolos de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: Esta é a palavra que o SENHOR tem mandado: Encherás um ômer dele e guardá-lo-ás para as vossas gerações, para que vejam o pão que vos tenho dado a comer neste deserto, quando eu vos tirei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também Moisés a Arão: Toma um vaso, e põe nele um ômer cheio de maná, e coloca-o diante do SENHOR, para guardá-lo para as voss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SENHOR tinha ordenado a Moisés, assim Arão o pôs diante do Testemunho, para ser guar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am os filhos de Israel maná quarenta anos, até que entraram em terra habitada; comeram maná até que chegaram aos termos d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ômer é a décima parte do e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Eis que vos farei chover pão dos céus, e o povo sairá, e colherá diariamente a porção para cada dia, para que eu o prove se anda em minha lei ou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, no sexto dia, que prepararão o que colherem; e será o dobro do que colhem cada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Moisés e Arão a todos os filhos de Israel: À tarde sabereis que o SENHOR vos tirou da terra do Eg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anhã vereis a glória do SENHOR, porquanto ouviu as vossas murmurações contra o SENHOR. E quem somos nós, para que murmureis contra n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Moisés: Isso será quando o SENHOR à tarde vos der carne para comer, e pela manhã pão a fartar, porquanto o SENHOR ouviu as vossas murmurações, com que murmurais contra ele. E quem somos nós? As vossas murmurações não são contra nós, mas sim 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Moisés a Arão: Dize a toda a congregação dos filhos de Israel: Chegai-vos à presença do SENHOR, porque ouviu as vossas murmu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2:01Z</dcterms:created>
  <dc:creator>Admin</dc:creator>
  <dc:description/>
  <dc:language>en-US</dc:language>
  <cp:lastModifiedBy>Admin</cp:lastModifiedBy>
  <dcterms:modified xsi:type="dcterms:W3CDTF">2008-07-30T23:32:01Z</dcterms:modified>
  <cp:revision>1</cp:revision>
  <dc:subject/>
  <dc:title>Slide 1</dc:title>
</cp:coreProperties>
</file>