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96B-617A-400A-BF4C-CA2BFA4F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AD7-6372-4686-8FF3-8235652A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4F4-CC1A-4B26-BA90-B6B0235B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C97-64F7-4EA4-A2A2-4442094A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5BC-74F3-40A3-ABBF-AEFBE2D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5B8-8F5F-4164-9FF7-8ADF749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E58-8CB9-44BD-828C-9BC8C7EB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F64-E808-416E-9FD3-B15FE317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C5-4B49-4567-8F00-5C8782F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B82-0D2B-4C4B-8418-622F5F6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3DC-45F9-4888-A1F1-63A2DDF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D7A-CF99-4CBC-A1E0-AD0C902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D56-6C42-4842-BD02-1196082FA10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imaram a fogo todas as suas cidades com todas as suas habitações e todos os seus acamp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todo o despojo e toda a presa de homens e de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 a Moisés e a Eleazar, o sacerdote, e à congregação dos filhos de Israel, os cativos, e a presa, e o despojo, para o arraial, nas campinas de Moabe, que estão junto ao Jordão, na altura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Moisés e Eleazar, o sacerdote, e todos os príncipes da congregação, saíram a recebê-los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dignou-se Moisés grandemente contra os oficiais do exército, capitães dos milhares e capitães das centenas, que vinham do serviço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isse-lhes: Deixastes viver todas as mulhe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as foram as que, por conselho de Balaão, deram ocasião aos filhos de Israel de transgredir contra o SENHOR no caso de Peor; por isso houve aquela praga entre a congregaçã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atai todo o homem entre as crianças, e matai toda a mulher que conheceu algum homem, deitando-se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todas as meninas que não conheceram algum homem, deitando-se com ele, deixai-as viver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ojai-vos sete dias fora do arraial; qualquer que tiver matado alguma pessoa, e qualquer que tiver tocado algum morto, ao terceiro dia, e ao sétimo dia vos purificareis, a vós e a vossos c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ga os filhos de Israel dos midianitas; depois recolhido serás ao t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purificareis toda a roupa, e toda a obra de peles, e toda a obra de pêlos de cabras, e todo o utensílio de mad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azar, o sacerdote, aos homens da guerra, que foram à peleja: Este é o estatuto da lei que o SENHOR ordenou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o ouro, e a prata, o cobre, o ferro, o estanho, e o chumb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oisa que pode resistir ao fogo, fareis passar pelo fogo, para que fique limpa, todavia se purificará com a água da purificação; mas tudo que não pode resistir ao fogo, fareis passar pel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avareis as vossas roupas ao sétimo dia, para que fiqueis limpos; e depois entrareis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a soma da presa que foi tomada, de homens e de animais, tu e Eleazar, o sacerdote, e os cabeças das casas dos pais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vide a presa em duas metades, entre os que se armaram para a peleja, e saíram à guerra, e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a o SENHOR tomarás o tributo dos homens de guerra, que saíram a esta peleja, de cada quinhentos uma alma, dos homens, e dos bois, e dos jumentos e d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sua metade o tomareis, e o dareis ao sacerdote Eleazar, para a oferta alçad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Moisés ao povo, dizendo: Armem-se alguns de vós para a guerra, e saiam contra os midianitas, para fazerem a vingança do SENHOR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a metade dos filhos de Israel, tomarás um de cada cinqüenta, um dos homens, dos bois, dos jumentos, e das ovelhas, e de todos os animais; e os darás aos levitas que têm cuidado da guarda do tabernácul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 Moisés e Eleazar, o sacerdot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a presa, restante do despojo que tomaram os homens de guerra, seiscentas e setenta e cinco mil ove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tenta e dois mil bo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ssenta e um mil ju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s mulheres que não conheceram homem algum, deitando-se com ele, todas as almas foram trinta e duas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tade, que era a porção dos que saíram à guerra, foi em número de trezentas e trinta e sete mil e quinhent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s ovelhas, o tributo para o SENHOR foi de seiscentas e set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bois trinta e seis mil; e o seu tributo para o SENHOR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jumentos trinta mil e quinhentos; e o seu tributo para o SENHOR sessenta e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l de cada tribo, entre todas as tribos de Israel, enviareis à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de pessoas dezesseis mil; e o seu tributo para o SENHOR trinta e duas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Moisés a Eleazar, o sacerdote, o tributo da oferta alçada do SENH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tade dos filhos de Israel que Moisés separara da dos homens que pelej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A metade para a congregação foi, das ovelhas, trezentas e trinta e sete mil e quinhen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bois trinta e seis mi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jumentos trinta mil e quinh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s pessoas humanas dezesseis mil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a metade dos filhos de Israel, Moisés tomou um de cada cinqüenta, de homens e de animais, e os deu aos levitas, que tinham cuidado da guarda do tabernáculo do SENH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-se a Moisés os oficiais que estavam sobre os milhares do exército, os chefes de mil e os chefes de c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a Moisés: Teus servos tomaram a soma dos homens de guerra que estiveram sob as nossas ordens; e não falta nenhum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ram dados, dos milhares de Israel, mil de cada tribo; doze mil armados para 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rouxemos uma oferta ao SENHOR, cada um o que achou, objetos de ouro, cadeias, ou manilhas, anéis, arrecadas, e colares, para fazer expiação pelas nossas almas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isés e Eleazar, o sacerdote, receberam deles o ouro, sendo todos os objetos bem trabal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todo o ouro da oferta alçada, que ofereceram ao SENHOR, dezesseis mil e setecentos e cinqüenta siclos, dos chefes de mil e dos chefes de c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is cada um dos homens de guerra, tinha tomado presa para si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ram, pois, Moisés e Eleazar, o sacerdote, o ouro dos chefes de mil e dos chefes de cem, e o levaram à tenda da congregação, por memorial para os filhos de Israel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os mandou à guerra, mil de cada tribo, e com eles Finéias, filho de Eleazar, o sacerdote, com os vasos do santuário, e com as trombetas do alarido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ejaram contra os midianitas, como o SENHOR ordenara a Moisés; e mataram a todos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ram também, além dos que já haviam sido mortos, os reis dos midianitas: a Evi, e a Requém, e a Zur, e a Hur, e a Reba, cinco reis dos midianitas; também a Balaão, filho de Beor, mataram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os filhos de Israel levaram presas as mulheres dos midianitas e as suas crianças; também levaram todos os seus animais e todo o seu gado, e todos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0:02Z</dcterms:created>
  <dc:creator>Admin</dc:creator>
  <dc:description/>
  <dc:language>en-US</dc:language>
  <cp:lastModifiedBy>Admin</cp:lastModifiedBy>
  <dcterms:modified xsi:type="dcterms:W3CDTF">2008-07-31T00:20:02Z</dcterms:modified>
  <cp:revision>1</cp:revision>
  <dc:subject/>
  <dc:title>Slide 1</dc:title>
</cp:coreProperties>
</file>