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F8E-CBAD-4C65-96C1-3A2B6AE2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CD8-5A81-4EE3-9800-735297C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E38-B662-4A2D-9081-AF63C544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78C-05FC-4544-9A40-F34ABD16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F0C-6C9F-4474-ACBB-72BB99DB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188-B993-42F7-ACB8-0009484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E2B-80E5-4CC7-B468-95EC603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78D-37E3-4BA8-BD5C-D176B86D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465-F29F-439A-8EBD-5EB9F2E8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BFD-D3DD-487A-B0FE-0FA543FC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D15-06FF-4D9C-9F13-6AFBA5CE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D0D-5C6A-4780-A249-2EA7649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1977-FEC7-4416-A9D1-6EFCFF4C012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o deserto do mar. Como os tufões de vento do sul, que tudo assolam, ele virá do deserto, de uma terra horr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, malhada minha, e trigo da minha eira! O que ouvi do SENHOR dos Exércitos, Deus de Israel, isso vos anunci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e Dumá. Gritam-me de Seir: Guarda, que houve de noite? Guarda, que houve de noi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guarda: Vem a manhã, e também a noite; se quereis perguntar, perguntai; voltai, vi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contra Arábia. Nos bosques da Arábia passareis a noite, ó viandantes de Dedan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 com água ao encontro dos sedentos; moradores da terra de Tema, saí com pão ao encontro dos fugi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gem de diante das espadas, de diante da espada desembainhada, e de diante do arco armado, e de diante do peso d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me disse o Senhor: Dentro de um ano, como os anos de jornaleiro, desaparecerá toda a glória de Que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restantes do número dos flecheiros, os poderosos dos filhos de Quedar, serão diminuídos, porque assim disse 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ura visão me foi anunciada: o pérfido trata perfidamente, e o destruidor anda destruindo. Sobe, ó Elão, sitia, ó Média, que já fiz cessar todo o seu ge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meus lombos estão cheios de angústia; dores se apoderam de mim como as dores daquela que dá à luz; fiquei abatido quando ouvi, e desanimado vendo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oração se agita, o horror apavora-me; a noite que desejava, se me tornou em t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m-se a mesa, estão de atalaia, comem, bebem; levantai-vos, príncipes, e untai o esc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me disse o Senhor: Vai, põe uma sentinela, e ela que diga o qu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vir um carro com um par de cavaleiros, um carro com jumentos, e um carro com camelos, ela que observe atentamente com grande cui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ou: Um leão, meu Senhor! Sobre a torre de vigia estou em pé continuamente de dia, e de guarda me ponho noites int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agora vem um carro com homens, e um par de cavaleiros. Então respondeu e disse: Caída é Babilônia, caída é! E todas as imagens de escultura dos seus deuses quebraram-se no ch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14Z</dcterms:created>
  <dc:creator>Admin</dc:creator>
  <dc:description/>
  <dc:language>en-US</dc:language>
  <cp:lastModifiedBy>Admin</cp:lastModifiedBy>
  <dcterms:modified xsi:type="dcterms:W3CDTF">2008-07-30T23:55:14Z</dcterms:modified>
  <cp:revision>1</cp:revision>
  <dc:subject/>
  <dc:title>Slide 1</dc:title>
</cp:coreProperties>
</file>