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14F-A253-41B2-B595-68B426C3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975-FA74-43C1-AA2D-154589F9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B4E-C647-4021-9637-0916A555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2A3-5F63-40A4-9B02-2F6D3309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ABC-9645-49AC-9741-B7643E99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045-47D8-4C61-B44E-E02C30C8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A3E-5D09-45B8-B685-045F3DB2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18E-9C66-459D-B875-4B20B320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485-FB97-4A1A-A1D5-404DBBAC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C96-07D9-434C-9613-71032841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679-9660-4630-9686-C9CF1FFB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FA3-5625-4740-A01A-430D5C2E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49B7-717D-4274-BC82-801464424FB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. Bem-aventurado o homem que teme ao SENHOR, que em seus mandamentos tem grande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ímpio o verá, e se entristecerá; rangerá os dentes, e se consumirá; o desejo dos ímpios pe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semente será poderosa na terra; a geração dos retos será abenço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speridade e riquezas haverá na sua casa, e a sua justiça permanec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justos nasce luz nas trevas; ele é piedoso, misericordioso e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bom se compadece, e empresta; disporá as suas coisas com juíz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unca será abalado; o justo estará em memóri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erá maus rumores; o seu coração está firme, confiando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coração está bem confirmado, ele não temerá, até que veja o seu desejo sobre os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espalhou, deu aos necessitados; a sua justiça permanece para sempre, e a sua força se exaltará em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45Z</dcterms:created>
  <dc:creator>Admin</dc:creator>
  <dc:description/>
  <dc:language>en-US</dc:language>
  <cp:lastModifiedBy>Admin</cp:lastModifiedBy>
  <dcterms:modified xsi:type="dcterms:W3CDTF">2008-07-31T00:27:45Z</dcterms:modified>
  <cp:revision>1</cp:revision>
  <dc:subject/>
  <dc:title>Slide 1</dc:title>
</cp:coreProperties>
</file>