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242-EC79-4EAF-BE14-5C26BCBE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EF8-C6E4-41AD-8E3E-7F1DEF97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C70-CB18-42C8-A763-420B59F0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4EC-73DA-4892-ACD3-8692BE49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1DB-75E4-4B6A-A247-20B0D9D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8AF-81E8-42A9-8036-9ED8273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BA9-97C6-45A1-B5A9-26BE7FD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830-B1D5-4157-9A25-B02A35B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798-7412-4E46-BF55-200397B9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891-FC07-46D7-957C-B6B6ECA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C28-918F-4C8F-AABB-6E28A44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27B-3E58-4774-AB66-4B1E10CB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E491-7FD2-4DC8-990E-89BA64FD37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isitou a Sara, como tinha dito; e fez o SENHOR a Sara como tinha promet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Abraão: Ponha fora esta serva e o seu filho; porque o filho desta serva não herdará com Isaque, m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eceu esta palavra muito má aos olhos de Abraão, por causa de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Deus disse a Abraão: Não te pareça mal aos teus olhos acerca do moço e acerca da tua serva; em tudo o que Sara te diz, ouve a sua voz; porque em Isaque será chamada 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do filho desta serva farei uma nação, porquanto é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e levantou Abraão pela manhã de madrugada, e tomou pão e um odre de água e os deu a Agar, pondo-os sobre o seu ombro; também lhe deu o menino e despediu-a; e ela partiu, andando errante no deserto de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sumida a água do odre, lançou o menino debaixo de uma das ár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ssentar-se em frente, afastando-se à distância de um tiro de arco; porque dizia: Que eu não veja morrer o menino. E assentou-se em frente, e levantou a sua voz, e chor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u Deus a voz do menino, e bradou o anjo de Deus a Agar desde os céus, e disse-lhe: Que tens, Agar? Não temas, porque Deus ouviu a voz do menino desde o lugar onde est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gue-te, levanta o menino e pega-lhe pela mão, porque dele farei uma grande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iu-lhe Deus os olhos, e viu um poço de água; e foi encher o odre de água, e deu de beber ao men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u Sara, e deu a Abraão um filho na sua velhice, ao tempo determinado, que Deus lhe tinha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Deus com o menino, que cresceu; e habitou no deserto, e foi flec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ou no deserto de Parã; e sua mãe tomou-lhe mulher da terra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aquele mesmo tempo que Abimeleque, com Ficol, príncipe do seu exército, falou com Abraão, dizendo: Deus é contigo em tudo o que faz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jura-me aqui por Deus, que não mentirás a mim, nem a meu filho, nem a meu neto; segundo a beneficência que te fiz, me farás a mim, e à terra onde peregrin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: Eu ju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aão, porém, repreendeu a Abimeleque por causa de um poço de água, que os servos de Abimeleque haviam tomado à for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imeleque: Eu não sei quem fez isto; e também tu não mo fizeste saber, nem eu o ouvi senão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braão ovelhas e vacas, e deu-as a Abimeleque; e fizeram ambos um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ôs Abraão, porém, à parte sete cordeiras do reba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imeleque disse a Abraão: Para que estão aqui estas sete cordeiras, que puseste à par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pôs no filho que lhe nascera, que Sara lhe dera, o nome de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Tomarás estas sete cordeiras de minha mão, para que sejam em testemunho que eu cavei este poç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chamou aquele lugar Berseba, porquanto ambos jur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izeram aliança em Berseba. Depois se levantou Abimeleque e Ficol, príncipe do seu exército, e tornaram-se para a terra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lantou um bosque em Berseba, e invocou lá o nome do SENHOR, Deus et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regrinou Abraão na terra dos filisteus muit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circuncidou o seu filho Isaque, quando era da idade de oito dias, como Deus lhe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braão da idade de cem anos, quando lhe nasceu Isaque seu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ra: Deus me tem feito riso; todo aquele que o ouvir se rirá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Quem diria a Abraão que Sara daria de mamar a filhos? Pois lhe dei um filho na sua velh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sceu o menino, e foi desmamado; então Abraão fez um grande banquete no dia em que Isaque foi desma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Sara que o filho de Agar, a egípcia, o qual tinha dado a Abraão, zomb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17Z</dcterms:created>
  <dc:creator>Admin</dc:creator>
  <dc:description/>
  <dc:language>en-US</dc:language>
  <cp:lastModifiedBy>Admin</cp:lastModifiedBy>
  <dcterms:modified xsi:type="dcterms:W3CDTF">2008-07-30T23:38:17Z</dcterms:modified>
  <cp:revision>1</cp:revision>
  <dc:subject/>
  <dc:title>Slide 1</dc:title>
</cp:coreProperties>
</file>