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32DC-E25D-49F0-9F80-0129A3C93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3FA2-928A-461B-B296-C137E07C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D2D0-2B19-42ED-BC2F-FE2A73047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7695-4584-4810-AD53-81830BD5A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FDB3-ECAF-4503-A9A3-60E684FB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42A8-55BF-4CB4-98F3-34691F88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BEA1-085A-46B8-9987-C30AF148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D566-D607-48FF-94E4-9287E8B6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00AE-3F0B-447C-B70E-6FF240B6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B471-7847-416D-95C6-025F6E32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6028-1986-4F6E-B0FF-59A3664E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C300-57BB-4D3A-8995-211CE051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1C3C-3280-4C77-9BB1-9FBF5D9C4B8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eio o Espírito de Deus sobre Azarias, filho de Ode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juntaram-se em Jerusalém no terceiro mês; no ano décimo do reinado de 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mesmo dia ofereceram em sacrifício ao SENHOR, do despojo que trouxeram, setecentos bois e sete mil ove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raram na aliança para buscarem o SENHOR Deus de seus pais, com todo o seu coração, e com toda a sua alm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que todo aquele que não buscasse ao SENHOR Deus de Israel, morresse; assim o menor como o maior, tanto o homem como a mul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uraram ao SENHOR, em alta voz, com júbilo e com trombetas e buzin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 o Judá se alegrou deste juramento; porque de todo o seu coração juraram, e de toda a sua vontade o buscaram, e o acharam; e o SENHOR lhes deu repouso ao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a Maaca, sua mãe, o rei Asa depôs, para que não fosse mais rainha, porquanto fizera um horrível ídolo, a Asera; e Asa destruiu o seu horrível ídolo, e o despedaçou, e o queimou junto ao ribeiro de Cedr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altos, porém, não foram tirados de Israel; contudo o coração de Asa foi perfeito todos os seu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rouxe, à casa de Deus, as coisas consagradas por seu pai, e as coisas que ele mesmo tinha consagrado: prata, ouro e va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houve guerra até ao ano trigésimo quinto do reinado de 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iu ao encontro de Asa, e disse-lhe: Ouvi-me, Asa, e todo o Judá e Benjamim: O SENHOR está convosco, enquanto vós estais com ele, e, se o buscardes, o achareis; porém, se o deixardes, vos deix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srael esteve por muitos dias sem o verdadeiro Deus, e sem sacerdote que o ensinasse, e sem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quando na sua angústia voltaram para o SENHOR Deus de Israel, e o buscaram, o ach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queles tempos não havia paz, nem para o que saía, nem para o que entrava, mas muitas perturbações sobre todos os habitantes daquelas ter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ação contra nação e cidade contra cidade se despeda-çavam; porque Deus os perturbara com toda a angúst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sforçai-vos, e não desfaleçam as vossas mãos; porque a vossa obra tem uma recompen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ndo, pois, Asa estas palavras, e a profecia do profeta Odede, cobrou ânimo e tirou as abominações de toda a terra, de Judá e de Benjamim, como também das cidades que tomara nas montanhas de Efraim, e renovou o altar do SENHOR, que estava diante do p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Crônicas 1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uniu a todo o Judá, e Benjamim, e com eles os estrangeiros de Efraim e Manassés, e de Simeão; porque muitos de Israel tinham passado a ele, vendo que o SENHOR seu Deus era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9:41Z</dcterms:created>
  <dc:creator>Admin</dc:creator>
  <dc:description/>
  <dc:language>en-US</dc:language>
  <cp:lastModifiedBy>Admin</cp:lastModifiedBy>
  <dcterms:modified xsi:type="dcterms:W3CDTF">2008-07-30T23:49:41Z</dcterms:modified>
  <cp:revision>1</cp:revision>
  <dc:subject/>
  <dc:title>Slide 1</dc:title>
</cp:coreProperties>
</file>