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8F3-8054-41B7-BA26-B2D53BAE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B1A-2125-47D4-B02D-F4C8C57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D81-99D2-406E-B181-19319CA3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D54-F92F-4E1B-8E6D-1C37A9D5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D89-A35E-45C9-A3A3-C592297A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850-C173-4CA2-8974-3E2E696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E4F-41A4-435E-A82E-DE980E0A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BD0-8119-4915-A5E4-3F42BAB7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D78-11B6-4BC6-AD35-43C8021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CFE-6822-495B-BEC2-5570BAA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19F-1E8D-47F5-A4D4-63F4311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AEB-4C09-47FC-A8C1-3717AAA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4816-BEB4-4C94-B38E-355A504B53B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to ao que está enfermo na fé, recebei-o, não em contendas sobre dú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por que julgas teu irmão? Ou tu, também, por que desprezas teu irmão? Pois todos havemos de comparecer ante o tribunal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escrito: Como eu vivo, diz o Senhor, que todo o joelho se dobrará a mim, E toda a língua confessará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cada um de nós dará conta de si mesm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não nos julguemos mais uns aos outros; antes seja o vosso propósito não pôr tropeço ou escândalo ao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i, e estou certo no Senhor Jesus, que nenhuma coisa é de si mesma imunda, a não ser para aquele que a tem por imunda; para esse é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por causa da comida se contrista teu irmão, já não andas conforme o amor. Não destruas por causa da tua comida aquele por quem Cristo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, pois, blasfemado o vosso b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no de Deus não é comida nem bebida, mas justiça, e paz, e alegria n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nisto serve a Cristo agradável é a Deus e aceito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gamos, pois, as coisas que servem para a paz e para a edificação de uns para com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crê que de tudo se pode comer, e outro, que é fraco, come legu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truas por causa da comida a obra de Deus. É verdade que tudo é limpo, mas mal vai para o homem que come com escând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não comer carne, nem beber vinho, nem fazer outras coisas em que teu irmão tropece, ou se escandalize, ou se enfraqu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tu fé? Tem-na em ti mesmo diante de Deus. Bem-aventurado aquele que não se condena a si mesmo naquilo que apr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que tem dúvidas, se come está condenado, porque não come por fé; e tudo o que não é de fé é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ome não despreze o que não come; e o que não come, não julgue o que come; porque Deus o recebeu por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s tu, que julgas o servo alheio? Para seu próprio SENHOR ele está em pé ou cai. Mas estará firme, porque poderoso é Deus para o fir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faz diferença entre dia e dia, mas outro julga iguais todos os dias. Cada um esteja inteiramente seguro em sua própria 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az caso do dia, para o Senhor o faz e o que não faz caso do dia para o Senhor o não faz. O que come, para o Senhor come, porque dá graças a Deus; e o que não come, para o SENHOR não come, e dá graça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nhum de nós vive para si, e nenhum morre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vivemos, para o Senhor vivemos; se morremos, para o Senhor morremos. De sorte que, ou vivamos ou morramos, som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i para isto que morreu Cristo, e ressurgiu, e tornou a viver, para ser Senhor, tanto dos mortos, como dos v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47Z</dcterms:created>
  <dc:creator>Admin</dc:creator>
  <dc:description/>
  <dc:language>en-US</dc:language>
  <cp:lastModifiedBy>Admin</cp:lastModifiedBy>
  <dcterms:modified xsi:type="dcterms:W3CDTF">2008-07-31T00:23:47Z</dcterms:modified>
  <cp:revision>1</cp:revision>
  <dc:subject/>
  <dc:title>Slide 1</dc:title>
</cp:coreProperties>
</file>