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279-C75D-40C7-B619-3E7044EF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2B8-A5E7-4FF5-80E2-EFD7426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1E6-BDEB-481E-829B-94B281D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BFA-F982-4461-8DC8-EF07C5D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0B6-0F78-4704-9C63-0437440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BD5-DB0A-4C8F-90A3-F935A62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D36-63A7-4CE8-8741-512B549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6B5-7622-4238-BD02-10173DA1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44A-232C-4777-951E-3CBD98DF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7FD-D9F6-483C-AC92-39F4AC8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208-D3E5-4137-A8BF-C2EA399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1B2-74D7-4A0F-BB71-8107495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93D-2CF3-4CC9-A891-8E8CEEACBC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também as vestes do ministério, para ministrar no santuário, de azul, e de púrpura e de carmesim; também fizeram as vestes santas, para Arão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gastaram nele quatro ordens de pedras; uma ordem de um sárdio, de um topázio, e de um carbúnculo; esta era a primeira ord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gunda ordem de uma esmeralda, de uma safira e de um diama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ceira ordem de um jacinto, de uma ágata, e de uma ameti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arta ordem de um berilo, e de um ônix, e de um jaspe, engastadas em engaste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pedras, pois, eram segundo os nomes dos filhos de Israel, doze segundo os seus nomes; como gravuras de selo, cada uma com o seu nome, segundo as doze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izeram para o peitoral cadeiazinhas de igual medida, obra de ouro puro tranç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dois engastes de ouro e duas argolas de ouro; e puseram as duas argolas nas duas extremidades do peitor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s duas cadeiazinhas de trança de ouro nas duas argolas, nas duas extremidades do peitor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outras duas pontas das duas cadeiazinhas de trança puseram nos dois engastes; e as puseram sobre as ombreiras do éfode na fre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também duas argolas de ouro, que puseram nas duas extremidades do peitoral, na sua borda que estava junto ao éfode por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fez o éfode de ouro, de azul, e de púrpura, e de carmesim e de linho fino tor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mais duas argolas de ouro, que puseram nas duas ombreiras do éfode, abaixo, na frente dele, perto da sua juntura, sobre o cinto de obra esmerada do éf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garam o peitoral com as suas argolas às argolas do éfode com um cordão de azul, para que estivesse sobre o cinto de obra esmerada do éfode, e o peitoral não se separasse do éfode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se o manto do éfode de obra tecida, todo de az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bertura do manto estava no meio dele, como abertura de cota de malha; esta abertura tinha uma borda em volta, para que se não romp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 bordas do manto fizeram romãs de azul, e de púrpura, e de carmesim, de fio tor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também as campainhas de ouro puro, pondo as campainhas no meio das romãs nas bordas do manto, ao redor, entre as romã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ampainha e uma romã, outra campainha e outra romã, nas bordas do manto ao redor; para ministra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também as túnicas de linho fino, de obra tecida, para Arão e para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tra de linho fino, e o ornato das tiaras de linho fino, e os calções de linho fino torc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into de linho fino torcido, e de azul, e de púrpura, e de carmesim, obra de bordado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ram as lâminas de ouro, e as cortaram em fios, para tecê-los entre o azul, e entre a púrpura, e entre o carmesim, e entre o linho fino com trabalho esme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também, de ouro puro, a lâmina da coroa de santidade, e nela escreveram o escrito como de gravura de selo: SANTIDAD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aram-na com um cordão de azul, para prendê-la à parte superior da mitra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acabou toda a obra do tabernáculo da tenda da congregação; e os filhos de Israel fizeram conforme a tudo o que o SENHOR ordenara a Moisés; assim o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rouxeram a Moisés o tabernáculo, a tenda e todos os seus pertences; os seus colchetes, as suas tábuas, os seus varais, e as suas colunas, e as suas bas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bertura de peles de carneiro tintas de vermelho, e a cobertura de peles de texugos, e o véu de cobert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rca do testemunho, e os seus varais, e o propiciató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esa com todos os seus pertences, e os pães da propos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ndelabro puro com suas lâmpadas, as lâmpadas em ordem, e todos os seus pertences, e o azeite para a luminá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altar de ouro, e o azeite da unção, e o incenso aromático, e a cortina da porta da te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ltar de cobre, e o seu crivo de cobre, os seus varais, e todos os seus pertences, a pia, e a sua ba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-lhe ombreiras que se ajuntavam; e uniam-se em suas duas po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ortinas do pátio, as suas colunas, e as suas bases, e a cortina da porta do pátio, as suas cordas, e os seus pregos, e todos os utensílios do serviço do tabernáculo, para a tenda da congreg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estes do ministério para ministrar no santuário; as santas vestes de Arão o sacerdote, e as vestes dos seus filhos, para administrarem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tudo o que o SENHOR ordenara a Moisés, assim fizeram os filhos de Israel toda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u, pois, Moisés toda a obra, e eis que a tinham feito; como o SENHOR ordenara, assim a fizeram; então Moisés os aben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into de obra esmerada do éfode, que estava sobre ele, formava com ele uma só peça e era de obra semelhante, de ouro, de azul, e de púrpura, e de carmesim, e de linho fino torcido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repararam as pedras de ônix, engastadas em ouro, lavradas com gravuras de um selo, com os nome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ôs sobre as ombreiras do éfode por pedras de memória para os filhos de Israel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-se também o peitoral de obra de artífice, como a obra do éfode, de ouro, de azul, e de púrpura, e de carmesim, e de linho fino tor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drado era; duplo fizeram o peitoral; o seu comprimento era de um palmo, e a sua largura de um palmo dob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36Z</dcterms:created>
  <dc:creator>Admin</dc:creator>
  <dc:description/>
  <dc:language>en-US</dc:language>
  <cp:lastModifiedBy>Admin</cp:lastModifiedBy>
  <dcterms:modified xsi:type="dcterms:W3CDTF">2008-07-30T23:33:36Z</dcterms:modified>
  <cp:revision>1</cp:revision>
  <dc:subject/>
  <dc:title>Slide 1</dc:title>
</cp:coreProperties>
</file>