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8421-1ECD-40D1-B232-4C8E3245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B3C7-C9EE-4C2A-8B4C-4A1B2AF2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0FA4-F0C4-4D5C-82B2-38DB8EDD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05B4-AFFB-43F7-B6A6-D6D7645F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FB49-06C2-48D8-96C0-294635E5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9011-FB09-4099-9517-E7FD0EF0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66CB-22CF-4826-B01A-7B819667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A101-8189-4BD1-95A0-77A5775C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6BA3-6BC1-4B9F-B326-FA8A2A21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C6CA-75AC-4D41-87A7-8A20B9CB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AE95-9572-4E7B-91CC-686777EB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053C-5BFC-4D7C-B66B-E06E6D71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B706-A2E1-4B12-94E5-6662183E9DB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tendo Samuel envelhecido, constituiu a seus filhos por juízes sobr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Samuel todas as palavras do SENHOR ao povo, que lhe pedia um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Este será o costume do rei que houver de reinar sobre vós; ele tomará os vossos filhos, e os empregará nos seus carros, e como seus cavaleiros, para que corram adiante dos seus car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porá por chefes de mil, e de cinqüenta; e para que lavrem a sua lavoura, e façam a sua sega, e fabriquem as suas armas de guerra e os petrechos de seus car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rá as vossas filhas para perfumistas, cozinheiras e pade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rá o melhor das vossas terras, e das vossas vinhas, e dos vossos olivais, e os dará aos seus ser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vossas sementes, e as vossas vinhas dizimará, para dar aos seus oficiais, e aos seus ser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s vossos servos, e as vossas servas, e os vossos melhores moços, e os vossos jumentos tomará, e os empregará no seu traba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imará o vosso rebanho, e vós lhe servireis de ser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naquele dia clamareis por causa do vosso rei, que vós houverdes escolhido; mas o SENHOR não vos ouvirá naquele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povo não quis ouvir a voz de Samuel; e disseram: Não, mas haverá sobre nós um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nome do seu filho primogênito era Joel, e o nome do seu segundo, Abia; e foram juízes em Berseb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ós também seremos como todas as outras nações; e o nosso rei nos julgará, e sairá adiante de nós, e fará as nossas guer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, pois, Samuel todas as palavras do povo, as repetiu aos ouvidos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disse a Samuel: Dá ouvidos à sua voz, e constitui-lhes rei. Então Samuel disse aos homens de Israel: Volte cada um à su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eus filhos não andaram pelos caminhos dele, antes se inclinaram à avareza, e aceitaram suborno, e perverteram o dir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os os anciãos de Israel se congregaram, e vieram a Samuel, a Ramá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-lhe: Eis que já estás velho, e teus filhos não andam pelos teus caminhos; constitui-nos, pois, agora um rei sobre nós, para que ele nos julgue, como o têm todas as 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sta palavra pareceu mal aos olhos de Samuel, quando disseram: Dá-nos um rei, para que nos julgue. E Samuel orou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 a Samuel: Ouve a voz do povo em tudo quanto te dizem, pois não te têm rejeitado a ti, antes a mim me têm rejeitado, para eu não reinar sob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orme a todas as obras que fizeram desde o dia em que os tirei do Egito até ao dia de hoje, a mim me deixaram, e a outros deuses serviram, assim também fazem 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ouve à sua voz, porém protesta-lhes solenemente, e declara-lhes qual será o costume do rei que houver de reinar sob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6:39Z</dcterms:created>
  <dc:creator>Admin</dc:creator>
  <dc:description/>
  <dc:language>en-US</dc:language>
  <cp:lastModifiedBy>Admin</cp:lastModifiedBy>
  <dcterms:modified xsi:type="dcterms:W3CDTF">2008-07-30T23:46:39Z</dcterms:modified>
  <cp:revision>1</cp:revision>
  <dc:subject/>
  <dc:title>Slide 1</dc:title>
</cp:coreProperties>
</file>