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E64-D29B-4790-8411-362F056E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76C-2CDC-435E-B1E6-3FB33C5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7BA-DE50-4B0D-9564-71E20A82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FED-A8AA-4AD6-B234-B75086FC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FE4-23D7-425B-B175-975DB72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7A2-C461-4D06-85E1-8C67DA4C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8FC-BD51-4676-93CF-F5FC5306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E5A-9C9E-4F5C-9F2F-B35E9E30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65D-4BB3-4E2F-94A6-C1A4D0C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ADF-8037-4F22-9255-E7F0629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869-D74C-4ED0-AB23-D030938C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9E5-7EDB-42FC-9531-FB234EAF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28B9-E66F-4CF6-BF26-544327B7AFC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Jericó estava rigorosamente fechada por causa dos filhos de Israel; ninguém saía nem ent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o povo Josué tinha dado ordem, dizendo: Não gritareis, nem fareis ouvir a vossa voz, nem sairá palavra alguma da vossa boca até ao dia que eu vos diga: Gritai. Então grit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a arca do SENHOR rodear a cidade, contornando-a uma vez; e entraram no arraial, e ali passaram 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Josué se levantou de madrugada, e os sacerdotes levaram a arc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te sacerdotes, que levavam as sete buzinas de chifres de carneiros, adiante da arca do SENHOR, iam andando, e tocavam as buzinas, e os homens armados iam adiante deles e a retaguarda seguia atrás da arca do SENHOR; os sacerdotes iam andando e to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rodearam outra vez a cidade no segundo dia e voltaram para o arraial; e assim fizeram sei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o sétimo dia, madrugaram ao subir da alva, e da mesma maneira rodearam a cidade sete vezes; naquele dia somente rodearam a cidade sete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tocando os sacerdotes pela sétima vez as buzinas, disse Josué ao povo: Gritai, porque o SENHOR vos tem dado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cidade será anátema ao SENHOR, ela e tudo quanto houver nela; somente a prostituta Raabe viverá; ela e todos os que com ela estiverem em casa; porquanto escondeu os mensageiros que envi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guardai-vos do anátema, para que não toqueis nem tomeis alguma coisa dele, e assim façais maldito o arraial de Israel, e o perturb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oda a prata, e o ouro, e os vasos de metal, e de ferro são consagrados ao SENHOR; irão ao tesour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Josué: Olha, tenho dado na tua mão a Jericó, ao seu rei e aos seus homens valo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itou, pois, o povo, tocando os sacerdotes as buzinas; e sucedeu que, ouvindo o povo o sonido da buzina, gritou o povo com grande brado; e o muro caiu abaixo, e o povo subiu à cidade, cada um em frente de si, e tomaram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quanto havia na cidade destruíram totalmente ao fio da espada, desde o homem até à mulher, desde o menino até ao velho, e até ao boi e gado miúdo, e ao ju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ué, porém, disse aos dois homens que tinham espiado a terra: Entrai na casa da mulher prostituta, e tirai-a de lá com tudo quanto tiver, como lhe tendes ju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aram os jovens espias, e tiraram a Raabe e a seu pai, e a sua mãe, e a seus irmãos, e a tudo quanto tinha; tiraram também a toda a sua parentela, e os puseram fora do arraial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cidade e tudo quanto havia nela queimaram a fogo; tão-somente a prata, e o ouro, e os vasos de metal e de ferro, deram para o tesouro d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u Josué vida à prostituta Raabe e à família de seu pai, e a tudo quanto tinha; e habitou no meio de Israel até ao dia de hoje; porquanto escondera os mensageiros que Josué tinha enviado a espiar a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tempo Josué os esconjurou, dizendo: Maldito diante do SENHOR seja o homem que se levantar e reedificar esta cidade de Jericó; sobre seu primogênito a fundará, e sobre o seu filho mais novo lhe porá 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ra o SENHOR com Josué; e corria a sua fama por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ois, todos os homens de guerra, rodeareis a cidade, cercando-a uma vez; assim fareis por sei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te sacerdotes levarão sete buzinas de chifres de carneiros adiante da arca, e no sétimo dia rodeareis a cidade sete vezes, e os sacerdotes tocarão as buz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tocando-se prolongadamente a buzina de carneiro, ouvindo vós o seu sonido, todo o povo gritará com grande brado; e o muro da cidade cairá abaixo, e o povo subirá por ele, cada um em fr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, filho de Num, chamou aos sacerdotes e disse-lhes: Levai a arca da aliança; e sete sacerdotes levem sete buzinas de chifres de carneiros, adiante da arc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povo: Passai e rodeai a cidade; e quem estiver armado, passe adiante da arc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foi que, como Josué dissera ao povo, os sete sacerdotes, levando as sete buzinas de carneiros diante do SENHOR, passaram e tocaram as buzinas; e a arca da aliança do SENHOR os seg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armados iam adiante dos sacerdotes, que tocavam as buzinas; e a retaguarda seguia após a arca; andando e tocando as buzinas iam os sacerdo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5:02Z</dcterms:created>
  <dc:creator>Admin</dc:creator>
  <dc:description/>
  <dc:language>en-US</dc:language>
  <cp:lastModifiedBy>Admin</cp:lastModifiedBy>
  <dcterms:modified xsi:type="dcterms:W3CDTF">2008-07-31T00:05:02Z</dcterms:modified>
  <cp:revision>1</cp:revision>
  <dc:subject/>
  <dc:title>Slide 1</dc:title>
</cp:coreProperties>
</file>