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6A1-4262-43EF-AB54-CC3A51C0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05C2-BEF8-46FD-BA67-A169927E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572-6092-4A94-9F5E-19A3A447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2C45-62E5-4370-BB2A-5C6CF024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6F0-526F-46A8-80E6-54902710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A645-4584-4FA4-ABB8-2A7CFAD2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2054-3572-4F91-95EF-0AC5F043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7C1B-7876-4481-9555-15B99870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25AA-0F14-4E2F-9216-5F14C04F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08A0-ED10-4F37-AFB9-6B560317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B554-F036-45FC-AA34-7722562C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1D7D-9D53-4694-B332-468897A0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1554-84BB-4AC9-827B-19D61883D06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Eis que levantarei um vento destruidor contra Babilônia, e contra os que habitam no meio dos que se levantam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trouxe a nossa justiça à luz; vinde e contemos em Sião a obra do SENHOR,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uçai as flechas, preparai os escudos; o SENHOR despertou o espírito dos reis da Média; porque o seu intento é contra Babilônia para a destruir; porque esta é a vingança do SENHOR, a vingança do seu temp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rvorai um estandarte sobre os muros de Babilônia, reforçai a guarda, colocai sentinelas, preparai as ciladas; porque como o SENHOR intentou, assim fez o que tinha falado contra os moradores de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tu, que habitas sobre muitas águas, rica de tesouros, é chegado o teu fim, a medida da tua avar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rou o SENHOR dos Exércitos por si mesmo, dizendo: Ainda que te enchi de homens, como de lagarta, contudo levantarão gritaria cont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fez a terra com o seu poder, e ordenou o mundo com a sua sabedoria, e estendeu os céus com o seu entend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ndo ele ouvir a sua voz, grande estrondo de águas há nos céus, e faz subir os vapores desde o fim da terra; faz os relâmpagos com a chuva, e tira o vento dos seus tesour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brutecido é todo o homem, no seu conhecimento; envergonha-se todo o artífice da imagem de escultura; porque a sua imagem de fundição é mentira, e nelas não há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idade são, obra de enganos; no tempo da sua visitação perec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é semelhante a estes a porção de Jacó; porque ele é o que formou tudo; e Israel é a tribo da sua herança; o SENHOR dos Exércitos é 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arei padejadores contra Babilônia, que a padejarão, e despejarão a sua terra; porque virão contra ela em redor no dia da calam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és meu machado de batalha e minhas armas de guerra, e por meio de ti despedaçarei as nações e por ti destruirei os re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meio de ti despedaçarei o cavalo e o seu cavaleiro; e por meio de ti despedaçarei o carro e o que nele va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meio de ti despedaçarei o homem e a mulher, e por meio de ti despedaçarei o velho e o moço, e por meio de ti despedaçarei o jovem e a virg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meio de ti despedaçarei o pastor e o seu rebanho, e por meio de ti despedaçarei o lavrador e a sua junta de bois, e por meio de ti despedaçarei os capitães e os magistr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garei a Babilônia, e a todos os moradores da Caldéia, toda a maldade que fizeram em Sião, aos vossos olhos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-me aqui contra ti, ó monte destruidor, diz o SENHOR, que destróis toda a terra; e estenderei a minha mão contra ti, e te revolverei das rochas, e farei de ti um monte de quei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tomarão de ti pedra para esquina, nem pedra para fundamentos, porque te tornarás em assolação perpétua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rvorai um estandarte na terra, tocai a buzina entre as nações, preparai as nações contra ela, convocai contra ela os reinos de Ararate, Mini, e Asquenaz; ordenai contra ela um capitão, fazei subir cavalos, como lagartas eriç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eparai contra ela as nações, os reis da Média, os seus capitães, e todos os seus magistrados, e toda a terra do seu domín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remerá a terra, e doer-se-á, porque cada um dos desígnios do SENHOR está firme contra Babilônia, para fazer da terra de Babilônia uma desolação, sem habita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flecheiro arme o seu arco contra o que arma o seu arco, e contra o que se exalta na sua couraça; e não perdoeis aos seus jovens; destruí a todo o seu exérc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poderosos de Babilônia cessaram de pelejar, ficaram nas fortalezas, desfaleceu a sua força, tornaram-se como mulheres; incendiaram as suas moradas, quebrados foram os seus ferr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correio correrá ao encontro de outro correio, e um mensageiro ao encontro de outro mensageiro, para anunciar ao rei de Babilônia que a sua cidade está tomada de todos os l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vaus estão ocupados, e os canaviais queimados a fogo; e os homens de guerra ficaram assombr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dos Exércitos, o Deus de Israel: A filha de Babilônia é como uma eira, no tempo da debulha; ainda um pouco, e o tempo da sega lhe v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bucodonosor, rei de Babilônia, devorou-me, colocou-me de lado, fez de mim um vaso vazio, como chacal me tragou, encheu o seu ventre das minhas delicadezas; lançou-me f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iolência que se fez a mim e à minha carne venha sobre Babilônia, dirá a moradora de Sião; e o meu sangue caia sobre os moradores da Caldéia, dirá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assim diz o SENHOR: Eis que pleitearei a tua causa, e tomarei vingança por ti; e secarei o seu mar, e farei que se esgote o seu mananc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abilônia se tornará em montões, morada de chacais, espanto e assobio, sem que haja quem nela hab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ntamente rugirão como filhos dos leões; bramarão como filhotes de le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ndo eles excitados, lhes darei a sua bebida, e os embriagarei, para que andem saltando; porém dormirão um perpétuo sono, e não acordarão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mortos cairão na terra dos caldeus, e atravessados nas suas r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á-los-ei descer como cordeiros à matança, como carneiros e bo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foi tomada Sesaque, e apanhada de surpresa a glória de toda a terra! Como se tornou Babilônia objeto de espanto entre as naçõe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ar subiu sobre Babilônia; com a multidão das suas ondas se cobr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naram-se as suas cidades em desolação, terra seca e deserta, terra em que ninguém habita, nem passa por ela filho de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stigarei a Bel em Babilônia, e tirarei da sua boca o que tragou, e nunca mais concorrerão a ele as nações; também o muro de Babilônia ca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í do meio dela, ó povo meu, e livrai cada um a sua alma do ardor da ir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que porventura não se enterneça o vosso coração, e não temais pelo rumor que se ouvir na terra; porque virá num ano um rumor, e depois noutro ano outro rumor; e haverá violência na terra, dominador contra domin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eis que vêm dias, em que farei juízo sobre as imagens de escultura de Babilônia, e toda a sua terra será envergonhada, e todos os seus mortos cairão no meio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céus e a terra, com tudo quanto neles há, jubilarão sobre Babilônia; porque do norte lhe virão os destruidores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Babilônia fez cair mortos os de Israel, assim em Babilônia cairão os mortos de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Israel e Judá não foram abandonados do seu Deus, do SENHOR dos Exércitos, ainda que a sua terra esteja cheia de culpas contra o Santo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que escapastes da espada, ide-vos, não pareis; de longe lembrai-vos do SENHOR, e suba Jerusalém a vossa 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reis: Envergonhados estamos, porque ouvimos opróbrio; vergonha cobriu o nosso rosto, porquanto vieram estrangeiros contra os santuários d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eis que vêm dias, diz o SENHOR, em que farei juízo sobre as suas imagens de escultura; e gemerão os feridos em toda a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Babilônia subisse aos céus, e ainda que fortificasse a altura da sua fortaleza, todavia de mim virão destruidores sobre ela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Babilônia se ouve clamor de grande destruição da terra dos cal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tem destruído Babilônia, e tem feito perecer nela a sua grande voz; quando as suas ondas bramam como muitas águas, é emitido o ruído da sua vo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destruidor vem sobre ela, sobre Babilônia, e os seus poderosos serão presos, já estão quebrados os seus arcos; porque o SENHOR, Deus das recompensas, certamente lhe retribu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briagarei os seus príncipes, e os seus sábios e os seus capitães, e os seus magistrados, e os seus poderosos; e dormirão um sono eterno, e não acordarão, diz o Rei, cujo nome é 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5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: Os largos muros de Babilônia serão totalmente derrubados, e as suas altas portas serão abrasadas pelo fogo; e trabalharão os povos em vão, e as nações no fogo, e eles se cans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5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alavra que Jeremias, o profeta, mandou a Seraías, filho de Nerias, filho de Maaséias, indo ele com Zedequias, rei de Judá, a Babilônia, no quarto ano do seu reinado. E Seraías era o camareiro-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ugi do meio de Babilônia, e livrai cada um a sua alma, e não vos destruais na sua maldade; porque este é o tempo da vingança do SENHOR; que lhe dará a sua recompen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6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reveu, pois, Jeremias num livro todo o mal que havia de vir sobre Babilônia, a saber, todas estas palavras que estavam escritas contra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6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Jeremias a Seraías: Quando chegares a Babilônia, verás e lerás todas est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6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ás: SENHOR, tu falaste contra este lugar, que o havias de desarraigar, até não ficar nele morador algum, nem homem nem animal, e que se tornaria em perpétua desol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6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, acabando tu de ler este livro, atar-lhe-ás uma pedra e lançá-lo-ás no meio do Eufra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6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ás: Assim será afundada Babilônia, e não se levantará, por causa do mal que eu hei de trazer sobre ela; e eles se cansarão. Até aqui são as palavras de Jerem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abilônia era um copo de ouro na mão do SENHOR, o qual embriagava a toda a terra; do seu vinho beberam as nações; por isso as nações enlouquec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um momento caiu Babilônia, e ficou arruinada; lamentai por ela, tomai bálsamo para a sua dor, porventura sar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ríamos curar Babilônia, porém ela não sarou; deixai-a, e vamo-nos cada um para a sua terra; porque o seu juízo chegou até ao céu, e se elevou até às mais altas nuv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0:13Z</dcterms:created>
  <dc:creator>Admin</dc:creator>
  <dc:description/>
  <dc:language>en-US</dc:language>
  <cp:lastModifiedBy>Admin</cp:lastModifiedBy>
  <dcterms:modified xsi:type="dcterms:W3CDTF">2008-07-31T00:00:13Z</dcterms:modified>
  <cp:revision>1</cp:revision>
  <dc:subject/>
  <dc:title>Slide 1</dc:title>
</cp:coreProperties>
</file>