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5B2-24FF-4141-A015-FE80EB9D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689-30FE-4EBE-8CB8-80A66C9A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199-5D4F-4330-A3F7-55961DD8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EA8-5EA1-4E8E-9631-41EAF84F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637-4222-4F9A-BC81-BD3DC13E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7C2-17FB-406D-9861-52B8E432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98B-E8FC-496C-BD65-D1FD3E88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EB2-EA2B-4F68-A05A-BB673E81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23F-380E-433D-87E0-BDB4BACF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C56-720F-4A67-9CE3-B2A87CD9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D5A-117B-4192-B396-02872869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A81-9EC6-422E-8FEC-27EF7050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3AF0-5D62-4DB1-8BDC-1829593EB74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GREGAI-VOS, sim, congregai-vos, ó nação não desejável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Isso terão em recompensa da sua soberba, porque escarneceram, e se engrandeceram contra o povo d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será terrível para eles, porque emagrecerá todos os deuses da terra; e todos virão adorá-lo, cada um desde o seu lugar, de todas as ilhas dos gent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ós, ó etíopes, sereis mortos com a minha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erá também a sua mão contra o norte, e destruirá a Assíria; e fará de Nínive uma desolação, terra seca como 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eio dela repousarão os rebanhos, todos os animais das nações; e alojar-se-ão nos seus capitéis assim o pelicano como o ouriço; o canto das aves se ouvirá nas janelas; e haverá desolação nos limiares, quando tiver descoberto a sua obra de ced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a é a cidade alegre, que habita despreocupadamente, que diz no seu coração: Eu sou, e não há outra além de mim; como se tornou em desolação, em pousada de animais! Todo o que passar por ela assobiará, e meneará 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que o decreto produza o seu efeito, e o dia passe como a pragana; antes que venha sobre vós o furor da ira do SENHOR, antes que venha sobre vós o dia da i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ai ao SENHOR, vós todos os mansos da terra, que tendes posto por obra o seu juízo; buscai a justiça, buscai a mansidão; pode ser que sejais escondidos no dia da ira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Gaza será desamparada, e Ascalom assolada; Asdode ao meio dia será expelida, e Ecrom será desarraig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habitantes da costa do mar, a nação dos quereteus! A palavra do SENHOR será contra vós, ó Canaã, terra dos filisteus; e eu vos destruirei, até que não haja morad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costa do mar será de pastos e cabanas para os pastores, e currais para os reba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rá a costa para o restante da casa de Judá; ali apascentarão os seus rebanhos; de tarde se deitarão nas casas de Ascalom; porque o SENHOR seu Deus os visitará, e os fará tornar do seu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ouvi o escárnio de Moabe, e as injuriosas palavras dos filhos de Amom, com que escarneceram do meu povo, e se engrandeceram contra o seu ter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Sofonia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tão certo como eu vivo, diz o SENHOR dos Exércitos, o Deus de Israel, Moabe será como Sodoma, e os filhos de Amom como Gomorra, campo de urtigas e poços de sal, e desolação perpétua; o restante do meu povo os saqueará, e o restante do meu pov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0:28:57Z</dcterms:created>
  <dc:creator>Admin</dc:creator>
  <dc:description/>
  <dc:language>en-US</dc:language>
  <cp:lastModifiedBy>Admin</cp:lastModifiedBy>
  <dcterms:modified xsi:type="dcterms:W3CDTF">2008-07-31T00:28:57Z</dcterms:modified>
  <cp:revision>1</cp:revision>
  <dc:subject/>
  <dc:title>Slide 1</dc:title>
</cp:coreProperties>
</file>