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553D-A1A6-46A5-A85F-8693AB64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BB0A-107D-43AF-92F5-44394433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C006-97DD-4422-9660-AAF754AF3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D6BF-DCB6-45CF-8431-7E1FB015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1018-2B8E-4773-BC24-AB9D50B7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247E-A83D-402D-8A76-39E9D124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AB88-88D3-4EA8-910A-728210CC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B009-C792-4833-8793-CAAD1383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855A-98BD-41A7-9709-C0F4084C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8B79-6E7B-4D53-B987-39975759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153A-5A4B-4B1C-B477-0113636E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3D61-B116-45F9-A98E-89F12BC1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7D80-2FE0-4DD6-83BE-10686DA0CD4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OUVE uma longa guerra entre a casa de Saul e a casa de Davi; porém Davi ia se fortalecendo, mas os da casa de Saul se iam enfraquece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ansferindo o reino da casa de Saul, e confirmando o trono de Davi sobre Israel, e sobre Judá, desde Dã até Berseb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enhuma palavra podia ele responder a Abner, porque o tem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nviou Abner da sua parte mensageiros a Davi, dizendo: De quem é a terra? E disse mais: Comigo faze o teu acordo, e eis que a minha mão será contigo, para tornar a ti todo o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Davi: Bem, eu farei contigo acordo, porém uma coisa te peço: não verás a minha face, se primeiro não me trouxeres a Mical, filha de Saul, quando vieres ver a minha fa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nviou Davi mensageiros a Is-Bosete, filho de Saul, dizendo: Dá-me minha mulher Mical, que eu desposei por cem prepúcios de filist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ou Is-Bosete, e tirou-a de seu marido, a Paltiel, filho de Laí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a com ela seu marido, caminhando, e chorando atrás dela, até Baurim. Então lhe disse Abner: Vai-te, agora volta. E ele vol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Abner com os anciãos de Israel, dizendo: Já há muito tempo que procuráveis que Davi reinasse sobr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i-o, pois, agora, porque o SENHOR falou a Davi, dizendo: Pela mão de Davi meu servo livrarei o meu povo das mãos dos filisteus e das mãos de todos os seu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também Abner aos de Benjamim; e foi também Abner dizer aos de Davi, em Hebrom, tudo o que era bom aos olhos de Israel e aos olhos de toda a casa de Benja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Davi nasceram filhos em Hebrom; e foi o seu primogênito Amnom, de Ainoã a jizreeli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Abner a Davi, em Hebrom, e vinte homens com ele; e Davi fez um banquete a Abner e aos homens que com ele est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Abner a Davi: Eu me levantarei, e irei, e ajuntarei ao rei meu senhor todo o Israel, para fazer acordo contigo; e tu reinarás sobre tudo o que desejar a tua alma. Assim despediu Davi a Abner, e ele foi em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os servos de Davi e Joabe vieram de uma batalha, e traziam consigo grande despojo; e já Abner não estava com Davi em Hebrom, porque o tinha despedido, e se tinha ido em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ando, pois, Joabe, e todo o exército que vinha com ele, deram aviso a Joabe, dizendo: Abner, filho de Ner, veio ao rei, e o despediu, e foi em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oabe foi ao rei, e disse: Que fizeste? Eis que Abner veio ter contigo; por que pois o despediste, de maneira que se fosse assim livremen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 conheces a Abner, filho de Ner, que te veio enganar, e saber a tua saída e a tua entrada, e entender tudo quanto faz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abe, retirando-se de Davi, enviou mensageiros atrás de Abner, e o fizeram voltar desde o poço de Sirá, sem que Davi o soube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ltando, pois, Abner a Hebrom, Joabe o levou à parte, à entrada da porta, para lhe falar em segredo; e feriu-o ali pela quinta costela, e morreu, por causa do sangue de Asael seu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Davi depois ouvindo, disse: Inocente sou eu, e o meu reino, para com o SENHOR, para sempre, do sangue de Abner, filho de N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ia sobre a cabeça de Joabe e sobre toda a casa de seu pai, e nunca na casa de Joabe falte quem tenha fluxo, ou quem seja leproso, ou quem se atenha a bordão, ou quem caia à espada, ou quem necessite de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u segundo, Quileabe, de Abigail, mulher de Nabal, o carmelita; e o terceiro Absalão, filho de Maaca, filha de Talmai, rei de Gesu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oabe, pois, e Abisai, seu irmão, mataram a Abner, por ter morto a Asael, seu irmão, na peleja em Gibe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, pois, Davi a Joabe, e a todo o povo que com ele estava: Rasgai as vossas vestes; e cingi-vos de sacos e ide pranteando diante de Abner. E o rei Davi ia seguindo o fére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pultando a Abner em Hebrom, o rei levantou a sua voz, e chorou junto da sepultura de Abner; e chorou todo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, pranteando Abner, disse: Havia de morrer Abner como morre o vil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tuas mãos não estavam atadas, nem os teus pés carregados de grilhões, mas caíste como os que caem diante dos filhos da maldade! Então todo o povo chorou muito mais por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todo o povo veio fazer com que Davi comesse pão, sendo ainda dia; porém Davi jurou, dizendo: Assim Deus me faça, e outro tanto, se, antes que o sol se ponha, eu provar pão ou alguma coi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todo o povo entendendo, pareceu bem aos seus olhos; assim como tudo quanto o rei fez pareceu bem aos olhos de todo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povo e todo o Israel entenderam naquele mesmo dia que não procedera do rei que matasse a Abner, filho de N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rei aos seus servos: Não sabeis que hoje caiu em Israel um príncipe e um grand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eu hoje estou fraco, ainda que ungido rei; estes homens, filhos de Zeruia, são mais duros do que eu; o SENHOR pagará ao malfeitor, conforme a sua mal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arto, Adonias, filho de Hagite; e o quinto, Sefatias, filho de Abita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xto, Itreão, de Eglá, também mulher de Davi; estes nasceram a Davi em Hebr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 guerra entre a casa de Saul e a casa de Davi, sucedeu que Abner se fez poderoso na casa de Sa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nha tido Saul uma concubina, cujo nome era Rispa, filha de Aiá; e disse Is-Bosete a Abner: Por que possuíste a concubina de meu pa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irou muito Abner pelas palavras de Is-Bosete, e disse: Sou eu cabeça de cão, que pertença a Judá? Ainda hoje faço beneficência à casa de Saul, teu pai, a seus irmãos, e a seus amigos, e não te entreguei nas mãos de Davi, e tu hoje buscas motiv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aça Deus a Abner, e outro tanto, se, como o SENHOR jurou a Davi, assim eu não lhe fize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2:46Z</dcterms:created>
  <dc:creator>Admin</dc:creator>
  <dc:description/>
  <dc:language>en-US</dc:language>
  <cp:lastModifiedBy>Admin</cp:lastModifiedBy>
  <dcterms:modified xsi:type="dcterms:W3CDTF">2008-07-30T23:52:46Z</dcterms:modified>
  <cp:revision>1</cp:revision>
  <dc:subject/>
  <dc:title>Slide 1</dc:title>
</cp:coreProperties>
</file>