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35BD-4332-48A4-A008-EAF12AE32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5214-DFFA-42F1-B67A-3916C3E1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E274-A33B-4D08-94F3-6CCD56572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928A-34A3-4781-BCB2-87203A2A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EE33-86DE-41BE-BB5E-98EA33AB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EB20-C9E1-4CA3-BC59-521EE856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1D34-1342-41A8-9BB7-0F35DC1F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065C-F6CF-4933-8095-21AC21EF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5033-DBA0-46AA-8E3D-216C246F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5815-00F9-4B4E-A8C7-8F626819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AC00-DB20-45EC-988F-9B245CC4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8953-3F00-4C6A-9C45-E40AAB03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C75D-6837-4301-B677-2D8E8D5C1C0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IVRA-ME, meu Deus, dos meus inimigos, defende-me daqueles que se levantam contr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Deus da minha misericórdia virá ao meu encontro; Deus me fará ver o meu desejo sobre os meus inim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os mates, para que o meu povo não se esqueça; espalha-os pelo teu poder, e abate-os, ó Senhor, nosso escu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o pecado da sua boca e pelas palavras dos seus lábios, fiquem presos na sua soberba, e pelas maldições e pelas mentiras que fal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some-os na tua indignação, consome-os, para que não existam, e para que saibam que Deus reina em Jacó até aos fins da terra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rnem a vir à tarde, e dêem ganidos como cães, e cerquem 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agueiem para cima e para baixo por mantimento, e passem a noite sem se sacia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, porém, cantarei a tua força; pela manhã louvarei com alegria a tua misericórdia; porquanto tu foste o meu alto refúgio, e proteção no dia da minha angúst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i, ó fortaleza minha, cantarei salmos; porque Deus é a minha defesa e o Deus da minha misericór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ivra-me dos que praticam a iniqüidade, e salva-me dos homens sanguinár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eis que põem ciladas à minha alma; os fortes se ajuntam contra mim, não por transgressão minha ou por pecado meu, ó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s correm, e se preparam, sem culpa minha; desperta para me ajudares, e ol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pois, ó SENHOR, Deus dos Exércitos, Deus de Israel, desperta para visitares todos os gentios; não tenhas misericórdia de nenhum dos pérfidos que praticam a iniqüidade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oltam à tarde; dão ganidos como cães, e rodeiam 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les dão gritos com as suas bocas; espadas estão nos seus lábios, porque, dizem eles: Quem ouv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u, SENHOR, te rirás deles; zombarás de todos os genti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causa da sua força eu te aguardarei; pois Deus é a minha alta defe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5:46Z</dcterms:created>
  <dc:creator>Admin</dc:creator>
  <dc:description/>
  <dc:language>en-US</dc:language>
  <cp:lastModifiedBy>Admin</cp:lastModifiedBy>
  <dcterms:modified xsi:type="dcterms:W3CDTF">2008-07-31T00:25:46Z</dcterms:modified>
  <cp:revision>1</cp:revision>
  <dc:subject/>
  <dc:title>Slide 1</dc:title>
</cp:coreProperties>
</file>