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007-F5EC-40BD-8ABD-2C0922A7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27F-3A6A-4245-9F01-16FA2844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F65-EE9D-4858-9DA0-3A220593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178-6DD7-4651-8FB8-55CC1887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0F8-BBFC-4111-91B3-03B9BAC2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F08-D733-4351-AF59-99C6460F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58A-4D34-47D3-9E77-AB8E672B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6FC-8D5F-4744-833C-B326DE3E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A48-34A0-4822-851D-4D5C3E40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9DD-62C4-48B7-AF99-E0D56A5D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AC3-C8C5-4C85-A526-B76719BF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08C-9A54-46E4-AD16-0358F29E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E104-980C-42B2-8E0A-9B638B68467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SENHOR esvazia a terra, e a desola, e transtorna a sua superfície, e dispersa os seus mor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molida está a cidade vazia, todas as casas fecharam, ninguém pode en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lastimoso clamor nas ruas por falta do vinho; toda a alegria se escureceu, desterrou-se o goz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cidade só ficou a desolação, a porta ficou reduzida a ruí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será no interior da terra, e no meio destes povos, como a sacudidura da oliveira, e como os rabiscos, quando está acabada a vind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alçarão a sua voz, e cantarão com alegria; e por causa da glória do SENHOR exultarão desde 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glorificai ao SENHOR no oriente, e nas ilhas do mar, ao nome d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confins da terra ouvimos cantar: Glória ao justo. Mas eu disse: Emagreço, emagreço, ai de mim! Os pérfidos têm tratado perfidamente; sim, os pérfidos têm tratado perfid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, e a cova, e o laço vêm sobre ti, ó morador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aquele que fugir da voz de temor cairá na cova, e o que subir da cova o laço o prenderá; porque as janelas do alto estão abertas, e os fundamentos da terra tre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do está quebrantada a terra, de todo está rompida a terra, e de todo é movi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suceder ao povo, assim sucederá ao sacerdote; ao servo, como ao seu senhor; à serva, como à sua senhora; ao comprador, como ao vendedor; ao que empresta, como ao que toma emprestado; ao que dá usura, como ao que paga us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do cambaleará a terra como o ébrio, e será movida e removida como a choça de noite; e a sua transgressão se agravará sobre ela, e cairá, e nunca mais se levan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naquele dia o SENHOR castigará os exércitos do alto nas alturas, e os reis da terra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ão ajuntados como presos numa masmorra, e serão encerrados num cárcere; e outra vez serão castigados depois de muit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lua se envergonhará, e o sol se confundirá quando o SENHOR dos Exércitos reinar no monte Sião e em Jerusalém, e perante os seus anciãos glorios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do se esvaziará a terra, e de todo será saqueada, porque o SENHOR pronunciou est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pranteia e se murcha; o mundo enfraquece e se murcha; enfraquecem os mais altos do pov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a terra está contaminada por causa dos seus moradores; porquanto têm transgredido as leis, mudado os estatutos, e quebrado a alianç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maldição tem consumido a terra; e os que habitam nela são desolados; por isso são queimados os moradores da terra, e poucos homens res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anteia o mosto, enfraquece a vide; e suspiram todos os alegres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ssa o folguedo dos tamboris, acaba o ruído dos que exultam, e cessa a alegria da har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canções não beberão vinho; a bebida forte será amarga para os que a bebe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23Z</dcterms:created>
  <dc:creator>Admin</dc:creator>
  <dc:description/>
  <dc:language>en-US</dc:language>
  <cp:lastModifiedBy>Admin</cp:lastModifiedBy>
  <dcterms:modified xsi:type="dcterms:W3CDTF">2008-07-30T23:55:23Z</dcterms:modified>
  <cp:revision>1</cp:revision>
  <dc:subject/>
  <dc:title>Slide 1</dc:title>
</cp:coreProperties>
</file>