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4415-DE74-4019-8787-96E3B0DE0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1388-8A6A-496F-8B7A-08546C40B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477B-67EE-432B-8DBE-D4A1FEDA6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867F-782D-40C7-A256-FC7FBE112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401B-43B4-4736-A311-D7BC3364E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A72C-AA6B-4DBE-B7D3-07E4426C1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068E-29AD-4207-93AA-B2E8AF497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EC71-9AB9-4184-8368-1130DB213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DCA8-934B-49A9-92AD-525D151F4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F32D-7D3D-434D-BAAF-AC00D0905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8E4F-C11A-4167-8577-D09101F1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6D0B-D826-4547-91F1-A0047DBE3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50835-E445-4FC7-8F77-0D33BABEC85A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depois da morte de Moisés, servo do SENHOR, que o SENHOR falou a Josué, filho de Num, servo de Moisés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Josué deu ordem aos príncipes do povo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ssai pelo meio do arraial e ordenai ao povo, dizendo: Provede-vos de comida, porque dentro de três dias passareis este Jordão, para que entreis a possuir a terra que vos dá o SENHOR vosso Deus, para a possuir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lou Josué aos rubenitas, e aos gaditas, e à meia tribo de Manassés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mbrai-vos da palavra que vos mandou Moisés, o servo do SENHOR, dizendo: O SENHOR vosso Deus vos dá descanso, e vos dá est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ossas mulheres, vossos meninos e vosso gado fiquem na terra que Moisés vos deu deste lado do Jordão; porém vós passareis armados na frente de vossos irmãos, todos os valentes e valorosos, e ajudá-los-ei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té que o SENHOR dê descanso a vossos irmãos, como a vós, e eles também possuam a terra que o SENHOR vosso Deus lhes dá; então tornareis à terra da vossa herança, e possuireis a que vos deu Moisés, o servo do SENHOR, deste lado do Jordão, para o nasce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responderam a Josué, dizendo: Tudo quanto nos ordenaste faremos, e onde quer que nos enviares ire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em tudo ouvimos a Moisés, assim te ouviremos a ti, tão-somente que o SENHOR teu Deus seja contigo, como foi com Moisé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 o homem, que for rebelde às tuas ordens, e não ouvir as tuas palavras em tudo quanto lhe mandares, morrerá. Tão-somente esforça-te, e tem bom ânim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oisés, meu servo, é morto; levanta-te pois agora, passa este Jordão, tu e todo este povo, para a terra que eu dou aos filhos de Israe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 o lugar que pisar a planta do vosso pé, vo-lo tenho dado, como eu disse a Moisé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sde o deserto e do Líbano, até ao grande rio, o rio Eufrates, toda a terra dos heteus, e até o grande mar para o poente do sol, será o vosso term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inguém te poderá resistir, todos os dias da tua vida; como fui com Moisés, assim serei contigo; não te deixarei nem te desampara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força-te, e tem bom ânimo; porque tu farás a este povo herdar a terra que jurei a seus pais lhes da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ão-somente esforça-te e tem mui bom ânimo, para teres o cuidado de fazer conforme a toda a lei que meu servo Moisés te ordenou; dela não te desvies, nem para a direita nem para a esquerda, para que prudentemente te conduzas por onde quer que anda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se aparte da tua boca o livro desta lei; antes medita nele dia e noite, para que tenhas cuidado de fazer conforme a tudo quanto nele está escrito; porque então farás prosperar o teu caminho, e serás bem suced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sué 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to mandei eu? Esforça-te, e tem bom ânimo; não temas, nem te espantes; porque o SENHOR teu Deus é contigo, por onde quer que anda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4:47Z</dcterms:created>
  <dc:creator>Admin</dc:creator>
  <dc:description/>
  <dc:language>en-US</dc:language>
  <cp:lastModifiedBy>Admin</cp:lastModifiedBy>
  <dcterms:modified xsi:type="dcterms:W3CDTF">2008-07-31T00:04:47Z</dcterms:modified>
  <cp:revision>1</cp:revision>
  <dc:subject/>
  <dc:title>Slide 1</dc:title>
</cp:coreProperties>
</file>