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A0A-5858-4115-B98B-CEBCDA2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EF3-0EA5-4FF2-9DA7-59F54B46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6A4-98EA-48C8-B9ED-94649C3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B2E-F0BA-4451-969D-75613945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1AB-EB11-4803-B9D8-6A9D4B0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A09-0E3C-4FC8-A7A7-8E4926CC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DE-E35F-42F6-BE4C-54F4FAC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ACB-6214-4815-B845-8E23509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602-3144-45CC-9F32-35E93414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42A-5DE3-4C31-8161-8170129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5BD-43DE-40C2-854C-750E633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231-14EB-4A82-81A7-BA9715E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3BB8-C962-495C-965B-30F649C85E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, que somos fortes, devemos suportar as fraquezas dos fracos, e não agradar a nós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diz: Alegrai-vos, gentios, com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: Louvai ao Senhor, todos os gentios, E celebrai-o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vez diz Isaías: Uma raiz em Jessé haverá, E naquele que se levantar para reger os gentios, Os gentios espe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o Deus de esperança vos encha de todo o gozo e paz em crença, para que abundeis em esperança pela virtude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próprio, meus irmãos, certo estou, a respeito de vós, que vós mesmos estais cheios de bondade, cheios de todo o conhecimento, podendo admoestar-vo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irmãos, em parte vos escrevi mais ousadamente, como para vos trazer outra vez isto à memória, pela graça que por Deus me foi d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ja ministro de Jesus Cristo para os gentios, ministrando o evangelho de Deus, para que seja agradável a oferta dos gentios, santificada pel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tenho glória em Jesus Cristo nas coisas que pertence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ousarei dizer coisa alguma, que Cristo por mim não tenha feito, para fazer obedientes os gentios, por palavra e por ob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poder dos sinais e prodígios, na virtude do Espírito de Deus; de maneira que desde Jerusalém, e arredores, até ao Ilírico, tenho pregado o evangelh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cada um de nós agrade ao seu próximo no que é bom para ed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maneira me esforcei por anunciar o evangelho, não onde Cristo foi nomeado, para não edificar sobre fundamento alhe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como está escrito: Aqueles a quem não foi anunciado, o verão, E os que não ouviram o entend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muitas vezes tenho sido impedido de ir te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que não tenho mais demora nestes sítios, e tendo já há muitos anos grande desejo de ir ter convos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artir para Espanha irei ter convosco; pois espero que de passagem vos verei, e que para lá seja encaminhado por vós, depois de ter gozado um pouco da vossa companh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vou a Jerusalém para ministrar a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eceu bem à Macedônia e à Acaia fazerem uma coleta para os pobres dentre os santos que estã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lhes pareceu bem, como devedores que são para com eles. Porque, se os gentios foram participantes dos seus bens espirituais, devem também ministrar-lhes os tempo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concluído isto, e havendo-lhes consignado este fruto, de lá, passando por vós, irei à Esp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sei que, indo ter convosco, chegarei com a plenitude da bênção do evangelho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Cristo não agradou a si mesmo, mas, como está escrito: Sobre mim caíram as injúrias dos que te injuri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o-vos, irmãos, por nosso Senhor Jesus Cristo e pelo amor do Espírito, que combatais comigo nas vossas orações por mim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ja livre dos rebeldes que estão na Judéia, e que esta minha administração, que em Jerusalém faço, seja bem aceita pelo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m de que, pela vontade de Deus, chegue a vós com alegria, e possa recrear-me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us de paz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do o que dantes foi escrito, para nosso ensino foi escrito, para que pela paciência e consolação das Escrituras tenhamos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Deus de paciência e consolação vos conceda o mesmo sentimento uns para com os outros, segundo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oncordes, a uma boca, glorifiqueis ao Deus e Pai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recebei-vos uns aos outros, como também Cristo nos recebeu para gló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is, que Jesus Cristo foi ministro da circuncisão, por causa da verdade de Deus, para que confirmasse as promessas feitas ao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os gentios glorifiquem a Deus pela sua misericórdia, como está escrito: Portanto eu te louvarei entre os gentios, E cantarei a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51Z</dcterms:created>
  <dc:creator>Admin</dc:creator>
  <dc:description/>
  <dc:language>en-US</dc:language>
  <cp:lastModifiedBy>Admin</cp:lastModifiedBy>
  <dcterms:modified xsi:type="dcterms:W3CDTF">2008-07-31T00:23:51Z</dcterms:modified>
  <cp:revision>1</cp:revision>
  <dc:subject/>
  <dc:title>Slide 1</dc:title>
</cp:coreProperties>
</file>