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37A8-4F6D-485F-8C76-6040F8D37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A2AB-F4B3-4CFE-8E0E-A7880C7E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B41B-5E14-4D63-9F19-62F9B6B81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6EE3-124F-4C57-8010-4DB3B2A3B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2AA7-3AE5-4023-939B-F42C0B58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F677-8BCC-4C9F-A121-DD64078F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4F2A-227F-4333-B597-BE020A1C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BB7D-8C6A-4EE5-8754-3EF3F895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FE39-657F-4DC9-B331-DC52BC80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2811-F8FB-44E8-8A1D-99EE911B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5826-8940-4CB1-AECC-59CA141D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24AF-3F37-43FB-A5D0-D6490ECA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9CF5-F598-4297-A84A-F68E8CF3B05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mais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o mudará, nem o trocará bom por mau, ou mau por bom; se porém de alguma maneira trocar animal por animal, tanto um como o outro, será s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for algum animal imundo, dos que não se oferecem em oferta ao SENHOR, então apresentará o animal diante do sacerdot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acerdote o avaliará, seja bom ou seja mau; segundo a avaliação do sacerdote, assim s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se de alguma maneira o resgatar, então acrescentará a sua quinta parte sobre a tua avali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do alguém santificar a sua casa para ser santa ao SENHOR, o sacerdote a avaliará, seja boa ou seja má; como o sacerdote a avaliar, assim s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o que a santificou resgatar a sua casa, então acrescentará a quinta parte do dinheiro sobre a tua avaliação, e será s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também alguém santificar ao SENHOR uma parte do campo da sua possessão, então a tua avaliação será segundo a sua semente: um ômer de semente de cevada será avaliado por cinqüenta siclos de pra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santificar o seu campo desde o ano do jubileu, conforme à tua avaliação fic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santificar o seu campo depois do ano do jubileu, então o sacerdote lhe contará o dinheiro conforme aos anos restantes até ao ano do jubileu, e isto se abaterá da tua avali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aquele que santificou o campo de alguma maneira o resgatar, então acrescentará a quinta parte do dinheiro da tua avaliação, e ficará s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 aos filhos de Israel, e dize-lhes: Quando alguém fizer particular voto, segundo a tua avaliação serão as pessoas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não resgatar o campo, ou se vender o campo a outro homem, nunca mais se resgat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havendo o campo saído no ano do jubileu, será santo ao SENHOR, como campo consagrado; a possessão dele será do sacerd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alguém santificar ao SENHOR o campo que comprou, e não for parte do campo da sua possess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acerdote lhe contará o valor da tua avaliação até ao ano do jubileu; e no mesmo dia dará a tua avaliação como coisa santa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ano do jubileu o campo tornará àquele de quem o comprou, àquele de quem era a possessão do ca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a a tua avaliação se fará conforme ao siclo do santuário; o siclo será de vinte ge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7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primogênito de um animal, por já ser do SENHOR ninguém o santificará; seja boi ou gado miúdo, do SENHOR 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7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for de um animal imundo, o resgatará, segundo a tua estimação, e sobre ele acrescentará a sua quinta parte; e se não se resgatar, vender-se-á segundo a tua estim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7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, nenhuma coisa consagrada, que alguém consagrar ao SENHOR de tudo o que tem, de homem, ou de animal, ou do campo da sua possessão, se venderá nem resgatará; toda a coisa consagrada será santíssima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7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 a coisa consagrada que for consagrada do homem, não será resgatada; certamente morr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for a tua avaliação de um homem, da idade de vinte anos até a idade de sessenta, será a tua avaliação de cinqüenta siclos de prata, segundo o siclo do santuá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7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todas as dízimas do campo, da semente do campo, do fruto das árvores, são do SENHOR; santas são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7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se alguém das suas dízimas resgatar alguma coisa, acrescentará a sua quinta parte sobre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7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tocante a todas as dízimas do gado e do rebanho, tudo o que passar debaixo da vara, o dízimo será santo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7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e investigará entre o bom e o mau, nem o trocará; mas, se de alguma maneira o trocar, tanto um como o outro será santo; não serão resgat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7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os mandamentos que o SENHOR ordenou a Moisés, para os filhos de Israel, no monte Sin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se for mulher, a tua avaliação será de trinta sic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for de cinco anos até vinte, a tua avaliação de um homem será vinte siclos e da mulher dez sic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for de um mês até cinco anos, a tua avaliação de um homem será de cinco siclos de prata, e a tua avaliação pela mulher será de três siclos de pra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for de sessenta anos e acima, pelo homem a tua avaliação será de quinze siclos e pela mulher dez sic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for mais pobre do que a tua avaliação, então apresentar-se-á diante do sacerdote, para que o sacerdote o avalie; conforme as posses daquele que fez o voto, o avaliará o sacerd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for animal dos que se oferecem em oferta ao SENHOR, tudo quanto der dele ao SENHOR será s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9:57Z</dcterms:created>
  <dc:creator>Admin</dc:creator>
  <dc:description/>
  <dc:language>en-US</dc:language>
  <cp:lastModifiedBy>Admin</cp:lastModifiedBy>
  <dcterms:modified xsi:type="dcterms:W3CDTF">2008-07-31T00:09:57Z</dcterms:modified>
  <cp:revision>1</cp:revision>
  <dc:subject/>
  <dc:title>Slide 1</dc:title>
</cp:coreProperties>
</file>