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1C5-AE42-4EF4-A4EA-926C40D1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F5C-12A3-49AE-8AA6-FF8EC48D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FEB-F17A-44B3-BCB2-1ACB5974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FCE-E569-4B47-841C-F832B9B0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B59-5FE0-4437-9066-4B070D42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36E-0465-4E7C-866C-282A0507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4DA-A539-42AB-B276-1DD3E02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7EE-73CC-42BF-8561-72F4FAED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9C6-449C-4540-8B4D-1F826481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961-368C-4D8F-84A7-CB19E962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4CD-4A93-4720-BBBA-1C6FB248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C98-9C62-49F5-86D4-B2D8AF62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B66B-F427-4E68-B87B-4E72FDEFC5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extraviado o boi ou ovelha de teu irmão, não te desviarás deles; restituí-los-ás sem falta a t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boi e com jumento não lavrarás ju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vestirás de diversos estofos de lã e linho ju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ranjas porás nas quatro bordas da tua manta, com que te cobri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homem tomar mulher e, depois de coabitar com ela, a desprez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imputar coisas escandalosas, e contra ela divulgar má fama, dizendo: Tomei esta mulher, e me cheguei a ela, porém não a achei virg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ai da moça e sua mãe tomarão os sinais da virgindade da moça, e levá-los-ão aos anciãos da cidade, à por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ai da moça dirá aos anciãos: Eu dei minha filha por mulher a este homem, porém ele a desprez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lhe imputou coisas escandalosas, dizendo: Não achei virgem a tua filha; porém eis aqui os sinais da virgindade de minha filha. E estenderão a roupa diante dos anciãos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anciãos da mesma cidade tomarão aquele homem, e o castig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ultarão em cem siclos de prata, e os darão ao pai da moça; porquanto divulgou má fama sobre uma virgem de Israel. E lhe será por mulher, em todos os seus dias não a poderá desped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teu irmão não estiver perto de ti, ou não o conheceres, recolhê-los-ás na tua casa, para que fiquem contigo, até que teu irmão os busque, e tu lhos restitu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isto for verdadeiro, isto é, que a virgindade não se achou na mo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evarão a moça à porta da casa de seu pai, e os homens da sua cidade a apedrejarão, até que morra; pois fez loucura em Israel, prostituindo-se na casa de seu pai; assim tirarás o mal d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homem for achado deitado com mulher que tenha marido, então ambos morrerão, o homem que se deitou com a mulher, e a mulher; assim tirarás o mal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houver moça virgem, desposada, e um homem a achar na cidade, e se deitar com e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areis ambos à porta daquela cidade, e os apedrejareis, até que morram; a moça, porquanto não gritou na cidade, e o homem, porquanto humilhou a mulher do seu próximo; assim tirarás o mal d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m homem no campo achar uma moça desposada, e o homem a forçar, e se deitar com ela, então morrerá só o homem que se deitou com 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à moça não farás nada. A moça não tem culpa de morte; porque, como o homem que se levanta contra o seu próximo, e lhe tira a vida, assim é este ca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 achou no campo; a moça desposada gritou, e não houve quem a livr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homem achar uma moça virgem, que não for desposada, e pegar nela, e se deitar com ela, e forem apanh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homem que se deitou com ela dará ao pai da moça cinqüenta siclos de prata; e porquanto a humilhou, lhe será por mulher; não a poderá despedir em todos os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farás com o seu jumento, e assim farás com as suas roupas; assim farás também com toda a coisa perdida, que se perder de teu irmão, e tu a achares; não te poderás omi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homem tomará a mulher de seu pai, nem descobrirá a nudez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ires o jumento que é de teu irmão, ou o seu boi, caídos no caminho, não te desviarás deles; sem falta o ajudarás a levantá-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averá traje de homem na mulher, e nem vestirá o homem roupa de mulher; porque, qualquer que faz isto, abominação é a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contrares pelo caminho um ninho de ave numa árvore, ou no chão, com passarinhos, ou ovos, e a mãe posta sobre os passarinhos, ou sobre os ovos, não tomarás a mãe com os filho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rás ir livremente a mãe, e os filhotes tomarás para ti; para que te vá bem e para que prolongues os t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dificares uma casa nova, farás um parapeito, no eirado, para que não ponhas culpa de sangue na tua casa, se alguém de algum modo cair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mearás a tua vinha com diferentes espécies de semente, para que não se degenere o fruto da semente que semeares, e a novidade d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24Z</dcterms:created>
  <dc:creator>Admin</dc:creator>
  <dc:description/>
  <dc:language>en-US</dc:language>
  <cp:lastModifiedBy>Admin</cp:lastModifiedBy>
  <dcterms:modified xsi:type="dcterms:W3CDTF">2008-07-30T23:28:24Z</dcterms:modified>
  <cp:revision>1</cp:revision>
  <dc:subject/>
  <dc:title>Slide 1</dc:title>
</cp:coreProperties>
</file>