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01B-72D9-49B4-A16A-8D84084D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155-AD52-47C0-B89B-86060BA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129-983D-40C8-AB83-33108D78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6CF-8FAC-4017-B7C0-241A053F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8F1-A4CE-45F9-8966-27A8BEB1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69B-71EB-4445-9CF0-E06765B8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58E-C28D-4006-940A-EE7DDFCB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053-E0D2-4147-BF0D-4BEEE9C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0F2-B073-4A3F-B68E-77FE25FC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DDC-00CB-4D3A-8AB0-B0B4B00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843-F521-4997-93A3-152BD37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576-66D3-4EFA-9468-104E0F9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4945-7C07-4522-AC34-CAD51EA68D7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RAM Miriã e Arão contra Moisés, por causa da mulher cusita, com quem casara; porquanto tinha casado com uma mulher cus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nuvem se retirou de sobre a tenda; e eis que Miriã ficou leprosa como a neve; e olhou Arão para Miriã, e eis que estava lepr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Arão disse a Moisés: Ai, senhor meu, não ponhas sobre nós este pecado, pois agimos loucamente, e temos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ão seja ela como um morto, que saindo do ventre de sua mãe, a metade da sua carne já esteja consu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ou, pois, Moisés ao SENHOR, dizendo: Ó Deus, rogo-te que a cu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Se seu pai cuspira em seu rosto, não seria envergonhada sete dias? Esteja fechada sete dias fora do arraial, e depois a recolh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iriã esteve fechada fora do arraial sete dias, e o povo não partiu, até que recolheram a Miri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depois o povo partiu de Hazerote; e acampou-se no deserto de P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Porventura falou o SENHOR somente por Moisés? Não falou também por nós? E o SENHOR o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o homem Moisés mui manso, mais do que todos os homens que havia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 SENHOR disse a Moisés, a Arão e a Miriã: Vós três saí à tenda da congregação. E saíram eles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esceu na coluna de nuvem, e se pôs à porta da tenda; depois chamou a Arão e a Miriã e ambos sa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Ouvi agora as minhas palavras; se entre vós houver profeta, eu, o SENHOR, em visão a ele me farei conhecer, ou em sonhos falarei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assim com o meu servo Moisés que é fiel em toda a minh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oca a boca falo com ele, claramente e não por enigmas; pois ele vê a semelhança do SENHOR; por que, pois, não tivestes temor de falar contra o meu servo, contra Moisé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 ira do SENHOR contra eles se acendeu; e retir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36Z</dcterms:created>
  <dc:creator>Admin</dc:creator>
  <dc:description/>
  <dc:language>en-US</dc:language>
  <cp:lastModifiedBy>Admin</cp:lastModifiedBy>
  <dcterms:modified xsi:type="dcterms:W3CDTF">2008-07-31T00:18:36Z</dcterms:modified>
  <cp:revision>1</cp:revision>
  <dc:subject/>
  <dc:title>Slide 1</dc:title>
</cp:coreProperties>
</file>