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1B09-527A-477B-B3A2-4489E74F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437D-5845-48E8-BF6A-3384E27A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74EE-4675-43BA-8EE6-9B9F49AB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3B89-32A1-4C15-BEEE-63AAC35B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EA80-2237-4ECD-BA9B-263F1EE1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4FD2-7E9F-40E7-8D8B-CD27EC89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EC9B-F10F-4BE7-AD79-3314B87E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03AE-C807-4AD5-A163-FF1829B0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7970-939D-4A3B-A800-1F842A90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81C9-6203-455D-9AED-390E7959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3567-03FA-46FF-BA48-FE783203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4E09-AE11-4ABB-A891-C4CA7ED4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8EDB-C3B9-453B-9DDB-004A775D658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tu guardarás este estatuto a seu tempo, de ano em 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contecerá que, quando o SENHOR te houver introduzido na terra dos cananeus, como jurou a ti e a teus pais, quando ta houver da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pararás para o SENHOR tudo o que abrir a madre e todo o primogênito dos animais que tiveres; os machos serã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todo o primogênito da jumenta resgatarás com um cordeiro; e se o não resgatares, cortar-lhe-ás a cabeça; mas todo o primogênito do homem, entre teus filhos, resgat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teu filho te perguntar no futuro, dizendo: Que é isto? Dir-lhe-ás: O SENHOR nos tirou com mão forte do Egito, da casa da serv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ucedeu que, endurecendo-se Faraó, para não nos deixar ir, o SENHOR matou todos os primogênitos na terra do Egito, desde o primogênito do homem até o primogênito dos animais; por isso eu sacrifico ao SENHOR todos os primogênitos, sendo machos; p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isso por sinal sobre tua mão, e por frontais entre os teus olhos; porque o SENHOR, com mão forte, nos tirou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quando Faraó deixou ir o povo, Deus não os levou pelo caminho da terra dos filisteus, que estava mais perto; porque Deus disse: Para que porventura o povo não se arrependa, vendo a guerra, e volte a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us fez o povo rodear pelo caminho do deserto do Mar Vermelho; e armados, os filhos de Israel subiram d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levou consigo os ossos de José, porquanto havia este solenemente ajuramentado os filhos de Israel, dizendo: Certamente Deus vos visitará; fazei, pois, subir daqui os meus ossos conv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ntifica-me todo o primogênito, o que abrir toda a madre entre os filhos de Israel, de homens e de animais; porque meu 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partiram de Sucote, e acamparam-se em Etã, à entrada d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ia adiante deles, de dia numa coluna de nuvem para os guiar pelo caminho, e de noite numa coluna de fogo para os iluminar, para que caminhassem de dia e de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unca tirou de diante do povo a coluna de nuvem, de dia, nem a coluna de fogo, de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disse ao povo: Lembrai-vos deste mesmo dia, em que saístes do Egito, da casa da servidão; pois com mão forte o SENHOR vos tirou daqui; portanto não comereis pão leved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je, no mês de Abibe, vós saí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rá que, quando o SENHOR te houver introduzido na terra dos cananeus, e dos heteus, e dos amorreus, e dos heveus, e dos jebuseus, a qual jurou a teus pais que te daria, terra que mana leite e mel, guardarás este culto neste m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te dias comerás pães ázimos, e ao sétimo dia haverá festa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te dias se comerá pães ázimos, e o levedado não se verá contigo, nem ainda fermento será visto em todos os teus ter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quele mesmo dia farás saber a teu filho, dizendo: Isto é pelo que o SENHOR me tem feito, quando eu saí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 será por sinal sobre tua mão e por lembrança entre teus olhos, para que a lei do SENHOR esteja em tua boca; porquanto com mão forte o SENHOR te tirou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1:49Z</dcterms:created>
  <dc:creator>Admin</dc:creator>
  <dc:description/>
  <dc:language>en-US</dc:language>
  <cp:lastModifiedBy>Admin</cp:lastModifiedBy>
  <dcterms:modified xsi:type="dcterms:W3CDTF">2008-07-30T23:31:49Z</dcterms:modified>
  <cp:revision>1</cp:revision>
  <dc:subject/>
  <dc:title>Slide 1</dc:title>
</cp:coreProperties>
</file>