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D6B-0FE1-42A0-9511-9DD84665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EA3-9435-4FD2-9848-2715CFEF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956-70D9-4B3C-ABB2-8D6D990F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73B-A1BD-4633-A92A-6CF36E73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357-233F-4EE1-80ED-EDA8A0DE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6C3-3F65-4AC3-9741-8B459DC4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5D7-7403-4371-8383-9F12C3CE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618-DD59-43FD-947B-9174A1F7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B4D-8AE3-45BC-AFAB-5880B955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B3F-1808-47EB-AB18-C65E9278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0AF-8339-4A71-9403-142AB95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81C-FC7B-45A8-BB76-73A97D2A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1D67-5644-4961-B1AD-60973189817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vinte e sete de Jeroboão, rei de Israel, começou a reinar Azarias, filho de Amazias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um, filho de Jabes, conspirou contra ele e feriu-o diante do povo, e matou-o; e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Zacarias, eis que está escrito no livro das crônicas dos rei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foi a palavra do SENHOR, que falou a Jeú: Teus filhos, até à quarta geração, se assentarão sobre o trono de Israel. E assim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um, filho de Jabes, começou a reinar no ano trinta e nove de Uzias, rei de Judá, e reinou um mês inteiro em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naém, filho de Gadi, subiu de Tirza, e veio a Samaria; e feriu a Salum, filho de Jabes, em Samaria, e o matou, e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Salum, e a conspiração que fez, eis que está escrito no livro das crônicas dos rei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naém feriu a Tifsa, e a todos os que nela havia, como também a seus termos desde Tirza, porque não lha tinham aberto; e os feriu, pois, e a todas as mulheres grávidas fendeu pelo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ano trinta e nove de Azarias, rei de Judá, Menaém, filho de Gadi, começou a reinar sobre Israel, e reinou dez anos em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todos os seus dias não se apartou dos pecados de Jeroboão, filho de Nebate, com que fez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Pul, rei da Assíria, contra a terra; e Menaém deu a Pul mil talentos de prata, para que este o ajudasse a firmar o reino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dezesseis anos quando começou a reinar, e cinqüenta e dois anos reinou em Jerusalém; e era o nome de sua mãe Jecolias,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naém tirou este dinheiro de Israel, de todos os poderosos e ricos, para dá-lo ao rei da Assíria, de cada homem cinqüenta siclos de prata; assim voltou o rei da Assíria, e não ficou ali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Menaém, e tudo quanto fez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naém dormiu com seus pais; e Pecaí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cinqüenta de Azarias, rei de Judá, começou a reinar Pecaías, filho de Menaém, sobre Israel, em Samaria, e reinou doi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nunca se apartou dos pecados de Jeroboão, filho de Nebate, com que fez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ca, filho de Remalias, seu capitão, conspirou contra ele, e o feriu em Samaria, no paço da casa do rei, juntamente com Argobe e com Arié, e com ele cinqüenta homens dos filhos dos gileaditas; e o matou, e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Pecaías, e tudo quanto fez, eis que está escrito no livro das crônicas dos rei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cinqüenta e dois de Azarias, rei de Judá, começou a reinar Peca, filho de Remalias, sobre Israel, em Samaria, e reinou vin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nunca se apartou dos pecados de Jeroboão, filho de Nebate, com que fez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dias de Peca, rei de Israel, veio Tiglate-Pileser, rei da Assíria, e tomou a Ijom, a Abel-Bete-Maaca, a Janoa, e a Quedes, a Hazor, a Gileade, e a Galiléia, e a toda a terra de Naftali, e os levou à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, conforme tudo o que fizera Amazias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éias, filho de Elá, conspirou contra Peca, filho de Remalias, e o feriu, e o matou, e reinou em seu lugar, no vigésimo ano de Jotão, filho de Uz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Peca, e tudo quanto fez, eis que está escrito no livro das crônicas dos rei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segundo de Peca, filho de Remalias, rei de Israel, começou a reinar Jotão, filho de Uzias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vinte e cinco anos de idade quando começou a reinar, e reinou dezesseis anos em Jerusalém; e era o nome de sua mãe Jerusa, filha de Zado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; fez conforme tudo quanto fizera seu pai Uz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os altos não foram tirados; porque o povo ainda sacrificava e queimava incenso nos altos. Este edificou a porta alta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Jotão, e tudo quanto fez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começou o SENHOR a enviar contra Judá a Rezim, rei da Síria, e a Peca, filho de Rema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tão dormiu com seus pais, e foi sepultado junto a seus pais, na cidade de Davi, seu pai; e Acaz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os altos não foram tirados; porque o povo ainda sacrificava e queimava incenso nos al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eriu o rei, e ficou leproso até ao dia da sua morte; e habitou numa casa separada; porém Jotão, filho do rei, tinha o cargo da casa, julgando o pov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Azarias, e tudo o que fez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zarias dormiu com seus pais e o sepultaram junto a seus pais, na cidade de Davi; e Jotão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trinta e oito de Azarias, rei de Judá, reinou Zacarias, filho de Jeroboão, sobre Israel, em Samaria, seis me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mo tinham feito seus pais; nunca se apartou dos pecados de Jeroboão, filho de Nebate, com que fez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55Z</dcterms:created>
  <dc:creator>Admin</dc:creator>
  <dc:description/>
  <dc:language>en-US</dc:language>
  <cp:lastModifiedBy>Admin</cp:lastModifiedBy>
  <dcterms:modified xsi:type="dcterms:W3CDTF">2008-07-30T23:51:55Z</dcterms:modified>
  <cp:revision>1</cp:revision>
  <dc:subject/>
  <dc:title>Slide 1</dc:title>
</cp:coreProperties>
</file>