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6AB-1BEF-4A99-AEAA-474E1F5E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AE6-1682-4860-AA7E-D641015D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914-FF5C-4A89-B303-A137E39D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E39-A528-4FC0-BCAB-B36C9DCD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2F6-4DAD-458D-84B5-F60B53AF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E62-3521-40D9-97F4-8DC418D2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F54-3035-4875-803C-4D885B25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062-4C09-449B-9B45-1917044D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BCA-6B18-4A88-A6BE-6DD764A4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BB7-A77C-417C-BC78-26A8BB6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0BA-A136-42FF-8392-6BADC97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F82-D240-4F23-A383-2A1D8DB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63D1-FDD7-4CEC-A2D3-1FF28BAE81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porque é bom cantar louvores ao nosso Deus, porque é agradável; decoroso é o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deleita na força do cavalo, nem se compraz nas pernas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 agrada dos que o temem e dos que esperam na sua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, ó Jerusalém, ao SENHOR; louva, ó Sião, ao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rtaleceu os ferrolhos das tuas portas; abençoa aos teus filhos dentr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que põe em paz os teus termos, e da flor da farinha te fa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nvia o seu mandamento à terra; a sua palavra corre veloz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á a neve como lã; esparge a geada como cinz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lança o seu gelo em pedaços; quem pode resistir ao seu fr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 a sua palavra, e os faz derreter; faz soprar o vento, e correm 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stra a sua palavra a Jacó, os seus estatutos e os seus juízos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difica a Jerusalém, congrega os dispers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ez assim a nenhuma outra nação; e quanto aos seus juízos, não os conhecem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ra os quebrantados de coração, e lhes ata as suas fer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a o número das estrelas, chama-as a todas pelos seus no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 é o nosso Senhor, e de grande poder; o seu entendimento é infi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leva os humildes, e abate os ímpios até à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 em ação de graças; cantai louvores ao nosso Deus sobre a har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que cobre o céu de nuvens, o que prepara a chuva para a terra, e o que faz produzir erva sobre os mon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á aos animais o seu sustento, e aos filhos dos corvos, quando cla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49Z</dcterms:created>
  <dc:creator>Admin</dc:creator>
  <dc:description/>
  <dc:language>en-US</dc:language>
  <cp:lastModifiedBy>Admin</cp:lastModifiedBy>
  <dcterms:modified xsi:type="dcterms:W3CDTF">2008-07-31T00:28:49Z</dcterms:modified>
  <cp:revision>1</cp:revision>
  <dc:subject/>
  <dc:title>Slide 1</dc:title>
</cp:coreProperties>
</file>