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213-939F-4C13-8E21-5D24CC39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6E0-A605-40A1-A0AD-CB553E1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49D-3262-48ED-9EDD-C585CB8B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87E-F04D-474A-A7E2-4B9D9991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863-122F-49CA-9ADF-3F7BD830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64A-0C41-4865-840C-6D768DD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61F-3A1C-441E-856D-AF0AE23C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861-650C-4AC3-B6EF-06C655A6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6DF-E377-4D24-876C-36946EDA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F3D-C852-4747-99E2-B21948A8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E37-CF2C-4471-9D8F-7D649B7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26F-9B4A-4AF5-8294-ABB81C3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DBBB-DFE0-4D74-913F-D86A6F5D47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que, ouvindo Sambalate, Tobias, Gesem, o árabe, e o resto dos nossos inimigos, que eu tinha edificado o muro, e que nele já não havia brecha alguma, ainda que até este tempo não tinha posto as portas nos portai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u em casa de Semaías, filho de Delaías, o filho de Meetabel (que estava encerrado), disse ele: Vamos juntamente à casa de Deus, ao meio do templo, e fechemos as portas do templo; porque virão matar-te; sim, de noite virão mat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disse: Um homem como eu fugiria? E quem há, como eu, que entre no templo para que viva? De maneira nenhuma ent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cebi que não era Deus quem o enviara; mas esta profecia falou contra mim, porquanto Tobias e Sambalate o suborn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isto o subornaram, para me atemorizar, e para que assim fizesse, e pecasse, para que tivessem alguma causa para me infamarem, e assim me vituper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meu Deus, de Tobias e de Sambalate, conforme a estas suas obras, e também da profetisa Noadia, e dos mais profetas que procuraram atemoriza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bou-se, pois, o muro aos vinte e cinco do mês de Elul; em cinqüenta e doi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-o todos os nossos inimigos, todos os povos que havia em redor de nós temeram, e abateram-se muito a seus próprios olhos; porque reconheceram que o nosso Deus fizera est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aqueles dias alguns nobres de Judá escreveram muitas cartas que iam para Tobias; e as cartas de Tobias vinham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em Judá lhe eram ajuramentados, porque era genro de Secanias filho de Ará; e seu filho Joanã se casara com a filha de Mesulão, filho de Bereq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as suas boas ações contavam perante mim, e as minhas palavras transmitiam a ele; portanto Tobias escrevia cartas para me atemoriz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mbalate e Gesem mandaram dizer-me: Vem, e congreguemo-nos juntamente nas aldeias, no vale de Ono. Porém intentavam fazer-m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ei-lhes mensageiros a dizer: Faço uma grande obra, de modo que não poderei descer; por que cessaria esta obra, enquanto eu a deixasse, e fosse ter convos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mesmo modo enviaram a mim quatro vezes; e da mesma forma lhes respond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mbalate ainda pela quinta vez me enviou seu servo com uma carta aberta na sua 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qual estava escrito: Entre os gentios se ouviu, e Gesem diz: Tu e os judeus intentais rebelar-vos, então edificas o muro; e tu te farás rei deles segundo estas palav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puseste profetas, para pregarem de ti em Jerusalém, dizendo: Este é rei em Judá; de modo que o rei o ouvirá, segundo estas palavras; vem, pois, agora, e consultemos jun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u mandei dizer-lhe: De tudo o que dizes coisa nenhuma sucedeu; mas tu, do teu coração, o inven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eles procuravam atemorizar-nos, dizendo: As suas mãos largarão a obra, e não se efetuará. Agora, pois, ó Deus, fortalece 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56Z</dcterms:created>
  <dc:creator>Admin</dc:creator>
  <dc:description/>
  <dc:language>en-US</dc:language>
  <cp:lastModifiedBy>Admin</cp:lastModifiedBy>
  <dcterms:modified xsi:type="dcterms:W3CDTF">2008-07-31T00:16:56Z</dcterms:modified>
  <cp:revision>1</cp:revision>
  <dc:subject/>
  <dc:title>Slide 1</dc:title>
</cp:coreProperties>
</file>