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BC1-2FEB-4197-B547-7027CF98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8CF-9FFC-47FE-82D0-473B0C92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AD3-F9B0-4677-B890-4D6132C8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2DD-1366-4A8F-90B0-9B6AB96F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07E-0C52-45BF-AC6D-E852E82C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79F-6860-4AF2-B50D-64EA13D2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5C9-BC17-40EC-941D-83431FE7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BEA-63E3-4BFD-B22C-AD07D2B3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0B5-22C5-4AA2-AD65-7D167458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EA1-F23C-4661-B485-103A9A5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F99-DDF1-4D5B-B385-750EAAED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477-2B53-42E9-A480-801D13B6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65E8-C131-4B86-B429-57869BADD70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me disse: Vai outra vez, ama uma mulher, amada de seu amigo, contudo adúltera, como o SENHOR ama os filhos de Israel, embora eles olhem para outros deuses, e amem os bolos de u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prei-a para mim por quinze peças de prata, e um ômer, e meio ômer de cev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Tu ficarás comigo muitos dias; não te prostituirás, nem serás de outro homem; assim também eu esperarei por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filhos de Israel ficarão por muitos dias sem rei, e sem príncipe, e sem sacrifício, e sem estátua, e sem éfode ou tera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rnarão os filhos de Israel, e buscarão ao SENHOR seu Deus, e a Davi, seu rei; e temerão ao SENHOR, e à sua bondade, no fim d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35Z</dcterms:created>
  <dc:creator>Admin</dc:creator>
  <dc:description/>
  <dc:language>en-US</dc:language>
  <cp:lastModifiedBy>Admin</cp:lastModifiedBy>
  <dcterms:modified xsi:type="dcterms:W3CDTF">2008-07-31T00:20:35Z</dcterms:modified>
  <cp:revision>1</cp:revision>
  <dc:subject/>
  <dc:title>Slide 1</dc:title>
</cp:coreProperties>
</file>