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26E-2627-4A86-970E-FEF2D3AB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E4B-97FB-4F14-BA6A-C73F3268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380-8E6A-48C1-8E50-E63F8DA9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EEB-16A1-423B-BEC0-06C64B42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A84-8DFD-48F5-A7D0-F6409E68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8A2-94E3-4477-84C9-B2472F02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C31-822E-4C05-837C-052E34F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CB5-C45B-40D7-9E06-092F674D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AD0-EB9A-4515-AC49-546B541A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FEE-9252-4498-985B-82AC1808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C89-1406-4A50-AFCE-063A463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4C4-BE23-41F7-A3F1-46105ABC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7990-CC17-4B6B-9A45-5C02703AAB1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vestirá a sua veste de linho, e vestirá as calças de linho, sobre a sua carne, e levantará a cinza, quando o fogo houver consumido o holocausto sobre o altar, e a porá junto a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spirá as suas vestes, e vestirá outras vestes; e levará a cinza fora do arraial para um lugar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ogo que está sobre o altar arderá nele, não se apagará; mas o sacerdote acenderá lenha nele cada manhã, e sobre ele porá em ordem o holocausto e sobre ele queimará a gordura das ofertas pacífi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ogo arderá continuamente sobre o altar; não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é a lei da oferta de alimentos: os filhos de Arão a oferecerão perante o SENHOR diante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la tomará um punhado da flor de farinha, da oferta e do seu azeite, e todo o incenso que estiver sobre a oferta de alimentos; então o acenderá sobre o altar, cheiro suave é isso, por ser memorial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tante dela comerão Arão e seus filhos; ázimo se comerá no lugar santo, no pátio da tenda da congregação o com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edado não se cozerá; sua porção é que lhes dei das minhas ofertas queimadas; coisa santíssima é, como a expiação do pecado e como a expiação da cul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homem entre os filhos de Arão comerá dela; estatuto perpétuo será para as vossas gerações das ofertas queimadas do SENHOR; todo o que as tocar será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lguma pessoa pecar, e transgredir contra o SENHOR, e negar ao seu próximo o que lhe deu em guarda, ou o que deixou na sua mão, ou o roubo, ou o que reteve violentamente ao seu próxim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oferta de Arão e de seus filhos, a qual oferecerão ao SENHOR no dia em que ele for ungido; a décima parte de um efa de flor de farinha pela oferta de alimentos contínua; a metade dela pela manhã, e a outra metade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ma caçoula se fará com azeite; cozida a trarás; e os pedaços cozidos da oferta oferecerás em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acerdote, que de entre seus filhos for ungido em seu lugar, fará o mesmo; por estatuto perpétuo será ela tod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oda a oferta do sacerdote será totalmente queimada; não se com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Arão e a seus filhos, dizendo: Esta é a lei da expiação do pecado; no lugar onde se degola o holocausto se degolará a expiação do pecado perante o SENHOR; coisa santíssima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acerdote que a oferecer pelo pecado a comerá; no lugar santo se comerá, no pátio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o que tocar a carne da oferta será santo; se o seu sangue for espargido sobre as vestes de alguém, lavarás em lugar santo aquilo sobre o que ca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vaso de barro em que for cozida será quebrado; porém, se for cozida num vaso de cobre, esfregar-se-á e lavar-se-á na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homem entre os sacerdotes a comerá; coisa santíssima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que achou o perdido, e o negar com falso juramento, ou fizer alguma outra coisa de todas em que o homem costuma pec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não se comerá nenhuma oferta pelo pecado, cujo sangue se traz à tenda da congregação, para expiar no santuário; no fogo será quei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pois que, como pecou e tornou-se culpado, restituirá o que roubou, ou o que reteve violentamente, ou o depósito que lhe foi dado em guarda, ou o perdido que ach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tudo aquilo sobre que jurou falsamente; e o restituirá no seu todo, e ainda sobre isso acrescentará o quinto; àquele de quem é o dará no dia de sua expi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expiação trará ao SENHOR: um carneiro sem defeito do rebanho, conforme à tua estimação, para expiação da culpa trará ao sacerdo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fará expiação por ela diante do SENHOR, e será perdoada de qualquer das coisas que fez, tornando-se cul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ordem a Arão e a seus filhos, dizendo: Esta é a lei do holocausto; o holocausto será queimado sobre o altar toda a noite até pela manhã, e o fogo do altar arderá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19Z</dcterms:created>
  <dc:creator>Admin</dc:creator>
  <dc:description/>
  <dc:language>en-US</dc:language>
  <cp:lastModifiedBy>Admin</cp:lastModifiedBy>
  <dcterms:modified xsi:type="dcterms:W3CDTF">2008-07-31T00:08:19Z</dcterms:modified>
  <cp:revision>1</cp:revision>
  <dc:subject/>
  <dc:title>Slide 1</dc:title>
</cp:coreProperties>
</file>