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DE2-CED8-412A-BD86-2F7701FD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24A-F541-4E66-845A-8062ED2A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B3F-20A9-4244-A961-FAB4F2FF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A77-7FB0-4E42-AC8B-600208F3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68C-3B89-4DEC-8487-E2D2ABA4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E79-C1FE-462E-AC8E-B603719E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9F4-845D-4C07-AEEB-A913B0BC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B3F-B7A8-4449-A934-92B8D082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D4A-362D-4F72-B7F5-89016747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F44-C219-4349-AD65-A203DAF7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121-4DA5-4D65-B78A-49B370AE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4F4-862E-4E92-89E6-5B5A3529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DBD5-7EEF-4E35-A0F8-9AE86E99DA4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ó filho do homem, profetiza aos montes de Israel, e dize: Montes de Israel, ouvi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ltiplicarei homens sobre vós, a toda a casa de Israel, a toda ela; e as cidades serão habitadas, e os lugares devastados serão edif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ltiplicarei homens e animais sobre vós, e eles se multiplicarão, e frutificarão. E farei com que sejais habitados como dantes e vos tratarei melhor que nos vossos princípios;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andar sobre vós homens, o meu povo de Israel; eles te possuirão, e serás a sua herança, e nunca mais os desfilh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Porquanto vos dizem: Tu és uma terra que devora os homens, e és uma terra que desfilha as suas n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u não devorarás mais os homens, nem desfilharás mais as tuas naçõe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que nunca mais tu ouças a afronta dos gentios; nem levarás mais sobre ti o opróbrio das gentes, nem mais desfilharás a tua nação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quando a casa de Israel habitava na sua terra, então a contaminaram com os seus caminhos e com as suas ações. Como a imundícia de uma mulher em sua separação, tal era o seu caminho perante o m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ei, pois, o meu furor sobre eles, por causa do sangue que derramaram sobre a terra, e dos seus ídolos, com que a contamin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alhei-os entre os gentios, e foram dispersos pelas terras; conforme os seus caminhos, e conforme os seus feitos, eu os julgu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Pois que disse o inimigo contra vós: Ah! ah! até as alturas eternas serão nossa heran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aos gentios para onde foram, profanaram o meu santo nome, porquanto se dizia deles: Estes são o povo do SENHOR, e saíram d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os poupei por amor do meu santo nome, que a casa de Israel profanou entre os gentios para onde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 portanto à casa de Israel: Assim diz o Senhor DEUS: Não é por respeito a vós que eu faço isto, ó casa de Israel, mas pelo meu santo nome, que profanastes entre as nações para onde fo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santificarei o meu grande nome, que foi profanado entre os gentios, o qual profanastes no meio deles; e os gentios saberão que eu sou o SENHOR, diz o Senhor DEUS, quando eu for santificado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tomarei dentre os gentios, e vos congregarei de todas as terras, e vos trarei para a voss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spergirei água pura sobre vós, e ficareis purificados; de todas as vossas imundícias e de todos os vossos ídolos vos purific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r-vos-ei um coração novo, e porei dentro de vós um espírito novo; e tirarei da vossa carne o coração de pedra, e vos darei um coração de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dentro de vós o meu Espírito, e farei que andeis nos meus estatutos, e guardeis os meus juízos, e os obser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eis na terra que eu dei a vossos pais e vós sereis o meu povo, e eu serei o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ivrar-vos-ei de todas as vossas imundícias; e chamarei o trigo, e o multiplicarei, e não trarei fome sob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profetiza, e dize: Assim diz o Senhor DEUS: Porquanto vos assolaram e devoraram de todos os lados, para que ficásseis feitos herança do restante dos gentios, e tendes andado em lábios paroleiros, e em infâmia do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ltiplicarei o fruto das árvores, e a novidade do campo, para que nunca mais recebais o opróbrio da fome entre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s lembrareis dos vossos maus caminhos, e dos vossos feitos, que não foram bons; e tereis nojo em vós mesmos das vossas iniqüidades e das vossa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por amor de vós que eu faço isto, diz o Senhor DEUS; notório vos seja; envergonhai-vos, e confundi-vos por causa dos vossos caminhos, ó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No dia em que eu vos purificar de todas as vossas iniqüidades, então farei com que sejam habitadas as cidades e sejam edificados os lugares devas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assolada será lavrada, em lugar de estar assolada aos olhos de todos os que pass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ão: Esta terra assolada ficou como jardim do Éden: e as cidades solitárias, e assoladas, e destruídas, estão fortalecidas e habi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berão os gentios, que tiverem ficado ao redor de vós, que eu, o SENHOR, tenho reedificado as cidades destruídas, e plantado o que estava devastado. Eu, o SENHOR, o disse e o f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Ainda por isso serei solicitado pela casa de Israel, que lho faça; multiplicar-lhes-ei os homens, como a um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rebanho santificado, como o rebanho de Jerusalém nas suas solenidades, assim as cidades desertas se encherão de rebanhos de homens;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ouvi, ó montes de Israel, a palavra do Senhor DEUS: Assim diz o Senhor DEUS aos montes e aos outeiros, aos rios e aos vales, aos lugares assolados e solitários, e às cidades desamparadas que se tornaram em rapina e em escárnio para o restante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Certamente no fogo do meu zelo falei contra o restante dos gentios, e contra todo o Edom, que se apropriaram da minha terra, com toda a alegria de seu coração, e com menosprezo da alma, para a lançarem fora à rap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profetiza sobre a terra de Israel, e dize aos montes, e aos outeiros, aos rios e aos vales: Assim diz o Senhor DEUS: Eis que falei no meu zelo e no meu furor, porque levastes sobre vós o opróbrio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Eu levantei a minha mão, para que os gentios, que estão ao redor de vós, levem o seu oprób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, ó montes de Israel, produzireis os vossos ramos, e dareis o vosso fruto para o meu povo de Israel; porque estão prestes a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eu estou convosco, e eu me voltarei para vós, e sereis lavrados e seme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45Z</dcterms:created>
  <dc:creator>Admin</dc:creator>
  <dc:description/>
  <dc:language>en-US</dc:language>
  <cp:lastModifiedBy>Admin</cp:lastModifiedBy>
  <dcterms:modified xsi:type="dcterms:W3CDTF">2008-07-30T23:35:45Z</dcterms:modified>
  <cp:revision>1</cp:revision>
  <dc:subject/>
  <dc:title>Slide 1</dc:title>
</cp:coreProperties>
</file>