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9F3F-4DEE-4975-B644-3B4C9565A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BB39-27D6-44DE-9B7A-4D6A87D2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DE8C-BBAB-494C-BAE7-16A3913E3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DF7F-5BB8-47A8-A6C4-131CB6C25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54CD-314F-4521-AE15-DC4CA0AF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8435-B3D5-4FAF-9800-40A8F740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DE9C-7EBC-48CD-B7D0-609057BD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30FB-1ED6-4CAB-82FA-C79AC74E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75F4-13A0-462C-BB5B-311D801F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1FA5-2EB7-4257-B13F-DE4C62B2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E87E-7C51-444F-935D-B0433883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D867-24DF-4CCE-97B4-77B9BC4B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19A6-A1C6-4B8D-94A3-2B318074377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, pois, que, chegando Davi e os seus homens ao terceiro dia a Ziclague, já os amalequitas tinham invadido o sul, e Ziclague, e tinham ferido a Ziclague e a tinham queimado a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rseguiu-os Davi, ele e os quatrocentos homens, pois que duzentos homens ficaram, por não poderem, de cansados que estavam, passar o ribeiro de Bes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haram no campo um homem egípcio, e o trouxeram a Davi; deram-lhe pão, e comeu, e deram-lhe a beber ág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ram-lhe também um pedaço de massa de figos secos e dois cachos de passas, e comeu, e voltou-lhe o seu espírito, porque havia três dias e três noites que não tinha comido pão nem bebido ág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avi lhe disse: De quem és tu, e de onde és? E disse o moço egípcio: Sou servo de um homem amalequita, e meu senhor me deixou, porque adoeci há trê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ós invadimos o lado do sul dos queretitas, e o lado de Judá, e o lado do sul de Calebe, e pusemos fogo a Ziclag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Davi: Poderias, descendo, guiar-me a essa tropa? E disse-lhe: Por Deus jura-me que não me matarás, nem me entregarás na mão de meu senhor, e, descendo, te guiarei a essa trop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scendo, o guiou e eis que estavam espalhados sobre a face de toda a terra, comendo, e bebendo, e dançando, por todo aquele grande despojo que tomaram da terra dos filisteus e da terra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riu-os Davi, desde o crepúsculo até à tarde do dia seguinte; nenhum deles escapou, senão só quatrocentos moços que, montados sobre camelos, fugi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salvou Davi tudo quanto tomaram os amalequitas; também as suas duas mulheres salvou Da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inguém lhes faltou, desde o menor até ao maior, e até os filhos e as filhas; e também desde o despojo até tudo quanto lhes tinham tomado, tudo Davi tornou a tra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nham levado cativas as mulheres, e todos os que estavam nela, tanto pequenos como grandes; a ninguém, porém, mataram, tão-somente os levaram consigo, e foram o seu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tomou Davi todas as ovelhas e vacas, e levavam-nas adiante do outro gado, e diziam: Este é o despojo de Da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ndo Davi aos duzentos homens que, de cansados que estavam, não puderam seguir a Davi, e que deixaram ficar no ribeiro de Besor, estes saíram ao encontro de Davi e do povo que com ele vinha; e, chegando-se Davi com o povo, os saudou em p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dos os maus e perversos, dentre os homens que tinham ido com Davi, responderam, e disseram: Visto que não foram conosco, não lhes daremos do despojo que libertamos; mas que leve cada um sua mulher e seus filhos, e se v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Davi disse: Não fareis assim, irmãos meus, com o que nos deu o SENHOR, que nos guardou, e entregou a tropa que contra nós vinha, nas noss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m vos daria ouvidos nisso? Porque qual é a parte dos que desceram à peleja, tal também será a parte dos que ficaram com a bagagem; igualmente reparti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0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assim foi desde aquele dia em diante, porquanto o pôs por estatuto e direito em Israel até ao dia de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0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ndo Davi a Ziclague, enviou do despojo aos anciãos de Judá, seus amigos, dizendo: Eis aí para vós uma bênção do despojo dos inimigos do SENHO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0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s de Betel, e aos de Ramote do sul, e aos de Jate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0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s de Aroer, e aos de Sifmote, e aos de Estemo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0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s de Racal, e aos que estavam nas cidades jerameelitas e nas cidades dos quene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e os seus homens chegaram à cidade e eis que estava queimada a fogo, e suas mulheres, seus filhos e suas filhas tinham sido levados cati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0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s de Hormá, e aos de Corasã, e aos de Atac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0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s de Hebrom, e a todos os lugares em que andara Davi, ele e os seu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avi e o povo que se achava com ele alçaram a sua voz, e choraram, até que neles não houve mais forças para chor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as duas mulheres de Davi foram levadas cativas; Ainoã, a jizreelita, e Abigail, a mulher de Nabal, o carmel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muito se angustiou, porque o povo falava de apedrejá-lo, porque a alma de todo o povo estava em amargura, cada um por causa dos seus filhos e das suas filhas; todavia Davi se fortaleceu no SENHOR s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Davi a Abiatar, o sacerdote, filho de Aimeleque: Traze-me, peço-te, aqui o éfode. E Abiatar trouxe o éfode a Da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onsultou Davi ao SENHOR, dizendo: Perseguirei eu a esta tropa? Alcançá-la-ei? E lhe disse: Persegue-a, porque decerto a alcançarás e tudo libert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tiu, pois, Davi, ele e os seiscentos homens que com ele se achavam, e chegaram ao ribeiro de Besor, onde pararam os que ficaram at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8:01Z</dcterms:created>
  <dc:creator>Admin</dc:creator>
  <dc:description/>
  <dc:language>en-US</dc:language>
  <cp:lastModifiedBy>Admin</cp:lastModifiedBy>
  <dcterms:modified xsi:type="dcterms:W3CDTF">2008-07-30T23:48:01Z</dcterms:modified>
  <cp:revision>1</cp:revision>
  <dc:subject/>
  <dc:title>Slide 1</dc:title>
</cp:coreProperties>
</file>