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8ECF-8B77-45E2-B82E-0C62C7F6C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5AAB-2D5B-4E04-A803-5A8D42B8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7B51-AA38-4D38-B2E2-F787C9E4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2FBE-EEDA-4B64-B0A4-B6B840F5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769C-AE08-4F0E-B842-D63B32B5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B3A-3EAB-4461-A7CD-40500A2A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1120-97DA-42B2-9249-C0005CD0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1928-1DAA-4BD1-BBB4-A74BDEFD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AFFF-98B4-48FB-968F-735136BC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5A17-F0BD-4391-AE04-7111D03C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212A-72B5-41C3-AF74-0D082920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11BD-3100-49F0-8AD9-E339EF5A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E225-AB0F-465B-9076-49D7F1D6CF9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TO seja o SENHOR, minha rocha, que ensina as minhas mãos para a peleja e os meus dedos para a guer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i, que dás a salvação aos reis, e que livras a Davi, teu servo, da espada malig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ivra-me, e tira-me das mãos dos filhos estranhos, cuja boca fala vaidade, e a sua mão direita é a destra de iniqüida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nossos filhos sejam como plantas crescidas na sua mocidade; para que as nossas filhas sejam como pedras de esquina lavradas à moda de paláci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as nossas dispensas se encham de todo provimento; para que os nossos rebanhos produzam a milhares e a dezenas de milhares nas nossas r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os nossos bois sejam fortes para o trabalho; para que não haja nem assaltos, nem saídas, nem gritos nas nossas r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 o povo ao qual assim acontece; bem-aventurado é o povo cujo Deus é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ignidade minha e fortaleza minha; alto retiro meu e meu libertador és tu; escudo meu, em quem eu confio, e que me sujeita o m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, que é o homem, para que o conheças, e o filho do homem, para que o estim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é semelhante à vaidade; os seus dias são como a sombra que pas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aixa, ó SENHOR, os teus céus, e desce; toca os montes, e fumeg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bra os teus raios e dissipa-os; envia as tuas flechas, e desbarata-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nde as tuas mãos desde o alto; livra-me, e arrebata-me das muitas águas e das mãos dos filhos estranh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uja boca fala vaidade, e a sua mão direita é a destra de fals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i, ó Deus, cantarei um cântico novo; com o saltério e instrumento de dez cordas te cantarei louvor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44Z</dcterms:created>
  <dc:creator>Admin</dc:creator>
  <dc:description/>
  <dc:language>en-US</dc:language>
  <cp:lastModifiedBy>Admin</cp:lastModifiedBy>
  <dcterms:modified xsi:type="dcterms:W3CDTF">2008-07-31T00:28:44Z</dcterms:modified>
  <cp:revision>1</cp:revision>
  <dc:subject/>
  <dc:title>Slide 1</dc:title>
</cp:coreProperties>
</file>