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F4F-AC0A-47D1-9B8C-A892D942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B5C-C682-464F-8D27-91AA220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72C-7D2F-4F2F-92EA-2828DE04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F54-6B48-4888-BA61-0525582B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497-6F6F-4381-B848-EC9DC93E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603-1010-4AE1-A60B-1B50AC5F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757-C2E7-4563-BE0C-D36BA150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BFF-3C31-4CD9-B86A-A3FF822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128-7014-4923-B8A6-60AE6A86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40B-190E-4041-AE7A-40BB2B3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1F4-D31A-4DF1-872E-7A94C08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A3E-7D70-4775-9326-C6C3ADF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8202-FF15-4544-A617-3CCED978CB9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e concluir todos estes discursos perante o povo, entrou em Cafarna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 para casa os que foram enviados, acharam são o servo enf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no dia seguinte, ele foi à cidade chamada Naim, e com ele iam muitos dos seus discípulos, e uma grande mult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ou perto da porta da cidade, eis que levavam um defunto, filho único de sua mãe, que era viúva; e com ela ia uma grande multidão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-a, o Senhor moveu-se de íntima compaixão por ela, e disse-lhe: Não ch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se, tocou o esquife (e os que o levavam pararam), e disse: Jovem, a ti te digo: Levanta-te. E o defunto assentou-se, e começou a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ou-o 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odos se apoderou o temor, e glorificavam a Deus, dizendo: Um grande profeta se levantou entre nós, e Deus visitou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reu dele esta fama por toda a Judéia e por toda a terra circunviz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 de João anunciaram-lhe toda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ão, chamando dois dos seus discípulos, enviou-os a Jesus, dizendo: És tu aquele que havia de vir, ou esperamos out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rvo de um certo centurião, a quem muito estimava, estava doente, e morib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queles homens chegaram junto dele, disseram: João o Batista enviou-nos a perguntar-te: És tu aquele que havia de vir, ou esperamos out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mesma hora, curou muitos de enfermidades, e males, e espíritos maus, e deu vista a muitos ce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ndo, então, Jesus, disse-lhes: Ide, e anunciai a João o que tendes visto e ouvido: que os cegos vêem, os coxos andam, os leprosos são purificados, os surdos ouvem, os mortos ressuscitam e aos pobres anuncia-se o evang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-aventurado é aquele que em mim se não escandaliz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-se retirado os mensageiros de João, começou a dizer à multidão acerca de João: Que saístes a ver no deserto? uma cana abalada pelo v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saístes a ver? um homem trajado de vestes delicadas? Eis que os que andam com preciosas vestiduras, e em delícias, estão nos paços re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saístes a ver? um profeta? Sim, vos digo, e muito mais do que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aquele de quem está escrito: Eis que envio o meu anjo diante da tua face, O qual preparará diante de ti o t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vos digo que, entre os nascidos de mulheres, não há maior profeta do que João o Batista; mas o menor no reino de Deus é maior do qu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que o ouviu e os publicanos, tendo sido batizados com o batismo de João, justificara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uviu falar de Jesus, enviou-lhe uns anciãos dos judeus, rogando-lhe que viesse curar o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ariseus e os doutores da lei rejeitaram o conselho de Deus contra si mesmos, não tendo sido batizados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A quem, pois, compararei os homens desta geração, e a quem são semelha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semelhantes aos meninos que, assentados nas praças, clamam uns aos outros, e dizem: Tocamo-vos flauta, e não dançastes; cantamo-vos lamentações, e não chor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eio João o Batista, que não comia pão nem bebia vinho, e dizeis: Tem demôn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o Filho do homem, que come e bebe, e dizeis: Eis aí um homem comilão e bebedor de vinho, amigo dos publicanos e pe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sabedoria é justificada por todos os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ou-lhe um dos fariseus que comesse com ele; e, entrando em casa do fariseu, assentou-se à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a mulher da cidade, uma pecadora, sabendo que ele estava à mesa em casa do fariseu, levou um vaso de alabastro com ungü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por detrás, aos seus pés, chorando, começou a regar-lhe os pés com lágrimas, e enxugava-lhos com os cabelos da sua cabeça; e beijava-lhe os pés, e ungia-lhos com o ungü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isto viu o fariseu que o tinha convidado, falava consigo, dizendo: Se este fora profeta, bem saberia quem e qual é a mulher que lhe tocou, pois é uma pecad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s junto de Jesus, rogaram-lhe muito, dizendo: É digno de que lhe concedas 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ndo, Jesus disse-lhe: Simão, uma coisa tenho a dizer-te. E ele disse: Dize-a, Mes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erto credor tinha dois devedores: um devia-lhe quinhentos dinheiros, e outro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tendo eles com que pagar, perdoou-lhes a ambos. Dize, pois, qual deles o amará m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ão, respondendo, disse: Tenho para mim que é aquele a quem mais perdoou. E ele lhe disse: Julgaste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-se para a mulher, disse a Simão: Vês tu esta mulher? Entrei em tua casa, e não me deste água para os pés; mas esta regou-me os pés com lágrimas, e mos enxugou com os seus cab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deste ósculo, mas esta, desde que entrou, não tem cessado de me beijar 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ungiste a cabeça com óleo, mas esta ungiu-me os pés com ungü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e digo que os seus muitos pecados lhe são perdoados, porque muito amou; mas aquele a quem pouco é perdoado pouco 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a ela: Os teus pecados te são perdo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estavam à mesa começaram a dizer entre si: Quem é este, que até perdoa pec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ma a nossa nação, e ele mesmo nos edificou a sinago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à mulher: A tua fé te salvou; vai-te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Jesus com eles; mas, quando já estava perto da casa, enviou-lhe o centurião uns amigos, dizendo-lhe: Senhor, não te incomodes, porque não sou digno de que entres debaixo do meu te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nem ainda me julguei digno de ir ter contigo; dize, porém, uma palavra, e o meu criado sa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eu sou homem sujeito à autoridade, e tenho soldados sob o meu poder, e digo a este: Vai, e ele vai; e a outro: Vem, e ele vem; e ao meu servo: Faze isto, e ele o f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isto Jesus, maravilhou-se dele, e voltando-se, disse à multidão que o seguia: Digo-vos que nem ainda em Israel tenho achado tant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44Z</dcterms:created>
  <dc:creator>Admin</dc:creator>
  <dc:description/>
  <dc:language>en-US</dc:language>
  <cp:lastModifiedBy>Admin</cp:lastModifiedBy>
  <dcterms:modified xsi:type="dcterms:W3CDTF">2008-07-31T00:10:44Z</dcterms:modified>
  <cp:revision>1</cp:revision>
  <dc:subject/>
  <dc:title>Slide 1</dc:title>
</cp:coreProperties>
</file>