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2BF9-52B4-4F45-A1E7-39F8B8CB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0691-2B85-4BB8-998B-BC57074D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4FE-6532-4280-80F9-6BC91D2E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88F8-68D1-429A-AB73-4348B9BB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3CC-7602-40A2-BDA9-11EB8E01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A25-1A6C-40F7-AE9B-FBA731AC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ECB-4030-4CA5-9A04-D5ADC4E4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799-AC30-4B06-89E2-AE97B2DD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380-A7C1-4452-BEC4-43550E1C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51E4-D9EB-40EF-BE0B-8B7D9784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A885-A4DA-4837-B3D0-4407FEBF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B48B-54EE-4957-82DD-03C12087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E679-3BBE-4FF6-9641-D90AFED99D0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MANEÇA o amor fratern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os um altar, de que não têm direito de comer os que servem ao tabernácu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corpos dos animais, cujo sangue é, pelo pecado, trazido pelo sumo sacerdote para o santuário, são queimados fora do arra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isso também Jesus, para santificar o povo pelo seu próprio sangue, padeceu fora da p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iamos, pois, a ele fora do arraial, levando o seu vitupé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temos aqui cidade permanente, mas buscamos a fu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ofereçamos sempre por ele a Deus sacrifício de louvor, isto é, o fruto dos lábios que confessam 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vos esqueçais da beneficência e comunicação, porque com tais sacrifícios Deus se agr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bedecei a vossos pastores, e sujeitai-vos a eles; porque velam por vossas almas, como aqueles que hão de dar conta delas; para que o façam com alegria e não gemendo, porque isso não vos seria út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i por nós, porque confiamos que temos boa consciência, como aqueles que em tudo querem portar-se honest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ogo-vos com instância que assim o façais, para que eu mais depressa vos seja restituí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s esqueçais da hospitalidade, porque por ela alguns, não o sabendo, hospedaram anj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Deus de paz, que pelo sangue da aliança eterna tornou a trazer dos mortos a nosso Senhor Jesus Cristo, grande pastor das ovelh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s aperfeiçoe em toda a boa obra, para fazerdes a sua vontade, operando em vós o que perante ele é agradável por Cristo Jesus, ao qual seja glória para todo o sempre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ogo-vos, porém, irmãos, que suporteis a palavra desta exortação; porque abreviadamente vos escre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i que já está solto o irmão Timóteo, com o qual, se ele vier depressa, vos ve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dai a todos os vossos chefes e a todos os santos. Os da Itália vos saúd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graça seja com todos vós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i-vos dos presos, como se estivésseis presos com eles, e dos maltratados, como sendo-o vós mesmos também no cor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erado seja entre todos o matrimônio e o leito sem mácula; porém, aos que se dão à prostituição, e aos adúlteros, Deus os julg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m vossos costumes sem avareza, contentando-vos com o que tendes; porque ele disse: Não te deixarei, nem te desampar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com confiança ousemos dizer: O SENHOR é o meu ajudador, e não temerei O que me possa fazer 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i-vos dos vossos pastores, que vos falaram a palavra de Deus, a fé dos quais imitai, atentando para a sua maneira de viv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esus Cristo é o mesmo, ontem, e hoje, e etern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s deixeis levar em redor por doutrinas várias e estranhas, porque bom é que o coração se fortifique com graça, e não com alimentos que de nada aproveitaram aos que a eles se entreg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1:08Z</dcterms:created>
  <dc:creator>Admin</dc:creator>
  <dc:description/>
  <dc:language>en-US</dc:language>
  <cp:lastModifiedBy>Admin</cp:lastModifiedBy>
  <dcterms:modified xsi:type="dcterms:W3CDTF">2008-07-30T23:41:08Z</dcterms:modified>
  <cp:revision>1</cp:revision>
  <dc:subject/>
  <dc:title>Slide 1</dc:title>
</cp:coreProperties>
</file>