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6C70-AC57-4C54-B7BE-F1EFB691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9159-3778-4E9C-8E72-970C5327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82C3-F1C1-4E27-83C3-6A03DB65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982A-6433-4F9C-A007-75471B620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DCB8-2C79-4A67-89E2-0C58D775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DBD5-7B50-4742-8A29-FFEB4A18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8CFB-431D-4134-A891-FF45D467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8C45-99B6-4811-B077-D24ED69E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AAA5-7D9C-48A4-8B3D-20389464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CC4A-04DD-4A41-BA0F-2B03C030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4023-5172-432B-BC3D-54C376A9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F483-AD31-41D1-B687-EE609D89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254A-C30D-4ECF-A2BE-881B28488A2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ÕE a trombeta à tua boca. Ele virá como a águia contra a casa do SENHOR, porque transgrediram a minha aliança, e se rebelaram contra a minha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, ainda que eles merquem entre as nações, eu os congregarei; e serão um pouco afligidos por causa da carga do rei dos príncip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Efraim multiplicou os altares para pecar; teve altares para pec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crevi-lhe as grandezas da minha lei, porém essas são estimadas como coisa estra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os sacrifícios das minhas ofertas, sacrificam carne, e a comem, mas o SENHOR não as aceita; agora se lembrará da sua iniqüidade, e punirá os seus pecados; eles voltarão para 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Israel se esqueceu do seu Criador, e edificou templos, e Judá multiplicou cidades fortificadas. Mas eu enviarei um fogo contra as suas cidades, que consumirá os seus palác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im clamarão: Deus meu! Nós, Israel, te conhece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srael rejeitou o bem; o inimigo persegui-lo-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s fizeram reis, mas não por mim; constituíram príncipes, mas eu não o soube; da sua prata e do seu ouro fizeram ídolos para si, para serem destruí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eu bezerro, ó Samaria, te rejeitou; a minha ira se acendeu contra eles; até quando serão eles incapazes da inocênci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isso vem de Israel, um artífice o fez, e não é Deus; mas em pedaços será desfeito o bezerro de Sama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emearam vento, e segarão tormenta, não haverá seara, a erva não dará farinha; se a der, tragá-la-ão os estrang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srael foi devorado; agora está entre os gentios como um vaso em que ninguém tem pr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ubiram à Assíria, como um jumento montês, por si só; Efraim mercou am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0:44Z</dcterms:created>
  <dc:creator>Admin</dc:creator>
  <dc:description/>
  <dc:language>en-US</dc:language>
  <cp:lastModifiedBy>Admin</cp:lastModifiedBy>
  <dcterms:modified xsi:type="dcterms:W3CDTF">2008-07-31T00:20:44Z</dcterms:modified>
  <cp:revision>1</cp:revision>
  <dc:subject/>
  <dc:title>Slide 1</dc:title>
</cp:coreProperties>
</file>