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8CB-0CC1-46CF-B38D-F1DCF404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853-6144-4705-A106-57FC974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ED8-5AAB-4ABD-8E88-7ED517D2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54F-C6BE-4FA7-81A1-71B7724D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B3E-2AC8-41F4-BFCF-0D0B119D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6AB-CC1F-4492-939D-72C27EC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C3F-C128-4EA1-818C-FB3749CC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E1F-A2A9-4973-A896-F5BE00F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CBC-AC17-42E2-8472-EEA4F6C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AF0-C73F-47DD-B315-7342C886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2D5-3BE2-4371-A315-92F29E0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F45-2ACF-4882-AEEE-86803572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F6EE-2C14-4807-9F9B-8FE5C18AE8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MENDO-VOS, pois, Febe, nossa irmã, a qual serve na igreja que está em Cencré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Apeles, aprovado em Cristo. Saudai aos da família de Aristób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Herodião, meu parente. Saudai aos da família de Narciso, os que estã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Trifena e a Trifosa, as quais trabalham no Senhor. Saudai à amada Pérside, a qual muito trabalhou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Rufo, eleito no Senhor, e a sua mãe e m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Asíncrito, a Flegonte, a Hermes, a Pátrobas, a Hermas, e aos irmãos que estão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Filólogo e a Júlia, a Nereu e a sua irmã, e a Olimpas, e a todos os santos que com eles 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-vos uns aos outros com santo ósculo. As igrejas de Cristo vos saú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o-vos, irmãos, que noteis os que promovem dissensões e escândalos contra a doutrina que aprendestes; desviai-v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tais não servem a nosso Senhor Jesus Cristo, mas ao seu ventre; e com suaves palavras e lisonjas enganam os corações dos simp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 vossa obediência, é ela conhecida de todos. Comprazo-me, pois, em vós; e quero que sejais sábios no bem, mas simples n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recebais no Senhor, como convém aos santos, e a ajudeis em qualquer coisa que de vós necessitar; porque tem hospedado a muitos, como também a mim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us de paz esmagará em breve Satanás debaixo dos vossos pés. A graça de nosso Senhor Jesus Cristo seja convosc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m-vos Timóteo, meu cooperador, e Lúcio, Jasom e Sosípatro, meus par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Tércio, que esta carta escrevi, vos saúd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-vos Gaio, meu hospedeiro, e de toda a igreja. Saúda-vos Erasto, procurador da cidade, e também o irmão Qu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 com todos vó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àquele que é poderoso para vos confirmar segundo o meu evangelho e a pregação de Jesus Cristo, conforme a revelação do mistério que desde tempos eternos esteve ocul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se manifestou agora, e se notificou pelas Escrituras dos profetas, segundo o mandamento do Deus eterno, a todas as nações para obediência da f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único Deus, sábio, seja dada glória por Jesus Cristo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Priscila e a Áqüila, meus cooperadores em Cristo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pela minha vida expuseram as suas cabeças; o que não só eu lhes agradeço, mas também todas as igrejas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também a igreja que está em sua casa. Saudai a Epêneto, meu amado, que é as primícias da Acaia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Maria, que trabalhou muito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Andrônico e a Júnias, meus parentes e meus companheiros na prisão, os quais se distinguiram entre os apóstolos e que foram antes de mim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Amplias, meu amad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Urbano, nosso cooperador em Cristo, e a Estáquis, meu 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55Z</dcterms:created>
  <dc:creator>Admin</dc:creator>
  <dc:description/>
  <dc:language>en-US</dc:language>
  <cp:lastModifiedBy>Admin</cp:lastModifiedBy>
  <dcterms:modified xsi:type="dcterms:W3CDTF">2008-07-31T00:23:55Z</dcterms:modified>
  <cp:revision>1</cp:revision>
  <dc:subject/>
  <dc:title>Slide 1</dc:title>
</cp:coreProperties>
</file>