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DEC-CD12-4397-9DB2-A51C401C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CC8-C26B-49B7-8AF3-CDBC8E78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AB2-27E8-4FDC-B478-3772A1AB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B45-98BB-429D-8D84-37B885D7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C85-35DF-41BE-BE86-A6374841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E5D-E3DD-48EA-BB0C-760F2E3C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08E-6B60-4E07-B423-3178F6AA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F17-BA53-424C-AEA4-E6E3C37A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006-B3DD-416B-AA03-60695E51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B69-AB1E-494D-A1B7-60CD7990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6E1-C464-4E82-92A6-129B8ADB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809-0446-40B8-819F-14E377A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787B-8624-48F7-929C-6C3E0887630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RAM os apóstolos, e os irmãos que estavam na Judéia, que também os gentios tinham recebido a palav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isto por três vezes; e tudo tornou a recolher-se a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, na mesma hora, pararam, junto da casa em que eu estava, três homens que me foram enviados de Cesar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Espírito que fosse com eles, nada duvidando; e também estes seis irmãos foram comigo, e entramos em casa daquele hom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ou-nos como vira em pé um anjo em sua casa, e lhe dissera: Envia homens a Jope, e manda chamar a Simão, que tem por sobrenome Ped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te dirá palavras com que te salves, tu e toda 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omecei a falar, caiu sobre eles o Espírito Santo, como também sobre nós ao princí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mbrei-me do dito do Senhor, quando disse: João certamente batizou com água; mas vós sereis batizados com 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Deus lhes deu o mesmo dom que a nós, quando havemos crido no Senhor Jesus Cristo, quem era então eu, para que pudesse resistir a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stas coisas, apaziguaram-se, e glorificaram a Deus, dizendo: Na verdade até aos gentios deu Deus o arrependimento para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foram dispersos pela perseguição que sucedeu por causa de Estêvão caminharam até à Fenícia, Chipre e Antioquia, não anunciando a ninguém a palavra, senão somente a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ubindo Pedro a Jerusalém, disputavam com ele os que eram da circunci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entre eles alguns homens cíprios e cirenenses, os quais entrando em Antioquia falaram aos gregos, anunciando o Senhor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ão do Senhor era com eles; e grande número creu e se converteu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fama destas coisas aos ouvidos da igreja que estava em Jerusalém; e enviaram Barnabé a Antioq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quando chegou, e viu a graça de Deus, se alegrou, e exortou a todos a que permanecessem no Senhor, com propósito de cor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ra homem de bem e cheio do Espírito Santo e de fé. E muita gente se uniu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u Barnabé para Tarso, a buscar Saulo; e, achando-o, o conduziu para Antioq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todo um ano se reuniram naquela igreja, e ensinaram muita gente; e em Antioquia foram os discípulos, pela primeira vez, chamados crist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s dias desceram profetas de Jerusalém para Antioq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um deles, por nome Ágabo, dava a entender pelo Espírito, que haveria uma grande fome em todo o mundo, e isso aconteceu no tempo de Cláudio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scípulos determinaram mandar, cada um conforme o que pudesse, socorro aos irmãos que habitavam na Jud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Entraste em casa de homens incircuncisos, e comeste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les com efeito fizeram, enviando-o aos anciãos por mão de Barnabé e de S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edro começou a fazer-lhes uma exposição por orde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u orando na cidade de Jope, tive, num arrebatamento dos sentidos, uma visão; via um vaso, como um grande lençol que descia do céu e vinha até junto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ndo nele os olhos, considerei, e vi animais da terra, quadrúpedes, e feras, e répteis e ave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uma voz que me dizia: Levanta-te, Pedro; mata e c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disse: De maneira nenhuma, SENHOR; pois, nunca em minha boca entrou coisa alguma comum ou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voz respondeu-me do céu segunda vez: Não chames tu comum ao que Deus pur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10Z</dcterms:created>
  <dc:creator>Admin</dc:creator>
  <dc:description/>
  <dc:language>en-US</dc:language>
  <cp:lastModifiedBy>Admin</cp:lastModifiedBy>
  <dcterms:modified xsi:type="dcterms:W3CDTF">2008-07-30T23:24:10Z</dcterms:modified>
  <cp:revision>1</cp:revision>
  <dc:subject/>
  <dc:title>Slide 1</dc:title>
</cp:coreProperties>
</file>