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252B-C8B4-455C-A262-9D034499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F4A7-DA50-4DD1-B5CD-7351D6D5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A7C4-9112-497C-9B28-3C6B3BBDC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2668-2F8A-4181-A90C-FDCC9CC9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83E2-426A-4C0B-8FB4-594F380B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747B-5FDF-490B-8446-369A4EA9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553D-42AD-4A02-9018-1F4AA0EA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BCFD-C2E4-4221-88D9-07E26E6A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C6B1-1EB3-4AE4-A6B2-13ECFF39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F63C-1CBE-4F1B-A8FE-36BEC3D2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782A-0FA4-45F0-B2A4-C69F3B3E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D7A5-E0C5-4550-A2A4-5F6EC37F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E2D4-60B2-4D22-835A-B70AFBDFEE7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FRAIM se apascenta de vento, e segue o vento leste; todo o dia multiplica a mentira e a destruição; e fazem aliança com a Assíria, e o azeite se leva a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ei aos profetas, e multipliquei a visão; e pelo ministério dos profetas propus sími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é Gileade iniqüidade? Pura vaidade são eles; em Gilgal sacrificam bois; os seus altares são como montões de pedras nos sulcos dos camp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acó fugiu para o campo da Síria, e Israel serviu por uma mulher, e por uma mulher guardou o g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SENHOR por meio de um profeta fez subir a Israel do Egito, e por um profeta foi ele guard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fraim mui amargosamente provocou a sua ira; portanto deixará ficar sobre ele o seu sangue, e o seu Senhor o recompensará pelo seu oprób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também com Judá tem contenda, e castigará Jacó segundo os seus caminhos; segundo as suas obras o recompens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ventre pegou do calcanhar de seu irmão, e na sua força lutou com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utou com o anjo, e prevaleceu; chorou, e lhe suplicou; em Betel o achou, e ali falou conosc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im, o SENHOR, o Deus dos Exércitos; o SENHOR é o seu memori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pois, converte-te a teu Deus; guarda a benevolência e o juízo, e em teu Deus espe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É um mercador; tem nas mãos uma balança enganosa; ama a opres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 Efraim: Contudo me tenho enriquecido, e tenho adquirido para mim grandes bens; em todo o meu trabalho não acharão em mim iniqüidade alguma que seja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u sou o SENHOR teu Deus desde a terra do Egito; eu ainda te farei habitar em tendas, como nos dias da festa sole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0:51Z</dcterms:created>
  <dc:creator>Admin</dc:creator>
  <dc:description/>
  <dc:language>en-US</dc:language>
  <cp:lastModifiedBy>Admin</cp:lastModifiedBy>
  <dcterms:modified xsi:type="dcterms:W3CDTF">2008-07-31T00:20:51Z</dcterms:modified>
  <cp:revision>1</cp:revision>
  <dc:subject/>
  <dc:title>Slide 1</dc:title>
</cp:coreProperties>
</file>