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3E1-CF91-4854-BD89-75E01A05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A90-C8A0-4BF7-A750-D1CCDD26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F67-8EE3-4F5E-89C8-FDF420E2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82A-C7AA-4EC8-AB91-13CCE62C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809-BB16-4FDD-BB16-4B5F15BA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63A-1D8B-4C8E-8765-F7736E7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328-0B9C-45AC-B1F4-DF6D4D3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593-AB05-42BD-8871-8E980DB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549-2A53-422D-A6E2-C4D37D75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CD1-24AB-4539-A571-45BA300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14B-235B-47EF-970D-2B16955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03F-1440-40DE-9F02-BDE8A94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C472-2781-47A1-886D-EBD53D8638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do SENHOR, que veio a Jeremias, a respeito da grande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acerca deste povo: Pois que tanto gostaram de andar errantes, e não retiveram os seus pés, por isso o SENHOR não se agrada deles, mas agora se lembrará da iniqüidade deles, e visitará 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 mais o SENHOR: Não rogues por este povo para seu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jejuarem, não ouvirei o seu clamor, e quando oferecerem holocaustos e ofertas de alimentos, não me agradarei deles; antes eu os consumirei pela espada, e pela fome e pela p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Ah! Senhor DEUS, eis que os profetas lhes dizem: Não vereis espada, e não tereis fome; antes vos darei paz verdadeira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SENHOR: Os profetas profetizam falsamente no meu nome; nunca os enviei, nem lhes dei ordem, nem lhes falei; visão falsa, e adivinhação, e vaidade, e o engano do seu coração é o que eles vos profetiz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acerca dos profetas que profetizam no meu nome, sem que eu os tenha mandado, e que dizem: Nem espada, nem fome haverá nesta terra: À espada e à fome, serão consumidos esse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a quem eles profetizam será lançado nas ruas de Jerusalém, por causa da fome e da espada; e não haverá quem os sepultem, tanto a eles, como as suas mulheres, e os seus filhos e as suas filhas; porque derramarei sobre eles a su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lhes dirás esta palavra: Os meus olhos derramem lágrimas de noite e de dia, e não cessem; porque a virgem, filha do meu povo, está gravemente ferida, de chaga mui dolor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saio ao campo, eis ali os mortos à espada, e, se entro na cidade, estão ali os debilitados pela fome; e até os profetas e os sacerdotes percorrem uma terra, que não conh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já de todo rejeitaste a Judá? Ou repugna a tua alma a Sião? Por que nos feriste de tal modo que já não há cura para nós? Aguardamos a paz, e não aparece o bem; e o tempo da cura, e eis aqui tur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 chorando Judá, e as suas portas estão enfraquecidas; andam de luto até ao chão, e o clamor de Jerusalém vai sub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SENHOR! conhecemos a nossa impiedade e a maldade de nossos pais; porque pecamos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nos rejeites por amor do teu nome; não abatas o trono da tua glória; lembra-te, e não anules a tua aliança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há, entre as vaidades dos gentios, alguém que faça chover? Ou podem os céus dar chuvas? Não és tu, ó SENHOR nosso Deus? Portanto em ti esperamos, pois tu fazes toda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mais ilustres enviam os seus pequenos a buscar água; vão às cisternas, e não acham água; voltam com os seus cântaros vazios; envergonham-se e confundem-se, e cobrem as suas cab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terra que se fendeu, porque não há chuva sobre a terra, os lavradores se envergonham e cobrem as suas cab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té as cervas no campo têm as suas crias, e abandonam seus filhos, porquanto não há 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jumentos monteses se põem nos lugares altos, sorvem o vento como os chacais; desfalecem os seus olhos, porquanto não há 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sto que as nossas maldades testificam contra nós, ó SENHOR, age por amor do teu nome; porque as nossas rebeldias se multiplicaram; contra ti pec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esperança de Israel, e Redentor seu no tempo da angústia, por que serias como um estrangeiro na terra e como o viandante que se retira a passar a noi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erias como homem surpreendido, como poderoso que não pode livrar? Mas tu estás no meio de nós, ó SENHOR, e nós somos chamados pelo teu nome; não nos desamp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8:02Z</dcterms:created>
  <dc:creator>Admin</dc:creator>
  <dc:description/>
  <dc:language>en-US</dc:language>
  <cp:lastModifiedBy>Admin</cp:lastModifiedBy>
  <dcterms:modified xsi:type="dcterms:W3CDTF">2008-07-30T23:58:02Z</dcterms:modified>
  <cp:revision>1</cp:revision>
  <dc:subject/>
  <dc:title>Slide 1</dc:title>
</cp:coreProperties>
</file>