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96C-3E45-447A-8DD3-4A655579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437-E4AF-4CED-9490-E694C6BF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D79-4E45-4892-BA29-30015D1F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6A0-AD04-49C6-98E1-D6EAC19B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E00-FA62-4A80-9008-50DF68FA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047-F1FF-4A97-A7E7-E34252B6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75A-2DF4-4B1A-8867-623BBC50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043-27D3-4CAF-A1D9-052BC21E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F06-E72B-427A-BC4E-AC3546E7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5F2-6B7C-4212-83FC-C7810010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133-0D4E-4136-9F8E-0AA8978C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772-1F48-4671-A312-DF6264D9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97EA-36C7-46B4-B3FF-CB5A42D51CC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, porém, grande o clamor do povo e de suas mulheres, contra os judeus, s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u, meus irmãos e meus servos, a juros lhes temos emprestado dinheiro e trigo. Deixemos este g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tituí-lhes hoje, vos peço, as suas terras, as suas vinhas, os seus olivais e as suas casas; como também a centésima parte do dinheiro, do trigo, do mosto e do azeite, que vós exigis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: Restituir-lhes-emos, e nada procuraremos deles; faremos assim como dizes. Então chamei os sacerdotes, e os fiz jurar que fariam conforme a est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sacudi as minhas vestes, e disse: Assim sacuda Deus todo o homem da sua casa e do seu trabalho que não confirmar esta palavra, e assim seja sacudido e vazio. E toda a congregação disse: Amém! E louvaram ao SENHOR; e o povo fez conforme a esta p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esde o dia em que me mandou que eu fosse seu governador na terra de Judá, desde o ano vinte, até ao ano trinta e dois do rei Artaxerxes, doze anos, nem eu nem meus irmãos comemos o pão do govern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primeiros governadores, que foram antes de mim, oprimiram o povo, e tomaram-lhe pão e vinho e, além disso, quarenta siclos de prata, como também os seus servos dominavam sobre o povo; porém eu assim não fiz, por causa do temor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na obra deste muro fiz reparação, e terra nenhuma compramos; e todos os meus servos se ajuntaram ali à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os judeus e dos magistrados, cento e cinqüenta homens, e os que vinham a nós dentre as nações que estão ao redor de nós, se punham a minha m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se preparava para cada dia era um boi e seis ovelhas escolhidas; também aves se me preparavam e, de dez em dez dias, muito vinho de todas as espécies; e nem por isso exigi o pão do governador, porquanto a servidão deste povo era gra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e mim para bem, ó meu Deus, e de tudo quanto fiz a este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avia quem dizia: Nós, nossos filhos e nossas filhas, somos muitos; então tomemos trigo, para que comamos e viv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havia quem dizia: As nossas terras, as nossas vinhas e as nossas casas empenhamos, para tomarmos trigo nesta f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havia quem dizia: Tomamos emprestado dinheiro até para o tributo do rei, sobre as nossas terras e as nossas vi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a nossa carne é como a carne de nossos irmãos, e nossos filhos como seus filhos; e eis que sujeitamos nossos filhos e nossas filhas para serem servos; e até algumas de nossas filhas são tão sujeitas, que já não estão no poder de nossas mãos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 eu, pois, o seu clamor, e estas palavras, muito me indign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siderei comigo mesmo no meu coração; depois pelejei com os nobres e com os magistrados, e disse-lhes: Sois usurários cada um para com seu irmão. E convoquei contra eles uma grande assembl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Nós resgatamos os judeus, nossos irmãos, que foram vendidos às nações, segundo nossas posses; e vós outra vez venderíeis a vossos irmãos, ou vender-se-iam a nós? Então se calaram, e não acharam que respon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: Não é bom o que fazeis; porventura não andaríeis no temor do nosso Deus, por causa do opróbrio das nações, os nossos inimig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54Z</dcterms:created>
  <dc:creator>Admin</dc:creator>
  <dc:description/>
  <dc:language>en-US</dc:language>
  <cp:lastModifiedBy>Admin</cp:lastModifiedBy>
  <dcterms:modified xsi:type="dcterms:W3CDTF">2008-07-31T00:16:54Z</dcterms:modified>
  <cp:revision>1</cp:revision>
  <dc:subject/>
  <dc:title>Slide 1</dc:title>
</cp:coreProperties>
</file>