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102-0E44-4C17-B23A-1AEC0231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DC1-5309-4C50-8348-C369E3EF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F97-A90A-4AAE-88E1-D7F38E28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9C2-08F8-4784-B056-4B1BEE12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288-53E9-4A71-ADD8-2A044A76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867-9D5C-406C-B4D8-9AAF45D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8D7-FCFD-4D9E-9E65-8EC4AFE1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6D6-CBCB-40E1-B803-1AB606C1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C21-DBD4-4491-BFEB-D119543B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9C3-B282-49E8-99A4-ED5EAC8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CC4-0B53-48CA-9853-B350212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047-24EE-449A-BC6D-7C5E670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6A6E-B39C-4F85-9D45-C6646AB153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NDO por Anfípolis e Apolônia, chegaram a Tessalônica, onde havia uma sinagoga de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s irmãos enviaram de noite Paulo e Silas a Beréia; e eles, chegando lá, foram à sinagoga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stes foram mais nobres do que os que estavam em Tessalônica, porque de bom grado receberam a palavra, examinando cada dia nas Escrituras se estas coisas eram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creram muitos deles, e também mulheres gregas da classe nobre, e não pouc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logo que os judeus de Tessalônica souberam que a palavra de Deus também era anunciada por Paulo em Beréia, foram lá, e excitaram as multid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instante os irmãos mandaram a Paulo que fosse até ao mar, mas Silas e Timóteo fic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acompanhavam Paulo o levaram até Atenas, e, recebendo ordem para que Silas e Timóteo fossem ter com ele o mais depressa possível, part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quanto Paulo os esperava em Atenas, o seu espírito se comovia em si mesmo, vendo a cidade tão entregue à idolat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disputava na sinagoga com os judeus e religiosos, e todos os dias na praça com os que se apresen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filósofos epicureus e estóicos contendiam com ele; e uns diziam: Que quer dizer este paroleiro? E outros: Parece que é pregador de deuses estranhos; porque lhes anunciava a Jesus e a ressurr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ndo-o, o levaram ao Areópago, dizendo: Poderemos nós saber que nova doutrina é essa de que fa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, como tinha por costume, foi ter com eles; e por três sábados disputou com eles sobre as Escritu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coisas estranhas nos trazes aos ouvidos; queremos, pois, saber o que vem a ser is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is todos os atenienses e estrangeiros residentes, de nenhuma outra coisa se ocupavam, senão de dizer e ouvir alguma novidade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Paulo no meio do Areópago, disse: Homens atenienses, em tudo vos vejo um tanto supersticios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assando eu e vendo os vossos santuários, achei também um altar em que estava escrito: AO DEUS DESCONHECIDO. Esse, pois, que vós honrais, não o conhecendo, é o que eu vos anun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que fez o mundo e tudo que nele há, sendo Senhor do céu e da terra, não habita em templos feitos por mãos de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é servido por mãos de homens, como que necessitando de alguma coisa; pois ele mesmo é quem dá a todos a vida, e a respiração, e todas as coi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um só fez todas as raças dos homens, para habitarem sobre toda a face da terra, determinando-lhes os tempos já dantes ordenados e os limites da sua habitação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buscassem ao Senhor, se porventura, tateando, o pudessem achar; ainda que não está longe de cada um de n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le vivemos, e nos movemos, e existimos; como também alguns dos vossos poetas disseram: Pois somos também su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nós, pois, geração de Deus, não havemos de cuidar que a divindade seja semelhante ao ouro, ou à prata, ou à pedra esculpida por artifício e imaginaçã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pondo e demonstrando que convinha que Cristo padecesse e ressuscitasse dentre os mortos. E este Jesus, que vos anuncio, dizia ele, é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, não tendo em conta os tempos da ignorância, anuncia agora a todos os homens, e em todo o lugar, que se arrepend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tem determinado um dia em que com justiça há de julgar o mundo, por meio do homem que destinou; e disso deu certeza a todos, ressuscitando-o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ouviram falar da ressurreição dos mortos, uns escarneciam, e outros diziam: Acerca disso te ouviremos outra 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Paulo saiu d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chegando alguns homens a ele, creram; entre os quais foi Dionísio, areopagita, uma mulher por nome Dâmaris, e com ele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eles creram, e ajuntaram-se com Paulo e Silas; e também uma grande multidão de gregos religiosos, e não poucas mulheres princi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judeus desobedientes, movidos de inveja, tomaram consigo alguns homens perversos, dentre os vadios e, ajuntando o povo, alvoroçaram a cidade, e assaltando a casa de Jasom, procuravam trazê-los para junt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os achando, trouxeram Jasom e alguns irmãos à presença dos magistrados da cidade, clamando: Estes que têm alvoroçado o mundo, chegaram também aqu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Jasom recolheu; e todos estes procedem contra os decretos de César, dizendo que há outro rei,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voroçaram a multidão e os principais da cidade, que ouviram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rém, recebido satisfação de Jasom e dos demais, os sol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44Z</dcterms:created>
  <dc:creator>Admin</dc:creator>
  <dc:description/>
  <dc:language>en-US</dc:language>
  <cp:lastModifiedBy>Admin</cp:lastModifiedBy>
  <dcterms:modified xsi:type="dcterms:W3CDTF">2008-07-30T23:24:44Z</dcterms:modified>
  <cp:revision>1</cp:revision>
  <dc:subject/>
  <dc:title>Slide 1</dc:title>
</cp:coreProperties>
</file>