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DBA-CEDA-48D4-BED7-4759A392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645-B5A1-4925-AED4-38F97AF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391-2B24-49DE-BFD0-E68693EC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108-0E89-4CF1-8BC9-8166E1DB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ECD-19DD-4556-A394-D501FF98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02F-F157-4411-8994-B715F1B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27C-2D93-4141-8460-6C9807B5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BB6-29D6-4C2A-9F09-655BCA76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3AB-5908-4902-8712-E3930A2D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937-F88B-4CEC-9338-3D279662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F96-A235-4EAC-819E-34B3D99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698-26B2-427E-B9E1-BA1F124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0FF0-298E-458E-A115-20643900C9D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estas coisas ouvi no céu como que uma grande voz de uma grande multidão, que dizia: Aleluia! Salvação, e glória, e honra, e poder pertencem ao Senhor nosso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lancei-me a seus pés para o adorar; mas ele disse-me: Olha não faças tal; sou teu conservo, e de teus irmãos, que têm o testemunho de Jesus. Adora a Deus; porque o testemunho de Jesus é o espírito de prof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o céu aberto, e eis um cavalo branco; e o que estava assentado sobre ele chama-se Fiel e Verdadeiro; e julga e peleja co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olhos eram como chama de fogo; e sobre a sua cabeça havia muitos diademas; e tinha um nome escrito, que ninguém sabia senão ele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vestido de uma veste salpicada de sangue; e o nome pelo qual se chama é 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iam-no os exércitos no céu em cavalos brancos, e vestidos de linho fino, branco e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sua boca saía uma aguda espada, para ferir com ela as nações; e ele as regerá com vara de ferro; e ele mesmo é o que pisa o lagar do vinho do furor e da ira do Deus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anto e na sua coxa tem escrito este nome: Rei dos reis, e Senhor dos senh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um anjo que estava no sol, e clamou com grande voz, dizendo a todas as aves que voavam pelo meio do céu: Vinde, e ajuntai-vos à ceia do gran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comais a carne dos reis, e a carne dos tribunos, e a carne dos fortes, e a carne dos cavalos e dos que sobre eles se assentam; e a carne de todos os homens, livres e servos, pequenos e gra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a besta, e os reis da terra, e os seus exércitos reunidos, para fazerem guerra àquele que estava assentado sobre o cavalo, e ao seu exérc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erdadeiros e justos são os seus juízos, pois julgou a grande prostituta, que havia corrompido a terra com a sua prostituição, e das mãos dela vingou o sangue d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besta foi presa, e com ela o falso profeta, que diante dela fizera os sinais, com que enganou os que receberam o sinal da besta, e adoraram a sua imagem. Estes dois foram lançados vivos no lago de fogo que arde com enxof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emais foram mortos com a espada que saía da boca do que estava assentado sobre o cavalo, e todas as aves se fartaram das suas carn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disseram: Aleluia! E a fumaça dela sobe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inte e quatro anciãos, e os quatro animais, prostraram-se e adoraram a Deus, que estava assentado no trono, dizendo: Amém. Alelui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uma voz do trono, que dizia: Louvai o nosso Deus, vós, todos os seus servos, e vós que o temeis, assim pequenos como gra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como que a voz de uma grande multidão, e como que a voz de muitas águas, e como que a voz de grandes trovões, que dizia: Aleluia! pois já o Senhor Deus Todo-Poderoso re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emo-nos, e alegremo-nos, e demos-lhe glória; porque vindas são as bodas do Cordeiro, e já a sua esposa se apro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 dado que se vestisse de linho fino, puro e resplandecente; porque o linho fino são as justiças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Escreve: Bem-aventurados aqueles que são chamados à ceia das bodas do Cordeiro. E disse-me: Estas são as verdadeiras palavr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52Z</dcterms:created>
  <dc:creator>Admin</dc:creator>
  <dc:description/>
  <dc:language>en-US</dc:language>
  <cp:lastModifiedBy>Admin</cp:lastModifiedBy>
  <dcterms:modified xsi:type="dcterms:W3CDTF">2008-07-30T23:22:52Z</dcterms:modified>
  <cp:revision>1</cp:revision>
  <dc:subject/>
  <dc:title>Slide 1</dc:title>
</cp:coreProperties>
</file>