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4F5-93B1-423D-9D16-B95403B0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97B-FF97-49D9-8978-F35C5A2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BC4-A4B3-48E0-BD5A-ED9CBB35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4EA-7162-4684-AB11-D4799632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954-1D2A-4781-BFC5-6A3A4C80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BD5-9B95-40A0-B1B5-51F3B55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8BF-7D33-49B3-AAC7-705EF191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E9F-2901-4BFA-AEED-440C13F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553-41CE-4F12-B1C8-075BF069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023-5859-4163-8C96-C6F5F97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09C-856D-4C29-BB71-943D4B7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567-8464-4256-87D6-3FCF396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A25-391F-4A2A-B1F4-A7362254A5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ESTA a terceira vez que vou ter convosco. Por boca de duas ou três testemunhas será confirmada toda 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screvo estas coisas estando ausente, para que, estando presente, não use de rigor, segundo o poder que o Senhor me deu para edificação, e não par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, irmãos, regozijai-vos, sede perfeitos, sede consolados, sede de um mesmo parecer, vivei em paz; e o Deus de amor e de paz será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-vos uns aos outros com ósculo santo. Todos os santos vos saú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o Senhor Jesus Cristo, e o amor de Deus, e a comunhão do Espírito Santo seja com todos vó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anteriormente o disse, e segunda vez o digo como quando estava presente; mas agora, estando ausente, o escrevo aos que antes pecaram e a todos os mais, que, se outra vez for, não lhes perdoa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buscais uma prova de Cristo que fala em mim, o qual não é fraco para convosco, antes é poderoso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inda que foi crucificado por fraqueza, vive, contudo, pelo poder de Deus. Porque nós também somos fracos nele, mas viveremos com ele pelo poder de Deus em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minai-vos a vós mesmos, se permaneceis na fé; provai-vos a vós mesmos. Ou não sabeis quanto a vós mesmos, que Jesus Cristo está em vós? Se não é que já estais repro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pero que entendereis que nós não somos repro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u rogo a Deus que não façais mal algum, não para que sejamos achados aprovados, mas para que vós façais o bem, embora nós sejamos como repro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da podemos contra a verdade, senão pel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s regozijamos de estar fracos, quando vós estais fortes; e o que desejamos é a vossa perf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00Z</dcterms:created>
  <dc:creator>Admin</dc:creator>
  <dc:description/>
  <dc:language>en-US</dc:language>
  <cp:lastModifiedBy>Admin</cp:lastModifiedBy>
  <dcterms:modified xsi:type="dcterms:W3CDTF">2008-07-30T23:49:00Z</dcterms:modified>
  <cp:revision>1</cp:revision>
  <dc:subject/>
  <dc:title>Slide 1</dc:title>
</cp:coreProperties>
</file>