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87F-883E-4546-AA2A-92BAC4A9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E61-D57E-48CE-BB34-DAA42B01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03A-AFFA-41DE-B4CC-536E1407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1D7-313F-4161-AD15-8D6A43BB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4E1-C05B-42A8-9C2C-AF098332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473-B7EE-4DBB-84F2-CCA8FF7E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EEF-4E50-4337-80C8-654E4EAA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367-9164-4CC5-91D7-3D3E6B5D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D91-2404-43DA-9906-3573D719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AA0-11B1-4DBA-8DF2-E18FF005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16F-5532-4AF3-8524-A0CE7D83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75B-E6BA-4E7A-AF85-3A164555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B3D0-713D-481A-9882-8F5EBCEC2B1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 e a Arão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que tocar em alguma coisa que esteve debaixo dele, será imundo até à tarde; e aquele que a levar, lavará as suas roupas, e se banhará em água, 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o aquele em quem tocar o que tem o fluxo, sem haver lavado as suas mãos com água, lavará as suas roupas, e se banhará em água, 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vaso de barro, que tocar o que tem o fluxo, será quebrado; porém, todo o vaso de madeira será lavado com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o que tem o fluxo, estiver limpo do seu fluxo, contar-se-ão sete dias para a sua purificação, e lavará as suas roupas, e banhará a sua carne em águas correntes; e será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oitavo dia tomará duas rolas ou dois pombinhos, e virá perante o SENHOR, à porta da tenda da congregação e os dará ao sacerdo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oferecerá um para expiação do pecado, e o outro para holocausto; e assim o sacerdote fará por ele expiação do seu fluxo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homem, quando sair dele o sêmen da cópula, toda a sua carne banhará com água, 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a a roupa, e toda a pele em que houver sêmen da cópula se lavará com água, 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se um homem se deitar com a mulher e tiver emissão de sêmen, ambos se banharão com água, e serão imundos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mulher, quando tiver fluxo, e o seu fluxo de sangue estiver na sua carne, estará sete dias na sua separação, e qualquer que a tocar,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i aos filhos de Israel, e dizei-lhes: Qualquer homem que tiver fluxo da sua carne, será imundo por causa do seu flux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do aquilo sobre o que ela se deitar durante a sua separação, será imundo; e tudo sobre o que se assentar, será i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que tocar na sua cama, lavará as suas vestes, e se banhará com água, 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que tocar alguma coisa, sobre o que ela se tiver assentado, lavará as suas vestes, e se banhará com água, 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ambém tocar alguma coisa que estiver sobre a cama ou sobre aquilo em que ela se assentou,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, com efeito, qualquer homem se deitar com ela, e a sua imundícia estiver sobre ele, imundo será por sete dias; também toda a cama, sobre que se deitar, será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mulher, quando tiver o fluxo do seu sangue, por muitos dias fora do tempo da sua separação, ou quando tiver fluxo de sangue por mais tempo do que a sua separação, todos os dias do fluxo da sua imundícia será imunda, como nos dias da sua separaç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cama, sobre que se deitar todos os dias do seu fluxo, ser-lhe-á como a cama da sua separação; e toda a coisa, sobre que se assentar, será imunda, conforme a imundícia da sua sepa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que a tocar será imundo; portanto lavará as suas vestes, e se banhará com água, 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quando for limpa do seu fluxo, então se contarão sete dias, e depois será lim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oitavo dia tomará duas rolas, ou dois pombinhos, e os trará ao sacerdote, à port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, pois, será a sua imundícia, por causa do seu fluxo; se a sua carne vasa o seu fluxo ou se a sua carne estanca o seu fluxo, esta é a sua imund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acerdote oferecerá um para expiação do pecado, e o outro para holocausto; e o sacerdote fará por ela expiação do fluxo da sua imundícia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parareis os filhos de Israel das suas imundícias, para que não morram nas suas imundícias, contaminando o meu tabernáculo, que está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lei daquele que tem o fluxo, e daquele de quem sai o sêmen da cópula, e que fica por eles imu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da mulher enferma na sua separação, e daquele que padece do seu fluxo, seja homem ou mulher, e do homem que se deita com mulher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cama, em que se deitar o que tiver fluxo, será imunda; e toda a coisa, sobre o que se assentar, será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que tocar a sua cama, lavará as suas roupas, e se banhará em água, 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se assentar sobre aquilo em que se assentou o que tem o fluxo, lavará as suas roupas, e se banhará em água, 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tocar a carne do que tem o fluxo, lavará as suas roupas, e se banhará em água, 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ambém o que tem o fluxo cuspir sobre um limpo, então lavará este as suas roupas, e se banhará em água, 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a a sela, em que cavalgar o que tem o fluxo, será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9:02Z</dcterms:created>
  <dc:creator>Admin</dc:creator>
  <dc:description/>
  <dc:language>en-US</dc:language>
  <cp:lastModifiedBy>Admin</cp:lastModifiedBy>
  <dcterms:modified xsi:type="dcterms:W3CDTF">2008-07-31T00:09:02Z</dcterms:modified>
  <cp:revision>1</cp:revision>
  <dc:subject/>
  <dc:title>Slide 1</dc:title>
</cp:coreProperties>
</file>