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20DE-506F-4739-A968-EAC932EC1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1BFA-36B5-4A5A-A2B0-5304F906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3AE5-7D73-461F-9592-7BB1C5F5F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837E-EBBC-4C0D-A77D-27191E8D3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33AE-8D11-4D16-83C7-1C412F21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8535-29C1-4036-8A02-D585CEF9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0059-B497-446D-9B10-A222664F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5B1A-9439-46B7-B67B-C6478C17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6117-CC0F-4B8E-9407-33ADCA63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49C8-D20B-4345-BC20-8B6A867C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13C2-8D87-4FE3-95B4-748353DA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8DBE-0A4E-4017-B066-A62EFD33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C2C2-C356-4A3F-AE95-4D97D03A13A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segundo ano de Jeoás, filho de Jeoacaz, rei de Israel, começou a reinar Amazias, filho de Joás, rei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verdade feriste os moabitas, e o teu coração se ensoberbeceu; gloria-te disso, e fica em tua casa; e por que te entremeterias no mal, para caíres tu, e Judá contig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mazias não o ouviu. E subiu Jeoás, rei de Israel, e Amazias, rei de Judá, e viram-se face a face, em Bete-Semes, que está em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udá foi ferido diante de Israel, e fugiu cada um para a sua te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oás, rei de Israel, tomou a Amazias, rei de Judá, filho de Joás, filho de Acazias, em Bete-Semes; e veio a Jerusalém, e rompeu o muro de Jerusalém, desde a porta de Efraim até a porta da esquina, quatrocentos côv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ou todo o ouro e a prata, e todos os vasos que se acharam na casa do SENHOR e nos tesouros da casa do rei, como também os reféns e voltou para Sama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o mais dos atos de Jeoás, o que fez e o seu poder, e como pelejou contra Amazias, rei de Judá, porventura não está escrito no livro das crônicas dos reis de Israe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rmiu Jeoás com seus pais, e foi sepultado em Samaria, junto aos reis de Israel; e Jeroboão, seu filho,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veu Amazias, filho de Joás, rei de Judá, depois da morte de Jeoás, filho de Jeoacaz, rei de Israel, quinze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o mais dos atos de Amazias, porventura não está escrito no livro das crônicas dos reis de Judá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spiraram contra ele em Jerusalém, e fugiu para Laquis; porém enviaram após ele até Laquis, e o mataram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nha vinte e cinco anos quando começou a reinar, e vinte e nove anos reinou em Jerusalém. E era o nome de sua mãe Joadã, de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trouxeram em cima de cavalos; e o sepultaram em Jerusalém, junto a seus pais, na cidade de Da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 o povo de Judá tomou a Azarias, que já era de dezesseis anos, e o fizeram rei em lugar de Amazias,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edificou a Elate, e a restituiu a Judá, depois que o rei dormiu com s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décimo quinto ano de Amazias, filho de Joás, rei de Judá, começou a reinar em Samaria, Jeroboão, filho de Jeoás, rei de Israel, e reinou quarenta e um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o que era mau aos olhos do SENHOR; nunca se apartou de nenhum dos pecados de Jeroboão, filho de Nebate, com que fez pecar a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este restituiu os termos de Israel, desde a entrada de Hamate, até ao mar da planície; conforme a palavra do SENHOR Deus de Israel, a qual falara pelo ministério de seu servo Jonas, filho do profeta Amitai, o qual era de Gate-Hef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viu o SENHOR que a miséria de Israel era muito amarga, e que nem havia escravo, nem absolvido, nem quem ajudasse a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inda não falara o SENHOR em apagar o nome de Israel de debaixo do céu; porém os livrou por meio de Jeroboão, filho de Jeo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4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o mais dos atos de Jeroboão, tudo quanto fez, e seu poder, como pelejou, e como restituiu a Damasco e a Hamate, pertencentes a Judá, sendo rei em Israel, porventura não está escrito no livro das crônicas de Israe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4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roboão dormiu com seus pais, com os reis de Israel; e Zacarias, seu filho,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o que era reto aos olhos do SENHOR, ainda que não como seu pai Davi; fez, porém, conforme tudo o que fizera Joás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ão-somente os altos não foram tirados; porque o povo ainda sacrificava e queimava incenso nos al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 que, sendo já o reino confirmado na sua mão, matou os servos que tinham matado o rei,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s filhos dos assassinos não matou, como está escrito no livro da lei de Moisés, no qual o SENHOR deu ordem, dizendo: Não matarão os pais por causa dos filhos, e os filhos não matarão por causa dos pais; mas cada um será morto pelo seu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feriu a dez mil edomitas no vale do Sal, e tomou a Sela na guerra; e chamou-a Jocteel, até ao dia de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mazias enviou mensageiros a Jeoás, filho de Jeoacaz, filho de Jeú, rei de Israel, dizendo: Vem, vejamo-nos face a fa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Jeoás, rei de Israel, enviou a Amazias, rei de Judá, dizendo: O cardo que estava no Líbano mandou dizer ao cedro que estava no Líbano: Dá tua filha por mulher a meu filho; mas os animais do campo, que estavam no Líbano, passaram e pisaram o car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1:50Z</dcterms:created>
  <dc:creator>Admin</dc:creator>
  <dc:description/>
  <dc:language>en-US</dc:language>
  <cp:lastModifiedBy>Admin</cp:lastModifiedBy>
  <dcterms:modified xsi:type="dcterms:W3CDTF">2008-07-30T23:51:50Z</dcterms:modified>
  <cp:revision>1</cp:revision>
  <dc:subject/>
  <dc:title>Slide 1</dc:title>
</cp:coreProperties>
</file>