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3F4-826F-4402-AD59-DA668E1D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3A6-2183-4A53-82DD-71989F33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A68-734B-4397-BE0B-8C21B40B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D2F-DEFE-4AB7-8485-00ACF797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A91-0CB4-42C6-9101-0C5A8F7E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E5B-5A12-4A33-BD59-EBEE5903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E5C-E750-4AD9-A9DA-F8F2E3DC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A87-0240-4AC1-8A93-B4304AD2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3DA-0FDA-48C9-9765-BBA42039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E6E-F31B-4643-B4CE-ADA84FC6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71C-2928-4284-997A-C0A408C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51A-07C5-457D-BEA4-DCFB447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704C-7479-401E-B9D1-FCB74E847B5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nós também, pois que estamos rodeados de uma tão grande nuvem de testemunhas, deixemos todo o embaraço, e o pecado que tão de perto nos rodeia, e corramos com paciência a carreira que nos está propos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s, na verdade, por um pouco de tempo, nos corrigiam como bem lhes parecia; mas este, para nosso proveito, para sermos participantes da sua sant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toda a correção, ao presente, não parece ser de gozo, senão de tristeza, mas depois produz um fruto pacífico de justiça nos exercitados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tornai a levantar as mãos cansadas, e os joelhos desconjunt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ei veredas direitas para os vossos pés, para que o que manqueja não se desvie inteiramente, antes seja sa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i a paz com todos, e a santificação, sem a qual ninguém verá 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cuidado de que ninguém se prive da graça de Deus, e de que nenhuma raiz de amargura, brotando, vos perturbe, e por ela muitos se contamin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seja devasso, ou profano, como Esaú, que por uma refeição vendeu o seu direito de primogeni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sabeis que, querendo ele ainda depois herdar a bênção, foi rejeitado, porque não achou lugar de arrependimento, ainda que com lágrimas o bus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chegastes ao monte palpável, aceso em fogo, e à escuridão, e às trevas, e à tempest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onido da trombeta, e à voz das palavras, a qual os que a ouviram pediram que se lhes não falasse m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ando para Jesus, autor e consumador da fé, o qual, pelo gozo que lhe estava proposto, suportou a cruz, desprezando a afronta, e assentou-se à destra do tro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podiam suportar o que se lhes mandava: Se até um animal tocar o monte será apedrejado ou passado com um dar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ão terrível era a visão, que Moisés disse: Estou todo assombrado, e trem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hegastes ao monte Sião, e à cidade do Deus vivo, à Jerusalém celestial, e aos muitos milhares de anj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À universal assembléia e igreja dos primogênitos, que estão inscritos nos céus, e a Deus, o juiz de todos, e aos espíritos dos justos aperfeiço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Jesus, o Mediador de uma nova aliança, e ao sangue da aspersão, que fala melhor do que o de Ab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que não rejeiteis ao que fala; porque, se não escaparam aqueles que rejeitaram o que na terra os advertia, muito menos nós, se nos desviarmos daquele que é d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oz do qual moveu então a terra, mas agora anunciou, dizendo: Ainda uma vez comoverei, não só a terra, senão também 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palavra: Ainda uma vez, mostra a mudança das coisas móveis, como coisas feitas, para que as imóveis permaneç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tendo recebido um reino que não pode ser abalado, retenhamos a graça, pela qual sirvamos a Deus agradavelmente, com reverência e pie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nosso Deus é um fogo consumi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i, pois, aquele que suportou tais contradições dos pecadores contra si mesmo, para que não enfraqueçais, desfalecendo em vossos ân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não resististes até ao sangue, combatendo contra 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á vos esquecestes da exortação que argumenta convosco como filhos: Filho meu, não desprezes a correção do SENHOR, E não desmaies quando por ele fores repreend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corrige o que ama, E açoita a qualquer que recebe por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uportais a correção, Deus vos trata como filhos; porque, que filho há a quem o pai não corrij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estais sem disciplina, da qual todos são feitos participantes, sois então bastardos, e não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o que, tivemos nossos pais segundo a carne, para nos corrigirem, e nós os reverenciamos; não nos sujeitaremos muito mais ao Pai dos espíritos, para viver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05Z</dcterms:created>
  <dc:creator>Admin</dc:creator>
  <dc:description/>
  <dc:language>en-US</dc:language>
  <cp:lastModifiedBy>Admin</cp:lastModifiedBy>
  <dcterms:modified xsi:type="dcterms:W3CDTF">2008-07-30T23:41:05Z</dcterms:modified>
  <cp:revision>1</cp:revision>
  <dc:subject/>
  <dc:title>Slide 1</dc:title>
</cp:coreProperties>
</file>