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4B1-2C5D-466F-9819-230A1E4D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14-605B-4D34-A441-29E45D35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BF0-E7F3-4069-A91A-8E21A565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9A2-B40A-4FC8-8792-7895713B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263-54FB-4CF8-8BDA-F6BFA8A6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3F7-6332-47B6-BBBA-7C114E2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4B5-D38D-4A72-8084-75F90AC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273-9C04-461A-B72F-7EDF381C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734-E159-4E80-8528-CBA6EF1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C79-9936-4B0B-A88B-E114522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7A1-9BBB-482C-B7DB-D9200A4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5BE-60C4-4CBA-8E7B-4AA8A38A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9050-BCCA-40E5-B7D5-747B1537156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 alegremente, ó estéril, que não deste à luz; rompe em cântico, e exclama com alegria, tu que não tiveste dores de parto; porque mais são os filhos da mulher solitária, do que os filhos da casad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ontes se retirarão, e os outeiros serão abalados; porém a minha benignidade não se apartará de ti, e a aliança da minha paz não mudará, diz o SENHOR que se compadec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oprimida, arrojada com a tormenta e desconsolada, eis que eu assentarei as tuas pedras com todo o ornamento, e te fundarei sobre as saf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os teus vitrais de rubis, e as tuas portas de carbúnculos, e todos os teus termos de pedras apraz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teus filhos serão ensinados do SENHOR; e a paz de teus filhos será abund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justiça serás estabelecida; estarás longe da opressão, porque já não temerás; e também do terror, porque não chegará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eguramente poderão vir a juntar-se contra ti, mas não será por mim; quem se ajuntar contra ti cairá por causa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criei o ferreiro, que assopra as brasas no fogo, e que produz a ferramenta para a sua obra; também criei o assolador, para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ferramenta preparada contra ti não prosperará, e toda a língua que se levantar contra ti em juízo tu a condenarás; esta é a herança dos servos do SENHOR, e a sua justiça que de mim proced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plia o lugar da tua tenda, e estendam-se as cortinas das tuas habitações; não o impeças; alonga as tuas cordas, e fixa bem as tuas esta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ransbordarás para a direita e para a esquerda; e a tua descendência possuirá os gentios e fará que sejam habitadas as cidades asso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porque não serás envergonhada; e não te envergonhes, porque não serás humilhada; antes te esquecerás da vergonha da tua mocidade, e não te lembrarás mais do opróbrio da tua viu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eu Criador é o teu marido; o SENHOR dos Exércitos é o seu nome; e o Santo de Israel é o teu Redentor; que é chamado o Deus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 chamou como a mulher desamparada e triste de espírito; como a mulher da mocidade, que fora desprezada, diz 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um breve momento te deixei, mas com grandes misericórdias te recolhe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um pouco de ira escondi a minha face de ti por um momento; mas com benignidade eterna me compadecerei de ti, diz o SENHOR, o teu Reden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será para mim como as águas de Noé; pois jurei que as águas de Noé não passariam mais sobre a terra; assim jurei que não me irarei mais contra ti, nem te repreend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5Z</dcterms:created>
  <dc:creator>Admin</dc:creator>
  <dc:description/>
  <dc:language>en-US</dc:language>
  <cp:lastModifiedBy>Admin</cp:lastModifiedBy>
  <dcterms:modified xsi:type="dcterms:W3CDTF">2008-07-30T23:56:45Z</dcterms:modified>
  <cp:revision>1</cp:revision>
  <dc:subject/>
  <dc:title>Slide 1</dc:title>
</cp:coreProperties>
</file>