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3A04-F027-450C-97D3-438CF3CC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0DF4-B4B8-4965-B81B-DDA82563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99C5-B766-4C62-8F26-0E1FFA28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A772-BE4D-44C2-B309-2E9FE28A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527-9402-4C4F-889D-BD79BCEE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3BB0-E632-4785-9A18-275BDBFF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D748-617E-455A-8971-B78F977C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5498-0751-424F-910E-CD26E645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48E-A26B-4729-A22D-4A94A96B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BD56-97D9-4AF0-8ED4-9EEF86B0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57B6-74B8-4DD7-BC7A-4399C48D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ABD9-E98B-4AAD-BD8A-2F4916B2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937E-670D-479B-B84B-CBA8469C46D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CLINA, ó Deus, os teus ouvidos à minha oração, e não te escondas da minha súpl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dia e de noite a cercam sobre os seus muros; iniqüidade e malícia estão no meio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ldade há dentro dela; astúcia e engano não se apartam das suas r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não era um inimigo que me afrontava; então eu o teria suportado; nem era o que me odiava que se engrandecia contra mim, porque dele me teria escond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ras tu, homem meu igual, meu guia e meu íntimo a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sultávamos juntos suavemente, e andávamos em companhia na cas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orte os assalte, e vivos desçam ao inferno; porque há maldade nas suas habitações e no meio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porém, invocarei a Deus, e o SENHOR me salv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tarde e de manhã e ao meio dia orarei; e clamarei, e ele ouvirá a minha vo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ivrou em paz a minha alma da peleja que havia contra mim; pois havia muitos co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ouvirá, e os afligirá. Aquele que preside desde a antiguidade (Selá), porque não há neles nenhuma mudança, e portanto não temem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ende-me, e ouve-me; lamento na minha queixa, e faço ruí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l homem pôs as suas mãos naqueles que têm paz com ele; quebrou a sua ali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palavras da sua boca eram mais macias do que a manteiga, mas havia guerra no seu coração: as suas palavras eram mais brandas do que o azeite; contudo, eram espadas desembainh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ança o teu cuidado sobre o SENHOR, e ele te susterá; não permitirá jamais que o justo seja aba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u, ó Deus, os farás descer ao poço da perdição; homens de sangue e de fraude não viverão metade dos seus dias; mas eu em ti confi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 clamor do inimigo e por causa da opressão do ímpio; pois lançam sobre mim a iniqüidade, e com furor me ode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u coração está dolorido dentro de mim, e terrores da morte caíram sobr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or e tremor vieram sobre mim; e o horror me cobr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eu disse: Oh! quem me dera asas como de pomba! Então voaria, e estaria em descan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fugiria para longe, e pernoitaria no deserto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ressar-me-ia a escapar da fúria do vento e da tempest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pedaça, Senhor, e divide as suas línguas, pois tenho visto violência e contenda n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40Z</dcterms:created>
  <dc:creator>Admin</dc:creator>
  <dc:description/>
  <dc:language>en-US</dc:language>
  <cp:lastModifiedBy>Admin</cp:lastModifiedBy>
  <dcterms:modified xsi:type="dcterms:W3CDTF">2008-07-31T00:25:40Z</dcterms:modified>
  <cp:revision>1</cp:revision>
  <dc:subject/>
  <dc:title>Slide 1</dc:title>
</cp:coreProperties>
</file>