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483-0DD0-4F66-A06F-4CB31848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B886-F806-442F-B680-C08C7B1A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8AE4-15E7-4D83-9EDF-FCB71E59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8209-FEEA-489F-AB3B-3C01BEA0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3E7-BECE-46F5-8601-4FFBBAFC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7BD-0EBA-4BF6-BF70-F01997E1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E10F-87EC-4EAF-B5D8-667C2143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FB0-4976-4AD8-9392-9F90BD12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466-55A3-482F-98A7-80503D23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5A2-2483-4E8B-8792-C5FB3D92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06A-F513-4D17-B009-0DE650B7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5AA9-8E76-48D7-B8C4-F3F3823E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EB7E-48DE-4900-B1DE-FA57FFA8CC2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IS dias depois, tomou Jesus consigo a Pedro, e a Tiago, e a João, seu irmão, e os conduziu em particular a um alto mon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discípulos o interrogaram, dizendo: Por que dizem então os escribas que é mister que Elias venha primeir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respondendo, disse-lhes: Em verdade Elias virá primeiro, e restaurará todas as cois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igo-vos que Elias já veio, e não o conheceram, mas fizeram-lhe tudo o que quiseram. Assim farão eles também padecer o Filho d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tenderam os discípulos que lhes falara de João o Bati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chegaram à multidão, aproximou-se-lhe um homem, pondo-se de joelhos diante dele, e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hor, tem misericórdia de meu filho, que é lunático e sofre muito; pois muitas vezes cai no fogo, e muitas vezes na águ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ouxe-o aos teus discípulos; e não puderam curá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respondendo, disse: Ó geração incrédula e perversa! até quando estarei eu convosco, e até quando vos sofrerei? Trazei-mo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preendeu Jesus o demônio, que saiu dele, e desde aquela hora o menino sa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discípulos, aproximando-se de Jesus em particular, disseram: Por que não pudemos nós expulsá-l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ansfigurou-se diante deles; e o seu rosto resplandeceu como o sol, e as suas vestes se tornaram brancas como 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lhes disse: Por causa de vossa pouca fé; porque em verdade vos digo que, se tiverdes fé como um grão de mostarda, direis a este monte: Passa daqui para acolá, e há de passar; e nada vos será impossí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sta casta de demônios não se expulsa senão pela oração e pelo jej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achando-se eles na Galiléia, disse-lhes Jesus: O Filho do homem será entregue nas mãos dos homen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tá-lo-ão, e ao terceiro dia ressuscitará. E eles se entristeceram mu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eles a Cafarnaum, aproximaram-se de Pedro os que cobravam as dracmas, e disseram: O vosso mestre não paga as dracm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ele: Sim. E, entrando em casa, Jesus se lhe antecipou, dizendo: Que te parece, Simão? De quem cobram os reis da terra os tributos, ou o censo? Dos seus filhos, ou dos alhei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Pedro: Dos alheios. Disse-lhe Jesus: Logo, estão livres o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para que os não escandalizemos, vai ao mar, lança o anzol, tira o primeiro peixe que subir, e abrindo-lhe a boca, encontrarás um estáter; toma-o, e dá-o por mim e por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lhes apareceram Moisés e Elias, falando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dro, tomando a palavra, disse a Jesus: Senhor, bom é estarmos aqui; se queres, façamos aqui três tabernáculos, um para ti, um para Moisés, e um para E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ele ainda a falar, eis que uma nuvem luminosa os cobriu. E da nuvem saiu uma voz que dizia: Este é o meu amado Filho, em quem me comprazo; escutai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iscípulos, ouvindo isto, caíram sobre os seus rostos, e tiveram grande me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proximando-se Jesus, tocou-lhes, e disse: Levantai-vos, e não tenhais me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rguendo eles os olhos, ninguém viram senão unicamente a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scendo eles do monte, Jesus lhes ordenou, dizendo: A ninguém conteis a visão, até que o Filho do homem seja ressuscitado dentre os mo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5:16Z</dcterms:created>
  <dc:creator>Admin</dc:creator>
  <dc:description/>
  <dc:language>en-US</dc:language>
  <cp:lastModifiedBy>Admin</cp:lastModifiedBy>
  <dcterms:modified xsi:type="dcterms:W3CDTF">2008-07-31T00:15:16Z</dcterms:modified>
  <cp:revision>1</cp:revision>
  <dc:subject/>
  <dc:title>Slide 1</dc:title>
</cp:coreProperties>
</file>