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EED8-C2E5-46BF-AE09-19AE4BCE8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02D2-3848-4E0D-B6B8-A280468A5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5FC4-9AAE-435D-A18F-1126ACB8D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19C2-2BD1-420F-8CB0-0E584BBB4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AAE9-0D1E-4948-A4EB-BF6799D8D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4D87-5A52-4077-B9D3-E405042AC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7DCB-27CD-474D-9A8C-BB08FD587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E90B-BC31-4F8E-A5D6-D50974F6E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9A22-FBFC-4BE8-8FC6-1763B62C0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E98B-5297-4F78-BEEA-87EF056C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DC28-8B4B-4B16-9AED-697E1D13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2E20-6950-4F7D-960B-6FEE6147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3E022-DACD-49F1-9317-5165379B43D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7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presumas do dia de amanhã, porque não sabes o que ele tr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7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deixes o teu amigo, nem o amigo de teu pai; nem entres na casa de teu irmão no dia da tua adversidade; melhor é o vizinho perto do que o irmão long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7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ê sábio, filho meu, e alegra o meu coração, para que tenha alguma coisa que responder àquele que me desprez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7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avisado vê o mal e esconde-se; mas os simples passam e sofrem a pe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7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alguém fica por fiador do estranho, toma-lhe até a sua roupa, e por penhor àquele que se obriga pela mulher estran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7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, pela manhã de madrugada, abençoa o seu amigo em alta voz, lho será imputado por maldi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7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gotejar contínuo em dia de grande chuva, e a mulher contenciosa, uma e outra são semelhante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7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ntar moderá-la será como deter o vento, ou como conter o óleo dentro da sua mão direi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7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o ferro com ferro se aguça, assim o homem afia o rosto do seu ami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7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cuida da figueira comerá do seu fruto; e o que atenta para o seu senhor será honr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7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na água o rosto corresponde ao rosto, assim o coração do homem ao hom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7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um outro te louve, e não a tua própria boca; o estranho, e não os teus láb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7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o inferno e a perdição nunca se fartam, assim os olhos do homem nunca se satisfaz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7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o crisol é para a prata, e o forno para o ouro, assim o homem é provado pelos louvo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7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nda que repreendas o tolo como quem bate o trigo com a mão de gral entre grãos pilados, não se apartará dele a sua estultí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7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rocura conhecer o estado das tuas ovelhas; põe o teu coração sobre os teus rebanho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7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tesouro não dura para sempre; e durará a coroa de geração em geraçã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7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brotar a erva, e aparecerem os renovos, e se juntarem as ervas dos monte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7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s cordeiros serão para te vestires, e os bodes para o preço do camp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7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abastança do leite das cabras para o teu sustento, para sustento da tua casa e para sustento das tuas serv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7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pedra é pesada, e a areia é espessa; porém a ira do insensato é mais pesada que amb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7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furor é cruel e a ira impetuosa, mas quem poderá enfrentar a invej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7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elhor é a repreensão franca do que o amor encober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7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ais são as feridas feitas pelo amigo, mas os beijos do inimigo são enganos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7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alma farta pisa o favo de mel, mas para a alma faminta todo amargo é doc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7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l a ave que vagueia longe do seu ninho, tal é o homem que anda vagueando longe da sua mor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7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óleo e o perfume alegram o coração; assim o faz a doçura do amigo pelo conselho cordi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2:45Z</dcterms:created>
  <dc:creator>Admin</dc:creator>
  <dc:description/>
  <dc:language>en-US</dc:language>
  <cp:lastModifiedBy>Admin</cp:lastModifiedBy>
  <dcterms:modified xsi:type="dcterms:W3CDTF">2008-07-31T00:22:45Z</dcterms:modified>
  <cp:revision>1</cp:revision>
  <dc:subject/>
  <dc:title>Slide 1</dc:title>
</cp:coreProperties>
</file>