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5E9-0C03-4553-AFF7-EACB9B51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B0E-E2F6-4685-AF22-C5B790FA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E73-F0C4-400A-B8FB-43EE2387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1A3-FAB1-44F2-999B-BE277BC1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F30-1CC7-4AAE-B4F8-4A86DE0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1D2-45C6-40A6-AB23-418A2F99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9CA-4924-4F2D-93CB-46D7761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3C0-4931-4652-9110-0CC3A6B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15F-EC47-46D9-9E78-04D4AFC3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859-511D-4008-8697-10824D2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243-E07B-47DE-854B-7558368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86E-9CB2-423B-9FB0-08ADB8F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AB6D-0CA3-4BEA-8B25-C4058C2CE1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Roboão a Jerusalém, reuniu, da casa de Judá e Benjamim, cento e oitenta mil escolhidos, destros na guerra, para pelejarem contra Israel, e para restituírem o reino a 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Zorá, a Aijalom, e a Hebrom, que estavam em Judá e em Benjamim; cidades f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tificou estas fortalezas e pôs nelas capitães, e armazéns de víveres, de azeite, e de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em cada cidade paveses e lanças; fortificou-as grandemente; e Judá e Benjamim pertenceram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sacerdotes e os levitas, que havia em todo o Israel, se reuniram a ele de todos 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levitas deixaram os seus arrabaldes, e a sua possessão, e vieram a Judá e a Jerusalém, porque Jeroboão e seus filhos os lançaram fora para que não ministrasse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onstituiu para si sacerdotes, para os altos, para os demônios, e para os bezerros, que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ses também, de todas as tribos de Israel, os que deram o seu coração a buscarem ao SENHOR Deus de Israel, vieram a Jerusalém, para oferecerem sacrifícios a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rtaleceram o reino de Judá e corroboraram a Roboão, filho de Salomão, por três anos; porque três anos andaram no caminho de Davi 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boão tomou para si, por mulher, a Maalate, filha de Jerimote, filho de Davi; e Abiail, filha de Eliabe, filho de Jes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lhe deu filhos: Jeús, Samarias e Z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palavra do SENHOR veio a Semaías, homem de Deu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a tomou a Maaca, filha de Absalão; esta lhe deu Abias, Atai, Ziza e Selom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va Roboão mais a Maaca, filha de Absalão, do que a todas as suas outras mulheres e concubinas; porque ele tinha tomado dezoito mulheres, e sessenta concubinas; e gerou vinte e oito filhos, e sessenta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boão designou Abias, filho de Maaca, para ser chefe e líder entre os seus irmãos, porque queria fazê-l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sou de prudência, e de todos os seus filhos, alguns espalhou por todas as terras de Judá, e Benjamim, por todas as cidades fortes; e deu-lhes víveres em abundância; e lhes procurou muit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Roboão, filho de Salomão, rei de Judá, e a todo o Israel, em Judá e Benjami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Não subireis, nem pelejareis contra os vossos irmãos; volte cada um à sua casa; porque de mim proveio isto. E ouviram as palavras do SENHOR, e desistiram de ir contra Je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boão habitou em Jerusalém; e para defesa, edificou cidades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ou, pois, a Belém, a Etã, e a Teco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ete-Zur, a Socó, a Adul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ate, a Maressa, a Zif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doraim, a Laquis, e a Azec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32Z</dcterms:created>
  <dc:creator>Admin</dc:creator>
  <dc:description/>
  <dc:language>en-US</dc:language>
  <cp:lastModifiedBy>Admin</cp:lastModifiedBy>
  <dcterms:modified xsi:type="dcterms:W3CDTF">2008-07-30T23:49:32Z</dcterms:modified>
  <cp:revision>1</cp:revision>
  <dc:subject/>
  <dc:title>Slide 1</dc:title>
</cp:coreProperties>
</file>