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5749-2E80-416E-816D-FE866C30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FC43-E297-46C5-856D-BBFA1AD3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558A-827F-4105-9368-BB8A2414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DFB2-EC8E-4BC6-AF4F-D6C7885B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62D3-824E-4C00-8B8A-184E13A4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ED39-CE3E-4969-B9D6-F49481DB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2A4E-0B0C-4245-9F6D-C7E70A5D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448B-AD14-447F-8FBF-77F92E6B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4C33-7725-4415-9BC5-2CBEF6F8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747C-2C3D-442F-877F-B57DA790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46D4-3EF2-4A6A-A8D2-FBD6614C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2B5D-7FFE-483A-98FB-1B3031F9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9B50-F758-4455-911C-AE43DBD6868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SO do vale da visão. Que tens agora, pois que com todos os teus subiste aos telhad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contastes as casas de Jerusalém, e derrubastes as casas, para fortalecer os mu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zestes também um reservatório entre os dois muros para as águas do tanque velho, porém não olhastes acima, para aquele que isto tinha feito, nem considerastes o que o formou desde a antigu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DEUS dos Exércitos, chamou naquele dia para chorar e para prantear, e para raspar a cabeça, e cingir com o cilí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is aqui gozo e alegria, matam-se bois e degolam-se ovelhas, come-se carne, e bebe-se vinho, e diz-se: Comamos e bebamos, porque amanhã morrer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SENHOR dos Exércitos revelou-se aos meus ouvidos, dizendo: Certamente esta maldade não vos será expiada até que morrais, diz o Senhor DEUS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 dos Exércitos: Anda e vai ter com este tesoureiro, com Sebna, o mordomo, e dize-lh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é que tens aqui, ou a quem tens tu aqui, para que cavasses aqui uma sepultura? Cavando em lugar alto a sua sepultura, e cinzelando na rocha uma morada para ti mesm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o SENHOR te arrojará violentamente como um homem forte, e de todo te envolv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rtamente com violência te fará rolar, como se faz rolar uma bola num país espaçoso; ali morrerás, e ali acabarão os carros da tua glória, ó opróbrio da casa do t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mitir-te-ei do teu posto, e te arrancarei do teu ass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cheia de clamores, cidade turbulenta, cidade alegre, os teus mortos não foram mortos à espada, nem morreram na gu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naquele dia que chamarei a meu servo Eliaquim, filho de Hilqui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sti-lo-ei da tua túnica, e cingi-lo-ei com o teu cinto, e entregarei nas suas mãos o teu domínio, e será como pai para os moradores de Jerusalém, e para a casa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ei a chave da casa de Davi sobre o seu ombro, e abrirá, e ninguém fechará; e fechará, e ninguém abr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ixá-lo-ei como a um prego num lugar firme, e será como um trono de honra para a casa de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ele pendurarão toda a honra da casa de seu pai, a prole e os descendentes, como também todos os vasos menores, desde as taças até os frasc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, diz o SENHOR dos Exércitos, o prego fincado em lugar firme será tirado; e será cortado, e cairá, e a carga que nele estava se desprenderá, porque o SENHOR o di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teus governadores juntamente fugiram, foram atados pelos arqueiros; todos os que em ti se acharam, foram amarrados juntamente, e fugiram para lon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digo: Desviai de mim a vista, e chorarei amargamente; não vos canseis mais em consolar-me pela destruição da filha do m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ia de alvoroço, e de atropelamento, e de confusão é este da parte do Senhor DEUS dos Exércitos, no vale da visão; dia de derrubar o muro e de clamar até aos mo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lão tomou a aljava, juntamente com carros de homens e cavaleiros; e Quir descobriu os escu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teus mais formosos vales se encherão de carros, e os cavaleiros se colocarão em ordem às por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tirou a coberta de Judá, e naquele dia olhaste para as armas da casa do bos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stes as brechas da cidade de Davi, porquanto já eram muitas, e ajuntastes as águas do tanque de baix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5:17Z</dcterms:created>
  <dc:creator>Admin</dc:creator>
  <dc:description/>
  <dc:language>en-US</dc:language>
  <cp:lastModifiedBy>Admin</cp:lastModifiedBy>
  <dcterms:modified xsi:type="dcterms:W3CDTF">2008-07-30T23:55:17Z</dcterms:modified>
  <cp:revision>1</cp:revision>
  <dc:subject/>
  <dc:title>Slide 1</dc:title>
</cp:coreProperties>
</file>