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425-38C4-48F5-BC63-6124A992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676-C0C6-49AF-B508-3A925E25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6EF-228F-46EE-A967-BEE2B799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98A-C368-4248-A875-8E2569A9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A47-1D9A-4C0B-8769-72C8BAA9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20E-E6CB-46C4-85D1-C0C90547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3C7-1345-4624-8C5C-38A9E4C3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768-0209-4A3C-A8E9-AA750A61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38A-13A1-4B2A-8837-9AD2007B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757-BE5B-4BAB-AC83-729D7A13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06E-797B-4B82-8AF8-E6FF5A47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FBC-FFB2-48D9-AB9F-33A167E9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E91C-B285-495E-9284-5EE51CBC105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o homem que não anda segundo o conselho dos ímpios, nem se detém no caminho dos pecadores, nem se assenta na roda dos escarnece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tem o seu prazer na lei do SENHOR, e na sua lei medita de dia e de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será como a árvore plantada junto a ribeiros de águas, a qual dá o seu fruto no seu tempo; as suas folhas não cairão, e tudo quanto fizer prospe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ão assim os ímpios; mas são como a moinha que o vento esp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s ímpios não subsistirão no juízo, nem os pecadores na congregação dos ju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conhece o caminho dos justos; porém o caminho dos ímpios pe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06Z</dcterms:created>
  <dc:creator>Admin</dc:creator>
  <dc:description/>
  <dc:language>en-US</dc:language>
  <cp:lastModifiedBy>Admin</cp:lastModifiedBy>
  <dcterms:modified xsi:type="dcterms:W3CDTF">2008-07-31T00:24:06Z</dcterms:modified>
  <cp:revision>1</cp:revision>
  <dc:subject/>
  <dc:title>Slide 1</dc:title>
</cp:coreProperties>
</file>