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16D-40C7-4985-B9D8-26CC0882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E56-2D42-4C5B-9FA9-96C7A42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A86-D1F7-42C4-8F85-48B64B72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BF2-7451-4473-8494-97337A02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B4E-A78C-4230-8AC9-94B0F3A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300-072F-4EFB-A840-E3144730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3C5-E127-4FC0-84D0-1771013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1D0-4749-4174-B3DB-97705F7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F12-03DE-4F58-9F2F-53623D0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826-36A9-4821-913E-D330479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6D9-F05A-4404-9254-D110815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8B-6BA7-4887-8528-4904876F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564C-F0C3-4EAB-8395-043EC8FF24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A mesma hora chegaram os discípulos ao pé de Jesus, dizendo: Quem é o maior no reino dos cé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não desprezeis algum destes pequeninos, porque eu vos digo que os seus anjos nos céus sempre vêem a face de meu Pai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veio salvar o que se tinha perd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vos parece? Se algum homem tiver cem ovelhas, e uma delas se desgarrar, não irá pelos montes, deixando as noventa e nove, em busca da que se desgarr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porventura achá-la, em verdade vos digo que maior prazer tem por aquela do que pelas noventa e nove que se não desgar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também, não é vontade de vosso Pai, que está nos céus, que um destes pequeninos se pe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teu irmão pecar contra ti, vai, e repreende-o entre ti e ele só; se te ouvir, ganhaste a t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não te ouvir, leva ainda contigo um ou dois, para que pela boca de duas ou três testemunhas toda a palavra seja confir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não as escutar, dize-o à igreja; e, se também não escutar a igreja, considera-o como um gentio e publica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tudo o que ligardes na terra será ligado no céu, e tudo o que desligardes na terra será desligado n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digo que, se dois de vós concordarem na terra acerca de qualquer coisa que pedirem, isso lhes será feito por meu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hamando um menino, o pôs no meio d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onde estiverem dois ou três reunidos em meu nome, aí estou eu no mei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dro, aproximando-se dele, disse: Senhor, até quantas vezes pecará meu irmão contra mim, e eu lhe perdoarei? Até se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lhe disse: Não te digo que até sete; mas, até setenta vezes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 reino dos céus pode comparar-se a um certo rei que quis fazer contas com os seus ser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eçando a fazer contas, foi-lhe apresentado um que lhe devia dez mil talen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ão tendo ele com que pagar, o seu senhor mandou que ele, e sua mulher e seus filhos fossem vendidos, com tudo quanto tinha, para que a dívida se lhe pag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quele servo, prostrando-se, o reverenciava, dizendo: Senhor, sê generoso para comigo, e tudo te pag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aquele servo, movido de íntima compaixão, soltou-o e perdoou-lhe a dí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ndo, porém, aquele servo, encontrou um dos seus conservos, que lhe devia cem dinheiros, e, lançando mão dele, sufocava-o, dizendo: Paga-me o que me de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u companheiro, prostrando-se a seus pés, rogava-lhe, dizendo: Sê generoso para comigo, e tudo te pag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m verdade vos digo que, se não vos converterdes e não vos fizerdes como meninos, de modo algum entrareis n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não quis, antes foi encerrá-lo na prisão, até que pagasse a dí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s seus conservos o que acontecia, contristaram-se muito, e foram declarar ao seu senhor tudo o que se pass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u senhor, chamando-o à sua presença, disse-lhe: Servo malvado, perdoei-te toda aquela dívida, porque me suplic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vias tu, igualmente, ter compaixão do teu companheiro, como eu também tive misericórdia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indignado, o seu senhor o entregou aos atormentadores, até que pagasse tudo o que de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s fará, também, meu Pai celestial, se do coração não perdoardes, cada um a seu irmão, as suas ofen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quele que se tornar humilde como este menino, esse é o maior no rein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lquer que receber em meu nome um menino, tal como este, a mim me rec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lquer que escandalizar um destes pequeninos, que crêem em mim, melhor lhe fora que se lhe pendurasse ao pescoço uma mó de azenha, e se submergisse na profundez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 mundo, por causa dos escândalos; porque é mister que venham escândalos, mas ai daquele homem por quem o escândalo ve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se a tua mão ou o teu pé te escandalizar, corta-o, e atira-o para longe de ti; melhor te é entrar na vida coxo, ou aleijado, do que, tendo duas mãos ou dois pés, seres lançado no fogo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teu olho te escandalizar, arranca-o, e atira-o para longe de ti; melhor te é entrar na vida com um só olho, do que, tendo dois olhos, seres lançado no fogo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21Z</dcterms:created>
  <dc:creator>Admin</dc:creator>
  <dc:description/>
  <dc:language>en-US</dc:language>
  <cp:lastModifiedBy>Admin</cp:lastModifiedBy>
  <dcterms:modified xsi:type="dcterms:W3CDTF">2008-07-31T00:15:21Z</dcterms:modified>
  <cp:revision>1</cp:revision>
  <dc:subject/>
  <dc:title>Slide 1</dc:title>
</cp:coreProperties>
</file>