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CE0-0088-46E0-B1CA-2D85E042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0F2-30CA-4750-908C-D5EAEB2C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4BE-C588-4842-AACF-9668428D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5FE-FD97-4D67-9964-F968DCDE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14A-57DD-40EC-A327-0D5EFC94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67B-DBEF-478C-91B3-C39E731C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CE5-FF78-4C3B-8ED9-828B0232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DA5-E0BA-450E-B39A-2A7EEBCD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7E9-24BA-4B7C-9239-374EAEF4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752-F22D-4A37-9E57-BF82F5BC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93B-BC41-47FA-8D8E-46DD58F8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664-D5F4-4D08-9A44-134D4AAB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F938-5D6A-4D48-A27C-5F0A35AB8B8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também do teu Criador nos dias da tua mocidade, antes que venham os maus dias, e cheguem os anos dos quais venhas a dizer: Não tenho neles contenta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urou o pregador achar palavras agradáveis; e escreveu-as com retidão, palavras de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lavras dos sábios são como aguilhões, e como pregos, bem fixados pelos mestres das assembléias, que nos foram dadas pelo único Past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mais disto, filho meu, atenta: não há limite para fazer livros, e o muito estudar é enfado d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udo o que se tem ouvido, o fim é: Teme a Deus, e guarda os seus mandamentos; porque isto é o dever de todo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há de trazer a juízo toda a obra, e até tudo o que está encoberto, quer seja bom, quer seja ma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que se escureçam o sol, e a luz, e a lua, e as estrelas, e tornem a vir as nuvens depois da chuv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em que tremerem os guardas da casa, e se encurvarem os homens fortes, e cessarem os moedores, por já serem poucos, e se escurecerem os que olham pelas janel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portas da rua se fecharem por causa do baixo ruído da moedura, e se levantar à voz das aves, e todas as filhas da música se abate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quando temerem o que é alto, e houver espantos no caminho, e florescer a amendoeira, e o gafanhoto for um peso, e perecer o apetite; porque o homem se vai à sua casa eterna, e os pranteadores andarão rodeando pela pra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que se rompa o cordão de prata, e se quebre o copo de ouro, e se despedace o cântaro junto à fonte, e se quebre a roda junto ao poç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ó volte à terra, como o era, e o espírito volte a Deus, que o 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dade de vaidades, diz o pregador, tudo é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mais sábio foi o pregador, tanto mais ensinou ao povo sabedoria; e atentando, e esquadrinhando, compôs muitos provér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44Z</dcterms:created>
  <dc:creator>Admin</dc:creator>
  <dc:description/>
  <dc:language>en-US</dc:language>
  <cp:lastModifiedBy>Admin</cp:lastModifiedBy>
  <dcterms:modified xsi:type="dcterms:W3CDTF">2008-07-30T23:29:44Z</dcterms:modified>
  <cp:revision>1</cp:revision>
  <dc:subject/>
  <dc:title>Slide 1</dc:title>
</cp:coreProperties>
</file>