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7EC-34C0-4008-A1FB-16DC4231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726-F63D-415F-88B8-AB373748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15E-B44A-41D9-82BF-215B0D23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3B7-943A-49F1-BC8F-B1544098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338-DA4D-43A4-BF8A-036604EB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660-27CA-40E4-A522-2874F584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57D-4C6C-4F55-A1EA-6D7A8709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6ED-DD1D-491A-BC86-5AAB2FE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237-E616-47F3-BD7F-BD1C4424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1F1-AEDD-4333-AAFB-9F02C36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996-798A-47A3-8FC3-61C88AC5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BED-8AAF-4603-A49A-BA6839A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9870-1E23-4B13-87F0-CBE63432EB0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ergonha do pai descobriram em ti; a que estava imunda, na sua separação, humilharam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ometeu abominação com a mulher do seu próximo, outro contaminou abominavelmente a sua nora, e outro humilhou no meio de ti a sua irmã, filh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sentes receberam no meio de ti para derramarem sangue; usura e juros ilícitos tomaste, e usaste de avareza com o teu próximo, oprimindo-o; mas de mim te esqueceste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bati as mãos contra a avareza que cometeste, e por causa do sangue que houve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estará firme o teu coração? Porventura estarão fortes as tuas mãos, nos dias em que eu tratarei contigo? Eu, o SENHOR, o disse, e o f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alhar-te-ei entre as nações, e dispersar-te-ei pelas terras, e porei termo à tua imund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serás profanada em ti mesma aos olhos dos gentios, e saberá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a casa de Israel se tornou para mim em escórias; todos eles são bronze, e estanho, e ferro, e chumbo no meio do forno; em escórias de prata se torn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Pois que todos vós vos tornastes em escórias, por isso eis que eu vos ajuntarei no meio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porventura julgarás, julgarás a cidade sanguinária? Faze-lhe conhecer, pois, todas as su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e ajuntam a prata, e o bronze, e o ferro, e o chumbo, e o estanho, no meio do forno, para assoprar o fogo sobre eles, a fim de se fundirem, assim vos ajuntarei na minha ira e no meu furor, e ali vos deixarei e fund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gregar-vos-ei, e assoprarei sobre vós o fogo do meu furor; e sereis fundidos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e funde a prata no meio do forno, assim sereis fundidos no meio dela; e sabereis que eu, o SENHOR, derramei o meu furor sob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ze-lhe: Tu és uma terra que não está purificada; e que não tem chuva no dia da indig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piração dos seus profetas há no meio dela, como um leão que ruge, que arrebata a presa; eles devoram as almas; tomam tesouros e coisas preciosas, multiplicam as suas viúvas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sacerdotes violentam a minha lei, e profanam as minhas coisas santas; não fazem diferença entre o santo e o profano, nem discernem o impuro do puro; e de meus sábados escondem os seus olhos, e assim sou profanado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príncipes no meio dela são como lobos que arrebatam a presa, para derramarem sangue, para destruírem as almas, para seguirem a ava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profetas têm feito para eles cobertura com argamassa não temperada, profetizando vaidade, adivinhando-lhes mentira, dizendo: Assim diz o Senhor DEUS; sem que o SENHOR tivesse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povo da terra oprimem gravemente, e andam roubando, e fazendo violência ao pobre e necessitado, e ao estrangeiro oprimem sem raz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: Assim diz o Senhor DEUS: Ai da cidade que derrama o sangue no meio de si para que venha o seu tempo! Que faz ídolos contra si mesma, para se contamina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usquei dentre eles um homem que estivesse tapando o muro, e estivesse na brecha perante mim por esta terra, para que eu não a destruísse; porém a ninguém ach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u derramei sobre eles a minha indignação; com o fogo do meu furor os consumi; fiz que o seu caminho recaísse sobre a sua cabeça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teu sangue que derramaste te fizeste culpada, e pelos teus ídolos que fabricaste te contaminaste, e fizeste aproximarem-se os teus dias, e tem chegado o fim dos teus anos; por isso eu te fiz o opróbrio das nações e o escárnio de todas 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que estão perto de ti e as que estão longe escarnecerão de ti, infamada, cheia de inqui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príncipes de Israel, cada um conforme o seu poder, estavam em ti para derramarem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pai e à mãe desprezaram em ti; para com o estrangeiro usaram de opressão no meio de ti; ao órfão e à viúva oprimiram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nhas coisas santas desprezaste, e os meus sábados profan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 caluniadores se acharam em ti, para derramarem sangue; e em ti sobre os montes comeram; perversidade cometeram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53Z</dcterms:created>
  <dc:creator>Admin</dc:creator>
  <dc:description/>
  <dc:language>en-US</dc:language>
  <cp:lastModifiedBy>Admin</cp:lastModifiedBy>
  <dcterms:modified xsi:type="dcterms:W3CDTF">2008-07-30T23:34:53Z</dcterms:modified>
  <cp:revision>1</cp:revision>
  <dc:subject/>
  <dc:title>Slide 1</dc:title>
</cp:coreProperties>
</file>