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E26-719F-4EB3-AD91-C90682E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50B-3DF8-42C0-9F0E-C41134E1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4E1-3F95-437C-9B58-FBA0D64A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48D-B6D0-4F66-A94B-C4BA3945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206-D84B-43AB-9EAB-F4D4F58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FBC-4F84-4992-ABA7-C998E411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05A-6DF7-4AA1-A3F9-BE44277C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107-5051-4440-849E-F917561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AA5-0956-4206-BC2A-7C2019A0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39E-C03B-4559-895F-D3E5B05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787-D3C6-485A-BB4B-73C8ABD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2C9-FADC-4BDC-B230-D8256A4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355-9F75-43F5-B128-9F4D7F6622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RÃO, filho de Acabe, começou a reinar sobre Israel, em Samaria, no décimo oitavo ano de Jeosafá, rei de Judá; e reinou doz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de Israel: Ah! o SENHOR chamou a estes três reis, para entregá-los nas mãos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osafá: Não há aqui algum profeta do SENHOR, para que consultemos ao SENHOR por ele? Então respondeu um dos servos do rei de Israel, dizendo: Aqui está Eliseu, filho de Safate, que derramava água sobre as mãos de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osafá: Está com ele a palavra do SENHOR. Então o rei de Israel, Jeosafá, e o rei de Edom desceram a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iseu disse ao rei de Israel: Que tenho eu contigo? Vai aos profetas de teu pai e aos profetas de tua mãe. Porém o rei de Israel lhe disse: Não, porque o SENHOR chamou a estes três reis para entregá-los nas mãos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iseu: Vive o SENHOR dos Exércitos, em cuja presença estou, que se eu não respeitasse a presença de Jeosafá, rei de Judá, não olharia para ti nem te v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trazei-me um músico. E sucedeu que, tocando o músico, veio sobre ele a m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ssim diz o SENHOR: Fazei neste vale muitas c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: Não vereis vento, e não vereis chuva; todavia este vale se encherá de tanta água, que bebereis vós, o vosso gado e os voss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isto é pouco aos olhos do SENHOR; também entregará ele os moabitas nas v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eis a todas as cidades fortes, e a todas as cidades escolhidas, e todas as boas árvores cortareis, e entupireis todas as fontes de água, e danificareis com pedras todos os bon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porém não como seu pai, nem como sua mãe; porque tirou a estátua de Baal, que seu pai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ela manhã, oferecendo-se a oferta de alimentos, eis que vinham as águas pelo caminho de Edom; e a terra se encheu d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todos os moabitas que os reis tinham subido para pelejarem contra eles, convocaram a todos os que estavam em idade de cingir cinto e daí para cima, e puseram-se às front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e madrugada, e saindo o sol sobre as águas, viram os moabitas, defronte deles, as águas vermelhas com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Isto é sangue; certamente que os reis se destruíram à espada e se mataram um ao outro! Agora, pois, à presa, moabit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chegando eles ao arraial de Israel, os israelitas se levantaram, e feriram os moabitas, os quais fugiram diante deles e ainda entraram nas suas terras, ferindo ali também 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asaram as cidades, e cada um lançou a sua pedra em todos os bons campos, e os entulharam, e entupiram todas as fontes de água, e cortaram todas as boas árvores, até que só em Quir-Haresete deixaram ficar as pedras, mas os fundeiros a cercaram e a 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endo o rei dos moabitas que a peleja prevalecia contra ele, tomou consigo setecentos homens que sacavam espada, para romperem contra o rei de Edom, porém não pu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a seu filho primogênito, que havia de reinar em seu lugar, e o ofereceu em holocausto sobre o muro; pelo que houve grande indignação em Israel; por isso retiraram-se dele, e voltaram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aderiu aos pecados de Jeroboão, filho de Nebate, com que fizera Israel pecar; não se aparto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sa, rei dos moabitas, era criador de gado, e pagava de tributo, ao rei de Israel, cem mil cordeiros, e cem mil carneiros com a sua l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morrendo Acabe, o rei dos moabitas se rebelou contra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Jorão ao mesmo tempo saiu de Samaria, e fez revista d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, e mandou dizer a Jeosafá, rei de Judá: O rei dos moabitas se rebelou contra mim; irás tu comigo à guerra contra os moabitas? E disse ele: Subirei; e eu serei como tu, o meu povo como o teu povo, e os meus cavalos como os teus cava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Por que caminho subiremos? Então disse ele: Pelo caminho do deserto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o rei de Israel, o rei de Judá e o rei de Edom; e andaram rodeando com uma marcha de sete dias, e não havia água para o exército e nem para o gado que os se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07Z</dcterms:created>
  <dc:creator>Admin</dc:creator>
  <dc:description/>
  <dc:language>en-US</dc:language>
  <cp:lastModifiedBy>Admin</cp:lastModifiedBy>
  <dcterms:modified xsi:type="dcterms:W3CDTF">2008-07-30T23:51:07Z</dcterms:modified>
  <cp:revision>1</cp:revision>
  <dc:subject/>
  <dc:title>Slide 1</dc:title>
</cp:coreProperties>
</file>