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F31-2585-4CEE-9E66-42E365D7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F3C-7488-4342-8FFF-1A30001F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663-11EE-45AB-A6B7-D9C3C30B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1D9-5E7B-452C-A587-98B7792F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B55-BE01-4C99-B6F5-7E4CB53E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4E4-226A-41C9-B7EB-722FE9C5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DD0-1995-4325-A4C5-559C633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AB3-6D50-4115-8678-1698784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251-9359-47E3-9970-E746B7F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A72-1133-449E-B9D3-605198E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3E3-E78B-4AAF-A57F-28E7B57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7B9-3B75-44DD-94D4-BA41F76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F73-4C81-4A98-BB80-84A3D8012D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 da parte do SENHOR, quando o rei Zedequias lhe enviou a Pasur, filho de Malquias, e a Sofonias, filho de Maaséia, o sacerdo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us o meu rosto contra esta cidade para mal, e não para bem, diz o SENHOR; na mão do rei de Babilônia se entregará, e ele queimá-la-á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casa do rei de Judá dirás: Ouvi a palavra d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casa de Davi, assim diz o SENHOR: Julgai pela manhã justamente, e livrai o espoliado da mão do opressor; para que não saia o meu furor como fogo, e se acenda, sem que haja quem o apague, por causa da maldade de vossas 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sou contra ti, ó moradora do vale, ó rocha da campina, diz o SENHOR; contra vós que dizeis: Quem descerá contra nós? Ou quem entrará nas nossas mora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castigarei segundo o fruto das vossas ações, diz o SENHOR; e acenderei o fogo no seu bosque, que consumirá a tudo o que está em redor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a agora por nós ao SENHOR, por que Nabucodonosor, rei de Babilônia, guerreia contra nós; bem pode ser que o SENHOR trate conosco segundo todas as suas maravilhas, e o faça retirar-se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remias lhes disse: Assim direis a Zedequ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 de Israel: Eis que virarei contra vós as armas de guerra, que estão nas vossas mãos, com que vós pelejais contra o rei de Babilônia, e contra os caldeus, que vos têm cercado de fora dos muros, e ajuntá-los-ei no meio desta ci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pelejarei contra vós com mão estendida e com braço forte, e com ira, e com indignação e com grande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ei os habitantes desta cidade, assim os homens como os animais; de grande pestilência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, diz o SENHOR, entregarei Zedequias, rei de Judá, e seus servos, e o povo, e os que desta cidade restarem da pestilência, e da espada, e da fome, na mão de Nabucodonosor, rei de Babilônia, e na mão de seus inimigos, e na mão dos que busc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ste povo dirás: Assim diz o SENHOR: Eis que ponho diante de vós o caminho da vida e o caminho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icar nesta cidade há de morrer à espada, ou de fome, ou de pestilência; mas o que sair, e se render aos caldeus, que vos têm cercado, viverá, e terá a sua vida por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21Z</dcterms:created>
  <dc:creator>Admin</dc:creator>
  <dc:description/>
  <dc:language>en-US</dc:language>
  <cp:lastModifiedBy>Admin</cp:lastModifiedBy>
  <dcterms:modified xsi:type="dcterms:W3CDTF">2008-07-30T23:58:21Z</dcterms:modified>
  <cp:revision>1</cp:revision>
  <dc:subject/>
  <dc:title>Slide 1</dc:title>
</cp:coreProperties>
</file>