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E39C-501C-43FD-B445-BEE9069C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85E4-E8C0-4053-A2A5-80B2992D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A31F-F9B5-4E73-9121-04E7C42F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F572-81E7-4657-BD1F-30AC156C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527-8310-46C7-9932-1F0F50F7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5946-344D-4E5C-8F48-D69F4E41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F395-E16F-4B68-AE51-8E056BCF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0B98-B5C2-4429-95D3-E392CEB9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6921-D675-4F16-8644-3FC6BDB6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2A06-4401-42AE-A121-276476FD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BD43-AEC2-4E68-84CA-BE6ED03A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03C8-37F6-404E-9BA4-51795762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4877-2543-4D4A-BB90-8D0744086CB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 no monte Sinai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ntificareis o ano qüinquagésimo, e apregoareis liberdade na terra a todos os seus moradores; ano de jubileu vos será, e tornareis, cada um à sua possessão, e cada um à sua famíl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ano qüinquagésimo vos será jubileu; não semeareis nem colhereis o que nele nascer de si mesmo, nem nele vindimareis as uvas das separaçõ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jubileu é, santo será para vós; a novidade do campo com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ste ano do jubileu tornareis cada um à sua posses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venderdes alguma coisa ao vosso próximo, ou a comprardes da mão do vosso próximo, ninguém engane a seu irm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orme ao número dos anos, desde o jubileu, comprarás ao teu próximo; e conforme o número dos anos das colheitas, ele a venderá 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orme se multipliquem os anos, aumentarás o seu preço, e conforme à diminuição dos anos abaixarás o seu preço; porque conforme o número das colheitas é que ele te ven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nguém, pois, engane ao seu próximo; mas terás temor do teu Deus; porque eu sou 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bservareis os meus estatutos, e guardareis os meus juízos, e os cumprireis; assim habitareis seguros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erra dará o seu fruto, e comereis a fartar, e nela habitareis segu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os filhos de Israel, e dize-lhes: Quando tiverdes entrado na terra, que eu vos dou, então a terra descansará um sábado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disserdes: Que comeremos no ano sétimo? eis que não havemos de semear nem fazer a nossa colhei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u mandarei a minha bênção sobre vós no sexto ano, para que dê fruto por três an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oitavo ano semeareis, e comereis da colheita velha até ao ano nono; até que venha a nova colheita, comereis a ve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 terra não se venderá em perpetuidade, porque a terra é minha; pois vós sois estrangeiros e peregrinos co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em toda a terra da vossa possessão dareis resgate à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teu irmão empobrecer e vender alguma parte da sua possessão, então virá o seu resgatador, seu parente, e resgatará o que vendeu seu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alguém não tiver resgatador, porém conseguir o suficiente para o seu resga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ontará os anos desde a sua venda, e o que ficar restituirá ao homem a quem a vendeu, e tornará à sua posses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 não conseguir o suficiente para restituir-lha, então a que foi vendida ficará na mão do comprador até ao ano do jubileu; porém no ano do jubileu sairá, e ele tornará à sua posses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alguém vender uma casa de moradia em cidade murada, então poderá resgatá-la até que se cumpra o ano da sua venda; durante um ano inteiro será lícito o seu resg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is anos semearás a tua terra, e seis anos podarás a tua vinha, e colherás os seus fru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, cumprindo-se-lhe um ano inteiro, ainda não for resgatada, então a casa, que estiver na cidade que tem muro, em perpetuidade ficará ao que a comprou, pelas suas gerações; não sairá no jubil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s casas das aldeias que não têm muro ao redor, serão estimadas como o campo da terra; para elas haverá resgate, e sairão no jubil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no tocante às cidades dos levitas, às casas das cidades da sua possessão, direito perpétuo de resgate terão os lev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alguém comprar dos levitas, uma casa, a casa comprada e a cidade da sua possessão sairão do poder do comprador no jubileu; porque as casas das cidades dos levitas são a sua possessão no meio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campo do arrabalde das suas cidades não se venderá, porque lhes é possessão perpét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teu irmão empobrecer, e as suas forças decaírem, então sustentá-lo-ás, como estrangeiro e peregrino viverá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omarás dele juros, nem ganho; mas do teu Deus terás temor, para que teu irmão viva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lhe darás teu dinheiro com usura, nem darás do teu alimento por intere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u o SENHOR vosso Deus, que vos tirei da terra do Egito, para vos dar a terra de Canaã, para se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também teu irmão empobrecer, estando ele contigo, e vender-se a ti, não o farás servir como escra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o sétimo ano haverá sábado de descanso para a terra, um sábado ao SENHOR; não semearás o teu campo nem podarás a tua vi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diarista, como peregrino estará contigo; até ao ano do jubileu te servirá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irá do teu serviço, ele e seus filhos com ele, e tornará à sua família e à possessão de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ão meus servos, que tirei da terra do Egito; não serão vendidos como se vendem os escra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 assenhorearás dele com rigor, mas do teu Deus terás te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to a teu escravo ou a tua escrava que tiveres, serão das nações que estão ao redor de vós; deles comprareis escravos e escra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s comprareis dos filhos dos forasteiros que peregrinam entre vós, deles e das suas famílias que estiverem convosco, que tiverem gerado na vossa terra; e vos serão por posses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ssuí-los-eis por herança para vossos filhos depois de vós, para herdarem a possessão; perpetuamente os fareis servir; mas sobre vossos irmãos, os filhos de Israel, não vos assenhoreareis com rigor, uns sobre os ou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o estrangeiro ou peregrino que está contigo alcançar riqueza, e teu irmão, que está com ele, empobrecer, e vender-se ao estrangeiro ou peregrino que está contigo, ou a alguém da família do estrangeir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que se houver vendido, haverá resgate para ele; um de seus irmãos o poderá resgat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seu tio, ou o filho de seu tio o poderá resgatar; ou um dos seus parentes, da sua família, o poderá resgatar; ou, se alcançar riqueza, se resgatará a si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nascer de si mesmo da tua sega, não colherás, e as uvas da tua separação não vindimarás; ano de descanso será par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ertará com aquele que o comprou, desde o ano que se vendeu a ele até ao ano do jubileu, e o preço da sua venda será conforme o número dos anos; conforme os dias de um diarista estará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inda faltarem muitos anos, conforme a eles restituirá, para seu resgate, parte do dinheiro pelo qual foi vendi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ainda restarem poucos anos até ao ano do jubileu, então fará contas com ele; segundo os seus anos restituirá o seu resg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diarista, de ano em ano, estará com ele; não se assenhoreará sobre ele com rigor diante dos t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desta sorte não se resgatar, sairá no ano do jubileu, ele e seus filhos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filhos de Israel me são servos; meus servos são eles, que tirei da terra do Egito. Eu sou 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frutos do sábado da terra vos serão por alimento, a ti, e ao teu servo, e à tua serva, e ao teu diarista, e ao estrangeiro que peregrina contig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teu gado, e aos teus animais, que estão na tua terra, todo o seu produto será por mant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contarás sete semanas de anos, sete vezes sete anos; de maneira que os dias das sete semanas de anos te serão quarenta e nove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no mês sétimo, aos dez do mês, farás passar a trombeta do jubileu; no dia da expiação fareis passar a trombeta por toda a vossa t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9:46Z</dcterms:created>
  <dc:creator>Admin</dc:creator>
  <dc:description/>
  <dc:language>en-US</dc:language>
  <cp:lastModifiedBy>Admin</cp:lastModifiedBy>
  <dcterms:modified xsi:type="dcterms:W3CDTF">2008-07-31T00:09:46Z</dcterms:modified>
  <cp:revision>1</cp:revision>
  <dc:subject/>
  <dc:title>Slide 1</dc:title>
</cp:coreProperties>
</file>