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A65F-E21C-4292-8458-A088F3BC1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D9D1-1B8F-44B6-958A-76D53957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5908-AB25-49A2-A58E-F7136A812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0735-2645-4F51-B373-0468C2F1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D70C-DE19-4188-9E9A-30BA7111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B767-91E0-4D30-A237-49D2959C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7C50-CDBF-4489-8447-897E712F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23E3-E320-48AA-8A29-B25789C0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B7A7-246D-4ED1-884F-32EBFEAE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7057-E52B-4E78-A4D4-1694BD0F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B268-0B92-451D-BE0C-7C68BAFC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D2B9-4C46-4EA0-9BDC-FD7E6380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7FA7-8E83-40C7-9EFC-698187022D5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sou a rosa de Sarom, o lírio dos va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meu amado fala e me diz: Levanta-te, meu amor, formosa minha, e v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is que passou o inverno; a chuva cessou, e se fo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parecem as flores na terra, o tempo de cantar chega, e a voz da rola ouve-se em noss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figueira já deu os seus figos verdes, e as vides em flor exalam o seu aroma; levanta-te, meu amor, formosa minha, e v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mba minha, que andas pelas fendas das penhas, no oculto das ladeiras, mostra-me a tua face, faze-me ouvir a tua voz, porque a tua voz é doce, e a tua face gracio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panhai-nos as raposas, as raposinhas, que fazem mal às vinhas, porque as nossas vinhas estão em fl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meu amado é meu, e eu sou dele; ele apascenta o seu rebanho entre os lír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que refresque o dia, e fujam as sombras, volta, amado meu; faze-te semelhante ao gamo ou ao filho dos veados sobre os montes de Bet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l o lírio entre os espinhos, tal é meu amor entre as fi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l a macieira entre as árvores do bosque, tal é o meu amado entre os filhos; desejo muito a sua sombra, e debaixo dela me assento; e o seu fruto é doce ao meu palad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ou-me à casa do banquete, e o seu estandarte sobre mim era o am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stentai-me com passas, confortai-me com maçãs, porque desfaleço de am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ua mão esquerda esteja debaixo da minha cabeça, e a sua mão direita me abra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juro-vos, ó filhas de Jerusalém, pelas gazelas e cervas do campo, que não acordeis nem desperteis o meu amor, até que que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é a voz do meu amado; ei-lo aí, que já vem saltando sobre os montes, pulando sobre os outei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meu amado é semelhante ao gamo, ou ao filho do veado; eis que está detrás da nossa parede, olhando pelas janelas, espreitando pelas gr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5:42Z</dcterms:created>
  <dc:creator>Admin</dc:creator>
  <dc:description/>
  <dc:language>en-US</dc:language>
  <cp:lastModifiedBy>Admin</cp:lastModifiedBy>
  <dcterms:modified xsi:type="dcterms:W3CDTF">2008-07-30T23:25:42Z</dcterms:modified>
  <cp:revision>1</cp:revision>
  <dc:subject/>
  <dc:title>Slide 1</dc:title>
</cp:coreProperties>
</file>