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400-CA15-479D-B9C6-6445CD02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17C-A8B2-404B-8772-FA4E112C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849-9EB3-4B03-B6D6-74337B50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32F-5073-4B83-90A2-CE6DA237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91A-1D63-41AC-8F41-605B888E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35F-1433-4D45-9647-126A29E6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A4C-FED6-4985-89DB-8ECE5BB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2C3-0EC1-4FEB-B944-DF61C727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1DF-4E88-4A61-B54B-33D3FA7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04C-E149-4FB9-B6BE-7DC03F35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B17-E132-450B-917B-5E29C915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E1F-781B-409C-A804-35C2295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96B-3AF1-4CD1-B6DD-7BC42A5F8A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Ó minha alma, louv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inará eternamente; o teu Deus, ó Sião, de geração em geração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ei ao SENHOR durante a minha vida; cantarei louvores ao meu Deus enquanto eu for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fieis em príncipes, nem em filho de homem, em quem não há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-lhe o espírito, volta para a terra; naquele mesmo dia perecem os seus pens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que tem o Deus de Jacó por seu auxílio, e cuja esperança está posta n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z os céus e a terra, o mar e tudo quanto há neles, e o que guarda a verdade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az justiça aos oprimidos, o que dá pão aos famintos. O SENHOR solta os encarce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bre os olhos aos cegos; o SENHOR levanta os abatidos; o SENHOR ama os jus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guarda os estrangeiros; sustém o órfão e a viúva, mas transtorna o caminho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7Z</dcterms:created>
  <dc:creator>Admin</dc:creator>
  <dc:description/>
  <dc:language>en-US</dc:language>
  <cp:lastModifiedBy>Admin</cp:lastModifiedBy>
  <dcterms:modified xsi:type="dcterms:W3CDTF">2008-07-31T00:28:47Z</dcterms:modified>
  <cp:revision>1</cp:revision>
  <dc:subject/>
  <dc:title>Slide 1</dc:title>
</cp:coreProperties>
</file>