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5195-76C9-4FA3-BA10-8320BE35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19DF-E8C7-4153-8AAF-E03F1829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87BD-83FD-4C70-A1DD-7E5578A0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DD1E-A040-4646-9AD4-04E30FA8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A804-F5F4-4648-B3EA-C2DFBD5F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FFDD-31F0-4033-AC1E-2C96F5A6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5D2-7A85-464D-A400-CB10C25D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1D7E-B669-4370-83B7-7B60F706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D6D1-7235-44CD-834D-F4B7E994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1B1-B5E7-46B8-82A3-740509FD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34A9-995E-43EE-A5D9-2068EDDC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578F-5431-4A72-A399-5C106F74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09A5-0055-47D7-ADAA-CF75DEA77C4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RÁS, pois, ao SENHOR teu Deus, e guardarás as suas ordenanças, e os seus estatutos, e os seus juízos, e os seus mandamentos, todos 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terra que passas a possuir não é como a terra do Egito, de onde saíste, em que semeavas a tua semente, e a regavas com o teu pé, como a uma h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terra que passais a possuir é terra de montes e de vales; da chuva dos céus beberá as águ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rra de que o SENHOR teu Deus tem cuidado; os olhos do SENHOR teu Deus estão sobre ela continuamente, desde o princípio até ao fim do 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se diligentemente obedecerdes a meus mandamentos que hoje vos ordeno, de amar ao SENHOR vosso Deus, e de o servir de todo o vosso coração e de toda a vossa alm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rei a chuva da vossa terra a seu tempo, a temporã e a serôdia, para que recolhais o vosso grão, e o vosso mosto e o vosso aze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rei erva no teu campo aos teus animais, e comerás, e fartar-te-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i-vos, que o vosso coração não se engane, e vos desvieis, e sirvais a outros deuses, e vos inclineis perante el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ira do SENHOR se acenda contra vós, e feche ele os céus, e não haja água, e a terra não dê o seu fruto, e cedo pereçais da boa terra que o SENHOR vos 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nde, pois, estas minhas palavras no vosso coração e na vossa alma, e atai-as por sinal na vossa mão, para que estejam por frontais entre os vosso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sinai-as a vossos filhos, falando delas assentado em tua casa, e andando pelo caminho, e deitando-te, e levantando-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je sabereis que falo, não com vossos filhos, que o não sabem, e não viram a instrução do SENHOR vosso Deus, a sua grandeza, a sua mão forte, e o seu braço estendi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creve-as nos umbrais de tua casa, e nas tuas port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se multipliquem os vossos dias e os dias de vossos filhos na terra que o SENHOR jurou a vossos pais dar-lhes, como os dias dos céus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 diligentemente guardardes todos estes mandamentos, que vos ordeno para os guardardes, amando ao SENHOR vosso Deus, andando em todos os seus caminhos, e a ele vos achegard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SENHOR, de diante de vós, lançará fora todas estas nações, e possuireis nações maiores e mais poderosas do qu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lugar que pisar a planta do vosso pé será vosso; desde o deserto, e desde o Líbano, desde o rio, o rio Eufrates, até ao mar ocidental, será o vosso ter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resistirá diante de vós; o SENHOR vosso Deus porá sobre toda a terra, que pisardes, o vosso terror e o temor de vós, como já vos tem d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hoje eu ponho diante de vós a bênção e a maldi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bênção, quando cumprirdes os mandamentos do SENHOR vosso Deus, que hoje vos man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maldição, se não cumprirdes os mandamentos do SENHOR vosso Deus, e vos desviardes do caminho que hoje vos ordeno, para seguirdes outros deuses que não conhec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quando o SENHOR teu Deus te introduzir na terra, a que vais para possuí-la, então pronunciarás a bênção sobre o monte Gerizim, e a maldição sobre o monte Eb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tampouco os seus sinais, nem os seus feitos, que fez no meio do Egito a Faraó, rei do Egito, e a toda a su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estão eles além do Jordão, junto ao caminho do pôr do sol, na terra dos cananeus, que habitam na campina defronte de Gilgal, junto aos carvalhais de Moré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assareis o Jordão para entrardes a possuir a terra, que vos dá o SENHOR vosso Deus; e a possuireis, e nela habit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e, pois, cuidado em cumprir todos os estatutos e os juízos, que eu hoje vos propo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o que fez ao exército dos egípcios, aos seus cavalos e aos seus carros, fazendo passar sobre eles as águas do Mar Vermelho quando vos perseguiam, e como o SENHOR os destruiu, até ao dia de hoj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o que vos fez no deserto, até que chegastes a este lug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fez a Datã e a Abirão, filhos de Eliabe, filho de Rúben; como a terra abriu a sua boca e os tragou com as suas casas e com as suas tendas, como também tudo o que subsistia, e lhes pertencia, no meio de todo o Isr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os vossos olhos são os que viram toda a grande obra que fe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i, pois, todos os mandamentos que eu vos ordeno hoje, para que sejais fortes, e entreis, e ocupeis a terra que passais a possui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que prolongueis os dias na terra que o SENHOR jurou dar a vossos pais e à sua descendência, terra que mana leite e m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7:47Z</dcterms:created>
  <dc:creator>Admin</dc:creator>
  <dc:description/>
  <dc:language>en-US</dc:language>
  <cp:lastModifiedBy>Admin</cp:lastModifiedBy>
  <dcterms:modified xsi:type="dcterms:W3CDTF">2008-07-30T23:27:48Z</dcterms:modified>
  <cp:revision>1</cp:revision>
  <dc:subject/>
  <dc:title>Slide 1</dc:title>
</cp:coreProperties>
</file>