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E06-9646-43D8-97A0-938A2AE4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9F7-A2B1-45DA-B011-BC00954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954-D51C-4E48-A72F-30E1DB59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3E3-C8C8-492A-838C-5412F9B7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6F3-490E-4169-938E-3FE69FB1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0E6-431E-4010-87F9-E2D5A51D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A63-A0F5-448C-B26B-A091932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E99-8603-4B41-9809-C8DF30CD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8C8-E500-4BC6-9A8C-4C7AC903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184-D4FA-4DB9-A034-4093AA2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FE4-04C8-43E6-A569-347B4735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56A-99BA-4FB5-B14F-79EEB92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7F82-A295-4907-9DC0-75855045584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Roboão para Siquém; porque todo o Israel se reuniu em Siquém, para o fazere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jovens que haviam crescido com ele lhe falaram: Assim dirás a este povo que te falou: Teu pai fez pesadíssimo o nosso jugo, mas tu o alivia de sobre nós; assim lhe falarás: Meu dedo mínimo é mais grosso do que os lombos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, se meu pai vos carregou de um jugo pesado, ainda eu aumentarei o vosso jugo; meu pai vos castigou com açoites, porém eu vos castigarei com escorpi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Jeroboão e todo o povo, ao terceiro dia, a Roboão, como o rei havia ordenado, dizendo: Voltai a mim ao terceir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respondeu ao povo duramente; porque deixara o conselho que os anciãos lhe haviam 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falou conforme ao conselho dos jovens, dizendo: Meu pai agravou o vosso jugo, porém eu ainda aumentarei o vosso jugo; meu pai vos castigou com açoites, porém eu vos castigarei com escorpi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, pois, não deu ouvidos ao povo; porque esta revolta vinha do SENHOR, para confirmar a palavra que o SENHOR tinha falado pelo ministério de Aías, o silonita, a Jeroboão, filho de Neb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todo o Israel que o rei não lhe dava ouvidos, tornou-lhe o povo a responder, dizendo: Que parte temos nós com Davi? Não há para nós herança no filho de Jessé. Ás tuas tendas, ó Israel! Provê agora a tua casa, ó Davi. Então Israel se foi às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ocante, porém, aos filhos de Israel que habitavam nas cidades de Judá, também sobre eles reinou Rob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Roboão enviou a Adorão, que estava sobre os tributos; e todo o Israel o apedrejou, e ele morreu; mas o rei Roboão se animou a subir ao carro para fugir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rebelaram os israelitas contra a casa de Davi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Jeroboão, filho de Nebate, achando-se ainda no Egito, para onde fugira de diante do rei Salomão, voltou do Eg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todo o Israel que Jeroboão tinha voltado, enviaram, e o chamaram para a congregação, e o fizeram rei sobre todo o Israel; e ninguém seguiu a casa de Davi senão somente a tribo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Roboão a Jerusalém, reuniu toda a casa de Judá e a tribo de Benjamim, cento e oitenta mil escolhidos, destros para a guerra, para pelejar contra a casa de Israel, para restituir o reino a Roboão, filho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veio a palavra de Deus a Semaías, homem de Deu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Roboão, filho de Salomão, rei de Judá, e a toda a casa de Judá, e a Benjamim, e ao restante do pov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Não subireis nem pelejareis contra vossos irmãos, os filhos de Israel; volte cada um para a sua casa, porque eu é que fiz esta obra. E ouviram a palavra do SENHOR, e voltaram segundo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roboão edificou a Siquém, no monte de Efraim, e habitou ali; e saiu dali, e edificou a Pen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roboão no seu coração: Agora tornará o reino à casa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ste povo subir para fazer sacrifícios na casa do SENHOR, em Jerusalém, o coração deste povo se tornará a seu SENHOR, a Roboão, rei de Judá; e me matarão, e tornarão a Roboão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rei tomou conselho, e fez dois bezerros de ouro; e lhes disse: Muito trabalho vos será o subir a Jerusalém; vês aqui teus deuses, ó Israel, que te fizeram subir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um em Betel, e colocou o outro em 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andaram chamá-lo; veio, pois, Jeroboão e toda a congregação de Israel, e falaram a Robo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feito se tornou em pecado; pois que o povo ia até Dã para adorar o bez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casa nos altos; e constituiu sacerdotes dos mais baixos do povo, que não eram dos filhos de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Jeroboão uma festa no oitavo mês, no dia décimo quinto do mês, como a festa que se fazia em Judá, e sacrificou no altar; semelhantemente fez em Betel, sacrificando aos bezerros que fizera; também em Betel estabeleceu sacerdotes dos altos que fiz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crificou no altar que fizera em Betel, no dia décimo quinto do oitavo mês, que ele tinha imaginado no seu coração; assim fez a festa aos filhos de Israel, e sacrificou no altar, queimand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u pai agravou o nosso jugo; agora, pois, alivia tu a dura servidão de teu pai, e o pesado jugo que nos impôs, e nós te servi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Ide-vos até ao terceiro dia, e então voltai a mim. E o povo se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o rei Roboão conselho com os anciãos que estiveram na presença de Salomão, seu pai, quando este ainda vivia, dizendo: Como aconselhais vós que se responda a este p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falaram, dizendo: Se hoje fores servo deste povo, e o servires, e respondendo-lhe, lhe falares boas palavras, todos os dias serão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deixou o conselho que os anciãos lhe tinham dado, e teve conselho com os jovens que haviam crescido com ele, que estavam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Que aconselhais vós que respondamos a este povo, que me falou, dizendo: Alivia o jugo que teu pai nos impô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29Z</dcterms:created>
  <dc:creator>Admin</dc:creator>
  <dc:description/>
  <dc:language>en-US</dc:language>
  <cp:lastModifiedBy>Admin</cp:lastModifiedBy>
  <dcterms:modified xsi:type="dcterms:W3CDTF">2008-07-30T23:45:29Z</dcterms:modified>
  <cp:revision>1</cp:revision>
  <dc:subject/>
  <dc:title>Slide 1</dc:title>
</cp:coreProperties>
</file>