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782-E7EA-4DD3-BF4E-200195AB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D74-1C50-493D-8B2E-91AFD1E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1C5-0494-41BC-A67D-A4C42A54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C64-06ED-4E0E-8C2F-C1755D93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0F7-BE4A-4E89-BF8C-39125264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335-971B-4AD1-9C81-BE867A53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740-F518-489E-82BD-E54FD19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164-AE66-4595-8CE2-511EB3A9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D1D-6E9C-4CD3-A95F-A51187D5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841-3DC7-4B41-A05B-874DADB1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5BA-3166-4C71-8ACC-9416042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1C4-0BBE-4733-B1D6-543FA57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B7E1-76C1-42A2-BFEA-7E7E96696E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que viu Isaías, filho de Amós, a respeito de Judá e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 nas rochas, e esconde-te no pó, do terror do SENHOR e da glória da su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altivos dos homens serão abatidos, e a sua altivez será humilhada; e só o SENHOR será exaltado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dia do SENHOR dos Exércitos será contra todo o soberbo e altivo, e contra todo o que se exalta, para que seja abat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ra todos os cedros do Líbano, altos e sublimes; e contra todos os carvalhos de Bas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ra todos os montes altos, e contra todos os outeiros elev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ra toda a torre alta, e contra todo o muro fortifi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ra todos os navios de Társis, e contra todas as pinturas desej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rrogância do homem será humilhada, e a sua altivez se abaterá, e só o SENHOR será exaltado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ídolos desaparecerão tot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entrarão nas cavernas das rochas, e nas covas da terra, do terror do SENHOR, e da glória da sua majestade, quando ele se levantar para assombra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os últimos dias que se firmará o monte da casa do SENHOR no cume dos montes, e se elevará por cima dos outeiros; e concorrerão a ele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homem lançará às toupeiras e aos morcegos os seus ídolos de prata, e os seus ídolos de ouro, que fizeram para diante deles se prost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ão nas fendas das rochas, e nas cavernas das penhas, por causa do terror do SENHOR, e da glória da sua majestade, quando ele se levantar para abalar terrivelment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-vos do homem cujo fôlego está nas suas narinas; pois em que se deve ele estim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ão muitos povos, e dirão: Vinde, subamos ao monte do SENHOR, à casa do Deus de Jacó, para que nos ensine os seus caminhos, e andemos nas suas veredas; porque de Sião sairá a lei, e de Jerusalém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julgará entre as nações, e repreenderá a muitos povos; e estes converterão as suas espadas em enxadões e as suas lanças em foices; uma nação não levantará espada contra outra nação, nem aprenderão mais a guerr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ó casa de Jacó, e andemos na luz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desamparaste o teu povo, a casa de Jacó, porque se encheram dos costumes do oriente e são agoureiros como os filisteus; e associam-se com os filhos dos estrang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terra está cheia de prata e ouro, e não têm fim os seus tesouros; também a sua terra está cheia de cavalos, e os seus carros não têm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sua terra está cheia de ídolos; inclinam-se perante a obra das suas mãos, diante daquilo que fabricaram os seus de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se abate, e os nobres se humilham; portanto não lhes perdo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29Z</dcterms:created>
  <dc:creator>Admin</dc:creator>
  <dc:description/>
  <dc:language>en-US</dc:language>
  <cp:lastModifiedBy>Admin</cp:lastModifiedBy>
  <dcterms:modified xsi:type="dcterms:W3CDTF">2008-07-30T23:54:29Z</dcterms:modified>
  <cp:revision>1</cp:revision>
  <dc:subject/>
  <dc:title>Slide 1</dc:title>
</cp:coreProperties>
</file>