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E96-BEB0-4733-BB1D-442F25A9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6AD-0C17-42FE-904B-CDCB393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685-DC08-4B43-B438-F5E782B4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FE8-5C5C-4A01-A227-D8BA13D9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9AB-41B8-424B-B6BE-5B3DAB0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234-6906-4E28-8F83-FBEAB3A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515-32DE-40DA-938F-BC217EA7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558-CCC6-4219-81C8-404DF152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E72-F545-47E7-B993-5505A19F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7B4-B829-4693-829D-F222209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CD1-4CD2-4A71-BCA0-9223D76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A68-5B3A-4F8B-B92C-D69C77F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04C9-2A9E-4501-A5CC-E3333EB250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o Egito. Eis que o SENHOR vem cavalgando numa nuvem ligeira, e entrará no Egito; e os ídolos do Egito estremecerão diante dele, e o coração dos egípcios se derreterá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fundamentos serão despedaçados, e todos os que trabalham por salário ficarão com tristeza de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são loucos os príncipes de Zoã; o conselho dos sábios conselheiros de Faraó se embruteceu; como, pois, a Faraó direis: Sou filho de sábios, filho de antigos r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ão agora os teus sábios? Notifiquem-te agora, ou informem-te sobre o que o SENHOR dos Exércitos determinou contra 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cos tornaram-se os príncipes de Zoã, enganados estão os príncipes de Nofe; eles fizeram errar o Egito, aqueles que são a pedra de esquina das suas tri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rramou no meio dele um perverso espírito; e eles fizeram errar o Egito em toda a sua obra, como o bêbado quando se revolve no seu vôm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aproveitará ao Egito obra alguma que possa fazer a cabeça, a cauda, o ramo, ou o ju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os egípcios serão como mulheres, e tremerão e temerão por causa do movimento da mão do SENHOR dos Exércitos, que há de levantar-se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de Judá será um espanto para o Egito; todo aquele a quem isso se anunciar se assombrará, por causa do propósito do SENHOR dos Exércitos, que determinou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haverá cinco cidades na terra do Egito que falarão a língua de Canaã e farão juramento ao SENHOR dos Exércitos; e uma se chamará: Cidade de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o SENHOR terá um altar no meio da terra do Egito, e uma coluna se erigirá ao SENHOR, junto da sua front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arei com que os egípcios, se levantem contra os egípcios, e cada um pelejará contra o seu irmão, e cada um contra o seu próximo, cidade contra cidade, reino contra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rá de sinal e de testemunho ao SENHOR dos Exércitos na terra do Egito, porque ao SENHOR clamarão por causa dos opressores, e ele lhes enviará um salvador e um protetor, que os liv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e dará a conhecer ao Egito, e os egípcios conhecerão ao SENHOR naquele dia, e o adorarão com sacrifícios e ofertas, e farão votos ao SENHOR, e os cumpr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á o SENHOR ao Egito, ferirá e o curará; e converter-se-ão ao SENHOR, e mover-se-á às suas orações, e os cura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haverá estrada do Egito até à Assíria, e os assírios virão ao Egito, e os egípcios irão à Assíria; e os egípcios servirão com os ass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Israel será o terceiro com os egípcios e os assírios, uma bênção no mei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os Exércitos os abençoará, dizendo: Bendito seja o Egito, meu povo, e a Assíria, obra de minhas mãos, e Israel, minh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do Egito se esvaecerá no seu interior, e destruirei o seu conselho; e eles consultarão aos seus ídolos, e encantadores, e aqueles que têm espíritos familiares e feitic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arei os egípcios nas mãos de um senhor cruel, e um rei rigoroso os dominará, diz o Senhor,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carão as águas do mar, e o rio se esgotará e resseq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rios exalarão mau cheiro e se esgotarão e secarão os canais do Egito; as canas e os juncos murc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elva junto ao rio, junto às ribanceiras dos rios, e tudo o que foi semeado junto ao rio, secará, será arrancado e não subsist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escadores gemerão, e suspirarão todos os que lançam anzol ao rio, e os que estendem rede sobre as águas desfal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ergonhar-se-ão os que trabalham em linho fino, e os que tecem pano bra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11Z</dcterms:created>
  <dc:creator>Admin</dc:creator>
  <dc:description/>
  <dc:language>en-US</dc:language>
  <cp:lastModifiedBy>Admin</cp:lastModifiedBy>
  <dcterms:modified xsi:type="dcterms:W3CDTF">2008-07-30T23:55:11Z</dcterms:modified>
  <cp:revision>1</cp:revision>
  <dc:subject/>
  <dc:title>Slide 1</dc:title>
</cp:coreProperties>
</file>