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2D61-1C3C-4286-A5A9-274BC8B15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C9D2-248F-4DC1-A984-626A4ED9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C27E-F5EF-4D4C-9882-6C3516ED5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639F-6A91-48ED-8FC9-30AC45B6B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BB18-D25D-42A5-97AB-3B071F1A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A6CB-7A59-419C-8C44-7C992727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C8B4-8BD3-40BE-8DF8-ECFD2022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D1D6-D248-47C9-9B4A-208B13AD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E422-3E03-4D8C-8081-E685908D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B908-AA9E-4A0A-B928-34780DC1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8535-E5B2-4752-AC6A-43351AC0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4991-1870-478A-9BFB-9ACED6B8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9578-4050-4A3A-9D3C-759F500382F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I, pois, firmes na liberdade com que Cristo nos libertou, e não torneis a colocar-vos debaixo do jugo da servi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fio de vós, no Senhor, que nenhuma outra coisa sentireis; mas aquele que vos inquieta, seja ele quem for, sofrerá a conden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, porém, irmãos, se prego ainda a circuncisão, por que sou, pois, perseguido? Logo o escândalo da cruz está aniquil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quereria que fossem cortados aqueles que vos andam inquieta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vós, irmãos, fostes chamados à liberdade. Não useis então da liberdade para dar ocasião à carne, mas servi-vos uns aos outros pelo am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oda a lei se cumpre numa só palavra, nesta: Amarás ao teu próximo como a ti mes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vós, porém, vos mordeis e devorais uns aos outros, vede não vos consumais também uns aos out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go, porém: Andai em Espírito, e não cumprireis a concupiscência da carn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carne cobiça contra o Espírito, e o Espírito contra a carne; e estes opõem-se um ao outro, para que não façais o que que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sois guiados pelo Espírito, não estais debaixo da l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 obras da carne são manifestas, as quais são: adultério, prostituição, impureza, lascívi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eu, Paulo, vos digo que, se vos deixardes circuncidar, Cristo de nada vos aproveit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dolatria, feitiçaria, inimizades, porfias, emulações, iras, pelejas, dissensões, heresi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nvejas, homicídios, bebedices, glutonarias, e coisas semelhantes a estas, acerca das quais vos declaro, como já antes vos disse, que os que cometem tais coisas não herdarão o rein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5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fruto do Espírito é: amor, gozo, paz, longanimidade, benignidade, bondade, fé, mansidão, temper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5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tra estas coisas não há l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5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que são de Cristo crucificaram a carne com as suas paixões e concupiscênc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5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vivemos em Espírito, andemos também em Espír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5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ejamos cobiçosos de vanglórias, irritando-nos uns aos outros, invejando-nos uns aos out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 novo protesto a todo o homem, que se deixa circuncidar, que está obrigado a guardar toda a l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parados estais de Cristo, vós os que vos justificais pela lei; da graça tendes caí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ós pelo Espírito da fé aguardamos a esperança da 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m Jesus Cristo nem a circuncisão nem a incircuncisão tem valor algum; mas sim a fé que opera pelo am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rríeis bem; quem vos impediu, para que não obedeçais à verdad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 persuasão não vem daquele que vos cham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 pouco de fermento leveda toda a mas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7:04Z</dcterms:created>
  <dc:creator>Admin</dc:creator>
  <dc:description/>
  <dc:language>en-US</dc:language>
  <cp:lastModifiedBy>Admin</cp:lastModifiedBy>
  <dcterms:modified xsi:type="dcterms:W3CDTF">2008-07-30T23:37:04Z</dcterms:modified>
  <cp:revision>1</cp:revision>
  <dc:subject/>
  <dc:title>Slide 1</dc:title>
</cp:coreProperties>
</file>