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40D-4930-46C3-9C27-31347014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D38-F730-4388-B34C-57D586B3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62B-B227-4C59-9AA0-6C98611E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0CE-7F74-4BDD-9D67-89D4B371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1C2-E057-4B5E-B1A1-7D572D46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488-DAF2-40C2-92D5-09044777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DC0-EE47-497C-AF3E-B81C4B2D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3D7-1064-495A-A8A5-E944F046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443-22FF-421B-BF98-735C2325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3F2-38A1-41C4-9290-77C926F4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026-3D91-4EDC-8427-BD234A00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699-5207-4BF1-8056-D498EA44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2D1E-1722-4FDF-8D17-336C57AEF14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ugiu Davi de Naiote, em Ramá; e veio, e disse a Jônatas: Que fiz eu? Qual é o meu crime? E qual é o meu pecado diante de teu pai, que procura tirar-me a vi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 Jônatas: Quem me fará saber, se por acaso teu pai te responder asperame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ônatas a Davi: Vem e saiamos ao campo. E saíram ambos a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ônatas a Davi: O SENHOR Deus de Israel seja testemunha! Sondando eu a meu pai amanhã a estas horas, ou depois de amanhã, e eis que se houver coisa favorável para Davi, e eu então não enviar a ti, e não to fizer sab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faça assim com Jônatas outro tanto; que se aprouver a meu pai fazer-te mal, também to farei saber, e te deixarei partir, e irás em paz; e o SENHOR seja contigo, assim como foi com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eu então ainda viver, porventura não usarás comigo da beneficência do SENHOR, para que não mo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ampouco cortarás da minha casa a tua beneficência eternamente; nem ainda quando o SENHOR desarraigar da terra a cada um dos inimigos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ez Jônatas aliança com a casa de Davi, dizendo: O SENHOR o requeira da mão dos inimigos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ônatas fez jurar a Davi de novo, porquanto o amava; porque o amava com todo o amor da s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Jônatas: Amanhã é a lua nova, e não te acharão no teu lugar, pois o teu assento se achará vaz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usentando-te tu três dias, desce apressadamente, e vai àquele lugar onde te escondeste no dia do negócio; e fica-te junto à pedra de Ez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Tal não suceda; não morrerás; eis que meu pai não faz coisa nenhuma grande, nem pequena, sem primeiro me informar; por que, pois, meu pai me encobriria este negócio? Não será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atirarei três flechas para aquele lado, como se atirasse ao al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mandarei o moço dizendo: Anda, busca as flechas. Se eu expressamente disser ao moço: Olha que as flechas estão para cá de ti; toma-o contigo, e vem, porque há paz para ti, e não há nada, viv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disser ao moço assim: Olha que as flechas estão para lá de ti; vai-te embora, porque o SENHOR te deixa 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o negócio de que eu e tu falamos, eis que o SENHOR está entre mim e ti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ndeu-se, pois, Davi no campo; e, sendo a lua nova, assentou-se o rei para comer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ssentando-se o rei, como das outras vezes, no seu assento, no lugar junto à parede, Jônatas se levantou, e assentou-se Abner ao lado de Saul; e o lugar de Davi apareceu vaz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aquele dia não disse Saul nada, porque dizia: Aconteceu-lhe alguma coisa, pela qual não está limpo; certamente não está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também no outro dia, o segundo da lua nova, que o lugar de Davi apareceu vazio; disse, pois, Saul a Jônatas, seu filho: Por que não veio o filho de Jessé nem ontem nem hoje a comer p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Jônatas a Saul: Davi me pediu encarecidamente que o deixasse ir a Be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Peço-te que me deixes ir, porquanto a nossa linhagem tem um sacrifício na cidade, e meu irmão mesmo me mandou ir; se, pois, agora tenho achado graça em teus olhos, peço-te que me deixes partir, para que veja a meus irmãos; por isso não veio à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tornou a jurar, e disse: Teu pai sabe muito bem que achei graça em teus olhos; por isso disse: Não saiba isto Jônatas, para que não se magoe. Mas, na verdade, como vive o SENHOR, e como vive a tua alma, há apenas um passo entre mim e 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cendeu a ira de Saul contra Jônatas, e disse-lhe: Filho da mulher perversa e rebelde; não sei eu que tens escolhido o filho de Jessé, para vergonha tua e para vergonha da nudez de tua mã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os dias que o filho de Jessé viver sobre a terra nem tu estarás seguro, nem o teu reino; pelo que envia, e traze-mo nesta hora; porque é digno de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Jônatas a Saul, seu pai, e lhe disse: Por que há de morrer? Que tem fe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ul atirou-lhe com a lança, para o ferir; assim entendeu Jônatas que já seu pai tinha determinado matar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Jônatas, todo encolerizado, se levantou da mesa; e no segundo dia da lua nova não comeu pão; porque se magoava por causa de Davi, porque seu pai o tinha humil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pela manhã, que Jônatas saiu ao campo, ao tempo que tinha ajustado com Davi, e um moço pequeno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o seu moço: Corre a buscar as flechas que eu atirar. Correu, pois, o moço, e ele atirou uma flecha, que fez passar além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o moço ao lugar da flecha que Jônatas tinha atirado, gritou Jônatas atrás do moço, e disse: Não está porventura a flecha mais para lá de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Jônatas a gritar atrás do moço: Apressa-te, corre, não te demores. E o moço de Jônatas apanhou as flechas, e veio a s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oço não entendeu coisa alguma; só Jônatas e Davi sabiam deste neg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ônatas a Davi: O que disser a tua alma, eu te f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ônatas deu as suas armas ao moço que trazia, e disse-lhe: Anda, e leva-as à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-se o moço, levantou-se Davi do lado do sul, e lançou-se sobre o seu rosto em terra, e inclinou-se três vezes; e beijaram-se um ao outro, e choraram juntos, mas Davi chorou muito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ônatas a Davi: Vai-te em paz; o que nós temos jurado ambos em nome do SENHOR, dizendo: O SENHOR seja entre mim e ti, e entre a minha descendência e a tua descendência, seja perpet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 Davi, e partiu; e Jônatas entrou n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Davi a Jônatas: Eis que amanhã é a lua nova, em que costumo assentar-me com o rei para comer; porém deixa-me ir, e esconder-me-ei no campo, até à tarde do terceir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eu pai notar a minha ausência, dirás: Davi me pediu muito que o deixasse ir correndo a Belém, sua cidade; porquanto se faz lá o sacrifício anual para toda a linhag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isser assim: Está bem; então teu servo tem paz; porém se muito se indignar, sabe que já está inteiramente determinado n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sa, pois, de misericórdia com o teu servo, porque o fizeste entrar contigo em aliança do SENHOR; se, porém, há em mim crime, mata-me tu mesmo; por que me levarias a teu pa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ônatas: Longe de ti tal coisa; porém se de alguma forma soubesse que já este mal está inteiramente determinado por meu pai, para que viesse sobre ti, não to revelaria 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29Z</dcterms:created>
  <dc:creator>Admin</dc:creator>
  <dc:description/>
  <dc:language>en-US</dc:language>
  <cp:lastModifiedBy>Admin</cp:lastModifiedBy>
  <dcterms:modified xsi:type="dcterms:W3CDTF">2008-07-30T23:47:29Z</dcterms:modified>
  <cp:revision>1</cp:revision>
  <dc:subject/>
  <dc:title>Slide 1</dc:title>
</cp:coreProperties>
</file>