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7D6-9E7D-44D6-817B-3FF5B224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929-AEC7-4652-8BD2-54F243C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F14-0B09-49A3-B4AA-E80F440F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F41-8B0C-440E-B5AF-F7E2D5BF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4F0-6533-4453-897F-EF1B52D0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63C-DC32-4CFD-B85B-27FB5F2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077-6977-4CBA-9DBA-ECAF7376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78A-4846-4EAE-8997-04BA87EA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879-C261-487A-B98D-29233045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F71-566A-4F91-BB6B-E179D9CC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53D-0810-4B1B-873F-D84C8734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DB7-F364-40CA-989F-62C212F8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17E3-CAA2-41EA-A750-3FD55A6777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, porém, enfermo um certo Lázaro, de Betânia, aldeia de Maria e de sua irmã Ma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ndar de noite, tropeça, porque nele não há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ou; e depois disse-lhes: Lázaro, o nosso amigo, dorme, mas vou despertá-lo do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, pois, os seus discípulos: Senhor, se dorme, estará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 dizia isto da sua morte; eles, porém, cuidavam que falava do repouso do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 disse-lhes claramente: Lázaro está mo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lgo, por amor de vós, de que eu lá não estivesse, para que acrediteis; mas vamos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Tomé, chamado Dídimo, aos condiscípulos: Vamos nós também, para morrermo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Jesus, achou que já havia quatro dias que estava na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Ora Betânia distava de Jerusalém quase quinze estádios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dos judeus tinham ido consolar a Marta e a Maria, acerca de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ia era aquela que tinha ungido o Senhor com ungüento, e lhe tinha enxugado os pés com os seus cabelos, cujo irmão Lázaro estava enf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Marta que Jesus vinha, saiu-lhe ao encontro; Maria, porém, ficou assentada em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Marta a Jesus: Senhor, se tu estivesses aqui, meu irmão não teria mor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 agora sei que tudo quanto pedires a Deus, Deus to conce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Teu irmão há de ressusci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Marta: Eu sei que há de ressuscitar na ressurreição do úl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Eu sou a ressurreição e a vida; quem crê em mim, ainda que esteja morto, vive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aquele que vive, e crê em mim, nunca morrerá. Crês tu 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ela: Sim, Senhor, creio que tu és o Cristo, o Filho de Deus, que havia de vir a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to isto, partiu, e chamou em segredo a Maria, sua irmã, dizendo: O Mestre está cá, e chama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, ouvindo isto, levantou-se logo, e foi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ram-lhe, pois, suas irmãs dizer: Senhor, eis que está enfermo aquele que tu a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Ainda Jesus não tinha chegado à aldeia, mas estava no lugar onde Marta o encontrara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judeus, que estavam com ela em casa e a consolavam, que Maria apressadamente se levantara e saíra, seguiram-na, dizendo: Vai ao sepulcro para chorar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is, Maria chegado aonde Jesus estava, e vendo-o, lançou-se aos seus pés, dizendo-lhe: Senhor, se tu estivesses aqui, meu irmão não teria mor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pois, quando a viu chorar, e também chorando os judeus que com ela vinham, moveu-se muito em espírito, e perturb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Onde o pusestes? Disseram-lhe: Senhor, vem, 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, pois, os judeus: Vede como o am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eles disseram: Não podia ele, que abriu os olhos ao cego, fazer também com que este não morres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is, movendo-se outra vez muito em si mesmo, veio ao sepulcro; e era uma caverna, e tinha uma pedra posta sobre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Jesus: Tirai a pedra. Marta, irmã do defunto, disse-lhe: SENHOR, já cheira mal, porque é já de quatro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ouvindo isto, disse: Esta enfermidade não é para morte, mas para glória de Deus, para que o Filho de Deus seja glorificado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Não te hei dito que, se creres, verás a glória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ram, pois, a pedra de onde o defunto jazia. E Jesus, levantando os olhos para cima, disse: Pai, graças te dou, por me haveres ouv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bem sei que sempre me ouves, mas eu disse isto por causa da multidão que está em redor, para que creiam que tu me envi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dito isto, clamou com grande voz: Lázaro, sai para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efunto saiu, tendo as mãos e os pés ligados com faixas, e o seu rosto envolto num lenço. Disse-lhes Jesus: Desligai-o, e deixai-o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, pois, dentre os judeus que tinham vindo a Maria, e que tinham visto o que Jesus fizera, crer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lguns deles foram ter com os fariseus, e disseram-lhes o que Jesus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s principais dos sacerdotes e os fariseus formaram conselho, e diziam: Que faremos? porquanto este homem faz muitos sin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deixamos assim, todos crerão nele, e virão os romanos, e tirar-nos-ão o nosso lugar e 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ifás, um deles que era sumo sacerdote naquele ano, lhes disse: Vós nada sabe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Jesus amava a Marta, e a sua irmã, e a Láza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considerais que nos convém que um homem morra pelo povo, e que não pereça toda 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ele não disse isto de si mesmo, mas, sendo o sumo sacerdote naquele ano, profetizou que Jesus devia morrer pel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omente pela nação, mas também para reunir em um corpo os filhos de Deus que andavam disper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quele dia, pois, consultavam-se para o mat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is, já não andava manifestamente entre os judeus, mas retirou-se dali para a terra junto do deserto, para uma cidade chamada Efraim; e ali ficou com os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próxima a páscoa dos judeus, e muitos daquela região subiram a Jerusalém antes da páscoa para se purific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vam, pois, a Jesus, e diziam uns aos outros, estando no templo: Que vos parece? Não virá à fe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s principais dos sacerdotes e os fariseus tinham dado ordem para que, se alguém soubesse onde ele estava, o denunciasse, para o prend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que estava enfermo, ficou ainda dois dias no lugar onde es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, disse aos seus discípulos: Vamos outra vez para a Jud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 os discípulos: Rabi, ainda agora os judeus procuravam apedrejar-te, e tornas para l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: Não há doze horas no dia? Se alguém andar de dia, não tropeça, porque vê a luz deste 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45Z</dcterms:created>
  <dc:creator>Admin</dc:creator>
  <dc:description/>
  <dc:language>en-US</dc:language>
  <cp:lastModifiedBy>Admin</cp:lastModifiedBy>
  <dcterms:modified xsi:type="dcterms:W3CDTF">2008-07-31T00:03:45Z</dcterms:modified>
  <cp:revision>1</cp:revision>
  <dc:subject/>
  <dc:title>Slide 1</dc:title>
</cp:coreProperties>
</file>