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3BB78-BC74-442A-A592-6E014316A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5D184-3205-48CF-B274-BA056A698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3530A-C998-432E-B0B5-01B1B4671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BEBA5-DA27-4631-87EE-276A2F476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06F4A-18A3-4BAB-87C9-62CC1495E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4DA4B-8609-48E0-BF1F-16530FE8E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24C13-EF46-49A1-894A-2DCBD6BFA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0AC88-CC55-4332-818C-10641ACD6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DEA27-719A-4C26-8803-A12269399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8A9D7-301B-4751-AFB1-4C2889B73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ADEDA-5AFD-4FAB-A44B-F68CE7663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E1551-3200-4E3D-B266-90339BFFE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17B1E-5A94-4F29-8F14-FF8118979D52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9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CONTECEU, ao dia oitavo, que Moisés chamou a Arão e seus filhos, e os anciãos de Israel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9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a gordura, e os rins, e o redenho do fígado de expiação do pecado, queimou sobre o altar, como o SENHOR ordenara a Moisé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9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ém a carne e o couro queimou com fogo fora do arraia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9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pois degolou o holocausto, e os filhos de Arão lhe entregaram o sangue, e espargiu-o sobre o altar em red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9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ambém lhe entregaram o holocausto nos seus pedaços, com a cabeça; e queimou-o sobre o alta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9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lavou a fressura e as pernas, e as queimou sobre o holocausto no alta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9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pois fez chegar a oferta do povo, e tomou o bode da expiação do pecado, que era pelo povo, e o degolou, e o preparou por expiação do pecado, como o primeir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9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Fez também chegar o holocausto, e ofereceu-o segundo o ri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9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fez chegar a oferta de alimentos, e a sua mão encheu dela, e queimou-a sobre o altar, além do holocausto da manhã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9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pois degolou o boi e o carneiro em sacrifício pacífico, que era pelo povo; e os filhos de Arão entregaram-lhe o sangue, que espargiu sobre o altar em red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9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omo também a gordura do boi e do carneiro, a cauda, e o que cobre a fressura, e os rins, e o redenho do fíga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9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 a Arão: Toma um bezerro, para expiação do pecado, e um carneiro para holocausto, sem defeito; e traze-os perante 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9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puseram a gordura sobre os peitos, e queimou a gordura sobre o altar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9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os peitos e a espádua direita Arão ofereceu por oferta movida perante o SENHOR, como Moisés tinha ordena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9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pois Arão levantou as suas mãos ao povo e o abençoou; e desceu, havendo feito a expiação do pecado, e o holocausto, e a oferta pacífic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9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entraram Moisés e Arão na tenda da congregação; depois saíram, e abençoaram ao povo; e a glória do SENHOR apareceu a todo o pov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9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o fogo saiu de diante do SENHOR, e consumiu o holocausto e a gordura, sobre o altar; o que vendo todo o povo, jubilaram e caíram sobre as suas fac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9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pois falarás aos filhos de Israel, dizendo: Tomai um bode para expiação do pecado, e um bezerro, e um cordeiro de um ano, sem defeito, para holocausto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9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ambém um boi e um carneiro por sacrifício pacífico, para sacrificar perante o SENHOR, e oferta de alimentos, amassada com azeite; porquanto hoje o SENHOR vos aparecerá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9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trouxeram o que ordenara Moisés, diante da tenda da congregação, e chegou-se toda a congregação e se pôs perante 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9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 Moisés: Esta é a coisa que o SENHOR ordenou que fizésseis; e a glória do SENHOR vos aparecerá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9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 Moisés a Arão: Chega-te ao altar, e faze a tua expiação de pecado e o teu holocausto; e faze expiação por ti e pelo povo; depois faze a oferta do povo, e faze expiação por eles, como ordenou 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9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Arão se chegou ao altar, e degolou o bezerro da expiação que era por si mesm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9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s filhos de Arão trouxeram-lhe o sangue, e molhou o seu dedo no sangue, e o pôs sobre as pontas do altar; e o restante do sangue derramou à base do alta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1T00:08:32Z</dcterms:created>
  <dc:creator>Admin</dc:creator>
  <dc:description/>
  <dc:language>en-US</dc:language>
  <cp:lastModifiedBy>Admin</cp:lastModifiedBy>
  <dcterms:modified xsi:type="dcterms:W3CDTF">2008-07-31T00:08:32Z</dcterms:modified>
  <cp:revision>1</cp:revision>
  <dc:subject/>
  <dc:title>Slide 1</dc:title>
</cp:coreProperties>
</file>