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181-E375-4941-900C-5037E2D9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02E-CC0F-40C2-9362-DB00129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ED2-C0FD-46C6-9ECB-BD99B0D7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D0A-D3BD-49D1-B6F8-03AD7FFC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F5B-F479-4302-88EC-CFE8BC5B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2DD-9775-418D-AEAE-23C309A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6F4-CDF6-424C-AD79-A650C38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877-C654-4822-A7CC-26A8D778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E8C-F765-42B9-97D3-0697633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281-E03C-487D-9053-E86A317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ACC-BB14-4C79-A229-61CE31A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F26-F546-4660-8AB4-1CBD8C2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353E-7538-4DBF-9E37-0051F3958D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se aceitares as minhas palavras, e esconderes contigo os meus mandame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ando a sabedoria entrar no teu coração, e o conhecimento for agradável à tua al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om siso te guardará e a inteligência te conserv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te afastar do mau caminho, e do homem que fala coisas perver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que deixam as veredas da retidão, para andarem pelos caminhos escus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 alegram de fazer mal, e folgam com as perversidades dos ma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as veredas são tortuosas e que se desviam nos seus cami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te afastar da mulher estranha, sim da estranha que lisonjeia com suas palav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ixa o guia da sua mocidade e se esquece da aliança do s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casa se inclina para a morte, e as suas veredas para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se dirigem a ela não voltarão e não atinarão com as veredas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es o teu ouvido atento à sabedoria; e inclinares o teu coração ao entend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ndares pelos caminhos dos bons, e te conservares nas veredas d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retos habitarão a terra, e os íntegros permanecerão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ímpios serão arrancados da terra, e os aleivosos serão dela extermi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lamares por conhecimento, e por inteligência alçares a tu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mo a prata a buscares e como a tesouros escondidos a procura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enderás o temor do SENHOR, e acharás o conhecime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á a sabedoria; da sua boca é que vem o conhecimento e 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serva a verdadeira sabedoria para os retos. Escudo é para os que caminham na sincer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guardem as veredas do juízo. Ele preservará o caminho dos seu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enderás a justiça, o juízo, a eqüidade e todas as bo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1:01Z</dcterms:created>
  <dc:creator>Admin</dc:creator>
  <dc:description/>
  <dc:language>en-US</dc:language>
  <cp:lastModifiedBy>Admin</cp:lastModifiedBy>
  <dcterms:modified xsi:type="dcterms:W3CDTF">2008-07-31T00:21:01Z</dcterms:modified>
  <cp:revision>1</cp:revision>
  <dc:subject/>
  <dc:title>Slide 1</dc:title>
</cp:coreProperties>
</file>