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BBF-3E61-42C7-8941-CDEA4DE1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B7E-9A36-4811-8DFF-B705EB86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D97-8CF1-40DA-ABF3-7784B3D8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EE3-47DE-407C-8158-9106B469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EF8-2ED6-478D-A698-8C3587F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6C9-BD60-435A-8BAA-5C94127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E0F-5645-40CF-9F57-068A59BD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411-2439-44B8-AE68-50D80977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11B-2EDA-42F9-B6D9-FF7D5FBC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B1B-C616-40FA-ACC7-F226468A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565-1721-455B-95D6-9D1A3488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44A-DDFE-4926-AC63-7F3A3D4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1614-5972-4313-BE32-5A1EAD9415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to, eu, Paulo, vos rogo, pela mansidão e benignidade de Cristo, eu que, na verdade, quando presente entre vós, sou humilde, mas ausente, ousado para convosc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suas cartas, dizem, são graves e fortes, mas a presença do corpo é fraca, e a palavra desprez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nse o tal isto, que, quais somos na palavra por cartas, estando ausentes, tais seremos também por obra, estando pres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ousamos classificar-nos, ou comparar-nos com alguns, que se louvam a si mesmos; mas estes que se medem a si mesmos, e se comparam consigo mesmos, estão sem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não nos gloriaremos fora da medida, mas conforme a reta medida que Deus nos deu, para chegarmos até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nos estendemos além do que convém, como se não houvéssemos de chegar até vós, pois já chegamos também até vós no evangelho de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nos gloriando fora da medida nos trabalhos alheios; antes tendo esperança de que, crescendo a vossa fé, seremos abundantemente engrandecidos entre vós, conforme a nossa reg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nunciar o evangelho nos lugares que estão além de vós e não em campo de outrem, para não nos gloriarmos no que estava já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, porém, que se gloria, glorie-se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é aprovado quem a si mesmo se louva, mas, sim, aquele a quem o Senhor lou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o-vos, pois, que, quando estiver presente, não me veja obrigado a usar com confiança da ousadia que espero ter com alguns, que nos julgam, como se andássemos segundo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ndando na carne, não militamos segundo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armas da nossa milícia não são carnais, mas sim poderosas em Deus para destruição das fortalez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ruindo os conselhos, e toda a altivez que se levanta contra o conhecimento de Deus, e levando cativo todo o entendimento à obediência de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ndo prontos para vingar toda a desobediência, quando for cumprida a vossa obed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s para as coisas segundo a aparência? Se alguém confia de si mesmo que é de Cristo, pense outra vez isto consigo, que, assim como ele é de Cristo, também nós de Cristo so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inda que eu me glorie mais alguma coisa do nosso poder, o qual o SENHOR nos deu para edificação, e não para vossa destruição, não me envergonh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pareça como se quisera intimidar-vos por ca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51Z</dcterms:created>
  <dc:creator>Admin</dc:creator>
  <dc:description/>
  <dc:language>en-US</dc:language>
  <cp:lastModifiedBy>Admin</cp:lastModifiedBy>
  <dcterms:modified xsi:type="dcterms:W3CDTF">2008-07-30T23:48:51Z</dcterms:modified>
  <cp:revision>1</cp:revision>
  <dc:subject/>
  <dc:title>Slide 1</dc:title>
</cp:coreProperties>
</file>