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BE6-A7C2-45FE-9E24-296C70CE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ED9-C795-4726-89B9-062D6BC2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5D9-FF97-4528-B62E-447509A0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D10-6365-4E52-8E54-F365521F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F5F-D368-4C80-98DF-FC7F333A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DDC-9F09-407B-B042-98596B55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B35-6894-48C0-8285-CFD4995E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A75-926D-42D2-B4E7-14E9AB4E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539-D2D5-4DDE-8CBA-98F0E1E1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680-CC88-46DE-8FF7-9EE8D325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066-10DC-4C9A-8B1A-6905FCFD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91B-5EB8-4912-AE1A-B48E49E4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B02E-159D-4A77-9CEE-9959E96A20C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GO-VOS, pois, irmãos, pela compaixão de Deus, que apresenteis os vossos corpos em sacrifício vivo, santo e agradável a Deus, que é o vosso culto racio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i-vos cordialmente uns aos outros com amor fraternal, preferindo-vos em honra uns a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jais vagarosos no cuidado; sede fervorosos no espírito, servindo a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ai-vos na esperança, sede pacientes na tribulação, perseverai na or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unicai com os santos nas suas necessidades, segui a hospital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ençoai aos que vos perseguem, abençoai, e não amaldiço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ai-vos com os que se alegram; e chorai com os que chor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de unânimes entre vós; não ambicioneis coisas altas, mas acomodai-vos às humildes; não sejais sábios em vós mes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inguém torneis mal por mal; procurai as coisas honestas, perante todos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for possível, quanto estiver em vós, tende paz com todos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vingueis a vós mesmos, amados, mas dai lugar à ira, porque está escrito: Minha é a vingança; eu recompensarei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ede conformados com este mundo, mas sede transformados pela renovação do vosso entendimento, para que experimenteis qual seja a boa, agradável, e perfeita vontad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se o teu inimigo tiver fome, dá-lhe de comer; se tiver sede, dá-lhe de beber; porque, fazendo isto, amontoarás brasas de fogo sobre a s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deixes vencer do mal, mas vence o mal com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ela graça que me é dada, digo a cada um dentre vós que não pense de si mesmo além do que convém; antes, pense com moderação, conforme a medida da fé que Deus repartiu a cada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como em um corpo temos muitos membros, e nem todos os membros têm a mesma oper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nós, que somos muitos, somos um só corpo em Cristo, mas individualmente somos membros uns d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odo que, tendo diferentes dons, segundo a graça que nos é dada, se é profecia, seja ela segundo a medida da f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é ministério, seja em ministrar; se é ensinar, haja dedicação ao ensi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o que exorta, use esse dom em exortar; o que reparte, faça-o com liberalidade; o que preside, com cuidado; o que exercita misericórdia, com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mor seja não fingido. Aborrecei o mal e apegai-vos a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42Z</dcterms:created>
  <dc:creator>Admin</dc:creator>
  <dc:description/>
  <dc:language>en-US</dc:language>
  <cp:lastModifiedBy>Admin</cp:lastModifiedBy>
  <dcterms:modified xsi:type="dcterms:W3CDTF">2008-07-31T00:23:42Z</dcterms:modified>
  <cp:revision>1</cp:revision>
  <dc:subject/>
  <dc:title>Slide 1</dc:title>
</cp:coreProperties>
</file>