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93A-C73E-445E-BA83-BD08F172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359-A6AE-4322-83C0-A2DBA8C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989-807B-4B69-803E-23D4BB79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CF0-2A68-44CB-92EE-3BD5DD24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2AD-95D1-479D-BB37-58707572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738-C167-493E-92EC-3DC8576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E0C-6D31-41CB-B5ED-7DECB89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0B1-A2EF-40CF-8583-BDB4E232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5AF-41DA-4E78-AF7C-6A456018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500-3A85-4333-9D98-1BCA4CB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10F-66F0-43B6-9AC8-F0EA184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DDE-939E-4DF1-940A-0AD6AD97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6B6D-15EA-44F6-90E2-D120AD1F7E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ou ao templo, e mediu os pilares, seis côvados de largura de um lado, e seis côvados de largura do outro, que era a largura d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as câmaras havia a largura de vinte côvados por todo o redor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ntradas das câmaras laterais estavam voltadas para o lugar vazio; uma entrada para o caminho do norte, e outra entrada para o do sul; e a largura do lugar vazio era de cinco côvado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também o edifício que estava diante do lugar separado, do lado do ocidente, da largura de setenta côvados; e a parede do edifício de cinco côvados de largura em redor, e o seu comprimento era de nov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diu a casa, do comprimento de cem côvados, como também o lugar separado, e o edifício, e as suas paredes, cem côvados de compr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argura da frente da casa, e do lugar separado para o oriente, de uma e de outra parte, de cem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diu o comprimento do edifício, diante do lugar separado, que estava por detrás, e as suas galerias de uma e de outra parte, cem côvados, com o templo de dentro e os vestíbulos do át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umbrais e as janelas estreitas, e as galerias em redor nos três andares, defronte do umbral, estavam cobertas de madeira em redor; e isto desde o chão até às janelas; e as janelas estavam cobe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espaço em cima da porta, e até na casa, no seu interior e na parte de fora, e até toda a parede em redor, por dentro e por fora, tudo por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feito com querubins e palmeiras, de maneira que cada palmeira estava entre querubim e querubim, e cada querubim tinha dois ros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: um rosto de homem olhava para a palmeira de um lado, e um rosto de leãozinho para a palmeira do outro lado; assim foi feito por toda a casa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argura da entrada, dez côvados; e os lados da entrada, cinco côvados de um lado e cinco côvados do outro; também mediu o seu comprimento, de quarenta côvados, e a largura, de vinte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chão até acima da entrada estavam feitos os querubins e as palmeiras, como também pela parede d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ombreiras do templo eram quadradas e, no tocante à frente do santuário, a aparência de uma era como a aparência da out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ltar de madeira era de três côvados de altura, e o seu comprimento de dois côvados; os seus cantos, o seu comprimento e as suas paredes eram de madeira; e disse-me: Esta é a mesa que está perante a fac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mplo e o santuário, ambos tinham du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ortas tinham duas folhas; duas folhas que viravam; duas para uma porta e duas para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las, isto é, nas portas do templo, foram feitos querubins e palmeiras, como estavam feitos nas paredes, e havia uma trave grossa de madeira na frente do vestíbulo por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janelas estreitas, e palmeiras, de um e de outro lado, pelos lados do vestíbulo, como também nas câmaras da casa e nas grossas tra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no interior, e mediu o pilar da entrada, dois côvados, e a entrada, seis côvados, e a largura da entrada, sete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diu o seu comprimento, vinte côvados, e a largura, vinte côvados, diante do templo, e disse-me: Este é o Santo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diu a parede da casa, seis côvados, e a largura das câmaras laterais, quatro côvados, por todo o redor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âmaras laterais, estavam em três andares, câmara sobre câmara, trinta em cada andar, e elas entravam na parede que tocava na casa pelas câmaras laterais em redor, para prenderem nela, e não travavam na parede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maior largura nas câmaras laterais superiores, porque o caracol da casa ia subindo muito alto por todo o redor da casa, por isso que a casa tinha mais largura para cima; e assim da câmara baixa se subia à mais alta pel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 para a altura da casa ao redor; e eram os fundamentos das câmaras laterais da medida de uma cana inteira, seis côvados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ossura da parede das câmaras laterais de fora era de cinco côvados; e o que foi deixado vazio era o lugar das câmaras laterais, que estavam por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05Z</dcterms:created>
  <dc:creator>Admin</dc:creator>
  <dc:description/>
  <dc:language>en-US</dc:language>
  <cp:lastModifiedBy>Admin</cp:lastModifiedBy>
  <dcterms:modified xsi:type="dcterms:W3CDTF">2008-07-30T23:36:05Z</dcterms:modified>
  <cp:revision>1</cp:revision>
  <dc:subject/>
  <dc:title>Slide 1</dc:title>
</cp:coreProperties>
</file>