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980-128A-4680-A54C-6920C7F8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DBF-4976-4074-B0AD-B6A3B12A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64C-B329-4DFA-9BDC-743E1B4F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E6A-3C3F-4B9D-8A05-95E371DB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A19-82DC-4EF8-8C46-E796FD59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63E-F27B-4D05-859A-4F4EBFC2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5DA-BEAE-4840-A69F-0F6F0D73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379-733E-4E30-B038-41E578D9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741F-1714-4068-99F6-42D23CD1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331-D392-4EAB-921E-97C5EB79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CCD-EFC1-4DA7-8EEC-34B0266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21F-EB0D-4902-9346-6E34298D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3712-1F5C-48DA-971C-007B265EB72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se entoará este cântico na terra de Judá: Temos uma cidade forte, a que Deus pôs a salvação por muros e antem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se mostre favor ao ímpio, nem por isso aprende a justiça; até na terra da retidão ele pratica a iniqüidade, e não atenta para a majestad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a tua mão está exaltada, mas nem por isso a vêem; vê-la-ão, porém, e confundir-se-ão por causa do zelo que tens do teu povo; e o fogo consumirá os teus advers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tu nos darás a paz, porque tu és o que fizeste em nós todas as noss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 Deus nosso, já outros senhores têm tido domínio sobre nós; porém, por ti só, nos lembramos de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rrendo eles, não tornarão a viver; falecendo, não ressuscitarão; por isso os visitaste e destruíste, e apagaste toda a sua mem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SENHOR, aumentaste a esta nação, tu aumentaste a esta nação, fizeste-te glorioso; alargaste todos os confin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na angústia te buscaram; vindo sobre eles a tua correção, derramaram a sua oração secr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 mulher grávida, quando está próxima a sua hora, tem dores de parto, e dá gritos nas suas dores, assim fomos nós diante de ti, ó SENHO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concebemos nós e tivemos dores de parto, porém demos à luz o vento; livramento não trouxemos à terra, nem caíram os moradores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mortos e também o meu cadáver viverão e ressuscitarão; despertai e exultai, os que habitais no pó, porque o teu orvalho será como o orvalho das ervas, e a terra lançará de si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i as portas, para que entre nelas a nação justa, que observa 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pois, povo meu, entra nos teus quartos, e fecha as tuas portas sobre ti; esconde-te só por um momento, até que passe 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o SENHOR sairá do seu lugar, para castigar os moradores da terra, por causa da sua iniqüidade, e a terra descobrirá o seu sangue, e não encobrirá mais os seu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conservarás em paz aquele cuja mente está firme em ti; porque ele confia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iai no SENHOR perpetuamente; porque o SENHOR DEUS é uma roch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abate os que habitam no alto, na cidade elevada; humilha-a, humilha-a até ao chão, e derruba-a até ao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é pisá-la-á; os pés dos aflitos, e os passos dos pob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inho do justo é todo plano; tu retamente pesas o andar do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o caminho dos teus juízos, SENHOR, te esperamos; no teu nome e na tua memória está o desejo da noss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minha alma te desejei de noite, e com o meu espírito, que está dentro de mim, madrugarei a buscar-te; porque, havendo os teus juízos na terra, os moradores do mundo aprendem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27Z</dcterms:created>
  <dc:creator>Admin</dc:creator>
  <dc:description/>
  <dc:language>en-US</dc:language>
  <cp:lastModifiedBy>Admin</cp:lastModifiedBy>
  <dcterms:modified xsi:type="dcterms:W3CDTF">2008-07-30T23:55:27Z</dcterms:modified>
  <cp:revision>1</cp:revision>
  <dc:subject/>
  <dc:title>Slide 1</dc:title>
</cp:coreProperties>
</file>