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6F2-CE61-4E9F-8346-410ABBEC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705-DDF4-44BE-84C6-25AEDB30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A2A-A8AE-4A18-8D8A-167C527F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CB8-0AEC-4233-9069-E68511D3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E16-31A9-46DA-987A-14FF004D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1D5-9CBF-4C21-B3AF-A6D1BE0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F86-7BD6-47F4-B954-DB0146A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98F-8E91-487A-87F4-3476A209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C0D-23A5-457E-9DF4-E634EBD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483-924C-4389-9CB7-A890A50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87E-8221-4A5D-9FD5-52A6DAB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78E-43B4-478A-B849-37D1341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748-F5D4-4A82-81B7-251CDC7CD7B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TIU Abraão dali para a terra do sul, e habitou entre Cades e Sur; e peregrinou em Ge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bimeleque a Abraão: Que tens visto, para fazer tal coi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aão: Porque eu dizia comigo: Certamente não há temor de Deus neste lugar, e eles me matarão por causa da minh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na verdade, é ela também minha irmã, filha de meu pai, mas não filha da minha mãe; e veio a ser minha mulh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fazendo-me Deus sair errante da casa de meu pai, eu lhe disse: Seja esta a graça que me farás em todo o lugar aonde chegarmos, dize de mim: É m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Abimeleque ovelhas e vacas, e servos e servas, e os deu a Abraão; e restituiu-lhe Sara, sua mul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imeleque: Eis que a minha terra está diante da tua face; habita onde for bom aos t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ara disse: Vês que tenho dado ao teu irmão mil moedas de prata; eis que ele te seja por véu dos olhos para com todos os que contigo estão, e até para com todos os outros; e estás advert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Abraão a Deus, e sarou Deus a Abimeleque, e à sua mulher, e às suas servas, de maneira que tiveram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havia fechado totalmente todas as madres da casa de Abimeleque, por causa de Sara, mulher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 Abraão dito de Sara, sua mulher: É minha irmã; enviou Abimeleque, rei de Gerar, e tomou a S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us, porém, veio a Abimeleque em sonhos de noite, e disse-lhe: Eis que morto serás por causa da mulher que tomaste; porque ela tem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bimeleque ainda não se tinha chegado a ela; por isso disse: Senhor, matarás também uma nação jus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disse ele mesmo: É minha irmã? E ela também disse: É meu irmão. Em sinceridade do coração e em pureza das minhas mãos tenho feit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 Deus em sonhos: Bem sei eu que na sinceridade do teu coração fizeste isto; e também eu te tenho impedido de pecar contra mim; por isso não te permiti toc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restitui a mulher ao seu marido, porque profeta é, e rogará por ti, para que vivas; porém se não lha restituíres, sabe que certamente morrerás, tu e tudo o que é t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-se Abimeleque pela manhã de madrugada, chamou a todos os seus servos, e falou todas estas palavras em seus ouvidos; e temeram muito aquele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Abimeleque a Abraão e disse-lhe: Que nos fizeste? E em que pequei contra ti, para trazeres sobre o meu reino tamanho pecado? Tu me fizeste aquilo que não deverias ter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13Z</dcterms:created>
  <dc:creator>Admin</dc:creator>
  <dc:description/>
  <dc:language>en-US</dc:language>
  <cp:lastModifiedBy>Admin</cp:lastModifiedBy>
  <dcterms:modified xsi:type="dcterms:W3CDTF">2008-07-30T23:38:13Z</dcterms:modified>
  <cp:revision>1</cp:revision>
  <dc:subject/>
  <dc:title>Slide 1</dc:title>
</cp:coreProperties>
</file>