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2E0-E09F-4C8A-BC47-A36B266F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4BD-016D-4019-AE2C-1BEBF40C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072-4F86-4255-9012-A50984F9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2AA-FDD1-4A43-A801-A7297B60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1F2-E520-45FA-A713-A5419E7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015-8E02-43D4-A2CE-D4888869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747-5301-4586-9653-8708A57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AF4-0DB0-493F-9A29-00087C8D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10B-F412-4038-95A5-ACD72A9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BDF-1D22-4B14-8D78-FB35A5C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E06-C695-437C-9770-1C73C61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F5A-942E-457D-A2F9-F4BCF31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854C-80E2-4C14-9ED4-91B39674015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entre os fariseus um homem, chamado Nicodemos, príncipe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: Tu és mestre de Israel, e não sabes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te digo que nós dizemos o que sabemos, e testificamos o que vimos; e não aceitais o nosso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os falei de coisas terrestres, e não crestes, como crereis, se vos falar das celesti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inguém subiu ao céu, senão o que desceu do céu, o Filho do homem, que está n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Moisés levantou a serpente no deserto, assim importa que o Filho do homem seja levant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 aquele que nele crê não pereça, mas tenh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amou o mundo de tal maneira que deu o seu Filho unigênito, para que todo aquele que nele crê não pereça, mas tenh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enviou o seu Filho ao mundo, não para que condenasse o mundo, mas para que o mundo fosse salvo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rê nele não é condenado; mas quem não crê já está condenado, porquanto não crê no nome do unigênit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ondenação é esta: Que a luz veio ao mundo, e os homens amaram mais as trevas do que a luz, porque as suas obras eram m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foi ter de noite com Jesus, e disse-lhe: Rabi, bem sabemos que és Mestre, vindo de Deus; porque ninguém pode fazer estes sinais que tu fazes, se Deus não fo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 aquele que faz o mal odeia a luz, e não vem para a luz, para que as suas obras não sejam reprov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m pratica a verdade vem para a luz, a fim de que as suas obras sejam manifestas, porque são feitas e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foi Jesus com os seus discípulos para a terra da Judéia; e estava ali com eles, e batiz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João batizava também em Enom, junto a Salim, porque havia ali muitas águas; e vinham ali, e eram batiz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João não tinha sido lançado na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 então uma questão entre os discípulos de João e os judeus acerca da pur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er com João, e disseram-lhe: Rabi, aquele que estava contigo além do Jordão, do qual tu deste testemunho, ei-lo batizando, e todos vão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ão respondeu, e disse: O homem não pode receber coisa alguma, se não lhe for dada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mesmos me sois testemunhas de que disse: Eu não sou o Cristo, mas sou enviado a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tem a esposa é o esposo; mas o amigo do esposo, que lhe assiste e o ouve, alegra-se muito com a voz do esposo. Assim, pois, já este meu gozo está cump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: Na verdade, na verdade te digo que aquele que não nascer de novo, não pode ver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necessário que ele cresça e que eu dimin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vem de cima é sobre todos; aquele que vem da terra é da terra e fala da terra. Aquele que vem do céu é sobr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ilo que ele viu e ouviu isso testifica; e ninguém aceita o seu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aceitou o seu testemunho, esse confirmou que Deus é verd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 que Deus enviou fala as palavras de Deus; pois não lhe dá Deus o Espírito por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ai ama o Filho, e todas as coisas entregou n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crê no Filho tem a vida eterna; mas aquele que não crê no Filho não verá a vida, mas a ira de Deus sobre ele perman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Nicodemos: Como pode um homem nascer, sendo velho? Pode, porventura, tornar a entrar no ventre de sua mãe, e nasc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: Na verdade, na verdade te digo que aquele que não nascer da água e do Espírito, não pode entrar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é nascido da carne é carne, e o que é nascido do Espírito é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maravilhes de te ter dito: Necessário vos é nascer de n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ento assopra onde quer, e ouves a sua voz, mas não sabes de onde vem, nem para onde vai; assim é todo aquele que é nascido d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codemos respondeu, e disse-lhe: Como pode ser is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49Z</dcterms:created>
  <dc:creator>Admin</dc:creator>
  <dc:description/>
  <dc:language>en-US</dc:language>
  <cp:lastModifiedBy>Admin</cp:lastModifiedBy>
  <dcterms:modified xsi:type="dcterms:W3CDTF">2008-07-31T00:02:49Z</dcterms:modified>
  <cp:revision>1</cp:revision>
  <dc:subject/>
  <dc:title>Slide 1</dc:title>
</cp:coreProperties>
</file>