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C3C-E51E-4979-9C73-CD4FA47D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4CD-B349-49AD-9E64-1A23C451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E1C-1E2B-49AC-8A88-ABFAEB48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D8C-ABDC-4674-AA9F-946E395D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15C-A570-4261-B351-33C06A5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A2E-1C7F-4587-904F-BE5C46E4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AA9-D98E-4C87-A3C3-B01783C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540-39CD-4562-9D64-F47908DE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BA9-BF9B-4F64-98EC-13CBED2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63E-81E5-49F3-A1A2-FD00331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3A1-7BAB-4ACA-AE5C-F4E5DE63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71A-0007-4C18-A65E-9558EE2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BF7F-A37E-4CE8-85CB-C67E0651726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terceiro mês da saída dos filhos de Israel da terra do Egito, no mesmo dia chegaram ao deserto de Sin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também o SENHOR a Moisés: Vai ao povo, e santifica-os hoje e amanhã, e lavem eles as suas roup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jam prontos para o terceiro dia; porquanto no terceiro dia o SENHOR descerá diante dos olhos de todo o povo sobre o mont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carás limites ao povo em redor, dizendo: Guardai-vos, não subais ao monte, nem toqueis o seu termo; todo aquele que tocar o monte,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a mão tocará nele; porque certamente será apedrejado ou asseteado; quer seja animal, quer seja homem, não viverá; soando a buzina longamente, então subirão a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desceu do monte ao povo, e santificou o povo; e lavaram as suas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povo: Estai prontos ao terceiro dia; e não vos chegueis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o terceiro dia, ao amanhecer, houve trovões e relâmpagos sobre o monte, e uma espessa nuvem, e um sonido de buzina mui forte, de maneira que estremeceu todo o povo que estava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levou o povo fora do arraial ao encontro de Deus; e puseram-se ao pé d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monte Sinai fumegava, porque o SENHOR descera sobre ele em fogo; e a sua fumaça subiu como fumaça de uma fornalha, e todo o monte tremia grand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onido da buzina ia crescendo cada vez mais; Moisés falava, e Deus lhe respondia em voz 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tiram de Refidim e entraram no deserto de Sinai, onde se acamparam. Israel, pois, ali se acampou em frente a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o SENHOR sobre o monte Sinai, sobre o cume do monte, chamou o SENHOR a Moisés ao cume do monte; e Moisés sub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Desce, adverte ao povo que não traspasse o termo para ver o SENHOR, para que muitos deles não pereç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s sacerdotes, que se chegam ao SENHOR, se hão de santificar, para que o SENHOR não se lance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 ao SENHOR: O povo não poderá subir ao monte Sinai, porque tu nos tens advertido, dizendo: Marca termos ao redor do monte, e santific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NHOR: Vai, desce; depois subirás tu, e Arão contigo; os sacerdotes, porém, e o povo não traspassem o termo para subir ao SENHOR, para que não se lance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desceu ao povo, e disse-lhe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Moisés a Deus, e o SENHOR o chamou do monte, dizendo: Assim falarás à casa de Jacó, e anunciarás aos filhos de Israe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tendes visto o que fiz aos egípcios, como vos levei sobre asas de águias, e vos trouxe a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 diligentemente ouvirdes a minha voz e guardardes a minha aliança, então sereis a minha propriedade peculiar dentre todos os povos, porque toda a terra é m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me sereis um reino sacerdotal e o povo santo. Estas são as palavras que falarás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Moisés, e chamou os anciãos do povo, e expôs diante deles todas estas palavras, que o SENHOR lhe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respondeu a uma voz, e disse: Tudo o que o SENHOR tem falado, faremos. E relatou Moisés ao SENHOR as palavra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Eis que eu virei a ti numa nuvem espessa, para que o povo ouça, falando eu contigo, e para que também te creiam eternamente. Porque Moisés tinha anunciado as palavras do seu pov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10Z</dcterms:created>
  <dc:creator>Admin</dc:creator>
  <dc:description/>
  <dc:language>en-US</dc:language>
  <cp:lastModifiedBy>Admin</cp:lastModifiedBy>
  <dcterms:modified xsi:type="dcterms:W3CDTF">2008-07-30T23:32:10Z</dcterms:modified>
  <cp:revision>1</cp:revision>
  <dc:subject/>
  <dc:title>Slide 1</dc:title>
</cp:coreProperties>
</file>