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89A-36C6-4D43-A4DC-7836C702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1CA-8AB3-4044-AE32-E84D32EA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E21-641F-490D-AA47-5C1BF7E1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C9D-52FA-4C65-9D57-E218982C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776-94DC-4026-89FD-DD21BD4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4D0-DD96-4A05-A203-1A240B8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524-8C3D-4687-A3CD-D1B0196A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DA9-4433-45B8-83D3-8EBB07ED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6BE-5572-4D20-B1E0-5D39B04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40D-6562-4ED8-A6BF-0D0E12A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E32-BC0D-4A5A-A370-2C4543C5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3B6-6136-4A1E-9702-3BCF0E5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40FD-CD48-4DA2-8525-B7A67F639B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u crédito à nossa pregação? E a quem se manifestou o braç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ao SENHOR agradou moê-lo, fazendo-o enfermar; quando a sua alma se puser por expiação do pecado, verá a sua posteridade, prolongará os seus dias; e o bom prazer do SENHOR prosperará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verá o fruto do trabalho da sua alma, e ficará satisfeito; com o seu conhecimento o meu servo, o justo, justificará a muitos; porque as iniqüidades deles levará sob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lhe darei a parte de muitos, e com os poderosos repartirá ele o despojo; porquanto derramou a sua alma na morte, e foi contado com os transgressores; mas ele levou sobre si o pecado de muitos, e intercedeu pelos transgress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i subindo como renovo perante ele, e como raiz de uma terra seca; não tinha beleza nem formosura e, olhando nós para ele, não havia boa aparência nele, para que o desejáss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desprezado, e o mais rejeitado entre os homens, homem de dores, e experimentado nos trabalhos; e, como um de quem os homens escondiam o rosto, era desprezado, e não fizemos dele cas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iramente ele tomou sobre si as nossas enfermidades, e as nossas dores levou sobre si; e nós o reputávamos por aflito, ferido de Deus, e opri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foi ferido por causa das nossas transgressões, e moído por causa das nossas iniqüidades; o castigo que nos traz a paz estava sobre ele, e pelas suas pisaduras fomos sa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nós andávamos desgarrados como ovelhas; cada um se desviava pelo seu caminho; mas o SENHOR fez cair sobre ele a iniqüidade de nó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oi oprimido e afligido, mas não abriu a sua boca; como um cordeiro foi levado ao matadouro, e como a ovelha muda perante os seus tosquiadores, assim ele não abriu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opressão e do juízo foi tirado; e quem contará o tempo da sua vida? Porquanto foi cortado da terra dos viventes; pela transgressão do meu povo ele foi ati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 sua sepultura com os ímpios, e com o rico na sua morte; ainda que nunca cometeu injustiça, nem houve engano n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3Z</dcterms:created>
  <dc:creator>Admin</dc:creator>
  <dc:description/>
  <dc:language>en-US</dc:language>
  <cp:lastModifiedBy>Admin</cp:lastModifiedBy>
  <dcterms:modified xsi:type="dcterms:W3CDTF">2008-07-30T23:56:43Z</dcterms:modified>
  <cp:revision>1</cp:revision>
  <dc:subject/>
  <dc:title>Slide 1</dc:title>
</cp:coreProperties>
</file>