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B13-E72B-4E98-B140-87C5AD9A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AA5-7F83-4B7A-9B32-DD76836F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D06-2110-4BD3-A6A1-FF9E995C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E48-8D5A-4C45-8AF5-1D451023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C7C-EE86-4595-8669-0EA9B24C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2A9-D99A-4B21-921F-EEE27BE0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784-3A9A-45DF-AA9C-7894C3C9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063-B5E3-4EB6-8E29-7EF310A6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0FB-F211-4463-ADEA-81F17012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9E8-59FA-435B-BD01-BC8E254D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F10-1E51-4686-B49A-E40EB5F4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BFF-3623-4459-8284-D76DF574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D75A-CB0E-4A96-8614-2BAFB66924D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, irmãos, quando fui ter convosco, anunciando-vos o testemunho de Deus, não fui com sublimidade de palavras ou de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 no-las revelou pelo seu Espírito; porque o Espírito penetra todas as coisas, ainda as profundeza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al dos homens sabe as coisas do homem, senão o espírito do homem, que nele está? Assim também ninguém sabe as coisas de Deus, senão o Espírit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ós não recebemos o espírito do mundo, mas o Espírito que provém de Deus, para que pudéssemos conhecer o que nos é dado gratuitamente p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quais também falamos, não com palavras de sabedoria humana, mas com as que o Espírito Santo ensina, comparando as coisas espirituais com as espiritu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homem natural não compreende as coisas do Espírito de Deus, porque lhe parecem loucura; e não pode entendê-las, porque elas se discernem espiritual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que é espiritual discerne bem tudo, e ele de ninguém é discern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em conheceu a mente do SENHOR, para que possa instruí-lo? Mas nós temos a mente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ada me propus saber entre vós, senão a Jesus Cristo, e este cruc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estive convosco em fraqueza, e em temor, e em grande tre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palavra, e a minha pregação, não consistiram em palavras persuasivas de sabedoria humana, mas em demonstração de Espírito e de pod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 vossa fé não se apoiasse em sabedoria dos homens, mas no poder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falamos sabedoria entre os perfeitos; não, porém, a sabedoria deste mundo, nem dos príncipes deste mundo, que se aniquil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falamos a sabedoria de Deus, oculta em mistério, a qual Deus ordenou antes dos séculos para nossa glór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al nenhum dos príncipes deste mundo conheceu; porque, se a conhecessem, nunca crucificariam ao Senhor d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como está escrito: As coisas que o olho não viu, e o ouvido não ouviu, E não subiram ao coração do homem, São as que Deus preparou para os que o am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14Z</dcterms:created>
  <dc:creator>Admin</dc:creator>
  <dc:description/>
  <dc:language>en-US</dc:language>
  <cp:lastModifiedBy>Admin</cp:lastModifiedBy>
  <dcterms:modified xsi:type="dcterms:W3CDTF">2008-07-30T23:41:14Z</dcterms:modified>
  <cp:revision>1</cp:revision>
  <dc:subject/>
  <dc:title>Slide 1</dc:title>
</cp:coreProperties>
</file>