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4F9-A581-491E-B953-B9179855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475-1E22-40DA-9038-963A77F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31C-6C16-4188-9A1F-F4838300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BA2-4DEB-47EB-98AE-17F29216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C7A-B632-4D94-AB7A-71F22A9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6E1-BC73-4FB1-9646-8D9025F8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E2D-897B-42B8-AB53-7C29B86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39D-BAA4-4661-8B12-DEF73598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79B-4123-4209-AA5C-5394E889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C29-6F1C-47DC-8FC6-ECE7AD9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8E2-AAE9-42F4-97AE-2A82360C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C2B-5BBE-443F-BACE-30DF28E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672-58EA-4E85-AD47-EF0C97B183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enhum estranho comerá das coisas santas; nem o hóspede do sacerdote, nem o diarista comerá das coisas sa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o sacerdote comprar alguma pessoa com o seu dinheiro, aquela comerá delas, e os nascidos na sua casa, estes comerão do s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 filha do sacerdote se casar com homem estranho, ela não comerá da oferta das coisas sa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a filha do sacerdote for viúva ou repudiada, e não tiver filho, e se houver tornado à casa de seu pai, como na sua mocidade, do pão de seu pai comerá; mas nenhum estranho comerá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alguém por erro comer a coisa santa, sobre ela acrescentará uma quinta parte, e a dará ao sacerdote com a coisa s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profanarão as coisas santas dos filhos de Israel, que oferecem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os farão levar a iniqüidade da culpa, comendo as suas coisas santas; pois eu sou o SENHOR que as santi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, e a seus filhos, e a todos os filhos de Israel, e dize-lhes: Qualquer que, da casa de Israel, ou dos estrangeiros em Israel, oferecer a sua oferta, quer dos seus votos, quer das suas ofertas voluntárias, que oferecem ao SENHOR em holocaust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sua vontade, oferecerá macho sem defeito, ou dos bois, ou dos cordeiros, ou das ca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 Arão e a seus filhos que se apartem das coisas santas dos filhos de Israel, que a mim me santificam, para que não profanem o meu santo nome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coisa em que haja defeito oferecereis, porque não seria aceita em vosso f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lguém oferecer sacrifício pacífico ao SENHOR, separando dos bois ou das ovelhas um voto, ou oferta voluntária, sem defeito será, para que seja aceito; nenhum defeito haver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ego, ou quebrado, ou aleijado, o verrugoso, ou sarnoso, ou cheio de impigens, estes não oferecereis ao SENHOR, e deles não poreis oferta queimada ao SENHOR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boi, ou gado miúdo, comprido ou curto de membros, poderás oferecer por oferta voluntária, mas por voto não será ac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chucado, ou moído, ou despedaçado, ou cortado, não oferecereis ao SENHOR; não fareis isto na voss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 mão do estrangeiro nenhum alimento oferecereis ao vosso Deus, de todas estas coisas, pois a sua corrupção está nelas; defeito nelas há; não serão aceitas em vosso f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nascer o boi, ou cordeiro, ou cabra, sete dias estará debaixo de sua mãe; depois, desde o oitavo dia em diante, será aceito por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boi ou gado miúdo, a ele e a seu filho não degolareis no mes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ferecerdes sacrifícios de louvores ao SENHOR, o oferecereis da voss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: Todo o homem, que entre as vossas gerações, de toda a vossa descendência, se chegar às coisas santas que os filhos de Israel santificam ao SENHOR, tendo sobre si a sua imundícia, aquela alma será extirpada de diante da minha face. Eu sou o 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dia se comerá; dele nada deixareis ficar até pela manhã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guardareis os meus mandamentos, e os cumprirei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rofanareis o meu santo nome, para que eu seja santificado no meio dos filhos de Israel. Eu sou o SENHOR que vos santifi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os tirei da terra do Egito, para ser o vosso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da descendência de Arão, que for leproso, ou tiver fluxo, comerá das coisas santas, até que seja limpo; como também o que tocar alguma coisa imunda de cadáver, ou aquele de que sair sêmen da cópu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alquer que tocar a algum réptil, pelo qual se fez imundo, ou a algum homem, pelo qual se fez imundo, segundo toda a sua imundí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o tocar será imundo até à tarde, e não comerá das coisas santas, mas banhará a sua carne e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-se o sol já posto, então será limpo, e depois comerá das coisas santas; porque este é o seu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po morto e o dilacerado não comerá, para que não se contamine com ele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rão, pois, o meu mandamento, para que por isso não levem pecado, e morram nele, havendo-o profanado. Eu sou o SENHOR que os santi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30Z</dcterms:created>
  <dc:creator>Admin</dc:creator>
  <dc:description/>
  <dc:language>en-US</dc:language>
  <cp:lastModifiedBy>Admin</cp:lastModifiedBy>
  <dcterms:modified xsi:type="dcterms:W3CDTF">2008-07-31T00:09:30Z</dcterms:modified>
  <cp:revision>1</cp:revision>
  <dc:subject/>
  <dc:title>Slide 1</dc:title>
</cp:coreProperties>
</file>