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80AB-073C-4F94-80DD-D0D57AE0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C59-7E78-4B94-A875-5444972D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184-94F9-4914-BFCB-EC482CE0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313-1117-42B7-A7D7-F670BCA1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F7EF-E87E-432C-B81F-FA96D298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E147-E4F8-4A67-ABF7-746006CE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507C-49D3-4560-B496-A4FE57D2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82D2-E5BD-44BA-A0A9-91D105B1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50C0-8ED6-4AEF-BAA0-C6754E00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7EB1-D0BF-44B7-B587-541ED9D3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5E2-3B7E-448B-A35E-4924CD78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697-86D2-45A7-B2B2-A8B0987A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9E50-F362-4D4E-ADE1-85CD8CA5D4C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VRA-ME, ó SENHOR, do homem mau; guarda-me do homem violen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iam sobre eles brasas vivas; sejam lançados no fogo, em covas profundas, para que se não tornem a levan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rá firmeza na terra o homem de má língua; o mal perseguirá o homem violento até que seja dester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i que o SENHOR sustentará a causa do oprimido, e o direito do necessi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s justos louvarão o teu nome; os retos habitarão na tua prese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pensa o mal no coração; continuamente se ajuntam para a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uçaram as línguas como a serpente; o veneno das víboras está debaixo dos seus lábios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-me, ó SENHOR, das mãos do ímpio; guarda-me do homem violento; os quais se propuseram transtornar os meus pa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oberbos armaram-me laços e cordas; estenderam a rede ao lado do caminho; armaram-me laços corrediços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disse ao SENHOR: Tu és o meu Deus; ouve a voz das minhas súplicas, ó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DEUS o Senhor, fortaleza da minha salvação, tu cobriste a minha cabeça no dia da bata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ncedas, ó SENHOR, ao ímpio os seus desejos; não promovas o seu mau propósito, para que não se exalte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à cabeça dos que me cercam, cubra-os a maldade dos seus láb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39Z</dcterms:created>
  <dc:creator>Admin</dc:creator>
  <dc:description/>
  <dc:language>en-US</dc:language>
  <cp:lastModifiedBy>Admin</cp:lastModifiedBy>
  <dcterms:modified xsi:type="dcterms:W3CDTF">2008-07-31T00:28:39Z</dcterms:modified>
  <cp:revision>1</cp:revision>
  <dc:subject/>
  <dc:title>Slide 1</dc:title>
</cp:coreProperties>
</file>