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988-C756-4210-9A42-4E42E6B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12C-0689-4E1A-B9E5-F3E94BB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91B-1F53-4928-8760-D1E96D04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707-C512-4E75-9C0B-653A708D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602-6068-4154-B2A4-CE6410AD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0D3-D1DC-45DB-BF95-03A4BED1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C37-0D4B-4274-956D-EF59DDDA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CC7-BD49-4BAE-A327-DDDE8175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0EE-EB44-4221-B17D-149FB93C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940-854E-49B8-82BA-CCE5274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AAC-7B6C-4FC5-9FF0-45D338D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685-EE22-4D58-A7A5-A15B86E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C2E2-A4D5-4CCE-B0B5-7A78BC2176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DO, pois, Abrão da idade de noventa e nove anos, apareceu o SENHOR a Abrão, e disse-lhe: Eu sou o Deus Todo-Poderoso, anda em minha presença e sê per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minha aliança, que guardareis entre mim e vós, e a tua descendência depois de ti: Que todo o homem entre vós será circuncid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ircuncidareis a carne do vosso prepúcio; e isto será por sinal da aliança entre mim 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filho de oito dias, pois, será circuncidado, todo o homem nas vossas gerações; o nascido na casa, e o comprado por dinheiro a qualquer estrangeiro, que não for d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feito será circuncidado o nascido em tua casa, e o comprado por teu dinheiro; e estará a minha aliança na vossa carne por aliança perpét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omem incircunciso, cuja carne do prepúcio não estiver circuncidada, aquela alma será extirpada do seu povo; quebrou a minha ali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Deus mais a Abraão: A Sarai tua mulher não chamarás mais pelo nome de Sarai, mas Sara será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a hei de abençoar, e te darei dela um filho; e a abençoarei, e será mãe das nações; reis de povos sairã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iu Abraão sobre o seu rosto, e riu-se, e disse no seu coração: A um homem de cem anos há de nascer um filho? E dará à luz Sara da idade de noventa a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aão a Deus: Quem dera que viva Ismael diante de teu rost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Na verdade, Sara, tua mulher, te dará um filho, e chamarás o seu nome Isaque, e com ele estabelecerei a minha aliança, por aliança perpétua para a sua descendência depois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a minha aliança entre mim e ti, e te multiplicarei grandissim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anto a Ismael, também te tenho ouvido; eis aqui o tenho abençoado, e fá-lo-ei frutificar, e fá-lo-ei multiplicar grandissimamente; doze príncipes gerará, e dele farei uma grande 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nha aliança, porém, estabelecerei com Isaque, o qual Sara dará à luz neste tempo determinado, no ano segu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acabar de falar com Abraão, subiu Deus de diante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ou Abraão a seu filho Ismael, e a todos os nascidos na sua casa, e a todos os comprados por seu dinheiro, todo o homem entre os da casa de Abraão; e circuncidou a carne do seu prepúcio, naquele mesmo dia, como Deus falara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braão da idade de noventa e nove anos, quando lhe foi circuncidada a carne do seu prepú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mael, seu filho, era da idade de treze anos, quando lhe foi circuncidada a carne do seu prepú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foram circuncidados Abraão e Ismael seu fi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os os homens da sua casa, os nascidos em casa, e os comprados por dinheiro ao estrangeiro, foram circuncidad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aiu Abrão sobre o seu rosto, e falou Deus com el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 a mim, eis a minha aliança contigo: serás o pai de muitas n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 chamará mais o teu nome Abrão, mas Abraão será o teu nome; porque por pai de muitas nações te tenho po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farei frutificar grandissimamente, e de ti farei nações, e reis sairão de t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belecerei a minha aliança entre mim e ti e a tua descendência depois de ti em suas gerações, por aliança perpétua, para te ser a ti por Deus, e à tua descendência depois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e darei a ti e à tua descendência depois de ti, a terra de tuas peregrinações, toda a terra de Canaã em perpétua possessão e ser-lhes-ei 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Deus a Abraão: Tu, porém, guardarás a minha aliança, tu, e a tua descendência depois de ti, nas suas ge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8:01Z</dcterms:created>
  <dc:creator>Admin</dc:creator>
  <dc:description/>
  <dc:language>en-US</dc:language>
  <cp:lastModifiedBy>Admin</cp:lastModifiedBy>
  <dcterms:modified xsi:type="dcterms:W3CDTF">2008-07-30T23:38:01Z</dcterms:modified>
  <cp:revision>1</cp:revision>
  <dc:subject/>
  <dc:title>Slide 1</dc:title>
</cp:coreProperties>
</file>