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735-3585-4978-AF9B-F11F2088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84C-3AC2-4BE5-BCB5-AAE108F8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BC7-95EB-45BF-9259-BC50FCD3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083-5C72-4639-A466-B88B83F0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011-241A-49F2-BCD3-84C88CFF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951-6473-4188-9968-D233887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9EC-4BE3-4C9B-8785-CEFBE994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076-CF71-4469-B7A2-79FD9139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7C7-2829-43DD-9014-F3E41C8C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9F9-04F6-4124-8D31-80D79F66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80E-4A45-40A4-AB7C-99D910F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25B-9672-46DB-A61E-CA45288A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EFDB-79EC-4C79-87AE-23A3AA05D61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-ME, ilhas, e escutai vós, povos de longe: O SENHOR me chamou desde o ventre, desde as entranhas de minha mãe fez menção d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terão fome, nem sede, nem o calor, nem o sol os afligirá; porque o que se compadece deles os guiará e os levará mansamente aos mananciais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de todos os meus montes um caminho; e as minhas estradas serão levan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es virão de longe, e eis que aqueles do norte, e do ocidente, e aqueles outros da terra de Sin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ultai, ó céus, e alegra-te, ó terra, e vós, montes, estalai com júbilo, porque o SENHOR consolou o seu povo, e dos seus aflitos se compad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ião diz: Já me desamparou o SENHOR, e o meu Senhor se esqueceu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de uma mulher esquecer-se tanto de seu filho que cria, que não se compadeça dele, do filho do seu ventre? Mas ainda que esta se esquecesse dele, contudo eu não me esquecerei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nas palmas das minhas mãos eu te gravei; os teus muros estão continuamente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filhos pressurosamente virão, mas os teus destruidores e os teus assoladores sairão d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 os teus olhos ao redor, e olha; todos estes que se ajuntam vêm a ti; vivo eu, diz o SENHOR, que de todos estes te vestirás, como de um ornamento, e te cingirás deles como no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s teus desertos, e nos teus lugares solitários, e na tua terra destruída, agora te verás apertada de moradores, e os que te devoravam se afastarão para long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a minha boca como uma espada aguda, com a sombra da sua mão me cobriu; e me pôs como uma flecha limpa, e me escondeu na sua alja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mesmo os filhos da tua orfandade dirão aos teus ouvidos: Muito estreito é para mim este lugar; aparta-te de mim, para que possa habitar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 no teu coração: Quem me gerou estes? Pois eu estava desfilhada e solitária; entrara em cativeiro, e me retirara; quem, pois, me criou estes? Eis que eu fui deixada sozinha; e estes onde estav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Eis que levantarei a minha mão para os gentios, e ante os povos arvorarei a minha bandeira; então trarão os teus filhos nos braços, e as tuas filhas serão levadas sobre os o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reis serão os teus aios, e as suas rainhas as tuas amas; diante de ti se inclinarão com o rosto em terra, e lamberão o pó dos teus pés; e saberás que eu sou o SENHOR, que os que confiam em mim não serão confu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tirar-se-ia a presa ao poderoso, ou escapariam os legalmente pres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sim diz o SENHOR: Por certo que os presos se tirarão ao poderoso, e a presa do tirano escapará; porque eu contenderei com os que contendem contigo, e os teus filhos eu rem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stentarei os teus opressores com a sua própria carne, e com o seu próprio sangue se embriagarão, como com mosto; e toda a carne saberá que eu sou o SENHOR, o teu Salvador, e o teu Redentor, o Forte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disse: Tu és meu servo; és Israel, aquele por quem hei de ser glo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disse: Debalde tenho trabalhado, inútil e vãmente gastei as minhas forças; todavia o meu direito está perante o SENHOR, e o meu galardão perante 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diz o SENHOR, que me formou desde o ventre para ser seu servo, para que torne a trazer Jacó; porém Israel não se deixará ajuntar; contudo aos olhos do SENHOR serei glorificado, e o meu Deus será a minh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Pouco é que sejas o meu servo, para restaurares as tribos de Jacó, e tornares a trazer os preservados de Israel; também te dei para luz dos gentios, para seres a minha salvação até à extremidad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o Redentor de Israel, o seu Santo, à alma desprezada, ao que a nação abomina, ao servo dos que dominam: Os reis o verão, e se levantarão, como também os príncipes, e eles diante de ti se inclinarão, por amor do SENHOR, que é fiel, e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o tempo aceitável te ouvi e no dia da salvação te ajudei, e te guardarei, e te darei por aliança do povo, para restaurares a terra, e dar-lhes em herança as herdades assola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izeres aos presos: Saí; e aos que estão em trevas: Aparecei. Eles pastarão nos caminhos, e em todos os lugares altos haverá o seu pa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35Z</dcterms:created>
  <dc:creator>Admin</dc:creator>
  <dc:description/>
  <dc:language>en-US</dc:language>
  <cp:lastModifiedBy>Admin</cp:lastModifiedBy>
  <dcterms:modified xsi:type="dcterms:W3CDTF">2008-07-30T23:56:35Z</dcterms:modified>
  <cp:revision>1</cp:revision>
  <dc:subject/>
  <dc:title>Slide 1</dc:title>
</cp:coreProperties>
</file>