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ED5B-C5A0-4A7C-9C27-9E9DCEB3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10E2-B78C-4275-BCD2-135D86FF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781-66C6-4A99-8291-02DC8A19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593-200A-41B5-94E4-E615EB7D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E67-83C9-4ADF-9884-5FE92707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C83-8205-4D7E-AF19-E4B5B019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682-EBDC-411F-BFA4-1CCA7A41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BD1-D556-4D3A-94C2-5FE9ED78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F54-6455-4982-BB59-0CA1F006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344-FBBB-4074-918C-E0445411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629-FC5B-4665-BE49-1F24C8F8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4DC-0769-4168-9AF0-075E9E24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C316-6035-4CF4-A635-B00290421F7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LHANTEMENTE, tereis santa convocação no sétimo mês, no primeiro dia do mês; nenhum trabalho servil fareis; será para vós dia de sonido de tromb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a décima para cada um dos sete cordeir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bode para expiação do pecado, além da expiação do pecado pelas propiciações, e do holocausto contínuo, e da sua oferta de alimentos com as suas lib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lhantemente, aos quinze dias deste sétimo mês tereis santa convocação; nenhum trabalho servil fareis; mas sete dias celebrareis fest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r holocausto em oferta queimada, de cheiro suave ao SENHOR, oferecereis treze novilhos, dois carneiros e catorze cordeiros de um ano; todos eles sem de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ela sua oferta de alimentos de flor de farinha misturada com azeite, três décimas para cada um dos treze novilhos, duas décimas para cada carneiro, entre os dois carneir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a décima para cada um dos catorze cordeir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bode para expiação do pecado, além do holocausto contínuo, a sua oferta de alimentos e a sua lib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, no segundo dia, doze novilhos, dois carneiros, catorze cordeiros de um ano, sem defe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oferta de alimentos e as suas libações para os novilhos, para os carneiros e para os cordeiros, conforme o seu número, segundo o estatu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bode para expiação do pecado, além do holocausto contínuo, da sua oferta de alimentos e das suas lib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or holocausto, em cheiro suave ao SENHOR, oferecereis um novilho, um carneiro e sete cordeiros de um ano, sem de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o terceiro dia, onze novilhos, dois carneiros, catorze cordeiros de um ano, sem defe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suas ofertas de alimentos, e as suas libações para os novilhos, para os carneiros e para os cordeiros, conforme o seu número, segundo o estatu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bode para expiação do pecado, além do holocausto contínuo, e da sua oferta de alimentos e da sua lib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o quarto dia, dez novilhos, dois carneiros, catorze cordeiros de um ano, sem defe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oferta de alimentos, e as suas libações para os novilhos, para os carneiros, e para os cordeiros, conforme o seu número, segundo o estatu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bode para expiação do pecado, além do holocausto contínuo, da sua oferta de alimentos e da sua lib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o quinto dia, nove novilhos, dois carneiros e catorze cordeiros de um ano, sem de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oferta de alimentos, e as suas libações para os novilhos, para os carneiros e para os cordeiros, conforme o seu número, segundo o estatu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bode para expiação do pecado além do holocausto contínuo, e da sua oferta de alimentos e da sua lib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o sexto dia, oito novilhos, dois carneiros, catorze cordeiros de um ano, sem defe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la sua oferta de alimentos de flor de farinha misturada com azeite, três décimas para o novilho, e duas décimas para o carneir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oferta de alimentos, e as suas libações para os bezerros, para os carneiros e para os cordeiros, conforme o seu número, segundo o estatu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bode para expiação do pecado, além do holocausto contínuo, da sua oferta de alimentos e da sua lib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o sétimo dia, sete novilhos, dois carneiros, catorze cordeiros de um ano, sem de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oferta de alimentos, e as suas libações para os novilhos, para os carneiros e para os cordeiros, conforme o seu número, segundo o seu estatu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bode para expiação do pecado, além do holocausto contínuo, da sua oferta de alimentos e da sua lib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oitavo dia tereis dia de solenidade; nenhum trabalho servil fare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holocausto em oferta queimada de cheiro suave ao SENHOR oferecereis um novilho, um carneiro, sete cordeiros de um ano, sem defe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oferta de alimentos e as suas libações para o novilho, para o carneiro e para os cordeiros, conforme o seu número, segundo o estat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bode para expiação do pecado, além do holocausto contínuo, e da sua oferta de alimentos e da sua lib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coisas fareis ao SENHOR nas vossas solenidades além dos vossos votos, e das vossas ofertas voluntárias, com os vossos holocaustos, e com as vossas ofertas de alimentos, e com as vossas libações, e com as vossas ofertas pacífi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a décima para cada um dos sete cord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Moisés aos filhos de Israel, conforme a tudo o que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bode para expiação do pecado, para fazer expiação por vó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ém do holocausto do mês, e a sua oferta de alimentos, e o holocausto contínuo, e a sua oferta de alimentos, com as suas libações, segundo o seu estatuto, em cheiro suave, oferta queimad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dez deste sétimo mês tereis santa convocação, e afligireis as vossas almas; nenhum trabalho f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or holocausto, em cheiro suave ao SENHOR, oferecereis um novilho, um carneiro e sete cordeiros de um ano; eles serão sem de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ela sua oferta de alimentos de flor de farinha misturada com azeite, três décimas para o novilho, duas décimas para o carneir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9:53Z</dcterms:created>
  <dc:creator>Admin</dc:creator>
  <dc:description/>
  <dc:language>en-US</dc:language>
  <cp:lastModifiedBy>Admin</cp:lastModifiedBy>
  <dcterms:modified xsi:type="dcterms:W3CDTF">2008-07-31T00:19:53Z</dcterms:modified>
  <cp:revision>1</cp:revision>
  <dc:subject/>
  <dc:title>Slide 1</dc:title>
</cp:coreProperties>
</file>