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6D5-38EF-4E21-BBC1-245E2B99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A27-88FD-4071-BE4B-BCC547DD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E2E-414A-4D82-9C99-5A1F64E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C6E-29D6-4207-8196-C8BB6AC9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E49-8F16-4AA2-9134-D9941003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998-D136-45DC-BB9F-139CA8D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408-AA4A-499F-B542-C2CA6721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804-E43E-4B5C-B8B1-A2C03CC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0AA-CFB3-4A70-B421-B0D2CB4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59B-D341-40DD-B180-67860CC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910-0328-4A76-9D3C-F1A50F8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646-DFA5-4EA4-8B83-7DACB5C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7E0-15E8-41C5-9683-65EC481E1D2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últimas palavras de Davi: Diz Davi, filho de Jessé, e diz o homem que foi levantado em altura, o ungido do Deus de Jacó, e o suave em salm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 levantou, e feriu os filisteus, até lhe cansar a mão e ficar a mão pegada à espada; e naquele dia o SENHOR efetuou um grande livramento; e o povo voltou junto dele, somente a tomar o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Samá, filho de Agé, o hararita, quando os filisteus se ajuntaram numa multidão, onde havia um pedaço de terra cheio de lentilhas, e o povo fugira de diante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se pôs no meio daquele pedaço de terra, e o defendeu, e feriu os filisteus; e o SENHOR efetuou um grande liv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rês dos trinta chefes desceram, e no tempo da sega foram a Davi, à caverna de Adulão; e a multidão dos filisteus acampara n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 estava então num lugar forte, e a guarnição dos filisteus em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Davi desejo, e disse: Quem me dera beber da água da cisterna de Belém, que está junto à por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três poderosos romperam pelo arraial dos filisteus, e tiraram água da cisterna de Belém, que está junto à porta, e a tomaram, e a trouxeram a Davi; porém ele não a quis beber, mas derramou-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Guarda-me, ó SENHOR, de que tal faça; beberia eu o sangue dos homens que foram com risco da sua vida? De maneira que não a quis beber; isto fizeram aqueles trê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bisai, irmão de Joabe, filho de Zeruia, era chefe de três; e este alçou a sua lança contra trezentos e os feriu; e tinha nome entre o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ste não era o mais nobre dentre estes três? Pois era o primeiro deles; porém aos primeiros três não che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o SENHOR falou por mim, e a sua palavra está n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enaia, filho de Joiada, filho de um homem valoroso de Cabzeel, grande em obras, este feriu dois fortes heróis de Moabe; e desceu ele, e feriu um leão no meio duma cova, no tempo da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 feriu um egípcio, homem de respeito; e na mão do egípcio havia uma lança, porém ele desceu a ele com um cajado, e arrancou a lança da mão do egípcio, e com ela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fez Benaia, filho de Joiada, pelo que teve nome entre trê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e os trinta ele era o mais nobre, porém aos três primeiros não chegou; e Davi o pôs sobre os seus guar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ael, irmão de Joabe, estava entre os trinta; El-Hanã, filho de Dodó, de Be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á, harodita; Elica, harod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lez, paltita; Ira, filho de Iques, tecoí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iezer, anatotita; Mebunai, husa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almom, aoíta; Maarai, netofa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be, filho de Baaná, netofatita; Itai, filho de Ribai, de Gibeá dos filhos de Benja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Deus de Israel, a Rocha de Israel a mim me falou: Haverá um justo que domine sobre os homens, que domine no tem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aia, piratonita; Hidai, do ribeiro de Ga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i-Albom, arbatita; Azmavete, barum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aba, saalbonita; os filhos de Jásen e Jôna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á, hararita, Aião, filho de Sarar, arar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felete, filho de Aasbai, filho de um maacatita; Eliã, filho de Aitofel, gilon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srai, carmelita; Paarai, arb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gal, filho de Natã, de Zobá; Bani, gad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leque, amonita; Naarai, beerotita, o que trazia as armas de Joabe, filho de Zeru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a, itrita; Garebe, itr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rias, heteu; trinta e sete ao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como a luz da manhã, quando sai o sol, da manhã sem nuvens, quando pelo seu resplendor e pela chuva a erva brot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a minha casa não seja tal para com Deus, contudo estabeleceu comigo uma aliança eterna, que em tudo será bem ordenado e guardado, pois toda a minha salvação e todo o meu prazer está nele, apesar de que ainda não o faz bro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Belial todos serão como os espinhos que se lançam fora, porque não podem ser tocados com 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lquer que os tocar se armará de ferro e da haste de uma lança; e a fogo serão totalmente queimados no mesm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nomes dos poderosos que Davi teve: Josebe-Bassebete, filho de Taquemoni, o principal dos capitães; este era Adino, o eznita, que se opusera a oitocentos, e os feriu de um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Eleazar, filho de Dodó, filho de Aoí, entre os três valentes que estavam com Davi quando provocaram os filisteus que ali se ajuntaram à peleja, e quando se retiraram os homen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01Z</dcterms:created>
  <dc:creator>Admin</dc:creator>
  <dc:description/>
  <dc:language>en-US</dc:language>
  <cp:lastModifiedBy>Admin</cp:lastModifiedBy>
  <dcterms:modified xsi:type="dcterms:W3CDTF">2008-07-30T23:54:01Z</dcterms:modified>
  <cp:revision>1</cp:revision>
  <dc:subject/>
  <dc:title>Slide 1</dc:title>
</cp:coreProperties>
</file>