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739-34A1-438F-96DD-29D894F3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D6-2702-46D1-91AF-71F8A06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321-CFD0-4331-923E-2C7038D4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185-5482-4A54-AA7D-7EFEF5D8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C76-B7FE-4B55-92C6-71C3AD7F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BF9-6C6F-43F6-95EA-3B78E935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32A-C159-414D-B5A3-AF0F9737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112-5AA7-4834-BB87-4E55AA5C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BD4-A625-45C1-8591-1FEA4C25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542-1029-4DDB-9B8A-9196CEC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753-6741-4B99-A965-44EDE3D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F5F-A65E-4095-BE7C-475B17E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9F31-A835-4B81-8994-A799453506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I a trombeta em Sião, e clamai em alta voz no meu santo monte; tremam todos os moradores da terra, porque o dia do SENHOR vem, já está per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nte dele tremerá a terra, abalar-se-ão os céus; o sol e a lua se enegrecerão, e as estrelas retirarão o seu resplen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evantará a sua voz diante do seu exército; porque muitíssimo grande é o seu arraial; porque poderoso é, executando a sua palavra; porque o dia do SENHOR é grande e mui terrível, e quem o poderá supor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assim, agora mesmo diz o SENHOR: Convertei-vos a mim de todo o vosso coração; e isso com jejuns, e com choro, e com pr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asgai o vosso coração, e não as vossas vestes, e convertei-vos ao SENHOR vosso Deus; porque ele é misericordioso, e compassivo, e tardio em irar-se, e grande em benignidade, e se arrepende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abe se não se voltará e se arrependerá, e deixará após si uma bênção, em oferta de alimentos e libação para o SENHOR v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i a trombeta em Sião, santificai um jejum, convocai uma assembléia sole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gregai o povo, santificai a congregação, ajuntai os anciãos, congregai as crianças, e os que mamam; saia o noivo da sua recâmara, e a noiva do seu apos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orem os sacerdotes, ministros do SENHOR, entre o alpendre e o altar, e digam: Poupa a teu povo, ó SENHOR, e não entregues a tua herança ao opróbrio, para que os gentios o dominem; porque diriam entre os povos: Onde está o s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se mostrou zeloso da sua terra, e compadeceu-se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, respondendo, disse ao seu povo: Eis que vos envio o trigo, e o mosto, e o azeite, e deles sereis fartos, e vos não entregarei mais ao opróbrio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 de trevas e de escuridão; dia de nuvens e densas trevas, como a alva espalhada sobre os montes; povo grande e poderoso, qual nunca houve desde o tempo antigo, nem depois dele haverá pelos anos adiante,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moverei para longe de vós o exército do norte, e lançá-lo-ei em uma terra seca e deserta; a sua frente para o mar oriental, e a sua retaguarda para o mar ocidental; e subirá o seu mau cheiro, e subirá a sua podridão; porque fez grande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ó terra: regozija-te e alegra-te, porque o SENHOR fez grande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is, animais do campo, porque os pastos do deserto reverdecerão, porque o arvoredo dará o seu fruto, a vide e a figueira darão 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, filhos de Sião, regozijai-vos e alegrai-vos no SENHOR vosso Deus, porque ele vos dará em justa medida a chuva temporã; fará descer a chuva no primeiro mês, a temporã e a serô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iras se encherão de trigo, e os lagares transbordarão de mosto e de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tituir-vos-ei os anos que comeu o gafanhoto, a locusta, e o pulgão e a lagarta, o meu grande exército que enviei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eis abundantemente e vos fartareis, e louvareis o nome do SENHOR vosso Deus, que procedeu para convosco maravilhosamente; e o meu povo nunca mais será envergo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sabereis que eu estou no meio de Israel, e que eu sou o SENHOR vosso Deus, e que não há outro; e o meu povo nunca mais será envergon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depois derramarei o meu Espírito sobre toda a carne, e vossos filhos e vossas filhas profetizarão, os vossos velhos terão sonhos, os vossos jovens terão v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sobre os servos e sobre as servas naqueles dias derramarei o m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nte dele um fogo consome, e atrás dele uma chama abrasa; a terra diante dele é como o jardim do Éden, mas atrás dele um desolado deserto; sim, nada lhe esc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strarei prodígios no céu, e na terra, sangue e fogo, e colunas de fum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l se converterá em trevas, e a lua em sangue, antes que venha o grande e terrível di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 todo aquele que invocar o nome do SENHOR será salvo; porque no monte Sião e em Jerusalém haverá livramento, assim como disse o SENHOR, e entre os sobreviventes, aqueles que o SENHOR ch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aparência é como a de cavalos; e como cavaleiros assim cor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estrondo de carros, irão saltando sobre os cumes dos montes, como o ruído da chama de fogo que consome a pragana, como um povo poderoso, posto em ordem para o com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ante dele temerão os povos; todos os rostos se tornarão enegr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valentes correrão, como homens de guerra subirão os muros; e marchará cada um no seu caminho e não se desviará da sua fil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apertará a seu irmão; marchará cada um pelo seu caminho; sobre a mesma espada se arremessarão, e não serão fer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ão pela cidade, correrão pelos muros, subirão às casas, entrarão pelas janelas como o lad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36Z</dcterms:created>
  <dc:creator>Admin</dc:creator>
  <dc:description/>
  <dc:language>en-US</dc:language>
  <cp:lastModifiedBy>Admin</cp:lastModifiedBy>
  <dcterms:modified xsi:type="dcterms:W3CDTF">2008-07-31T00:04:36Z</dcterms:modified>
  <cp:revision>1</cp:revision>
  <dc:subject/>
  <dc:title>Slide 1</dc:title>
</cp:coreProperties>
</file>