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6D9-0828-43AA-9B89-7B8B8EA5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853-C6EB-41B7-91D8-66564FD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051-C7EA-47A0-B0F8-B0B746EB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D6F-C99C-423A-B5C2-842CD3F4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75C-DE15-4DB7-9123-B68905BE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FFA-1A1E-4728-B6D7-B001F4F2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A2E-362D-47F9-80B3-113DBFC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90D-D06F-4846-A7BA-F84B2613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BA6-6563-41C0-885B-6E5AD940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1CB-9701-40AF-95DE-2013980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FD9-B075-4071-A9C8-E55DB24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A0C-C01E-4ECF-AE55-D97A3ADF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44E5-BCB5-4DEF-9A1F-1D0EF4E18AD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não me repreendas na tua ira, nem me castigues no teu fur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ergonhem-se e perturbem-se todos os meus inimigos; tornem atrás e envergonhem-se num mo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misericórdia de mim, SENHOR, porque sou fraco; sara-me, SENHOR, porque os meus ossos estão pertur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 minha alma está perturbada; mas tu, SENHOR, até qua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-te, SENHOR, livra a minha alma; salva-me por tua benig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 morte não há lembrança de ti; no sepulcro quem te louv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estou cansado do meu gemido, toda a noite faço nadar a minha cama; molho o meu leito com as minhas lágrim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os meus olhos estão consumidos pela mágoa, e têm-se envelhecido por causa de todos os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ai-vos de mim todos os que praticais a iniqüidade; porque o SENHOR já ouviu a voz do meu pr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já ouviu a minha súplica; o SENHOR aceitará a minha 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11Z</dcterms:created>
  <dc:creator>Admin</dc:creator>
  <dc:description/>
  <dc:language>en-US</dc:language>
  <cp:lastModifiedBy>Admin</cp:lastModifiedBy>
  <dcterms:modified xsi:type="dcterms:W3CDTF">2008-07-31T00:24:11Z</dcterms:modified>
  <cp:revision>1</cp:revision>
  <dc:subject/>
  <dc:title>Slide 1</dc:title>
</cp:coreProperties>
</file>