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C52-B4A6-4BCB-8E54-B5AB9EFA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92B-F8AE-436E-86EC-C6BCABA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352-49B1-4EB7-B95F-1FDD0CE3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061-3477-4377-A065-A9E082A7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48F-9E16-4A17-870C-30392AA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7ED-D4AD-4EAF-9DC6-C84174D3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8BF-7A34-47A4-B9A7-403821C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91F-8385-43B1-AD6D-48A8F975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7EC-7068-447E-95B5-07C6AA1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C5B-131B-4A4C-8FF7-3F583E3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C84-8562-4009-B2A7-F0A2F64D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AE2-956B-4D43-BCA4-1C6FFF7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C49-05F9-4401-B64E-9BF2205470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 ao meu Senhor: Assenta-te à minha mão direita, até que ponha os teus inimigos por escabelo dos t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nviará o cetro da tua fortaleza desde Sião, dizendo: Domina no meio dos t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povo será mui voluntário no dia do teu poder; nos ornamentos de santidade, desde a madre da alva, tu tens o orvalho da t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, e não se arrependerá: tu és um sacerdote eterno, segundo a ordem de Melquised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à tua direita, ferirá os reis no dia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ará entre os gentios; tudo encherá de corpos mortos; ferirá os cabeças de muitos paí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berá do ribeiro no caminho, por isso exaltará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3Z</dcterms:created>
  <dc:creator>Admin</dc:creator>
  <dc:description/>
  <dc:language>en-US</dc:language>
  <cp:lastModifiedBy>Admin</cp:lastModifiedBy>
  <dcterms:modified xsi:type="dcterms:W3CDTF">2008-07-31T00:27:43Z</dcterms:modified>
  <cp:revision>1</cp:revision>
  <dc:subject/>
  <dc:title>Slide 1</dc:title>
</cp:coreProperties>
</file>