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7E9-A6E8-4A56-A01E-084C0F52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4D5-80A1-4A58-996B-97FFA265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613-55AE-4CBC-9A25-7B28F462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BEA-FB94-46B9-B785-E1CCD3DC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E09-DF28-4D6C-ABE8-1110B357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FB2-B0EA-4C1E-8D7D-E5AA02A3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8B2-A441-44C8-A321-CAADF0B1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3A0-0A51-4937-8B1A-E115B38B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14E-B084-49E7-B208-95C63897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431-83CE-4323-BECB-8AAAD266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753-E2E8-4A91-8407-36C3F1D3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A78-BB61-4428-ACDA-C9557443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EE75-8CF3-4C41-B9C8-C0E1AAFC355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antou Moisés e os filhos de Israel este cântico ao SENHOR, e falaram, dizendo: Cantarei ao SENHOR, porque gloriosamente triunfou; lançou no mar o cavalo e o seu caval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praste com o teu vento, o mar os cobriu; afundaram-se como chumbo em veemente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quem é como tu entre os deuses? Quem é como tu glorificado em santidade, admirável em louvores, realizando maravilh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ndeste a tua mão direita; a terra os trag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com a tua beneficência, guiaste a este povo, que salvaste; com a tua força o levaste à habitação da tua sant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ovos o ouviram, eles estremeceram, uma dor apoderou-se dos habitantes da Fili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príncipes de Edom se pasmaram; dos poderosos dos moabitas apoderou-se um tremor; derreteram-se todos os habitantes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anto e pavor caiu sobre eles; pela grandeza do teu braço emudeceram como pedra; até que o teu povo houvesse passado, ó SENHOR, até que passasse este povo que adquiri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os introduzirás, e os plantarás no monte da tua herança, no lugar que tu, ó SENHOR, aparelhaste para a tua habitação, no santuário, ó Senhor, que as tuas mãos estabelec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reinará eterna e perpetuam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cavalos de Faraó, com os seus carros e com os seus cavaleiros, entraram no mar, e o SENHOR fez tornar as águas do mar sobre eles; mas os filhos de Israel passaram em seco pelo meio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a minha força, e o meu cântico; ele me foi por salvação; este é o meu Deus, portanto lhe farei uma habitação; ele é o Deus de meu pai, por isso o exalt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iriã, a profetiza, a irmã de Arão, tomou o tamboril na sua mão, e todas as mulheres saíram atrás dela com tamboris e com dan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iriã lhes respondia: Cantai ao SENHOR, porque gloriosamente triunfou; e lançou no mar o cavalo com o seu caval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ez Moisés partir os israelitas do Mar Vermelho, e saíram ao deserto de Sur; e andaram três dias no deserto, e não acharam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aram a Mara; mas não puderam beber das águas de Mara, porque eram amargas; por isso chamou-se o lugar M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murmurou contra Moisés, dizendo: Que havemos de beb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clamou ao SENHOR, e o SENHOR mostrou-lhe uma árvore, que lançou nas águas, e as águas se tornaram doces. Ali lhes deu estatutos e uma ordenança, e ali os prov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Se ouvires atento a voz do SENHOR teu Deus, e fizeres o que é reto diante de seus olhos, e inclinares os teus ouvidos aos seus mandamentos, e guardares todos os seus estatutos, nenhuma das enfermidades porei sobre ti, que pus sobre o Egito; por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eram a Elim, e havia ali doze fontes de água e setenta palmeiras; e ali se acamparam junto d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homem de guerra; o SENHOR é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ou no mar os carros de Faraó e o seu exército; e os seus escolhidos príncipes afogaram-se no Mar Verm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bismos os cobriram; desceram às profundezas como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destra, ó SENHOR, se tem glorificado em poder, a tua destra, ó SENHOR, tem despedaçado o inimi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a grandeza da tua excelência derrubaste aos que se levantaram contra ti; enviaste o teu furor, que os consumiu como o resto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o sopro de tuas narinas amontoaram-se as águas, as correntes pararam como montão; os abismos coalharam-se no coração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inimigo dizia: Perseguirei, alcançarei, repartirei os despojos; fartar-se-á a minha alma deles, arrancarei a minha espada, a minha mão os destru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56Z</dcterms:created>
  <dc:creator>Admin</dc:creator>
  <dc:description/>
  <dc:language>en-US</dc:language>
  <cp:lastModifiedBy>Admin</cp:lastModifiedBy>
  <dcterms:modified xsi:type="dcterms:W3CDTF">2008-07-30T23:31:56Z</dcterms:modified>
  <cp:revision>1</cp:revision>
  <dc:subject/>
  <dc:title>Slide 1</dc:title>
</cp:coreProperties>
</file>