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0A1-3A3D-48C2-979A-EF525637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D41-3EBA-401E-B3F5-F99BE98E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8A5-2BF2-4D1B-AAAD-AEB4AE35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A22-71B5-4EF6-9B48-4626AEB0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CBB-FFCA-40A7-8703-DDAF4CF8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234-B404-41A3-9A30-D426950F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DB4-B104-4C88-B2F3-4410D92F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7D6-AF4F-4B4E-9DAE-C5476B57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1E2-462A-417E-A938-96D70FEF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AD3-6024-4434-B784-532FF6E7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6E3-9FC6-4694-B7BA-2ECE7D52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A53-8382-4002-BE3B-E8A64E75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2FDC-F6FE-4CE1-82F0-70CEF95A12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havendo Roboão confirmado o reino, e havendo-se fortalecido, deixou a lei do SENHOR, e com ele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rei Roboão em lugar deles escudos de cobre, e os entregou na mão dos chefes da guarda, que guardavam a porta da cas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vezes que o rei entrava na casa do SENHOR, vinham os da guarda, e os levavam; depois tornavam a pô-los na câmara da 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umilhando-se ele, a ira do SENHOR se desviou dele, para que não o destruísse de todo; porque em Judá ainda havia bo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tificou-se, pois, o rei Roboão em Jerusalém, e reinou; porque Roboão era da idade de quarenta e um anos, quando começou a reinar; e reinou dezessete anos em Jerusalém, a cidade que o SENHOR escolheu, dentre todas as tribos de Israel, para pôr ali o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; porquanto não preparou o seu coração para busca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tos, pois, de Roboão, assim os primeiros, como os últimos, porventura não estão escritos nos livros de Semaías, o profeta, e de Ido, o vidente, na relação das genealogias? E houve guerras entre Roboão e Jeroboão em todos os s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boão dormiu com seus pais, e foi sepultado na cidade de Davi; e Abi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quinto ano do rei Roboão, Sisaque, rei do Egito, subiu contra Jerusalém (porque tinham transgredido contra o SENHOR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mil e duzentos carros e com sessenta mil cavaleiros; e era inumerável o povo que vinha com ele do Egito, de líbios, suquitas e etío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as cidades fortificadas, que Judá tinha; e chegou até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Semaías, o profeta, a Roboão e aos príncipes de Judá que se ajuntaram em Jerusalém por causa de Sisaque, e disse-lhes: Assim diz o SENHOR: Vós me deixastes a mim, por isso também eu vos deixei na mão de Si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humilharam os príncipes de Israel, e o rei, e disseram: O SENHOR é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 SENHOR que se humilhavam, veio a palavra do SENHOR a Semaías, dizendo: Humilharam-se, não os destruirei; antes em breve lhes darei algum socorro, para que o meu furor não se derrame sobre Jerusalém, por mão de Si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rão seus servos; para que conheçam a diferença da minha servidão e da servidão dos reino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u, pois, Sisaque, rei do Egito, contra Jerusalém, e tomou os tesouros da casa do SENHOR, e os tesouros da casa do rei; levou tudo; também tomou os escudos de ouro, que Salomão fiz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34Z</dcterms:created>
  <dc:creator>Admin</dc:creator>
  <dc:description/>
  <dc:language>en-US</dc:language>
  <cp:lastModifiedBy>Admin</cp:lastModifiedBy>
  <dcterms:modified xsi:type="dcterms:W3CDTF">2008-07-30T23:49:34Z</dcterms:modified>
  <cp:revision>1</cp:revision>
  <dc:subject/>
  <dc:title>Slide 1</dc:title>
</cp:coreProperties>
</file>