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BB0-B74D-48AF-9A77-89425A65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5D8-68F9-48D7-9577-595C1EB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70A-903E-42B7-B3F0-F1C58921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D19-A541-4612-B5F5-EE38990B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DA3-D2DF-49FA-B706-7BD172F6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80C-1356-4B67-BB4A-8403830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046-4D61-4640-ABC7-1E251F1F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A7F-1395-4880-AC56-9B149A81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6C0-FF63-493C-A460-51D4C398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0A5-37D4-4472-B1E4-6A11635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631-104C-4DC0-B409-D3768EC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8F1-AF02-4EBD-84E1-3394584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D7B-D7C6-4D6A-A291-5CCD26DE64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ro que saibais quão grande combate tenho por vós, e pelos que estão em Laodicéia, e por quantos não viram o meu rosto em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is perfeitos nele, que é a cabeça de todo o principado e potest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também estais circuncidados com a circuncisão não feita por mão no despojo do corpo dos pecados da carne, a circuncisão de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pultados com ele no batismo, nele também ressuscitastes pela fé no poder de Deus, que o ressuscitou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ós estáveis mortos nos pecados, e na incircuncisão da vossa carne, vos vivificou juntamente com ele, perdoando-vos todas as ofen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riscado a cédula que era contra nós nas suas ordenanças, a qual de alguma maneira nos era contrária, e a tirou do meio de nós, cravando-a na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pojando os principados e potestades, os expôs publicamente e deles triunfou em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inguém vos julgue pelo comer, ou pelo beber, ou por causa dos dias de festa, ou da lua nova, ou dos sáb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ão sombras das coisas futuras, mas o corpo é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vos domine a seu bel-prazer com pretexto de humildade e culto dos anjos, envolvendo-se em coisas que não viu; estando debalde inchado na sua carnal compreen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ligado à cabeça, da qual todo o corpo, provido e organizado pelas juntas e ligaduras, vai crescendo em aume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seus corações sejam consolados, e estejam unidos em amor, e enriquecidos da plenitude da inteligência, para conhecimento do mistério de Deus e Pai, e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estais mortos com Cristo quanto aos rudimentos do mundo, por que vos carregam ainda de ordenanças, como se vivêsseis no mundo, tais com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ques, não proves, não manuse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ais coisas todas perecem pelo uso, segundo os preceitos e doutrinas d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ais têm, na verdade, alguma aparência de sabedoria, em devoção voluntária, humildade, e em disciplina do corpo, mas não são de valor algum senão para a satisfação d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em estão escondidos todos os tesouros da sabedoria e da 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 isto, para que ninguém vos engane com palavras persuasi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inda que esteja ausente quanto ao corpo, contudo, em espírito estou convosco, regozijando-me e vendo a vossa ordem e a firmeza da vossa fé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recebestes o Senhor Jesus Cristo, assim também andai n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aigados e edificados nele, e confirmados na fé, assim como fostes ensinados, nela abundando em ação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e cuidado, para que ninguém vos faça presa sua, por meio de filosofias e vãs sutilezas, segundo a tradição dos homens, segundo os rudimentos do mundo, e não segundo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le habita corporalmente toda a plenitude da divin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01Z</dcterms:created>
  <dc:creator>Admin</dc:creator>
  <dc:description/>
  <dc:language>en-US</dc:language>
  <cp:lastModifiedBy>Admin</cp:lastModifiedBy>
  <dcterms:modified xsi:type="dcterms:W3CDTF">2008-07-30T23:26:01Z</dcterms:modified>
  <cp:revision>1</cp:revision>
  <dc:subject/>
  <dc:title>Slide 1</dc:title>
</cp:coreProperties>
</file>