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5DD-0E57-4219-B48C-9F05880D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E6C-09B5-4F5A-98E3-11B36906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001-8E05-45F1-8229-3CF2C2E0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134-72BC-4018-B363-565CB57D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184-BB9F-4C0F-9199-5AF9F7BF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9DD-A231-44C6-B020-81FFF483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5E5-D3E1-47C9-8F3F-04D4952F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684-536A-4CAF-81B8-7166D425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32F-EE61-441D-853E-5C6F81A8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A69-39F8-4CA9-90CF-383A7CB3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A8D-7B44-4794-9461-CAB59B54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B13-13E3-42DC-9FCE-58342E48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6C97-707D-4716-BCBA-C4A11BEA59C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ADAS estas coisas no reinado de Artaxerxes, rei da Pérsia, Esdras, filho de Seraías, filho de Azarias, filho de Hilqu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dras tinha preparado o seu coração para buscar a lei do SENHOR e para cumpri-la e para ensinar em Israel os seus estatutos e os seu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, pois, a cópia da carta que o rei Artaxerxes deu ao sacerdote Esdras, o escriba das palavras dos mandamentos do SENHOR, e dos seus estatutos sobre Israel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taxerxes, rei dos reis, ao sacerdote Esdras, escriba da lei do Deus do céu, paz perfeita, etc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mim se decreta que no meu reino todo aquele do povo de Israel, e dos seus sacerdotes e levitas, que quiser ir contigo a Jerusalém, v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és enviado da parte do rei e dos seus sete conselheiros para fazeres inquirição a respeito de Judá e de Jerusalém, conforme à lei do teu Deus, que está na tua 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levares a prata e o ouro que o rei e os seus conselheiros voluntariamente deram ao Deus de Israel, cuja habitação está em Jerusalé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prata e o ouro que achares em toda a província de Babilônia, com as ofertas voluntárias do povo e dos sacerdotes, que voluntariamente oferecerem, para a casa de seu Deus, que está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iligentemente comprarás com este dinheiro novilhos, carneiros, cordeiros, com as suas ofertas de alimentos, e as suas libações, e as oferecerás sobre o altar da casa de vosso Deus, que está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que a ti e a teus irmãos bem parecer fazerdes do restante da prata e do ouro, o fareis conforme a vontade do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utensílios que te foram dados para o serviço da casa de teu Deus, restitui-os perante o Deu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Salum, filho de Zadoque, filho de Aitu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do mais que for necessário para a casa de teu Deus, que te convenha dar, dá-lo-ás da casa dos tesouro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mim mesmo, o rei Artaxerxes, se decreta a todos os tesoureiros que estão dalém do rio que tudo quanto vos pedir o sacerdote Esdras, escriba da lei do Deus dos céus, prontamente se f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cem talentos de prata, e até cem coros de trigo, e até cem batos de vinho, e até cem batos de azeite; e sal à von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quanto se ordenar, segundo o mandado do Deus do céu, prontamente se faça para a casa do Deus do céu; pois, para que haveria grande ira sobre o reino do rei e de seus fil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os fazemos saber acerca de todos os sacerdotes e levitas, cantores, porteiros, servidores do templo e ministros desta casa de Deus, que não será lícito impor-lhes, nem tributo, nem contribuição, nem r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Esdras, conforme a sabedoria do teu Deus, que possues, nomeia magistrados e juízes, que julguem a todo o povo que está dalém do rio, a todos os que sabem as leis do teu Deus; e ao que não as sabe, lhe ensin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aquele que não observar a lei do teu Deus e a lei do rei, seja julgado prontamente; quer seja morte, quer desterro, quer multa sobre os seus bens, quer pr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 Deus de nossos pais, que tal inspirou ao coração do rei, para ornar a casa do SENHOR, que está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estendeu para mim a sua benignidade perante o rei e os seus conselheiros e todos os príncipes poderosos do rei. Assim me animei, segundo a mão do SENHOR meu Deus sobre mim, e ajuntei dentre Israel alguns chefes para subirem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Amarias, filho de Azarias, filho de Meraio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Zeraquias, filho de Uzi, filho de Buqu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Abisua, filho de Finéias, filho de Eleazar, filho de Arão, o sumo sacerdo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Esdras subiu de Babilônia; e era escriba hábil na lei de Moisés, que o SENHOR Deus de Israel tinha dado; e, segundo a mão do SENHOR seu Deus, que estava sobre ele, o rei lhe deu tudo quanto lhe ped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ubiram a Jerusalém alguns dos filhos de Israel, dos sacerdotes, dos levitas, dos cantores, dos porteiros e dos servidores do templo, no sétimo ano do rei Artaxerx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quinto mês chegou a Jerusalém, no sétimo ano deste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o primeiro dia do primeiro mês foi o princípio da partida de Babilônia; e no primeiro dia do quinto mês chegou a Jerusalém, segundo a boa mão do seu Deus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29Z</dcterms:created>
  <dc:creator>Admin</dc:creator>
  <dc:description/>
  <dc:language>en-US</dc:language>
  <cp:lastModifiedBy>Admin</cp:lastModifiedBy>
  <dcterms:modified xsi:type="dcterms:W3CDTF">2008-07-30T23:30:29Z</dcterms:modified>
  <cp:revision>1</cp:revision>
  <dc:subject/>
  <dc:title>Slide 1</dc:title>
</cp:coreProperties>
</file>