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60D-1D87-4D52-91F5-9B64FF6F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F75-A06E-4DD9-B688-5169E18F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72B-25CE-4E47-97D7-E1F8F95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C05-8632-43BD-9907-A9AF0D27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BC2-8D65-4917-B2B6-F55A08B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C93-FDAF-4266-A285-A024308E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5C5-D1FB-40A6-8A83-1D720D26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480-8DBA-4265-A42B-D6876C67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545-0362-4040-8A47-8BD63BF2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1A3-BC80-4FF0-93D0-6D61971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0C4-C26E-431E-95ED-6E0BA98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771-FB87-48A3-A058-D749548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821-01BF-421D-85D8-8C26900E71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SENHOR, do que nos tem sucedido; considera, e olha o nosso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sa pele se queimou como um forno, por causa do ardor da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çaram as mulheres em Sião, as virgens nas cidad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íncipes foram enforcados pelas mãos deles; as faces dos velhos não foram reverenci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jovens obrigaram a moer, e os meninos caíram debaixo das cargas de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elhos já não estão mais às portas, os jovens já deixaram a sua mús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ssou o gozo de nosso coração; converteu-se em lamentação a nossa d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u a coroa da nossa cabeça; ai de nós! porque pec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esmaiou o nosso coração; por isso se escureceram os n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monte de Sião, que está assolado, andam as rap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SENHOR, permaneces eternamente, e o teu trono subsiste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herança passou a estrangeiros, e as nossas casas a foras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 esquecerias de nós para sempre? Por que nos desampararias por tanto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-nos a ti, SENHOR, e seremos convertidos; renova os nossos dias como d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nos rejeitaste totalmente. Tu estás muito enfurecido cont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rfãos somos sem pai, nossas mães são como viú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água por dinheiro a bebemos, por preço vem a nossa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ossos perseguidores estão sobre os nossos pescoços; estamos cansados, e não temos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egípcios e aos assírios estendemos as mãos, para nos fartarem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sos pais pecaram, e já não existem; e nós levamos as suas ma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vos dominam sobre nós; ninguém há que nos livre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perigo de nossas vidas trazemos o nosso pão, por causa da espada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8:01Z</dcterms:created>
  <dc:creator>Admin</dc:creator>
  <dc:description/>
  <dc:language>en-US</dc:language>
  <cp:lastModifiedBy>Admin</cp:lastModifiedBy>
  <dcterms:modified xsi:type="dcterms:W3CDTF">2008-07-31T00:08:01Z</dcterms:modified>
  <cp:revision>1</cp:revision>
  <dc:subject/>
  <dc:title>Slide 1</dc:title>
</cp:coreProperties>
</file>