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FF7-FC4C-4BE4-A9C3-B966094B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C55-F4BC-4BC4-9ED6-561AB86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44E-20F6-4218-832C-E43B3265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129-E370-4054-ABA0-0FFF014A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AA7-20E9-4C4B-B781-8FBF1845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173-745B-4BB9-B998-21A4DAA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4E6-9BAB-4C61-AC9F-3CC49643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25F-D105-4483-A64B-6F2AB9B8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8FB-8226-4C88-9672-ACB7C19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452-7368-4D43-8B19-B0A6ACAB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4A2-631D-4CE0-B8DF-0E9881FC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CA0-26C8-4423-B406-A55B759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39D-CBAA-44A8-B03C-6548C657D6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no ano de quatrocentos e oitenta, depois de saírem os filhos de Israel do Egito, no ano quarto do reinado de Salomão sobre Israel, no mês de Zive (este é o mês segundo), começou a edificar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as câmaras em volta de toda a casa, de cinco côvados de altura, e as ligou à casa com madeira de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palavra do SENHOR a Salom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esta casa que tu edificas, se andares nos meus estatutos, e fizeres os meus juízos, e guardares todos os meus mandamentos, andando neles, confirmarei para contigo a minha palavra, a qual falei a Davi, teu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ei no meio dos filhos de Israel, e não desampararei o meu pov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dificou Salomão aquela casa, e a acab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briu as paredes da casa por dentro com tábuas de cedro; desde o soalho da casa até ao teto tudo cobriu com madeira por dentro; e cobriu o soalho da casa com tábuas de cipr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ou mais vinte côvados de tábuas de cedro nos lados da casa, desde o soalho até às paredes; e por dentro lhas edificou para o oráculo, para o Santo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sa, isto é, o templo anterior tinha quare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edro da casa por dentro era lavrado de botões e flores abertas; tudo era cedro, pedra nenhuma se 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dentro da casa, na parte mais interior, preparou o oráculo, para pôr ali a arca da alianç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que o rei Salomão edificou ao SENHOR era de sessenta côvados de comprimento, e de vinte côvados de largura, e de trinta côvados de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ráculo no interior era de vinte côvados de comprimento, e de vinte côvados de largura, e de vinte côvados de altura; e o revestiu de ouro puro; também revestiu de cedro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vestiu Salomão a casa por dentro de ouro puro; e com cadeias de ouro pôs uma cortina diante do oráculo, e o revestiu com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briu de ouro toda a casa, inteiramente; também cobriu de ouro todo o altar que estava diante do or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oráculo fez dois querubins de madeira de oliveira, cada um da altura de dez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asa de um querubim era de cinco côvados, e a outra asa do querubim de outros cinco côvados; dez côvados havia desde a extremidade de uma das suas asas até à extremidade da outra das s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ra também de dez côvados o outro querubim; ambos os querubins eram de uma mesma medida e de um mesmo ta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tura de um querubim era de dez côvados, e assim a do outro querub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a estes querubins no meio da casa de dentro; e os querubins estendiam as asas, de maneira que a asa de um tocava na parede, e a asa do outro querubim tocava na outra parede; e as suas asas no meio da casa tocavam uma n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vestiu de ouro os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paredes da casa, em redor, lavrou de esculturas e entalhes de querubins, e de palmas, e de flores abertas, por dentro e por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órtico diante do templo da casa era de vinte côvados de comprimento, segundo a largura da casa, e de dez côvados de largura diante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revestiu de ouro o soalho da casa, por dentro e por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entrada do oráculo fez portas de madeira de oliveira; o umbral de cima com as ombreiras faziam a quinta parte da pa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s duas portas eram de madeira de oliveira; e lavrou nelas entalhes de querubins, e de palmas, e de flores abertas, os quais revestiu de ouro; também estendeu ouro sobre os querubins e sobre as p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ez à porta do templo ombreiras de madeira de oliveira, da quarta parte da pa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m as duas portas de madeira de cipreste; e as duas folhas de uma porta eram dobradiças, assim como eram também dobradiças as duas folhas entalhadas das outr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lavrou de querubins e de palmas, e de flores abertas, e as revestiu de ouro acomodado ao l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o pátio interior de três ordens de pedras lavradas e de uma ordem de vigas de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quarto se pôs o fundamento da casa do SENHOR, no mês de Z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ano undécimo, no mês de Bul, que é o mês oitavo, se acabou esta casa com todas as suas coisas, e com tudo o que lhe convinha; e a edificou em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para a casa janelas de gelósias fix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câmaras junto ao muro da casa, contra as paredes da casa, em redor, tanto do templo como do oráculo; e assim lhe fez câmaras laterai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âmara de baixo era de cinco côvados de largura, e a do meio de seis côvados de largura, e a terceira de sete côvados de largura; porque pela parte de fora da casa, em redor, fizera encostos, para que as vigas não se apoiassem nas paredes d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va-se a casa com pedras preparadas, como as traziam se edificava; de maneira que nem martelo, nem machado, nem nenhum outro instrumento de ferro se ouviu na casa quando a edific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orta da câmara do meio estava ao lado direito da casa, e por caracóis se subia à do meio, e da do meio à terc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edificou a casa, e a acabou; e cobriu a casa com pranchões e tabuados de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56Z</dcterms:created>
  <dc:creator>Admin</dc:creator>
  <dc:description/>
  <dc:language>en-US</dc:language>
  <cp:lastModifiedBy>Admin</cp:lastModifiedBy>
  <dcterms:modified xsi:type="dcterms:W3CDTF">2008-07-30T23:44:56Z</dcterms:modified>
  <cp:revision>1</cp:revision>
  <dc:subject/>
  <dc:title>Slide 1</dc:title>
</cp:coreProperties>
</file>