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17DC-C4E3-42EB-ADE9-416B9E0E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115-7A86-437D-A931-01BA278C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863-89E2-4FA3-B732-DFC734F8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4B7-CDAB-464E-BD42-BF5FFF2B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5BF4-3706-4305-989B-5A6DADF8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5C40-FF1F-465A-8A03-EB3A371A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5874-302F-4AA8-8020-E9CAC1E9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8E51-E19F-4D1D-8CA2-0A5FAFC5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A254-BA1A-4BC1-8F50-82D39677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27D-5A00-43A1-8BD9-9961149C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8E4F-4247-4E09-8DB7-495E6B82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1D8-7B6B-4C84-9216-84F6A5B4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B6ED-6007-4E03-B241-8DBB20BDC24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A, pois, agora vós, ricos, chorai e pranteai, por vossas misérias, que sobre vós hão de 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us irmãos, tomai por exemplo de aflição e paciência os profetas que falaram em nom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temos por bem-aventurados os que sofreram. Ouvistes qual foi a paciência de Jó, e vistes o fim que o Senhor lhe deu; porque o Senhor é muito misericordioso e pied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obretudo, meus irmãos, não jureis, nem pelo céu, nem pela terra, nem façais qualquer outro juramento; mas que a vossa palavra seja sim, sim, e não, não; para que não caiais em conden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á alguém entre vós aflito? Ore. Está alguém contente? Cante louv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á alguém entre vós doente? Chame os presbíteros da igreja, e orem sobre ele, ungindo-o com azeite em nome do Senho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oração da fé salvará o doente, e o Senhor o levantará; e, se houver cometido pecados, ser-lhe-ão perdo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fessai as vossas culpas uns aos outros, e orai uns pelos outros, para que sareis. A oração feita por um justo pode muito em seus efe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ias era homem sujeito às mesmas paixões que nós e, orando, pediu que não chovesse e, por três anos e seis meses, não choveu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rou outra vez, e o céu deu chuva, e a terra produziu o seu fr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mãos, se algum dentre vós se tem desviado da verdade, e alguém o convert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vossas riquezas estão apodrecidas, e as vossas vestes estão comidas de tra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iba que aquele que fizer converter do erro do seu caminho um pecador, salvará da morte uma alma, e cobrirá uma multidão de pec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vosso ouro e a vossa prata se enferrujaram; e a sua ferrugem dará testemunho contra vós, e comerá como fogo a vossa carne. Entesourastes para os último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 jornal dos trabalhadores que ceifaram as vossas terras, e que por vós foi diminuído, clama; e os clamores dos que ceifaram entraram nos ouvidos d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liciosamente vivestes sobre a terra, e vos deleitastes; cevastes os vossos corações, como num dia de mat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denastes e matastes o justo; ele não vos resist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de pois, irmãos, pacientes até à vinda do Senhor. Eis que o lavrador espera o precioso fruto da terra, aguardando-o com paciência, até que receba a chuva temporã e serôd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de vós também pacientes, fortalecei os vossos corações; porque já a vinda do Senhor está próxi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mãos, não vos queixeis uns contra os outros, para que não sejais condenados. Eis que o juiz está à p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13Z</dcterms:created>
  <dc:creator>Admin</dc:creator>
  <dc:description/>
  <dc:language>en-US</dc:language>
  <cp:lastModifiedBy>Admin</cp:lastModifiedBy>
  <dcterms:modified xsi:type="dcterms:W3CDTF">2008-07-31T00:29:13Z</dcterms:modified>
  <cp:revision>1</cp:revision>
  <dc:subject/>
  <dc:title>Slide 1</dc:title>
</cp:coreProperties>
</file>