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58ED-C63F-4044-9459-E97F3D100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94F0-E1EF-41E9-90CF-BB03DF34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4014-9555-4EDC-825B-0832E60B7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3F10-4BB2-4670-B620-5C704A7BE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829D-D3BE-4C1D-8A7D-281C8825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5858-E41B-492B-BB10-B04F6835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3748-C14A-4391-8CFA-4A01DFC3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5FE9-BC5F-49AB-8A78-85577F63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ACD2-6103-4143-A267-F71E17D6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7E6F-D207-4BC2-BE61-4DA04A62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FE82-8D8F-431E-9A5E-53537C74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F4BD-9644-43B4-9274-74FAD195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FBF5-A0D0-4A91-962A-D057ED9AF4C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ME: Filho do homem, põe-te em pé, e falarei cont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ndeu-o diante de mim, e ele estava escrito por dentro e por fora; e nele estavam escritas lamentações, e suspiros e 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ntrou em mim o Espírito, quando ele falava comigo, e me pôs em pé, e ouvi o que me fal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me: Filho do homem, eu te envio aos filhos de Israel, às nações rebeldes que se rebelaram contra mim; eles e seus pais transgrediram contra mim até este mesmo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são de semblante duro, e obstinados de coração; eu te envio a eles, e lhes dirás: Assim diz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, quer ouçam quer deixem de ouvir (porque eles são casa rebelde), hão de saber, contudo, que esteve no meio deles um profe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u, ó filho do homem, não os temas, nem temas as suas palavras; ainda que estejam contigo sarças e espinhos, e tu habites entre escorpiões, não temas as suas palavras, nem te assustes com os seus semblantes, porque são casa rebel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tu lhes dirás as minhas palavras, quer ouçam quer deixem de ouvir, pois são rebel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tu, ó filho do homem, ouve o que eu te falo, não sejas rebelde como a casa rebelde; abre a tua boca, e come o que eu te d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i, e eis que uma mão se estendia para mim, e eis que nela havia um rolo de liv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3:46Z</dcterms:created>
  <dc:creator>Admin</dc:creator>
  <dc:description/>
  <dc:language>en-US</dc:language>
  <cp:lastModifiedBy>Admin</cp:lastModifiedBy>
  <dcterms:modified xsi:type="dcterms:W3CDTF">2008-07-30T23:33:46Z</dcterms:modified>
  <cp:revision>1</cp:revision>
  <dc:subject/>
  <dc:title>Slide 1</dc:title>
</cp:coreProperties>
</file>