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540B-CB94-4224-9772-80954BE8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D2CF-F379-4645-B276-41CB2D22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FCCD-673F-4261-9E5F-77C7C3FD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3012-F30E-46AD-8F79-F0166D15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1D05-FCBD-409E-82FC-71686BDB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4902-DFDD-41D7-B70E-B5A7E5AA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ACA4-471C-40BB-86B0-AE51801F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1FDB-C7CB-48BE-B32D-451A8095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0854-68D7-4027-8605-11F4FCBF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4B6E-265A-4B1A-85F6-3B4767F5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6D63-834A-49C8-AFD1-0960F997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3E7C-F77D-4470-AD9B-E551F9A6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08DD-3649-4C37-96C5-89777F5075A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 indignes por causa dos malfeitores, nem tenhas inveja dos que praticam a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ainda um pouco, e o ímpio não existirá; olharás para o seu lugar, e não apare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mansos herdarão a terra, e se deleitarão na abundância de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ímpio maquina contra o justo, e contra ele range os d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se rirá dele, pois vê que vem chegando o seu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ímpios puxaram da espada e armaram o arco, para derrubarem o pobre e necessitado, e para matarem os de reta condu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 sua espada lhes entrará no coração, e os seus arcos se quebr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le mais o pouco que tem o justo, do que as riquezas de muitos ímp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os braços dos ímpios se quebrarão, mas o SENHOR sustém os jus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conhece os dias dos retos, e a sua herança permanecerá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rão envergonhados nos dias maus, e nos dias de fome se fart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edo serão ceifados como a erva, e murcharão como a verd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ímpios perecerão, e os inimigos do SENHOR serão como a gordura dos cordeiros; desaparecerão, e em fumaça se desf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ímpio toma emprestado, e não paga; mas o justo se compadece e 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queles que ele abençoa herdarão a terra, e aqueles que forem por ele amaldiçoados serão desarraig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passos de um homem bom são confirmados pelo SENHOR, e deleita-se no seu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caia, não ficará prostrado, pois o SENHOR o sustém com a s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ui moço, e agora sou velho; mas nunca vi desamparado o justo, nem a sua semente a mendigar o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padece-se sempre, e empresta, e a sua semente é abenço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arta-te do mal e faze o bem; e terás morada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ama o juízo e não desampara os seus santos; eles são preservados para sempre; mas a semente dos ímpios será desarraig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justos herdarão a terra e habitarão nela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ia no SENHOR e faze o bem; habitarás na terra, e verdadeiramente serás alimen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boca do justo fala a sabedoria; a sua língua fala do juí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lei do seu Deus está em seu coração; os seus passos não resval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ímpio espreita ao justo, e procura matá-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não o deixará em suas mãos, nem o condenará quando for julg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pera no SENHOR, e guarda o seu caminho, e te exaltará para herdares a terra; tu o verás quando os ímpios forem desarraig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 o ímpio com grande poder espalhar-se como a árvore verde na terra nat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assou e já não aparece; procurei-o, mas não se pôde encont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ta o homem sincero, e considera o reto, porque o fim desse homem é a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s transgressores, serão à uma destruídos, e as relíquias dos ímpios serão destruí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salvação dos justos vem do SENHOR; ele é a sua fortaleza no tempo da angúst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leita-te também no SENHOR, e te concederá os desejos do t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os ajudará e os livrará; ele os livrará dos ímpios e os salvará, porquanto confiam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ega o teu caminho ao SENHOR; confia nele, e ele o f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fará sobressair a tua justiça como a luz, e o teu juízo como o meio-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cansa no SENHOR, e espera nele; não te indignes por causa daquele que prospera em seu caminho, por causa do homem que executa astutos int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ixa a ira, e abandona o furor; não te indignes de forma alguma para fazer 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malfeitores serão desarraigados; mas aqueles que esperam no SENHOR herdarão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5:09Z</dcterms:created>
  <dc:creator>Admin</dc:creator>
  <dc:description/>
  <dc:language>en-US</dc:language>
  <cp:lastModifiedBy>Admin</cp:lastModifiedBy>
  <dcterms:modified xsi:type="dcterms:W3CDTF">2008-07-31T00:25:09Z</dcterms:modified>
  <cp:revision>1</cp:revision>
  <dc:subject/>
  <dc:title>Slide 1</dc:title>
</cp:coreProperties>
</file>