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FD3C-50D5-4B4C-82FE-1FE45974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59AA-CB28-498B-9164-B25B4D04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030-794D-42E4-B7E6-96D19F244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4627-A883-4372-A06E-C91B4502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F01E-EE5E-4C9D-8575-D8E042C8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BCC9-BC26-4746-BC5B-AD45EB27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98D0-BE87-4720-B991-CDDEA91F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4C64-7622-417A-A7C4-D22A8415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C47A-F3C0-4B84-B41A-02F1EDAB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6925-8350-458B-87B7-8019AE54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02F8-204E-4C98-A044-3D100289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CAFA-D87B-45F8-8681-CCDAB0F7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6EE8-074D-4945-BE7F-37D80E8AF4F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avi: Há ainda alguém que tenha ficado da casa de Saul, para que lhe faça benevolência por amor de Jônat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abalhar-lhe-ás, pois, a terra, tu e teus filhos, e teus servos, e recolherás os frutos, para que o filho de teu senhor tenha pão para comer; mas Mefibosete, filho de teu senhor, sempre comerá pão à minha mesa. E tinha Ziba quinze filhos e vinte serv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Ziba ao rei: Conforme a tudo quanto meu senhor, o rei, manda a seu servo, assim fará teu servo. Quanto a Mefibosete, disse o rei, comerá à minha mesa como um dos filhos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nha Mefibosete um filho pequeno, cujo nome era Mica; e todos quantos moravam em casa de Ziba eram servos de Mefibose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rava, pois, Mefibosete em Jerusalém, porquanto sempre comia à mesa do rei, e era coxo de ambos o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ia um servo na casa de Saul cujo nome era Ziba; e o chamaram à presença de Davi. Disse-lhe o rei: És tu Ziba? E ele disse: Servo t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rei: Não há ainda alguém da casa de Saul para que eu use com ele da benevolência de Deus? Então disse Ziba ao rei: Ainda há um filho de Jônatas, aleijado de ambos o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o rei: Onde está? E disse Ziba ao rei: Eis que está em casa de Maquir, filho de Amiel, em Lo-Deb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andou o rei Davi, e o tomou da casa de Maquir, filho de Amiel, de Lo-Deb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efibosete, filho de Jônatas, o filho de Saul, veio a Davi, e se prostrou com o rosto por terra e inclinou-se; e disse Davi: Mefibosete! E ele disse: Eis aqui teu se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Davi: Não temas, porque decerto usarei contigo de benevolência por amor de Jônatas, teu pai, e te restituirei todas as terras de Saul, teu pai, e tu sempre comerás pão à minha me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inclinou, e disse: Quem é teu servo, para teres olhado para um cão morto tal como e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hamou Davi a Ziba, moço de Saul, e disse-lhe: Tudo o que pertencia a Saul, e a toda a sua casa, tenho dado ao filho de t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3:02Z</dcterms:created>
  <dc:creator>Admin</dc:creator>
  <dc:description/>
  <dc:language>en-US</dc:language>
  <cp:lastModifiedBy>Admin</cp:lastModifiedBy>
  <dcterms:modified xsi:type="dcterms:W3CDTF">2008-07-30T23:53:02Z</dcterms:modified>
  <cp:revision>1</cp:revision>
  <dc:subject/>
  <dc:title>Slide 1</dc:title>
</cp:coreProperties>
</file>