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930-2920-4A33-9684-790FC80F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076-E5DB-4112-9AAB-256F8929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1C2-A0D9-4675-96CA-7C5C3A7E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AD3-7D26-4C13-B8F7-BA687BBA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CEB-39E8-400A-89A1-F22797A3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8A7-A6E1-4BAC-9DB2-825308E4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3AB-7E08-4C67-ACD3-A23A82CA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0AF-1BA0-4544-A3F6-92939A66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9ED-E901-4134-B0FF-63A6A0C9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F0B-3DDD-4A62-8CF0-F0F1F02E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9BA-DFC5-435F-A80E-2002B0E3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8F5-2207-4B6E-AA1F-B2BB410E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F2D4-A020-447E-9BDA-2A2E4D6E94A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isto Jesus andava pela Galiléia, e já não queria andar pela Judéia, pois os judeus procuravam mat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seus irmãos já tinham subido à festa, então subiu ele também, não manifestamente, mas como em ocu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s judeus procuravam-no na festa, e diziam: Onde está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grande murmuração entre a multidão a respeito dele. Diziam alguns: Ele é bom. E outros diziam: Não, antes engana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ninguém falava dele abertamente, por medo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o meio da festa subiu Jesus ao templo, e ensin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judeus maravilhavam-se, dizendo: Como sabe este letras, não as tendo aprendi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lhes respondeu, e disse: A minha doutrina não é minha, mas daquele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quiser fazer a vontade dele, pela mesma doutrina conhecerá se ela é de Deus, ou se eu falo de mim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fala de si mesmo busca a sua própria glória; mas o que busca a glória daquele que o enviou, esse é verdadeiro, e não há nele in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deu Moisés a lei? e nenhum de vós observa a lei. Por que procurais matar-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próxima a festa dos judeus, a dos tabernác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tidão respondeu, e disse: Tens demônio; quem procura matar-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Jesus, e disse-lhes: Fiz uma só obra, e todos vos maravilh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motivo de que Moisés vos deu a circuncisão (não que fosse de Moisés, mas dos pais), no sábado circuncidais um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homem recebe a circuncisão no sábado, para que a lei de Moisés não seja quebrantada, indignais-vos contra mim, porque no sábado curei de todo um hom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julgueis segundo a aparência, mas julgai segundo a ret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lguns dos de Jerusalém diziam: Não é este o que procuram mat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-lo aí está falando abertamente, e nada lhe dizem. Porventura sabem verdadeiramente os príncipes que de fato este é o Cr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bem sabemos de onde este é; mas, quando vier o Cristo, ninguém saberá de onde ele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va, pois, Jesus no templo, ensinando, e dizendo: Vós conheceis-me, e sabeis de onde sou; e eu não vim de mim mesmo, mas aquele que me enviou é verdadeiro, o qual vós não conhec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conheço-o, porque dele sou e el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pois, seus irmãos: Sai daqui, e vai para a Judéia, para que também os teus discípulos vejam as obras que fa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uravam, pois, prendê-lo, mas ninguém lançou mão dele, porque ainda não era chegada a sua h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da multidão creram nele, e diziam: Quando o Cristo vier, fará ainda mais sinais do que os que este tem fe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ariseus ouviram que a multidão murmurava dele estas coisas; e os fariseus e os principais dos sacerdotes mandaram servidores para o prende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, pois, Jesus: Ainda um pouco de tempo estou convosco, e depois vou para aquele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me buscareis, e não me achareis; e onde eu estou, vós não podeis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, pois, os judeus uns para os outros: Para onde irá este, que o não acharemos? Irá porventura para os dispersos entre os gregos, e ensinará os greg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palavra é esta que disse: Buscar-me-eis, e não me achareis; e: Aonde eu estou vós não podeis 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último dia, o grande dia da festa, Jesus pôs-se em pé, e clamou, dizendo: Se alguém tem sede, venha a mim, e b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crê em mim, como diz a Escritura, rios de água viva correrão do seu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disse ele do Espírito que haviam de receber os que nele cressem; porque o Espírito Santo ainda não fora dado, por ainda Jesus não ter sido glo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há ninguém que procure ser conhecido que faça coisa alguma em oculto. Se fazes estas coisas, manifesta-te a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uitos da multidão, ouvindo esta palavra, diziam: Verdadeiramente este é o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tros diziam: Este é o Cristo; mas diziam outros: Vem, pois, o Cristo da Galilé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iz a Escritura que o Cristo vem da descendência de Davi, e de Belém, da aldeia de onde era Dav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ntre o povo havia dissensão por causa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eles queriam prendê-lo, mas ninguém lançou mã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idores foram ter com os principais dos sacerdotes e fariseus; e eles lhes perguntaram: Por que não o trouxe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 os servidores: Nunca homem algum falou assim como est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-lhes, pois, os fariseus: Também vós fostes engana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reu nele porventura algum dos principais ou dos faris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a multidão, que não sabe a lei, é mald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em mesmo seus irmãos cri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codemos, que era um deles (o que de noite fora ter com Jesus), disse-lh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condena a nossa lei um homem sem primeiro o ouvir e ter conhecimento do que fa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 eles, e disseram-lhe: És tu também da Galiléia? Examina, e verás que da Galiléia nenhum profeta surg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da um foi par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, pois, Jesus: Ainda não é chegado o meu tempo, mas o vosso tempo sempre está pro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undo não vos pode odiar, mas ele me odeia a mim, porquanto dele testifico que as suas obras são m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 vós a esta festa; eu não subo ainda a esta festa, porque ainda o meu tempo não está cump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lhes dito isto, ficou n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3:17Z</dcterms:created>
  <dc:creator>Admin</dc:creator>
  <dc:description/>
  <dc:language>en-US</dc:language>
  <cp:lastModifiedBy>Admin</cp:lastModifiedBy>
  <dcterms:modified xsi:type="dcterms:W3CDTF">2008-07-31T00:03:18Z</dcterms:modified>
  <cp:revision>1</cp:revision>
  <dc:subject/>
  <dc:title>Slide 1</dc:title>
</cp:coreProperties>
</file>