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3CE-7B65-4300-A58D-10C26B2D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E63-9970-44B4-8407-28D4DB2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673-1341-4B30-BD5F-1675F848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3BF-5277-48D7-A0FB-62D242BA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222-EC45-4588-9614-D3C98F2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509-21CD-4E0C-A79E-DAF9E2B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2CC-FA48-4684-8E30-4A89806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20F-CD3C-48F1-96FE-B3F4609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61D-58D5-4062-8FB4-3EE387B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6E1-3CC6-42F1-B158-AA6023B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8F2-E564-4BD3-A32F-EC38884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1C8-D20A-487E-8938-8DA7F7A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2DE-73B3-402C-A223-7E13CA3BB3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no nono ano, no décimo mês, aos dez do mê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ontoa muita lenha, acende o fogo, ferve bem a carne, e tempera o caldo, e ardam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porás vazia sobre as suas brasas, para que ela aqueça, e se queime o seu cobre, e se funda a sua imundícia no meio dela, e se consuma a sua esc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com mentiras se cansou; e não saiu dela a sua muita escuma; ao fogo irá a sua esc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imundícia está a infâmia, porquanto te purifiquei, e não permaneceste pura; nunca mais serás purificada da tua imundícia, enquanto eu não fizer descansar sobre ti a minha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SENHOR, o disse: viva isso, e o farei, não me tornarei atrás, e não pouparei, nem me arrependerei; conforme os teus caminhos, e conforme os teus feitos, te julgarã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eis que, de um golpe tirarei de ti o desejo dos teus olhos, mas não lamentarás, nem chorarás, nem te correrão as lágri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eme em silêncio, não faças luto por mortos; ata o teu turbante, e põe nos pés os teus sapatos, e não cubras os teus lábios, e não comas o p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i ao povo pela manhã, e à tarde morreu minha mulher; e fiz pela manhã como me foi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me disse: Porventura não nos farás saber o que significam para nós estas coisas que estás faze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escreve o nome deste dia, deste mesmo dia; porque o rei de Babilônia se pôs contra Jerusalém neste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lhes disse: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à casa de Israel: Assim diz o Senhor DEUS: Eis que eu profanarei o meu santuário, a glória da vossa força, o desejo dos vossos olhos, e o anelo das vossas almas; e vossos filhos e vossas filhas, que deixastes, cairã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s como eu fiz; não vos cobrireis os lábios, e não comereis o p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reis nas cabeças os vossos turbantes, e os vossos sapatos nos pés; não lamentareis, nem chorareis, mas definhar-vos-eis nas vossas maldades, e gemereis uns com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s servirá Ezequiel de sinal; conforme tudo quanto ele fez, fareis; quando isso suceder, sabereis que eu sou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ti, filho do homem, não sucederá que no dia que eu lhes tirar a sua força, a alegria da sua glória, o desejo dos seus olhos, e o anelo de suas almas, com seus filhos e suas fil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 dia virá ter contigo aquele que escapar, para te dar notícias pessoal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abrir-se-á a tua boca para com aquele que escapar, e falarás, e não mais ficarás mudo; assim virás a ser para eles um sinal,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 por parábola à casa rebelde, e dize-lhes: Assim diz o Senhor DEUS: Põe a panela ao lume, põe-na, e deita-lhe também água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 nela pedaços, todos os bons pedaços, as coxas e as espáduas; enche-a de osso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lhe o melhor do rebanho, e queima também os ossos debaixo dela; faze-a ferver bem, e cozam-se dentro dela os s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Ai da cidade sanguinária, da panela que escuma por dentro, e cuja escuma não saiu dela! Tira dela pedaço por pedaço; não caia sorte sobre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u sangue está no meio dela, sobre uma penha descalvada o pôs; não o derramou sobre a terra, para o cobrir com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 subir a indignação, para tomar vingança, eu pus o seu sangue numa penha descalvada, para que não fosse cob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Ai da cidade sanguinária! Também eu farei uma grande fog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03Z</dcterms:created>
  <dc:creator>Admin</dc:creator>
  <dc:description/>
  <dc:language>en-US</dc:language>
  <cp:lastModifiedBy>Admin</cp:lastModifiedBy>
  <dcterms:modified xsi:type="dcterms:W3CDTF">2008-07-30T23:35:03Z</dcterms:modified>
  <cp:revision>1</cp:revision>
  <dc:subject/>
  <dc:title>Slide 1</dc:title>
</cp:coreProperties>
</file>