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186-3214-4A25-BCCE-0386DCB3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666-539E-419F-A3E3-BD553D2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5E3-28D7-4469-A406-BCAC3724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45A-53D6-45A9-B3F9-F34DBD54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F21-08FA-48D3-A357-D63404BA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CC2-E4B7-4BD3-A201-BDD29A09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45E-AA8F-42A8-8820-464B86EE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D96-DBD5-4E95-9BC8-337A6F3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571-58D1-4AED-9E72-DBD2BB5D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541-17A7-430D-B0C2-30B56A1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482-2C11-45AC-A2F2-A9C9385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339-8428-416C-9581-1435C90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AC2-5765-4AC2-9A27-0A6B6EA8D4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ó Deus, segundo a tua benignidade; apaga as minhas transgressões, segundo a multidão das tuas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ia em mim, ó Deus, um coração puro, e renova em mim um espírito r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lances fora da tua presença, e não retires de mim o teu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 a dar-me a alegria da tua salvação, e sustém-me com um espírito volunt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sinarei aos transgressores os teus caminhos, e os pecadores a ti se convert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 dos crimes de sangue, ó Deus, Deus da minha salvação, e a minha língua louvará altamente 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, Senhor, os meus lábios, e a minha boca entoará o t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desejas sacrifícios, senão eu os daria; tu não te deleitas em holoca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rifícios para Deus são o espírito quebrantado; a um coração quebrantado e contrito não desprezarás, ó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o bem a Sião, segundo a tua boa vontade; edifica os muro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 agradarás dos sacrifícios de justiça, dos holocaustos e das ofertas queimadas; então se oferecerão novilhos sobre o teu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a-me completamente da minha iniqüidade, e purifica-me do m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conheço as minhas transgressões, e o meu pecado está sempre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ti, contra ti somente pequei, e fiz o que é mal à tua vista, para que sejas justificado quando falares, e puro quando julg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m iniqüidade fui formado, e em pecado me concebeu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mas a verdade no íntimo, e no oculto me fazes conhecer a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urifica-me com hissope, e ficarei puro; lava-me, e ficarei mais branco do que a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ouvir júbilo e alegria, para que gozem os ossos que tu quebr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nde a tua face dos meus pecados, e apaga todas as minh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5Z</dcterms:created>
  <dc:creator>Admin</dc:creator>
  <dc:description/>
  <dc:language>en-US</dc:language>
  <cp:lastModifiedBy>Admin</cp:lastModifiedBy>
  <dcterms:modified xsi:type="dcterms:W3CDTF">2008-07-31T00:25:35Z</dcterms:modified>
  <cp:revision>1</cp:revision>
  <dc:subject/>
  <dc:title>Slide 1</dc:title>
</cp:coreProperties>
</file>