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961-2F7F-49EB-808C-7714CDA7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2DD-13A9-4C01-891E-E67CEDBF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0A8-5175-4DFF-ACC4-EAEDD1F3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BDA-0667-46B3-9CF2-4C17804C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B08-AA4A-4BC0-BE87-302019DD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F03-EC90-462A-B91D-51D31A59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EA4-4E79-4715-B38C-B73BE4AD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C32-50C1-45C8-B8BE-688BE46A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6C7-8192-49A9-8BE5-23CFA249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6D3-9E24-4B06-96A3-3CB69CED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64C-BA20-47B9-88D7-14400C6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BF5-B4DD-4082-B3CD-D685B316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D0F8-18BE-48EE-9314-4BF797D0B86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haverá uma fonte aberta para a casa de Davi, e para os habitantes de Jerusalém, para purificação do pecado e da imundí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naquele dia, diz o SENHOR dos Exércitos, que tirarei da terra os nomes dos ídolos, e deles não haverá mais memória; e também farei sair da terra os profetas e o espírito da impu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, quando alguém ainda profetizar, seu pai e sua mãe, que o geraram, lhe dirão: Não viverás, porque falaste mentira em nome do SENHOR; e seu pai e sua mãe, que o geraram, o traspassarão quando profetiz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naquele dia que os profetas se envergonharão, cada um da sua visão, quando profetizarem; nem mais se vestirão de manto de pelos, para menti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rão: Não sou profeta, sou lavrador da terra; porque certo homem ensinou-me a guardar o gado desde a minha moc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alguém lhe disser: Que feridas são estas nas tuas mãos? Dirá ele: São feridas com que fui ferido em casa dos meus amig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espada, desperta-te contra o meu pastor, e contra o homem que é o meu companheiro, diz o SENHOR dos Exércitos. Fere ao pastor, e espalhar-se-ão as ovelhas; mas volverei a minha mão sobre os pequen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em toda a terra, diz o SENHOR, que as duas partes dela serão extirpadas, e expirarão; mas a terceira parte restará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passar esta terceira parte pelo fogo, e a purificarei, como se purifica a prata, e a provarei, como se prova o ouro. Ela invocará o meu nome, e eu a ouvirei; direi: É meu povo; e ela dirá: O SENHOR é o m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41Z</dcterms:created>
  <dc:creator>Admin</dc:creator>
  <dc:description/>
  <dc:language>en-US</dc:language>
  <cp:lastModifiedBy>Admin</cp:lastModifiedBy>
  <dcterms:modified xsi:type="dcterms:W3CDTF">2008-07-31T00:29:41Z</dcterms:modified>
  <cp:revision>1</cp:revision>
  <dc:subject/>
  <dc:title>Slide 1</dc:title>
</cp:coreProperties>
</file>