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44BB-1BAA-40FE-BD61-B93C98D9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457-BFB6-4ED9-87C4-D1176C3C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CB89-29B4-4782-A54C-D64DB007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A8DC-8AB3-49A8-8A19-EA653FC8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F938-D1B0-49DE-B025-B6169EF8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D9B-0DA3-4BF2-BE3E-8F85B952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B2B-68CA-4B34-B310-7458081A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9E8-838C-494B-A40D-41BACBD8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69D7-6B95-4EBA-95BE-FCB3CE28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A531-0A35-4BF6-B563-CD7CDF76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4703-205A-4F23-B499-BE463A4A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AD7D-66D2-460A-94E8-75C8F26E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A7B1-F695-48F8-9794-27798378705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 o primeiro tratado, ó Teófilo, acerca de tudo quanto Jesus começou a fazer e ensinar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com os olhos fitos no céu, enquanto ele subia, eis que junto deles se puseram dois homens vestidos de bran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lhes disseram: Homens galileus, por que estais olhando para o céu? Esse Jesus, que dentre vós foi recebido em cima no céu, há de vir assim como para o céu o vistes 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oltaram para Jerusalém, do monte chamado das Oliveiras, o qual está perto de Jerusalém, à distância do caminho de um sáb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rando, subiram ao cenáculo, onde habitavam Pedro e Tiago, João e André, Filipe e Tomé, Bartolomeu e Mateus, Tiago, filho de Alfeu, Simão, o Zelote, e Judas, irmão de Tia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estes perseveravam unanimemente em oração e súplicas, com as mulheres, e Maria mãe de Jesus, e com seu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s dias, levantando-se Pedro no meio dos discípulos (ora a multidão junta era de quase cento e vinte pessoas) diss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mens irmãos, convinha que se cumprisse a Escritura que o Espírito Santo predisse pela boca de Davi, acerca de Judas, que foi o guia daqueles que prenderam a Jes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foi contado conosco e alcançou sorte neste ministé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este adquiriu um campo com o galardão da iniqüidade; e, precipitando-se, rebentou pelo meio, e todas as suas entranhas se derram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notório a todos os que habitam em Jerusalém; de maneira que na sua própria língua esse campo se chama Aceldama, isto é, Campo de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ao dia em que foi recebido em cima, depois de ter dado mandamentos, pelo Espírito Santo, aos apóstolos que escolhe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o livro dos Salmos está escrito: Fique deserta a sua habitação, E não haja quem nela habite, Tome outro o seu bisp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necessário, pois, que, dos homens que conviveram conosco todo o tempo em que o Senhor Jesus entrou e saiu dentre nó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eçando desde o batismo de João até ao dia em que de entre nós foi recebido em cima, um deles se faça conosco testemunha da sua ressurre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resentaram dois: José, chamado Barsabás, que tinha por sobrenome o Justo, e Mat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rando, disseram: Tu, Senhor, conhecedor dos corações de todos, mostra qual destes dois tens escolhi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tome parte neste ministério e apostolado, de que Judas se desviou, para ir para o seu próprio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ançando-lhes sortes, caiu a sorte sobre Matias. E por voto comum foi contado com os onze apóst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s quais também, depois de ter padecido, se apresentou vivo, com muitas e infalíveis provas, sendo visto por eles por espaço de quarenta dias, e falando das coisas concernentes ao rei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com eles, determinou-lhes que não se ausentassem de Jerusalém, mas que esperassem a promessa do Pai, que (disse ele) de mim ouvi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na verdade, João batizou com água, mas vós sereis batizados com o Espírito Santo, não muito depois deste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s, pois, que se haviam reunido perguntaram-lhe, dizendo: Senhor, restaurarás tu neste tempo o reino a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Não vos pertence saber os tempos ou as estações que o Pai estabeleceu pelo seu próprio po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recebereis a virtude do Espírito Santo, que há de vir sobre vós; e ser-me-eis testemunhas, tanto em Jerusalém como em toda a Judéia e Samaria, e até aos confin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to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dizia isto, vendo-o eles, foi elevado às alturas, e uma nuvem o recebeu, ocultando-o a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3:04Z</dcterms:created>
  <dc:creator>Admin</dc:creator>
  <dc:description/>
  <dc:language>en-US</dc:language>
  <cp:lastModifiedBy>Admin</cp:lastModifiedBy>
  <dcterms:modified xsi:type="dcterms:W3CDTF">2008-07-30T23:23:04Z</dcterms:modified>
  <cp:revision>1</cp:revision>
  <dc:subject/>
  <dc:title>Slide 1</dc:title>
</cp:coreProperties>
</file>