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94B5-6F46-46CC-8F4F-2DFDDD315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CB43-0165-4FB5-97E2-672216C29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CB99-A70B-4CC4-ABB7-54DFE1294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8B4D-627B-4AC0-AC33-3592B8C01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59A9-BE9E-4C34-8B47-B2CBFB870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9BDC-8B9F-4146-A046-642C99361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DE84-FEFF-4F74-80AB-7EF183DE9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C96B-1A8E-4D90-96EC-1986562CD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C7E6-D627-4B2D-A6D0-6E4E0EF80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D2C9-B9F2-424F-AACA-CDF6E83EF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F10C-CA59-412B-87F5-0FFF2ED68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159E-57A7-4F5A-ADA9-AAC11CFD2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C2970-D2DC-46EF-96FC-D582B2BD06BA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5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SORTE que coube à tribo dos filhos de Judá, segundo as suas famílias, foi até ao termo de Edom, o deserto de Zim, para o sul, na extremidade do lado meridiona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5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volta este termo desde Baalá para o ocidente, até às montanhas de Seir, e passa ao lado do monte de Jearim do lado do norte (esta é Quesalom) e desce a Bete-Semes, e passa por Timn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5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ai este termo mais ao lado de Ecrom, para o norte, e este termo vai a Sicrom e passa o monte de Baalá, e sai em Jabneel; e assim este termo finda no m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5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rá, porém, o termo do lado do ocidente o Mar Grande, e suas adjacências; este é o termo dos filhos de Judá ao redor, segundo as suas famíli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5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a Calebe, filho de Jefoné, deu uma parte no meio dos filhos de Judá, conforme a ordem do SENHOR a Josué; a saber, a cidade de Arba, que é Hebrom; este Arba era pai de Anaqu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5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alebe expulsou dali os três filhos de Anaque; Sesai, e Aimã, e Talmai, gerados de Anaqu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5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ali subiu aos habitantes de Debir; e fora antes o nome de Debir, Quiriate-Sef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5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Calebe: Quem ferir a Quiriate-Sefer, e a tomar, lhe darei a minha filha Acsa por mulh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5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mou-a, pois, Otniel, filho de Quenaz, irmão de Calebe; e deu-lhe a sua filha Acsa por mulh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5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ucedeu que, vindo ela a ele, o persuadiu que pedisse um campo a seu pai; e ela desceu do seu jumento; então Calebe lhe disse: Que é que ten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5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a disse: Dá-me uma bênção; pois me deste terra seca, dá-me também fontes de águas. Então lhe deu as fontes superiores e as fontes inferior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5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oi o seu termo para o sul, desde a extremidade do Mar Salgado, desde a baía que olha para o sul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5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a é a herança da tribo dos filhos de Judá, segundo as suas famíli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5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ão, pois, as cidades da tribo dos filhos de Judá, até ao termo de Edom, no extremo sul: Cabzeel, e Eder, e Jagu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5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Quiná, e Dimona, e Adada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5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Quedes, e Hazor, e Itnã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5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Zife, e Telem, e Bealote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5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Hazor-Hadata, e Queriote-Hezrom (que é Hazor)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5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mã e Sema, e Moladá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5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Hazar-Gada, e Hesmom, e Bete-Palete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5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Hazar-Sual, e Berseba, e Biziotiá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5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Baalá, e Iim, e Azem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5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ai para o sul, até à subida de Acrabim, e passa a Zim, e sobe do sul a Cades-Barnéia, e passa por Hezrom, e sobe a Adar, e vira para Carc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5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tolade, e Quesil, e Horm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5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Ziclague, e Madmana, e Sansana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5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Lebaote, e Silim, e Aim, e Rimom; todas as cidades e as suas aldeias, vinte e nov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5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as planícies: Estaol, e Zorá, e Asná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5:3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Zanoa, e En-Ganim, Tapua, e Enã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5:3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Jarmute, e Adulão, Socó, e Azeca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5:3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aaraim, e Aditaim, e Gederá, e Gederotaim; catorze cidades e as suas aldei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5:3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7520" y="1523880"/>
            <a:ext cx="835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Zenã, e Hadasa, e Migdal-Gade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5:3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7520" y="1523880"/>
            <a:ext cx="835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leã, e Mizpe, e Jocteel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5:3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17520" y="1523880"/>
            <a:ext cx="835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Laquis, e Bozcate, e Eglom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5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assa Azmom, e sai ao ribeiro do Egito, e as saídas deste termo vão até ao mar; este será o vosso termo do lado do su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5:4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17520" y="1523880"/>
            <a:ext cx="835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abom, e Laamás, e Quitli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5:4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Gederote, Bete-Dagom, e Naamá, e Maqueda, dezesseis cidades e as suas aldei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5:4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17520" y="1523880"/>
            <a:ext cx="835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Libna, e Eter, e Asã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5:4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17520" y="1523880"/>
            <a:ext cx="835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Iftá, e Asná, e Nezibe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5:4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Queila, e Aczibe, e Maressa; nove cidades e as suas aldei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5:4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crom, com suas vilas, e as suas aldei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5:4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sde Ecrom, e até ao mar, todas as que estão do lado de Asdode, e as suas aldei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5:4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dode, com as suas vilas e as suas aldeias; Gaza, com as suas vilas e as suas aldeias, até ao rio do Egito, e o Mar Grande e o seu term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5:4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as montanhas: Samir, Jatir, e Socó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5:4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aná, e Quiriate-Saná (que é Debir)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5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termo, porém, para o oriente será o Mar Salgado, até à foz do Jordão; e o termo para o norte será da baía do mar, desde a foz do Jord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5:5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17520" y="1523880"/>
            <a:ext cx="835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nabe, Estemó, e Anim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5:5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Gósen, e Holom, e Giló; onze cidades e as suas aldei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5:5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7520" y="1523880"/>
            <a:ext cx="835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rabe, e Dumá e Esã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5:5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7520" y="1523880"/>
            <a:ext cx="835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Janim, e Bete-Tapua e Afeca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5:5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Hunta, e Quiriate-Arba (que é Hebrom), e Zior; nove cidades e as suas aldei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5:5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17520" y="1523880"/>
            <a:ext cx="835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om, Carmelo, e Zife, e Jutá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5:5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17520" y="1523880"/>
            <a:ext cx="835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Jizreel, e Jocdeão, e Zanoa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5:5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aim, Gibeá, e Timna; dez cidades e as suas aldei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5:5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17520" y="1523880"/>
            <a:ext cx="835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Halul, Bete-Zur, e Gedor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5:5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Maarate, e Bete-Anote, e Eltecom; seis cidades e as suas aldei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5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ste termo subirá até Bete-Hogla, e passará do norte a Bete-Arabá, e este termo subirá até à pedra de Boã, filho de Rúben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5:6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iriate-Baal (que é Quiriate-Jearim), e Rabá; duas cidades e as suas aldei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5:6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o deserto: Bete-Arabá, Midim, e Secacá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5:6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ibsã, e a Cidade do Sal, e En-Gedi; seis cidades e as suas aldei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5:6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puderam, porém, os filhos de Judá expulsar os jebuseus que habitavam em Jerusalém; assim habitaram os jebuseus com os filhos de Judá em Jerusalém, até ao dia de hoj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5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ubirá mais este termo a Debir desde o vale de Acor, indo para o norte rumo a Gilgal, a qual está em frente da subida de Adumim, que está para o sul do ribeiro; então este termo continua até às águas de En-Semes; e as suas saídas estão do lado de En-Ro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5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ste termo sobe pelo vale do filho de Hinom, do lado sul dos jebuseus (esta é Jerusalém) e sobe este termo até ao cume do monte que está diante do vale de Hinom para o ocidente, que está no fim do vale dos refains do lado do nor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5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este termo vai desde a altura do monte até à fonte das águas de Neftoa; e sai até às cidades do monte de Efrom; vai mais este termo até Baalá (esta é Quiriate-Jearim)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05:41Z</dcterms:created>
  <dc:creator>Admin</dc:creator>
  <dc:description/>
  <dc:language>en-US</dc:language>
  <cp:lastModifiedBy>Admin</cp:lastModifiedBy>
  <dcterms:modified xsi:type="dcterms:W3CDTF">2008-07-31T00:05:41Z</dcterms:modified>
  <cp:revision>1</cp:revision>
  <dc:subject/>
  <dc:title>Slide 1</dc:title>
</cp:coreProperties>
</file>