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2935-7CB5-402A-BDF2-418501FCD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D7B5-4B01-41E7-9D9E-DC9F0488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C80C-D492-4E02-B7A2-A032D2EF3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3DC8-B5A7-4E76-B12F-02E4B83B5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18D6-F261-46C2-B893-EA640EB1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866B-1C0F-417A-A9C0-E71E4350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51F8-B33E-47FF-89D7-DCC94D10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3BF8-5E84-4B78-90C3-CCEF1CC9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5A75-37C5-44ED-B79F-1F3EFA00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808C-13A9-480C-BB77-0C3A1499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A764-613E-49B9-8744-541CD721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70A2-BF0B-4003-9A0B-C72D5881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32BB-15DD-4812-B15C-DDE4CE95BE4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Aitofel a Absalão: Deixa-me escolher doze mil homens, e me levantarei, e perseguirei a Davi esta no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té o homem valente, cujo coração é como coração de leão, sem dúvida desmaiará; porque todo o Israel sabe que teu pai é valoroso, e homens valentes os que estão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, porém, aconselho que com toda a pressa se ajunte a ti todo o Israel desde Dã até Berseba, em multidão como a areia do mar; e tu em pessoa vás com eles à pelej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iremos a ele, em qualquer lugar que se achar, facilmente cairemos sobre ele, como o orvalho cai sobre a terra; e não ficará dele e de todos os homens que estão com ele nem ainda um s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ele se retirar para alguma cidade, todo o Israel levará cordas àquela cidade; e arrastá-la-emos até ao ribeiro, até que não se ache ali nem uma só pedri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Absalão e todos os homens de Israel: Melhor é o conselho de Husai, o arquita, do que o conselho de Aitofel (porém assim o SENHOR o ordenara, para aniquilar o bom conselho de Aitofel, para que o SENHOR trouxesse o mal sobre Absalão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Husai a Zadoque e a Abiatar, sacerdotes: assim e assim aconselhou Aitofel a Absalão e aos anciãos de Israel; porém assim e assim aconselhei 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enviai apressadamente, e avisai a Davi, dizendo: Não passes esta noite nas campinas do deserto; logo também passa ao outro lado, para que o rei e todo o povo que com ele está não seja devo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vam, pois, Jônatas e Aimaás junto à fonte de Rogel; e foi uma criada, e lho disse, e eles foram e o disseram ao rei Davi, porque não podiam ser vistos entrar n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viu-os todavia um moço, e avisou a Absalão; porém ambos logo partiram apressadamente, e entraram em casa de um homem, em Baurim, o qual tinha um poço no seu pátio, e ali dentro desc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ou a mulher a tampa, e a estendeu sobre a boca do poço, e espalhou grão descascado sobre ela; assim nada se soub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rei sobre ele, pois está cansado e frouxo de mãos; e o espantarei, e fugirá todo o povo que está com ele; e então ferirei somente 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egando, pois, os servos de Absalão à mulher, àquela casa, disseram: Onde estão Aimaás e Jônatas? E a mulher lhes disse: Já passaram o vau das águas. E havendo-os buscado, e não os achando, voltaram para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depois que se retiraram, Aimaás e Jônatas saíram do poço, e foram, e anunciaram a Davi; e disseram a Davi: Levantai-vos, e passai depressa as águas, porque assim aconselhou contra vós Aitof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avi e todo o povo que com ele estava se levantou, e passaram o Jordão; e já pela luz da manhã nem ainda faltava um só que não tivesse passado o Jor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, pois, Aitofel que se não tinha seguido o seu conselho, albardou o jumento, e levantou-se, e foi para sua casa e para a sua cidade, e deu ordem à sua casa, e se enforcou e morreu, e foi sepultado na sepultura de s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 foi a Maanaim; e Absalão passou o Jordão, ele e todo o homem de Israel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7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bsalão constituiu a Amasa em lugar de Joabe sobre o arraial; e era Amasa filho de um homem cujo nome era Itra, o israelita, o qual possuíra a Abigail, filha de Naás, irmã de Zeruia, mãe de Joab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7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srael, pois, e Absalão acamparam na terra de Gile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7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chegando Davi a Maanaim, Sobi, filho de Naás, de Rabá, dos filhos de Amom, e Maquir, filho de Amiel, de Lo-Debar, e Barzilai, o gileadita, de Rogeli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7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ram camas e bacias, e vasilhas de barro, e trigo, e cevada, e farinha, e grão torrado, e favas, e lentilhas, também torrad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7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el, e manteiga, e ovelhas, e queijos de vacas, e os trouxeram a Davi e ao povo que com ele estava, para comerem, porque disseram: Este povo no deserto está faminto, cansado e sed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ei tornar a ti todo o povo; pois o homem a quem tu buscas é como se tornassem todos; assim todo o povo estará em p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 palavra pareceu boa aos olhos de Absalão, e aos olhos de todos os anciã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, porém, Absalão: Chamai agora também a Husai o arquita; e ouçamos também o que ele di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ndo Husai a Absalão, lhe falou Absalão, dizendo: Desta maneira falou Aitofel; faremos conforme à sua palavra? Se não, fala t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Husai a Absalão: O conselho que Aitofel deu desta vez não é b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Husai: Bem conheces tu a teu pai, e a seus homens, que são valorosos, e que estão com o espírito amargurado, como a ursa no campo, roubada dos cachorros; e também teu pai é homem de guerra, e não passará a noite com 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agora estará escondido nalguma cova, ou em qualquer outro lugar; e será que, caindo no princípio alguns dentre eles, cada um que o ouvir então dirá: Houve derrota no povo que segue a Absal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3:33Z</dcterms:created>
  <dc:creator>Admin</dc:creator>
  <dc:description/>
  <dc:language>en-US</dc:language>
  <cp:lastModifiedBy>Admin</cp:lastModifiedBy>
  <dcterms:modified xsi:type="dcterms:W3CDTF">2008-07-30T23:53:33Z</dcterms:modified>
  <cp:revision>1</cp:revision>
  <dc:subject/>
  <dc:title>Slide 1</dc:title>
</cp:coreProperties>
</file>