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0FC-AE2B-4DB0-86A7-373E6063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2AA-608E-454E-ACF0-93497F7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6E9-2FA4-48F4-AE6B-B47F7AF1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F78-B58A-47BE-BD63-8DE2967B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069-E141-4610-9662-2918A641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832-11BC-4CCB-8F3A-9601780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935-4743-4947-9076-097AEE7B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689-12AA-48DC-B551-E8DEEE4A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601-5931-45F6-8E72-2DB96634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AB4-A440-47AA-817C-FE20A6FE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CB6-0AC5-4C44-9500-6C4685F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727-B80F-4F28-9A8E-5613F7E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1EC-5B73-4B43-909C-A268DD333D4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J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m a sua boca contra mim; com desprezo me feriram nos queixos, e contra mim se ajuntam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ga-me Deus ao perverso, e nas mãos dos ímpios me faz c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ansado estava eu, porém ele me quebrantou; e pegou-me pela cerviz, e me despedaçou; também me pôs por seu 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cam-me os seus flecheiros; atravessa-me os rins, e não me poupa, e o meu fel derrama sobre 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e-me com ferimento sobre ferimento; arremete contra mim como um val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si sobre a minha pele o cilício, e revolvi a minha cabeça n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rosto está todo avermelhado de chorar, e sobre as minhas pálpebras está a sombra da mor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esar de não haver violência nas minhas mãos, e de ser pura a minh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terra, não cubras o meu sangue e não haja lugar para ocultar o meu clam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ambém agora a minha testemunha está no céu, e nas alturas o meu testemunho est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ouvido muitas coisas como estas; todos vós sois consoladores mole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amigos são os que zombam de mim; os meus olhos se desfazem em lágrimas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se alguém pudesse contender com Deus pelo homem, como o homem pelo seu próxim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corridos poucos anos, eu seguirei o caminho por onde não torn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terão fim essas palavras de vento? Ou o que te irrita, para assim responde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ria eu também como vós falais, se a vossa alma estivesse em lugar da minha alma, ou amontoaria palavras contra vós, e menearia contra vós a minha cabe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vos fortaleceria com a minha boca, e a consolação dos meus lábios abrandaria a vossa 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falar, a minha dor não cessa, e, calando-me eu, qual é o meu alív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agora tu me tens fatigado; tu assolaste toda a minha companh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stemunha disto é que já me fizeste enrugado, e a minha magreza já se levanta contra mim, e no meu rosto testifica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sua ira me despedaçou, e ele me perseguiu; rangeu os seus dentes contra mim; aguça o meu adversário os seus olhos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09Z</dcterms:created>
  <dc:creator>Admin</dc:creator>
  <dc:description/>
  <dc:language>en-US</dc:language>
  <cp:lastModifiedBy>Admin</cp:lastModifiedBy>
  <dcterms:modified xsi:type="dcterms:W3CDTF">2008-07-31T00:01:09Z</dcterms:modified>
  <cp:revision>1</cp:revision>
  <dc:subject/>
  <dc:title>Slide 1</dc:title>
</cp:coreProperties>
</file>