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0304-AF8A-4151-A8F5-681D0922C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654B-FA5C-497D-9434-B5D9CDC6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72C8-4A3D-422A-BC1D-873F1D62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024A-47BC-4EF1-8524-68DE119C7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C83D-FBC2-4760-8F69-B94ED994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DDA8-5DB3-4A56-85ED-A3A36DC5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B6E3-0144-4AA6-80EC-B80E7CAB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8AEE-B4B5-4264-8B0B-0AF82319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CCC7-3E81-4743-A829-490B164B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571D-834C-40BF-9BB0-1A7F19EC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4390-A476-48BE-9B4E-F0427802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4F06-6681-4944-B422-1D01621F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DEF3-D1D9-4546-8DC1-ED801B3B94B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SUR, filho de Imer, o sacerdote, que havia sido nomeado presidente na casa do SENHOR, ouviu a Jeremias, que profetizava estas palav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uvi a murmuração de muitos, terror de todos os lados: Denunciai, e o denunciaremos; todos os que têm paz comigo aguardam o meu manquejar, dizendo: Bem pode ser que se deixe persuadir; então prevaleceremos contra ele e nos vingaremos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SENHOR está comigo como um valente terrível; por isso tropeçarão os meus perseguidores, e não prevalecerão; ficarão muito confundidos; porque não se houveram prudentemente, terão uma confusão perpétua que nunca será esquec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, pois, ó SENHOR dos Exércitos, que provas o justo, e vês os rins e o coração, permite que eu veja a tua vingança contra eles; pois já te revelei a minha cau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ntai ao SENHOR, louvai ao SENHOR; pois livrou a alma do necessitado da mão dos malfeit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ldito o dia em que nasci; não seja bendito o dia em que minha mãe me deu à lu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ldito o homem que deu as novas a meu pai, dizendo: Nasceu-te um filho; alegrando-o com isso grande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ja esse homem como as cidades que o SENHOR destruiu e não se arrependeu; e ouça clamor pela manhã, e ao tempo do meio-dia um alar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que não me matou na madre? Assim minha mãe teria sido a minha sepultura, e teria ficado grávida perpetuamente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que saí da madre, para ver trabalho e tristeza, e para que os meus dias se consumam na vergonh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riu Pasur ao profeta Jeremias, e o colocou no cepo que está na porta superior de Benjamim, na cas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 no dia seguinte Pasur tirou a Jeremias do cepo. Então disse-lhe Jeremias: O SENHOR não chama o teu nome Pasur, mas, Terror por todos os l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diz o SENHOR: Eis que farei de ti um terror para ti mesmo, e para todos os teus amigos. Eles cairão à espada de seus inimigos, e teus olhos o verão. Entregarei todo o Judá na mão do rei de Babilônia; ele os levará presos a Babilônia, e feri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entregarei toda a riqueza desta cidade, e todo o seu trabalho, e todas as suas coisas preciosas, sim, todos os tesouros dos reis de Judá entregarei na mão de seus inimigos, e saqueá-los-ão, e tomá-los-ão e levá-los-ão a Babilôn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u, Pasur, e todos os moradores da tua casa ireis para o cativeiro; e virás a Babilônia, e ali morrerás, e ali serás sepultado, tu, e todos os teus amigos, aos quais profetizaste fals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rsuadiste-me, ó SENHOR, e persuadido fiquei; mais forte foste do que eu, e prevaleceste; sirvo de escárnio todo o dia; cada um deles zomba d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esde que falo, grito, clamo: Violência e destruição; porque se tornou a palavra do SENHOR um opróbrio e ludíbrio todo o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eu: Não me lembrarei dele, e não falarei mais no seu nome; mas isso foi no meu coração como fogo ardente, encerrado nos meus ossos; e estou fatigado de sofrer, e não posso m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8:19Z</dcterms:created>
  <dc:creator>Admin</dc:creator>
  <dc:description/>
  <dc:language>en-US</dc:language>
  <cp:lastModifiedBy>Admin</cp:lastModifiedBy>
  <dcterms:modified xsi:type="dcterms:W3CDTF">2008-07-30T23:58:19Z</dcterms:modified>
  <cp:revision>1</cp:revision>
  <dc:subject/>
  <dc:title>Slide 1</dc:title>
</cp:coreProperties>
</file>