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357-8077-446F-8A8C-4C81B938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B54-0F7B-4338-B850-4E8E31EE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5B6-2EC0-4EB2-8BB8-9AB2D90A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076-B446-4575-83E3-D89897D3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496-943B-479E-BCDE-AF29C0D7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2C9-F77F-40DF-BAC0-52E79608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C5A-7401-45B0-9E32-BF8942C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0EE-7C6C-4E01-81F2-E23F1D51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E46-C611-40B0-9B02-A8B37821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AAA-B3E4-4A78-A85D-6980106A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786-F24F-42BE-8C68-07B5503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F8A-D7E5-4675-A52E-3E80DC7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41D1-8CD9-40ED-B680-6FD0DA577A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a ti clamo, escuta-me; inclina os teus ouvidos à minha voz, quando a ti cl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am os ímpios nas suas próprias redes, até que eu tenha escapado inteir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a a minha oração perante a tua face como incenso, e as minhas mãos levantadas sejam como o sacrifício da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, ó SENHOR, uma guarda à minha boca; guarda a porta dos m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inclines o meu coração a coisas más, a praticar obras más, com aqueles que praticam a iniqüidade; e não coma das suas delí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ra-me o justo, será isso uma benignidade; e repreenda-me, será um excelente óleo, que não me quebrará a cabeça; pois a minha oração também ainda continuará nas suas próprias calam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seus juízes forem derrubados pelos lados da rocha, ouvirão as minhas palavras, pois são agrad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ossos ossos são espalhados à boca da sepultura como se alguém fendera e partira lenh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meus olhos te contemplam, ó DEUS o Senhor; em ti confio; não desnudes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me dos laços que me armaram; e dos laços corrediços d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40Z</dcterms:created>
  <dc:creator>Admin</dc:creator>
  <dc:description/>
  <dc:language>en-US</dc:language>
  <cp:lastModifiedBy>Admin</cp:lastModifiedBy>
  <dcterms:modified xsi:type="dcterms:W3CDTF">2008-07-31T00:28:40Z</dcterms:modified>
  <cp:revision>1</cp:revision>
  <dc:subject/>
  <dc:title>Slide 1</dc:title>
</cp:coreProperties>
</file>