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183-A6FE-4057-844F-70FF3AD2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981-DA0E-48DB-859B-80D019BD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71D-2875-416B-9566-6768EB52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79E-3BC5-441A-9CF6-C3234429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7FF-46EF-4152-8D32-5BF9D04C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35A-11FB-4581-95CF-A9F726BE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42D-A1A1-4907-88B6-D77536A7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DFD-2270-4447-8831-425CFB6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D9A-1D99-4D9E-B471-14D88C89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635-77A9-4C5B-A09F-10F1401A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950-BA7B-42B1-8B13-EB0D329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47C-1A0F-4CFD-9F3F-7D80AAE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CE0F-36CC-4152-ACAE-A2435E3E7A6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estado a arca do SENHOR na terra dos filisteus sete mes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fizeram aqueles homens, e tomaram duas vacas que criavam, e as ataram ao carro; e os seus bezerros encerraram em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a arca do SENHOR sobre o carro, como também o cofre com os ratos de ouro e com as imagens das suas hemorró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s vacas se encaminharam diretamente pelo caminho de Bete-Semes, e seguiam um mesmo caminho, andando e berrando, sem se desviarem, nem para a direita nem para a esquerda; e os príncipes dos filisteus foram atrás delas, até ao termo de Bete-Se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vam os de Bete-Semes fazendo a sega do trigo no vale, e, levantando os seus olhos, viram a arca, e, vendo-a, se aleg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rro veio ao campo de Josué, o bete-semita, e parou ali onde havia uma grande pedra. E fenderam a madeira do carro, e ofereceram as vacas ao SENHOR em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 desceram a arca do SENHOR, como também o cofre que estava junto a ela, em que estavam os objetos de ouro, e puseram-nos sobre aquela grande pedra; e os homens de Bete-Semes ofereceram holocaustos e sacrifícios ao SENHOR no mes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aquilo os cinco príncipes dos filisteus, voltaram para Ecrom no mes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, pois, são as hemorróidas de ouro que enviaram os filisteus ao SENHOR em expiação da culpa: Por Asdode uma, por Gaza outra, por Ascalom outra, por Gate outra, por Ecrom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os ratos de ouro, segundo o número de todas as cidades dos filisteus, pertencentes aos cinco príncipes, desde as cidades fortificadas até às aldeias, e até Abel. A grande pedra, sobre a qual puseram a arca do SENHOR, ainda está até ao dia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eriu os homens de Bete-Semes, porquanto olharam para dentro da arca do SENHOR; feriu do povo cinqüenta mil e setenta homens; então o povo se entristeceu, porquanto o SENHOR fizera tão grande estrago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isteus chamaram os sacerdotes e os adivinhadores, dizendo: Que faremos nós com a arca do SENHOR? Fazei-nos saber como a tornaremos a enviar a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os homens de Bete-Semes: Quem poderia subsistir perante este santo SENHOR Deus? E a quem subirá de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ram, pois, mensageiros aos habitantes de Quiriate-Jearim, dizendo: Os filisteus remeteram a arca do SENHOR; descei, pois, e fazei-a subir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disseram: Se enviardes a arca do Deus de Israel, não a envieis vazia, porém sem falta enviareis uma oferta para a expiação da culpa; então sereis curados, e se vos fará saber porque a sua mão não se retira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: Qual é a expiação da culpa que lhe havemos de enviar? E disseram: Segundo o número dos príncipes dos filisteus, cinco hemorróidas de ouro e cinco ratos de ouro; porquanto a praga é uma mesma sobre todos vós e sobre todos os vossos prínc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, pois, umas imagens das vossas hemorróidas e dos vossos ratos, que andam destruindo a terra, e dai glória ao Deus de Israel; porventura aliviará a sua mão de cima de vós, e de cima do vosso deus, e de cima da voss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Por que, pois, endureceríeis o vosso coração, como os egípcios e Faraó endureceram os seus corações? Porventura depois de os haver tratado tão mal, os não deixaram ir, e eles não se fo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tomai e fazei-vos um carro novo, e tomai duas vacas com crias, sobre as quais não tenha subido o jugo, e atai as vacas ao carro, e tirai delas os seus bezerros e levai-os par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i a arca do SENHOR, e ponde-a sobre o carro, e colocai, num cofre, ao seu lado, as figuras de ouro que lhe haveis de oferecer em expiação da culpa, e assim a enviareis, para que se v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então: Se ela subir pelo caminho do seu termo a Bete-Semes, foi ele quem nos fez este grande mal; e, se não, saberemos que não nos tocou a sua mão, e que isto nos sucedeu por aca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34Z</dcterms:created>
  <dc:creator>Admin</dc:creator>
  <dc:description/>
  <dc:language>en-US</dc:language>
  <cp:lastModifiedBy>Admin</cp:lastModifiedBy>
  <dcterms:modified xsi:type="dcterms:W3CDTF">2008-07-30T23:46:34Z</dcterms:modified>
  <cp:revision>1</cp:revision>
  <dc:subject/>
  <dc:title>Slide 1</dc:title>
</cp:coreProperties>
</file>