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B2C-EBB2-4F1A-BC6A-05C5B046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A2A-9040-4567-99D7-62486500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9CA-D805-487F-A141-35B914EB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693-40FE-4D22-B1BA-F51704B6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5DD-0D38-4649-A30B-A9A00431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236-CE9F-4A24-9906-CDE9E704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D4B-FB68-4AB4-BF4C-6B044C7C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B73-846E-4850-8076-2C45C591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BC8-B329-4FD1-9F1D-D194B00D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E14-5829-408B-BE43-5489EE04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4E8-3BBE-49AF-9B70-8D496610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333-2516-42A3-B838-87AE1DE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51FD-159B-4EAB-A5A6-B595C028D66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nquanto Apolo estava em Corinto, Paulo, tendo passado por todas as regiões superiores, chegou a Éfeso; e achando ali alguns discípul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urou isto por espaço de dois anos; de tal maneira que todos os que habitavam na Ásia ouviram a palavra do Senhor Jesus, assim judeus como gre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pelas mãos de Paulo fazia maravilhas extraordiná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até os lenços e aventais se levavam do seu corpo aos enfermos, e as enfermidades fugiam deles, e os espíritos malignos saí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exorcistas judeus ambulantes tentavam invocar o nome do Senhor Jesus sobre os que tinham espíritos malignos, dizendo: Esconjuro-vos por Jesus a quem Paulo pre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faziam isto eram sete filhos de Ceva, judeu, principal dos sacerdo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ndo, porém, o espírito maligno, disse: Conheço a Jesus, e bem sei quem é Paulo; mas vós quem so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ltando neles o homem que tinha o espírito maligno, e assenhoreando-se de todos, pôde mais do que eles; de tal maneira que, nus e feridos, fugiram daquel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isto notório a todos os que habitavam em Éfeso, tanto judeus como gregos; e caiu temor sobre todos eles, e o nome do Senhor Jesus era engrand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dos que tinham crido vinham, confessando e publicando os seus f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muitos dos que seguiam artes mágicas trouxeram os seus livros, e os queimaram na presença de todos e, feita a conta do seu preço, acharam que montava a cinqüenta mil peça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: Recebestes vós já o Espírito Santo quando crestes? E eles disseram-lhe: Nós nem ainda ouvimos que haja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 palavra do Senhor crescia poderosamente e prevale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umpridas estas coisas, Paulo propôs, em espírito, ir a Jerusalém, passando pela Macedônia e pela Acaia, dizendo: Depois que houver estado ali, importa-me ver também Ro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viando à Macedônia dois daqueles que o serviam, Timóteo e Erasto, ficou ele por algum tempo na Ás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quele mesmo tempo, houve um não pequeno alvoroço acerca d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 certo ourives da prata, por nome Demétrio, que fazia de prata nichos de Diana, dava não pouco lucro aos artífic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quais, havendo-os ajuntado com os oficiais de obras semelhantes, disse: Senhores, vós bem sabeis que deste ofício temos a nossa prosper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m vedes e ouvis que não só em Éfeso, mas até quase em toda a Ásia, este Paulo tem convencido e afastado uma grande multidão, dizendo que não são deuses os que se fazem com 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omente há o perigo de que a nossa profissão caia em descrédito, mas também de que o próprio templo da grande deusa Diana seja estimado em nada, vindo a ser destruída a majestade daquela que toda a Ásia e o mundo ven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-o, encheram-se de ira, e clamaram, dizendo: Grande é a Diana dos efés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cheu-se de confusão toda a cidade e, unânimes, correram ao teatro, arrebatando a Gaio e a Aristarco, macedônios, companheiros de Paulo na viag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guntou-lhes, então: Em que sois batizados então? E eles disseram: No batismo de J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erendo Paulo apresentar-se ao povo, não lho permitiram o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alguns dos principais da Ásia, que eram seus amigos, lhe rogaram que não se apresentasse no te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ns, pois, clamavam de uma maneira, outros de outra, porque o ajuntamento era confuso; e os mais deles não sabiam por que causa se tinham aju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iraram Alexandre dentre a multidão, impelindo-o os judeus para diante; e Alexandre, acenando com a mão, queria dar razão disto a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ando conheceram que era judeu, todos unanimemente levantaram a voz, clamando por espaço de quase duas horas: Grande é a Diana dos efés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escrivão da cidade, tendo apaziguado a multidão, disse: Homens efésios, qual é o homem que não sabe que a cidade dos efésios é a guardadora do templo da grande deusa Diana, e da imagem que desceu de Júpit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ão podendo isto ser contraditado, convém que vos aplaqueis e nada façais temerariam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es homens que aqui trouxestes nem são sacrílegos nem blasfemam da vossa de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Demétrio e os artífices que estão com ele têm alguma coisa contra alguém, há audiências e há procônsules; que se acusem uns aos out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ma outra coisa demandais, averiguar-se-á em legítima assemb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ulo disse: Certamente João batizou com o batismo do arrependimento, dizendo ao povo que cresse no que após ele havia de vir, isto é, em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até corremos perigo de que, por hoje, sejamos acusados de sedição, não havendo causa alguma com que possamos justificar este concur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dito isto, despediu a assemb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ouviram foram batizados em nome do Senhor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mpondo-lhes Paulo as mãos, veio sobre eles o Espírito Santo; e falavam línguas, e profetiz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eram, ao todo, uns doz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na sinagoga, falou ousadamente por espaço de três meses, disputando e persuadindo-os acerca d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como alguns deles se endurecessem e não obedecessem, falando mal do Caminho perante a multidão, retirou-se deles, e separou os discípulos, disputando todos os dias na escola de um certo Tir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4:54Z</dcterms:created>
  <dc:creator>Admin</dc:creator>
  <dc:description/>
  <dc:language>en-US</dc:language>
  <cp:lastModifiedBy>Admin</cp:lastModifiedBy>
  <dcterms:modified xsi:type="dcterms:W3CDTF">2008-07-30T23:24:54Z</dcterms:modified>
  <cp:revision>1</cp:revision>
  <dc:subject/>
  <dc:title>Slide 1</dc:title>
</cp:coreProperties>
</file>