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F6D0-83A4-44C3-8AF6-992A2030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3F0-BBA4-4367-8427-A213C4E5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393-6E97-4BE6-AFD6-0DD11C37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2BB-3D89-4EF2-953A-5D05EC18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E30-4A39-4B18-8D6E-36F1B0FB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829-B6A6-45AE-A15D-AA0203D6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7FF2-3207-4A62-939A-79ED2829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C1BF-AF5F-4AF0-A749-BDEE9CC4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ECC-B700-4639-A720-40C763F8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5788-090C-474B-A824-B5939E10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ECDD-70A7-4440-8587-7D94DFAC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056-D106-4693-AF33-A1508743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B302-321E-4F6F-AF1D-C86AFA47487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RANDE é o SENHOR e mui digno de louvor, na cidade do nosso Deus, no seu monte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gundo é o teu nome, ó Deus, assim é o teu louvor, até aos fins da terra; a tua mão direita está cheia de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egre-se o monte de Sião; alegrem-se as filhas de Judá por causa dos teus juíz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odeai Sião, e cercai-a, contai as suas tor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rcai bem os seus antemuros, considerai os seus palácios, para que o conteis à geração segui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e Deus é o nosso Deus para sempre; ele será nosso guia até à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moso de sítio, e alegria de toda a terra é o monte Sião sobre os lados do norte, a cidade do grande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é conhecido nos seus palácios por um alto refúg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is que os reis se ajuntaram; eles passaram ju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ram-no e ficaram maravilhados; ficaram assombrados e se apressaram em fug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emor ali os tomou, e dores como de mulher de pa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quebras as naus de Társis com um vento orient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ouvimos, assim o vimos na cidade do SENHOR dos Exércitos, na cidade do nosso Deus. Deus a confirmará para sempre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mo-nos, ó Deus, da tua benignidade, no meio do teu temp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28Z</dcterms:created>
  <dc:creator>Admin</dc:creator>
  <dc:description/>
  <dc:language>en-US</dc:language>
  <cp:lastModifiedBy>Admin</cp:lastModifiedBy>
  <dcterms:modified xsi:type="dcterms:W3CDTF">2008-07-31T00:25:28Z</dcterms:modified>
  <cp:revision>1</cp:revision>
  <dc:subject/>
  <dc:title>Slide 1</dc:title>
</cp:coreProperties>
</file>