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6D2-3AD4-4506-B3C3-E9695DBB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83B-74C2-43F7-A732-792F235B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764-DF31-430F-9C66-276EF885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71A-6EB9-4760-9D2F-778709BB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EBB-EC2C-4517-A114-82B8B1D4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DDE-CAA1-49B8-A3E2-9B93FCCB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CA8-AF10-46E6-9F97-2864F576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1D5-2BCE-4546-9C06-4C67E6A2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269-BF32-4A03-9538-8289DD8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4C7-1C0A-428D-851E-11488A61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B71-CA65-4099-B1FF-35B1FDBA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E68-EB78-473D-A526-7A299C10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6623-AD4E-4095-AB07-75DEAED0A7D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IRA do SENHOR se tornou a acender contra Israel; e incitou a Davi contra eles, dizendo: Vai, numera a Israel e a Jud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esou o coração de Davi, depois de haver numerado o povo; e disse Davi ao SENHOR: Muito pequei no que fiz; porém agora ó SENHOR, peço-te que perdoes a iniqüidade do teu servo; porque tenho procedido mui louc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vantando-se, pois, Davi pela manhã, veio a palavra do SENHOR ao profeta Gade, vidente de Dav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ai, e dize a Davi: Assim diz o SENHOR: Três coisas te ofereço; escolhe uma delas, para que ta fa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oi, pois, Gade a Davi, e fez-lho saber; e disse-lhe: Queres que sete anos de fome te venham à tua terra; ou que por três meses fujas de teus inimigos, e eles te persigam; ou que por três dias haja peste na tua terra? Delibera agora, e vê que resposta 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Davi a Gade: Estou em grande angústia; porém caiamos nas mãos do SENHOR, porque muitas são as suas misericórdias; mas nas mãos dos homens não caia 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nviou o SENHOR a peste a Israel, desde a manhã até ao tempo determinado; e desde Dã até Berseba, morreram setenta mil homens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tendendo, pois, o anjo a sua mão sobre Jerusalém, para a destruir, o SENHOR se arrependeu daquele mal; e disse ao anjo que fazia a destruição entre o povo: Basta, agora retira a tua mão. E o anjo do SENHOR estava junto à eira de Araúna, o jebu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vendo Davi ao anjo que feria o povo, falou ao SENHOR, dizendo: Eis que eu sou o que pequei, e eu que iniquamente procedi; porém estas ovelhas que fizeram? Seja, pois, a tua mão contra mim, e contra a casa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Gade veio naquele mesmo dia a Davi, e disse-lhe: Sobe, levanta ao SENHOR um altar na eira de Araúna, o jebus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vi subiu conforme à palavra de Gade, como o SENHOR lhe tinha orden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se, pois, o rei a Joabe, capitão do exército, o qual tinha consigo: Agora percorre todas as tribos de Israel, desde Dã até Berseba, e numera o povo, para que eu saiba o número d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ou Araúna, e viu que vinham para ele o rei e os seus servos; saiu, pois, Araúna e inclinou-se diante do rei com o rosto em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raúna: Por que vem o rei meu SENHOR ao seu servo? E disse Davi: Para comprar de ti esta eira, a fim de edificar nela um altar ao SENHOR, para que este castigo cesse de sobre o p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Araúna a Davi: Tome, e ofereça o rei meu senhor o que bem parecer aos seus olhos; eis aí bois para o holocausto, e os trilhos, e o aparelho dos bois para a l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udo isto deu Araúna ao rei; disse mais Araúna ao rei: O SENHOR teu Deus tome prazer em 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o rei disse a Araúna: Não, mas por preço justo to comprarei, porque não oferecerei ao SENHOR meu Deus holocaustos que não me custem nada. Assim Davi comprou a eira e os bois por cinqüenta siclos de pra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dificou ali Davi ao SENHOR um altar, e ofereceu holocaustos, e ofertas pacíficas. Assim o SENHOR se aplacou para com a terra e cessou aquele castigo de sobr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disse Joabe ao rei: Ora, multiplique o SENHOR teu Deus a este povo cem vezes tanto quanto agora é, e os olhos do rei meu senhor o vejam; mas, por que deseja o rei meu SENHOR este negóci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ém a palavra do rei prevaleceu contra Joabe, e contra os capitães do exército; Joabe, pois, saiu com os capitães do exército da presença do rei, para numerar o povo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ssaram o Jordão; e acamparam-se em Aroer, à direita da cidade que está no meio do ribeiro de Gade, junto a Jaz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a Gileade, e à terra baixa de Hodsi; também foram até Dã-Jaã, e ao redor de Si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à fortaleza de Tiro, e a todas as cidades dos heveus e dos cananeus; e saíram para o lado do sul de Judá, a Berseb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ercorreram toda a terra; e ao cabo de nove meses e vinte dias voltaram a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II Samuel 2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Joabe deu ao rei a soma do número do povo contado; e havia em Israel oitocentos mil homens de guerra, que arrancavam da espada; e os homens de Judá eram quinhentos mil hom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54:05Z</dcterms:created>
  <dc:creator>Admin</dc:creator>
  <dc:description/>
  <dc:language>en-US</dc:language>
  <cp:lastModifiedBy>Admin</cp:lastModifiedBy>
  <dcterms:modified xsi:type="dcterms:W3CDTF">2008-07-30T23:54:05Z</dcterms:modified>
  <cp:revision>1</cp:revision>
  <dc:subject/>
  <dc:title>Slide 1</dc:title>
</cp:coreProperties>
</file>