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4CFE-5E94-4411-9B79-300CC175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A0AF-6130-4896-BAC3-4FCAEDBF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B201-D809-4642-87F1-D5FD0189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CF13-A09A-4A0A-8D24-8264F4FC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7004-9B6F-4B5D-9AB6-D8B10E18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1D61-5DE6-4606-9766-DBB85B4E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FF79-7F2D-42D6-87FB-6E712741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41A7-D47C-4939-AE64-8D3F814B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E86B-1241-4C2E-9CB8-EA05FDF5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D2F0-DC19-4E36-8A0C-08BDA8C9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654C-508D-4E78-86EB-7C888A30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3281-E0CB-4178-888A-E7FC24DE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8BAB-490C-4B8A-B9A6-2730178CC48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oi conduzido Jesus pelo Espírito ao deserto, para ser tentado pelo diab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-lhe Jesus: Vai-te, Satanás, porque está escrito: Ao Senhor teu Deus adorarás, e só a ele servi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diabo o deixou; e, eis que chegaram os anjos, e o serv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, porém, ouvindo que João estava preso, voltou para a Galilé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ixando Nazaré, foi habitar em Cafarnaum, cidade marítima, nos confins de Zebulom e Naftal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se cumprisse o que foi dito pelo profeta Isaías, que diz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erra de Zebulom, e a terra de Naftali, Junto ao caminho do mar, além do Jordão, A Galiléia das naçõ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ovo, que estava assentado em trevas, Viu uma grande luz; E, aos que estavam assentados na região e sombra da morte, A luz rai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então começou Jesus a pregar, e a dizer: Arrependei-vos, porque é chegado o reino d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andando junto ao mar da Galiléia, viu a dois irmãos, Simão, chamado Pedro, e André, os quais lançavam as redes ao mar, porque eram pescador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Vinde após mim, e eu vos farei pescadores de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jejuado quarenta dias e quarenta noites, depois teve fom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es, deixando logo as redes, seguiram-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diantando-se dali, viu outros dois irmãos, Tiago, filho de Zebedeu, e João, seu irmão, num barco com seu pai, Zebedeu, consertando as red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amou-os; eles, deixando imediatamente o barco e seu pai, seguiram-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corria Jesus toda a Galiléia, ensinando nas suas sinagogas e pregando o evangelho do reino, e curando todas as enfermidades e moléstias entre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ua fama correu por toda a Síria, e traziam-lhe todos os que padeciam, acometidos de várias enfermidades e tormentos, os endemoninhados, os lunáticos, e os paralíticos, e ele os cur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guia-o uma grande multidão da Galiléia, de Decápolis, de Jerusalém, da Judéia, e de além do Jo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-se a ele o tentador, disse: Se tu és o Filho de Deus, manda que estas pedras se tornem em pã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, porém, respondendo, disse: Está escrito: Nem só de pão viverá o homem, mas de toda a palavra que sai da boc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diabo o transportou à cidade santa, e colocou-o sobre o pináculo do templ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: Se tu és o Filho de Deus, lança-te de aqui abaixo; porque está escrito: Que aos seus anjos dará ordens a teu respeito, E tomar-te-ão nas mãos, Para que nunca tropeces em alguma ped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Jesus: Também está escrito: Não tentarás o Senhor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vamente o transportou o diabo a um monte muito alto; e mostrou-lhe todos os reinos do mundo, e a glória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: Tudo isto te darei se, prostrado, me adora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4:13Z</dcterms:created>
  <dc:creator>Admin</dc:creator>
  <dc:description/>
  <dc:language>en-US</dc:language>
  <cp:lastModifiedBy>Admin</cp:lastModifiedBy>
  <dcterms:modified xsi:type="dcterms:W3CDTF">2008-07-31T00:14:13Z</dcterms:modified>
  <cp:revision>1</cp:revision>
  <dc:subject/>
  <dc:title>Slide 1</dc:title>
</cp:coreProperties>
</file>