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6FB-4814-47C5-8809-8F0BA816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B92-D448-43AC-B1F3-3B8902C7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4F5-D25E-4F6E-980A-CA716128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258-3F98-46B0-904A-920E23B3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985-4060-402F-A044-F329AAF3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388-08D4-4CB1-8046-B569EE9D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038-603B-4434-BD38-0DA268FD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FA6-0D3B-4FE0-9B81-D1334EAB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967-6D1A-4EFD-A3BB-59BB6AA6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590-313D-4587-BF74-57BD077B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B3F-3D8D-44BF-9CFB-3476196D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9FD-D5FA-496D-90B1-F705ABE2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904E-1FC2-492E-B179-6FFCB7655AB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aqui o dia, eis que vem; veio a manhã, já floresceu a vara, já reverdeceu a sober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iolência se levantou em vara de impiedade; nada restará deles, nem da sua multidão, nem do seu rumor, nem haverá lamentação por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m o tempo, é chegado o dia; o que compra não se alegre, e o que vende não se entristeça; porque a ira ardente está sobre toda a multidã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que vende não tornará a possuir o que vendeu, ainda que esteja entre os viventes; porque a visão, sobre toda a sua multidão, não tornará para trás, nem ninguém fortalecerá a sua vida com a su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tocaram a trombeta, e tudo prepararam, mas não há quem vá à peleja, porque a minha ardente ira está sobre toda a sua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 está a espada, e dentro a peste e a fome; o que estiver no campo morrerá à espada, e o que estiver na cidade a fome e a peste o consum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caparão os que fugirem deles, mas estarão pelos montes, como pombas dos vales, todos gemendo, cada um por causa da su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mãos se enfraquecerão, e todos os joelhos serão débeis como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ingir-se-ão de sacos, e o terror os cobrirá; e sobre todos os rostos haverá vergonha, e sobre todas as suas cabeças, cal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prata lançarão pelas ruas, e o seu ouro será removido; nem a sua prata nem o seu ouro os poderá livrar no dia do furor do SENHOR; eles não fartarão a sua alma, nem lhes encherão o estômago, porque isto foi o tropeço da su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ó filho do homem, assim diz o Senhor DEUS acerca da terra de Israel: Vem o fim, o fim vem sobre os quatro canto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glória do seu ornamento ele a pôs em magnificência, mas eles fizeram nela imagens das suas abominações e coisas detestáveis; por isso eu lha tenho feito coisa im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gá-la-ei por presa, na mão dos estrangeiros, e aos ímpios da terra por despojo; e a profan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viarei deles o meu rosto, e profanarão o meu lugar oculto; porque entrarão nele saqueadores, e o profan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 uma cadeia, porque a terra está cheia de crimes de sangue, e a cidade está cheia de viol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vir os piores dentre os gentios e possuirão as suas casas; e farei cessar a arrogância dos fortes, e os seus lugares santos serão profan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m a destruição; eles buscarão a paz, mas não há nenh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séria sobre miséria virá, e se levantará rumor sobre rumor; então buscarão do profeta uma visão, mas do sacerdote perecerá a lei e dos anciãos o cons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lamentará, e o príncipe se vestirá de desolação, e as mãos do povo da terra se conturbarão; conforme o seu caminho lhes farei, e conforme os seus merecimentos os julgarei; e saberão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vem o fim sobre ti, e enviarei sobre ti a minha ira, e te julgarei conforme os teus caminhos, e trarei sobre ti todas as tuas abomi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te poupará o meu olho, nem terei piedade de ti, mas porei sobre ti os teus caminhos, e as tuas abominações estarão no meio de ti; e saberei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Um mal, eis que um só mal 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m o fim, o fim vem, despertou-se contra ti; eis que 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anhã vem para ti, ó habitante da terra. Vem o tempo; chegado é o dia da turbação, e não mais o sonido de alegria dos mo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depressa derramarei o meu furor sobre ti, e cumprirei a minha ira contra ti, e te julgarei conforme os teus caminhos, e porei sobre ti todas as tuas abomi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te poupará o meu olho, nem terei piedade de ti; conforme os teus caminhos, assim te punirei, e as tuas abominações estarão no meio de ti; e sabereis que eu, o SENHOR, é que f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59Z</dcterms:created>
  <dc:creator>Admin</dc:creator>
  <dc:description/>
  <dc:language>en-US</dc:language>
  <cp:lastModifiedBy>Admin</cp:lastModifiedBy>
  <dcterms:modified xsi:type="dcterms:W3CDTF">2008-07-30T23:33:59Z</dcterms:modified>
  <cp:revision>1</cp:revision>
  <dc:subject/>
  <dc:title>Slide 1</dc:title>
</cp:coreProperties>
</file>