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9A8-3DB4-454A-A696-D06F2663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85C-2154-4322-9FA3-EBC828C4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44F-7FCC-4564-8CF1-6EB5A190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21E-A710-4F9A-BB93-D78BB39B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1A0-0754-42A1-9C41-CF197795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A78-EA7A-4257-9AA3-E43BCF87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CA7-285B-4229-998A-F1118992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469-78A3-42EE-B057-2458F4A2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E54-24E8-45B7-A099-47FC3969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CEF-977F-4D6A-86AC-ACE0B35B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F7A-DA0C-4573-91EF-DADD51FE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5C4-EF75-4423-954C-09E5E5EF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6ED7-FC53-4090-9BA0-C498AD2EAB2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BADAS, pois, estas coisas, chegaram-se a mim os príncipes, dizendo: O povo de Israel, os sacerdotes e os levitas, não se têm separado dos povos destas terras, seguindo as abominações dos cananeus, dos heteus, dos perizeus, dos jebuseus, dos amoni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nosso Deus, que diremos depois disto? Pois deixamos os teus mandamen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mandaste pelo ministério de teus servos, os profetas, dizendo: A terra em que entrais para a possuir, terra imunda é pelas imundícias dos povos das terras, pelas suas abominações com que, na sua corrupção a encheram, de uma extremidade à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vossas filhas não dareis a seus filhos, e suas filhas não tomareis para vossos filhos, e nunca procurareis a sua paz e o seu bem; para que sejais fortes, e comais o bem da terra, e a deixeis por herança a vossos filhos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 tudo o que nos tem sucedido por causa das nossas más obras, e da nossa grande culpa, porquanto tu, ó nosso Deus, impediste que fôssemos destruídos, por causa da nossa iniqüidade, e ainda nos deste um remanescente como 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remos, pois, agora a violar os teus mandamentos e a aparentar-nos com os povos destas abominações? Não te indignarias tu assim contra nós até de todo nos consumir, até que não ficasse remanescente nem quem escapas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! SENHOR Deus de Israel, justo és, pois ficamos qual um remanescente que escapou, como hoje se vê; eis que estamos diante de ti, na nossa culpa, porque ninguém há que possa estar na tua presença, por causa d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maram das suas filhas para si e para seus filhos, e assim se misturou a linhagem santa com os povos dessas terras; e até os príncipes e magistrados foram os primeiros nesta transgr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eu tal coisa, rasguei as minhas vestes e o meu manto, e arranquei os cabelos da minha cabeça e da minha barba, e sentei-me atôn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juntaram a mim todos os que tremiam das palavras do Deus de Israel por causa da transgressão dos do cativeiro; porém eu permaneci sentado atônito até ao sacrifício da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to do sacrifício da tarde me levantei da minha aflição, havendo já rasgado as minhas vestes e o meu manto, e me pus de joelhos, e estendi as minhas mãos para o SENHOR meu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Meu Deus! Estou confuso e envergonhado, para levantar a ti a minha face, meu Deus; porque as nossas iniqüidades se multiplicaram sobre a nossa cabeça, e a nossa culpa tem crescido até a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s dias de nossos pais até ao dia de hoje estamos em grande culpa, e por causa das nossas iniqüidades somos entregues, nós e nossos reis e os nossos sacerdotes, na mão dos reis das terras, à espada, ao cativeiro, e ao roubo, e à confusão do ro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, por um pequeno momento, se manifestou a graça da parte do SENHOR, nosso Deus, para nos deixar alguns que escapem, e para dar-nos uma estaca no seu santo lugar; para nos iluminar os olhos, ó Deus nosso, e para nos dar um pouco de vida na nossa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omos servos; porém na nossa servidão não nos desamparou o nosso Deus; antes estendeu sobre nós a sua benignidade perante os reis da Pérsia, para que nos desse vida, para levantarmos a casa do nosso Deus, e para restaurarmos as suas assolações; 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35Z</dcterms:created>
  <dc:creator>Admin</dc:creator>
  <dc:description/>
  <dc:language>en-US</dc:language>
  <cp:lastModifiedBy>Admin</cp:lastModifiedBy>
  <dcterms:modified xsi:type="dcterms:W3CDTF">2008-07-30T23:30:35Z</dcterms:modified>
  <cp:revision>1</cp:revision>
  <dc:subject/>
  <dc:title>Slide 1</dc:title>
</cp:coreProperties>
</file>