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F04-5FFA-41BD-80B7-CFEBE8FE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FD6-8EA1-448E-ABEB-F285BC4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FBD-76EC-4999-A820-C4600FBF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923-0577-454C-9530-2E8F5838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6FC-504A-4CBC-9C17-FFA9C30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E69-50A9-4EF4-8C34-A17A5974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5D6-FE17-488E-AE49-4CECB3FC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E59-D532-4903-9A5A-0786CB78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7B9-5317-4E65-B947-A6BE878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0BD-92D1-42EC-B431-D94EB9E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E22-C53F-4E0B-A6D3-E058E64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FC6-978D-482E-ACC0-F795336A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019-C99E-46FA-A4CE-977EA608EF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, pois, meu filho, fortifica-te na graça que há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udo sofro por amor dos escolhidos, para que também eles alcancem a salvação que está em Cristo Jesus com glóri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lavra fiel é esta: que, se morrermos com ele, também com ele vive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sofrermos, também com ele reinaremos; se o negarmos, também ele nos negará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formos infiéis, ele permanece fiel; não pode negar-se a si mes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 estas coisas à memória, ordenando-lhes diante do Senhor que não tenham contendas de palavras, que para nada aproveitam e são para perversão dos ouvi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 apresentar-te a Deus aprovado, como obreiro que não tem de que se envergonhar, que maneja bem a palavra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vita os falatórios profanos, porque produzirão maior impie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palavra desses roerá como gangrena; entre os quais são Himeneu e File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se desviaram da verdade, dizendo que a ressurreição era já feita, e perverteram a fé de algu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o fundamento de Deus fica firme, tendo este selo: O Senhor conhece os que são seus, e qualquer que profere o nome de Cristo aparte-se d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de mim, entre muitas testemunhas, ouviste, confia-o a homens fiéis, que sejam idôneos para também ensinarem os ou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uma grande casa não somente há vasos de ouro e de prata, mas também de pau e de barro; uns para honra, outros, porém, para deson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sorte que, se alguém se purificar destas coisas, será vaso para honra, santificado e idôneo para uso do Senhor, e preparado para toda a bo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ge também das paixões da mocidade; e segue a justiça, a fé, o amor, e a paz com os que, com um coração puro, invocam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jeita as questões loucas, e sem instrução, sabendo que produzem cont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servo do Senhor não convém contender, mas sim, ser manso para com todos, apto para ensinar, sofred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nstruindo com mansidão os que resistem, a ver se porventura Deus lhes dará arrependimento para conhecerem a ver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em a despertar, desprendendo-se dos laços do diabo, em que à vontade dele estão pre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ofre, pois, comigo, as aflições, como bom soldad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que milita se embaraça com negócios desta vida, a fim de agradar àquele que o alistou para a gu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ém também milita, não é coroado se não militar legitim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lavrador que trabalha deve ser o primeiro a gozar do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 o que digo, porque o Senhor te dará entendimento em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 de que Jesus Cristo, que é da descendência de Davi, ressuscitou dentre os mortos, segundo o meu evang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sofro trabalhos e até prisões, como um malfeitor; mas a palavra de Deus não está pre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15Z</dcterms:created>
  <dc:creator>Admin</dc:creator>
  <dc:description/>
  <dc:language>en-US</dc:language>
  <cp:lastModifiedBy>Admin</cp:lastModifiedBy>
  <dcterms:modified xsi:type="dcterms:W3CDTF">2008-07-30T23:54:15Z</dcterms:modified>
  <cp:revision>1</cp:revision>
  <dc:subject/>
  <dc:title>Slide 1</dc:title>
</cp:coreProperties>
</file>