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2927-AA5F-4162-A266-45E1CFB84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8934-17E5-4F5A-A47D-F4484EF1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D5EE-1CB7-42A0-9E6B-112DF7D58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6BBD-7853-41C6-A15E-5597497F6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BACF-4F9E-4C2D-AAA8-B8F974A1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F183-F9A0-4A40-B590-2C0F6E84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E1BF-9AAD-45A5-97FA-08CA00D2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15C0-32DF-461A-902E-67053286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98AC-943D-439C-8B17-310CCAFB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F88F-C654-44C2-A890-571F56DA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74FD-7551-4882-B05A-AAB3D5D8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7200-DE89-4D2C-A9D2-C5ADC96E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0F81-B0C8-485B-B64C-EF9906F1EAA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ARTINDO dali, chegou à sua pátria, e os seus discípulos o segui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ia-lhes: Na casa em que entrardes, ficai nela até partirdes d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ntos quantos vos não receberem, nem vos ouvirem, saindo dali, sacudi o pó que estiver debaixo dos vossos pés, em testemunho contra eles. Em verdade vos digo que haverá mais tolerância no dia de juízo para Sodoma e Gomorra, do que para os daquela c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aindo eles, pregavam que se arrependess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xpulsavam muitos demônios, e ungiam muitos enfermos com óleo, e os curav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viu isto o rei Herodes (porque o nome de Jesus se tornara notório), e disse: João, o que batizava, ressuscitou dentre os mortos, e por isso estas maravilhas operam n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tros diziam: É Elias. E diziam outros: É um profeta, ou como um dos profe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erodes, porém, ouvindo isto, disse: Este é João, que mandei degolar; ressuscitou dentre os mo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o mesmo Herodes mandara prender a João, e encerrá-lo maniatado no cárcere, por causa de Herodias, mulher de Filipe, seu irmão, porquanto tinha casado com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João dizia a Herodes: Não te é lícito possuir a mulher de teu ir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erodias o espiava, e queria matá-lo, mas não po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ndo o sábado, começou a ensinar na sinagoga; e muitos, ouvindo-o, se admiravam, dizendo: De onde lhe vêm estas coisas? e que sabedoria é esta que lhe foi dada? e como se fazem tais maravilhas por suas mã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Herodes temia a João, sabendo que era homem justo e santo; e guardava-o com segurança, e fazia muitas coisas, atendendo-o, e de boa mente o ouv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ndo uma ocasião favorável em que Herodes, no dia dos seus anos, dava uma ceia aos grandes, e tribunos, e príncipes da Galiléi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rou a filha da mesma Herodias, e dançou, e agradou a Herodes e aos que estavam com ele à mesa. Disse então o rei à menina: Pede-me o que quiseres, e eu to d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urou-lhe, dizendo: Tudo o que me pedires te darei, até metade do meu rei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aindo ela, perguntou a sua mãe: Que pedirei? E ela disse: A cabeça de João o Batis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ntrando logo, apressadamente, pediu ao rei, dizendo: Quero que imediatamente me dês num prato a cabeça de João o Batis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entristeceu-se muito; todavia, por causa do juramento e dos que estavam com ele à mesa, não lha quis ne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nviando logo o rei o executor, mandou que lhe trouxessem ali a cabeça de João. E ele foi, e degolou-o na pris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rouxe a cabeça num prato, e deu-a à menina, e a menina a deu a sua mã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eus discípulos, tendo ouvido isto, foram, tomaram o seu corpo, e o puseram num sepulc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é este o carpinteiro, filho de Maria, e irmão de Tiago, e de José, e de Judas e de Simão? e não estão aqui conosco suas irmãs? E escandalizavam-se n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apóstolos ajuntaram-se a Jesus, e contaram-lhe tudo, tanto o que tinham feito como o que tinham ensin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sse-lhes: Vinde vós, aqui à parte, a um lugar deserto, e repousai um pouco. Porque havia muitos que iam e vinham, e não tinham tempo para com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sós num barco para um lugar des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multidão viu-os partir, e muitos o conheceram; e correram para lá, a pé, de todas as cidades, e ali chegaram primeiro do que eles, e aproximavam-se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saindo, viu uma grande multidão, e teve compaixão deles, porque eram como ovelhas que não têm pastor; e começou a ensinar-lhes muitas coi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omo o dia fosse já muito adiantado, os seus discípulos se aproximaram dele, e lhe disseram: O lugar é deserto, e o dia está já muito adiant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pede-os, para que vão aos lugares e aldeias circunvizinhas, e comprem pão para si; porque não têm que com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, porém, respondendo, lhes disse: Dai-lhes vós de comer. E eles disseram-lhe: Iremos nós, e compraremos duzentos dinheiros de pão para lhes darmos de com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sse-lhes: Quantos pães tendes? Ide ver. E, sabendo-o eles, disseram: Cinco pães e dois peix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rdenou-lhes que fizessem assentar a todos, em ranchos, sobre a erva ver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 lhes dizia: Não há profeta sem honra senão na sua pátria, entre os seus parentes, e na s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sentaram-se repartidos de cem em cem, e de cinqüenta em cinqüe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omando ele os cinco pães e os dois peixes, levantou os olhos ao céu, abençoou e partiu os pães, e deu-os aos seus discípulos para que os pusessem diante deles. E repartiu os dois peixes por to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comeram, e ficaram fart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aram doze alcofas cheias de pedaços de pão e de peix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 comeram os pães eram quase cinco mil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ogo obrigou os seus discípulos a subir para o barco, e passar adiante, para o outro lado, a Betsaida, enquanto ele despedia a multi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endo-os despedido, foi ao monte a or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obrevindo a tarde, estava o barco no meio do mar e ele, sozinho, em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ndo que se fatigavam a remar, porque o vento lhes era contrário, perto da quarta vigília da noite aproximou-se deles, andando sobre o mar, e queria passar-lhes adia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quando eles o viram andar sobre o mar, cuidaram que era um fantasma, e deram grandes gr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podia fazer ali obras maravilhosas; somente curou alguns poucos enfermos, impondo-lhes 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odos o viam, e perturbaram-se; mas logo falou com eles, e disse-lhes: Tende bom ânimo; sou eu, não te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biu para o barco, para estar com eles, e o vento se aquietou; e entre si ficaram muito assombrados e maravilhad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não tinham compreendido o milagre dos pães; antes o seu coração estava endurec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5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já estavam no outro lado, dirigiram-se à terra de Genesaré, e ali atrac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5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aindo eles do barco, logo o conhecera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5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orrendo toda a terra em redor, começaram a trazer em leitos, aonde quer que sabiam que ele estava, os que se achavam enfer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5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nde quer que entrava, ou em cidade, ou aldeias, ou no campo, apresentavam os enfermos nas praças, e rogavam-lhe que os deixasse tocar ao menos na orla da sua roupa; e todos os que lhe tocavam sarav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va admirado da incredulidade deles. E percorreu as aldeias vizinhas, ensina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amou a si os doze, e começou a enviá-los a dois e dois, e deu-lhes poder sobre os espíritos imund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rdenou-lhes que nada tomassem para o caminho, senão somente um bordão; nem alforje, nem pão, nem dinheiro no cin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que calçassem alparcas, e que não vestissem duas túnic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3:07Z</dcterms:created>
  <dc:creator>Admin</dc:creator>
  <dc:description/>
  <dc:language>en-US</dc:language>
  <cp:lastModifiedBy>Admin</cp:lastModifiedBy>
  <dcterms:modified xsi:type="dcterms:W3CDTF">2008-07-31T00:13:07Z</dcterms:modified>
  <cp:revision>1</cp:revision>
  <dc:subject/>
  <dc:title>Slide 1</dc:title>
</cp:coreProperties>
</file>