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2F0-2569-409D-9765-6760B8AE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1E3-FC88-429C-BFBE-E1B6AF0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AE6-BBB2-45FE-AF3D-60916A5B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6D0-EDF9-465E-AE16-81625C3D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8B5-690A-4C5C-B8E2-1A06134D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570-86BE-4B61-9EE5-0B9AE586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42F-A79F-4647-8B35-796DFBD1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544-551D-4594-8620-1479A9FB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F88-CD2B-4624-9201-F0DB98A2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080-389C-4426-A47C-DFF0A6C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924-40C2-40DB-AE5A-A2C2F42A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4A3-6364-4139-B12A-86A413A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AE9F-B35C-48EA-9007-C71E9C2445E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, pois: Porventura rejeitou Deus o seu povo? De modo nenhum; porque também eu sou israelita, da descendência de Abraão, da tribo d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ureçam-se-lhes os olhos para não verem, E encurvem-se-lhes continuamente as co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, pois: Porventura tropeçaram, para que caíssem? De modo nenhum, mas pela sua queda veio a salvação aos gentios, para os incitar à emu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 sua queda é a riqueza do mundo, e a sua diminuição a riqueza dos gentios, quanto mais a sua plenitud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nvosco falo, gentios, que, enquanto for apóstolo dos gentios, exalto o meu ministé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ver se de alguma maneira posso incitar à emulação os da minha carne e salvar algun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a sua rejeição é a reconciliação do mundo, qual será a sua admissão, senão a vida dentre os mor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s primícias são santas, também a massa o é; se a raiz é santa, também os ramos o 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ns dos ramos foram quebrados, e tu, sendo zambujeiro, foste enxertado em lugar deles, e feito participante da raiz e da seiva da olivei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glories contra os ramos; e, se contra eles te gloriares, não és tu que sustentas a raiz, mas a raiz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ás, pois: Os ramos foram quebrados, para que eu fosse enxer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não rejeitou o seu povo, que antes conheceu. Ou não sabeis o que a Escritura diz de Elias, como fala a Deus contra Israel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bem; pela sua incredulidade foram quebrados, e tu estás em pé pela fé. Então não te ensoberbeças, mas te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Deus não poupou os ramos naturais, teme que não te poupe a ti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, pois, a bondade e a severidade de Deus: para com os que caíram, severidade; mas para contigo, benignidade, se permaneceres na sua benignidade; de outra maneira também tu serás cor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eles, se não permanecerem na incredulidade, serão enxertados; porque poderoso é Deus para os tornar a enxer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tu foste cortado do natural zambujeiro e, contra a natureza, enxertado na boa oliveira, quanto mais esses, que são naturais, serão enxertados na sua própria oliveir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quero, irmãos, que ignoreis este segredo (para que não presumais de vós mesmos): que o endurecimento veio em parte sobre Israel, até que a plenitude dos gentios haja ent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todo o Israel será salvo, como está escrito: De Sião virá o Libertador, E desviará de Jacó as impie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será o meu pacto com eles, quando eu tirar os seus peca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, quanto ao evangelho, são inimigos por causa de vós; mas, quanto à eleição, amados por causa d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dons e a vocação de Deus são sem arrep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mataram os teus profetas, e derribaram os teus altares; e só eu fiquei, e buscam a minha alm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como vós também antigamente fostes desobedientes a Deus, mas agora alcançastes misericórdia pela desobediência d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estes agora foram desobedientes, para também alcançarem misericórdia pela misericórdia a vós demonst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encerrou a todos debaixo da desobediência, para com todos usar de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profundidade das riquezas, tanto da sabedoria, como da ciência de Deus! Quão insondáveis são os seus juízos, e quão inescrutáveis os seus caminh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m compreendeu a mente do Senhor? ou quem foi seu conselhei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quem lhe deu primeiro a ele, para que lhe seja recompens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le e por ele, e para ele, são todas as coisas; glória, pois, a ele eternament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lhe diz a resposta divina? Reservei para mim sete mil homens, que não dobraram os joelhos a B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também agora neste tempo ficou um remanescente, segundo a eleição da gr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é por graça, já não é pelas obras; de outra maneira, a graça já não é graça. Se, porém, é pelas obras, já não é mais graça; de outra maneira a obra já não é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ê? O que Israel buscava não o alcançou; mas os eleitos o alcançaram, e os outros foram endurec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escrito: Deus lhes deu espírito de profundo sono, olhos para não verem, e ouvidos para não ouvirem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diz: Torne-se-lhes a sua mesa em laço, e em armadilha, E em tropeço, por sua retribu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40Z</dcterms:created>
  <dc:creator>Admin</dc:creator>
  <dc:description/>
  <dc:language>en-US</dc:language>
  <cp:lastModifiedBy>Admin</cp:lastModifiedBy>
  <dcterms:modified xsi:type="dcterms:W3CDTF">2008-07-31T00:23:40Z</dcterms:modified>
  <cp:revision>1</cp:revision>
  <dc:subject/>
  <dc:title>Slide 1</dc:title>
</cp:coreProperties>
</file>