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67AF-BECC-4CE4-A9AE-289BD5EB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45F9-8920-45D1-97C1-ED99EBCC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AD77-7787-48B3-B200-3C8C4E3D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1B66-CEF4-40FD-AA72-DBFFA4CE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4028-87C4-4CA2-918C-3FC926A8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E720-C88C-4944-90D1-57DB4CC6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3B24-A2B6-4DE1-A90F-53BEF82B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AF86-0769-4770-8417-685AF890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0565-6CFC-4A59-A93B-EB3C0B78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66C9-D29E-41A5-ACCB-C5B29C37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777-1BFC-4530-968D-DBE578C9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0F01-B51F-4B7B-8B0E-2E5E6EDA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F4DD-B302-4F55-B435-B8F545F2212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o o sumo sacerdote, tomado dentre os homens, é constituído a favor dos homens nas coisas concernentes a Deus, para que ofereça dons e sacrifícios pelos pecad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amado por Deus sumo sacerdote, segundo a ordem de Melquisede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 qual muito temos que dizer, de difícil interpretação; porquanto vos fizestes negligentes para ouv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devendo já ser mestres pelo tempo, ainda necessitais de que se vos torne a ensinar quais sejam os primeiros rudimentos das palavras de Deus; e vos haveis feito tais que necessitais de leite, e não de sólido mant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qualquer que ainda se alimenta de leite não está experimentado na palavra da justiça, porque é men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mantimento sólido é para os perfeitos, os quais, em razão do costume, têm os sentidos exercitados para discernir tanto o bem como 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ssa compadecer-se ternamente dos ignorantes e errados; pois também ele mesmo está rodeado de fraqu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esta causa deve ele, tanto pelo povo, como também por si mesmo, fazer oferta pelos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inguém toma para si esta honra, senão o que é chamado por Deus, como 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ambém Cristo não se glorificou a si mesmo, para se fazer sumo sacerdote, mas aquele que lhe disse: Tu és meu Filho, Hoje te ge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diz, noutro lugar: Tu és sacerdote eternamente, Segundo a ordem de Melquisede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, nos dias da sua carne, oferecendo, com grande clamor e lágrimas, orações e súplicas ao que o podia livrar da morte, foi ouvido quanto ao que tem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era Filho, aprendeu a obediência, por aquilo que padec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ndo ele consumado, veio a ser a causa da eterna salvação para todos os que lhe obedec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0:40Z</dcterms:created>
  <dc:creator>Admin</dc:creator>
  <dc:description/>
  <dc:language>en-US</dc:language>
  <cp:lastModifiedBy>Admin</cp:lastModifiedBy>
  <dcterms:modified xsi:type="dcterms:W3CDTF">2008-07-30T23:40:40Z</dcterms:modified>
  <cp:revision>1</cp:revision>
  <dc:subject/>
  <dc:title>Slide 1</dc:title>
</cp:coreProperties>
</file>