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8C5-E3AF-4465-B84B-B084BC7B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FEB-9BED-4FBF-8BEF-9B848B29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BA8-6788-4CA0-BFAB-59C574D3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27-9D34-4F8C-A7BB-9C31024E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395-D3B7-43BA-B4C9-0D1D1A8D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9B6-0DDD-4598-8726-948DD9BC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2B9-5AA1-44C0-9668-52B2EC31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16B-52DC-43D0-951F-662126A6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FAC-B99E-46D5-8213-481D460A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783-241C-46FC-9A0F-7A69FFB3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AB7-8AE5-48E3-9B52-90B53DC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F53-B35B-4860-BE6D-7BAF1F64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DDD7-9A91-4112-B640-16C57BBF48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NDO, pois, toda a malícia, e todo o engano, e fingimentos, e invejas, e todas as murmur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que em outro tempo não éreis povo, mas agora sois povo de Deus; que não tínheis alcançado misericórdia, mas agora alcançastes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peço-vos, como a peregrinos e forasteiros, que vos abstenhais das concupiscências carnais que combatem contra a al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o vosso viver honesto entre os gentios; para que, naquilo em que falam mal de vós, como de malfeitores, glorifiquem a Deus no dia da visitação, pelas boas obras que em vós obser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jeitai-vos, pois, a toda a ordenação humana por amor do Senhor; quer ao rei, como superi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 aos governadores, como por ele enviados para castigo dos malfeitores, e para louvor dos que fazem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é a vontade de Deus, que, fazendo bem, tapeis a boca à ignorância dos homens insensa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livres, e não tendo a liberdade por cobertura da malícia, mas como serv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ai a todos. Amai a fraternidade. Temei a Deus. Honrai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servos, sujeitai-vos com todo o temor aos SENHORes, não somente aos bons e humanos, mas também aos m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coisa agradável, que alguém, por causa da consciência para com Deus, sofra agravos, padecendo injus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ejai afetuosamente, como meninos novamente nascidos, o leite racional, não falsificado, para que por ele vades cresce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 glória será essa, se, pecando, sois esbofeteados e sofreis? Mas se, fazendo o bem, sois afligidos e o sofreis, isso é agradável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isto sois chamados; pois também Cristo padeceu por nós, deixando-nos o exemplo, para que sigais as suas pis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ão cometeu pecado, nem na sua boca se achou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quando o injuriavam, não injuriava, e quando padecia não ameaçava, mas entregava-se àquele que julga just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do ele mesmo em seu corpo os nossos pecados sobre o madeiro, para que, mortos para os pecados, pudéssemos viver para a justiça; e pelas suas feridas fostes sa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reis como ovelhas desgarradas; mas agora tendes voltado ao Pastor e Bispo das voss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é que já provastes que o SENHOR é benig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vos para ele, pedra viva, reprovada, na verdade, pelos homens, mas para com Deus eleita e precio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também, como pedras vivas, sois edificados casa espiritual e sacerdócio santo, para oferecer sacrifícios espirituais agradáveis a Deus p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na Escritura se contém: Eis que ponho em Sião a pedra principal da esquina, eleita e preciosa; E quem nela crer não será confu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para vós, os que credes, é preciosa, mas, para os rebeldes, A pedra que os edificadores reprovaram, Essa foi a principal da esqui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pedra de tropeço e rocha de escândalo, para aqueles que tropeçam na palavra, sendo desobedientes; para o que também foram destin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Pedr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sois a geração eleita, o sacerdócio real, a nação santa, o povo adquirido, para que anuncieis as virtudes daquele que vos chamou das trevas para a sua maravilhosa lu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20Z</dcterms:created>
  <dc:creator>Admin</dc:creator>
  <dc:description/>
  <dc:language>en-US</dc:language>
  <cp:lastModifiedBy>Admin</cp:lastModifiedBy>
  <dcterms:modified xsi:type="dcterms:W3CDTF">2008-07-30T23:44:21Z</dcterms:modified>
  <cp:revision>1</cp:revision>
  <dc:subject/>
  <dc:title>Slide 1</dc:title>
</cp:coreProperties>
</file>