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E35-444F-44C3-9248-E6C3E106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36D-0036-4406-951F-7C4CD5B4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BA3-03F2-4766-A661-C9E1088C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20C-BF71-42DD-8A97-9BC8859C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414-9447-4A25-BC0A-2645A984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E11-2BB9-49B3-BB6B-6561DBE9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46D-A327-4F6A-966C-95FDD8B1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B33-A0B9-465E-B7DE-8DB34E7E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D5C-8F3D-40F1-AF59-35B77B44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245-6227-4239-895E-7D423F12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319-EA75-4100-8640-29DE3E3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095-8ECF-417D-82B9-F796CDA0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C924-2463-438C-A8FE-FC9C139BDE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na terra que te der o SENHOR teu Deus, para possuí-la, se achar um morto, caído no campo, sem que se saiba quem o mat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saíres à peleja contra os teus inimigos, e o SENHOR teu Deus os entregar nas tuas mãos, e tu deles levares prisioneir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entre os presos vires uma mulher formosa à vista, e a cobiçares, e a tomares por mulh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trarás para a tua casa; e ela rapará a cabeça e cortará as suas 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pirá o vestido do seu cativeiro, e se assentará na tua casa, e chorará a seu pai e a sua mãe um mês inteiro; e depois chegarás a ela, e tu serás seu marido e ela t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se te não contentares dela, a deixarás ir à sua vontade; mas de modo algum a venderás por dinheiro, nem a tratarás como escrava, pois a tens humil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um homem tiver duas mulheres, uma a quem ama e outra a quem despreza, e a amada e a desprezada lhe derem filhos, e o filho primogênito for da desprez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que, no dia em que fizer herdar a seus filhos o que tiver, não poderá dar a primogenitura ao filho da amada, preferindo-o ao filho da desprezada, que é o primogê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 filho da desprezada reconhecerá por primogênito, dando-lhe dobrada porção de tudo quanto tiver; porquanto aquele é o princípio da sua força, o direito da primogenitura é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lguém tiver um filho contumaz e rebelde, que não obedecer à voz de seu pai e à voz de sua mãe, e, castigando-o eles, lhes não der ouvi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u pai e sua mãe pegarão nele, e o levarão aos anciãos da sua cidade, e à porta do seu lu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rão os teus anciãos e os teus juízes, e medirão a distância até as cidades que estiverem em redor do mo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ão aos anciãos da cidade: Este nosso filho é rebelde e contumaz, não dá ouvidos à nossa voz; é um comilão e um beber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homens da sua cidade o apedrejarão, até que morra; e tirarás o mal do meio de ti, e todo o Israel ouvirá e te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em alguém houver pecado, digno do juízo de morte, e for morto, e o pendurares num madei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cadáver não permanecerá no madeiro, mas certamente o enterrarás no mesmo dia; porquanto o pendurado é maldito de Deus; assim não contaminarás a tua terra, que o SENHOR teu Deus te dá em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cidade mais próxima ao morto, os anciãos da mesma cidade tomarão uma novilha da manada, que não tenha trabalhado nem tenha puxado com o ju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nciãos daquela cidade trarão a novilha a um vale áspero, que nunca foi lavrado nem semeado; e ali, naquele vale, degolarão a novilh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chegarão os sacerdotes, filhos de Levi; pois o SENHOR teu Deus os escolheu para o servirem, e para abençoarem em nome do SENHOR; e pela sua palavra se decidirá toda a demanda e todo o feri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anciãos da mesma cidade, mais próxima ao morto, lavarão as suas mãos sobre a novilha degolada no va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testarão, e dirão: As nossas mãos não derramaram este sangue, e os nossos olhos o não 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ê propício ao teu povo Israel, que tu, ó SENHOR, resgataste, e não ponhas o sangue inocente no meio do teu povo Israel. E aquele sangue lhes será expi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irarás o sangue inocente do meio de ti; pois farás o que é reto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20Z</dcterms:created>
  <dc:creator>Admin</dc:creator>
  <dc:description/>
  <dc:language>en-US</dc:language>
  <cp:lastModifiedBy>Admin</cp:lastModifiedBy>
  <dcterms:modified xsi:type="dcterms:W3CDTF">2008-07-30T23:28:20Z</dcterms:modified>
  <cp:revision>1</cp:revision>
  <dc:subject/>
  <dc:title>Slide 1</dc:title>
</cp:coreProperties>
</file>