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E66-8181-4D20-BE38-07D98255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94B-67C0-4D59-A0CF-36B3F896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65C-9A78-4954-87A2-87D29C70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A7E-F0FC-4167-8C57-43FE15A0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854-DECF-4625-AB76-503D967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E87-C2D0-4B14-8C2D-64E0ED22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925-2AEE-4446-8C63-23704AD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D65-C9B5-49FA-88F7-DC47540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99E-3ABE-4AB5-B55C-8082C8C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A06-07F1-48B8-9B30-0E2281B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337-671E-48FA-AB93-FD03236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00D-9901-4062-AFAC-2E258FA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1621-8C35-4586-A77B-215CF423404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, pois, que todo o tempo que o herdeiro é menino em nada difere do servo, ainda que seja senhor de tu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is dias, e meses, e tempos, e a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eio de vós, que não haja trabalhado em vão par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rogo-vos que sejais como eu, porque também eu sou como vós; nenhum mal me fiz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sabeis que primeiro vos anunciei o evangelho estando em fraqueza da carn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rejeitastes, nem desprezastes isso que era uma tentação na minha carne, antes me recebestes como um anjo de Deus, como Jesus Cristo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l é, logo, a vossa bem-aventurança? Porque vos dou testemunho de que, se possível fora, arrancaríeis os vossos olhos, e mos darí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z-me acaso vosso inimigo, dizendo a verd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 têm zelo por vós, não como convém; mas querem excluir-vos, para que vós tenhais zelo por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bom ser zeloso, mas sempre do bem, e não somente quando estou presente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filhinhos, por quem de novo sinto as dores de parto, até que Cristo seja formado em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stá debaixo de tutores e curadores até ao tempo determinado pelo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bem quisera agora estar presente convosco, e mudar a minha voz; porque estou perplexo a vosso resp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i-me, os que quereis estar debaixo da lei, não ouvis vós a le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escrito que Abraão teve dois filhos, um da escrava, e outro d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o que era da escrava nasceu segundo a carne, mas, o que era da livre, por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se entende por alegoria; porque estas são as duas alianças; uma, do monte Sinai, gerando filhos para a servidão, que é Ag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esta Agar é Sinai, um monte da Arábia, que corresponde à Jerusalém que agora existe, pois é escrava com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Jerusalém que é de cima é livre; a qual é mãe de todos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á escrito: Alegra-te, estéril, que não dás à luz; Esforça-te e clama, tu que não estás de parto; Porque os filhos da solitária são mais do que os da que tem mar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, irmãos, somos filhos da promessa como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então aquele que era gerado segundo a carne perseguia o que o era segundo o Espírito, assim é também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nós, quando éramos meninos, estávamos reduzidos à servidão debaixo dos primeiros rudimentos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3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e diz a Escritura? Lança fora a escrava e seu filho, porque de modo algum o filho da escrava herdará com o filho d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3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, irmãos, somos filhos, não da escrava, mas da l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vindo a plenitude dos tempos, Deus enviou seu Filho, nascido de mulher, nascido sob a le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remir os que estavam debaixo da lei, a fim de recebermos a adoção de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que sois filhos, Deus enviou aos vossos corações o Espírito de seu Filho, que clama: Aba,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que já não és mais servo, mas filho; e, se és filho, és também herdeiro de Deus por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não conhecíeis a Deus, servíeis aos que por natureza não são deu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, conhecendo a Deus, ou, antes, sendo conhecidos por Deus, como tornais outra vez a esses rudimentos fracos e pobres, aos quais de novo quereis ser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7:00Z</dcterms:created>
  <dc:creator>Admin</dc:creator>
  <dc:description/>
  <dc:language>en-US</dc:language>
  <cp:lastModifiedBy>Admin</cp:lastModifiedBy>
  <dcterms:modified xsi:type="dcterms:W3CDTF">2008-07-30T23:37:00Z</dcterms:modified>
  <cp:revision>1</cp:revision>
  <dc:subject/>
  <dc:title>Slide 1</dc:title>
</cp:coreProperties>
</file>