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EDF9-F5FF-4EFD-9379-3A5905FF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325E-05D6-4560-98D7-BBB57553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D2FA-4173-4A08-824F-05615E5D6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31B1-9C75-463B-A0ED-5566BD79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C3AB-084E-4753-8C4D-7EB0342D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5C9C-4947-44A0-9D24-7EC27623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494F-74F6-48D1-B7F4-E0975BF2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294B-6551-47A3-BED4-3DF82FD2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9080-D8BF-4EE0-B2CD-2CB2C977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F0E8-A43D-43CB-8B8F-60F57FD0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86CD-F263-4858-AD44-47EDC9B1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0409-B574-46EC-A4EE-77C33C5A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3813-A0E9-4A20-BD79-20DD6D8AF3F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DEUS, tu és o meu Deus, de madrugada te buscarei; a minha alma tem sede de ti; a minha carne te deseja muito em uma terra seca e cansada, onde não há águ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irão à espada; serão uma ração para as rapo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rei se regozijará em Deus; qualquer que por ele jurar se gloriará; porque se taparão as bocas dos que falam a ment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ver a tua força e a tua glória, como te vi no santuá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tua benignidade é melhor do que a vida, os meus lábios te louv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eu te bendirei enquanto viver; em teu nome levantarei as minh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alma se fartará, como de tutano e de gordura; e a minha boca te louvará com alegres lábi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me lembrar de ti na minha cama, e meditar em ti nas vigílias da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u tens sido o meu auxílio; então, à sombra das tuas asas me regozij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alma te segue de perto; a tua destra me suste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queles que procuram a minha alma para a destruir, irão para as profundeza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5:51Z</dcterms:created>
  <dc:creator>Admin</dc:creator>
  <dc:description/>
  <dc:language>en-US</dc:language>
  <cp:lastModifiedBy>Admin</cp:lastModifiedBy>
  <dcterms:modified xsi:type="dcterms:W3CDTF">2008-07-31T00:25:51Z</dcterms:modified>
  <cp:revision>1</cp:revision>
  <dc:subject/>
  <dc:title>Slide 1</dc:title>
</cp:coreProperties>
</file>