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AAB-2E56-4467-A65A-72C556FC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973-FB08-43E7-B0EC-018B0F2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DF3-FC27-44D4-8F31-06D6314E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547-6D80-4D67-90DC-7F4C003C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933-362F-4A93-A8BA-7C601F5D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881-2117-401E-A704-670982D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F35-2FC0-4B68-B79D-C0FA7990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980-9D39-427D-86DC-89569ED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D40-C691-4B63-9E76-1F16F77C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9AF-785E-4F36-9CAB-B3EF3D2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DC4-1DFA-46D5-9E97-9EFF0BC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E2B-A9AD-4537-AD90-7230512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734-8F21-449B-833B-0B5FE2D336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 todas estas coisas considerei no meu coração, para declarar tudo isto: que os justos, e os sábios, e as suas obras, estão nas mãos de Deus, e também o homem não conhece nem o amor nem o ódio; tudo passa perant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te vier à mão para fazer, faze-o conforme as tuas forças, porque na sepultura, para onde tu vais, não há obra nem projeto, nem conhecimento, nem sabedori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ei-me, e vi debaixo do sol que não é dos ligeiros a carreira, nem dos fortes a batalha, nem tampouco dos sábios o pão, nem tampouco dos prudentes as riquezas, nem tampouco dos entendidos o favor, mas que o tempo e a oportunidade ocorrem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ambém o homem não sabe o seu tempo; assim como os peixes que se pescam com a rede maligna, e como os passarinhos que se prendem com o laço, assim se enlaçam também os filhos dos homens no mau tempo, quando cai de repente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i esta sabedoria debaixo do sol, que para mim foi grand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uma pequena cidade em que havia poucos homens, e veio contra ela um grande rei, e a cercou e levantou contra ela grandes baluar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ontrou-se nela um sábio pobre, que livrou aquela cidade pela sua sabedoria, e ninguém se lembrava daquele pobr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Melhor é a sabedoria do que a força, ainda que a sabedoria do pobre foi desprezada, e as suas palavras não foram ou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s sábios devem em silêncio ser ouvidas, mais do que o clamor do que domina entre 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sabedoria do que as armas de guerra, porém um só pecador destrói muito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sucede igualmente a todos; o mesmo sucede ao justo e ao ímpio, ao bom e ao puro, como ao impuro; assim ao que sacrifica como ao que não sacrifica; assim ao bom como ao pecador; ao que jura como ao que teme o ju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mal que há entre tudo quanto se faz debaixo do sol; a todos sucede o mesmo; e que também o coração dos filhos dos homens está cheio de maldade, e que há desvarios no seu coração enquanto vivem, e depois se vão a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ara aquele que está entre os vivos há esperança (porque melhor é o cão vivo do que o leão mort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vivos sabem que hão de morrer, mas os mortos não sabem coisa nenhuma, nem tampouco terão eles recompensa, mas a sua memória fica entregue ao esqu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u amor, o seu ódio, e a sua inveja já pereceram, e já não têm parte alguma para sempre, em coisa alguma do que se faz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pois, come com alegria o teu pão e bebe com coração contente o teu vinho, pois já Deus se agrada das t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o o tempo sejam alvas as tuas roupas, e nunca falte o óleo sobre a t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oza a vida com a mulher que amas, todos os dias da tua vida vã, os quais Deus te deu debaixo do sol, todos os dias da tua vaidade; porque esta é a tua porção nesta vida, e no teu trabalho, que tu fizeste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39Z</dcterms:created>
  <dc:creator>Admin</dc:creator>
  <dc:description/>
  <dc:language>en-US</dc:language>
  <cp:lastModifiedBy>Admin</cp:lastModifiedBy>
  <dcterms:modified xsi:type="dcterms:W3CDTF">2008-07-30T23:29:39Z</dcterms:modified>
  <cp:revision>1</cp:revision>
  <dc:subject/>
  <dc:title>Slide 1</dc:title>
</cp:coreProperties>
</file>