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684-A93C-49D9-9BE4-B0B1F7BC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F1A-F402-41D9-9B63-1832465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330-529F-4EB2-B534-E469A0D6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480-8221-4D78-B2AF-8147DA7D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443-0C49-447C-B011-539E9AA0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B90-E499-467C-8444-05662386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C57-FB37-47DC-A216-6BDCB464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64B-0BF1-4AEE-B9F9-6A55B00F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F3E-4CBE-438C-8820-75F58786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357-0F69-4560-B207-702926B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9CF-789C-4AD1-9222-6C3C17DA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B46-4B43-41F3-9F23-EC512120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F09-0FFC-461D-AC86-4A107C93686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ó Deus, a minha voz na minha oração; guarda a minha vida do temor d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se alegrará no SENHOR, e confiará nele, e todos os retos de coração se glori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e-me do secreto conselho dos maus, e do tumulto d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fiaram as suas línguas como espadas; e armaram por suas flechas palavras amarg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m de atirarem em lugar oculto ao que é íntegro; disparam sobre ele repentinamente, e não t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rmam-se em mau intento; falam de armar laços secretamente, e dizem: Quem os ve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dam inquirindo malícias, inquirem tudo o que se pode inquirir; e ambos, o íntimo pensamento de cada um deles, e o coração, são profu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atirará sobre eles uma seta, e de repente ficarão fer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les farão com que as suas línguas tropecem contra si mesmos; todos aqueles que os virem, fug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homens temerão, e anunciarão a obra de Deus; e considerarão prudentemente os feito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52Z</dcterms:created>
  <dc:creator>Admin</dc:creator>
  <dc:description/>
  <dc:language>en-US</dc:language>
  <cp:lastModifiedBy>Admin</cp:lastModifiedBy>
  <dcterms:modified xsi:type="dcterms:W3CDTF">2008-07-31T00:25:52Z</dcterms:modified>
  <cp:revision>1</cp:revision>
  <dc:subject/>
  <dc:title>Slide 1</dc:title>
</cp:coreProperties>
</file>