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C92-7100-4D6C-8816-9BC009BE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A24-04EA-4B80-B7ED-D2D993B4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D9A-589D-42B9-BFA7-67A87960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6B4-0A47-48A5-AB51-92B88FA3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0B2-3FE5-4BD4-8ABE-4C809F29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A96-8389-42E9-A8E4-1351C054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B16-8B57-4D12-9A79-5CCDA92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A06-125C-4D0E-A022-95109210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C11-0897-4FB3-96C7-E19D05C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F7C-FEC4-4B52-8A5F-0FE2D79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236-B6DA-4798-A6F3-566E3A9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6F9-4576-4240-8934-12932ECA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81A-3ED4-43F3-8A4A-D0376B3CD06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os dias de Acaz, filho de Jotão, filho de Uzias, rei de Judá, que Rezim, rei da Síria, e Peca, filho de Remalias, rei de Israel, subiram a Jerusalém, para pelejarem contra ela, mas nada puderam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ou o SENHOR a falar com Acaz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e para ti ao SENHOR teu Deus um sinal; pede-o, ou em baixo nas profundezas, ou em cima n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z, porém, disse: Não pedirei, nem tentar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: Ouvi agora, ó casa de Davi: Pouco vos é afadigardes os homens, senão que também afadigareis ao m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mesmo Senhor vos dará um sinal: Eis que a virgem conceberá, e dará à luz um filho, e chamará o seu nome Eman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teiga e mel comerá, quando ele souber rejeitar o mal e escolher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antes que este menino saiba rejeitar o mal e escolher o bem, a terra, de que te enfadas, será desamparada dos seus doi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fará vir sobre ti, e sobre o teu povo, e sobre a casa de teu pai, pelo rei da Assíria, dias tais, quais nunca vieram, desde o dia em que Efraim se separou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de acontecer que naquele dia assobiará o SENHOR às moscas, que há no extremo dos rios do Egito, e às abelhas que estão na terra da Assí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elas virão, e pousarão nos vales desertos e nas fendas das rochas, e em todos os espinheiros e em todos os arb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aviso à casa de Davi, dizendo: A Síria fez aliança com Efraim. Então se moveu o seu coração, e o coração do seu povo, como se movem as árvores do bosque com 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dia rapará o Senhor com uma navalha alugada, que está além do rio, isto é, com o rei da Assíria, a cabeça e os cabelos dos pés; e até a barba totalmente ti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naquele dia que um homem criará uma novilha e du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 por causa da abundância do leite que elas hão de dar, comerá manteiga; e manteiga e mel comerá todo aquele que restar no mei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rá também naquele dia que todo o lugar, em que houver mil vides, do valor de mil siclos de prata, será para as sarças e para os espi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rco e flecha se entrará ali, porque toda a terra será sarças e espi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todos os montes, que costumavam cavar com enxadas, para ali não irás por causa do temor das sarças e dos espinheiros; porém servirão para se mandarem para lá os bois e para serem pisados pel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Isaías: Agora, tu e teu filho Sear-Jasube, saí ao encontro de Acaz, ao fim do canal do tanque superior, no caminho do campo do lavan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-lhe: Acautela-te, e aquieta-te; não temas, nem se desanime o teu coração por causa destes dois pedaços de tições fumegantes; por causa do ardor da ira de Rezim, e da Síria, e do filho de Rema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 Síria teve contra ti maligno conselho, com Efraim, e com o filho de Remal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mos subir contra Judá, e molestemo-lo e repartamo-lo entre nós, e façamos reinar no meio dele o filho de Tab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Isto não subsistirá, nem tampouco acont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cabeça da Síria será Damasco, e a cabeça de Damasco Rezim; e dentro de sessenta e cinco anos Efraim será destruído, e deixará de ser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tanto a cabeça de Efraim será Samaria, e a cabeça de Samaria o filho de Remalias; se não o crerdes, certamente não haveis de perman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42Z</dcterms:created>
  <dc:creator>Admin</dc:creator>
  <dc:description/>
  <dc:language>en-US</dc:language>
  <cp:lastModifiedBy>Admin</cp:lastModifiedBy>
  <dcterms:modified xsi:type="dcterms:W3CDTF">2008-07-30T23:54:42Z</dcterms:modified>
  <cp:revision>1</cp:revision>
  <dc:subject/>
  <dc:title>Slide 1</dc:title>
</cp:coreProperties>
</file>