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C4AD-65AD-4A9A-A7D6-AB1F6C8C1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DD06-84ED-488D-A58F-3CB533FE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9F7A-F5FA-4B9D-8776-415487143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C0E2-EE08-42CB-8112-615FD168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3C13-4F75-47D7-A637-93A1D49B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B6D9-EA93-495C-8E2E-1255454A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C36B-EB9A-448A-B088-6F87936C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5DB4-8BEA-4884-872B-3DCDC801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FD7C-D535-4042-AAD3-48B9F49A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448A-5DC1-464C-B2C4-EC50358C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FE58-6EDC-4DCF-ABC0-17343758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E84D-8BA1-436E-8C69-6F119DFA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7D74-BDA6-4BD3-B9C7-413AACBD8B5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RESPOSTA branda desvia o furor, mas a palavra dura suscita a 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rreção severa há para o que deixa a vereda, e o que odeia a repreensão morr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inferno e a perdição estão perante o SENHOR; quanto mais os corações dos filhos dos homen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escarnecedor não ama aquele que o repreende, nem se chegará aos sáb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oração alegre aformoseia o rosto, mas pela dor do coração o espírito se aba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oração entendido buscará o conhecimento, mas a boca dos tolos se apascentará de estultí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dias do oprimido são maus, mas o coração alegre é um banquete contínu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lhor é o pouco com o temor do SENHOR, do que um grande tesouro onde há inquiet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lhor é a comida de hortaliça, onde há amor, do que o boi cevado, e com ele o ód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homem iracundo suscita contendas, mas o longânimo apaziguará a lu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aminho do preguiçoso é cercado de espinhos, mas a vereda dos retos é bem aplan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língua dos sábios adorna a sabedoria, mas a boca dos tolos derrama a estultí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filho sábio alegra seu pai, mas o homem insensato despreza a sua mã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estultícia é alegria para o que carece de entendimento, mas o homem entendido anda ret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não há conselhos os planos se dispersam, mas havendo muitos conselheiros eles se firm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homem se alegra em responder bem, e quão boa é a palavra dita a seu tempo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o entendido, o caminho da vida leva para cima, para que se desvie do inferno em baix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desarraiga a casa dos soberbos, mas estabelece o termo da viú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omináveis são para o SENHOR os pensamentos do mau, mas as palavras dos puros são aprazív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agir com avareza perturba a sua casa, mas o que odeia presentes viv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5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oração do justo medita no que há de responder, mas a boca dos ímpios jorra coisas m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5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está longe dos ímpios, mas a oração dos justos escut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olhos do SENHOR estão em todo lugar, contemplando os maus e os bo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5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luz dos olhos alegra o coração, a boa notícia fortalece os os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5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ouvidos que atendem à repreensão da vida farão a sua morada no meio dos sáb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5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rejeita a instrução menospreza a própria alma, mas o que escuta a repreensão adquire entend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5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temor do SENHOR é a instrução da sabedoria, e precedendo a honra vai a humil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língua benigna é árvore de vida, mas a perversidade nela deprime o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tolo despreza a instrução de seu pai, mas o que observa a repreensão se haverá prudente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casa do justo há um grande tesouro, mas nos ganhos do ímpio há perturb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lábios dos sábios derramam o conhecimento, mas o coração dos tolos não faz ass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acrifício dos ímpios é abominável ao SENHOR, mas a oração dos retos é o seu contenta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aminho do ímpio é abominável ao SENHOR, mas ao que segue a justiça ele a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1:53Z</dcterms:created>
  <dc:creator>Admin</dc:creator>
  <dc:description/>
  <dc:language>en-US</dc:language>
  <cp:lastModifiedBy>Admin</cp:lastModifiedBy>
  <dcterms:modified xsi:type="dcterms:W3CDTF">2008-07-31T00:21:53Z</dcterms:modified>
  <cp:revision>1</cp:revision>
  <dc:subject/>
  <dc:title>Slide 1</dc:title>
</cp:coreProperties>
</file>