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53B-A3C5-4514-B753-AE200F74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4FE-D405-442A-A4F3-36A01EE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2F7-5894-4D45-AAD8-6DDC6846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4E9-2DAF-4A9E-B3DD-F344E465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CDC-89F5-4798-96AC-D09C2F2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570-E8EE-4790-A8E9-B22300A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68C-C6DD-4048-BD2A-9CC7CEE2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9AF-DDC2-46AB-9024-7AE0289A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334-B5FC-4C0F-A497-80A2D4B2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A62-4DB2-4CA0-86B4-F5CCDA7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D4B-1414-49C7-A23F-288A9CE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4DA-20F6-4CB7-AF0E-EF5111D6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505D-5186-4A6C-A30E-C42A6942C0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na verdade, ó Jó, ouve as minhas razões, e dá ouvidos a todas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procura pretexto contra mim, e me considera como seu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 no tronco os meus pés, e observa todas as minh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isso não tens razão; eu te respondo; porque maior é Deus do que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razão contendes com ele, sendo que não responde acerca de todos os seus fe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eus fala uma e duas vezes; porém ninguém atenta para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onho ou em visão noturna, quando cai sono profundo sobre os homens, e adormecem n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vela ao ouvido dos homens, e lhes sela a sua instru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partar o homem daquilo que faz, e esconder do homem a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esviar a sua alma da cova, e a sua vida de passar pel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a sua cama é castigado com dores; e com incessante contenda nos seus oss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já abri a minha boca; já falou a minha língua debaixo do meu pala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odo que a sua vida abomina até o pão, e a sua alma a comida apetec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aparece a sua carne a olhos vistos, e os seus ossos, que não se viam, agora apar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alma se vai chegando à cova, e a sua vida aos que trazem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m ele, pois, houver um mensageiro, um intérprete, um entre milhares, para declarar ao homem a sua retid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rá misericórdia dele, e lhe dirá: Livra-o, para que não desça à cova; já achei resg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a carne se reverdecerá mais do que era na mocidade, e tornará aos dias da sua juvent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eras orará a Deus, o qual se agradará dele, e verá a sua face com júbilo, e restituirá ao homem a s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rá para os homens, e dirá: Pequei, e perverti o direito, o que de nada me aprov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eus livrou a minha alma de ir para a cova, e a minha vida verá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udo isto é obra de Deus, duas e três vezes para com o hom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razões provam a sinceridade do meu coração, e os meus lábios proferem o puro sa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desviar a sua alma da perdição, e o iluminar com a luz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, pois, ó Jó, ouve-me; cala-te, e eu fa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ns alguma coisa que dizer, responde-me; fala, porque desejo justific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, escuta-me tu; cala-te, e ensinar-te-ei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e Deus me fez; e a inspiração do Todo-Poderoso me deu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odes, responde-me, põe em ordem as tuas razões diante de mim, e apresenta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im de Deus, como tu; do barro também eu fui for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ão te perturbará o meu terror, nem será pesada sobre ti 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tu falaste aos meus ouvidos; e eu ouvi a voz das tuas palavras. Dizi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mpo estou, sem transgressão; puro sou, e não tenho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2:03Z</dcterms:created>
  <dc:creator>Admin</dc:creator>
  <dc:description/>
  <dc:language>en-US</dc:language>
  <cp:lastModifiedBy>Admin</cp:lastModifiedBy>
  <dcterms:modified xsi:type="dcterms:W3CDTF">2008-07-31T00:02:03Z</dcterms:modified>
  <cp:revision>1</cp:revision>
  <dc:subject/>
  <dc:title>Slide 1</dc:title>
</cp:coreProperties>
</file>