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735-8A3D-42CB-BED5-4BD89A1C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CC0-0505-478F-9D93-C3E1DDB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663-CA89-4335-B1AD-A5DA5356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47B-BAD0-481A-AEDC-1B09008F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4BD-F774-4E9A-8680-B6077A2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37C-0A64-407C-BCE6-BFAFEBE0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369-9C4F-44C8-A94E-641FDC5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E26-85A2-48A1-B497-D8FE4F2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08C-9BA5-4B83-AD09-82C59B1F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622-E2B4-480A-92C0-1AB5277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1B4-318F-441B-9CDB-F312D0B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E48-512C-4263-9C54-8D78ACF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582-1BC5-4F7F-AD0D-DAFAB55BF0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gundo ano do reinado de Nabucodonosor, Nabucodonosor teve sonhos; e o seu espírito se perturbou, e passou-se-lhe 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os caldeus na presença do rei, e disseram: Não há ninguém sobre a terra que possa declarar a palavra ao rei; pois nenhum rei há, grande ou dominador, que requeira coisas semelhantes de algum mago, ou astrólogo, ou cal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assunto que o rei requer é difícil; e ninguém há que o possa declarar diante do rei, senão os deuses, cuja morada não é com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rei muito se irou e enfureceu; e ordenou que matassem a todos os sábio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 decreto, segundo o qual deviam ser mortos os sábios; e buscaram a Daniel e aos seus companheiros, para que fosse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niel falou avisada e prudentemente a Arioque, capitão da guarda do rei, que tinha saído para matar os sábio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e disse a Arioque, capitão do rei: Por que se apressa tanto o decreto da parte do rei? Então Arioque explicou o caso a Dan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niel entrou; e pediu ao rei que lhe desse tempo, para que lhe pudesse dar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niel foi para a sua casa, e fez saber o caso a Hananias, Misael e Azarias, seus companh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edissem misericórdia ao Deus do céu, sobre este mistério, a fim de que Daniel e seus companheiros não perecessem, juntamente com o restante dos sábio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revelado o mistério a Daniel numa visão de noite; então Daniel louvou o Deu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andou chamar os magos, os astrólogos, os encantadores e os caldeus, para que declarassem ao rei os seus sonhos; e eles vieram e se apresentaram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Daniel, dizendo: Seja bendito o nome de Deus de eternidade a eternidade, porque dele são a sabedoria e a for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uda os tempos e as estações; ele remove os reis e estabelece os reis; ele dá sabedoria aos sábios e conhecimento aos ente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vela o profundo e o escondido; conhece o que está em trevas, e com ele mora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 de meus pais, eu te dou graças e te louvo, porque me deste sabedoria e força; e agora me fizeste saber o que te pedimos, porque nos fizeste saber este assunt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aniel foi ter com Arioque, ao qual o rei tinha constituído para matar os sábios de Babilônia; entrou, e disse-lhe assim: Não mates os sábios de Babilônia; introduze-me na presença do rei, e declararei ao rei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ioque depressa introduziu a Daniel na presença do rei, e disse-lhe assim: Achei um homem dentre os cativos de Judá, o qual fará saber ao rei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o rei, e disse a Daniel (cujo nome era Beltessazar): Podes tu fazer-me saber o sonho que tive e a sua interpret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Daniel na presença do rei, dizendo: O segredo que o rei requer, nem sábios, nem astrólogos, nem magos, nem adivinhos o podem declarar ao 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há um Deus no céu, o qual revela os mistérios; ele, pois, fez saber ao rei Nabucodonosor o que há de acontecer nos últimos dias; o teu sonho e as visões da tua cabeça que tiveste na tua cama são est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tu, ó rei, na tua cama, subiram os teus pensamentos, acerca do que há de ser depois disto. Aquele, pois, que revela os mistérios te fez saber o que há de 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s disse: Tive um sonho; e para saber o sonho está perturbado o m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m me foi revelado esse mistério, não porque haja em mim mais sabedoria que em todos os viventes, mas para que a interpretação se fizesse saber ao rei, e para que entendesses os pensamentos d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rei, estavas vendo, e eis aqui uma grande estátua; esta estátua, que era imensa, cujo esplendor era excelente, e estava em pé diante de ti; e a sua aparência era terr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beça daquela estátua era de ouro fino; o seu peito e os seus braços de prata; o seu ventre e as suas coxas de cob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ernas de ferro; os seus pés em parte de ferro e em parte de b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s vendo isto, quando uma pedra foi cortada, sem auxílio de mão, a qual feriu a estátua nos pés de ferro e de barro, e os esmiuç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i juntamente esmiuçado o ferro, o barro, o bronze, a prata e o ouro, os quais se fizeram como pragana das eiras do estio, e o vento os levou, e não se achou lugar algum para eles; mas a pedra, que feriu a estátua, se tornou grande monte, e ench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sonho; também a sua interpretação diremos na presenç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rei, és rei de reis; a quem o Deus do céu tem dado o reino, o poder, a força, e 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nde quer que habitem os filhos de homens, na tua mão entregou os animais do campo, e as aves do céu, e fez que reinasse sobre todos eles; tu és a cabeça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ti se levantará outro reino, inferior ao teu; e um terceiro reino, de bronze, o qual dominará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ldeus disseram ao rei em aramáico: Ó rei, vive eternamente! Dize o sonho a teus servos, e daremos 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arto reino será forte como ferro; pois, como o ferro, esmiúça e quebra tudo; como o ferro que quebra todas as coisas, assim ele esmiuçará e fará em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que viste dos pés e dos dedos, em parte de barro de oleiro, e em parte de ferro, isso será um reino dividido; contudo haverá nele alguma coisa da firmeza do ferro, pois viste o ferro misturado com barro de l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os dedos dos pés eram em parte de ferro e em parte de barro, assim por uma parte o reino será forte, e por outra será frág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que viste do ferro misturado com barro de lodo, misturar-se-ão com semente humana, mas não se ligarão um ao outro, assim como o ferro não se mistura com o ba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os dias desses reis, o Deus do céu levantará um reino que não será jamais destruído; e este reino não passará a outro povo; esmiuçará e consumirá todos esses reinos, mas ele mesmo subsistirá para semp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aneira que viste que do monte foi cortada uma pedra, sem auxílio de mãos, e ela esmiuçou o ferro, o bronze, o barro, a prata e o ouro; o grande Deus fez saber ao rei o que há de ser depois disto. Certo é o sonho, e fiel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Nabucodonosor caiu sobre a sua face, e adorou a Daniel, e ordenou que lhe oferecessem uma oblação e perfumes sua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o rei a Daniel, e disse: Certamente o vosso Deus é Deus dos deuses, e o Senhor dos reis e revelador de mistérios, pois pudeste revelar este m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engrandeceu a Daniel, e lhe deu muitas e grandes dádivas, e o pôs por governador de toda a província de Babilônia, como também o fez chefe dos governadores sobre todos os sábios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iu Daniel ao rei, e constituiu ele sobre os negócios da província de Babilônia a Sadraque, Mesaque e Abednego; mas Daniel permaneceu na port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o rei, e disse aos caldeus: O assunto me tem escapado; se não me fizerdes saber o sonho e a sua interpretação, sereis despedaçados, e as vossas casas serão feitas um mont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vós me declarardes o sonho e a sua interpretação, recebereis de mim dádivas, recompensas e grande honra; portanto declarai-me o sonho e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 segunda vez, e disseram: Diga o rei o sonho a seus servos, e daremos a sua interpr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o rei, e disse: Percebo muito bem que vós quereis ganhar tempo; porque vedes que o assunto me tem esca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odo que, se não me fizerdes saber o sonho, uma só sentença será a vossa; pois vós preparastes palavras mentirosas e perversas para as proferirdes na minha presença, até que se mude o tempo; portanto dizei-me o sonho, para que eu entenda que me pod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16Z</dcterms:created>
  <dc:creator>Admin</dc:creator>
  <dc:description/>
  <dc:language>en-US</dc:language>
  <cp:lastModifiedBy>Admin</cp:lastModifiedBy>
  <dcterms:modified xsi:type="dcterms:W3CDTF">2008-07-30T23:26:16Z</dcterms:modified>
  <cp:revision>1</cp:revision>
  <dc:subject/>
  <dc:title>Slide 1</dc:title>
</cp:coreProperties>
</file>