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ACE-56CE-49F6-BC67-34BD0CA6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CFA-C09B-4468-B715-95A8DC68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081-71FC-446D-8AFB-604D3235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771-B594-46E3-8DF6-6A0C3131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CB1-F849-466A-8768-F604398C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542-57D8-4F06-9EDB-4F967965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10E-9C0E-485D-B181-66D04696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112-47B3-405A-B661-50CC625C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FA1-1896-4EC2-B41C-59E1869F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6F2-2CBF-44DE-8970-FE9ECE12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E61-B50F-4595-AA91-0C2B051D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164-42AE-4758-A608-637D67D7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B40F-6A39-4117-A31E-7DE86569F03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-ME o SENHOR ver, e eis dois cestos de figos, postos diante do templo do SENHOR, depois que Nabucodonosor, rei de Babilônia, levou em cativeiro a Jeconias, filho de Jeoiaquim, rei de Judá, e os príncipes de Judá, e os carpinteiros, e os ferreiros de 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arei entre eles a espada, a fome, e a peste, até que se consumam de sobre a terra que lhes dei a eles e a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cesto tinha figos muito bons, como os figos temporãos; mas o outro cesto tinha figos muito ruins, que não se podiam comer, de ruins que 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 o SENHOR: Que vês tu, Jeremias? E eu disse: Figos: os figos bons, muito bons e os ruins, muito ruins, que não se podem comer, de ruins que 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, o Deus de Israel: Como a estes bons figos, assim também conhecerei aos de Judá, levados em cativeiro; os quais enviei deste lugar para a terra dos caldeus, para o seu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ei os meus olhos sobre eles, para o seu bem, e os farei voltar a esta terra, e edificá-los-ei, e não os destruirei; e plantá-los-ei, e não os arranc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r-lhes-ei coração para que me conheçam, porque eu sou o SENHOR; e ser-me-ão por povo, e eu lhes serei por Deus; porque se converterão a mim de todo 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o os figos ruins, que se não podem comer, de ruins que são (porque assim diz o SENHOR), assim entregarei Zedequias, rei de Judá, e os seus príncipes, e o restante de Jerusalém, que ficou nesta terra, e os que habitam n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gá-los-ei para que sejam um prejuízo, uma ofensa para todos os reinos da terra, um opróbrio e um provérbio, e um escárnio, e uma maldição em todos os lugares para onde eu os arroj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32Z</dcterms:created>
  <dc:creator>Admin</dc:creator>
  <dc:description/>
  <dc:language>en-US</dc:language>
  <cp:lastModifiedBy>Admin</cp:lastModifiedBy>
  <dcterms:modified xsi:type="dcterms:W3CDTF">2008-07-30T23:58:32Z</dcterms:modified>
  <cp:revision>1</cp:revision>
  <dc:subject/>
  <dc:title>Slide 1</dc:title>
</cp:coreProperties>
</file>