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71B-476D-42B3-B0B7-282C5EE5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28B-5A99-4DB4-BABC-054EEE35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851-E3DA-484F-AA81-B23B2460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C4A-0046-451B-9F8A-1DFCB0E3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49B-33D5-4E01-9789-8BDA3EE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997-0E09-404A-ABA5-20A0B82A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822-3E57-4722-9019-D0F7106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5F4-BA4A-4429-8813-E5276D23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B2C-B214-4531-9DDB-50145BCF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5B5-B749-4A0D-B921-73901BD9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4B6-38E4-44CE-9E02-078F5BC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E0B-97BB-4350-919A-16AFF9F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F19D-4D48-484E-9B2D-4011D187BD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o sexto ano, no sexto mês, no quinto dia do mês, estando eu assentado na minha casa, e os anciãos de Judá assentados diante de mim, que ali a mão do Senhor DEUS caiu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i, e olhei, e eis que toda a forma de répteis, e animais abomináveis, e de todos os ídolos da casa de Israel, estavam pintados na parede em todo 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em pé diante deles setenta homens dos anciãos da casa de Israel, e Jaazanias, filho de Safã, em pé, no meio deles, e cada um tinha na mão o seu incensário; e subia uma espessa nuvem de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Viste, filho do homem, o que os anciãos da casa de Israel fazem nas trevas, cada um nas suas câmaras pintadas de imagens? Pois dizem: O SENHOR não nos vê; o SENHOR abandonou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Ainda tornarás a ver maiores abominações, que estes faz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me à entrada da porta da casa do SENHOR, que está do lado norte, e eis que estavam ali mulheres assentadas chorando a Tam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Vês isto, filho do homem? Ainda tornarás a ver abominações maiores do que e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me para o átrio interior da casa do SENHOR, e eis que estavam à entrada do templo do SENHOR, entre o pórtico e o altar, cerca de vinte e cinco homens, de costas para o templo do SENHOR, e com os rostos para o oriente; e eles, virados para o or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Vês isto, filho do homem? Há porventura coisa mais leviana para a casa de Judá, do que tais abominações, que fazem aqui? Havendo enchido a terra de violência, tornam a irritar-me; e ei-los a chegar o ramo ao seu nar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eu os tratarei com furor; o meu olho não poupará, nem terei piedade; ainda que me gritem aos ouvidos com grande voz, contudo não os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uma semelhança como o aspecto de fogo; desde o aspecto dos seus lombos, e daí para baixo, era fogo; e dos seus lombos e daí para cima como o aspecto de um resplendor como a cor de âm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u a forma de uma mão, e tomou-me pelos cabelos da minha cabeça; e o Espírito me levantou entre a terra e o céu, e levou-me a Jerusalém em visões de Deus, até à entrada da porta do pátio de dentro, que olha para o norte, onde estava o assento 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 glória do Deus de Israel estava ali, conforme o aspecto que eu tinha visto no v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levanta agora os teus olhos para o caminho do norte. E levantei os meus olhos para o caminho do norte, e eis que ao norte da porta do altar, estava esta imagem de ciúmes na ent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vês tu o que eles estão fazendo? As grandes abominações que a casa de Israel faz aqui, para que me afaste do meu santuário? Mas ainda tornarás a ver maiore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me à porta do átrio; então olhei, e eis que havia um buraco na pa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cava agora naquela parede. E cavei na parede, e eis que havia um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Entra, e vê as malignas abominações que eles fazem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4:02Z</dcterms:created>
  <dc:creator>Admin</dc:creator>
  <dc:description/>
  <dc:language>en-US</dc:language>
  <cp:lastModifiedBy>Admin</cp:lastModifiedBy>
  <dcterms:modified xsi:type="dcterms:W3CDTF">2008-07-30T23:34:02Z</dcterms:modified>
  <cp:revision>1</cp:revision>
  <dc:subject/>
  <dc:title>Slide 1</dc:title>
</cp:coreProperties>
</file>