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90D-15E2-42BC-9D20-2ABC6520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5B9-A188-482F-882D-3012126B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521-CF10-4E70-A8FA-3E32338B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0A3-101A-40C5-8708-BCA78C96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513-8160-4BAE-A656-D5A46995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729-EB4D-4192-BB24-A13101EA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094-8FEE-4846-B948-24833839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F4A-D522-45E9-8666-F858F8C9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DE4-FE54-4E36-B85E-2409BFF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D9B-DE97-425C-8977-A7D9A86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A54-DD81-4819-84DC-B58D672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F91-7C3E-4BE1-9FD5-84AC4A6F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BA53-4C34-4EE9-A344-C718C3BF433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vivem sossegados em Sião, e dos que estão confiados no monte de Samaria, que têm nome entre as primeiras das nações, e aos quais vem a casa de Israel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ando o tio de alguém, aquele que o queima, o tomar para levar-lhe os ossos para fora da casa, e disser ao que estiver no mais interior da casa: Está ainda alguém contigo? E este responder: Ninguém; então lhe dirá ele: Cala-te, porque não devemos faz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is que o SENHOR ordena, e ferirá a casa grande de brechas, e a casa pequena de fen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correrão cavalos sobre rocha? Lavrar-se-á nela com bois? Mas vós haveis tornado o juízo em fel, e o fruto da justiça em alosn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que vos alegrais do nada, vós que dizeis: Não é assim que por nossa própria força nos temos tornado poderos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, eis que eu levantarei sobre vós, ó casa de Israel, uma nação, diz o SENHOR, o Deus dos Exércitos, e oprimir-vos-á, desde a entrada de Hamate até ao ribeiro do deser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ssai a Calne, e vede; e dali ide à grande Hamate; e depois descei a Gate dos filisteus; serão melhores que estes reinos? Ou maior o seu termo do que o vosso term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Ó vós que afastais o dia mau, e fazeis chegar o assento da violênc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os que dormem em camas de marfim, e se estendem sobre os seus leitos, e comem os cordeiros do rebanho, e os bezerros do meio do curr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cantam ao som da viola, e inventam para si instrumentos musicais, assim como Davi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 bebem vinho em taças, e se ungem com o mais excelente óleo: mas não se afligem pela ruína de José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agora irão em cativeiro entre os primeiros dos que forem levados cativos, e cessarão os festins dos banqueteador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rou o Senhor DEUS por si mesmo, diz o SENHOR, o Deus dos Exércitos: Abomino a soberba de Jacó, e odeio os seus palácios; por isso entregarei a cidade e tudo o que nela há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6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contecerá que, se numa casa ficarem dez homens, morrer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1:57Z</dcterms:created>
  <dc:creator>Admin</dc:creator>
  <dc:description/>
  <dc:language>en-US</dc:language>
  <cp:lastModifiedBy>Admin</cp:lastModifiedBy>
  <dcterms:modified xsi:type="dcterms:W3CDTF">2008-07-30T23:21:57Z</dcterms:modified>
  <cp:revision>1</cp:revision>
  <dc:subject/>
  <dc:title>Slide 1</dc:title>
</cp:coreProperties>
</file>