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3E5-786F-41DB-9FAB-96B22CBC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8A1-4E58-4B1D-B176-30B7BA83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6B0-48E7-403A-8E78-F2DED459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CF6-960F-4D16-B166-0F31AABC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2AF-4C9F-4324-8BD4-2A19E7CE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A35-329E-4252-A6E9-603DF2B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770-BEF8-410F-B46C-C449EEB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D39-3E17-4B6F-BCA2-F070FE2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6CC-EF86-412A-A4CE-E14FA95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7A2-8FC0-404A-8D27-D8CDD6D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D39-1DA5-4255-986B-09DECD3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CBB-867E-47DB-9E01-876D5DD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CDCF-88FA-422E-8879-F96F87B79E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também aos seus discípulos: Havia um certo homem rico, o qual tinha um mordomo; e este foi acusado perante ele de dissipar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fiel no mínimo, também é fiel no muito; quem é injusto no mínimo, também é injusto no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nas riquezas injustas não fostes fiéis, quem vos confiará as verdadei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o alheio não fostes fiéis, quem vos dará o que é vos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servo pode servir dois senhores; porque, ou há de odiar um e amar o outro, ou se há de chegar a um e desprezar o outro. Não podeis servir a Deus e a M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, que eram avarentos, ouviam todas estas coisas, e zombav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ós sois os que vos justificais a vós mesmos diante dos homens, mas Deus conhece os vossos corações, porque o que entre os homens é elevado, perante Deus é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ei e os profetas duraram até João; desde então é anunciado o reino de Deus, e todo o homem emprega força para entrar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é mais fácil passar o céu e a terra do que cair um til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deixa sua mulher, e casa com outra, adultera; e aquele que casa com a repudiada pelo marido, adultera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havia um homem rico, e vestia-se de púrpura e de linho finíssimo, e vivia todos os dias regalada e esplendid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chamando-o, disse-lhe: Que é isto que ouço de ti? Dá contas da tua mordomia, porque já não poderás ser mais meu mordo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também um certo mendigo, chamado Lázaro, que jazia cheio de chagas à porta daqu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ejava alimentar-se com as migalhas que caíam da mesa do rico; e os próprios cães vinham lamber-lhe as cha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o mendigo morreu, e foi levado pelos anjos para o seio de Abraão; e morreu também o rico, e foi sepu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inferno, ergueu os olhos, estando em tormentos, e viu ao longe Abraão, e Lázaro no seu s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lamando, disse: Pai Abraão, tem misericórdia de mim, e manda a Lázaro, que molhe na água a ponta do seu dedo e me refresque a língua, porque estou atormentado nesta ch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Abraão: Filho, lembra-te de que recebeste os teus bens em tua vida, e Lázaro somente males; e agora este é consolado e tu atorme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lém disso, está posto um grande abismo entre nós e vós, de sorte que os que quisessem passar daqui para vós não poderiam, nem tampouco os de lá passar para c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Rogo-te, pois, ó pai, que o mandes à casa de meu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enho cinco irmãos; para que lhes dê testemunho, a fim de que não venham também para este lugar de tor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Abraão: Têm Moisés e os profetas; ouçam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ordomo disse consigo: Que farei, pois que o meu senhor me tira a mordomia? Cavar, não posso; de mendigar, tenho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Não, pai Abraão; mas, se algum dentre os mortos fosse ter com eles, arrepender-se-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braão lhe disse: Se não ouvem a Moisés e aos profetas, tampouco acreditarão, ainda que algum dos mortos ressusc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i o que hei de fazer, para que, quando for desapossado da mordomia, me recebam em sua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a si cada um dos devedores do seu SENHOR, disse ao primeiro: Quanto deves ao meu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respondeu: Cem medidas de azeite. E disse-lhe: Toma a tua obrigação, e assentando-te já, escrev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depois a outro: E tu, quanto deves? E ele respondeu: Cem alqueires de trigo. E disse-lhe: Toma a tua obrigação, e escreve oi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uvou aquele senhor o injusto mordomo por haver procedido prudentemente, porque os filhos deste mundo são mais prudentes na sua geração do que os filhos d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digo: Granjeai amigos com as riquezas da injustiça; para que, quando estas vos faltarem, vos recebam eles nos tabernáculos eter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37Z</dcterms:created>
  <dc:creator>Admin</dc:creator>
  <dc:description/>
  <dc:language>en-US</dc:language>
  <cp:lastModifiedBy>Admin</cp:lastModifiedBy>
  <dcterms:modified xsi:type="dcterms:W3CDTF">2008-07-31T00:11:37Z</dcterms:modified>
  <cp:revision>1</cp:revision>
  <dc:subject/>
  <dc:title>Slide 1</dc:title>
</cp:coreProperties>
</file>