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0897-D602-4043-ADF7-E1D2F85AA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395E-1176-4BAB-AA5B-0E89CA6C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6F5C-9F15-439A-A3B0-A64B8480D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D4F8-C041-41F5-8BF7-8E0E0808F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48B0-152A-45BD-BCC4-4ED319DA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2743-DD77-4BE8-B5C5-86E822735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3E01-1AC3-48EF-BCF6-67BAD4A01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7A77-DBFC-4B67-A190-4B55EEF77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9D67-DC2D-4465-8C69-B636897D7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7621-45F5-45AA-BC6A-A9C0E72D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94E1-F037-4E8C-959F-4D7A7082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C8DF-DD96-4D4B-8997-E45A98FE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94C4B-B2C5-49F0-8CEC-B27C97D0E97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7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Jerubaal (que é Gideão) se levantou de madrugada, e todo o povo que com ele havia, e se acamparam junto à fonte de Harode, de maneira que tinha o arraial dos midianitas para o norte, no vale, perto do outeiro de Moré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7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 ainda temes descer, desce tu e teu moço Purá, ao arraial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7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uvirás o que dizem, e então, fortalecidas as tuas mãos descerás ao arraial. Então desceu ele com o seu moço Purá até ao extremo das sentinelas que estavam no arrai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7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midianitas, os amalequitas, e todos os filhos do oriente jaziam no vale como gafanhotos em multidão; e eram inumeráveis os seus camelos, como a areia que há na praia do m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7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hegando, pois, Gideão, eis que estava contando um homem ao seu companheiro um sonho, e dizia: Eis que tive um sonho, eis que um pão de cevada torrado rodava pelo arraial dos midianitas, e chegava até à tenda, e a feriu, e caiu, e a transtornou de cima 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7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espondeu o seu companheiro, e disse: Não é isto outra coisa, senão a espada de Gideão, filho de Joás, varão israelita. Deus tem dado na sua mão aos midianitas, e todo este arrai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7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ouvindo Gideão a narração deste sonho, e a sua explicação, adorou; e voltou ao arraial de Israel, e disse: Levantai-vos, porque o SENHOR tem dado o arraial dos midianitas nas nossas m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7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vidiu os trezentos homens em três companhias; e deu-lhes a cada um, nas suas mãos, buzinas, e cântaros vazios, com tochas neles aces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7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s: Olhai para mim, e fazei como eu fizer; e eis que, chegando eu à extremidade do arraial, será que, como eu fizer, assim fareis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7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cando eu a buzina, eu e todos os que comigo estiverem, então também vós tocareis a buzina ao redor de todo o arraial, e direis: Espada do SENHOR, e de Gide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7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hegou, pois, Gideão, e os cem homens que com ele iam, ao extremo do arraial, ao princípio da vigília da meia noite, havendo sido de pouco trocadas as guardas; então tocaram as buzinas, e quebraram os cântaros, que tinham nas m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7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o SENHOR a Gideão: Muito é o povo que está contigo, para eu dar aos midianitas em sua mão; a fim de que Israel não se glorie contra mim, dizendo: A minha mão me livr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7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tocaram as três companhias as buzinas, e quebraram os cântaros; e tinham nas suas mãos esquerdas as tochas acesas, e nas suas mãos direitas as buzinas, para tocarem, e clamaram: Espada do SENHOR, e de Gide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7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nservou-se cada um no seu lugar ao redor do arraial; então todo o exército pôs-se a correr e, gritando, fugi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7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cando, pois, os trezentos as buzinas, o SENHOR tornou a espada de um contra o outro, e isto em todo o arraial, que fugiu para Zererá, até Bete-Sita, até aos limites de Abel-Meolá, acima de Taba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7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s homens de Israel, de Naftali, de Aser e de todo o Manassés foram convocados, e perseguiram aos midiani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7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Gideão enviou mensageiros a todas as montanhas de Efraim, dizendo: Descei ao encontro dos midianitas, e tomai-lhes as águas até Bete-Bara, e também o Jordão. Convocados, pois, todos os homens de Efraim, tomaram-lhes as águas até Bete-Bara e o Jo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7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renderam a dois príncipes dos midianitas, a Orebe e a Zeebe; e mataram a Orebe na penha de Orebe, e a Zeebe mataram no lagar de Zeebe, e perseguiram aos midianitas; e trouxeram as cabeças de Orebe e de Zeebe a Gideão, além do Jord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7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apregoa aos ouvidos do povo, dizendo: Quem for medroso e tímido, volte, e retire-se apressadamente das montanhas de Gileade. Então voltaram do povo vinte e dois mil, e dez mil fic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7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o SENHOR a Gideão: Ainda há muito povo; faze-os descer às águas, e ali os provarei; e será que, daquele de que eu te disser: Este irá contigo, esse contigo irá; porém de todo aquele, de que eu te disser: Este não irá contigo, esse não i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7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z descer o povo às águas. Então o SENHOR disse a Gideão: Qualquer que lamber as águas com a sua língua, como as lambe o cão, esse porás à parte; como também a todo aquele que se abaixar de joelhos a beb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7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i o número dos que lamberam, levando a mão à boca, trezentos homens; e todo o restante do povo se abaixou de joelhos a beber as águ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7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o SENHOR a Gideão: Com estes trezentos homens que lamberam as águas vos livrarei, e darei os midianitas na tua mão; portanto, todos os demais se retirem, cada um ao seu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7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povo tomou na sua mão a provisão e as suas buzinas, e enviou a todos os outros homens de Israel cada um à sua tenda, porém os trezentos homens reteve; e estava o arraial dos midianitas embaixo, no va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7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naquela mesma noite, o SENHOR lhe disse: Levanta-te, e desce ao arraial, porque o tenho dado na tua 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6:44Z</dcterms:created>
  <dc:creator>Admin</dc:creator>
  <dc:description/>
  <dc:language>en-US</dc:language>
  <cp:lastModifiedBy>Admin</cp:lastModifiedBy>
  <dcterms:modified xsi:type="dcterms:W3CDTF">2008-07-31T00:06:44Z</dcterms:modified>
  <cp:revision>1</cp:revision>
  <dc:subject/>
  <dc:title>Slide 1</dc:title>
</cp:coreProperties>
</file>