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657-C628-4CC5-8F28-88E14B7A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B6F-9A1B-48EA-A5F5-76F7DECA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FF3-9B6B-4853-8D5A-E3A5B187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E32-C609-4FD7-911F-A0AED796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5D7-D509-4586-BAC1-F45DA32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0C0-6CC3-4C96-BF39-97B864BE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B58-ACF6-46DA-9751-452F517A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BBE-1D2B-421B-9F70-E6971666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A6F-6932-450F-AEC8-6E4DA379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5F4-FEEE-42A1-8745-0883C03B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462-5B20-41C6-9F75-5C7F46D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5B0-CE81-43C8-AA93-5BEE70D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7EF-8F87-40CE-9F05-61D214A0E0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stas coisas vi quatro anjos que estavam sobre os quatro cantos da terra, retendo os quatro ventos da terra, para que nenhum vento soprasse sobre a terra, nem sobre o mar, nem contra árvore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vam com grande voz, dizendo: Salvação ao nosso Deus, que está assentado no trono, e a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anjos estavam ao redor do trono, e dos anciãos, e dos quatro animais; e prostraram-se diante do trono sobre seus rostos, e adoraram a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Amém. Louvor, e glória, e sabedoria, e ação de graças, e honra, e poder, e força ao nosso Deus,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os anciãos me falou, dizendo: Estes que estão vestidos de vestes brancas, quem são, e de onde vie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-lhe: Senhor, tu sabes. E ele disse-me: Estes são os que vieram da grande tribulação, e lavaram as suas vestes e as branquearam no sangue do Co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stão diante do trono de Deus, e o servem de dia e de noite no seu templo; e aquele que está assentado sobre o trono os cobrirá com a sua som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ais terão fome, nunca mais terão sede; nem sol nem calma alguma cair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Cordeiro que está no meio do trono os apascentará, e lhes servirá de guia para as fontes das águas da vida; e Deus limpará de seus olhos toda a lágr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outro anjo subir do lado do sol nascente, e que tinha o selo do Deus vivo; e clamou com grande voz aos quatro anjos, a quem fora dado o poder de danificar a terra e o m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Não danifiqueis a terra, nem o mar, nem as árvores, até que hajamos assinalado nas suas testas os servos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o número dos assinalados, e eram cento e quarenta e quatro mil assinalados, de todas as tribo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Judá, havia doze mil assinalados; da tribo de Rúben, doze mil assinalados; da tribo de Gade, doze mil assinal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Aser, doze mil assinalados; da tribo de Naftali, doze mil assinalados; da tribo de Manassés, doze mil assinal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Simeão, doze mil assinalados; da tribo de Levi, doze mil assinalados; da tribo de Issacar, doze mil assinal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Zebulom, doze mil assinalados; da tribo de José, doze mil assinalados; da tribo de Benjamim, doze mil assina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tas coisas olhei, e eis aqui uma multidão, a qual ninguém podia contar, de todas as nações, e tribos, e povos, e línguas, que estavam diante do trono, e perante o Cordeiro, trajando vestes brancas e com palmas nas suas 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22Z</dcterms:created>
  <dc:creator>Admin</dc:creator>
  <dc:description/>
  <dc:language>en-US</dc:language>
  <cp:lastModifiedBy>Admin</cp:lastModifiedBy>
  <dcterms:modified xsi:type="dcterms:W3CDTF">2008-07-30T23:22:22Z</dcterms:modified>
  <cp:revision>1</cp:revision>
  <dc:subject/>
  <dc:title>Slide 1</dc:title>
</cp:coreProperties>
</file>