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DC1C-5903-4F83-9789-D6ED6E808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A73C-3127-4979-ADBA-8959CA9A5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4019-FCE8-48ED-8B8B-02D8ACED0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0ED1-C948-456A-8FBE-79BB329C9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B1B5-DBA6-47C7-A44C-DDE6DCC01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8F6D-9214-42CB-BB1F-2C0E6C76B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09D6-74F1-43BE-A8DF-C6D872704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B206-B337-461C-A8A6-E5B9179A1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1C61-C44B-40DA-A8A8-938950787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5D70-29DA-4D87-874B-5AC005A47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27AA-F31D-4135-9A60-33951BB24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9C5F-0576-47EF-A809-D8CA6C8E3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6F65A-E9BB-471E-84BA-586799414DA2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2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NHOR, ouve a minha oração, e chegue a ti o meu clam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2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causa da tua ira e da tua indignação, pois tu me levantaste e me arremessas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2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meus dias são como a sombra que declina, e como a erva me vou secan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2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tu, SENHOR, permanecerás para sempre, a tua memória de geração em ger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2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u te levantarás e terás piedade de Sião; pois o tempo de te compadeceres dela, o tempo determinado, já chego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2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os teus servos têm prazer nas suas pedras, e se compadecem do seu pó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2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os gentios temerão o nome do SENHOR, e todos os reis da terra a tua glór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2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do o SENHOR edificar a Sião, aparecerá na sua glór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2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le atenderá à oração do desamparado, e não desprezará a sua or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2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Isto se escreverá para a geração futura; e o povo que se criar louvará a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2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is olhou desde o alto do seu santuário, desde os céus o SENHOR contemplou a terra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2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escondas de mim o teu rosto no dia da minha angústia, inclina para mim os teus ouvidos; no dia em que eu clamar, ouve-me depress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2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ra ouvir o gemido dos presos, para soltar os sentenciados à morte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2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ra anunciarem o nome do SENHOR em Sião, e o seu louvor em Jerusalém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2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do os povos se ajuntarem, e os reinos, para servirem a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2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bateu a minha força no caminho; abreviou os meus di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2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zia eu: Meu Deus, não me leves no meio dos meus dias, os teus anos são por todas as geraçõ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2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sde a antiguidade fundaste a terra, e os céus são obra das tuas mã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2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les perecerão, mas tu permanecerás; todos eles se envelhecerão como um vestido; como roupa os mudarás, e ficarão muda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2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tu és o mesmo, e os teus anos nunca terão fi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2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filhos dos teus servos continuarão, e a sua semente ficará firmada perante t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2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os meus dias se consomem como a fumaça, e os meus ossos ardem como lenh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2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meu coração está ferido e seco como a erva, por isso me esqueço de comer o meu p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2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causa da voz do meu gemido os meus ossos se apegam à minha p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2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ou semelhante ao pelicano no deserto; sou como um mocho nas solidõ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2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igio, sou como o pardal solitário no telh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2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meus inimigos me afrontam todo o dia; os que se enfurecem contra mim têm jurado contra mi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2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is tenho comido cinza como pão, e misturado com lágrimas a minha bebida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27:14Z</dcterms:created>
  <dc:creator>Admin</dc:creator>
  <dc:description/>
  <dc:language>en-US</dc:language>
  <cp:lastModifiedBy>Admin</cp:lastModifiedBy>
  <dcterms:modified xsi:type="dcterms:W3CDTF">2008-07-31T00:27:14Z</dcterms:modified>
  <cp:revision>1</cp:revision>
  <dc:subject/>
  <dc:title>Slide 1</dc:title>
</cp:coreProperties>
</file>