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478-9A0E-4F67-89C8-61016229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78E-1342-4653-B09E-D9CB385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CD3-8D1D-49DD-BDC2-6ACC2D4F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B75-116B-4ADB-BD0A-C872AA47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6AE-AEC4-4E55-AC98-F9A15301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9AC-F15E-448F-B80B-8DFCBD2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DFA-7ED7-421C-8373-FEADAF3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E7D-DAB1-43A4-BA7A-E1C7D65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F37-9CE5-413F-8E2B-CE27F1D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BAF-8D18-4556-9291-4C86228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0E0-6407-4D29-B327-35864FFD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B4D-7710-4FBF-AFD9-44834D7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CF0-EFE2-4643-875C-B087ADDE63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Israel fizeram o que era mau aos olhos do SENHOR; e o SENHOR os deu nas mãos dos midianitas por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disse: Eu sou o SENHOR vosso Deus; não temais aos deuses dos amorreus, em cuja terra habitais; mas não destes ouvidos à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veio, e assentou-se debaixo do carvalho que está em Ofra, que pertencia a Joás, abiezrita; e Gideão, seu filho, estava malhando o trigo no lagar, para o salvar d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lhe apareceu, e lhe disse: O SENHOR é contigo, homem valo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Gideão lhe respondeu: Ai, Senhor meu, se o SENHOR é conosco, por que tudo isto nos sobreveio? E que é feito de todas as suas maravilhas que nossos pais nos contaram, dizendo: Não nos fez o SENHOR subir do Egito? Porém agora o SENHOR nos desamparou,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olhou para ele, e disse: Vai nesta tua força, e livrarás a Israel das mãos dos midianitas; porventura não te enviei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Ai, Senhor meu, com que livrarei a Israel? Eis que a minha família é a mais pobre em Manassés, e eu o menor na casa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 disse: Porquanto eu hei de ser contigo, tu ferirás aos midianitas como se fossem um só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Se agora tenho achado graça aos teus olhos, dá-me um sinal de que és tu que falas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te que daqui não te apartes, até que eu volte e traga o meu presente, e o ponha perante ti. E disse: Eu esperarei até que vol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Gideão e preparou um cabrito e pães ázimos de um efa de farinha; a carne pôs num cesto e o caldo pôs numa panela; e trouxe-lho até debaixo do carvalho, e lho ofe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revalecendo a mão dos midianitas sobre Israel, fizeram os filhos de Israel para si, por causa dos midianitas, as covas que estão nos montes, as cavernas e as fortific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anjo de Deus lhe disse: Toma a carne e os pães ázimos, e põe-nos sobre esta penha e derrama-lhe o caldo. E assim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estendeu a ponta do cajado, que estava na sua mão, e tocou a carne e os pães ázimos; então subiu o fogo da penha, e consumiu a carne e os pães ázimos; e o anjo do SENHOR desapareceu de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u Gideão que era o anjo do SENHOR e disse: Ah, Senhor DEUS, pois vi o anjo do SENHOR face 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lhe disse: Paz seja contigo; não temas; não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Gideão edificou ali um altar ao SENHOR, e chamou-lhe: O SENHOR É PAZ; e ainda até o dia de hoje está em Ofra dos abiez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a mesma noite, que o SENHOR lhe disse: Toma o boi que pertence a teu pai, a saber, o segundo boi de sete anos, e derruba o altar de Baal, que é de teu pai; e corta o bosque que está ao pé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 ao SENHOR teu Deus um altar no cume deste lugar forte, num lugar conveniente; e toma o segundo boi, e o oferecerás em holocausto com a lenha que cortares do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Gideão tomou dez homens dentre os seus servos, e fez como o SENHOR lhe dissera; e sucedeu que, temendo ele a casa de seu pai, e os homens daquela cidade, não o fez de dia, mas fê-lo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ndo-se, pois, os homens daquela cidade, de madrugada, eis que estava o altar de Baal derrubado, e o bosque estava ao pé dele, cortado; e o segundo boi oferecido no altar que fora ed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ns aos outros disseram: Quem fez esta coisa? E, esquadrinhando, e inquirindo, disseram: Gideão, o filho de Joás, fez est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ia que, semeando Israel, os midianitas e os amalequitas, e também os do oriente, contra ele sub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aquela cidade disseram a Joás: Tira para fora a teu filho; para que morra; pois derribou o altar de Baal, e cortou o bosque que estava ao pé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oás disse a todos os que se puseram contra ele: Contendereis vós por Baal? Livrá-lo-eis vós? Qualquer que por ele contender ainda esta manhã será morto; se é deus, por si mesmo contenda; pois derrubaram o seu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aquele dia lhe chamaram Jerubaal, dizendo: Baal contenda contra ele, pois derrubou o seu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midianitas e amalequitas, e os filhos do oriente se ajuntaram, e passaram, e acamparam no vale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Espírito do SENHOR revestiu a Gideão, o qual tocou a buzina, e os abiezritas se ajuntaram após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mensageiros por toda a tribo de Manassés, que também se ajuntou após ele; também enviou mensageiros a Aser, e a Zebulom, e a Naftali, que saíram-lhe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Gideão a Deus: Se hás de livrar a Israel por minha mão, como disses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porei um velo de lã na eira; se o orvalho estiver somente no velo, e toda a terra ficar seca, então conhecerei que hás de livrar a Israel por minha mão, como diss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sucedeu; porque no outro dia se levantou de madrugada, e apertou o velo; e do orvalho que espremeu do velo, encheu uma taça d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Gideão a Deus: Não se acenda contra mim a tua ira, se ainda falar só esta vez; rogo-te que só esta vez faça a prova com o velo; rogo-te que só o velo fique seco, e em toda a terra haja o o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nham-se contra ele em campo, e destruíam os frutos da terra, até chegarem a Gaza; e não deixavam mantimento em Israel, nem ovelhas, nem bois, nem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assim fez naquela noite; pois só o velo ficou seco, e sobre toda a terra havia o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biam com os seus gados e tendas; vinham como gafanhotos, em grande multidão que não se podia contar, nem a eles nem aos seus camelos; e entravam na terra, para a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Israel empobreceu muito pela presença dos midianitas; então os filhos de Israel clamar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lamando os filhos de Israel ao SENHOR por causa dos midian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o SENHOR um profeta aos filhos de Israel, que lhes disse: Assim diz o SENHOR Deus de Israel: Do Egito eu vos fiz subir, e vos tirei da casa da serv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livrei da mão dos egípcios, e da mão de todos quantos vos oprimiam; e os expulsei de diante de vós, e a vós dei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41Z</dcterms:created>
  <dc:creator>Admin</dc:creator>
  <dc:description/>
  <dc:language>en-US</dc:language>
  <cp:lastModifiedBy>Admin</cp:lastModifiedBy>
  <dcterms:modified xsi:type="dcterms:W3CDTF">2008-07-31T00:06:41Z</dcterms:modified>
  <cp:revision>1</cp:revision>
  <dc:subject/>
  <dc:title>Slide 1</dc:title>
</cp:coreProperties>
</file>