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86E-C239-4703-8B03-B76B61FC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ED7-5DD0-4432-9FC2-42DB2541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10F-E794-4FB7-B5A8-A5720F44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911-124F-4E6E-926E-7204E56C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B15-1BDB-47C9-B2D3-02BBA35B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212-78C6-4365-9B04-2F4FF620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D91E-E047-4C17-A6A9-D3BEFF27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15F-9845-486D-9A47-A863D57C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A5C3-9180-45EC-B1E7-61D28C45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C10B-9A55-4E84-B65A-B1ACC96D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FA11-4C7E-49E2-B2E2-7B6C89F3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36F-0433-439B-8A6F-F22A1EF4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1971-0D0D-46D2-886D-A1D17C14C1F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DE quão grande amor nos tem concedido o Pai, que fôssemos chamados filhos de Deus. Por isso o mundo não nos conhece; porque não o conhece 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sto são manifestos os filhos de Deus, e os filhos do diabo. Qualquer que não pratica a justiça, e não ama a seu irmão, não é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a é a mensagem que ouvistes desde o princípio: que nos amemos uns a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mo Caim, que era do maligno, e matou a seu irmão. E por que causa o matou? Porque as suas obras eram más e as de seu irmão jus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us irmãos, não vos maravilheis, se o mundo vos ode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ós sabemos que passamos da morte para a vida, porque amamos os irmãos. Quem não ama a seu irmão permanece n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quer que odeia a seu irmão é homicida. E vós sabeis que nenhum homicida tem a vida eterna permanecendo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hecemos o amor nisto: que ele deu a sua vida por nós, e nós devemos dar a vida pelo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, pois, tiver bens do mundo, e, vendo o seu irmão necessitado, lhe cerrar as suas entranhas, como estará nele o amor de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us filhinhos, não amemos de palavra, nem de língua, mas por obra e em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isto conhecemos que somos da verdade, e diante dele asseguraremos nossos coraçõ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dos, agora somos filhos de Deus, e ainda não é manifestado o que havemos de ser. Mas sabemos que, quando ele se manifestar, seremos semelhantes a ele; porque assim como é o ver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ndo que, se o nosso coração nos condena, maior é Deus do que o nosso coração, e conhece todas 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dos, se o nosso coração não nos condena, temos confiança para com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quer coisa que lhe pedirmos, dele a receberemos, porque guardamos os seus mandamentos, e fazemos o que é agradável à sua vi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mandamento é este: que creiamos no nome de seu Filho Jesus Cristo, e nos amemos uns aos outros, segundo o seu mand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que guarda os seus mandamentos nele está, e ele nele. E nisto conhecemos que ele está em nós, pelo Espírito que nos tem 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quer que nele tem esta esperança purifica-se a si mesmo, como também ele é p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quer que comete pecado, também comete iniqüidade; porque o pecado é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m sabeis que ele se manifestou para tirar os nossos pecados; e nele não há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quer que permanece nele não peca; qualquer que peca não o viu nem o conh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inhos, ninguém vos engane. Quem pratica justiça é justo, assim como ele é j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comete o pecado é do diabo; porque o diabo peca desde o princípio. Para isto o Filho de Deus se manifestou: para desfazer as obras do diab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quer que é nascido de Deus não comete pecado; porque a sua semente permanece nele; e não pode pecar, porque é nascid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4:09Z</dcterms:created>
  <dc:creator>Admin</dc:creator>
  <dc:description/>
  <dc:language>en-US</dc:language>
  <cp:lastModifiedBy>Admin</cp:lastModifiedBy>
  <dcterms:modified xsi:type="dcterms:W3CDTF">2008-07-30T23:44:09Z</dcterms:modified>
  <cp:revision>1</cp:revision>
  <dc:subject/>
  <dc:title>Slide 1</dc:title>
</cp:coreProperties>
</file>