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D03-0E5C-4DD2-A111-0025E8F1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431-9345-4169-9D29-EC50F10F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15B-C0A6-4C50-9E2D-F2EF1C5F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BE7-B374-48CA-A0F8-213DB7C8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E52-E47A-4C70-9C37-FC5CE612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DE7-C6E0-4783-B397-132F2F80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930-F061-4DB2-BE1F-EC820B84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16A-4A9D-45C0-A3D1-014424A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736-568E-4B6C-8963-4787BD5D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E54-CA61-4D37-AA97-E654717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359-65D1-4D86-A7F4-71A4AD8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88B-3A6B-4759-AA29-7499718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5EF2-0852-4E0F-BAAE-254AB707E8B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depois disto que Davi consultou ao SENHOR, dizendo: Subirei a alguma das cidades de Judá? E disse-lhe o SENHOR: Sobe. E falou Davi: Para onde subirei? E disse: Para Heb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quarenta anos era Is-Bosete, filho de Saul, quando começou a reinar sobre Israel, e reinou dois anos; mas os da casa de Judá seguiam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número dos dias que Davi reinou em Hebrom, sobre a casa de Judá, sete anos e seis m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Abner, filho de Ner, com os servos de Is-Bosete, filho de Saul, de Maanaim a Gibe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ram também Joabe, filho de Zeruia, e os servos de Davi, e se encontraram uns com os outros perto do tanque de Gibeom; e pararam estes deste lado do tanque, e os outros do outro lado do tan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ner a Joabe: Deixa levantar os moços, e joguem diante de nós. E disse Joabe: Levante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aram, e passaram, em número de doze de Benjamim, da parte de Is-Bosete, filho de Saul, e doze dos servos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um lançou mão da cabeça do outro, cravou-lhe a espada no lado, e caíram juntos, por isso se chamou àquele lugar Helcate-Hazurim, que está junto a Gibe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iu-se naquele dia uma crua peleja; porém Abner e os homens de Israel foram feridos diante dos servos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ali os três filhos de Zeruia, Joabe, Abisai, e Asael; e Asael era ligeiro de pés, como as gazelas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ael perseguiu a Abner; e não se desviou de detrás de Abner, nem para a direita nem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Davi para lá, e também as suas duas mulheres, Ainoã, a jizreelita, e Abigail, a mulher de Nabal, o carmel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ner, olhando para trás, perguntou: És tu Asael? E ele falou: Eu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Abner: Desvia-te para a direita, ou para a esquerda, e lança mão de um dos moços, e toma os seus despojos. Porém Asael não quis desviar-se de detrá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ner tornou a dizer a Asael: Desvia-te de detrás de mim; por que hei de eu ferir-te e dar contigo em terra? E como levantaria eu o meu rosto diante de Joabe, teu ir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não querendo ele se desviar, Abner o feriu com a ponta da lança pela quinta costela, e a lança lhe saiu por detrás, e caiu ali, e morreu naquele mesmo lugar; e sucedeu que, todos os que chegavam ao lugar onde Asael caiu e morreu, pa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oabe e Abisai perseguiram a Abner; e pôs-se o sol, chegando eles ao outeiro de Amá, que está diante de Gia, junto ao caminho do deserto de Gib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enjamim se ajuntaram atrás de Abner, e fizeram um batalhão, e puseram-se no cume de um out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ner gritou a Joabe, e disse: Consumirá a espada para sempre? Não sabes tu que por fim haverá amargura? E até quando não hás de dizer ao povo que deixe de perseguir a seus ir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abe: Vive Deus, que, se não tivesses falado, só pela manhã o povo teria cessado, cada um, de perseguir a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abe tocou a buzina, e todo o povo parou, e não perseguiram mais a Israel; e tampouco pelejaram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minharam Abner e os seus homens toda aquela noite pela planície; e, passando o Jordão, caminharam por todo o Bitrom, e chegaram a Maan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Davi subir os homens que estavam com ele, cada um com a sua família; e habitaram nas cidades de Heb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Joabe voltou de perseguir a Abner, e ajuntou todo o povo; e dos servos de Davi faltaram dezenove homens, e As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servos de Davi feriram dentre os de Benjamim, e dentre os homens de Abner, a trezentos e sessenta homens, que ali ficaram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 a Asael, e sepultaram-no na sepultura de seu pai, que estava em Belém; e Joabe e seus homens caminharam toda aquela noite, e amanheceu-lhes o dia em Heb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os homens de Judá, e ungiram ali a Davi rei sobre a casa de Judá. E deram avisos a Davi, dizendo: Os homens de Jabes-Gileade foram os que sepultaram a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Davi mensageiros aos homens de Jabes-Gileade, para dizer-lhes: Benditos sejais vós do SENHOR, que fizestes tal beneficência a vosso senhor, a Saul, e o sepultast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o SENHOR use convosco de beneficência e fidelidade; e também eu vos farei este bem, porquanto fizestes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cem-se, pois, agora as vossas mãos, e sede homens valentes, pois Saul, vosso senhor, é morto, mas também os da casa de Judá já me ungiram a mim por seu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bner, filho de Ner, capitão do exército de Saul, tomou a Is-Bosete, filho de Saul, e o fez passar a Maana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onstituiu rei sobre Gileade, e sobre os assuritas, e sobre Jizreel, e sobre Efraim, e sobre Benjamim, e sobr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41Z</dcterms:created>
  <dc:creator>Admin</dc:creator>
  <dc:description/>
  <dc:language>en-US</dc:language>
  <cp:lastModifiedBy>Admin</cp:lastModifiedBy>
  <dcterms:modified xsi:type="dcterms:W3CDTF">2008-07-30T23:52:41Z</dcterms:modified>
  <cp:revision>1</cp:revision>
  <dc:subject/>
  <dc:title>Slide 1</dc:title>
</cp:coreProperties>
</file>