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E70-6CF7-48CA-9D62-B7AF27D6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2D-8387-46EC-B9D9-66621B8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031-B588-4D96-810A-F5F47230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DF9-8A02-4EF0-A0B4-B548F03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414-43DD-4C25-83A5-9867933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09E-955C-4CF5-BA5D-D3E16518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A0D-D1A3-433E-9CE1-42C72C43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D51-AAA2-4D54-BA4C-873F26C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DE2-6F06-4EDE-A4FF-82FCA60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AE8-24C2-4CA6-B7E9-F0B72D4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C2F-A84A-48A3-9A3E-F947CD6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8F7-B8BA-40CC-ABB2-010E026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0BA-3645-42E6-B020-C878939AC4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por que nos rejeitaste para sempre? Por que se acende a tua ira contra as ovelhas do teu pa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, ó Deus, nos afrontará o adversário? Blasfemará o inimigo o teu nome para semp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retiras a tua mão, a saber, a tua destra? Tira-a de dentro do teu s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Deus é o meu Rei desde a antiguidade, operando a salvação no mei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dividiste o mar pela tua força; quebrantaste as cabeças das baleias n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em pedaços as cabeças do leviatã, e o deste por mantimento aos habitantes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ndeste a fonte e o ribeiro; secaste os rios impetu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u é o dia e tua é a noite; preparaste a luz e 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beleceste todos os limites da terra; verão e inverno tu os form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isto: que o inimigo afrontou ao SENHOR e que um povo louco blasfemou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tregues às feras a alma da tua rola; não te esqueças para sempre da vida dos teus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a tua congregação, que compraste desde a antiguidade; da vara da tua herança, que remiste; deste monte Sião, em que habit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 a tua aliança; pois os lugares tenebrosos da terra estão cheios de moradas de crue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, não volte envergonhado o oprimido; louvem o teu nome o aflito e o necessi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ó Deus, pleiteia a tua própria causa; lembra-te da afronta que o louco te faz cada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esqueças dos gritos dos teus inimigos; o tumulto daqueles que se levantam contra ti aumenta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 os teus pés para as perpétuas assolações, para tudo o que o inimigo tem feito de mal n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inimigos bramam no meio dos teus lugares santos; põem neles as suas insígnias por sin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homem se tornava famoso, conforme houvesse levantado machados, contra a espessura do arvor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toda obra entalhada de uma vez quebram com machados e mart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ram fogo no teu santuário; profanaram, derrubando-a até ao chão, a morada d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nos seus corações: Despojemo-los duma vez. Queimaram todos os lugares santos de Deu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não vemos os nossos sinais, já não há profeta, nem há entre nós alguém que saiba até quando isto du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18Z</dcterms:created>
  <dc:creator>Admin</dc:creator>
  <dc:description/>
  <dc:language>en-US</dc:language>
  <cp:lastModifiedBy>Admin</cp:lastModifiedBy>
  <dcterms:modified xsi:type="dcterms:W3CDTF">2008-07-31T00:26:18Z</dcterms:modified>
  <cp:revision>1</cp:revision>
  <dc:subject/>
  <dc:title>Slide 1</dc:title>
</cp:coreProperties>
</file>