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35262-45D3-4D93-BF50-40BD25F6E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59E10-75C8-4909-B7D1-D1BBE200F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493BA-5F71-4D80-8041-6CF4A76EC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20EFE-141D-493D-8AFA-450BB71E3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53B3C-8780-4E4A-8F16-2B41A2BC6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B07AC-D6F1-43DD-A7FC-D27A17D8E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81FF6-ACC8-4008-907F-FC7B9CE16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64025-DF5E-44EE-AFF3-CD8E24254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D3DD5-F294-4423-98AE-437FA30DB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4953C-EE57-4044-86CB-00332E832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6337C-58A9-4963-9F29-6713C6185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DEA62-6FFD-4F36-8EAF-59CE94410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DA207-6182-424F-9EF1-ABFE38986ED4}"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uízes 19:1</a:t>
            </a:r>
            <a:endParaRPr b="0" lang="en-US" sz="5000" spc="-1" strike="noStrike">
              <a:solidFill>
                <a:srgbClr val="000000"/>
              </a:solidFill>
              <a:latin typeface="Arial"/>
            </a:endParaRPr>
          </a:p>
        </p:txBody>
      </p:sp>
      <p:sp>
        <p:nvSpPr>
          <p:cNvPr id="42"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CONTECEU também naqueles dias, em que não havia rei em Israel, que houve um homem levita, que, peregrinando aos lados da montanha de Efraim, tomou para si uma concubina, de Belém de Judá.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uízes 19:10</a:t>
            </a:r>
            <a:endParaRPr b="0" lang="en-US" sz="5000" spc="-1" strike="noStrike">
              <a:solidFill>
                <a:srgbClr val="000000"/>
              </a:solidFill>
              <a:latin typeface="Arial"/>
            </a:endParaRPr>
          </a:p>
        </p:txBody>
      </p:sp>
      <p:sp>
        <p:nvSpPr>
          <p:cNvPr id="60"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ém o homem não quis ali passar a noite, mas levantou-se, e partiu, e chegou até defronte de Jebus (que é Jerusalém), e com ele o par de jumentos albardados, como também a sua concubin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uízes 19:11</a:t>
            </a:r>
            <a:endParaRPr b="0" lang="en-US" sz="5000" spc="-1" strike="noStrike">
              <a:solidFill>
                <a:srgbClr val="000000"/>
              </a:solidFill>
              <a:latin typeface="Arial"/>
            </a:endParaRPr>
          </a:p>
        </p:txBody>
      </p:sp>
      <p:sp>
        <p:nvSpPr>
          <p:cNvPr id="62"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stando, pois, já perto de Jebus, e tendo-se já declinado muito o dia, disse o moço a seu SENHOR: Vamos agora, e retiremo-nos a esta cidade dos jebuseus, e passemos ali a noit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uízes 19:12</a:t>
            </a:r>
            <a:endParaRPr b="0" lang="en-US" sz="5000" spc="-1" strike="noStrike">
              <a:solidFill>
                <a:srgbClr val="000000"/>
              </a:solidFill>
              <a:latin typeface="Arial"/>
            </a:endParaRPr>
          </a:p>
        </p:txBody>
      </p:sp>
      <p:sp>
        <p:nvSpPr>
          <p:cNvPr id="64"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ém disse-lhe seu senhor: Não nos retiraremos a nenhuma cidade estranha, que não seja dos filhos de Israel; mas iremos até Gibeá.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uízes 19:13</a:t>
            </a:r>
            <a:endParaRPr b="0" lang="en-US" sz="5000" spc="-1" strike="noStrike">
              <a:solidFill>
                <a:srgbClr val="000000"/>
              </a:solidFill>
              <a:latin typeface="Arial"/>
            </a:endParaRPr>
          </a:p>
        </p:txBody>
      </p:sp>
      <p:sp>
        <p:nvSpPr>
          <p:cNvPr id="6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isse mais a seu moço: Vamos, e cheguemos a um daqueles lugares, e passemos a noite em Gibeá ou em Ramá.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uízes 19:14</a:t>
            </a:r>
            <a:endParaRPr b="0" lang="en-US" sz="5000" spc="-1" strike="noStrike">
              <a:solidFill>
                <a:srgbClr val="000000"/>
              </a:solidFill>
              <a:latin typeface="Arial"/>
            </a:endParaRPr>
          </a:p>
        </p:txBody>
      </p:sp>
      <p:sp>
        <p:nvSpPr>
          <p:cNvPr id="6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assaram, pois, adiante, e caminharam, e o sol se lhes pôs junto a Gibeá, que é cidade de Benjamim.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uízes 19:15</a:t>
            </a:r>
            <a:endParaRPr b="0" lang="en-US" sz="5000" spc="-1" strike="noStrike">
              <a:solidFill>
                <a:srgbClr val="000000"/>
              </a:solidFill>
              <a:latin typeface="Arial"/>
            </a:endParaRPr>
          </a:p>
        </p:txBody>
      </p:sp>
      <p:sp>
        <p:nvSpPr>
          <p:cNvPr id="70"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retiraram-se para lá, para passarem a noite em Gibeá; e, entrando ele, assentou-se na praça da cidade, porque não houve quem os recolhesse em casa para ali passarem a noit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uízes 19:16</a:t>
            </a:r>
            <a:endParaRPr b="0" lang="en-US" sz="5000" spc="-1" strike="noStrike">
              <a:solidFill>
                <a:srgbClr val="000000"/>
              </a:solidFill>
              <a:latin typeface="Arial"/>
            </a:endParaRPr>
          </a:p>
        </p:txBody>
      </p:sp>
      <p:sp>
        <p:nvSpPr>
          <p:cNvPr id="72"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eis que um velho homem vinha à tarde do seu trabalho do campo; e era este homem da montanha de Efraim, mas peregrinava em Gibeá; eram porém os homens deste lugar filhos de Benjamim.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uízes 19:17</a:t>
            </a:r>
            <a:endParaRPr b="0" lang="en-US" sz="5000" spc="-1" strike="noStrike">
              <a:solidFill>
                <a:srgbClr val="000000"/>
              </a:solidFill>
              <a:latin typeface="Arial"/>
            </a:endParaRPr>
          </a:p>
        </p:txBody>
      </p:sp>
      <p:sp>
        <p:nvSpPr>
          <p:cNvPr id="74"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Levantando ele, pois, os olhos, viu a este viajante na praça da cidade, e disse o ancião: Para onde vais, e donde ven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uízes 19:18</a:t>
            </a:r>
            <a:endParaRPr b="0" lang="en-US" sz="5000" spc="-1" strike="noStrike">
              <a:solidFill>
                <a:srgbClr val="000000"/>
              </a:solidFill>
              <a:latin typeface="Arial"/>
            </a:endParaRPr>
          </a:p>
        </p:txBody>
      </p:sp>
      <p:sp>
        <p:nvSpPr>
          <p:cNvPr id="76"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ele lhe disse: Viajamos de Belém de Judá até aos lados da montanha de Efraim, de onde sou; porquanto fui a Belém de Judá, porém agora vou à casa do SENHOR; e ninguém há que me recolha em cas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uízes 19:19</a:t>
            </a:r>
            <a:endParaRPr b="0" lang="en-US" sz="5000" spc="-1" strike="noStrike">
              <a:solidFill>
                <a:srgbClr val="000000"/>
              </a:solidFill>
              <a:latin typeface="Arial"/>
            </a:endParaRPr>
          </a:p>
        </p:txBody>
      </p:sp>
      <p:sp>
        <p:nvSpPr>
          <p:cNvPr id="78"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Todavia temos palha e pasto para os nossos jumentos, e também pão e vinho há para mim, e para a tua serva, e para o moço que vem com os teus servos; de coisa nenhuma há falt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uízes 19:2</a:t>
            </a:r>
            <a:endParaRPr b="0" lang="en-US" sz="5000" spc="-1" strike="noStrike">
              <a:solidFill>
                <a:srgbClr val="000000"/>
              </a:solidFill>
              <a:latin typeface="Arial"/>
            </a:endParaRPr>
          </a:p>
        </p:txBody>
      </p:sp>
      <p:sp>
        <p:nvSpPr>
          <p:cNvPr id="4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ém a sua concubina adulterou contra ele, e deixando-o, foi para a casa de seu pai, em Belém de Judá, e esteve ali alguns dias, a saber, quatro mes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uízes 19:20</a:t>
            </a:r>
            <a:endParaRPr b="0" lang="en-US" sz="5000" spc="-1" strike="noStrike">
              <a:solidFill>
                <a:srgbClr val="000000"/>
              </a:solidFill>
              <a:latin typeface="Arial"/>
            </a:endParaRPr>
          </a:p>
        </p:txBody>
      </p:sp>
      <p:sp>
        <p:nvSpPr>
          <p:cNvPr id="80"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disse o ancião: Paz seja contigo; tudo quanto te faltar fique ao meu cargo; tão-somente não passes a noite na praç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uízes 19:21</a:t>
            </a:r>
            <a:endParaRPr b="0" lang="en-US" sz="5000" spc="-1" strike="noStrike">
              <a:solidFill>
                <a:srgbClr val="000000"/>
              </a:solidFill>
              <a:latin typeface="Arial"/>
            </a:endParaRPr>
          </a:p>
        </p:txBody>
      </p:sp>
      <p:sp>
        <p:nvSpPr>
          <p:cNvPr id="82"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levou-o à sua casa, e deu pasto aos jumentos; e, lavando-se os pés, comeram e beberam.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uízes 19:22</a:t>
            </a:r>
            <a:endParaRPr b="0" lang="en-US" sz="5000" spc="-1" strike="noStrike">
              <a:solidFill>
                <a:srgbClr val="000000"/>
              </a:solidFill>
              <a:latin typeface="Arial"/>
            </a:endParaRPr>
          </a:p>
        </p:txBody>
      </p:sp>
      <p:sp>
        <p:nvSpPr>
          <p:cNvPr id="84" name=""/>
          <p:cNvSpPr/>
          <p:nvPr/>
        </p:nvSpPr>
        <p:spPr>
          <a:xfrm>
            <a:off x="317520" y="1523880"/>
            <a:ext cx="8356680" cy="557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stando eles alegrando o seu coração, eis que os homens daquela cidade (homens que eram filhos de Belial) cercaram a casa, batendo à porta; e falaram ao ancião, senhor da casa, dizendo: Tira para fora o homem que entrou em tua casa, para que o conheçam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uízes 19:23</a:t>
            </a:r>
            <a:endParaRPr b="0" lang="en-US" sz="5000" spc="-1" strike="noStrike">
              <a:solidFill>
                <a:srgbClr val="000000"/>
              </a:solidFill>
              <a:latin typeface="Arial"/>
            </a:endParaRPr>
          </a:p>
        </p:txBody>
      </p:sp>
      <p:sp>
        <p:nvSpPr>
          <p:cNvPr id="8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o homem, dono da casa, saiu a eles e disse-lhes: Não, irmãos meus, ora não façais semelhante mal; já que este homem entrou em minha casa, não façais tal loucur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uízes 19:24</a:t>
            </a:r>
            <a:endParaRPr b="0" lang="en-US" sz="5000" spc="-1" strike="noStrike">
              <a:solidFill>
                <a:srgbClr val="000000"/>
              </a:solidFill>
              <a:latin typeface="Arial"/>
            </a:endParaRPr>
          </a:p>
        </p:txBody>
      </p:sp>
      <p:sp>
        <p:nvSpPr>
          <p:cNvPr id="88"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is que a minha filha virgem e a concubina dele vo-las tirarei fora; humilhai-as a elas, e fazei delas o que parecer bem aos vossos olhos; porém a este homem não façais essa loucur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uízes 19:25</a:t>
            </a:r>
            <a:endParaRPr b="0" lang="en-US" sz="5000" spc="-1" strike="noStrike">
              <a:solidFill>
                <a:srgbClr val="000000"/>
              </a:solidFill>
              <a:latin typeface="Arial"/>
            </a:endParaRPr>
          </a:p>
        </p:txBody>
      </p:sp>
      <p:sp>
        <p:nvSpPr>
          <p:cNvPr id="90"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ém aqueles homens não o quiseram ouvir; então aquele homem pegou da sua concubina, e lha tirou para fora; e eles a conheceram e abusaram dela toda a noite até pela manhã, e, subindo a alva, a deixaram.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uízes 19:26</a:t>
            </a:r>
            <a:endParaRPr b="0" lang="en-US" sz="5000" spc="-1" strike="noStrike">
              <a:solidFill>
                <a:srgbClr val="000000"/>
              </a:solidFill>
              <a:latin typeface="Arial"/>
            </a:endParaRPr>
          </a:p>
        </p:txBody>
      </p:sp>
      <p:sp>
        <p:nvSpPr>
          <p:cNvPr id="92"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ao romper da manhã veio a mulher, e caiu à porta da casa daquele homem, onde estava seu senhor, e ficou ali até que se fez clar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uízes 19:27</a:t>
            </a:r>
            <a:endParaRPr b="0" lang="en-US" sz="5000" spc="-1" strike="noStrike">
              <a:solidFill>
                <a:srgbClr val="000000"/>
              </a:solidFill>
              <a:latin typeface="Arial"/>
            </a:endParaRPr>
          </a:p>
        </p:txBody>
      </p:sp>
      <p:sp>
        <p:nvSpPr>
          <p:cNvPr id="94"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levantando-se seu senhor pela manhã, e abrindo as portas da casa, e saindo a seguir o seu caminho, eis que a mulher, sua concubina, jazia à porta da casa, com as mãos sobre o limia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uízes 19:28</a:t>
            </a:r>
            <a:endParaRPr b="0" lang="en-US" sz="5000" spc="-1" strike="noStrike">
              <a:solidFill>
                <a:srgbClr val="000000"/>
              </a:solidFill>
              <a:latin typeface="Arial"/>
            </a:endParaRPr>
          </a:p>
        </p:txBody>
      </p:sp>
      <p:sp>
        <p:nvSpPr>
          <p:cNvPr id="9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ele lhe disse: Levanta-te, e vamo-nos, porém ela não respondeu; então, levantando-se o homem a pôs sobre o jumento, e foi para o seu luga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uízes 19:29</a:t>
            </a:r>
            <a:endParaRPr b="0" lang="en-US" sz="5000" spc="-1" strike="noStrike">
              <a:solidFill>
                <a:srgbClr val="000000"/>
              </a:solidFill>
              <a:latin typeface="Arial"/>
            </a:endParaRPr>
          </a:p>
        </p:txBody>
      </p:sp>
      <p:sp>
        <p:nvSpPr>
          <p:cNvPr id="98"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Chegando, pois, à sua casa, tomou um cutelo, e pegou na sua concubina, e a despedaçou com os seus ossos em doze partes; e enviou-as por todos os termos de Israel.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uízes 19:3</a:t>
            </a:r>
            <a:endParaRPr b="0" lang="en-US" sz="5000" spc="-1" strike="noStrike">
              <a:solidFill>
                <a:srgbClr val="000000"/>
              </a:solidFill>
              <a:latin typeface="Arial"/>
            </a:endParaRPr>
          </a:p>
        </p:txBody>
      </p:sp>
      <p:sp>
        <p:nvSpPr>
          <p:cNvPr id="46"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seu marido se levantou, e foi atrás dela, para lhe falar conforme ao seu coração, e para tornar a trazê-la; e o seu moço e um par de jumentos iam com ele; e ela o levou à casa de seu pai, e, vendo-o o pai da moça, alegrou-se ao encontrar-se com el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uízes 19:30</a:t>
            </a:r>
            <a:endParaRPr b="0" lang="en-US" sz="5000" spc="-1" strike="noStrike">
              <a:solidFill>
                <a:srgbClr val="000000"/>
              </a:solidFill>
              <a:latin typeface="Arial"/>
            </a:endParaRPr>
          </a:p>
        </p:txBody>
      </p:sp>
      <p:sp>
        <p:nvSpPr>
          <p:cNvPr id="100"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sucedeu que cada um que via aquilo dizia: Nunca tal se fez, nem se viu desde o dia em que os filhos de Israel subiram da terra do Egito, até ao dia de hoje; ponderai isto, considerai, e falai.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uízes 19:4</a:t>
            </a:r>
            <a:endParaRPr b="0" lang="en-US" sz="5000" spc="-1" strike="noStrike">
              <a:solidFill>
                <a:srgbClr val="000000"/>
              </a:solidFill>
              <a:latin typeface="Arial"/>
            </a:endParaRPr>
          </a:p>
        </p:txBody>
      </p:sp>
      <p:sp>
        <p:nvSpPr>
          <p:cNvPr id="4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seu sogro, o pai da moça, o deteve, e ficou com ele três dias; e comeram e beberam, e passaram ali a noit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uízes 19:5</a:t>
            </a:r>
            <a:endParaRPr b="0" lang="en-US" sz="5000" spc="-1" strike="noStrike">
              <a:solidFill>
                <a:srgbClr val="000000"/>
              </a:solidFill>
              <a:latin typeface="Arial"/>
            </a:endParaRPr>
          </a:p>
        </p:txBody>
      </p:sp>
      <p:sp>
        <p:nvSpPr>
          <p:cNvPr id="50"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sucedeu que ao quarto dia pela manhã, de madrugada, ele levantou-se para partir; então o pai da moça disse a seu genro: Fortalece o teu coração com um bocado de pão, e depois partirei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uízes 19:6</a:t>
            </a:r>
            <a:endParaRPr b="0" lang="en-US" sz="5000" spc="-1" strike="noStrike">
              <a:solidFill>
                <a:srgbClr val="000000"/>
              </a:solidFill>
              <a:latin typeface="Arial"/>
            </a:endParaRPr>
          </a:p>
        </p:txBody>
      </p:sp>
      <p:sp>
        <p:nvSpPr>
          <p:cNvPr id="52"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ssentaram-se, pois, e comeram ambos juntos, e beberam; e disse o pai da moça ao homem: Peço-te que ainda esta noite queiras passá-la aqui, e alegre-se o teu coraçã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uízes 19:7</a:t>
            </a:r>
            <a:endParaRPr b="0" lang="en-US" sz="5000" spc="-1" strike="noStrike">
              <a:solidFill>
                <a:srgbClr val="000000"/>
              </a:solidFill>
              <a:latin typeface="Arial"/>
            </a:endParaRPr>
          </a:p>
        </p:txBody>
      </p:sp>
      <p:sp>
        <p:nvSpPr>
          <p:cNvPr id="54"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ém o homem levantou-se para partir; mas seu sogro o constrangeu a tornar a passar ali a noit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uízes 19:8</a:t>
            </a:r>
            <a:endParaRPr b="0" lang="en-US" sz="5000" spc="-1" strike="noStrike">
              <a:solidFill>
                <a:srgbClr val="000000"/>
              </a:solidFill>
              <a:latin typeface="Arial"/>
            </a:endParaRPr>
          </a:p>
        </p:txBody>
      </p:sp>
      <p:sp>
        <p:nvSpPr>
          <p:cNvPr id="5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madrugando ao quinto dia pela manhã para partir, disse o pai da moça: Ora, conforta o teu coração. E detiveram-se até já declinar o dia; e ambos juntos comeram.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uízes 19:9</a:t>
            </a:r>
            <a:endParaRPr b="0" lang="en-US" sz="5000" spc="-1" strike="noStrike">
              <a:solidFill>
                <a:srgbClr val="000000"/>
              </a:solidFill>
              <a:latin typeface="Arial"/>
            </a:endParaRPr>
          </a:p>
        </p:txBody>
      </p:sp>
      <p:sp>
        <p:nvSpPr>
          <p:cNvPr id="58"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o homem levantou-se para partir, ele, e a sua concubina, e o seu moço; e disse-lhe seu sogro, o pai da moça: Eis que já o dia declina e a tarde já vem chegando; peço-te que aqui passes a noite; eis que o dia já vai acabando, passa aqui a noite, e q</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1T00:07:30Z</dcterms:created>
  <dc:creator>Admin</dc:creator>
  <dc:description/>
  <dc:language>en-US</dc:language>
  <cp:lastModifiedBy>Admin</cp:lastModifiedBy>
  <dcterms:modified xsi:type="dcterms:W3CDTF">2008-07-31T00:07:30Z</dcterms:modified>
  <cp:revision>1</cp:revision>
  <dc:subject/>
  <dc:title>Slide 1</dc:title>
</cp:coreProperties>
</file>