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8D4-D743-471B-A7F5-2BA3EC92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664-A41C-42B3-8708-7DF5BBFE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C29-AAB9-43D4-9DBE-CCE11431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FB1-4BC0-44B1-A05D-FE3AE994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F61-7BF1-4D7E-B33B-2C76C2F8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47C-A02B-4B72-9FB1-16E55360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295-363F-44E5-BC81-0EAFA91A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266-3CF7-4D93-B1C8-71AD42F8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955-57B5-45BA-9920-21FEC1A6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A6E-9685-4213-ACAF-87BAAEB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81A-DFCB-4287-9B24-DFA908B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CBD-E8D9-43A5-8C16-6AC2F2FB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86D3-3212-4E6E-AD37-6D30E3B2D4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lhei, e eis que no firmamento, que estava por cima da cabeça dos querubins, apareceu sobre eles uma como pedra de safira, semelhante a forma de um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 seu aspecto, as quatro tinham uma mesma semelhança; como se estivesse uma roda no meio de outra ro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ndo estes, andavam para os quatro lados deles; não se viravam quando andavam, mas para o lugar para onde olhava a cabeça, para esse seguiam; não se viravam quando and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seu corpo, as suas costas, as suas mãos, as suas asas e as rodas, as rodas que os quatro tinham, estavam cheias de olho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às rodas, ouvindo eu, se lhes gritava: Rod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um tinha quatro rostos; o rosto do primeiro era rosto de querubim, e o rosto do segundo, rosto de homem, e do terceiro era rosto de leão, e do quarto, rosto de ág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rubins se elevaram ao alto; estes são os mesmos seres viventes que vi junto ao rio Queb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ndando os querubins, andavam as rodas juntamente com eles; e, levantando os querubins as suas asas, para se elevarem de sobre a terra, também as rodas não se separava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ndo eles, paravam elas; e, elevando-se eles elevavam-se elas, porque o espírito do ser vivente estava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a glória do SENHOR de sobre a entrada da casa, e parou sobre os querub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rubins alçaram as suas asas, e se elevaram da terra aos meus olhos, quando saíram; e as rodas os acompanhavam; e cada um parou à entrada da porta oriental da casa do SENHOR; e a glória do Deus de Israel estava em cima,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ao homem vestido de linho, dizendo: Vai por entre as rodas, até debaixo do querubim, e enche as tuas mãos de brasas acesas dentre os querubins e espalha-as sobre a cidade. E ele entrou à minha v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seres viventes que vi debaixo do Deus de Israel, junto ao rio Quebar, e conheci que eram querub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um tinha quatro rostos e cada um quatro asas, e a semelhança de mãos de homem debaixo das suas 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melhança dos seus rostos era a dos rostos que eu tinha visto junto ao rio Quebar, o aspecto deles, e eles mesmos; cada um andava para diante do s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rubins estavam ao lado direito da casa, quando entrou aquele homem; e uma nuvem encheu o átrio int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a glória do SENHOR de sobre o querubim indo para a entrada da casa; e encheu-se a casa de uma nuvem, e o átrio se encheu do resplendor da glóri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uído das asas dos querubins se ouviu até ao átrio exterior, como a voz do Deus Todo-Poderoso, quando fa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dando ele ordem ao homem vestido de linho, dizendo: Toma fogo dentre as rodas, dentre os querubins, entrou ele, e parou junto às ro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endeu um querubim a sua mão dentre os querubins para o fogo que estava entre os querubins; e tomou dele, e o pôs nas mãos do que estava vestido de linho; o qual o tomou, e sa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u nos querubins uma semelhança de mão de homem debaixo das suas 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lhei, e eis quatro rodas junto aos querubins, uma roda junto a um querubim, e outra roda junto a outro querubim; e o aspecto das rodas era como a cor da pedra de ber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06Z</dcterms:created>
  <dc:creator>Admin</dc:creator>
  <dc:description/>
  <dc:language>en-US</dc:language>
  <cp:lastModifiedBy>Admin</cp:lastModifiedBy>
  <dcterms:modified xsi:type="dcterms:W3CDTF">2008-07-30T23:34:06Z</dcterms:modified>
  <cp:revision>1</cp:revision>
  <dc:subject/>
  <dc:title>Slide 1</dc:title>
</cp:coreProperties>
</file>