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D19-ED3D-4FF3-8687-F13447E9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AE40-3A9C-4836-ABF0-C3E631A2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7A89-803C-4994-A882-37A36753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7D7-F86A-474A-A01D-65D28112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928-B63F-4C3F-BA2B-4755DE38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93E-2257-46B7-88E8-D3095242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BA58-10EA-47A2-B081-65ABB515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9FBD-645A-46F0-BDFE-2E02DE3E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61E9-4A88-4EA8-9FEF-24D03067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DCC-A5AD-43EB-B9D0-494931D8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980-0773-4F79-A97B-EAD9654D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BB6-FFA2-437F-A94B-CA2051DB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E97A-7658-4BBA-9DF0-69B6D884235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nos viramos e subimos o caminho de Basã; e Ogue, rei de Basã, nos saiu ao encontro, ele e todo o seu povo, à peleja em Ed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cidades do planalto, e todo o Gileade, e todo o Basã, até Salcá e Edrei, cidades do reino de Ogue em Bas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ó Ogue, o rei de Basã, restou dos gigantes; eis que o seu leito, um leito de ferro, não está porventura em Rabá dos filhos de Amom? De nove côvados, o seu comprimento, e de quatro côvados, a sua largura, pelo côvado com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mos, pois, esta terra em possessão naquele tempo: Desde Aroer, que está junto ao ribeiro de Arnom, e a metade da montanha de Gileade, com as suas cidades, tenho dado aos rubenitas e gad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stante de Gileade, como também todo o Basã, o reino de Ogue, dei à meia tribo de Manassés; toda aquela região de Argobe, por todo o Basã, se chamava a terra dos gig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air, filho de Manassés, alcançou toda a região de Argobe, até ao termo dos gesuritas, e maacatitas, e a chamou de seu nome, Havote-Jair até este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E a Maquir dei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os rubenitas e gaditas dei desde Gileade até ao ribeiro de Arnom, cujo meio serve de limite; e até ao ribeiro de Jaboque, o termo dos filhos de 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a campina, e o Jordão por termo; desde Quinerete até ao mar da campina, o Mar Salgado, abaixo de Asdote-Pisga para o ori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mesmo tempo vos ordenei, dizendo: O SENHOR vosso Deus vos deu esta terra, para possuí-la; passai, pois, armados vós, todos os homens valentes, diante de vossos irmãos,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ão-somente vossas mulheres, e vossas crianças, e vosso gado (porque eu sei que tendes muito gado), ficarão nas vossas cidades, que já vos tenho 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me disse: Não o temas, porque a ele e a todo o seu povo, e a sua terra, tenho dado na tua mão; e far-lhe-ás como fizeste a Siom, rei dos amorreus, que habitava em Hesb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e o SENHOR dê descanso a vossos irmãos como a vós; para que eles herdem também a terra que o SENHOR vosso Deus lhes há de dar além do Jordão; então voltareis cada qual à sua herança que já vos tenho 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ei ordem a Josué no mesmo tempo, dizendo: Os teus olhos têm visto tudo o que o SENHOR vosso Deus tem feito a estes dois reis; assim fará o SENHOR a todos os reinos, a que tu pass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s temais, porque o SENHOR vosso Deus é o que peleja por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u pedi graça ao SENHOR no mesmo temp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 DEUS! já começaste a mostrar ao teu servo a tua grandeza e a tua forte mão; pois, que Deus há nos céus e na terra, que possa fazer segundo as tuas obras, e segundo os teus grandes fei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ogo-te que me deixes passar, para que veja esta boa terra que está além do Jordão; esta boa montanha, e o Líban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SENHOR indignou-se muito contra mim por causa de vós, e não me ouviu; antes o SENHOR me disse: Basta; não me fales mais deste assu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e ao cume de Pisga, e levanta os teus olhos ao ocidente, e ao norte, e ao sul, e ao oriente, e vê com os teus olhos; porque não passarás este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a, pois, a Josué, e anima-o, e fortalece-o; porque ele passará adiante deste povo, e o fará possuir a terra que v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icamos neste vale, defronte de Bete-Pe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o SENHOR nosso Deus nos deu na nossa mão a Ogue, rei de Basã, e a todo o seu povo; de maneira que o ferimos até que não lhe ficou sobrevivente alg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tempo tomamos todas as suas cidades; nenhuma cidade houve que lhes não tomássemos; sessenta cidades, toda a região de Argobe, o reino de Ogue em Bas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estas cidades eram fortificadas com altos muros, portas e ferrolhos; e muitas outras cidades sem m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truímo-las como fizemos a Siom, rei de Hesbom, destruindo todas as cidades, homens, mulheres e crian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odo o gado, e o despojo das cidades, tomamos para nós por pr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naquele tempo tomamos a terra das mãos daqueles dois reis dos amorreus, que estavam além do Jordão; desde o rio de Arnom, até ao monte de Herm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A Hermom os sidônios chamam Siriom; porém os amorreus o chamam Senir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7:14Z</dcterms:created>
  <dc:creator>Admin</dc:creator>
  <dc:description/>
  <dc:language>en-US</dc:language>
  <cp:lastModifiedBy>Admin</cp:lastModifiedBy>
  <dcterms:modified xsi:type="dcterms:W3CDTF">2008-07-30T23:27:14Z</dcterms:modified>
  <cp:revision>1</cp:revision>
  <dc:subject/>
  <dc:title>Slide 1</dc:title>
</cp:coreProperties>
</file>