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A8EA-B588-4ACC-8F52-AC7137D9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3314-2A20-4EF5-9970-DE5642D3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5075-F5AB-4716-A0A8-DD8FE8F5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8664-F902-4B76-B2AD-E131A09A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552F-93E0-4373-A443-06EC445C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BDE5-D06D-4FDE-9F15-F6F71FE7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AD3C-008E-4919-AD09-EA6FC81A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B79F-F1C1-4935-9A17-790D9CBE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1DB5-3D0E-40BC-A939-95765309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1A3A-DB02-43AA-B5B1-C5A948E8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CEC0-12A3-435A-87FC-D72298DB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5BEB-6ADA-4148-8211-D7207AA8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B51D-A096-4734-970A-CC81FA1A4DC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 Josias oito anos quando começou a reinar, e trinta e um anos reinou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o entregaram aos que tinham o encargo da obra, e superintendiam a casa do SENHOR; e estes o deram aos que faziam a obra, e trabalhavam na casa do SENHOR, para consertarem e repararem 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ram-no aos carpinteiros e aos edificadores, para comprarem pedras lavradas, e madeiras para as junturas e para servirem de vigas para as casas que os reis de Judá tinham destruí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homens trabalhavam fielmente na obra; e os superintendentes sobre eles eram: Jaate e Obadias, levitas, dos filhos de Merari, como também Zacarias e Mesulão, dos filhos dos coatitas, para adiantarem a obra; e todos os levitas que eram entendidos 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vam também sobre os carregadores e dirigiam todos os que trabalhavam em alguma obra; e dentre os levitas havia escrivães, oficiais e port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irando eles o dinheiro que se tinha trazido à casa do SENHOR, Hilquias, o sacerdote, achou o livro da lei do SENHOR, dada pela mão de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ilquias disse a Safã, o escrivão: Achei o livro da lei na casa do SENHOR. E Hilquias deu o livro a Saf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fã levou o livro ao rei, e deu-lhe conta, dizendo: Teus servos fazem tudo quanto se lhes encomend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juntaram o dinheiro que se achou na casa do SENHOR, e o deram na mão dos superintendentes e na mão dos que faziam a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ém disto, Safã, o escrivão, fez saber ao rei, dizendo: O sacerdote Hilquias entregou-me um livro. E Safã leu nele perante 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 que, ouvindo o rei as palavras da lei, rasgou as suas ve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reto aos olhos do SENHOR; e andou nos caminhos de Davi, seu pai, sem se desviar deles nem para a direita nem para a esque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ordenou a Hilquias, e a Aicão, filho de Safã, e a Abdom, filho de Mica, e a Safã, o escrivão, e a Asaías, servo do rei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de, consultai ao SENHOR por mim, e pelos que restam em Israel e em Judá, sobre as palavras deste livro que se achou; porque grande é o furor do SENHOR, que se derramou sobre nós; porquanto nossos pais não guardaram a palavra do SENHOR, para fazerem con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Hilquias, e os enviados do rei, foram ter com a profetiza Hulda, mulher de Salum, filho de Tocate, filho de Harás, guarda das vestimentas (e habitava ela em Jerusalém na segunda parte); e falaram-lhe a esse resp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a lhes disse: Assim diz o SENHOR Deus de Israel: Dizei ao homem que vos enviou a mim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Eis que trarei mal sobre este lugar, e sobre os seus habitantes, a saber, todas as maldições que estão escritas no livro que se leu perante o rei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e deixaram, e queimaram incenso perante outros deuses, para me provocarem à ira com todas as obras das suas mãos; portanto o meu furor se derramou sobre este lugar, e não se apag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o rei de Judá, que vos enviou a consultar ao SENHOR, assim lhe direis: Assim diz o SENHOR Deus de Israel, quanto às palavras que ouvist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o teu coração se enterneceu, e te humilhaste perante Deus, ouvindo as suas palavras contra este lugar, e contra os seus habitantes, e te humilhaste perante mim, e rasgaste as tuas vestes, e choraste perante mim, também eu te ouvi, diz o SENH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te reunirei a teus pais, e tu serás recolhido ao teu sepulcro em paz, e os teus olhos não verão todo o mal que hei de trazer sobre este lugar e sobre os seus habitantes. E tornaram com esta resposta a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mandou reunir todos os anciãos de Judá 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o oitavo ano do seu reinado, sendo ainda moço, começou a buscar o Deus de Davi, seu pai; e no duodécimo ano começou a purificar a Judá e a Jerusalém, dos altos, e dos bosques, e das imagens de escultura e de fund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subiu à casa do SENHOR, com todos os homens de Judá, e os habitantes de Jerusalém, e os sacerdotes, e os levitas, e todo o povo, desde o maior até ao menor; e ele leu aos ouvidos deles todas as palavras do livro da aliança que fora achado na ca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ôs-se o rei em pé em seu lugar, e fez aliança perante o SENHOR, para seguirem ao SENHOR, e para guardar os seus mandamentos, e os seus testemunhos, e os seus estatutos, com todo o seu coração, e com toda a sua alma, cumprindo as palavras da aliança, 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com que todos quantos se achavam em Jerusalém e em Benjamim o firmassem; e os habitantes de Jerusalém fizeram conforme a aliança de Deus, o Deus de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sias tirou todas as abominações de todas as terras que eram dos filhos de Israel; e a todos quantos se achavam em Israel obrigou a que servissem ao SENHOR seu Deus. Enquanto ele viveu não se desviaram de seguir o SENHOR, o Deus de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rrubaram perante ele os altares de Baalins; e despedaçou as imagens, que estavam acima deles; e os bosques, e as imagens de escultura e de fundição quebrou e reduziu a pó, e o espargiu sobre as sepulturas dos que lhes tinham sacrifi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ossos dos sacerdotes queimou sobre os seus altares; e purificou a Judá e 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smo fez nas cidades de Manassés, e de Efraim, e de Simeão, e ainda até Naftali, em seus lugares assolados ao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derrubado os altares, e os bosques, e as imagens de escultura, até reduzi-los a pó, e tendo despedaçado todas as imagens do sol em toda a terra de Israel, então voltou par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ano décimo oitavo do seu reinado, havendo já purificado a terra e a casa, enviou a Safã, filho de Azalias, e a Maaséias, governador da cidade, e a Joá, filho de Joacaz, cronista, para repararem a casa do SENHOR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a Hilquias, sumo sacerdote, e deram o dinheiro que se tinha trazido à casa de Deus, e que os levitas, que guardavam a entrada tinham recebido da mão de Manassés, e de Efraim, e de todo o restante de Israel, como também de todo o Judá e Benjami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0:42Z</dcterms:created>
  <dc:creator>Admin</dc:creator>
  <dc:description/>
  <dc:language>en-US</dc:language>
  <cp:lastModifiedBy>Admin</cp:lastModifiedBy>
  <dcterms:modified xsi:type="dcterms:W3CDTF">2008-07-30T23:50:42Z</dcterms:modified>
  <cp:revision>1</cp:revision>
  <dc:subject/>
  <dc:title>Slide 1</dc:title>
</cp:coreProperties>
</file>