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712-38F0-4642-B0D9-674186E3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59A-6A2A-4733-80C8-53A79A9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968-1698-4064-A6CF-5FE8C44C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35D-72F7-4500-98E7-7E42D6BB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833-B96B-4A8D-B7C0-922E7FA8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2AE-B737-4118-ABC8-083AF6D6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700-62EF-4A89-8280-4C3C683C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669-B3B2-4998-9EED-F037C6D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07C-EA53-4171-B3C1-79F14D01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EB5-EBDB-49B3-A829-F94358B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4F2-93D7-4F68-BBF5-55E316D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8A0-0109-4736-B1AA-D6A708F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2D0A-A0F8-45A8-8C77-891087C9D4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da parte do SENHOR, veio a Jerem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vireis, e vos poreis diante de mim nesta casa, que se chama pelo meu nome, e direis: Fomos libertados para fazermos todas estas abomin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pois esta casa, que se chama pelo meu nome, uma caverna de salteadores aos vossos olhos? Eis que eu, eu mesmo, vi ist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de agora ao meu lugar, que estava em Siló, onde, ao princípio, fiz habitar o meu nome, e vede o que lhe fiz, por causa da maldade d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orquanto fazeis todas estas obras, diz o SENHOR, e eu vos falei, madrugando, e falando, e não ouvistes, e chamei-vos, e não respondes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 também a esta casa, que se chama pelo meu nome, na qual confiais, e a este lugar, que vos dei a vós e a vossos pais, como fiz a Si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-vos-ei de diante de minha face, como lancei a todos os vossos irmãos, a toda a geração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não ores por este povo, nem levantes por ele clamor ou oração, nem me supliques, porque eu não te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vês tu o que andam fazendo nas cidades de Judá, e nas ruas de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apanham a lenha, e os pais acendem o fogo, e as mulheres preparam a massa, para fazerem bolos à rainha dos céus, e oferecem libações a outros deuses, para me provocarem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é a mim que eles provocam à ira? diz o SENHOR, e não a si mesmos, para confusão dos seus ros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-te à porta da casa do SENHOR, e proclama ali esta palavra, e dize: Ouvi a palavra do SENHOR, todos de Judá, os que entrais por estas portas, para adorarde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que a minha ira e o meu furor se derramarão sobre este lugar, sobre os homens e sobre os animais, e sobre as árvores do campo, e sobre os frutos da terra; e acender-se-á, e não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: Ajuntai os vossos holocaustos aos vossos sacrifícios, e comei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nca falei a vossos pais, no dia em que os tirei da terra do Egito, nem lhes ordenei coisa alguma acerca de holocaustos ou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to lhes ordenei, dizendo: Dai ouvidos à minha voz, e eu serei o vosso Deus, e vós sereis o meu povo; e andai em todo o caminho que eu vos mandar, para que vos vá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ouviram, nem inclinaram os seus ouvidos, mas andaram nos seus próprios conselhos, no propósito do seu coração malvado; e andaram para trás, e não para di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dia em que vossos pais saíram da terra do Egito, até hoje, enviei-vos todos os meus servos, os profetas, todos os dias madrugando e enviando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me deram ouvidos, nem inclinaram os seus ouvidos, mas endureceram a sua cerviz, e fizeram pior do qu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-lhes-ás, pois, todas estas palavras, mas não te darão ouvidos; chamá-los-ás, mas não te respond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dirás: Esta é a nação que não deu ouvidos à voz do SENHOR seu Deus e não aceitou a correção; já pereceu a verdade, e foi cortada d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ta o teu cabelo e lança-o de ti, e levanta um pranto sobre as alturas; porque já o SENHOR rejeitou e desamparou a geração do s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, o Deus de Israel: Melhorai os vossos caminhos e as vossas obras, e vos farei habitar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filhos de Judá fizeram o que era mau aos meus olhos, diz o SENHOR; puseram as suas abominações na casa que se chama pelo meu nome, para contamin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ram os altos de Tofete, que está no Vale do Filho de Hinom, para queimarem no fogo a seus filhos e a suas filhas, o que nunca ordenei, nem me subiu a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vêm dias, diz o SENHOR, em que não se chamará mais Tofete, nem Vale do Filho de Hinom, mas o Vale da Matança; e enterrarão em Tofete, por não haver outr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dáveres deste povo servirão de pasto às aves dos céus e aos animais da terra; e ninguém os espan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essar nas cidades de Judá, e nas ruas de Jerusalém, a voz de gozo, e a voz de alegria, a voz de esposo e a voz de esposa; porque a terra se tornará em de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fieis em palavras falsas, dizendo: Templo do SENHOR, templo do SENHOR, templo do SENHOR é 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deveras melhorardes os vossos caminhos e as vossas obras; se deveras praticardes o juízo entre um homem e o seu próx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 oprimirdes o estrangeiro, e o órfão, e a viúva, nem derramardes sangue inocente neste lugar, nem andardes após outros deuses para vosso próprio m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farei habitar neste lugar, na terra que dei a vossos pais, desde os tempos antigos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ós confiais em palavras falsas, que para nada vos aprove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furtareis, e matareis, e adulterareis, e jurareis falsamente, e queimareis incenso a Baal, e andareis após outros deuses que não conheces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41Z</dcterms:created>
  <dc:creator>Admin</dc:creator>
  <dc:description/>
  <dc:language>en-US</dc:language>
  <cp:lastModifiedBy>Admin</cp:lastModifiedBy>
  <dcterms:modified xsi:type="dcterms:W3CDTF">2008-07-30T23:57:41Z</dcterms:modified>
  <cp:revision>1</cp:revision>
  <dc:subject/>
  <dc:title>Slide 1</dc:title>
</cp:coreProperties>
</file>