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C87C-376C-450B-B7EF-EEF87AE9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8A3-E085-4BF0-AD99-0B902F17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AFC-5BC0-4AB8-92BC-B3A93042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62D7-7663-4DF5-B0F0-A7F5FF17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DD2-55CE-4FEB-BB38-248AC7C3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82DA-D8FD-43A1-92BF-76495996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15E-CA70-4875-B359-990B53B5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486-0F84-4168-847D-AF2FA730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56B-9E70-42B0-BDB0-3E71E4ED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524-65BA-4D60-B77A-00833447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441-C8D0-47DE-A727-7FCCBE34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9D99-8850-4163-9F68-5D53188A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B230-47BF-4D1E-AFEF-9997B174F28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, na verdade vos digo que aquele que não entra pela porta no curral das ovelhas, mas sobe por outra parte, é ladrão e salte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ladrão não vem senão a roubar, a matar, e a destruir; eu vim para que tenham vida, e a tenham com abundâ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o bom Pastor; o bom Pastor dá a sua vida pelas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mercenário, e o que não é pastor, de quem não são as ovelhas, vê vir o lobo, e deixa as ovelhas, e foge; e o lobo as arrebata e dispersa as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mercenário foge, porque é mercenário, e não tem cuidado das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o bom Pastor, e conheço as minhas ovelhas, e das minhas sou conhe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omo o Pai me conhece a mim, também eu conheço o Pai, e dou a minha vida pelas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tenho outras ovelhas que não são deste aprisco; também me convém agregar estas, e elas ouvirão a minha voz, e haverá um rebanho e um Past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to o Pai me ama, porque dou a minha vida para tornar a tomá-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 ma tira de mim, mas eu de mim mesmo a dou; tenho poder para a dar, e poder para tornar a tomá-la. Este mandamento recebi de m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ou, pois, a haver divisão entre os judeus por causa dest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, porém, que entra pela porta é o pastor das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itos deles diziam: Tem demônio, e está fora de si; por que o ouv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iam outros: Estas palavras não são de endemoninhado. Pode, porventura, um demônio abrir os olhos aos ceg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Jerusalém havia a festa da dedicação, e era inver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andava passeando no templo, no alpendre de Salo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odearam-no, pois, os judeus, e disseram-lhe: Até quando terás a nossa alma suspensa? Se tu és o Cristo, dize-no-lo abert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-lhes Jesus: Já vo-lo tenho dito, e não o credes. As obras que eu faço, em nome de meu Pai, essas testificam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ós não credes porque não sois das minhas ovelhas, como já vo-lo tenho d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minhas ovelhas ouvem a minha voz, e eu conheço-as, e elas me segu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u-lhes a vida eterna, e nunca hão de perecer, e ninguém as arrebatará da minh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u Pai, que mas deu, é maior do que todos; e ninguém pode arrebatá-las da mão de m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ste o porteiro abre, e as ovelhas ouvem a sua voz, e chama pelo nome às suas ovelhas, e as traz para f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e o Pai somos 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judeus pegaram então outra vez em pedras para o apedrej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-lhes Jesus: Tenho-vos mostrado muitas obras boas procedentes de meu Pai; por qual destas obras me apedrej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judeus responderam, dizendo-lhe: Não te apedrejamos por alguma obra boa, mas pela blasfêmia; porque, sendo tu homem, te fazes Deus a ti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-lhes Jesus: Não está escrito na vossa lei: Eu disse: Sois deus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, se a lei chamou deuses àqueles a quem a palavra de Deus foi dirigida (e a Escritura não pode ser anulada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Àquele a quem o Pai santificou, e enviou ao mundo, vós dizeis: Blasfemas, porque disse: Sou Filho de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não faço as obras de meu Pai, não me acredit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as faço, e não credes em mim, crede nas obras; para que conheçais e acrediteis que o Pai está em mim e eu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curavam, pois, prendê-lo outra vez, mas ele escapou-se de suas mã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tira para fora as suas ovelhas, vai adiante delas, e as ovelhas o seguem, porque conhecem a sua vo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tirou-se outra vez para além do Jordão, para o lugar onde João tinha primeiramente batizado; e ali fi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itos iam ter com ele, e diziam: Na verdade João não fez sinal algum, mas tudo quanto João disse deste er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itos ali creram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 modo nenhum seguirão o estranho, antes fugirão dele, porque não conhecem a voz dos estra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disse-lhes esta parábola; mas eles não entenderam o que era que lhes diz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ou, pois, Jesus a dizer-lhes: Em verdade, em verdade vos digo que eu sou a porta das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quantos vieram antes de mim são ladrões e salteadores; mas as ovelhas não os ouv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a porta; se alguém entrar por mim, salvar-se-á, e entrará, e sairá, e achará pastag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3:36Z</dcterms:created>
  <dc:creator>Admin</dc:creator>
  <dc:description/>
  <dc:language>en-US</dc:language>
  <cp:lastModifiedBy>Admin</cp:lastModifiedBy>
  <dcterms:modified xsi:type="dcterms:W3CDTF">2008-07-31T00:03:36Z</dcterms:modified>
  <cp:revision>1</cp:revision>
  <dc:subject/>
  <dc:title>Slide 1</dc:title>
</cp:coreProperties>
</file>