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B779-7A78-41BA-9CA2-2E5BACF8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2BFE-9D49-403C-BB0A-1720587E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5F4-7C6C-420C-925B-DBD42F74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6BF7-2991-4AC3-A129-CE83FF23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5745-3373-4A32-9C3D-99691CEF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03C2-F949-498F-84BE-00C70FC4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644-9E0A-413E-94A7-B4D00B76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529B-3766-4258-9088-E3C469FD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04B5-A41D-4E00-89D9-76FDA82C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3161-B61B-4867-8811-6C247DD1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E336-0F17-4458-8686-8244F42D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DC2B-DF43-4BF6-8499-71EA47EE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955A-FFA6-43F3-8C4C-6D06D3165CF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STROU-ME o rio puro da água da vida, claro como cristal, que procedia do trono de Deus e do Cord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: Não seles as palavras da profecia deste livro; porque próximo está o te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é injusto, faça injustiça ainda; e quem está sujo, suje-se ainda; e quem é justo, faça justiça ainda; e quem é santo, seja santificado ai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is que cedo venho, e o meu galardão está comigo, para dar a cada um segundo a sua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ou o Alfa e o Ômega, o princípio e o fim, o primeiro e o derrad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s aqueles que guardam os seus mandamentos, para que tenham direito à árvore da vida, e possam entrar na cidade pelas por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carão de fora os cães e os feiticeiros, e os que se prostituem, e os homicidas, e os idólatras, e qualquer que ama e comete a ment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Jesus, enviei o meu anjo, para vos testificar estas coisas nas igrejas. Eu sou a raiz e a geração de Davi, a resplandecente estrela da manh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Espírito e a esposa dizem: Vem. E quem ouve, diga: Vem. E quem tem sede, venha; e quem quiser, tome de graça da água d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testifico a todo aquele que ouvir as palavras da profecia deste livro que, se alguém lhes acrescentar alguma coisa, Deus fará vir sobre ele as pragas que estão escritas neste liv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alguém tirar quaisquer palavras do livro desta profecia, Deus tirará a sua parte do livro da vida, e da cidade santa, e das coisas que estão escritas neste liv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meio da sua praça, e de um e de outro lado do rio, estava a árvore da vida, que produz doze frutos, dando seu fruto de mês em mês; e as folhas da árvore são para a saúde das 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testifica estas coisas diz: Certamente cedo venho. Amém. Ora vem, Senhor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graça de nosso Senhor Jesus Cristo seja com todos vós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i nunca mais haverá maldição contra alguém; e nela estará o trono de Deus e do Cordeiro, e os seus servos o servi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rão o seu rosto, e nas suas testas estará 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i não haverá mais noite, e não necessitarão de lâmpada nem de luz do sol, porque o Senhor Deus os ilumina; e reinarão para todo o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: Estas palavras são fiéis e verdadeiras; e o Senhor, o Deus dos santos profetas, enviou o seu anjo, para mostrar aos seus servos as coisas que em breve hão de acontec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presto venho: Bem-aventurado aquele que guarda as palavras da profecia deste liv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, João, sou aquele que vi e ouvi estas coisas. E, havendo-as ouvido e visto, prostrei-me aos pés do anjo que mas mostrava para o ado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: Olha, não faças tal; porque eu sou conservo teu e de teus irmãos, os profetas, e dos que guardam as palavras deste livro. Adora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3:01Z</dcterms:created>
  <dc:creator>Admin</dc:creator>
  <dc:description/>
  <dc:language>en-US</dc:language>
  <cp:lastModifiedBy>Admin</cp:lastModifiedBy>
  <dcterms:modified xsi:type="dcterms:W3CDTF">2008-07-30T23:23:01Z</dcterms:modified>
  <cp:revision>1</cp:revision>
  <dc:subject/>
  <dc:title>Slide 1</dc:title>
</cp:coreProperties>
</file>