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0829-6BB3-40EC-9386-D508E2CF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D6B9-9323-44F7-B91D-88C8DFCC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553C-C552-4A11-8C42-29FC5480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55E2-1CEA-4A4F-9A30-93D2469F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7D0C-448E-4592-BE82-4D779CDC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9787-3DAD-403D-BB67-C32441A8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F585-68C1-4599-9B11-F6381692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AB12-85DD-4F6E-AC27-A2C5F36B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892F-D3D5-40C3-B2CF-AD35925C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2586-C91A-4A09-BDE4-70964DF3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9157-272C-4169-B2C9-0CB755EA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7FF0-4AC8-485E-B614-43AB4146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5B98-8114-4C8B-89D2-F3FA43CD062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MENS, irmãos e pais, ouvi agora a minha defesa perante vó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u: Senhor, que farei? E o Senhor disse-me: Levanta-te, e vai a Damasco, e ali se te dirá tudo o que te é ordenado f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mo eu não via, por causa do esplendor daquela luz, fui levado pela mão dos que estavam comigo, e cheguei a Dama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certo Ananias, homem piedoso conforme a lei, que tinha bom testemunho de todos os judeus que ali morava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o ter comigo, e apresentando-se, disse-me: Saulo, irmão, recobra a vista. E naquela mesma hora o 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O Deus de nossos pais de antemão te designou para que conheças a sua vontade, e vejas aquele Justo e ouças a voz da su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hás de ser sua testemunha para com todos os homens do que tens visto e ouv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 por que te deténs? Levanta-te, e batiza-te, e lava os teus pecados, invocando o nom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tornando eu para Jerusalém, quando orava no templo, fui arrebatado para fora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 aquele que me dizia: Dá-te pressa e sai apressadamente de Jerusalém; porque não receberão o teu testemunho acerca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disse: Senhor, eles bem sabem que eu lançava na prisão e açoitava nas sinagogas os que criam em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E, quando ouviram falar-lhes em língua hebraica, maior silêncio guardaram). E diss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o sangue de Estêvão, tua testemunha, se derramava, também eu estava presente, e consentia na sua morte, e guardava as capas dos que o mat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: Vai, porque hei de enviar-te aos gentios de lon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ram-no até esta palavra, e levantaram a voz, dizendo: Tira da terra um tal homem, porque não convém que vi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lamando eles, e arrojando de si as vestes, e lançando pó para o a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ribuno mandou que o levassem para a fortaleza, dizendo que o examinassem com açoites, para saber por que causa assim clamavam contr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o estavam atando com correias, disse Paulo ao centurião que ali estava: É-vos lícito açoitar um romano, sem ser condena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ndo isto, o centurião foi, e anunciou ao tribuno, dizendo: Vê o que vais fazer, porque este homem é rom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indo o tribuno, disse-lhe: Dize-me, és tu romano? E ele disse: S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pondeu o tribuno: Eu com grande soma de dinheiro alcancei este direito de cidadão. Paulo disse: Mas eu o sou de nasc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ogo dele se apartaram os que o haviam de examinar; e até o tribuno teve temor, quando soube que era romano, visto que o tinha lig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 mim, sou judeu, nascido em Tarso da Cilícia, e nesta cidade criado aos pés de Gamaliel, instruído conforme a verdade da lei de nossos pais, zeloso de Deus, como todos vós hoje s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dia seguinte, querendo saber ao certo a causa por que era acusado pelos judeus, soltou-o das prisões, e mandou vir os principais dos sacerdotes, e todo o seu conselho; e, trazendo Paulo, o apresentou diante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segui este caminho até à morte, prendendo, e pondo em prisões, tanto homens como mulher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o sumo sacerdote me é testemunha, e todo o conselho dos anciãos. E, recebendo destes cartas para os irmãos, fui a Damasco, para trazer maniatados para Jerusalém aqueles que ali estivessem, a fim de que fossem castig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aconteceu que, indo eu já de caminho, e chegando perto de Damasco, quase ao meio-dia, de repente me rodeou uma grande luz d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í por terra, e ouvi uma voz que me dizia: Saulo, Saulo, por que me persegu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respondi: Quem és, Senhor? E disse-me: Eu sou Jesus Nazareno, a quem tu persegu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estavam comigo viram, em verdade, a luz, e se atemorizaram muito, mas não ouviram a voz daquele que falava co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5:10Z</dcterms:created>
  <dc:creator>Admin</dc:creator>
  <dc:description/>
  <dc:language>en-US</dc:language>
  <cp:lastModifiedBy>Admin</cp:lastModifiedBy>
  <dcterms:modified xsi:type="dcterms:W3CDTF">2008-07-30T23:25:10Z</dcterms:modified>
  <cp:revision>1</cp:revision>
  <dc:subject/>
  <dc:title>Slide 1</dc:title>
</cp:coreProperties>
</file>