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CBA-3094-4A98-B263-E5992124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E36-BF5B-4214-985D-59BF08D7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2E8-3D1D-4A6A-BB65-EECF0E1E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A52-5B32-4A69-9363-B718CB96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211-3812-447C-8719-7AF06AD0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19E-DDF9-43A2-9D3F-B6E16BE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38A-15E2-414F-A212-D424E0E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F84-6284-441B-9C39-AFD2764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111-DEAE-4E01-B7A5-D4BA30A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F9E-DC0F-492C-AC1D-E772F6C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776-DE8B-4DB4-AA95-338B660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B3D-4FC7-46AE-A0D7-9DA05AA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E34-1D58-4288-B603-7D8C4E983A9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 um cântico novo, porque fez maravilhas; a sua destra e o seu braço santo lhe alcançaram 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ez notória a sua salvação, manifestou a sua justiça perante os olho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ou-se da sua benignidade e da sua verdade para com a casa de Israel; todas as extremidades da terra viram a salvação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i no SENHOR toda a terra; exclamai e alegrai-vos de prazer, e cantai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louvores ao SENHOR com a harpa; com a harpa e a voz do c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trombetas e som de cornetas, exultai perante a face do SENHOR,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rame o mar e a sua plenitude; o mundo, e os que nele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ios batam as palmas; regozijem-se também as montan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ante a face do SENHOR, porque vem a julgar a terra; com justiça julgará o mundo, e o povo com e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8Z</dcterms:created>
  <dc:creator>Admin</dc:creator>
  <dc:description/>
  <dc:language>en-US</dc:language>
  <cp:lastModifiedBy>Admin</cp:lastModifiedBy>
  <dcterms:modified xsi:type="dcterms:W3CDTF">2008-07-31T00:27:08Z</dcterms:modified>
  <cp:revision>1</cp:revision>
  <dc:subject/>
  <dc:title>Slide 1</dc:title>
</cp:coreProperties>
</file>