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9BA-4E88-4F0D-8CF0-42CBE7CC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0D9-C6C3-48C5-B5EB-A1213694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43A-D3F9-44D2-859B-D745922A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F5D-4073-4AFA-80FE-D8699152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48C-E291-417C-917D-8F0F6E32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544-0601-4758-A012-692806B9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699-79E7-43B5-BAAC-E6402B53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2EA-DB00-4575-8F5E-CF4E8FDB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49E-58C9-4FA7-A789-FA0A3DBA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E20-51BB-46E0-8B8B-C0CC1424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669-2B69-4414-B976-D08C21F3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CEF-4D07-4EFD-928D-5CFD552F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7915-BDE6-4E29-80D7-1D982344AA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um homem da casa de Levi e casou com uma filha de L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 menino já era grande, ela o trouxe à filha de Faraó, a qual o adotou; e chamou-lhe Moisés, e disse: Porque das águas o tenho ti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aqueles dias que, sendo Moisés já homem, saiu a seus irmãos, e atentou para as suas cargas; e viu que um egípcio feria a um hebreu, homem de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ou a um e a outro lado e, vendo que não havia ninguém ali, matou ao egípcio, e escondeu-o na ar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 sair no dia seguinte, e eis que dois homens hebreus contendiam; e disse ao injusto: Por que feres a teu próxi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disse: Quem te tem posto a ti por maioral e juiz sobre nós? Pensas matar-me, como mataste o egípcio? Então temeu Moisés, e disse: Certamente este negócio foi descob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Faraó este caso, procurou matar a Moisés; mas Moisés fugiu de diante da face de Faraó, e habitou na terra de Midiã, e assentou-se junto a um p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de Midiã tinha sete filhas, as quais vieram tirar água, e encheram os bebedouros, para dar de beber ao rebanho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eram os pastores, e expulsaram-nas dali; Moisés, porém, levantou-se e defendeu-as, e deu de beber ao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ando elas a Reuel seu pai, ele disse: Por que hoje tornastes tão depres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s disseram: Um homem egípcio nos livrou da mão dos pastores; e também nos tirou água em abundância, e deu de beber ao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 concebeu e deu à luz um filho; e, vendo que ele era formoso, escondeu-o três me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suas filhas: E onde está ele? Por que deixastes o homem? Chamai-o para que coma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consentiu em morar com aquele homem; e ele deu a Moisés sua filha Zípo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deu à luz um filho, a quem ele chamou Gérson, porque disse: Peregrino fui em terra estr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depois de muitos dias, que morrendo o rei do Egito, os filhos de Israel suspiraram por causa da servidão, e clamaram; e o seu clamor subiu a Deus por causa de sua serv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u Deus o seu gemido, e lembrou-se Deus da sua aliança com Abraão, com Isaque, e com Jacó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Deus os filhos de Israel, e atentou Deus para a sua con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odendo, porém, mais escondê-lo, tomou uma arca de juncos, e a revestiu com barro e betume; e, pondo nela o menino, a pôs nos juncos à margem d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a irmã postou-se de longe, para saber o que lhe havia de acont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filha de Faraó desceu a lavar-se no rio, e as suas donzelas passeavam, pela margem do rio; e ela viu a arca no meio dos juncos, e enviou a sua criada, que a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indo-a, viu ao menino e eis que o menino chorava; e moveu-se de compaixão dele, e disse: Dos meninos dos hebreus é 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ua irmã à filha de Faraó: Irei chamar uma ama das hebréias, que crie este menino para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filha de Faraó disse-lhe: Vai. Foi, pois, a moça, e chamou a mãe do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 a filha de Faraó: Leva este menino, e cria-mo; eu te darei teu salário. E a mulher tomou o menino, e criou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08Z</dcterms:created>
  <dc:creator>Admin</dc:creator>
  <dc:description/>
  <dc:language>en-US</dc:language>
  <cp:lastModifiedBy>Admin</cp:lastModifiedBy>
  <dcterms:modified xsi:type="dcterms:W3CDTF">2008-07-30T23:31:08Z</dcterms:modified>
  <cp:revision>1</cp:revision>
  <dc:subject/>
  <dc:title>Slide 1</dc:title>
</cp:coreProperties>
</file>