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24F-4083-4E29-A8EA-9E0AAB0E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C69-84D8-4AC5-A231-65D5CCAD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F1F-273A-43D2-BC91-25824B53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5E2-2BD5-47EE-8726-9825E153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74B-ADE7-4E94-AF5D-25A49C5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49C-A71B-45B8-ADA0-ABA10404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1AE-1B38-4267-900F-D30730A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B83-831B-4E9F-8BF4-52C0DB88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D30-4C33-4528-A9F6-41ACEDC1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823-85A4-4725-B19F-3E418ED6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E53-5A6E-487D-A197-8355426B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199-0646-4BD5-9A57-6FE5728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53B-20E0-4195-BBEB-115A211728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sias oito anos de idade quando começou a reinar, e reinou trinta e um anos em Jerusalém; e era o nome de sua mãe, Jedida, filha de Adaías, de Bozc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fã, o escrivão, fez saber ao rei, dizendo: O sacerdote Hilquias me deu um livro. E Safã o leu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ouvindo o rei as palavras do livro da lei, rasgou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mandou a Hilquias, o sacerdote, a Aicão, filho de Safã, a Acbor, filho de Micaías, a Safã o escrivão e a Asaías, o servo do re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e consultai o SENHOR por mim, pelo povo e por todo o Judá, acerca das palavras deste livro que se achou; porque grande é o furor do SENHOR, que se acendeu contra nós; porquanto nossos pais não deram ouvidos às palavras deste livro, para fazerem con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o sacerdote Hilquias, e Aicão, Acbor, Safã e Asaías à profetiza Hulda, mulher de Salum, filho de Ticvá, o filho de Harás, o guarda das vestiduras (e ela habitava em Jerusalém, na segunda parte), e lhe fal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s disse: Assim diz o SENHOR Deus de Israel: Dizei ao homem que vos enviou a m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trarei mal sobre este lugar, e sobre os seus moradores, a saber: todas as palavras do livro que leu o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me deixaram, e queimaram incenso a outros deuses, para me provocarem à ira por todas as obras das suas mãos, o meu furor se acendeu contra este lugar, e não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 rei de Judá, que vos enviou a consultar o SENHOR, assim lhe direis: Assim diz o SENHOR Deus de Israel, acerca das palavras, que ouvis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teu coração se enterneceu, e te humilhaste perante o SENHOR, quando ouviste o que falei contra este lugar, e contra os seus moradores, que seria para assolação e para maldição, e que rasgaste as tuas vestes, e choraste perante mim, também e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; e andou em todo o caminho de Davi, seu pai, e não se apartou dele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is que eu te recolherei a teus pais, e tu serás recolhido em paz à tua sepultura, e os teus olhos não verão todo o mal que hei de trazer sobre este lugar. Então tornaram a trazer ao rei a respo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no ano décimo oitavo do rei Josias, o rei mandou ao escrivão Safã, filho de Azalias, filho de Mesulão, à cas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 a Hilquias, o sumo sacerdote, para que tome o dinheiro que se trouxe à casa do SENHOR, o qual os guardas do umbral da porta ajuntaram d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 dêem na mão dos que têm cargo da obra, e estão encarregados da casa do SENHOR; para que o dêem àqueles que fazem a obra que há na casa do SENHOR, para repararem as fendas d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carpinteiros, aos edificadores e aos pedreiros; e para comprar madeira e pedras lavradas, para repararem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se pediu conta do dinheiro que se lhes entregara nas suas mãos, porquanto procediam com fide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umo sacerdote Hilquias ao escrivão Safã: Achei o livro da lei na casa do SENHOR. E Hilquias deu o livro a Safã, e ele o 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crivão Safã veio ter com o rei e, dando-lhe conta, disse: Teus servos ajuntaram o dinheiro que se achou na casa, e o entregaram na mão dos que têm cargo da obra, que estão encarregado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22Z</dcterms:created>
  <dc:creator>Admin</dc:creator>
  <dc:description/>
  <dc:language>en-US</dc:language>
  <cp:lastModifiedBy>Admin</cp:lastModifiedBy>
  <dcterms:modified xsi:type="dcterms:W3CDTF">2008-07-30T23:52:22Z</dcterms:modified>
  <cp:revision>1</cp:revision>
  <dc:subject/>
  <dc:title>Slide 1</dc:title>
</cp:coreProperties>
</file>