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864-C0EE-41DA-AE98-802566A0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03F-51EC-4D67-995E-6FCC4836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770-E134-439B-A709-C2FD5A0C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C46-7718-427B-865A-847C3C18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79E-5B5A-4BBA-9704-7C16A97E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939-8C13-4E49-8FD3-28101C2B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DF9-4B69-4FA9-B11B-87DFCFC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D59-7842-4694-9FA8-3344DA50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9A7-6764-477D-93F7-92B0BB0E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0B8-486B-44FA-BDEB-FFE78EC2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F39-0529-4F3E-BEB4-5345C43A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999-9BAC-4C86-A2C1-D71AE77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B582-31E7-4D22-8BAC-682C67977A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se ficaste por fiador do teu companheiro, se deste a tua mão ao estran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pouco a dormir, um pouco a tosquenejar; um pouco a repousar de braços cruz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obrevirá a tua pobreza como o meliante, e a tua necessidade como um homem ar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mau, o homem iníquo tem a boca pervert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na com os olhos, fala com os pés e faz sinais com os de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no seu coração perversidade, todo o tempo maquina mal; anda semeando con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sua destruição virá repentinamente; subitamente será quebrantado, sem que haja 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eis coisas o SENHOR odeia, e a sétima a sua alma abomin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os altivos, língua mentirosa, mãos que derramam sangue inoce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que maquina pensamentos perversos, pés que se apressam a correr para o m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stemunha falsa que profere mentiras, e o que semeia contendas entre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deixaste enredar pelas próprias palavras; e te prendeste nas palavras da tua bo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guarda o mandamento de teu pai, e não deixes a lei da tua mã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a-os perpetuamente ao teu coração, e pendura-os ao teu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caminhares, te guiará; quando te deitares, te guardará; quando acordares, falará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andamento é lâmpada, e a lei é luz; e as repreensões da correção são o caminho da vi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te guardarem da mulher vil, e das lisonjas da estr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bices no teu coração a sua formosura, nem te prendas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causa duma prostituta se chega a pedir um bocado de pão; e a adúltera anda à caça da alma preci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tomará alguém fogo no seu seio, sem que suas vestes se queim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andará alguém sobre brasas, sem que se queimem os seus pé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icará o que entrar à mulher do seu próximo; não será inocente todo aquele que a to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pois isto agora, filho meu, e livra-te, já que caíste nas mãos do teu companheiro: vai, humilha-te, e importuna o teu compa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injuria o ladrão, quando furta para saciar-se, tendo fo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for achado pagará o tanto sete vezes; terá de dar todos os bens d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o que adultera com uma mulher é falto de entendimento; aquele que faz isso destrói a s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ará castigo e vilipêndio, e o seu opróbrio nunca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ciúmes enfurecerão o marido; de maneira nenhuma perdoará no dia da ving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ceitará nenhum resgate, nem se conformará por mais que aumentes os pres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ês sono aos teus olhos, nem deixes adormecer as tuas pálpe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te, como a gazela da mão do caçador, e como a ave da mão do passar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 ter com a formiga, ó preguiçoso; olha para os seus caminhos, e sê sáb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la, não tendo chefe, nem guarda, nem dominad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 no verão o seu pão; na sega ajunta o seu mant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preguiçoso, até quando ficarás deitado? Quando te levantarás do teu so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16Z</dcterms:created>
  <dc:creator>Admin</dc:creator>
  <dc:description/>
  <dc:language>en-US</dc:language>
  <cp:lastModifiedBy>Admin</cp:lastModifiedBy>
  <dcterms:modified xsi:type="dcterms:W3CDTF">2008-07-31T00:21:16Z</dcterms:modified>
  <cp:revision>1</cp:revision>
  <dc:subject/>
  <dc:title>Slide 1</dc:title>
</cp:coreProperties>
</file>