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AFD-0572-4235-BC49-1C6F8A37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687-9392-42AC-B925-2FB2E1CC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858-1094-457B-93A6-7CDDA046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B92-FAD9-48E3-B37C-3812F245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899-40E3-4897-9FC5-99D4C901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B58-00DA-47F5-BF8E-F76EFCEF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FC03-FBEA-4CAB-9252-3051CE7F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CFC-E915-4CD2-A7F7-389B5CBA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497-00D7-4180-BDD3-8E31EBF8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C344-657A-41A3-8C26-4E6051BB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7CC-7A7E-40A4-B603-17AE4D71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D44-4B1F-4715-B83F-4D1F1698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0975-E6AA-415D-AF31-EC9F079DF43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que mais é a árvore da videira do que qualquer outra árvore, ou do que o sarmento que está entre as árvores do bosqu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-se dela madeira para fazer alguma obra? Ou toma-se dela alguma estaca, para que se lhe pendure um vas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é lançado no fogo, para ser consumido; ambas as suas extremidades consome o fogo, e o meio dela fica também queimado; serviria porventura para alguma ob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se estando inteiro, não servia para obra alguma, quanto menos sendo consumido pelo fogo, e, sendo queimado, se faria ainda obra de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 DEUS: Como a árvore da videira entre as árvores do bosque, que tenho entregue ao fogo para que seja consumido, assim entregarei os habitantes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ei a minha face contra eles; do fogo sairão, mas o fogo os consumirá; e sabereis que eu sou o SENHOR, quando tiver posto a minha face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arei a terra em desolação, porquanto grandemente transgrediram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4:20Z</dcterms:created>
  <dc:creator>Admin</dc:creator>
  <dc:description/>
  <dc:language>en-US</dc:language>
  <cp:lastModifiedBy>Admin</cp:lastModifiedBy>
  <dcterms:modified xsi:type="dcterms:W3CDTF">2008-07-30T23:34:20Z</dcterms:modified>
  <cp:revision>1</cp:revision>
  <dc:subject/>
  <dc:title>Slide 1</dc:title>
</cp:coreProperties>
</file>