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32C-332E-44C4-9B9C-AEB60C3D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C72-8D03-46C9-B0C6-71F2E58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97B-C365-4F68-8F4C-318F353C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94D-4B4C-48E8-9546-F1B803F7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C56-7F1B-466C-8107-799D025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4E4-1972-4FA7-9494-EF2F8A1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339-9140-4639-AAFB-380F3BBA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095-3DE0-4B14-8BB4-3669F46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170-7B22-4209-A5A5-AC53B26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B79-F7D7-4996-B702-CBF549D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5D6-5901-48AA-A390-610BF8A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E44-D3CB-4A01-9AE4-80C8C33E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E6FF-D2B6-4430-8184-01E63C849D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se determinou que navegássemos para a Itália, entregaram Paulo e alguns outros presos a um centurião por nome Júlio, da corte augus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-lhes: Senhores, vejo que a navegação há de ser incômoda, e com muito dano, não só para o navio e carga, mas também para as nossas v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centurião cria mais no piloto e no mestre, do que no que dizi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aquele porto não era cômodo para invernar, os mais deles foram de parecer que se partisse dali para ver se podiam chegar a Fenice, que é um porto de Creta que olha para o lado do vento da África e do Coro, e inverna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oprando o sul brandamente, lhes pareceu terem já o que desejavam e, fazendo-se de vela, foram de muito perto costeando Cr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muito depois deu nela um pé de vento, chamado Euro-aquil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o navio arrebatado, e não podendo navegar contra o vento, dando de mão a tudo, nos deixamos ir à t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rrendo abaixo de uma pequena ilha chamada Clauda, apenas pudemos ganhar o ba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do este para cima, usaram de todos os meios, cingindo o navio; e, temendo darem à costa na Sirte, amainadas as velas, assim foram à t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dando nós agitados por uma veemente tempestade, no dia seguinte aliviaram o na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terceiro dia nós mesmos, com as nossas próprias mãos, lançamos ao mar a armação do na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mbarcando nós em um navio adramitino, partimos navegando pelos lugares da costa da Ásia, estando conosco Aristarco, macedônio, de Tessalôn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aparecendo, havia já muitos dias, nem sol nem estrelas, e caindo sobre nós uma não pequena tempestade, fugiu-nos toda a esperança de nos salva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já muito que não se comia, então Paulo, pondo-se em pé no meio deles, disse: Fora, na verdade, razoável, ó senhores, ter-me ouvido a mim e não partir de Creta, e assim evitariam este incômodo e esta p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vos admoesto a que tenhais bom ânimo, porque não se perderá a vida de nenhum de vós, mas somente o na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mesma noite o anjo de Deus, de quem eu sou, e a quem sirvo, esteve comi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aulo, não temas; importa que sejas apresentado a César, e eis que Deus te deu todos quantos navega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ó senhores, tende bom ânimo; porque creio em Deus, que há de acontecer assim como a mim me foi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, contudo, necessário irmos dar numa 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ou a décima quarta noite, sendo impelidos de um e outro lado no mar Adriático, lá pela meia-noite suspeitaram os marinheiros que estavam próximos de algum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nçando o prumo, acharam vinte braças; e, passando um pouco mais adiante, tornando a lançar o prumo, acharam quinze b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mendo ir dar em alguns rochedos, lançaram da popa quatro âncoras, desejando que viesse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mos no dia seguinte a Sidom, e Júlio, tratando Paulo humanamente, lhe permitiu ir ver os amigos, para que cuidasse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ndo, porém, os marinheiros fugir do navio, e tendo já deitado o batel ao mar, como que querendo lançar as âncoras pela pro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aulo ao centurião e aos soldados: Se estes não ficarem no navio, não podereis salvar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oldados cortaram os cabos do batel, e o deixaram c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etanto que o dia vinha, Paulo exortava a todos a que comessem alguma coisa, dizendo: É já hoje o décimo quarto dia que esperais, e permaneceis sem comer, não havendo provado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xorto-vos a que comais alguma coisa, pois é para a vossa saúde; porque nem um cabelo cairá da cabeça de qualquer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dito isto, tomando o pão, deu graças a Deus na presença de todos; e, partindo-o, começou 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já todos bom ânimo, puseram-se também 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éramos ao todo, no navio, duzentas e setenta e sei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feitos com a comida, aliviaram o navio, lançando o trigo a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dia, não conheceram a terra; enxergaram, porém, uma enseada que tinha praia, e consultaram-se sobre se deveriam encalhar nela o na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dali, fomos navegando abaixo de Chipre, porque os ventos eram contr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as âncoras, deixaram-no ir ao mar, largando também as amarras do leme; e, alçando a vela maior ao vento, dirigiram-se para a pr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déia dos soldados foi que matassem os presos para que nenhum fugisse, escapando a 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centurião, querendo salvar a Paulo, lhes estorvou este intento; e mandou que os que pudessem nadar se lançassem primeiro ao mar, e se salvassem em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mais, uns em tábuas e outros em coisas do navio. E assim aconteceu que todos chegaram à terra a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demais, que se salvassem, uns, em tábuas, e outros, em destroços do navio. E foi assim que todos se salvaram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atravessado o mar, ao longo da Cilícia e Panfília, chegamos a Mirra, na L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 ali o centurião um navio de Alexandria, que navegava para a Itália, nos fez embarcar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por muitos dias navegássemos vagarosamente, havendo chegado apenas defronte de Cnido, não nos permitindo o vento ir mais adiante, navegamos abaixo de Creta, junto de Salmo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steando-a dificilmente, chegamos a um lugar chamado Bons Portos, perto do qual estava a cidade de Las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do muito tempo, e sendo já perigosa a navegação, pois, também o jejum já tinha passado, Paulo os admoestav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33Z</dcterms:created>
  <dc:creator>Admin</dc:creator>
  <dc:description/>
  <dc:language>en-US</dc:language>
  <cp:lastModifiedBy>Admin</cp:lastModifiedBy>
  <dcterms:modified xsi:type="dcterms:W3CDTF">2008-07-30T23:25:33Z</dcterms:modified>
  <cp:revision>1</cp:revision>
  <dc:subject/>
  <dc:title>Slide 1</dc:title>
</cp:coreProperties>
</file>