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E1A-05AB-4729-9434-8868C10C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2F4-F5CF-4624-93C4-9D5F6730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3A2-C9D6-4D70-AC86-D41AAE1C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2FB-A916-4EFE-BB48-E06CC90B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39E-789A-4B25-B435-E2D3FEBB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7AA-F247-4FD8-B44E-7E4F2BB9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E29-ED2E-481B-BD1C-3812E269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8AE-B280-422C-B443-C3FE7965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B80-9F8C-4736-B11D-B750528A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83A-F50D-4191-B1FA-D71636A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AEB-4126-4BA6-B672-933E5854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E5A-84E7-448D-9922-ACAF190C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1D2E-0AD7-4BE3-98D1-D4677C59DD8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udá foram: Perez, Hezrom, Carmi, Hur, e Sob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abez invocou o Deus de Israel, dizendo: Se me abençoares muitíssimo, e meus termos ampliares, e a tua mão for comigo, e fizeres que do mal não seja afligido! E Deus lhe concedeu o que lhe tinha pe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lube, irmão de Suá, gerou a Meir; este é o pai de Est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om gerou a Bete-Rafa, a Pasea, e a Teina, pai de Ir-Naás; estes foram os homens de R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Quenaz: Otniel e Seraías; o filho de Otniel: Hat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onotai gerou a Ofra, e Seraías gerou a Joabe, pai dos do vale dos artífices; porque os dali eram artífic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Calebe, filho de Jefoné: Iru, Elá e Naã; e o filho de Elá: Quen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ealelel: Zife, Zifa, Tiria e Asa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Ezra: Jeter, Merede, Efer, e Jalom; e teve mais a Miriã, e Samai, e Isbá, pai de Estem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a mulher, Judia, deu à luz a Jerede, pai de Gedor, e a Héber, pai de Socó, e a Jecutiel, pai de Zanoa; e estes foram os filhos de Bitia, filha de Faraó, que Merede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a mulher de Hodias, irmã de Naã: Abiqueila, o garmita, Estemoa, o maacat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aías, filho de Sobal gerou a Jaate, e Jaate gerou a Aumai e a Laade; estas são as famílias dos zorat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Simeão: Amom, Rina, Bene-Hanã, e Tilom; e os filhos de Isi: Zoete e Bene-Zo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elá, filho de Judá: Er, pai de Leca, e Lada, pai de Maressa, e as famílias da casa dos que fabricavam linho fino, em casa de Asb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Joquim, e os homens de Cozeba, e Joás, e Sarafe (que dominaram sobre os moabitas), e Jasubi-Leém; porém estas coisas já são anti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foram oleiros, e habitavam nas hortas e nos cerrados; estes ficaram ali com o rei na s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imeão foram Nemuel, Jamim, Jaribe, Zerá, e Sau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jo filho foi Salum, de quem foi filho Mibsão, de quem foi filho Mis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Misma foram: Hamuel, de quem foi filho Zacur, de quem foi filho Sim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imei teve dezesseis filhos, e seis filhas, porém seus irmãos não tiveram muitos filhos; e toda a sua família não se multiplicou tanto como as dos filho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am em Berseba, e em Moladá, e em Hazar-Sua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Bila, e em Ezém, e em Tol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foram os filhos do pai de Etã: Jizreel, Isma e Idbas; e era o nome de sua irmã Hazelelpon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Betuel, e em Hormá, e em Ziclag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Bete-Marcabote, e em Hazar-Susim, e em Bete-Biri, e em Saaraim; estas foram as suas cidades, até que Davi rei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as suas aldeias: Etã, Aim, Rimom, Toquém, e Asã, cinco cida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suas aldeias, que estavam em redor destas cidades, até Baal. Estas foram as suas habitações e suas genealog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Mesobabe, e Janleque e Josa, filho de Amaz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el, e Jeú, filho de Josibias, filho de Seraías, filho de Asi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oenai e Jaacobá, Jesoaías, Asaías, Adiel, Jesimiel, Bena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iza, filho de Sifi, filho de Alom, filho de Jedaías, filho de Sinri, filho de Semaí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registrados por seus nomes, foram príncipes nas suas famílias; e as famílias de seus pais se multiplicaram abundant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ram até à entrada de Gedor, ao oriente do vale, a buscar pasto para os seus reb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is Penuel, pai de Gedor, e Ezer, pai de Husá; estes foram os filhos de Hur, o primogênito de Efrata, pai de Be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ram pasto fértil e terra espaçosa, e quieta, e descansada; porque os de Cão haviam habitado ali 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is, que estão descritos por seus nomes, vieram nos dias de Ezequias, rei de Judá, e derrubaram as tendas e habitações dos que se acharam ali, e as destruíram totalmente até o dia de hoje, e habitaram em seu lugar; porque ali havia pasto para 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les, dos filhos de Simeão, quinhentos homens foram às montanhas de Seír; levaram por cabeças a Pelatias, e a Nearias, e a Refaías, e a Uziel, filhos de I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ram o restante dos que escaparam dos amalequitas, e habitaram ali até 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Asur, pai de Tecoa, duas mulheres: Helá e Na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ará deu à luz a Auzão, e a Hefer, e a Temeni, e a Haastari; estes foram os filhos de Na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Helá: Zerete, Izar e Etn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z gerou a Anube e a Zobeba e as famílias de Aarel, filho de Har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Jabez mais ilustre do que seus irmãos; e sua mãe deu-lhe o nome de Jabez, dizendo: Porquanto com dores o dei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2:24Z</dcterms:created>
  <dc:creator>Admin</dc:creator>
  <dc:description/>
  <dc:language>en-US</dc:language>
  <cp:lastModifiedBy>Admin</cp:lastModifiedBy>
  <dcterms:modified xsi:type="dcterms:W3CDTF">2008-07-30T23:42:24Z</dcterms:modified>
  <cp:revision>1</cp:revision>
  <dc:subject/>
  <dc:title>Slide 1</dc:title>
</cp:coreProperties>
</file>