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8C0-1C5A-4E4C-83A0-0DED9AA9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3B6-BCB8-4D88-844A-13DDC1E0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F71-9E22-4BDD-908C-774F1647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C89-8570-40FA-B13B-A1903BF3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7D1-A3DD-4A33-982B-E2A7532D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20F-ADF9-4517-ABE1-80FBFC6E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905-D775-4CF3-945D-D78DDB8D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912-4FE8-432C-8926-BCB8A746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B1E-70F0-4DC9-A36A-C3322272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653-9F70-45B7-A172-B4A3A4F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623-1272-4427-9E0E-5F03B935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F69-6428-4F87-83E0-730427D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417-C8F0-4875-AD98-7E1CE5648B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ias celebrou a páscoa ao SENHOR em Jerusalém; e mataram o cordeiro da páscoa no décimo quarto dia do primeiro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preparou o serviço, e puseram-se os sacerdotes nos seus postos, e os levitas nas suas turmas, conforme a ordem do r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molaram a páscoa; e os sacerdotes espargiram o sangue recebido das mãos dos levitas que esfolavam as re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de parte os holocaustos para os darem aos filhos do povo, segundo as divisões das casas paternas, para o oferecerem ao SENHOR, como está escrito no livro de Moisés; e assim fizeram com os b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aram a páscoa no fogo, segundo o rito; e as ofertas sagradas cozeram em panelas, e em caldeirões e em sertãs; e prontamente as repartiram entre todo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repararam para si e para os sacerdotes; porque os sacerdotes, filhos de Arão, se ocuparam até à noite com o sacrifício dos holocaustos e da gordura; por isso os levitas prepararam para si e para os sacerdotes, filhos de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ntores, filhos de Asafe, estavam no seu posto, segundo o mandado de Davi, e de Asafe, e de Hemã, e de Jedutum, vidente do rei, como também os porteiros a cada porta; não necessitaram de se desviarem do seu ministério; porquanto seus irmãos, os l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estabeleceu todo o serviço do SENHOR naquele dia, para celebrar a páscoa, e oferecer holocaustos sobre o altar do SENHOR, segundo a ordem do rei Jos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que ali se acharam celebraram a páscoa naquele tempo, e a festa dos pães ázimos, durante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, pois, se celebrou tal páscoa em Israel, desde os dias do profeta Samuel; nem nenhum rei de Israel celebrou tal páscoa como a que celebrou Josias com os sacerdotes, e levitas, e todo o Judá e Israel, que ali se acharam, e os habitantes de Jerusalé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écimo oitavo ano do reinado de Josias se celebrou est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beleceu os sacerdotes nos seus cargos, e os animou ao ministério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 tudo isto, havendo Josias já preparado o templo, subiu Neco, rei do Egito, para guerrear contra Carquemis, junto ao Eufrates; e Josias lhe saiu ao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lhe mandou mensageiros, dizendo: Que tenho eu contigo, rei de Judá? Não é contra ti que venho hoje, mas contra a casa que me faz guerra; e disse Deus que me apressasse; guarda-te de te opores a Deus, que é comigo, para que ele não te destr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osias não virou dele o seu rosto, antes se disfarçou, para pelejar contra ele; e não deu ouvidos às palavras de Neco, que saíram da boca de Deus; antes veio pelejar no vale de Me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lecheiros atiraram contra o rei Josias. Então o rei disse a seus servos: Tirai-me daqui, porque estou gravemente fe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servos o tiraram do carro, e o levaram no segundo carro que tinha, e o trouxeram a Jerusalém; e morreu, e o sepultaram nos sepulcros de seus pais; e todo o Judá e Jerusalém prantearam a Jos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remias fez uma lamentação sobre Josias; e todos os cantores e cantoras, nas suas lamentações, têm falado de Josias, até ao dia de hoje; porque as estabeleceram por estatuto em Israel; e eis que estão escritas nas lament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Josias, e as suas boas obras, conforme o que está escrito na lei d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atos, tanto os primeiros como os últimos, eis que estão escritos no livro dos reis de Israel e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levitas que ensinavam a todo o Israel e estavam consagrados ao SENHOR: Ponde a arca sagrada na casa que edificou Salomão, filho de Davi, rei de Israel; não tereis mais esta carga aos ombros; agora servi ao SENHOR vosso Deus, e ao seu povo Is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parai-vos segundo as vossas casas paternas e segundo as vossas turmas, conforme à prescrição de Davi, rei de Israel, e a de Salomão,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i no santuário segundo as divisões das casas paternas de vossos irmãos, os filhos do povo; e haja para cada divisão uma parte de uma família de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molai a páscoa, e santificai-vos, e preparai-a para vossos irmãos, fazendo conforme a palavra do SENHOR, dada pela mã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fereceu Josias, aos filhos do povo, cordeiros e cabritos do rebanho, todos para os sacrifícios da páscoa, em número de trinta mil, por todos os que ali se achavam, e de bois três mil; isto era da fazend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presentaram os seus príncipes ofertas voluntárias ao povo, aos sacerdotes e aos levitas: Hilquias, e Zacarias, e Jeiel, líderes da casa de Deus, deram aos sacerdotes para os sacrifícios da páscoa duas mil e seiscentas reses de gado miúdo, e tre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anias, e Semaías, e Natanael, seus irmãos, como também Hasabias, e Jeiel, e Jozabade, chefe dos levitas, apresentaram aos levitas, para os sacrifícios da páscoa, cinco mil reses de gado miúdo, e quinhentos b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46Z</dcterms:created>
  <dc:creator>Admin</dc:creator>
  <dc:description/>
  <dc:language>en-US</dc:language>
  <cp:lastModifiedBy>Admin</cp:lastModifiedBy>
  <dcterms:modified xsi:type="dcterms:W3CDTF">2008-07-30T23:50:46Z</dcterms:modified>
  <cp:revision>1</cp:revision>
  <dc:subject/>
  <dc:title>Slide 1</dc:title>
</cp:coreProperties>
</file>