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C8F-9BAE-4468-B001-DF1F0CCA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2A3-311D-4D29-AE10-D82B42C4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06E-B570-4D29-AD28-42FB7CB7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882-B271-4D48-8293-7258B21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AA9-41EF-4106-8E6F-593664A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6F2-05C4-4336-9589-2C4737EF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4EF-8FBC-4184-BE33-B78CFEB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A4D-E480-4936-88B2-F9B10208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F99-1782-4EE8-970F-5C807AA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590-2F2A-4BC3-9657-AB949E3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39F-DCC2-4D7F-9C32-1EF495C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5FB-EEEA-4500-9FFF-19CDA7D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279-32CD-4DC0-B09E-588BC654C8A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, não podendo esperar mais, achamos por bem ficar sozinhos em Aten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ndo abundantemente dia e noite, para que possamos ver o vosso rosto, e supramos o que falta à vossa fé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o mesmo nosso Deus e Pai, e nosso Senhor Jesus Cristo, encaminhe a nossa viagem para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vos aumente, e faça crescer em amor uns para com os outros, e para com todos, como também o fazemos para convosc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onfirmar os vossos corações, para que sejais irrepreensíveis em santidade diante de nosso Deus e Pai, na vinda de nosso SENHOR Jesus Cristo com todos os seu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nviamos Timóteo, nosso irmão, e ministro de Deus, e nosso cooperador no evangelho de Cristo, para vos confortar e vos exortar acerca da vossa f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ninguém se comova por estas tribulações; porque vós mesmos sabeis que para isto fomos orden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, estando ainda convosco, vos predizíamos que havíamos de ser afligidos, como sucedeu, e vós o sab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não podendo eu também esperar mais, mandei-o saber da vossa fé, temendo que o tentador vos tentasse, e o nosso trabalho viesse a ser inúti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o, porém, agora Timóteo de vós para nós, e trazendo-nos boas novas da vossa fé e amor, e de como sempre tendes boa lembrança de nós, desejando muito ver-nos, como nós também a vó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esta razão, irmãos, ficamos consolados acerca de vós, em toda a nossa aflição e necessidade, pela vossa fé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gora vivemos, se estais firmes n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e ação de graças poderemos dar a Deus por vós, por todo o gozo com que nos regozijamos por vossa causa diante do nosso Deu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07Z</dcterms:created>
  <dc:creator>Admin</dc:creator>
  <dc:description/>
  <dc:language>en-US</dc:language>
  <cp:lastModifiedBy>Admin</cp:lastModifiedBy>
  <dcterms:modified xsi:type="dcterms:W3CDTF">2008-07-30T23:48:07Z</dcterms:modified>
  <cp:revision>1</cp:revision>
  <dc:subject/>
  <dc:title>Slide 1</dc:title>
</cp:coreProperties>
</file>