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425-8C37-4C2D-AEA2-39256C94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2FA-B54F-4164-819A-BF25176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DB4-71D0-4E75-9E1E-18AD76FF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086-B69D-4646-B766-368681CF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C3F-CC21-4BF2-9C1C-0E888C1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848-C240-4945-AA2D-4607286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F5B-4F67-42C2-B3DB-A16D979C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2CE-636C-4AD3-BDFE-D1431DB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895-F84D-4450-ABFA-F2D41C2F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50E-08D5-490E-A0AA-8CCD5D5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582-E5BB-43F9-B109-86487A1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C8A-C51E-481B-B758-9C68B19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FA10-C96F-401A-B128-C13C6C67E5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s filhos de Issacar, foram: Tola, Pua, Jasube e Sinrom,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filho de Jediael, Bilã; e os filhos de Bilã foram Jeús, Benjamim, Eude, Quenaaná, Zetã, Társis e Aisa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filhos de Jediael foram chefes das famílias dos pais, homens valentes, dezessete mil e duzentos, que saíam no exército à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pim, e Hupim, filhos de Ir, e Husim, dos filhos de A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Naftali: Jaziel, e Guni, e Jezer, e Salum, filhos de Bi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anassés: Asriel, que a mulher de Gileade gerou (porém a sua concubina, a síria, gerou a Maquir, pai de Gile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quir tomou a irmã de Hupim e Supim por mulher, e era o seu nome Maaca), e foi o nome do segundo Zelofeade; e Zelofeade tev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aca, mulher de Maquir, deu à luz um filho, e chamou-o Perez; e o nome de seu irmão foi Seres; e foram seus filhos Ulão e Ra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Ulão, Bedã; estes foram os filhos de Gileade, filho de Maquir, filho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 sua irmã Hamolequete, teve a Is-Hode, a Abiezer, e a Maa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Semida: Aiã, Siquém, Liqui, e An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Tola foram: Uzi, Refaías, Jeriel, Jamai, Ibsão e Semuel, chefes das casas de seus pais, descendentes de Tola, homens valentes nas suas gerações; o seu número, nos dias de Davi, foi de vinte e dois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fraim: Sutela, e seu filho Berede, e seu filho Taate, e seu filho Elada e seu filho Ta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filho Zabade, e seu filho Sutela, e Ezer, e Elade; e os homens de Gate, naturais da terra, os mataram, porque desceram para tomar os seus 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fraim, seu pai, por muitos dias os chorou; e vieram seus irmãos para o conso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coabitou com sua mulher, e ela concebeu, e teve um filho; e chamou-o Berias; porque ia mal n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 filha foi Seerá, que edificou a Bete-Horom, a baixa e a alta, como também a Uzém-Se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seu filho Refa, e Resefe, de quem foi filho Tela, de quem foi filho Ta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oi filho Ladã, de quem foi filho Amiúde, de quem foi filho Elisa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oi filho Num, de quem foi filho Jos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 sua possessão e habitação Betel e os lugares da sua jurisdição; e ao oriente Naarã, e ao ocidente Gezer e os lugares da sua jurisdição, e Siquém e os lugares da sua jurisdição, até Gaza e os lugares da sua jurisd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lado dos filhos de Manassés, Bete-Seã e os lugares da sua jurisdição, Taanaque e os lugares da sua jurisdição, Megido e os lugares da sua jurisdição, Dor e os lugares da sua jurisdição; nestas habitaram os filhos de José, filh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Uzi: Izraías; e os filhos de Izraías foram: Mical, Obadias, Joel e Issias; todos estes cinco chef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ser foram: Imná, Isvá, Isvi, Berias, e Sera, irmã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rias: Héber e Malquiel; este foi o pai de Birzav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éber gerou a Jaflete, e a Somer, e a Hotão, e a Suá, irmã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Jaflete: Pasaque, e Bimal e Asvate; estes foram os filhos de Jafl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emer: Ai, Roga, Jeubá, e 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eu irmão Helém: Zofa, e Imna, e Seles, e A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Zofa: Suá, e Harnefer, e Sual, e Beri, e In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zer, Hode, Samá, Silsa, Itrã, e Be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eter: Jefoné, Pispa e 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Ula: Ará e Haniel e Ri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com eles nas suas gerações, segundo as suas casas paternas, em tropas de guerra, trinta e seis mil; porque tiveram muitas mulheres e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foram filhos de Aser, chefes das casas paternas, homens escolhidos e valentes, chefes dos príncipes, e contados nas suas genealogias, no exército para a guerra; foi seu número de vinte e seis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em todas as famílias de Issacar, homens valentes, foram oitenta e sete mil, todos contados pelas suas genealog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njamim foram: Belá, e Bequer, e Jediael,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lá: Esbom, e Uzi, e Uziel, e Jerimote, e Iri, cinco chefes da casa dos pais, homens valentes que foram contados pelas suas genealogias, vinte e dois mil e tri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quer: Zemira, Joás, Eliezer, Elioenai, Onri, Jerimote, Abias, Anatote, e Alemete; todos estes foram filhos de Be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contados pelas suas genealogias, segundo as suas gerações, e chefes das casas de seus pais, homens valentes, vinte mil e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42Z</dcterms:created>
  <dc:creator>Admin</dc:creator>
  <dc:description/>
  <dc:language>en-US</dc:language>
  <cp:lastModifiedBy>Admin</cp:lastModifiedBy>
  <dcterms:modified xsi:type="dcterms:W3CDTF">2008-07-30T23:42:42Z</dcterms:modified>
  <cp:revision>1</cp:revision>
  <dc:subject/>
  <dc:title>Slide 1</dc:title>
</cp:coreProperties>
</file>