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D01-866F-4E76-820E-D6EC9375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10C-E9C4-4628-B979-B93841E2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7C2-0D2C-4AFF-B1E9-23FC479C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505-9AD7-4319-A5CF-6CE04F7E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713-6B8D-4E79-A7A1-637DC83B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24B-B426-4306-B290-4E080825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114-0337-4F3C-B927-BF83B839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2C1-7B9A-4246-B53A-AF182C89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F9D-A0A2-41FA-9390-C2344AA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9A0-3D94-4684-B665-C7C1E02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8F6-7CA4-4CFD-965C-1C79F390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D4C-F42D-4AD2-AA39-6E971E7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C06D-6BF7-4B3A-A616-806B4583FB0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o ano décimo quarto do rei Ezequias, que Senaqueribe, rei da Assíria, subiu contra todas as cidades fortificadas de Judá, e as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ubi eu sem o SENHOR contra esta terra, para destruí-la? O SENHOR mesmo me disse: Sobe contra esta terra, e destrói-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Eliaquim, Sebna e Joá a Rabsaqué: Pedimos-te que fales aos teus servos em siríaco, porque bem o entendemos, e não nos fales em judaico, aos ouvidos do povo que está sobre o m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absaqué, porém, disse: Porventura mandou-me o meu SENHOR ao teu senhor e a ti, para dizer estas palavras e não antes aos homens que estão assentados sobre o muro, para que comam convosco o seu esterco, e bebam a sua uri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absaqué, pois, se pôs em pé, e clamou em alta voz em judaico, e disse: Ouvi as palavras do grande rei, d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rei: Não vos engane Ezequias; porque não vos poderá liv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Ezequias vos faça confiar no SENHOR, dizendo: Infalivelmente nos livrará o SENHOR, e esta cidade não será entregue nas mãos d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is ouvidos a Ezequias; porque assim diz o rei da Assíria: Aliai-vos comigo, e saí a mim, e coma cada um da sua vide, e da sua figueira, e beba cada um da água da sua cister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eu venha, e vos leve para uma terra como a vossa; terra de trigo e de mosto, terra de pão e de vi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engane Ezequias, dizendo: O SENHOR nos livrará. Porventura os deuses das nações livraram cada um a sua terra das mãos do rei da Assí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ão os deuses de Hamate e de Arpade? Onde estão os deuses de Sefarvaim? Porventura livraram a Samaria da minha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a Assíria enviou a Rabsaqué, de Laquis a Jerusalém, ao rei Ezequias com um grande exército, e ele parou junto ao aqueduto do açude superior, junto ao caminho do campo do lavan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is dentre todos os deuses destes países livraram a sua terra das minhas mãos, para que o SENHOR livrasse a Jerusalém das minhas 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porém, se calaram, e não lhe responderam palavra alguma; porque havia mandado do rei, dizendo: Não lhe respond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iaquim, filho de Hilquias, o mordomo, e Sebna, o escrivão, e Joá, filho de Asafe, o cronista, vieram a Ezequias, com as vestes rasgadas, e lhe fizeram saber as palavras de Rabsaqu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íram a ter com ele Eliaquim, filho de Hilquias, o mordomo, e Sebna, o escrivão, e Joá, filho de Asafe, o cron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absaqué lhes disse: Ora dizei a Ezequias: Assim diz o grande rei, o rei da Assíria: Que confiança é esta, em que espe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posso eu dizer: Teu conselho e poder para a guerra são apenas vãs palavras; em quem, pois, agora confias, que contra mim te rebel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confias no Egito, aquele bordão de cana quebrada, o qual, se alguém se apoiar nele lhe entrará pela mão, e a furará; assim é Faraó, rei do Egito, para com todos os que nele conf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me disseres: No SENHOR, nosso Deus, confiamos; porventura não é este aquele cujos altos e altares Ezequias tirou, e disse a Judá e a Jerusalém: Perante este altar adorare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empenha-te com meu senhor, o rei da Assíria, e dar-te-ei dois mil cavalos, se tu puderes dar cavaleiros pa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poderás repelir a um só capitão dos menores servos do meu senhor, quando confias no Egito, por causa dos carros e cavalei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54Z</dcterms:created>
  <dc:creator>Admin</dc:creator>
  <dc:description/>
  <dc:language>en-US</dc:language>
  <cp:lastModifiedBy>Admin</cp:lastModifiedBy>
  <dcterms:modified xsi:type="dcterms:W3CDTF">2008-07-30T23:55:54Z</dcterms:modified>
  <cp:revision>1</cp:revision>
  <dc:subject/>
  <dc:title>Slide 1</dc:title>
</cp:coreProperties>
</file>