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7BEB-192E-4C19-9CCD-898C961A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2EBD-66CB-4AEC-8C39-7BE4A051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1DBB-251B-45A5-8404-EB509A41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0C48-B533-4C9D-9527-6AA4FA75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EA7B-2506-4AD9-B731-9D4A38F5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6A20-8CF7-4424-8B54-DE4E509D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34D5-B828-4254-A306-FF31FB85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5A48-22C7-4857-861D-F40E51D7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2310-151E-4F80-B535-3FD4E75D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3643-7F1F-44AE-B7EA-0A3A82AA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6A86-AB39-4B0E-8643-A4124C33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7647-3C93-412D-BD3A-A2397650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CEBC-CD02-49CA-99F2-AB10F514033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HECEU Adão a Eva, sua mulher, e ela concebeu e deu à luz a Caim, e disse: Alcancei do SENHOR um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eus: Que fizeste? A voz do sangue do teu irmão clama a mim desd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 maldito és tu desde a terra, que abriu a sua boca para receber da tua mão o sangue do teu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lavrares a terra, não te dará mais a sua força; fugitivo e vagabundo serás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Caim ao SENHOR: É maior a minha maldade que a que possa ser perdo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hoje me lanças da face da terra, e da tua face me esconderei; e serei fugitivo e vagabundo na terra, e será que todo aquele que me achar, me mat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, porém, disse-lhe: Portanto qualquer que matar a Caim, sete vezes será castigado. E pôs o SENHOR um sinal em Caim, para que o não ferisse qualquer que o achas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u Caim de diante da face do SENHOR, e habitou na terra de Node, do lado oriental do Éde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heceu Caim a sua mulher, e ela concebeu, e deu à luz a Enoque; e ele edificou uma cidade, e chamou o nome da cidade conforme o nome de seu filho Enoqu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Enoque nasceu Irade, e Irade gerou a Meujael, e Meujael gerou a Metusael e Metusael gerou a Lame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Lameque para si duas mulheres; o nome de uma era Ada, e o nome da outra, Zil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 à luz mais a seu irmão Abel; e Abel foi pastor de ovelhas, e Caim foi lavrador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da deu à luz a Jabal; este foi o pai dos que habitam em tendas e têm g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nome do seu irmão era Jubal; este foi o pai de todos os que tocam harpa e órg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Zilá também deu à luz a Tubalcaim, mestre de toda a obra de cobre e ferro; e a irmã de Tubalcaim foi Noe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Lameque a suas mulheres Ada e Zilá: Ouvi a minha voz; vós, mulheres de Lameque, escutai as minhas palavras; porque eu matei um homem por me ferir, e um jovem por me pis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te vezes Caim será castigado; mas Lameque setenta vezes se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rnou Adão a conhecer a sua mulher; e ela deu à luz um filho, e chamou o seu nome Sete; porque, disse ela, Deus me deu outro filho em lugar de Abel; porquanto Caim o ma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ete também nasceu um filho; e chamou o seu nome Enos; então se começou a invocar o nom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ao cabo de dias que Caim trouxe do fruto da terra uma oferta a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el também trouxe dos primogênitos das suas ovelhas, e da sua gordura; e atentou o SENHOR para Abel e para a sua ofe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ara Caim e para a sua oferta não atentou. E irou-se Caim fortemente, e descaiu-lhe o sembl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disse a Caim: Por que te iraste? E por que descaiu o teu semblan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bem fizeres, não é certo que serás aceito? E se não fizeres bem, o pecado jaz à porta, e sobre ti será o seu desejo, mas sobre ele deves domin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ou Caim com o seu irmão Abel; e sucedeu que, estando eles no campo, se levantou Caim contra o seu irmão Abel, e o mat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 a Caim: Onde está Abel, teu irmão? E ele disse: Não sei; sou eu guardador do meu irmã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7:22Z</dcterms:created>
  <dc:creator>Admin</dc:creator>
  <dc:description/>
  <dc:language>en-US</dc:language>
  <cp:lastModifiedBy>Admin</cp:lastModifiedBy>
  <dcterms:modified xsi:type="dcterms:W3CDTF">2008-07-30T23:37:22Z</dcterms:modified>
  <cp:revision>1</cp:revision>
  <dc:subject/>
  <dc:title>Slide 1</dc:title>
</cp:coreProperties>
</file>