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688-EF43-45AD-8439-54D42440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7BA-C7CD-4FA8-B5FE-9EA123A8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8EE-CE0A-4D23-871A-0E0FF8AD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E77-A897-49D8-8CC4-A14F839E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745-B153-4F13-8CA2-10127912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5D7-DCE1-4E0B-A018-C1A2A218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3CC-F5FC-4EC3-ADD5-3AC6F668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1DC-F991-4301-BB81-6D055756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A14-7B03-47E8-97B4-7E78C1F2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274E-94B6-4BE7-A2A9-C5D5AA5D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064-4F12-4EDA-B2C2-8D90F6B3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288-B477-428A-A09C-0586CA79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53C1-7B66-48D1-80B3-20CF75A0FE9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, pois, são os chefes das casas paternas e esta a genealogia dos que subiram comigo de Babilônia no reinado do rei Artaxerx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Selomite, o filho de Josifias, e com ele cento e sessenta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Bebai, Zacarias, o filho de Bebai, e com ele vinte e oito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Azgade, Joanã, o filho de Hacatã, e com ele cento e dez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últimos filhos de Adonicão, cujos nomes eram estes: Elifelete, Jeiel e Semaías, e com eles sessenta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Bigvai, Utai e Zabude, e com eles setenta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juntei-os perto do rio que vai a Aava, e ficamos ali acampados três dias. Então atentei para o povo e para os sacerdotes, e não achei ali nenhum dos filhos de Le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ei, pois, Eliezer, Ariel, Semaías, Elnatã, Jaribe, Elnatã, Natã, Zacarias e Mesulão, os chefes; como também a Joiaribe, e a Elnatã, que eram entend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ei-os com mandado a Ido, chefe em Casifia; e falei a eles o que deveriam dizer a Ido e aos seus irmãos, servidores do templo, em Casifia, que nos trouxessem ministros para a casa do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ouxeram-nos, segundo a boa mão de Deus sobre nós, um homem entendido, dos filhos de Mali, filho de Levi, filho de Israel, a saber: Serebias, com os seus filhos e irmãos, dezo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Hasabias, e com ele Jesaías, dos filhos de Merari, com seus irmãos e os filhos deles, vi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Finéias, Gérson; dos filhos de Itamar, Daniel; dos filhos de Davi, Hat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servidores do templo que Davi e os príncipes deram para o ministério dos levitas, duzentos e vinte servidores do templo; que foram todos mencionados por seus no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pregoei ali um jejum junto ao rio Aava, para nos humilharmos diante da face de nosso Deus, para lhe pedirmos caminho seguro para nós, para nossos filhos e para todos os nossos b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ive vergonha de pedir ao rei, exército e cavaleiros para nos defenderem do inimigo pelo caminho; porquanto tínhamos falado ao rei, dizendo: A mão do nosso Deus é sobre todos os que o buscam, para o bem deles; mas o seu poder e a sua ira contra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ós, pois, jejuamos, e pedimos isto ao nosso Deus, e moveu-se pelas nossas o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parei doze dos chefes dos sacerdotes: Serebias, Hasabias, e com eles dez dos s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sei-lhes a prata, o ouro e os vasos; que eram a oferta para a casa de nosso Deus, que ofereceram o rei, os seus conselheiros, os seus príncipes e todo o Israel que ali se ach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sei em suas mãos seiscentos e cinqüenta talentos de prata, e em vasos de prata cem talentos, e cem talentos de our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nte bacias de ouro, de mil dracmas, e dois vasos de bom metal lustroso, tão precioso como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Vós sois santos ao SENHOR, e são santos estes utensílios, como também esta prata e este ouro, oferta voluntária, oferecida ao SENHOR Deus de v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giai, pois, e guardai-os até que os peseis na presença dos chefes dos sacerdotes e dos levitas, e dos chefes dos pais de Israel, em Jerusalém, nas câmaras d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Secanias, e dos filhos de Parós, Zacarias, e com ele, segundo a genealogia, se contaram até cento e cinqüenta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sacerdotes e os levitas receberam o peso da prata, do ouro e dos utensílios, para os trazerem a Jerusalém, à casa de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mos do rio Aava, no dia doze do primeiro mês, para irmos a Jerusalém; e a mão do nosso Deus estava sobre nós, e livrou-nos da mão dos inimigos, e dos que nos armavam ciladas pel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amos a Jerusalém, e repousamos ali trê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quarto dia se pesou a prata, o ouro e os utensílios, na casa do nosso Deus, por mão de Meremote, filho do sacerdote Urias; e com ele Eleazar, filho de Finéias, e com eles Jozabade, filho de Jesuá, e Noadias, filho de Binui, lev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foi contado e pesado; e todo o peso foi registrado na mesma oca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xilados, que vieram do cativeiro, ofereceram holocaustos ao Deus de Israel, doze novilhos por todo o Israel, noventa e seis carneiros, setenta e sete cordeiros, e doze bodes em sacrifício pelo pecado; tudo em holocausto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ram as ordens do rei aos seus sátrapas, e aos governadores dalém do rio; e estes ajudaram o povo e a cas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Paate-Moabe, Elioenai, filho de Zacarias, e com ele duzent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Secanias, o filho de Jeaziel, e com ele trezent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Adim, Ebede, filho de Jônatas, e com ele cinqüenta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Elão, Jesaías, filho de Atalias, e com ele setenta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Sefatias, Zebadias, filho de Micael, e com ele oitenta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Joabe, Obadias, filho de Jeiel, e com ele duzentos e dezoito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33Z</dcterms:created>
  <dc:creator>Admin</dc:creator>
  <dc:description/>
  <dc:language>en-US</dc:language>
  <cp:lastModifiedBy>Admin</cp:lastModifiedBy>
  <dcterms:modified xsi:type="dcterms:W3CDTF">2008-07-30T23:30:33Z</dcterms:modified>
  <cp:revision>1</cp:revision>
  <dc:subject/>
  <dc:title>Slide 1</dc:title>
</cp:coreProperties>
</file>