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CEDB-A03D-4312-91CC-ACD710AE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9CB9-B313-4F41-89C6-3A500A61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86AA-A05B-4C9F-9BEC-C616DF62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201D-BEBA-425A-BD4A-AF235320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0992-EE36-4BAF-BFE0-67B90188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640A-B4CE-492E-A72C-BB7E882B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8F43-2BAD-46B5-BBF6-F6D1032C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C2C6-AAC3-4018-B24A-B372CA62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2F42-A272-4A33-8931-0FB3D017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7DCA-3EC9-44EA-A80D-1100ECCA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DF7C-12D6-4EF0-95AD-D02A4240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2EBC-78A6-433F-AD39-1AB5504E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0D93-DF52-433D-A3DB-A949AE745EE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IAGO, servo de Deus, e do Senhor Jesus Cristo, às doze tribos que andam dispersas, saú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rico em seu abatimento; porque ele passará como a flor da er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ai o sol com ardor, e a erva seca, e a sua flor cai, e a formosa aparência do seu aspecto perece; assim se murchará também o rico em seus cam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 o homem que suporta a tentação; porque, quando for provado, receberá a coroa da vida, a qual o Senhor tem prometido aos que o am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nguém, sendo tentado, diga: De Deus sou tentado; porque Deus não pode ser tentado pelo mal, e a ninguém te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cada um é tentado, quando atraído e engodado pela sua própria concupisc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, havendo a concupiscência concebido, dá à luz o pecado; e o pecado, sendo consumado, gera 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erreis, meus amado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 a boa dádiva e todo o dom perfeito vem do alto, descendo do Pai das luzes, em quem não há mudança nem sombra de vari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gundo a sua vontade, ele nos gerou pela palavra da verdade, para que fôssemos como primícias das suas criatu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meus amados irmãos, todo o homem seja pronto para ouvir, tardio para falar, tardio para se ir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eus irmãos, tende grande gozo quando cairdes em várias tentaçõe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ira do homem não opera a justiça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1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rejeitando toda a imundícia e superfluidade de malícia, recebei com mansidão a palavra em vós enxertada, a qual pode salvar as vossas alm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1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de cumpridores da palavra, e não somente ouvintes, enganando-vos com falsos discur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1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alguém é ouvinte da palavra, e não cumpridor, é semelhante ao homem que contempla ao espelho o seu rosto natura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1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 contempla a si mesmo, e vai-se, e logo se esquece de como e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1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quele, porém, que atenta bem para a lei perfeita da liberdade, e nisso persevera, não sendo ouvinte esquecidiço, mas fazedor da obra, este tal será bem-aventurado no seu f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1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lguém entre vós cuida ser religioso, e não refreia a sua língua, antes engana o seu coração, a religião desse é v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1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religião pura e imaculada para com Deus, o Pai, é esta: Visitar os órfãos e as viúvas nas suas tribulações, e guardar-se da corrupção do mu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ndo que a prova da vossa fé opera a paci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ha, porém, a paciência a sua obra perfeita, para que sejais perfeitos e completos, sem faltar em coisa algu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algum de vós tem falta de sabedoria, peça-a a Deus, que a todos dá liberalmente, e o não lança em rosto, e ser-lhe-á d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ça-a, porém, com fé, em nada duvidando; porque o que duvida é semelhante à onda do mar, que é levada pelo vento, e lançada de uma para outra pa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pense tal homem que receberá do Senhor alguma coi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homem de coração dobre é inconstante em todos os seus cam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Tiago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glorie-se o irmão abatido na sua exaltaç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9:03Z</dcterms:created>
  <dc:creator>Admin</dc:creator>
  <dc:description/>
  <dc:language>en-US</dc:language>
  <cp:lastModifiedBy>Admin</cp:lastModifiedBy>
  <dcterms:modified xsi:type="dcterms:W3CDTF">2008-07-31T00:29:03Z</dcterms:modified>
  <cp:revision>1</cp:revision>
  <dc:subject/>
  <dc:title>Slide 1</dc:title>
</cp:coreProperties>
</file>