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A40A9-6947-4E2C-A653-25B683FFF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EE854-FA6F-4C0B-8233-1AAFF46FA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F957F-FE1B-45F4-B061-E00B22DCC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24099-6ECF-4430-BA0D-E82139818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07466-9B13-42F9-9DCF-46F2E858B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A0F9F-7F34-4611-8AC7-C305C414A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0449F-A213-49C3-9ED6-1222CF5D6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9A783-205D-41FD-B48F-F9F5C6B23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5C0EB-B92D-4C56-B7F5-C4BD6CD9C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E7A39-61FF-440C-A05A-2A4F56152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80D21-D891-4247-8012-9918CB29F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B44BD-4B20-43D3-9436-F64F62AA7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0DE33-396C-4ACD-9E63-30FDDB88A7F7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18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UCEDEU que, depois de muitos dias, a palavra do SENHOR veio a Elias, no terceiro ano, dizendo: Vai, apresenta-te a Acabe; porque darei chuva sobre a ter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18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Vive o SENHOR teu Deus, que não houve nação nem reino aonde o meu senhor não mandasse em busca de ti; e dizendo eles: Aqui não está, então fazia jurar os reinos e nações, que não te haviam acha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18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gora dizes tu: Vai, dize a teu senhor: Eis que aqui está Eli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18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poderia ser que, apartando-me eu de ti, o Espírito do SENHOR te tomasse, não sei para onde, e, vindo eu a dar as novas a Acabe, e não te achando ele, me mataria; porém eu, teu servo, temo ao SENHOR desde a minha mocidad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18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ventura não disseram a meu senhor o que fiz, quando Jezabel matava os profetas do SENHOR? Como escondi a cem homens dos profetas do SENHOR, de cinqüenta em cinqüenta, numa cova, e os sustentei com pão e água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18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gora dizes tu: Vai, dize a teu senhor: Eis que Elias está aqui; ele me matar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18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 Elias: Vive o SENHOR dos Exércitos, perante cuja face estou, que deveras hoje me apresentarei a el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18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foi Obadias encontrar-se com Acabe, e lho anunciou; e foi Acabe encontrar-se com Eli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18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ucedeu que, vendo Acabe a Elias, disse-lhe: És tu o perturbador de Israel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18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disse ele: Eu não tenho perturbado a Israel, mas tu e a casa de teu pai, porque deixastes os mandamentos do SENHOR, e seguistes a Baali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18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gora, pois, manda reunir-se a mim todo o Israel no monte Carmelo; como também os quatrocentos e cinqüenta profetas de Baal, e os quatrocentos profetas de Asera, que comem da mesa de Jezabe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18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foi Elias apresentar-se a Acabe; e a fome era extrema em Samar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18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Acabe convocou todos os filhos de Israel; e reuniu os profetas no monte Carmel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18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Elias se chegou a todo o povo, e disse: Até quando coxeareis entre dois pensamentos? Se o SENHOR é Deus, segui-o, e se Baal, segui-o. Porém o povo nada lhe responde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18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disse Elias ao povo: Só eu fiquei por profeta do SENHOR, e os profetas de Baal são quatrocentos e cinqüenta homen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18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êem-se-nos, pois, dois bezerros, e eles escolham para si um dos bezerros, e o dividam em pedaços, e o ponham sobre a lenha, porém não lhe coloquem fogo, e eu prepararei o outro bezerro, e o porei sobre a lenha, e não lhe colocarei fog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18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invocai o nome do vosso deus, e eu invocarei o nome do SENHOR; e há de ser que o deus que responder por meio de fogo esse será Deus. E todo o povo respondeu, dizendo: É boa esta palav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18:2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 Elias aos profetas de Baal: Escolhei para vós um dos bezerros, e preparai-o primeiro, porque sois muitos, e invocai o nome do vosso deus, e não lhe ponhais fog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18:2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tomaram o bezerro que lhes dera, e o prepararam; e invocaram o nome de Baal, desde a manhã até ao meio dia, dizendo: Ah! Baal, responde-nos! Porém nem havia voz, nem quem respondesse; e saltavam sobre o altar que tinham fei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18:2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ucedeu que ao meio dia Elias zombava deles e dizia: Clamai em altas vozes, porque ele é um deus; pode ser que esteja falando, ou que tenha alguma coisa que fazer, ou que intente alguma viagem; talvez esteja dormindo, e despertará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18:2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les clamavam em altas vozes, e se retalhavam com facas e com lancetas, conforme ao seu costume, até derramarem sangue sobre s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18:2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ucedeu que, passado o meio dia, profetizaram eles, até a hora de se oferecer o sacrifício da tarde; porém não houve voz, nem resposta, nem atenção algum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18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cabe chamou a Obadias, o mordomo; e Obadias temia muito ao SENHOR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18:3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Elias disse a todo o povo: Chegai-vos a mim. E todo o povo se chegou a ele; e restaurou o altar do SENHOR, que estava quebra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18:3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lias tomou doze pedras, conforme ao número das tribos dos filhos de Jacó, ao qual veio a palavra do SENHOR, dizendo: Israel será o teu nom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18:3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com aquelas pedras edificou o altar em nome do SENHOR; depois fez um rego em redor do altar, segundo a largura de duas medidas de semen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18:3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armou a lenha, e dividiu o bezerro em pedaços, e o pôs sobre a lenh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18:3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: Enchei de água quatro cântaros, e derramai-a sobre o holocausto e sobre a lenha. E disse: Fazei-o segunda vez; e o fizeram segunda vez. Disse ainda: Fazei-o terceira vez; e o fizeram terceira vez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18:3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 maneira que a água corria ao redor do altar; e até o rego ele encheu de águ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18:3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ucedeu que, no momento de ser oferecido o sacrifício da tarde, o profeta Elias se aproximou, e disse: Ó SENHOR Deus de Abraão, de Isaque e de Israel, manifeste-se hoje que tu és Deus em Israel, e que eu sou teu servo, e que conforme à tua palavra fiz 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18:3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Responde-me, SENHOR, responde-me, para que este povo conheça que tu és o SENHOR Deus, e que tu fizeste voltar o seu coraç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18:3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caiu fogo do SENHOR, e consumiu o holocausto, e a lenha, e as pedras, e o pó, e ainda lambeu a água que estava no reg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18:3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que vendo todo o povo, caíram sobre os seus rostos, e disseram: Só o SENHOR é Deus! Só o SENHOR é Deus!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18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sucedeu que, destruindo Jezabel os profetas do SENHOR, Obadias tomou cem profetas, e de cinqüenta em cinqüenta os escondeu numa cova, e os sustentou com pão e águ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18:4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lias lhes disse: Lançai mão dos profetas de Baal, que nenhum deles escape. E lançaram mão deles; e Elias os fez descer ao ribeiro de Quisom, e ali os mato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18:4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disse Elias a Acabe: Sobe, come e bebe, porque há ruído de uma abundante chuv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18:4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cabe subiu a comer e a beber; mas Elias subiu ao cume do Carmelo, e se inclinou por terra, e pôs o seu rosto entre os seus joelh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18:4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 ao seu servo: Sobe agora, e olha para o lado do mar. E subiu, e olhou, e disse: Não há nada. Então disse ele: Volta lá sete vez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18:4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ucedeu que, à sétima vez, disse: Eis aqui uma pequena nuvem, como a mão de um homem, subindo do mar. Então disse ele: Sobe, e dize a Acabe: Aparelha o teu carro, e desce, para que a chuva não te impeç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18:4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ucedeu que, entretanto, os céus se enegreceram com nuvens e vento, e veio uma grande chuva; e Acabe subiu ao carro, e foi para Jizree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18:4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 mão do SENHOR estava sobre Elias, o qual cingiu os lombos, e veio correndo perante Acabe, até à entrada de Jizree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18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 Acabe a Obadias: Vai pela terra a todas as fontes de água, e a todos os rios; pode ser que achemos erva, para que em vida conservemos os cavalos e mulas, e não percamos todos os animai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18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repartiram entre si a terra, para a percorrerem: Acabe foi à parte por um caminho, e Obadias também foi sozinho por outro caminh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18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stando, pois, Obadias já em caminho, eis que Elias o encontrou; e Obadias, reconhecendo-o, prostrou-se sobre o seu rosto, e disse: És tu o meu senhor Elia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18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-lhe ele: Eu sou; vai, e dize a teu senhor: Eis que Elias está aqu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18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ém ele disse: Em que pequei, para que entregues a teu servo na mão de Acabe, para que me mate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45:56Z</dcterms:created>
  <dc:creator>Admin</dc:creator>
  <dc:description/>
  <dc:language>en-US</dc:language>
  <cp:lastModifiedBy>Admin</cp:lastModifiedBy>
  <dcterms:modified xsi:type="dcterms:W3CDTF">2008-07-30T23:45:56Z</dcterms:modified>
  <cp:revision>1</cp:revision>
  <dc:subject/>
  <dc:title>Slide 1</dc:title>
</cp:coreProperties>
</file>