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85E-9577-4754-8771-57E5D775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241F-628E-4DDB-9901-9588CEFB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D14-3AD9-4A01-B7DB-8B53B0FA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6A1-0582-446B-9A0F-F50F3F14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BC17-B2BF-4794-B46A-3AC2CE73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45A-A5BD-47BC-AFD5-51E3FB6F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3215-0D08-45E0-879A-9D7A89DF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F87-20F7-4820-AFA6-05FB1EC5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E0BF-180C-48DA-927B-6D39A50A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CDC-FA14-4FB7-B4B1-5C982BEE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136-822A-4B64-B7BE-CDB64B85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251-5D55-4D17-B9F9-4D4062B9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6989-8177-45BA-9077-6A1B437B381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 e a Arão, dizendo-lh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odo o que não tem barbatanas, nem escamas, nos mares e nos rios, todo o réptil das águas, e todo o ser vivente que há nas águas, estes serão para vós abomi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-vos-ão, pois, por abominação; da sua carne não comereis, e abominareis o seu cadáv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que não tem barbatanas ou escamas, nas águas, será para vós abomi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s aves, estas abominareis; não se comerão, serão abominação: a águia, e o quebrantosso, e o xofrang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ilhano, e o abutre segundo a sua espéci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corvo segundo a sua espéci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vestruz, e o mocho, e a gaivota, e o gavião segundo a sua espéci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bufo, e o corvo marinho, e a coruj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gralha, e o cisne, e o pelican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egonha, a garça segundo a sua espécie, e a poupa, e o morce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dizendo: Estes são os animais, que comereis dentre todos os animais que há sobre 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inseto que voa, que anda sobre quatro pés, será para vós uma abomi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isto comereis de todo o inseto que voa, que anda sobre quatro pés: o que tiver pernas sobre os seus pés, para saltar com elas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les comereis estes: a locusta segundo a sua espécie, o gafanhoto devorador segundo a sua espécie, o grilo segundo a sua espécie, e o gafanhoto segundo a sua espéci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outros insetos que voam, que têm quatro pés, serão para vós uma abomi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estes sereis imundos: qualquer que tocar os seus cadáveres, imundo será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quer que levar os seus cadáveres lavará as suas vestes, e será imundo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animal que tem unha fendida, mas a fenda não se divide em duas, e todo o que não rumina, vos será por imundo; qualquer que tocar neles será i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animal que anda sobre as suas patas, todo o animal que anda a quatro pés, vos será por imundo; qualquer que tocar nos seus cadáveres será imundo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levar os seus cadáveres lavará as suas vestes, e será imundo até à tarde; eles vos serão por imun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também vos serão por imundos entre os répteis que se arrastam sobre a terra; a doninha, e o rato, e a tartaruga segundo a sua espéci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ntre os animais, todo o que tem unhas fendidas, e a fenda das unhas se divide em duas, e rumina, deles com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ouriço cacheiro, e o lagarto, e a lagartixa, e a lesma e a toup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vos serão por imundos dentre todos os répteis; qualquer que os tocar, estando eles mortos, será imundo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do aquilo sobre o que cair alguma coisa deles estando eles mortos será imundo; seja vaso de madeira, ou veste, ou pele, ou saco, qualquer instrumento, com que se faz alguma obra, será posto na água, e será imundo até à tarde; depois será li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vaso de barro, em que cair alguma coisa deles, tudo o que houver nele será imundo, e o vaso quebr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alimento que se come, sobre o qual cair água de tais vasos, será imundo; e toda a bebida que se bebe, depositada nesses vasos, será imu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ilo sobre o que cair alguma parte de seu corpo morto, será imundo; o forno e o vaso de barro serão quebrados; imundos são: portanto vos serão por imun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fonte ou cisterna, em que se recolhem águas, será limpa, mas quem tocar no seu cadáver será i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dos seus cadáveres cair alguma coisa sobre alguma semente que se vai semear, será limp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for deitada água sobre a semente, e se dos seus cadáveres cair alguma coisa sobre ela, vos será por imu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morrer algum dos animais, que vos servem de mantimento, quem tocar no seu cadáver será imundo até à tar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tes, porém, não comereis; dos que ruminam ou dos que têm unhas fendidas; o camelo, que rumina, mas não tem unhas fendidas; esse vos será imun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m comer do seu cadáver lavará as suas vestes, e será imundo até à tarde; e quem levar o seu corpo morto lavará as suas vestes, e será imundo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do o réptil, que se arrasta sobre a terra, será abominação; não se com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o que anda sobre o ventre, e tudo o que anda sobre quatro pés, ou que tem muitos pés, entre todo o réptil que se arrasta sobre a terra, não comereis, porquanto são uma abomi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façais abomináveis, por nenhum réptil que se arrasta, nem neles vos contamineis, para não serdes imundos por el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sou o SENHOR vosso Deus; portanto vós vos santificareis, e sereis santos, porque eu sou santo; e não vos contaminareis com nenhum réptil que se arrasta sobre 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sou o SENHOR, que vos fiz subir da terra do Egito, para que eu seja vosso Deus, e para que sejais santos; porque eu sou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lei dos animais, e das aves, e de toda criatura vivente que se move nas águas, e de toda criatura que se arrasta sobre 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fazer diferença entre o imundo e o limpo; e entre animais que se podem comer e os animais que não se podem com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oelho, porque rumina, mas não tem as unhas fendidas; esse vos será imun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lebre, porque rumina, mas não tem as unhas fendidas; essa vos será imu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porco, porque tem unhas fendidas, e a fenda das unhas se divide em duas, mas não rumina; este vos será i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s suas carnes não comereis, nem tocareis nos seus cadáveres; estes vos serão imun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todos os animais que há nas águas, comereis os seguintes: todo o que tem barbatanas e escamas, nas águas, nos mares e nos rios, esses com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8:41Z</dcterms:created>
  <dc:creator>Admin</dc:creator>
  <dc:description/>
  <dc:language>en-US</dc:language>
  <cp:lastModifiedBy>Admin</cp:lastModifiedBy>
  <dcterms:modified xsi:type="dcterms:W3CDTF">2008-07-31T00:08:41Z</dcterms:modified>
  <cp:revision>1</cp:revision>
  <dc:subject/>
  <dc:title>Slide 1</dc:title>
</cp:coreProperties>
</file>