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86C-A210-43E0-8DA2-88D0829B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139-FFAA-449F-AE4E-11A45C53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71C-908F-4F2D-ABF0-1FB09492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04B-A003-4460-A735-689E4B1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4A3-B83E-46E0-8317-FA557CF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A01-0BA8-427F-860B-15007260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F5F-C331-42FD-AF3D-88654E1E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C3B-3F75-4467-B677-30578F5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09B-3ADC-46A8-BF8F-5FE7854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3FB-9BBD-4ABE-A0B8-4B664C6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5CE-EF29-474E-A3A1-638D045B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BF2-B3A3-414C-9AE1-E092A62C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935-619A-483F-9E4E-1974ADDDE6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ó a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irou o cativeiro de Jó, quando orava pelos seus amigos; e o SENHOR acrescentou, em dobro, a tudo quanto Jó antes possuí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eram a ele todos os seus irmãos, e todas as suas irmãs, e todos quantos dantes o conheceram, e comeram com ele pão em sua casa, e se condoeram dele, e o consolaram acerca de todo o mal que o SENHOR lhe havia enviado; e cada um deles lhe deu uma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abençoou o SENHOR o último estado de Jó, mais do que o primeiro; pois teve catorze mil ovelhas, e seis mil camelos, e mil juntas de bois, e mil jum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ve sete filhos e trê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o nome da primeira Jemima, e o nome da segunda Quezia, e o nome da terceira Quéren-Hapu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terra não se acharam mulheres tão formosas como as filhas de Jó; e seu pai lhes deu herança entr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viveu Jó cento e quarenta anos; e viu a seus filhos, e aos filhos de seus filhos, até à quar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rreu Jó, velho e farto d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ei eu que tudo podes, e que nenhum dos teus propósitos pode ser imp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, que sem conhecimento encobre o conselho? Por isso relatei o que não entendia; coisas que para mim eram inescrutáveis, e que eu não enten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-me, pois, e eu falarei; eu te perguntarei, e tu me ensin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ouvir dos meus ouvidos ouvi, mas agora te vêem 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e abomino e me arrependo no pó e na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acabando o SENHOR de falar a Jó aquelas palavras, o SENHOR disse a Elifaz, o temanita: A minha ira se acendeu contra ti, e contra os teus dois amigos, porque não falastes de mim o que era reto, como o meu servo J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, pois, sete bezerros e sete carneiros, e ide ao meu servo Jó, e oferecei holocaustos por vós, e o meu servo Jó orará por vós; porque deveras a ele aceitarei, para que eu não vos trate conforme a vossa loucura; porque vós não falastes de mim o que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Elifaz, o temanita, e Bildade, o suíta, e Zofar, o naamatita, e fizeram como o SENHOR lhes dissera; e o SENHOR aceitou a face de J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35Z</dcterms:created>
  <dc:creator>Admin</dc:creator>
  <dc:description/>
  <dc:language>en-US</dc:language>
  <cp:lastModifiedBy>Admin</cp:lastModifiedBy>
  <dcterms:modified xsi:type="dcterms:W3CDTF">2008-07-31T00:02:35Z</dcterms:modified>
  <cp:revision>1</cp:revision>
  <dc:subject/>
  <dc:title>Slide 1</dc:title>
</cp:coreProperties>
</file>