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5C5-E1AF-4651-9E1E-F7B250C3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EAB1-539F-42D4-8D2C-95F9AB04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664-A276-4925-8152-EBE463FF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9921-3601-49F5-9602-5A187CB2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3114-544C-43BC-B95C-34FBEC36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F579-6A85-4AD9-8A03-ECB281F5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2C8-325E-4346-AB0B-9727D4E4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663-4F32-4056-B993-839B205E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C9A-1F08-46B2-A4E1-C8D2AC6E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A9C1-9223-4D72-A47E-B8335B07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55A6-623F-456D-97F9-9A6D082D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1D9D-6FC5-433F-828A-1A0F3057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5DE0-70A8-4D16-9C00-2739EDF1D28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ECEU bem a Dario constituir sobre o reino cento e vinte príncipes, que estivessem sobre todo o rein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niel, pois, quando soube que o edito estava assinado, entrou em sua casa (ora havia no seu quarto janelas abertas do lado de Jerusalém), e três vezes no dia se punha de joelhos, e orava, e dava graças diante do seu Deus, como também antes costumava fa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queles homens foram juntos, e acharam a Daniel orando e suplicando diante do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apresentaram ao rei e, a respeito do edito real, disseram-lhe: Porventura não assinaste o edito, pelo qual todo o homem que fizesse uma petição a qualquer deus, ou a qualquer homem, por espaço de trinta dias, e não a ti, ó rei, fosse lançado 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ram ao rei, dizendo-lhe: Daniel, que é dos filhos dos cativos de Judá, não tem feito caso de ti, ó rei, nem do edito que assinaste, antes três vezes por dia faz a sua 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 então o rei essas palavras, ficou muito penalizado, e a favor de Daniel propôs dentro do seu coração livrá-lo; e até ao pôr do sol trabalhou para salvá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queles homens foram juntos ao rei, e disseram-lhe: Sabe, ó rei, que é lei dos medos e dos persas que nenhum edito ou decreto, que o rei estabeleça, se pode mu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ordenou que trouxessem a Daniel, e lançaram-no na cova dos leões. E, falando o rei, disse a Daniel: O teu Deus, a quem tu continuamente serves, ele te livr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trazida uma pedra e posta sobre a boca da cova; e o rei a selou com o seu anel e com o anel dos seus senhores, para que não se mudasse a sentença acerca de Dani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se dirigiu para o seu palácio, e passou a noite em jejum, e não deixou trazer à sua presença instrumentos de música; e fugiu dele o so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manhã, ao romper do dia, levantou-se o rei, e foi com pressa à cova dos le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eles três presidentes, dos quais Daniel era um, aos quais estes príncipes dessem conta, para que o rei não sofresse d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-se à cova, chamou por Daniel com voz triste; e disse o rei a Daniel: Daniel, servo do Deus vivo, dar-se-ia o caso que o teu Deus, a quem tu continuamente serves, tenha podido livrar-te dos leõ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niel falou ao rei: Ó rei, vive para sempr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Deus enviou o seu anjo, e fechou a boca dos leões, para que não me fizessem dano, porque foi achada em mim inocência diante dele; e também contra ti, ó rei, não tenho cometido delito alg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muito se alegrou em si mesmo, e mandou tirar a Daniel da cova. Assim foi tirado Daniel da cova, e nenhum dano se achou nele, porque crera no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denou o rei, e foram trazidos aqueles homens que tinham acusado a Daniel, e foram lançados na cova dos leões, eles, seus filhos e suas mulheres; e ainda não tinham chegado ao fundo da cova quando os leões se apoderaram deles, e lhes esmigalharam to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Dario escreveu a todos os povos, nações e línguas que moram em toda a terra: A paz vos seja multiplic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minha parte é feito um decreto, pelo qual em todo o domínio do meu reino os homens tremam e temam perante o Deus de Daniel; porque ele é o Deus vivo e que permanece para sempre, e o seu reino não se pode destruir, e o seu domínio durará até o f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salva, livra, e opera sinais e maravilhas no céu e na terra; ele salvou e livrou Daniel do poder dos le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Daniel, pois, prosperou no reinado de Dario, e no reinado de Ciro, o per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mesmo Daniel sobrepujou a estes presidentes e príncipes; porque nele havia um espírito excelente; e o rei pensava constituí-lo sobre todo o re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presidentes e os príncipes procuravam achar ocasião contra Daniel a respeito do reino; mas não podiam achar ocasião ou culpa alguma; porque ele era fiel, e não se achava nele nenhum erro nem culp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stes homens disseram: Nunca acharemos ocasião alguma contra este Daniel, se não a acharmos contra ele na lei do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stes presidentes e príncipes foram juntos ao rei, e disseram-lhe assim: Ó rei Dario, vive para sempr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presidentes do reino, os capitães e príncipes, conselheiros e governadores, concordaram em promulgar um edito real e confirmar a proibição que qualquer que, por espaço de trinta dias, fizer uma petição a qualquer deus, ou a qualquer homem, e n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ó rei, confirma a proibição, e assina o edito, para que não seja mudado, conforme a lei dos medos e dos persas, que não se pode revo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esta razão o rei Dario assinou o edito e a proib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6:35Z</dcterms:created>
  <dc:creator>Admin</dc:creator>
  <dc:description/>
  <dc:language>en-US</dc:language>
  <cp:lastModifiedBy>Admin</cp:lastModifiedBy>
  <dcterms:modified xsi:type="dcterms:W3CDTF">2008-07-30T23:26:35Z</dcterms:modified>
  <cp:revision>1</cp:revision>
  <dc:subject/>
  <dc:title>Slide 1</dc:title>
</cp:coreProperties>
</file>