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FAA-8BB1-4383-B4F9-FA9EEA18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465-AF52-4013-AF1E-634D46F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987-5C97-4BFD-9FD0-000227F8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982-1017-4D36-859F-29AFCFE7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FC8-4A24-479B-B066-812F821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150-6AD0-4A76-BEBA-A6D06517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5CB-E573-4C9D-B96B-50F04F9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467-8BA2-427B-9E9F-777D032D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483-DE75-4988-8568-A0E759F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160-E878-47DE-B7CA-AB67F7A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E06-AF71-4D82-B3BF-7A6FCA8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B13-86B6-4514-8C4F-FE685355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74D8-4C09-4D83-BABC-A3959D311A3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 esta palavra que o SENHOR fala contra vós, filhos de Israel, contra toda a família que fiz subir da terra do Egit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não sabem fazer o que é reto, diz o SENHOR, aqueles que entesouram nos seus palácios a violência e a destruiç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tanto, o Senhor DEUS diz assim: O inimigo virá, e cercará a terra, derrubará a tua fortaleza, e os teus palácios serão saquead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Como o pastor livra da boca do leão as duas pernas, ou um pedaço da orelha, assim serão livrados os filhos de Israel que habitam em Samaria, no canto da cama, e em Damasco, num le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uvi, e protestai contra a casa de Jacó, diz o Senhor DEUS, o Deus dos Exército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is no dia em que eu punir as transgressões de Israel, também castigarei os altares de Betel; e as pontas do altar serão cortadas, e cairão por ter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erirei a casa de inverno juntamente com a casa de verão; e as casas de marfim perecerão, e as grandes casas terão fi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e todas as famílias da terra só a vós vos tenho conhecido; portanto eu vos punirei por todas as vossas iniqüida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andarão dois juntos, se não estiverem de acor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ugirá o leão no bosque, sem que tenha presa? Levantará o leãozinho no seu covil a sua voz, se nada tiver apanha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airá a ave no laço em terra, se não houver armadilha para ela? Levantar-se-á da terra o laço, sem que tenha apanhado alguma cois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car-se-á a trombeta na cidade, e o povo não estremecerá? Sucederá algum mal na cidade, sem que o SENHOR o tenha feit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ertamente o Senhor DEUS não fará coisa alguma, sem ter revelado o seu segredo aos seus servos, os profet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ugiu o leão, quem não temerá? Falou o Senhor DEUS, quem não profetizará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3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zei ouvir isso nos palácios de Asdode, e nos palácios da terra do Egito, e dizei: Ajuntai-vos sobre os montes de Samaria, e vede que grandes alvoroços há no meio dela, e como são oprimidos dentro del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1:50Z</dcterms:created>
  <dc:creator>Admin</dc:creator>
  <dc:description/>
  <dc:language>en-US</dc:language>
  <cp:lastModifiedBy>Admin</cp:lastModifiedBy>
  <dcterms:modified xsi:type="dcterms:W3CDTF">2008-07-30T23:21:50Z</dcterms:modified>
  <cp:revision>1</cp:revision>
  <dc:subject/>
  <dc:title>Slide 1</dc:title>
</cp:coreProperties>
</file>