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0860-ABC4-4B68-9605-69D7051A3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6093-AB3A-498E-9E4A-FAA03B08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9187-883E-4752-A216-26037AA7B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1FAE-19D6-4620-A27F-C8B9FB6F5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46A3-D349-4BAB-8A9B-6A5B15BC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7B55-8F62-4DE8-8B59-2A76FC2F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9D5B-B895-4690-BC0A-E7F851EA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6332-4422-48B7-9B90-9E9FDBBD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50F7-7985-45AF-950E-479899AE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5879-612B-4BE6-876C-F632B64B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16A1-7189-434D-8B25-1DEE83B3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DBEE-67A6-42B3-B7A0-7D52E76F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68EE-276D-497B-91CB-A4C952F73A9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alou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farão uma arca de madeira de acácia; o seu comprimento será de dois côvados e meio, e a sua largura de um côvado e meio, e de um côvado e meio a sua alt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bri-la-á de ouro puro; por dentro e por fora a cobrirás; e farás sobre ela uma coroa de ouro ao redo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undirás para ela quatro argolas de ouro, e as porás nos quatro cantos dela, duas argolas num lado dela, e duas argolas noutro 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ás varas de madeira de acácia, e as cobrirás com o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locarás as varas nas argolas, aos lados da arca, para se levar com elas a ar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varas estarão nas argolas da arca, não se tirarão d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porás na arca o testemunho, que eu te d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farás um propiciatório de ouro puro; o seu comprimento será de dois côvados e meio, e a sua largura de um côvado e me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rás também dois querubins de ouro; de ouro batido os farás, nas duas extremidades do propiciató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rás um querubim na extremidade de uma parte, e o outro querubim na extremidade da outra parte; de uma só peça com o propiciatório, fareis os querubins nas duas extremidades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 aos filhos de Israel, que me tragam uma oferta alçada; de todo o homem cujo coração se mover voluntariamente, dele tomareis a minha oferta alç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erubins estenderão as suas asas por cima, cobrindo com elas o propiciatório; as faces deles uma defronte da outra; as faces dos querubins estarão voltadas para o propiciató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ás o propiciatório em cima da arca, depois que houveres posto na arca o testemunho que eu te d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i virei a ti, e falarei contigo de cima do propiciatório, do meio dos dois querubins (que estão sobre a arca do testemunho), tudo o que eu te ordenar para 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farás uma mesa de madeira de acácia; o seu comprimento será de dois côvados, e a sua largura de um côvado, e a sua altura de um côvado e me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bri-la-ás com ouro puro; também lhe farás uma coroa de ouro ao r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lhe farás uma moldura ao redor, da largura de quatro dedos, e lhe farás uma coroa de ouro ao redor da mold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lhe farás quatro argolas de ouro; e porás as argolas aos quatro cantos, que estão nos seus quatro p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fronte da moldura estarão as argolas, como lugares para os varais, para se levar a me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5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rás, pois, estes varais de madeira de acácia, e cobri-los-ás com ouro; e levar-se-á com eles a me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5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farás os seus pratos, e as suas colheres, e as suas cobertas, e as suas tigelas com que se hão de oferecer libações; de ouro puro os f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 é a oferta alçada que recebereis deles: ouro, e prata, e cobr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5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obre a mesa porás o pão da proposição perante a minha face perpetu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5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farás um candelabro de ouro puro; de ouro batido se fará este candelabro; o seu pé, as suas hastes, os seus copos, os seus botões, e as suas flores serão do me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5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s seus lados sairão seis hastes; três hastes do candelabro de um lado dele, e três hastes do outro lado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5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uma haste haverá três copos a modo de amêndoas, um botão e uma flor; e três copos a modo de amêndoas na outra haste, um botão e uma flor; assim serão as seis hastes que saem do candelab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5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o candelabro mesmo haverá quatro copos a modo de amêndoas, com seus botões e com suas flor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5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 botão debaixo de duas hastes que saem dele; e ainda um botão debaixo de duas outras hastes que saem dele; e ainda um botão debaixo de duas outras hastes que saem dele; assim se fará com as seis hastes que saem do candelab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5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seus botões e as suas hastes serão do mesmo; tudo será de uma só peça, obra batida de ouro p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5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lhe farás sete lâmpadas, as quais se acenderão para iluminar defronte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5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seus espevitadores e os seus apagadores serão de ouro p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5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um talento de ouro puro os farás, com todos estes va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zul, e púrpura, e carmesim, e linho fino, e pêlos de cabr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5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enta, pois, que o faças conforme ao seu modelo, que te foi mostrado no mo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les de carneiros tintas de vermelho, e peles de texugos, e madeira de acáci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zeite para a luz, especiarias para o óleo da unção, e especiarias para o incens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dras de ônix, e pedras de engaste para o éfode e para o peitor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e farão um santuário, e habitarei no meio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forme a tudo o que eu te mostrar para modelo do tabernáculo, e para modelo de todos os seus pertences, assim mesmo o fa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2:33Z</dcterms:created>
  <dc:creator>Admin</dc:creator>
  <dc:description/>
  <dc:language>en-US</dc:language>
  <cp:lastModifiedBy>Admin</cp:lastModifiedBy>
  <dcterms:modified xsi:type="dcterms:W3CDTF">2008-07-30T23:32:33Z</dcterms:modified>
  <cp:revision>1</cp:revision>
  <dc:subject/>
  <dc:title>Slide 1</dc:title>
</cp:coreProperties>
</file>