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C70-0500-451C-A86C-9A71704D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CB2-082E-43C9-A6BB-42A5C5BB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B18-9EA5-41BD-827D-23FC6616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9D9-4D3F-418C-A82A-03526946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E76-87CB-41E8-829C-674AA7B4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9E3-9647-4F37-B380-6FB9FE2E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3A4-0DC5-4F66-805F-CB953E63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567-4A58-48CD-9555-F69C152A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26D-90DF-4CE9-8C6B-469A0054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581-7CBF-4C9A-A11A-87A07A0E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05F-3F1E-4868-A244-7AD4F0B7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62D-9BD1-4B4F-B9CA-EE5B18A1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1B6E-5B2D-4B7B-8F00-D39397C4912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o trigésimo ano, no quarto mês, no quinto dia do mês, que estando eu no meio dos cativos, junto ao rio Quebar, se abriram os céus, e eu tive visõe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emelhança dos seus rostos era como o rosto de homem; e do lado direito todos os quatro tinham rosto de leão, e do lado esquerdo todos os quatro tinham rosto de boi; e também tinham rosto de águia todos os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ram os seus rostos. As suas asas estavam estendidas por cima; cada qual tinha duas asas juntas uma a outra, e duas cobriam os corpo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da qual andava para adiante de si; para onde o espírito havia de ir, iam; não se viravam quando and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à semelhança dos seres viventes, o seu aspecto era como ardentes brasas de fogo, com uma aparência de lâmpadas; o fogo subia e descia por entre os seres viventes, e o fogo resplandecia, e do fogo saíam relâmpag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es viventes corriam, e voltavam, à semelhança de um clarão de relâmpa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os seres viventes; e eis que havia uma roda sobre a terra junto aos seres viventes, uma para cada um dos quatro ro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specto das rodas, e a obra delas, era como a cor de berilo; e as quatro tinham uma mesma semelhança; e o seu aspecto, e a sua obra, era como se estivera uma roda no meio de outra ro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ndo elas, andavam pelos seus quatro lados ; não se viravam quando and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aros eram tão altos, que faziam medo; e estas quatro tinham as suas cambotas cheias de olhos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ndando os seres viventes, andavam as rodas ao lado deles; e, elevando-se os seres viventes da terra, elevavam-se também as ro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quinto dia do mês, no quinto ano do cativeiro do rei Jeoiaqu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nde o espírito queria ir, eles iam; para onde o espírito tinha de ir; e as rodas se elevavam defronte deles, porque o espírito do ser vivente estava nas ro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ndo eles, andavam elas e, parando eles, paravam elas e, elevando-se eles da terra, elevavam-se também as rodas defronte deles; porque o espírito do ser vivente estava nas ro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as cabeças dos seres viventes havia uma semelhança de firmamento, com a aparência de cristal terrível, estendido por cima, sobre as suas cabe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baixo do firmamento estavam as suas asas direitas uma em direção à outra; cada um tinha duas, que lhe cobriam o corpo de um lado; e cada um tinha outras duas asas, que os cobriam do outro 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ndando eles, ouvi o ruído das suas asas, como o ruído de muitas águas, como a voz do Onipotente, um tumulto como o estrépito de um exército; parando eles, abaixavam as suas 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u-se uma voz vinda do firmamento, que estava por cima das suas cabeças; parando eles, abaixavam as suas 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cima do firmamento, que estava por cima das suas cabeças, havia algo semelhante a um trono que parecia de pedra de safira; e sobre esta espécie de trono havia uma figura semelhante à de um homem, na parte de cima,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-a como a cor de âmbar, como a aparência do fogo pelo interior dele ao redor, desde o aspecto dos seus lombos, e daí para cima; e, desde o aspecto dos seus lombos e daí para baixo, vi como a semelhança de fogo, e um resplendor ao redor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aspecto do arco que aparece na nuvem no dia da chuva, assim era o aspecto do resplendor em redor. Este era o aspecto da semelhança da glória do SENHOR; e, vendo isto, caí sobre o meu rosto, e ouvi a voz de quem fal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 expressamente a palavra do SENHOR a Ezequiel, filho de Buzi, o sacerdote, na terra dos caldeus, junto ao rio Quebar, e ali esteve sobre ele a mã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ei, e eis que um vento tempestuoso vinha do norte, uma grande nuvem, com um fogo revolvendo-se nela, e um resplendor ao redor, e no meio dela havia uma coisa, como de cor de âmbar, que saía do meio d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meio dela saía a semelhança de quatro seres viventes. E esta era a sua aparência: tinham a semelhança d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da um tinha quatro rostos, como também cada um deles quatro 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pés eram pés direitos; e as plantas dos seus pés como a planta do pé de uma bezerra, e luziam como a cor de cobre pol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m mãos de homem debaixo das suas asas, aos quatro lados; e assim todos quatro tinham seus rostos e suas 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zequiel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niam-se as suas asas uma à outra; não se viravam quando andavam, e cada qual andava continuamente em fr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3:45Z</dcterms:created>
  <dc:creator>Admin</dc:creator>
  <dc:description/>
  <dc:language>en-US</dc:language>
  <cp:lastModifiedBy>Admin</cp:lastModifiedBy>
  <dcterms:modified xsi:type="dcterms:W3CDTF">2008-07-30T23:33:45Z</dcterms:modified>
  <cp:revision>1</cp:revision>
  <dc:subject/>
  <dc:title>Slide 1</dc:title>
</cp:coreProperties>
</file>