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391-36D8-42C9-B909-95ED992F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7E3-A47C-438B-B15A-08B6D69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258-8E6A-4FAA-AA37-30631B2F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D21-78EF-4C29-A4D5-58F49820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5FB-1B77-4859-BCA7-CC3ED3E1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A08-A506-4A42-A130-B438AAB7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6B1-E551-40B7-8075-57D6B76F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480-8E7E-4151-A1FB-739857F3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4C0-205C-4928-B8C9-3F194CEB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86A-F9AE-427D-91DC-38AB648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850-05C3-43E0-A70A-E4F8F3F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B5D-F901-4403-9DE0-BA2F0409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8DAD-0518-4E0E-9331-BFB4CDA661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passou Jesus pelas searas, em um sábado; e os seus discípulos, tendo fome, começaram a colher espigas, e a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va ali um homem que tinha uma das mãos mirrada; e eles, para o acusarem, o interrogaram, dizendo: É lícito curar nos sába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Qual dentre vós será o homem que tendo uma ovelha, se num sábado ela cair numa cova, não lançará mão dela, e a levant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quanto mais vale um homem do que uma ovelha? É, por conseqüência, lícito fazer bem nos sá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àquele homem: Estende a tua mão. E ele a estendeu, e ficou sã como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ariseus, tendo saído, formaram conselho contra ele, para o mat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sabendo isso, retirou-se dali, e acompanharam-no grandes multidões, e ele curou a t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comendava-lhes rigorosamente que o não descobriss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cumprisse o que fora dito pelo profeta Isaías, que diz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 o meu servo, que escolhi, O meu amado, em quem a minha alma se compraz; Porei sobre ele o meu espírito, E anunciará aos gentios 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tenderá, nem clamará, Nem alguém ouvirá pelas ruas a sua vo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ariseus, vendo isto, disseram-lhe: Eis que os teus discípulos fazem o que não é lícito fazer num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magará a cana quebrada, E não apagará o morrão que fumega, Até que faça triunfar o juíz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eu nome os gentios espe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ouxeram-lhe, então, um endemoninhado cego e mudo; e, de tal modo o curou, que o cego e mudo falava e 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multidão se admirava e dizia: Não é este o Filho de Dav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ariseus, ouvindo isto, diziam: Este não expulsa os demônios senão por Belzebu, príncipe dos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conhecendo os seus pensamentos, disse-lhes: Todo o reino dividido contra si mesmo é devastado; e toda a cidade, ou casa, dividida contra si mesma não subsist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Satanás expulsa a Satanás, está dividido contra si mesmo; como subsistirá, pois, o seu rei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eu expulso os demônios por Belzebu, por quem os expulsam então vossos filhos? Portanto, eles mesmos serão os vossos juí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eu expulso os demônios pelo Espírito de Deus, logo é chegado a vós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como pode alguém entrar em casa do homem valente, e furtar os seus bens, se primeiro não maniatar o valente, saqueando então a sua ca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lhes disse: Não tendes lido o que fez Davi, quando teve fome, ele e os que com ele estav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não é comigo é contra mim; e quem comigo não ajunta, esp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u vos digo: Todo o pecado e blasfêmia se perdoará aos homens; mas a blasfêmia contra o Espírito não será perdoada a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qualquer disser alguma palavra contra o Filho do homem, ser-lhe-á perdoado; mas, se alguém falar contra o Espírito Santo, não lhe será perdoado, nem neste século nem no fut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fazei a árvore boa, e o seu fruto bom, ou fazei a árvore má, e o seu fruto mau; porque pelo fruto se conhece a árvo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aça de víboras, como podeis vós dizer boas coisas, sendo maus? Pois do que há em abundância no coração, disso fala 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bom tira boas coisas do bom tesouro do seu coração, e o homem mau do mau tesouro tira coisas m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vos digo que de toda a palavra ociosa que os homens disserem hão de dar conta no dia d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tuas palavras serás justificado, e por tuas palavras serás con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lguns dos escribas e dos fariseus tomaram a palavra, dizendo: Mestre, quiséramos ver da tua parte algum s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lhes respondeu, e disse: Uma geração má e adúltera pede um sinal, porém, não se lhe dará outro sinal senão o do profeta Jon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ntrou na casa de Deus, e comeu os pães da proposição, que não lhe era lícito comer, nem aos que com ele estavam, mas só aos sacerdo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como Jonas esteve três dias e três noites no ventre da baleia, assim estará o Filho do homem três dias e três noites no sei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ninivitas ressurgirão no juízo com esta geração, e a condenarão, porque se arrependeram com a pregação de Jonas. E eis que está aqui quem é mais do que Jo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ainha do meio-dia se levantará no dia do juízo com esta geração, e a condenará; porque veio dos confins da terra para ouvir a sabedoria de Salomão. E eis que está aqui quem é maior do qu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espírito imundo tem saído do homem, anda por lugares áridos, buscando repouso, e não o encon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z: Voltarei para a minha casa, de onde saí. E, voltando, acha-a desocupada, varrida e ador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ai, e leva consigo outros sete espíritos piores do que ele e, entrando, habitam ali; e são os últimos atos desse homem piores do que os primeiros. Assim acontecerá também a esta geração 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lando ele ainda à multidão, eis que estavam fora sua mãe e seus irmãos, pretendendo falar-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alguém: Eis que estão ali fora tua mãe e teus irmãos, que querem fala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disse ao que lhe falara: Quem é minha mãe? E quem são meus ir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endendo a sua mão para os seus discípulos, disse: Eis aqui minha mãe e meus irm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não tendes lido na lei que, aos sábados, os sacerdotes no templo violam o sábado, e ficam sem culp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lquer que fizer a vontade de meu Pai que está nos céus, este é meu irmão, e irmã e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u vos digo que está aqui quem é maior do que 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vós soubésseis o que significa: Misericórdia quero, e não sacrifício, não condenaríeis os inoc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lho do homem até do sábado é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dali, chegou à sinagog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52Z</dcterms:created>
  <dc:creator>Admin</dc:creator>
  <dc:description/>
  <dc:language>en-US</dc:language>
  <cp:lastModifiedBy>Admin</cp:lastModifiedBy>
  <dcterms:modified xsi:type="dcterms:W3CDTF">2008-07-31T00:14:52Z</dcterms:modified>
  <cp:revision>1</cp:revision>
  <dc:subject/>
  <dc:title>Slide 1</dc:title>
</cp:coreProperties>
</file>