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436-AA20-438D-A5B3-948B6226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A77-2BB2-4F0D-A5CD-B9E5463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8BB-F647-4ADF-9B5A-15E53C44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F23-453B-44E7-8CF9-719827DB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899-DF5E-4EC3-9C61-94D7002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93F-FD9A-41DA-81AF-A4D2862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B18-38AB-4CD5-BC6D-5412739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2A8-7DB4-40F5-8494-2B608896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F3B-5587-47B4-8853-C73123A1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A77-46E2-4703-96A9-2E6B67E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634-3DAE-4054-8AD2-EFD373A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3B1-CD39-4755-AA8A-EC59328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498-A3B3-46ED-998E-3F14A1DF868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Sarai, mulher de Abrão, não lhe dava filhos, e ele tinha uma serva egípcia, cujo nome era A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is o anjo do SENHOR: Multiplicarei sobremaneira a tua descendência, que não será contada, por numerosa que s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também o anjo do SENHOR: Eis que concebeste, e darás à luz um filho, e chamarás o seu nome Ismael; porquanto o SENHOR ouviu a tua afl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será homem feroz, e a sua mão será contra todos, e a mão de todos contra ele; e habitará diante da face de todos os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a chamou o nome do SENHOR, que com ela falava: Tu és Deus que me vê; porque disse: Não olhei eu também para aquele que me vê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chama aquele poço de Beer-Laai-Rói; eis que está entre Cades e Be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ar deu à luz um filho a Abrão; e Abrão chamou o nome do seu filho que Agar tivera, Ism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brão da idade de oitenta e seis anos, quando Agar deu à luz Ism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Sarai a Abrão: Eis que o SENHOR me tem impedido de dar à luz; toma, pois, a minha serva; porventura terei filhos dela. E ouviu Abrão a voz de Sar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mou Sarai, mulher de Abrão, a Agar egípcia, sua serva, e deu-a por mulher a Abrão seu marido, ao fim de dez anos que Abrão habitara na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possuiu a Agar, e ela concebeu; e vendo ela que concebera, foi sua senhora desprezada aos s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Sarai a Abrão: Meu agravo seja sobre ti; minha serva pus eu em teu regaço; vendo ela agora que concebeu, sou menosprezada aos seus olhos; o SENHOR julgue entre mim 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ão a Sarai: Eis que tua serva está na tua mão; faze-lhe o que bom é aos teus olhos. E afligiu-a Sarai, e ela fugiu de sua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a achou junto a uma fonte de água no deserto, junto à fonte no caminho de Su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Agar, serva de Sarai, donde vens, e para onde vais? E ela disse: Venho fugida da face de Sarai minha senh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he disse o anjo do SENHOR: Torna-te para tua senhora, e humilha-te debaixo de s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58Z</dcterms:created>
  <dc:creator>Admin</dc:creator>
  <dc:description/>
  <dc:language>en-US</dc:language>
  <cp:lastModifiedBy>Admin</cp:lastModifiedBy>
  <dcterms:modified xsi:type="dcterms:W3CDTF">2008-07-30T23:37:58Z</dcterms:modified>
  <cp:revision>1</cp:revision>
  <dc:subject/>
  <dc:title>Slide 1</dc:title>
</cp:coreProperties>
</file>