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582-8DBA-417E-B7EC-625A7DDB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05C-73F4-40E0-AB54-0A3204BC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E81-02F9-442A-9D2C-DD82F42B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791-FC8E-4AB7-A729-25EDFAB0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854-9085-490E-8544-F3CE83E4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15D-9817-4910-9770-DC7830E1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220-541C-4154-BEB6-82816215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190-CE66-4C71-963C-83B36C9C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D6B-6E1F-49D7-9E34-D892EDCB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15A-5E42-4540-9EA9-B748EA0F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90E-3A0B-43C8-B1CD-658BF107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2A1-B562-4E0B-824E-4FA5D214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8886-95CD-489E-962A-CB392A07167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convocaram os homens de Efraim, e passaram para o norte, e disseram a Jefté: Por que passaste a combater contra os filhos de Amom, e não nos chamaste para ir contigo? Queimaremos a fogo a tua casa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eceu Ibzã, e foi sepultado em Be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le julgou a Israel Elom, o zebulonita; e julgou a Israel dez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eceu Elom, o zebulonita, e foi sepultado em Aijalom, na terra de Zebul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le julgou a Israel Abdom, filho de Hilel, o piraton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este quarenta filhos, e trinta netos, que cavalgavam sobre setenta jumentos; e julgou a Israel oito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eceu Abdom, filho de Hilel, o piratonita; e foi sepultado em Piratom, na terra de Efraim, no monte dos amalequ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fté lhes disse: Eu e o meu povo tivemos grande contenda com os filhos de Amom; e chamei-vos, e não me livrastes da sua m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eu que não me livráveis, arrisquei a minha vida, e passei contra os filhos de Amom, e o SENHOR mos entregou nas mãos; por que, pois, subistes vós hoje, para combater contra m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juntou Jefté a todos os homens de Gileade, e combateu contra Efraim; e os homens de Gileade feriram a Efraim; porque este dissera-lhe: Fugitivos sois de Efraim, vós gileaditas que habitais entre Efraim e Manassé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maram os gileaditas aos efraimitas os vaus do Jordão; e sucedeu que, quando algum dos fugitivos de Efraim dizia: Deixai-me passar; então os gileaditas perguntavam: És tu efraimita? E dizendo ele: N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iziam: Dize, pois, Chibolete; porém ele dizia: Sibolete; porque não o podia pronunciar bem; então pegavam dele, e o degolavam nos vaus do Jordão; e caíram de Efraim naquele tempo quarenta e dois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fté julgou a Israel seis anos; e Jefté, o gileadita, faleceu, e foi sepultado numa das cidades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le julgou a Israel Ibzã de Be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este trinta filhos, e trinta filhas que casou fora; e trinta filhas trouxe de fora para seus filhos; e julgou a Israel set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7:07Z</dcterms:created>
  <dc:creator>Admin</dc:creator>
  <dc:description/>
  <dc:language>en-US</dc:language>
  <cp:lastModifiedBy>Admin</cp:lastModifiedBy>
  <dcterms:modified xsi:type="dcterms:W3CDTF">2008-07-31T00:07:07Z</dcterms:modified>
  <cp:revision>1</cp:revision>
  <dc:subject/>
  <dc:title>Slide 1</dc:title>
</cp:coreProperties>
</file>