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AE66-DDCB-4229-9010-E4EDFCA0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A68E-B82F-4F79-9B87-1395F107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F038-C505-4814-832B-42699E63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2610-6E1E-4213-B297-B0404418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65EC-9FB4-42B1-A3B3-EB7BF2AA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3451-A8C5-482B-8E71-EAA4AC87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2A2B-A149-4016-8F7C-1D1D364D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8ED0-5020-414F-8C95-C0EE2A20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7108-6185-427C-84BF-C48F7A78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55F9-E5B3-4445-AAE2-DB4B5C73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3F7C-A959-4133-96C2-36F8C626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0605-39A7-4D6C-A089-8448630B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B3CA-0967-42BF-8B4C-EE296ADF67F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filhos de Israel: Rúben, Simeão, Levi, Judá, Issacar e Zebulo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ão gerou a Aminadabe, e Aminadabe gerou a Naassom, príncipe dos filhos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assom gerou a Salma, e Salma gerou a Bo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oaz gerou a Obede, e Obede gerou a Jess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sé gerou a Eliabe, seu primogênito, e Abinadabe, o segundo, e Siméia, o terc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tanael, o quarto, Radai, o qui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zem, o sexto, Davi, o sét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suas irmãs Zeruia e Abigail; e foram os filhos de Zeruia: Abisai e Joabe, e Asael, tr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igail deu à luz a Amasa; e o pai de Amasa foi Jeter, o ismael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lebe, filho de Hezrom, gerou filhos de Azuba, sua mulher, e de Jeriote; e os filhos desta foram estes: Jeser, Sobabe, e Ard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rreu Azuba; e Calebe tomou para si a Efrate, da qual lhe nasceu Hu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ã, José e Benjamim, Naftali, Gade e As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ur gerou a Uri, e Uri gerou a Bezale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Hezrom coabitou com a filha de Maquir, pai de Gileade, e, sendo ele de sessenta anos, a tomou; e ela deu à luz a Segu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gube gerou a Jair; e este tinha vinte e três cidades na terra de Gile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Gesur e Arã tomaram deles as aldeias de Jair, e Quenate, e seus lugares, sessenta cidades; todos estes foram filhos de Maquir, pai de Gile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pois da morte de Hezrom, em Calebe de Efrata, Abia, mulher de Hezrom, deu à luz a Asur, pai de Teco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Jerameel, primogênito de Hezrom, foram Rão, o primogênito, Buna, Orem, Ozem e Aí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ve também Jerameel ainda outra mulher cujo nome era Atara; esta foi a mãe de On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os filhos de Rão, primogênito de Jerameel: Maaz, Jamim, e Equ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os filhos de Onã: Samai e Jada; e os filhos de Samai: Nadabe e Abisu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nome da mulher de Abisur era Abiail, que lhe deu a Abã e a Moli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Judá foram Er, e Onã, e Selá, estes três lhe nasceram da filha de Suá, a cananéia; e Er, o primogênito de Judá, foi mau aos olhos do SENHOR, pelo que o ma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os filhos de Nadabe, Selede e Apaim; e Selede morreu sem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filho de Apaim foi Isi; e o filho de Isi, Sesã. E o filho de Sesã, Al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Jada, irmão de Samai, foram Jeter e Jônatas; e Jeter morreu sem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Jônatas foram: Pelete e Zaza; estes foram os filhos de Jerame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sã não teve filhos, mas filhas; e tinha Sesã um servo egípcio, cujo nome era J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, pois, Sesã sua filha por mulher a Jará, seu servo; e lhe deu à luz a At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tai gerou a Natã, e Natã gerou a Zab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Zabade gerou a Eflal, e Eflal gerou a Obe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bede gerou a Jeú, e Jeú gerou a Azar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zarias gerou a Helez, e Helez gerou a Eleas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Tamar, sua nora, lhe deu à luz Perez e Zerá; todos os filhos de Judá foram cin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asá gerou a Sismai, e Sismai gerou a Sal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lum gerou a Jecamias, e Jecamias gerou a Elisa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os filhos de Calebe, irmão de Jerameel, Messa, seu primogênito (este foi o pai de Zife), e os filhos de Maressa, pai de Hebr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os filhos de Hebrom: Coré, Tápua, Requém e Se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ma gerou a Raão, pai de Jorqueão; e Requém gerou a Sam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o filho de Samai, Maom; e Maom foi pai de Bete-Zu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fá, a concubina de Calebe, deu à luz a Harã, a Mosa, e a Gazez; e Harã gerou a Gaz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filhos de Jadai: Regém, Jotão, Gesã, Pelete, Efá e Saaf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Maaca, concubina, Calebe gerou a Seber e a Tiran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ulher de Saafe, pai de Madmana, deu à luz a Seva, pai de Macbena e pai de Gibeá; e foi a filha de Calebe, Ac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Perez foram Hezrom e Ham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foram os filhos de Calebe, filho de Hur, o primogênito de Efrata: Sobal, pai de Quiriate-Jeari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lma, pai dos belemitas, Harefe, pai de Bete-Gad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os filhos de Sobal, pai de Quiriate-Jearim: Haroé e metade dos menuí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famílias de Quiriate-Jearim foram os jitreus, e os puteus, e os sumateus, e os misraeus; destes saíram os zorateus, e os estaol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Salma foram Belém e os netofatitas, Atarote, Bete-Joabe, e metade dos manaatitas, e os zor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5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famílias dos escribas que habitavam em Jabez foram os tiratitas, os simeatitas e os sucatitas; estes são os queneus, que vieram de Hamate, pai da casa de Reca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Zerá: Zinri, e Etã, e Hemã, e Calcol, e Dara: cinco ao to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Carmi foram Acar, o perturbador de Israel, que pecou no anáte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filho de Etã foi Azar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Hezrom, que lhe nasceram, foram Jerameel, e Rão, e Quelub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2:15Z</dcterms:created>
  <dc:creator>Admin</dc:creator>
  <dc:description/>
  <dc:language>en-US</dc:language>
  <cp:lastModifiedBy>Admin</cp:lastModifiedBy>
  <dcterms:modified xsi:type="dcterms:W3CDTF">2008-07-30T23:42:15Z</dcterms:modified>
  <cp:revision>1</cp:revision>
  <dc:subject/>
  <dc:title>Slide 1</dc:title>
</cp:coreProperties>
</file>