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3D3-C287-4753-924F-CA9A8D85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E92-5D96-4E36-809F-7C2F6CF9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92E-A17C-48E0-89C6-C6ED967E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464-6CBC-4EA3-962F-07AB55B0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E6E-BA93-422F-8663-4584C0B4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F2E-5C65-47C0-BF6B-EA25F562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E5B-7FF2-4E81-BD42-37C6CAAF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0B6-BE36-43E2-A757-9669F52F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C53-018D-4162-BAD1-CBF9C5C5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ED8-846C-4C2C-9B02-41ED8D6B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90C-774E-4A3D-99AB-0159ED16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E6B-ED0E-4160-BB54-83F52DA1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9EF5-D307-4A32-AF84-7463D9F6F2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era desde o princípio, o que ouvimos, o que vimos com os nossos olhos, o que temos contemplado, e as nossas mãos tocaram da Palavra da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mos que não pecamos, fazemo-lo mentiroso, e a sua palavra não está em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a vida foi manifestada, e nós a vimos, e testificamos dela, e vos anunciamos a vida eterna, que estava com o Pai, e nos foi manifestada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imos e ouvimos, isso vos anunciamos, para que também tenhais comunhão conosco; e a nossa comunhão é com o Pai, e com seu Filho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vos escrevemos, para que o vosso gozo se cump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mensagem que dele ouvimos, e vos anunciamos: que Deus é luz, e não há nele trevas nenhu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mos que temos comunhão com ele, e andarmos em trevas, mentimos, e não praticamos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ndarmos na luz, como ele na luz está, temos comunhão uns com os outros, e o sangue de Jesus Cristo, seu Filho, nos purifica de todo 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issermos que não temos pecado, enganamo-nos a nós mesmos, e não há verdade em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Joã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confessarmos os nossos pecados, ele é fiel e justo para nos perdoar os pecados, e nos purificar de toda a in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4:02Z</dcterms:created>
  <dc:creator>Admin</dc:creator>
  <dc:description/>
  <dc:language>en-US</dc:language>
  <cp:lastModifiedBy>Admin</cp:lastModifiedBy>
  <dcterms:modified xsi:type="dcterms:W3CDTF">2008-07-30T23:44:02Z</dcterms:modified>
  <cp:revision>1</cp:revision>
  <dc:subject/>
  <dc:title>Slide 1</dc:title>
</cp:coreProperties>
</file>