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9F4-3464-4337-ABA0-A11595EA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295-29F0-42B9-970E-73A7B6A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49B-A2CE-4C95-9980-43DDE6D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984-6EEB-4D0B-BD2F-5EC7FDD0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345-7660-4814-B168-A249B51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E48-C74E-435F-A1AB-0518D5F0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F52-5E2A-4D3B-8F05-AE5373D5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275-A7E1-4200-A070-86599B6A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16D-97E6-4239-81E0-47A1521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C6C-FED6-44FF-A45D-2F6A153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E9F-2056-459B-BD5A-71C7231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AE8-CF32-4BE8-AF3F-EC9C105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5F2-816D-4C2E-BFC2-6A07877120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Louvai ao SENHOR desde os céus, louvai-o n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eras e todos os gados, répteis e aves voado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is da terra e todos os povos, príncipes e todos os juízes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ços e moças, velhos e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o nome do SENHOR, pois só o seu nome é exaltado; a sua glória está sobre a terra e 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ambém exalta o poder do seu povo, o louvor de todos os seus santos, dos filhos de Israel, um povo que lhe é chegado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, todos os seus anjos; louvai-o, todos os seu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, sol e lua; louvai-o, todas as estrelas luz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-o, céus dos céus, e as águas que estão sobre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o nome do SENHOR, pois mandou, e logo foram cri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onfirmou eternamente para sempre, e lhes deu um decreto que não ultrapas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 desde a terra: vós, baleias, e todos os abis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go e saraiva, neve e vapores, e vento tempestuoso que executa a sua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ntes e todos os outeiros, árvores frutíferas e todos os ced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51Z</dcterms:created>
  <dc:creator>Admin</dc:creator>
  <dc:description/>
  <dc:language>en-US</dc:language>
  <cp:lastModifiedBy>Admin</cp:lastModifiedBy>
  <dcterms:modified xsi:type="dcterms:W3CDTF">2008-07-31T00:28:51Z</dcterms:modified>
  <cp:revision>1</cp:revision>
  <dc:subject/>
  <dc:title>Slide 1</dc:title>
</cp:coreProperties>
</file>