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C1D-AAD5-4E4F-B777-DB396D61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7E8-A36E-4591-B975-72C9FCBF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2B9C-2FAE-4F62-A07E-6C9A274B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90A0-4608-4A3F-B403-BE52BFD2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B1AA-F434-4328-9A26-17892925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F726-DE9B-4E45-9411-3F0C587D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FF2A-E47B-4078-B4A8-3E112A79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0257-5B6B-46C8-B781-2E80EAE7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84D6-F7B5-4E29-BA99-F0DB313B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8FB2-9076-423A-A389-ADE85162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E60C-65A3-4F87-9BEB-696F487A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C9A-22B7-4C52-941A-AB90480F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805D-E8C1-416F-820C-253C539FD27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Saul a Jônatas, seu filho, e a todos os seus servos, para que matassem a Davi. Porém Jônatas, filho de Saul, estava mui afeiçoado a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ocurou Saul encravar a Davi na parede, porém ele se desviou de diante de Saul, o qual feriu com a lança a parede; então fugiu Davi, e escapou naquela mesma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aul mandou mensageiros à casa de Davi, que o guardassem, e o matassem pela manhã; do que Mical, sua mulher, avisou a Davi, dizendo: Se não salvares a tua vida esta noite, amanhã te mat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ical desceu a Davi por uma janela; e ele se foi, e fugiu, e escap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ical tomou uma estátua e a deitou na cama, e pôs-lhe à cabeceira uma pele de cabra, e a cobriu com uma cobe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mandando Saul mensageiros que trouxessem a Davi, ela disse: Está do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ul tornou a mandar mensageiros que fossem a Davi, dizendo: Trazei-mo na cama, para que o m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, pois, os mensageiros, eis que a estátua estava na cama, e a pele de cabra à sua cabec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aul a Mical: Por que assim me enganaste, e deixaste ir e escapar o meu inimigo? E disse Mical a Saul: Porque ele me disse: Deixa-me ir, por que hei de eu matar-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avi fugiu e escapou, e foi a Samuel, em Ramá, e lhe participou tudo quanto Saul lhe fizera; e foram, ele e Samuel, e ficaram em Nai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nunciaram a Saul, dizendo: Eis que Davi está em Naiote, em Ram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ônatas o anunciou a Davi, dizendo: Meu pai, Saul, procura matar-te, pelo que agora guarda-te pela manhã, e fica-te em oculto, e esconde-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viou Saul mensageiros para trazerem a Davi, os quais viram uma congregação de profetas profetizando, onde estava Samuel que presidia sobre eles; e o Espírito de Deus veio sobre os mensageiros de Saul, e também eles profetiz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visado disto Saul, enviou outros mensageiros, e também estes profetizaram; então enviou Saul ainda uns terceiros mensageiros, os quais também profetiz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i também ele mesmo a Ramá, e chegou ao poço grande que estava em Secu; e, perguntando, disse: Onde estão Samuel e Davi? E disseram-lhe: Eis que estão em Naiote, em Ram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i para Naiote, em Ramá; e o mesmo Espírito de Deus veio sobre ele, e ia profetizando, até chegar a Naiote, em Ram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também despiu as suas vestes, e profetizou diante de Samuel, e esteve nu por terra todo aquele dia e toda aquela noite; por isso se diz: Está também Saul entre os profet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rei eu, e estarei à mão de meu pai no campo em que estiverdes, e eu falarei de ti a meu pai, e verei o que há, e to anunci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ônatas falou bem de Davi a Saul, seu pai, e disse-lhe: Não peque o rei contra seu servo Davi, porque ele não pecou contra ti, e porque os seus feitos te são muito bo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xpôs a sua vida, e feriu aos filisteus, e fez o SENHOR um grande livramento a todo o Israel; tu mesmo o viste, e te alegraste; porque, pois, pecarias contra o sangue inocente, matando a Davi, sem caus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ul deu ouvidos à voz de Jônatas, e jurou Saul: Vive o SENHOR, que não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ônatas chamou a Davi, e contou-lhe todas estas palavras; e Jônatas levou Davi a Saul, e esteve perante ele como a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ou a haver guerra; e saiu Davi, e pelejou contra os filisteus, e feriu-os com grande matança, e fugiram dian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espírito mau da parte do SENHOR se tornou sobre Saul, estando ele assentado em sua casa, e tendo na mão a sua lança; e tocava Davi com a mão, a harp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7:23Z</dcterms:created>
  <dc:creator>Admin</dc:creator>
  <dc:description/>
  <dc:language>en-US</dc:language>
  <cp:lastModifiedBy>Admin</cp:lastModifiedBy>
  <dcterms:modified xsi:type="dcterms:W3CDTF">2008-07-30T23:47:23Z</dcterms:modified>
  <cp:revision>1</cp:revision>
  <dc:subject/>
  <dc:title>Slide 1</dc:title>
</cp:coreProperties>
</file>