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376-830A-4A01-BA1C-85946A9C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3B8-383B-4D97-87FD-0574FC9A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30E-7626-42D9-8C48-0C773723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45F-E5C6-4D24-B49B-F063DD42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34B-13A3-413D-8AB3-54027658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205-C52A-4A91-B73C-ECAC34CD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F9C-0ECC-4345-BB87-03A503C8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ACD-A427-4014-A501-237AE10E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B5E-75F5-4885-B1C5-7FD89DF7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285-982C-40DA-A105-85937243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2ED-C741-4A80-BF56-2C0EC0DF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E58-CA96-4238-86DD-853E1A51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1F04-B9DC-4A2E-B276-5D2A36D5A4A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todos os reis dos amorreus, que habitavam deste lado do Jordão, ao ocidente, e todos os reis dos cananeus, que estavam ao pé do mar, que o SENHOR tinha secado as águas do Jordão, de diante dos filhos de Israel, até que passassem,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, pois, os filhos de Israel acampados em Gilgal, celebraram a páscoa no dia catorze do mês, à tarde, nas campinas de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o outro dia depois da páscoa, nesse mesmo dia, comeram, do fruto da terra, pães ázimos e espigas tost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essou o maná no dia seguinte, depois que comeram do fruto da terra, e os filhos de Israel não tiveram mais maná; porém, no mesmo ano comeram dos frutos da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estando Josué perto de Jericó, levantou os seus olhos e olhou; e eis que se pôs em pé diante dele um homem que tinha na mão uma espada nua; e chegou-se Josué a ele, e disse-lhe: És tu dos nossos, ou dos nossos inimig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Não, mas venho agora como príncipe do exército do SENHOR. Então Josué se prostrou com o seu rosto em terra e o adorou, e disse-lhe: Que diz meu senhor ao seu ser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príncipe do exército do SENHOR a Josué: Descalça os sapatos de teus pés, porque o lugar em que estás é santo. E fez Josué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disse o SENHOR a Josué: Faze facas de pedra, e torna a circuncidar segunda vez a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fez para si facas de pedra, e circuncidou aos filhos de Israel no monte dos prepú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esta a causa por que Josué os circuncidou: todo o povo que tinha saído do Egito, os homens, todos os homens de guerra, já haviam morrido no deserto, pelo caminho, depois que saíram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os do povo que saíram estavam circuncidados, mas a nenhum dos que nasceram no deserto, pelo caminho, depois de terem saído do Egito, haviam circunci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arenta anos andaram os filhos de Israel pelo deserto, até se acabar toda a nação, os homens de guerra, que saíram do Egito, e não obedeceram à voz do SENHOR; aos quais o SENHOR tinha jurado que lhes não havia de deixar ver a terra que o SENHOR 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m seu lugar pôs a seus filhos; a estes Josué circuncidou, porquanto estavam incircuncisos, porque os não circuncidaram n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cabando de circuncidar a toda a nação, ficaram no seu lugar no arraial, até que sa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 a Josué: Hoje retirei de sobre vós o opróbrio do Egito; por isso o nome daquele lugar se chamou Gilgal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58Z</dcterms:created>
  <dc:creator>Admin</dc:creator>
  <dc:description/>
  <dc:language>en-US</dc:language>
  <cp:lastModifiedBy>Admin</cp:lastModifiedBy>
  <dcterms:modified xsi:type="dcterms:W3CDTF">2008-07-31T00:04:58Z</dcterms:modified>
  <cp:revision>1</cp:revision>
  <dc:subject/>
  <dc:title>Slide 1</dc:title>
</cp:coreProperties>
</file>