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CE6-CD0D-4DB7-8266-57B40E2F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C5-9763-4098-A04B-CD6A1D1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D6F-359E-4BBB-AEF3-3109B6EB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7C0-310E-4847-8CEA-69C6640C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CAF-0858-4A86-8475-E945D2BA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B8E-DD2E-4BFF-8196-4FFBFE2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782-4FE6-4B17-AC79-92544D84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891-755D-429A-9557-52B3F74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399-7BA9-4DC2-A51A-26F5F05F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5C9-3228-4DD7-AC65-8A57865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B5C-82BB-4230-8D98-89A17A0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1AE-0A16-40A1-B0AA-A19418F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894-9AFE-4568-BBD0-8FEED670B0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Ariel, Ariel, a cidade onde Davi acampou! Acrescentai ano a ano, e sucedam-se as f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erramou sobre vós um espírito de profundo sono, e fechou os vossos olhos, vendou os profetas, e os vossos principais vi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oda a visão vos é como as palavras de um livro selado que se dá ao que sabe ler, dizendo: Lê isto, peço-te; e ele dirá: Não posso, porque está se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á-se o livro ao que não sabe ler, dizendo: Lê isto, peço-te; e ele dirá: Não sei l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isse: Pois que este povo se aproxima de mim, e com a sua boca, e com os seus lábios me honra, mas o seu coração se afasta para longe de mim e o seu temor para comigo consiste só em mandamentos de homens, em que foi instruí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is que continuarei a fazer uma obra maravilhosa no meio deste povo, uma obra maravilhosa e um assombro; porque a sabedoria dos seus sábios perecerá, e o entendimento dos seus prudentes se esco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querem esconder profundamente o seu propósito do SENHOR, e fazem as suas obras às escuras, e dizem: Quem nos vê? E quem nos conhe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udo perverteis, como se o oleiro fosse igual ao barro, e a obra dissesse do seu artífice: Não me fez; e o vaso formado dissesse do seu oleiro: Nada s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e converterá o Líbano, num breve momento, em campo fértil? E o campo fértil não se reputará por um bo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os surdos ouvirão as palavras do livro, e dentre a escuridão e dentre as trevas os olhos dos cegos as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ansos terão gozo sobre gozo no SENHOR; e os necessitados entre os homens se alegrarão n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porei a Ariel em aperto, e haverá pranto e tristeza; e ela será para mim como Ar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irano é reduzido a nada, e se consome o escarnecedor, e todos os que se dão à iniqüidade são desarraig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fazem culpado ao homem por uma palavra, e armam laços ao que repreende na porta, e os que sem motivo põem de parte 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, que remiu a Abraão, acerca da casa de Jacó: Jacó não será agora envergonhado, nem agora se descorará 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ele vir seus filhos, obra das minhas mãos no meio dele, santificarão o meu nome; sim, santificarão ao Santo de Jacó, e temerão a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rrados de espírito virão a ter entendimento, e os murmuradores aprenderão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cercarei com o meu arraial, e te sitiarei com baluartes, e levantarei trincheira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rás abatida, falarás de debaixo da terra, e a tua fala desde o pó sairá fraca, e será a tua voz debaixo da terra, como a de um que tem espírito familiar, e a tua fala assobiará desde 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dos teus inimigos será como o pó miúdo, e a multidão dos tiranos como a pragana que passa, e num momento repentino isso acont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SENHOR dos Exércitos serás visitada com trovões, e com terremotos, e grande ruído com tufão de vento, e tempestade, e labareda de fogo consum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o sonho e uma visão de noite será a multidão de todas as nações que hão de pelejar contra Ariel, como também todos os que pelejarem contra ela e contra a sua fortaleza, e a puserem em a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também como o faminto que sonha, que está a comer, porém, acordando, sente-se vazio; ou como o sedento que sonha que está a beber, porém, acordando, eis que ainda desfalecido se acha, e a sua alma com sede; assim será toda a multidão das nações, 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rdai, e maravilhai-vos, folgai, e clamai; bêbados estão, mas não de vinho, andam titubeando, mas não de bebida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36Z</dcterms:created>
  <dc:creator>Admin</dc:creator>
  <dc:description/>
  <dc:language>en-US</dc:language>
  <cp:lastModifiedBy>Admin</cp:lastModifiedBy>
  <dcterms:modified xsi:type="dcterms:W3CDTF">2008-07-30T23:55:36Z</dcterms:modified>
  <cp:revision>1</cp:revision>
  <dc:subject/>
  <dc:title>Slide 1</dc:title>
</cp:coreProperties>
</file>