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2CB-65E3-4942-9249-A58C76E5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4B6-F6CA-4AEA-87AE-359091C2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A85-5B9E-47D8-B31A-C88754CA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414-E79F-4F97-9E11-2F686EBE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3DC-1AD8-4E74-AD1A-DA970B3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09B-6A1C-48E2-A585-D5BA960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307-AE96-4660-AB15-3C612B13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BBC-34B3-4379-861C-76DEE5E3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D7D-B34F-4C0C-B333-A676EF00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621-BB03-43D2-9318-15BCF32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EF7-442F-4360-BC1E-CBD144D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273-6166-410A-A238-A9EED083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2253-49A0-4B82-B7A4-C61A0246D1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LAI-VOS perante mim, ó ilhas, e os povos renovem as forças; cheguem-se, e então falem; cheguemo-nos juntos a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s, porque eu sou contigo; não te assombres, porque eu sou teu Deus; eu te fortaleço, e te ajudo, e te sustento com a destra da minh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, envergonhados e confundidos serão todos os que se indignaram contra ti; tornar-se-ão em nada, e os que contenderem contigo, per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á-los-ás, porém não os acharás; os que pelejarem contigo, tornar-se-ão em nada, e como coisa que não é nada, os que guerrearem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, o SENHOR teu Deus, te tomo pela tua mão direita; e te digo: Não temas, eu te aj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s, tu verme de Jacó, povozinho de Israel; eu te ajudo, diz o SENHOR, e o teu redentor é 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arei de ti um trilho novo, que tem dentes agudos; os montes trilharás e moerás; e os outeiros tornarás como a prag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s padejarás e o vento os levará, e o redemoinho os espalhará; mas tu te alegrarás no SENHOR e te gloriarás n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flitos e necessitados buscam águas, e não há, e a sua língua se seca de sede; eu o SENHOR os ouvirei, eu, o Deus de Israel não os desampa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rei rios em lugares altos, e fontes no meio dos vales; tornarei o deserto em lagos de águas, e a terra seca em mananciais de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lantarei no deserto o cedro, a acácia, e a murta, e a oliveira; porei no ermo juntamente a faia, o pinheiro e o ála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suscitou do oriente o justo e o chamou para o seu pé? Quem deu as nações à sua face e o fez dominar sobre reis? Ele os entregou à sua espada como o pó e como pragana arrebatada pelo vento ao seu ar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os vejam, e saibam, e considerem, e juntamente entendam que a mão do SENHOR fez isto, e o Santo de Israel o cr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sentai a vossa demanda, diz o SENHOR; trazei as vossas firmes razões, diz o Rei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gam e anunciem-nos as coisas que hão de acontecer; anunciai-nos as coisas passadas, para que atentemos para elas, e saibamos o fim delas; ou fazei-nos ouvir as coisas fu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unciai-nos as coisas que ainda hão de vir, para que saibamos que sois deuses; ou fazei bem, ou fazei mal, para que nos assombremos, e juntamente o vej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sois menos do que nada e a vossa obra é menos do que nada; abominação é quem vos esco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scitei a um do norte, e ele há de vir; desde o nascimento do sol invocará o meu nome; e virá sobre os príncipes, como sobre o lodo e, como o oleiro pisa o barro, os pis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nunciou isto desde o princípio, para que o possamos saber, ou desde antes, para que digamos: Justo é? Porém não há quem anuncie, nem tampouco quem manifeste, nem tampouco quem ouça as voss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que primeiro direi a Sião: Eis que ali estão; e a Jerusalém darei um anunciador de boas no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lhei, não havia ninguém; nem mesmo entre estes, conselheiro algum havia a quem perguntasse ou que me respondesse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odos são vaidade; as suas obras não são coisa alguma; as suas imagens de fundição são vento e confu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os persegue e passa em paz, por uma vereda por onde os seus pés nunca tinham camin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operou e fez isto, chamando as gerações desde o princípio? Eu o SENHOR, o primeiro, e com os últimos eu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ilhas o viram, e temeram; os fins da terra tremeram; aproximaram-se, e vi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ao outro ajudou, e ao seu irmão disse: Esforça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rtífice animou ao ourives, e o que alisa com o martelo ao que bate na bigorna, dizendo da coisa soldada: Boa é. Então com pregos a firma, para que não venha a move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, ó Israel, servo meu, tu Jacó, a quem elegi descendência de Abraão, meu ami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a quem tomei desde os fins da terra, e te chamei dentre os seus mais excelentes, e te disse: Tu és o meu servo, a ti escolhi e nunca te rejeit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11Z</dcterms:created>
  <dc:creator>Admin</dc:creator>
  <dc:description/>
  <dc:language>en-US</dc:language>
  <cp:lastModifiedBy>Admin</cp:lastModifiedBy>
  <dcterms:modified xsi:type="dcterms:W3CDTF">2008-07-30T23:56:11Z</dcterms:modified>
  <cp:revision>1</cp:revision>
  <dc:subject/>
  <dc:title>Slide 1</dc:title>
</cp:coreProperties>
</file>