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5249-DC4C-4E57-B363-0E2EC7B7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47C6-F2D2-4A7B-88FA-CBA21A73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4B3B-B6BC-4CE5-8F53-3C1B5E24B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893D-01BC-45C8-A2A3-EFDF4366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D789-552A-44F3-9A96-112620EE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668A-0EE0-4E05-AC80-C1331BC2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0B12-6385-43EC-B839-73F5B61B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08C2-7501-436B-9A0F-144F82A9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118B-E639-4122-B434-5E84CA7B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B8E1-134F-4C35-85E7-7BD2AF19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55CE-2FF9-49C9-9EE6-0A6643A6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217C-269B-4895-8DAB-AE2D1D2D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8B0E-EE6F-4EE6-B204-D8689EAEBD4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oisés convocou toda a congregação dos filhos de Israel, e disse-lhes: Estas são as palavras que o SENHOR ordenou que se cumpriss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nham todos os sábios de coração entre vós, e façam tudo o que o SENHOR tem mand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abernáculo, a sua tenda e a sua coberta, os seus colchetes e as suas tábuas, as suas barras, as suas colunas, e as suas bas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arca e os seus varais, o propiciatório e o véu de cobertu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esa e os seus varais, e todos os seus pertences; e os pães da proposiç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candelabro da luminária, e os seus utensílios, e as suas lâmpadas, e o azeite para a luminár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ltar do incenso e os seus varais, e o azeite da unção, e o incenso aromático, e a cortina da porta para a entrada do tabernácul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altar do holocausto, e o crivo de cobre, os seus varais, e todos os seus pertences, a pia e a sua bas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cortinas do pátio, as suas colunas e as suas bases, e o reposteiro da porta do páti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estacas do tabernáculo, e as estacas do pátio, e as suas cord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vestes do ministério para ministrar no santuário, as vestes santas de Arão o sacerdote, e as vestes de seus filhos, para administrarem o sacerdó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is dias se trabalhará, mas o sétimo dia vos será santo, o sábado do repouso ao SENHOR; todo aquele que nele fizer qualquer trabalho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a a congregação dos filhos de Israel saiu da presença de Moisé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todo o homem, a quem o seu coração moveu, e todo aquele cujo espírito voluntariamente o excitou, e trouxeram a oferta alçada ao SENHOR para a obra da tenda da congregação, e para todo o seu serviço, e para as vestes san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vieram homens e mulheres, todos dispostos de coração; trouxeram fivelas, e pendentes, e anéis, e braceletes, todos os objetos de ouro; e todo o homem fazia oferta de ouro ao SENH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homem que se achou com azul, e púrpura, e carmesim, e linho fino, e pêlos de cabras, e peles de carneiro tintas de vermelho, e peles de texugos, os traz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aquele que fazia oferta alçada de prata ou de metal, a trazia por oferta alçada ao SENHOR; e todo aquele que possuía madeira de acácia, a trazia para toda a obra do servi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s as mulheres sábias de coração fiavam com as suas mãos, e traziam o que tinham fiado, o azul e a púrpura, o carmesim e o linho f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s as mulheres, cujo coração as moveu em habilidade fiavam os pêlos das ca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príncipes traziam pedras de ônix e pedras de engastes para o éfode e para o peitora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peciarias, e azeite para a luminária, e para o azeite da unção, e para o incenso aromáti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homem e mulher, cujo coração voluntariamente se moveu a trazer alguma coisa para toda a obra que o SENHOR ordenara se fizesse pela mão de Moisés; assim os filhos de Israel trouxeram por oferta voluntária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acendereis fogo em nenhuma das vossas moradas no dia do sáb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se Moisés aos filhos de Israel: Eis que o SENHOR tem chamado por nome a Bezalel, filho de Uri, filho de Hur, da tribo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Espírito de Deus o encheu de sabedoria, entendimento, ciência e em todo o lav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criar invenções, para trabalhar em ouro, e em prata, e em cobr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lapidar de pedras para engastar, e em entalhar madeira, e para trabalhar em toda a obra esmer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lhe dispôs o coração para ensinar a outros; a ele e a Aoliabe, o filho de Aisamaque, da tribo de D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cheu-os de sabedoria do coração, para fazer toda a obra de mestre, até a mais engenhosa, e a do gravador, em azul, e em púrpura, em carmesim, e em linho fino, e do tecelão; fazendo toda a obra, e criando inven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Moisés a toda a congregação dos filhos de Israel, dizendo: Esta é a palavra que o SENHOR ordenou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i do que tendes, uma oferta para o SENHOR; cada um, cujo coração é voluntariamente disposto, a trará por oferta alçada ao SENHOR: ouro, prata e cobr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azul, púrpura, carmesim, linho fino, pêlos de cabr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les de carneiros, tintas de vermelho, e peles de texugos, madeira de acác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zeite para a luminária, e especiarias para o azeite da unção, e para o incenso aromáti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dras de ônix, e pedras de engaste, para o éfode e para o peitor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3:18Z</dcterms:created>
  <dc:creator>Admin</dc:creator>
  <dc:description/>
  <dc:language>en-US</dc:language>
  <cp:lastModifiedBy>Admin</cp:lastModifiedBy>
  <dcterms:modified xsi:type="dcterms:W3CDTF">2008-07-30T23:33:18Z</dcterms:modified>
  <cp:revision>1</cp:revision>
  <dc:subject/>
  <dc:title>Slide 1</dc:title>
</cp:coreProperties>
</file>