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444-4E57-49BE-A594-85EEF7EB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771-0D65-462B-BE86-DDA4AE58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E29-64EF-4E01-9EFA-440DF446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963-B298-4195-B04C-25484583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8AD-5283-490E-B464-E4723B7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75C-6247-4AF2-9D0C-3A87782B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7CD-F538-4F8D-AFC5-74ADC2D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018-B08D-42C2-905B-1F07F0C8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50D-C6FB-474D-9682-E829CB43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561-D9D4-4778-AF73-718F30C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E25-692E-4847-B1CE-1312EF39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A6C-F93E-49A7-B65E-C4EE4ED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7AAC-70CB-4BB7-8C8C-237F70ACE7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UXERAM, pois, a arca de Deus, e a puseram no meio da tenda que Davi lhe tinha armado; e ofereceram holocaustos e sacrifícios pacíficos perant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loriai-vos no seu santo nome; alegre-se o coração dos que busc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ao SENHOR e a sua força; buscai a sua face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as maravilhas que fez, de seus prodígios, e dos juízos da sua bo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semente de Israel, seus servos, vós, filhos de Jacó, seu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SENHOR nosso Deus; os seus juízos estão em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perpetuamente da sua aliança e da palavra que prescreveu para mil ge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aliança que fez com Abraão, e do seu juramento a Isa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também a Jacó confirmou por estatuto, e a Israel por aliança eter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A ti te darei a terra de Canaã, quinhão da voss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ram poucos homens em número, sim, mui poucos, e estrangeiros n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 Davi de oferecer os holocaustos e sacrifícios pacíficos, abençoou o povo em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ndavam de nação em nação, e de um reino para outro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inguém permitiu que os oprimisse, e por amor deles repreendeu rei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queis os meus ungidos, e aos meus profetas não façais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 em toda a terra; anunciai de dia em dia a s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ai entre as nações a sua glória, entre todos os povos as s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grande é o SENHOR, e mui digno de louvor, e mais temível é do que todos 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deuses dos povos são ídolos; porém o SENHOR fez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or e majestade há diante dele, força e alegria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ibutai ao SENHOR, ó famílias dos povos, tributai ao SENHOR glória e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ibutai ao SENHOR a glória de seu nome; trazei presentes, e vinde perante ele; adorai ao SENHOR na beleza da sua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partiu a todos em Israel, tanto a homens como a mulheres, a cada um, um pão, e um bom pedaço de carne, e um frasco de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ema perante ele, trema toda a terra; pois o mundo se firmará, para que não se aba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m-se os céus, e regozije-se a terra; e diga-se entre as nações: O SENHOR re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rame o mar com a sua plenitude; exulte o campo com tudo o que nele h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bilarão as árvores dos bosques perante o SENHOR; porquanto vem julgar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porque é bom; pois a sua benignidade dura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i: Salva-nos, ó Deus da nossa salvação, e ajunta-nos, e livra-nos das nações, para que louvemos o teu santo nome, e nos gloriemos no teu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Deus de Israel, de eternidade a eternidade. E todo o povo disse: Amém! E louvo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vi deixou ali, diante da arca da aliança do SENHOR, a Asafe e a seus irmãos, para ministrarem continuamente perante a arca, segundo se ordenara para cada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is a Obede-Edom, com seus irmãos, sessenta e oito; a este Obede-Edom, filho de Jedutum, e a Hosa, deixou por por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ou a Zadoque, o sacerdote, e a seus irmãos, os sacerdotes, diante do tabernáculo do SENHOR, no alto que está em Gibe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alguns dos levitas por ministros perante a arca do SENHOR; isto para recordarem, e louvarem, e celebrarem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ferecerem holocaustos ao SENHOR continuamente, pela manhã e à tarde, sobre o altar dos holocaustos; e isto segundo tudo o que está escrito na lei do SENHOR que tinha prescrito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les a Hemã, e a Jedutum, e aos mais escolhidos, que foram apontados pelos seus nomes, para louvarem ao SENHOR, porque a sua benignidade dura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es, pois, estavam Hemã e Jedutum, com trombetas e címbalos, para os que haviam de tocar, e com outros instrumentos de música de Deus; porém os filhos de Jedutum estavam à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se retirou, cada um para a sua casa; e voltou Davi, para abençoar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Asafe, o chefe, e Zacarias o segundo depois dele; Jeiel, e Semiramote, e Jeiel, e Matitias, e Eliabe, e Benaia, e Obede-Edom, e Jeiel, com alaúdes e com harpas; e Asafe se fazia ouvir com címba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Benaia, e Jaaziel, os sacerdotes, continuamente tocavam trombetas, perante a arca da alian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aquele mesmo dia Davi, em primeiro lugar, deu o seguinte salmo para que, pelo ministério de Asafe e de seus irmãos, louvassem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, invocai o seu nome, fazei conhecidas as suas obras entre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-lhe, salmodiai-lhe, atentamente falai de todas as s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19Z</dcterms:created>
  <dc:creator>Admin</dc:creator>
  <dc:description/>
  <dc:language>en-US</dc:language>
  <cp:lastModifiedBy>Admin</cp:lastModifiedBy>
  <dcterms:modified xsi:type="dcterms:W3CDTF">2008-07-30T23:43:19Z</dcterms:modified>
  <cp:revision>1</cp:revision>
  <dc:subject/>
  <dc:title>Slide 1</dc:title>
</cp:coreProperties>
</file>