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E35-70E6-437F-8CB7-6A680A6B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A14-C530-4658-913E-C12A7C32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F8B-A70F-45DD-B915-26763AC1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7A2-A6CD-46B6-8844-6E0676C4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721-A9BA-44ED-BAB6-5F25F6B0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858-278F-4C3F-8F27-3E75AA8D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4DF-8F12-42BF-952C-D262860E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E0F-EAEC-4BDF-A532-1113C63A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167-C946-487E-A140-96BC3B8A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462-9ADB-4A0C-9EA5-8D8876A6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939-8B2C-4918-8665-E352ED1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5C7-F1D4-4671-A9CC-891AAE5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A824-FDC8-4F10-AC51-B67F2780984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presbíteros, que estão entre vós, admoesto eu, que sou também presbítero com eles, e testemunha das aflições de Cristo, e participante da glória que se há de revela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eus de toda a graça, que em Cristo Jesus vos chamou à sua eterna glória, depois de haverdes padecido um pouco, ele mesmo vos aperfeiçoará, confirmará, fortificará e fortal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le seja a glória e o poderio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Silvano, vosso fiel irmão, como cuido, escrevi abreviadamente, exortando e testificando que esta é a verdadeira graça de Deus, na qual estais fir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ssa co-eleita em Babilônia vos saúda, e meu filho Mar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-vos uns aos outros com ósculo de amor. Paz seja com todos vós que estais em Cristo Jesu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scentai o rebanho de Deus, que está entre vós, tendo cuidado dele, não por força, mas voluntariamente; nem por torpe ganância, mas de ânimo pro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como tendo domínio sobre a herança de Deus, mas servindo de exemplo ao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parecer o Sumo Pastor, alcançareis a incorruptível coroa d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 vós jovens, sede sujeitos aos anciãos; e sede todos sujeitos uns aos outros, e revesti-vos de humildade, porque Deus resiste aos soberbos, mas dá graça aos humi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umilhai-vos, pois, debaixo da potente mão de Deus, para que a seu tempo vos exal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ndo sobre ele toda a vossa ansiedade, porque ele tem cuidado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de sóbrios; vigiai; porque o diabo, vosso adversário, anda em derredor, bramando como leão, buscando a quem possa trag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al resisti firmes na fé, sabendo que as mesmas aflições se cumprem entre os vossos irmãos n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27Z</dcterms:created>
  <dc:creator>Admin</dc:creator>
  <dc:description/>
  <dc:language>en-US</dc:language>
  <cp:lastModifiedBy>Admin</cp:lastModifiedBy>
  <dcterms:modified xsi:type="dcterms:W3CDTF">2008-07-30T23:44:27Z</dcterms:modified>
  <cp:revision>1</cp:revision>
  <dc:subject/>
  <dc:title>Slide 1</dc:title>
</cp:coreProperties>
</file>