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6CFC-55F0-4CD3-8970-4E0F1D496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8FA3-BC70-4B96-ADA9-44A67C04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7944-0F48-4693-8F65-4D493F012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D559-9C29-446B-97B4-2AE92F61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8178-5B41-466F-96F6-277512A9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0204-616B-4074-8ED2-62B08D1B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0D76-F572-4627-8D37-5F68A290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352C-F66A-489E-A25A-823A48B1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3980-AAE0-4EC5-8FD9-266D02EA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B7C8-334B-45DB-A568-97D89619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5868-534B-481B-A17C-1F828C58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1303-1C32-4B82-A6F6-1BAD2766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0D40-5133-42E4-AEC6-D70BE140CAC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é uma palavra fiel: se alguém deseja o episcopado, excelente obra desej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ambém estes sejam primeiro provados, depois sirvam, se forem irrepreensív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mesma sorte as esposas sejam honestas, não maldizentes, sóbrias e fiéis em tu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diáconos sejam maridos de uma só mulher, e governem bem a seus filhos e suas próprias ca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que servirem bem como diáconos, adquirirão para si uma boa posição e muita confiança na fé que há em Cristo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crevo-te estas coisas, esperando ir ver-te bem depress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tardar, para que saibas como convém andar na casa de Deus, que é a igreja do Deus vivo, a coluna e firmeza da ver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m dúvida alguma, grande é o mistério da piedade: Deus se manifestou em carne, foi justificado no Espírito, visto dos anjos, pregado aos gentios, crido no mundo, recebido acima na gló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vém, pois, que o bispo seja irrepreensível, marido de uma mulher, vigilante, sóbrio, honesto, hospitaleiro, apto para ensina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dado ao vinho, não espancador, não cobiçoso de torpe ganância, mas moderado, não contencioso, não avaren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governe bem a sua própria casa, tendo seus filhos em sujeição, com toda a modésti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Porque, se alguém não sabe governar a sua própria casa, terá cuidado da igreja de Deus?)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neófito, para que, ensoberbecendo-se, não caia na condenação do diab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vém também que tenha bom testemunho dos que estão de fora, para que não caia em afronta, e no laço do diab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 mesma sorte os diáconos sejam honestos, não de língua dobre, não dados a muito vinho, não cobiçosos de torpe ganânci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uardando o mistério da fé numa consciência p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8:19Z</dcterms:created>
  <dc:creator>Admin</dc:creator>
  <dc:description/>
  <dc:language>en-US</dc:language>
  <cp:lastModifiedBy>Admin</cp:lastModifiedBy>
  <dcterms:modified xsi:type="dcterms:W3CDTF">2008-07-30T23:48:19Z</dcterms:modified>
  <cp:revision>1</cp:revision>
  <dc:subject/>
  <dc:title>Slide 1</dc:title>
</cp:coreProperties>
</file>