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0D2-9A0B-463D-B7C5-C7BFA32B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90E-716C-4752-8F1E-7B1D609A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277-24BE-438F-8251-F04F7434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C0B-89FA-4332-9304-EA39B8D5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23E-963B-4B57-BC9B-FC55640C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C2C-52E7-4741-B356-AFEC9B7F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D39-0834-4F71-B4CA-83AF425C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27D-11C1-4365-977E-63B9309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7C3-30D7-4883-8251-46D2660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440-C325-45D7-B4B3-57DA9D17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6F0-BAB9-4249-8921-668744C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145-9A8F-4BCF-BC2F-644E5C6D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439-7453-43F5-8B01-CF3BE72BFF0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QUELES dias, apareceu João o Batista pregando no deserto da Judé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gora está posto o machado à raiz das árvores; toda a árvore, pois, que não produz bom fruto, é cortada e lançada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em verdade, vos batizo com água, para o arrependimento; mas aquele que vem após mim é mais poderoso do que eu; cujas alparcas não sou digno de levar; ele vos batizará com o Espírito Santo, e com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ua mão tem a pá, e limpará a sua eira, e recolherá no celeiro o seu trigo, e queimará a palha com fogo que nunca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Jesus da Galiléia ter com João, junto do Jordão, para ser batizado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oão opunha-se-lhe, dizendo: Eu careço de ser batizado por ti, e vens tu a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respondendo, disse-lhe: Deixa por agora, porque assim nos convém cumprir toda a justiça. Então ele o permi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esus batizado, saiu logo da água, e eis que se lhe abriram os céus, e viu o Espírito de Deus descendo como pomba e vindo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a voz dos céus dizia: Este é o meu Filho amado, em quem me compra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Arrependei-vos, porque é chegado 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é o anunciado pelo profeta Isaías, que disse: Voz do que clama no deserto: Preparai o caminho do Senhor, Endireitai as s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João tinha as suas vestes de pelos de camelo, e um cinto de couro em torno de seus lombos; e alimentava-se de gafanhotos e de mel silves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a ter com ele Jerusalém, e toda a Judéia, e toda a província adjacente ao Jor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m por ele batizados no rio Jordão, confessando 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ele muitos dos fariseus e dos saduceus, que vinham ao seu batismo, dizia-lhes: Raça de víboras, quem vos ensinou a fugir da ira futu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duzi, pois, frutos dignos de arrependi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resumais, de vós mesmos, dizendo: Temos por pai a Abraão; porque eu vos digo que, mesmo destas pedras, Deus pode suscitar filhos a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10Z</dcterms:created>
  <dc:creator>Admin</dc:creator>
  <dc:description/>
  <dc:language>en-US</dc:language>
  <cp:lastModifiedBy>Admin</cp:lastModifiedBy>
  <dcterms:modified xsi:type="dcterms:W3CDTF">2008-07-31T00:14:10Z</dcterms:modified>
  <cp:revision>1</cp:revision>
  <dc:subject/>
  <dc:title>Slide 1</dc:title>
</cp:coreProperties>
</file>