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580-6343-47DE-8D47-38FA654D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257-BC80-45B1-92F5-7F76BB12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262-FA2B-44AA-93DF-9B25C293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CB9-B2F3-4FDB-B2C0-3567929F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F4F-5901-4239-BE42-C9E809F0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40E-9262-4E13-9371-76122156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F56-C631-402C-AF43-2C969E92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FD3-CF1D-48B2-ADF1-AFEAC87F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135-BB54-44CC-88CB-D76B4E7F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487-D9F1-4643-804A-F753A4F1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250-C738-4E85-AD0A-D788971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74B-78A0-4EEB-86BA-08CA519D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B606-6571-4A91-A9C6-86BEE16578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OZIJAI-VOS no SENHOR, vós justos, pois aos retos convém o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sfaz o conselho dos gentios, quebranta os intentos d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nselho do SENHOR permanece para sempre; os intentos do seu coração de geração em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a é a nação cujo Deus é o SENHOR, e o povo ao qual escolheu par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olha desde os céus e está vendo a todos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lugar da sua habitação contempla todos os morador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que forma o coração de todos eles, que contempla todas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rei que se salve com a grandeza dum exército, nem o homem valente se livra pela muit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valo é falaz para a segurança; não livra ninguém com a sua grande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s olhos do SENHOR estão sobre os que o temem, sobre os que esperam na sua misericór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lhes livrar as almas da morte, e para os conservar vivos na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i ao SENHOR com harpa, cantai a ele com o saltério e um instrumento de dez cor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ossa alma espera no SENHOR; ele é o nosso auxílio e o nosso esc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ele se alegra o nosso coração; porquanto temos confiado no seu sant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 a tua misericórdia, SENHOR, sobre nós, como em ti espe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-lhe um cântico novo; tocai bem e com júb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alavra do SENHOR é reta, e todas as suas obras são fié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ama a justiça e o juízo; a terra está cheia da bondad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palavra do SENHOR foram feitos os céus, e todo o exército deles pelo espírito d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ajunta as águas do mar como num montão; põe os abismos em depós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a toda a terra ao SENHOR; temam-no todos os moradores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alou, e foi feito; mandou, e logo apar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57Z</dcterms:created>
  <dc:creator>Admin</dc:creator>
  <dc:description/>
  <dc:language>en-US</dc:language>
  <cp:lastModifiedBy>Admin</cp:lastModifiedBy>
  <dcterms:modified xsi:type="dcterms:W3CDTF">2008-07-31T00:24:57Z</dcterms:modified>
  <cp:revision>1</cp:revision>
  <dc:subject/>
  <dc:title>Slide 1</dc:title>
</cp:coreProperties>
</file>