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3D0E-77CD-4888-A2D5-8F9C44C5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8BA1-A554-43B7-8596-010BA55A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8E35-0D6E-4FA5-BB79-9DEDAD2B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139-D5C1-42C1-98C6-06CD890F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5D68-6C39-4B8F-B3AD-8A21F760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F89B-11D2-4E11-A075-FB650B32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2271-AF02-4F6C-871D-D1D87F54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EB46-F1D2-4D51-933E-727BE277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4107-5D36-4F85-AEDF-B0FE9CE7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282E-42DE-48AC-BD8B-B85034B4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915-3DB2-4D12-9657-4F639E91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5E1C-0F52-48C0-8C53-4893EEA6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AA73-F937-4421-9951-A55693A00DE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ENHOR a Moisés: Agora verás o que hei de fazer a Faraó; porque por uma mão poderosa os deixará ir, sim, por uma mão poderosa os lançará de s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a, e fala a Faraó rei do Egito, que deixe sair os filhos de Israel da s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isés, porém, falou perante o SENHOR, dizendo: Eis que os filhos de Israel não me têm ouvido; como, pois, Faraó me ouvirá? Também eu sou incircunciso de láb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o SENHOR falou a Moisés e a Arão, e deu-lhes mandamento para os filhos de Israel, e para Faraó rei do Egito, para que tirassem os filhos de Israel d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ão as cabeças das casas de seus pais: Os filhos de Rúben, o primogênito de Israel: Enoque e Palu, Hezrom e Carmi; estas são as famílias de Rúb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Simeão: Jemuel, Jamin, Oade, Jaquim, Zoar e Saul, filho de uma cananéia; estas são as famílias de Sime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são os nomes dos filhos de Levi, segundo as suas gerações: Gérson, Coate e Merari; e os anos da vida de Levi foram cento e trinta e sete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Gérson: Libni e Simei, segundo as suas famíli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Coate: Anrão, Izar, Hebrom e Uziel; e os anos da vida de Coate foram cento e trinta e três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Merari: Mali e Musi; estas são as famílias de Levi, segundo as suas ge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Deus a Moisés, e disse: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rão tomou por mulher a Joquebede, sua tia, e ela deu-lhe Arão e Moisés: e os anos da vida de Anrão foram cento e trinta e sete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Izar: Corá, Nefegue e Zicr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Uziel: Misael, Elzafã e Sitr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rão tomou por mulher a Eliseba, filha de Aminadabe, irmã de Naasson; e ela deu-lhe Nadabe, Abiú, Eleazar e Ita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Corá: Assir, Elcana e Abiasafe; estas são as famílias dos coraí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azar, filho de Arão, tomou por mulher uma das filhas de Putiel, e ela deu-lhe a Finéias; estes são os cabeças dos pais dos levitas, segundo as suas famí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Arão e Moisés, aos quais o SENHOR disse: Tirai os filhos de Israel da terra do Egito, segundo os seu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que falaram a Faraó, rei do Egito, para que tirasse do Egito os filhos de Israel; estes são Moisés e 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 naquele dia, quando o SENHOR falou a Moisés na terra do Egi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o SENHOR a Moisés, dizendo: Eu sou o SENHOR; fala a Faraó, rei do Egito, tudo quanto eu te d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apareci a Abraão, a Isaque, e a Jacó, como o Deus Todo-Poderoso; mas pelo meu nome, o SENHOR, não lhes fui perfeitamente conhec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Moisés perante o SENHOR: Eis que eu sou incircunciso de lábios; como, pois, Faraó me ouvir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estabeleci a minha aliança com eles, para dar-lhes a terra de Canaã, a terra de suas peregrinações, na qual foram peregri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tenho ouvido o gemido dos filhos de Israel, aos quais os egípcios fazem servir, e lembrei-me da minha ali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dize aos filhos de Israel: Eu sou o SENHOR, e vos tirarei de debaixo das cargas dos egípcios, e vos livrarei da servidão, e vos resgatarei com braço estendido e com grandes juíz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vos tomarei por meu povo, e serei vosso Deus; e sabereis que eu sou o SENHOR vosso Deus, que vos tiro de debaixo das cargas dos egípci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vos levarei à terra, acerca da qual levantei minha mão, jurando que a daria a Abraão, a Isaque e a Jacó, e vo-la darei por herança, e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te modo falou Moisés aos filhos de Israel, mas eles não ouviram a Moisés, por causa da angústia de espírito e da dura serv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1:22Z</dcterms:created>
  <dc:creator>Admin</dc:creator>
  <dc:description/>
  <dc:language>en-US</dc:language>
  <cp:lastModifiedBy>Admin</cp:lastModifiedBy>
  <dcterms:modified xsi:type="dcterms:W3CDTF">2008-07-30T23:31:22Z</dcterms:modified>
  <cp:revision>1</cp:revision>
  <dc:subject/>
  <dc:title>Slide 1</dc:title>
</cp:coreProperties>
</file>