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21FD-5294-4291-842D-595061C82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DD5F-361C-4CF4-8CAD-5A971994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776E-37F1-4CD7-AEB4-5C509A2E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A3DC-0FCE-4051-A724-DE1F320B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2897-88FC-4C3F-8846-0604521D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AE47-F676-418C-BFCE-BB034E94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5293-52AF-4047-AB2B-1E88CA1D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4471-2B21-4F64-8522-95A840EC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65D6-9907-4BFB-A2E8-95C699BC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5EC1-8475-4D28-AC4E-1B051E06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651B-C9AC-44D9-8C57-DBB3DBF1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654A-EAC4-4E39-A804-EFABA668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7EBC-0D7B-43CA-9C5A-68351800CC9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disto aconteceu que Davi derrotou os filisteus, e os sujeitou; e tomou a Gate, e os lugares da sua jurisdição, da mão dos filist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ndou seu filho Hadorão a Davi, para lhe perguntar como estava, e para o abençoar, por haver pelejado contra Hadar-Ezer, e por havê-lo ferido (porque Hadar-Ezer fazia guerra a Toí), enviando-lhe também toda a sorte de vasos de ouro, e de prata, e de co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ais Davi também consagrou ao SENHOR, juntamente com a prata e ouro que trouxera de todas as demais nações: dos edomeus, e dos moabitas, e dos filhos de Amom, e dos filisteus, e dos amalequ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Abisai, filho de Zeruia, feriu a dezoito mil edomeus no Vale do S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ôs guarnições em Edom, e todos os edomeus ficaram por servos de Davi; e o SENHOR guardava a Davi, por onde quer que 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reinou sobre todo o Israel; e fazia juízo e justiça a todo o s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abe, filho de Zeruia, comandava o exército; Jeosafá, filho de Ailude, era cronis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Zadoque, filho de Aitube, e Abimeleque, filho de Abiatar, eram sacerdotes; e Savsa escriv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enaia, filho de Joiada, estava sobre os quereteus e peleteus; porém os filhos de Davi, eram os primeiros junto a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derrotou os moabitas; e os moabitas ficaram por servos de Davi, pagando tribu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Davi derrotou a Hadar-Ezer, rei de Zobá, junto a Hamate, quando ele ia estabelecer o seu domínio sobre o rio Eufra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lhe tomou mil carros, e sete mil cavaleiros, e vinte mil homens de pé; e Davi jarretou todos os cavalos dos carros; porém reservou deles para cem car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eram os sírios de Damasco a socorrer a Hadar-Ezer, rei de Zobá; porém Davi feriu dos sírios vinte e dois mil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pôs guarnições na Síria de Damasco, e os sírios ficaram por servos de Davi, pagando-lhe tributo; e o SENHOR guardava a Davi, por onde quer que 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tomou os escudos de ouro, que tinham os servos de Hadar-Ezer, e os trouxe 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de Tibate, e de Cum, cidades de Hadar-Ezer, tomou Davi muitíssimo cobre, de que Salomão fez o mar de cobre, e as colunas, e os utensílios de cob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vindo Toí, rei de Hamate, que Davi destruíra todo o exército de Hadar-Ezer, rei de Zobá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3:24Z</dcterms:created>
  <dc:creator>Admin</dc:creator>
  <dc:description/>
  <dc:language>en-US</dc:language>
  <cp:lastModifiedBy>Admin</cp:lastModifiedBy>
  <dcterms:modified xsi:type="dcterms:W3CDTF">2008-07-30T23:43:24Z</dcterms:modified>
  <cp:revision>1</cp:revision>
  <dc:subject/>
  <dc:title>Slide 1</dc:title>
</cp:coreProperties>
</file>