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0AEF-6C35-44CE-8907-67318FEB5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47AB-85C5-44F1-B1CD-553B628DE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443A-9871-4BF2-A4CA-60C1CA1E7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C1C3-56F4-491C-B66A-30FABEDD7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2A3C-6BF1-4FEA-9087-97DE96F60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2D96-4C65-4724-9B3A-B37816322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C17B-8582-4906-8A16-5A5F67615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6A5C-1EAD-4526-8572-6E084BCC4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A026-0DA1-428D-80A9-471AE02FB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C214-F807-4162-A4EA-CE0BB1014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BCA1-FFD3-42B2-941D-5A8C59A22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644B-AEB8-4A5D-9164-508C216E6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771B4-8EE2-404A-AAAD-516164044D26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5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HAMA agora; há alguém que te responda? E para qual dos santos te virará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5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 dá a chuva sobre a terra, e envia águas sobre os camp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5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pôr aos abatidos num lugar alto; e para que os enlutados se exaltem na salv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5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 aniquila as imaginações dos astutos, para que as suas mãos não possam levar coisa alguma a efe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5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 apanha os sábios na sua própria astúcia; e o conselho dos perversos se precipi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5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s de dia encontram as trevas; e ao meio dia andam às apalpadelas como de noi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5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ao necessitado livra da espada, e da boca deles, e da mão do for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5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há esperança para o pobre; e a iniqüidade tapa a sua boc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5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bem-aventurado é o homem a quem Deus repreende; não desprezes, pois, a correção do Todo-Poderos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5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le faz a chaga, e ele mesmo a liga; ele fere, e as suas mãos cu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5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m seis angústias te livrará; e na sétima o mal não te toc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5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 ira destrói o louco; e o zelo mata o tol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5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 fome te livrará da morte; e na guerra, da violência da esp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5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o açoite da língua estarás encoberto; e não temerás a assolação, quando vi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5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a assolação e da fome te rirás, e os animais da terra não temerá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5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té com as pedras do campo terás o teu acordo, e as feras do campo serão pacíficas conti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5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aberás que a tua tenda está em paz; e visitarás a tua habitação, e não pecará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5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saberás que se multiplicará a tua descendência e a tua posteridade como a erva da terr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5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 velhice irás à sepultura, como se recolhe o feixe de trigo a seu temp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5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isto já o havemos inquirido, e assim é; ouve-o, e medita nisso para teu b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5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em vi eu o louco lançar raízes; porém logo amaldiçoei a sua habit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5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us filhos estão longe da salvação; e são despedaçados às portas, e não há quem os liv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5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sua messe, o faminto a devora, e até dentre os espinhos a tira; e o salteador traga a sua fazen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5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do pó não procede a aflição, nem da terra brota o trabal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5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o homem nasce para a tribulação, como as faíscas se levantam para vo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5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eu buscaria a Deus; e a ele entregaria a minha cau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5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 faz coisas grandes e inescrutáveis, e maravilhas sem núme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00:32Z</dcterms:created>
  <dc:creator>Admin</dc:creator>
  <dc:description/>
  <dc:language>en-US</dc:language>
  <cp:lastModifiedBy>Admin</cp:lastModifiedBy>
  <dcterms:modified xsi:type="dcterms:W3CDTF">2008-07-31T00:00:32Z</dcterms:modified>
  <cp:revision>1</cp:revision>
  <dc:subject/>
  <dc:title>Slide 1</dc:title>
</cp:coreProperties>
</file>