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5FD-C1EB-4511-AB7D-1335ED22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096-C83F-431E-9F1A-56FE915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29E-0027-4201-8B76-319AC294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A82-61F9-43F2-9429-D37D0F04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2AF-7FE5-42B7-960E-A73E48AA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BD8-385D-47DB-B8D5-B3C7D4E5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3AD-85F8-4FC9-87E7-6B295B2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519-020E-4565-93A1-49E50FC2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67A-74AE-417A-9C8B-F5CF7DA4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57B-C014-4943-8B1C-7C62C71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373-0566-4CAD-805C-7039540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62C-5F8D-4BE8-87E5-4927A3BD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A1BF-FCC2-45C5-BB9B-85BCBB41AC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ele a orar num certo lugar, quando acabou, lhe disse um dos seus discípulos: Senhor, ensina-nos a orar, como também João ensinou a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quer que pede recebe; e quem busca acha; e a quem bate abrir-se-lhe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o pai de entre vós que, se o filho lhe pedir pão, lhe dará uma pedra? Ou, também, se lhe pedir peixe, lhe dará por peixe uma serp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também, se lhe pedir um ovo, lhe dará um escorpi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se vós, sendo maus, sabeis dar boas dádivas aos vossos filhos, quanto mais dará o Pai celestial o Espírito Santo àqueles que lho pedi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ele expulsando um demônio, o qual era mudo. E aconteceu que, saindo o demônio, o mudo falou; e maravilhou-se 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lguns deles diziam: Ele expulsa os demônios por Belzebu, príncipe d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s, tentando-o, pediam-lhe um sinal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nhecendo ele os seus pensamentos, disse-lhes: Todo o reino, dividido contra si mesmo, será assolado; e a casa, dividida contra si mesma, ca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também Satanás está dividido contra si mesmo, como subsistirá o seu reino? Pois dizeis que eu expulso os demônios por Belzeb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eu expulso os demônios por Belzebu, por quem os expulsam vossos filhos? Eles, pois, serão os vossos juí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Quando orardes, dizei: Pai nosso, que estás nos céus, santificado seja o teu nome; venha o teu reino; seja feita a tua vontade, assim na terra, como n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u expulso os demônios pelo dedo de Deus, certamente a vós é chegado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valente guarda, armado, a sua casa, em segurança está tudo quanto t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obrevindo outro mais valente do que ele, e vencendo-o, tira-lhe toda a sua armadura em que confiava, e reparte os seus despo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não é comigo é contra mim; e quem comigo não ajunta, esp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espírito imundo tem saído do homem, anda por lugares secos, buscando repouso; e, não o achando, diz: Tornarei para minha casa, de onde sa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, acha-a varrida e ador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ai, e leva consigo outros sete espíritos piores do que ele e, entrando, habitam ali; e o último estado desse homem é pior do que o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dizendo ele estas coisas, uma mulher dentre a multidão, levantando a voz, lhe disse: Bem-aventurado o ventre que te trouxe e os peitos em que mam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: Antes bem-aventurados os que ouvem a palavra de Deus e a guar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juntando-se a multidão, começou a dizer: Maligna é esta geração; ela pede um sinal; e não lhe será dado outro sinal, senão o sinal do profeta Jon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nos cada dia o nosso pão cotidia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assim como Jonas foi sinal para os ninivitas, assim o Filho do homem o será também para es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ainha do sul se levantará no juízo com os homens desta geração, e os condenará; pois até dos confins da terra veio ouvir a sabedoria de Salomão; e eis aqui está quem é maior do qu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Nínive se levantarão no juízo com esta geração, e a condenarão; pois se converteram com a pregação de Jonas; e eis aqui está quem é maior do que Jo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, acendendo uma candeia, a põe em oculto, nem debaixo do alqueire, mas no velador, para que os que entram vejam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ndeia do corpo é o olho. Sendo, pois, o teu olho simples, também todo o teu corpo será luminoso; mas, se for mau, também o teu corpo será teneb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ê, pois, que a luz que em ti há não sejam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is, todo o teu corpo é luminoso, não tendo em trevas parte alguma, todo será luminoso, como quando a candeia te ilumina com o seu resplen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ainda falando, rogou-lhe um fariseu que fosse jantar com ele; e, entrando, assentou-se à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fariseu admirou-se, vendo que não se lavara antes de jan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he disse: Agora vós, os fariseus, limpais o exterior do copo e do prato; mas o vosso interior está cheio de rapina e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doa-nos os nossos pecados, pois também nós perdoamos a qualquer que nos deve, e não nos conduzas em tentação, mas livra-nos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cos! Quem fez o exterior não fez também o interi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ai esmola do que tiverdes, e eis que tudo vos será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i de vós, fariseus, que dizimais a hortelã, e a arruda, e toda a hortaliça, e desprezais o juízo e o amor de Deus. Importava fazer estas coisas, e não deixar as out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fariseus, que amais os primeiros assentos nas sinagogas, e as saudações nas p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escribas e fariseus, hipócritas! que sois como as sepulturas que não aparecem, e os homens que sobre elas andam não o sa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um dos doutores da lei, disse-lhe: Mestre, quando dizes isso, também nos afrontas 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Ai de vós também, doutores da lei, que carregais os homens com cargas difíceis de transportar, e vós mesmos nem ainda com um dos vossos dedos tocais essas car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 que edificais os sepulcros dos profetas, e vossos pais os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testificais, pois, que consentis nas obras de vossos pais; porque eles os mataram, e vós edificais os seus sepulc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z também a sabedoria de Deus: Profetas e apóstolos lhes mandarei; e eles matarão uns, e perseguirão out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também: Qual de vós terá um amigo, e, se for procurá-lo à meia-noite, e lhe disser: Amigo, empresta-me três pã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desta geração seja requerido o sangue de todos os profetas que, desde a fundação do mundo, foi derram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sangue de Abel, até ao sangue de Zacarias, que foi morto entre o altar e o templo; assim, vos digo, será requerido des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doutores da lei, que tirastes a chave da ciência; vós mesmos não entrastes, e impedistes os que ent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-lhes ele isto, começaram os escribas e os fariseus a apertá-lo fortemente, e a fazê-lo falar acerca de muitas coi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mando-lhe ciladas, e procurando apanhar da sua boca alguma coisa para o acus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 um amigo meu chegou a minha casa, vindo de caminho, e não tenho que apresentar-lh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e, respondendo de dentro, disser: Não me importunes; já está a porta fechada, e os meus filhos estão comigo na cama; não posso levantar-me para tos d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vos que, ainda que não se levante a dar-lhos, por ser seu amigo, levantar-se-á, todavia, por causa da sua importunação, e lhe dará tudo o que houver mist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digo a vós: Pedi, e dar-se-vos-á; buscai, e achareis; batei, e abrir-se-vos-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12Z</dcterms:created>
  <dc:creator>Admin</dc:creator>
  <dc:description/>
  <dc:language>en-US</dc:language>
  <cp:lastModifiedBy>Admin</cp:lastModifiedBy>
  <dcterms:modified xsi:type="dcterms:W3CDTF">2008-07-31T00:11:12Z</dcterms:modified>
  <cp:revision>1</cp:revision>
  <dc:subject/>
  <dc:title>Slide 1</dc:title>
</cp:coreProperties>
</file>