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10C-7A14-4061-861B-B9EA229A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246-6A11-46B1-883D-19F3A9A6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BBC-CA67-4C92-ADBC-A9DE9B50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CF7-049B-41FB-9A91-51AB7D24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F0D-9B88-4088-8331-8DB4A74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0C5-61E2-4DD2-90FD-C91380C1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8B1-6B82-43AA-AA02-3A5CFC1D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37A-2C06-4098-9267-34F3177E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BCD-79CD-4620-A207-FB007EC5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956-8144-4696-88C5-6C5A5957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36A-8D78-45D3-981A-E20A902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73D-5803-4CB6-935D-76C75074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D723-2D98-4483-8523-F1AAC37E00F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palavra do SENHOR a Jeremias, segunda vez, estando ele ainda encarcerado no pátio da guard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Neste lugar de que vós dizeis que está desolado, e sem homem, sem animal nas cidades de Judá, e nas ruas de Jerusalém, que estão assoladas, sem homem, sem morador, sem animal, ainda se ouvirá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e gozo, e a voz de alegria, a voz do esposo e a voz da esposa, e a voz dos que dizem: Louvai ao SENHOR dos Exércitos, porque bom é o SENHOR, porque a sua benignidade dura para sempre; dos que trazem ofertas de ação de graças à casa do SENHOR; po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Ainda neste lugar, que está deserto, sem homem nem animal, e em todas as suas cidades, haverá uma morada de pastores, que façam repousar aos seus reb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cidades das montanhas, nas cidades das planícies, e nas cidades do sul, e na terra de Benjamim, e nos contornos de Jerusalém, e nas cidades de Judá, ainda passarão os rebanhos pelas mãos dos contadore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êm dias, diz o SENHOR, em que cumprirei a boa palavra que falei à casa de Israel e à casa de Jud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e naquele tempo farei brotar a Davi um Renovo de justiça, e ele fará juízo e justiça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Judá será salvo e Jerusalém habitará seguramente; e este é o nome com o qual Deus a chamará: O SENHOR é a noss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Nunca faltará a Davi homem que se assente sobre o trono da casa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aos sacerdotes levíticos faltará homem diante de mim, que ofereça holocausto, queime oferta de alimentos e faça sacrifício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palavra do SENHOR a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que faz isto, o SENHOR que forma isto, para o estabelecer; o SENHOR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Se puderdes invalidar a minha aliança com o dia, e a minha aliança com a noite, de tal modo que não haja dia e noite a seu temp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e poderá invalidar a minha aliança com Davi, meu servo, para que não tenha filho que reine no seu trono; como também com os levitas, sacerdotes, meus minis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não se pode contar o exército dos céus, nem medir-se a areia do mar, assim multiplicarei a descendência de Davi, meu servo, e os levitas que ministram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inda a palavra do SENHOR a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tens visto o que este povo está dizendo: As duas gerações, que o SENHOR escolheu, agora as rejeitou? Assim desprezam o meu povo, como se não fora mais uma nação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Se a minha aliança com o dia e com a noite não permanecer, e eu não puser as ordenanças dos céus e d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rejeitarei a descendência de Jacó, e de Davi, meu servo, para que não tome da sua descendência os que dominem sobre a descendência de Abraão, Isaque, e Jacó; porque removerei o seu cativeiro, e apiedar-me-ei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 a mim, e responder-te-ei, e anunciar-te-ei coisas grandes e firmes que não sab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, o Deus de Israel, acerca das casas desta cidade, e das casas dos reis de Judá, que foram derrubadas com os aríetes e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entraram a pelejar contra os caldeus, mas isso é para os encher de cadáveres de homens, que feri na minha ira e no meu furor; porquanto escondi o meu rosto desta cidade, por causa de toda a sua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trarei a ela saúde e cura, e os sararei, e lhes manifestarei abundância de paz e de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moverei o cativeiro de Judá e o cativeiro de Israel, e os edificarei como ao princí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urificarei de toda a sua maldade com que pecaram contra mim; e perdoarei todas as suas maldades, com que pecaram e transgrediram contra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lugar me servirá de nome, de gozo, de louvor, e de glória, entre todas as nações da terra, que ouvirem todo o bem que eu lhe faço; e espantar-se-ão e perturbar-se-ão por causa de todo o bem, e por causa de toda a paz que eu lhe 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08Z</dcterms:created>
  <dc:creator>Admin</dc:creator>
  <dc:description/>
  <dc:language>en-US</dc:language>
  <cp:lastModifiedBy>Admin</cp:lastModifiedBy>
  <dcterms:modified xsi:type="dcterms:W3CDTF">2008-07-30T23:59:08Z</dcterms:modified>
  <cp:revision>1</cp:revision>
  <dc:subject/>
  <dc:title>Slide 1</dc:title>
</cp:coreProperties>
</file>