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916-9433-482C-BB2E-ED7C27CD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8CB-2429-43F3-83F5-16FC92F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ADF-DF5A-4B1D-B609-256C08A3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612-E6F5-4279-BFF9-A1082BE9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2D1-345B-4D61-B357-93FBF020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8E4-AC71-4D3A-95C0-C7F0ED0E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D30-408B-4AC0-A04D-822A63C4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573-7722-4BA5-A09C-39AC4721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B75-CA5E-448E-8B14-2B804445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953-A2B2-4043-B90B-3EFA373B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F8D-0536-42A4-95C9-ED0C562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FAC-9B48-4399-8A29-5C70491C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24ED-7EA9-416D-B621-6AEA570F938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 coroa de soberba dos bêbados de Efraim, cujo glorioso ornamento é como a flor que cai, que está sobre a cabeça do fértil vale dos vencidos do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mandamento sobre mandamento, mandamento sobre mandamento, regra sobre regra, regra sobre regra, um pouco aqui, um pouco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or lábios gaguejantes, e por outra língua, falará a est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al disse: Este é o descanso, dai descanso ao cansado; e este é o refrigério; porém não quiseram ou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a palavra do SENHOR lhes será mandamento sobre mandamento, mandamento sobre mandamento, regra sobre regra, regra sobre regra, um pouco aqui, um pouco ali; para que vão, e caiam para trás, e se quebrantem e se enlacem, e sejam pre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pois, a palavra do SENHOR, homens escarnecedores, que dominais este povo que está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dizeis: Fizemos aliança com a morte, e com o inferno fizemos acordo; quando passar o dilúvio do açoite, não chegará a nós, porque pusemos a mentira por nosso refúgio, e debaixo da falsidade nos escond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Eis que eu assentei em Sião uma pedra, uma pedra já provada, pedra preciosa de esquina, que está bem firme e fundada; aquele que crer não se apr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grarei o juízo pela linha, e a justiça pelo prumo, e a saraiva varrerá o refúgio da mentira, e as águas cobrirão o esconderi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vossa aliança com a morte se anulará; e o vosso acordo com o inferno não subsistirá; e, quando o dilúvio do açoite passar, então sereis por ele pis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que comece a passar, vos arrebatará, porque manhã após manhã passará, de dia e de noite; e será que somente o ouvir tal notícia causará grande tur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Senhor tem um forte e poderoso; como tempestade de saraiva, tormenta destruidora, e como tempestade de impetuosas águas que transbordam, ele, com a mão, derrubará por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cama será tão curta que ninguém se poderá estender nela; e o cobertor tão estreito que ninguém se poderá cobri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se levantará como no monte Perazim, e se irará, como no vale de Gibeão, para fazer a sua obra, a sua estranha obra, e para executar o seu ato, o seu estranho a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não mais escarneçais, para que vossos grilhões não se façam mais fortes; porque já ao Senhor DEUS dos Exércitos ouvi falar de uma destruição, e essa já está determinada sobr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i os ouvidos, e ouvi a minha voz; atendei bem e ouvi o meu discur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lavra todo o dia o lavrador, para semear? Ou abre e desterroa todo o dia a su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antes assim: quando já tem nivelado a sua superfície, então espalha nela ervilhaca, e semeia cominho; ou lança nela do melhor trigo, ou cevada escolhida, ou centeio, cada qual no seu lug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Deus o ensina, e o instrui acerca do que há d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ervilhaca não se trilha com trilho, nem sobre o cominho passa roda de carro; mas com uma vara se sacode a ervilhaca, e o cominho com um pa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rigo é esmiuçado, mas não se trilha continuamente, nem se esmiúça com as rodas do seu carro, nem se quebra com os seus cava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isto procede do SENHOR dos Exércitos; porque é maravilhoso em conselho e grande em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oroa de soberba dos bêbados de Efraim será pisada a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lor caída do seu glorioso ornamento, que está sobre a cabeça do fértil vale, será como o fruto temporão antes do verão, que, vendo-o alguém, e tendo-o ainda na mão, o engo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o SENHOR dos Exércitos será por coroa gloriosa, e por diadema formosa, para os restantes de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espírito de juízo, para o que se assenta a julgar, e por fortaleza para os que fazem recuar a peleja até à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ambém estes erram por causa do vinho, e com a bebida forte se desencaminham; até o sacerdote e o profeta erram por causa da bebida forte; são absorvidos pelo vinho; desencaminham-se por causa da bebida forte; andam errados na visão e tropeçam no ju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s as suas mesas estão cheias de vômitos e imundícia, e não há lugar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, pois, se ensinaria o conhecimento? E a quem se daria a entender doutrina? Ao desmamado do leite, e ao arrancado dos se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32Z</dcterms:created>
  <dc:creator>Admin</dc:creator>
  <dc:description/>
  <dc:language>en-US</dc:language>
  <cp:lastModifiedBy>Admin</cp:lastModifiedBy>
  <dcterms:modified xsi:type="dcterms:W3CDTF">2008-07-30T23:55:32Z</dcterms:modified>
  <cp:revision>1</cp:revision>
  <dc:subject/>
  <dc:title>Slide 1</dc:title>
</cp:coreProperties>
</file>