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05E-29CA-48AF-846C-ED50E03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55C-8858-4684-9509-2C95822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7DC-F895-480D-BB11-1E015ACE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BBC-502A-4B69-B5F3-48346427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A2D-260D-4495-A86F-FC0F229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759-75E3-48EB-947F-03B5C5B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4D9-29D9-4914-94FF-FC1C15A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6EB-A413-4324-B9B3-6EDFB18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9D9-9526-4D8E-BE3A-92FA13E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17A-6AC8-444F-B6EF-39883BC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11E-0EFD-499D-B70A-0E3A63D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3B7-A60A-49DD-ABF8-CA2AEF3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5216-F2B7-49CC-A7A4-D18D7AB163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 a congregação levantou a sua voz; e o povo chorou naquel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a a congregação disse que os apedrejassem; porém a glória do SENHOR apareceu na tenda da congregação a todos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Até quando me provocará este povo? e até quando não crerá em mim, apesar de todos os sinais que fiz no meio d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pestilência o ferirei, e o rejeitarei; e te farei a ti povo maior e mais forte do que 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o SENHOR: Assim os egípcios o ouvirão; porquanto com a tua força fizeste subir este povo d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ão aos moradores desta terra, os quais ouviram que tu, ó SENHOR, estás no meio deste povo, que face a face, ó SENHOR, lhes apareces, que tua nuvem está sobre ele e que vais adiante dele numa coluna de nuvem de dia, e numa coluna de fogo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matares este povo como a um só homem, então as nações, que antes ouviram a tua fama, fal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SENHOR não podia pôr este povo na terra que lhe tinha jurado; por isso os matou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rogo-te que a força do meu Senhor se engrandeça; como tens falad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longânimo, e grande em misericórdia, que perdoa a iniqüidade e a transgressão, que o culpado não tem por inocente, e visita a iniqüidade dos pais sobre os filhos até à terceira e quar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doa, pois, a iniqüidade deste povo, segundo a grandeza da tua misericórdia; e como também perdoaste a este povo desde a terra do Egito até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filhos de Israel murmuraram contra Moisés e contra Arão; e toda a congregação lhes disse: Quem dera tivéssemos morrido na terra do Egito! ou, mesmo neste desert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Conforme à tua palavra lhe perdo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tão certamente como eu vivo, e como a glória do SENHOR encherá toda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todos os homens que viram a minha glória e os meus sinais, que fiz no Egito e no deserto, e me tentaram estas dez vezes, e não obedeceram à minh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erão a terra de que a seus pais jurei, e nenhum daqueles que me provocaram a 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meu servo Calebe, porquanto nele houve outro espírito, e perseverou em seguir-me, eu o levarei à terra em que entrou, e a sua descendência a possuirá em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amalequitas e os cananeus habitam no vale; tornai-vos amanhã e caminhai para o deserto pelo caminho d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alou o SENHOR a Moisés e a Arão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 sofrerei esta má congregação, que murmura contra mim? Tenho ouvido as murmurações dos filhos de Israel, com que murmur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lhes: Vivo eu, diz o SENHOR, que, como falastes aos meus ouvidos, assim farei a vó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te deserto cairão os vossos cadáveres, como também todos os que de vós foram contados segundo toda a vossa conta, de vinte anos para cima, os que dentre vós contra mim murmuras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o SENHOR nos traz a esta terra, para cairmos à espada, e para que nossas mulheres e nossas crianças sejam por presa? Não nos seria melhor voltarmos ao Eg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trareis na terra, pela qual levantei a minha mão que vos faria habitar nela, salvo Calebe, filho de Jefoné, e Josué, filho de N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vossos filhos, de que dizeis: Por presa serão, porei nela; e eles conhecerão a terra que vós desprez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nto a vós, os vossos cadáveres cairão neste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ssos filhos pastorearão neste deserto quarenta anos, e levarão sobre si as vossas infidelidades, até que os vossos cadáveres se consumam neste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o número dos dias em que espiastes esta terra, quarenta dias, cada dia representando um ano, levareis sobre vós as vossas iniqüidades quarenta anos, e conhecereis o meu afast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o SENHOR, falei; assim farei a toda esta má congregação, que se levantou contra mim; neste deserto se consumirão, e aí falec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que Moisés mandara a espiar a terra, e que, voltando, fizeram murmurar toda a congregação contra ele, infamando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mesmos homens que infamaram a terra, morreram de praga perant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osué, filho de Num, e Calebe, filho de Jefoné, que eram dos homens que foram espiar a terra, ficaram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Moisés estas palavras a todos os filhos de Israel; então o povo se contristou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uns aos outros: Constituamos um líder, e voltemos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pela manhã de madrugada, e subiram ao cume do monte, dizendo: Eis-nos aqui, e subiremos ao lugar que o SENHOR tem falado; porquanto havemos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Moisés disse: Por que transgredis o mandado do SENHOR? Pois isso não prospe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ubais, pois o SENHOR não estará no meio de vós, para que não sejais feridos diante dos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amalequitas e os cananeus estão ali diante da vossa face, e caireis à espada; pois, porquanto vos desviastes do SENHOR, o SENHOR não estará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, temerariamente, tentaram subir ao cume do monte; mas a arca da aliança do SENHOR e Moisés não se apartaram do meio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ram os amalequitas e os cananeus, que habitavam na montanha, e os feriram, derrotando-os até Hor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e Arão caíram sobre os seus rostos perante toda a congregaçã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filho de Num, e Calebe filho de Jefoné, dos que espiaram a terra, rasgaram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 a toda a congregação dos filhos de Israel, dizendo: A terra pela qual passamos a espiar é terra muito b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ENHOR se agradar de nós, então nos porá nesta terra, e no-la dará; terra que mana leite e m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ão-somente não sejais rebeldes contra o SENHOR, e não temais o povo dessa terra, porquanto são eles nosso pão; retirou-se deles o seu amparo, e o SENHOR é conosco; não os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46Z</dcterms:created>
  <dc:creator>Admin</dc:creator>
  <dc:description/>
  <dc:language>en-US</dc:language>
  <cp:lastModifiedBy>Admin</cp:lastModifiedBy>
  <dcterms:modified xsi:type="dcterms:W3CDTF">2008-07-31T00:18:46Z</dcterms:modified>
  <cp:revision>1</cp:revision>
  <dc:subject/>
  <dc:title>Slide 1</dc:title>
</cp:coreProperties>
</file>