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5169-E5F5-46BD-8156-66FCB0BD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662C-31D2-4DE7-B817-DC01FFD6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70CA-DD69-4201-9D71-D5F3185B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136E-C749-408A-990C-69CE7BA2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CAEF-A8FB-4044-ADF5-F01BEAB1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B21-271A-42E3-8CFF-3855C248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941-C431-4F22-B7BF-C472471B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C459-2775-4D1D-B1E2-02E15CDF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22DD-4E77-4C06-8959-E167209A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3273-D9BE-4DBF-8B85-ED230A66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EC2B-330C-41A1-BD98-4AE2D1FA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B52-634E-4A8D-B2D1-82527E0B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A173-B866-45D4-816A-A3734DB612F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ós mesmos, irmãos, bem sabeis que a nossa entrada para convosco não foi vã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e Deus sois testemunhas de quão santa, e justa, e irrepreensivelmente nos houvemos para convosco, os que cr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como bem sabeis de que modo vos exortávamos e consolávamos, a cada um de vós, como o pai a seus filh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vos conduzísseis dignamente para com Deus, que vos chama para o seu reino e gló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ambém damos, sem cessar, graças a Deus, pois, havendo recebido de nós a palavra da pregação de Deus, a recebestes, não como palavra de homens, mas (segundo é, na verdade), como palavra de Deus, a qual também opera em vós, os que cres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vós, irmãos, haveis sido feitos imitadores das igrejas de Deus que na Judéia estão em Jesus Cristo; porquanto também padecestes de vossos próprios concidadãos o mesmo que os judeus lhes fizeram a el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ais também mataram o SENHOR Jesus e os seus próprios profetas, e nos têm perseguido; e não agradam a Deus, e são contrários a todos os homen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s impedem de pregar aos gentios as palavras da salvação, a fim de encherem sempre a medida de seus pecados; mas a ira de Deus caiu sobre eles até ao f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ós, porém, irmãos, sendo privados de vós por um momento de tempo, de vista, mas não do coração, tanto mais procuramos com grande desejo ver o vosso rost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bem quisemos uma e outra vez ir ter convosco, pelo menos eu, Paulo, mas Satanás no-lo impedi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qual é a nossa esperança, ou gozo, ou coroa de glória? Porventura não o sois vós também diante de nosso Senhor Jesus Cristo em sua vin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mesmo depois de termos antes padecido, e sido agravados em Filipos, como sabeis, tornamo-nos ousados em nosso Deus, para vos falar o evangelho de Deus com grande comb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 verdade vós sois a nossa glória e goz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 nossa exortação não foi com engano, nem com imundícia, nem com fraudulênci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, como fomos aprovados de Deus para que o evangelho nos fosse confiado, assim falamos, não como para agradar aos homens, mas a Deus, que prova os nossos coraçõ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como bem sabeis, nunca usamos de palavras lisonjeiras, nem houve um pretexto de avareza; Deus é testemunh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buscamos glória dos homens, nem de vós, nem de outros, ainda que podíamos, como apóstolos de Cristo, ser-vos pesad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fomos brandos entre vós, como a ama que cria seus fil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nós, sendo-vos tão afeiçoados, de boa vontade quiséramos comunicar-vos, não somente o evangelho de Deus, mas ainda as nossas próprias almas; porquanto nos éreis muito queri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bem vos lembrais, irmãos, do nosso trabalho e fadiga; pois, trabalhando noite e dia, para não sermos pesados a nenhum de vós, vos pregamos o evangelh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8:06Z</dcterms:created>
  <dc:creator>Admin</dc:creator>
  <dc:description/>
  <dc:language>en-US</dc:language>
  <cp:lastModifiedBy>Admin</cp:lastModifiedBy>
  <dcterms:modified xsi:type="dcterms:W3CDTF">2008-07-30T23:48:06Z</dcterms:modified>
  <cp:revision>1</cp:revision>
  <dc:subject/>
  <dc:title>Slide 1</dc:title>
</cp:coreProperties>
</file>