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F54-144A-40CA-8C73-34C22EA5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59D-07DA-4D2D-AE8F-EDD584DA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713-AE14-4EB0-8A34-89CCC42A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805-8B25-4169-8E31-57EADF57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8FB-E193-43C9-9C39-2D280914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7FE-E5B3-4250-BFC0-7A86037D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751-E419-4338-823C-7D44DECE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837-89BE-498B-9A0A-98B604E2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026-7588-48A0-8470-00B7C47F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3E6-0667-4F54-8250-706C7F8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CDB-E67A-442E-B90C-40925AD9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5A7-47E3-4308-BC32-6525752A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6FA6-2B5F-4D67-BE57-C85351CA293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locausto é de cada sábado, além do holocausto contínuo, e 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princípios dos vossos meses oferecereis, em holocausto ao SENHOR, dois novilhos e um carneiro, sete cordeiros de um ano, sem defe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ês décimas de flor de farinha misturada com azeite, em oferta de alimentos, para um novilho; e duas décimas de flor de farinha misturada com azeite, em oferta de alimentos, para um carn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décima de flor de farinha misturada com azeite em oferta de alimentos, para um cordeiro; holocausto é de cheiro suave,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uas libações serão a metade de um him de vinho para um novilho, e a terça parte de um him para um carneiro, e a quarta parte de um him para um cordeiro; este é o holocausto da lua nova de cada mês, segundo os meses do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um bode para expiação do pecado ao SENHOR, além do holocausto contínuo, com a sua libação se ofe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o mês primeiro, aos catorze dias do mês, é a pásco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quinze dias do mesmo mês haverá festa; sete dias se comerão pães áz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dia haverá santa convocação; nenhum trabalho servil fa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ferecereis oferta queimada em holocausto ao SENHOR, dois novilhos e um carneiro, e sete cordeiros de um ano; eles serão sem de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 ordem aos filhos de Israel, e dize-lhes: Da minha oferta, do meu alimento para as minhas ofertas queimadas, do meu cheiro suave, tereis cuidado, para me oferecê-las ao seu tempo determ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oferta de alimentos será de flor de farinha misturada com azeite; oferecereis três décimas para um novilho, e duas décimas para um carn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cada um dos sete cordeiros oferecereis uma décim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ode para expiação do pecado, para fazer expiação por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coisas oferecereis, além do holocausto da manhã, que é o holocausto contín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este modo, cada dia oferecereis, por sete dias, o alimento da oferta queimada em cheiro suave ao SENHOR; além do holocausto contínuo se oferecerá isto com 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sétimo dia tereis santa convocação; nenhum trabalho servil f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, tereis santa convocação no dia das primícias, quando oferecerdes oferta nova de alimentos ao SENHOR, segundo as vossas semanas; nenhum trabalho servil f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ferecereis ao SENHOR por holocausto, em cheiro suave, dois novilhos, um carneiro e sete cordeiros de um a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oferta de alimentos de flor de farinha misturada com azeite: três décimas para um novilho, duas décimas para um carnei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décima, para cada um dos sete cordei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-lhes-ás: Esta é a oferta queimada que oferecereis ao SENHOR: dois cordeiros de um ano, sem defeito, cada dia, em contínuo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fazer expiação por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o holocausto contínuo, e a sua oferta de alimentos, os oferecereis (ser-vos-ão eles sem defeito) com as suas lib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cordeiro sacrificarás pela manhã, e o outro cordeiro sacrificarás à tar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décima parte de um efa de flor de farinha em oferta de alimentos, misturada com a quarta parte de um him de azeite ba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holocausto contínuo, instituído no monte Sinai, em cheiro suave, oferta queima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libação será a quarta parte de um him para um cordeiro; no santuário, oferecerás a libação de bebida fort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outro cordeiro sacrificarás à tarde, como a oferta de alimentos da manhã, e como a sua libação o oferecerás em oferta queimada de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no dia de sábado, oferecerás dois cordeiros de um ano, sem defeito, e duas décimas de flor de farinha, misturada com azeite, em oferta de alimentos, com 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47Z</dcterms:created>
  <dc:creator>Admin</dc:creator>
  <dc:description/>
  <dc:language>en-US</dc:language>
  <cp:lastModifiedBy>Admin</cp:lastModifiedBy>
  <dcterms:modified xsi:type="dcterms:W3CDTF">2008-07-31T00:19:47Z</dcterms:modified>
  <cp:revision>1</cp:revision>
  <dc:subject/>
  <dc:title>Slide 1</dc:title>
</cp:coreProperties>
</file>