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C33D-814E-4447-9E56-A6DF991A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A2A3-98BD-4ACB-89F9-9BE6E7D5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EB97-9F95-4DAC-9C80-AEBCA93C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D1B9-7410-48B8-B23F-7BB754AD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DB6F-A2FF-45F1-8EE0-F83671A2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A9C6-2248-40C2-80EB-37E5D964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CEC-92CC-42B3-B41D-E5F4D5FE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0EBD-C43F-4CA9-A2CC-8F12A21A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8337-8944-4FA1-8638-019DAEA5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8139-D621-4CB4-A990-6685DAA8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AAC3-7A51-4C0D-923D-C5266F1B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1710-27DA-4F6A-8D7B-2F2DF2F2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87AC-6718-43A1-96BE-F660C26978C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ubiu Moisés das campinas de Moabe ao monte Nebo, ao cume de Pisga, que está em frente a Jericó e o SENHOR mostrou-lhe toda a terra desde Gileade até Dã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unca mais se levantou em Israel profeta algum como Moisés, a quem o SENHOR conhecera face a fac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semelhante em todos os sinais e maravilhas, que o SENHOR o enviou para fazer na terra do Egito, a Faraó, e a todos os seus servos, e a toda a su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toda a mão forte, e em todo o grande espanto, que praticou Moisés aos olhos de todo o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Naftali, e a terra de Efraim, e Manassés e toda a terra de Judá, até ao mar ocidenta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ul, e a campina do vale de Jericó, a cidade das palmeiras, até Zo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o SENHOR: Esta é a terra que jurei a Abraão, Isaque, e Jacó, dizendo: À tua descendência a darei; eu te faço vê-la com os teus olhos, porém lá não pass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morreu ali Moisés, servo do SENHOR, na terra de Moabe, conforme a palavr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pultou num vale, na terra de Moabe, em frente de Bete-Peor; e ninguém soube até hoje o lugar da sua sepul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ra Moisés da idade de cento e vinte anos quando morreu; os seus olhos nunca se escureceram, nem perdeu o seu vig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Israel prantearam a Moisés trinta dias, nas campinas de Moabe; e os dias do pranto no luto de Moisés se cumpr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sué, filho de Num, foi cheio do espírito de sabedoria, porquanto Moisés tinha posto sobre ele as suas mãos; assim os filhos de Israel lhe deram ouvidos, e fizeram como o SENHOR ordenara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9:14Z</dcterms:created>
  <dc:creator>Admin</dc:creator>
  <dc:description/>
  <dc:language>en-US</dc:language>
  <cp:lastModifiedBy>Admin</cp:lastModifiedBy>
  <dcterms:modified xsi:type="dcterms:W3CDTF">2008-07-30T23:29:14Z</dcterms:modified>
  <cp:revision>1</cp:revision>
  <dc:subject/>
  <dc:title>Slide 1</dc:title>
</cp:coreProperties>
</file>