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1B8-2CA2-4AF6-8E4A-3C5B35AC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2E4-215B-4E96-95A0-6D958FC3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28B-C767-40B6-9D84-93444F6A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8AF-CE5A-423B-9553-5D1AB97C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9E1-23AC-4D85-8FB4-C6546AF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494-44DB-4298-A6AB-8206323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A22-2E2E-49A5-B60C-0A7CEDC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13E-C016-4ED8-AAAC-52805F0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CBE-ED3E-40A0-ACAB-04A61EA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7A8-937E-4862-94B0-2044EFC3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3AC-DFF5-4101-950D-D9174A95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1BA-5986-4330-8F57-670D265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1A0-013D-456B-AF97-30B3EA7D20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, irmãos (pois que falo aos que sabem a lei), que a lei tem domínio sobre o homem por todo o tempo que v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ndamento que era para vida, achei eu que me era par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ecado, tomando ocasião pelo mandamento, me enganou, e por ele me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a lei é santa, e o mandamento santo, justo e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tornou-se-me o bom em morte? De modo nenhum; mas o pecado, para que se mostrasse pecado, operou em mim a morte pelo bem; a fim de que pelo mandamento o pecado se fizesse excessivamente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sabemos que a lei é espiritual; mas eu sou carnal, vendido sob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faço não o aprovo; pois o que quero isso não faço, mas o que aborreço isso f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aço o que não quero, consinto com a lei, que é 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agora já não sou eu que faço isto, mas o pecado que habita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ei que em mim, isto é, na minha carne, não habita bem algum; e com efeito o querer está em mim, mas não consigo realiza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faço o bem que quero, mas o mal que não quero esse f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ulher que está sujeita ao marido, enquanto ele viver, está-lhe ligada pela lei; mas, morto o marido, está livre da lei d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eu faço o que não quero, já o não faço eu, mas o pecado que habita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o então esta lei em mim, que, quando quero fazer o bem, o mal está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gundo o homem interior, tenho prazer na lei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ejo nos meus membros outra lei, que batalha contra a lei do meu entendimento, e me prende debaixo da lei do pecado que está nos meus me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erável homem que eu sou! quem me livrará do corpo desta mor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u graças a Deus por Jesus Cristo nosso Senhor. Assim que eu mesmo com o entendimento sirvo à lei de Deus, mas com a carne à lei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vivendo o marido, será chamada adúltera se for de outro marido; mas, morto o marido, livre está da lei, e assim não será adúltera, se for de outr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meus irmãos, também vós estais mortos para a lei pelo corpo de Cristo, para que sejais de outro, daquele que ressuscitou dentre os mortos, a fim de que demos fruto pa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estávamos na carne, as paixões dos pecados, que são pela lei, operavam em nossos membros para darem fruto para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temos sido libertados da lei, tendo morrido para aquilo em que estávamos retidos; para que sirvamos em novidade de espírito, e não na velhice da le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 pois? É a lei pecado? De modo nenhum. Mas eu não conheci o pecado senão pela lei; porque eu não conheceria a concupiscência, se a lei não dissesse: Não cobiç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ecado, tomando ocasião pelo mandamento, operou em mim toda a concupiscência; porquanto sem a lei estava morto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nalgum tempo, vivia sem lei, mas, vindo o mandamento, reviveu o pecado, e eu mor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23Z</dcterms:created>
  <dc:creator>Admin</dc:creator>
  <dc:description/>
  <dc:language>en-US</dc:language>
  <cp:lastModifiedBy>Admin</cp:lastModifiedBy>
  <dcterms:modified xsi:type="dcterms:W3CDTF">2008-07-31T00:23:23Z</dcterms:modified>
  <cp:revision>1</cp:revision>
  <dc:subject/>
  <dc:title>Slide 1</dc:title>
</cp:coreProperties>
</file>