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56F-0A07-4CEB-B89D-7F0462EF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145-96B0-48B9-8F9A-BDEC06F5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4CE-EFB2-4738-919A-CCB4A02F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4CA-69DC-42AF-98B1-BB86F130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EA4-82E0-4E32-B0D5-04E89850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BC6-8222-46EC-A254-938A89A1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A6E-2AED-49C3-A776-548185BD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C9A-05BC-4E3C-B5E8-77265FEF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2C4-3B99-4348-AAFF-67E342A7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2E1-909B-49E8-A97A-9B88103C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25D-839C-478A-910B-E5916C3A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2A9-AFF8-46B8-B331-9FA7410F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4DA3-2CBA-4B01-8B8B-E82B4B52FB7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A mesma noite fugiu o sono do rei; então mandou trazer o livro de registro das crônicas, as quais se leram diante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 a Hamã: Apressa-te, toma a veste e o cavalo, como disseste, e faze assim para com o judeu Mardoqueu, que está assentado à porta do rei; e coisa nenhuma omitas de tudo quanto diss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mã tomou a veste e o cavalo, e vestiu a Mardoqueu, e o levou a cavalo pelas ruas da cidade, e apregoou diante dele: Assim se fará ao homem a quem o rei deseja honra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Mardoqueu voltou para a porta do rei; porém Hamã se retirou correndo à sua casa, triste, e de cabeça cobe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ou Hamã a Zeres, sua mulher, e a todos os seus amigos, tudo quanto lhe tinha sucedido. Então os seus sábios e Zeres, sua mulher, lhe disseram: Se Mardoqueu, diante de quem já começaste a cair, é da descendência dos judeus, não prevalecerás contra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ndo eles ainda falando com ele, chegaram os camareiros do rei, e se apressaram a levar Hamã ao banquete que Ester prepar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ou-se escrito que Mardoqueu tinha denunciado Bigtã e Teres, dois dos camareiros do rei, da guarda da porta, que tinham procurado lançar mão do rei Assue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: Que honra e distinção se deu por isso a Mardoqueu? E os servos do rei, que ministravam junto a ele, disseram: Coisa nenhuma se lhe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: Quem está no pátio? E Hamã tinha entrado no pátio exterior da casa do rei, para dizer ao rei que enforcassem a Mardoqueu na forca que lhe tinha prepa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rvos do rei lhe disseram: Eis que Hamã está no pátio. E disse o rei que entr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Hamã, o rei lhe disse: Que se fará ao homem de cuja honra o rei se agrada? Então Hamã disse no seu coração: De quem se agradaria o rei para lhe fazer honra mais do que a m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sse Hamã ao rei: Para o homem, de cuja honra o rei se agra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gam a veste real que o rei costuma vestir, como também o cavalo em que o rei costuma andar montado, e ponha-se-lhe a coroa real na su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gue-se a veste e o cavalo à mão de um dos príncipes mais nobres do rei, e vistam delas aquele homem a quem o rei deseja honrar; e levem-no a cavalo pelas ruas da cidade, e apregoe-se diante dele: Assim se fará ao homem a quem o rei deseja honra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55Z</dcterms:created>
  <dc:creator>Admin</dc:creator>
  <dc:description/>
  <dc:language>en-US</dc:language>
  <cp:lastModifiedBy>Admin</cp:lastModifiedBy>
  <dcterms:modified xsi:type="dcterms:W3CDTF">2008-07-30T23:30:55Z</dcterms:modified>
  <cp:revision>1</cp:revision>
  <dc:subject/>
  <dc:title>Slide 1</dc:title>
</cp:coreProperties>
</file>