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DA0-77C3-4FF2-994D-2E64AF33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132-0E10-446D-AC3A-E80E47B7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6157-21F8-4F21-8976-72995FCC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A4E-F645-4E11-91BA-59CBE8FA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272-C500-4B11-8D1A-39349850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122F-F32E-4031-BF45-AB1C4277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53E-EBC8-4145-9FC3-15AE2DDF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C53-6908-4D3F-890D-167066D4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292-8100-4A3B-89EE-A60C2D07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CCC-4AFC-4337-AF33-09E7B2D3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C22-2717-4390-8500-092B21D1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C68-C6DA-4ADE-9E52-98752954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DE51-4CE7-430D-A485-5448D3B2274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o SENHOR a Moisés e a Arã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bandeira do exército de Rúben, segundo os seus esquadrões, estará para o lado do sul; e Elizur, filho de Sedeur, será príncipe dos filhos de Rúben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exército, os que foram contados deles, era de quarenta e seis mil e quinh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o a ele armará as suas tendas a tribo de Simeão; e Selumiel, filho de Zurisadai, será príncipe dos filhos de Sime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exército, os que foram contados deles, era de cinqüenta e nove mil e trez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a tribo de Gade; e Eliasafe, filho de Deuel, será príncipe dos filhos de G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exército, os que foram contados deles, era de quarenta e cinco mil e seiscentos e cinqü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que foram contados no exército de Rúben foram cento e cinqüenta e um mil e quatrocentos e cinqüenta, segundo os seus esquadrões; e estes marcharão em segundo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artirá a tenda da congregação com o exército dos levitas no meio dos exércitos; como armaram as suas tendas, assim marcharão, cada um no seu lugar, segundo as suas band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bandeira do exército de Efraim segundo os seus esquadrões, estará para o lado do ocidente; e Elisama, filho de Amiúde, será príncipe dos filhos de Efr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exército, os que foram contados deles, era de quarenta mil e quinh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Israel armarão as suas tendas, cada um debaixo da sua bandeira, segundo as insígnias da casa de seus pais; ao redor, defronte da tenda da congregação, armarão as suas te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o a ele estará a tribo de Manassés; e Gamaliel, filho de Pedazur, será príncipe dos filhos de Manas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exército, os que foram contados deles, era de trinta e dois mil e duz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a tribo de Benjamim; e Abidã, filho de Gideoni, será príncipe dos filhos de Benjam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exército, os que foram contados deles, era de trinta e cinco mil e quatro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que foram contados no exército de Efraim foram cento e oito mil e cem, segundo os seus esquadrões; e estes marcharão em terceiro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bandeira do exército de Dã estará para o norte, segundo os seus esquadrões; e Aieser, filho de Amisadai, será príncipe dos filhos de D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exército, os que foram contados deles, era de sessenta e dois mil e sete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o a ele armará as suas tendas a tribo de Aser; e Pagiel, filho de Ocrã, será príncipe dos filhos de As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exército, os que foram contados deles, era de quarenta e um mil e quinh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a tribo de Naftali; e Aira, filho de Enã, será príncipe dos filhos de Naft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armarem as suas tendas do lado do oriente, para o nascente, serão os da bandeira do exército de Judá, segundo os seus esquadrões, e Naassom, filho de Aminadabe, será príncipe dos filhos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exército, os que foram contados deles, era de cinqüenta e três mil e quatro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que foram contados no exército de Dã foram cento e cinqüenta e sete mil e seiscentos; estes marcharão em último lugar, segundo as suas band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que foram contados dos filhos de Israel, segundo a casa de seus pais; todos os que foram contados dos exércitos pelos seus esquadrões foram seiscentos e três mil e quinhentos e cinqü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levitas não foram contados entre os filhos de Israel, como o SENHOR ordenara a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 fizeram conforme a tudo o que o SENHOR ordenara a Moisés; assim armaram o arraial segundo as suas bandeiras, e assim marcharam, cada qual segundo as suas gerações, segundo a casa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exército, os que foram contados deles, era de setenta e quatro mil e seis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o a ele armará as suas tendas a tribo de Issacar; e Natanael, filho de Zuar, será príncipe dos filhos de Issa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exército, os que foram contados deles, era de cinqüenta e quatro mil e quatro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a tribo de Zebulom; e Eliabe, filho de Helam, será príncipe dos filhos de Zebul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exército, os que foram contados deles, era de cinqüenta e sete mil e quatro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que foram contados do exército de Judá, cento e oitenta e seis mil e quatrocentos, segundo os seus esquadrões, estes marcharão prim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7:44Z</dcterms:created>
  <dc:creator>Admin</dc:creator>
  <dc:description/>
  <dc:language>en-US</dc:language>
  <cp:lastModifiedBy>Admin</cp:lastModifiedBy>
  <dcterms:modified xsi:type="dcterms:W3CDTF">2008-07-31T00:17:44Z</dcterms:modified>
  <cp:revision>1</cp:revision>
  <dc:subject/>
  <dc:title>Slide 1</dc:title>
</cp:coreProperties>
</file>