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320-7265-4673-BAB9-1BDCDE0D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474-DF94-41C9-B24F-20D4108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D45-80E8-4235-AC81-BAF87376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3B3-D7DF-4215-8197-9FEB0AED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FBA-B40D-42B2-8F1D-70903BDC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35D-B96F-4C8D-97B2-AA4FB9A0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D16-05E3-4536-B799-7C0C2CB6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C8F-80BD-4BB7-9397-5A57432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62D-A880-4FD5-9606-ECA1047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BDF-DCAA-4045-B326-67E971F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EAE-3CE4-4F40-A05F-AA281112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2FE-BF76-49C4-8B55-EBF18D6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0DF6-89F5-46A1-A7D9-37009FC6E0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fala o que convém à sã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fraudando, antes mostrando toda a boa lealdade, para que em tudo sejam ornamento da doutrina de Deus, nosso Salv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graça de Deus se há manifestado, trazendo salvação a todos o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sinando-nos que, renunciando à impiedade e às concupiscências mundanas, vivamos neste presente século sóbria, e justa, e piame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uardando a bem-aventurada esperança e o aparecimento da glória do grande Deus e nosso Salvador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se deu a si mesmo por nós para nos remir de toda a iniqüidade, e purificar para si um povo seu especial, zeloso de bo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disto, e exorta e repreende com toda a autoridade. Ninguém te desprez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elhos, que sejam sóbrios, graves, prudentes, sãos na fé, no amor, e na paci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ulheres idosas, semelhantemente, que sejam sérias no seu viver, como convém a santas, não caluniadoras, não dadas a muito vinho, mestras no be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ensinem as mulheres novas a serem prudentes, a amarem seus maridos, a amarem seus filh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serem moderadas, castas, boas donas de casa, sujeitas a seus maridos, a fim de que a palavra de Deus não seja blasfem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orta semelhantemente os jovens a que sejam moder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udo te dá por exemplo de boas obras; na doutrina mostra incorrupção, gravidade, sinceri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inguagem sã e irrepreensível, para que o adversário se envergonhe, não tendo nenhum mal que dizer de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orta os servos a que se sujeitem a seus senhores, e em tudo agradem, não contradizen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16Z</dcterms:created>
  <dc:creator>Admin</dc:creator>
  <dc:description/>
  <dc:language>en-US</dc:language>
  <cp:lastModifiedBy>Admin</cp:lastModifiedBy>
  <dcterms:modified xsi:type="dcterms:W3CDTF">2008-07-31T00:29:16Z</dcterms:modified>
  <cp:revision>1</cp:revision>
  <dc:subject/>
  <dc:title>Slide 1</dc:title>
</cp:coreProperties>
</file>