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ABB2-4A9E-47B2-A45C-70941992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E84-21B6-42F8-A22D-5C98522B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2724-A97E-4F22-8370-958BFD9E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315-4005-4153-BBD5-96AB77A5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E0B5-270A-4C40-B0F1-B78AD438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ED7B-7E5D-46C5-A1EE-2DD6097C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100-E1A0-40D9-B5D4-8D2EFAD7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4BE-5F95-4B22-9922-B249968C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1618-6E8C-4AE2-9529-9B8011FE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DF9B-D310-49CD-B035-AAD702DD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F01F-08AE-4550-B81C-DCC49152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713-049A-48D8-B766-3319B865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1EB0-6AB4-4690-A6FD-D1E031C855B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se escureceu o ouro! Como se mudou o ouro puro e bom! Como estão espalhadas as pedras do santuário sobre cada ru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mãos das mulheres compassivas cozeram seus próprios filhos; serviram-lhes de alimento na destruição da filha do m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 o SENHOR cumprimento ao seu furor; derramou o ardor da sua ira, e acendeu fogo em Sião, que consumiu os seus fu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reram os reis da terra, nem todos os moradores do mundo, que entrasse o adversário e o inimigo pelas portas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i por causa dos pecados dos profetas, das maldades dos seus sacerdotes, que derramaram o sangue dos justos no meio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gueiam como cegos nas ruas, andam contaminados de sangue; de tal sorte que ninguém pode tocar nas suas roup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viai-vos, imundos! gritavam-lhes; desviai-vos, desviai-vos, não toqueis! quando fugiram e também andaram errantes, dizia-se entre os gentios: Nunca mais morarão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face indignada do SENHOR os espalhou, ele nunca mais tornará a olhar para eles; não respeitaram a pessoa dos sacerdotes, nem se compadeceram dos ve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nossos olhos desfaleciam, esperando o nosso vão socorro; olhávamos atentamente para uma nação que não nos podia liv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piaram os nossos passos, de maneira que não podíamos andar pelas nossas ruas; está chegado o nosso fim, estão cumpridos os nossos dias, porque é vindo o nosso 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nossos perseguidores foram mais ligeiros do que as águias dos céus; sobre os montes nos perseguiram, no deserto nos armaram cil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reciosos filhos de Sião, avaliados a puro ouro, como são agora reputados por vasos de barro, obra das mãos do oleir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fôlego das nossas narinas, o ungido do SENHOR, foi preso nas suas covas; dele dizíamos: Debaixo da sua sombra viveremos entre 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gozija-te e alegra-te, ó filha de Edom, que habitas na terra de Uz; o cálice passará também para ti; embebedar-te-ás, e te descobri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stigo da tua maldade está consumado, ó filha de Sião; ele nunca mais te levará para o cativeiro; ele visitará a tua maldade, ó filha de Edom, descobrirá os teu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os chacais abaixam o peito, dão de mamar aos seus filhos; mas a filha do meu povo tornou-se cruel como os avestruzes n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língua do que mama fica pegada pela sede ao seu paladar; os meninos pedem pão, e ninguém lho repa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comiam comidas finas agora desfalecem nas ruas; os que se criaram em carmesim abraçam montu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aior é a iniqüidade da filha do meu povo do que o pecado de Sodoma, a qual foi subvertida como num momento, sem que mãos lhe tocass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nobres eram mais puros do que a neve, mais brancos do que o leite, mais vermelhos de corpo do que os rubis, e mais polidos do que a saf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 escureceu-se o seu aspecto mais do que o negrume; não são conhecidos nas ruas; a sua pele se lhes pegou aos ossos, secou-se, tornou-se como um pa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ortos à espada foram mais ditosos do que os mortos à fome; porque estes morreram lentamente, por falta dos frutos dos camp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7:59Z</dcterms:created>
  <dc:creator>Admin</dc:creator>
  <dc:description/>
  <dc:language>en-US</dc:language>
  <cp:lastModifiedBy>Admin</cp:lastModifiedBy>
  <dcterms:modified xsi:type="dcterms:W3CDTF">2008-07-31T00:07:59Z</dcterms:modified>
  <cp:revision>1</cp:revision>
  <dc:subject/>
  <dc:title>Slide 1</dc:title>
</cp:coreProperties>
</file>