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520-2166-47E2-85CB-F6250820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D62-BF1A-4E16-B1FF-24235D1F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B6A-CA12-42C5-AAC4-77040120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3C0-EA24-425E-9881-BF7C5410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795-0EF9-4354-886F-9AB38D8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6DB-A50D-447F-A92D-A0AE8D09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E5E-7561-41FA-B15A-A2B98A3F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827-EC4C-4CC0-897C-33D7A15E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470-5685-4F0D-BA69-DC25BE8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F38-EEA0-4140-A192-993F007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85F-613E-4336-9521-9CD76C6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8E6-8717-417E-B88C-8116EE36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936-EFE7-41D4-990C-3FF484ACE21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ABERNÁCULO farás de dez cortinas de linho fino torcido, e azul, púrpura, e carmesim; com querubins as farás de obra esme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cinqüenta laçadas na borda de uma cortina, na extremidade, na juntura, e outras cinqüenta laçadas na borda da outra cortina, na segunda jun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cinqüenta colchetes de cobre, e colocarás os colchetes nas laçadas, e assim ajuntarás a tenda, para que seja 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rte que sobejar das cortinas da tenda, a saber, a metade da cortina que sobejar, penderá de sobra às costas d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côvado de um lado, e outro côvado do outro, que sobejará no comprimento das cortinas da tenda, penderá de sobra aos lados do tabernáculo de um e de outro lado, para cobri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à tenda uma coberta de peles de carneiro, tintas de vermelho, e outra coberta de peles de texugo em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as tábuas para o tabernáculo de madeira de acácia, que serão postas vertical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mprimento de uma tábua será de dez côvados, e a largura de cada tábua será de um côvado e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is encaixes terá cada tábua, travados um com o outro; assim farás com todas as tábuas d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as tábuas para o tabernáculo assim: vinte tábuas para o lado meridio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quarenta bases de prata debaixo das vinte tábuas; duas bases debaixo de uma tábua para os seus dois encaixes e duas bases debaixo de outra tábua para os seus dois encai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mprimento de uma cortina será de vinte e oito côvados, e a largura de uma cortina de quatro côvados; todas estas cortinas serão de uma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averá vinte tábuas ao outro lado do tabernáculo, para o lado nor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s suas quarenta bases de prata; duas bases debaixo de uma tábua, e duas bases debaixo de outra tábu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lado do tabernáculo para o ocidente farás seis táb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duas tábuas para os cantos do tabernáculo, de ambos os 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baixo se ajuntarão, e também em cima dele se ajuntarão numa argola. Assim se fará com as duas tábuas; ambas serão por tábuas para os dois c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ão as oito tábuas com as suas bases de prata, dezesseis bases; duas bases debaixo de uma tábua, e duas bases debaixo da outra táb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cinco travessas de madeira de acácia, para as tábuas de um lado do tabernácu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inco travessas para as tábuas do outro lado do tabernáculo; como também cinco travessas para as tábuas do outro lado do tabernáculo, de ambos os lados, para o oc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ravessa central estará no meio das tábuas, passando de uma extremidade até à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brirás de ouro as tábuas, e farás de ouro as suas argolas, para passar por elas as travessas; também as travessas as cobrirá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co cortinas se enlaçarão uma à outra; e as outras cinco cortinas se enlaçarão uma com 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evantarás o tabernáculo conforme ao modelo que te foi mostrado n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rás um véu de azul, e púrpura, e carmesim, e de linho fino torcido; com querubins de obra prima se 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locá-lo-ás sobre quatro colunas de madeira de acácia, cobertas de ouro; seus colchetes serão de ouro, sobre quatro base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ndurarás o véu debaixo dos colchetes, e porás a arca do testemunho ali dentro do véu; e este véu vos fará separação entre o santuário e o lugar santíssi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s a coberta do propiciatório sobre a arca do testemunho no lugar santíssi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esa porás fora do véu, e o candelabro defronte da mesa, ao lado do tabernáculo, para o sul; mas a mesa porás ao lado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para a porta da tenda, uma cortina de azul, e púrpura, e carmesim, e de linho fino torcido, de obra de bord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para esta cortina cinco colunas de madeira de acácia, e as cobrirás de ouro; seus colchetes serão de ouro, e far-lhe-ás de fundição cinco bases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laçadas de azul na orla de uma cortina, na extremidade, e na juntura; assim também farás na orla da extremidade da outra cortina, na segunda jun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qüenta laçadas farás numa cortina, e outras cinqüenta laçadas farás na extremidade da cortina que está na segunda juntura; as laçadas estarão presas uma com 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cinqüenta colchetes de ouro, e ajuntarás com estes colchetes as cortinas, uma com a outra, e será um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cortinas de pêlos de cabras para servirem de tenda sobre o tabernáculo; onze cortinas f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mprimento de uma cortina será de trinta côvados, e a largura da mesma cortina de quatro côvados; estas onze cortinas serão da mesma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arás cinco destas cortinas à parte, e as outras seis cortinas também à parte; e dobrarás a sexta cortina à frente d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38Z</dcterms:created>
  <dc:creator>Admin</dc:creator>
  <dc:description/>
  <dc:language>en-US</dc:language>
  <cp:lastModifiedBy>Admin</cp:lastModifiedBy>
  <dcterms:modified xsi:type="dcterms:W3CDTF">2008-07-30T23:32:38Z</dcterms:modified>
  <cp:revision>1</cp:revision>
  <dc:subject/>
  <dc:title>Slide 1</dc:title>
</cp:coreProperties>
</file>