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D87-6155-44E9-B0E7-F0629D2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CE0-C6BF-45E5-BD65-E63DBF07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768-F4CC-4478-A384-9373C2AE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07F-5102-4A7D-B4AC-9098B760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C4C-51F9-4135-AA27-3D38135F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0D7-030B-4BA5-95D3-79547D50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91F-9768-4804-99C1-7B336D77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13D-48C7-4AB7-BDBE-4F108DD4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E41-3998-43BF-AD85-B29365C1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A3C-E0FA-449E-88A8-020234C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B78-2C41-4792-9673-9EF6CB1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404-1956-4CEE-8E3D-B65042BD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94B-202A-4BA8-84AD-D871068210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oltando Saul de perseguir os filisteus, anunciaram-lhe, dizendo: Eis que Davi está no deserto de En-Ged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e dia os teus olhos viram, que o SENHOR hoje te pôs em minhas mãos nesta caverna, e alguns disseram que te matasse; porém a minha mão te poupou; porque disse: Não estenderei a minha mão contra o meu senhor, pois é o ungid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, pois, meu pai, vê aqui a orla do teu manto na minha mão; porque cortando-te eu a orla do manto, não te matei. Sabe, pois, e vê que não há na minha mão nem mal nem rebeldia alguma, e não pequei contra ti; porém tu andas à caça da minha vida, para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ue o SENHOR entre mim e ti, e vingue-me o SENHOR de ti; porém a minha mão não será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iz o provérbio dos antigos: Dos ímpios procede a impiedade; porém a minha mão não será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ós quem saiu o rei de Israel? A quem persegues? A um cão morto? A uma pulg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rém, será juiz, e julgará entre mim e ti, e verá, e advogará a minha causa, e me defenderá d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Davi de falar a Saul todas estas palavras, disse Saul: É esta a tua voz, meu filho Davi? Então Saul levantou a sua voz e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Davi: Mais justo és do que eu; pois tu me recompensaste com bem, e eu te recompensei co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mostraste hoje que procedeste bem para comigo, pois o SENHOR me tinha posto em tuas mãos, e tu não me mat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m há que, encontrando o seu inimigo, o deixaria ir por bom caminho? O SENHOR, pois, te pague com bem, por isso que hoje me fiz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Saul três mil homens, escolhidos dentre todo o Israel, e foi em busca de Davi e dos seus homens, até sobre os cumes das penhas das cabras monte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is que bem sei que certamente hás de reinar, e que o reino de Israel há de ser firme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gora jura-me pelo SENHOR que não desarraigarás a minha descendência depois de mim, nem desfarás o meu nome da casa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rou Davi a Saul. E foi Saul para a sua casa; porém Davi e os seus homens subiram ao lugar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uns currais de ovelhas no caminho, onde estava uma caverna; e entrou nela Saul, a cobrir seus pés; e Davi e os seus homens estavam nos fundos da cav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de Davi lhe disseram: Eis aqui o dia, do qual o SENHOR te diz: Eis que te dou o teu inimigo nas tuas mãos, e far-lhe-ás como te parecer bem aos teus olhos. E levantou-se Davi, e mansamente cortou a orla do manto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 depois o coração doeu a Davi, por ter cortado a orla do manto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seus homens: O SENHOR me guarde de que eu faça tal coisa ao meu senhor, ao ungido do SENHOR, estendendo eu a minha mão contra ele; pois é o ungid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stas palavras Davi conteve os seus homens, e não lhes permitiu que se levantassem contra Saul; e Saul se levantou da caverna, e prosseguiu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ambém Davi se levantou, e saiu da caverna, e gritou por detrás de Saul, dizendo: Rei, meu senhor! E, olhando Saul para trás, Davi se inclinou com o rosto em terra, e se prost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Saul: Por que dás tu ouvidos às palavras dos homens que dizem: Eis que Davi procura o teu m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41Z</dcterms:created>
  <dc:creator>Admin</dc:creator>
  <dc:description/>
  <dc:language>en-US</dc:language>
  <cp:lastModifiedBy>Admin</cp:lastModifiedBy>
  <dcterms:modified xsi:type="dcterms:W3CDTF">2008-07-30T23:47:41Z</dcterms:modified>
  <cp:revision>1</cp:revision>
  <dc:subject/>
  <dc:title>Slide 1</dc:title>
</cp:coreProperties>
</file>