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B4D-5F84-499C-919E-5911993A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A31-EEF3-4967-A7B0-54B10D95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31A-B0F3-440F-BB55-5E07DC1B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7A1-1DA6-45D6-BDED-3F731F96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1F8-31C3-437D-83A1-A22B59D2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811-3A95-4197-A96A-E27924D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CCC-0470-4A6E-9743-FC0CF625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396-5C3D-4C8A-ACC0-3D5FD0E3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F04-0A0A-4048-977D-71D9170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384-3BC2-4ECD-9FCA-71465A7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75A-9646-4158-BB85-90B963E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E2A-982C-4730-AA30-AD3E65C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CDB1-4861-482A-B165-1BD7788509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gripa disse a Paulo: É permitido que te defendas. Então Paulo, estendendo a mão em sua defesa, responde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também fiz em Jerusalém. E, havendo recebido autorização dos principais dos sacerdotes, encerrei muitos dos santos nas prisões; e quando os matavam eu dava o meu voto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astigando-os muitas vezes por todas as sinagogas, os obriguei a blasfemar. E, enfurecido demasiadamente contra eles, até nas cidades estranhas os perseg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 que, indo então a Damasco, com poder e comissão dos principais dos sacerdo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meio-dia, ó rei, vi no caminho uma luz do céu, que excedia o esplendor do sol, cuja claridade me envolveu a mim e aos que iam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aindo nós todos por terra, ouvi uma voz que me falava, e em língua hebraica dizia: Saulo, Saulo, por que me persegues? Dura coisa te é recalcitrar contra os aguilh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u: Quem és, Senhor? E ele respondeu: Eu sou Jesus, a quem tu persegu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levanta-te e põe-te sobre teus pés, porque te apareci por isto, para te pôr por ministro e testemunha tanto das coisas que tens visto como daquelas pelas quais te aparecerei ai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ndo-te deste povo, e dos gentios, a quem agora te env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lhes abrires os olhos, e das trevas os converteres à luz, e do poder de Satanás a Deus; a fim de que recebam a remissão de pecados, e herança entre os que são santificados pela fé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ó rei Agripa, não fui desobediente à visão celest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me por feliz, ó rei Agripa, de que perante ti me haja hoje de defender de todas as coisas de que sou acusado pelos ju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anunciei primeiramente aos que estão em Damasco e em Jerusalém, e por toda a terra da Judéia, e aos gentios, que se emendassem e se convertessem a Deus, fazendo obras dignas de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isto os judeus lançaram mão de mim no templo, e procuraram mat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lcançando socorro de Deus, ainda até ao dia de hoje permaneço dando testemunho tanto a pequenos como a grandes, não dizendo nada mais do que o que os profetas e Moisés disseram que devia acontec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, que o Cristo devia padecer, e sendo o primeiro da ressurreição dentre os mortos, devia anunciar a luz a este povo e a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ele isto em sua defesa, disse Festo em alta voz: Estás louco, Paulo; as muitas letras te fazem deli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: Não deliro, ó potentíssimo Festo; antes digo palavras de verdade e de um sã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, diante de quem falo com ousadia, sabe estas coisas, pois não creio que nada disto lhe é oculto; porque isto não se fez em qualquer c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ês tu nos profetas, ó rei Agripa? Bem sei que c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gripa a Paulo: Por pouco me queres persuadir a que me faça crist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Paulo: Prouvera a Deus que, ou por pouco ou por muito, não somente tu, mas também todos quantos hoje me estão ouvindo, se tornassem tais qual eu sou, exceto estas ca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mente sabendo eu que tens conhecimento de todos os costumes e questões que há entre os judeus; por isso te rogo que me ouças com pa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ele isto, levantou-se o rei, o presidente, e Berenice, e os que com eles estavam assen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artando-se dali falavam uns com os outros, dizendo: Este homem nada fez digno de morte ou de pr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ripa disse a Festo: Bem podia soltar-se este homem, se não houvera apelado para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 minha vida, desde a mocidade, como decorreu desde o princípio entre os da minha nação, em Jerusalém, todos os judeus a conhec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de mim desde o princípio (se o quiserem testificar), que, conforme a mais severa seita da nossa religião, vivi fari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pela esperança da promessa que por Deus foi feita a nossos pais estou aqui e sou jul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qual as nossas doze tribos esperam chegar, servindo a Deus continuamente, noite e dia. Por esta esperança, ó rei Agripa, eu sou acusado pel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ê? julga-se coisa incrível entre vós que Deus ressuscite os mor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tinha eu imaginado que contra o nome de Jesus Nazareno devia eu praticar muitos a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27Z</dcterms:created>
  <dc:creator>Admin</dc:creator>
  <dc:description/>
  <dc:language>en-US</dc:language>
  <cp:lastModifiedBy>Admin</cp:lastModifiedBy>
  <dcterms:modified xsi:type="dcterms:W3CDTF">2008-07-30T23:25:27Z</dcterms:modified>
  <cp:revision>1</cp:revision>
  <dc:subject/>
  <dc:title>Slide 1</dc:title>
</cp:coreProperties>
</file>