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A55-C5AB-4984-B3D8-EBCE67EF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3D-A6BF-4C69-AACD-0D0DC30F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AC2-F972-4F46-84F8-AF812E6F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0F5-A09A-43DB-B7AC-F50D5045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AAB-02FA-4273-86BE-5E8BD53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10B-5D99-4B7E-A6F2-6C60EAC1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D90-D071-4293-AC04-954BCD6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629-4D88-460A-BA9C-AFB8639B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E45-B616-4C1D-B830-3826027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5EA-9FD6-42B1-BEC1-2B1DF80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883-FB63-4879-A848-1C67AED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E73-2BAD-41DF-AE04-4C9A26F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BB9D-5D1D-466F-8DB7-1B9D2EF43ED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rém, são os que vieram a Davi, a Ziclague, estando ele ainda escondido, por causa de Saul, filho de Quis; e eram dos valentes que o ajudaram n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mana, o quarto; Jeremias, o qui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ai, o sexto; Eliel, o sét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anã, o oitavo; Elzabade, o no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remias, o décimo; Macbanai, o undéc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dos filhos de Gade, foram os capitães do exército; o menor tinha o encargo de cem homens e o maior de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passaram o Jordão no primeiro mês, quando ele transbordava por todas as suas ribanceiras, e fizeram fugir a todos os dos vales ao oriente e a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lguns dos filhos de Benjamim e de Judá vieram a Davi, ao lugar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lhes saiu ao encontro, e lhes falou, dizendo: Se vós vindes a mim pacificamente e para me ajudar, o meu coração se unirá convosco; porém, se é para me entregar aos meus inimigos, sem que haja deslealdade nas minhas mãos, o Deus de nossos pais o 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o espírito sobre Amasai, chefe de trinta, e disse: Nós somos teus, ó Davi, e contigo estamos, ó filho de Jessé! Paz, paz contigo, e paz com quem te ajuda, pois que teu Deus te ajuda. E Davi os recebeu, e os fez capitães das tro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Manassés alguns passaram para Davi, quando veio com os filisteus para a batalha contra Saul; todavia Davi não os ajudou, porque os príncipes dos filisteus, tendo feito conselho, o despediram, dizendo: À custa de nossas cabeças passará a Saul,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 armados de arco, e usavam tanto da mão direita como da esquerda em atirar pedras e em atirar flechas com o arco; eram dos irmãos de Saul, benja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 ele, pois, a Ziclague, passaram-se para ele, de Manassés, Adna, Jozabade, Jediael, Micael, Jozabade, Eliú, e Ziletai, capitães de milhares dos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ajudaram a Davi contra aquela tropa, porque todos eles eram heróis poderosos, e foram capitães no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quele tempo, dia após dia, vinham a Davi para o ajudar, até que se fez um grande exército, como o exérci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este é o número dos chefes armados para a peleja, que vieram a Davi em Hebrom, para transferir a ele o reino de Saul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udá, que traziam escudo e lança, seis mil e oitocentos, armados para a pelej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Simeão, homens poderosos para pelejar, sete mil e c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Levi, quatro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iada, que era o líder dos de Arão, e com ele três mil e sete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doque, sendo ainda jovem, homem poderoso, com vinte e dois capitães da família de s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enjamim, irmãos de Saul, três mil; porque até então havia ainda muitos deles que eram pela casa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ezer, o chefe, e Joás, filho de Semaa, o gibeatita, e Jeziel e Pelete, filhos de Azmavete; e Beraca, e Jeú, o anatot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Efraim, vinte mil e oitocentos homens poderosos, homens de nome nas casa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ia tribo de Manassés, dezoito mil, que foram apontados pelos seus nomes para virem fazer rei a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Issacar, duzentos de seus chefes, destros na ciência dos tempos, para saberem o que Israel devia fazer, e todos os seus irmãos seguiam suas ord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Zebulom, dos que podiam sair no exército, cinqüenta mil ordenados para a peleja com todas as armas de guerra; como também destros para ordenarem uma batalha, e não eram de coração d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aftali, mil capitães, e com eles trinta e sete mil com escudo e 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danitas, ordenados para a peleja, vinte e oito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Aser, dos que podiam sair no exército, para ordenarem a batalha, quarenta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outro lado do Jordão, dos rubenitas e gaditas, e da meia tribo de Manassés, com toda a sorte de instrumentos de guerra para pelejar, cento e vinte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homens de guerra, postos em ordem de batalha, vieram a Hebrom, com corações decididos, para constituírem a Davi rei sobre todo o Israel; e também todo o restante de Israel tinha o mesmo coração para constituir a Davi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iveram ali com Davi três dias, comendo e bebendo; porque seus irmãos lhes tinham preparado as prov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maías, o gibeonita, valente entre os trinta, líder deles; e Jeremias, e Jaaziel, e Joanã, e Jozabade, o gederat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seus vizinhos de mais perto, até Issacar, e Zebulom, e Naftali, trouxeram, sobre jumentos, e sobre camelos, e sobre mulos, e sobre bois, pão, provisões de farinha, pastas de figos e cachos de passas, e vinho, e azeite, e bois, gado miúdo em ab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uzai, e Jerimote, e Bealias, e Samarias, e Sefatias, o haruf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cana, Issias, Azarel, Joezer, e Jasobeão, os coraí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ela, e Zabadias, filhos de Jeroão de G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gaditas se desertaram para Davi, ao lugar forte no deserto, valentes, homens de guerra para pelejar, armados com escudo e lança; e seus rostos eram como rostos de leões, e ligeiros como corças sobre os mont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zer, o primeiro; Obadias, o segundo; Eliabe, o terc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07Z</dcterms:created>
  <dc:creator>Admin</dc:creator>
  <dc:description/>
  <dc:language>en-US</dc:language>
  <cp:lastModifiedBy>Admin</cp:lastModifiedBy>
  <dcterms:modified xsi:type="dcterms:W3CDTF">2008-07-30T23:43:07Z</dcterms:modified>
  <cp:revision>1</cp:revision>
  <dc:subject/>
  <dc:title>Slide 1</dc:title>
</cp:coreProperties>
</file>