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19A-67DC-476A-94C7-C39BF276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6B4-A740-4BFA-B98B-2D86D0CB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EE1-C180-4EA4-B15F-F464E380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389-7FFD-4AC9-87B4-3954153F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6DF-BFFD-41D9-8F79-E4B5A237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963-4319-47B7-8DAA-68DEAC76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1D7-4EA4-43FA-B7B8-1A05F72A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5F9-6FD7-42D1-BFC0-31119E01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4DF-D284-478D-8407-227A5357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267-B211-4C8C-A403-E069B26D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90C-8B2C-4A0F-9C84-BB4CA231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832-2A3C-43C6-A405-E6B442ED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A555-879A-426F-9E4C-BCE2B65EE6E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morte dos incircuncisos morrerás, por mão de estrangeiros, porque eu o falei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levanta uma lamentação sobre o rei de Tiro, e dize-lhe: Assim diz o Senhor DEUS: Tu eras o selo da medida, cheio de sabedoria e perfeito em formos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iveste no Éden, jardim de Deus; de toda a pedra preciosa era a tua cobertura: sardônia, topázio, diamante, turquesa, ônix, jaspe, safira, carbúnculo, esmeralda e ouro; em ti se faziam os teus tambores e os teus pífaros; no dia em que foste criado f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eras o querubim, ungido para cobrir, e te estabeleci; no monte santo de Deus estavas, no meio das pedras afogueadas anda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feito eras nos teus caminhos, desde o dia em que foste criado, até que se achou iniqüidade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multiplicação do teu comércio encheram o teu interior de violência, e pecaste; por isso te lancei, profanado, do monte de Deus, e te fiz perecer, ó querubim cobridor, do meio das pedras afogue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vou-se o teu coração por causa da tua formosura, corrompeste a tua sabedoria por causa do teu resplendor; por terra te lancei, diante dos reis te pus, para que olhem pa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multidão das tuas iniqüidades, pela injustiça do teu comércio profanaste os teus santuários; eu, pois, fiz sair do meio de ti um fogo, que te consumiu e te tornei em cinza sobre a terra, aos olhos de todos os que te vê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te conhecem entre os povos estão espantados de ti; em grande espanto te tornaste, e nunca mais subsist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dize ao príncipe de Tiro: Assim diz o Senhor DEUS: Porquanto o teu coração se elevou e disseste: Eu sou Deus, sobre a cadeira de Deus me assento no meio dos mares; e não passas de homem, e não és Deus, ainda que estimas o teu coração c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dirige o teu rosto contra Sidom, e profetiza contra e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: Assim diz o Senhor DEUS: Eis-me contra ti, ó Sidom, e serei glorificado no meio de ti; e saberão que eu sou o SENHOR, quando nela executar juízos e nela me santifi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nviarei contra ela a peste, e o sangue nas suas ruas, e os traspassados cairão no meio dela, estando a espada contra ela por todos os lados; e saberão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asa de Israel nunca mais terá espinho que a fira, nem espinho que cause dor, entre os que se acham ao redor deles e que os desprezam; e saberão que eu sou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Quando eu congregar a casa de Israel dentre os povos entre os quais estão espalhados, e eu me santificar entre eles, perante os olhos dos gentios, então habitarão na sua terra que dei a meu servo, a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arão nela seguros, e edificarão casas, e plantarão vinhas, e habitarão seguros, quando eu executar juízos contra todos os que estão ao seu redor e que os desprezam; e saberão que eu sou 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u és mais sábio que Daniel; e não há segredo algum que se possa esconder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tua sabedoria e pelo teu entendimento alcançaste para ti riquezas, e adquiriste ouro e prata nos teus teso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extensão da tua sabedoria no teu comércio aumentaste as tuas riquezas; e eleva-se o teu coração por causa das tuas riquez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DEUS: Porquanto estimas o teu coração, como se fora o coração de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is que eu trarei sobre ti estrangeiros, os mais terríveis dentre as nações, os quais desembainharão as suas espadas contra a formosura da tua sabedoria, e mancharão o teu resplen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te farão descer à cova e morrerás da morte dos traspassados no meio dos m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so dirás ainda diante daquele que te matar: Eu sou Deus? mas tu és homem, e não Deus, na mão do que te traspa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16Z</dcterms:created>
  <dc:creator>Admin</dc:creator>
  <dc:description/>
  <dc:language>en-US</dc:language>
  <cp:lastModifiedBy>Admin</cp:lastModifiedBy>
  <dcterms:modified xsi:type="dcterms:W3CDTF">2008-07-30T23:35:16Z</dcterms:modified>
  <cp:revision>1</cp:revision>
  <dc:subject/>
  <dc:title>Slide 1</dc:title>
</cp:coreProperties>
</file>