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233-0BD4-4F63-8815-F588F293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880-0359-49DE-9B6A-6393A48A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29C-F4D2-4B86-93BB-6C883F90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741-11C7-4AFD-85AB-CB5DAECB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85CC-6A5D-4900-ACFB-1D200589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BDA-FED3-4DEA-A30E-BCFD68D0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D28-9880-43A1-BC2F-BF5BAED9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096-970E-41A2-A7EB-2C64727F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65C-831B-4202-A51C-7D8E0D9D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1C6-A190-4310-8911-F0AC01E7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794-B2C4-4DAA-A304-A7C550E2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758-3BC6-482D-9FD6-6F3C7F76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627F-B838-433D-9083-07B82860655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-ME, ó Deus, porque em ti conf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não deixarás a minha alma no inferno, nem permitirás que o teu Santo veja corrup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-me-ás ver a vereda da vida; na tua presença há fartura de alegrias; à tua mão direita há delícias perpet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alma disse ao SENHOR: Tu és o meu Senhor, a minha bondade não chega à tua presenç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os santos que estão na terra, e aos ilustres em quem está todo o meu pr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dores se multiplicarão àqueles que fazem oferendas a outro deus; eu não oferecerei as suas libações de sangue, nem tomarei os seus nomes nos meus láb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a porção da minha herança e do meu cálice; tu sustentas a minha s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linhas caem-me em lugares deliciosos: sim, coube-me uma formos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uvarei ao SENHOR que me aconselhou; até os meus rins me ensinam de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 posto o SENHOR continuamente diante de mim; por isso que ele está à minha mão direita, nunca vacil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está alegre o meu coração e se regozija a minha glória; também a minha carne repousará seg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24Z</dcterms:created>
  <dc:creator>Admin</dc:creator>
  <dc:description/>
  <dc:language>en-US</dc:language>
  <cp:lastModifiedBy>Admin</cp:lastModifiedBy>
  <dcterms:modified xsi:type="dcterms:W3CDTF">2008-07-31T00:24:24Z</dcterms:modified>
  <cp:revision>1</cp:revision>
  <dc:subject/>
  <dc:title>Slide 1</dc:title>
</cp:coreProperties>
</file>