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B39-7023-4408-9494-E0D86A63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1C-0FBF-406D-A824-44433912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198-6777-4022-AE0A-B683E8BA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A6F-1284-4AD9-959B-7EF72265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E5D-AA25-43DD-BCC0-584D49E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FA7-A426-4866-9C89-EAB8C6AA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92E-D54D-4674-808A-50F510C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5DF-E11F-4780-980B-1F391F8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E7F-C28A-412D-B8A0-BF6562D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2F7-7324-4E57-98AA-C115AFB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898-98B7-45D6-A0C8-F656298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190-C81D-4D5A-95A4-9564025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CCD-E3D5-4CEA-83B6-D42C1FD9BCF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o nosso refúgio e fortaleza, socorro bem presente n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ietai-vos, e sabei que eu sou Deus; serei exaltado entre os gentios; serei exaltad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os Exércitos está conosco; o Deus de Jacó é o nosso refúgi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não temeremos, ainda que a terra se mude, e ainda que os montes se transportem para o meio dos m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as águas rujam e se perturbem, ainda que os montes se abalem pela sua bravez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um rio cujas correntes alegram a cidade de Deus, o santuário das moradas do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está no meio dela; não se abalará. Deus a ajudará, já ao romper 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gentios se embraveceram; os reinos se moveram; ele levantou a sua voz e a terra se derr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os Exércitos está conosco; o Deus de Jacó é o nosso refúgi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contemplai as obras do SENHOR; que desolações tem feito na t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faz cessar as guerras até ao fim da terra; quebra o arco e corta a lança; queima os carros n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25Z</dcterms:created>
  <dc:creator>Admin</dc:creator>
  <dc:description/>
  <dc:language>en-US</dc:language>
  <cp:lastModifiedBy>Admin</cp:lastModifiedBy>
  <dcterms:modified xsi:type="dcterms:W3CDTF">2008-07-31T00:25:25Z</dcterms:modified>
  <cp:revision>1</cp:revision>
  <dc:subject/>
  <dc:title>Slide 1</dc:title>
</cp:coreProperties>
</file>