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7C8-0603-4F8A-9792-BBF6A508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9E1-DE80-4046-9648-BF38FCC8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6E2-6A56-47BB-9D7E-1D7B4C05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A8F-E3F3-45D6-B8DB-619C4F9A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F96-1DB4-43E6-8572-C8803CF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598-B8F0-4608-9DCA-4AE991FF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6F3-D4C9-49C7-8050-BA52E8D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68A-A441-40AC-8982-30812A2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94B-F2CA-47D2-A893-A34D1E0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C81-1895-4B82-92C6-B5640DB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353-B7EA-4FC4-BBCB-A9001E85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8EA-FC1E-4EBB-B02F-03149AA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7BBF-9E79-4C4A-9E9C-6731225364A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endo decorrido um ano, no tempo em que os reis saem à guerra, enviou Davi a Joabe, e com ele os seus servos, e a todo o Israel; e eles destruíram os filhos de Amom, e cercaram a Rabá; porém Davi fic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saber isto a Davi, dizendo: Urias não desceu a sua casa. Então disse Davi a Urias: Não vens tu duma jornada? Por que não desceste à tu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Urias a Davi: A arca, e Israel, e Judá ficaram em tendas; e Joabe, meu senhor, e os servos de meu SENHOR estão acampados no campo; e hei de eu entrar na minha casa, para comer e beber, e para me deitar com minha mulher? Pela tua vida, e pel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Urias: Demora-te aqui ainda hoje, e amanhã te despedirei. Urias, pois, ficou em Jerusalém aquele dia e o segu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o convidou, e comeu e bebeu diante dele, e o embebedou; e à tarde saiu a deitar-se na sua cama com os servos de seu senhor; porém não desceu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pela manhã Davi escreveu uma carta a Joabe; e mandou-lha por mão de U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u na carta, dizendo: Ponde a Urias na frente da maior força da peleja; e retirai-vos de detrás dele, para que seja ferido 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u, pois, que, tendo Joabe observado bem a cidade, pôs a Urias no lugar onde sabia que havia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os homens da cidade, e pelejando com Joabe, caíram alguns do povo, dos servos de Davi; e morreu também Urias, o h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Joabe, e fez saber a Davi todo o sucesso daquel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ordem ao mensageiro, dizendo: Acabando tu de contar ao rei todo o sucesso desta pele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numa tarde Davi se levantou do seu leito, e andava passeando no terraço da casa real, e viu do terraço a uma mulher que se estava lavando; e era esta mulher mui formosa à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ndo que o rei se encolerize, e te diga: Por que vos chegastes tão perto da cidade a pelejar? Não sabíeis vós que haviam de atirar do mu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feriu a Abimeleque, filho de Jerubesete? Não lançou uma mulher sobre ele do muro um pedaço de uma mó corredora, de que morreu em Tebes? Por que vos chegastes ao muro? Então dirás: Também morreu teu servo Urias, o h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mensageiro, e entrou, e fez saber a Davi tudo o que Joabe o enviara a di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mensageiro a Davi: Na verdade que mais poderosos foram aqueles homens do que nós, e saíram a nós ao campo; porém nós fomos contra eles, até à entrada 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lecheiros atiraram contra os teus servos desde o alto do muro, e morreram alguns dos servos do rei; e também morreu o teu servo Urias, o h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o mensageiro: Assim dirás a Joabe: Não te pareça isto mal aos teus olhos; pois a espada tanto consome este como aquele; esforça a tua peleja contra a cidade, e a derrota; esforça-o tu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a mulher de Urias que seu marido era morto, lamentou a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do o luto, enviou Davi, e a recolheu em sua casa, e lhe foi por mulher, e deu-lhe à luz um filho. Porém esta coisa que Davi fez pareceu mal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Davi indagar quem era aquela mulher; e disseram: Porventura não é esta Bate-Seba, filha de Eliã, mulher de Urias, o het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Davi mensageiros, e mandou trazê-la; e ela veio, e ele se deitou com ela (pois já estava purificada da sua imundícia); então voltou ela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concebeu; e mandou dizer a Davi: Estou grá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mandou dizer a Joabe: Envia-me Urias o heteu. E Joabe enviou Urias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Urias a ele, perguntou Davi como passava Joabe, e como estava o povo, e como i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Davi a Urias: Desce à tua casa, e lava os teus pés. E, saindo Urias da casa real, logo lhe foi mandado um presente da me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rias se deitou à porta da casa real, com todos os servos do seu senhor; e não desceu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08Z</dcterms:created>
  <dc:creator>Admin</dc:creator>
  <dc:description/>
  <dc:language>en-US</dc:language>
  <cp:lastModifiedBy>Admin</cp:lastModifiedBy>
  <dcterms:modified xsi:type="dcterms:W3CDTF">2008-07-30T23:53:08Z</dcterms:modified>
  <cp:revision>1</cp:revision>
  <dc:subject/>
  <dc:title>Slide 1</dc:title>
</cp:coreProperties>
</file>