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D57-D2AC-4C7E-AB41-D19E2DA3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0D10-921A-464A-8190-738CED41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392-7E72-41C2-957E-B296174E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0C5-6332-443E-BCA3-3F8EC858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9CF-4FA3-48F8-A1BE-CE6695B9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8B15-71D8-4275-9F83-3DD0E557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7BC-47EF-4E17-87F2-849A9DBB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A9C-CDEB-4C3E-8C7C-A43F1F23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CE8-3C8A-470C-B92B-B5681E2C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2069-6ACF-4089-ACBA-433AB87B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728-3BF6-43D3-9E7A-C958196C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D7A9-492B-453A-B66A-DD9D247E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36AE-722D-4288-A1CC-10457A76D05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Moisés: Eis que te tenho posto por deus sobre Faraó, e Arão, teu irmão, será o teu prof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e Arão foram a Faraó, e fizeram assim como o SENHOR ordenara; e lançou Arão a sua vara diante de Faraó, e diante dos seus servos, e tornou-se em serp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aó também chamou os sábios e encantadores; e os magos do Egito fizeram também o mesmo com os seus encant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ada um lançou sua vara, e tornaram-se em serpentes; mas a vara de Arão tragou as vara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coração de Faraó se endureceu, e não os ouviu, como o SENHOR tinha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Moisés: O coração de Faraó está endurecido, recusa deixar ir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 pela manhã a Faraó; eis que ele sairá às águas; põe-te em frente dele na beira do rio, e tomarás em tua mão a vara que se tornou em c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he dirás: O SENHOR Deus dos hebreus me tem enviado a ti, dizendo: Deixa ir o meu povo, para que me sirva no deserto; porém eis que até agora não tens ouv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Nisto saberás que eu sou o SENHOR: Eis que eu com esta vara, que tenho em minha mão, ferirei as águas que estão no rio, e tornar-se-ão em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eixes, que estão no rio, morrerão, e o rio cheirará mal; e os egípcios terão nojo de beber da água do 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o SENHOR a Moisés: Dize a Arão: Toma tua vara, e estende a tua mão sobre as águas do Egito, sobre as suas correntes, sobre os seus rios, e sobre os seus tanques, e sobre todo o ajuntamento das suas águas, para que se tornem em sangue; e haja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falarás tudo o que eu te mandar; e Arão, teu irmão, falará a Faraó, que deixe ir os filhos de Israel d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e Arão fizeram assim como o SENHOR tinha mandado; e Arão levantou a vara, e feriu as águas que estavam no rio, diante dos olhos de Faraó, e diante dos olhos de seus servos; e todas as águas do rio se tornaram em sangu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eixes, que estavam no rio, morreram, e o rio cheirou mal, e os egípcios não podiam beber a água do rio; e houve sangue por toda 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magos do Egito também fizeram o mesmo com os seus encantamentos; de modo que o coração de Faraó se endureceu, e não os ouviu, como o SENHOR tinha d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rou-se Faraó, e foi para sua casa; nem ainda nisto pôs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egípcios cavaram poços junto ao rio, para beberem água; porquanto não podiam beber da água do 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 cumpriram sete dias, depois que o SENHOR ferira o 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rém, endurecerei o coração de Faraó, e multiplicarei na terra do Egito os meus sinais e as minhas marav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aó, pois, não vos ouvirá; e eu porei minha mão sobre o Egito, e tirarei meus exércitos, meu povo, os filhos de Israel, da terra do Egito, com grandes juíz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egípcios saberão que eu sou o SENHOR, quando estender a minha mão sobre o Egito, e tirar os filhos de Israel do mei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izeram Moisés e Arão; como o SENHOR lhes ordenara, assim fiz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era da idade de oitenta anos, e Arão da idade de oitenta e três anos quando falaram a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falou a Moisés e a Arã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Faraó vos falar, dizendo: Fazei vós um milagre, dirás a Arão: Toma a tua vara, e lança-a diante de Faraó; e se tornará em serp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1:25Z</dcterms:created>
  <dc:creator>Admin</dc:creator>
  <dc:description/>
  <dc:language>en-US</dc:language>
  <cp:lastModifiedBy>Admin</cp:lastModifiedBy>
  <dcterms:modified xsi:type="dcterms:W3CDTF">2008-07-30T23:31:25Z</dcterms:modified>
  <cp:revision>1</cp:revision>
  <dc:subject/>
  <dc:title>Slide 1</dc:title>
</cp:coreProperties>
</file>