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9EF-B453-4976-9C4B-0396ECCC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D42-71CE-492F-8C2C-F9E0AE85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C60-8D5A-4D60-A106-33B67686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F6C-6311-45E0-95D3-C801CFBF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17A-81B9-49A6-B301-3466B4FE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17F-C41F-43C9-BC47-4E8D0587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38A-3D44-45CB-9518-47B01F91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C94-8906-4B8D-8528-F4526ECC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DE5-0FE9-4D8F-BF05-F7B82BF9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C2B-6BB7-45A0-AA0B-2BAAE43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FF2-C918-40C1-BF6B-C84F692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699-4A13-42CE-90EA-885E7935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F2FD-E588-4E9F-BB38-6883B4D924A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AVRA do SENHOR, que foi dirigida a Joel, filho de Pet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po está assolado, e a terra triste; porque o trigo está destruído, o mosto se secou, o azeite acab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ergonhai-vos, lavradores, gemei, vinhateiros, sobre o trigo e a cevada; porque a colheita do campo per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de se secou, a figueira se murchou, a romeira também, e a palmeira e a macieira; todas as árvores do campo se secaram, e já não há alegria entre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ngi-vos e lamentai-vos, sacerdotes; gemei, ministros do altar; entrai e passai a noite vestidos de saco, ministros do meu Deus; porque a oferta de alimentos, e a libação, foram cortadas da casa de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ntificai um jejum, convocai uma assembléia solene, congregai os anciãos, e todos os moradores desta terra, na casa do SENHOR vosso Deus, e clama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 dia! Porque o dia do SENHOR está perto, e virá como uma assolação do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o mantimento não está cortado de diante de nossos olhos, a alegria e o regozijo da casa de nosso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ementes apodreceram debaixo dos seus torrões, os celeiros foram assolados, os armazéns derrubados, porque se secou o tr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geme o animal! As manadas de gados estão confusas, porque não têm pasto; também os rebanhos de ovelhas estão perece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ó SENHOR, clamo, porque o fogo consumiu os pastos do deserto, e a chama abrasou todas as árvores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isto, vós anciãos, e escutai, todos os moradores da terra: Porventura isto aconteceu em vossos dias, ou nos dias de vossos p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os os animais do campo bramam a ti; porque as correntes de água se secaram, e o fogo consumiu os pastos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i sobre isto uma narração a vossos filhos, e vossos filhos a seus filhos, e os filhos destes à outr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icou da lagarta, o gafanhoto o comeu, e o que ficou do gafanhoto, a locusta o comeu, e o que ficou da locusta, o pulgão o co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rtai-vos, bêbados, e chorai; gemei, todos os que bebeis vinho, por causa do mosto, porque tirado é da voss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biu contra a minha terra uma nação poderosa e sem número; os seus dentes são dentes de leão, e têm queixadas de um leão v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da minha vide uma assolação, e tirou a casca da minha figueira; despiu-a toda, e a lançou por terra; os seus sarmentos se embranque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menta como a virgem que está cingida de saco, pelo marido da su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el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 cortada a oferta de alimentos e a libação da casa do SENHOR; os sacerdotes, ministros do SENHOR, estão entristec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32Z</dcterms:created>
  <dc:creator>Admin</dc:creator>
  <dc:description/>
  <dc:language>en-US</dc:language>
  <cp:lastModifiedBy>Admin</cp:lastModifiedBy>
  <dcterms:modified xsi:type="dcterms:W3CDTF">2008-07-31T00:04:32Z</dcterms:modified>
  <cp:revision>1</cp:revision>
  <dc:subject/>
  <dc:title>Slide 1</dc:title>
</cp:coreProperties>
</file>