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3EF2-2F6D-4C6E-BD92-23DBAEF49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493F-0A90-4A1D-8F56-0B6857FE3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4295-2F9E-4314-9A94-6AF68C25F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224D-7D4E-40BD-A04D-4E74C9AB0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1881-82FD-40A8-B59D-BA834BA15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AAAB-20BF-45FF-9838-03D2FD1B0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C98C-45DD-49A8-9877-C59605EB6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2246-48B8-4CAE-B856-CB33F6028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8379-E74B-43B6-8177-5524A116C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93A5-0F49-43E2-AF63-A933D73D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CD28-F109-41B0-95D8-65B2012E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D654-8EEC-45E3-8A8C-25ACF013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58952-4ED6-40D0-A79B-16860A43586E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primeiro ano de Ciro, rei da Pérsia (para que se cumprisse a palavra do SENHOR, pela boca de Jeremias), despertou o SENHOR o espírito de Ciro, rei da Pérsia, o qual fez passar pregão por todo o seu reino, como também por escrito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rinta bacias de ouro, mais outras quatrocentas e dez bacias de prata, e mil outros utensíl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s os utensílios de ouro e de prata foram cinco mil e quatrocentos; todos estes levou Sesbazar, quando os do cativeiro subiram de Babilônia para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Ciro, rei da Pérsia: O SENHOR Deus dos céus me deu todos os reinos da terra, e me encarregou de lhe edificar uma casa em Jerusalém, que está em Jud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há entre vós, de todo o seu povo, seja seu Deus com ele, e suba a Jerusalém, que está em Judá, e edifique a casa do SENHOR Deus de Israel (ele é o Deus) que está em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o aquele que ficar atrás em algum lugar em que andar peregrinando, os homens do seu lugar o ajudarão com prata, com ouro, com bens, e com gados, além das dádivas voluntárias para a casa de Deus, que está em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e levantaram os chefes dos pais de Judá e Benjamim, e os sacerdotes e os levitas, com todos aqueles cujo espírito Deus despertou, para subirem a edificar a casa do SENHOR, que está em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os os que habitavam nos arredores lhes firmaram as mãos com vasos de prata, com ouro, com bens e com gado, e com coisas preciosas; além de tudo o que voluntariamente se d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o rei Ciro tirou os utensílios da casa do SENHOR, que Nabucodonosor tinha trazido de Jerusalém, e que tinha posto na casa de seus deus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s tirou Ciro, rei da Pérsia, pela mão de Mitredate, o tesoureiro, que os entregou contados a Sesbazar, príncipe de Jud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sdras 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e é o número deles: trinta travessas de ouro, mil travessas de prata, vinte e nove faca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0:06Z</dcterms:created>
  <dc:creator>Admin</dc:creator>
  <dc:description/>
  <dc:language>en-US</dc:language>
  <cp:lastModifiedBy>Admin</cp:lastModifiedBy>
  <dcterms:modified xsi:type="dcterms:W3CDTF">2008-07-30T23:30:06Z</dcterms:modified>
  <cp:revision>1</cp:revision>
  <dc:subject/>
  <dc:title>Slide 1</dc:title>
</cp:coreProperties>
</file>