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6A0-4C32-463E-B1D2-80DD0CE5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DD3-0535-4C9E-9C7C-0AFF9BC0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735-CF69-4EB4-873C-51215D37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698-D5B3-4053-8E5A-1C7FB86C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290-FEBC-4253-BE1F-BDAB71B6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F33-4579-4D4B-AF67-EB21C058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B1B-9F8D-413E-B0BD-4BC96305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23D-80B7-48F7-89AC-EAF8A1D0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36E-9D32-4529-9091-4380E73F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D51-EDEF-4281-9C76-13D27F80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7B0-CF29-4FC1-BF2F-16A83EE6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E7A-E709-483C-A59A-2CB8FC7A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A1A2-E319-4888-AA29-9A809CEE4F6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STO serias, ó SENHOR, ainda que eu entrasse contigo num pleito; contudo falarei contigo dos teus juízos. Por que prospera o caminho dos ímpios, e vivem em paz todos os que procedem aleivosam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 pastores destruíram a minha vinha, pisaram o meu campo; tornaram em desolado deserto o meu campo desej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desolação a puseram, e clama a mim na sua desolação; e toda a terra está desolada, porquanto não há ninguém que tome isso a s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todos os lugares altos do deserto vieram destruidores; porque a espada do SENHOR devora desde um extremo da terra até o outro; não há paz para nenhum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aram trigo, e segaram espinhos; cansaram-se, mas de nada se aproveitaram; envergonhados sereis das vossas colheitas, e por causa do ardor da i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acerca de todos os meus maus vizinhos, que tocam a minha herança, que fiz herdar ao meu povo Israel: Eis que os arrancarei da sua terra, e a casa de Judá arrancarei d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depois de os haver arrancado, tornarei, e me compadecerei deles, e os farei voltar cada um à sua herança, e cada um à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se diligentemente aprenderem os caminhos do meu povo, jurando pelo meu nome: Vive o SENHOR, como ensinaram o meu povo a jurar por Baal; então edificar-se-ão no meio d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não quiserem ouvir, totalmente arrancarei a tal nação, e a farei perecer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lantaste-os, e eles se arraigaram; crescem, dão também fruto; chegado estás à sua boca, porém longe dos seus r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ó SENHOR, me conheces, tu me vês, e provas o meu coração para contigo; arranca-os como as ovelhas para o matadouro, e dedica-os para o dia da mat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lamentará a terra, e se secará a erva de todo o campo? Pela maldade dos que habitam nela, perecem os animais e as aves; porquanto dizem: Ele não verá o noss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e fatigas correndo com homens que vão a pé, como poderás competir com os cavalos? Se tão-somente numa terra de paz estás confiado, como farás na enchente do Jord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té os teus irmãos, e a casa de teu pai, eles próprios procedem deslealmente contigo; eles mesmos clamam após ti em altas vozes: Não te fies neles, ainda que te digam coisas bo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amparei a minha casa, abandonei a minha herança; entreguei a amada da minha alma na mão de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ou-se a minha herança para mim como leão numa floresta; levantou a sua voz contra mim, por isso eu a odi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herança é para mim ave de rapina de várias cores. Andam as aves de rapina contra ela em redor. Vinde, pois, ajuntai todos os animais do campo, trazei-os para a devor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56Z</dcterms:created>
  <dc:creator>Admin</dc:creator>
  <dc:description/>
  <dc:language>en-US</dc:language>
  <cp:lastModifiedBy>Admin</cp:lastModifiedBy>
  <dcterms:modified xsi:type="dcterms:W3CDTF">2008-07-30T23:57:56Z</dcterms:modified>
  <cp:revision>1</cp:revision>
  <dc:subject/>
  <dc:title>Slide 1</dc:title>
</cp:coreProperties>
</file>