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301B-8D04-4C95-BB07-8160F6C11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C38D-AF8D-48C5-9BD0-3095373F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7330-BF92-4022-8CB6-7938194F3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D5AA-4CEC-486D-8A55-220DF8E3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1199-5A14-426E-9A29-06F0B89D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F88B-943C-43DB-8E65-4C261981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9FF9-FB35-400A-8AFE-BB1E53C5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8B52-0A28-48B1-8148-ADDBB9A3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AB50-D94D-49D5-899B-96CD0D5B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D208-5341-409D-A15B-085C5C32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1307-5E31-45C7-8564-AB294DEA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BE5A-A8F2-438A-90C6-F1524EFA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9392-B3BE-45F9-B21A-D8BFE083F7D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que, sobrevindo-te todas estas coisas, a bênção ou a maldição, que tenho posto diante de ti, e te recordares delas entre todas as nações, para onde te lançar o SENHOR teu De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deres ouvidos à voz do SENHOR teu Deus, guardando os seus mandamentos e os seus estatutos, escritos neste livro da lei, quando te converteres ao SENHOR teu Deus com todo o teu coração, e com toda a tu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ste mandamento, que hoje te ordeno, não te é encoberto, e tampouco está longe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está nos céus, para dizeres: Quem subirá por nós aos céus, que no-lo traga, e no-lo faça ouvir, para que o cumpram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tampouco está além do mar, para dizeres: Quem passará por nós além do mar, para que no-lo traga, e no-lo faça ouvir, para que o cumpram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sta palavra está mui perto de ti, na tua boca, e no teu coração, para a cumpri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ês aqui, hoje te tenho proposto a vida e o bem, e a morte e o ma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te ordeno hoje que ames ao SENHOR teu Deus, que andes nos seus caminhos, e que guardes os seus mandamentos, e os seus estatutos, e os seus juízos, para que vivas, e te multipliques, e o SENHOR teu Deus te abençoe na terra a qual entras a possu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se o teu coração se desviar, e não quiseres dar ouvidos, e fores seduzido para te inclinares a outros deuses, e os servir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u vos declaro hoje que, certamente, perecereis; não prolongareis os dias na terra a que vais, passando o Jordão, para que, entrando nela, a possu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céus e a terra tomo hoje por testemunhas contra vós, de que te tenho proposto a vida e a morte, a bênção e a maldição; escolhe pois a vida, para que vivas, tu e a tua descendênc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 converteres ao SENHOR teu Deus, e deres ouvidos à sua voz, conforme a tudo o que eu te ordeno hoje, tu e teus filhos, com todo o teu coração, e com toda a tua alm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mando ao SENHOR teu Deus, dando ouvidos à sua voz, e achegando-te a ele; pois ele é a tua vida, e o prolongamento dos teus dias; para que fiques na terra que o SENHOR jurou a teus pais, a Abraão, a Isaque, e a Jacó, que lhes havia de d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ENHOR teu Deus te fará voltar do teu cativeiro, e se compadecerá de ti, e tornará a ajuntar-te dentre todas as nações entre as quais te espalhou o SENHOR t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que os teus desterrados estejam na extremidade do céu, desde ali te ajuntará o SENHOR teu Deus, e te tomará dal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teu Deus te trará à terra que teus pais possuíram, e a possuirás; e te fará bem, e te multiplicará mais do que a t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teu Deus circuncidará o teu coração, e o coração de tua descendência, para amares ao SENHOR teu Deus com todo o coração, e com toda a tua alma, para que vi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teu Deus porá todas estas maldições sobre os teus inimigos, e sobre os teus odiadores, que te persegui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verter-te-ás, pois, e darás ouvidos à voz do SENHOR; cumprirás todos os seus mandamentos que hoje te orde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teu Deus te fará prosperar em toda a obra das tuas mãos, no fruto do teu ventre, e no fruto dos teus animais, e no fruto da tua terra para o teu bem; porquanto o SENHOR tornará a alegrar-se em ti para te fazer bem, como se alegrou em teus p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8:56Z</dcterms:created>
  <dc:creator>Admin</dc:creator>
  <dc:description/>
  <dc:language>en-US</dc:language>
  <cp:lastModifiedBy>Admin</cp:lastModifiedBy>
  <dcterms:modified xsi:type="dcterms:W3CDTF">2008-07-30T23:28:56Z</dcterms:modified>
  <cp:revision>1</cp:revision>
  <dc:subject/>
  <dc:title>Slide 1</dc:title>
</cp:coreProperties>
</file>