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738-03AC-43C0-B53E-2DAEBD7B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70B-8F81-4189-8B30-3EA913CE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806-FB2F-4298-81F6-447A7935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D8A-63E3-4D1A-BA4F-EA71B65A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260-57CD-4921-B2CD-965C2125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A92-74A8-4BD8-B754-C63384F0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1D2-7313-4059-9EA5-CCE800F8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B04-10DA-4FB4-B14E-51DED50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216-EF94-40FD-9691-6D4A677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CE8-2F5E-47FD-9262-A7A4618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BC3-912D-4146-ADF7-4F31428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077-5DE0-47BA-8476-50364FF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D9DD-B579-4AA3-B351-A0503A7962C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 (chamado apóstolo de Jesus Cristo, pela vontade de Deus), e o irmão Sóste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-vos, porém, irmãos, pelo nome de nosso Senhor Jesus Cristo, que digais todos uma mesma coisa, e que não haja entre vós dissensões; antes sejais unidos em um mesmo pensamento e em um mesmo pa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respeito de vós, irmãos meus, me foi comunicado pelos da família de Cloé que há contendas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o dizer com isto, que cada um de vós diz: Eu sou de Paulo, e eu de Apolo, e eu de Cefas, e eu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Cristo dividido? foi Paulo crucificado por vós? ou fostes vós batizados em nome de Paul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u graças a Deus, porque a nenhum de vós batizei, senão a Crispo e a Ga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inguém diga que fostes batizados em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tizei também a família de Estéfanas; além destes, não sei se batizei algum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risto enviou-me, não para batizar, mas para evangelizar; não em sabedoria de palavras, para que a cruz de Cristo se não faça v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alavra da cruz é loucura para os que perecem; mas para nós, que somos salvos, é o pode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á escrito: Destruirei a sabedoria dos sábios, E aniquilarei a inteligência dos intelig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igreja de Deus que está em Corinto, aos santificados em Cristo Jesus, chamados santos, com todos os que em todo o lugar invocam o nome de nosso SENHOR Jesus Cristo, Senhor deles e nos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á o sábio? Onde está o escriba? Onde está o inquiridor deste século? Porventura não tornou Deus louca a sabedoria deste mu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como na sabedoria de Deus o mundo não conheceu a Deus pela sua sabedoria, aprouve a Deus salvar os crentes pela loucura da p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judeus pedem sinal, e os gregos buscam sabedo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 pregamos a Cristo crucificado, que é escândalo para os judeus, e loucura para os gre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os que são chamados, tanto judeus como gregos, lhes pregamos a Cristo, poder de Deus, e sabedori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loucura de Deus é mais sábia do que os homens; e a fraqueza de Deus é mais forte do qu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vede, irmãos, a vossa vocação, que não são muitos os sábios segundo a carne, nem muitos os poderosos, nem muitos os nobres que são cham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escolheu as coisas loucas deste mundo para confundir as sábias; e Deus escolheu as coisas fracas deste mundo para confundir as for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escolheu as coisas vis deste mundo, e as desprezíveis, e as que não são, para aniquilar as que 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enhuma carne se glorie perant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 e paz da parte de Deus nosso Pai, e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sois dele, em Jesus Cristo, o qual para nós foi feito por Deus sabedoria, e justiça, e santificação, e reden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como está escrito: Aquele que se gloria glorie-se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pre dou graças ao meu Deus por vós pela graça de Deus que vos foi dada em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tudo fostes enriquecidos nele, em toda a palavra e em todo o conhecimen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Como o testemunho de Cristo foi mesmo confirmado entre vó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nenhum dom vos falta, esperando a manifestação de nosso Senhor Jesus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vos confirmará também até ao fim, para serdes irrepreensíveis no dia de noss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Corinti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el é Deus, pelo qual fostes chamados para a comunhão de seu Filho Jesus Cristo n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12Z</dcterms:created>
  <dc:creator>Admin</dc:creator>
  <dc:description/>
  <dc:language>en-US</dc:language>
  <cp:lastModifiedBy>Admin</cp:lastModifiedBy>
  <dcterms:modified xsi:type="dcterms:W3CDTF">2008-07-30T23:41:12Z</dcterms:modified>
  <cp:revision>1</cp:revision>
  <dc:subject/>
  <dc:title>Slide 1</dc:title>
</cp:coreProperties>
</file>