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50C-0D80-4154-9474-84924DC8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06D-0579-4B20-ACCD-7E94749D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881-8F3C-4AB6-9C5B-1B5E99D9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3B2-EC1E-48F9-A950-022E214C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3C7-8707-4DC9-9F53-F0EDF8D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A5F-28A5-4DFC-9789-9298B2E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BC8-3E85-4785-B421-3845EB6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FB8-F885-4F3C-B3A6-1A48EF0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151-0FDA-4079-8C84-B65B978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7B1-E51C-4F44-AEDD-6E5DBCC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7EE-A532-4DDD-98C1-B070C2B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814-8194-414C-ABEC-FF4BB09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51A-FFEE-4966-A242-CF4ECCCCD4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CIDO é Deus em Judá; grande é o seu nome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a cólera do homem redundará em teu louvor; o restante da cólera tu o restring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votos, e pagai ao SENHOR vosso Deus; tragam presentes, os que estão em redor dele, àquele que é tem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ceifará o espírito dos príncipes; é tremendo para com os rei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Salém está o seu tabernáculo, e a sua morada em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quebrou as flechas do arco; o escudo, e a espada, e a guerr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mais ilustre e glorioso do que os montes de c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são ousados de coração são despojados; dormiram o seu sono; e nenhum dos homens de força achou as própri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tua repreensão, ó Deus de Jacó, carros e cavalos são lançados num sono prof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tu és temível; e quem subsistirá à tua vista, uma vez que te ira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s céus fizeste ouvir o teu juízo; a terra tremeu e se aquiet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Deus se levantou para fazer juízo, para livrar a todos os mansos da terr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21Z</dcterms:created>
  <dc:creator>Admin</dc:creator>
  <dc:description/>
  <dc:language>en-US</dc:language>
  <cp:lastModifiedBy>Admin</cp:lastModifiedBy>
  <dcterms:modified xsi:type="dcterms:W3CDTF">2008-07-31T00:26:21Z</dcterms:modified>
  <cp:revision>1</cp:revision>
  <dc:subject/>
  <dc:title>Slide 1</dc:title>
</cp:coreProperties>
</file>