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449-BC4E-4688-9C1A-48BDACB1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E45-B218-445C-8965-9EA06E85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FFF-C125-44D3-A452-AF10434F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34B-9DBA-422B-8EA1-44606DB8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D8E-B0E3-4C1C-910A-166F5973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024-E744-48DA-89D0-BECB0775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FB7-2420-43D4-BEB3-3A137D45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C9F-85A9-4BF1-B0A7-169CE473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C5A-87FD-41A6-BB1D-C97673E3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65D-1949-40A4-9CF6-2A9A46CA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12F-79D9-498C-A916-D24FC895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389-70CA-4668-B8D6-C60F6D43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C443-46C6-464D-B08C-8C23CA75B6D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tu nos rejeitaste, tu nos espalhaste, tu te indignaste; oh, volta-te par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rás tu, ó Deus, que nos tinhas rejeitado? tu, ó Deus, que não saíste com os nossos exérci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nos auxílio na angústia, porque vão é o socorr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Deus faremos proezas; porque ele é que pisará os noss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alaste a terra, e a fendeste; sara as suas fendas, pois ela tre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este ver ao teu povo coisas árduas; fizeste-nos beber o vinho do atordo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 um estandarte aos que te temem, para o arvorarem no alto, por causa da verdad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s teus amados sejam livres, salva-nos com a tua destra, e ouve-n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falou na sua santidade; eu me regozijarei, repartirei a Siquém e medirei o vale de Suc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 é Gileade, e meu é Manassés; Efraim é a força da minha cabeça; Judá é o meu legisl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abe é a minha bacia de lavar; sobre Edom lançarei o meu sapato; alegra-te, ó Filístia, por minha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me conduzirá à cidade forte? Quem me guiará até Ed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48Z</dcterms:created>
  <dc:creator>Admin</dc:creator>
  <dc:description/>
  <dc:language>en-US</dc:language>
  <cp:lastModifiedBy>Admin</cp:lastModifiedBy>
  <dcterms:modified xsi:type="dcterms:W3CDTF">2008-07-31T00:25:48Z</dcterms:modified>
  <cp:revision>1</cp:revision>
  <dc:subject/>
  <dc:title>Slide 1</dc:title>
</cp:coreProperties>
</file>