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7FD-9925-458F-8BBB-A2E9F81F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1F5-EA1D-4450-AD78-1D37626E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1C6-5A56-4958-B84E-76EAB6DB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29A-FDA5-476F-ACD9-BDC6C981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F4CC-0A48-4AD7-9C73-1FD13514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5A7-13EE-44C2-B5C2-79CCDF61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64C-F73C-4793-B1B4-C1F6688A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F5C2-E7B8-4523-A519-C6956EED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B91-D778-4E1E-BB4F-0091780A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2B35-9366-4B3D-98C3-7D3040E4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E6D-FDBE-4502-9AFE-A1080E5C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8DA-324E-48FE-A909-01F47AAB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4155-D4D7-4089-9F0A-0AB80FFF736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NJO que falava comigo voltou, e despertou-me, como a um homem que é despertado do seu son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em despreza o dia das coisas pequenas? Pois esses sete se alegrarão, vendo o prumo na mão de Zorobabel; esses são os sete olhos do SENHOR, que percorrem por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spondi mais, dizendo-lhe: Que são as duas oliveiras à direita e à esquerda do castiça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respondendo-lhe outra vez, disse: Que são aqueles dois ramos de oliveira, que estão junto aos dois tubos de ouro, e que vertem de si azeite dour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me falou, dizendo: Não sabes tu o que é isto? E eu disse: Não, SENHOR m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le disse: Estes são os dois ungidos, que estão diante do Senhor de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: Que vês? E eu disse: Olho, e eis que vejo um castiçal todo de ouro, e um vaso de azeite no seu topo, com as suas sete lâmpadas; e sete canudos, um para cada uma das lâmpadas que estão no seu to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por cima dele, duas oliveiras, uma à direita do vaso de azeite, e outra à sua esquer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i, dizendo ao anjo que falava comigo: Senhor meu, que é is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o anjo que falava comigo, dizendo-me: Não sabes tu o que é isto? E eu disse: Não, senhor m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-me, dizendo: Esta é a palavra do SENHOR a Zorobabel, dizendo: Não por força nem por violência, mas sim pelo meu Espírito,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és tu, ó grande monte? Diante de Zorobabel tornar-te-ás uma campina; porque ele trará a pedra angular com aclamações: Graça, graça a 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alavra do SENHOR veio novamente a mim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mãos de Zorobabel têm lançado os alicerces desta casa; também as suas mãos a acabarão, para que saibais que o SENHOR dos Exércitos me enviou 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25Z</dcterms:created>
  <dc:creator>Admin</dc:creator>
  <dc:description/>
  <dc:language>en-US</dc:language>
  <cp:lastModifiedBy>Admin</cp:lastModifiedBy>
  <dcterms:modified xsi:type="dcterms:W3CDTF">2008-07-31T00:29:25Z</dcterms:modified>
  <cp:revision>1</cp:revision>
  <dc:subject/>
  <dc:title>Slide 1</dc:title>
</cp:coreProperties>
</file>