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58A-1EC3-491D-9E59-858AECCA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AC5-8997-4C7D-AD85-2890285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398-1D3D-47F9-AE0E-53131F5D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9EF-DFDC-4F2D-964F-EC1AD1DE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FAC-618A-4A8F-A2A4-B829A2D8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556-5A6A-4F2F-8FDB-A838786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BE2-8DA4-46DD-AAE0-2D5C64A9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DA0-C8ED-435E-BDFF-7BF658E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87F-2579-4AD7-A6D3-3139197B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986-C283-4724-A97C-1B5CECF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189-4D6F-4B4E-8F52-1EF3A63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B91-5D64-41C4-9644-3F18571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8F59-F53F-45D8-AA5D-857C5467B7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MOESTO-TE, pois, antes de tudo, que se façam deprecações, orações, intercessões, e ações de graças, por todos os homen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(como convém a mulheres que fazem profissão de servir a Deus) com bo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ulher aprenda em silêncio, com toda a suje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rmito, porém, que a mulher ensine, nem use de autoridade sobre o marido, mas que esteja em silên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rimeiro foi formado Adão, depois E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dão não foi enganado, mas a mulher, sendo enganada, caiu em transgress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lvar-se-á, porém, dando à luz filhos, se permanecer com modéstia na fé, no amor e na sant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s reis, e por todos os que estão em eminência, para que tenhamos uma vida quieta e sossegada, em toda a piedade e honest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isto é bom e agradável diante de Deus nosso Salvad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quer que todos os homens se salvem, e venham ao conhecimento d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há um só Deus, e um só Mediador entre Deus e os homens, Jesus Cristo ho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se deu a si mesmo em preço de redenção por todos, para servir de testemunho a seu tem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 que (digo a verdade em Cristo, não minto) fui constituído pregador, e apóstolo, e doutor dos gentios na fé e n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o, pois, que os homens orem em todo o lugar, levantando mãos santas, sem ira nem conte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o mesmo modo as mulheres se ataviem em traje honesto, com pudor e modéstia, não com tranças, ou com ouro, ou pérolas, ou vestidos precios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17Z</dcterms:created>
  <dc:creator>Admin</dc:creator>
  <dc:description/>
  <dc:language>en-US</dc:language>
  <cp:lastModifiedBy>Admin</cp:lastModifiedBy>
  <dcterms:modified xsi:type="dcterms:W3CDTF">2008-07-30T23:48:17Z</dcterms:modified>
  <cp:revision>1</cp:revision>
  <dc:subject/>
  <dc:title>Slide 1</dc:title>
</cp:coreProperties>
</file>