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679-A84E-48EF-953E-5250EA58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AA7-0F38-42C8-90F9-F0A680EA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7E9-1BE1-4744-9A3B-DC85BF14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818-8F05-48FD-9FD1-B24C8750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D83-CD71-46AE-BC75-7AC7CFC5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1D0-110B-4FF8-B437-D2BF717D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291-667E-410B-B0C0-C03DCE2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1C8-157E-4BF5-A377-79BFB1E7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990-AF1F-4055-BF33-D9174029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57D-0CB2-4F29-A859-D84DDAF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129-926B-43FB-9AD0-8EEA32D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370-41AD-4625-8530-B6A76090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4486-2F45-4FD6-ABAE-AC98BC9BE7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, pois, são as gerações dos filhos de Noé: Sem, Cão e Jafé; e nasceram-lhes filhos depois do dilú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incípio do seu reino foi Babel, Ereque, Acade e Calné, na terra de Sin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ta mesma terra saiu à Assíria e edificou a Nínive, Reobote-Ir, Cal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en, entre Nínive e Calá (esta é a grande cidade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izraim gerou a Ludim, a Anamim, a Leabim, a Naftui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atrusim e a Casluim (donde saíram os filisteus) e a Caftor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aã gerou a Sidom, seu primogênito, e a He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jebuseu, ao amorreu, ao girgase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heveu, ao arqueu, ao sine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rvadeu, ao zemareu, e ao hamateu, e depois se espalharam as famílias dos canan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o termo dos cananeus desde Sidom, indo para Gerar, até Gaza; indo para Sodoma e Gomorra, Admá e Zeboim, até La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Jafé são: Gomer, Magogue, Madai, Javã, Tubal, Meseque e T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Cão segundo as suas famílias, segundo as suas línguas, em suas terras, em su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m nasceram filhos, e ele é o pai de todos os filhos de Éber, o irmão mais velho de Ja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filhos de Sem são: Elão, Assur, Arfaxade, Lude e Ar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Arã são: Uz, Hul, Geter e M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rfaxade gerou a Selá; e Selá gerou a Éb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Éber nasceram dois filhos: o nome de um foi Pelegue, porquanto em seus dias se repartiu a terra, e o nome do seu irmão foi Joc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ctã gerou a Almodá, a Selefe, a Hazarmavé, a Jer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Hadorão, a Usal, a Dic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bal, a Abimael, a Sebá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Ofir, a Havilá e a Jobabe; todos estes foram filhos de Joct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Gomer são: Asquenaz, Rifate e Togar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 sua habitação desde Messa, indo para Sefar, montanha do ori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são os filhos de Sem segundo as suas famílias, segundo as suas línguas, nas suas terras, segundo as su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famílias dos filhos de Noé segundo as suas gerações, nas suas nações; e destes foram divididas as nações na terra depois do dilú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Javã são: Elisá, Társis, Quitim e Dodan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es foram repartidas as ilhas dos gentios nas suas terras, cada qual segundo a sua língua, segundo as suas famílias, entre as suas n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ão são: Cuxe, Mizraim, Pute 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Cuxe são: Sebá, Havilá, Sabtá, Raamá e Sabtecá; e os filhos de Raamá: Sebá e Ded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xe gerou a Ninrode; este começou a ser poderoso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e foi poderoso caçador diante da face do SENHOR; por isso se diz: Como Ninrode, poderoso caçador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42Z</dcterms:created>
  <dc:creator>Admin</dc:creator>
  <dc:description/>
  <dc:language>en-US</dc:language>
  <cp:lastModifiedBy>Admin</cp:lastModifiedBy>
  <dcterms:modified xsi:type="dcterms:W3CDTF">2008-07-30T23:37:42Z</dcterms:modified>
  <cp:revision>1</cp:revision>
  <dc:subject/>
  <dc:title>Slide 1</dc:title>
</cp:coreProperties>
</file>