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FF7-E2CC-47E6-AC99-CB52D2BE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A08-801D-4F6F-95A3-1D7CAA29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081-717D-4AA0-A098-C4540A58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504-14AE-4CE9-91F1-3AA7D97A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064-2E00-4090-A053-74E6636D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7B4-F41F-462F-ADD5-DA968861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10A-AC8C-4235-8DEA-1CBAF232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B96-73D0-4A00-84F4-821EBFD1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B97-E69C-4CCC-8A82-6925A5C3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93E-16A3-4FBD-A910-B9465F7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79E-D6D0-469F-B657-756AEFE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8E9-132C-4477-9447-7DE95C4F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6375-360F-4087-BEDE-BB09873AA9C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duodécimo de Acaz, rei de Judá, começou a reinar Oséias, filho de Elá, e reinou sobre Israel, em Samaria, nov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, para si, estátuas e imagens do bosque, em todos os altos outeiros, e debaixo de todas as árvores ve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imaram ali incenso em todos os altos, como as nações, que o SENHOR expulsara de diante deles; e fizeram coisas ruins, para provocarem à i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viram os ídolos, dos quais o SENHOR lhes dissera: Não fareis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advertiu a Israel e a Judá, pelo ministério de todos os profetas e de todos os videntes, dizendo: Convertei-vos de vossos maus caminhos, e guardai os meus mandamentos e os meus estatutos, conforme toda a lei que ordenei a vossos pais e que e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deram ouvidos; antes endureceram a sua cerviz, como a cerviz de seus pais, que não creram n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jeitaram os seus estatutos, e a sua aliança que fizera com seus pais, como também as suas advertências, com que protestara contra eles; e seguiram a vaidade, e tornaram-se vãos; como também seguiram as nações, que estavam ao redor deles, das quais 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aram todos os mandamentos do SENHOR seu Deus, e fizeram imagens de fundição, dois bezerros; e fizeram um ídolo do bosque, e adoraram perante todo o exército do céu, e serviram a 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izeram passar pelo fogo a seus filhos e suas filhas, e deram-se a adivinhações, e criam em agouros; e venderam-se para fazer o que era mau aos olhos do SENHOR, para o provocarem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SENHOR muito se indignou contra Israel, e os tirou de diante da sua face; nada mais ficou, senão somente a tribo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Judá não guardou os mandamentos do SENHOR seu Deus; antes andaram nos estatutos de Israel, que eles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ntudo não como os reis de Israel que foram ante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SENHOR rejeitou a toda a descendência de Israel, e os oprimiu, e os deu nas mãos dos despojadores, até que os expulsou da su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rasgou a Israel da casa de Davi; e eles fizeram rei a Jeroboão, filho de Nebate. E Jeroboão apartou a Israel de seguir ao SENHOR, e os fez cometer um grande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ndaram os filhos de Israel em todos os pecados que Jeroboão tinha feito; nunca se apartaram d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o SENHOR tirou a Israel de diante da sua presença, como falara pelo ministério de todos os seus servos, os profetas; assim foi Israel expulso da sua terra à Assíria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a Assíria trouxe gente de Babilônia, de Cuta, de Ava, de Hamate e Sefarvaim, e a fez habitar nas cidades de Samaria, em lugar dos filhos de Israel; e eles tomaram a Samaria em herança, e habitaram nas s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princípio da sua habitação ali, não temeram ao SENHOR; e o SENHOR mandou entre eles, leões, que mataram a algun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falaram ao rei da Assíria, dizendo: A gente que transportaste e fizeste habitar nas cidades de Samaria, não sabe o costume do Deus da terra; assim mandou leões entre ela, e eis que a matam, porquanto não sabe o culto do Deu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a Assíria mandou dizer: Levai ali um dos sacerdotes que transportastes de lá; e vá e habite lá, e ele lhes ensine o costume do Deu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um dos sacerdotes que transportaram de Samaria, e habitou em Betel, e lhes ensinou como deviam teme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cada nação fez os seus deuses, e os puseram nas casas dos altos que os samaritanos fizeram, cada nação nas cidades, em que habi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ele subiu Salmaneser, rei da Assíria; e Oséias ficou sendo servo dele, e pagava-lhe trib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e Babilônia fizeram Sucote-Benote; e os de Cuta fizeram Nergal; e os de Hamate fizeram As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veus fizeram Nibaz e Tartaque; e os sefarvitas queimavam seus filhos no fogo a Adrameleque, e a Anameleque, deuses de Sefarv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emiam ao SENHOR; e dos mais baixos do povo fizeram sacerdotes dos lugares altos, os quais lhes faziam o ministério nas casas dos lugares al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emiam ao SENHOR, mas também serviam a seus deuses, segundo o costume das nações dentre as quais tinham sido transpor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o dia de hoje fazem segundo os primeiros costumes; não temem ao SENHOR, nem fazem segundo os seus estatutos, segundo as suas ordenanças, segundo a lei e segundo o mandamento que o SENHOR ordenou aos filhos de Jacó, a quem deu o nome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o SENHOR tinha feito uma aliança com eles, e lhes ordenara, dizendo: Não temereis a outros deuses, nem vos inclinareis diante deles, nem os servireis, nem lhes sacrific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, que vos fez subir da terra do Egito com grande força e com braço estendido, a este temereis, e a ele vos inclinareis e a ele sacrific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tatutos, as ordenanças, a lei e o mandamento, que vos escreveu, tereis cuidado de fazer todos os dias; e não temereis a outr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aliança que fiz convosco não vos esquecereis; e não temereis a outr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 SENHOR vosso Deus temereis, e ele vos livrará das mãos de todos os voss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rei da Assíria achou em Oséias conspiração; porque enviara mensageiros a Sô, rei do Egito, e não pagava tributos ao rei da Assíria cada ano, como dantes; então o rei da Assíria o encerrou e aprisionou na casa do cárce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s não ouviram; antes fizeram segundo o seu primeiro costu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stas nações temiam ao SENHOR e serviam as suas imagens de escultura; também seus filhos, e os filhos de seus filhos, como fizeram seus pais, assim fazem eles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 da Assíria subiu por toda a terra, e veio até Samaria, e a cercou trê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nono de Oséias, o rei da Assíria tomou a Samaria, e levou Israel cativo para a Assíria; e fê-los habitar em Hala e em Habor junto ao rio de Gozã, e nas cidades dos me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cedeu que os filhos de Israel pecaram contra o SENHOR seu Deus, que os fizera subir da terra do Egito, de debaixo da mão de Faraó, rei do Egito; e temeram a outr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ram nos estatutos das nações que o SENHOR lançara fora de diante dos filhos de Israel, e nos dos reis de Israel, que eles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fizeram secretamente coisas que não eram retas, contra o SENHOR seu Deus; e edificaram altos em todas as suas cidades, desde a torre dos atalaias até à cidade fortif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03Z</dcterms:created>
  <dc:creator>Admin</dc:creator>
  <dc:description/>
  <dc:language>en-US</dc:language>
  <cp:lastModifiedBy>Admin</cp:lastModifiedBy>
  <dcterms:modified xsi:type="dcterms:W3CDTF">2008-07-30T23:52:03Z</dcterms:modified>
  <cp:revision>1</cp:revision>
  <dc:subject/>
  <dc:title>Slide 1</dc:title>
</cp:coreProperties>
</file>