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C4B-19DB-48C5-86AB-7D6D3072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270-DD16-43DE-B398-0B748B0A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4E4-2AF9-46F6-BB4C-E7A5D147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7FE-993D-4913-836D-3FDA4AA4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1FB-AEFA-4A6E-8400-97E4011E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1B2-DF78-41E7-85F4-358D8BD4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051-0C79-49DE-9FBD-54F0039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BBE-9996-49E4-927E-F5BE4D41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54D-33D4-477D-90F1-529D0AAB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AD5-5E45-4FFE-BFB2-CD80A5E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A7C-2F82-4BCF-B591-3A2748F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557-98AC-41E4-9D3C-7D48380E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CA58-A58A-47D5-AC72-5834F2713AA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ongregação dos filhos de Israel se reuniu em Siló, e ali armaram a tenda da congregação, depois que a terra lhes foi suj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lhes lançou as sortes em Siló, perante o SENHOR; e ali repartiu Josué a terra aos filhos de Israel, conforme às suas divi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a sorte da tribo dos filhos de Benjamim, segundo as suas famílias; e coube-lhe o termo da sua sorte entre os filhos de Judá e os filhos d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termo foi para o lado do norte, desde o Jordão; e sobe aquele termo ao lado de Jericó para o norte, e sobe pela montanha para o ocidente, terminando no deserto de Bete-Áv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ssa este termo a Luz, ao lado de Luz (que é Betel), para o sul; e desce a Atarote-Adar, ao pé do monte que está do lado do sul de Bete-Horom de baix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ai este termo e volta ao lado do ocidente para o sul do monte que está defronte de Bete-Horom, para o sul, terminando em Quiriate-Baal (que é Quiriate-Jearim), cidade dos filhos de Judá; esta é a sua extensão para 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extensão para o sul começa na extremidade de Quiriate-Jearim; e vai este termo ao ocidente e segue até à fonte das águas de Neft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 este termo até à extremidade do monte que está defronte do vale do filho de Hinom, que está no vale dos refains para o norte, e desce pelo vale de Hinom do lado dos jebuseus para o sul; e então desce a En-Rog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ai desde o norte, e chega a En-Semes; e dali sai a Gelilote, que está defronte da subida de Adumim, e desce à pedra de Boã, filho de Rúben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 até ao lado, defronte de Arabá, para o norte, e desce a Ara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 mais este termo até ao lado de Bete-Hogla, para o norte, saindo esse termo na baía do Mar Salgado, para o norte, na extremidade do Jordão, para o sul; este é o termo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ntre os filhos de Israel ficaram sete tribos que ainda não tinham repartido 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Jordão será seu termo do lado do oriente; esta é a herança dos filhos de Benjamim, nos seus termos em redor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idades da tribo dos filhos de Benjamim, segundo as suas famílias, são: Jericó, e Bete-Hogla, e Emeque-Quezi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te-Arabá, e Zemaraim, e Bet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vim, e Pará, e Of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far-Amonai, e Ofni e Gaba: doze cidades e as suas alde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ibeão, e Ramá e Beer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zpá, e Cefira e Moz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quém e Irpeel, e Tara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ela, Elefe, e Jebus (esta é Jerusalém), Gibeá e Quiriate: catorze cidades com as suas aldeias; esta é a herança dos filhos de Benjamim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sué aos filhos de Israel: Até quando sereis negligentes em chegardes para possuir a terra que o SENHOR Deus de vossos pais vos d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cada tribo escolhei vós três homens, para que eu os envie, e eles se levantem e percorram a terra, e a demarquem segundo as suas heranças, e voltem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vidi-la-ão em sete partes: Judá ficará no seu termo para o sul, e a casa de José ficará no seu termo para 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demarcareis a terra em sete partes, e me trareis a mim aqui descrita, para que eu aqui lance as sortes perante o SENHOR nosso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s levitas não têm parte no meio de vós, porque o sacerdócio do SENHOR é a sua parte; e Gade, e Rúben, e a meia tribo de Manassés, receberam a sua herança além do Jordão para o oriente, a qual lhes deu Moisés, o serv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homens se levantaram e se foram; e Josué deu ordem aos que iam demarcar a terra, dizendo: Ide, e percorrei a terra, e demarcai-a, e então voltai a mim, e aqui vos lançarei as sortes perante o SENHOR, em Si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, pois, aqueles homens, e passaram pela terra, e a demarcaram, em sete partes segundo as cidades, descrevendo-a num livro; e voltaram a Josué, ao arraial em Si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48Z</dcterms:created>
  <dc:creator>Admin</dc:creator>
  <dc:description/>
  <dc:language>en-US</dc:language>
  <cp:lastModifiedBy>Admin</cp:lastModifiedBy>
  <dcterms:modified xsi:type="dcterms:W3CDTF">2008-07-31T00:05:48Z</dcterms:modified>
  <cp:revision>1</cp:revision>
  <dc:subject/>
  <dc:title>Slide 1</dc:title>
</cp:coreProperties>
</file>