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41E1-10F1-4BB9-9ED9-9513D4C3F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2C9D-FB21-412B-8BE8-68253DA3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9DCF-A964-4016-891B-6D9F42B5E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1E16-3D6E-49D3-893F-098C85D1F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6187-010F-4A1B-BF32-0105CF45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D88E-B23D-4D42-84EA-A787A7F4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1FFD-5E48-47F9-8906-D177810F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4E22-71A2-4F3A-A1C1-6DC70493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B606-3EE9-40FB-A032-7D31D0C5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D2D6-C314-4F30-8DB7-B39BBEC0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26F6-0DB3-412D-AB2B-63D9E032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A345-C42B-41F7-AD27-E03A7CF5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572C-9E1A-4AB8-87BD-078619CACD2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pus-me sobre a areia do mar, e vi subir do mar uma besta que tinha sete cabeças e dez chifres, e sobre os seus chifres dez diademas, e sobre as suas cabeças um nome de blasfêm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alguém leva em cativeiro, em cativeiro irá; se alguém matar à espada, necessário é que à espada seja morto. Aqui está a paciência e a fé dos sa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 subir da terra outra besta, e tinha dois chifres semelhantes aos de um cordeiro; e falava como o drag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xerce todo o poder da primeira besta na sua presença, e faz que a terra e os que nela habitam adorem a primeira besta, cuja chaga mortal fora cur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z grandes sinais, de maneira que até fogo faz descer do céu à terra, à vista d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gana os que habitam na terra com sinais que lhe foi permitido que fizesse em presença da besta, dizendo aos que habitam na terra que fizessem uma imagem à besta que recebera a ferida da espada e viv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-lhe concedido que desse espírito à imagem da besta, para que também a imagem da besta falasse, e fizesse que fossem mortos todos os que não adorassem a imagem da bes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z que a todos, pequenos e grandes, ricos e pobres, livres e servos, lhes seja posto um sinal na sua mão direita, ou nas suas test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ninguém possa comprar ou vender, senão aquele que tiver o sinal, ou o nome da besta, ou o número do s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i há sabedoria. Aquele que tem entendimento, calcule o número da besta; porque é o número de um homem, e o seu número é seiscentos e sessenta e s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besta que vi era semelhante ao leopardo, e os seus pés como os de urso, e a sua boca como a de leão; e o dragão deu-lhe o seu poder, e o seu trono, e grande pode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 uma das suas cabeças como ferida de morte, e a sua chaga mortal foi curada; e toda a terra se maravilhou após a bes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doraram o dragão que deu à besta o seu poder; e adoraram a besta, dizendo: Quem é semelhante à besta? Quem poderá batalhar contra el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-lhe dada uma boca, para proferir grandes coisas e blasfêmias; e deu-se-lhe poder para agir por quarenta e dois mes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briu a sua boca em blasfêmias contra Deus, para blasfemar do seu nome, e do seu tabernáculo, e dos que habitam no cé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-lhe permitido fazer guerra aos santos, e vencê-los; e deu-se-lhe poder sobre toda a tribo, e língua, e n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doraram-na todos os que habitam sobre a terra, esses cujos nomes não estão escritos no livro da vida do Cordeiro que foi morto desde a fundação do m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alguém tem ouvidos, ou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2:36Z</dcterms:created>
  <dc:creator>Admin</dc:creator>
  <dc:description/>
  <dc:language>en-US</dc:language>
  <cp:lastModifiedBy>Admin</cp:lastModifiedBy>
  <dcterms:modified xsi:type="dcterms:W3CDTF">2008-07-30T23:22:36Z</dcterms:modified>
  <cp:revision>1</cp:revision>
  <dc:subject/>
  <dc:title>Slide 1</dc:title>
</cp:coreProperties>
</file>