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E627-1B12-4144-8D93-21F64E9A9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9D9F9-35F6-4694-A892-1492D9AEC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98A52-0D6D-48A3-81A3-4B443D9D9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FC59F-593D-461E-82CD-68C0CA217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817E6-0B50-409F-81BB-2ED125A70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AFA7E-5564-4FC8-A293-249988CE8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B527D-57BF-4D35-B84F-E0CFEF8D3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018E-7716-4B5A-A518-21B98D32F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11F23-175C-4FCE-9121-46C7D25D6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83362-4DA6-43D0-BEDF-2870611FC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1BD2C-B5C3-49A9-BA95-CAE7BF15D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97A3-5FBB-4160-84B9-9BC937CFE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41FCE-A4C7-47A2-A219-B57903E35232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7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CABANDO Salomão de orar, desceu o fogo do céu, e consumiu o holocausto e os sacrifícios; e a glória do SENHOR encheu a cas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7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no dia vigésimo terceiro do sétimo mês, despediu o povo para as suas tendas, alegres e de bom ânimo, pelo bem que o SENHOR tinha feito a Davi, e a Salomão, e a seu povo Isra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7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Salomão acabou a casa do SENHOR, e a casa do rei, e tudo quanto Salomão intentou fazer na casa do SENHOR e na sua casa prosperamente o efetuo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7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SENHOR apareceu de noite a Salomão, e disse-lhe: Ouvi a tua oração, e escolhi para mim este lugar para casa de sacrifíci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7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 eu fechar os céus, e não houver chuva; ou se ordenar aos gafanhotos que consumam a terra; ou se enviar a peste entre o meu pov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7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e o meu povo, que se chama pelo meu nome, se humilhar, e orar, e buscar a minha face e se converter dos seus maus caminhos, então eu ouvirei dos céus, e perdoarei os seus pecados, e sararei a sua te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7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gora estarão abertos os meus olhos e atentos os meus ouvidos à oração deste lug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7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agora escolhi e santifiquei esta casa, para que o meu nome esteja nela perpetuamente; e nela estarão fixos os meus olhos e o meu coração todos os di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7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quanto a ti, se andares diante de mim, como andou Davi teu pai, e fizeres conforme a tudo o que te ordenei, e guardares os meus estatutos e os meus juízo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7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confirmarei o trono do teu reino, conforme a aliança que fiz com Davi, teu pai, dizendo: Não te faltará sucessor que domine em Isra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7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 se vós vos desviardes, e deixardes os meus estatutos, e os meus mandamentos, que vos tenho proposto, e fordes, e servirdes a outros deuses, e vos prostrardes a ele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7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sacerdotes não podiam entrar na casa do SENHOR, porque a glória do SENHOR tinha enchido a casa d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7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os arrancarei da minha terra que lhes dei, e lançarei da minha presença esta casa que consagrei ao meu nome, e farei com que seja por provérbio e motejo entre todos os pov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7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esta casa, que é tão exaltada, qualquer que passar por ela se espantará e dirá: Por que fez o SENHOR assim com esta terra e com esta casa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7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rão: Porque deixaram ao SENHOR Deus de seus pais, que os tirou da terra do Egito, e se deram a outros deuses, e se prostraram a eles, e os serviram; por isso ele trouxe sobre eles todo este ma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7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odos os filhos de Israel vendo descer o fogo, e a glória do SENHOR sobre a casa, encurvaram-se com o rosto em terra sobre o pavimento, e adoraram e louvaram ao SENHOR, dizendo: Porque ele é bom, porque a sua benignidade dura para sempr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7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rei e todo o povo ofereciam sacrifícios perante 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7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rei Salomão ofereceu sacrifícios de bois, vinte e dois mil, e de ovelhas, cento e vinte mil; e o rei e todo o povo consagraram a casa de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7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sacerdotes, serviam em seus ofícios; como também os levitas com os instrumentos musicais do SENHOR, que o rei Davi tinha feito, para louvarem ao SENHOR, porque a sua benignidade dura para sempre, quando Davi o louvava pelo ministério deles; e os sa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7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alomão santificou o meio do átrio, que estava diante da casa do SENHOR; porquanto ali tinha ele oferecido os holocaustos e a gordura dos sacrifícios pacíficos; porque no altar de metal, que Salomão tinha feito, não podia caber o holocausto, e a ofer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7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assim, naquele mesmo tempo celebrou Salomão a festa por sete dias e todo o Israel com ele, uma grande congregação, desde a entrada de Hamate, até ao rio do Egi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7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no dia oitavo realizaram uma assembléia solene; porque sete dias celebraram a consagração do altar, e sete dias a fest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49:20Z</dcterms:created>
  <dc:creator>Admin</dc:creator>
  <dc:description/>
  <dc:language>en-US</dc:language>
  <cp:lastModifiedBy>Admin</cp:lastModifiedBy>
  <dcterms:modified xsi:type="dcterms:W3CDTF">2008-07-30T23:49:20Z</dcterms:modified>
  <cp:revision>1</cp:revision>
  <dc:subject/>
  <dc:title>Slide 1</dc:title>
</cp:coreProperties>
</file>