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A19-489E-4298-9582-2209CDF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AFE-B32F-4BD4-B39C-1ABDFB05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B1C-46D6-4BFE-8926-B925135A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535-469A-448B-AEF6-7D7E819D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DA0-18AE-4DD7-AD07-DA07898B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2A6-9857-41DA-BC2B-3735DF00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17E-3BDD-45FC-A5D6-1051929E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4EB-F3BB-4C28-AC4F-F3F7D2B9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206-9585-48BF-A17D-3CF0A60A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A83-344B-47AB-9C94-5D17C37F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6E9-F733-4763-A3CF-85B08669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CA8-9842-43F2-BD41-DB9D9C6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A526-A5A4-462F-A49B-399491EE25A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erdotes levitas, toda a tribo de Levi, não terão parte nem herança com Israel; das ofertas queimadas do SENHOR e da sua herança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ti não se achará quem faça passar pelo fogo a seu filho ou a sua filha, nem adivinhador, nem prognosticador, nem agoureiro, nem feitic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encantador, nem quem consulte a um espírito adivinhador, nem mágico, nem quem consulte os mo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odo aquele que faz tal coisa é abominação ao SENHOR; e por estas abominações o SENHOR teu Deus os lança fora de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feito serás, como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s nações, que hás de possuir, ouvem os prognosticadores e os adivinhadores; porém a ti o SENHOR teu Deus não permitiu tal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u Deus te levantará um profeta do meio de ti, de teus irmãos, como eu; a ele ouvi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 tudo o que pediste ao SENHOR teu Deus em Horebe, no dia da assembléia, dizendo: Não ouvirei mais a voz do SENHOR teu Deus, nem mais verei este grande fogo, para que não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me disse: Falaram bem naquilo que dis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lhes suscitarei um profeta do meio de seus irmãos, como tu, e porei as minhas palavras na sua boca, e ele lhes falará tudo o que eu lhe orde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qualquer que não ouvir as minhas palavras, que ele falar em meu nome, eu o requererei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ão terão herança no meio de seus irmãos; o SENHOR é a sua herança, como lhes tem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rofeta que tiver a presunção de falar alguma palavra em meu nome, que eu não lhe tenha mandado falar, ou o que falar em nome de outros deuses, esse profeta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disseres no teu coração: Como conhecerei a palavra que o SENHOR não fal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profeta falar em nome do SENHOR, e essa palavra não se cumprir, nem suceder assim; esta é palavra que o SENHOR não falou; com soberba a falou aquele profeta; não tenhas tem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será o direito dos sacerdotes, a receber do povo, dos que oferecerem sacrifício, seja boi ou gado miúdo; que darão ao sacerdote a espádua e as queixadas e o buc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-lhe-ás as primícias do teu grão, do teu mosto e do teu azeite, e as primícias da tosquia das tu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u Deus o escolheu de todas as tuas tribos, para que assista e sirva no nome do SENHOR, ele e seus filhos,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ar um levita de alguma das tuas portas, de todo o Israel, onde habitar; e vier com todo o desejo da sua alma ao lugar que o SENHOR escolhe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r no nome do SENHOR seu Deus, como também todos os seus irmãos, os levitas, que assistem ali perante 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gual porção comerão, além das vendas do seu patrimô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ares na terra que o SENHOR teu Deus te der, não aprenderás a fazer conforme as abominações daquel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11Z</dcterms:created>
  <dc:creator>Admin</dc:creator>
  <dc:description/>
  <dc:language>en-US</dc:language>
  <cp:lastModifiedBy>Admin</cp:lastModifiedBy>
  <dcterms:modified xsi:type="dcterms:W3CDTF">2008-07-30T23:28:11Z</dcterms:modified>
  <cp:revision>1</cp:revision>
  <dc:subject/>
  <dc:title>Slide 1</dc:title>
</cp:coreProperties>
</file>