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437-63E1-48E6-9FBE-BEF3024F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B56-7AF5-4746-928E-7E1C259F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902-126B-4DD6-8ACD-BD9BAB12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EFF-1F19-4A7D-86DA-16249AC6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227-1B2E-4223-878B-07F20ADB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7CD-79B4-4402-AE80-58E7948C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401-16B9-47EA-A913-96E2BD6C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851-B65D-4BBA-BD98-166F9F0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DD8-649C-439E-87EF-FCDAC8D9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966-BD55-4061-8D55-E0255744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D48-EDD5-4CB3-ADC4-6D34320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724-8F2C-4A86-8A97-A041BC1D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3F2D-22B1-42CD-8EC7-D75494DF2DD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servo de Deus, e apóstolo de Jesus Cristo, segundo a fé dos eleitos de Deus, e o conhecimento da verdade, que é segundo a pie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á muitos desordenados, faladores, vãos e enganadores, principalmente os da circunci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quais convém tapar a boca; homens que transtornam casas inteiras ensinando o que não convém, por torpe ganâ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m deles, seu próprio profeta, disse: Os cretenses são sempre mentirosos, bestas ruins, ventres preguiç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testemunho é verdadeiro. Portanto, repreende-os severamente, para que sejam sãos n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ando ouvidos às fábulas judaicas, nem aos mandamentos de homens que se desviam d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s as coisas são puras para os puros, mas nada é puro para os contaminados e infiéis; antes o seu entendimento e consciência estão contamin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essam que conhecem a Deus, mas negam-no com as obras, sendo abomináveis, e desobedientes, e reprovados para toda a bo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esperança da vida eterna, a qual Deus, que não pode mentir, prometeu antes dos tempos dos sécu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seu tempo manifestou a sua palavra pela pregação que me foi confiada segundo o mandamento de Deus, nosso Salvad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to, meu verdadeiro filho, segundo a fé comum: Graça, misericórdia, e paz da parte de Deus Pai, e da do Senhor Jesus Cristo, nosso Salv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a causa te deixei em Creta, para que pusesses em boa ordem as coisas que ainda restam, e de cidade em cidade estabelecesses presbíteros, como já te mandei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for irrepreensível, marido de uma mulher, que tenha filhos fiéis, que não possam ser acusados de dissolução nem são desobedi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convém que o bispo seja irrepreensível, como despenseiro da casa de Deus, não soberbo, nem iracundo, nem dado ao vinho, nem espancador, nem cobiçoso de torpe ganân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ado à hospitalidade, amigo do bem, moderado, justo, santo, tempera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t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tendo firme a fiel palavra, que é conforme a doutrina, para que seja poderoso, tanto para admoestar com a sã doutrina, como para convencer os contradiz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15Z</dcterms:created>
  <dc:creator>Admin</dc:creator>
  <dc:description/>
  <dc:language>en-US</dc:language>
  <cp:lastModifiedBy>Admin</cp:lastModifiedBy>
  <dcterms:modified xsi:type="dcterms:W3CDTF">2008-07-31T00:29:15Z</dcterms:modified>
  <cp:revision>1</cp:revision>
  <dc:subject/>
  <dc:title>Slide 1</dc:title>
</cp:coreProperties>
</file>