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EC8-CD33-4E4B-806F-76D2BF79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1FC-1A2F-46FC-B198-3F394C51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C6F-798B-4E9E-B06C-354675C1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339-5111-4060-831D-ED374DC5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CEB-297C-4E8E-B83C-A8C2B565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F67-461D-46ED-8ED8-638FB00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0B0-4E71-4B55-ADC2-E626ED43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C0D-F1D0-46D0-8F3F-01149495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3D3-692E-40CA-A2E7-EDD2113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52E-5BB0-4C61-95C3-EDD2327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A3A-F093-41EC-B487-B43C81C4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DCC-9ABB-452E-8722-635BDFF4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8BAD-71E5-420B-BFA3-A89444705F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dia deu o rei Assuero à rainha Ester a casa de Hamã, inimigo dos judeus; e Mardoqueu veio perante o rei, porque Ester tinha declarado quem ele 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reveu-se em nome do rei Assuero e, selando-as com o anel do rei, enviaram as cartas pela mão de correios a cavalo, que cavalgavam sobre ginetes, que eram das cavalariça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las o rei concedia aos judeus, que havia em cada cidade, que se reunissem, e se dispusessem para defenderem as suas vidas, e para destruírem, matarem e aniquilarem todas as forças do povo e da província que viessem contra eles, crianças e mulheres, e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m mesmo dia, em todas as províncias do rei Assuero, no dia treze do duodécimo mês, que é o mês de Ad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cópia da carta seria divulgada como decreto em todas as províncias, e publicada entre todos os povos, para que os judeus estivessem preparados para aquele dia, para se vingarem d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orreios, sobre ginetes velozes, saíram apressuradamente, impelidos pela palavra do rei; e esta ordem foi publicada na fortaleza de Su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rdoqueu saiu da presença do rei com veste real azul-celeste e branco, como também com uma grande coroa de ouro, e com uma capa de linho fino e púrpura, e a cidade de Susã exultou e se aleg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os judeus houve luz, e alegria, e gozo, e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m toda a província, e em toda a cidade, aonde chegava a palavra do rei e a sua ordem, havia entre os judeus alegria e gozo, banquetes e dias de folguedo; e muitos, dos povos da terra, se fizeram judeus, porque o temor dos judeus tinha caído so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o rei o seu anel, que tinha tomado de Hamã e o deu a Mardoqueu. E Ester encarregou Mardoqueu da casa de Ha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Ester perante o rei, e se lhe lançou aos seus pés; e chorou, e lhe suplicou que revogasse a maldade de Hamã, o agagita, e o intento que tinha projetado contra 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u o rei para Ester o cetro de ouro. Então Ester se levantou, e pôs-se em pé perante o r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Se bem parecer ao rei, e se eu achei graça perante ele, e se este negócio é reto diante do rei, e se eu lhe agrado aos seus olhos, escreva-se que se revoguem as cartas concebidas por Hamã filho de Hamedata, o agagita, as quais ele escreveu pa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como poderei ver o mal que sobrevirá ao meu povo? E como poderei ver a destruição da minha parente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Assuero à rainha Ester e ao judeu Mardoqueu: Eis que dei a Ester a casa de Hamã, e a ele penduraram numa forca, porquanto estendera as mãos contra 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ei, pois, aos judeus, como parecer bem aos vossos olhos, em nome do rei, e selai-o com o anel do rei; porque o documento que se escreve em nome do rei, e que se sela com o anel do rei, não se pode revo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 chamados os escrivães do rei, naquele mesmo tempo, no terceiro mês (que é o mês de Sivã), aos vinte e três dias; e se escreveu conforme a tudo quanto ordenou Mardoqueu aos judeus, como também aos sátrapas, e aos governadores, e aos líderes 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58Z</dcterms:created>
  <dc:creator>Admin</dc:creator>
  <dc:description/>
  <dc:language>en-US</dc:language>
  <cp:lastModifiedBy>Admin</cp:lastModifiedBy>
  <dcterms:modified xsi:type="dcterms:W3CDTF">2008-07-30T23:30:58Z</dcterms:modified>
  <cp:revision>1</cp:revision>
  <dc:subject/>
  <dc:title>Slide 1</dc:title>
</cp:coreProperties>
</file>