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34C-4B5D-4A91-A8AE-660CE921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C47-E477-4F57-9F79-F6F2995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77F-E9AE-48DC-A28E-A646F383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AC8-0149-4CF8-95E8-AFA0346C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09E-7ACF-4DF2-A851-D266BD1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D59-DC0F-424E-8235-4A95DEB1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C72-37AE-4946-9E26-9ADA891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20C-268C-4CE5-9C17-327E5031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9E5-E244-40FB-A939-57B0001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FC4-F080-465D-9B46-61A0CDC0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791-1563-4DB3-BBC7-1188AFDF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DEF-8AAF-4806-8555-A4D955B4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61E-29E7-47BF-982F-57E507F9ED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limite do lado do oriente marcareis de Hazar-Enã até Sef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limite descerá desde Sefã até Ribla, para o lado do oriente de Aim; depois descerá este termo, e irá ao longo da borda do mar de Quinerete para o lad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rá também este limite ao longo do Jordão, e as suas saídas serão no Mar Salgado; esta vos será a terra, segundo os seus limite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eu ordem aos filhos de Israel, dizendo: Esta é a terra que herdareis por sorte, a qual o SENHOR mandou dar às nove tribos e à meia tri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ribo dos filhos dos rubenitas, segundo a casa de seus pais, e a tribo dos filhos dos gaditas, segundo a casa de seus pais, já receberam; também a meia tribo de Manassés recebeu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duas tribos e meia tribo receberam a sua herança aquém do Jordão, na direção de Jericó, do lado do oriente, ao nas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nomes dos homens que vos repartirão a terra por herança: Eleazar, o sacerdote, e Josué, filho de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eis mais de cada tribo um príncipe, para repartir a terra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homens: Da tribo de Judá, Calebe, filho de Jefon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 aos filhos de Israel, e dize-lhes: Quando entrardes na terra de Canaã, esta há de ser a terra que vos cairá em herança; a terra de Canaã, segundo 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Simeão, Samuel, filho de Amiú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Benjamim, Elidade, filho de Quisl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Dã, o príncipe Buqui, filho de Jog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osé, da tribo dos filhos de Manassés, o príncipe Haniel, filho de Éfo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Efraim, o príncipe Quemuel, filho de Sift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Zebulom, o príncipe Elizafã, filho de Parna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Issacar, o príncipe Paltiel, filho de Az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Aser, o príncipe Aiúde, filho de Selom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tribo dos filhos de Naftali, o príncipe Pedael, filho de Ami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aqueles a quem o SENHOR ordenou, que repartissem as heranças aos filhos de Israel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ado do sul vos será desde o deserto de Zim até aos termos de Edom; e o termo do sul vos será desde a extremidade do Mar Salgado para o lad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limite vos irá rodeando do sul para a subida de Acrabim, e passará até Zim; e as suas saídas serão do sul a Cades-Barnéia; e sairá a Hazar-Adar, e passará a Azm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deará mais este limite de Azmom até ao rio do Egito; e as suas saídas serão para o lad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limite do ocidente, o Mar Grande vos será por limite; este vos será o limite d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vos será o termo do norte: desde o Mar Grande marcareis até ao monte 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monte Hor marcareis até à entrada de Hamate; e as saídas deste termo serão até Ze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limite seguirá até Zifrom, e as suas saídas serão em Hazar-Enã; este vos será o term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20Z</dcterms:created>
  <dc:creator>Admin</dc:creator>
  <dc:description/>
  <dc:language>en-US</dc:language>
  <cp:lastModifiedBy>Admin</cp:lastModifiedBy>
  <dcterms:modified xsi:type="dcterms:W3CDTF">2008-07-31T00:20:20Z</dcterms:modified>
  <cp:revision>1</cp:revision>
  <dc:subject/>
  <dc:title>Slide 1</dc:title>
</cp:coreProperties>
</file>