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CF64-6DAF-4505-B9DE-9ADB13B6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BFD-710C-4133-A78A-B0BD3C87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4687-1B8A-42C3-BEE1-DCD5E3E5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A2A-08A2-4A26-BF03-61EB135F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B1C-4B5B-44AF-AF6F-AF324A88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059-C746-4E00-96F0-41B06AA1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43C-0C49-4EFE-AFB8-5183A2D3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EB6-51B1-4A1D-B30E-3DC1D386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C2B-B7B5-4388-9AF3-FB8DD5F1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035-FF70-495D-A9B2-83EF0C1C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EFF-43B4-483C-A858-466FE9BA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1A42-D624-45CB-AA62-87C1E6CE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5C89-5BA1-4A5E-A652-2E7AFBB9FA7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Josué: Não temas, e não te espantes; toma contigo toda a gente de guerra, e levanta-te, sobe a Ai; olha que te tenho dado na tua mão o rei de Ai e o seu povo, e a sua cidade, e 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-se Josué de madrugada, e contou o povo; e subiram ele e os anciãos de Israel adiante do povo contra 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ram também todos os homens de guerra, que estavam com ele; e aproximaram-se, e chegaram defronte da cidade; e alojaram-se do lado norte de Ai, e havia um vale entre eles e 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ou também uns cinco mil homens, e pô-los de emboscada entre Betel e Ai, ao ocidente 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seram o povo, todo o arraial que estava ao norte da cidade, e a emboscada ao ocidente da cidade; e foi Josué aquela noite até ao meio do va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vendo-o o rei de Ai, ele e todo o seu povo se apressaram, e se levantaram de madrugada, e os homens da cidade saíram ao encontro de Israel ao combate, ao tempo determinado, defronte das campinas; porém ele não sabia que se achava uma emb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sué, pois, e todo o Israel se houveram como feridos diante deles, e fugiram pelo caminho d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odo o povo, que estava na cidade, foi convocado para os seguir; e seguiram a Josué e foram afastados 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m um só homem ficou em Ai, nem em Betel, que não saísse após Israel; e deixaram a cidade aberta, e seguiram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disse a Josué: Estende a lança que tens na tua mão, para Ai, porque a darei na tua mão. E Josué estendeu a lança, que estava na sua mão, para 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emboscada se levantou apressadamente do seu lugar, e, estendendo ele a sua mão, correram e entraram na cidade, e a tomaram; e apressando-se, puseram fogo n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, pois, a Ai e a seu rei, como fizeste a Jericó, e a seu rei; salvo que, para vós, tomareis os seus despojos, e o seu gado; põe emboscadas à cidade, por detrás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ando-se os homens de Ai para trás, olharam, e eis que a fumaça da cidade subia ao céu, e não puderam fugir nem para uma parte nem para outra, porque o povo, que fugia para o deserto, se tornou contra os que os segu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ndo Josué e todo o Israel que a emboscada tomara a cidade, e que a fumaça da cidade subia, voltaram, e feriram os homens de 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queles da cidade lhes saíram ao encontro, e assim ficaram no meio dos israelitas, uns de uma, e outros de outra parte; e feriram-nos, até que nenhum deles sobreviveu nem escap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o rei de Ai tomaram vivo, e o trouxeram a Josu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cabando os israelitas de matar todos os moradores de Ai no campo, no deserto, onde os tinham seguido, e havendo todos caído ao fio da espada, até serem consumidos, todo o Israel se tornou a Ai e a feriu ao fio de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que caíram aquele dia, assim homens como mulheres, foram doze mil, todos moradores de 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osué não retirou a sua mão, que estendera com a lança, até destruir totalmente a todos os moradores de 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ão-somente os israelitas tomaram para si o gado e os despojos da cidade, conforme à palavra do SENHOR, que tinha ordenado a Josu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imou, pois, Josué a Ai e a tornou num montão perpétuo, em ruínas,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rei de Ai enforcou num madeiro, até à tarde; e ao pôr do sol ordenou Josué que o seu corpo fosse tirado do madeiro; e o lançaram à porta da cidade, e levantaram sobre ele um grande montão de pedras, até 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ué levantou-se, e toda a gente de guerra, para subir contra Ai; e escolheu Josué trinta mil homens valorosos, e enviou-os de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ué edificou um altar ao SENHOR Deus de Israel, no monte Eb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Moisés, servo do SENHOR, ordenara aos filhos de Israel, conforme ao que está escrito no livro da lei de Moisés, a saber: um altar de pedras inteiras, sobre o qual não se moverá instrumento de ferro; e ofereceram sobre ele holocaustos ao SENHOR, e 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screveu ali, em pedras, uma cópia da lei de Moisés, que este havia escrito diante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Israel, com os seus anciãos, e os seus príncipes, e os seus juízes, estavam de um e de outro lado da arca, perante os sacerdotes levitas, que levavam a arca da aliança do SENHOR, assim estrangeiros como naturais; metade deles em frente do mon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leu em alta voz todas as palavras da lei, a bênção e a maldição, conforme a tudo o que está escrito no livro d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lavra nenhuma houve, de tudo o que Moisés ordenara, que Josué não lesse perante toda a congregação de Israel, e as mulheres, e os meninos, e os estrangeiros, que andavam no mei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-lhes ordem, dizendo: Olhai! Ponde-vos de emboscadas contra a cidade, por detrás dela; não vos alongueis muito da cidade; e estai todos vós at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u e todo o povo que está comigo nos aproximaremos da cidade; e será que, quando nos saírem ao encontro, como antes, fugiremos diant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i-os, pois, sair atrás de nós, até que os tiremos da cidade; porque dirão: Fogem diante de nós como antes. Assim fugiremos diant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reis vós da emboscada, e tomareis a cidade; porque o SENHOR vosso Deus vo-la dará nas voss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 tomando vós a cidade, pôr-lhe-eis fogo; conforme a palavra do SENHOR fareis; olhai que vo-lo tenho man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Josué os enviou, e eles se foram à emboscada; e ficaram entre Betel e Ai, ao ocidente de Ai; porém Josué passou aquela noite no meio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5:10Z</dcterms:created>
  <dc:creator>Admin</dc:creator>
  <dc:description/>
  <dc:language>en-US</dc:language>
  <cp:lastModifiedBy>Admin</cp:lastModifiedBy>
  <dcterms:modified xsi:type="dcterms:W3CDTF">2008-07-31T00:05:10Z</dcterms:modified>
  <cp:revision>1</cp:revision>
  <dc:subject/>
  <dc:title>Slide 1</dc:title>
</cp:coreProperties>
</file>