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6F2-8FA5-4311-9839-6C7875C7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2CD-EA61-4CB7-910C-BD685D06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D7C7-FFB4-4E18-B208-2309FA6D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BB07-5713-4166-94B2-FF36F81D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51B-51C7-44DA-8CCA-C24B3A09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5D6-2E4F-43B5-AFBD-9B7CADD2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4C2-398D-4656-B89E-C7C7663C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7CE-F23F-41AE-A510-265B47AB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9F3-B3AF-4D74-AE21-73FB703F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A20-BF20-418B-AC2E-D6386C73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3E2-70D7-46D1-B4F0-90015438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CC3-36C5-4372-8899-DB976189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173D-1B2B-4F40-ABA6-A5B5F0D8D38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ILATOS, pois, tomou então a Jesus, e o açoi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, pois, Pilatos: Não me falas a mim? Não sabes tu que tenho poder para te crucificar e tenho poder para te solt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Jesus: Nenhum poder terias contra mim, se de cima não te fosse dado; mas aquele que me entregou a ti maior pecado t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então Pilatos procurava soltá-lo; mas os judeus clamavam, dizendo: Se soltas este, não és amigo de César; qualquer que se faz rei é contra Cé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Pilatos este dito, levou Jesus para fora, e assentou-se no tribunal, no lugar chamado Litóstrotos, e em hebraico Gabat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a preparação da páscoa, e quase à hora sexta; e disse aos judeus: Eis aqui o voss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bradaram: Tira, tira, crucifica-o. Disse-lhes Pilatos: Hei de crucificar o vosso Rei? Responderam os principais dos sacerdotes: Não temos rei, senão Cé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conseqüentemente entregou-lho, para que fosse crucificado. E tomaram a Jesus, e o lev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do ele às costas a sua cruz, saiu para o lugar chamado Caveira, que em hebraico se chama Gólgo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o crucificaram, e com ele outros dois, um de cada lado, e Jesus no m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ilatos escreveu também um título, e pô-lo em cima da cruz; e nele estava escrito: JESUS NAZARENO, O REI D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oldados, tecendo uma coroa de espinhos, lha puseram sobre a cabeça, e lhe vestiram roupa de púrp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s dos judeus leram este título; porque o lugar onde Jesus estava crucificado era próximo da cidade; e estava escrito em hebraico, grego e lat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iam, pois, os principais sacerdotes dos judeus a Pilatos: Não escrevas, O Rei dos Judeus, mas que ele disse: Sou o Rei d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Pilatos: O que escrevi, escre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, pois, os soldados crucificado a Jesus, tomaram as suas vestes, e fizeram quatro partes, para cada soldado uma parte; e também a túnica. A túnica, porém, tecida toda de alto a baixo, não tinha cos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, pois, uns aos outros: Não a rasguemos, mas lancemos sortes sobre ela, para ver de quem será. Para que se cumprisse a Escritura que diz: Repartiram entre si as minhas vestes, E sobre a minha vestidura lançaram sortes. Os soldados, pois, fizera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à cruz de Jesus estava sua mãe, e a irmã de sua mãe, Maria mulher de Clopas, e Maria Madale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Jesus, vendo ali sua mãe, e que o discípulo a quem ele amava estava presente, disse a sua mãe: Mulher, eis aí o t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ao discípulo: Eis aí tua mãe. E desde aquela hora o discípulo a recebeu em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, sabendo Jesus que já todas as coisas estavam terminadas, para que a Escritura se cumprisse, disse: Tenho s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, pois, ali um vaso cheio de vinagre. E encheram de vinagre uma esponja, e, pondo-a num hissope, lha chegaram à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m: Salve, Rei dos Judeus. E davam-lhe bofet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Jesus tomou o vinagre, disse: Está consumado. E, inclinando a cabeça, entregou 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judeus, pois, para que no sábado não ficassem os corpos na cruz, visto como era a preparação (pois era grande o dia de sábado), rogaram a Pilatos que se lhes quebrassem as pernas, e fossem ti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, pois, os soldados, e, na verdade, quebraram as pernas ao primeiro, e ao outro que como ele fora crucifi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vindo a Jesus, e vendo-o já morto, não lhe quebraram as per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um dos soldados lhe furou o lado com uma lança, e logo saiu sangue e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que o viu testificou, e o seu testemunho é verdadeiro; e sabe que é verdade o que diz, para que também vós o crei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isto aconteceu para que se cumprisse a Escritura, que diz: Nenhum dos seus ossos será queb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vez diz a Escritura: Verão aquele que traspass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to, José de Arimatéia (o que era discípulo de Jesus, mas oculto, por medo dos judeus) rogou a Pilatos que lhe permitisse tirar o corpo de Jesus. E Pilatos lho permitiu. Então foi e tirou o corpo de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também Nicodemos (aquele que anteriormente se dirigira de noite a Jesus), levando quase cem arráteis de um composto de mirra e alo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ilatos saiu outra vez fora, e disse-lhes: Eis aqui vo-lo trago fora, para que saibais que não acho nele crime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ram, pois, o corpo de Jesus e o envolveram em lençóis com as especiarias, como os judeus costumam fazer, na preparação para o sepulc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um horto naquele lugar onde fora crucificado, e no horto um sepulcro novo, em que ainda ninguém havia sido p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, pois (por causa da preparação dos judeus, e por estar perto aquele sepulcro), puseram a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u, pois, Jesus fora, levando a coroa de espinhos e roupa de púrpura. E disse-lhes Pilatos: Eis aqui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-o, pois, os principais dos sacerdotes e os servos, clamaram, dizendo: Crucifica-o, crucifica-o. Disse-lhes Pilatos: Tomai-o vós, e crucificai-o; porque eu nenhum crime acho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ram-lhe os judeus: Nós temos uma lei e, segundo a nossa lei, deve morrer, porque se fez Fil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ilatos, quando ouviu esta palavra, mais atemorizado 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ou outra vez na audiência, e disse a Jesus: De onde és tu? Mas Jesus não lhe deu respo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22Z</dcterms:created>
  <dc:creator>Admin</dc:creator>
  <dc:description/>
  <dc:language>en-US</dc:language>
  <cp:lastModifiedBy>Admin</cp:lastModifiedBy>
  <dcterms:modified xsi:type="dcterms:W3CDTF">2008-07-31T00:04:22Z</dcterms:modified>
  <cp:revision>1</cp:revision>
  <dc:subject/>
  <dc:title>Slide 1</dc:title>
</cp:coreProperties>
</file>