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F94-3D47-4F36-9856-77666633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8CAA-A62D-453E-9763-B16275C1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185-ED25-4A4A-B43C-92FDB3EF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8B4-7C8A-4B1C-9890-27108F1B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E2E-CAF4-4FCB-A82F-7FC21094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D9E-5180-4066-BD7F-FA8AA7A6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AAA5-169F-40C4-9DDC-E9BE9FC9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5C1F-E645-4E66-B9D6-C47E0E73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36FB-A9FF-4637-96FD-B7FE8A89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8F35-267C-4898-AC77-FFC326B2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CDE6-EFBB-4A75-95BB-2F6434B7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D95B-972B-4374-BB34-D7D7E817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BD9A-0438-4658-8C4E-30D2356707A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s os filhos de Israel saíram, e a congregação se ajuntou, perante o SENHOR em Mizpá, como se fora um só homem, desde Dã até Berseba, como também a terra de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todas as tribos de Israel, tomaremos dez homens de cada cem, e cem de cada mil, e mil de cada dez mil, para providenciarem mantimento para o povo; para que, vindo ele a Gibeá de Benjamim, lhe façam conforme a toda a loucura que tem feito em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ajuntaram-se contra esta cidade todos os homens de Israel, unidos como um só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tribos de Israel enviaram homens por toda a tribo de Benjamim, dizendo: Que maldade é esta que se fez entre vó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i-nos, pois, agora aqueles homens, filhos de Belial, que estão em Gibeá, para que os matemos, e tiremos de Israel o mal. Porém os filhos de Benjamim não quiseram ouvir a voz de seus irmãos,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os filhos de Benjamim se ajuntaram das cidades em Gibeá, para saírem a pelejar contra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aram-se naquele dia os filhos de Benjamim, das cidades, vinte e seis mil homens que tiravam a espada, afora os moradores de Gibeá, de que se contaram setecentos homens escolh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e todo este povo havia setecentos homens escolhidos, canhotos, os quais atiravam com a funda uma pedra em um cabelo, e não err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aram-se dos homens de Israel, afora os de Benjamim, quatrocentos mil homens que tiravam da espada, e todos eles homens de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aram-se os filhos de Israel, e subiram a Betel; e consultaram a Deus, dizendo: Quem dentre nós subirá primeiro a pelejar contra Benjamim? E disse o SENHOR: Judá subirá prim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ram-se, pois, os filhos de Israel pela manhã, e acamparam-se contra Gibe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rincipais de todo o povo, de todas as tribos de Israel, se apresentaram na congregação do povo de Deus; quatrocentos mil homens de pé que tiravam a espa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omens de Israel saíram à peleja contra Benjamim; e os homens de Israel ordenaram a batalha contra eles, ao pé de Gibe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filhos de Benjamim saíram de Gibeá, e derrubaram por terra, naquele dia, vinte e dois mil homen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sforçou-se o povo, isto é, os homens de Israel, e tornaram a ordenar a peleja no lugar onde no primeiro dia a tinham ord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ram os filhos de Israel, e choraram perante o SENHOR até à tarde, e perguntaram ao SENHOR, dizendo: Tornar-me-ei a chegar à peleja contra os filhos de Benjamim, meu irmão? E disse o SENHOR: Subi contr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ram-se, pois, os filhos de Israel aos filhos de Benjamim, no dia segui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s de Benjamim no dia seguinte lhes saíram ao encontro fora de Gibeá, e derrubaram ainda por terra mais dezoito mil homens, todos dos que tiravam a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s os filhos de Israel, e todo o povo, subiram, e vieram a Betel e choraram, e estiveram ali perante o SENHOR, e jejuaram aquele dia até à tarde; e ofereceram holocaustos e ofertas pacíficas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Israel perguntaram ao SENHOR (porquanto a arca da aliança de Deus estava ali naqueles d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néias, filho de Eleazar, filho de Arão, estava perante ele naqueles dias), dizendo: Tornarei ainda a pelejar contra os filhos de Benjamim, meu irmão, ou pararei? E disse o SENHOR: Subi, que amanhã eu to entregarei n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Israel pôs emboscadas em redor de Gibe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Ouviram, pois, os filhos de Benjamim que os filhos de Israel haviam subido a Mizpá). E disseram os filhos de Israel: Falai, como sucedeu esta malda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ram os filhos de Israel ao terceiro dia contra os filhos de Benjamim, e ordenaram a peleja junto a Gibeá, como das outras ve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filhos de Benjamim saíram ao encontro do povo, e desviaram-se da cidade; e começaram a ferir alguns do povo, atravessando-os, como das outras vezes, pelos caminhos (um dos quais sobe para Betel, e o outro para Gibeá pelo campo), uns trinta dos 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filhos de Benjamim disseram: Estão derrotados diante de nós como dantes. Porém os filhos de Israel disseram: Fujamos, e desviemo-los da cidade para os c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s os homens de Israel se levantaram do seu lugar, e ordenaram a peleja em Baal-Tamar; e a emboscada de Israel saiu do seu lugar, da caverna de Gibe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z mil homens escolhidos de todo o Israel vieram contra Gibeá, e a peleja se agravou; porém eles não sabiam o mal que lhes toc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eriu o SENHOR a Benjamim diante de Israel; e destruíram os filhos de Israel, naquele dia, vinte e cinco mil e cem homens de Benjamim, todos dos que tiravam a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ram os filhos de Benjamim que estavam feridos; porque os homens de Israel deram lugar aos benjamitas, porquanto estavam confiados na emboscada que haviam posto contra Gibe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emboscada se apressou, e acometeu a Gibeá; e a emboscada arremeteu contra ela, e feriu ao fio da espada toda 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omens de Israel tinham um sinal determinado com a emboscada, que era fazer levantar da cidade uma grande nuvem de fuma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raram-se, pois, os homens de Israel na peleja; e já Benjamim começava a ferir, dos homens de Israel, quase trinta homens, pois diziam: Já infalivelmente estão derrotados diante de nós, como na peleja pass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o homem levita, marido da mulher que fora morta, e disse: Cheguei com a minha concubina a Gibeá, cidade de Benjamim, para passar a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nuvem de fumaça começou a se levantar da cidade, como uma coluna; e, virando-se Benjamim a olhar para trás de si, eis que a fumaça da cidade subia a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omens de Israel viraram os rostos, e os homens de Benjamim pasmaram; porque viram que o mal lhes toc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raram as costas diante dos homens de Israel, para o caminho do deserto; porém a peleja os apertou; e os que saíam das cidades os destruíram no mei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ercaram aos de Benjamim, e os perseguiram, e à vontade os pisaram, até diante de Gibeá, para o nascente do so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íram de Benjamim dezoito mil homens, todos estes sendo homens val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iraram as costas, e fugiram para o deserto, à penha de Rimom; colheram ainda deles pelos caminhos uns cinco mil homens; e de perto os seguiram até Gidom, e feriram deles dois mil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odos os que caíram de Benjamim, naquele dia, foram vinte e cinco mil homens que tiravam a espada, todos eles homens val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eiscentos homens viraram as costas, e fugiram para o deserto, à penha de Rimom; e ficaram na penha de Rimom quatro me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omens de Israel voltaram para os filhos de Benjamim, e os feriram ao fio da espada, desde os homens da cidade até aos animais, até a tudo quanto se achava, como também a todas as cidades, quantas acharam, puseram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idadãos de Gibeá se levantaram contra mim, e cercaram a casa de noite; intentaram matar-me, e violaram a minha concubina, de maneira que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eguei na minha concubina, e fi-la em pedaços, e a enviei por toda a terra da herança de Israel; porquanto fizeram tal malefício e loucura em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todos sois filhos de Israel; dai aqui a vossa palavra e conse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 o povo se levantou como um só homem, dizendo: Nenhum de nós irá à sua tenda nem nenhum de nós voltará à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isto é o que faremos a Gibeá: procederemos contra ela por s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7:37Z</dcterms:created>
  <dc:creator>Admin</dc:creator>
  <dc:description/>
  <dc:language>en-US</dc:language>
  <cp:lastModifiedBy>Admin</cp:lastModifiedBy>
  <dcterms:modified xsi:type="dcterms:W3CDTF">2008-07-31T00:07:37Z</dcterms:modified>
  <cp:revision>1</cp:revision>
  <dc:subject/>
  <dc:title>Slide 1</dc:title>
</cp:coreProperties>
</file>