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C5C-8927-4271-9A10-52C2A4C7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D88-C82E-4526-AC2E-D35E6FAC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691-21FD-42C5-9F13-C4AC9E7E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E31-42C6-4B92-8686-AC1B4112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B58-BE47-4919-A54A-19988A52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860-2203-4D54-938C-EBEB8B64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D6C-4EE0-41D8-BBEE-D42C89FF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8E4-E54E-4452-8717-C08D665F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9AB-F8D2-42A1-BF5D-C9FB283C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BD9-ADFB-4738-82A6-8749AF5D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039-DD4C-4E40-BA00-39784953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BB7-E27A-4CE2-AE95-828473E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4D99-B1B4-4DC5-A1C2-562D15A1184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não havia rei em Israel; e nos mesmos dias a tribo dos danitas buscava para si herança para habitar; porquanto até àquele dia entre as tribos de Israel não lhe havia caído por sorte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lá chegardes, vereis um povo confiado, e a terra é larga de extensão; porque Deus vo-la entregou nas mãos; lugar em que não há falta de coisa alguma que há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tiram dali, da tribo dos danitas, de Zorá e de Estaol, seiscentos homens munidos de armas de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ram, e acamparam-se em Quiriate-Jearim, em Judá; então chamaram a este lugar Maané-Dã, até ao dia de hoje; eis que está por detrás de Quiriate-Jear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passaram à montanha de Efraim; e chegaram até a casa de M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ram os cinco homens, que foram espiar a terra de Laís, e disseram a seus irmãos: Sabeis vós também que naquelas casas há um éfode, e terafins, e uma imagem de escultura e uma de fundição? Vede, pois, agora o que haveis de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dirigiram para lá, e chegaram à casa do moço, o levita, em casa de Mica, e o saud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iscentos homens, que eram dos filhos de Dã, munidos com suas armas de guerra, ficaram à entrada d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ubindo os cinco homens, que foram espiar a terra, entraram ali, e tomaram a imagem de escultura, o éfode, e os terafins, e a imagem de fundição, ficando o sacerdote em pé à entrada da porta, com os seiscentos homens que estavam munidos com as ar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ndo eles, pois, em casa de Mica, e tomando a imagem de escultura, e o éfode, e os terafins, e a imagem de fundição, disse-lhes o sacerdote: Que estais fazen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disseram: Cala-te, põe a mão na boca, e vem conosco, e sê-nos por pai e sacerdote. É melhor ser sacerdote da casa de um só homem, do que ser sacerdote de uma tribo e de uma família em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am os filhos de Dã, da sua tribo, cinco homens dentre eles, homens valorosos, de Zorá e de Estaol, a espiar e reconhecer a terra, e lhes disseram: Ide, reconhecei a terra. E chegaram à montanha de Efraim, até à casa de Mica, e passaram ali a no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legrou-se o coração do sacerdote, e tomou o éfode, e os terafins, e a imagem de escultura; e entrou no meio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iraram, e partiram; e os meninos, e o gado, e a bagagem puseram diante de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já longe da casa de Mica, os homens que estavam nas casas junto à casa de Mica, reuniram-se, e alcançaram os filhos de 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aram após os filhos de Dã, os quais viraram os seus rostos, e disseram a Mica: Que tens, que tanta gente convoca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disse: Os meus deuses, que eu fiz, me tomastes, juntamente com o sacerdote, e partistes; que mais me resta agora? Como, pois, me dizeis: Que é que t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filhos de Dã lhe disseram: Não nos faças ouvir a tua voz, para que porventura homens de ânimo mau não se lancem sobre vós, e tu percas a tua vida, e a vida dos d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guiram o seu caminho os filhos de Dã; e Mica, vendo que eram mais fortes do que ele, virou-se, e voltou à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, pois, tomaram o que Mica tinha feito, e o sacerdote que tivera, e chegaram a Laís, a um povo quieto e confiado, e os feriram ao fio da espada, e queimaram a cidade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 houve que os livrasse, porquanto estavam longe de Sidom, e não tinham relações com ninguém, e a cidade estava no vale que está junto de Bete-Reobe; depois reedificaram a cidade e habitaram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aram-lhe Dã, conforme ao nome de Dã, seu pai, que nascera a Israel; era, porém, antes o nome desta cidade Laí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eles estavam junto da casa de Mica, reconheceram a voz do moço, do levita; e dirigindo-se para lá, lhe disseram: Quem te trouxe aqui? Que fazes aqui? E que é que tens aqu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Dã levantaram para si aquela imagem de escultura; e Jônatas, filho de Gérson, o filho de Manassés, ele e seus filhos foram sacerdotes da tribo dos danitas, até ao dia do cativeir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estabeleceram para si a imagem de escultura, que fizera Mica, por todos os dias em que a casa de Deus esteve em Sil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Assim e assim me tem feito Mica; pois me tem contratado, e eu lhe sirvo de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ram: Consulta a Deus, para que possamos saber se prosperará o caminho que segu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o sacerdote: Ide em paz; o caminho que seguis está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ram-se aqueles cinco homens, e chegaram a Laís; e viram que o povo que havia no meio dela estava seguro, conforme ao costume dos sidônios, quieto e confiado; nem havia autoridade alguma do reino que por qualquer coisa envergonhasse a alguém na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ltaram a seus irmãos, a Zorá e a Estaol, os quais lhes disseram: Que dizeis v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Levantai-vos, e subamos contra eles; porque examinamos a terra, e eis que é muitíssimo boa. E vós estareis aqui tranqüilos? Não sejais preguiçosos em irdes para entrar a possuir 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26Z</dcterms:created>
  <dc:creator>Admin</dc:creator>
  <dc:description/>
  <dc:language>en-US</dc:language>
  <cp:lastModifiedBy>Admin</cp:lastModifiedBy>
  <dcterms:modified xsi:type="dcterms:W3CDTF">2008-07-31T00:07:26Z</dcterms:modified>
  <cp:revision>1</cp:revision>
  <dc:subject/>
  <dc:title>Slide 1</dc:title>
</cp:coreProperties>
</file>