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49A-E3C3-4E3A-B8CC-EF01E1D6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11C-9E11-4629-978B-166F7EF2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15E-3FF7-481C-BB0E-7F49BCBD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323-F4C3-42F7-9E10-F6913576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B19-3046-47E9-9060-02495A74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170-E9DE-4530-8EF9-42456CD3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65A-E1CB-4A08-A54D-29CFE06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758-0E38-45BD-824F-98B58F7D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5C0-1989-4AF6-A79F-E49787DD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5F4-3D3A-4CF4-B3D5-310D382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229-2F37-4A96-AAC0-0EBC3CE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BD5-F98F-4C15-8D8B-32FE46B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EA1A-FAD5-4F29-AD89-33D6D06DF59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Hirão, rei de Tiro, os seus servos a Salomão (porque ouvira que ungiram a Salomão rei em lugar de seu pai), porquanto Hirão sempre tinha amado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u Hirão a Salomão madeira de cedro e madeira de cipreste, conforme a toda a su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deu a Hirão vinte mil coros de trigo, para sustento da sua casa, e vinte coros de azeite batido; isto dava Salomão a Hirão anu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, pois, o SENHOR a Salomão sabedoria, como lhe tinha falado; e houve paz entre Hirão e Salomão, e ambos fizeram acor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alomão fez subir uma leva de gente dentre todo o Israel, e foi a leva de gente trinta mil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nviava ao Líbano, cada mês, dez mil por turno; um mês estavam no Líbano, e dois meses cada um em sua casa; e Adonirão estava sobre a leva de g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também Salomão setenta mil que levavam as cargas, e oitenta mil que talhavam pedras nas montanh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ora os chefes dos oficiais de Salomão, que estavam sobre aquela obra, três mil e trezentos, os quais davam as ordens ao povo que fazia aquel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o rei que trouxessem pedras grandes, e pedras valiosas, pedras lavradas, para fundarem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lavraram os edificadores de Hirão, e os giblitas; e preparavam a madeira e as pedras para edificar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lomão mandou dizer a Hirã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sabes tu que Davi, meu pai, não pôde edificar uma casa ao nome do SENHOR seu Deus, por causa da guerra com que o cercaram, até que o SENHOR pôs seus inimigos debaixo das plantas dos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gora o SENHOR meu Deus me tem dado descanso de todos os lados; adversário não há, nem algum mau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eu intento edificar uma casa ao nome do SENHOR meu Deus, como falou o SENHOR a Davi, meu pai, dizendo: Teu filho, que porei em teu lugar no teu trono, ele edificará uma casa a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ordem, pois, agora, que do Líbano me cortem cedros, e os meus servos estarão com os teus servos, e eu te darei o salário dos teus servos, conforme a tudo o que disseres; porque bem sabes tu que entre nós ninguém há que saiba cortar a madeira como os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ouvindo Hirão as palavras de Salomão, muito se alegrou, e disse: Bendito seja hoje o SENHOR, que deu a Davi um filho sábio sobre este tão grand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Hirão a Salomão, dizendo: Ouvi o que me mandaste dizer. Eu farei toda a tua vontade acerca das madeiras de cedro e de cipr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servos as levarão desde o Líbano até ao mar, e eu as farei conduzir em jangadas pelo mar até ao lugar que me designares, e ali as desamarrarei; e tu as tomarás; tu também farás a minha vontade, dando sustento à minh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51Z</dcterms:created>
  <dc:creator>Admin</dc:creator>
  <dc:description/>
  <dc:language>en-US</dc:language>
  <cp:lastModifiedBy>Admin</cp:lastModifiedBy>
  <dcterms:modified xsi:type="dcterms:W3CDTF">2008-07-30T23:44:51Z</dcterms:modified>
  <cp:revision>1</cp:revision>
  <dc:subject/>
  <dc:title>Slide 1</dc:title>
</cp:coreProperties>
</file>