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98B5-1654-4364-9809-8BB97779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390D-D1CC-471B-A98B-D507D5CD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FC49-B729-4F83-ADD4-216D5E92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B258-ABA7-4CE9-A7D8-DDDF4DCC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05A5-2BB7-4A0B-BE03-CE668615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7FD4-1D9C-4125-B065-732B8E8E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1320-8B0F-4539-B615-55CB5321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AC69-6DED-4175-8011-1EA3E65B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4B2A-2E8E-45B9-BAD5-F6839C77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42A0-F94E-4AA0-ACC7-578C581E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4B00-329C-4B40-B17D-580C08E4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89B6-5D0D-41D1-9A7B-DF70FC10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EF7A-9A08-476B-9875-20D6CCB74CA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UI buscado dos que não perguntavam por mim, fui achado daqueles que não me buscavam; a uma nação que não se chamava do meu nome eu disse: Eis-me aqui. Eis-me 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rom servirá de curral de rebanhos, e o vale de Acor lugar de repouso de gados, para o meu povo, que me busc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vós, os que vos apartais do SENHOR, os que vos esqueceis do meu santo monte, os que preparais uma mesa para a Fortuna, e que misturais a bebida para o Dest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vos destinareis à espada, e todos vos encurvareis à matança; porquanto chamei, e não respondestes; falei, e não ouvistes; mas fizestes o que era mau aos meus olhos, e escolhestes aquilo em que não tinha pr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 DEUS: Eis que os meus servos comerão, mas vós padecereis fome; eis que os meus servos beberão, porém vós tereis sede; eis que os meus servos se alegrarão, mas vós vos envergonhare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os meus servos exultarão pela alegria de coração, mas vós gritareis pela tristeza de coração; e uivareis pelo quebrantamento de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ixareis o vosso nome aos meus eleitos por maldição; e o Senhor DEUS vos matará; e a seus servos chamará por outro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que aquele que se bendisser na terra, se bendirá no Deus da verdade; e aquele que jurar na terra, jurará pelo Deus da verdade; porque já estão esquecidas as angústias passadas, e estão escondidas dos m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eis que eu crio novos céus e nova terra; e não haverá mais lembrança das coisas passadas, nem mais se record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vós folgareis e exultareis perpetuamente no que eu crio; porque eis que crio para Jerusalém uma alegria, e para o seu povo go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xultarei em Jerusalém, e me alegrarei no meu povo; e nunca mais se ouvirá nela voz de choro nem voz de cl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ndi as minhas mãos o dia todo a um povo rebelde, que anda por caminho, que não é bom, após os seus pensamen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haverá mais nela criança de poucos dias, nem velho que não cumpra os seus dias; porque o menino morrerá de cem anos; porém o pecador de cem anos será amaldiço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dificarão casas, e as habitarão; e plantarão vinhas, e comerão o seu fru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edificarão para que outros habitem; não plantarão para que outros comam; porque os dias do meu povo serão como os dias da árvore, e os meus eleitos gozarão das obras das s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rabalharão debalde, nem terão filhos para a perturbação; porque são a posteridade bendita do SENHOR, e os seus descendentes estarão com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 antes que clamem eu responderei; estando eles ainda falando, eu os ouvi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lobo e o cordeiro se apascentarão juntos, e o leão comerá palha como o boi; e pó será a comida da serpente. Não farão mal nem dano algum em todo o meu santo monte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vo que de contínuo me irrita diante da minha face, sacrificando em jardins e queimando incenso sobre altares de tijol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habita entre as sepulturas, e passa as noites junto aos lugares secretos; come carne de porco e tem caldo de coisas abomináveis nos seus vas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dizem: Fica onde estás, e não te chegues a mim, porque sou mais santo do que tu. Estes são fumaça no meu nariz, um fogo que arde todo 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stá escrito diante de mim: não me calarei; mas eu pagarei, sim, pagarei no seu sei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vossas iniqüidades, e juntamente as iniqüidades de vossos pais, diz o SENHOR, que queimaram incenso nos montes, e me afrontaram nos outeiros; assim lhes tornarei a medir as suas obras antigas no seu se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Como quando se acha mosto num cacho de uvas, dizem: Não o desperdices, pois há bênção nele, assim farei por amor de meus servos, que não os destrua a tod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oduzirei descendência a Jacó, e a Judá um herdeiro que possua os meus montes; e os meus eleitos herdarão a terra e os meus servos habitarão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7:09Z</dcterms:created>
  <dc:creator>Admin</dc:creator>
  <dc:description/>
  <dc:language>en-US</dc:language>
  <cp:lastModifiedBy>Admin</cp:lastModifiedBy>
  <dcterms:modified xsi:type="dcterms:W3CDTF">2008-07-30T23:57:09Z</dcterms:modified>
  <cp:revision>1</cp:revision>
  <dc:subject/>
  <dc:title>Slide 1</dc:title>
</cp:coreProperties>
</file>