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CD1-1260-49C1-8169-53A7E82D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9A9-982C-4A2F-96C2-5CC6404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53F-E35B-4919-9BA3-74A67FFC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A73-EFC8-42F2-A207-8352BD27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C02-9F47-420C-828A-C753A29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B7D-B31D-4EC7-A96B-59D09A39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33C-8C73-414A-B5A1-EC0CAB5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F34-5A93-48B5-91C3-489BA6A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EFC-CEEC-4E13-A619-C622111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FA4-C798-446C-A0E5-616F13C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088-D21A-45C2-8278-75F7319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8FF-444F-46E7-ACF4-803B7E90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DEF-6DFB-4C4F-B91A-3CBECBA80C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houve entre o povo falsos profetas, como entre vós haverá também falsos doutores, que introduzirão encobertamente heresias de perdição, e negarão o Senhor que os resgatou, trazendo sobre si mesmos repentina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rincipalmente aqueles que segundo a carne andam em concupiscências de imundícia, e desprezam as autoridades; atrevidos, obstinados, não receando blasfemar das dign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os anjos, sendo maiores em força e poder, não pronunciam contra eles juízo blasfemo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s, como animais irracionais, que seguem a natureza, feitos para serem presos e mortos, blasfemando do que não entendem, perecerão na sua corrup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ndo o galardão da injustiça; pois que tais homens têm prazer nos deleites quotidianos; nódoas são eles e máculas, deleitando-se em seus enganos, quando se banqueteiam convos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os olhos cheios de adultério, e não cessando de pecar, engodando as almas inconstantes, tendo o coração exercitado na avareza, filhos de mald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deixando o caminho direito, erraram seguindo o caminho de Balaão, filho de Beor, que amou o prêmio da injusti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ve a repreensão da sua transgressão; o mudo jumento, falando com voz humana, impediu a loucura d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fontes sem água, nuvens levadas pela força do vento, para os quais a escuridão das trevas eternamente se re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falando coisas mui arrogantes de vaidades, engodam com as concupiscências da carne, e com dissoluções, aqueles que se estavam afastando dos que andam em er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metendo-lhes liberdade, sendo eles mesmos servos da corrupção. Porque de quem alguém é vencido, do tal faz-se também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seguirão as suas dissoluções, pelos quais será blasfemado o caminho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, depois de terem escapado das corrupções do mundo, pelo conhecimento do Senhor e Salvador Jesus Cristo, forem outra vez envolvidos nelas e vencidos, tornou-se-lhes o último estado pior do que 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lhor lhes fora não conhecerem o caminho da justiça, do que, conhecendo-o, desviarem-se do santo mandamento que lhes fora d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 modo sobreveio-lhes o que por um verdadeiro provérbio se diz: O cão voltou ao seu próprio vômito, e a porca lavada ao espojadouro de l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avareza farão de vós negócio com palavras fingidas; sobre os quais já de largo tempo não será tardia a sentença, e a sua perdição não dor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eus não perdoou aos anjos que pecaram, mas, havendo-os lançado no inferno, os entregou às cadeias da escuridão, ficando reservados para o juí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erdoou ao mundo antigo, mas guardou a Noé, pregoeiro da justiça, com mais sete pessoas, ao trazer o dilúvio sobre o mundo dos ímp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denou à destruição as cidades de Sodoma e Gomorra, reduzindo-as a cinza, e pondo-as para exemplo aos que vivessem impi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vrou o justo Ló, enfadado da vida dissoluta dos homens abomináve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este justo, habitando entre eles, afligia todos os dias a sua alma justa, vendo e ouvindo sobre as suas obras injusta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sabe o Senhor livrar da tentação os piedosos, e reservar os injustos para o dia do juízo, para serem castig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56Z</dcterms:created>
  <dc:creator>Admin</dc:creator>
  <dc:description/>
  <dc:language>en-US</dc:language>
  <cp:lastModifiedBy>Admin</cp:lastModifiedBy>
  <dcterms:modified xsi:type="dcterms:W3CDTF">2008-07-30T23:50:56Z</dcterms:modified>
  <cp:revision>1</cp:revision>
  <dc:subject/>
  <dc:title>Slide 1</dc:title>
</cp:coreProperties>
</file>