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DD9-2B9C-4D91-994C-0D2DA13C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62A-A154-431A-9377-B19052D1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76EB-F0B5-4FA7-9A83-5D7DE282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9D96-7681-418A-87EE-872F1D1D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4EBD-7333-4E88-9A73-6C3BF4F6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871B-FC66-4A52-8E8F-D61E0384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EB64-67D7-423A-B587-2A2C784A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707C-408B-489D-9481-0D10918B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E50-490D-4913-863C-D0271BA2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CDE-163B-48B0-9A04-AF8ACAB2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B6D2-3F5A-4F17-BEEC-7B1FA9F5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9A03-F3B4-4011-B92D-4F9231ED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BEA3-81EB-4A6D-9495-E11A611AE98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ngregou Salomão os anciãos de Israel, e todos os cabeças das tribos, os chefes dos pais dos filhos de Israel, diante de si em Jerusalém; para fazerem subir a arca da aliança do SENHOR da cidade de Davi, que é S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saindo os sacerdotes do santuário, uma nuvem encheu 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acerdotes não podiam permanecer em pé para ministrar, por causa da nuvem, porque a glória do SENHOR enchera 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 Salomão: O SENHOR disse que ele habitaria nas tre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tamente te edifiquei uma casa para morada, assento para a tua eterna habi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irou o rei o seu rosto, e abençoou toda a congregação de Israel; e toda a congregação de Israel estava em p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Bendito seja o SENHOR Deus de Israel, que falou pela sua boca a Davi, meu pai, e pela sua mão o cumpriu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 dia em que eu tirei o meu povo Israel do Egito, não escolhi cidade alguma de todas as tribos de Israel, para edificar alguma casa para ali estabelecer o meu nome; porém escolhi a Davi, para que presidisse sobre o meu pov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avi, meu pai, propusera em seu coração o edificar casa ao nome do SENHOR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SENHOR disse a Davi, meu pai: Porquanto propuseste no teu coração o edificar casa ao meu nome bem fizeste em o propor no t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tu não edificarás esta casa; porém teu filho, que sair de teus lombos, edificará esta casa ao m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homens de Israel se congregaram ao rei Salomão, na ocasião da festa, no mês de Etanim, que é o sétimo m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nfirmou o SENHOR a sua palavra que falou; porque me levantei em lugar de Davi, meu pai, e me assentei no trono de Israel, como tem falado o SENHOR; e edifiquei uma casa ao nome do SENHOR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stituí ali lugar para a arca em que está a aliança do SENHOR, a qual fez com nossos pais, quando os tirou d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-se Salomão diante do altar do SENHOR, na presença de toda a congregação de Israel; e estendeu as suas mãos para os cé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Ó SENHOR Deus de Israel, não há Deus como tu, em cima nos céus nem em baixo na terra; que guardas a aliança e a beneficência a teus servos que andam com todo o seu coração diante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guardaste a teu servo Davi, meu pai, o que lhe disseras; porque com a tua boca o disseste, e com a tua mão o cumpriste, como neste dia se vê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ó SENHOR Deus de Israel, guarda a teu servo Davi, meu pai, o que lhe falaste, dizendo: Não te faltará sucessor diante de mim, que se assente no trono de Israel; somente que teus filhos guardem o seu caminho, para andarem diante de mim como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também, ó Deus de Israel, cumpra-se a tua palavra que disseste a teu servo Davi, m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na verdade, habitaria Deus na terra? Eis que os céus, e até o céu dos céus, não te poderiam conter, quanto menos esta casa que eu tenho ed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ve-te, pois, para a oração de teu servo, e para a sua súplica, ó SENHOR meu Deus, para ouvires o clamor e a oração que o teu servo hoje faz diante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os teus olhos noite e dia estejam abertos sobre esta casa, sobre este lugar, do qual disseste: O meu nome estará ali; para ouvires a oração que o teu servo fizer neste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eram todos os anciãos de Israel; e os sacerdotes alçaram a ar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, pois, a súplica do teu servo, e do teu povo Israel, quando orarem neste lugar; também ouve tu no lugar da tua habitação nos céus; ouve também, e perd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alguém pecar contra o seu próximo, e puserem sobre ele juramento de maldição, fazendo-o jurar, e vier juramento de maldição diante do teu altar nesta cas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 tu, então, nos céus e age e julga a teus servos, condenando ao injusto, fazendo recair o seu proceder sobre a sua cabeça, e justificando ao justo, rendendo-lhe segundo a su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teu povo Israel for ferido diante do inimigo, por ter pecado contra ti, e se converterem a ti, e confessarem o teu nome, e orarem e suplicarem a ti nesta cas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 tu então nos céus, e perdoa o pecado do teu povo Israel, e torna-o a levar à terra que tens dado a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s céus se fechar, e não houver chuva, por terem pecado contra ti, e orarem neste lugar, e confessarem o teu nome, e se converterem dos seus pecados, havendo-os tu afligi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 tu então nos céus, e perdoa o pecado de teus servos e do teu povo Israel, ensinando-lhes o bom caminho em que andem, e dá chuva na tua terra que deste ao teu povo em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houver fome na terra, quando houver peste, quando houver queima de searas, ferrugem, gafanhotos ou pulgão, quando o seu inimigo o cercar na terra das suas portas, ou houver alguma praga ou doenç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oração, toda a súplica, que qualquer homem de todo o teu povo Israel fizer, conhecendo cada um a chaga do seu coração, e estendendo as suas mãos para esta cas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 tu então nos céus, assento da tua habitação, e perdoa, e age, e dá a cada um conforme a todos os seus caminhos, e segundo vires o seu coração, porque só tu conheces o coração de todos os filh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ouxeram a arca do SENHOR para cima, e o tabernáculo da congregação, juntamente com todos os objetos sagrados que havia no tabernáculo; assim os trouxeram para cima os sacerdotes e os lev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te temam todos os dias que viverem na terra que deste a nosso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ouve ao estrangeiro, que não for do teu povo Israel, quando vier de terras remotas, por amor do teu no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Porque ouvirão do teu grande nome, e da tua forte mão, e do teu braço estendido), e vier orar voltado para esta cas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 tu nos céus, assento da tua habitação, e faze conforme a tudo o que o estrangeiro a ti clamar, a fim de que todos os povos da terra conheçam o teu nome, para te temerem como o teu povo Israel, e para saberem que o teu nome é invocado sobre esta c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teu povo sair à guerra contra o seu inimigo, pelo caminho por que os enviares, e orarem ao SENHOR, para o lado desta cidade, que tu elegeste, e desta casa, que edifiquei ao teu nom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, então, nos céus a sua oração e a sua súplica, e faze-lhes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pecarem contra ti (pois não há homem que não peque), e tu te indignares contra eles, e os entregares às mãos do inimigo, de modo que os levem em cativeiro para a terra inimiga, quer longe ou perto estej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 terra aonde forem levados em cativeiro caírem em si, e se converterem, e na terra do seu cativeiro te suplicarem, dizendo: Pecamos, e perversamente procedemos, e cometemos iniqüid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converterem a ti com todo o seu coração e com toda a sua alma, na terra de seus inimigos que os levarem em cativeiro, e orarem a ti para o lado da sua terra que deste a seus pais, para esta cidade que elegeste, e para esta casa que edifiquei ao te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 então nos céus, assento da tua habitação, a sua oração e a sua súplica, e faze-lhes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Salomão, e toda a congregação de Israel que se congregara a ele, estava com ele diante da arca, sacrificando ovelhas e vacas, que não se podiam contar nem numerar pela sua quant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doa ao teu povo que houver pecado contra ti, todas as transgressões que houverem cometido contra ti; e dá-lhes misericórdia perante aqueles que os têm cativos, para que deles tenham compaix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ão o teu povo e a tua herança que tiraste da terra do Egito, do meio do forno de fe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teus olhos estejam abertos à súplica do teu servo e à súplica do teu povo Israel, a fim de os ouvires em tudo quanto clamarem 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u para tua herança os elegeste de todos os povos da terra, como tens falado pelo ministério de Moisés, teu servo, quando tiraste a nossos pais do Egito,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que, acabando Salomão de fazer ao SENHOR esta oração e esta súplica, estando de joelhos e com as mãos estendidas para os céus, se levantou de diante do altar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-se em pé, e abençoou a toda a congregação de Israel em alta voz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seja o SENHOR, que deu repouso ao seu povo Israel, segundo tudo o que disse; nem uma só palavra caiu de todas as suas boas palavras que falou pelo ministério de Moisés, s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nosso Deus seja conosco, como foi com nossos pais; não nos desampare, e não nos deix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clinando a si o nosso coração, para andar em todos os seus caminhos, e para guardar os seus mandamentos, e os seus estatutos, e os seus juízos que ordenou a nosso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estas minhas palavras, com que supliquei perante o SENHOR, estejam perto, diante do SENHOR nosso Deus, de dia e de noite, para que execute o juízo do seu servo e o juízo do seu povo Israel, a cada qual no seu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rouxeram os sacerdotes a arca da aliança do SENHOR ao seu lugar, ao oráculo da casa, ao lugar santíssimo, até debaixo das asas dos querubi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todos os povos da terra saibam que o SENHOR é Deus, e que não há ou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6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ja o vosso coração inteiro para com o SENHOR nosso Deus, para andardes nos seus estatutos, e guardardes os seus mandamentos como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6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e todo o Israel com ele ofereceram sacrifícios perante a fac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6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 Salomão para o sacrifício pacífico que ofereceu ao SENHOR, vinte e duas mil vacas e cento e vinte mil ovelhas; assim o rei e todos os filhos de Israel consagraram 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6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mesmo dia santificou o rei o meio do átrio que estava diante da casa do SENHOR; porquanto ali preparara os holocaustos e as ofertas com a gordura dos sacrifícios pacíficos; porque o altar de cobre que estava diante da face do SENHOR era muito peque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6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mesmo tempo celebrou Salomão a festa, e todo o Israel com ele, uma grande congregação, desde a entrada de Hamate até ao rio do Egito, perante a face do SENHOR nosso Deus; por sete dias, e mais sete dias; catorze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6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oitavo dia despediu o povo, e eles abençoaram o rei; então se foram às suas tendas, alegres e felizes de coração, por causa de todo o bem que o SENHOR fizera a Davi seu servo, e a Israel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querubins estendiam ambas as asas sobre o lugar da arca; e os querubins cobriam, por cima, a arca e os seus var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varais sobressaíram tanto, que as pontas dos varais se viam desde o santuário diante do oráculo, porém de fora não se viam; e ficaram ali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arca nada havia, senão só as duas tábuas de pedra, que Moisés ali pusera junto a Horebe, quando o SENHOR fez a aliança com os filhos de Israel, saindo eles d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5:11Z</dcterms:created>
  <dc:creator>Admin</dc:creator>
  <dc:description/>
  <dc:language>en-US</dc:language>
  <cp:lastModifiedBy>Admin</cp:lastModifiedBy>
  <dcterms:modified xsi:type="dcterms:W3CDTF">2008-07-30T23:45:11Z</dcterms:modified>
  <cp:revision>1</cp:revision>
  <dc:subject/>
  <dc:title>Slide 1</dc:title>
</cp:coreProperties>
</file>