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115-8011-454E-A8AF-60FD16B3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802-3148-4ED1-91D8-12F3EE2D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373-0347-459A-8858-5EA55B63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385-D88D-4100-97AA-C1E200A0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D25-5DFA-4C75-8F6B-76C80E5A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701-7AF1-435C-B16D-C985AFE6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45E-DD61-4E8A-9972-BF5AEFE5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34E-3FED-4D39-BE9E-9D258A2E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4BF7-DD17-4399-8803-BD0DAEB1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449-3990-491C-AE90-296ACAB8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5D5-B2D9-466A-B148-4B46DCFC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536-8150-4F9A-9162-B58B2419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B322-5EDE-4047-8379-ACF5DE327F3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E, cantemos ao SENHOR; jubilemos à rocha da noss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renta anos estive desgostado com esta geração, e disse: É um povo que erra de coração, e não tem conhecido os meu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em jurei na minha ira que não entrarão no meu repou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esentemo-nos ante a sua face com louvores, e celebremo-lo com sal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é Deus grande, e Rei grande sobre todos o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s suas mãos estão as profundezas da terra, e as alturas dos montes são s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u é o mar, e ele o fez, e as suas mãos formaram a terra se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, vinde, adoremos e prostremo-nos; ajoelhemos diante do SENHOR que nos cr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 é o nosso Deus, e nós povo do seu pasto e ovelhas da sua mão. Se hoje ouvirdes a sua voz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ndureçais os vossos corações, assim como na provocação e como no dia da tentação no deser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vossos pais me tentaram, me provaram, e viram a minh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04Z</dcterms:created>
  <dc:creator>Admin</dc:creator>
  <dc:description/>
  <dc:language>en-US</dc:language>
  <cp:lastModifiedBy>Admin</cp:lastModifiedBy>
  <dcterms:modified xsi:type="dcterms:W3CDTF">2008-07-31T00:27:04Z</dcterms:modified>
  <cp:revision>1</cp:revision>
  <dc:subject/>
  <dc:title>Slide 1</dc:title>
</cp:coreProperties>
</file>