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15A-4C91-4C70-9059-B850DCD3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90E-D5E2-4C17-9B73-9DE9BCD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BF4-1C71-4F62-B3D5-B4EFC4A8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1EB-0EEE-4DC0-8956-36B511EA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452-3D4A-4B0E-82E7-2A83257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55B-E2B3-474F-826F-2945E5D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19A-3747-4DB8-963B-D53B28AD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220-8DC7-41E3-A9BD-8DE1ECB4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43C-1FE8-4438-8A57-101D9C3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A38-C915-42C6-A19E-8BDC3A0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320-4B5C-4898-BC6D-AE52386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85D-C24D-448E-8BE7-764A7DC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B69-7A67-4C0F-907C-5CBC9F6DE1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há veios de onde se extrai a prata, e lugar onde se refina 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rochedos faz sair rios, e o seu olho vê tudo o que há de prec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ios tapa, e nem uma gota sai deles, e tira à luz o que estava esco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nde se achará a sabedoria, e onde está o lugar da inteligê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não conhece o seu valor, e nem ela se acha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bismo diz: Não está em mim; e o mar diz: Ela não está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dará por ela ouro fino, nem se pesará prata em troc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e pode comprar por ouro fino de Ofir, nem pelo precioso ônix, nem pela saf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a não se pode comparar o ouro nem o cristal; nem se trocará por jóia de ouro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fará menção de coral nem de pérolas; porque o valor da sabedoria é melhor que o dos rub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lhe igualará o topázio da Etiópia, nem se pode avaliar por our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erro tira-se da terra, e da pedra se funde o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nde, pois, vem a sabedoria, e onde está o lugar da inteligê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stá encoberta aos olhos de todo o vivente, e oculta às ave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erdição e a morte dizem: Ouvimos com os nossos ouvidos a sua f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entende o seu caminho, e ele sabe 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vê as extremidades da terra; e vê tudo o que há debaix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deu peso ao vento, e tomou a medida das ág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rescreveu leis para a chuva e caminho para o relâmpago dos trov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viu e relatou; estabeleceu-a, e também a esquadrin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homem: Eis que o temor do Senhor é a sabedoria, e apartar-se do mal é a inte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põe fim às trevas, e toda a extremidade ele esquadrinha, a pedra da escuridão e a da somb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 um poço de mina longe dos homens, em lugares esquecidos do pé; ficando pendentes longe dos homens, oscilam de um lado para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erra procede o pão, mas por baixo é revolvida como por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pedras são o lugar da safira, e tem pó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a vereda a ave de rapina a ignora, e não a viram os olhos da gr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a pisaram filhos de animais altivos, nem o feroz leão passou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stende a sua mão contra o rochedo, e revolve os montes desde as suas raí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42Z</dcterms:created>
  <dc:creator>Admin</dc:creator>
  <dc:description/>
  <dc:language>en-US</dc:language>
  <cp:lastModifiedBy>Admin</cp:lastModifiedBy>
  <dcterms:modified xsi:type="dcterms:W3CDTF">2008-07-31T00:01:42Z</dcterms:modified>
  <cp:revision>1</cp:revision>
  <dc:subject/>
  <dc:title>Slide 1</dc:title>
</cp:coreProperties>
</file>