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E72-B656-40B2-B715-8C97B2A0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866-6A11-43F4-839E-758E9044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EFF-6ACE-4471-B8A7-14452379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003-0255-4348-8CD9-4D031DA8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71D-5405-42EE-83CE-5D797471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712-8CB9-47FC-ABEA-7F42D43A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813-685D-44E7-BB4B-10BDBF61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8C3-97FD-438B-9892-CB718AF5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511-7CA3-4764-B1B5-25094095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912-B2D4-4172-8038-22A99097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BC7-C71B-45BE-A7E5-7762102E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C94-6EF2-4B6F-8477-10C739ED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2847-4462-421D-939F-D8C485F2866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terceiro do reinado do rei Belsazar apareceu-me uma visão, a mim, Daniel, depois daquela que me apareceu no princíp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engrandeceu até contra o exército do céu; e a alguns do exército, e das estrelas, lançou por terra, e os pi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engrandeceu até contra o príncipe do exército; e por ele foi tirado o sacrifício contínuo, e o lugar do seu santuário foi lançado por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exército foi dado contra o sacrifício contínuo, por causa da transgressão; e lançou a verdade por terra, e o fez, e prospe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uvi um santo que falava; e disse outro santo àquele que falava: Até quando durará a visão do sacrifício contínuo, e da transgressão assoladora, para que sejam entregues o santuário e o exército, a fim de serem pisa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e disse: Até duas mil e trezentas tardes e manhãs; e o santuário será pur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havendo eu, Daniel, tido a visão, procurei o significado, e eis que se apresentou diante de mim como que uma semelhança de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 uma voz de homem entre as margens do Ulai, a qual gritou, e disse: Gabriel, dá a entender a este a v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perto de onde eu estava; e, vindo ele, me amedrontei, e caí sobre o meu rosto; mas ele me disse: Entende, filho do homem, porque esta visão acontecerá no fim do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ele falando comigo, caí adormecido com o rosto em terra; ele, porém, me tocou, e me fez estar em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Eis que te farei saber o que há de acontecer no último tempo da ira; pois isso pertence ao tempo determinado d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na visão; e sucedeu que, quando vi, eu estava na cidadela de Susã, na província de Elão; vi, pois, na visão, que eu estava junto ao rio Ul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carneiro que viste com dois chifres são os reis da Média e da Pérs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bode peludo é o rei da Grécia; e o grande chifre que tinha entre os olhos é o primeiro r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r sido quebrado, levantando-se quatro em lugar dele, significa que quatro reinos se levantarão da mesma nação, mas não com a força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no fim do seu reinado, quando acabarem os prevaricadores, se levantará um rei, feroz de semblante, e será entendido em adivinh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fortalecerá o seu poder, mas não pela sua própria força; e destruirá maravilhosamente, e prosperará, e fará o que lhe aprouver; e destruirá os poderosos e o pov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lo seu entendimento também fará prosperar o engano na sua mão; e no seu coração se engrandecerá, e destruirá a muitos que vivem em segurança; e se levantará contra o Príncipe dos príncipes, mas sem mão será queb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visão da tarde e da manhã que foi falada, é verdadeira. Tu, porém, cerra a visão, porque se refere a dias muito dist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, Daniel, enfraqueci, e estive enfermo alguns dias; então levantei-me e tratei do negócio do rei. E espantei-me acerca da visão, e não havia quem a entende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ei os meus olhos, e vi, e eis que um carneiro estava diante do rio, o qual tinha dois chifres; e os dois chifres eram altos, mas um era mais alto do que o outro; e o mais alto subiu por últ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 que o carneiro dava marradas para o ocidente, e para o norte e para o sul; e nenhum dos animais lhe podia resistir; nem havia quem pudesse livrar-se da sua mão; e ele fazia conforme a sua vontade, e se engrande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eu considerando, eis que um bode vinha do ocidente sobre toda a terra, mas sem tocar no chão; e aquele bode tinha um chifre insigne entre 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igiu-se ao carneiro que tinha os dois chifres, ao qual eu tinha visto em pé diante do rio, e correu contra ele no ímpeto da su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-o chegar perto do carneiro, enfurecido contra ele, e ferindo-o quebrou-lhe os dois chifres, pois não havia força no carneiro para lhe resistir, e o bode o lançou por terra, e o pisou aos pés; não houve quem pudesse livrar o carneiro d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bode se engrandeceu sobremaneira; mas, estando na sua maior força, aquele grande chifre foi quebrado; e no seu lugar subiram outros quatro também insignes, para os quatro ventos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um deles saiu um chifre muito pequeno, o qual cresceu muito para o sul, e para o oriente, e para a terra form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6:43Z</dcterms:created>
  <dc:creator>Admin</dc:creator>
  <dc:description/>
  <dc:language>en-US</dc:language>
  <cp:lastModifiedBy>Admin</cp:lastModifiedBy>
  <dcterms:modified xsi:type="dcterms:W3CDTF">2008-07-30T23:26:43Z</dcterms:modified>
  <cp:revision>1</cp:revision>
  <dc:subject/>
  <dc:title>Slide 1</dc:title>
</cp:coreProperties>
</file>