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E79C-FC0F-422F-9817-D9B4BA87E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7708-7BC4-4AEA-8927-185A29B06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CB2E-FBA7-4AEE-AD9C-923AFB577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DF1F-3984-4278-93BA-BED01B5AA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4335-E788-44F6-9F37-DB95ACE27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92C8-725A-4D41-B4E6-5161FEF49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7DD0-88E8-4F25-867C-1C8F48ACE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5963-9613-40CD-A8F3-1A48A2831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A9F7-C20D-4AF6-A7FA-5A7FD26F9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540C-84A5-4443-8361-29A6AF832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D05C-7E44-4EE9-B95D-C1E6AA97E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8361-6B44-4D03-8CCB-436B031F1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3E9B6-AD57-409E-9501-11863F7C3DF2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Oséias 13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DO Efraim falava, tremia-se; foi exaltado em Israel; mas ele se fez culpado em Baal, e morre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Oséias 13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nde está agora o teu rei, para que te guarde em todas as tuas cidades, e os teus juízes, dos quais disseste: Dá-me rei e príncipe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Oséias 13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i-te um rei na minha ira, e tirei-o no meu fur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Oséias 13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iniqüidade de Efraim está atada, o seu pecado está armazen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Oséias 13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ores de mulher de parto lhe sobrevirão; ele é um filho insensato; porque é tempo e não está no lugar em que deve vir à luz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Oséias 13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u os remirei da mão do inferno, e os resgatarei da morte. Onde estão, ó morte, as tuas pragas? Onde está, ó inferno, a tua perdição? O arrependimento está escondido de meus olh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Oséias 13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inda que ele dê fruto entre os irmãos, virá o vento leste, vento do SENHOR, subindo do deserto, e secar-se-á a sua nascente, e secar-se-á a sua fonte; ele saqueará o tesouro de todos os vasos desejáve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Oséias 13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amaria virá a ser deserta, porque se rebelou contra o seu Deus; cairão à espada, seus filhos serão despedaçados, e as suas grávidas serão fendidas pelo mei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Oséias 13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gora multiplicaram pecados, e da sua prata fizeram uma imagem de fundição, ídolos segundo o seu entendimento, todos obra de artífices, dos quais dizem: Os homens que sacrificam beijem os bezerr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Oséias 13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isso serão como a nuvem da manhã, e como o orvalho da madrugada, que cedo passa; como folhelho que a tempestade lança da eira, e como a fumaça da chaminé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Oséias 13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davia, eu sou o SENHOR teu Deus desde a terra do Egito; portanto não reconhecerás outro deus além de mim, porque não há Salvador senão e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Oséias 13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u te conheci no deserto, na terra muito sec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Oséias 13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pois eles se fartaram em proporção do seu pasto; estando fartos, ensoberbeceu-se o seu coração, por isso se esqueceram de mi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Oséias 13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rei, pois, para eles como leão; como leopardo espiarei no caminh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Oséias 13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o ursa roubada dos seus filhos, os encontrarei, e lhes romperei as teias do seu coração, e como leão ali os devorarei; as feras do campo os despedaçar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Oséias 13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ra a tua perda, ó Israel, te rebelaste contra mim, a saber, contra o teu ajudad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20:53Z</dcterms:created>
  <dc:creator>Admin</dc:creator>
  <dc:description/>
  <dc:language>en-US</dc:language>
  <cp:lastModifiedBy>Admin</cp:lastModifiedBy>
  <dcterms:modified xsi:type="dcterms:W3CDTF">2008-07-31T00:20:53Z</dcterms:modified>
  <cp:revision>1</cp:revision>
  <dc:subject/>
  <dc:title>Slide 1</dc:title>
</cp:coreProperties>
</file>