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0F5-FF1D-4C5B-A08E-CF323894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450-6FCD-4789-88A1-B7948EFC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5D8-75F7-4715-A484-ABF44AF4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A54-23C3-4B9C-9725-AEBBDC91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F8D-B8F8-4FDD-809B-AB806A5B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990-AA61-429E-9209-D0F44EBB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FF6-0136-4982-B358-0C9CA693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B85-9870-40C0-916E-1EBC638C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A86-DD14-415A-A524-918C8015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26E-31EB-40F6-94B2-1593E0C8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147-0ADB-44DA-BC8B-FF22D872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1303-6AD0-4161-AE08-27BC8393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FE2A-0D88-4708-A0BD-1A4D7459FE2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RE, ó Líbano, as tuas portas para que o fogo consuma os teus ced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mei a minha vara Graça, e a quebrei, para desfazer a minha aliança, que tinha estabelecido com todos estes pov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i desfeito naquele dia; e assim conheceram os pobres do rebanho, que me respeitavam, que isto era palav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lhes disse: Se parece bem aos vossos olhos, dai-me o meu salário e, se não, deixai-o. E pesaram o meu salário, trinta moeda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, pois, disse-me: Arroja isso ao oleiro, esse belo preço em que fui avaliado por eles. E tomei as trinta moedas de prata, e as arrojei ao oleiro, na cas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quebrei a minha segunda vara União, para romper a irmandade entre Judá 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disse-me: Toma ainda para ti o instrumento de um pastor insensa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eis que suscitarei um pastor na terra, que não cuidará das que estão perecendo, não buscará a pequena, e não curará a ferida, nem apascentará a sã; mas comerá a carne da gorda, e lhe despedaçará as u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 pastor inútil, que abandona o rebanho! A espada cairá sobre o seu braço e sobre o seu olho direito; e o seu braço completamente se secará, e o seu olho direito completamente se escurece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eme, ó cipreste, porque o cedro caiu, porque os mais poderosos são destruídos; gemei, ó carvalhos de Basã, porque o bosque forte é derrub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z de uivo dos pastores! porque a sua glória é destruída; voz de bramido dos filhos de leões, porque foi destruída a soberba do Jor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meu Deus: Apascenta as ovelhas da matan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ujos possuidores as matam, e não se têm por culpados; e cujos vendedores dizem: Louvado seja o SENHOR, porque tenho enriquecido; e os seus pastores não têm piedade de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não terei mais piedade dos moradores desta terra, diz o SENHOR; mas, eis que entregarei os homens cada um na mão do seu próximo e na mão do seu rei; eles ferirão a terra, e eu não os livrarei d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pois, apascentei as ovelhas da matança, as pobres ovelhas do rebanho. Tomei para mim duas varas: a uma chamei Graça, e à outra chamei União; e apascentei as ovel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truí os três pastores num mês; porque a minha alma se impacientou deles, e também a alma deles se enfastiou de m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isse: Não vos apascentarei mais; o que morrer, morra; e o que for destruído, seja destruído; e as que restarem comam cada uma a carne da out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38Z</dcterms:created>
  <dc:creator>Admin</dc:creator>
  <dc:description/>
  <dc:language>en-US</dc:language>
  <cp:lastModifiedBy>Admin</cp:lastModifiedBy>
  <dcterms:modified xsi:type="dcterms:W3CDTF">2008-07-31T00:29:38Z</dcterms:modified>
  <cp:revision>1</cp:revision>
  <dc:subject/>
  <dc:title>Slide 1</dc:title>
</cp:coreProperties>
</file>