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B69-5CCE-4A5D-80E5-381F49EC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CC0-2DFB-4BB1-8C25-6A8277CE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42B-4724-472E-AED0-B4A50E2C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1DE-6097-4366-9721-FD182D5C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BB5-A552-4804-B807-FC40F27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7D1-70EF-40CE-B2D6-2D748C7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B0F-8B50-4217-836F-7B2D0668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6AB-C4AA-44B5-A0AE-C7327710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110-493D-468E-9C2F-1B1A9D65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391-EE23-47E1-A790-C7902A9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4D0-9070-4D9B-8EA9-1C91218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111-94BB-45B3-AD21-A564A28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C85-34AE-4987-8042-B2D57A77BD9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selaram foram: Neemias, o governador, filho de Hacalias, e Zede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: Sebanias, Hodias, Quelita, Pelaías, Ha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ca, Reobe, Hasab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acur, Serebias, Seban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dias, Bani e Benin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hefes do povo: Parós, Paate-Moabe, Elão, Zatu, Ban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ni, Azgade, Beb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onias, Bigvai, Ad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er, Ezequias, Azu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dias, Hasum, Bez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rife, Anatote, Neb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aías, Azarias, Jerem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gpias, Mesulão, Hezi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sezabeel, Zadoque, Jadu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tias, Hanã, Anaí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éias, Hananias, Hassu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loés, Pilha, Sobe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um, Hasabná, Maasé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ías, Hanã, An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uque, Harim e Baan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o povo, os sacerdotes, os levitas, os porteiros, os cantores, os servidores do templo, todos os que se tinham separado dos povos das terras para a lei de Deus, suas mulheres, seus filhos e suas filhas, todos os que tinham conhecimento e 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rmemente aderiram a seus irmãos os mais nobres dentre eles, e convieram num anátema e num juramento, de que andariam na lei de Deus, que foi dada pelo ministério de Moisés, servo de Deus; e de que guardariam e cumpririam todos os mandamentos do SENH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ur, Amarias, Malqu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não daríamos as nossas filhas aos povos da terra, nem tomaríamos as filhas deles para os noss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, trazendo os povos da terra no dia de sábado qualquer mercadoria, e qualquer grão para venderem, nada compraríamos deles no sábado, nem no dia santificado; e no sétimo ano deixaríamos descansar a terra, e perdoaríamos toda e qualquer cob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obre nós pusemos preceitos, impondo-nos cada ano a terça parte de um siclo, para o ministério da casa do nosso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s pães da proposição, para a contínua oferta de alimentos, e para o contínuo holocausto dos sábados, das luas novas, para as festas solenes, para as coisas sagradas, e para os sacrifícios pelo pecado, para expiação de Israel, e para toda a obra 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ançamos sortes entre os sacerdotes, levitas, e o povo, acerca da oferta da lenha que se havia de trazer à casa do nosso Deus, segundo as casas de nossos pais, a tempos determinados, de ano em ano, para se queimar sobre o altar do SENHOR nosso D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ambém traríamos as primícias da nossa terra, e as primícias de todos os frutos de todas as árvores, de ano em ano, à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imogênitos dos nossos filhos, e os do nosso gado, como está escrito na lei; e que os primogênitos do nosso gado e das nossas ovelhas traríamos à casa do nosso Deus, aos sacerdotes, que ministram na casa do n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as primícias da nossa massa, as nossas ofertas alçadas, o fruto de toda a árvore, o mosto e o azeite, traríamos aos sacerdotes, às câmaras da casa do nosso Deus; e os dízimos da nossa terra aos levitas; e que os levitas receberiam os dízimos em t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 sacerdote, filho de Arão, estaria com os levitas quando estes recebessem os dízimos, e que os levitas trariam os dízimos dos dízimos à casa do nosso Deus, às câmaras da casa do tes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àquelas câmaras os filhos de Israel e os filhos de Levi devem trazer ofertas alçadas do grão, do mosto e do azeite; porquanto ali estão os vasos do santuário, como também os sacerdotes que ministram, os porteiros e os cantores; e que assim não 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tus, Sebanias, Malu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rim, Meremote, Obad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niel, Ginetom, Baru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sulão, Abias, Miam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azias, Bilgai, Semaías; estes eram os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: Jesuá, filho de Azanias, Binui, dos filhos de Henadade, Cadmi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18Z</dcterms:created>
  <dc:creator>Admin</dc:creator>
  <dc:description/>
  <dc:language>en-US</dc:language>
  <cp:lastModifiedBy>Admin</cp:lastModifiedBy>
  <dcterms:modified xsi:type="dcterms:W3CDTF">2008-07-31T00:17:18Z</dcterms:modified>
  <cp:revision>1</cp:revision>
  <dc:subject/>
  <dc:title>Slide 1</dc:title>
</cp:coreProperties>
</file>