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C65A-7EE5-4E1F-929A-8B3FAE84A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2C1D-54B4-40AF-B88B-A2CFF5638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3743-0676-4C3F-977F-58BE5B57D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E1F7-CF86-4AA4-BC60-3DB49633B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3A8D-5894-4B37-8D9C-2ABD85F78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D450-0FF2-49EF-A88E-DEA8CEDF8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6241-C753-41D9-A9F6-1F5F9527A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3377-AE7E-4878-B864-76B512221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2748-59E6-49E1-B8F5-8BE0110E2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2F91-BAED-4147-9D35-91EFD929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6BE8-41A4-4B8F-BED6-451604CD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A70D-1E36-4527-BB89-37D9BC79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4E88F-6CB0-45CE-BD2A-EE2CC8C26BC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BIU, pois, Abrão do Egito para o lado do sul, ele e sua mulher, e tudo o que tinha, e com ele L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evantou Ló os seus olhos, e viu toda a campina do Jordão, que era toda bem regada, antes do SENHOR ter destruído Sodoma e Gomorra, e era como o jardim do SENHOR, como a terra do Egito, quando se entra em Zo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Ló escolheu para si toda a campina do Jordão, e partiu Ló para o oriente, e apartaram-se um do out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abitou Abrão na terra de Canaã e Ló habitou nas cidades da campina, e armou as suas tendas até Sodo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eram maus os homens de Sodoma, e grandes pecadores contra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o SENHOR a Abrão, depois que Ló se apartou dele: Levanta agora os teus olhos, e olha desde o lugar onde estás, para o lado do norte, e do sul, e do oriente, e do ocident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oda esta terra que vês, te hei de dar a ti, e à tua descendência, para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rei a tua descendência como o pó da terra; de maneira que se alguém puder contar o pó da terra, também a tua descendência será cont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vanta-te, percorre essa terra, no seu comprimento e na sua largura; porque a ti a da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3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brão mudou as suas tendas, e foi, e habitou nos carvalhais de Manre, que estão junto a Hebrom; e edificou ali um altar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ra Abrão muito rico em gado, em prata e em ou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z as suas jornadas do sul até Betel, até ao lugar onde a princípio estivera a sua tenda, entre Betel e Ai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té ao lugar do altar que outrora ali tinha feito; e Abrão invocou ali o nome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ambém Ló, que ia com Abrão, tinha rebanhos, gado e ten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tinha capacidade a terra para poderem habitar juntos; porque os seus bens eram muitos; de maneira que não podiam habitar ju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ouve contenda entre os pastores do gado de Abrão e os pastores do gado de Ló; e os cananeus e os perizeus habitavam então n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Abrão a Ló: Ora, não haja contenda entre mim e ti, e entre os meus pastores e os teus pastores, porque somos irm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está toda a terra diante de ti? Eia, pois, aparta-te de mim; e se escolheres a esquerda, irei para a direita; e se a direita escolheres, eu irei para a esquer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7:50Z</dcterms:created>
  <dc:creator>Admin</dc:creator>
  <dc:description/>
  <dc:language>en-US</dc:language>
  <cp:lastModifiedBy>Admin</cp:lastModifiedBy>
  <dcterms:modified xsi:type="dcterms:W3CDTF">2008-07-30T23:37:50Z</dcterms:modified>
  <cp:revision>1</cp:revision>
  <dc:subject/>
  <dc:title>Slide 1</dc:title>
</cp:coreProperties>
</file>