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A78-598F-4273-ABE7-978678A8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A77-795E-47F3-9238-7D3760F1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009-AD9E-4232-B6C1-3A6B1F8B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4C2-B089-41EB-816E-D996898D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928-6477-4CF8-BA6C-7518721F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0AC-FB7A-435D-928A-B7B54AA6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C45-23D7-4594-BF5F-F8F19325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6FF-FF5F-42CF-B9C4-38403857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6F3-5E42-4A18-9B3F-67D61F62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7EF-2AB9-4E32-B68F-CD0CA108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0F8-B4B0-4AC2-A6A2-8A62C6FA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20F-8EA8-4985-B5C1-3362D9B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91EE-93A8-4E4F-B3CA-F267AD1683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 voltas às ruas de Jerusalém, e vede agora; e informai-vos, e buscai pelas suas praças, a ver se achais alguém, ou se há homem que pratique a justiça ou busque a verdade; e eu lhe perdo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 aos seus muros, e destruí-os (porém não façais uma destruição final); tirai os seus ramos, porque não s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leivosissimamente se houveram contra mim a casa de Israel e a casa de Judá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garam ao SENHOR, e disseram: Não é ele; nem mal nos sobrevirá, nem veremos espada nem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os profetas serão como vento, porque a palavra não está com eles; assim se lhes suce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 dos Exércitos: Porquanto disseste tal palavra, eis que converterei as minhas palavras na tua boca em fogo, e a este povo em lenha, eles serão consum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rarei sobre vós uma nação de longe, ó casa de Israel, diz o SENHOR; é uma nação robusta, é uma nação antiqüíssima, uma nação cuja língua ignorarás, e não entenderás o que ela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aljava é como uma sepultura aberta; todos eles são pode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ão a tua sega e o teu pão, que teus filhos e tuas filhas haviam de comer; comerão as tuas ovelhas e as tuas vacas; comerão a tua vide e a tua figueira; as tuas cidades fortificadas, em que confiavas, abatê-las-ão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, ainda naqueles dias, diz o SENHOR, não farei de vós uma destruição fi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rá que, quando disserdes: Por que nos fez o SENHOR nosso Deus todas estas coisas? Então lhes dirás: Como vós me deixastes, e servistes a deuses estranhos na vossa terra, assim servireis a estrangeiros, em terra que não é vo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que digam: Vive o SENHOR, de certo falsamente ju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unciai isto na casa de Jacó, e fazei-o ouvir em Judá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gora isto, ó povo insensato, e sem coração, que tendes olhos e não vedes, que tendes ouvidos e não ouv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me temereis a mim? diz o SENHOR; não temereis diante de mim, que pus a areia por limite ao mar, por ordenança eterna, que ele não traspassará? Ainda que se levantem as suas ondas, não prevalecerão; ainda que bramem, não a traspass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e povo é de coração rebelde e pertinaz: rebelaram-se e fo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dizem no seu coração: Temamos agora ao SENHOR nosso Deus, que dá chuva, a temporã e a tardia, ao seu tempo; e nos conserva as semanas determinadas da se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ossas iniqüidades desviam estas coisas, e os vossos pecados apartam de vós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ímpios se acham entre o meu povo; andam espiando, como quem arma laços; põem armadilhas, com que prendem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uma gaiola está cheia de pássaros, assim as suas casas estão cheias de engano; por isso se engrandeceram, e enriquece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gordam-se, estão nédios, e ultrapassam até os feitos dos malignos; não julgam a causa do órfão; todavia prosperam; nem julgam o direito dos necessi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castigaria eu por causa destas coisas? diz o SENHOR; não me vingaria eu de uma nação como es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 SENHOR, porventura não atentam os teus olhos para a verdade? Feriste-os, e não lhes doeu; consumiste-os, e não quiseram receber a correção; endureceram as suas faces mais do que uma rocha; não quiseram vo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isa espantosa e horrenda se anda fazendo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ofetas profetizam falsamente, e os sacerdotes dominam pelas mãos deles, e o meu povo assim o deseja; mas que fareis ao fim d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disse: Deveras estes são pobres; são loucos, pois não sabem o caminho do SENHOR, nem o juízo d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ei aos grandes, e falarei com eles; porque eles sabem o caminho do SENHOR, o juízo do seu Deus; mas estes juntamente quebraram o jugo, e romperam as atad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um leão do bosque os feriu, um lobo dos desertos os assolará; um leopardo vigia contra as suas cidades; qualquer que sair delas será despedaçado; porque as suas transgressões se avolumam, multiplicaram-se as suas apostas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vendo isto, te perdoaria? Teus filhos me deixam a mim e juram pelos que não são deuses; quando os fartei, então adulteraram, e em casa de meretrizes se ajuntaram em ban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cavalos bem fartos, levantam-se pela manhã, rinchando cada um à mulher do s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ria eu de castigar por estas coisas, diz o SENHOR, ou não se vingaria a minha alma de uma nação como es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32Z</dcterms:created>
  <dc:creator>Admin</dc:creator>
  <dc:description/>
  <dc:language>en-US</dc:language>
  <cp:lastModifiedBy>Admin</cp:lastModifiedBy>
  <dcterms:modified xsi:type="dcterms:W3CDTF">2008-07-30T23:57:32Z</dcterms:modified>
  <cp:revision>1</cp:revision>
  <dc:subject/>
  <dc:title>Slide 1</dc:title>
</cp:coreProperties>
</file>