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3EE-1169-48D0-A747-AF84D74A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AC3-62B9-4FD7-B6B4-AE1E260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3F3-C22A-4B0E-B919-224FB2AF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45D-F59A-4C30-A08C-EFA36D7E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926-E694-4043-A683-7CA34DA7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A3B-FC0A-4E09-947E-59B07C52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2A4-7ECA-4681-9762-8822A0C8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ED4-D992-4EDD-9200-5BD2F05C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F1C-40D4-462E-9C55-2A936223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0BD-C421-43EC-A0EC-3C8264DF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53D-8977-4142-B99A-75724E65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1D1-C358-468B-8074-DC57E30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AD90-6C34-4C99-B7B0-2751EE061C6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filhos de Rúben, o primogênito de Israel (pois ele era o primogênito; mas porque profanara a cama de seu pai, deu-se a sua primogenitura aos filhos de José, filho de Israel; de modo que não foi contado, na genealogia da primogenitu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dias de Saul fizeram guerra aos hagarenos, que caíram pela sua mão; e eles habitaram nas suas tendas defronte de todo o lado oriental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Gade habitaram defronte deles, na terra de Basã, até Sal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el foi chefe, e Safã o segundo; também Janai e Safate estavam em Ba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, segundo as suas casas paternas, foram: Micael, Mesulão, Seba, Jorai, Jacã, Zia, e Éber,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foram os filhos de Abiail filho de Huri, filho de Jaroa, filho de Gileade, filho de Micael, filho de Jesisai, filho de Jado, filho de Bu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í, filho de Abdiel, filho de Guni, foi chefe da casa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am em Gileade, em Basã e nos lugares da sua jurisdição; como também em todos os arrabaldes de Sarom, até a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foram registrados, segundo as suas genealogias, nos dias de Jotão, rei de Judá, e nos dias de Jeroboão,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Rúben, e dos gaditas, e da meia tribo de Manassés, homens muito valentes, que traziam escudo e espada, e entesavam o arco, e eram destros na guerra; houve quarenta e quatro mil e setecentos e sessenta, que saíam à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guerra aos hagarenos, como a Jetur, e a Nafis e a Nod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udá foi poderoso entre seus irmãos, e dele veio o soberano; porém a primogenitura foi de José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ajudados contra eles, e os hagarenos e todos quantos estavam com eles foram entregues em sua mão; porque, na peleja, clamaram a Deus que lhes deu ouvidos, porquanto confiar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ram preso o seu gado; seus camelos, cinqüenta mil, e duzentas e cinqüenta mil ovelhas, e dois mil jumentos, e cem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uitos caíram feridos, porque de Deus era a peleja; e habitaram em seu lugar, até ao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a meia tribo de Manassés habitaram naquela terra; multiplicaram-se desde Basã até Baal-Hermom, e Senir, e o monte de Her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cabeças de suas casas paternas, a saber: Hefer, Isi, Eliel, Azriel, Jeremias, Hodavias, e Jadiel, homens valentes, homens de nome, e chefes das casa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ransgrediram contra o Deus de seus pais; e se prostituíram, seguindo os deuses dos povos da terra, os quais Deus destruíra de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Deus de Israel suscitou o espírito de Pul, rei da Assíria, e o espírito de Tiglate-Pilneser, rei da Assíria, que os levaram presos, a saber: os rubenitas e gaditas, e a meia tribo de Manassés; e os trouxeram a Hala, e a Habor, e a Hara, e ao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, pois, os filhos de Rúben, o primogênito de Israel: Enoque, Palu, Hezrom, e Carm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oel: Semaías, seu filho; Gogue, seu filho; Simei, seu fi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ca, seu filho; Reaías, seu filho; Baal, seu fi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era, seu filho, o qual Tiglate-Pilneser, rei da Assíria, levou preso; este foi príncipe dos rube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seus irmãos pelas suas famílias, quando foram postos nas genealogias, segundo as suas descendências, tiveram por chefes Jeiel e Zacar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la, filho de Azaz, filho de Sema, filho de Joel, que habitou em Aroer, até Nebo e Baal-Me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abitou do lado do oriente, até à entrada do deserto, desde o rio Eufrates; porque seu gado se tinha multiplicado na terr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27Z</dcterms:created>
  <dc:creator>Admin</dc:creator>
  <dc:description/>
  <dc:language>en-US</dc:language>
  <cp:lastModifiedBy>Admin</cp:lastModifiedBy>
  <dcterms:modified xsi:type="dcterms:W3CDTF">2008-07-30T23:42:27Z</dcterms:modified>
  <cp:revision>1</cp:revision>
  <dc:subject/>
  <dc:title>Slide 1</dc:title>
</cp:coreProperties>
</file>