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66C-7510-4EFB-A8F3-E0B576D0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129-2C76-45FD-9FEB-A784B602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25C-7D8E-4529-85D1-7D6658DE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99C-30C2-4CB6-9436-75DA5797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4FE-97C9-43D6-AB2A-907C2A64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52F-4B45-49FB-B23E-7EDFAD13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EE7-AF7A-493E-9B27-5BA5726D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FA6-7D23-4369-BF31-AC70D5FB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F39-9581-4B02-BF08-8B1ADABF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90C-A62B-4B76-BD13-334CBAD2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37E-1EF6-469D-8395-8B76F6B7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599-4906-42D4-877C-4A453125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108F-7B3C-4E10-8746-1FE3E359FE5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NVOCANDO os seus doze discípulos, deu-lhes virtude e poder sobre todos os demônios, para curarem enferm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gressando os apóstolos, contaram-lhe tudo o que tinham feito. E, tomando-os consigo, retirou-se para um lugar deserto de uma cidade chamada Betsa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bendo-o a multidão, o seguiu; e ele os recebeu, e falava-lhes do reino de Deus, e sarava os que necessitavam de c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á o dia começava a declinar; então, chegando-se a ele os doze, disseram-lhe: Despede a multidão, para que, indo aos lugares e aldeias em redor, se agasalhem, e achem que comer; porque aqui estamos em lugar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lhes disse: Dai-lhes vós de comer. E eles disseram: Não temos senão cinco pães e dois peixes, salvo se nós próprios formos comprar comida para todo este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estavam ali quase cinco mil homens. Disse, então, aos seus discípulos: Fazei-os assentar, em ranchos de cinqüenta em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o fizeram, fazendo-os assentar a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 os cinco pães e os dois peixes, e olhando para o céu, abençoou-os, e partiu-os, e deu-os aos seus discípulos para os porem diante d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am todos, e saciaram-se; e levantaram, do que lhes sobejou, doze alcofas de ped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estando ele só, orando, estavam com ele os discípulos; e perguntou-lhes, dizendo: Quem diz a multidão que eu s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eles, disseram: João o Batista; outros, Elias, e outros que um dos antigos profetas ressusc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-os a pregar o reino de Deus, e a curar os enf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E vós, quem dizeis que eu sou? E, respondendo Pedro, disse: O Cris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dmoestando-os, mandou que a ninguém referissem iss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É necessário que o Filho do homem padeça muitas coisas, e seja rejeitado dos anciãos e dos escribas, e seja morto, e ressuscite ao terceir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 a todos: Se alguém quer vir após mim, negue-se a si mesmo, e tome cada dia a sua cruz, e siga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lquer que quiser salvar a sua vida, perdê-la-á; mas qualquer que, por amor de mim, perder a sua vida, a sal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 aproveita ao homem granjear o mundo todo, perdendo-se ou prejudicando-se a si mes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lquer que de mim e das minhas palavras se envergonhar, dele se envergonhará o Filho do homem, quando vier na sua glória, e na do Pai e dos santos an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verdade vos digo que, dos que aqui estão, alguns há que não provarão a morte até que vejam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ase oito dias depois destas palavras, tomou consigo a Pedro, a João e a Tiago, e subiu ao monte a o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 orando, transfigurou-se a aparência do seu rosto, e a sua roupa ficou branca e mui resplandec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Nada leveis convosco para o caminho, nem bordões, nem alforje, nem pão, nem dinheiro; nem tenhais duas túni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estavam falando com ele dois homens, que eram Moisés e El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apareceram com glória, e falavam da sua morte, a qual havia de cumprir-se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 e os que estavam com ele estavam carregados de sono; e, quando despertaram, viram a sua glória e aqueles dois homens que estav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ando aqueles se apartaram dele, disse Pedro a Jesus: Mestre, bom é que nós estejamos aqui, e façamos três tendas: uma para ti, uma para Moisés, e uma para Elias, não sabendo o que diz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 ele isto, veio uma nuvem que os cobriu com a sua sombra; e, entrando eles na nuvem, tem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da nuvem uma voz que dizia: Este é o meu amado Filho; a ele ou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soado aquela voz, Jesus foi achado só; e eles calaram-se, e por aqueles dias não contaram a ninguém nada do que tinham v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no dia seguinte, que, descendo eles do monte, lhes saiu ao encontro uma grande multid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um homem da multidão clamou, dizendo: Mestre, peço-te que olhes para meu filho, porque é o único que eu te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um espírito o toma e de repente clama, e o despedaça até espumar; e só o larga depois de o ter quebra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qualquer casa em que entrardes, ficai ali, e de lá sai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guei aos teus discípulos que o expulsassem, e não pu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: Ó geração incrédula e perversa! até quando estarei ainda convosco e vos sofrerei? Traze-me aqui o t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vinha chegando, o demônio o derrubou e convulsionou; porém, Jesus repreendeu o espírito imundo, e curou o menino, e o entregou a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pasmavam da majestade de Deus. E, maravilhando-se todos de todas as coisas que Jesus fazia, disse aos seus discípul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nde vós estas palavras em vossos ouvidos, porque o Filho do homem será entregue nas mã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não entendiam esta palavra, que lhes era encoberta, para que a não compreendessem; e temiam interrogá-lo acerca dest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scitou-se entre eles uma discussão sobre qual deles seria o ma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, vendo o pensamento de seus corações, tomou um menino, pô-lo junto a s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Qualquer que receber este menino em meu nome, recebe-me a mim; e qualquer que me receber a mim, recebe o que me enviou; porque aquele que entre vós todos for o menor, esse mesmo é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João, disse: Mestre, vimos um que em teu nome expulsava os demônios, e lho proibimos, porque não te segue con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m qualquer cidade vos não receberem, saindo vós dali, sacudi o pó dos vossos pés, em testemunho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s disse: Não o proibais, porque quem não é contra nós é por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mpletando-se os dias para a sua assunção, manifestou o firme propósito de ir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mensageiros adiante de si; e, indo eles, entraram numa aldeia de samaritanos, para lhe prepararem pousa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o receberam, porque o seu aspecto era como de quem ia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discípulos, Tiago e João, vendo isto, disseram: Senhor, queres que digamos que desça fogo do céu e os consuma, como Elias também fe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ndo-se, porém, repreendeu-os, e disse: Vós não sabeis de que espírito s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Filho do homem não veio para destruir as almas dos homens, mas para salvá-las. E foram para outra ald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indo eles pelo caminho, lhe disse um: Senhor, seguir-te-ei para onde quer que f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Jesus: As raposas têm covis, e as aves do céu, ninhos, mas o Filho do homem não tem onde reclinar 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outro: Segue-me. Mas ele respondeu: SENHOR, deixa que primeiro eu vá a enterrar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es, percorreram todas as aldeias, anunciando o evangelho, e fazendo curas por toda a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 lhe observou: Deixa aos mortos o enterrar os seus mortos; porém tu vai e anuncia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também outro: Senhor, eu te seguirei, mas deixa-me despedir primeiro dos que estão em minh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 disse: Ninguém, que lança mão do arado e olha para trás, é apto para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trarca Herodes ouviu todas as coisas que por ele foram feitas, e estava em dúvida, porque diziam alguns que João ressuscitara dentre os mortos; e outros que Elias tinha apareci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os que um profeta dos antigos havia ressusci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Herodes: A João mandei eu degolar; quem é, pois, este de quem ouço dizer tais coisas? E procurava vê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1:00Z</dcterms:created>
  <dc:creator>Admin</dc:creator>
  <dc:description/>
  <dc:language>en-US</dc:language>
  <cp:lastModifiedBy>Admin</cp:lastModifiedBy>
  <dcterms:modified xsi:type="dcterms:W3CDTF">2008-07-31T00:11:00Z</dcterms:modified>
  <cp:revision>1</cp:revision>
  <dc:subject/>
  <dc:title>Slide 1</dc:title>
</cp:coreProperties>
</file>