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8FD-465A-4529-BC71-4897CD01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BDB-2402-4B8E-93BB-3AA66D0C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4EB-4389-4F74-BBF1-427E10BD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F11-9480-4633-A155-F29B09DD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336-9007-4734-B6A7-2A91C892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DED-A583-40A6-8D24-B4E1DEE0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A10-87F0-4888-97F4-625A6167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DEA-0014-4E24-91E4-EFEE4ABA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754-3026-4089-9BE0-FF8296FF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AD2-702F-45CD-824F-414A0D1F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B63-055E-4438-821B-03F1C90F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61D-1192-4C89-BB1D-2B157EBB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D729-B61C-494A-A5D0-93B384C8205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 Abimeleque, se levantou, para livrar a Israel, Tola, filho de Puá, filho de Dodo, homem de Issacar; e habitava em Samir, na montanha de Efr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hos de Israel clamaram ao SENHOR, dizendo: Contra ti havemos pecado, visto que deixamos a nosso Deus, e servimos aos baal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disse aos filhos de Israel: Porventura dos egípcios, e dos amorreus, e dos filhos de Amom, e dos filist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sidônios, e dos amalequitas, e dos maonitas, que vos oprimiam, quando a mim clamastes, não vos livrei das suas mã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vós me deixastes a mim, e servistes a outros deuses; pelo que não vos livrarei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de, e clamai aos deuses que escolhestes; que eles vos livrem no tempo do vosso ap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filhos de Israel disseram ao SENHOR: Pecamos; faze-nos conforme a tudo quanto te parecer bem aos teus olhos; tão-somente te rogamos que nos livres nesta v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aram os deuses alheios do meio de si, e serviram ao SENHOR; então se angustiou a sua alma por causa da desgraç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Amom se reuniram e se acamparam em Gileade; e também os de Israel se congregaram, e se acamparam em Mizp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ovo e os príncipes de Gileade disseram uns aos outros: Quem será o homem que começará a pelejar contra os filhos de Amom? Ele será por cabeça de todos os moradores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lgou a Israel vinte e três anos; e morreu, e foi sepultado em Sam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le se levantou Jair, gileadita, e julgou a Israel vinte e doi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este trinta filhos, que cavalgavam sobre trinta jumentos; e tinham trinta cidades, a que chamaram Havote-Jair, até ao dia de hoje; as quais estão na terra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Jair, e foi sepultado em C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rnaram os filhos de Israel a fazer o que era mau aos olhos do SENHOR, e serviram aos baalins, e a Astarote, e aos deuses da Síria, e aos deuses de Sidom, e aos deuses de Moabe, e aos deuses dos filhos de Amom, e aos deuses dos filisteus; e deix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ira do SENHOR se acendeu contra Israel; e vendeu-os nas mãos dos filisteus, e nas mãos d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mesmo ano oprimiram e vexaram aos filhos de Israel; dezoito anos oprimiram a todos os filhos de Israel que estavam além do Jordão, na terra dos amorreus, que está em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os filhos de Amom passaram o Jordão, para pelejar também contra Judá, e contra Benjamim, e contra a casa de Efraim; de modo que Israel ficou muito angusti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6:59Z</dcterms:created>
  <dc:creator>Admin</dc:creator>
  <dc:description/>
  <dc:language>en-US</dc:language>
  <cp:lastModifiedBy>Admin</cp:lastModifiedBy>
  <dcterms:modified xsi:type="dcterms:W3CDTF">2008-07-31T00:06:59Z</dcterms:modified>
  <cp:revision>1</cp:revision>
  <dc:subject/>
  <dc:title>Slide 1</dc:title>
</cp:coreProperties>
</file>