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6F8-B14D-4387-B82C-4312A689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89B-68A9-4441-BB20-108291DC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BC2-94E0-4596-A0A3-91826EA0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447-B764-4557-9EAD-1D56FC6D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04C-5B59-4759-B2C3-6CAD4312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19A-EE56-40DD-AECF-F3A02D52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D5D-C471-4F2B-9E39-A5C0E032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FB6-F035-4611-A90C-76568FD7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7EC-0FF8-40A3-AAAA-52EE3EB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E67-AFD9-4A66-BC84-7E1D7D3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76B-816D-4FFC-BCD8-3C6A0A5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0C5-0418-4595-8F07-ED434B6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304E-7AC1-4B6E-A31F-C0EAB94FFC6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senhores, fazei o que for de justiça e eqüidade a vossos servos, sabendo que também tendes um Senhor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istarco, que está preso comigo, vos saúda, e Marcos, o sobrinho de Barnabé, acerca do qual já recebestes mandamentos; se ele for ter convosco, recebei-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chamado Justo; os quais são da circuncisão; são estes unicamente os meus cooperadores no reino de Deus; e para mim têm sido con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úda-vos Epafras, que é dos vossos, servo de Cristo, combatendo sempre por vós em orações, para que vos conserveis firmes, perfeitos e consumados em toda a vontad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u lhe dou testemunho de que tem grande zelo por vós, e pelos que estão em Laodicéia, e pelos que estão em Hierápol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úda-vos Lucas, o médico amado, e De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os irmãos que estão em Laodicéia e a Ninfa e à igreja que está em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esta epístola tiver sido lida entre vós, fazei que também o seja na igreja dos laodicenses, e a que veio de Laodicéia lede-a vós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i a Arquipo: Atenta para o ministério que recebeste no Senhor, para que o cump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ção de minha mão, de Paulo. Lembrai-vos das minhas prisões. A graça seja convosco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severai em oração, velando nela com ação de graç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ndo também juntamente por nós, para que Deus nos abra a porta da palavra, a fim de falarmos do mistério de Cristo, pelo qual estou também pre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manifeste, como me convém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i com sabedoria para com os que estão de fora, remindo 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ssa palavra seja sempre agradável, temperada com sal, para que saibais como vos convém responder a cada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íquico, irmão amado e fiel ministro, e conservo no SENHOR, vos fará saber o meu est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vos enviei para o mesmo fim, para que saiba do vosso estado e console os vossos cor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amente com Onésimo, amado e fiel irmão, que é dos vossos; eles vos farão saber tudo o que por aqui se pa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06Z</dcterms:created>
  <dc:creator>Admin</dc:creator>
  <dc:description/>
  <dc:language>en-US</dc:language>
  <cp:lastModifiedBy>Admin</cp:lastModifiedBy>
  <dcterms:modified xsi:type="dcterms:W3CDTF">2008-07-30T23:26:06Z</dcterms:modified>
  <cp:revision>1</cp:revision>
  <dc:subject/>
  <dc:title>Slide 1</dc:title>
</cp:coreProperties>
</file>