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A80D-0002-403E-B27C-85F234F2B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35EF-EB09-42E7-BFE8-ADB87957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B1B8-5A57-4415-B5BF-80B20A0E2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7950-BC00-4AC9-B1C5-BF4E63CB0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B032-BDAA-46D4-9C73-B34EC2D6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BE8F-94DB-40C7-889D-8894518B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4B79-B308-44FF-840C-8BD930AB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A003-75B4-4609-AFF6-6A7B6A0F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9EB0-C659-4224-8B90-1A7C2DE7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D24D-36D1-43CE-95E5-5D76DD6C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BB30-73FB-4739-A033-658034B4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F41D-38D9-4CBF-8B6E-5BF9FFEC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0477-2B51-49D6-B49D-B7B725080DF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ME também o SENHOR: Toma um grande rolo, e escreve nele com caneta de homem: Apressando-se ao despojo, apressurou-se à pre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i juntamente conselho, e ele será frustrado; dizei uma palavra, e ela não subsistirá, porque Deus é cono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o SENHOR me disse com mão forte, e me ensinou que não andasse pelo caminho deste povo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chameis conjuração, a tudo quanto este povo chama conjuração; e não temais o que ele teme, nem tampouco vos assomb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SENHOR dos Exércitos, a ele santificai; e seja ele o vosso temor e seja ele o vosso assomb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le vos será por santuário; mas servirá de pedra de tropeço, e rocha de escândalo, às duas casas de Israel; por armadilha e laço aos moradores de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uitos entre eles tropeçarão, e cairão, e serão quebrantados, e enlaçados, e pre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iga o testemunho, sela a lei entre os meus discípu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perarei ao SENHOR, que esconde o seu rosto da casa de Jacó, e a ele aguard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-me aqui, com os filhos que me deu o SENHOR, por sinais e por maravilhas em Israel, da parte do SENHOR dos Exércitos, que habita no monte de Si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, pois, vos disserem: Consultai os que têm espíritos familiares e os adivinhos, que chilreiam e murmuram: Porventura não consultará o povo a seu Deus? A favor dos vivos consultar-se-á aos mort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mei comigo fiéis testemunhas, a Urias sacerdote, e a Zacarias, filho de Jeberequi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À lei e ao testemunho! Se eles não falarem segundo esta palavra, é porque não há luz n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ssarão pela terra duramente oprimidos e famintos; e será que, tendo fome, e enfurecendo-se, então amaldiçoarão ao seu rei e ao seu Deus, olhando para ci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lhando para a terra, eis que haverá angústia e escuridão, e sombras de ansiedade, e serão empurrados para as tre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ui ter com a profetiza, e ela concebeu, e deu à luz um filho; e o SENHOR me disse: Põe-lhe o nome de Maer-Salal-Has-B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ntes que o menino saiba dizer meu pai, ou minha mãe, se levarão as riquezas de Damasco, e os despojos de Samaria, diante do rei da Assí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tinuou o SENHOR a falar ainda comigo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este povo desprezou as águas de Siloé que correm brandamente, e alegrou-se com Rezim e com o filho de Remali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eis que o Senhor fará subir sobre eles as águas do rio, fortes e impetuosas, isto é, o rei da Assíria, com toda a sua glória; e subirá sobre todos os seus leitos, e transbordará por todas as suas ribancei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ssará a Judá, inundando-o, e irá passando por ele e chegará até ao pescoço; e a extensão de suas asas encherá a largura da tua terra, ó Emanu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juntai-vos, ó povos, e sereis quebrantados; dai ouvidos, todos os que sois de terras longínquas; cingi-vos e sereis feitos em pedaços, cingi-vos e sereis feitos em pedaç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4:45Z</dcterms:created>
  <dc:creator>Admin</dc:creator>
  <dc:description/>
  <dc:language>en-US</dc:language>
  <cp:lastModifiedBy>Admin</cp:lastModifiedBy>
  <dcterms:modified xsi:type="dcterms:W3CDTF">2008-07-30T23:54:45Z</dcterms:modified>
  <cp:revision>1</cp:revision>
  <dc:subject/>
  <dc:title>Slide 1</dc:title>
</cp:coreProperties>
</file>