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CC4-8495-4573-A554-50B7B011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192-EBEE-4788-8F01-AD3304C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55B-B81F-44D2-9AC3-CC9EEEC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602-6A4F-4048-B5D4-3DF77D7A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05E-188F-46F9-926C-1B54A6DB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DB0-6238-4A82-A8FB-6AC9528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31A-6CD6-4572-BCF5-29B3303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B6A-EB57-485F-AD08-9204065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EAC-E651-4145-BB02-57B7719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603-C2E2-41C7-9697-9F08BE9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3D3-28E2-4FAF-BA4F-222B6739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BC3-0A1C-470A-9B90-5104431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43E1-27B2-4A66-B0E1-4C572B2EF4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Bildade, o suí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 estão domínio e temor; ele faz paz nas su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êm número as suas tropas? E sobre quem não se levanta a sua lu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seria justo o homem para com Deus, e como seria puro aquele que nasce de mulh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té a lua não resplandece, e as estrelas não são puras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menos o homem, que é um verme, e o filho do homem, que é um vermezinh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34Z</dcterms:created>
  <dc:creator>Admin</dc:creator>
  <dc:description/>
  <dc:language>en-US</dc:language>
  <cp:lastModifiedBy>Admin</cp:lastModifiedBy>
  <dcterms:modified xsi:type="dcterms:W3CDTF">2008-07-31T00:01:34Z</dcterms:modified>
  <cp:revision>1</cp:revision>
  <dc:subject/>
  <dc:title>Slide 1</dc:title>
</cp:coreProperties>
</file>