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D50-3F06-4A5E-B0C2-2D155EDB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367-5C5E-4C75-8039-A76E73D7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F06-5880-4D9A-AE4E-FB2A8BA0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830-D0D6-47D9-BC44-11747B5E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D14-0C3A-4795-997B-71E627C6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68D-D1C7-4FF0-A221-2D3532E3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4A3-B574-4FBE-8383-E108DA39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D59-2756-4030-A79D-52E2FF94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507-DC03-47D9-8D46-BA6C5225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E1D-2C68-45FF-A251-CC88349C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186-F4B4-49A5-B847-AE10F7E8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EE71-E83B-4C86-B3A0-41589CC4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E571-66E4-45D0-8760-B3DF89B7EE9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passai às ilhas de Quitim, e vede; e enviai a Quedar, e atentai bem, e vede se jamais sucedeu coisa semelh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uve alguma nação que trocasse os seus deuses, ainda que não fossem deuses? Todavia o meu povo trocou a sua glória por aquilo que é de nenhum prov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antai-vos disto, ó céus, e horrorizai-vos! Ficai verdadeiramente desolado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meu povo fez duas maldades: a mim me deixaram, o manancial de águas vivas, e cavaram cisternas, cisternas rotas, que não retêm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so é Israel um servo? É ele um escravo nascido em casa? Porque, pois, veio a ser pre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leão rugiram sobre ele, levantaram a sua voz; e fizeram da sua terra uma desolação; as suas cidades se queimaram, e ninguém habita n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os filhos de Nofe e de Tafnes te quebraram o alto d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fizeste isto a ti mesmo, deixando o SENHOR teu Deus, no tempo em que ele te guiava pelo camin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que te importa a ti o caminho do Egito, para beberes as águas de Sior? E que te importa a ti o caminho da Assíria, para beberes as águas do r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malícia te castigará, e as tuas apostasias te repreenderão; sabe, pois, e vê, que mal e quão amargo é deixares ao SENHOR teu Deus, e não teres em ti o meu temor, diz o Senhor DEUS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e clama aos ouvidos de Jerusalém, dizendo: Assim diz o SENHOR: Lembro-me de ti, da piedade da tua mocidade, e do amor do teu noivado, quando me seguias no deserto, numa terra que não se seme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já há muito quebrava o teu jugo, e rompia as tuas ataduras, dizias tu: Nunca mais transgredirei; contudo em todo o outeiro alto e debaixo de toda a árvore verde te andas encurvando e prostituindo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mesmo te plantei como vide excelente, uma semente inteiramente fiel; como, pois, te tornaste para mim uma planta degenerada como vide estranh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ainda que te laves com salitre, e amontoes sabão, a tua iniqüidade está gravada diante de mim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dizes logo: Não estou contaminada nem andei após os baalins? Vê o teu caminho no vale, conhece o que fizeste; dromedária ligeira és, que anda torcendo os s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menta montês, acostumada ao deserto, que, conforme o desejo da sua alma, sorve o vento, quem a deteria no seu cio? Todos os que a buscarem não se cansarão; no mês dela a ach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vita que o teu pé ande descalço , e a tua garganta tenha sede. Mas tu dizes: Não há esperança; porque amo os estranhos, após eles and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fica confundido o ladrão quando o apanham, assim se confundem os da casa de Israel; eles, os seus reis, os seus príncipes, e os seus sacerdotes, e os seus profet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zem ao pau: Tu és meu pai; e à pedra: Tu me geraste; porque me viraram as costas, e não o rosto; mas no tempo da sua angústia dirão: Levanta-te, e livra-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, pois, estão os teus deuses, que fizeste para ti? Que se levantem, se te podem livrar no tempo da tua angústia; porque os teus deuses, ó Judá, são tão numerosos como as tu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contendeis comigo? Todos vós transgredistes contra mim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srael era santidade para o SENHOR, e as primícias da sua novidade; todos os que o devoravam eram tidos por culpados; o mal vinha sobre ele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ão castiguei os vossos filhos; eles não aceitaram a correção; a vossa espada devorou os vossos profetas como um leão destrui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 geração! Considerai vós a palavra do SENHOR: Porventura tenho eu sido para Israel um deserto? Ou uma terra da mais espessa escuridão? Por que, pois, diz o meu povo: Temos determinado; não viremos mais a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esquece-se a virgem dos seus enfeites, ou a noiva dos seus adornos? Todavia o meu povo se esqueceu de mim por inumerávei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ornamentas o teu caminho, para buscares o amor? Pois até às malignas ensinaste os t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nas orlas dos teus vestidos se achou o sangue das almas dos inocentes e necessitados; não cavei para achar, pois se vê em todas 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dizes: Eu estou inocente; certamente a sua ira se desviou de mim. Eis que entrarei em juízo contigo, porquanto dizes: Não pequ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te desvias tanto, mudando o teu caminho? Também do Egito serás envergonhada, como foste envergonhada da As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aquele sairás com as mãos sobre a tua cabeça; porque o SENHOR rejeitou a tua confiança, e não prosperarás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a palavra do SENHOR, ó casa de Jacó, e todas as famílias da casa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Que injustiça acharam vossos pais em mim, para se afastarem de mim, indo após a vaidade, e tornando-se levian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disseram: Onde está o SENHOR, que nos fez subir da terra do Egito, que nos guiou através do deserto, por uma terra árida, e de covas, por uma terra de sequidão e sombra de morte, por uma terra pela qual ninguém transitava, e na qual não morava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vos introduzi numa terra fértil, para comerdes o seu fruto e o seu bem; mas quando nela entrastes contaminastes a minha terra, e da minha herança fizestes uma abomi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acerdotes não disseram: Onde está o SENHOR? E os que tratavam da lei não me conheciam, e os pastores prevaricavam contra mim, e os profetas profetizavam por Baal, e andaram após o que é de nenhum prov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eremia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inda contenderei convosco, diz o SENHOR; e até com os filhos de vossos filhos contende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20Z</dcterms:created>
  <dc:creator>Admin</dc:creator>
  <dc:description/>
  <dc:language>en-US</dc:language>
  <cp:lastModifiedBy>Admin</cp:lastModifiedBy>
  <dcterms:modified xsi:type="dcterms:W3CDTF">2008-07-30T23:57:20Z</dcterms:modified>
  <cp:revision>1</cp:revision>
  <dc:subject/>
  <dc:title>Slide 1</dc:title>
</cp:coreProperties>
</file>