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35A-F791-4AE8-8137-52569492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A6B-1B7E-4E5C-A324-928A456B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466-CAD8-4C39-BC13-24C888AF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AC3-32B2-4215-BCA2-CD764D92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ADB-EB2B-4281-BF8F-82E94E1D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E7F-579C-4BCB-BB2C-5AC4453A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000-C005-4D44-8A80-B4A0FE39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B3F-A935-4D7E-B305-BB80E3BF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AD3-F734-44FE-91A3-0D722121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293-3A88-43DE-82AA-D003C0A5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E15-7924-4996-83C6-87971D1B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CC0-5A58-4C05-B215-40506ABB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4013-AEEB-46D9-9E66-58354C96663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que és pastor de Israel, dá ouvidos; tu, que guias a José como a um rebanho; tu, que te assentas entre os querubins, resplande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ontes foram cobertos da sua sombra, e os seus ramos se fizeram como os formosos ced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a estendeu a sua ramagem até ao mar, e os seus ramos até ao 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quebraste então os seus valados, de modo que todos os que passam por ela a vindim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javali da selva a devasta, e as feras do campo a devo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! Deus dos Exércitos, volta-te, nós te rogamos, atende dos céus, e vê, e visita esta vi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videira que a tua destra plantou, e o sarmento que fortificaste pa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á queimada pelo fogo, está cortada; pereceu pela repreensão da t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a tua mão sobre o homem da tua destra, sobre o filho do homem, que fortificaste pa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nós não te viraremos as costas; guarda-nos em vida, e invocaremos 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-nos voltar, SENHOR Deus dos Exércitos; faze resplandecer o teu rosto, e seremos sal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ante Efraim, Benjamim e Manassés, desperta o teu poder, e vem salvar-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-nos voltar, ó Deus, e faze resplandecer o teu rosto, e seremos sal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 Deus dos Exércitos, até quando te indignarás contra a oração do teu po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os sustentas com pão de lágrimas, e lhes dás a beber lágrimas com abundâ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nos pões em contendas com os nossos vizinhos, e os nossos inimigos zombam de nós entre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-nos voltar, ó Deus dos Exércitos, e faze resplandecer o teu rosto, e seremos sal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ouxeste uma vinha do Egito; lançaste fora os gentios, e a plant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paraste-lhe lugar, e fizeste com que ela deitasse raízes, e encheu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36Z</dcterms:created>
  <dc:creator>Admin</dc:creator>
  <dc:description/>
  <dc:language>en-US</dc:language>
  <cp:lastModifiedBy>Admin</cp:lastModifiedBy>
  <dcterms:modified xsi:type="dcterms:W3CDTF">2008-07-31T00:26:36Z</dcterms:modified>
  <cp:revision>1</cp:revision>
  <dc:subject/>
  <dc:title>Slide 1</dc:title>
</cp:coreProperties>
</file>