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DC99-E3F7-4114-9DBC-459F8B01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B52F-F4D2-4853-954E-EF8E9D6A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6F35-E897-4729-B29A-5010F2E19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78B1-F924-4EAB-8C5A-E8D3E2CD9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97FB-86A0-401E-8BBA-6B95384E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9948-629B-498F-AFD9-432215AC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3DD8-66D7-4F85-9F25-9EB94635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974D-DE18-4638-98E7-D709EF72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34DF-97F5-49C9-8EAA-55CBDB38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CD75-0DFC-4FFC-AAFD-8D6CD2EE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A084-F234-4CB7-B5BC-71AEA85E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3FF7-B79D-4190-ACB4-54A4ABAF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947A-D2B5-4218-BA25-21B355D025E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ouvindo Adoni-Zedeque, rei de Jerusalém, que Josué tomara a Ai, e a tinha destruído totalmente, e fizera a Ai, e ao seu rei, como tinha feito a Jericó e ao seu rei, e que os moradores de Gibeom fizeram paz com os israelitas, e estavam no 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os conturbou diante de Israel, e os feriu com grande matança em Gibeom; e perseguiu-os pelo caminho que sobe a Bete-Horom, e feriu-os até Azeca e a Maque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 fugindo eles de diante de Israel, à descida de Bete-Horom, o SENHOR lançou sobre eles, do céu, grandes pedras, até Azeca, e morreram; e foram muitos mais os que morreram das pedras da saraiva do que os que os filhos de Israel mataram à es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osué falou ao SENHOR, no dia em que o SENHOR deu os amorreus nas mãos dos filhos de Israel, e disse na presença dos israelitas: Sol, detém-te em Gibeom, e tu, lua, no vale de Ajal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ol se deteve, e a lua parou, até que o povo se vingou de seus inimigos. Isto não está escrito no livro de Jasher? O sol, pois, se deteve no meio do céu, e não se apressou a pôr-se, quase um dia int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houve dia semelhante a este, nem antes nem depois dele, ouvindo o SENHOR assim a voz de um homem; porque o SENHOR pelejava por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oltou Josué, e todo o Israel com ele, ao arraial, em Gilg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s cinco reis, porém, fugiram, e se esconderam numa cova em Maque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anunciado a Josué, dizendo: Acharam-se os cinco reis escondidos numa cova em Maque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, pois, Josué: Arrastai grandes pedras à boca da cova, e ponde sobre ela homens que os guarde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vós não vos detenhais; persegui os vossos inimigos, e atacai os que vão ficando atrás; não os deixeis entrar nas suas cidades, porque o SENHOR vosso Deus já vo-los deu na voss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meram muito, porque Gibeom era uma cidade grande, como uma das cidades reais, e ainda maior do que Ai, e todos os seus homens val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acabando Josué e os filhos de Israel de os ferir com grande matança, até consumi-los, e os que ficaram deles se retiraram às cidades fortificad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o povo voltou em paz a Josué, ao arraial em Maquedá; não havendo ninguém que movesse a sua língua contra 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isse Josué: Abri a boca da cova, e trazei-me para fora aqueles cinco 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zeram, pois, assim, e trouxeram-lhe aqueles cinco reis para fora da cova: o rei de Jerusalém, o rei de Hebrom, o rei de Jarmute, o rei de Laquis e o rei de Egl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trazendo aqueles reis a Josué, este chamou todos os homens de Israel, e disse aos capitães dos homens de guerra, que foram com ele: Chegai, ponde os vossos pés sobre os pescoços destes reis. E chegaram, e puseram os seus pés sobre os pes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osué lhes disse: Não temais, nem vos espanteis; esforçai-vos e animai-vos; porque assim o fará o SENHOR a todos os vossos inimigos, contra os quais pelejar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pois disto, Josué os feriu, e os matou, e os enforcou em cinco madeiros; e ficaram enforcados nos madeiros até à ta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0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ao pôr do sol, deu Josué ordem que os tirassem dos madeiros; e lançaram-nos na cova onde se esconderam; e puseram grandes pedras à boca da cova, que ainda ali estão até o dia de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0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quele mesmo dia tomou Josué a Maquedá, e feriu-a a fio de espada, bem como ao seu rei; totalmente a destruiu com todos que nela havia, sem nada deixar; e fez ao rei de Maquedá como fizera ao rei de Jeri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0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osué e todo o Israel com ele, passou de Maquedá a Libna e pelejou contra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o que Adoni-Zedeque, rei de Jerusalém, enviou a Hoão, rei de Hebrom, e a Pirão, rei de Jarmute, e a Jafia, rei de Laquis e a Debir, rei de Eglom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0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o SENHOR a deu na mão de Israel, a ela e a seu rei, e a feriu a fio de espada, a ela e a todos que nela estavam; sem nada deixar; e fez ao seu rei como fizera ao rei de Jeri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0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osué, e todo o Israel com ele, passou de Libna a Laquis; e a sitiou, e pelejou contra el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0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deu a Laquis nas mãos de Israel, e tomou-a no dia seguinte e a feriu a fio de espada, a ela e a todos os que nela estavam, conforme a tudo o que fizera a Lib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0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Horão, rei de Gezer, subiu a ajudar a Laquis, porém Josué o feriu, a ele e ao seu povo, até não lhe deixar nem sequer 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0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sué, e todo o Israel com ele, passou de Laquis a Eglom, e a sitiaram, e pelejaram contra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0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mesmo dia a tomaram, e a feriram a fio de espada; e a todos os que nela estavam, destruiu totalmente no mesmo dia, conforme a tudo o que fizera a Laqu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0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Josué, e todo o Israel com ele, subiu de Eglom a Hebrom, e pelejaram contra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0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tomaram, e a feriram ao fio de espada, assim ao seu rei como a todas as suas cidades; e a todos os que nelas estavam, a ninguém deixou com vida, conforme a tudo o que fizera a Eglom; e a destruiu totalmente, a ela e a todos os que nela est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0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osué, e todo o Israel com ele, tornou a Debir, e pelejou contra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0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ou-a com o seu rei, e a todas as suas cidades e as feriu a fio de espada, e a todos os que nelas estavam destruiu totalmente; nada deixou; como fizera a Hebrom, assim fez a Debir e ao seu rei, e como fizera a Libna e ao seu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bi a mim, e ajudai-me, e firamos a Gibeom, porquanto fez paz com Josué e com 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0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eriu Josué toda aquela terra, as montanhas, o sul, e as campinas, e as descidas das águas, e a todos os seus reis; nada deixou; mas tudo o que tinha fôlego destruiu, como ordenara o SENHOR Deu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0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sué os feriu desde Cades-Barnéia, até Gaza, como também toda a terra de Gósen, e até Gibe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0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uma vez tomou Josué todos estes reis, e as suas terras; porquanto o SENHOR Deus de Israel pelejava por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0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osué, e todo o Israel com ele, voltou ao arraial em Gilg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ajuntaram, e subiram cinco reis dos amorreus, o rei de Jerusalém, o rei de Hebrom, o rei de Jarmute, o rei de Laquis, o rei de Eglom, eles e todos os seus exércitos; e sitiaram a Gibeom e pelejaram contra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viaram, pois, os homens de Gibeom a Josué, ao arraial de Gilgal, dizendo: Não retires as tuas mãos de teus servos; sobe apressadamente a nós, e livra-nos e ajuda-nos, porquanto todos os reis dos amorreus, que habitam na montanha, se ajuntaram contra n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ubiu Josué, de Gilgal, ele e toda a gente de guerra com ele, e todos os homens valoro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disse a Josué: Não os temas, porque os tenho dado na tua mão; nenhum deles te poderá resist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sué lhes sobreveio de repente, porque toda a noite veio subindo desde Gilg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5:20Z</dcterms:created>
  <dc:creator>Admin</dc:creator>
  <dc:description/>
  <dc:language>en-US</dc:language>
  <cp:lastModifiedBy>Admin</cp:lastModifiedBy>
  <dcterms:modified xsi:type="dcterms:W3CDTF">2008-07-31T00:05:20Z</dcterms:modified>
  <cp:revision>1</cp:revision>
  <dc:subject/>
  <dc:title>Slide 1</dc:title>
</cp:coreProperties>
</file>