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7BE-FB00-4C51-8759-51A0E62B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29C-612F-4BDD-A188-1950121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E8D-A61E-4F3B-86DA-1F9CB6A0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AFB-98FF-475D-8FE3-3B26A2D1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7E9-609A-48CE-8E54-B557794B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C04-F3D4-4537-877E-31601AC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684-0623-4E3B-946F-6F20C74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C8C-381E-41D2-948E-C7C5EB1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37B-667D-48BA-BFDD-54B05073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93B-3F3E-4273-AA17-13A65D1E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529-64DE-4C0C-BB1A-DBBFC4A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BEC-AD06-432F-83C8-8742265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D317-5D8D-4C7C-A653-DA3959746CF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ordem ao que estava sobre a sua casa, dizendo: Enche de mantimento os sacos destes homens, quanto puderem levar, e põe o dinheiro de cada um na boca do seu sa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Ora seja também assim conforme as vossas palavras; aquele com quem se achar será meu escravo, porém vós sereis desculp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apressaram-se e cada um pôs em terra o seu saco, e cada um abriu o seu sa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uscou, começando do maior, e acabando no mais novo; e achou-se o copo no saco d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asgaram as suas vestes, e carregou cada um o seu jumento, e tornaram à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Judá com os seus irmãos à casa de José, porque ele ainda estava ali; e prostraram-se diante dele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osé: Que é isto que fizestes? Não sabeis vós que um homem como eu pode, muito bem, adivinh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: Que diremos a meu senhor? Que falaremos? E como nos justificaremos? Achou Deus a iniqüidade de teus servos; eis que somos escravos de meu senhor, tanto nós como aquele em cuja mão foi achado o co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le disse: Longe de mim que eu tal faça; o homem em cuja mão o copo foi achado, esse será meu servo; porém vós, subi em paz para v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dá se chegou a ele, e disse: Ai! senhor meu, deixa, peço-te, o teu servo dizer uma palavra aos ouvidos de meu senhor, e não se acenda a tua ira contra o teu servo; porque tu és como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senhor perguntou a seus servos, dizendo: Tendes vós pai, ou ir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u copo, o copo de prata, porás na boca do saco do mais novo, com o dinheiro do seu trigo. E fez conforme a palavra que José tinha 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mos a meu senhor: Temos um velho pai, e um filho da sua velhice, o mais novo, cujo irmão é morto; e só ele ficou de sua mãe, e seu pai o 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u disseste a teus servos: Trazei-mo a mim, e porei os meus olhos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dissemos a meu senhor: Aquele moço não poderá deixar a seu pai; se deixar a seu pai, es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u disseste a teus servos: Se vosso irmão mais novo não descer convosco, nunca mais vereis a minh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subindo nós a teu servo meu pai, e contando-lhe as palavras de meu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nosso pai: Voltai, comprai-nos um pouco de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ós dissemos: Não poderemos descer; mas, se nosso irmão menor for conosco, desceremos; pois não poderemos ver a face do homem se este nosso irmão menor não estiver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nos teu servo, meu pai: Vós sabeis que minha mulher me deu doi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ausentou-se de mim, e eu disse: Certamente foi despedaçado, e não o tenho visto até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gora também tirardes a este da minha face, e lhe acontecer algum desastre, fareis descer as minhas cãs com aflição à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a a luz da manhã, despediram-se estes homens, eles com os seus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indo eu a teu servo, meu pai, e o moço não indo conosco, como a sua alma está ligada com a alma d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rá que, vendo ele que o moço ali não está, morrerá; e teus servos farão descer as cãs de teu servo, nosso pai, com tristeza à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eu servo se deu por fiador por este moço para com meu pai, dizendo: Se eu o não tornar para ti, serei culpado para com meu pai por todos 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ique teu servo em lugar deste moço por escravo de meu senhor, e que suba o moço com os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subirei eu a meu pai, se o moço não for comigo? para que não veja eu o mal que sobrevirá a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ndo eles da cidade, e não se havendo ainda distanciado, disse José ao que estava sobre a sua casa: Levanta-te, e persegue aqueles homens; e, alcançando-os, lhes dirás: Por que pagastes mal por b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é este o copo em que bebe meu senhor e pelo qual bem adivinha? Procedestes mal no que fiz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cançou-os, e falou-lhes as mesm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-lhe: Por que diz meu senhor tais palavras? Longe estejam teus servos de fazerem semelhante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dinheiro, que temos achado nas bocas dos nossos sacos, te tornamos a trazer desde a terra de Canaã; como, pois, furtaríamos da casa do teu senhor prata ou our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com quem de teus servos for achado, morra; e ainda nós seremos escravos do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0:00Z</dcterms:created>
  <dc:creator>Admin</dc:creator>
  <dc:description/>
  <dc:language>en-US</dc:language>
  <cp:lastModifiedBy>Admin</cp:lastModifiedBy>
  <dcterms:modified xsi:type="dcterms:W3CDTF">2008-07-30T23:40:00Z</dcterms:modified>
  <cp:revision>1</cp:revision>
  <dc:subject/>
  <dc:title>Slide 1</dc:title>
</cp:coreProperties>
</file>