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B73-473E-452D-B41E-5892C1B8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154-37B5-4DC5-91BB-51FDF70C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DCC-05FB-4F25-BBF0-B9DFDEEA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185-6BB0-47CD-A7FB-BA153C62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3B9-66A4-4579-B0EB-E4BB1A14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FDF-5FEF-4437-8819-0054D081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910-02A5-428E-B866-C4F59BE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8B7-5D88-4B8D-B699-1FDA7E7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FB7-73B0-45C1-8A25-86882901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6DC-480D-4BC3-8C0D-E60FE86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715-5A86-4993-9F08-F2AEF0E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92A-52B7-468A-888C-92353950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C4A6-A30F-45BF-9A44-C7CB88AD255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néscio no seu coração: Não há Deus. Têm-se corrompido, e cometido abominável iniqüidade; não há ninguém que faça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olhou desde os céus para os filhos dos homens, para ver se havia algum que tivesse entendimento e buscass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ram-se todos, e juntamente se fizeram imundos; não há quem faça o bem, não, nem sequer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não têm conhecimento os que praticam a iniqüidade, os quais comem o meu povo como se comessem pão? Eles não invocara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se acharam em grande temor, onde não havia temor, pois Deus espalhou os ossos daquele que te cercava; tu os confundiste, porque Deus os rejei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se já de Sião viesse a salvação de Israel! Quando Deus fizer voltar os cativos do seu povo, então se regozijará Jacó e se alegrará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37Z</dcterms:created>
  <dc:creator>Admin</dc:creator>
  <dc:description/>
  <dc:language>en-US</dc:language>
  <cp:lastModifiedBy>Admin</cp:lastModifiedBy>
  <dcterms:modified xsi:type="dcterms:W3CDTF">2008-07-31T00:25:37Z</dcterms:modified>
  <cp:revision>1</cp:revision>
  <dc:subject/>
  <dc:title>Slide 1</dc:title>
</cp:coreProperties>
</file>