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916-A91E-45C5-AB0E-FA5D4C57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D60-6FF4-46A2-A0A8-563BD529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F05-7E9C-4026-8FE3-2C53EE03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D18-71B3-43AE-B917-89ECF316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332-9B7B-46AE-8349-99527C87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6A9-164E-4F17-A5BD-841E4ADC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CB2E-E305-442F-8472-FDFDEC9F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795-1951-4D10-AC34-BF2F60EC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39E-38BD-422C-9529-2A3AF1B5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FBF-3EA9-400B-BB89-F7CB37E9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098-31F6-4841-8F36-9E368319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383-1BCD-4595-9DF6-6F0281B0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7F5E-D0C6-4B99-A4BF-D82918CF172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rém, se riem de mim os de menos idade do que eu, cujos pais eu teria desdenhado de pôr com os cães do meu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ominam-me, e fogem para longe de mim, e no meu rosto não se privam de cusp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desatou a sua corda, e me oprimiu, por isso sacudiram de si o freio perante o m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direita se levantam os moços; empurram os meus pés, e preparam contra mim os seus caminhos de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baratam-me o caminho; promovem a minha miséria; contra eles não há ajud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êm contra mim como por uma grande brecha, e revolvem-se entre a as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vieram-me pavores; como vento perseguem a minha honra, e como nuvem passou a minha feli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derrama-se em mim a minha alma; os dias da aflição se apoderaram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noite se me traspassam os meus ossos, e os meus nervos não descans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grandeza do meu mal está desfigurada a minha veste, que, como a gola da minha túnica, me ci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ou-me na lama, e fiquei semelhante ao pó e à cin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e também me serviria a força das mãos daqueles, cujo vigor se tinha esgot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o a ti, porém, tu não me respondes; estou em pé, porém, para mim não ate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ste-te cruel contra mim; com a força da tua mão resistes violen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s-me sobre o vento, fazes-me cavalgar sobre ele, e derretes-me o 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sei que me levarás à morte e à casa do ajuntamento determinada a todos os viv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estenderá a mão para o túmulo, ainda que eles clamem na sua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chorei sobre aquele que estava aflito, ou não se angustiou a minha alma pelo necessit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aguardando eu o bem, então me veio o mal, esperando eu a luz, veio a escur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inhas entranhas fervem e não estão quietas; os dias da aflição me surpreen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negrido ando, porém não do sol; levantando-me na congregação, clamo por soco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mão me fiz dos chacais, e companheiro dos avestru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íngua e fome se debilitaram; e recolhiam-se para os lugares secos, tenebrosos, assolados e dese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egreceu-se a minha pele sobre mim, e os meus ossos estão queimados do cal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harpa se tornou em luto, e o meu órgão em voz dos que cho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nhavam malvas junto aos arbustos, e o seu mantimento eram as raízes dos zimb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meio dos homens eram expulsos, e gritavam contra eles, como contra o ladr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habitarem nos barrancos dos vales, e nas cavernas da terra e das roc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ramavam entre os arbustos, e ajuntavam-se debaixo das urti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m filhos de doidos, e filhos de gente sem nome, e da terra foram expul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rém, sou a sua canção, e lhes sirvo de provérb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50Z</dcterms:created>
  <dc:creator>Admin</dc:creator>
  <dc:description/>
  <dc:language>en-US</dc:language>
  <cp:lastModifiedBy>Admin</cp:lastModifiedBy>
  <dcterms:modified xsi:type="dcterms:W3CDTF">2008-07-31T00:01:50Z</dcterms:modified>
  <cp:revision>1</cp:revision>
  <dc:subject/>
  <dc:title>Slide 1</dc:title>
</cp:coreProperties>
</file>