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4BB-9476-47C0-A111-1ED61BB0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209-0C4E-46C1-9256-5CCE8A92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D2C-093B-4CBE-ADAF-ECCC315B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69A-30E2-47EF-9FA4-2F1FA048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043-F549-4654-A938-454C0537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D8D-D738-41DB-85C6-898B1076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1F2-C2FE-46D7-82F1-D0EDCDEB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75E-B4C4-416C-9038-3BE94555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1A0-FAB6-4EFB-AE21-6303991D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4E2-82C6-4D0C-B36E-68BB5E5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CDA-D5BC-41FF-9310-098629C6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6B2-ED11-4E17-B833-1C0AC610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164A-9523-4FCC-BE9C-96083B7F67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reina; está vestido de majestade. O SENHOR se revestiu e cingiu de poder; o mundo também está firmado, e não poderá vac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trono está firme desde então; tu és desde a eter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ios levantam, ó SENHOR, os rios levantam o seu ruído, os rios levantam as suas o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nas alturas é mais poderoso do que o ruído das grandes águas e do que as grandes ondas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 fiéis são os teus testemunhos; a santidade convém à tua casa, SENHOR,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00Z</dcterms:created>
  <dc:creator>Admin</dc:creator>
  <dc:description/>
  <dc:language>en-US</dc:language>
  <cp:lastModifiedBy>Admin</cp:lastModifiedBy>
  <dcterms:modified xsi:type="dcterms:W3CDTF">2008-07-31T00:27:00Z</dcterms:modified>
  <cp:revision>1</cp:revision>
  <dc:subject/>
  <dc:title>Slide 1</dc:title>
</cp:coreProperties>
</file>