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EFCF-39C6-4080-9E5C-D303020F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51E-5AE9-45C2-ABBE-C6C2C367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7AF0-1F99-4643-9E4E-57AB0385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90A-91FB-4547-8A24-3098A480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023D-2C11-4BAF-AB46-F51C43D3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E34D-4C3D-455F-A476-42421E53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94B-5B54-4CED-9CB3-DA4695A9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5D1-3C26-4772-B9E7-6ABE3ABB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B57-2194-4766-8056-58465327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588-A93D-4B29-A0C5-C327639E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BC5-02B0-479B-97ED-E8DFD9A0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3B80-C604-4D5E-A473-69A2FBE3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23BC-4C64-4348-9D08-6D3EF1B5A1C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AMOS, pois, que, porventura, deixada a promessa de entrar no seu repouso, pareça que algum de vós fica para t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quele que entrou no seu repouso, ele próprio repousou de suas obras, como Deus das s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curemos, pois, entrar naquele repouso, para que ninguém caia no mesmo exemplo de desobedi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palavra de Deus é viva e eficaz, e mais penetrante do que espada alguma de dois gumes, e penetra até à divisão da alma e do espírito, e das juntas e medulas, e é apta para discernir os pensamentos e intenções do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há criatura alguma encoberta diante dele; antes todas as coisas estão nuas e patentes aos olhos daquele com quem temos de tra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o que temos um grande sumo sacerdote, Jesus, Filho de Deus, que penetrou nos céus, retenhamos firmemente a nossa confi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temos um sumo sacerdote que não possa compadecer-se das nossas fraquezas; porém, um que, como nós, em tudo foi tentado, mas sem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uemos, pois, com confiança ao trono da graça, para que possamos alcançar misericórdia e achar graça, a fim de sermos ajudados em tempo oportu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ambém a nós foram pregadas as boas novas, como a eles, mas a palavra da pregação nada lhes aproveitou, porquanto não estava misturada com a fé naqueles que a ouvi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ós, os que temos crido, entramos no repouso, tal como disse: Assim jurei na minha ira Que não entrarão no meu repouso; embora as suas obras estivessem acabadas desde a fundação d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m certo lugar disse assim do dia sétimo: E repousou Deus de todas as suas obras no sétim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 vez neste lugar: Não entrarão no meu repou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o, pois, que resta que alguns entrem nele, e que aqueles a quem primeiro foram pregadas as boas novas não entraram por causa da desobediênc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termina outra vez um certo dia, Hoje, dizendo por Davi, muito tempo depois, como está dito: Hoje, se ouvirdes a sua voz, Não endureçais os vossos co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Josué lhes houvesse dado repouso, não falaria depois disso de outr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resta ainda um repouso para o pov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0:38Z</dcterms:created>
  <dc:creator>Admin</dc:creator>
  <dc:description/>
  <dc:language>en-US</dc:language>
  <cp:lastModifiedBy>Admin</cp:lastModifiedBy>
  <dcterms:modified xsi:type="dcterms:W3CDTF">2008-07-30T23:40:38Z</dcterms:modified>
  <cp:revision>1</cp:revision>
  <dc:subject/>
  <dc:title>Slide 1</dc:title>
</cp:coreProperties>
</file>