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025-CF2E-4C5C-AA25-338ADA67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812-8A67-4A96-91DB-531AFAA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438-8FB8-4B2B-826D-B6DE4985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EC3-9771-41F2-A95A-641B162F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4A9-25B5-4A57-9224-8205768D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A76-04A7-4E06-A8A4-11A19A1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8A8-37B8-44A8-929E-D29D785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775-9DF6-462B-B8A5-C7DFD1A1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235-B62A-4C44-A5E8-7200050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142-B89A-443B-AF14-7C5FC31F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8D9-74E0-4478-8AB9-DC6225B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121-4F3E-42AD-BE9C-8F1374A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2F7-5C86-439C-BEF1-47612F9583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sei a prontidão do vosso ânimo, da qual me glorio de vós para com os macedônios; que a Acaia está pronta desde o ano passado; e o vosso zelo tem estimulado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quele que dá a semente ao que semeia, também vos dê pão para comer, e multiplique a vossa sementeira, e aumente os frutos da vossa justi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m tudo enriqueçais para toda a beneficência, a qual faz que por nós se dêem graça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administração deste serviço, não só supre as necessidades dos santos, mas também é abundante em muitas graças, que se dã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, na prova desta administração, glorificam a Deus pela submissão, que confessais quanto ao evangelho de Cristo, e pela liberalidade de vossos dons para com eles, e para com to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sua oração por vós, tendo de vós saudades, por causa da excelente graça de Deus que em vós h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s a Deus pelo seu dom inefáve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reconheço a vossa presteza, da qual me glorio junto aos macedônios, dizendo que a Acaia está preparada desde o ano passado; e o vosso zelo tem estimulado a muitíss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nviei estes irmãos, para que a nossa glória, acerca de vós, não seja vã nesta parte; para que (como já disse) possais estar pro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m de, se acaso os macedônios vierem comigo, e vos acharem desapercebidos, não nos envergonharmos nós (para não dizermos vós) deste firme fundamento d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ive por coisa necessária exortar estes irmãos, para que primeiro fossem ter convosco, e preparassem de antemão a vossa bênção, já antes anunciada, para que esteja pronta como bênção, e não como ava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 isto: Que o que semeia pouco, pouco também ceifará; e o que semeia em abundância, em abundância cei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contribua segundo propôs no seu coração; não com tristeza, ou por necessidade; porque Deus ama ao que dá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é poderoso para fazer abundar em vós toda a graça, a fim de que tendo sempre, em tudo, toda a suficiência, abundeis em toda a boa ob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está escrito: Espalhou, deu aos pobres; A sua justiça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49Z</dcterms:created>
  <dc:creator>Admin</dc:creator>
  <dc:description/>
  <dc:language>en-US</dc:language>
  <cp:lastModifiedBy>Admin</cp:lastModifiedBy>
  <dcterms:modified xsi:type="dcterms:W3CDTF">2008-07-30T23:48:49Z</dcterms:modified>
  <cp:revision>1</cp:revision>
  <dc:subject/>
  <dc:title>Slide 1</dc:title>
</cp:coreProperties>
</file>