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30FA-7277-408A-9F62-7865DA488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48CF-BAB2-4BF1-8BCF-8B30ADB9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C646-721A-48F3-8549-C3D523569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4BE7-34D2-42F1-9447-4611CFC8C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1872-9161-4E56-8AF4-0969D76F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6873-4B36-4C19-A697-AA42649D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0F81-2FD4-4C6F-BBA7-A7E9E156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E8D3-87F7-4B0E-BB44-44DE83A6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8D3D-C71C-4A0B-9300-AE655E7F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F075-8A78-44FB-93A5-64D99BF0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51B1-8250-424E-81D3-40EB76D5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FCA3-AEB1-41A4-8A2B-28631415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9787-F8BE-4B53-A8F3-C7F618D2737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, pois, ó filho do homem, toma um tijolo, e pô-lo-ás diante de ti, e grava nele a cidade de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tua comida, que hás de comer, será do peso de vinte siclos por dia; de tempo em tempo a come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beberás a água por medida, a saber, a sexta parte de um him; de tempo em tempo bebe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que comeres será como bolos de cevada, e cozê-los-ás sobre o esterco que sai do homem, diante dos olhos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SENHOR: Assim comerão os filhos de Israel o seu pão imundo, entre os gentios para onde os lanç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eu: Ah! Senhor DEUS! Eis que a minha alma não foi contaminada, pois desde a minha mocidade até agora, nunca comi daquilo que morrer de si mesmo, ou que é despedaçado por feras; nem carne abominável entrou na minha bo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me: Vê, dei-te esterco de vacas, em lugar de esterco de homem; e sobre ele prepararás o teu p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me ainda: Filho do homem, eis que eu quebrarei o sustento de pão em Jerusalém, e comerão o pão por peso, e com ansiedade; e a água beberão por medida, e com espan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lhes falte o pão e a água, e se espantem uns com os outros, e se consumam nas suas iniqüi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õe contra ela um cerco, e edifica contra ela uma fortificação, e levanta contra ela uma trincheira, e põe contra ela arraiais, e põe-lhe aríetes em re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u toma uma sertã de ferro, e põe-na por muro de ferro entre ti e a cidade; e dirige para ela o teu rosto, e assim será cercada, e a cercarás; isto servirá de sinal à casa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também deita-te sobre o teu lado esquerdo, e põe a iniqüidade da casa de Israel sobre ele; conforme o número dos dias que te deitares sobre ele, levarás as suas iniqüi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u já te tenho fixado os anos da sua iniqüidade, conforme o número dos dias, trezentos e noventa dias; e levarás a iniqüidade da casa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tiveres cumprido estes dias, tornar-te-ás a deitar sobre o teu lado direito, e levarás a iniqüidade da casa de Judá quarenta dias; um dia te dei para cada a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rigirás, pois, o teu rosto para o cerco de Jerusalém, com o teu braço descoberto, e profetizarás contra 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porei sobre ti cordas; assim tu não te voltarás de um lado para o outro, até que cumpras os dias do teu cer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u, toma trigo, e cevada, e favas, e lentilhas, e milho e aveia, e coloca-os numa vasilha, e faze deles pão; conforme o número dos dias que tu te deitares sobre o teu lado, trezentos e noventa dias, comerás dis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3:52Z</dcterms:created>
  <dc:creator>Admin</dc:creator>
  <dc:description/>
  <dc:language>en-US</dc:language>
  <cp:lastModifiedBy>Admin</cp:lastModifiedBy>
  <dcterms:modified xsi:type="dcterms:W3CDTF">2008-07-30T23:33:52Z</dcterms:modified>
  <cp:revision>1</cp:revision>
  <dc:subject/>
  <dc:title>Slide 1</dc:title>
</cp:coreProperties>
</file>