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178-1A8F-48DE-B058-DAEDB868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E8F-851A-4DCA-B572-6A0A054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06A-E1C1-4E86-8FB3-F3A20E6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21A-EAB5-4576-A208-8B636B5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749-309F-4FE2-B458-4048FE0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51D-F18D-4CDF-A994-B121E6E7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917-4237-45C1-97F1-2E1B17F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E49-211F-4DCC-AB4A-895D126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6AB-C618-4044-81AB-C7EB36D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BFE-08C9-4E87-86CB-AF6E6BC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B76-5D60-42E9-81EE-70028BF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321-A7CC-4F72-AC9F-34018A56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6EE-D641-4176-AA81-6C3355483D9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és inescusável quando julgas, ó homem, quem quer que sejas, porque te condenas a ti mesmo naquilo em que julgas a outro; pois tu, que julgas, fazes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lória, porém, e honra e paz a qualquer que pratica o bem; primeiramente ao judeu e também ao gre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ara com Deus, não há acepção de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que sem lei pecaram, sem lei também perecerão; e todos os que sob a lei pecaram, pela lei serão jul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ouvem a lei não são justos diante de Deus, mas os que praticam a lei hão de ser just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os gentios, que não têm lei, fazem naturalmente as coisas que são da lei, não tendo eles lei, para si mesmos são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mostram a obra da lei escrita em seus corações, testificando juntamente a sua consciência, e os seus pensamentos, quer acusando-os, quer defendendo-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Deus há de julgar os segredos dos homens, por Jesus Cristo, segundo o meu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u que tens por sobrenome judeu, e repousas na lei, e te glorias em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s a sua vontade e aprovas as coisas excelentes, sendo instruído por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ias que és guia dos cegos, luz dos que estão em trev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sabemos que o juízo de Deus é segundo a verdade sobre os que tais coisas faz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trutor dos néscios, mestre de crianças, que tens a forma da ciência e da verdade na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que ensinas a outro, não te ensinas a ti mesmo? Tu, que pregas que não se deve furtar, fur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que dizes que não se deve adulterar, adulteras? Tu, que abominas os ídolos, cometes sacrilég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que te glorias na lei, desonras a Deus pela transgressão d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está escrito, o nome de Deus é blasfemado entre os gentios por causa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ircuncisão é, na verdade, proveitosa, se tu guardares a lei; mas, se tu és transgressor da lei, a tua circuncisão se torna em in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a incircuncisão guardar os preceitos da lei, porventura a incircuncisão não será reputada como circunci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ncircuncisão que por natureza o é, se cumpre a lei, não te julgará porventura a ti, que pela letra e circuncisão és transgressor d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é judeu o que o é exteriormente, nem é circuncisão a que o é exteriormente n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é judeu o que o é no interior, e circuncisão a que é do coração, no espírito, não na letra; cujo louvor não provém dos homens, m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homem, que julgas os que fazem tais coisas, cuidas que, fazendo-as tu, escaparás ao juíz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esprezas tu as riquezas da sua benignidade, e paciência e longanimidade, ignorando que a benignidade de Deus te leva ao arrepend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gundo a tua dureza e teu coração impenitente, entesouras ira para ti no dia da ira e da manifestação do juíz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recompensará cada um segundo as suas obras; a sab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da eterna aos que, com perseverança em fazer bem, procuram glória, honra e incorrup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indignação e a ira aos que são contenciosos, desobedientes à verdade e obedientes à iniqü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Roman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bulação e angústia sobre toda a alma do homem que faz o mal; primeiramente do judeu e também do gre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3:07Z</dcterms:created>
  <dc:creator>Admin</dc:creator>
  <dc:description/>
  <dc:language>en-US</dc:language>
  <cp:lastModifiedBy>Admin</cp:lastModifiedBy>
  <dcterms:modified xsi:type="dcterms:W3CDTF">2008-07-31T00:23:07Z</dcterms:modified>
  <cp:revision>1</cp:revision>
  <dc:subject/>
  <dc:title>Slide 1</dc:title>
</cp:coreProperties>
</file>