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FDA-5CC4-478E-A0C4-4CC9FEE6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250-F890-4F32-921D-57C5E26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558-A99F-4D83-A941-92398AD6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6A0-7824-4658-A54C-956A520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E13-978C-4DE9-BC9D-0CD8C9C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5AB-7813-478E-8AA7-8790957C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AB7-8C18-4005-8AA7-9F896A2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484-D2C0-481F-982B-AD44EE4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2D0-17D1-44E3-AA0A-C9960697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0FB-6722-4BF2-9A2E-B165F1D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3C7-04FA-44E4-B272-47DC3C5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C1E-DEEA-46ED-A02A-B006D8F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40FE-BA9F-4797-A4C5-C626C3E6E5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Eliseu àquela mulher cujo filho ele ressuscitara, dizendo: Levanta-te e vai, tu e a tua família, e peregrina onde puderes peregrinar; porque o SENHOR chamou a fome, a qual também virá à terra por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eu lhe disse: Vai, e dize-lhe: Certamente viverás. Porém, o SENHOR me tem mostrado que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firmou a sua vista, e fitou os olhos nele até se envergonhar; e o homem de Deus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Hazael: Por que chora o meu senhor? E ele disse: Porque sei o mal que hás de fazer aos filhos de Israel; porás fogo às suas fortalezas, e os seus jovens matarás à espada, e os seus meninos despedaçarás, e as suas mulheres grávidas fend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Hazael: Pois, que é teu servo, que não é mais do que um cão, para fazer tão grande coisa? E disse Eliseu: O SENHOR me tem mostrado que tu hás de ser rei d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u de Eliseu, e foi a seu senhor, o qual lhe disse: Que te disse Eliseu? E disse ele: Disse-me que certamente vi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no outro dia tomou um cobertor e o molhou na água, e o estendeu sobre o seu rosto, e morreu; e Hazael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ano quinto de Jorão, filho de Acabe, rei de Israel, reinando ainda Jeosafá em Judá, começou a reinar Jeorão, filho de Jeosafá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ele da idade de trinta e dois anos quando começou a reinar, e oito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no caminho dos reis de Israel, como também fizeram os da casa de Acabe, porque tinha por mulher a filha de Acabe, e fez o que era mal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não quis destruir a Judá por amor de Davi, seu servo, como lhe tinha falado que lhe daria, para sempre, uma lâmpada, a ele e a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a mulher, e fez conforme a palavra do homem de Deus; porque foi ela com a sua família, e peregrinou na terra dos filisteus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se rebelaram os edomitas, contra o mando de Judá, e puseram sobre si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Jeorão passou a Zair, e todos os carros com ele; e ele se levantou de noite, e feriu os edomitas que estavam ao redor dele, e os capitães dos carros; e o povo foi para as s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s edomitas ficaram rebeldes, contra o mando de Judá, até ao dia de hoje; então, no mesmo tempo, Libna também se rebe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is dos atos de Jeorão, e tudo quanto fez, porventura não está escrito no livro das crônica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rão dormiu com seus pais, e foi sepultado com seus pais na cidade de Davi; e Acaz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oze de Jorão, filho de Acabe, rei de Israel, começou a reinar Acazias, filho de Jeorão 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Acazias de vinte e dois anos de idade quando começou a reinar, e reinou um ano em Jerusalém; e era o nome de sua mãe Atalia, filha de Onri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no caminho da casa de Acabe, e fez o que era mal aos olhos do SENHOR, como a casa de Acabe, porque era genro da casa de Ac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com Jorão, filho de Acabe, a Ramote de Gileade, à peleja contra Hazael, rei da Síria; e os sírios feriram a Jo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ou o rei Jorão para se curar, em Jizreel, das feridas que os sírios lhe fizeram em Ramá, quando pelejou contra Hazael, rei da Síria; e desceu Acazias, filho de Jeorão, rei de Judá, para ver a Jorão, filho de Acabe, em Jizreel, porquanto esta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fim dos sete anos, a mulher voltou da terra dos filisteus, e saiu a clamar ao rei pela sua casa e pelas su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o rei falava a Geazi, servo do homem de Deus, dizendo: Conta-me, peço-te, todas as grandes obras que Eliseu tem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ontando ele ao rei como ressuscitara a um morto, eis que a mulher cujo filho ressuscitara clamou ao rei pela sua casa e pelas suas terras. Então disse Geazi: Ó rei meu senhor, esta é a mulher, e este o seu filho a quem Eliseu ressuscit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perguntou à mulher, e ela lho contou. Então o rei lhe deu um oficial, dizendo: Faze-lhe restituir tudo quanto era seu, e todas as rendas das terras desde o dia em que deixou a terra até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eio Eliseu a Damasco, estando Ben-Hadade, rei da Síria, doente; e lho anunciaram, dizendo: O homem de Deus é chegado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isse a Hazael: Toma um presente na tua mão, e vai a encontrar-te com o homem de Deus; e pergunta por ele ao SENHOR, dizendo: Hei de sarar desta doen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Hazael a encontrar-se com ele, e tomou um presente na sua mão, a saber: de tudo o que de bom havia em Damasco, quarenta camelos carregados; e veio, e se pôs diante dele e disse: Teu filho Ben-Hadade, rei da Síria, me enviou a ti, a dizer: S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28Z</dcterms:created>
  <dc:creator>Admin</dc:creator>
  <dc:description/>
  <dc:language>en-US</dc:language>
  <cp:lastModifiedBy>Admin</cp:lastModifiedBy>
  <dcterms:modified xsi:type="dcterms:W3CDTF">2008-07-30T23:51:28Z</dcterms:modified>
  <cp:revision>1</cp:revision>
  <dc:subject/>
  <dc:title>Slide 1</dc:title>
</cp:coreProperties>
</file>