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231-EF8E-4A29-A6AB-B6C0E2AE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1C7-5688-43D8-9942-954BF9E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9AF-73FB-4365-9186-00EE4CD1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DC8-7001-41E9-8879-BECDA5FA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CD4-3BE3-4BB1-BC05-1D286396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2FB-06DB-4FCE-A291-22B45596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F9F-03B8-4F96-99BA-C451C80F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B05-2F62-4EE3-97DC-4B31C9B6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05A-79A4-4E20-AE4D-9B71D869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8F5-3739-4F9E-94C3-BA8A79E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FBF-3DEE-4D64-86B5-5380768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D9E-499A-44F5-B294-2C44BF0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F13-1CF7-4EBE-AEA8-B94656B3AD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OLAI, consolai o meu povo, diz o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DEUS virá com poder e seu braço dominará por ele; eis que o seu galardão está com ele, e o seu salário diante d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pastor apascentará o seu rebanho; entre os seus braços recolherá os cordeirinhos, e os levará no seu regaço; as que amamentam guiará suav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ediu na concha da sua mão as águas, e tomou a medida dos céus aos palmos, e recolheu numa medida o pó da terra e pesou os montes com peso e os outeiros em balanç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guiou o Espírito do SENHOR, ou como seu conselheiro o ensin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quem tomou ele conselho, que lhe desse entendimento, e lhe ensinasse o caminho do juízo, e lhe ensinasse conhecimento, e lhe mostrasse o caminho do entend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s nações são consideradas por ele como a gota de um balde, e como o pó miúdo das balanças; eis que ele levanta as ilhas como a uma coisa pequeníss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odo o Líbano basta para o fogo, nem os seus animais bastam para holoca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nações são como nada perante ele; ele as considera menos do que nada e como uma coisa v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, pois, fareis semelhante a Deus, ou com que o comparar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rtífice funde a imagem, e o ourives a cobre de ouro, e forja para ela cadei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i benignamente a Jerusalém, e bradai-lhe que já a sua milícia é acabada, que a sua iniqüidade está expiada e que já recebeu em dobro da mão do SENHOR, por todos 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mpobrecido, que não pode oferecer tanto, escolhe madeira que não se apodrece; artífice sábio busca, para gravar uma imagem que não se pode mo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abeis? Porventura não ouvis, ou desde o princípio não se vos notificou, ou não atentastes para os fundamentos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que está assentado sobre o círculo da terra, cujos moradores são para ele como gafanhotos; é ele o que estende os céus como cortina, e os desenrola como tenda, para neles habi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reduz a nada os príncipes, e torna em coisa vã os juíz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l se tem plantado, mal se tem semeado, e mal se tem arraigado na terra o seu tronco, já se secam, quando ele sopra sobre eles, e um tufão os leva como a prag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, pois, me fareis semelhante, para que eu lhe seja igual? diz 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 ao alto os vossos olhos, e vede quem criou estas coisas; foi aquele que faz sair o exército delas segundo o seu número; ele as chama a todas pelos seus nomes; por causa da grandeza das suas forças, e porquanto é forte em poder, nenhuma delas f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dizes, ó Jacó, e tu falas, ó Israel: O meu caminho está encoberto ao SENHOR, e o meu juízo passa despercebido ao m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s, não ouviste que o eterno Deus, o SENHOR, o Criador dos fins da terra, nem se cansa nem se fatiga? É inescrutável o seu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força ao cansado, e multiplica as forças ao que não tem nenhum vig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z do que clama no deserto: Preparai o caminho do SENHOR; endireitai no ermo vereda a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ovens se cansarão e se fatigarão, e os moços certamente cai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que esperam no SENHOR renovarão as forças, subirão com asas como águias; correrão, e não se cansarão; caminharão, e não se fati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vale será exaltado, e todo o monte e todo o outeiro será abatido; e o que é torcido se endireitará, e o que é áspero se aplai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lória do SENHOR se manifestará, e toda a carne juntamente a verá, pois a boca d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voz diz: Clama; e alguém disse: Que hei de clamar? Toda a carne é erva e toda a sua beleza como a flor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ca-se a erva, e cai a flor, soprando nela o Espírito do SENHOR. Na verdade o povo é 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ca-se a erva, e cai a flor, porém a palavra de nosso Deus subsist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Sião, que anuncias boas novas, sobe a um monte alto. Tu, ó Jerusalém, que anuncias boas novas, levanta a tua voz fortemente; levanta-a, não temas, e dize às cidades de Judá: Eis aqui está o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07Z</dcterms:created>
  <dc:creator>Admin</dc:creator>
  <dc:description/>
  <dc:language>en-US</dc:language>
  <cp:lastModifiedBy>Admin</cp:lastModifiedBy>
  <dcterms:modified xsi:type="dcterms:W3CDTF">2008-07-30T23:56:07Z</dcterms:modified>
  <cp:revision>1</cp:revision>
  <dc:subject/>
  <dc:title>Slide 1</dc:title>
</cp:coreProperties>
</file>