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D28-1F93-49ED-BBB9-707616BB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E9C-3267-4893-9DC5-9186870C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F53-9562-4FC3-9D15-FD3F8FF7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068-6C2F-49AE-B7B7-99E0463B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0E1-FDC5-40B3-9009-EA19278B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E5E-8A03-427F-AC1B-15E1B93E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20B-172F-4535-9CF5-5099FEC8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CC7-F20C-4E31-B68E-96DF246E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185-EAD3-49FD-B5ED-0C1ECCA5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534-3D92-443F-A155-55C1125E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E7A-E925-488D-A7B8-EEF458E9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325-0BA3-4CC9-AAD8-8E6EE07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5BB7-D33B-4992-B965-5C2098A3A30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NDO Jesus, viu um homem cego de nasc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m-lhe, pois: Como se te abriram os o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respondeu, e disse: O homem, chamado Jesus, fez lodo, e untou-me os olhos, e disse-me: Vai ao tanque de Siloé, e lava-te. Então fui, e lavei-me, e 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: Onde está ele? Respondeu: Não s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ram, pois, aos fariseus o que dantes era ce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sábado quando Jesus fez o lodo e lhe abriu 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ram, pois, também os fariseus a perguntar-lhe como vira, e ele lhes disse: Pôs-me lodo sobre os olhos, lavei-me, e ve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lguns dos fariseus diziam: Este homem não é de Deus, pois não guarda o sábado. Diziam outros: Como pode um homem pecador fazer tais sinais? E havia dissensão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ram, pois, a dizer ao cego: Tu, que dizes daquele que te abriu os olhos? E ele respondeu: Que é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judeus, porém, não creram que ele tivesse sido cego, e que agora visse, enquanto não chamaram os pais do que agora v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aram-lhes, dizendo: É este o vosso filho, que vós dizeis ter nascido cego? Como, pois, vê ago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discípulos lhe perguntaram, dizendo: Rabi, quem pecou, este ou seus pais, para que nascesse ce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s pais lhes responderam, e disseram: Sabemos que este é o nosso filho, e que nasceu ce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mo agora vê, não sabemos; ou quem lhe tenha aberto os olhos, não sabemos. Tem idade, perguntai-lho a ele mesmo; e ele falará por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s pais disseram isto, porque temiam os judeus. Porquanto já os judeus tinham resolvido que, se alguém confessasse ser ele o Cristo, fosse expulso da sinago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é que seus pais disseram: Tem idade, perguntai-lho a ele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aram, pois, pela segunda vez o homem que tinha sido cego, e disseram-lhe: Dá glória a Deus; nós sabemos que esse homem é pec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ele pois, e disse: Se é pecador, não sei; uma coisa sei, é que, havendo eu sido cego, agora ve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ram a dizer-lhe: Que te fez ele? Como te abriu os o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s: Já vo-lo disse, e não ouvistes; para que o quereis tornar a ouvir? Quereis vós porventura fazer-vos também seus discípul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injuriaram, e disseram: Discípulo dele sejas tu; nós, porém, somos discípulos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bem sabemos que Deus falou a Moisés, mas este não sabemos de onde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: Nem ele pecou nem seus pais; mas foi assim para que se manifestem nele as obra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respondeu, e disse-lhes: Nisto, pois, está a maravilha, que vós não saibais de onde ele é, e contudo me abrisse 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ós sabemos que Deus não ouve a pecadores; mas, se alguém é temente a Deus, e faz a sua vontade, a esse ou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princípio do mundo nunca se ouviu que alguém abrisse os olhos a um cego de nasc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ste não fosse de Deus, nada poderia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 eles, e disseram-lhe: Tu és nascido todo em pecados, e nos ensinas a nós? E expulsaram-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ouviu que o tinham expulsado e, encontrando-o, disse-lhe: Crês tu no Filho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respondeu, e disse: Quem é ele, Senhor, para que nele cre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 disse: Tu já o tens visto, e é aquele que fala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disse: Creio, Senhor. E o ad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Jesus: Eu vim a este mundo para juízo, a fim de que os que não vêem vejam, e os que vêem sejam ce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ém que eu faça as obras daquele que me enviou, enquanto é dia; a noite vem, quando ninguém pode trabal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s dos fariseus, que estavam com ele, ouvindo isto, disseram-lhe: Também nós somos ceg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Jesus: Se fôsseis cegos, não teríeis pecado; mas como agora dizeis: Vemos; por isso o vosso pecado perman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quanto estou no mundo, sou a luz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dito isto, cuspiu na terra, e com a saliva fez lodo, e untou com o lodo os olhos do ce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Vai, lava-te no tanque de Siloé (que significa o Enviado). Foi, pois, e lavou-se, e voltou ve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vizinhos, e aqueles que dantes tinham visto que era cego, diziam: Não é este aquele que estava assentado e mendiga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ns diziam: É este. E outros: Parece-se com ele. Ele dizia: Sou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3:30Z</dcterms:created>
  <dc:creator>Admin</dc:creator>
  <dc:description/>
  <dc:language>en-US</dc:language>
  <cp:lastModifiedBy>Admin</cp:lastModifiedBy>
  <dcterms:modified xsi:type="dcterms:W3CDTF">2008-07-31T00:03:30Z</dcterms:modified>
  <cp:revision>1</cp:revision>
  <dc:subject/>
  <dc:title>Slide 1</dc:title>
</cp:coreProperties>
</file>