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044-6E8D-4B56-A22A-A002E36A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1DA-5705-41C2-A713-3466FB3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694-FA14-4F3A-82B5-E846D6CD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9A7-A228-4B2C-B956-814E2542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EF8-DF6B-46A6-BADD-063BA0B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E2F-6AF8-4697-8EF2-6EE2B53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583-A247-4347-9FE2-3847B7BB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CC0-222C-4831-B2B2-2EB3474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834-5C54-45A6-8CBE-DEA11FEA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DE0-8D5D-4159-B975-910B6E2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D47-1973-4D79-AEEC-36F97E14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1EA-41DE-4721-9BC8-93667F3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596C-601F-4FE3-8905-773A31CEF4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NDO Davi um pouco mais adiante do cume, eis que Ziba, o servo de Mefibosete, veio encontrar-se com ele, com um par de jumentos albardados, e sobre eles duzentos pães, com cem cachos de passas, e cem de frutas de verão e um odre de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o rei: Que tenho eu convosco, filhos de Zeruia? Ora deixai-o amaldiçoar; pois o SENHOR lhe disse: Amaldiçoa a Davi; quem pois diria: Por que assim fize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Davi a Abisai, e a todos os seus servos: Eis que meu filho, que saiu das minhas entranhas, procura a minha morte; quanto mais ainda este benjamita? Deixai-o, que amaldiçoe; porque o SENHOR lh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SENHOR olhará para a minha miséria; e o SENHOR me pagará com bem a sua maldição dest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sseguiram, pois, o seu caminho, Davi e os seus homens; e também Simei ia ao longo do monte, defronte dele, caminhando e amaldiçoando, e atirava pedras contra ele, e levantava po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e todo o povo que ia com ele chegaram cansados, e refrescaram-se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salão, pois, e todo o povo, os homens de Israel, vieram a Jerusalém; e Aitofel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gando Husai, o arquita, amigo de Davi, a Absalão, disse Husai a Absalão: Viva o rei, viva o rei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bsalão disse a Husai: É esta a tua beneficência para com o teu amigo? Por que não foste com o teu a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Husai a Absalão: Não, porém daquele que eleger o SENHOR, e todo este povo, e todos os homens de Israel, dele serei e com ele fi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mais disto, a quem serviria eu? Porventura não seria diante de seu filho? Como servi diante de teu pai, assim serei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a Ziba: Que pretendes com isto? E disse Ziba: Os jumentos são para a casa do rei, para se montarem neles; e o pão e as frutas de verão para comerem os moços; e o vinho para beberem os cansados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salão a Aitofel: Dai conselho entre vós sobre o que devemos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itofel a Absalão: Possue as concubinas de teu pai, que deixou para guardarem a casa; e assim todo o Israel ouvirá que te fizeste aborrecível para com teu pai; e se fortalecerão as mãos de todos os que estão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ram, pois, para Absalão uma tenda no terraço; e Absalão possuiu as concubinas de seu pai, perante os olhos d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conselho de Aitofel, que aconselhava naqueles dias, como se a palavra de Deus se consultara; tal era todo o conselho de Aitofel, assim para com Davi como para com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: Ora, onde está o filho de teu senhor? E disse Ziba ao rei: Eis que ficou em Jerusalém; porque disse: Hoje me restituirá a casa de Israel o reino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 Ziba: Eis que teu é tudo quanto tem Mefibosete. E disse Ziba: Eu me inclino, que eu ache graça em teus olhos, ó re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o rei Davi a Baurim, eis que dali saiu um homem da linhagem da casa de Saul, cujo nome era Simei, filho de Gera, e, saindo, ia amaldiço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irava pedras contra Davi, e contra todos os servos do rei Davi; ainda que todo o povo e todos os valentes iam à sua direita e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maldiçoando-o Simei, assim dizia: Sai, sai, homem de sangue, e homem de Bel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deu agora a paga de todo o sangue da casa de Saul, em cujo lugar tens reinado; já deu o SENHOR o reino na mão de Absalão teu filho; e eis-te agora na tua desgraça, porque és um homem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isai, filho de Zeruia, ao rei: Por que amaldiçoaria este cão morto ao rei meu senhor? Deixa-me passar, e lhe tirarei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29Z</dcterms:created>
  <dc:creator>Admin</dc:creator>
  <dc:description/>
  <dc:language>en-US</dc:language>
  <cp:lastModifiedBy>Admin</cp:lastModifiedBy>
  <dcterms:modified xsi:type="dcterms:W3CDTF">2008-07-30T23:53:29Z</dcterms:modified>
  <cp:revision>1</cp:revision>
  <dc:subject/>
  <dc:title>Slide 1</dc:title>
</cp:coreProperties>
</file>