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3104-9B66-4A56-8999-57A664335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78FE-00E2-4E70-846B-7875CC0C0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2C2F-3417-45E8-999E-516849121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C7F6-8EA1-4AD4-BE7B-0B289C27E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A6FF-9A9D-4250-A499-876A73190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9E86-020C-4AE3-810A-C8656D69B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AC54-EA02-42A1-A228-CFAA44432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E997-B0B7-498F-83B3-E0E983F2F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AB2E-4FB2-4A15-A686-F10FBA2D7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D94A-D8F0-4585-A9E1-7B3FEA20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838F-BD17-464A-BE44-101994DB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4F89-D90E-48AD-B77F-B8161277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450D4-AB26-4D39-A9FF-9B29D41A08EF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H! se fendesses os céus, e descesses, e os montes se escoassem de diante da tua fac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tuas santas cidades tornaram-se um deserto; Sião está feita um deserto, Jerusalém está assol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nossa santa e gloriosa casa, em que te louvavam nossos pais, foi queimada a fogo; e todas as nossas coisas preciosas se tornaram em assol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ter-te-ias tu ainda sobre estas coisas, ó SENHOR? Ficarias calado, e nos afligirias tant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o fogo abrasador de fundição, fogo que faz ferver as águas, para fazeres notório o teu nome aos teus adversários, e assim as nações tremessem da tua presença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fazias coisas terríveis, que nunca esperávamos, descias, e os montes se escoavam diante da tua fac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desde a antiguidade não se ouviu, nem com ouvidos se percebeu, nem com os olhos se viu um Deus além de ti que trabalha para aquele que nele espe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íste ao encontro daquele que se alegrava e praticava justiça e dos que se lembram de ti nos teus caminhos; eis que te iraste, porque pecamos; neles há eternidade, para que sejamos salv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todos nós somos como o imundo, e todas as nossas justiças como trapo da imundícia; e todos nós murchamos como a folha, e as nossas iniqüidades como um vento nos arrebat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á ninguém há que invoque o teu nome, que se desperte, e te detenhas; porque escondes de nós o teu rosto, e nos fazes derreter, por causa das nossas iniqüida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gora, ó SENHOR, tu és nosso Pai; nós o barro e tu o nosso oleiro; e todos nós a obra das tuas m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te enfureças tanto, ó SENHOR, nem perpetuamente te lembres da iniqüidade; olha, pois, nós te pedimos, todos nós somos o teu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7:06Z</dcterms:created>
  <dc:creator>Admin</dc:creator>
  <dc:description/>
  <dc:language>en-US</dc:language>
  <cp:lastModifiedBy>Admin</cp:lastModifiedBy>
  <dcterms:modified xsi:type="dcterms:W3CDTF">2008-07-30T23:57:06Z</dcterms:modified>
  <cp:revision>1</cp:revision>
  <dc:subject/>
  <dc:title>Slide 1</dc:title>
</cp:coreProperties>
</file>