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57F-2E3D-4CEA-A99C-3D3A6C3E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418-435F-48D9-A43F-16B2415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32F-4C84-445C-B8DD-3F2F4856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771-F0D5-4E49-B120-7D531CA0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AF6-5F31-42D2-8741-EED5AB3D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4B-9102-40CE-990B-F815098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988-047D-4B0B-ACE1-8E5160B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3D5-E7E1-43C9-9E82-C3180670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734-14BD-407D-A0E1-D14FBDC1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275-CDBD-42A3-8B7E-EBB43CB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D47-6C7A-4289-A292-D397042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8BC-C410-4085-AAE2-6DD5CD7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FE0D-3E9A-40A7-9EAD-D062994B2D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irão, rei de Tiro, mandou mensageiros a Davi, e madeira de cedro, e pedreiros, e carpinteiros, para lhe edificarem um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sultou Davi a Deus, dizendo: Subirei contra os filisteus, e nas minhas mãos os entregarás? E o SENHOR lhe disse: Sobe, porque os entregarei n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a Baal-Perazim, Davi ali os feriu; e disse Davi: Por minha mão Deus derrotou a meus inimigos, como se rompem as águas. Pelo que chamaram aquele lugar, Baal-Peraz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am ali seus deuses; e ordenou Davi que se queimassem a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isteus tornaram, e se estenderam pelo v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Davi a consultar a Deus; e disse-lhe Deus: Não subirás atrás deles; mas rodeia-os por detrás, e vem a eles por defronte das amorei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ouvindo tu um ruído de marcha pelas copas das amoreiras, então sairás à peleja; porque Deus terá saído diante de ti, para ferir o exércit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avi como Deus lhe ordenara; e feriram o exército dos filisteus desde Gibeom até G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espalhou o nome de Davi por todas aquelas terras; e o SENHOR pôs o temor dele sobre todas aquel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endeu Davi que o SENHOR o tinha confirmado rei sobre Israel; porque o seu reino tinha sido muito exaltado por amor do s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mou ainda mais mulheres em Jerusalém; e gerou Davi ainda mais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que teve em Jerusalém: Samua, Sobabe, Natã, Salo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bar, Elisua, Elpel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gá, Nefegue, Jaf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sama, Eliada, e Elifel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s filisteus que Davi havia sido ungido rei sobre todo o Israel, todos os filisteus subiram em busca de Davi; o que ouvindo Davi, logo saiu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ndo os filisteus, se estenderam pel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10Z</dcterms:created>
  <dc:creator>Admin</dc:creator>
  <dc:description/>
  <dc:language>en-US</dc:language>
  <cp:lastModifiedBy>Admin</cp:lastModifiedBy>
  <dcterms:modified xsi:type="dcterms:W3CDTF">2008-07-30T23:43:10Z</dcterms:modified>
  <cp:revision>1</cp:revision>
  <dc:subject/>
  <dc:title>Slide 1</dc:title>
</cp:coreProperties>
</file>