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3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167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28.xml.rels" ContentType="application/vnd.openxmlformats-package.relationships+xml"/>
  <Override PartName="/ppt/slides/_rels/slide170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666-0F48-4F7E-AE9F-217B4F7C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81A-09C3-4BD4-BBF8-004707A4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D5A-DBF2-45EA-A146-5E9D5D8C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C1CD-7D7C-474B-AD64-D9EE31EE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B307-8D4A-437B-AAE4-D828BE5D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F73-30F4-46B1-B7BE-2700C02D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FF7-D523-499E-ADBE-B129F96D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6FFD-AE01-4A4A-91E8-1210E5A2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229-2C45-4BE6-8571-1E5B806D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3D10-7E43-424A-BD82-1EE2E794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6A9-007C-4A8A-919C-B6C6544B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3B52-AA31-47BA-844D-6CBC5D0A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BFF1-F9BE-41BE-8149-4C459DE5FF9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S os retos em seus caminhos, que andam na lei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todo o meu coração te busquei; não me deixes desviar dos t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0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endo mais do que os antigos; porque guardo os teus prece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0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viei os meus pés de todo caminho mau, para guardar 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0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e apartei dos teus juízos, pois tu me ensin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0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h! quão doces são as tuas palavras ao meu paladar, mais doces do que o mel à minh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0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s teus mandamentos alcancei entendimento; por isso odeio todo fals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0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âmpada para os meus pés é tua palavra, e luz para o meu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0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rei, e o cumprirei, que guardarei os teus justos juíz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0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ou aflitíssimo; vivifica-me, ó SENHOR, segundo 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0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eita, eu te rogo, as oferendas voluntárias da minha boca, ó SENHOR; ensina-me os teus juíz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0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alma está de contínuo nas minhas mãos; todavia não me esqueço da tu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ondi a tua palavra no meu coração, para eu não pecar cont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ímpios me armaram laço; contudo não me desviei dos teus prece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testemunhos tenho eu tomado por herança para sempre, pois são o gozo do m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clinei o meu coração a guardar os teus estatutos, para sempre, até ao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deio os pensamentos vãos, mas amo a tu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és o meu refúgio e o meu escudo; espero n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artai-vos de mim, malfeitores, pois guardarei os mandamentos do m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stenta-me conforme a tua palavra, para que viva, e não me deixes envergonhado da minha esp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stenta-me, e serei salvo, e de contínuo terei respeito aos teus estat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tens pisado aos pés todos os que se desviam dos teus estatutos, pois o engano deles é fals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tiraste da terra todos os ímpios, como a escória, por isso amo os teus testemu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és tu, ó SENHOR; ensina-me os teus estat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corpo se arrepiou com temor de ti, e temi os teus juíz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 juízo e justiça; não me entregues aos meus opress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ca por fiador do teu servo para o bem; não deixes que os soberbos me oprim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olhos desfaleceram pela tua salvação e pela promessa da tu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sa com o teu servo segundo a tua benignidade, e ensina-me os teus estat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u teu servo; dá-me inteligência, para entender os teus testemunh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é tempo de operares, ó SENHOR, pois eles têm quebrantado a tu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amo os teus mandamentos mais do que o ouro, e ainda mais do que o ouro f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estimo todos os teus preceitos acerca de tudo, como retos, e odeio toda falsa vere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ravilhosos são os teus testemunhos; portanto, a minha alma os gua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os meus lábios declarei todos os juízos da tu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ntrada das tuas palavras dá luz, dá entendimento aos símplic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i a minha boca, e respirei, pois que desejei os t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 para mim, e tem piedade de mim, conforme usas com os que amam o t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dena os meus passos na tua palavra, e não se apodere de mim iniqüidade alg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a-me da opressão do homem; assim guardarei os teus prece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 resplandecer o teu rosto sobre o teu servo, e ensina-me os teus estat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ios de águas correm dos meus olhos, porque não guardam a tu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sto és, ó SENHOR, e retos são os teus juíz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testemunhos que ordenaste são retos e muito fié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zelo me consumiu, porque os meus inimigos se esqueceram d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lguei tanto no caminho dos teus testemunhos, como em todas as riquez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palavra é muito pura; portanto, o teu servo a 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queno sou e desprezado, porém não me esqueço dos t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justiça é uma justiça eterna, e a tua lei é 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flição e angústia se apoderam de mim; contudo os teus mandamentos são o meu pr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justiça dos teus testemunhos é eterna; dá-me inteligência, e vive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lamei de todo o meu coração; escuta-me, SENHOR, e guardarei os teus estat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 te invoquei; salva-me, e guardarei os teus testemu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cipei o cair da noite, e clamei; esperei n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olhos anteciparam as vigílias da noite, para meditar n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 a minha voz, segundo a tua benignidade; vivifica-me, ó SENHOR, segundo o teu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ditarei nos teus preceitos, e terei respeito aos teu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roximam-se os que se dão a maus tratos; afastam-se da tu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estás perto, ó SENHOR, e todos os teus mandamentos são 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erca dos teus testemunhos soube, desde a antiguidade, que tu os fundast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 para a minha aflição, e livra-me, pois não me esqueci da tu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leiteia a minha causa, e livra-me; vivifica-me segundo 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alvação está longe dos ímpios, pois não buscam os teus estat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as são, ó SENHOR, as tuas misericórdias; vivifica-me segundo os teus juíz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os são os meus perseguidores e os meus inimigos; mas não me desvio dos teus testemu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 os transgressores, e me afligi, porque não observam 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idera como amo os teus preceitos; vivifica-me, ó SENHOR, segundo a tua benign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crear-me-ei nos teus estatutos; não me esquecerei d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palavra é a verdade desde o princípio, e cada um dos teus juízos dur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6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íncipes me perseguiram sem causa, mas o meu coração temeu 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6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lgo com a tua palavra, como aquele que acha um grande despo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omino e odeio a mentira; mas amo a tu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6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te vezes no dia te louvo pelos juízos da tu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6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a paz têm os que amam a tua lei, e para eles não há trope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6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tenho esperado na tua salvação, e tenho cumprido os t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6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alma tem observado os teus testemunhos; amo-os excessiv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6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 observado os teus preceitos, e os teus testemunhos, porque todos os meus caminhos estão diante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6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ue a ti o meu clamor, ó SENHOR; dá-me entendimento conforme 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 bem ao teu servo, para que viva e observe 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7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ue a minha súplica perante a tua face; livra-me segundo 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7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lábios proferiram o louvor, quando me ensinaste os teus estat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7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língua falará da tua palavra, pois todos os teus mandamentos são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7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ha a tua mão socorrer-me, pois escolhi os teus prece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7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 desejado a tua salvação, ó SENHOR; a tua lei é todo o meu pr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7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va a minha alma, e louvar-te-á; ajudem-me os teus juíz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7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garrei-me como a ovelha perdida; busca o teu servo, pois não me esqueci dos t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e tu os meus olhos, para que veja as maravilhas da tu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u peregrino na terra; não escondas de mim os t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s os que guardam os seus testemunhos, e que o buscam com todo 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alma está quebrantada de desejar os teus juízos em todo o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repreendeste asperamente os soberbos que são amaldiçoados, que se desviam dos t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ra de sobre mim o opróbrio e o desprezo, pois guardei os teus testemu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íncipes também se assentaram, e falaram contra mim, mas o teu servo meditou nos teus estat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teus testemunhos são o meu prazer e os meus conselh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alma está pegada ao pó; vivifica-me segundo 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te contei os meus caminhos, e tu me ouviste; ensina-me os teus estat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-me entender o caminho dos teus preceitos; assim falarei das tuas marav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alma consome-se de tristeza; fortalece-me segundo 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via de mim o caminho da falsidade, e concede-me piedosamente a tu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praticam iniqüidade, mas andam nos seu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olhi o caminho da verdade; propus-me seguir os teus juíz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ego-me aos teus testemunhos; ó SENHOR, não me confu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rrerei pelo caminho dos teus mandamentos, quando dilatares o m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sina-me, ó SENHOR, o caminho dos teus estatutos, e guardá-lo-ei até o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á-me entendimento, e guardarei a tua lei, e observá-la-ei de todo o m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-me andar na vereda dos teus mandamentos, porque nela tenho pr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clina o meu coração aos teus testemunhos, e não à cob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via os meus olhos de contemplarem a vaidade, e vivifica-me no teu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irma a tua palavra ao teu servo, que é dedicado ao teu te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via de mim o opróbrio que temo, pois os teus juízos são bo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ordenaste os teus mandamentos, para que diligentemente os observáss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tenho desejado os teus preceitos; vivifica-me na tu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ham sobre mim também as tuas misericórdias, ó SENHOR, e a tua salvação segundo 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erei que responder ao que me afronta, pois confio n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tires totalmente a palavra de verdade da minha boca, pois tenho esperado nos teus juíz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bservarei de contínuo a tua lei para sempre e etern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darei em liberdade; pois busco os teus prece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alarei dos teus testemunhos perante os reis, e não me envergonh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crear-me-ei em teus mandamentos, que tenho a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levantarei as minhas mãos para os teus mandamentos, que amei, e meditarei nos teus estat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 da palavra dada ao teu servo, na qual me fizeste espe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dera que os meus caminhos fossem dirigidos a observar os t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é a minha consolação na minha aflição, porque a tua palavra me vivifi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oberbos zombaram grandemente de mim; contudo não me desviei da tu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ei-me dos teus juízos antiqüíssimos, ó SENHOR, e assim me conso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ande indignação se apoderou de mim por causa dos ímpios que abandonam a tu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estatutos têm sido os meus cânticos na casa da minha peregri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ei-me do teu nome, ó SENHOR, de noite, e observei a tu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fiz eu, porque guardei os t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é a minha porção; eu disse que observaria as tu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oguei deveras o teu favor com todo o meu coração; tem piedade de mim, segundo 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iderei os meus caminhos, e voltei os meus pés para os teus testemu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não ficaria confundido, atentando eu para todos os t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ressei-me, e não me detive, a observar os t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6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andos de ímpios me despojaram, mas eu não me esqueci da tu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6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 meia noite me levantarei para te louvar, pelos teus justos juíz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panheiro sou de todos os que te temem e dos que guardam os teus prece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6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erra, ó SENHOR, está cheia da tua benignidade; ensina-me os teus estat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6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este bem ao teu servo, SENHOR, segundo 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6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sina-me bom juízo e ciência, pois cri nos t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6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de ser afligido andava errado; mas agora tenho guardado 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6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és bom e fazes bem; ensina-me os teus estat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6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oberbos forjaram mentiras contra mim; mas eu com todo o meu coração guardarei os teus prece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r-te-ei com retidão de coração quando tiver aprendido os teus justos juíz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7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grossa-se-lhes o coração como gordura, mas eu me recreio na tu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7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i-me bom ter sido afligido, para que aprendesse os teus estat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7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para mim a lei da tua boca do que milhares de ouro ou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7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tuas mãos me fizeram e me formaram; dá-me inteligência para entender os t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7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te temem alegraram-se quando me viram, porque tenho esperado n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7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 sei eu, ó SENHOR, que os teus juízos são justos, e que segundo a tua fidelidade me afligi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7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rva pois a tua benignidade para me consolar, segundo a palavra que deste ao t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7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ham sobre mim as tuas misericórdias, para que viva, pois a tua lei é a minha delí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7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undam-se os soberbos, pois me trataram duma maneira perversa, sem causa; mas eu meditarei nos teus prece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7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em-se para mim os que te temem, e aqueles que têm conhecido os teus testemu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bservarei os teus estatutos; não me desampares total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8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 reto o meu coração nos teus estatutos, para que não seja confun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8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falece a minha alma pela tua salvação, mas espero n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8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olhos desfalecem pela tua palavra; entrementes dizia: Quando me consolarás t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8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estou como odre na fumaça; contudo não me esqueço dos teus estat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8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s serão os dias do teu servo? Quando me farás justiça contra os que me persegu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8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oberbos me cavaram covas, o que não é conforme a tu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8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teus mandamentos são verdade. Com mentiras me perseguem; ajuda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8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se que me têm consumido sobre a terra, mas eu não deixei os teus prece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8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vifica-me segundo a tua benignidade; assim guardarei o testemunho da tu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8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sempre, ó SENHOR, a tua palavra permanece n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que purificará o jovem o seu caminho? Observando-o conforme 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9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fidelidade dura de geração em geração; tu firmaste a terra, e ela permanece fir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9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continuam até ao dia de hoje, segundo as tuas ordenações; porque todos são t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9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 tua lei não fora toda a minha recreação, há muito que pereceria na minha afl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9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nca me esquecerei dos teus preceitos; pois por eles me tens viv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9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u teu, salva-me; pois tenho buscado os teus prece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9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ímpios me esperam para me destruírem, mas eu considerarei os teus testemu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9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 visto fim a toda a perfeição, mas o teu mandamento é amplíss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9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h! quanto amo a tua lei! É a minha meditação em todo 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9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elos teus mandamentos, me fazes mais sábio do que os meus inimigos; pois estão sempre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9:9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 mais entendimento do que todos os meus mestres, porque os teus testemunhos são a minha medi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17Z</dcterms:created>
  <dc:creator>Admin</dc:creator>
  <dc:description/>
  <dc:language>en-US</dc:language>
  <cp:lastModifiedBy>Admin</cp:lastModifiedBy>
  <dcterms:modified xsi:type="dcterms:W3CDTF">2008-07-31T00:28:17Z</dcterms:modified>
  <cp:revision>1</cp:revision>
  <dc:subject/>
  <dc:title>Slide 1</dc:title>
</cp:coreProperties>
</file>