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B91-09F3-41EA-95D9-9E434631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E24-1C25-43B4-A10D-E801D95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9F9-DBF4-4E8B-B7D3-A614861E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D0C-FA2E-4A03-8101-C4149D7C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8A6-25A4-4259-ABBE-A8022DA2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156-3304-46B5-8FB2-9BB3A5E4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84C-340C-4950-A524-47BA719C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215-D325-48C0-8ACB-3D2CF89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116-B23B-4E70-A576-21432E6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4C4-7646-4BF8-B4D3-ADFA023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1F6-20F1-424E-9532-60E493B2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D0B-BAA7-42D6-AC83-84FD3739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E033-E4E7-41FC-9403-9A75A58ED2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artiram os filhos de Israel, e acamparam-se nas campinas de Moabe, além do Jordão na altura de Jeri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laão disse a Deus: Balaque, filho de Zipor, rei dos moabitas, os envi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povo que saiu do Egito cobre a face da terra; vem agora, amaldiçoa-o; porventura poderei pelejar contra ele e expuls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eus a Balaão: Não irás com eles, nem amaldiçoarás a este povo, porquanto é ben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levantou-se pela manhã, e disse aos príncipes de Balaque: Ide à vossa terra, porque o SENHOR recusa deixar-me i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os príncipes dos moabitas, e vieram a Balaque, e disseram: Balaão recusou vir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Balaque tornou a enviar mais príncipes, mais honrados do que aqu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foram a Balaão, e lhe disseram: Assim diz Balaque, filho de Zipor: Rogo-te que não te demores em vir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grandemente te honrarei, e farei tudo o que me disseres; vem pois, rogo-te, amaldiçoa-me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respondeu, e disse aos servos de Balaque: Ainda que Balaque me desse a sua casa cheia de prata e de ouro, eu não poderia ir além da ordem do SENHOR meu Deus, para fazer coisa pequena ou gran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rogo-vos que também aqui fiqueis esta noite, para que eu saiba o que mais o SENHOR me d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Balaque, filho de Zipor, tudo o que Israel fizera aos amorr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Deus a Balaão, de noite, e disse-lhe: Se aqueles homens te vieram chamar, levanta-te, vai com eles; todavia, farás o que eu te dis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levantou-se pela manhã, e albardou a sua jumenta, e foi com os príncipes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ira de Deus acendeu-se, porque ele se ia; e o anjo do SENHOR pôs-se-lhe no caminho por adversário; e ele ia caminhando, montado na sua jumenta, e dois de seus serv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u, pois, a jumenta o anjo do SENHOR, que estava no caminho, com a sua espada desembainhada na mão; pelo que desviou-se a jumenta do caminho, indo pelo campo; então Balaão espancou a jumenta para fazê-la tornar a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njo do SENHOR pôs-se numa vereda entre as vinhas, havendo uma parede de um e de outro 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a jumenta, o anjo do SENHOR, encostou-se contra a parede, e apertou contra a parede o pé de Balaão; por isso tornou a espanc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passou mais adiante, e pôs-se num lugar estreito, onde não havia caminho para se desviar nem para a direita nem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a jumenta o anjo do SENHOR, deitou-se debaixo de Balaão; e a ira de Balaão acendeu-se, e espancou a jumenta com o b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abriu a boca da jumenta, a qual disse a Balaão: Que te fiz eu, que me espancaste estas três ve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laão disse à jumenta: Por que zombaste de mim; quem dera tivesse eu uma espada na mão, porque agora te mata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abe temeu muito diante deste povo, porque era numeroso; e Moabe andava angustiado por causa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jumenta disse a Balaão: Porventura não sou a tua jumenta, em que cavalgaste desde o tempo em que me tornei tua até hoje? Acaso tem sido o meu costume fazer assim contigo? E ele respondeu: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abriu os olhos a Balaão, e ele viu o anjo do SENHOR, que estava no caminho e a sua espada desembainhada na mão; pelo que inclinou a cabeça, e prostrou-se sobre 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lhe disse: Por que já três vezes espancaste a tua jumenta? Eis que eu saí para ser teu adversário, porquanto o teu caminho é perverso diante de mi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jumenta me viu, e já três vezes se desviou de diante de mim; se ela não se desviasse de diante de mim, na verdade que eu agora te haveria matado, e a ela deixaria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disse ao anjo do SENHOR: Pequei, porque não sabia que estavas neste caminho para te opores a mim; e agora, se parece mal aos teus olhos, vol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anjo do SENHOR a Balaão: Vai-te com estes homens; mas somente a palavra que eu falar a ti, esta falarás. Assim Balaão se foi com os príncipes de Bal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Balaque que Balaão vinha, saiu-lhe ao encontro até à cidade de Moabe, que está no termo de Arnom, na extremidade do term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laque disse a Balaão: Porventura não enviei diligentemente a chamar-te? Por que não vieste a mim? Não posso eu na verdade honrar-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ão disse a Balaque: Eis que eu tenho vindo a ti; porventura poderei eu agora de alguma forma falar alguma coisa? A palavra que Deus puser na minha boca essa fal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alaão foi com Balaque, e chegaram a Quiriate-Huz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Moabe disse aos anciãos dos midianitas: Agora lamberá esta congregação tudo quanto houver ao redor de nós, como o boi lambe a erva do campo. Naquele tempo Balaque, filho de Zipor, era rei dos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Balaque matou bois e ovelhas; e deles enviou a Balaão e aos príncipes que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ela manhã Balaque tomou a Balaão, e o fez subir aos altos de Baal, e viu ele dali a última parte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enviou mensageiros a Balaão, filho de Beor, a Petor, que está junto ao rio, na terra dos filhos do seu povo, a chamá-lo, dizendo: Eis que um povo saiu do Egito; eis que cobre a face da terra, e está parado defront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, pois, agora, rogo-te, amaldiçoa-me este povo, pois mais poderoso é do que eu; talvez o poderei ferir e lançar fora da terra; porque eu sei que, a quem tu abençoares será abençoado, e a quem tu amaldiçoares será amaldiç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-se os anciãos dos moabitas e os anciãos dos midianitas com o preço dos encantamentos nas suas mãos; e chegaram a Balaão, e disseram-lhe as palavras de Bal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Passai aqui esta noite, e vos trarei a resposta, como o SENHOR me falar; então os príncipes dos moabitas ficaram com Bal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Deus a Balaão, e disse: Quem são estes homens que estão cont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22Z</dcterms:created>
  <dc:creator>Admin</dc:creator>
  <dc:description/>
  <dc:language>en-US</dc:language>
  <cp:lastModifiedBy>Admin</cp:lastModifiedBy>
  <dcterms:modified xsi:type="dcterms:W3CDTF">2008-07-31T00:19:22Z</dcterms:modified>
  <cp:revision>1</cp:revision>
  <dc:subject/>
  <dc:title>Slide 1</dc:title>
</cp:coreProperties>
</file>