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3D3-D6E2-429B-B941-EC369748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1B4-7B35-4C57-928B-0A312061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CCF-A359-468F-B110-35EA29D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1CC-049A-483C-9673-BD8F204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C2E-FE0A-423A-A2DC-D097B91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75E-FD37-43E8-A584-AB86A205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82C-D00B-4EA6-8435-340F7B5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BDF-4200-4499-A411-5CC590F0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213-E5C8-4867-990C-FE08FAC2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8F2-D352-40B6-839A-E5E388D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584-8D17-4BC4-8983-414BE28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96F-2652-4875-B8E9-E4FC003B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2C9-B1D3-45C8-8FC3-067FED40DA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 é uma vide estéril que dá fruto para si mesmo; conforme a abundância do seu fruto, multiplicou também os altares; conforme a bondade da sua terra, assim, fizeram boas as está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s castigarei na medida do meu desejo; e congregar-se-ão contra eles os povos, quando eu os atar pela sua dupl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fraim é uma bezerra domada, que gosta de trilhar; e eu poupava a formosura do seu pescoço; mas farei cavalgar Efraim. Judá lavrará, Jacó lhe desfará os torr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ai para vós em justiça, ceifai segundo a misericórdia; lavrai o campo de lavoura; porque é tempo de buscar ao SENHOR, até que venha e chova a justiça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rastes a impiedade, segastes a iniqüidade, e comestes o fruto da mentira; porque confiaste no teu caminho, na multidão dos teu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ntre o teu povo se levantará um grande tumulto, e todas as tuas fortalezas serão destruídas, como Salmã destruiu a Bete-Arbel no dia da guerra; a mãe ali foi despedaçada com 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s fará Betel por causa da vossa grande malícia; de madrugada o rei de Israel será totalmente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coração está dividido, por isso serão culpados; o SENHOR demolirá os seus altares, e destruirá as suas está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agora dirão: Não temos rei, porque não tememos ao SENHOR; e o rei, que faria por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am palavras, jurando falsamente, fazendo uma aliança; por isso florescerá o juízo como erva peçonhenta nos sulcos d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radores de Samaria serão atemorizados pelo bezerro de Bete-Áven; porque o seu povo se lamentará por causa dele, como também os seus sacerdotes idólatras que nele regozijavam, por causa da sua glória, que se apartou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rá levada para a Assíria como um presente ao rei Jarebe; Efraim ficará confuso, e Israel se envergonhará por causa do seu próprio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Samaria será desfeito como a espuma sobre a face d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ltos de Áven, pecado de Israel, serão destruídos; espinhos e cardos crescerão sobre os seus altares; e dirão aos montes: Cobri-nos! E aos outeiros: Caí sobre nó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dias de Gibeá pecaste, ó Israel; ali permaneceram; a peleja em Gibeá, contra os filhos da perversidade, não os alcanç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8Z</dcterms:created>
  <dc:creator>Admin</dc:creator>
  <dc:description/>
  <dc:language>en-US</dc:language>
  <cp:lastModifiedBy>Admin</cp:lastModifiedBy>
  <dcterms:modified xsi:type="dcterms:W3CDTF">2008-07-31T00:20:48Z</dcterms:modified>
  <cp:revision>1</cp:revision>
  <dc:subject/>
  <dc:title>Slide 1</dc:title>
</cp:coreProperties>
</file>