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C1D-50CD-4F40-9B9E-6CFBD527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712-D200-4EE3-B10A-ADD5858F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6D5-FF06-4DB5-B000-91E5B658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945-86C4-41FA-9A74-EE44B21F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4D1-427F-44E5-9C9F-46BD7B71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B8E-4C6E-4782-88D2-57D1B338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7F6-94F7-4168-A75C-7505B56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A5D-E765-45AB-B240-0BD8AB52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8A1-44D5-4D25-B03B-011B380C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8D7-531E-46E7-8C5A-73159FFF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D6B-3913-45D6-B13D-F76732C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68E-0CEC-4E7A-B2EF-6DD6277C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D50-E345-4CB1-B7AD-038EEF740CD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ersas, e os lídios, e os de Pute eram no teu exército os teus soldados; escudos e capacetes penduraram em ti; eles manifestaram a tua be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rvade e o teu exército estavam sobre os teus muros em redor, e os gamaditas nas tuas torres; penduravam os seus escudos nos teus muros em redor; eles aperfeiçoavam a tua formo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ársis negociava contigo, por causa da abundância de toda a casta de riquezas; com prata, ferro, estanho e chumbo, negociavam em tuas f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vã, Tubal e Meseque eram teus mercadores; em troca das tuas mercadorias davam pessoas de homens e objetos de bron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da casa de Togarma trocavam pelas tuas mercadorias, cavalos, e cavaleiros e m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Dedã eram os teus mercadores; muitas ilhas eram o comércio da tua mão; dentes de marfim e pau de ébano tornavam a dar-te em pres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íria negociava contigo por causa da multidão das tuas manufaturas; pelas tuas mercadorias davam esmeralda, púrpura, obra bordada, linho fino, corais e ág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dá e a terra de Israel, eram os teus mercadores; pelas tuas mercadorias trocavam trigo de Minite, e Panague, e mel, azeite e bálsa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masco negociava contigo, por causa da multidão das tuas obras, por causa da abundância de toda a sorte de riqueza, dando em troca vinho de Helbom e lã bran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ã e Javã, de Uzal, pelas tuas mercadorias, davam em troca ferro trabalhado, cássia e cálamo aromático, que assim entravam no teu comér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pois, ó filho do homem, levanta uma lamentação sobre T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dã negociava contigo com panos preciosos para ca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rábia, e todos os príncipes de Quedar, eram mercadores ao teu serviço, com cordeiros, carneiros e bodes; nestas coisas negociavam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rcadores de Sabá e Raamá eram os teus mercadores; em todos os seus mais finos aromas, em toda a pedra preciosa e ouro, negociaram nas tuas f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rã, e Cane e Éden, os mercadores de Sabá, Assur e Quilmade negociavam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eram teus mercadores em roupas escolhidas, em pano de azul, e bordados, e em cofres de roupas preciosas, amarrados com cordas e feitos de cedros, entre tua merca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navios de Társis eram as tuas caravanas que traziam tuas mercadorias; e te encheste, e te glorificaste muito no meio dos m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remadores te conduziram sobre grandes águas; o vento oriental te quebrou no meio dos m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riquezas, as tuas feiras, e tuas mercadorias, os teus marinheiros, os teus pilotos, os que consertavam as tuas fendas, os que faziam os teus negócios, e todos os teus soldados, que estão em ti, juntamente com toda a tua companhia, que está no m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estrondo da gritaria dos teus pilotos tremerão o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que pegam no remo, os marinheiros, e todos os pilotos do mar descerão de seus navios, e pararão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 a Tiro, que habita nas entradas do mar, e negocia com os povos em muitas ilhas: Assim diz o Senhor DEUS: Ó Tiro, tu dizes: Eu sou perfeita em formo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ão ouvir a sua voz sobre ti, e gritarão amargamente; e lançarão pó sobre as cabeças, e na cinza se revolv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-se-ão calvos por tua causa, e cingir-se-ão de sacos, e chorarão sobre ti com amargura de alma, e com amarga lamen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seu pranto levantarão uma lamentação sobre ti, e lamentarão sobre ti, dizendo: Quem foi como Tiro, como a que foi destruída no meio do m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s tuas mercadorias saiam pelos mares, fartaste a muitos povos; com a multidão das tuas riquezas e do teu negócio, enriqueceste os rei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empo em que foste quebrantada pelos mares, nas profundezas das águas, caíram, no meio de ti, os teus negócios e toda a tua companh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moradores das ilhas estão a teu respeito cheios de espanto; e os seus reis tremeram sobremaneira, e ficaram perturbados nos seus ros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rcadores dentre os povos assobiaram contra ti; tu te tornaste em grande espanto, e jamais subsist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coração dos mares estão os teus termos; os que te edificaram aperfeiçoaram a tua formo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bricaram todos os teus conveses de faias de Senir; trouxeram cedros do Líbano para te fazerem mas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 os teus remos de carvalhos de Basã; os teus bancos fizeram-nos de marfim engastado em buxo das ilhas dos qui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nho fino bordado do Egito era a tua cortina, para te servir de vela; azul e púrpura das ilhas de Elisá era a tua cober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radores de Sidom e de Arvade foram os teus remadores; os teus sábios, ó Tiro, que se achavam em ti, esses foram os teus pil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nciãos de Gebal e seus sábios foram em ti os que consertavam as tuas fendas; todos os navios do mar e os marinheiros se acharam em ti, para tratarem dos teus negó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13Z</dcterms:created>
  <dc:creator>Admin</dc:creator>
  <dc:description/>
  <dc:language>en-US</dc:language>
  <cp:lastModifiedBy>Admin</cp:lastModifiedBy>
  <dcterms:modified xsi:type="dcterms:W3CDTF">2008-07-30T23:35:13Z</dcterms:modified>
  <cp:revision>1</cp:revision>
  <dc:subject/>
  <dc:title>Slide 1</dc:title>
</cp:coreProperties>
</file>