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95E-6CC4-494A-A2D5-E9E40F62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E8A-C376-4802-BC5C-29D23C17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035-583C-4A8E-A24C-33311841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002-75E4-4BD2-BA29-1DD00CDD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8E4-20E7-4FC9-A9E7-37E7624E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E4D-0042-4ADF-A241-4AE1ED89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609-9102-428A-8DAE-54258A37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F40-9AB4-4FF5-AE2B-CBBDC461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8C4-EA4B-4E55-B546-C1839707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431-7F36-4959-ABB6-33E202C3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F14-6CC5-47DC-9090-657CFAC0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26D-A144-44B1-9D0F-24DC1EC1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FBBC-2F15-4B94-B1FD-4B291D3AD54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saíres à peleja contra teus inimigos, e vires cavalos, e carros, e povo maior em número do que tu, deles não terás temor; pois o SENHOR teu Deus, que te tirou da terra do Egito, está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 achegares a alguma cidade para combatê-la, apregoar-lhe-ás 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se te responder em paz, e te abrir as portas, todo o povo que se achar nela te será tributário e te ser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ela não fizer paz contigo, mas antes te fizer guerra, então a siti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u Deus a dará na tua mão; e todo o homem que houver nela passarás ao fio d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as mulheres, e as crianças, e os animais; e tudo o que houver na cidade, todo o seu despojo, tomarás para ti; e comerás o despojo dos teus inimigos, que te deu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rás a todas as cidades que estiverem mui longe de ti, que não forem das cidades dest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das cidades destas nações, que o SENHOR teu Deus te dá em herança, nenhuma coisa que tem fôlego deixarás co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destruí-las-ás totalmente: aos heteus, e aos amorreus, e aos cananeus, e aos perizeus, e aos heveus, e aos jebuseus, como te ordenou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vos ensinem a fazer conforme a todas as suas abominações, que fizeram a seus deuses, e pequeis contra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sitiares uma cidade por muitos dias, pelejando contra ela para a tomar, não destruirás o seu arvoredo, colocando nele o machado, porque dele comerás; pois que não o cortarás (pois o arvoredo do campo é mantimento para o homem), para empregar no 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vos achegardes à peleja, o sacerdote se adiantará, e falará ao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 árvores que souberes que não são árvores de alimento, destruí-las-ás e cortá-las-ás; e contra a cidade que guerrear contra ti edificarás baluartes, até que esta seja ven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-lhe-á: Ouvi, ó Israel, hoje vos achegais à peleja contra os vossos inimigos; não se amoleça o vosso coração: não temais nem tremais, nem vos aterrorizeis diante d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SENHOR vosso Deus é o que vai convosco, a pelejar contra os vossos inimigos, para salvar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oficiais falarão ao povo, dizendo: Qual é o homem que edificou casa nova e ainda não a consagrou? Vá, e torne-se à sua casa para que porventura não morra na peleja e algum outro a consag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 é o homem que plantou uma vinha e ainda não a desfrutou? Vá, e torne-se à sua casa, para que porventura não morra na peleja e algum outro a desfru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 é o homem que está desposado com alguma mulher e ainda não a recebeu? Vá, e torne-se à sua casa, para que porventura não morra na peleja e algum outro homem a rec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inuarão os oficiais a falar ao povo, dizendo: Qual é o homem medroso e de coração tímido? Vá, e torne-se à sua casa, para que o coração de seus irmãos não se derreta como 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os oficiais acabarem de falar ao povo, então designarão os capitães dos exércitos para a dianteira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17Z</dcterms:created>
  <dc:creator>Admin</dc:creator>
  <dc:description/>
  <dc:language>en-US</dc:language>
  <cp:lastModifiedBy>Admin</cp:lastModifiedBy>
  <dcterms:modified xsi:type="dcterms:W3CDTF">2008-07-30T23:28:17Z</dcterms:modified>
  <cp:revision>1</cp:revision>
  <dc:subject/>
  <dc:title>Slide 1</dc:title>
</cp:coreProperties>
</file>