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865-E24A-42A8-BBDA-CA615615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FA8-5BFC-4ABF-A986-101F965C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6E5-1723-4912-935E-350F7F9F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1E9-9145-4C52-B28B-5815D746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BC5-1090-495E-BBBD-49B1DEDB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315-39CF-4B6E-8BF9-0ACE1DC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D55-4EE5-401F-B023-5B73A7D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397-B133-4BC4-BAB6-A447A7F9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AC7-8ABE-43C8-A42E-07EB3B2B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573-2F64-4FDC-8822-FFD134F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A6E-D698-4B9A-A5E5-E75A389F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906-D6C6-4B02-8F25-DB61BC3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DDF-CFCA-42B5-AB32-389756BE112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tenha misericórdia de nós e nos abençoe; e faça resplandecer o seu rosto sobre nós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onheça na terra o teu caminho, e entre todas as nações 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-te a ti, ó Deus, os povos; louvem-te os povos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m-se e regozijem-se as nações, pois julgarás os povos com eqüidade, e governarás as nações sobre a terr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em-te a ti, ó Deus, os povos; louvem-te os povos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terra dará o seu fruto; e Deus, o nosso Deus, nos abenço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nos abençoará, e todas as extremidades da terra o te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57Z</dcterms:created>
  <dc:creator>Admin</dc:creator>
  <dc:description/>
  <dc:language>en-US</dc:language>
  <cp:lastModifiedBy>Admin</cp:lastModifiedBy>
  <dcterms:modified xsi:type="dcterms:W3CDTF">2008-07-31T00:25:57Z</dcterms:modified>
  <cp:revision>1</cp:revision>
  <dc:subject/>
  <dc:title>Slide 1</dc:title>
</cp:coreProperties>
</file>