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6DE-8E70-4F43-9B13-CF41A77D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085-64CE-4D8A-94FB-9E881365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3CC-3957-49E5-8E74-3DEA66E1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3A0-876B-486B-B18D-A46590C2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FE0-758F-4DF7-9190-0201DCAF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149-17DD-4E55-90C2-821BFDAB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84A-48A7-48BC-91FC-6F92F14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93C-5AA4-40F0-A958-6EEC43E7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457-D9E6-471F-A36F-D377F11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AE4-4540-4DEB-85D9-B96348E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4C0-0591-48AA-9F27-FE43606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7D6-1EE4-4318-ADF6-175C67B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1B04-A19B-42D6-8E56-2DC2A5733C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ti, despojador, que não foste despojado, e que procedes perfidamente contra os que não procederam perfidamente contra ti! Acabando tu de despojar, serás despojado; e, acabando tu de tratar perfidamente, perfidamente te tra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e levantarei, diz o SENHOR; agora me erguerei. Agora serei exa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cebestes palha, dareis à luz restolho; e o vosso espírito vos devorará como 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ovos serão como as queimas de cal; como espinhos cortados arderão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vós os que estais longe, o que tenho feito; e vós que estais vizinhos, conhecei o m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ecadores de Sião se assombraram, o tremor surpreendeu os hipócritas. Quem dentre nós habitará com o fogo consumidor? Quem dentre nós habitará com as labaredas etern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nda em justiça, e o que fala com retidão; o que rejeita o ganho da opressão, o que sacode das suas mãos todo o presente; o que tapa os seus ouvidos para não ouvir falar de derramamento de sangue e fecha os seus olhos para não ver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habitará nas alturas; as fortalezas das rochas serão o seu alto refúgio, o seu pão lhe será dado, as suas águas serão ce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olhos verão o rei na sua formosura, e verão a terra que está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coração considerará o assombro dizendo: Onde está o escrivão? Onde está o que pesou o tributo? Onde está o que conta as tor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erás mais aquele povo atrevido, povo de fala obscura, que não se pode compreender e de língua tão estranha que não se pode ente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em misericórdia de nós, por ti temos esperado; sê tu o nosso braço cada manhã, como também a nossa salvação no tempo da tribu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Sião, a cidade das nossas solenidades; os teus olhos verão a Jerusalém, habitação quieta, tenda que não será removida, cujas estacas nunca serão arrancadas e das suas cordas nenhuma se queb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i o glorioso SENHOR será para nós um lugar de rios e correntes largas; barco nenhum de remo passará por ele, nem navio grande navegará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é o nosso Juiz; o SENHOR é o nosso legislador; o SENHOR é o nosso rei, ele nos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cordas se afrouxaram; não puderam ter firme o seu mastro, e nem desfraldar a vela; então a presa de abundantes despojos se repartirá; e até os coxos dividirão a pr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ador nenhum dirá: Enfermo estou; porque o povo que habitar nela será absolvido d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ruído do tumulto fugirão os povos; à tua exaltação as nações serão disper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juntar-se-á o vosso despojo como se ajunta a lagarta; como os gafanhotos saltam, assim ele salta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stá exaltado, pois habita nas alturas; encheu a Sião de juízo 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estabilidade nos teus tempos, abundância de salvação, sabedoria e conhecimento; e o temor do SENHOR será o seu tes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seus embaixadores estão clamando de fora; e os mensageiros de paz estão chorando amarg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estradas estão desoladas, cessou o que passava pela vereda, ele rompeu a aliança, desprezou as cidades, e já não faz cas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geme e pranteia, o Líbano se envergonha e se murcha; Sarom se tornou como um deserto; e Basã e Carmelo foram sacu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47Z</dcterms:created>
  <dc:creator>Admin</dc:creator>
  <dc:description/>
  <dc:language>en-US</dc:language>
  <cp:lastModifiedBy>Admin</cp:lastModifiedBy>
  <dcterms:modified xsi:type="dcterms:W3CDTF">2008-07-30T23:55:47Z</dcterms:modified>
  <cp:revision>1</cp:revision>
  <dc:subject/>
  <dc:title>Slide 1</dc:title>
</cp:coreProperties>
</file>