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CCE0-7779-43A3-A6F5-824DF254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3D61-8F42-48D2-84D3-C9E58814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1050-D031-4CF3-B39F-CCE2A3F5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4AAF-8739-4256-8BD8-C1964F5A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FBD4-8AAE-436D-9BAE-512455E7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9FB7-7FCA-4187-9A1C-7FE46DAF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15A1-B2AD-4B87-B78B-2CF46620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1C2D-7881-4E97-8FF4-46294C19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4F19-1447-4F6D-9255-C3AD4002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F02A-3088-4E08-92AF-7FDFB81B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0E5A-E666-46A0-975A-21787EE5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4CF0-8AE7-4230-A124-3CFE8E58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3154-AA4A-488F-B686-0A5F4DA39DC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IO sobre mim a mão do SENHOR, e ele me fez sair no Espírito do SENHOR, e me pôs no meio de um vale que estava cheio de os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ofetizei como ele me deu ordem; então o espírito entrou neles, e viveram, e se puseram em pé, um exército grande em extre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e disse: Filho do homem, estes ossos são toda a casa de Israel. Eis que dizem: Os nossos ossos se secaram, e pereceu a nossa esperança; nós mesmos estamos cort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profetiza, e dize-lhes: Assim diz o Senhor DEUS: Eis que eu abrirei os vossos sepulcros, e vos farei subir das vossas sepulturas, ó povo meu, e vos trarei à terra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bereis que eu sou o SENHOR, quando eu abrir os vossos sepulcros, e vos fizer subir das vossas sepulturas, ó povo m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ei em vós o meu Espírito, e vivereis, e vos porei na vossa terra; e sabereis que eu, o SENHOR, disse isto, e o fiz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tra vez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ois, ó filho do homem, toma um pedaço de madeira, e escreve nele: Por Judá e pelos filhos de Israel, seus companheiros. E toma outro pedaço de madeira, e escreve nele: Por José, vara de Efraim, e por toda a casa de Israel, seus companh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junta um ao outro, para que se unam, e se tornem uma só vara na t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te falarem os filhos do teu povo, dizendo: Porventura não nos declararás o que significam estas cois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lhes dirás: Assim diz o Senhor DEUS: Eis que eu tomarei a vara de José que esteve na mão de Efraim, e a das tribos de Israel, suas companheiras, e as ajuntarei à vara de Judá, e farei delas uma só vara, e elas se farão uma só na minh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e fez passar em volta deles; e eis que eram mui numerosos sobre a face do vale, e eis que estavam sequíssi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varas, sobre que houveres escrito, estarão na tua mão, perante os olhos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-lhes pois: Assim diz o Senhor DEUS: Eis que eu tomarei os filhos de Israel dentre os gentios, para onde eles foram, e os congregarei de todas as partes, e os levarei à su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les farei uma nação na terra, nos montes de Israel, e um rei será rei de todos eles, e nunca mais serão duas nações; nunca mais para o futuro se dividirão em dois rei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unca mais se contaminarão com os seus ídolos, nem com as suas abominações, nem com as suas transgressões, e os livrarei de todas as suas habitações, em que pecaram, e os purificarei. Assim eles serão o meu povo, e eu serei o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eu servo Davi será rei sobre eles, e todos eles terão um só pastor; e andarão nos meus juízos e guardarão os meus estatutos, e os observ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bitarão na terra que dei a meu servo Jacó, em que habitaram vossos pais; e habitarão nela, eles e seus filhos, e os filhos de seus filhos, para sempre, e Davi, meu servo, será seu príncipe etern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ei com eles uma aliança de paz; e será uma aliança perpétua. E os estabelecerei, e os multiplicarei, e porei o meu santuário no meio deles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meu tabernáculo estará com eles, e eu serei o seu Deus e eles serão o m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gentios saberão que eu sou o SENHOR que santifico a Israel, quando estiver o meu santuário no meio deles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e disse: Filho do homem, porventura viverão estes ossos? E eu disse: Senhor DEUS, tu o sab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e disse: Profetiza sobre estes ossos, e dize-lhes: Ossos secos, ouvi a palavr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 a estes ossos: Eis que farei entrar em vós o espírito, e viv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ei nervos sobre vós e farei crescer carne sobre vós, e sobre vós estenderei pele, e porei em vós o espírito, e vivereis, e sabereis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rofetizei como se me deu ordem. E houve um ruído, enquanto eu profetizava; e eis que se fez um rebuliço, e os ossos se achegaram, cada osso ao seu os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lhei, e eis que vieram nervos sobre eles, e cresceu a carne, e estendeu-se a pele sobre eles por cima; mas não havia neles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me disse: Profetiza ao espírito, profetiza, ó filho do homem, e dize ao espírito: Assim diz o Senhor DEUS: Vem dos quatro ventos, ó espírito, e assopra sobre estes mortos, para que vi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5:49Z</dcterms:created>
  <dc:creator>Admin</dc:creator>
  <dc:description/>
  <dc:language>en-US</dc:language>
  <cp:lastModifiedBy>Admin</cp:lastModifiedBy>
  <dcterms:modified xsi:type="dcterms:W3CDTF">2008-07-30T23:35:49Z</dcterms:modified>
  <cp:revision>1</cp:revision>
  <dc:subject/>
  <dc:title>Slide 1</dc:title>
</cp:coreProperties>
</file>