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222-F5BB-442F-80EF-7E09443D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857-D737-4886-B179-9BAF7755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EC3-DA19-4405-8526-ECEFCF80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354-EA6E-4D7D-94BD-2FF07E20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524-9C94-4C5D-AB36-8B80B4F6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80E-B60D-4698-9760-649ACFED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078-A8A8-49D5-BE16-F64971C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F93-C185-4006-BB24-65408A88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967-FDC3-4CB4-915E-2786FCA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228-6FB0-4119-B226-A7C4F34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AF4-DB31-4333-8318-92BCCDA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AF9-DEA9-4AD6-A681-309A3D5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E9B1-D993-40F5-98D6-389CDABF3C9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 ao anjo da igreja que está em Éfeso: Isto diz aquele que tem na sua destra as sete estrelas, que anda no meio dos sete castiçais de our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da temas das coisas que hás de padecer. Eis que o diabo lançará alguns de vós na prisão, para que sejais tentados; e tereis uma tribulação de dez dias. Sê fiel até à morte, e dar-te-ei a coroa d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: O que vencer não receberá o dano da segunda mor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njo da igreja que está em Pérgamo escreve: Isto diz aquele que tem a espada aguda de dois fio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as tuas obras, e onde habitas, que é onde está o trono de Satanás; e reténs o meu nome, e não negaste a minha fé, ainda nos dias de Antipas, minha fiel testemunha, o qual foi morto entre vós, onde Satanás habi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algumas poucas coisas tenho contra ti, porque tens lá os que seguem a doutrina de Balaão, o qual ensinava Balaque a lançar tropeços diante dos filhos de Israel, para que comessem dos sacrifícios da idolatria, e se prostituíss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tens também os que seguem a doutrina dos nicolaítas, o que eu od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repende-te, pois, quando não em breve virei a ti, e contra eles batalharei com a espada da minha bo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: Ao que vencer darei a comer do maná escondido, e dar-lhe-ei uma pedra branca, e na pedra um novo nome escrito, o qual ninguém conhece senão aquele que o rece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njo da igreja de Tiatira escreve: Isto diz o Filho de Deus, que tem seus olhos como chama de fogo, e os pés semelhantes ao latão reluzen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conheço as tuas obras, e o teu amor, e o teu serviço, e a tua fé, e a tua paciência, e que as tuas últimas obras são mais do que as primei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as tuas obras, e o teu trabalho, e a tua paciência, e que não podes sofrer os maus; e puseste à prova os que dizem ser apóstolos, e o não são, e tu os achaste mentiros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tenho contra ti que toleras Jezabel, mulher que se diz profetisa, ensinar e enganar os meus servos, para que se prostituam e comam dos sacrifícios da idolatr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i-lhe tempo para que se arrependesse da sua prostituição; e não se arrepend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a porei numa cama, e sobre os que adulteram com ela virá grande tribulação, se não se arrependerem das su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ei de morte a seus filhos, e todas as igrejas saberão que eu sou aquele que sonda os rins e os corações. E darei a cada um de vós segundo as vossas ob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u vos digo a vós, e aos restantes que estão em Tiatira, a todos quantos não têm esta doutrina, e não conheceram, como dizem, as profundezas de Satanás, que outra carga vos não po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que tendes, retende-o até que eu ven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que vencer, e guardar até ao fim as minhas obras, eu lhe darei poder sobre as naçõ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com vara de ferro as regerá; e serão quebradas como vasos de oleiro; como também recebi de meu Pa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520" y="1523880"/>
            <a:ext cx="83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r-lhe-ei a estrela da manhã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2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ofreste, e tens paciência; e trabalhaste pelo meu nome, e não te cansas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ho, porém, contra ti que deixaste o teu primeiro am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Lembra-te, pois, de onde caíste, e arrepende-te, e pratica as primeiras obras; quando não, brevemente a ti virei, e tirarei do seu lugar o teu castiçal, se não te arrepende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ns, porém, isto: que odeias as obras dos nicolaítas, as quais eu também ode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tem ouvidos, ouça o que o Espírito diz às igrejas: Ao que vencer, dar-lhe-ei a comer da árvore da vida, que está no meio do paraíso de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o anjo da igreja que está em Esmirna, escreve: Isto diz o primeiro e o último, que foi morto, e reviveu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heço as tuas obras, e tribulação, e pobreza (mas tu és rico), e a blasfêmia dos que se dizem judeus, e não o são, mas são a sinagoga de Sataná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10Z</dcterms:created>
  <dc:creator>Admin</dc:creator>
  <dc:description/>
  <dc:language>en-US</dc:language>
  <cp:lastModifiedBy>Admin</cp:lastModifiedBy>
  <dcterms:modified xsi:type="dcterms:W3CDTF">2008-07-30T23:22:10Z</dcterms:modified>
  <cp:revision>1</cp:revision>
  <dc:subject/>
  <dc:title>Slide 1</dc:title>
</cp:coreProperties>
</file>