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4CB-B3C9-4D7F-BD6B-C6AEBA3B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C2B-533B-4120-A8FD-EC59368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BC7-62C7-4D06-B430-CAF3E2CD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196-B481-4CA3-B416-C0A5F25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B0C-CB5A-49E5-B5DF-69E623B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AB4-1BCE-4B4D-B7F6-2605383A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FB0-5608-4D01-AF9E-6761799C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AB7-4AC5-46B6-BE09-6ACEBF9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917-1566-47C1-BB3F-74D81E37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410-9DB3-4650-B9E3-1EDFC8F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DC8-1367-4791-B93B-40CAF270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2DA-1A56-4E8B-BC5C-8C5ADB7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40D1-0542-4ACA-B887-C16DFDE65E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o mesmo tempo que Judá desceu de entre seus irmãos e entrou na casa de um homem de Adulão, cujo nome era Hi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fazia era mau aos olhos do SENHOR, pelo que também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 a Tamar sua nora: Fica-te viúva na casa de teu pai, até que Selá, meu filho, seja grande. Porquanto disse: Para que porventura não morra também este, como seus irmãos. Assim se foi Tamar e ficou na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ndo-se pois muitos dias, morreu a filha de Sua, mulher de Judá; e depois de consolado Judá subiu aos tosquiadores das suas ovelhas em Timna, ele e Hira, seu amigo, o adulam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aviso a Tamar, dizendo: Eis que o teu sogro sobe a Timna, a tosquiar as su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a tirou de sobre si os vestidos da sua viuvez e cobriu-se com o véu, e envolveu-se, e assentou-se à entrada das duas fontes que estão no caminho de Timna, porque via que Selá já era grande, e ela não lhe fora dad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-a Judá, teve-a por uma prostituta, porque ela tinha coberto o seu r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igiu-se a ela no caminho, e disse: Vem, peço-te, deixa-me possuir-te. Porquanto não sabia que era sua nora. E ela disse: Que darás, para que possuas a m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Eu te enviarei um cabrito do rebanho. E ela disse: Dar-me-ás penhor até que o env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: Que penhor é que te darei? E ela disse: O teu selo, e o teu cordão, e o cajado que está em tua mão. O que ele lhe deu, e possuiu-a, e ela concebeu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se levantou, e se foi e tirou de sobre si o seu véu, e vestiu os vestidos da sua viuv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Judá ali a filha de um homem cananeu, cujo nome era Sua; e tomou-a por mulher, e a poss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udá enviou o cabrito por mão do seu amigo, o adulamita, para tomar o penhor da mão da mulher; porém não a a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ou aos homens daquele lugar, dizendo: Onde está a prostituta que estava no caminho junto às duas fontes? E disseram: Aqui não esteve prostitut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-se a Judá e disse: Não a achei; e também disseram os homens daquele lugar: Aqui não esteve prostit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: Deixa-a ficar com o penhor, para que porventura não caiamos em desprezo; eis que tenho enviado este cabrito; mas tu não a ach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se três meses depois, deram aviso a Judá, dizendo: Tamar, tua nora, adulterou, e eis que está grávida do adultério. Então disse Judá: Tirai-a fora para que seja quei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ando-a fora, ela mandou dizer a seu sogro: Do homem de quem são estas coisas eu concebi. E ela disse mais: Conhece, peço-te, de quem é este selo, e este cordão, e este caj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u-os Judá e disse: Mais justa é ela do que eu, porquanto não a tenho dado a Selá meu filho. E nunca mais a conhec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ao tempo de dar à luz que havia gêmeos em seu vent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dando ela à luz, que um pôs fora a mão, e a parteira tomou-a, e atou em sua mão um fio encarnado, dizendo: Este saiu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conteceu que, tornando ele a recolher a sua mão, eis que saiu o seu irmão, e ela disse: Como tu tens rompido, sobre ti é a rotura. E chamaram-lhe Per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concebeu e deu à luz um filho, e chamou-lhe 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saiu o seu irmão, em cuja mão estava o fio encarnado; e chamaram-lhe Z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conceber e deu à luz um filho, e chamou-lhe O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ou ainda e deu à luz um filho, e chamou-lhe Selá; e Judá estava em Quezibe, quando ela o deu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dá, pois, tomou uma mulher para Er, o seu primogênito, e o seu nome era 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, porém, o primogênito de Judá, era mau aos olhos do SENHOR, por isso o SENHOR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udá a Onã: Toma a mulher do teu irmão, e casa-te com ela, e suscita descendência a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nã, porém, soube que esta descendência não havia de ser para ele; e aconteceu que, quando possuía a mulher de seu irmão, derramava o sêmen na terra, para não dar descendência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34Z</dcterms:created>
  <dc:creator>Admin</dc:creator>
  <dc:description/>
  <dc:language>en-US</dc:language>
  <cp:lastModifiedBy>Admin</cp:lastModifiedBy>
  <dcterms:modified xsi:type="dcterms:W3CDTF">2008-07-30T23:39:34Z</dcterms:modified>
  <cp:revision>1</cp:revision>
  <dc:subject/>
  <dc:title>Slide 1</dc:title>
</cp:coreProperties>
</file>