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A148-8869-406F-A601-FC52F7139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93EB-A8BB-449A-AE0D-703F7CE8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252F-E13A-4C10-BE4B-3405DE0D9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5F7D-298A-4570-974C-4151577E1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9F21-F14A-45FD-8E1B-2BCD2F52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6774-E194-43D5-839E-DCB06A5E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DC0F-36CF-4461-BBDD-263CEB82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5D9E-38A7-472E-A0D5-5738DF30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25C1-0274-4D5D-8585-DD803091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E491-8D87-49A8-B449-2C5F1E9E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1FF8-51B9-461C-A856-3AC42D60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1462-C9F3-442B-A743-5BF76FE6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C3AD-DB42-4452-B3C5-2C0E35D7471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o SENHOR trouxe do cativeiro os que voltaram a Sião, estávamos como os que sonh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 nossa boca se encheu de riso e a nossa língua de cântico; então se dizia entre os gentios: Grandes coisas fez o SENHOR a e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randes coisas fez o SENHOR por nós, pelas quais estamos aleg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raze-nos outra vez, ó SENHOR, do cativeiro, como as correntes das águas no su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e semeiam em lágrimas segarão com aleg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leva a preciosa semente, andando e chorando, voltará, sem dúvida, com alegria, trazendo consigo os seus m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8:21Z</dcterms:created>
  <dc:creator>Admin</dc:creator>
  <dc:description/>
  <dc:language>en-US</dc:language>
  <cp:lastModifiedBy>Admin</cp:lastModifiedBy>
  <dcterms:modified xsi:type="dcterms:W3CDTF">2008-07-31T00:28:21Z</dcterms:modified>
  <cp:revision>1</cp:revision>
  <dc:subject/>
  <dc:title>Slide 1</dc:title>
</cp:coreProperties>
</file>