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DE7-13E3-4688-90BE-03F4A32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2ED-C7A0-496B-9932-5BDE4200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855-0751-468B-8CEA-BB6B52E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459-A4CF-4D50-B523-4843880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D79-8FAC-4D1D-8AB0-95BA72B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CAA-8665-4212-8736-6C9B8E5E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511-086D-4479-9AA7-A7BC451C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EEE-1657-4EE0-8F10-178AE1B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573-9BF1-4062-A422-66A3CFE8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9C0-F603-4CC9-9144-825DD845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104-22A6-4A83-B819-84C4429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6AC-1F85-42D6-A43A-FA9A2D6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ECB-83B3-406D-9FBC-229ABFFA49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falou assim e, levantando seus olhos ao céu, disse: Pai, é chegada a hora; glorifica a teu Filho, para que também o teu Filho te glorifique a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minhas coisas são tuas, e as tuas coisas são minhas; e nisso sou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já não estou mais no mundo, mas eles estão no mundo, e eu vou para ti. Pai santo, guarda em teu nome aqueles que me deste, para que sejam um, assim como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u com eles no mundo, guardava-os em teu nome. Tenho guardado aqueles que tu me deste, e nenhum deles se perdeu, senão o filho da perdição, para que a Escritura se cumpr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vou para ti, e digo isto no mundo, para que tenham a minha alegria completa em si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-lhes a tua palavra, e o mundo os odiou, porque não são do mundo, assim como eu não sou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ço que os tires do mundo, mas que os livres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ão do mundo, como eu do mundo não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ntifica-os na tua verdade; a tua palavra é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tu me enviaste ao mundo, também eu os enviei a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eles me santifico a mim mesmo, para que também eles sejam santificados n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lhe deste poder sobre toda a carne, para que dê a vida eterna a todos quantos lhe d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rogo somente por estes, mas também por aqueles que pela sua palavra hão de crer em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todos sejam um, como tu, ó Pai, o és em mim, e eu em ti; que também eles sejam um em nós, para que o mundo creia que tu me env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ei-lhes a glória que a mim me deste, para que sejam um, como nós somos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eles, e tu em mim, para que eles sejam perfeitos em unidade, e para que o mundo conheça que tu me enviaste a mim, e que os tens amado a eles como me tens amado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, aqueles que me deste quero que, onde eu estiver, também eles estejam comigo, para que vejam a minha glória que me deste; porque tu me amaste antes da fundaç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 justo, o mundo não te conheceu; mas eu te conheci, e estes conheceram que tu me enviaste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lhes fiz conhecer o teu nome, e lho farei conhecer mais, para que o amor com que me tens amado esteja neles, e eu neles est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ida eterna é esta: que te conheçam, a ti só, por único Deus verdadeiro, e a Jesus Cristo, a quem env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glorifiquei-te na terra, tendo consumado a obra que me deste a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glorifica-me tu, ó Pai, junto de ti mesmo, com aquela glória que tinha contigo antes que o mundo exist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ifestei o teu nome aos homens que do mundo me deste; eram teus, e tu mos deste, e guardaram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já têm conhecido que tudo quanto me deste provém d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lhes dei as palavras que tu me deste; e eles as receberam, e têm verdadeiramente conhecido que saí de ti, e creram que me envi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rogo por eles; não rogo pelo mundo, mas por aqueles que me deste, porque são 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12Z</dcterms:created>
  <dc:creator>Admin</dc:creator>
  <dc:description/>
  <dc:language>en-US</dc:language>
  <cp:lastModifiedBy>Admin</cp:lastModifiedBy>
  <dcterms:modified xsi:type="dcterms:W3CDTF">2008-07-31T00:04:12Z</dcterms:modified>
  <cp:revision>1</cp:revision>
  <dc:subject/>
  <dc:title>Slide 1</dc:title>
</cp:coreProperties>
</file>