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E20-9FCE-419A-9816-E52237A1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620-9F20-4C24-B68E-4CAE7BD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BE8-4B95-4989-B991-263DA77A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C1C-5F6D-48D5-A778-DBB7DDB0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1A7-5496-4564-A22F-ADDC355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F5E-BD1B-454A-831A-4A2B0AB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0AD-91CB-4BB4-AEB9-2069BC55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F7A-1078-43EC-B043-9A6933C1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8D3-D61C-49C5-A938-6A77F55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885-0F80-4BA0-90B9-19F295D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FAE-30B4-4C8B-A965-CD0B893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DFD-CAE2-4481-A45C-9A75D69E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CFC-5FBA-48AB-B99D-16C29B9CC9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veio a mim a palavra do SENHOR dos Exército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ntes destes dias não tem havido salário para os homens, nem lhes davam ganhos os animais; nem havia paz para o que entrava nem para o que saía, por causa do inimigo, porque eu incitei a todos os homens, cada um contra o seu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não serei para com o restante deste povo como nos primeiros dias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erá semente de prosperidade; a vide dará o seu fruto, e a terra dará a sua novidade, e os céus darão o seu orvalho; e farei que o restante deste povo herde tudo 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á de suceder, ó casa de Judá, e casa de Israel, que, assim como fostes uma maldição entre os gentios, assim vos salvarei, e sereis uma bênção; não temais, esforcem-se as vossas mã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: Como pensei fazer-vos mal, quando vossos pais me provocaram à ira, diz o SENHOR dos Exércitos, e não me arrepend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ornei a pensar nestes dias fazer o bem a Jerusalém e à casa de Judá; não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s são as coisas que deveis fazer: Falai a verdade cada um com o seu próximo; executai juízo de verdade e de paz nas vossas por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enhum de vós pense mal no seu coração contra o seu próximo, nem ameis o juramento falso; porque todas estas são coisas que eu odei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o SENHOR dos Exércitos veio a 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O jejum do quarto, e o jejum do quinto, e o jejum do sétimo, e o jejum do décimo mês será para a casa de Judá gozo, alegria, e festividades solenes; amai, pois, a verdade e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Zelei por Sião com grande zelo, e com grande indignação zelei por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Ainda sucederá que virão os povos e os habitantes de muitas c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habitantes de uma cidade irão à outra, dizendo: Vamos depressa suplicar o favor do SENHOR, e buscar o SENHOR dos Exércitos; eu também 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virão muitos povos e poderosas nações, a buscar em Jerusalém ao SENHOR dos Exércitos, e a suplicar o favor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Naquele dia sucederá que pegarão dez homens, de todas as línguas das nações, pegarão, sim, na orla das vestes de um judeu, dizendo: Iremos convosco, porque temos ouvido que Deus está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Voltarei para Sião, e habitarei no meio de Jerusalém; e Jerusalém chamar-se-á a cidade da verdade, e o monte do SENHOR dos Exércitos, o monte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Ainda nas praças de Jerusalém habitarão velhos e velhas; levando cada um, na mão, o seu bordão, por causa da sua muita 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ruas da cidade se encherão de meninos e meninas, que nelas brinc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Se isto for maravilhoso aos olhos do restante deste povo naqueles dias, será também maravilhoso aos meus olhos?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Eis que salvarei o meu povo da terra do oriente e da terra do ocid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á-los-ei, e habitarão no meio de Jerusalém; e eles serão o meu povo, e eu lhes serei o seu Deus em verdade e em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Esforcem-se as vossas mãos, ó vós que nestes dias ouvistes estas palavras da boca dos profetas, que estiveram no dia em que foi posto o fundamento da casa do SENHOR dos Exércitos, para que o templo fosse edifi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32Z</dcterms:created>
  <dc:creator>Admin</dc:creator>
  <dc:description/>
  <dc:language>en-US</dc:language>
  <cp:lastModifiedBy>Admin</cp:lastModifiedBy>
  <dcterms:modified xsi:type="dcterms:W3CDTF">2008-07-31T00:29:32Z</dcterms:modified>
  <cp:revision>1</cp:revision>
  <dc:subject/>
  <dc:title>Slide 1</dc:title>
</cp:coreProperties>
</file>