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9F3-B178-4AA3-A573-FF328B60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F31-C0C0-4F54-8A19-44B7AD2E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5F4-BC47-4949-96F2-9250CE07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5E3-4702-4520-921B-BBD0E7BB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1B8-887F-4818-A20E-8962750C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6FB-749B-4E83-AD5F-23F3C520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925-25E5-4328-BD90-0E6D05DE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36A-660B-4229-A7F8-27DDAEB3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744-121D-4C0A-8726-BAFE5487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BA3-0081-409F-AA98-275E44C6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40E-86B1-4284-8EB3-7739A8B5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906-3C37-4AFA-860F-FC2BE2C3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8F48-0365-44BF-9B39-59DC2229067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no barco, passou para o outro lado, e chegou à sua cidade. E eis que lhe trouxeram um paralítico, deitado numa c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stando ele em casa sentado à mesa, chegaram muitos publicanos e pecadores, e sentaram-se juntamente com Jesus e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ariseus, vendo isto, disseram aos seus discípulos: Por que come o vosso Mestre com os publicanos e pecad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ouvindo, disse-lhes: Não necessitam de médico os sãos, mas, sim, os do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, porém, e aprendei o que significa: Misericórdia quero, e não sacrifício. Porque eu não vim a chamar os justos, mas os pecadores, ao arrep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chegaram ao pé dele os discípulos de João, dizendo: Por que jejuamos nós e os fariseus muitas vezes, e os teus discípulos não jeju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Jesus: Podem porventura andar tristes os filhos das bodas, enquanto o esposo está com eles? Dias, porém, virão, em que lhes será tirado o esposo, e então jeju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deita remendo de pano novo em roupa velha, porque semelhante remendo rompe a roupa, e faz-se maior a ro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se deita vinho novo em odres velhos; aliás rompem-se os odres, e entorna-se o vinho, e os odres estragam-se; mas deita-se vinho novo em odres novos, e assim ambos se conser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-lhes ele estas coisas, eis que chegou um chefe, e o adorou, dizendo: Minha filha faleceu agora mesmo; mas vem, impõe-lhe a tua mão, e ela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levantando-se, seguiu-o, ele e os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vendo a fé deles, disse ao paralítico: Filho, tem bom ânimo, perdoados te são os t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ma mulher que havia já doze anos padecia de um fluxo de sangue, chegando por detrás dele, tocou a orla de sua roup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ia consigo: Se eu tão-somente tocar a sua roupa, ficarei 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voltando-se, e vendo-a, disse: Tem ânimo, filha, a tua fé te salvou. E imediatamente a mulher ficou 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chegando à casa daquele chefe, e vendo os instrumentistas, e o povo em alvoroç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: Retirai-vos, que a menina não está morta, mas dorme. E riam-s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que o povo foi posto fora, entrou Jesus, e pegou-lhe na mão, e a menina levant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alhou-se aquela notícia por todo aquele paí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Jesus dali, seguiram-no dois cegos, clamando, e dizendo: Tem compaixão de nós, filho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hegou à casa, os cegos se aproximaram dele; e Jesus disse-lhes: Credes vós que eu possa fazer isto? Disseram-lhe eles: Sim,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cou então os olhos deles, dizendo: Seja-vos feito segundo a voss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lguns dos escribas diziam entre si: Ele blasfe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olhos se lhes abriram. E Jesus ameaçou-os, dizendo: Olhai que ninguém o sai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tendo eles saído, divulgaram a sua fama por toda aquel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se eles retirado, trouxeram-lhe um homem mudo e endemonin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xpulso o demônio, falou o mudo; e a multidão se maravilhou, dizendo: Nunca tal se viu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fariseus diziam: Ele expulsa os demônios pelo príncipe dos demôn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corria Jesus todas as cidades e aldeias, ensinando nas sinagogas deles, e pregando o evangelho do reino, e curando todas as enfermidades e moléstias 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as multidões, teve grande compaixão delas, porque andavam cansadas e desgarradas, como ovelhas que não têm pas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disse aos seus discípulos: A seara é realmente grande, mas poucos os ceif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ai, pois, ao Senhor da seara, que mande ceifeiros para a sua se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, conhecendo os seus pensamentos, disse: Por que pensais mal em vossos coraç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qual é mais fácil? dizer: Perdoados te são os teus pecados; ou dizer: Levanta-te e an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ara que saibais que o Filho do homem tem na terra autoridade para perdoar pecados (disse então ao paralítico): Levanta-te, toma a tua cama, e vai par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, foi par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, vendo isto, maravilhou-se, e glorificou a Deus, que dera tal poder a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passando adiante dali, viu assentado na recebedoria um homem, chamado Mateus, e disse-lhe: Segue-me. E ele, levantando-se, o seg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37Z</dcterms:created>
  <dc:creator>Admin</dc:creator>
  <dc:description/>
  <dc:language>en-US</dc:language>
  <cp:lastModifiedBy>Admin</cp:lastModifiedBy>
  <dcterms:modified xsi:type="dcterms:W3CDTF">2008-07-31T00:14:37Z</dcterms:modified>
  <cp:revision>1</cp:revision>
  <dc:subject/>
  <dc:title>Slide 1</dc:title>
</cp:coreProperties>
</file>