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C0BF-7F9E-441B-9630-74B3F4FD8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1C61-9904-4267-9E03-26261ACD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4AD9-A26F-4CAD-91A8-8333F2E68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5984-C581-4D06-B603-1F3255B56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7446-4FF6-42CA-90F6-BF6EE7F0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EB40-1E8D-447F-828C-08F90279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25B7-43AF-4BB8-BFF4-DE1752D4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B8E5-E1DA-4F36-A542-219D6140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83FB-958D-4944-823B-4D2EFD150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6F50-FB42-4FCD-9E3A-D48B99A7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2AAE-3572-48FB-BA61-2CB7A14E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38F0-387D-46DE-B940-3E3355CD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14BD-466E-41B8-A36A-854B65C6D5B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DÃO, Sete, En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uxe gerou a Ninrode, que começou a ser poderoso n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izraim gerou aos ludeus e aos anameus e aos leabeus e aos naftueu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os patruseus e aos caslueus (dos quais procedem os filisteus) e aos caftor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anaã gerou a Sidom seu primogênito, e a Het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os jebuseus e aos amorreus e aos girgaseu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os heveus e aos arqueus e aos sineu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os arvadeus e aos zemareus e aos hamat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 os filhos de Sem: Elão, Assur, Arfaxade, Lude, Arã, Uz, Hul, Geter e Meseq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rfaxade gerou a Selá e Selá gerou a Éb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Éber nasceram dois filhos: o nome de um foi Pelegue, porquanto nos seus dias se repartiu a terra, e o nome de seu irmão era Joct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ainã, Maalaleel, Jered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octã gerou a Almoda, a Selefe, a Hazarmavé, e a Jerá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Hadorão, a Usal, e a Dicl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Obal, a Abimael, a Sebá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Ofir, a Havilá, e a Jobabe: todos estes foram filhos de Joct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m, Arfaxade, Selá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Éber, Pelegue, Reú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rugue, Naor, Terá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brão, que é Abra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Abraão foram: Isaque e Ism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s são as suas gerações: o primogênito de Ismael foi Nebaiote, e, depois, Quedar, Adbeel, Mibsã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oque, Matusalém, Lamequ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isma, Dumá, Massá, Hadade, Tem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tur, Nafis e Quedemá; estes foram os filhos de Ism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aos filhos de Quetura, concubina de Abraão, esta deu à luz a Zinrã, a Jocsã, a Medã, a Midiã, a Jisbaque e a Suá; e os filhos de Jocsã foram Seba e Ded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Midiã: Efá, Efer, Enoque, Abida e Elda; todos estes foram filhos de Quet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braão, pois, gerou a Isaque; e foram os filhos de Isaque: Esaú 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Esaú: Elifaz, Reuel, Jeús, Jalão e Cor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Elifaz: Temã, Omar, Zefi, Gaetã, Quenaz, Timna e Amaleq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Reuel: Naate, Zerá, Samá e Miz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Seir: Lotã, Sobal, Zibeão, Aná, Disom, Eser e Dis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Lotã: Hori e Homã; e a irmã de Lotã foi Tim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é, Sem, Cão e Jaf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Sobal eram Alvã, Manaate, Ebal, Sefi e Onã; e os filhos de Zibeão eram Aiá e An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filho de Aná foi Disom; e os filhos de Disom foram Hanrão, Esbã, Itrã e Quer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Eser eram: Bilã, Zaavã e Jaacã; os filhos de Disã eram: Uz e Ar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s são os reis que reinaram na terra de Edom, antes que reinasse rei sobre os filhos de Israel: Bela, filho de Beor, e era o nome da sua cidade Dinab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rreu Bela, e reinou em seu lugar Jobabe, filho de Zerá, de Boz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rreu Jobabe, e reinou em seu lugar Husão, da terra dos teman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rreu Husão, e reinou em seu lugar Hadade, filho de Bedade; este feriu os midianitas no campo de Moabe; e era o nome da sua cidade Avi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rreu Hadade, e reinou em seu lugar Samlá, de Masre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rreu Samlá, e reinou em seu lugar Saul, de Reobote, junto ao 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:4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rreu Saul, e reinou em seu lugar Baal-Hanã, filho de Acb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Jafé foram: Gomer, Magogue, Madai, Javã, Tubal, Meseque e Ti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:5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morrendo Baal-Hanã, Hadade reinou em seu lugar; e era o nome da sua cidade Paí; e o nome de sua mulher era Meetabel, filha de Matrede, filha de Me-Zaab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:5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morrendo Hadade, foram príncipes em Edom o príncipe Timna, o príncipe Alva, o príncipe Jetet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:5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príncipe Oolibama, o príncipe Elá, o príncipe Pino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:5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príncipe Quenaz, o príncipe Temã, o príncipe Mibza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:5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príncipe Magdiel, o príncipe Irã, estes foram os príncipes de Ed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Gomer: Asquenaz, Rifate, Togar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Javã: Elisá, Társis, Quitim e Dodan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Cão: Cuxe, Mizraim, Pute e Cana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rônicas 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Cuxe eram: Sebá, Havilá, Sabtá, Raamá e Sabtecá; os filhos de Raamá: Sebá e Ded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2:09Z</dcterms:created>
  <dc:creator>Admin</dc:creator>
  <dc:description/>
  <dc:language>en-US</dc:language>
  <cp:lastModifiedBy>Admin</cp:lastModifiedBy>
  <dcterms:modified xsi:type="dcterms:W3CDTF">2008-07-30T23:42:09Z</dcterms:modified>
  <cp:revision>1</cp:revision>
  <dc:subject/>
  <dc:title>Slide 1</dc:title>
</cp:coreProperties>
</file>