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6EDE-F467-4EA6-8A94-D4046CF57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BBD8-6BE2-4158-91D8-FD216E81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D987-BA29-4BF3-9FB0-E2EB29C31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9B7C-FCCB-4CE6-9893-D670DF00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6EB8-BA86-488F-B1BB-4879DA80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6852-A66F-4454-9B18-7ED2E274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D0B3-B83B-4484-B240-7671476E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34B6-638A-4B87-B23D-05F05153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CC46-9060-4585-B641-27DC749E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2D39-FEA9-4716-BC25-1D3AE526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5624-7983-4AF9-8098-4B45C2D1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4002-B64C-428B-A8BD-EA6BC60C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224B-DB00-4BAE-93CC-B67793DA30B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eu: Ouvi, peço-vos, ó chefes de Jacó, e vós, príncipes da casa de Israel; não é a vós que pertence saber o juíz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dificando a Sião com sangue, e a Jerusalém com iniqü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seus chefes dão as sentenças por suborno, e os seus sacerdotes ensinam por interesse, e os seus profetas adivinham por dinheiro; e ainda se encostam ao SENHOR, dizendo: Não está o SENHOR no meio de nós? Nenhum mal nos sobrev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por causa de vós, Sião será lavrada como um campo, e Jerusalém se tornará em montões de pedras, e o monte desta casa como os altos de um bos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vós que odiais o bem, e amais o mal, que arrancais a pele de cima deles, e a carne de cima dos seus os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 comeis a carne do meu povo, e lhes arrancais a pele, e lhes esmiuçais os ossos, e os repartis como para a panela e como carne dentro do caldei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lamarão ao SENHOR, mas não os ouvirá; antes esconderá deles a sua face naquele tempo, visto que eles fizeram mal nas suas ob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acerca dos profetas que fazem errar o meu povo, que mordem com os seus dentes, e clamam paz; mas contra aquele que nada lhes dá na boca preparam gu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se vos fará noite sem visão, e tereis trevas sem adivinhação, e pôr-se-á o sol sobre os profetas, e o dia sobre eles se enegrec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videntes se envergonharão, e os adivinhadores se confundirão; sim, todos eles cobrirão os seus lábios, porque não haverá respost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u estou cheio do poder do Espírito do SENHOR, e de juízo e de força, para anunciar a Jacó a sua transgressão e a Israel o seu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 agora isto, vós, chefes da casa de Jacó, e príncipes da casa de Israel, que abominais o juízo e perverteis tudo o que é direi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6:25Z</dcterms:created>
  <dc:creator>Admin</dc:creator>
  <dc:description/>
  <dc:language>en-US</dc:language>
  <cp:lastModifiedBy>Admin</cp:lastModifiedBy>
  <dcterms:modified xsi:type="dcterms:W3CDTF">2008-07-31T00:16:25Z</dcterms:modified>
  <cp:revision>1</cp:revision>
  <dc:subject/>
  <dc:title>Slide 1</dc:title>
</cp:coreProperties>
</file>