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A41D-1505-4E79-8A2D-D2BFE539E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FF72-A9C5-4AAD-A7CC-CDF1E710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DEFC-922F-443C-A13C-436CCE87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6B8A-A3CD-42B5-B0AD-8E93EC59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8672-DA48-4060-8E28-2D11F870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1113-AE67-41BB-810A-0A82906F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76A0-CE29-4A1F-9945-C4618040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2571-63B2-44BD-818F-7A163088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F43D-8450-4F4F-8D65-B503BB86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7DCA-D66B-4C1E-AC1D-21595340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90DA-2ABE-4FCB-B671-6B4BDE7B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843A-CE91-4921-8C14-D75E42DD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0D0E-C95E-4A58-AF6A-BBD73F6FB7D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o SENHOR disse a Moisés: Vai a Faraó, e dize-lhe: Assim diz o SENHOR Deus dos hebreus: Deixa ir o meu povo, para que me sir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tomaram a cinza do forno, e puseram-se diante de Faraó, e Moisés a espalhou para o céu; e tornou-se em sarna, que arrebentava em úlceras nos homens e no g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maneira que os magos não podiam parar diante de Moisés, por causa da sarna; porque havia sarna nos magos, e em todos os egípc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SENHOR endureceu o coração de Faraó, e não os ouviu, como o SENHOR tinha dito a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SENHOR a Moisés: Levanta-te pela manhã cedo, e põe-te diante de Faraó, e dize-lhe: Assim diz o SENHOR Deus dos hebreus: Deixa ir o meu povo, para que me sirv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sta vez enviarei todas as minhas pragas sobre o teu coração, e sobre os teus servos, e sobre o teu povo, para que saibas que não há outro como eu em toda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gora tenho estendido minha mão, para te ferir a ti e ao teu povo com pestilência, e para que sejas destruído da ter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deveras, para isto te mantive, para mostrar meu poder em ti, e para que o meu nome seja anunciado em toda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ainda te exaltas contra o meu povo, para não o deixar i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amanhã por este tempo farei chover saraiva mui grave, qual nunca houve no Egito, desde o dia em que foi fundado até ag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envia, recolhe o teu gado, e tudo o que tens no campo; todo o homem e animal, que for achado no campo, e não for recolhido à casa, a saraiva cairá sobre eles, e morr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e recusares deixá-los ir, e ainda por força os detiver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dos servos de Faraó temia a palavra do SENHOR, fez fugir os seus servos e o seu gado para as cas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quele que não tinha considerado a palavra do SENHOR deixou os seus servos e o seu gado no ca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SENHOR a Moisés: Estende a tua mão para o céu, e haverá saraiva em toda a terra do Egito, sobre os homens e sobre o gado, e sobre toda a erva do campo, n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 estendeu a sua vara para o céu, e o SENHOR deu trovões e saraiva, e fogo corria pela terra; e o SENHOR fez chover saraiva sobre 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ia saraiva, e fogo misturado entre a saraiva, tão grave, qual nunca houve em toda a terra do Egito desde que veio a ser uma n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saraiva feriu, em toda a terra do Egito, tudo quanto havia no campo, desde os homens até aos animais; também a saraiva feriu toda a erva do campo, e quebrou todas as árvores do ca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mente na terra de Gósen, onde estavam os filhos de Israel, não havia sarai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araó mandou chamar a Moisés e a Arão, e disse-lhes: Esta vez pequei; o SENHOR é justo, mas eu e o meu povo ímp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i ao SENHOR (pois que basta) para que não haja mais trovões de Deus nem saraiva; e eu vos deixarei ir, e não ficareis mais aqu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9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he disse Moisés: Em saindo da cidade estenderei minhas mãos ao SENHOR; os trovões cessarão, e não haverá mais saraiva; para que saibas que a terra é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a mão do SENHOR será sobre teu gado, que está no campo, sobre os cavalos, sobre os jumentos, sobre os camelos, sobre os bois, e sobre as ovelhas, com pestilência gravíssi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9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, quanto a ti e aos teus servos, eu sei que ainda não temereis diante d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9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linho e a cevada foram feridos, porque a cevada já estava na espiga, e o linho na h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9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trigo e o centeio não foram feridos, porque estavam cobe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9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iu, pois, Moisés da presença de Faraó, da cidade, e estendeu as suas mãos ao SENHOR; e cessaram os trovões e a saraiva, e a chuva não caiu mais sobr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9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 Faraó que cessou a chuva, e a saraiva, e os trovões, pecou ainda mais; e endureceu o seu coração, ele e os seus ser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9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o coração de Faraó se endureceu, e não deixou ir os filhos de Israel, como o SENHOR tinha dito por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fará separação entre o gado dos israelitas e o gado dos egípcios, para que nada morra de tudo o que for d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assinalou certo tempo, dizendo: Amanhã fará o SENHOR esta coisa n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fez isso no dia seguinte, e todo o gado dos egípcios morreu; porém do gado dos filhos de Israel não morreu nenh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aó enviou a ver, e eis que do gado de Israel não morrera nenhum; porém o coração de Faraó se agravou, e não deixou ir 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SENHOR a Moisés e a Arão: Tomai vossas mãos cheias de cinza do forno, e Moisés a espalhe para o céu diante dos olhos de Faraó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rnar-se-á em pó miúdo sobre toda a terra do Egito, e se tornará em sarna, que arrebente em úlceras, nos homens e no gado, por toda 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1:34Z</dcterms:created>
  <dc:creator>Admin</dc:creator>
  <dc:description/>
  <dc:language>en-US</dc:language>
  <cp:lastModifiedBy>Admin</cp:lastModifiedBy>
  <dcterms:modified xsi:type="dcterms:W3CDTF">2008-07-30T23:31:34Z</dcterms:modified>
  <cp:revision>1</cp:revision>
  <dc:subject/>
  <dc:title>Slide 1</dc:title>
</cp:coreProperties>
</file>