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A1CF-E15B-4EDB-8A19-0B7548BF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442-BAA3-4F03-875A-8BFDC947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262-D607-47A7-AEB0-2EA0E77D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CE4-C7CB-4A1E-B9F7-4CE41E56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1D5-9E3B-46D2-8565-7D70CA58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D1E-EEF2-43C0-BB66-571E5ECA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A1A4-9361-4190-B634-719DC5AF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CD65-0D52-463E-822E-7918E71A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5DB-75E7-4897-941D-F02A916D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9C8-B81F-42B0-B086-D7878F97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BC6-8BFC-4C90-A6C5-79F8C789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8A3-B59A-446B-8710-96C61A50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85C6-7BFB-480E-8D06-787687002C3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o rei Davi a toda a congregação: Salomão, meu filho, a quem só Deus escolheu, é ainda moço e tenro, e esta obra é grande; porque não é o palácio para homem, mas para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avi louvou ao SENHOR na presença de toda a congregação; e disse Davi: Bendito és tu, SENHOR Deus de Israel, nosso pai, de eternidade em etern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a é, SENHOR, a magnificência, e o poder, e a honra, e a vitória, e a majestade; porque teu é tudo quanto há nos céus e na terra; teu é, SENHOR, o reino, e tu te exaltaste por cabeça sobre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iquezas e glória vêm de diante de ti, e tu dominas sobre tudo, e na tua mão há força e poder; e na tua mão está o engrandecer e o dar força a t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ó Deus nosso, graças te damos, e louvamos o nome da tu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quem sou eu, e quem é o meu povo, para que pudéssemos oferecer voluntariamente coisas semelhantes? Porque tudo vem de ti, e do que é teu to d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omos estrangeiros diante de ti, e peregrinos como todos os nossos pais; como a sombra são os nossos dias sobre a terra, e sem ti não há esp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nosso Deus, toda esta abundância, que preparamos, para te edificar uma casa ao teu santo nome, vem da tua mão, e é toda t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m sei eu, Deus meu, que tu provas os corações, e que da sinceridade te agradas; eu também na sinceridade de meu coração voluntariamente dei todas estas coisas; e agora vi com alegria que o teu povo, que se acha aqui, voluntariamente te 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 Deus de Abraão, Isaque, e Israel, nossos pais, conserva isto para sempre no intento dos pensamentos do coração de teu povo; e encaminha o seu coração pa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alomão, meu filho, dá um coração perfeito, para guardar os teus mandamentos, os teus testemunhos, e os teus estatutos; e para fazer tudo, e para edificar este palácio que tenho prepa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is, com todas as minhas forças já tenho preparado para a casa de meu Deus ouro para as obras de ouro, e prata para as de prata, e cobre para as de cobre, ferro para as de ferro e madeira para as de madeira, pedras de ônix, e as de engaste, e ped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Davi a toda a congregação: Agora louvai ao SENHOR vosso Deus. Então toda a congregação louvou ao SENHOR Deus de seus pais, e inclinaram-se, e prostraram-se perante o SENHOR, e 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outro dia imolaram sacrifícios ao SENHOR, e ofereceram holocaustos ao SENHOR, mil bezerros, mil carneiros, mil cordeiros, com as suas libações; e sacrifícios em abundância por todo 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ram e beberam naquele dia perante o SENHOR, com grande gozo; e a segunda vez fizeram rei a Salomão filho de Davi, e o ungiram ao SENHOR por líder, e a Zadoque por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alomão se assentou no trono do SENHOR, como rei, em lugar de Davi seu pai, e prosperou; e todo o Israel lhe obede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príncipes, e os grandes, e até todos os filhos do rei Davi, se submeteram ao rei Salo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magnificou a Salomão grandíssimamente, perante os olhos de todo o Israel; e deu-lhe majestade real, qual antes dele não teve nenhum rei e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avi, filho de Jessé, reinou sobre todo 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dias que reinou sobre Israel, quarenta anos; em Hebrom reinou sete anos, e em Jerusalém reinou trinta e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numa boa velhice, cheio de dias, riquezas e glória; e Salomão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atos, pois, do rei Davi, assim os primeiros como os últimos, eis que estão escritos nas crônicas de Samuel, o vidente, e nas crônicas do profeta Natã, e nas crônicas de Gade, o viden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nda, porque tenho afeto à casa de meu Deus, o ouro e prata particular que tenho eu dou para a casa do meu Deus, afora tudo quanto tenho preparado para a casa do santuári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ntamente com todo o seu reinado e o seu poder; e os tempos que passaram sobre ele, e sobre Israel, e sobre todos os reinos daquelas ter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ês mil talentos de ouro de Ofir; e sete mil talentos de prata purificada, para cobrir as paredes das ca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ro para os objetos de ouro, e prata para os de prata; e para toda a obra de mão dos artífices. Quem, pois, está disposto a encher a sua mão, para oferecer hoje voluntariamente a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chefes dos pais, e os príncipes das tribos de Israel, e os capitães de mil e de cem, até os chefes da obra do rei, voluntariamente contribuí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am para o serviço da casa de Deus cinco mil talentos de ouro, e dez mil dracmas, e dez mil talentos de prata, e dezoito mil talentos de cobre, e cem mil talentos de fe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possuíam pedras preciosas, deram-nas para o tesouro da casa do SENHOR, a cargo de Jeiel o gerson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vo se alegrou porque contribuíram voluntariamente; porque, com coração perfeito, voluntariamente deram ao SENHOR; e também o rei Davi se alegrou com grande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4:01Z</dcterms:created>
  <dc:creator>Admin</dc:creator>
  <dc:description/>
  <dc:language>en-US</dc:language>
  <cp:lastModifiedBy>Admin</cp:lastModifiedBy>
  <dcterms:modified xsi:type="dcterms:W3CDTF">2008-07-30T23:44:01Z</dcterms:modified>
  <cp:revision>1</cp:revision>
  <dc:subject/>
  <dc:title>Slide 1</dc:title>
</cp:coreProperties>
</file>