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F18B-17BE-4017-9B58-8478D4A3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EB2D-918D-4E24-9259-F07A3604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47F6-8DA4-4C22-ACB3-135956BBF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5FED-8BC3-4B65-8214-2B8310B48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F65F-C03D-487E-A914-5DA06C7B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A6EC-6DB8-4B09-AD19-D63F06CA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DDAE-D40C-4E15-9DAF-8F00BA82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80CD-80D1-4575-8618-DF45DB67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9BC9-67F4-4DCB-A1BC-64DFF74C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3309-5E7C-43EE-A1F0-EBFF0F88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1776-67AE-4626-9A86-765C9322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D56C-1C45-4820-AFF5-101BAF6F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DEF3-A7FB-4E55-8DBA-D5959021CB6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destas coisas vi descer do céu outro anjo, que tinha grande poder, e a terra foi iluminada com a sua gl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ndo de longe pelo temor do seu tormento, dizendo: Ai! ai daquela grande Babilônia, aquela forte cidade! pois numa hora veio o seu juíz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obre ela choram e lamentam os mercadores da terra; porque ninguém mais compra as suas mercadoria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rcadorias de ouro, e de prata, e de pedras preciosas, e de pérolas, e de linho fino, e de púrpura, e de seda, e de escarlata; e toda a madeira odorífera, e todo o vaso de marfim, e todo o vaso de madeira preciosíssima, de bronze e de ferro, e de márm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anela, e perfume, e mirra, e incenso, e vinho, e azeite, e flor de farinha, e trigo, e gado, e ovelhas; e cavalos, e carros, e corpos e almas de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fruto do desejo da tua alma foi-se de ti; e todas as coisas gostosas e excelentes se foram de ti, e não mais as ach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ercadores destas coisas, que com elas se enriqueceram, estarão de longe, pelo temor do seu tormento, chorando e lamentand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endo: Ai, ai daquela grande cidade! que estava vestida de linho fino, de púrpura, de escarlata; e adornada com ouro e pedras preciosas e pérolas! porque numa hora foram assoladas tantas riquez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o piloto, e todo o que navega em naus, e todo o marinheiro, e todos os que negociam no mar se puseram de long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endo a fumaça do seu incêndio, clamaram, dizendo: Que cidade é semelhante a esta grande cidad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ançaram pó sobre as suas cabeças, e clamaram, chorando, e lamentando, e dizendo: Ai, ai daquela grande cidade! na qual todos os que tinham naus no mar se enriqueceram em razão da sua opulência; porque numa hora foi assol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lamou fortemente com grande voz, dizendo: Caiu, caiu a grande Babilônia, e se tornou morada de demônios, e covil de todo espírito imundo, e esconderijo de toda ave imunda e odiáv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egra-te sobre ela, ó céu, e vós, santos apóstolos e profetas; porque já Deus julgou a vossa causa quanto a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 forte anjo levantou uma pedra como uma grande mó, e lançou-a no mar, dizendo: Com igual ímpeto será lançada Babilônia, aquela grande cidade, e não será jamais ach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m ti não se ouvirá mais a voz de harpistas, e de músicos, e de flautistas, e de trombeteiros, e nenhum artífice de arte alguma se achará mais em ti; e ruído de mó em ti não se ouvirá mai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uz de candeia não mais luzirá em ti, e voz de esposo e de esposa não mais em ti se ouvirá; porque os teus mercadores eram os grandes da terra; porque todas as nações foram enganadas pelas tuas feitiçar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ela se achou o sangue dos profetas, e dos santos, e de todos os que foram mortos n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as as nações beberam do vinho da ira da sua prostituição, e os reis da terra se prostituíram com ela; e os mercadores da terra se enriqueceram com a abundância de suas delíc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vi outra voz do céu, que dizia: Sai dela, povo meu, para que não sejas participante dos seus pecados, e para que não incorras nas suas prag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já os seus pecados se acumularam até ao céu, e Deus se lembrou das iniqüidades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rnai-lhe a dar como ela vos tem dado, e retribuí-lhe em dobro conforme as suas obras; no cálice em que vos deu de beber, dai-lhe a ela em dob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ela se glorificou, e em delícias esteve, foi-lhe outro tanto de tormento e pranto; porque diz em seu coração: Estou assentada como rainha, e não sou viúva, e não verei o pr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num dia virão as suas pragas, a morte, e o pranto, e a fome; e será queimada no fogo; porque é forte o Senhor Deus que a julg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reis da terra, que se prostituíram com ela, e viveram em delícias, a chorarão, e sobre ela prantearão, quando virem a fumaça do seu incêndi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2:49Z</dcterms:created>
  <dc:creator>Admin</dc:creator>
  <dc:description/>
  <dc:language>en-US</dc:language>
  <cp:lastModifiedBy>Admin</cp:lastModifiedBy>
  <dcterms:modified xsi:type="dcterms:W3CDTF">2008-07-30T23:22:49Z</dcterms:modified>
  <cp:revision>1</cp:revision>
  <dc:subject/>
  <dc:title>Slide 1</dc:title>
</cp:coreProperties>
</file>