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AEC-A09B-4E09-A62A-6701F25A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787-EC1E-484E-BC3F-8A2DD02B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141-6B6E-467C-AA7B-C600A44B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B4A-4C8B-480C-AB8E-A37E5282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DD9-7A19-441B-B613-27110302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4DD-C80C-4453-975F-05B9638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60C-497A-470C-B44C-184A6C95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99C-D234-42F8-8D1E-1F6F3684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1B2-E691-4B7A-AEC6-7640FF6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D45-DF25-4995-AD50-46F0087B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970-16E7-4687-95FB-52FD615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DF9-A48C-49E7-A847-90BACEF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DFC-042C-44D5-9A28-0200B0E68C5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minha luz e a minha salvação; a quem temerei? O SENHOR é a força da minha vida; de quem me recea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meu pai e minha mãe me desampararem, o SENHOR me recolh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-me, SENHOR, o teu caminho, e guia-me pela vereda direita, por causa d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entregues à vontade dos meus adversários; pois se levantaram falsas testemunhas contra mim, e os que respiram crue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eceria sem dúvida, se não cresse que veria a bondade do SENHOR na terra d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a no SENHOR, anima-te, e ele fortalecerá o teu coração; espera, pois,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s malvados, meus adversários e meus inimigos, se chegaram contra mim, para comerem as minhas carnes, tropeçaram e ca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um exército me cercasse, o meu coração não temeria; ainda que a guerra se levantasse contra mim, nisto confi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isa pedi ao SENHOR, e a buscarei: que possa morar na casa do SENHOR todos os dias da minha vida, para contemplar a formosura do SENHOR, e inquirir no seu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 dia da adversidade me esconderá no seu pavilhão; no oculto do seu tabernáculo me esconderá; pôr-me-á sobre uma ro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gora a minha cabeça será exaltada sobre os meus inimigos que estão em redor de mim; por isso oferecerei sacrifício de júbilo no seu tabernáculo; cantarei, sim, cantarei louvores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SENHOR, a minha voz quando clamo; tem também piedade de mim, e respond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u disseste: Buscai o meu rosto; o meu coração disse a ti: O teu rosto, SENHOR, bus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condas de mim a tua face, não rejeites ao teu servo com ira; tu foste a minha ajuda, não me deixes nem me desampares, ó Deus d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7Z</dcterms:created>
  <dc:creator>Admin</dc:creator>
  <dc:description/>
  <dc:language>en-US</dc:language>
  <cp:lastModifiedBy>Admin</cp:lastModifiedBy>
  <dcterms:modified xsi:type="dcterms:W3CDTF">2008-07-31T00:24:47Z</dcterms:modified>
  <cp:revision>1</cp:revision>
  <dc:subject/>
  <dc:title>Slide 1</dc:title>
</cp:coreProperties>
</file>