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6B0-7D31-430C-8C68-9996EBEA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782-5916-42CE-8B2B-01E1834B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88C-4739-4DBD-A2EE-94A75481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49D-CA94-4E6A-903C-8A610FA0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973-88E1-4E98-B6C9-91516209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629-4243-47E5-A1D9-B7B87DA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1D2-BD6F-4DEF-AFE6-CF94FF7C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DE4-B044-427D-87DE-FC227D2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777-8F48-48A7-A722-56A79C54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4D7-F8FF-4ED1-9316-80107C4C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B77-97A5-4DCC-A0E2-59998EE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C6E-6EC3-446D-96BF-694D2A1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FA3A-4214-4E36-BED4-8FE8D8803F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misericórdia de mim, ó Deus, porque o homem procura devorar-me; pelejando todo dia, me opri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us louvarei a sua palavra; no SENHOR louvarei a s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us tenho posto a minha confiança; não temerei o que me possa fazer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votos estão sobre mim, ó Deus; eu te renderei ações de graç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 livraste a minha alma da morte; não livrarás os meus pés da queda, para andar diante de Deus na luz dos vive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inimigos procuram devorar-me todo dia; pois são muitos os que pelejam contra mim, ó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qualquer tempo em que eu temer, confiarei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us louvarei a sua palavra, em Deus pus a minha confiança; não temerei o que me possa fazer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torcem as minhas palavras; todos os seus pensamentos são contra mim para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m-se, escondem-se, marcam os meus passos, como aguardando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escaparão eles por meio da sua iniqüidade? Ó Deus, derruba os povos na tua i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contas as minhas vagueações; põe as minhas lágrimas no teu odre. Não estão elas no teu liv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a ti clamar, então voltarão para trás os meus inimigos: isto sei eu, porque Deus é por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42Z</dcterms:created>
  <dc:creator>Admin</dc:creator>
  <dc:description/>
  <dc:language>en-US</dc:language>
  <cp:lastModifiedBy>Admin</cp:lastModifiedBy>
  <dcterms:modified xsi:type="dcterms:W3CDTF">2008-07-31T00:25:42Z</dcterms:modified>
  <cp:revision>1</cp:revision>
  <dc:subject/>
  <dc:title>Slide 1</dc:title>
</cp:coreProperties>
</file>