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7BE-3E9D-4618-AD5A-E58AAF11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400-DC4C-4FA1-B781-52ED7CFA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580-A232-4815-A78E-6B9908C3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75C-BF23-4FC9-B61A-9FEE6019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098-14B8-46C3-B92C-A7DBED58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33B-AC41-475F-A2C8-08216314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F34-C09F-4F28-91DB-954525D6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98D-2C63-4A63-BB74-43923378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030-FAE7-473B-946C-890B3D45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08C-C2A3-422E-A630-05EECF24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2C5-61E0-43EF-95CC-1C03B79E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63C-B44C-4541-B581-39BC47BA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22AC-EFC2-4A92-BD48-30FAA382435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stas coisas e desta verdade, veio Senaqueribe, rei da Assíria, e entrou em Judá, e acampou-se contra as cidades fortificadas, e intentou apoderar-se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Senaqueribe, rei da Assíria: Em que confiais vós, para vos deixardes sitiar em Jerusalé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vos incita Ezequias, para morrerdes à fome e à sede, dizendo: O SENHOR nosso Deus nos livrará das mãos do rei da Assí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Ezequias o mesmo que tirou os seus altos e os seus altares, e falou a Judá e a Jerusalém, dizendo: Diante de um único altar vos prostrareis, e sobre ele queimareis incen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abeis vós o que eu e meus pais fizemos a todos os povos das terras? Porventura puderam de qualquer maneira os deuses das nações daquelas terras livrar o seu país da minha 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 é, de todos os deuses daquelas nações que meus pais destruíram, o que pôde livrar o seu povo da minha mão, para que vosso Deus vos possa livrar da minha 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não vos engane Ezequias, nem vos incite assim, nem lhe deis crédito; porque nenhum deus de nação alguma, nem de reino algum, pôde livrar o seu povo da minha mão, nem da mão de meus pais; quanto menos vos poderá livrar o vosso Deus da minha 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eus servos falaram ainda mais contra o SENHOR Deus, e contra Ezequias, o s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reveu também cartas, para blasfemar do SENHOR Deus de Israel, e para falar contra ele, dizendo: Assim como os deuses das nações das terras não livraram o seu povo da minha mão, assim também o Deus de Ezequias não livrará o seu povo da minh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aram em alta voz em judaico contra o povo de Jerusalém, que estava em cima do muro, para os atemorizar e os perturbar, para que tomassem 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ram do Deus de Jerusalém, como dos deuses dos povos da terra, obras das mã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Ezequias que Senaqueribe vinha, e que estava resolvido contra Jerusalé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rei Ezequias e o profeta Isaías, filho de Amós, oraram contra isso, e clamaram a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enviou um anjo que destruiu a todos os homens valentes, e os líderes, e os capitães no arraial do rei da Assíria; e envergonhado voltou à sua terra; e, entrando na casa de seu deus, alguns dos seus próprios filhos, o mataram ali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livrou o SENHOR a Ezequias, e aos moradores de Jerusalém, da mão de Senaqueribe, rei da Assíria, e da mão de todos; e de todos os lados os gu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traziam a Jerusalém presentes ao SENHOR, e coisas preciosíssimas a Ezequias, rei de Judá, de modo que depois disto foi exaltado perante os olhos de todas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Ezequias adoeceu mortalmente; e orou ao SENHOR, o qual lhe falou, e lhe deu um si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correspondeu Ezequias ao benefício que lhe fora feito; porque o seu coração se exaltou; por isso veio grande ira sobre ele, e sobre Judá 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zequias, porém, se humilhou pela exaltação do seu coração, ele e os habitantes de Jerusalém; e a grande ira do SENHOR não veio sobre eles, nos dias de Ezequ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ve Ezequias riquezas e glória em grande abundância; proveu-se de tesouraria para prata, ouro, pedras preciosas, especiarias, escudos, e toda a espécie de objetos desejá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 armazéns para a colheita do trigo, e do vinho, e do azeite; e de estrebarias para toda a espécie de animais e de currais para os reba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dificou também cidades, e possuiu ovelhas e vacas em abundância; porque Deus lhe tinha dado muitíssimas possess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ve conselho com os seus príncipes e os seus homens valentes, para que se tapassem as fontes das águas que havia fora da cidade; e eles o ajud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mesmo Ezequias tapou o manancial superior das águas de Giom, e as fez correr por baixo para o ocidente da cidade de Davi; porque Ezequias prosperou em todas 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, no tocante aos embaixadores dos príncipes de Babilônia, que foram enviados a ele, a perguntarem acerca do prodígio que se fez naquela terra, Deus o desamparou, para tentá-lo, para saber tudo o que havia n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s demais atos de Ezequias, e as suas boas obras, eis que estão escritos na visão do profeta Isaías, filho de Amós, e no livro dos reis de Judá e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rmiu Ezequias com seus pais, e o sepultaram no mais alto dos sepulcros dos filhos de Davi; e todo o Judá e os habitantes de Jerusalém lhe fizeram honras na sua morte; e Manassé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uito povo se ajuntou, e tapou todas as fontes, como também o ribeiro que se estendia pelo meio da terra, dizendo: Por que viriam os reis da Assíria, e achariam tantas águ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se animou, e edificou todo o muro quebrado até às torres, e levantou o outro muro por fora; e fortificou a Milo na cidade de Davi, e fez armas e escudos em abund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capitães de guerra sobre o povo, e reuniu-os na praça da porta da cidade, e falou-lhes ao coraç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forçai-vos, e tende bom ânimo; não temais, nem vos espanteis, por causa do rei da Assíria, nem por causa de toda a multidão que está com ele, porque há um maior conosco do que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ele está o braço de carne, mas conosco o SENHOR nosso Deus, para nos ajudar, e para guerrear por nós. E o povo descansou nas palavras de Ezequias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Senaqueribe, rei da Assíria, enviou os seus servos a Jerusalém (ele porém estava diante de Laquis, com todas as suas forças), a Ezequias, rei de Judá, e a todo o Judá que estava em Jerusalém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34Z</dcterms:created>
  <dc:creator>Admin</dc:creator>
  <dc:description/>
  <dc:language>en-US</dc:language>
  <cp:lastModifiedBy>Admin</cp:lastModifiedBy>
  <dcterms:modified xsi:type="dcterms:W3CDTF">2008-07-30T23:50:34Z</dcterms:modified>
  <cp:revision>1</cp:revision>
  <dc:subject/>
  <dc:title>Slide 1</dc:title>
</cp:coreProperties>
</file>