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576-8AF5-4912-9D75-52CA47A1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A12-F23B-4F69-98AB-69E7FBAE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8FB-5649-452D-A3FC-2137E748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5E8-B040-4ACC-876C-D2CD4FC6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F2B-7435-4105-90C3-ED49E9A1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663-11CF-4D56-B687-C6480A83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AFE-4590-4183-B962-755D25DC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238-1315-4471-8976-A6FE2511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2E6-3C90-49C5-8C81-ED989F13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CA9-124A-4C03-9D33-02D9ED7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2E0-0280-4600-8E71-C1ACA08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95C-4FAC-4C8C-89C0-D032A21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81CA-0E0B-49F3-B357-18A925296E1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 sua oferta for sacrifício pacífico; se a oferecer de gado, macho ou fêmea, a oferecerá sem defeito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mbos os rins, e a gordura que está sobre eles, e junto aos lombos, e o redenho que está sobre o fígado com os rins, tirá-los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queimará isso sobre o altar; alimento é da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 sua oferta for uma cabra, perante o SENHOR a oferecer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 a sua mão sobre a sua cabeça, e a degolará diante da tenda da congregação; e os filhos de Arão espargirão o seu sangue sobre o altar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ferecerá dela a sua oferta por oferta queimada ao SENHOR, a gordura que cobre a fressura, e toda a gordura que está sobre a fressu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mbos os rins, e a gordura que está sobre eles, e junto aos lombos, e o redenho que está sobre o fígado com os rins, tirá-los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o queimará sobre o altar; alimento é da oferta queimada de cheiro suave. Toda a gordura será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tuto perpétuo é pelas vossas gerações, em todas as vossas habitações: nenhuma gordura nem sangue algum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 a sua mão sobre a cabeça da sua oferta, e a degolará diante da porta da tenda da congregação; e os filhos de Arão, os sacerdotes, espargirão o sangue sobre o altar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ferecerá, do sacrifício pacífico, a oferta queimada ao SENHOR; a gordura que cobre a fressura, e toda a gordura que está sobre a fressu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bos os rins, e a gordura que está sobre eles, e junto aos lombos, e o redenho que está sobre o fígado com os rins, ti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Arão queimarão isso sobre o altar, em cima do holocausto, que estará sobre a lenha que está no fogo; oferta queimada é de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 sua oferta for de gado miúdo por sacrifício pacífico ao SENHOR, seja macho ou fêmea, sem defeito o ofe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ferecer um cordeiro por sua oferta, oferecê-lo-á perante 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 a sua mão sobre a cabeça da sua oferta, e a degolará diante da tenda da congregação; e os filhos de Arão espargirão o seu sangue sobre o altar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do sacrifício pacífico, oferecerá ao SENHOR, por oferta queimada, a sua gordura, a cauda toda, a qual tirará do espinhaço, e a gordura que cobre a fressura, e toda a gordura que está sobre a fressu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08Z</dcterms:created>
  <dc:creator>Admin</dc:creator>
  <dc:description/>
  <dc:language>en-US</dc:language>
  <cp:lastModifiedBy>Admin</cp:lastModifiedBy>
  <dcterms:modified xsi:type="dcterms:W3CDTF">2008-07-31T00:08:08Z</dcterms:modified>
  <cp:revision>1</cp:revision>
  <dc:subject/>
  <dc:title>Slide 1</dc:title>
</cp:coreProperties>
</file>