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C22-8B92-413D-8A11-75CA1DE3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056-3C88-44A6-BBC4-12AB0D69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30C-57AF-4408-B88B-9892BD7E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0C2-C868-4FD8-BE98-CC4C2596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6A9-CAC1-4635-9960-0BD37456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058-707E-422F-87AF-BBB05AA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380-1F60-4FE4-B0FC-AE2C3BE3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1E0-F972-477F-AACF-2634545F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7F9-D5A5-4DDD-8171-3E56A88B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E48-5FAF-426F-8010-5E3C1979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C70-57BA-478F-BDC2-7AED1B1E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983-E702-4FAA-90BF-83600C94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9156-3A03-4BF3-B44A-CB8BA554F79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igreja que estava em Antioquia havia alguns profetas e doutores, a saber: Barnabé e Simeão chamado Níger, e Lúcio, cireneu, e Manaém, que fora criado com Herodes o tetrarca, e S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: Ó filho do diabo, cheio de todo o engano e de toda a malícia, inimigo de toda a justiça, não cessarás de perturbar os retos caminhos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í, pois, agora contra ti a mão do Senhor, e ficarás cego, sem ver o sol por algum tempo. E no mesmo instante a escuridão e as trevas caíram sobre ele e, andando à roda, buscava a quem o guiasse pel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rocônsul, vendo o que havia acontecido, creu, maravilhado da doutrin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de Pafos, Paulo e os que estavam com ele chegaram a Perge, da Panfília. Mas João, apartando-se deles, voltou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saindo de Perge, chegaram a Antioquia, da Pisídia, e, entrando na sinagoga, num dia de sábado, assentaram-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a lição da lei e dos profetas, lhes mandaram dizer os principais da sinagoga: Homens irmãos, se tendes alguma palavra de consolação para o povo, fal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Paulo, e pedindo silêncio com a mão, disse: Homens israelitas, e os que temeis a Deus, ouv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 deste povo de Israel escolheu a nossos pais, e exaltou o povo, sendo eles estrangeiros na terra do Egito; e com braço poderoso os tirou d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portou os seus costumes no deserto por espaço de quase quar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truindo a sete nações na terra de Canaã, deu-lhes por sorte a terr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rvindo eles ao Senhor, e jejuando, disse o Espírito Santo: Apartai-me a Barnabé e a Saulo para a obra a que os tenho ch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isto, por quase quatrocentos e cinqüenta anos, lhes deu juízes, até ao profeta Sam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pediram um rei, e Deus lhes deu por quarenta anos, a Saul filho de Quis, homem da tribo d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este foi retirado, levantou-lhes como rei a Davi, ao qual também deu testemunho, e disse: Achei a Davi, filho de Jessé, homem conforme o meu coração, que executará toda a minh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descendência deste, conforme a promessa, levantou Deus a Jesus para Salvador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primeiramente João, antes da vinda dele, pregado a todo o povo de Israel o batismo do arrep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oão, quando completava a carreira, disse: Quem pensais vós que eu sou? Eu não sou o Cristo; mas eis que após mim vem aquele a quem não sou digno de desatar as alparcas d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ns irmãos, filhos da geração de Abraão, e os que dentre vós temem a Deus, a vós vos é enviada a palavra dest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não terem conhecido a este, os que habitavam em Jerusalém, e os seus príncipes, condenaram-no, cumprindo assim as vozes dos profetas que se lêem todos os sá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mbora não achassem nenhuma causa de morte, pediram a Pilatos que ele fosse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eles cumprido todas as coisas que dele estavam escritas, tirando-o do madeiro, o puseram na sepultu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jejuando e orando, e pondo sobre eles as mãos, os desped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o ressuscitou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por muitos dias foi visto pelos que subiram com ele da Galiléia a Jerusalém, e são suas testemunhas para com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vos anunciamos que a promessa que foi feita aos pais, Deus a cumpriu a nós, seus filhos, ressuscitando a Jes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está escrito no salmo segundo: Meu filho és tu, hoje te g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o ressuscitaria dentre os mortos, para nunca mais tornar à corrupção, disse-o assim: As santas e fiéis bênçãos de Davi vos 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em outro salmo diz: Não permitirás que o teu santo veja corrup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na verdade, tendo Davi no seu tempo servido conforme a vontade de Deus, dormiu, foi posto junto de seus pais e viu a corrup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 a quem Deus ressuscitou nenhuma corrupção 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-vos, pois, notório, homens irmãos, que por este se vos anuncia a remissão d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tudo o que, pela lei de Moisés, não pudestes ser justificados, por ele é justificado todo aquele que cr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estes, enviados pelo Espírito Santo, desceram a Selêucia e dali navegaram para Chi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, pois, que não venha sobre vós o que está dito nos profet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, ó desprezadores, e espantai-vos e desaparecei; Porque opero uma obra em vossos dias, Obra tal que não crereis, se alguém vo-la con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ídos os judeus da sinagoga, os gentios rogaram que no sábado seguinte lhes fossem ditas as mesm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pedida a sinagoga, muitos dos judeus e dos prosélitos religiosos seguiram Paulo e Barnabé; os quais, falando-lhes, os exortavam a que permanecessem na gra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sábado seguinte ajuntou-se quase toda a cidade para ouvir a palav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judeus, vendo a multidão, encheram-se de inveja e, blasfemando, contradiziam o que Paulo fal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ulo e Barnabé, usando de ousadia, disseram: Era mister que a vós se vos pregasse primeiro a palavra de Deus; mas, visto que a rejeitais, e não vos julgais dignos da vida eterna, eis que nos voltamos para os gent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assim no-lo mandou: Eu te pus para luz dos gentios, A fim de que sejas para salvação até os confin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gentios, ouvindo isto, alegraram-se, e glorificavam a palavra do Senhor; e creram todos quantos estavam ordenados para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lavra do Senhor se divulgava por toda aquela proví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dos a Salamina, anunciavam a palavra de Deus nas sinagogas dos judeus; e tinham também a João como cooper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judeus incitaram algumas mulheres religiosas e honestas, e os principais da cidade, e levantaram perseguição contra Paulo e Barnabé, e os lançaram fora d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cudindo, porém, contra eles o pó dos seus pés, partiram para Icô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scípulos estavam cheios de alegria e d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atravessado a ilha até Pafos, acharam um certo judeu mágico, falso profeta, chamado Barjes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estava com o procônsul Sérgio Paulo, homem prudente. Este, chamando a si Barnabé e Saulo, procurava muito ouvir a palav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resistia-lhes Elimas, o encantador (porque assim se interpreta o seu nome), procurando apartar da fé o procôn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Saulo, que também se chama Paulo, cheio do Espírito Santo, e fixando os olhos nel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23Z</dcterms:created>
  <dc:creator>Admin</dc:creator>
  <dc:description/>
  <dc:language>en-US</dc:language>
  <cp:lastModifiedBy>Admin</cp:lastModifiedBy>
  <dcterms:modified xsi:type="dcterms:W3CDTF">2008-07-30T23:24:23Z</dcterms:modified>
  <cp:revision>1</cp:revision>
  <dc:subject/>
  <dc:title>Slide 1</dc:title>
</cp:coreProperties>
</file>