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6AD-759B-40BB-A8AC-8246D43B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C69-FE09-4361-875F-2001619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DCF-74C7-4476-BE52-4F312EF8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A5C-66F6-43F8-9E25-EFC3FD6B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DCC-7DD8-4F88-8172-D557D78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782-53AC-465D-BC11-DFB21C8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81B-DBB3-475C-A437-B3AFA9BF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AA2-B3AD-4738-A92E-F013719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57E-B919-46F3-8469-B104FC2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44F-126E-4632-8749-A65B33B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EB5-285D-4AB1-87E9-1D630B8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44F-B437-4906-A51D-E171244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1A3-2CC2-4437-A124-B29A14028B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obriu o Senhor de nuvens na sua ira a filha de Sião! Derrubou do céu à terra a glória de Israel, e não se lembrou do escabelo de seus pés, no dia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ão sentados na terra, silenciosos, os anciãos da filha de Sião; lançam pó sobre as suas cabeças, cingiram sacos; as virgens de Jerusalém abaixam as suas cabeças até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se consumiram os meus olhos com lágrimas, turbadas estão as minhas entranhas, o meu fígado se derramou pela terra por causa do quebrantamento da filha do meu povo; pois desfalecem o menino e a criança de peito pelas ruas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desfalecerem, como feridos, pelas ruas da cidade, ao exalarem as suas almas no regaço de suas mães, perguntam a elas: Onde está o trigo e o v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stemunho te trarei? A quem te compararei, ó filha de Jerusalém? A quem te assemelharei, para te consolar, ó virgem filha de Sião? Porque grande como o mar é a tua quebradura; quem te sar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profetas viram para ti, vaidade e loucura, e não manifestaram a tua maldade, para impedirem o teu cativeiro; mas viram para ti cargas vãs e motivos de expul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passam pelo caminho batem palmas, assobiam e meneiam as suas cabeças sobre a filha de Jerusalém, dizendo: É esta a cidade que denominavam: perfeita em formosura, gozo de toda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teus inimigos abrem as suas bocas contra ti, assobiam, e rangem os dentes; dizem: Devoramo-la; certamente este é o dia que esperávamos; achamo-lo, vimo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o SENHOR o que intentou; cumpriu a sua palavra, que ordenou desde os dias da antiguidade; derrubou, e não se apiedou; fez que o inimigo se alegrasse por tua causa, exaltou o poder dos teu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ração deles clamou ao Senhor: Ó muralha da filha de Sião, corram as tuas lágrimas como um ribeiro, de dia e de noite; não te dês descanso, nem parem as meninas de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clama de noite no princípio das vigias; derrama o teu coração como águas diante da presença do Senhor; levanta a ele as tuas mãos, pela vida de teus filhinhos, que desfalecem de fome à entrada de todas 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orou o Senhor todas as moradas de Jacó, e não se apiedou; derrubou no seu furor as fortalezas da filha de Judá, e abateu-as até à terra; profanou o reino e os seu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, ó SENHOR, e considera a quem fizeste assim! Hão de comer as mulheres o fruto de si mesmas, as crianças que trazem nos braços? Ou matar-se-á no santuário do Senhor o sacerdote e o profe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zem por terra pelas ruas o moço e o velho, as minhas virgens e os meus jovens vieram a cair à espada; tu os mataste no dia da tua ira; mataste e não te apied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ocaste os meus temores em redor como num dia de solenidade; não houve no dia da ira do SENHOR quem escapasse, ou ficasse; aqueles que eu trouxe nas mãos e sustentei, o meu inimigo os consum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furor da sua ira cortou toda a força de Israel; retirou para trás a sua destra de diante do inimigo; e ardeu contra Jacó, como labareda de fogo que consome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mou o seu arco como inimigo, firmou a sua destra como adversário, e matou tudo o que era formoso à vista; derramou a sua indignação como fogo na tenda da filha 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-se o Senhor como inimigo; devorou a Israel, devorou a todos os seus palácios, destruiu as suas fortalezas; e multiplicou na filha de Judá a lamentação e a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ancou o seu tabernáculo com violência, como se fosse a de uma horta; destruiu o lugar da sua congregação; o SENHOR, em Sião, pôs em esquecimento a festa solene e o sábado, e na indignação da sua ira rejeitou com desprezo o rei e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jeitou o Senhor o seu altar, detestou o seu santuário; entregou na mão do inimigo os muros dos seus palácios; deram gritos na casa do SENHOR, como em dia de festa sole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tentou o SENHOR destruir o muro da filha de Sião; estendeu o cordel sobre ele, não retirou a sua mão destruidora; fez gemer o antemuro e o muro; estão eles juntamente enfraqu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portas caíram por terra; ele destruiu e quebrou os seus ferrolhos; o seu rei e os seus príncipes estão entre os gentios, onde não há lei, nem os seus profetas acham visão algum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47Z</dcterms:created>
  <dc:creator>Admin</dc:creator>
  <dc:description/>
  <dc:language>en-US</dc:language>
  <cp:lastModifiedBy>Admin</cp:lastModifiedBy>
  <dcterms:modified xsi:type="dcterms:W3CDTF">2008-07-31T00:07:47Z</dcterms:modified>
  <cp:revision>1</cp:revision>
  <dc:subject/>
  <dc:title>Slide 1</dc:title>
</cp:coreProperties>
</file>