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A480-C7AA-4859-B4FB-64CF725F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187C-719B-45AE-8E10-583B5537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F5B7-F2EF-4E7C-AF0E-C0FF2EADF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74C1-A08A-4EB7-8B25-E4E45D67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0877-CC82-477A-A848-A4D97EDF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9ADF-9BFF-4927-A07D-D29D6E82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6049-1825-4EF5-8E4F-B8F88CA5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29F6-BB4B-4E69-968E-A16B6122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6EEF-4DDA-4D03-861C-61C075FA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9B64-9DE7-4747-9C0A-21ECB0EE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744D-C605-41DB-89E9-5E04C71B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1306-BDE2-403F-AB45-94288E90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AD6F-A2FE-4F62-9230-94C9969B616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Jesus ia saindo do templo, aproximaram-se dele os seus discípulos para lhe mostrarem a estrutura do temp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sse tempo muitos serão escandalizados, e trair-se-ão uns aos outros, e uns aos outros se odi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rgirão muitos falsos profetas, e enganarão a mu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or se multiplicar a iniqüidade, o amor de muitos esfri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quele que perseverar até ao fim será sal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 evangelho do reino será pregado em todo o mundo, em testemunho a todas as nações, e então virá o f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, pois, virdes que a abominação da desolação, de que falou o profeta Daniel, está no lugar santo; quem lê, atend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os que estiverem na Judéia, fujam para os mont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m estiver sobre o telhado não desça a tirar alguma coisa de sua cas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m estiver no campo não volte atrás a buscar as suas ve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i das grávidas e das que amamentarem naqueles dia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, porém, lhes disse: Não vedes tudo isto? Em verdade vos digo que não ficará aqui pedra sobre pedra que não seja derrub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rai para que a vossa fuga não aconteça no inverno nem no sáb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haverá então grande aflição, como nunca houve desde o princípio do mundo até agora, nem tampouco há de hav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aqueles dias não fossem abreviados, nenhuma carne se salvaria; mas por causa dos escolhidos serão abreviados aquele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se alguém vos disser: Eis que o Cristo está aqui, ou ali, não lhe deis crédi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urgirão falsos cristos e falsos profetas, e farão tão grandes sinais e prodígios que, se possível fora, enganariam até os escolh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u vo-lo tenho pred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se vos disserem: Eis que ele está no deserto, não saiais. Eis que ele está no interior da casa; não acredit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assim como o relâmpago sai do oriente e se mostra até ao ocidente, assim será também a vinda do Filho d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onde estiver o cadáver, aí se ajuntarão as águ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ogo depois da aflição daqueles dias, o sol escurecerá, e a lua não dará a sua luz, e as estrelas cairão do céu, e as potências dos céus serão abal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ando assentado no Monte das Oliveiras, chegaram-se a ele os seus discípulos em particular, dizendo: Dize-nos, quando serão essas coisas, e que sinal haverá da tua vinda e do fim do mun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parecerá no céu o sinal do Filho do homem; e todas as tribos da terra se lamentarão, e verão o Filho do homem, vindo sobre as nuvens do céu, com poder e grande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enviará os seus anjos com rijo clamor de trombeta, os quais ajuntarão os seus escolhidos desde os quatro ventos, de uma à outra extremidade d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rendei, pois, esta parábola da figueira: Quando já os seus ramos se tornam tenros e brotam folhas, sabeis que está próximo o v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gualmente, quando virdes todas estas coisas, sabei que ele está próximo, às por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verdade vos digo que não passará esta geração sem que todas estas coisas aconteç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éu e a terra passarão, mas as minhas palavras não hão de pass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aquele dia e hora ninguém sabe, nem os anjos do céu, mas unicamente m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mo foi nos dias de Noé, assim será também a vinda do Filho d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, assim como, nos dias anteriores ao dilúvio, comiam, bebiam, casavam e davam-se em casamento, até ao dia em que Noé entrou na arc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o perceberam, até que veio o dilúvio, e os levou a todos, assim será também a vinda do Filho d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respondendo, disse-lhes: Acautelai-vos, que ninguém vos engan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estando dois no campo, será levado um, e deixado o out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ndo duas moendo no moinho, será levada uma, e deixada out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giai, pois, porque não sabeis a que hora há de vir o voss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considerai isto: se o pai de família soubesse a que vigília da noite havia de vir o ladrão, vigiaria e não deixaria minar a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estai vós apercebidos também; porque o Filho do homem há de vir à hora em que não pens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é, pois, o servo fiel e prudente, que o seu senhor constituiu sobre a sua casa, para dar o sustento a seu temp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 aquele servo que o seu senhor, quando vier, achar servindo ass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verdade vos digo que o porá sobre todos os seus b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 aquele mau servo disser no seu coração: O meu senhor tarde virá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eçar a espancar os seus conservos, e a comer e a beber com os ébri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uitos virão em meu nome, dizendo: Eu sou o Cristo; e enganarão a mu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rá o senhor daquele servo num dia em que o não espera, e à hora em que ele não sab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pará-lo-á, e destinará a sua parte com os hipócritas; ali haverá pranto e ranger de d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reis de guerras e de rumores de guerras; olhai, não vos assusteis, porque é mister que isso tudo aconteça, mas ainda não é o f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se levantará nação contra nação, e reino contra reino, e haverá fomes, e pestes, e terremotos, em vários luga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odas estas coisas são o princípio de 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os hão de entregar para serdes atormentados, e matar-vos-ão; e sereis odiados de todas as nações por causa do m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5:54Z</dcterms:created>
  <dc:creator>Admin</dc:creator>
  <dc:description/>
  <dc:language>en-US</dc:language>
  <cp:lastModifiedBy>Admin</cp:lastModifiedBy>
  <dcterms:modified xsi:type="dcterms:W3CDTF">2008-07-31T00:15:54Z</dcterms:modified>
  <cp:revision>1</cp:revision>
  <dc:subject/>
  <dc:title>Slide 1</dc:title>
</cp:coreProperties>
</file>