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6F9-717B-4B3D-8220-9F53404C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73A-C320-4B2E-AE8E-4F493C3B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74D-5971-4FBB-A93F-054D01D5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CD4-E887-4E71-82E1-F5126818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A1C-EDAC-4AF6-8CC5-6BBC247A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289-7524-4812-8ADC-46FB8171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41A-04CA-4A39-AF3E-2B933AF0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837-59EB-42BE-BFCD-E5FB37ED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57D-5BE1-4A87-A1D9-B3C1D05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5AF-A23D-4581-B90D-27ED38F6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8DA-4A2C-44DE-82FC-6D1158C5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F9A-6E13-418B-91C8-779A72E8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4868-BDD3-4868-B670-22EB8F5F8C1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RAM os filisteus todos os seus exércitos em Afeque; e acamparam-se os israelitas junto à fonte que está em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amanhã de madrugada levanta-te com os servos de teu SENHOR, que têm vindo contigo; e, levantando-vos pela manhã, de madrugada, e havendo luz, par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de madrugada se levantou, ele e os seus homens, para partirem pela manhã, e voltarem à terra dos filisteus; e os filisteus subiram a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íncipes dos filisteus se foram para lá com centenas e com milhares; porém Davi e os seus homens iam com Aquis na reta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 então os príncipes dos filisteus: Que fazem aqui estes hebreus? E disse Aquis aos príncipes dos filisteus: Não é este Davi, o servo de Saul, rei de Israel, que esteve comigo há alguns dias ou anos? Coisa nenhuma achei nele desde o dia em que 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príncipes dos filisteus muito se indignaram contra ele; e disseram-lhe os príncipes dos filisteus: Faze voltar este homem, para que torne ao lugar em que tu o puseste, e não desça conosco à batalha, para que não se torne nosso adversário na b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este aquele Davi, de quem uns aos outros cantaram nas danças, dizendo: Saul feriu os seus milhares, porém Davi os seus dez milha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is chamou a Davi e disse-lhe: Vive o SENHOR, que tu és reto, e que a tua entrada e a tua saída comigo no arraial é boa aos meus olhos; porque nenhum mal em ti achei, desde o dia em que a mim vieste, até ao dia de hoje; porém aos olhos dos prín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, pois, agora, e vai em paz; para que não faças mal aos olhos dos príncipes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disse a Aquis: Por quê? Que fiz? Ou que achaste no teu servo, desde o dia em que estive diante de ti, até ao dia de hoje, para que não vá e peleje contra os inimigos do rei, meu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, porém, Aquis, e disse a Davi: Bem o sei; e que na verdade aos meus olhos és bom como um anjo de Deus; porém disseram os príncipes dos filisteus: Não suba este conosco à bat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56Z</dcterms:created>
  <dc:creator>Admin</dc:creator>
  <dc:description/>
  <dc:language>en-US</dc:language>
  <cp:lastModifiedBy>Admin</cp:lastModifiedBy>
  <dcterms:modified xsi:type="dcterms:W3CDTF">2008-07-30T23:47:56Z</dcterms:modified>
  <cp:revision>1</cp:revision>
  <dc:subject/>
  <dc:title>Slide 1</dc:title>
</cp:coreProperties>
</file>