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108C-5FC3-4BFB-BF94-ACFC995E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300-D1E2-4E0A-B1C3-64DC5C3E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CD87-00C1-4409-ABBB-BE14A846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291-2DC2-4EC6-A317-BF1A2C22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B091-E238-4EE0-983E-5372D21D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403-CFD9-47D6-924B-7EDCFD34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DB9-A3E7-4416-B72C-20238C1E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5CF8-539C-4A17-985C-02675391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6BD0-8E31-4015-882B-8A8E16F6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5116-7017-4932-8308-84F3C65B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A05-4AD4-4171-B025-2FF84FB7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146-EE47-446A-8BFF-06934637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5123-81A8-4220-AF75-CEC21171D2D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este, que vem de Edom, de Bozra, com vestes tintas; este que é glorioso em sua vestidura, que marcha com a sua grande força? Eu, que falo em justiça, poderoso para salv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s foram rebeldes, e contristaram o seu Espírito Santo; por isso se lhes tornou em inimigo, e ele mesmo pelejou cont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se lembrou dos dias da antiguidade, de Moisés, e do seu povo, dizendo: Onde está agora o que os fez subir do mar com os pastores do seu rebanho? Onde está o que pôs no meio deles o seu Espírito San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cujo braço glorioso ele fez andar à mão direita de Moisés, que fendeu as águas diante deles, para fazer para si um nome etern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os guiou pelos abismos, como o cavalo no deserto, de modo que nunca tropeçar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animal que desce ao vale, o Espírito do SENHOR lhes deu descanso; assim guiaste ao teu povo, para te fazeres um nome glori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enta desde os céus, e olha desde a tua santa e gloriosa habitação. Onde estão o teu zelo e as tuas obras poderosas? A comoção das tuas entranhas, e das tuas misericórdias, detém-se para comi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 és nosso Pai, ainda que Abraão não nos conhece, e Israel não nos reconhece; tu, ó SENHOR, és nosso Pai; nosso Redentor desde a antiguidade é o t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, ó SENHOR, nos fazes errar dos teus caminhos? Por que endureces o nosso coração, para que não te temamos? Volta, por amor dos teus servos, às tribos da tu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ó por um pouco de tempo o teu santo povo a possuiu; nossos adversários pisaram o teu santu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mos feitos como aqueles sobre quem tu nunca dominaste, e como os que nunca se chamaram pelo t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está vermelha a tua vestidura, e as tuas roupas como as daquele que pisa no lag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zinho pisei no lagar, e dos povos ninguém houve comigo; e os pisei na minha ira, e os esmaguei no meu furor; e o seu sangue salpicou as minhas vestes, e manchei toda a minha vestid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dia da vingança estava no meu coração; e o ano dos meus remidos é che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ei, e não havia quem me ajudasse; e admirei-me de não haver quem me sustivesse, por isso o meu braço me trouxe a salvação, e o meu furor me suste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ropelei os povos na minha ira, e os embriaguei no meu furor; e a sua força derrubei por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benignidades do SENHOR mencionarei, e os muitos louvores do SENHOR, conforme tudo quanto o SENHOR nos concedeu; e grande bondade para com a casa de Israel, que usou com eles segundo as suas misericórdias, e segundo a multidão das suas benign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izia: Certamente eles são meu povo, filhos que não mentirão; assim ele se fez o seu Salv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toda a angústia deles ele foi angustiado, e o anjo da sua presença os salvou; pelo seu amor, e pela sua compaixão ele os remiu; e os tomou, e os conduziu todos os dias da antigu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7:04Z</dcterms:created>
  <dc:creator>Admin</dc:creator>
  <dc:description/>
  <dc:language>en-US</dc:language>
  <cp:lastModifiedBy>Admin</cp:lastModifiedBy>
  <dcterms:modified xsi:type="dcterms:W3CDTF">2008-07-30T23:57:04Z</dcterms:modified>
  <cp:revision>1</cp:revision>
  <dc:subject/>
  <dc:title>Slide 1</dc:title>
</cp:coreProperties>
</file>