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9EFE-A7EA-4F97-952C-8D00D023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D04A-C27A-44D6-A553-BE9CB928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A59E-B80C-46C9-85D9-AA0AE623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8432-2178-448A-B0CD-A3F3432CF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9F65-EF4E-45E6-BF5D-628E3FBF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3088-307F-45C7-B7A9-5F02EC02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8679-68C0-4E0D-8BE1-D202CF6F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C084-895A-413C-BC62-8B0B4EEB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CF12-4C36-470B-AB66-13EA450B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3BA3-B4E1-44A9-9FC6-296D08B3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D918-5E37-4923-BC1D-AD463016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32FD-F793-40E1-AEAE-C34F4EB2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FDA9-0984-4947-B3C5-3B496AF5456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U levanta uma lamentação sobre os príncipes de Israe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a mãe era como uma videira no teu sangue, plantada junto às águas; ela frutificou, e encheu-se de ramos, por causa das muitas ág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nha varas fortes para cetros de dominadores, e elevou-se a sua estatura entre os espessos ramos, e foi vista na sua altura com a multidão dos seus ra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foi arrancada com furor, foi lançada por terra, e o vento oriental secou o seu fruto; quebraram-se e secaram-se as suas fortes varas, o fogo as consumiu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gora está plantada no deserto, numa terra seca e sede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uma vara dos seus ramos saiu fogo que consumiu o seu fruto de maneira que nela não há mais vara forte, cetro para dominar. Esta é a lamentação, e servirá de lament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e: Quem foi tua mãe? Uma leoa entre os leões a qual, deitada no meio dos leõezinhos, criou os seus filho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ducou um dos seus filhotes, o qual veio a ser leãozinho e aprendeu a apanhar a presa, e devorou homen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uvindo falar dele as nações, foi apanhado na cova delas, e o trouxeram com cadeias à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, pois, ela que havia esperado muito, e que a sua expectação era perdida, tomou outro dos seus filhotes, e fez dele um leãoz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, pois, andando continuamente no meio dos leões, veio a ser leãozinho, e aprendeu a apanhar a presa, e devorou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heceu os seus palácios, e destruiu as suas cidades; e assolou-se a terra, e a sua plenitude, ao som do seu rug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ajuntaram contra ele os povos das províncias ao redor, e estenderam sobre ele a rede, e foi apanhado na cova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 cadeias colocaram-no em uma jaula, e o levaram ao rei de Babilônia; fizeram-no entrar nos lugares fortes, para que não se ouvisse mais a sua voz nos monte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4:38Z</dcterms:created>
  <dc:creator>Admin</dc:creator>
  <dc:description/>
  <dc:language>en-US</dc:language>
  <cp:lastModifiedBy>Admin</cp:lastModifiedBy>
  <dcterms:modified xsi:type="dcterms:W3CDTF">2008-07-30T23:34:38Z</dcterms:modified>
  <cp:revision>1</cp:revision>
  <dc:subject/>
  <dc:title>Slide 1</dc:title>
</cp:coreProperties>
</file>