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9FE-94E0-4D8E-A99E-83A31B20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E0C-0502-411E-B631-0C2AFC51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6EB-5CDB-48E0-8003-DC5D03B9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97B-A761-4873-B72C-BD8424DE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356-D652-47B6-AEA8-06F28814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1B7-EFBE-4E9E-9EFD-47CB9217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713-B309-40BD-9A1B-A4AFE91B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5B7-DA3E-4829-9D72-B7EC2FFB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B04-100B-4CB6-8A78-2BA5D4EE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B18-D3FE-497F-9860-5950DAA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4F5-F9F3-41FF-BFD9-C4468CAD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BD1-D37F-4B86-A99C-26AA6C87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96BD-8E59-47C6-AD49-2DD1A1072AA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, porque ele é bom, por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nações me cercaram, mas no nome do SENHOR as despedaç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caram-me, e tornaram a cercar-me; mas no nome do SENHOR eu as despedaç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caram-me como abelhas; porém apagaram-se como o fogo de espinhos; pois no nome do SENHOR as despedaç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força me impeliste para me fazeres cair, porém o SENHOR me aju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a minha força e o meu cântico; e se fez a minh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tendas dos justos há voz de júbilo e de salvação; a destra do SENHOR faz pro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estra do SENHOR se exalta; a destra do SENHOR faz pro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orrerei, mas viverei; e contarei as obra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me castigou muito, mas não me entregou à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i-me as portas da justiça; entrarei por elas, e louvare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a agora Israel 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porta do SENHOR, pela qual os justos entr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r-te-ei, pois me escutaste, e te fizeste a minh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edra que os edificadores rejeitaram tornou-se a cabeça da esqu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parte do SENHOR se fez isto; maravilhoso é aos noss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dia que fez o SENHOR; regozijemo-nos, e alegremo-nos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va-nos, agora, te pedimos, ó SENHOR; ó SENHOR, te pedimos, prospera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aquele que vem em nome do SENHOR; nós vos bendizemos desde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é o SENHOR que nos mostrou a luz; atai o sacrifício da festa com cordas, até às pontas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és o meu Deus, e eu te louvarei; tu és o meu Deus, e eu te exalt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, porque ele é bom; por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a agora a casa de Arão 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am agora os que temem ao SENHOR 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voquei o SENHOR na angústia; o SENHOR me ouviu, e me tirou para um lugar lar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está comigo; não temerei o que me pode fazer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está comigo entre aqueles que me ajudam; por isso verei cumprido o meu desejo sobre os que me ode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melhor confiar no SENHOR do que confiar n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melhor confiar no SENHOR do que confiar nos príncip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55Z</dcterms:created>
  <dc:creator>Admin</dc:creator>
  <dc:description/>
  <dc:language>en-US</dc:language>
  <cp:lastModifiedBy>Admin</cp:lastModifiedBy>
  <dcterms:modified xsi:type="dcterms:W3CDTF">2008-07-31T00:27:55Z</dcterms:modified>
  <cp:revision>1</cp:revision>
  <dc:subject/>
  <dc:title>Slide 1</dc:title>
</cp:coreProperties>
</file>