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B0C-EC15-486D-ADAA-FE09540E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F8E-248B-4AD4-B055-2C83E0DC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A12-D204-4AAB-8E4B-B24E6CC3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133-A1BE-4CD6-A54D-4F9B474D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6E0-6CB3-4082-A275-42FBD5AC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1A6-BB37-4A29-917B-D385808F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FAB-5DD3-4820-B0A3-4293BB53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C9E-6394-4283-8B99-36556851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9FD-3FA8-438F-9318-428E044C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C54-1DEB-49B7-84D9-4D78F273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3EE-A57B-4519-86FC-EE6FA7E0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371-12C4-4884-BF3E-DB8643D5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35A3-109E-4E56-BD8D-21E4734CDE4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Samuel: Até quando terás dó de Saul, havendo-o eu rejeitado, para que não reine sobre Israel? Enche um chifre de azeite, e vem, enviar-te-ei a Jessé o belemita; porque dentre os seus filhos me tenho provido de um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ez passar Jessé a seus sete filhos diante de Samuel; porém Samuel disse a Jessé: O SENHOR não tem escolhido a 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Samuel a Jessé: Acabaram-se os moços? E disse: Ainda falta o menor, que está apascentando as ovelhas. Disse, pois, Samuel a Jessé: Manda chamá-lo, porquanto não nos assentaremos até que ele venha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dou chamá-lo e fê-lo entrar (e era ruivo e formoso de semblante e de boa presença); e disse o SENHOR: Levanta-te, e unge-o, porque é este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muel tomou o chifre do azeite, e ungiu-o no meio de seus irmãos; e desde aquele dia em diante o Espírito do SENHOR se apoderou de Davi; então Samuel se levantou, e voltou a Ram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spírito do SENHOR se retirou de Saul, e atormentava-o um espírito mau da par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criados de Saul lhe disseram: Eis que agora o espírito mau da parte de Deus te atormen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a, pois, nosso senhor a seus servos, que estão na tua presença, que busquem um homem que saiba tocar harpa, e será que, quando o espírito mau da parte de Deus vier sobre ti, então ele tocará com a sua mão, e te acharás mel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 aos seus servos: Buscai-me, pois, um homem que toque bem, e trazei-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um dos moços, e disse: Eis que tenho visto a um filho de Jessé, o belemita, que sabe tocar e é valente e vigoroso, e homem de guerra, e prudente em palavras, e de gentil presença; o SENHOR é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 enviou mensageiros a Jessé, dizendo: Envia-me Davi, teu filho, o que está com 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disse Samuel: Como irei eu? pois, ouvindo-o Saul, me matará. Então disse o SENHOR: Toma uma bezerra das vacas em tuas mãos, e dize: Vim para sacrificar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Jessé um jumento carregado de pão, e um odre de vinho, e um cabrito, e enviou-os a Saul pela mão de Davi,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avi veio a Saul, e esteve perante ele, e o amou muito, e foi seu pajem de ar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ul mandou dizer a Jessé: Deixa estar a Davi perante mim, pois achou graça em m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ia que, quando o espírito mau da parte de Deus vinha sobre Saul, Davi tomava a harpa, e a tocava com a sua mão; então Saul sentia alívio, e se achava melhor, e o espírito mau se retirava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vidarás a Jessé ao sacrifício; e eu te farei saber o que hás de fazer, e ungir-me-ás a quem eu te dis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, pois, Samuel o que dissera o SENHOR, e veio a Belém; então os anciãos da cidade saíram ao encontro, tremendo, e disseram: De paz é a tua vin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É de paz, vim sacrificar ao SENHOR; santificai-vos, e vinde comigo ao sacrifício. E santificou ele a Jessé e a seus filhos, e os convidou ao sacrifí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ntrando eles, viu a Eliabe, e disse: Certamente está perante o SENHOR o seu un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disse a Samuel: Não atentes para a sua aparência, nem para a grandeza da sua estatura, porque o tenho rejeitado; porque o SENHOR não vê como vê o homem, pois o homem vê o que está diante dos olhos, porém o SENHOR olha para 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Jessé a Abinadabe, e o fez passar diante de Samuel, o qual disse: Nem a este tem escolhido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ssé fez passar a Sama; porém disse: Tampouco a este tem escolhido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09Z</dcterms:created>
  <dc:creator>Admin</dc:creator>
  <dc:description/>
  <dc:language>en-US</dc:language>
  <cp:lastModifiedBy>Admin</cp:lastModifiedBy>
  <dcterms:modified xsi:type="dcterms:W3CDTF">2008-07-30T23:47:09Z</dcterms:modified>
  <cp:revision>1</cp:revision>
  <dc:subject/>
  <dc:title>Slide 1</dc:title>
</cp:coreProperties>
</file>