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7D5-F420-43B0-A1DF-B61B65DA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375-BB08-41C8-A46A-67EBC7D3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725-0D4A-4F27-9D00-2CEA46D3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E9A-BAF0-41BB-83F5-3A74A54D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C29-693E-4327-9B7F-19F9C224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8BE-690D-4609-8D8A-4DB571AD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D00-6A07-4095-9157-76E7C147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686-3976-4F7E-BB77-A3795A07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85E-B22D-4116-8855-C329D518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C7B-826F-4391-A275-56D69520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22F-EE5E-4433-99F3-A68085A1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BC3-C9C4-4D1C-85E7-6F4569B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764B-C19B-4C44-B0E2-D2BC2B5897C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, cooperando também com ele, vos exortamos a que não recebais a graça de Deus em v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contristados, mas sempre alegres; como pobres, mas enriquecendo a muitos; como nada tendo, e possuindo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coríntios, a nossa boca está aberta para vós, o nosso coração está dila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tais estreitados em nós; mas estais estreitados nos vossos próprios afe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em recompensa disto, (falo como a filhos) dilatai-vos também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prendais a um jugo desigual com os infiéis; porque, que sociedade tem a justiça com a injustiça? E que comunhão tem a luz com as trev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concórdia há entre Cristo e Belial? Ou que parte tem o fiel com o infi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consenso tem o templo de Deus com os ídolos? Porque vós sois o templo do Deus vivente, como Deus disse: Neles habitarei, e entre eles andarei; e eu serei o seu Deus e eles serão 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aí do meio deles, e apartai-vos, diz o Senhor; E não toqueis nada imundo, E eu vos receber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serei para vós Pai, E vós sereis para mim filhos e filhas, Diz o Senhor Todo-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diz: Ouvi-te em tempo aceitável E socorri-te no dia da salvação; Eis aqui agora o tempo aceitável, eis aqui agora o dia da salvação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ando nós escândalo em coisa alguma, para que o nosso ministério não seja censur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, como ministros de Deus, tornando-nos recomendáveis em tudo; na muita paciência, nas aflições, nas necessidades, nas angúst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açoites, nas prisões, nos tumultos, nos trabalhos, nas vigílias, nos jejun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pureza, na ciência, na longanimidade, na benignidade, no Espírito Santo, no amor não fing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palavra da verdade, no poder de Deus, pelas armas da justiça, à direita e à esquer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honra e por desonra, por infâmia e por boa fama; como enganadores, e sendo verdadeir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desconhecidos, mas sendo bem conhecidos; como morrendo, e eis que vivemos; como castigados, e não mor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42Z</dcterms:created>
  <dc:creator>Admin</dc:creator>
  <dc:description/>
  <dc:language>en-US</dc:language>
  <cp:lastModifiedBy>Admin</cp:lastModifiedBy>
  <dcterms:modified xsi:type="dcterms:W3CDTF">2008-07-30T23:48:42Z</dcterms:modified>
  <cp:revision>1</cp:revision>
  <dc:subject/>
  <dc:title>Slide 1</dc:title>
</cp:coreProperties>
</file>