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204-71A0-4B38-9F6A-D6CA0C68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15E-BA20-43F2-BE87-ECF48293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426-378A-4164-859D-D94EE74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17A-E5DB-47EC-9CAA-B62D60C3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9A3-2D86-4F8D-83B9-F728397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846-3882-4452-B3A0-14BD884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1A9-47B9-4D50-B0DA-B211110A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109-C3E0-456E-A117-5E8BC8CA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EFF-DBC4-4BFD-BCA8-BC6D734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E84-F402-40F2-A324-C7BCBA1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635-F72E-48CE-84ED-A5827A9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096-6E43-4421-A4A4-496D1731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8B4-A3F0-46E5-AC1F-0624C2B1A6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não se podia conter diante de todos os que estavam com ele; e clamou: Fazei sair daqui a todo o homem; e ninguém ficou com ele, quando José se deu a conhecer a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ás na terra de Gósen, e estarás perto de mim, tu e os teus filhos, e os filhos dos teus filhos, e as tuas ovelhas, e as tuas vacas, e tudo o que 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i te sustentarei, porque ainda haverá cinco anos de fome, para que não pereças de pobreza, tu e tua casa, e tudo o que 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ossos olhos, e os olhos de meu irmão Benjamim, vêem que é minha boca que vos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ei saber a meu pai toda a minha glória no Egito, e tudo o que tendes visto, e apressai-vos a fazer descer meu pai para c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nçou-se ao pescoço de Benjamim seu irmão, e chorou; e Benjamim chorou também ao s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ijou a todos os seus irmãos, e chorou sobre eles; e depois seus irmãos falar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notícia ouviu-se na casa de Faraó: Os irmãos de José são vindos; e pareceu bem aos olhos de Faraó, e aos olhos de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Faraó a José: Dize a teus irmãos: Fazei isto: carregai os vossos animais e parti, tornai à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i a vosso pai, e às vossas famílias, e vinde a mim; e eu vos darei o melhor da terra do Egito, e comereis da fartur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, pois, é ordenado: Fazei isto: tomai vós da terra do Egito carros para vossos meninos, para vossas mulheres, e para vosso pai, e vin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a sua voz com choro, de maneira que os egípcios o ouviam, e a casa de Faraó o ouv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vos pese coisa alguma dos vossos utensílios; porque o melhor de toda a terra do Egito será vo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Israel fizeram assim. E José deu-lhes carros, conforme o mandado de Faraó; também lhes deu comida para 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odos lhes deu, a cada um, mudas de roupas; mas a Benjamim deu trezentas peças de prata, e cinco mudas de roup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u pai enviou semelhantemente dez jumentos carregados do melhor do Egito, e dez jumentos carregados de trigo e pão, e comida para seu pai, para 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ediu os seus irmãos, e partiram; e disse-lhes: Não contendais pelo cam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ram do Egito, e vieram à terra de Canaã, a Jacó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anunciaram, dizendo: José ainda vive, e ele também é regente em toda a terra do Egito. E o seu coração desmaiou, porque não os acredi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, havendo-lhe eles contado todas as palavras de José, que ele lhes falara, e vendo ele os carros que José enviara para levá-lo, reviveu o espírito de Jacó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Israel: Basta; ainda vive meu filho José; eu irei e o verei antes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é a seus irmãos: Eu sou José; vive ainda meu pai? E seus irmãos não lhe puderam responder, porque estavam pasmados diante da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osé a seus irmãos: Peço-vos, chegai-vos a mim. E chegaram-se; então disse ele: Eu sou José vosso irmão, a quem vendestes para 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não vos entristeçais, nem vos pese aos vossos olhos por me haverdes vendido para cá; porque para conservação da vida, Deus me enviou adiante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houve dois anos de fome no meio da terra, e ainda restam cinco anos em que não haverá lavoura nem se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que Deus me enviou adiante de vós, para conservar vossa sucessão na terra, e para guardar-vos em vida por um grande liv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ão fostes vós que me enviastes para cá, senão Deus, que me tem posto por pai de Faraó, e por senhor de toda a sua casa, e como regente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ai-vos, e subi a meu pai, e dizei-lhe: Assim tem dito o teu filho José: Deus me tem posto por senhor em toda a terra do Egito; desce a mim, e não te dem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04Z</dcterms:created>
  <dc:creator>Admin</dc:creator>
  <dc:description/>
  <dc:language>en-US</dc:language>
  <cp:lastModifiedBy>Admin</cp:lastModifiedBy>
  <dcterms:modified xsi:type="dcterms:W3CDTF">2008-07-30T23:40:04Z</dcterms:modified>
  <cp:revision>1</cp:revision>
  <dc:subject/>
  <dc:title>Slide 1</dc:title>
</cp:coreProperties>
</file>